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wmf" ContentType="image/x-wmf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21D-8F90-475E-A39B-BD879596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285-7D64-4CF8-AF7C-9A78ADC9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E7C-F507-491A-BD1D-C34D8A47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F85-D1FC-45FF-989B-08BE6D5F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01D-8170-4D40-97FD-ACB66B27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202-4A00-4E9C-B21C-0628EAAE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AEC-0E68-4E63-A3E6-C3C2BD2D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F7E-8C27-41DB-8A12-13AE8E6D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732-9739-4E03-A9C3-ED059C10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8D8-4C6A-43A4-83C7-2A2E735D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89B-2FC9-4FD4-A2E2-3040929E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17E-01A8-4645-885B-89786B32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86A4-4626-49AB-9729-9E54B6293E7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hyperlink" Target="271,7,&#24187;&#28783;&#29255; 7" TargetMode="External"/><Relationship Id="rId4" Type="http://schemas.openxmlformats.org/officeDocument/2006/relationships/hyperlink" Target="259,4,&#24187;&#28783;&#29255; 4" TargetMode="External"/><Relationship Id="rId5" Type="http://schemas.openxmlformats.org/officeDocument/2006/relationships/hyperlink" Target="257,3,&#24187;&#28783;&#29255; 3" TargetMode="External"/><Relationship Id="rId6" Type="http://schemas.openxmlformats.org/officeDocument/2006/relationships/hyperlink" Target="261,8,&#24187;&#28783;&#29255; 8" TargetMode="External"/><Relationship Id="rId7" Type="http://schemas.openxmlformats.org/officeDocument/2006/relationships/hyperlink" Target="270,6,&#24187;&#28783;&#29255; 6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 rot="20743200">
            <a:off x="4113000" y="4361760"/>
            <a:ext cx="73231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康少女文字W5(P)"/>
                <a:ea typeface="华康少女文字W5(P)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华康少女文字W5(P)"/>
                <a:ea typeface="华康少女文字W5(P)"/>
              </a:rPr>
              <a:t>级   物流</a:t>
            </a:r>
            <a:r>
              <a:rPr b="1" lang="en-US" sz="3200" spc="-1" strike="noStrike">
                <a:solidFill>
                  <a:srgbClr val="ff0000"/>
                </a:solidFill>
                <a:latin typeface="华康少女文字W5(P)"/>
                <a:ea typeface="华康少女文字W5(P)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康少女文字W5(P)"/>
                <a:ea typeface="华康少女文字W5(P)"/>
              </a:rPr>
              <a:t>班   陈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 rot="20782200">
            <a:off x="3953160" y="1797120"/>
            <a:ext cx="617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b0f0"/>
                </a:solidFill>
                <a:latin typeface="叶根友毛笔行书2.0版"/>
                <a:ea typeface="叶根友毛笔行书2.0版"/>
              </a:rPr>
              <a:t>我的专业我的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Calibri"/>
                <a:ea typeface="Arial"/>
              </a:rPr>
              <a:t>                      </a:t>
            </a:r>
            <a:r>
              <a:rPr b="1" lang="en-US" sz="4800" spc="-1" strike="noStrike">
                <a:solidFill>
                  <a:srgbClr val="00b0f0"/>
                </a:solidFill>
                <a:latin typeface="方正启体简体"/>
                <a:ea typeface="方正启体简体"/>
              </a:rPr>
              <a:t>--</a:t>
            </a:r>
            <a:r>
              <a:rPr b="1" lang="zh-CN" sz="4800" spc="-1" strike="noStrike">
                <a:solidFill>
                  <a:srgbClr val="00b0f0"/>
                </a:solidFill>
                <a:latin typeface="方正启体简体"/>
                <a:ea typeface="方正启体简体"/>
              </a:rPr>
              <a:t>物流管理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可米小子 - 青春纪念册.mp3" descr=""/>
          <p:cNvPicPr/>
          <p:nvPr/>
        </p:nvPicPr>
        <p:blipFill>
          <a:blip r:embed="rId2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8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4104"/>
          <p:cNvGrpSpPr/>
          <p:nvPr/>
        </p:nvGrpSpPr>
        <p:grpSpPr>
          <a:xfrm>
            <a:off x="6494400" y="1457280"/>
            <a:ext cx="2811600" cy="1076400"/>
            <a:chOff x="6494400" y="1457280"/>
            <a:chExt cx="2811600" cy="1076400"/>
          </a:xfrm>
        </p:grpSpPr>
        <p:grpSp>
          <p:nvGrpSpPr>
            <p:cNvPr id="45" name="组合 28"/>
            <p:cNvGrpSpPr/>
            <p:nvPr/>
          </p:nvGrpSpPr>
          <p:grpSpPr>
            <a:xfrm>
              <a:off x="6494400" y="1457280"/>
              <a:ext cx="2811600" cy="1076400"/>
              <a:chOff x="6494400" y="1457280"/>
              <a:chExt cx="2811600" cy="1076400"/>
            </a:xfrm>
          </p:grpSpPr>
          <p:sp>
            <p:nvSpPr>
              <p:cNvPr id="46" name="MH_Other_7"/>
              <p:cNvSpPr/>
              <p:nvPr/>
            </p:nvSpPr>
            <p:spPr>
              <a:xfrm>
                <a:off x="6494400" y="1457280"/>
                <a:ext cx="2811600" cy="925200"/>
              </a:xfrm>
              <a:custGeom>
                <a:avLst/>
                <a:gdLst/>
                <a:ahLst/>
                <a:rect l="l" t="t" r="r" b="b"/>
                <a:pathLst>
                  <a:path w="3302000" h="990600">
                    <a:moveTo>
                      <a:pt x="0" y="304800"/>
                    </a:moveTo>
                    <a:lnTo>
                      <a:pt x="397933" y="922867"/>
                    </a:lnTo>
                    <a:lnTo>
                      <a:pt x="3090333" y="990600"/>
                    </a:lnTo>
                    <a:lnTo>
                      <a:pt x="3302000" y="0"/>
                    </a:lnTo>
                    <a:lnTo>
                      <a:pt x="0" y="304800"/>
                    </a:lnTo>
                    <a:close/>
                  </a:path>
                </a:pathLst>
              </a:custGeom>
              <a:solidFill>
                <a:srgbClr val="56bd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MH_Other_8"/>
              <p:cNvSpPr/>
              <p:nvPr/>
            </p:nvSpPr>
            <p:spPr>
              <a:xfrm>
                <a:off x="6732360" y="1631880"/>
                <a:ext cx="2414880" cy="901800"/>
              </a:xfrm>
              <a:custGeom>
                <a:avLst/>
                <a:gdLst/>
                <a:ahLst/>
                <a:rect l="l" t="t" r="r" b="b"/>
                <a:pathLst>
                  <a:path w="2836333" h="965200">
                    <a:moveTo>
                      <a:pt x="0" y="0"/>
                    </a:moveTo>
                    <a:lnTo>
                      <a:pt x="245533" y="685800"/>
                    </a:lnTo>
                    <a:lnTo>
                      <a:pt x="2658533" y="965200"/>
                    </a:lnTo>
                    <a:lnTo>
                      <a:pt x="2836333" y="10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MH_Other_9"/>
              <p:cNvSpPr/>
              <p:nvPr/>
            </p:nvSpPr>
            <p:spPr>
              <a:xfrm>
                <a:off x="6811920" y="1823400"/>
                <a:ext cx="475920" cy="43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6bde6"/>
                    </a:solidFill>
                    <a:latin typeface="Arial"/>
                    <a:ea typeface="微软雅黑"/>
                  </a:rPr>
                  <a:t>0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MH_SubTitle_3"/>
              <p:cNvSpPr/>
              <p:nvPr/>
            </p:nvSpPr>
            <p:spPr>
              <a:xfrm>
                <a:off x="6894360" y="1678680"/>
                <a:ext cx="215892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6bde6"/>
                    </a:solidFill>
                    <a:latin typeface="Arial"/>
                    <a:ea typeface="微软雅黑"/>
                  </a:rPr>
                  <a:t>         </a:t>
                </a:r>
                <a:r>
                  <a:rPr b="0" lang="zh-CN" sz="1600" spc="-1" strike="noStrike" u="sng">
                    <a:solidFill>
                      <a:srgbClr val="0563c1"/>
                    </a:solidFill>
                    <a:uFillTx/>
                    <a:latin typeface="Arial"/>
                    <a:ea typeface="微软雅黑"/>
                    <a:hlinkClick r:id="rId2"/>
                  </a:rPr>
                  <a:t>专业分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八角星 4110"/>
            <p:cNvSpPr/>
            <p:nvPr/>
          </p:nvSpPr>
          <p:spPr>
            <a:xfrm>
              <a:off x="6802920" y="1812600"/>
              <a:ext cx="517320" cy="427320"/>
            </a:xfrm>
            <a:custGeom>
              <a:avLst/>
              <a:gdLst>
                <a:gd name="textAreaLeft" fmla="*/ 118800 w 517320"/>
                <a:gd name="textAreaRight" fmla="*/ 398520 w 517320"/>
                <a:gd name="textAreaTop" fmla="*/ 97920 h 427320"/>
                <a:gd name="textAreaBottom" fmla="*/ 329400 h 42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9080">
              <a:solidFill>
                <a:srgbClr val="f66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4111"/>
          <p:cNvGrpSpPr/>
          <p:nvPr/>
        </p:nvGrpSpPr>
        <p:grpSpPr>
          <a:xfrm>
            <a:off x="6672240" y="4233960"/>
            <a:ext cx="2819520" cy="979560"/>
            <a:chOff x="6672240" y="4233960"/>
            <a:chExt cx="2819520" cy="979560"/>
          </a:xfrm>
        </p:grpSpPr>
        <p:grpSp>
          <p:nvGrpSpPr>
            <p:cNvPr id="52" name="组合 37"/>
            <p:cNvGrpSpPr/>
            <p:nvPr/>
          </p:nvGrpSpPr>
          <p:grpSpPr>
            <a:xfrm>
              <a:off x="6672240" y="4233960"/>
              <a:ext cx="2819520" cy="979560"/>
              <a:chOff x="6672240" y="4233960"/>
              <a:chExt cx="2819520" cy="979560"/>
            </a:xfrm>
          </p:grpSpPr>
          <p:grpSp>
            <p:nvGrpSpPr>
              <p:cNvPr id="53" name="组合 35"/>
              <p:cNvGrpSpPr/>
              <p:nvPr/>
            </p:nvGrpSpPr>
            <p:grpSpPr>
              <a:xfrm>
                <a:off x="6672240" y="4233960"/>
                <a:ext cx="2809440" cy="979560"/>
                <a:chOff x="6672240" y="4233960"/>
                <a:chExt cx="2809440" cy="979560"/>
              </a:xfrm>
            </p:grpSpPr>
            <p:sp>
              <p:nvSpPr>
                <p:cNvPr id="54" name="MH_Other_4"/>
                <p:cNvSpPr/>
                <p:nvPr/>
              </p:nvSpPr>
              <p:spPr>
                <a:xfrm>
                  <a:off x="6672240" y="4233960"/>
                  <a:ext cx="2809440" cy="843120"/>
                </a:xfrm>
                <a:custGeom>
                  <a:avLst/>
                  <a:gdLst/>
                  <a:ahLst/>
                  <a:rect l="l" t="t" r="r" b="b"/>
                  <a:pathLst>
                    <a:path w="3302000" h="990600">
                      <a:moveTo>
                        <a:pt x="0" y="304800"/>
                      </a:moveTo>
                      <a:lnTo>
                        <a:pt x="397933" y="922867"/>
                      </a:lnTo>
                      <a:lnTo>
                        <a:pt x="3090333" y="990600"/>
                      </a:lnTo>
                      <a:lnTo>
                        <a:pt x="3302000" y="0"/>
                      </a:lnTo>
                      <a:lnTo>
                        <a:pt x="0" y="304800"/>
                      </a:lnTo>
                      <a:close/>
                    </a:path>
                  </a:pathLst>
                </a:custGeom>
                <a:solidFill>
                  <a:srgbClr val="fec3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MH_Other_5"/>
                <p:cNvSpPr/>
                <p:nvPr/>
              </p:nvSpPr>
              <p:spPr>
                <a:xfrm>
                  <a:off x="6910200" y="4392720"/>
                  <a:ext cx="2412720" cy="820800"/>
                </a:xfrm>
                <a:custGeom>
                  <a:avLst/>
                  <a:gdLst/>
                  <a:ahLst/>
                  <a:rect l="l" t="t" r="r" b="b"/>
                  <a:pathLst>
                    <a:path w="2836333" h="965200">
                      <a:moveTo>
                        <a:pt x="0" y="0"/>
                      </a:moveTo>
                      <a:lnTo>
                        <a:pt x="245533" y="685800"/>
                      </a:lnTo>
                      <a:lnTo>
                        <a:pt x="2658533" y="965200"/>
                      </a:lnTo>
                      <a:lnTo>
                        <a:pt x="2836333" y="10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MH_Other_6"/>
                <p:cNvSpPr/>
                <p:nvPr/>
              </p:nvSpPr>
              <p:spPr>
                <a:xfrm>
                  <a:off x="6998400" y="4528440"/>
                  <a:ext cx="475920" cy="40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5af01"/>
                      </a:solidFill>
                      <a:latin typeface="Arial"/>
                      <a:ea typeface="微软雅黑"/>
                    </a:rPr>
                    <a:t>0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MH_SubTitle_2"/>
              <p:cNvSpPr/>
              <p:nvPr/>
            </p:nvSpPr>
            <p:spPr>
              <a:xfrm>
                <a:off x="7333920" y="4395600"/>
                <a:ext cx="215784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9a701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zh-CN" sz="1600" spc="-1" strike="noStrike" u="sng">
                    <a:solidFill>
                      <a:srgbClr val="0563c1"/>
                    </a:solidFill>
                    <a:uFillTx/>
                    <a:latin typeface="Arial"/>
                    <a:ea typeface="微软雅黑"/>
                    <a:hlinkClick r:id="rId3"/>
                  </a:rPr>
                  <a:t>培养目标与要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八角星 4118"/>
            <p:cNvSpPr/>
            <p:nvPr/>
          </p:nvSpPr>
          <p:spPr>
            <a:xfrm>
              <a:off x="6984000" y="4528080"/>
              <a:ext cx="517320" cy="427320"/>
            </a:xfrm>
            <a:custGeom>
              <a:avLst/>
              <a:gdLst>
                <a:gd name="textAreaLeft" fmla="*/ 118800 w 517320"/>
                <a:gd name="textAreaRight" fmla="*/ 398520 w 517320"/>
                <a:gd name="textAreaTop" fmla="*/ 97920 h 427320"/>
                <a:gd name="textAreaBottom" fmla="*/ 329400 h 42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9080">
              <a:solidFill>
                <a:srgbClr val="f66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4119"/>
          <p:cNvGrpSpPr/>
          <p:nvPr/>
        </p:nvGrpSpPr>
        <p:grpSpPr>
          <a:xfrm>
            <a:off x="3490920" y="777960"/>
            <a:ext cx="2819520" cy="979560"/>
            <a:chOff x="3490920" y="777960"/>
            <a:chExt cx="2819520" cy="979560"/>
          </a:xfrm>
        </p:grpSpPr>
        <p:grpSp>
          <p:nvGrpSpPr>
            <p:cNvPr id="60" name="组合 37"/>
            <p:cNvGrpSpPr/>
            <p:nvPr/>
          </p:nvGrpSpPr>
          <p:grpSpPr>
            <a:xfrm>
              <a:off x="3490920" y="777960"/>
              <a:ext cx="2819520" cy="979560"/>
              <a:chOff x="3490920" y="777960"/>
              <a:chExt cx="2819520" cy="979560"/>
            </a:xfrm>
          </p:grpSpPr>
          <p:grpSp>
            <p:nvGrpSpPr>
              <p:cNvPr id="61" name="组合 35"/>
              <p:cNvGrpSpPr/>
              <p:nvPr/>
            </p:nvGrpSpPr>
            <p:grpSpPr>
              <a:xfrm>
                <a:off x="3490920" y="777960"/>
                <a:ext cx="2809440" cy="979560"/>
                <a:chOff x="3490920" y="777960"/>
                <a:chExt cx="2809440" cy="979560"/>
              </a:xfrm>
            </p:grpSpPr>
            <p:sp>
              <p:nvSpPr>
                <p:cNvPr id="62" name="MH_Other_4"/>
                <p:cNvSpPr/>
                <p:nvPr/>
              </p:nvSpPr>
              <p:spPr>
                <a:xfrm>
                  <a:off x="3490920" y="777960"/>
                  <a:ext cx="2809440" cy="843120"/>
                </a:xfrm>
                <a:custGeom>
                  <a:avLst/>
                  <a:gdLst/>
                  <a:ahLst/>
                  <a:rect l="l" t="t" r="r" b="b"/>
                  <a:pathLst>
                    <a:path w="3302000" h="990600">
                      <a:moveTo>
                        <a:pt x="0" y="304800"/>
                      </a:moveTo>
                      <a:lnTo>
                        <a:pt x="397933" y="922867"/>
                      </a:lnTo>
                      <a:lnTo>
                        <a:pt x="3090333" y="990600"/>
                      </a:lnTo>
                      <a:lnTo>
                        <a:pt x="3302000" y="0"/>
                      </a:lnTo>
                      <a:lnTo>
                        <a:pt x="0" y="304800"/>
                      </a:lnTo>
                      <a:close/>
                    </a:path>
                  </a:pathLst>
                </a:custGeom>
                <a:solidFill>
                  <a:srgbClr val="fec3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MH_Other_5"/>
                <p:cNvSpPr/>
                <p:nvPr/>
              </p:nvSpPr>
              <p:spPr>
                <a:xfrm>
                  <a:off x="3728880" y="936720"/>
                  <a:ext cx="2412720" cy="820800"/>
                </a:xfrm>
                <a:custGeom>
                  <a:avLst/>
                  <a:gdLst/>
                  <a:ahLst/>
                  <a:rect l="l" t="t" r="r" b="b"/>
                  <a:pathLst>
                    <a:path w="2836333" h="965200">
                      <a:moveTo>
                        <a:pt x="0" y="0"/>
                      </a:moveTo>
                      <a:lnTo>
                        <a:pt x="245533" y="685800"/>
                      </a:lnTo>
                      <a:lnTo>
                        <a:pt x="2658533" y="965200"/>
                      </a:lnTo>
                      <a:lnTo>
                        <a:pt x="2836333" y="10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MH_Other_6"/>
                <p:cNvSpPr/>
                <p:nvPr/>
              </p:nvSpPr>
              <p:spPr>
                <a:xfrm>
                  <a:off x="3817080" y="1072440"/>
                  <a:ext cx="475920" cy="40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5af01"/>
                      </a:solidFill>
                      <a:latin typeface="Arial"/>
                      <a:ea typeface="微软雅黑"/>
                    </a:rPr>
                    <a:t>0</a:t>
                  </a:r>
                  <a:r>
                    <a:rPr b="0" lang="zh-CN" sz="2000" spc="-1" strike="noStrike">
                      <a:solidFill>
                        <a:srgbClr val="f5af01"/>
                      </a:solidFill>
                      <a:latin typeface="Arial"/>
                      <a:ea typeface="微软雅黑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MH_SubTitle_2"/>
              <p:cNvSpPr/>
              <p:nvPr/>
            </p:nvSpPr>
            <p:spPr>
              <a:xfrm>
                <a:off x="4152600" y="939600"/>
                <a:ext cx="215784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9a701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zh-CN" sz="1600" spc="-1" strike="noStrike" u="sng">
                    <a:solidFill>
                      <a:srgbClr val="0563c1"/>
                    </a:solidFill>
                    <a:uFillTx/>
                    <a:latin typeface="Arial"/>
                    <a:ea typeface="微软雅黑"/>
                    <a:hlinkClick r:id="rId4"/>
                  </a:rPr>
                  <a:t>社会背景调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八角星 4126"/>
            <p:cNvSpPr/>
            <p:nvPr/>
          </p:nvSpPr>
          <p:spPr>
            <a:xfrm>
              <a:off x="3798000" y="1078200"/>
              <a:ext cx="517320" cy="427320"/>
            </a:xfrm>
            <a:custGeom>
              <a:avLst/>
              <a:gdLst>
                <a:gd name="textAreaLeft" fmla="*/ 118800 w 517320"/>
                <a:gd name="textAreaRight" fmla="*/ 398520 w 517320"/>
                <a:gd name="textAreaTop" fmla="*/ 97920 h 427320"/>
                <a:gd name="textAreaBottom" fmla="*/ 329400 h 42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9080">
              <a:solidFill>
                <a:srgbClr val="f66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4127"/>
          <p:cNvGrpSpPr/>
          <p:nvPr/>
        </p:nvGrpSpPr>
        <p:grpSpPr>
          <a:xfrm>
            <a:off x="111240" y="1015920"/>
            <a:ext cx="2809800" cy="1073160"/>
            <a:chOff x="111240" y="1015920"/>
            <a:chExt cx="2809800" cy="1073160"/>
          </a:xfrm>
        </p:grpSpPr>
        <p:grpSp>
          <p:nvGrpSpPr>
            <p:cNvPr id="68" name="组合 23"/>
            <p:cNvGrpSpPr/>
            <p:nvPr/>
          </p:nvGrpSpPr>
          <p:grpSpPr>
            <a:xfrm>
              <a:off x="111240" y="1015920"/>
              <a:ext cx="2809800" cy="1073160"/>
              <a:chOff x="111240" y="1015920"/>
              <a:chExt cx="2809800" cy="1073160"/>
            </a:xfrm>
          </p:grpSpPr>
          <p:sp>
            <p:nvSpPr>
              <p:cNvPr id="69" name="MH_Other_1"/>
              <p:cNvSpPr/>
              <p:nvPr/>
            </p:nvSpPr>
            <p:spPr>
              <a:xfrm>
                <a:off x="111240" y="1015920"/>
                <a:ext cx="2809800" cy="924120"/>
              </a:xfrm>
              <a:custGeom>
                <a:avLst/>
                <a:gdLst/>
                <a:ahLst/>
                <a:rect l="l" t="t" r="r" b="b"/>
                <a:pathLst>
                  <a:path w="3302000" h="990600">
                    <a:moveTo>
                      <a:pt x="0" y="304800"/>
                    </a:moveTo>
                    <a:lnTo>
                      <a:pt x="397933" y="922867"/>
                    </a:lnTo>
                    <a:lnTo>
                      <a:pt x="3090333" y="990600"/>
                    </a:lnTo>
                    <a:lnTo>
                      <a:pt x="3302000" y="0"/>
                    </a:lnTo>
                    <a:lnTo>
                      <a:pt x="0" y="304800"/>
                    </a:lnTo>
                    <a:close/>
                  </a:path>
                </a:pathLst>
              </a:custGeom>
              <a:solidFill>
                <a:srgbClr val="f66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MH_Other_2"/>
              <p:cNvSpPr/>
              <p:nvPr/>
            </p:nvSpPr>
            <p:spPr>
              <a:xfrm>
                <a:off x="349200" y="1189800"/>
                <a:ext cx="2413080" cy="899280"/>
              </a:xfrm>
              <a:custGeom>
                <a:avLst/>
                <a:gdLst/>
                <a:ahLst/>
                <a:rect l="l" t="t" r="r" b="b"/>
                <a:pathLst>
                  <a:path w="2836333" h="965200">
                    <a:moveTo>
                      <a:pt x="0" y="0"/>
                    </a:moveTo>
                    <a:lnTo>
                      <a:pt x="245533" y="685800"/>
                    </a:lnTo>
                    <a:lnTo>
                      <a:pt x="2658533" y="965200"/>
                    </a:lnTo>
                    <a:lnTo>
                      <a:pt x="2836333" y="10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MH_Other_3"/>
              <p:cNvSpPr/>
              <p:nvPr/>
            </p:nvSpPr>
            <p:spPr>
              <a:xfrm>
                <a:off x="429120" y="1370520"/>
                <a:ext cx="475920" cy="44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66f4e"/>
                    </a:solidFill>
                    <a:latin typeface="Arial"/>
                    <a:ea typeface="微软雅黑"/>
                  </a:rPr>
                  <a:t>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MH_SubTitle_1"/>
              <p:cNvSpPr/>
              <p:nvPr/>
            </p:nvSpPr>
            <p:spPr>
              <a:xfrm>
                <a:off x="510840" y="1236600"/>
                <a:ext cx="215748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66f4e"/>
                    </a:solidFill>
                    <a:latin typeface="Arial"/>
                    <a:ea typeface="微软雅黑"/>
                  </a:rPr>
                  <a:t>      </a:t>
                </a:r>
                <a:r>
                  <a:rPr b="0" lang="zh-CN" sz="1600" spc="-1" strike="noStrike" u="sng">
                    <a:solidFill>
                      <a:srgbClr val="0563c1"/>
                    </a:solidFill>
                    <a:uFillTx/>
                    <a:latin typeface="Arial"/>
                    <a:ea typeface="微软雅黑"/>
                    <a:hlinkClick r:id="rId5"/>
                  </a:rPr>
                  <a:t>专业认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八角星 4133"/>
            <p:cNvSpPr/>
            <p:nvPr/>
          </p:nvSpPr>
          <p:spPr>
            <a:xfrm>
              <a:off x="406800" y="1380960"/>
              <a:ext cx="517320" cy="427320"/>
            </a:xfrm>
            <a:custGeom>
              <a:avLst/>
              <a:gdLst>
                <a:gd name="textAreaLeft" fmla="*/ 118800 w 517320"/>
                <a:gd name="textAreaRight" fmla="*/ 398520 w 517320"/>
                <a:gd name="textAreaTop" fmla="*/ 97920 h 427320"/>
                <a:gd name="textAreaBottom" fmla="*/ 329400 h 42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9080">
              <a:solidFill>
                <a:srgbClr val="f66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4134"/>
          <p:cNvGrpSpPr/>
          <p:nvPr/>
        </p:nvGrpSpPr>
        <p:grpSpPr>
          <a:xfrm>
            <a:off x="338040" y="3090960"/>
            <a:ext cx="2625480" cy="1000080"/>
            <a:chOff x="338040" y="3090960"/>
            <a:chExt cx="2625480" cy="1000080"/>
          </a:xfrm>
        </p:grpSpPr>
        <p:grpSp>
          <p:nvGrpSpPr>
            <p:cNvPr id="75" name="组合 38"/>
            <p:cNvGrpSpPr/>
            <p:nvPr/>
          </p:nvGrpSpPr>
          <p:grpSpPr>
            <a:xfrm>
              <a:off x="387360" y="3090960"/>
              <a:ext cx="2576160" cy="1000080"/>
              <a:chOff x="387360" y="3090960"/>
              <a:chExt cx="2576160" cy="1000080"/>
            </a:xfrm>
          </p:grpSpPr>
          <p:sp>
            <p:nvSpPr>
              <p:cNvPr id="76" name="任意多边形 39"/>
              <p:cNvSpPr/>
              <p:nvPr/>
            </p:nvSpPr>
            <p:spPr>
              <a:xfrm>
                <a:off x="1832040" y="3116160"/>
                <a:ext cx="236520" cy="235800"/>
              </a:xfrm>
              <a:custGeom>
                <a:avLst/>
                <a:gdLst/>
                <a:ahLst/>
                <a:rect l="l" t="t" r="r" b="b"/>
                <a:pathLst>
                  <a:path w="696310" h="696310">
                    <a:moveTo>
                      <a:pt x="0" y="0"/>
                    </a:moveTo>
                    <a:lnTo>
                      <a:pt x="459827" y="0"/>
                    </a:lnTo>
                    <a:lnTo>
                      <a:pt x="459827" y="236483"/>
                    </a:lnTo>
                    <a:lnTo>
                      <a:pt x="696310" y="236483"/>
                    </a:lnTo>
                    <a:lnTo>
                      <a:pt x="696310" y="696310"/>
                    </a:lnTo>
                    <a:lnTo>
                      <a:pt x="0" y="696310"/>
                    </a:lnTo>
                    <a:close/>
                  </a:path>
                </a:pathLst>
              </a:custGeom>
              <a:solidFill>
                <a:srgbClr val="e779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40"/>
              <p:cNvSpPr/>
              <p:nvPr/>
            </p:nvSpPr>
            <p:spPr>
              <a:xfrm>
                <a:off x="2014920" y="3090960"/>
                <a:ext cx="85320" cy="90000"/>
              </a:xfrm>
              <a:prstGeom prst="rect">
                <a:avLst/>
              </a:prstGeom>
              <a:solidFill>
                <a:srgbClr val="f5c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90000" bIns="-12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文本框 41"/>
              <p:cNvSpPr/>
              <p:nvPr/>
            </p:nvSpPr>
            <p:spPr>
              <a:xfrm>
                <a:off x="1641240" y="3722760"/>
                <a:ext cx="132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d953ce"/>
                    </a:solidFill>
                    <a:latin typeface="微软雅黑"/>
                    <a:ea typeface="微软雅黑"/>
                  </a:rPr>
                  <a:t>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文本框 1"/>
              <p:cNvSpPr/>
              <p:nvPr/>
            </p:nvSpPr>
            <p:spPr>
              <a:xfrm>
                <a:off x="387360" y="3205440"/>
                <a:ext cx="1626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 录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八角星 4140"/>
            <p:cNvSpPr/>
            <p:nvPr/>
          </p:nvSpPr>
          <p:spPr>
            <a:xfrm>
              <a:off x="338040" y="3102120"/>
              <a:ext cx="1676520" cy="888480"/>
            </a:xfrm>
            <a:custGeom>
              <a:avLst/>
              <a:gdLst>
                <a:gd name="textAreaLeft" fmla="*/ 384840 w 1676520"/>
                <a:gd name="textAreaRight" fmla="*/ 1291680 w 1676520"/>
                <a:gd name="textAreaTop" fmla="*/ 203760 h 888480"/>
                <a:gd name="textAreaBottom" fmla="*/ 684720 h 88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9080">
              <a:solidFill>
                <a:srgbClr val="f66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4141"/>
          <p:cNvGrpSpPr/>
          <p:nvPr/>
        </p:nvGrpSpPr>
        <p:grpSpPr>
          <a:xfrm>
            <a:off x="5560920" y="5580000"/>
            <a:ext cx="2853360" cy="1114200"/>
            <a:chOff x="5560920" y="5580000"/>
            <a:chExt cx="2853360" cy="1114200"/>
          </a:xfrm>
        </p:grpSpPr>
        <p:grpSp>
          <p:nvGrpSpPr>
            <p:cNvPr id="82" name="组合 34"/>
            <p:cNvGrpSpPr/>
            <p:nvPr/>
          </p:nvGrpSpPr>
          <p:grpSpPr>
            <a:xfrm>
              <a:off x="5560920" y="5580000"/>
              <a:ext cx="2853360" cy="1114200"/>
              <a:chOff x="5560920" y="5580000"/>
              <a:chExt cx="2853360" cy="1114200"/>
            </a:xfrm>
          </p:grpSpPr>
          <p:sp>
            <p:nvSpPr>
              <p:cNvPr id="83" name="MH_Other_7"/>
              <p:cNvSpPr/>
              <p:nvPr/>
            </p:nvSpPr>
            <p:spPr>
              <a:xfrm rot="21420000">
                <a:off x="5580720" y="5652720"/>
                <a:ext cx="2813040" cy="843120"/>
              </a:xfrm>
              <a:custGeom>
                <a:avLst/>
                <a:gdLst/>
                <a:ahLst/>
                <a:rect l="l" t="t" r="r" b="b"/>
                <a:pathLst>
                  <a:path w="3302000" h="990600">
                    <a:moveTo>
                      <a:pt x="0" y="304800"/>
                    </a:moveTo>
                    <a:lnTo>
                      <a:pt x="397933" y="922867"/>
                    </a:lnTo>
                    <a:lnTo>
                      <a:pt x="3090333" y="990600"/>
                    </a:lnTo>
                    <a:lnTo>
                      <a:pt x="3302000" y="0"/>
                    </a:lnTo>
                    <a:lnTo>
                      <a:pt x="0" y="304800"/>
                    </a:lnTo>
                    <a:close/>
                  </a:path>
                </a:pathLst>
              </a:custGeom>
              <a:solidFill>
                <a:srgbClr val="56bd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MH_Other_8"/>
              <p:cNvSpPr/>
              <p:nvPr/>
            </p:nvSpPr>
            <p:spPr>
              <a:xfrm rot="21420000">
                <a:off x="5826600" y="5808960"/>
                <a:ext cx="2415960" cy="822240"/>
              </a:xfrm>
              <a:custGeom>
                <a:avLst/>
                <a:gdLst/>
                <a:ahLst/>
                <a:rect l="l" t="t" r="r" b="b"/>
                <a:pathLst>
                  <a:path w="2836333" h="965200">
                    <a:moveTo>
                      <a:pt x="0" y="0"/>
                    </a:moveTo>
                    <a:lnTo>
                      <a:pt x="245533" y="685800"/>
                    </a:lnTo>
                    <a:lnTo>
                      <a:pt x="2658533" y="965200"/>
                    </a:lnTo>
                    <a:lnTo>
                      <a:pt x="2836333" y="10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MH_Other_9"/>
              <p:cNvSpPr/>
              <p:nvPr/>
            </p:nvSpPr>
            <p:spPr>
              <a:xfrm rot="21420000">
                <a:off x="5884920" y="6013800"/>
                <a:ext cx="47628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6bde6"/>
                    </a:solidFill>
                    <a:latin typeface="Arial"/>
                    <a:ea typeface="微软雅黑"/>
                  </a:rPr>
                  <a:t>0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MH_SubTitle_3"/>
              <p:cNvSpPr/>
              <p:nvPr/>
            </p:nvSpPr>
            <p:spPr>
              <a:xfrm rot="21420000">
                <a:off x="5985360" y="5850360"/>
                <a:ext cx="216000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6bde6"/>
                    </a:solidFill>
                    <a:latin typeface="Arial"/>
                    <a:ea typeface="微软雅黑"/>
                  </a:rPr>
                  <a:t>       </a:t>
                </a:r>
                <a:r>
                  <a:rPr b="0" lang="zh-CN" sz="1600" spc="-1" strike="noStrike" u="sng">
                    <a:solidFill>
                      <a:srgbClr val="0563c1"/>
                    </a:solidFill>
                    <a:uFillTx/>
                    <a:latin typeface="Arial"/>
                    <a:ea typeface="微软雅黑"/>
                    <a:hlinkClick r:id="rId6"/>
                  </a:rPr>
                  <a:t>就业方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八角星 4147"/>
            <p:cNvSpPr/>
            <p:nvPr/>
          </p:nvSpPr>
          <p:spPr>
            <a:xfrm>
              <a:off x="5845680" y="5987880"/>
              <a:ext cx="517680" cy="427680"/>
            </a:xfrm>
            <a:custGeom>
              <a:avLst/>
              <a:gdLst>
                <a:gd name="textAreaLeft" fmla="*/ 118800 w 517680"/>
                <a:gd name="textAreaRight" fmla="*/ 398880 w 517680"/>
                <a:gd name="textAreaTop" fmla="*/ 97920 h 427680"/>
                <a:gd name="textAreaBottom" fmla="*/ 32976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9080">
              <a:solidFill>
                <a:srgbClr val="f66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4155"/>
          <p:cNvGrpSpPr/>
          <p:nvPr/>
        </p:nvGrpSpPr>
        <p:grpSpPr>
          <a:xfrm>
            <a:off x="8069400" y="2781360"/>
            <a:ext cx="2809800" cy="1074600"/>
            <a:chOff x="8069400" y="2781360"/>
            <a:chExt cx="2809800" cy="1074600"/>
          </a:xfrm>
        </p:grpSpPr>
        <p:grpSp>
          <p:nvGrpSpPr>
            <p:cNvPr id="89" name="组合 27"/>
            <p:cNvGrpSpPr/>
            <p:nvPr/>
          </p:nvGrpSpPr>
          <p:grpSpPr>
            <a:xfrm>
              <a:off x="8069400" y="2781360"/>
              <a:ext cx="2809800" cy="1074600"/>
              <a:chOff x="8069400" y="2781360"/>
              <a:chExt cx="2809800" cy="1074600"/>
            </a:xfrm>
          </p:grpSpPr>
          <p:sp>
            <p:nvSpPr>
              <p:cNvPr id="90" name="MH_Other_10"/>
              <p:cNvSpPr/>
              <p:nvPr/>
            </p:nvSpPr>
            <p:spPr>
              <a:xfrm>
                <a:off x="8069400" y="2781360"/>
                <a:ext cx="2809800" cy="923760"/>
              </a:xfrm>
              <a:custGeom>
                <a:avLst/>
                <a:gdLst/>
                <a:ahLst/>
                <a:rect l="l" t="t" r="r" b="b"/>
                <a:pathLst>
                  <a:path w="3302000" h="990600">
                    <a:moveTo>
                      <a:pt x="0" y="304800"/>
                    </a:moveTo>
                    <a:lnTo>
                      <a:pt x="397933" y="922867"/>
                    </a:lnTo>
                    <a:lnTo>
                      <a:pt x="3090333" y="990600"/>
                    </a:lnTo>
                    <a:lnTo>
                      <a:pt x="3302000" y="0"/>
                    </a:lnTo>
                    <a:lnTo>
                      <a:pt x="0" y="304800"/>
                    </a:lnTo>
                    <a:close/>
                  </a:path>
                </a:pathLst>
              </a:custGeom>
              <a:solidFill>
                <a:srgbClr val="7d8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MH_Other_11"/>
              <p:cNvSpPr/>
              <p:nvPr/>
            </p:nvSpPr>
            <p:spPr>
              <a:xfrm>
                <a:off x="8307360" y="2955600"/>
                <a:ext cx="2413080" cy="900360"/>
              </a:xfrm>
              <a:custGeom>
                <a:avLst/>
                <a:gdLst/>
                <a:ahLst/>
                <a:rect l="l" t="t" r="r" b="b"/>
                <a:pathLst>
                  <a:path w="2836333" h="965200">
                    <a:moveTo>
                      <a:pt x="0" y="0"/>
                    </a:moveTo>
                    <a:lnTo>
                      <a:pt x="245533" y="685800"/>
                    </a:lnTo>
                    <a:lnTo>
                      <a:pt x="2658533" y="965200"/>
                    </a:lnTo>
                    <a:lnTo>
                      <a:pt x="2836333" y="10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MH_Other_12"/>
              <p:cNvSpPr/>
              <p:nvPr/>
            </p:nvSpPr>
            <p:spPr>
              <a:xfrm>
                <a:off x="8375400" y="3156120"/>
                <a:ext cx="47628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7d81c0"/>
                    </a:solidFill>
                    <a:latin typeface="Arial"/>
                    <a:ea typeface="微软雅黑"/>
                  </a:rPr>
                  <a:t>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MH_SubTitle_4"/>
              <p:cNvSpPr/>
              <p:nvPr/>
            </p:nvSpPr>
            <p:spPr>
              <a:xfrm>
                <a:off x="8469360" y="3002400"/>
                <a:ext cx="21574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d81c0"/>
                    </a:solidFill>
                    <a:latin typeface="Arial"/>
                    <a:ea typeface="微软雅黑"/>
                  </a:rPr>
                  <a:t>       </a:t>
                </a:r>
                <a:r>
                  <a:rPr b="0" lang="zh-CN" sz="1600" spc="-1" strike="noStrike" u="sng">
                    <a:solidFill>
                      <a:srgbClr val="0563c1"/>
                    </a:solidFill>
                    <a:uFillTx/>
                    <a:latin typeface="Arial"/>
                    <a:ea typeface="微软雅黑"/>
                    <a:hlinkClick r:id="rId7"/>
                  </a:rPr>
                  <a:t>流程作业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八角星 4161"/>
            <p:cNvSpPr/>
            <p:nvPr/>
          </p:nvSpPr>
          <p:spPr>
            <a:xfrm>
              <a:off x="8365320" y="3122280"/>
              <a:ext cx="517320" cy="426600"/>
            </a:xfrm>
            <a:custGeom>
              <a:avLst/>
              <a:gdLst>
                <a:gd name="textAreaLeft" fmla="*/ 118800 w 517320"/>
                <a:gd name="textAreaRight" fmla="*/ 398520 w 517320"/>
                <a:gd name="textAreaTop" fmla="*/ 97920 h 426600"/>
                <a:gd name="textAreaBottom" fmla="*/ 328680 h 42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9080">
              <a:solidFill>
                <a:srgbClr val="f66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5000"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 rot="20940000">
            <a:off x="-183960" y="46080"/>
            <a:ext cx="51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7caac"/>
                </a:solidFill>
                <a:latin typeface="Calibri"/>
                <a:ea typeface="方正舒体"/>
              </a:rPr>
              <a:t>专业认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1639800" y="4278240"/>
            <a:ext cx="8639280" cy="2427480"/>
            <a:chOff x="1639800" y="4278240"/>
            <a:chExt cx="8639280" cy="2427480"/>
          </a:xfrm>
        </p:grpSpPr>
        <p:sp>
          <p:nvSpPr>
            <p:cNvPr id="97" name="文本框 1"/>
            <p:cNvSpPr/>
            <p:nvPr/>
          </p:nvSpPr>
          <p:spPr>
            <a:xfrm>
              <a:off x="5191920" y="4278240"/>
              <a:ext cx="25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同侧圆角矩形 5"/>
            <p:cNvSpPr/>
            <p:nvPr/>
          </p:nvSpPr>
          <p:spPr>
            <a:xfrm>
              <a:off x="1639800" y="4533480"/>
              <a:ext cx="8639280" cy="2172240"/>
            </a:xfrm>
            <a:custGeom>
              <a:avLst/>
              <a:gdLst/>
              <a:ahLst/>
              <a:rect l="l" t="t" r="r" b="b"/>
              <a:pathLst>
                <a:path w="13605" h="3421">
                  <a:moveTo>
                    <a:pt x="570" y="0"/>
                  </a:moveTo>
                  <a:lnTo>
                    <a:pt x="13034" y="0"/>
                  </a:lnTo>
                  <a:cubicBezTo>
                    <a:pt x="13349" y="0"/>
                    <a:pt x="13604" y="255"/>
                    <a:pt x="13604" y="570"/>
                  </a:cubicBezTo>
                  <a:lnTo>
                    <a:pt x="13605" y="3421"/>
                  </a:lnTo>
                  <a:lnTo>
                    <a:pt x="13605" y="3421"/>
                  </a:lnTo>
                  <a:lnTo>
                    <a:pt x="0" y="3421"/>
                  </a:lnTo>
                  <a:lnTo>
                    <a:pt x="0" y="3421"/>
                  </a:lnTo>
                  <a:lnTo>
                    <a:pt x="0" y="570"/>
                  </a:lnTo>
                  <a:cubicBezTo>
                    <a:pt x="0" y="255"/>
                    <a:pt x="255" y="0"/>
                    <a:pt x="570" y="0"/>
                  </a:cubicBezTo>
                  <a:close/>
                </a:path>
              </a:pathLst>
            </a:custGeom>
            <a:solidFill>
              <a:srgbClr val="70ad47"/>
            </a:solidFill>
            <a:ln w="12600">
              <a:solidFill>
                <a:srgbClr val="517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6"/>
            <p:cNvSpPr/>
            <p:nvPr/>
          </p:nvSpPr>
          <p:spPr>
            <a:xfrm>
              <a:off x="2217960" y="4843440"/>
              <a:ext cx="755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启体简体"/>
                  <a:ea typeface="方正启体简体"/>
                </a:rPr>
                <a:t>物流管理（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启体简体"/>
                  <a:ea typeface="方正启体简体"/>
                </a:rPr>
                <a:t>Logistics Management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启体简体"/>
                  <a:ea typeface="方正启体简体"/>
                </a:rPr>
                <a:t>）是指在社会再生产过程中，根据物质资料实体流动的规律，应用管理的基本原理和科学方法，对物流活动进行计划、组织、指挥、协调、控制和监督，使各项物流活动实现最佳的协调与配合，以降低物流成本，提高物流效率和经济效益。现代物流管理是建立在系统论、信息论和控制论的基础上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图片 10" descr="QQ图片任"/>
          <p:cNvPicPr/>
          <p:nvPr/>
        </p:nvPicPr>
        <p:blipFill>
          <a:blip r:embed="rId2"/>
          <a:srcRect l="-1975" t="-4453" r="1983" b="4463"/>
          <a:stretch/>
        </p:blipFill>
        <p:spPr>
          <a:xfrm rot="21000000">
            <a:off x="3368520" y="520560"/>
            <a:ext cx="4346640" cy="28148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QQ图片快递"/>
          <p:cNvPicPr/>
          <p:nvPr/>
        </p:nvPicPr>
        <p:blipFill>
          <a:blip r:embed="rId3">
            <a:alphaModFix amt="53000"/>
          </a:blip>
          <a:stretch/>
        </p:blipFill>
        <p:spPr>
          <a:xfrm rot="540000">
            <a:off x="7310160" y="1384200"/>
            <a:ext cx="4048200" cy="2702160"/>
          </a:xfrm>
          <a:prstGeom prst="rect">
            <a:avLst/>
          </a:prstGeom>
          <a:ln w="0">
            <a:noFill/>
          </a:ln>
        </p:spPr>
      </p:pic>
      <p:sp>
        <p:nvSpPr>
          <p:cNvPr id="102" name="右弧形箭头 5128"/>
          <p:cNvSpPr/>
          <p:nvPr/>
        </p:nvSpPr>
        <p:spPr>
          <a:xfrm rot="5280000">
            <a:off x="10967040" y="5814000"/>
            <a:ext cx="530280" cy="789120"/>
          </a:xfrm>
          <a:custGeom>
            <a:avLst/>
            <a:gdLst>
              <a:gd name="textAreaLeft" fmla="*/ 70920 w 530280"/>
              <a:gd name="textAreaRight" fmla="*/ 459360 w 530280"/>
              <a:gd name="textAreaTop" fmla="*/ 146880 h 789120"/>
              <a:gd name="textAreaBottom" fmla="*/ 5752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2792894"/>
                <a:lnTo>
                  <a:pt x="7196" y="21140"/>
                </a:lnTo>
                <a:lnTo>
                  <a:pt x="0" y="17942"/>
                </a:lnTo>
                <a:lnTo>
                  <a:pt x="7196" y="13823"/>
                </a:lnTo>
                <a:lnTo>
                  <a:pt x="7196" y="15652"/>
                </a:lnTo>
                <a:arcTo wR="21600" hR="8056" stAng="2792894" swAng="-2494658"/>
                <a:lnTo>
                  <a:pt x="21036" y="9886"/>
                </a:lnTo>
                <a:arcTo wR="21600" hR="8056" stAng="-298235" swAng="-5101765"/>
                <a:close/>
              </a:path>
              <a:path fill="darkenLess"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-298235"/>
                <a:lnTo>
                  <a:pt x="21036" y="9886"/>
                </a:lnTo>
                <a:arcTo wR="21600" hR="8056" stAng="-298235" swAng="-5101765"/>
                <a:close/>
              </a:path>
            </a:pathLst>
          </a:custGeom>
          <a:solidFill>
            <a:srgbClr val="00cc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流程图: 可选过程 1"/>
          <p:cNvSpPr/>
          <p:nvPr/>
        </p:nvSpPr>
        <p:spPr>
          <a:xfrm>
            <a:off x="4675320" y="1905120"/>
            <a:ext cx="6226200" cy="3717720"/>
          </a:xfrm>
          <a:prstGeom prst="flowChartAlternateProcess">
            <a:avLst/>
          </a:prstGeom>
          <a:gradFill rotWithShape="0">
            <a:gsLst>
              <a:gs pos="0">
                <a:srgbClr val="ffff66"/>
              </a:gs>
              <a:gs pos="100000">
                <a:srgbClr val="ffc000">
                  <a:alpha val="7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锐字云字库行楷体1.0"/>
                <a:ea typeface="锐字云字库行楷体1.0"/>
              </a:rPr>
              <a:t>     </a:t>
            </a:r>
            <a:r>
              <a:rPr b="0" lang="zh-CN" sz="2000" spc="-1" strike="noStrike">
                <a:solidFill>
                  <a:srgbClr val="7030a0"/>
                </a:solidFill>
                <a:latin typeface="华文楷体"/>
                <a:ea typeface="华文楷体"/>
              </a:rPr>
              <a:t>随着世界经济的高速发展和全球化趋势的日益突出，现代物流理论和技术已在发达国家得到了空前的应用和发展，并产生了巨大的经济效益和社会效益。面对我国加入</a:t>
            </a:r>
            <a:r>
              <a:rPr b="0" lang="zh-CN" sz="2000" spc="-1" strike="noStrike">
                <a:solidFill>
                  <a:srgbClr val="7030a0"/>
                </a:solidFill>
                <a:latin typeface="华文楷体"/>
                <a:ea typeface="华文楷体"/>
              </a:rPr>
              <a:t>WTO</a:t>
            </a:r>
            <a:r>
              <a:rPr b="0" lang="zh-CN" sz="2000" spc="-1" strike="noStrike">
                <a:solidFill>
                  <a:srgbClr val="7030a0"/>
                </a:solidFill>
                <a:latin typeface="华文楷体"/>
                <a:ea typeface="华文楷体"/>
              </a:rPr>
              <a:t>后所面临的机遇与挑战，引进和发展现代物流理论和技术，培养现代物流经营管理的高级人才，已成为当务之急。所以物流专业很有发展前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矩形 6146" descr=""/>
          <p:cNvPicPr/>
          <p:nvPr/>
        </p:nvPicPr>
        <p:blipFill>
          <a:blip r:embed="rId2"/>
          <a:stretch/>
        </p:blipFill>
        <p:spPr>
          <a:xfrm>
            <a:off x="5869080" y="771480"/>
            <a:ext cx="406692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6148" descr="A000220150320D28PPIC"/>
          <p:cNvPicPr/>
          <p:nvPr/>
        </p:nvPicPr>
        <p:blipFill>
          <a:blip r:embed="rId3"/>
          <a:stretch/>
        </p:blipFill>
        <p:spPr>
          <a:xfrm>
            <a:off x="9613800" y="6807240"/>
            <a:ext cx="2444760" cy="11332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6149" descr="A000220150322F77PPIC"/>
          <p:cNvPicPr/>
          <p:nvPr/>
        </p:nvPicPr>
        <p:blipFill>
          <a:blip r:embed="rId4"/>
          <a:stretch/>
        </p:blipFill>
        <p:spPr>
          <a:xfrm>
            <a:off x="117360" y="3473280"/>
            <a:ext cx="5058000" cy="3306960"/>
          </a:xfrm>
          <a:prstGeom prst="rect">
            <a:avLst/>
          </a:prstGeom>
          <a:ln w="0">
            <a:noFill/>
          </a:ln>
        </p:spPr>
      </p:pic>
      <p:sp>
        <p:nvSpPr>
          <p:cNvPr id="107" name="右弧形箭头 5128"/>
          <p:cNvSpPr/>
          <p:nvPr/>
        </p:nvSpPr>
        <p:spPr>
          <a:xfrm rot="5280000">
            <a:off x="10967040" y="5814000"/>
            <a:ext cx="530280" cy="789120"/>
          </a:xfrm>
          <a:custGeom>
            <a:avLst/>
            <a:gdLst>
              <a:gd name="textAreaLeft" fmla="*/ 70920 w 530280"/>
              <a:gd name="textAreaRight" fmla="*/ 459360 w 530280"/>
              <a:gd name="textAreaTop" fmla="*/ 146880 h 789120"/>
              <a:gd name="textAreaBottom" fmla="*/ 5752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2792894"/>
                <a:lnTo>
                  <a:pt x="7196" y="21140"/>
                </a:lnTo>
                <a:lnTo>
                  <a:pt x="0" y="17942"/>
                </a:lnTo>
                <a:lnTo>
                  <a:pt x="7196" y="13823"/>
                </a:lnTo>
                <a:lnTo>
                  <a:pt x="7196" y="15652"/>
                </a:lnTo>
                <a:arcTo wR="21600" hR="8056" stAng="2792894" swAng="-2494658"/>
                <a:lnTo>
                  <a:pt x="21036" y="9886"/>
                </a:lnTo>
                <a:arcTo wR="21600" hR="8056" stAng="-298235" swAng="-5101765"/>
                <a:close/>
              </a:path>
              <a:path fill="darkenLess"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-298235"/>
                <a:lnTo>
                  <a:pt x="21036" y="9886"/>
                </a:lnTo>
                <a:arcTo wR="21600" hR="8056" stAng="-298235" swAng="-5101765"/>
                <a:close/>
              </a:path>
            </a:pathLst>
          </a:custGeom>
          <a:solidFill>
            <a:srgbClr val="00cc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07 -0.076382 C -0.000994 -0.18552 0.010658 -0.472418 -0.035952 -0.655723 C -0.082563 -0.83903 -0.099262 -0.940835 -0.23025 -0.992819 C -0.361238 -1.044802 -0.547005 -1.04969 -0.69079 -0.915548 C -0.834576 -0.781407 -0.965928 -0.483604 -0.949229 -0.322107 C -0.932531 -0.160609 -0.63211 -0.034928 -0.607244 -0.107968 C -0.582379 -0.181008 -0.781306 -0.570745 -0.824848 -0.687308 C -0.86839 -0.803872 -0.829218 -0.701786 -0.824848 -0.690881 E">
                                      <p:cBhvr>
                                        <p:cTn id="8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99"/>
          <p:cNvSpPr/>
          <p:nvPr/>
        </p:nvSpPr>
        <p:spPr>
          <a:xfrm>
            <a:off x="309600" y="1190520"/>
            <a:ext cx="7173720" cy="1709640"/>
          </a:xfrm>
          <a:prstGeom prst="rect">
            <a:avLst/>
          </a:prstGeom>
          <a:blipFill rotWithShape="0">
            <a:blip r:embed="rId2">
              <a:alphaModFix amt="4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宏观方面。这主要是从国家政策方面考虑。物流业打败房地产业跻身国家</a:t>
            </a:r>
            <a:r>
              <a:rPr b="1" lang="en-US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大产业振兴规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从行业方面。现实中，大多数人认为物流</a:t>
            </a:r>
            <a:r>
              <a:rPr b="1" lang="en-US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=</a:t>
            </a:r>
            <a:r>
              <a:rPr b="1" lang="zh-CN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运输或者</a:t>
            </a:r>
            <a:r>
              <a:rPr b="1" lang="en-US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=</a:t>
            </a:r>
            <a:r>
              <a:rPr b="1" lang="zh-CN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储存，这是错误的观念，当然把物流</a:t>
            </a:r>
            <a:r>
              <a:rPr b="1" lang="en-US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=</a:t>
            </a:r>
            <a:r>
              <a:rPr b="1" lang="zh-CN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快递，那是错上加错了。但由此也反映出物流业的落后于不规范的发展，仅仅停留在行业发展的初级的阶段。因此选择这行需要做好吃苦受累的准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从自身来说。</a:t>
            </a:r>
            <a:r>
              <a:rPr b="1" lang="en-US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360</a:t>
            </a:r>
            <a:r>
              <a:rPr b="1" lang="zh-CN" sz="2000" spc="-1" strike="noStrike">
                <a:solidFill>
                  <a:srgbClr val="ffff00"/>
                </a:solidFill>
                <a:latin typeface="AR BERKLEY"/>
                <a:ea typeface="华文新魏"/>
              </a:rPr>
              <a:t>行、行行出状元。任何行业都不缺人但缺人才，所以关键的还是学这个专业的人自身。保持良好的心态，将这个专业需要学习的知识掌握通透，力求精良，相信前途也是无限光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55a11"/>
                </a:solidFill>
                <a:latin typeface="AR BERKLEY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170"/>
          <p:cNvSpPr txBox="1"/>
          <p:nvPr/>
        </p:nvSpPr>
        <p:spPr>
          <a:xfrm>
            <a:off x="2136600" y="214200"/>
            <a:ext cx="32338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ed7d31"/>
                  </a:solidFill>
                  <a:round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专业分析 </a:t>
            </a:r>
            <a:endParaRPr b="0" lang="en-US" sz="6000" spc="1" strike="noStrike">
              <a:ln w="19080">
                <a:solidFill>
                  <a:srgbClr val="ed7d31"/>
                </a:solidFill>
                <a:round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0" name="右弧形箭头 5128"/>
          <p:cNvSpPr/>
          <p:nvPr/>
        </p:nvSpPr>
        <p:spPr>
          <a:xfrm rot="5280000">
            <a:off x="10967040" y="5814000"/>
            <a:ext cx="530280" cy="789120"/>
          </a:xfrm>
          <a:custGeom>
            <a:avLst/>
            <a:gdLst>
              <a:gd name="textAreaLeft" fmla="*/ 70920 w 530280"/>
              <a:gd name="textAreaRight" fmla="*/ 459360 w 530280"/>
              <a:gd name="textAreaTop" fmla="*/ 146880 h 789120"/>
              <a:gd name="textAreaBottom" fmla="*/ 5752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2792894"/>
                <a:lnTo>
                  <a:pt x="7196" y="21140"/>
                </a:lnTo>
                <a:lnTo>
                  <a:pt x="0" y="17942"/>
                </a:lnTo>
                <a:lnTo>
                  <a:pt x="7196" y="13823"/>
                </a:lnTo>
                <a:lnTo>
                  <a:pt x="7196" y="15652"/>
                </a:lnTo>
                <a:arcTo wR="21600" hR="8056" stAng="2792894" swAng="-2494658"/>
                <a:lnTo>
                  <a:pt x="21036" y="9886"/>
                </a:lnTo>
                <a:arcTo wR="21600" hR="8056" stAng="-298235" swAng="-5101765"/>
                <a:close/>
              </a:path>
              <a:path fill="darkenLess"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-298235"/>
                <a:lnTo>
                  <a:pt x="21036" y="9886"/>
                </a:lnTo>
                <a:arcTo wR="21600" hR="8056" stAng="-298235" swAng="-5101765"/>
                <a:close/>
              </a:path>
            </a:pathLst>
          </a:custGeom>
          <a:solidFill>
            <a:srgbClr val="00cc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sh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8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QQ图片配送"/>
          <p:cNvPicPr/>
          <p:nvPr/>
        </p:nvPicPr>
        <p:blipFill>
          <a:blip r:embed="rId2"/>
          <a:stretch/>
        </p:blipFill>
        <p:spPr>
          <a:xfrm rot="240000">
            <a:off x="2743200" y="1752120"/>
            <a:ext cx="6497640" cy="38163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" descr="QQ图片"/>
          <p:cNvPicPr/>
          <p:nvPr/>
        </p:nvPicPr>
        <p:blipFill>
          <a:blip r:embed="rId3"/>
          <a:stretch/>
        </p:blipFill>
        <p:spPr>
          <a:xfrm>
            <a:off x="6791400" y="4441680"/>
            <a:ext cx="3851280" cy="2102040"/>
          </a:xfrm>
          <a:prstGeom prst="rect">
            <a:avLst/>
          </a:prstGeom>
          <a:ln w="0">
            <a:noFill/>
          </a:ln>
        </p:spPr>
      </p:pic>
      <p:sp>
        <p:nvSpPr>
          <p:cNvPr id="113" name="矩形 8"/>
          <p:cNvSpPr/>
          <p:nvPr/>
        </p:nvSpPr>
        <p:spPr>
          <a:xfrm rot="300000">
            <a:off x="3257640" y="3124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9" descr="QQ图片3"/>
          <p:cNvPicPr/>
          <p:nvPr/>
        </p:nvPicPr>
        <p:blipFill>
          <a:blip r:embed="rId4"/>
          <a:stretch/>
        </p:blipFill>
        <p:spPr>
          <a:xfrm rot="20820000">
            <a:off x="8105400" y="512280"/>
            <a:ext cx="3737160" cy="26020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0" descr="QQ图片2444"/>
          <p:cNvPicPr/>
          <p:nvPr/>
        </p:nvPicPr>
        <p:blipFill>
          <a:blip r:embed="rId5"/>
          <a:stretch/>
        </p:blipFill>
        <p:spPr>
          <a:xfrm rot="21120000">
            <a:off x="360360" y="4271760"/>
            <a:ext cx="3187800" cy="23763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1" descr="QQ图片某某某"/>
          <p:cNvPicPr/>
          <p:nvPr/>
        </p:nvPicPr>
        <p:blipFill>
          <a:blip r:embed="rId6"/>
          <a:stretch/>
        </p:blipFill>
        <p:spPr>
          <a:xfrm rot="20640000">
            <a:off x="339840" y="1628640"/>
            <a:ext cx="3606840" cy="2362320"/>
          </a:xfrm>
          <a:prstGeom prst="rect">
            <a:avLst/>
          </a:prstGeom>
          <a:ln w="0">
            <a:noFill/>
          </a:ln>
        </p:spPr>
      </p:pic>
      <p:sp>
        <p:nvSpPr>
          <p:cNvPr id="117" name="矩形 8199"/>
          <p:cNvSpPr txBox="1"/>
          <p:nvPr/>
        </p:nvSpPr>
        <p:spPr>
          <a:xfrm>
            <a:off x="2006640" y="379440"/>
            <a:ext cx="380988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8080"/>
                  </a:solidFill>
                  <a:round/>
                </a:ln>
                <a:solidFill>
                  <a:srgbClr val="00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华文行楷"/>
              </a:rPr>
              <a:t>流程作业图</a:t>
            </a:r>
            <a:endParaRPr b="0" lang="en-US" sz="6000" spc="1" strike="noStrike">
              <a:ln w="12600">
                <a:solidFill>
                  <a:srgbClr val="008080"/>
                </a:solidFill>
                <a:round/>
              </a:ln>
              <a:solidFill>
                <a:srgbClr val="00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8" name="右弧形箭头 5128"/>
          <p:cNvSpPr/>
          <p:nvPr/>
        </p:nvSpPr>
        <p:spPr>
          <a:xfrm rot="5280000">
            <a:off x="10967040" y="5814000"/>
            <a:ext cx="530280" cy="789120"/>
          </a:xfrm>
          <a:custGeom>
            <a:avLst/>
            <a:gdLst>
              <a:gd name="textAreaLeft" fmla="*/ 70920 w 530280"/>
              <a:gd name="textAreaRight" fmla="*/ 459360 w 530280"/>
              <a:gd name="textAreaTop" fmla="*/ 146880 h 789120"/>
              <a:gd name="textAreaBottom" fmla="*/ 5752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2792894"/>
                <a:lnTo>
                  <a:pt x="7196" y="21140"/>
                </a:lnTo>
                <a:lnTo>
                  <a:pt x="0" y="17942"/>
                </a:lnTo>
                <a:lnTo>
                  <a:pt x="7196" y="13823"/>
                </a:lnTo>
                <a:lnTo>
                  <a:pt x="7196" y="15652"/>
                </a:lnTo>
                <a:arcTo wR="21600" hR="8056" stAng="2792894" swAng="-2494658"/>
                <a:lnTo>
                  <a:pt x="21036" y="9886"/>
                </a:lnTo>
                <a:arcTo wR="21600" hR="8056" stAng="-298235" swAng="-5101765"/>
                <a:close/>
              </a:path>
              <a:path fill="darkenLess"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-298235"/>
                <a:lnTo>
                  <a:pt x="21036" y="9886"/>
                </a:lnTo>
                <a:arcTo wR="21600" hR="8056" stAng="-298235" swAng="-5101765"/>
                <a:close/>
              </a:path>
            </a:pathLst>
          </a:custGeom>
          <a:solidFill>
            <a:srgbClr val="00cc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3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dur="indefinite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8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9217"/>
          <p:cNvSpPr txBox="1"/>
          <p:nvPr/>
        </p:nvSpPr>
        <p:spPr>
          <a:xfrm rot="5400000">
            <a:off x="2323080" y="2637360"/>
            <a:ext cx="4583160" cy="866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>
                        <a:alpha val="78039"/>
                      </a:srgbClr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华文新魏"/>
              </a:rPr>
              <a:t>培养目标及要求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>
                      <a:alpha val="78039"/>
                    </a:srgbClr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0" name="矩形 8"/>
          <p:cNvSpPr/>
          <p:nvPr/>
        </p:nvSpPr>
        <p:spPr>
          <a:xfrm>
            <a:off x="4510080" y="1305000"/>
            <a:ext cx="2487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6" descr="QQ图片沙盘"/>
          <p:cNvPicPr/>
          <p:nvPr/>
        </p:nvPicPr>
        <p:blipFill>
          <a:blip r:embed="rId2"/>
          <a:stretch/>
        </p:blipFill>
        <p:spPr>
          <a:xfrm rot="720000">
            <a:off x="5310360" y="341280"/>
            <a:ext cx="3646440" cy="30481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QQ图片"/>
          <p:cNvPicPr/>
          <p:nvPr/>
        </p:nvPicPr>
        <p:blipFill>
          <a:blip r:embed="rId3"/>
          <a:stretch/>
        </p:blipFill>
        <p:spPr>
          <a:xfrm rot="21060000">
            <a:off x="8453520" y="639360"/>
            <a:ext cx="3489120" cy="274644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3"/>
          <p:cNvSpPr/>
          <p:nvPr/>
        </p:nvSpPr>
        <p:spPr>
          <a:xfrm>
            <a:off x="316080" y="1006560"/>
            <a:ext cx="341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物流管理专业学生主要学习经济、会计、贸易、管理、法律、信息资源管理、计算机等方面的基本理论和专门知识，培养具有一定的物流规划与设计、物流管理、物流业运作等能力，能在经济管理部门、贸易公司、物流企业从事政策制定，物流业运作管理应用型、复合型、国际化的物流管理人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右弧形箭头 5128"/>
          <p:cNvSpPr/>
          <p:nvPr/>
        </p:nvSpPr>
        <p:spPr>
          <a:xfrm rot="5280000">
            <a:off x="10967040" y="5814000"/>
            <a:ext cx="530280" cy="789120"/>
          </a:xfrm>
          <a:custGeom>
            <a:avLst/>
            <a:gdLst>
              <a:gd name="textAreaLeft" fmla="*/ 70920 w 530280"/>
              <a:gd name="textAreaRight" fmla="*/ 459360 w 530280"/>
              <a:gd name="textAreaTop" fmla="*/ 146880 h 789120"/>
              <a:gd name="textAreaBottom" fmla="*/ 5752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2792894"/>
                <a:lnTo>
                  <a:pt x="7196" y="21140"/>
                </a:lnTo>
                <a:lnTo>
                  <a:pt x="0" y="17942"/>
                </a:lnTo>
                <a:lnTo>
                  <a:pt x="7196" y="13823"/>
                </a:lnTo>
                <a:lnTo>
                  <a:pt x="7196" y="15652"/>
                </a:lnTo>
                <a:arcTo wR="21600" hR="8056" stAng="2792894" swAng="-2494658"/>
                <a:lnTo>
                  <a:pt x="21036" y="9886"/>
                </a:lnTo>
                <a:arcTo wR="21600" hR="8056" stAng="-298235" swAng="-5101765"/>
                <a:close/>
              </a:path>
              <a:path fill="darkenLess"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-298235"/>
                <a:lnTo>
                  <a:pt x="21036" y="9886"/>
                </a:lnTo>
                <a:arcTo wR="21600" hR="8056" stAng="-298235" swAng="-5101765"/>
                <a:close/>
              </a:path>
            </a:pathLst>
          </a:custGeom>
          <a:solidFill>
            <a:srgbClr val="00cc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900"/>
                            </p:stCondLst>
                            <p:childTnLst>
                              <p:par>
                                <p:cTn id="163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900"/>
                            </p:stCondLst>
                            <p:childTnLst>
                              <p:par>
                                <p:cTn id="16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7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"/>
          <p:cNvSpPr/>
          <p:nvPr/>
        </p:nvSpPr>
        <p:spPr>
          <a:xfrm>
            <a:off x="355680" y="1851120"/>
            <a:ext cx="35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"/>
          <p:cNvSpPr/>
          <p:nvPr/>
        </p:nvSpPr>
        <p:spPr>
          <a:xfrm>
            <a:off x="5452920" y="1454040"/>
            <a:ext cx="54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"/>
          <p:cNvSpPr/>
          <p:nvPr/>
        </p:nvSpPr>
        <p:spPr>
          <a:xfrm>
            <a:off x="6591240" y="422280"/>
            <a:ext cx="5386320" cy="5289480"/>
          </a:xfrm>
          <a:prstGeom prst="ellipse">
            <a:avLst/>
          </a:prstGeom>
          <a:solidFill>
            <a:srgbClr val="ed7d31"/>
          </a:solidFill>
          <a:ln w="38160">
            <a:solidFill>
              <a:srgbClr val="592b0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"/>
          <p:cNvSpPr/>
          <p:nvPr/>
        </p:nvSpPr>
        <p:spPr>
          <a:xfrm>
            <a:off x="7404120" y="1127160"/>
            <a:ext cx="390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随着中国社会主义市场经济体系建立、世界经济一体化进程的加快和科学技术的飞速发展，物流产业作为国民经济中的一个新兴的产业部门，将成为本世纪重要产业和国民经济新的增长点。从中央到地方以及许多市场意识敏锐的企业，已把物流作为提高市场竞争力和提升企业核心竞争力的重要手段，把现代物流理念、先进的物流技术和现代物流模式引入国家、地方经济建设和企业经营和管理之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 rot="20940000">
            <a:off x="6159600" y="269640"/>
            <a:ext cx="33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Calibri"/>
                <a:ea typeface="华文彩云"/>
              </a:rPr>
              <a:t>就业方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占位符 4" descr="QQ图片插图.jpg"/>
          <p:cNvPicPr/>
          <p:nvPr/>
        </p:nvPicPr>
        <p:blipFill>
          <a:blip r:embed="rId2"/>
          <a:srcRect l="5975" t="0" r="5975" b="0"/>
          <a:stretch/>
        </p:blipFill>
        <p:spPr>
          <a:xfrm rot="21234000">
            <a:off x="614520" y="1830240"/>
            <a:ext cx="5519520" cy="4359600"/>
          </a:xfrm>
          <a:prstGeom prst="rect">
            <a:avLst/>
          </a:prstGeom>
          <a:ln w="139680">
            <a:solidFill>
              <a:srgbClr val="ffffff"/>
            </a:solidFill>
            <a:miter/>
          </a:ln>
        </p:spPr>
      </p:pic>
      <p:sp>
        <p:nvSpPr>
          <p:cNvPr id="131" name="右弧形箭头 5128"/>
          <p:cNvSpPr/>
          <p:nvPr/>
        </p:nvSpPr>
        <p:spPr>
          <a:xfrm rot="5280000">
            <a:off x="10967040" y="5814000"/>
            <a:ext cx="530280" cy="789120"/>
          </a:xfrm>
          <a:custGeom>
            <a:avLst/>
            <a:gdLst>
              <a:gd name="textAreaLeft" fmla="*/ 70920 w 530280"/>
              <a:gd name="textAreaRight" fmla="*/ 459360 w 530280"/>
              <a:gd name="textAreaTop" fmla="*/ 146880 h 789120"/>
              <a:gd name="textAreaBottom" fmla="*/ 5752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2792894"/>
                <a:lnTo>
                  <a:pt x="7196" y="21140"/>
                </a:lnTo>
                <a:lnTo>
                  <a:pt x="0" y="17942"/>
                </a:lnTo>
                <a:lnTo>
                  <a:pt x="7196" y="13823"/>
                </a:lnTo>
                <a:lnTo>
                  <a:pt x="7196" y="15652"/>
                </a:lnTo>
                <a:arcTo wR="21600" hR="8056" stAng="2792894" swAng="-2494658"/>
                <a:lnTo>
                  <a:pt x="21036" y="9886"/>
                </a:lnTo>
                <a:arcTo wR="21600" hR="8056" stAng="-298235" swAng="-5101765"/>
                <a:close/>
              </a:path>
              <a:path fill="darkenLess"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-298235"/>
                <a:lnTo>
                  <a:pt x="21036" y="9886"/>
                </a:lnTo>
                <a:arcTo wR="21600" hR="8056" stAng="-298235" swAng="-5101765"/>
                <a:close/>
              </a:path>
            </a:pathLst>
          </a:custGeom>
          <a:solidFill>
            <a:srgbClr val="00cc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ll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5" descr="QQ图片背景12路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1057320" y="4221000"/>
            <a:ext cx="940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</a:t>
            </a:r>
            <a:r>
              <a:rPr b="1" lang="zh-CN" sz="2400" spc="-1" strike="noStrike">
                <a:solidFill>
                  <a:srgbClr val="00b0f0"/>
                </a:solidFill>
                <a:latin typeface="华康少女文字W5(P)"/>
                <a:ea typeface="华康少女文字W5(P)"/>
              </a:rPr>
              <a:t>路上我都会发现从未想象过的东西，如果当初我没有勇气去尝试看来几乎不可能的事，如今我就还只是个牧羊人而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华康少女文字W5(P)"/>
                <a:ea typeface="华康少女文字W5(P)"/>
              </a:rPr>
              <a:t>                                                     ——</a:t>
            </a:r>
            <a:r>
              <a:rPr b="1" lang="en-US" sz="2400" spc="-1" strike="noStrike">
                <a:solidFill>
                  <a:srgbClr val="00b0f0"/>
                </a:solidFill>
                <a:latin typeface="华康少女文字W5(P)"/>
                <a:ea typeface="华康少女文字W5(P)"/>
              </a:rPr>
              <a:t>《</a:t>
            </a:r>
            <a:r>
              <a:rPr b="1" lang="zh-CN" sz="2400" spc="-1" strike="noStrike">
                <a:solidFill>
                  <a:srgbClr val="00b0f0"/>
                </a:solidFill>
                <a:latin typeface="华康少女文字W5(P)"/>
                <a:ea typeface="华康少女文字W5(P)"/>
              </a:rPr>
              <a:t>牧羊少年的奇幻之旅</a:t>
            </a:r>
            <a:r>
              <a:rPr b="0" lang="en-US" sz="2400" spc="-1" strike="noStrike">
                <a:solidFill>
                  <a:srgbClr val="00b0f0"/>
                </a:solidFill>
                <a:latin typeface="华康少女文字W5(P)"/>
                <a:ea typeface="华康少女文字W5(P)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右弧形箭头 5128"/>
          <p:cNvSpPr/>
          <p:nvPr/>
        </p:nvSpPr>
        <p:spPr>
          <a:xfrm rot="5280000">
            <a:off x="10967040" y="5814000"/>
            <a:ext cx="530280" cy="789120"/>
          </a:xfrm>
          <a:custGeom>
            <a:avLst/>
            <a:gdLst>
              <a:gd name="textAreaLeft" fmla="*/ 70920 w 530280"/>
              <a:gd name="textAreaRight" fmla="*/ 459360 w 530280"/>
              <a:gd name="textAreaTop" fmla="*/ 146880 h 789120"/>
              <a:gd name="textAreaBottom" fmla="*/ 5752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2792894"/>
                <a:lnTo>
                  <a:pt x="7196" y="21140"/>
                </a:lnTo>
                <a:lnTo>
                  <a:pt x="0" y="17942"/>
                </a:lnTo>
                <a:lnTo>
                  <a:pt x="7196" y="13823"/>
                </a:lnTo>
                <a:lnTo>
                  <a:pt x="7196" y="15652"/>
                </a:lnTo>
                <a:arcTo wR="21600" hR="8056" stAng="2792894" swAng="-2494658"/>
                <a:lnTo>
                  <a:pt x="21036" y="9886"/>
                </a:lnTo>
                <a:arcTo wR="21600" hR="8056" stAng="-298235" swAng="-5101765"/>
                <a:close/>
              </a:path>
              <a:path fill="darkenLess" w="21600" h="21600">
                <a:moveTo>
                  <a:pt x="0" y="0"/>
                </a:moveTo>
                <a:arcTo wR="21600" hR="8056" stAng="-5400000" swAng="5400000"/>
                <a:lnTo>
                  <a:pt x="21600" y="11715"/>
                </a:lnTo>
                <a:arcTo wR="21600" hR="8056" stAng="0" swAng="-298235"/>
                <a:lnTo>
                  <a:pt x="21036" y="9886"/>
                </a:lnTo>
                <a:arcTo wR="21600" hR="8056" stAng="-298235" swAng="-5101765"/>
                <a:close/>
              </a:path>
            </a:pathLst>
          </a:custGeom>
          <a:solidFill>
            <a:srgbClr val="00cc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2T07:03:00Z</dcterms:created>
  <dc:creator>Administrator</dc:creator>
  <dc:description/>
  <dc:language>en-US</dc:language>
  <cp:lastModifiedBy>Administrator</cp:lastModifiedBy>
  <dcterms:modified xsi:type="dcterms:W3CDTF">2016-01-03T11:44:58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99</vt:lpwstr>
  </property>
</Properties>
</file>