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49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50.jpeg" ContentType="image/jpeg"/>
  <Override PartName="/ppt/media/image25.jpeg" ContentType="image/jpeg"/>
  <Override PartName="/ppt/media/image2.png" ContentType="image/png"/>
  <Override PartName="/ppt/media/image45.jpeg" ContentType="image/jpeg"/>
  <Override PartName="/ppt/media/image33.jpeg" ContentType="image/jpeg"/>
  <Override PartName="/ppt/media/image48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36.png" ContentType="image/png"/>
  <Override PartName="/ppt/media/image40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43.png" ContentType="image/png"/>
  <Override PartName="/ppt/media/image46.jpeg" ContentType="image/jpeg"/>
  <Override PartName="/ppt/media/image31.jpeg" ContentType="image/jpeg"/>
  <Override PartName="/ppt/media/image41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6.wmf" ContentType="image/x-wmf"/>
  <Override PartName="/ppt/media/image47.jpeg" ContentType="image/jpeg"/>
  <Override PartName="/ppt/media/image44.png" ContentType="image/png"/>
  <Override PartName="/ppt/media/image13.jpeg" ContentType="image/jpeg"/>
  <Override PartName="/ppt/media/image4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0743-93AA-4E6F-964C-B6CB2BD9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9200" y="438120"/>
            <a:ext cx="107730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com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09560" y="1390320"/>
            <a:ext cx="1087272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09560" y="3825000"/>
            <a:ext cx="1087272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AED7-94CD-4870-9EF4-A14213CB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9200" y="438120"/>
            <a:ext cx="107730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com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9560" y="1390320"/>
            <a:ext cx="530568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80920" y="1390320"/>
            <a:ext cx="530568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09560" y="3825000"/>
            <a:ext cx="530568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80920" y="3825000"/>
            <a:ext cx="530568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99EA-1657-4DAC-97E5-B8299D2C1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9200" y="438120"/>
            <a:ext cx="107730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com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09560" y="1390320"/>
            <a:ext cx="350064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85520" y="1390320"/>
            <a:ext cx="350064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1840" y="1390320"/>
            <a:ext cx="350064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09560" y="3825000"/>
            <a:ext cx="350064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85520" y="3825000"/>
            <a:ext cx="350064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61840" y="3825000"/>
            <a:ext cx="350064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14BC-47B8-483B-A92A-7336E056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570D-ADE2-4434-B121-DCB4A7D3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9200" y="438120"/>
            <a:ext cx="107730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com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09560" y="1390320"/>
            <a:ext cx="1087272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E9AE-2028-482F-8204-AB06CFD0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9200" y="438120"/>
            <a:ext cx="107730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com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09560" y="1390320"/>
            <a:ext cx="1087272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83D7-56A9-43A4-9F7E-60708F48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9200" y="438120"/>
            <a:ext cx="107730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com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09560" y="1390320"/>
            <a:ext cx="53056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80920" y="1390320"/>
            <a:ext cx="53056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2391-AAE5-498D-AF92-F427EB78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9200" y="438120"/>
            <a:ext cx="107730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com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6336-F11B-4B70-A871-2589E875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09200" y="438120"/>
            <a:ext cx="107730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448F-9434-4F34-8D50-0934D12F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9200" y="438120"/>
            <a:ext cx="107730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com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09560" y="1390320"/>
            <a:ext cx="530568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80920" y="1390320"/>
            <a:ext cx="53056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09560" y="3825000"/>
            <a:ext cx="530568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3376-F093-4C78-8868-E0206E6E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9200" y="438120"/>
            <a:ext cx="107730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com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09560" y="1390320"/>
            <a:ext cx="1087272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BD7E-EC3F-4695-AB6B-FBFB5F03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9200" y="438120"/>
            <a:ext cx="107730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com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09560" y="1390320"/>
            <a:ext cx="53056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80920" y="1390320"/>
            <a:ext cx="530568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80920" y="3825000"/>
            <a:ext cx="530568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E9F7-0F91-4BBA-9F84-FA844233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09200" y="438120"/>
            <a:ext cx="107730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com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09560" y="1390320"/>
            <a:ext cx="530568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80920" y="1390320"/>
            <a:ext cx="530568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09560" y="3825000"/>
            <a:ext cx="1087272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3D95-A37A-4135-A3D4-4BC2205E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09200" y="438120"/>
            <a:ext cx="107730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com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09560" y="1390320"/>
            <a:ext cx="1087272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09560" y="3825000"/>
            <a:ext cx="1087272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4751-D041-4F95-B2E3-2213A310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9200" y="438120"/>
            <a:ext cx="107730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com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09560" y="1390320"/>
            <a:ext cx="530568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80920" y="1390320"/>
            <a:ext cx="530568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09560" y="3825000"/>
            <a:ext cx="530568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0920" y="3825000"/>
            <a:ext cx="530568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A638-1268-4E19-BD19-78324524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9200" y="438120"/>
            <a:ext cx="107730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com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09560" y="1390320"/>
            <a:ext cx="350064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85520" y="1390320"/>
            <a:ext cx="350064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61840" y="1390320"/>
            <a:ext cx="350064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09560" y="3825000"/>
            <a:ext cx="350064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85520" y="3825000"/>
            <a:ext cx="350064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61840" y="3825000"/>
            <a:ext cx="350064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6923-3574-432C-B54B-68F2D329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9200" y="438120"/>
            <a:ext cx="107730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com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09560" y="1390320"/>
            <a:ext cx="1087272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4AA4-008C-446F-9C1C-A17F68CC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9200" y="438120"/>
            <a:ext cx="107730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com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09560" y="1390320"/>
            <a:ext cx="53056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80920" y="1390320"/>
            <a:ext cx="53056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726A-7EB5-4A28-9775-772BECCF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9200" y="438120"/>
            <a:ext cx="107730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com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2D47-CD20-439D-B8E1-83AE8731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9200" y="438120"/>
            <a:ext cx="107730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7124-A43F-4F44-ACCA-919CD6CE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9200" y="438120"/>
            <a:ext cx="107730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com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09560" y="1390320"/>
            <a:ext cx="530568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80920" y="1390320"/>
            <a:ext cx="53056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09560" y="3825000"/>
            <a:ext cx="530568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7244-8718-43F6-8AB0-2598677B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9200" y="438120"/>
            <a:ext cx="107730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com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09560" y="1390320"/>
            <a:ext cx="53056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80920" y="1390320"/>
            <a:ext cx="530568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0920" y="3825000"/>
            <a:ext cx="530568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4CBD-D3EE-4C60-9791-F6DEA30B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9200" y="438120"/>
            <a:ext cx="107730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com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09560" y="1390320"/>
            <a:ext cx="530568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80920" y="1390320"/>
            <a:ext cx="530568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09560" y="3825000"/>
            <a:ext cx="1087272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35A8-D0ED-4150-BFAC-99E103C5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31" descr="图片2"/>
          <p:cNvPicPr/>
          <p:nvPr/>
        </p:nvPicPr>
        <p:blipFill>
          <a:blip r:embed="rId2"/>
          <a:stretch/>
        </p:blipFill>
        <p:spPr>
          <a:xfrm>
            <a:off x="6480" y="0"/>
            <a:ext cx="12179160" cy="6861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19EC-F878-4462-8ED4-4551D6B2AF71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幼圆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CACD-685B-43AE-A9B7-3037D5E8AB3E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709560" y="1390320"/>
            <a:ext cx="1087272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  <a:p>
            <a:pPr lvl="1" indent="9144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SzPct val="110000"/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800"/>
              </a:spcBef>
              <a:buClr>
                <a:srgbClr val="3d3f4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800"/>
              </a:spcBef>
              <a:buClr>
                <a:srgbClr val="3d3f4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709200" y="438120"/>
            <a:ext cx="107730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06d"/>
                </a:solidFill>
                <a:latin typeface="comic"/>
              </a:rPr>
              <a:t>Click to edit the title text format</a:t>
            </a:r>
            <a:endParaRPr b="1" lang="en-US" sz="3000" spc="-1" strike="noStrike">
              <a:solidFill>
                <a:srgbClr val="64606d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0250" descr="图片1"/>
          <p:cNvPicPr/>
          <p:nvPr/>
        </p:nvPicPr>
        <p:blipFill>
          <a:blip r:embed="rId2"/>
          <a:stretch/>
        </p:blipFill>
        <p:spPr>
          <a:xfrm>
            <a:off x="-6480" y="0"/>
            <a:ext cx="122079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9200" y="438120"/>
            <a:ext cx="107730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06d"/>
                </a:solidFill>
                <a:latin typeface="comic"/>
              </a:rPr>
              <a:t>Click to edit the title text format</a:t>
            </a:r>
            <a:endParaRPr b="1" lang="en-US" sz="3000" spc="-1" strike="noStrike">
              <a:solidFill>
                <a:srgbClr val="64606d"/>
              </a:solidFill>
              <a:latin typeface="com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09560" y="1390320"/>
            <a:ext cx="1087272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  <a:p>
            <a:pPr lvl="1" indent="9144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SzPct val="110000"/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800"/>
              </a:spcBef>
              <a:buClr>
                <a:srgbClr val="3d3f4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800"/>
              </a:spcBef>
              <a:buClr>
                <a:srgbClr val="3d3f4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Calibri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FB56-0410-4E22-A732-B02608F4B8EB}" type="datetime">
              <a:rPr b="0" lang="zh-CN" sz="1200" spc="-1" strike="noStrike">
                <a:solidFill>
                  <a:srgbClr val="a6a6a6"/>
                </a:solidFill>
                <a:latin typeface="Calibri"/>
                <a:ea typeface="幼圆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Calibri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DF4A-49C2-4247-AE6C-9886340140D1}" type="slidenum">
              <a:rPr b="0" lang="zh-CN" sz="1200" spc="-1" strike="noStrike">
                <a:solidFill>
                  <a:srgbClr val="a6a6a6"/>
                </a:solidFill>
                <a:latin typeface="Calibri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pn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副标题 3" descr=""/>
          <p:cNvPicPr/>
          <p:nvPr/>
        </p:nvPicPr>
        <p:blipFill>
          <a:blip r:embed="rId1"/>
          <a:stretch/>
        </p:blipFill>
        <p:spPr>
          <a:xfrm>
            <a:off x="3795840" y="3941640"/>
            <a:ext cx="1633320" cy="2987640"/>
          </a:xfrm>
          <a:prstGeom prst="rect">
            <a:avLst/>
          </a:prstGeom>
          <a:ln w="0">
            <a:noFill/>
          </a:ln>
        </p:spPr>
      </p:pic>
      <p:pic>
        <p:nvPicPr>
          <p:cNvPr id="85" name="标题 4" descr=""/>
          <p:cNvPicPr/>
          <p:nvPr/>
        </p:nvPicPr>
        <p:blipFill>
          <a:blip r:embed="rId2"/>
          <a:stretch/>
        </p:blipFill>
        <p:spPr>
          <a:xfrm>
            <a:off x="2079720" y="365040"/>
            <a:ext cx="1546200" cy="6384960"/>
          </a:xfrm>
          <a:prstGeom prst="rect">
            <a:avLst/>
          </a:prstGeom>
          <a:ln w="0">
            <a:noFill/>
          </a:ln>
        </p:spPr>
      </p:pic>
      <p:pic>
        <p:nvPicPr>
          <p:cNvPr id="86" name="打酸枣.mp3" descr=""/>
          <p:cNvPicPr/>
          <p:nvPr/>
        </p:nvPicPr>
        <p:blipFill>
          <a:blip r:embed="rId3"/>
          <a:stretch/>
        </p:blipFill>
        <p:spPr>
          <a:xfrm>
            <a:off x="95400" y="6143760"/>
            <a:ext cx="618840" cy="61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55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组合 1" descr=""/>
          <p:cNvPicPr/>
          <p:nvPr/>
        </p:nvPicPr>
        <p:blipFill>
          <a:blip r:embed="rId2"/>
          <a:stretch/>
        </p:blipFill>
        <p:spPr>
          <a:xfrm>
            <a:off x="268200" y="1101600"/>
            <a:ext cx="2684520" cy="5794560"/>
          </a:xfrm>
          <a:prstGeom prst="rect">
            <a:avLst/>
          </a:prstGeom>
          <a:ln w="0">
            <a:noFill/>
          </a:ln>
        </p:spPr>
      </p:pic>
      <p:pic>
        <p:nvPicPr>
          <p:cNvPr id="202" name="组合 5" descr=""/>
          <p:cNvPicPr/>
          <p:nvPr/>
        </p:nvPicPr>
        <p:blipFill>
          <a:blip r:embed="rId3"/>
          <a:stretch/>
        </p:blipFill>
        <p:spPr>
          <a:xfrm>
            <a:off x="5931000" y="871560"/>
            <a:ext cx="2943000" cy="5959440"/>
          </a:xfrm>
          <a:prstGeom prst="rect">
            <a:avLst/>
          </a:prstGeom>
          <a:ln w="0">
            <a:noFill/>
          </a:ln>
        </p:spPr>
      </p:pic>
      <p:pic>
        <p:nvPicPr>
          <p:cNvPr id="203" name="组合 16" descr=""/>
          <p:cNvPicPr/>
          <p:nvPr/>
        </p:nvPicPr>
        <p:blipFill>
          <a:blip r:embed="rId4"/>
          <a:stretch/>
        </p:blipFill>
        <p:spPr>
          <a:xfrm>
            <a:off x="2987640" y="1390680"/>
            <a:ext cx="2798640" cy="5452920"/>
          </a:xfrm>
          <a:prstGeom prst="rect">
            <a:avLst/>
          </a:prstGeom>
          <a:ln w="0">
            <a:noFill/>
          </a:ln>
        </p:spPr>
      </p:pic>
      <p:pic>
        <p:nvPicPr>
          <p:cNvPr id="204" name="组合 15" descr=""/>
          <p:cNvPicPr/>
          <p:nvPr/>
        </p:nvPicPr>
        <p:blipFill>
          <a:blip r:embed="rId5"/>
          <a:stretch/>
        </p:blipFill>
        <p:spPr>
          <a:xfrm>
            <a:off x="8839080" y="1295280"/>
            <a:ext cx="2765520" cy="5578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374760" y="307800"/>
            <a:ext cx="4329000" cy="5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e5620b"/>
                  </a:solidFill>
                  <a:beve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新魏"/>
              </a:rPr>
              <a:t>交城的特产</a:t>
            </a:r>
            <a:endParaRPr b="0" lang="en-US" sz="1800" spc="1" strike="noStrike">
              <a:ln w="9360">
                <a:solidFill>
                  <a:srgbClr val="e5620b"/>
                </a:solidFill>
                <a:bevel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55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组合 9"/>
          <p:cNvGrpSpPr/>
          <p:nvPr/>
        </p:nvGrpSpPr>
        <p:grpSpPr>
          <a:xfrm>
            <a:off x="5918040" y="3033360"/>
            <a:ext cx="5860080" cy="3610800"/>
            <a:chOff x="5918040" y="3033360"/>
            <a:chExt cx="5860080" cy="3610800"/>
          </a:xfrm>
        </p:grpSpPr>
        <p:sp>
          <p:nvSpPr>
            <p:cNvPr id="207" name="MH_SubTitle_4"/>
            <p:cNvSpPr/>
            <p:nvPr/>
          </p:nvSpPr>
          <p:spPr>
            <a:xfrm rot="20641200">
              <a:off x="6578640" y="3370680"/>
              <a:ext cx="1400040" cy="1643400"/>
            </a:xfrm>
            <a:custGeom>
              <a:avLst/>
              <a:gdLst>
                <a:gd name="textAreaLeft" fmla="*/ 74520 w 1400040"/>
                <a:gd name="textAreaRight" fmla="*/ 1325520 w 1400040"/>
                <a:gd name="textAreaTop" fmla="*/ 74520 h 1643400"/>
                <a:gd name="textAreaBottom" fmla="*/ 1568880 h 1643400"/>
              </a:gdLst>
              <a:ahLst/>
              <a:rect l="textAreaLeft" t="textAreaTop" r="textAreaRight" b="textAreaBottom"/>
              <a:pathLst>
                <a:path w="21600" h="25354">
                  <a:moveTo>
                    <a:pt x="3929" y="0"/>
                  </a:moveTo>
                  <a:arcTo wR="3929" hR="3929" stAng="16200000" swAng="-5400000"/>
                  <a:lnTo>
                    <a:pt x="0" y="21425"/>
                  </a:lnTo>
                  <a:arcTo wR="3929" hR="3929" stAng="10800000" swAng="-5400000"/>
                  <a:lnTo>
                    <a:pt x="17671" y="25354"/>
                  </a:lnTo>
                  <a:arcTo wR="3929" hR="3929" stAng="5400000" swAng="-5400000"/>
                  <a:lnTo>
                    <a:pt x="21600" y="3929"/>
                  </a:lnTo>
                  <a:arcTo wR="3929" hR="3929" stAng="0" swAng="-5400000"/>
                  <a:close/>
                </a:path>
              </a:pathLst>
            </a:cu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b57cd2"/>
                  </a:solidFill>
                  <a:latin typeface="微软雅黑"/>
                  <a:ea typeface="微软雅黑"/>
                </a:rPr>
                <a:t>Lorem</a:t>
              </a:r>
              <a:endParaRPr b="0" lang="en-US" sz="16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208" name="MH_Other_14"/>
            <p:cNvSpPr/>
            <p:nvPr/>
          </p:nvSpPr>
          <p:spPr>
            <a:xfrm rot="20641200">
              <a:off x="6108120" y="3215520"/>
              <a:ext cx="1550160" cy="1594800"/>
            </a:xfrm>
            <a:custGeom>
              <a:avLst/>
              <a:gdLst>
                <a:gd name="textAreaLeft" fmla="*/ 109440 w 1550160"/>
                <a:gd name="textAreaRight" fmla="*/ 1440720 w 1550160"/>
                <a:gd name="textAreaTop" fmla="*/ 109440 h 1594800"/>
                <a:gd name="textAreaBottom" fmla="*/ 1485360 h 1594800"/>
              </a:gdLst>
              <a:ahLst/>
              <a:rect l="textAreaLeft" t="textAreaTop" r="textAreaRight" b="textAreaBottom"/>
              <a:pathLst>
                <a:path w="21600" h="22222">
                  <a:moveTo>
                    <a:pt x="5222" y="0"/>
                  </a:moveTo>
                  <a:arcTo wR="5222" hR="5222" stAng="16200000" swAng="-5400000"/>
                  <a:lnTo>
                    <a:pt x="0" y="17000"/>
                  </a:lnTo>
                  <a:arcTo wR="5222" hR="5222" stAng="10800000" swAng="-5400000"/>
                  <a:lnTo>
                    <a:pt x="16378" y="22222"/>
                  </a:lnTo>
                  <a:arcTo wR="5222" hR="5222" stAng="5400000" swAng="-5400000"/>
                  <a:lnTo>
                    <a:pt x="21600" y="5222"/>
                  </a:lnTo>
                  <a:arcTo wR="5222" hR="5222" stAng="0" swAng="-5400000"/>
                  <a:close/>
                </a:path>
              </a:pathLst>
            </a:custGeom>
            <a:solidFill>
              <a:srgbClr val="b57c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卦山</a:t>
              </a:r>
              <a:endParaRPr b="0" lang="en-US" sz="36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209" name="MH_Other_13"/>
            <p:cNvSpPr/>
            <p:nvPr/>
          </p:nvSpPr>
          <p:spPr>
            <a:xfrm rot="21098400">
              <a:off x="7115040" y="3710160"/>
              <a:ext cx="4382640" cy="2522520"/>
            </a:xfrm>
            <a:prstGeom prst="roundRect">
              <a:avLst>
                <a:gd name="adj" fmla="val 2417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210" name="MH_Text_4"/>
            <p:cNvSpPr/>
            <p:nvPr/>
          </p:nvSpPr>
          <p:spPr>
            <a:xfrm rot="21098400">
              <a:off x="6785640" y="3731760"/>
              <a:ext cx="4830840" cy="2574720"/>
            </a:xfrm>
            <a:prstGeom prst="roundRect">
              <a:avLst>
                <a:gd name="adj" fmla="val 24176"/>
              </a:avLst>
            </a:prstGeom>
            <a:solidFill>
              <a:srgbClr val="c699dc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1440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Arial"/>
                  <a:ea typeface="宋体"/>
                </a:rPr>
                <a:t>因</a:t>
              </a:r>
              <a:r>
                <a:rPr b="0" lang="zh-CN" sz="1800" spc="-1" strike="noStrike">
                  <a:solidFill>
                    <a:srgbClr val="262626"/>
                  </a:solidFill>
                  <a:latin typeface="Arial"/>
                  <a:ea typeface="宋体"/>
                </a:rPr>
                <a:t>山形卦象而得名，是全国重点文物保护单位，也是全国绝无仅有的易学研究实体。 “卦山之柏”与“黄山之松”、“云栖之竹”并称为华夏树木奇观。卦山集文物、宗教、古建、森林公园于一体。在卦山多元文化旅游的经纬中，形成了“儒门释户道相同，三教从来一祖风”的多元体系，被誉为“易学之源、八卦名山”。</a:t>
              </a: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211" name="MH_Other_15"/>
            <p:cNvSpPr/>
            <p:nvPr/>
          </p:nvSpPr>
          <p:spPr>
            <a:xfrm>
              <a:off x="7211520" y="3305160"/>
              <a:ext cx="225720" cy="496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212" name="MH_Other_16"/>
            <p:cNvSpPr/>
            <p:nvPr/>
          </p:nvSpPr>
          <p:spPr>
            <a:xfrm>
              <a:off x="5918040" y="3051000"/>
              <a:ext cx="1411920" cy="1222200"/>
            </a:xfrm>
            <a:custGeom>
              <a:avLst/>
              <a:gdLst/>
              <a:ahLst/>
              <a:rect l="l" t="t" r="r" b="b"/>
              <a:pathLst>
                <a:path w="795218" h="313376">
                  <a:moveTo>
                    <a:pt x="785693" y="83807"/>
                  </a:moveTo>
                  <a:cubicBezTo>
                    <a:pt x="704334" y="55430"/>
                    <a:pt x="617380" y="9649"/>
                    <a:pt x="500976" y="1898"/>
                  </a:cubicBezTo>
                  <a:cubicBezTo>
                    <a:pt x="384572" y="-5853"/>
                    <a:pt x="170388" y="10950"/>
                    <a:pt x="87269" y="37301"/>
                  </a:cubicBezTo>
                  <a:cubicBezTo>
                    <a:pt x="4150" y="63652"/>
                    <a:pt x="-5743" y="116590"/>
                    <a:pt x="2262" y="160007"/>
                  </a:cubicBezTo>
                  <a:cubicBezTo>
                    <a:pt x="10267" y="203424"/>
                    <a:pt x="87672" y="276373"/>
                    <a:pt x="135297" y="297804"/>
                  </a:cubicBezTo>
                  <a:cubicBezTo>
                    <a:pt x="182922" y="319235"/>
                    <a:pt x="178025" y="320688"/>
                    <a:pt x="288012" y="288594"/>
                  </a:cubicBezTo>
                  <a:cubicBezTo>
                    <a:pt x="397999" y="256500"/>
                    <a:pt x="611862" y="171317"/>
                    <a:pt x="795218" y="105238"/>
                  </a:cubicBezTo>
                </a:path>
              </a:pathLst>
            </a:custGeom>
            <a:noFill/>
            <a:ln w="190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</p:grpSp>
      <p:pic>
        <p:nvPicPr>
          <p:cNvPr id="213" name="组合 1" descr=""/>
          <p:cNvPicPr/>
          <p:nvPr/>
        </p:nvPicPr>
        <p:blipFill>
          <a:blip r:embed="rId2"/>
          <a:stretch/>
        </p:blipFill>
        <p:spPr>
          <a:xfrm>
            <a:off x="703440" y="2087640"/>
            <a:ext cx="5354640" cy="2465280"/>
          </a:xfrm>
          <a:prstGeom prst="rect">
            <a:avLst/>
          </a:prstGeom>
          <a:ln w="0">
            <a:noFill/>
          </a:ln>
        </p:spPr>
      </p:pic>
      <p:pic>
        <p:nvPicPr>
          <p:cNvPr id="214" name="组合 8" descr=""/>
          <p:cNvPicPr/>
          <p:nvPr/>
        </p:nvPicPr>
        <p:blipFill>
          <a:blip r:embed="rId3"/>
          <a:stretch/>
        </p:blipFill>
        <p:spPr>
          <a:xfrm>
            <a:off x="5907240" y="870120"/>
            <a:ext cx="5646600" cy="2720880"/>
          </a:xfrm>
          <a:prstGeom prst="rect">
            <a:avLst/>
          </a:prstGeom>
          <a:ln w="0">
            <a:noFill/>
          </a:ln>
        </p:spPr>
      </p:pic>
      <p:pic>
        <p:nvPicPr>
          <p:cNvPr id="215" name="组合 2" descr=""/>
          <p:cNvPicPr/>
          <p:nvPr/>
        </p:nvPicPr>
        <p:blipFill>
          <a:blip r:embed="rId4"/>
          <a:stretch/>
        </p:blipFill>
        <p:spPr>
          <a:xfrm>
            <a:off x="431640" y="4035600"/>
            <a:ext cx="6351840" cy="2751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372960" y="307800"/>
            <a:ext cx="489420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e5620b"/>
                  </a:solidFill>
                  <a:beve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新魏"/>
              </a:rPr>
              <a:t>交城之风景名胜</a:t>
            </a:r>
            <a:endParaRPr b="0" lang="en-US" sz="1800" spc="1" strike="noStrike">
              <a:ln w="9360">
                <a:solidFill>
                  <a:srgbClr val="e5620b"/>
                </a:solidFill>
                <a:bevel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17" name=""/>
          <p:cNvSpPr/>
          <p:nvPr/>
        </p:nvSpPr>
        <p:spPr>
          <a:xfrm>
            <a:off x="10931400" y="6315120"/>
            <a:ext cx="1013040" cy="465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620b"/>
              </a:gs>
              <a:gs pos="50000">
                <a:srgbClr val="ffffff"/>
              </a:gs>
              <a:gs pos="100000">
                <a:srgbClr val="e5620b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3d3f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d3f41"/>
                </a:solidFill>
                <a:latin typeface="Calibri"/>
                <a:ea typeface="幼圆"/>
              </a:rPr>
              <a:t>返 回</a:t>
            </a:r>
            <a:endParaRPr b="0" lang="en-US" sz="20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0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MH_Desc_1"/>
          <p:cNvSpPr/>
          <p:nvPr/>
        </p:nvSpPr>
        <p:spPr>
          <a:xfrm>
            <a:off x="4464000" y="1433520"/>
            <a:ext cx="639144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9" name="MH_Other_1"/>
          <p:cNvSpPr/>
          <p:nvPr/>
        </p:nvSpPr>
        <p:spPr>
          <a:xfrm>
            <a:off x="3719520" y="1477800"/>
            <a:ext cx="95400" cy="5167440"/>
          </a:xfrm>
          <a:prstGeom prst="rect">
            <a:avLst/>
          </a:prstGeom>
          <a:solidFill>
            <a:srgbClr val="f56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20" name="MH_Other_2"/>
          <p:cNvSpPr/>
          <p:nvPr/>
        </p:nvSpPr>
        <p:spPr>
          <a:xfrm>
            <a:off x="2174760" y="1546200"/>
            <a:ext cx="1016280" cy="25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56645"/>
                </a:solidFill>
                <a:uFillTx/>
                <a:latin typeface="Arial"/>
                <a:ea typeface="微软雅黑"/>
              </a:rPr>
              <a:t>01</a:t>
            </a:r>
            <a:endParaRPr b="0" lang="en-US" sz="5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21" name="MH_Other_3"/>
          <p:cNvSpPr/>
          <p:nvPr/>
        </p:nvSpPr>
        <p:spPr>
          <a:xfrm>
            <a:off x="2174760" y="2751120"/>
            <a:ext cx="101628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bc21"/>
                </a:solidFill>
                <a:uFillTx/>
                <a:latin typeface="Arial"/>
                <a:ea typeface="微软雅黑"/>
              </a:rPr>
              <a:t>02</a:t>
            </a:r>
            <a:endParaRPr b="0" lang="en-US" sz="5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22" name="MH_Other_4"/>
          <p:cNvSpPr/>
          <p:nvPr/>
        </p:nvSpPr>
        <p:spPr>
          <a:xfrm>
            <a:off x="2174760" y="3956040"/>
            <a:ext cx="101628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797dbe"/>
                </a:solidFill>
                <a:uFillTx/>
                <a:latin typeface="Arial"/>
                <a:ea typeface="微软雅黑"/>
              </a:rPr>
              <a:t>03</a:t>
            </a:r>
            <a:endParaRPr b="0" lang="en-US" sz="5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23" name="MH_Other_5"/>
          <p:cNvSpPr/>
          <p:nvPr/>
        </p:nvSpPr>
        <p:spPr>
          <a:xfrm>
            <a:off x="2174760" y="5111640"/>
            <a:ext cx="1016280" cy="16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35b0e1"/>
                </a:solidFill>
                <a:uFillTx/>
                <a:latin typeface="Arial"/>
                <a:ea typeface="微软雅黑"/>
              </a:rPr>
              <a:t>04</a:t>
            </a:r>
            <a:endParaRPr b="0" lang="en-US" sz="5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24" name="MH_Desc_1"/>
          <p:cNvSpPr/>
          <p:nvPr/>
        </p:nvSpPr>
        <p:spPr>
          <a:xfrm>
            <a:off x="4606920" y="2614680"/>
            <a:ext cx="632448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25" name="MH_Desc_1"/>
          <p:cNvSpPr/>
          <p:nvPr/>
        </p:nvSpPr>
        <p:spPr>
          <a:xfrm>
            <a:off x="4516560" y="3781440"/>
            <a:ext cx="652464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26" name="MH_Desc_1"/>
          <p:cNvSpPr/>
          <p:nvPr/>
        </p:nvSpPr>
        <p:spPr>
          <a:xfrm>
            <a:off x="4460760" y="5064120"/>
            <a:ext cx="660888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27" name="文本框 4"/>
          <p:cNvSpPr/>
          <p:nvPr/>
        </p:nvSpPr>
        <p:spPr>
          <a:xfrm>
            <a:off x="4599000" y="1552680"/>
            <a:ext cx="64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战国，为赵之中阳邑。西汉，置中阳县。</a:t>
            </a:r>
            <a:endParaRPr b="0" lang="en-US" sz="2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28" name="文本框 6"/>
          <p:cNvSpPr/>
          <p:nvPr/>
        </p:nvSpPr>
        <p:spPr>
          <a:xfrm>
            <a:off x="4533840" y="2365200"/>
            <a:ext cx="632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f9000"/>
                </a:solidFill>
                <a:latin typeface="Arial"/>
                <a:ea typeface="宋体"/>
              </a:rPr>
              <a:t>金明昌六年，改平夷县为宁乡县，部分村镇曾为古孟门县管辖。</a:t>
            </a:r>
            <a:endParaRPr b="0" lang="en-US" sz="2800" spc="-1" strike="noStrike">
              <a:solidFill>
                <a:srgbClr val="3d3f4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29" name="文本框 7"/>
          <p:cNvSpPr/>
          <p:nvPr/>
        </p:nvSpPr>
        <p:spPr>
          <a:xfrm>
            <a:off x="4489560" y="5048280"/>
            <a:ext cx="624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75b5"/>
                </a:solidFill>
                <a:latin typeface="Arial"/>
                <a:ea typeface="宋体"/>
              </a:rPr>
              <a:t>1914</a:t>
            </a:r>
            <a:r>
              <a:rPr b="1" lang="zh-CN" sz="2800" spc="-1" strike="noStrike">
                <a:solidFill>
                  <a:srgbClr val="2e75b5"/>
                </a:solidFill>
                <a:latin typeface="Arial"/>
                <a:ea typeface="宋体"/>
              </a:rPr>
              <a:t>年，改称中阳县。</a:t>
            </a:r>
            <a:endParaRPr b="0" lang="en-US" sz="2800" spc="-1" strike="noStrike">
              <a:solidFill>
                <a:srgbClr val="3d3f4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75b5"/>
                </a:solidFill>
                <a:latin typeface="Arial"/>
                <a:ea typeface="宋体"/>
              </a:rPr>
              <a:t>1958</a:t>
            </a:r>
            <a:r>
              <a:rPr b="1" lang="zh-CN" sz="2800" spc="-1" strike="noStrike">
                <a:solidFill>
                  <a:srgbClr val="2e75b5"/>
                </a:solidFill>
                <a:latin typeface="Arial"/>
                <a:ea typeface="宋体"/>
              </a:rPr>
              <a:t>年，并入离山县。</a:t>
            </a:r>
            <a:endParaRPr b="0" lang="en-US" sz="2800" spc="-1" strike="noStrike">
              <a:solidFill>
                <a:srgbClr val="3d3f4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75b5"/>
                </a:solidFill>
                <a:latin typeface="Arial"/>
                <a:ea typeface="宋体"/>
              </a:rPr>
              <a:t>1959</a:t>
            </a:r>
            <a:r>
              <a:rPr b="1" lang="zh-CN" sz="2800" spc="-1" strike="noStrike">
                <a:solidFill>
                  <a:srgbClr val="2e75b5"/>
                </a:solidFill>
                <a:latin typeface="Arial"/>
                <a:ea typeface="宋体"/>
              </a:rPr>
              <a:t>年，恢复中阳县置。</a:t>
            </a:r>
            <a:endParaRPr b="0" lang="en-US" sz="2800" spc="-1" strike="noStrike">
              <a:solidFill>
                <a:srgbClr val="3d3f41"/>
              </a:solidFill>
              <a:latin typeface="Arial"/>
            </a:endParaRPr>
          </a:p>
        </p:txBody>
      </p:sp>
      <p:pic>
        <p:nvPicPr>
          <p:cNvPr id="230" name="矩形 6" descr=""/>
          <p:cNvPicPr/>
          <p:nvPr/>
        </p:nvPicPr>
        <p:blipFill>
          <a:blip r:embed="rId1"/>
          <a:stretch/>
        </p:blipFill>
        <p:spPr>
          <a:xfrm>
            <a:off x="1268280" y="222120"/>
            <a:ext cx="5180040" cy="914400"/>
          </a:xfrm>
          <a:prstGeom prst="rect">
            <a:avLst/>
          </a:prstGeom>
          <a:ln w="0">
            <a:noFill/>
          </a:ln>
        </p:spPr>
      </p:pic>
      <p:sp>
        <p:nvSpPr>
          <p:cNvPr id="231" name="文本框 7"/>
          <p:cNvSpPr/>
          <p:nvPr/>
        </p:nvSpPr>
        <p:spPr>
          <a:xfrm>
            <a:off x="6966360" y="4041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  <a:ea typeface="宋体"/>
              </a:rPr>
              <a:t>金泰和年，改平夷县为宁乡县。</a:t>
            </a:r>
            <a:endParaRPr b="0" lang="en-US" sz="2800" spc="-1" strike="noStrike">
              <a:solidFill>
                <a:srgbClr val="3d3f41"/>
              </a:solidFill>
              <a:latin typeface="Arial"/>
            </a:endParaRPr>
          </a:p>
        </p:txBody>
      </p:sp>
      <p:pic>
        <p:nvPicPr>
          <p:cNvPr id="232" name="图片 28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 flipH="1" rot="937800">
            <a:off x="106200" y="69480"/>
            <a:ext cx="138132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350"/>
                            </p:stCondLst>
                            <p:childTnLst>
                              <p:par>
                                <p:cTn id="441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850"/>
                            </p:stCondLst>
                            <p:childTnLst>
                              <p:par>
                                <p:cTn id="449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700"/>
                            </p:stCondLst>
                            <p:childTnLst>
                              <p:par>
                                <p:cTn id="457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6200"/>
                            </p:stCondLst>
                            <p:childTnLst>
                              <p:par>
                                <p:cTn id="465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7350"/>
                            </p:stCondLst>
                            <p:childTnLst>
                              <p:par>
                                <p:cTn id="473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850"/>
                            </p:stCondLst>
                            <p:childTnLst>
                              <p:par>
                                <p:cTn id="481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组合 1"/>
          <p:cNvGrpSpPr/>
          <p:nvPr/>
        </p:nvGrpSpPr>
        <p:grpSpPr>
          <a:xfrm>
            <a:off x="911160" y="1386000"/>
            <a:ext cx="5320440" cy="2673720"/>
            <a:chOff x="911160" y="1386000"/>
            <a:chExt cx="5320440" cy="2673720"/>
          </a:xfrm>
        </p:grpSpPr>
        <p:sp>
          <p:nvSpPr>
            <p:cNvPr id="234" name="MH_Other_1"/>
            <p:cNvSpPr/>
            <p:nvPr/>
          </p:nvSpPr>
          <p:spPr>
            <a:xfrm rot="20809200">
              <a:off x="1790640" y="1912680"/>
              <a:ext cx="4314600" cy="1605960"/>
            </a:xfrm>
            <a:custGeom>
              <a:avLst/>
              <a:gdLst/>
              <a:ahLst/>
              <a:rect l="l" t="t" r="r" b="b"/>
              <a:pathLst>
                <a:path w="1882304" h="1239158">
                  <a:moveTo>
                    <a:pt x="1808573" y="19575"/>
                  </a:moveTo>
                  <a:lnTo>
                    <a:pt x="1808573" y="37575"/>
                  </a:lnTo>
                  <a:lnTo>
                    <a:pt x="1844573" y="37575"/>
                  </a:lnTo>
                  <a:lnTo>
                    <a:pt x="1844573" y="19575"/>
                  </a:lnTo>
                  <a:lnTo>
                    <a:pt x="1808573" y="19575"/>
                  </a:lnTo>
                  <a:close/>
                  <a:moveTo>
                    <a:pt x="1756503" y="19575"/>
                  </a:moveTo>
                  <a:lnTo>
                    <a:pt x="1756503" y="37575"/>
                  </a:lnTo>
                  <a:lnTo>
                    <a:pt x="1792503" y="37575"/>
                  </a:lnTo>
                  <a:lnTo>
                    <a:pt x="1792503" y="19575"/>
                  </a:lnTo>
                  <a:lnTo>
                    <a:pt x="1756503" y="19575"/>
                  </a:lnTo>
                  <a:close/>
                  <a:moveTo>
                    <a:pt x="1704419" y="19575"/>
                  </a:moveTo>
                  <a:lnTo>
                    <a:pt x="1704419" y="37575"/>
                  </a:lnTo>
                  <a:lnTo>
                    <a:pt x="1740419" y="37575"/>
                  </a:lnTo>
                  <a:lnTo>
                    <a:pt x="1740419" y="19575"/>
                  </a:lnTo>
                  <a:lnTo>
                    <a:pt x="1704419" y="19575"/>
                  </a:lnTo>
                  <a:close/>
                  <a:moveTo>
                    <a:pt x="1652335" y="19575"/>
                  </a:moveTo>
                  <a:lnTo>
                    <a:pt x="1652335" y="37575"/>
                  </a:lnTo>
                  <a:lnTo>
                    <a:pt x="1688335" y="37575"/>
                  </a:lnTo>
                  <a:lnTo>
                    <a:pt x="1688335" y="19575"/>
                  </a:lnTo>
                  <a:lnTo>
                    <a:pt x="1652335" y="19575"/>
                  </a:lnTo>
                  <a:close/>
                  <a:moveTo>
                    <a:pt x="1600251" y="19575"/>
                  </a:moveTo>
                  <a:lnTo>
                    <a:pt x="1600251" y="37575"/>
                  </a:lnTo>
                  <a:lnTo>
                    <a:pt x="1636251" y="37575"/>
                  </a:lnTo>
                  <a:lnTo>
                    <a:pt x="1636251" y="19575"/>
                  </a:lnTo>
                  <a:lnTo>
                    <a:pt x="1600251" y="19575"/>
                  </a:lnTo>
                  <a:close/>
                  <a:moveTo>
                    <a:pt x="1548167" y="19575"/>
                  </a:moveTo>
                  <a:lnTo>
                    <a:pt x="1548167" y="37575"/>
                  </a:lnTo>
                  <a:lnTo>
                    <a:pt x="1584167" y="37575"/>
                  </a:lnTo>
                  <a:lnTo>
                    <a:pt x="1584167" y="19575"/>
                  </a:lnTo>
                  <a:lnTo>
                    <a:pt x="1548167" y="19575"/>
                  </a:lnTo>
                  <a:close/>
                  <a:moveTo>
                    <a:pt x="1496083" y="19575"/>
                  </a:moveTo>
                  <a:lnTo>
                    <a:pt x="1496083" y="37575"/>
                  </a:lnTo>
                  <a:lnTo>
                    <a:pt x="1532083" y="37575"/>
                  </a:lnTo>
                  <a:lnTo>
                    <a:pt x="1532083" y="19575"/>
                  </a:lnTo>
                  <a:lnTo>
                    <a:pt x="1496083" y="19575"/>
                  </a:lnTo>
                  <a:close/>
                  <a:moveTo>
                    <a:pt x="1443999" y="19575"/>
                  </a:moveTo>
                  <a:lnTo>
                    <a:pt x="1443999" y="37575"/>
                  </a:lnTo>
                  <a:lnTo>
                    <a:pt x="1479999" y="37575"/>
                  </a:lnTo>
                  <a:lnTo>
                    <a:pt x="1479999" y="19575"/>
                  </a:lnTo>
                  <a:lnTo>
                    <a:pt x="1443999" y="19575"/>
                  </a:lnTo>
                  <a:close/>
                  <a:moveTo>
                    <a:pt x="1391915" y="19575"/>
                  </a:moveTo>
                  <a:lnTo>
                    <a:pt x="1391915" y="37575"/>
                  </a:lnTo>
                  <a:lnTo>
                    <a:pt x="1427915" y="37575"/>
                  </a:lnTo>
                  <a:lnTo>
                    <a:pt x="1427915" y="19575"/>
                  </a:lnTo>
                  <a:lnTo>
                    <a:pt x="1391915" y="19575"/>
                  </a:lnTo>
                  <a:close/>
                  <a:moveTo>
                    <a:pt x="1339831" y="19575"/>
                  </a:moveTo>
                  <a:lnTo>
                    <a:pt x="1339831" y="37575"/>
                  </a:lnTo>
                  <a:lnTo>
                    <a:pt x="1375831" y="37575"/>
                  </a:lnTo>
                  <a:lnTo>
                    <a:pt x="1375831" y="19575"/>
                  </a:lnTo>
                  <a:lnTo>
                    <a:pt x="1339831" y="19575"/>
                  </a:lnTo>
                  <a:close/>
                  <a:moveTo>
                    <a:pt x="1287747" y="19575"/>
                  </a:moveTo>
                  <a:lnTo>
                    <a:pt x="1287747" y="37575"/>
                  </a:lnTo>
                  <a:lnTo>
                    <a:pt x="1323747" y="37575"/>
                  </a:lnTo>
                  <a:lnTo>
                    <a:pt x="1323747" y="19575"/>
                  </a:lnTo>
                  <a:lnTo>
                    <a:pt x="1287747" y="19575"/>
                  </a:lnTo>
                  <a:close/>
                  <a:moveTo>
                    <a:pt x="1235663" y="19575"/>
                  </a:moveTo>
                  <a:lnTo>
                    <a:pt x="1235663" y="37575"/>
                  </a:lnTo>
                  <a:lnTo>
                    <a:pt x="1271663" y="37575"/>
                  </a:lnTo>
                  <a:lnTo>
                    <a:pt x="1271663" y="19575"/>
                  </a:lnTo>
                  <a:lnTo>
                    <a:pt x="1235663" y="19575"/>
                  </a:lnTo>
                  <a:close/>
                  <a:moveTo>
                    <a:pt x="1183579" y="19575"/>
                  </a:moveTo>
                  <a:lnTo>
                    <a:pt x="1183579" y="37575"/>
                  </a:lnTo>
                  <a:lnTo>
                    <a:pt x="1219579" y="37575"/>
                  </a:lnTo>
                  <a:lnTo>
                    <a:pt x="1219579" y="19575"/>
                  </a:lnTo>
                  <a:lnTo>
                    <a:pt x="1183579" y="19575"/>
                  </a:lnTo>
                  <a:close/>
                  <a:moveTo>
                    <a:pt x="1131495" y="19575"/>
                  </a:moveTo>
                  <a:lnTo>
                    <a:pt x="1131495" y="37575"/>
                  </a:lnTo>
                  <a:lnTo>
                    <a:pt x="1167495" y="37575"/>
                  </a:lnTo>
                  <a:lnTo>
                    <a:pt x="1167495" y="19575"/>
                  </a:lnTo>
                  <a:lnTo>
                    <a:pt x="1131495" y="19575"/>
                  </a:lnTo>
                  <a:close/>
                  <a:moveTo>
                    <a:pt x="1079411" y="19575"/>
                  </a:moveTo>
                  <a:lnTo>
                    <a:pt x="1079411" y="37575"/>
                  </a:lnTo>
                  <a:lnTo>
                    <a:pt x="1115411" y="37575"/>
                  </a:lnTo>
                  <a:lnTo>
                    <a:pt x="1115411" y="19575"/>
                  </a:lnTo>
                  <a:lnTo>
                    <a:pt x="1079411" y="19575"/>
                  </a:lnTo>
                  <a:close/>
                  <a:moveTo>
                    <a:pt x="1027327" y="19575"/>
                  </a:moveTo>
                  <a:lnTo>
                    <a:pt x="1027327" y="37575"/>
                  </a:lnTo>
                  <a:lnTo>
                    <a:pt x="1063327" y="37575"/>
                  </a:lnTo>
                  <a:lnTo>
                    <a:pt x="1063327" y="19575"/>
                  </a:lnTo>
                  <a:lnTo>
                    <a:pt x="1027327" y="19575"/>
                  </a:lnTo>
                  <a:close/>
                  <a:moveTo>
                    <a:pt x="975243" y="19575"/>
                  </a:moveTo>
                  <a:lnTo>
                    <a:pt x="975243" y="37575"/>
                  </a:lnTo>
                  <a:lnTo>
                    <a:pt x="1011243" y="37575"/>
                  </a:lnTo>
                  <a:lnTo>
                    <a:pt x="1011243" y="19575"/>
                  </a:lnTo>
                  <a:lnTo>
                    <a:pt x="975243" y="19575"/>
                  </a:lnTo>
                  <a:close/>
                  <a:moveTo>
                    <a:pt x="923159" y="19575"/>
                  </a:moveTo>
                  <a:lnTo>
                    <a:pt x="923159" y="37575"/>
                  </a:lnTo>
                  <a:lnTo>
                    <a:pt x="959159" y="37575"/>
                  </a:lnTo>
                  <a:lnTo>
                    <a:pt x="959159" y="19575"/>
                  </a:lnTo>
                  <a:lnTo>
                    <a:pt x="923159" y="19575"/>
                  </a:lnTo>
                  <a:close/>
                  <a:moveTo>
                    <a:pt x="871075" y="19575"/>
                  </a:moveTo>
                  <a:lnTo>
                    <a:pt x="871075" y="37575"/>
                  </a:lnTo>
                  <a:lnTo>
                    <a:pt x="907075" y="37575"/>
                  </a:lnTo>
                  <a:lnTo>
                    <a:pt x="907075" y="19575"/>
                  </a:lnTo>
                  <a:lnTo>
                    <a:pt x="871075" y="19575"/>
                  </a:lnTo>
                  <a:close/>
                  <a:moveTo>
                    <a:pt x="818991" y="19575"/>
                  </a:moveTo>
                  <a:lnTo>
                    <a:pt x="818991" y="37575"/>
                  </a:lnTo>
                  <a:lnTo>
                    <a:pt x="854991" y="37575"/>
                  </a:lnTo>
                  <a:lnTo>
                    <a:pt x="854991" y="19575"/>
                  </a:lnTo>
                  <a:lnTo>
                    <a:pt x="818991" y="19575"/>
                  </a:lnTo>
                  <a:close/>
                  <a:moveTo>
                    <a:pt x="766907" y="19575"/>
                  </a:moveTo>
                  <a:lnTo>
                    <a:pt x="766907" y="37575"/>
                  </a:lnTo>
                  <a:lnTo>
                    <a:pt x="802907" y="37575"/>
                  </a:lnTo>
                  <a:lnTo>
                    <a:pt x="802907" y="19575"/>
                  </a:lnTo>
                  <a:lnTo>
                    <a:pt x="766907" y="19575"/>
                  </a:lnTo>
                  <a:close/>
                  <a:moveTo>
                    <a:pt x="714823" y="19575"/>
                  </a:moveTo>
                  <a:lnTo>
                    <a:pt x="714823" y="37575"/>
                  </a:lnTo>
                  <a:lnTo>
                    <a:pt x="750823" y="37575"/>
                  </a:lnTo>
                  <a:lnTo>
                    <a:pt x="750823" y="19575"/>
                  </a:lnTo>
                  <a:lnTo>
                    <a:pt x="714823" y="19575"/>
                  </a:lnTo>
                  <a:close/>
                  <a:moveTo>
                    <a:pt x="662739" y="19575"/>
                  </a:moveTo>
                  <a:lnTo>
                    <a:pt x="662739" y="37575"/>
                  </a:lnTo>
                  <a:lnTo>
                    <a:pt x="698739" y="37575"/>
                  </a:lnTo>
                  <a:lnTo>
                    <a:pt x="698739" y="19575"/>
                  </a:lnTo>
                  <a:lnTo>
                    <a:pt x="662739" y="19575"/>
                  </a:lnTo>
                  <a:close/>
                  <a:moveTo>
                    <a:pt x="610655" y="19575"/>
                  </a:moveTo>
                  <a:lnTo>
                    <a:pt x="610655" y="37575"/>
                  </a:lnTo>
                  <a:lnTo>
                    <a:pt x="646655" y="37575"/>
                  </a:lnTo>
                  <a:lnTo>
                    <a:pt x="646655" y="19575"/>
                  </a:lnTo>
                  <a:lnTo>
                    <a:pt x="610655" y="19575"/>
                  </a:lnTo>
                  <a:close/>
                  <a:moveTo>
                    <a:pt x="558571" y="19575"/>
                  </a:moveTo>
                  <a:lnTo>
                    <a:pt x="558571" y="37575"/>
                  </a:lnTo>
                  <a:lnTo>
                    <a:pt x="594571" y="37575"/>
                  </a:lnTo>
                  <a:lnTo>
                    <a:pt x="594571" y="19575"/>
                  </a:lnTo>
                  <a:lnTo>
                    <a:pt x="558571" y="19575"/>
                  </a:lnTo>
                  <a:close/>
                  <a:moveTo>
                    <a:pt x="506487" y="19575"/>
                  </a:moveTo>
                  <a:lnTo>
                    <a:pt x="506487" y="37575"/>
                  </a:lnTo>
                  <a:lnTo>
                    <a:pt x="542487" y="37575"/>
                  </a:lnTo>
                  <a:lnTo>
                    <a:pt x="542487" y="19575"/>
                  </a:lnTo>
                  <a:lnTo>
                    <a:pt x="506487" y="19575"/>
                  </a:lnTo>
                  <a:close/>
                  <a:moveTo>
                    <a:pt x="454403" y="19575"/>
                  </a:moveTo>
                  <a:lnTo>
                    <a:pt x="454403" y="37575"/>
                  </a:lnTo>
                  <a:lnTo>
                    <a:pt x="490403" y="37575"/>
                  </a:lnTo>
                  <a:lnTo>
                    <a:pt x="490403" y="19575"/>
                  </a:lnTo>
                  <a:lnTo>
                    <a:pt x="454403" y="19575"/>
                  </a:lnTo>
                  <a:close/>
                  <a:moveTo>
                    <a:pt x="402319" y="19575"/>
                  </a:moveTo>
                  <a:lnTo>
                    <a:pt x="402319" y="37575"/>
                  </a:lnTo>
                  <a:lnTo>
                    <a:pt x="438319" y="37575"/>
                  </a:lnTo>
                  <a:lnTo>
                    <a:pt x="438319" y="19575"/>
                  </a:lnTo>
                  <a:lnTo>
                    <a:pt x="402319" y="19575"/>
                  </a:lnTo>
                  <a:close/>
                  <a:moveTo>
                    <a:pt x="350235" y="19575"/>
                  </a:moveTo>
                  <a:lnTo>
                    <a:pt x="350235" y="37575"/>
                  </a:lnTo>
                  <a:lnTo>
                    <a:pt x="386235" y="37575"/>
                  </a:lnTo>
                  <a:lnTo>
                    <a:pt x="386235" y="19575"/>
                  </a:lnTo>
                  <a:lnTo>
                    <a:pt x="350235" y="19575"/>
                  </a:lnTo>
                  <a:close/>
                  <a:moveTo>
                    <a:pt x="298151" y="19575"/>
                  </a:moveTo>
                  <a:lnTo>
                    <a:pt x="298151" y="37575"/>
                  </a:lnTo>
                  <a:lnTo>
                    <a:pt x="334151" y="37575"/>
                  </a:lnTo>
                  <a:lnTo>
                    <a:pt x="334151" y="19575"/>
                  </a:lnTo>
                  <a:lnTo>
                    <a:pt x="298151" y="19575"/>
                  </a:lnTo>
                  <a:close/>
                  <a:moveTo>
                    <a:pt x="246067" y="19575"/>
                  </a:moveTo>
                  <a:lnTo>
                    <a:pt x="246067" y="37575"/>
                  </a:lnTo>
                  <a:lnTo>
                    <a:pt x="282067" y="37575"/>
                  </a:lnTo>
                  <a:lnTo>
                    <a:pt x="282067" y="19575"/>
                  </a:lnTo>
                  <a:lnTo>
                    <a:pt x="246067" y="19575"/>
                  </a:lnTo>
                  <a:close/>
                  <a:moveTo>
                    <a:pt x="193983" y="19575"/>
                  </a:moveTo>
                  <a:lnTo>
                    <a:pt x="193983" y="37575"/>
                  </a:lnTo>
                  <a:lnTo>
                    <a:pt x="229983" y="37575"/>
                  </a:lnTo>
                  <a:lnTo>
                    <a:pt x="229983" y="19575"/>
                  </a:lnTo>
                  <a:lnTo>
                    <a:pt x="193983" y="19575"/>
                  </a:lnTo>
                  <a:close/>
                  <a:moveTo>
                    <a:pt x="141899" y="19575"/>
                  </a:moveTo>
                  <a:lnTo>
                    <a:pt x="141899" y="37575"/>
                  </a:lnTo>
                  <a:lnTo>
                    <a:pt x="177899" y="37575"/>
                  </a:lnTo>
                  <a:lnTo>
                    <a:pt x="177899" y="19575"/>
                  </a:lnTo>
                  <a:lnTo>
                    <a:pt x="141899" y="19575"/>
                  </a:lnTo>
                  <a:close/>
                  <a:moveTo>
                    <a:pt x="89815" y="19575"/>
                  </a:moveTo>
                  <a:lnTo>
                    <a:pt x="89815" y="37575"/>
                  </a:lnTo>
                  <a:lnTo>
                    <a:pt x="125815" y="37575"/>
                  </a:lnTo>
                  <a:lnTo>
                    <a:pt x="125815" y="19575"/>
                  </a:lnTo>
                  <a:lnTo>
                    <a:pt x="89815" y="19575"/>
                  </a:lnTo>
                  <a:close/>
                  <a:moveTo>
                    <a:pt x="37731" y="19575"/>
                  </a:moveTo>
                  <a:lnTo>
                    <a:pt x="37731" y="37575"/>
                  </a:lnTo>
                  <a:lnTo>
                    <a:pt x="73731" y="37575"/>
                  </a:lnTo>
                  <a:lnTo>
                    <a:pt x="73731" y="19575"/>
                  </a:lnTo>
                  <a:lnTo>
                    <a:pt x="37731" y="19575"/>
                  </a:lnTo>
                  <a:close/>
                  <a:moveTo>
                    <a:pt x="0" y="0"/>
                  </a:moveTo>
                  <a:lnTo>
                    <a:pt x="1882304" y="0"/>
                  </a:lnTo>
                  <a:lnTo>
                    <a:pt x="1882304" y="1239158"/>
                  </a:lnTo>
                  <a:lnTo>
                    <a:pt x="0" y="12391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235" name="MH_Other_2"/>
            <p:cNvSpPr/>
            <p:nvPr/>
          </p:nvSpPr>
          <p:spPr>
            <a:xfrm rot="1016400">
              <a:off x="1027080" y="1983240"/>
              <a:ext cx="4314600" cy="1440000"/>
            </a:xfrm>
            <a:custGeom>
              <a:avLst/>
              <a:gdLst/>
              <a:ahLst/>
              <a:rect l="l" t="t" r="r" b="b"/>
              <a:pathLst>
                <a:path w="1882304" h="1239158">
                  <a:moveTo>
                    <a:pt x="1808573" y="19575"/>
                  </a:moveTo>
                  <a:lnTo>
                    <a:pt x="1808573" y="37575"/>
                  </a:lnTo>
                  <a:lnTo>
                    <a:pt x="1844573" y="37575"/>
                  </a:lnTo>
                  <a:lnTo>
                    <a:pt x="1844573" y="19575"/>
                  </a:lnTo>
                  <a:lnTo>
                    <a:pt x="1808573" y="19575"/>
                  </a:lnTo>
                  <a:close/>
                  <a:moveTo>
                    <a:pt x="1756503" y="19575"/>
                  </a:moveTo>
                  <a:lnTo>
                    <a:pt x="1756503" y="37575"/>
                  </a:lnTo>
                  <a:lnTo>
                    <a:pt x="1792503" y="37575"/>
                  </a:lnTo>
                  <a:lnTo>
                    <a:pt x="1792503" y="19575"/>
                  </a:lnTo>
                  <a:lnTo>
                    <a:pt x="1756503" y="19575"/>
                  </a:lnTo>
                  <a:close/>
                  <a:moveTo>
                    <a:pt x="1704419" y="19575"/>
                  </a:moveTo>
                  <a:lnTo>
                    <a:pt x="1704419" y="37575"/>
                  </a:lnTo>
                  <a:lnTo>
                    <a:pt x="1740419" y="37575"/>
                  </a:lnTo>
                  <a:lnTo>
                    <a:pt x="1740419" y="19575"/>
                  </a:lnTo>
                  <a:lnTo>
                    <a:pt x="1704419" y="19575"/>
                  </a:lnTo>
                  <a:close/>
                  <a:moveTo>
                    <a:pt x="1652335" y="19575"/>
                  </a:moveTo>
                  <a:lnTo>
                    <a:pt x="1652335" y="37575"/>
                  </a:lnTo>
                  <a:lnTo>
                    <a:pt x="1688335" y="37575"/>
                  </a:lnTo>
                  <a:lnTo>
                    <a:pt x="1688335" y="19575"/>
                  </a:lnTo>
                  <a:lnTo>
                    <a:pt x="1652335" y="19575"/>
                  </a:lnTo>
                  <a:close/>
                  <a:moveTo>
                    <a:pt x="1600251" y="19575"/>
                  </a:moveTo>
                  <a:lnTo>
                    <a:pt x="1600251" y="37575"/>
                  </a:lnTo>
                  <a:lnTo>
                    <a:pt x="1636251" y="37575"/>
                  </a:lnTo>
                  <a:lnTo>
                    <a:pt x="1636251" y="19575"/>
                  </a:lnTo>
                  <a:lnTo>
                    <a:pt x="1600251" y="19575"/>
                  </a:lnTo>
                  <a:close/>
                  <a:moveTo>
                    <a:pt x="1548167" y="19575"/>
                  </a:moveTo>
                  <a:lnTo>
                    <a:pt x="1548167" y="37575"/>
                  </a:lnTo>
                  <a:lnTo>
                    <a:pt x="1584167" y="37575"/>
                  </a:lnTo>
                  <a:lnTo>
                    <a:pt x="1584167" y="19575"/>
                  </a:lnTo>
                  <a:lnTo>
                    <a:pt x="1548167" y="19575"/>
                  </a:lnTo>
                  <a:close/>
                  <a:moveTo>
                    <a:pt x="1496083" y="19575"/>
                  </a:moveTo>
                  <a:lnTo>
                    <a:pt x="1496083" y="37575"/>
                  </a:lnTo>
                  <a:lnTo>
                    <a:pt x="1532083" y="37575"/>
                  </a:lnTo>
                  <a:lnTo>
                    <a:pt x="1532083" y="19575"/>
                  </a:lnTo>
                  <a:lnTo>
                    <a:pt x="1496083" y="19575"/>
                  </a:lnTo>
                  <a:close/>
                  <a:moveTo>
                    <a:pt x="1443999" y="19575"/>
                  </a:moveTo>
                  <a:lnTo>
                    <a:pt x="1443999" y="37575"/>
                  </a:lnTo>
                  <a:lnTo>
                    <a:pt x="1479999" y="37575"/>
                  </a:lnTo>
                  <a:lnTo>
                    <a:pt x="1479999" y="19575"/>
                  </a:lnTo>
                  <a:lnTo>
                    <a:pt x="1443999" y="19575"/>
                  </a:lnTo>
                  <a:close/>
                  <a:moveTo>
                    <a:pt x="1391915" y="19575"/>
                  </a:moveTo>
                  <a:lnTo>
                    <a:pt x="1391915" y="37575"/>
                  </a:lnTo>
                  <a:lnTo>
                    <a:pt x="1427915" y="37575"/>
                  </a:lnTo>
                  <a:lnTo>
                    <a:pt x="1427915" y="19575"/>
                  </a:lnTo>
                  <a:lnTo>
                    <a:pt x="1391915" y="19575"/>
                  </a:lnTo>
                  <a:close/>
                  <a:moveTo>
                    <a:pt x="1339831" y="19575"/>
                  </a:moveTo>
                  <a:lnTo>
                    <a:pt x="1339831" y="37575"/>
                  </a:lnTo>
                  <a:lnTo>
                    <a:pt x="1375831" y="37575"/>
                  </a:lnTo>
                  <a:lnTo>
                    <a:pt x="1375831" y="19575"/>
                  </a:lnTo>
                  <a:lnTo>
                    <a:pt x="1339831" y="19575"/>
                  </a:lnTo>
                  <a:close/>
                  <a:moveTo>
                    <a:pt x="1287747" y="19575"/>
                  </a:moveTo>
                  <a:lnTo>
                    <a:pt x="1287747" y="37575"/>
                  </a:lnTo>
                  <a:lnTo>
                    <a:pt x="1323747" y="37575"/>
                  </a:lnTo>
                  <a:lnTo>
                    <a:pt x="1323747" y="19575"/>
                  </a:lnTo>
                  <a:lnTo>
                    <a:pt x="1287747" y="19575"/>
                  </a:lnTo>
                  <a:close/>
                  <a:moveTo>
                    <a:pt x="1235663" y="19575"/>
                  </a:moveTo>
                  <a:lnTo>
                    <a:pt x="1235663" y="37575"/>
                  </a:lnTo>
                  <a:lnTo>
                    <a:pt x="1271663" y="37575"/>
                  </a:lnTo>
                  <a:lnTo>
                    <a:pt x="1271663" y="19575"/>
                  </a:lnTo>
                  <a:lnTo>
                    <a:pt x="1235663" y="19575"/>
                  </a:lnTo>
                  <a:close/>
                  <a:moveTo>
                    <a:pt x="1183579" y="19575"/>
                  </a:moveTo>
                  <a:lnTo>
                    <a:pt x="1183579" y="37575"/>
                  </a:lnTo>
                  <a:lnTo>
                    <a:pt x="1219579" y="37575"/>
                  </a:lnTo>
                  <a:lnTo>
                    <a:pt x="1219579" y="19575"/>
                  </a:lnTo>
                  <a:lnTo>
                    <a:pt x="1183579" y="19575"/>
                  </a:lnTo>
                  <a:close/>
                  <a:moveTo>
                    <a:pt x="1131495" y="19575"/>
                  </a:moveTo>
                  <a:lnTo>
                    <a:pt x="1131495" y="37575"/>
                  </a:lnTo>
                  <a:lnTo>
                    <a:pt x="1167495" y="37575"/>
                  </a:lnTo>
                  <a:lnTo>
                    <a:pt x="1167495" y="19575"/>
                  </a:lnTo>
                  <a:lnTo>
                    <a:pt x="1131495" y="19575"/>
                  </a:lnTo>
                  <a:close/>
                  <a:moveTo>
                    <a:pt x="1079411" y="19575"/>
                  </a:moveTo>
                  <a:lnTo>
                    <a:pt x="1079411" y="37575"/>
                  </a:lnTo>
                  <a:lnTo>
                    <a:pt x="1115411" y="37575"/>
                  </a:lnTo>
                  <a:lnTo>
                    <a:pt x="1115411" y="19575"/>
                  </a:lnTo>
                  <a:lnTo>
                    <a:pt x="1079411" y="19575"/>
                  </a:lnTo>
                  <a:close/>
                  <a:moveTo>
                    <a:pt x="1027327" y="19575"/>
                  </a:moveTo>
                  <a:lnTo>
                    <a:pt x="1027327" y="37575"/>
                  </a:lnTo>
                  <a:lnTo>
                    <a:pt x="1063327" y="37575"/>
                  </a:lnTo>
                  <a:lnTo>
                    <a:pt x="1063327" y="19575"/>
                  </a:lnTo>
                  <a:lnTo>
                    <a:pt x="1027327" y="19575"/>
                  </a:lnTo>
                  <a:close/>
                  <a:moveTo>
                    <a:pt x="975243" y="19575"/>
                  </a:moveTo>
                  <a:lnTo>
                    <a:pt x="975243" y="37575"/>
                  </a:lnTo>
                  <a:lnTo>
                    <a:pt x="1011243" y="37575"/>
                  </a:lnTo>
                  <a:lnTo>
                    <a:pt x="1011243" y="19575"/>
                  </a:lnTo>
                  <a:lnTo>
                    <a:pt x="975243" y="19575"/>
                  </a:lnTo>
                  <a:close/>
                  <a:moveTo>
                    <a:pt x="923159" y="19575"/>
                  </a:moveTo>
                  <a:lnTo>
                    <a:pt x="923159" y="37575"/>
                  </a:lnTo>
                  <a:lnTo>
                    <a:pt x="959159" y="37575"/>
                  </a:lnTo>
                  <a:lnTo>
                    <a:pt x="959159" y="19575"/>
                  </a:lnTo>
                  <a:lnTo>
                    <a:pt x="923159" y="19575"/>
                  </a:lnTo>
                  <a:close/>
                  <a:moveTo>
                    <a:pt x="871075" y="19575"/>
                  </a:moveTo>
                  <a:lnTo>
                    <a:pt x="871075" y="37575"/>
                  </a:lnTo>
                  <a:lnTo>
                    <a:pt x="907075" y="37575"/>
                  </a:lnTo>
                  <a:lnTo>
                    <a:pt x="907075" y="19575"/>
                  </a:lnTo>
                  <a:lnTo>
                    <a:pt x="871075" y="19575"/>
                  </a:lnTo>
                  <a:close/>
                  <a:moveTo>
                    <a:pt x="818991" y="19575"/>
                  </a:moveTo>
                  <a:lnTo>
                    <a:pt x="818991" y="37575"/>
                  </a:lnTo>
                  <a:lnTo>
                    <a:pt x="854991" y="37575"/>
                  </a:lnTo>
                  <a:lnTo>
                    <a:pt x="854991" y="19575"/>
                  </a:lnTo>
                  <a:lnTo>
                    <a:pt x="818991" y="19575"/>
                  </a:lnTo>
                  <a:close/>
                  <a:moveTo>
                    <a:pt x="766907" y="19575"/>
                  </a:moveTo>
                  <a:lnTo>
                    <a:pt x="766907" y="37575"/>
                  </a:lnTo>
                  <a:lnTo>
                    <a:pt x="802907" y="37575"/>
                  </a:lnTo>
                  <a:lnTo>
                    <a:pt x="802907" y="19575"/>
                  </a:lnTo>
                  <a:lnTo>
                    <a:pt x="766907" y="19575"/>
                  </a:lnTo>
                  <a:close/>
                  <a:moveTo>
                    <a:pt x="714823" y="19575"/>
                  </a:moveTo>
                  <a:lnTo>
                    <a:pt x="714823" y="37575"/>
                  </a:lnTo>
                  <a:lnTo>
                    <a:pt x="750823" y="37575"/>
                  </a:lnTo>
                  <a:lnTo>
                    <a:pt x="750823" y="19575"/>
                  </a:lnTo>
                  <a:lnTo>
                    <a:pt x="714823" y="19575"/>
                  </a:lnTo>
                  <a:close/>
                  <a:moveTo>
                    <a:pt x="662739" y="19575"/>
                  </a:moveTo>
                  <a:lnTo>
                    <a:pt x="662739" y="37575"/>
                  </a:lnTo>
                  <a:lnTo>
                    <a:pt x="698739" y="37575"/>
                  </a:lnTo>
                  <a:lnTo>
                    <a:pt x="698739" y="19575"/>
                  </a:lnTo>
                  <a:lnTo>
                    <a:pt x="662739" y="19575"/>
                  </a:lnTo>
                  <a:close/>
                  <a:moveTo>
                    <a:pt x="610655" y="19575"/>
                  </a:moveTo>
                  <a:lnTo>
                    <a:pt x="610655" y="37575"/>
                  </a:lnTo>
                  <a:lnTo>
                    <a:pt x="646655" y="37575"/>
                  </a:lnTo>
                  <a:lnTo>
                    <a:pt x="646655" y="19575"/>
                  </a:lnTo>
                  <a:lnTo>
                    <a:pt x="610655" y="19575"/>
                  </a:lnTo>
                  <a:close/>
                  <a:moveTo>
                    <a:pt x="558571" y="19575"/>
                  </a:moveTo>
                  <a:lnTo>
                    <a:pt x="558571" y="37575"/>
                  </a:lnTo>
                  <a:lnTo>
                    <a:pt x="594571" y="37575"/>
                  </a:lnTo>
                  <a:lnTo>
                    <a:pt x="594571" y="19575"/>
                  </a:lnTo>
                  <a:lnTo>
                    <a:pt x="558571" y="19575"/>
                  </a:lnTo>
                  <a:close/>
                  <a:moveTo>
                    <a:pt x="506487" y="19575"/>
                  </a:moveTo>
                  <a:lnTo>
                    <a:pt x="506487" y="37575"/>
                  </a:lnTo>
                  <a:lnTo>
                    <a:pt x="542487" y="37575"/>
                  </a:lnTo>
                  <a:lnTo>
                    <a:pt x="542487" y="19575"/>
                  </a:lnTo>
                  <a:lnTo>
                    <a:pt x="506487" y="19575"/>
                  </a:lnTo>
                  <a:close/>
                  <a:moveTo>
                    <a:pt x="454403" y="19575"/>
                  </a:moveTo>
                  <a:lnTo>
                    <a:pt x="454403" y="37575"/>
                  </a:lnTo>
                  <a:lnTo>
                    <a:pt x="490403" y="37575"/>
                  </a:lnTo>
                  <a:lnTo>
                    <a:pt x="490403" y="19575"/>
                  </a:lnTo>
                  <a:lnTo>
                    <a:pt x="454403" y="19575"/>
                  </a:lnTo>
                  <a:close/>
                  <a:moveTo>
                    <a:pt x="402319" y="19575"/>
                  </a:moveTo>
                  <a:lnTo>
                    <a:pt x="402319" y="37575"/>
                  </a:lnTo>
                  <a:lnTo>
                    <a:pt x="438319" y="37575"/>
                  </a:lnTo>
                  <a:lnTo>
                    <a:pt x="438319" y="19575"/>
                  </a:lnTo>
                  <a:lnTo>
                    <a:pt x="402319" y="19575"/>
                  </a:lnTo>
                  <a:close/>
                  <a:moveTo>
                    <a:pt x="350235" y="19575"/>
                  </a:moveTo>
                  <a:lnTo>
                    <a:pt x="350235" y="37575"/>
                  </a:lnTo>
                  <a:lnTo>
                    <a:pt x="386235" y="37575"/>
                  </a:lnTo>
                  <a:lnTo>
                    <a:pt x="386235" y="19575"/>
                  </a:lnTo>
                  <a:lnTo>
                    <a:pt x="350235" y="19575"/>
                  </a:lnTo>
                  <a:close/>
                  <a:moveTo>
                    <a:pt x="298151" y="19575"/>
                  </a:moveTo>
                  <a:lnTo>
                    <a:pt x="298151" y="37575"/>
                  </a:lnTo>
                  <a:lnTo>
                    <a:pt x="334151" y="37575"/>
                  </a:lnTo>
                  <a:lnTo>
                    <a:pt x="334151" y="19575"/>
                  </a:lnTo>
                  <a:lnTo>
                    <a:pt x="298151" y="19575"/>
                  </a:lnTo>
                  <a:close/>
                  <a:moveTo>
                    <a:pt x="246067" y="19575"/>
                  </a:moveTo>
                  <a:lnTo>
                    <a:pt x="246067" y="37575"/>
                  </a:lnTo>
                  <a:lnTo>
                    <a:pt x="282067" y="37575"/>
                  </a:lnTo>
                  <a:lnTo>
                    <a:pt x="282067" y="19575"/>
                  </a:lnTo>
                  <a:lnTo>
                    <a:pt x="246067" y="19575"/>
                  </a:lnTo>
                  <a:close/>
                  <a:moveTo>
                    <a:pt x="193983" y="19575"/>
                  </a:moveTo>
                  <a:lnTo>
                    <a:pt x="193983" y="37575"/>
                  </a:lnTo>
                  <a:lnTo>
                    <a:pt x="229983" y="37575"/>
                  </a:lnTo>
                  <a:lnTo>
                    <a:pt x="229983" y="19575"/>
                  </a:lnTo>
                  <a:lnTo>
                    <a:pt x="193983" y="19575"/>
                  </a:lnTo>
                  <a:close/>
                  <a:moveTo>
                    <a:pt x="141899" y="19575"/>
                  </a:moveTo>
                  <a:lnTo>
                    <a:pt x="141899" y="37575"/>
                  </a:lnTo>
                  <a:lnTo>
                    <a:pt x="177899" y="37575"/>
                  </a:lnTo>
                  <a:lnTo>
                    <a:pt x="177899" y="19575"/>
                  </a:lnTo>
                  <a:lnTo>
                    <a:pt x="141899" y="19575"/>
                  </a:lnTo>
                  <a:close/>
                  <a:moveTo>
                    <a:pt x="89815" y="19575"/>
                  </a:moveTo>
                  <a:lnTo>
                    <a:pt x="89815" y="37575"/>
                  </a:lnTo>
                  <a:lnTo>
                    <a:pt x="125815" y="37575"/>
                  </a:lnTo>
                  <a:lnTo>
                    <a:pt x="125815" y="19575"/>
                  </a:lnTo>
                  <a:lnTo>
                    <a:pt x="89815" y="19575"/>
                  </a:lnTo>
                  <a:close/>
                  <a:moveTo>
                    <a:pt x="37731" y="19575"/>
                  </a:moveTo>
                  <a:lnTo>
                    <a:pt x="37731" y="37575"/>
                  </a:lnTo>
                  <a:lnTo>
                    <a:pt x="73731" y="37575"/>
                  </a:lnTo>
                  <a:lnTo>
                    <a:pt x="73731" y="19575"/>
                  </a:lnTo>
                  <a:lnTo>
                    <a:pt x="37731" y="19575"/>
                  </a:lnTo>
                  <a:close/>
                  <a:moveTo>
                    <a:pt x="0" y="0"/>
                  </a:moveTo>
                  <a:lnTo>
                    <a:pt x="1882304" y="0"/>
                  </a:lnTo>
                  <a:lnTo>
                    <a:pt x="1882304" y="1239158"/>
                  </a:lnTo>
                  <a:lnTo>
                    <a:pt x="0" y="12391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e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236" name="MH_Other_3"/>
            <p:cNvSpPr/>
            <p:nvPr/>
          </p:nvSpPr>
          <p:spPr>
            <a:xfrm rot="558000">
              <a:off x="1179720" y="2927160"/>
              <a:ext cx="4372560" cy="784440"/>
            </a:xfrm>
            <a:custGeom>
              <a:avLst/>
              <a:gdLst/>
              <a:ahLst/>
              <a:rect l="l" t="t" r="r" b="b"/>
              <a:pathLst>
                <a:path w="1939924" h="596900">
                  <a:moveTo>
                    <a:pt x="50800" y="0"/>
                  </a:moveTo>
                  <a:lnTo>
                    <a:pt x="1892299" y="6350"/>
                  </a:lnTo>
                  <a:lnTo>
                    <a:pt x="1939924" y="596900"/>
                  </a:lnTo>
                  <a:lnTo>
                    <a:pt x="916939" y="489324"/>
                  </a:lnTo>
                  <a:lnTo>
                    <a:pt x="0" y="596900"/>
                  </a:lnTo>
                  <a:lnTo>
                    <a:pt x="5080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a9c"/>
                </a:gs>
                <a:gs pos="100000">
                  <a:srgbClr val="7d8183"/>
                </a:gs>
              </a:gsLst>
              <a:lin ang="48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237" name="MH_SubTitle_1"/>
            <p:cNvSpPr/>
            <p:nvPr/>
          </p:nvSpPr>
          <p:spPr>
            <a:xfrm rot="558000">
              <a:off x="1342440" y="2008800"/>
              <a:ext cx="4311360" cy="166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0ad47"/>
                  </a:solidFill>
                  <a:latin typeface="Arial"/>
                  <a:ea typeface="宋体"/>
                </a:rPr>
                <a:t>柏洼山风景区</a:t>
              </a:r>
              <a:endParaRPr b="0" lang="en-US" sz="2000" spc="-1" strike="noStrike">
                <a:solidFill>
                  <a:srgbClr val="3d3f41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0ad47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70ad47"/>
                  </a:solidFill>
                  <a:latin typeface="Arial"/>
                  <a:ea typeface="宋体"/>
                </a:rPr>
                <a:t>柏洼山风景区位于中阳县城东</a:t>
              </a:r>
              <a:r>
                <a:rPr b="1" lang="zh-CN" sz="1800" spc="-1" strike="noStrike">
                  <a:solidFill>
                    <a:srgbClr val="70ad47"/>
                  </a:solidFill>
                  <a:latin typeface="Arial"/>
                  <a:ea typeface="宋体"/>
                </a:rPr>
                <a:t>5</a:t>
              </a:r>
              <a:r>
                <a:rPr b="1" lang="zh-CN" sz="1800" spc="-1" strike="noStrike">
                  <a:solidFill>
                    <a:srgbClr val="70ad47"/>
                  </a:solidFill>
                  <a:latin typeface="Arial"/>
                  <a:ea typeface="宋体"/>
                </a:rPr>
                <a:t>公里处，距</a:t>
              </a:r>
              <a:r>
                <a:rPr b="1" lang="zh-CN" sz="1800" spc="-1" strike="noStrike">
                  <a:solidFill>
                    <a:srgbClr val="70ad47"/>
                  </a:solidFill>
                  <a:latin typeface="Arial"/>
                  <a:ea typeface="宋体"/>
                </a:rPr>
                <a:t>340</a:t>
              </a:r>
              <a:r>
                <a:rPr b="1" lang="zh-CN" sz="1800" spc="-1" strike="noStrike">
                  <a:solidFill>
                    <a:srgbClr val="70ad47"/>
                  </a:solidFill>
                  <a:latin typeface="Arial"/>
                  <a:ea typeface="宋体"/>
                </a:rPr>
                <a:t>省道仅</a:t>
              </a:r>
              <a:r>
                <a:rPr b="1" lang="zh-CN" sz="1800" spc="-1" strike="noStrike">
                  <a:solidFill>
                    <a:srgbClr val="70ad47"/>
                  </a:solidFill>
                  <a:latin typeface="Arial"/>
                  <a:ea typeface="宋体"/>
                </a:rPr>
                <a:t>500</a:t>
              </a:r>
              <a:r>
                <a:rPr b="1" lang="zh-CN" sz="1800" spc="-1" strike="noStrike">
                  <a:solidFill>
                    <a:srgbClr val="70ad47"/>
                  </a:solidFill>
                  <a:latin typeface="Arial"/>
                  <a:ea typeface="宋体"/>
                </a:rPr>
                <a:t>米，海拔高度</a:t>
              </a:r>
              <a:r>
                <a:rPr b="1" lang="zh-CN" sz="1800" spc="-1" strike="noStrike">
                  <a:solidFill>
                    <a:srgbClr val="70ad47"/>
                  </a:solidFill>
                  <a:latin typeface="Arial"/>
                  <a:ea typeface="宋体"/>
                </a:rPr>
                <a:t>1250</a:t>
              </a:r>
              <a:r>
                <a:rPr b="1" lang="zh-CN" sz="1800" spc="-1" strike="noStrike">
                  <a:solidFill>
                    <a:srgbClr val="70ad47"/>
                  </a:solidFill>
                  <a:latin typeface="Arial"/>
                  <a:ea typeface="宋体"/>
                </a:rPr>
                <a:t>米，景区面积</a:t>
              </a:r>
              <a:r>
                <a:rPr b="1" lang="zh-CN" sz="1800" spc="-1" strike="noStrike">
                  <a:solidFill>
                    <a:srgbClr val="70ad47"/>
                  </a:solidFill>
                  <a:latin typeface="Arial"/>
                  <a:ea typeface="宋体"/>
                </a:rPr>
                <a:t>68</a:t>
              </a:r>
              <a:r>
                <a:rPr b="1" lang="zh-CN" sz="1800" spc="-1" strike="noStrike">
                  <a:solidFill>
                    <a:srgbClr val="70ad47"/>
                  </a:solidFill>
                  <a:latin typeface="Arial"/>
                  <a:ea typeface="宋体"/>
                </a:rPr>
                <a:t>平方公里。集柏海松林、道教信仰、湖泊溶洞于一体。</a:t>
              </a: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</p:grpSp>
      <p:grpSp>
        <p:nvGrpSpPr>
          <p:cNvPr id="238" name="组合 4"/>
          <p:cNvGrpSpPr/>
          <p:nvPr/>
        </p:nvGrpSpPr>
        <p:grpSpPr>
          <a:xfrm>
            <a:off x="775080" y="3899880"/>
            <a:ext cx="5226840" cy="2885040"/>
            <a:chOff x="775080" y="3899880"/>
            <a:chExt cx="5226840" cy="2885040"/>
          </a:xfrm>
        </p:grpSpPr>
        <p:sp>
          <p:nvSpPr>
            <p:cNvPr id="239" name="MH_Other_7"/>
            <p:cNvSpPr/>
            <p:nvPr/>
          </p:nvSpPr>
          <p:spPr>
            <a:xfrm rot="20809200">
              <a:off x="1660680" y="4392360"/>
              <a:ext cx="4187160" cy="1835640"/>
            </a:xfrm>
            <a:custGeom>
              <a:avLst/>
              <a:gdLst/>
              <a:ahLst/>
              <a:rect l="l" t="t" r="r" b="b"/>
              <a:pathLst>
                <a:path w="1882304" h="1239158">
                  <a:moveTo>
                    <a:pt x="1808573" y="19575"/>
                  </a:moveTo>
                  <a:lnTo>
                    <a:pt x="1808573" y="37575"/>
                  </a:lnTo>
                  <a:lnTo>
                    <a:pt x="1844573" y="37575"/>
                  </a:lnTo>
                  <a:lnTo>
                    <a:pt x="1844573" y="19575"/>
                  </a:lnTo>
                  <a:lnTo>
                    <a:pt x="1808573" y="19575"/>
                  </a:lnTo>
                  <a:close/>
                  <a:moveTo>
                    <a:pt x="1756503" y="19575"/>
                  </a:moveTo>
                  <a:lnTo>
                    <a:pt x="1756503" y="37575"/>
                  </a:lnTo>
                  <a:lnTo>
                    <a:pt x="1792503" y="37575"/>
                  </a:lnTo>
                  <a:lnTo>
                    <a:pt x="1792503" y="19575"/>
                  </a:lnTo>
                  <a:lnTo>
                    <a:pt x="1756503" y="19575"/>
                  </a:lnTo>
                  <a:close/>
                  <a:moveTo>
                    <a:pt x="1704419" y="19575"/>
                  </a:moveTo>
                  <a:lnTo>
                    <a:pt x="1704419" y="37575"/>
                  </a:lnTo>
                  <a:lnTo>
                    <a:pt x="1740419" y="37575"/>
                  </a:lnTo>
                  <a:lnTo>
                    <a:pt x="1740419" y="19575"/>
                  </a:lnTo>
                  <a:lnTo>
                    <a:pt x="1704419" y="19575"/>
                  </a:lnTo>
                  <a:close/>
                  <a:moveTo>
                    <a:pt x="1652335" y="19575"/>
                  </a:moveTo>
                  <a:lnTo>
                    <a:pt x="1652335" y="37575"/>
                  </a:lnTo>
                  <a:lnTo>
                    <a:pt x="1688335" y="37575"/>
                  </a:lnTo>
                  <a:lnTo>
                    <a:pt x="1688335" y="19575"/>
                  </a:lnTo>
                  <a:lnTo>
                    <a:pt x="1652335" y="19575"/>
                  </a:lnTo>
                  <a:close/>
                  <a:moveTo>
                    <a:pt x="1600251" y="19575"/>
                  </a:moveTo>
                  <a:lnTo>
                    <a:pt x="1600251" y="37575"/>
                  </a:lnTo>
                  <a:lnTo>
                    <a:pt x="1636251" y="37575"/>
                  </a:lnTo>
                  <a:lnTo>
                    <a:pt x="1636251" y="19575"/>
                  </a:lnTo>
                  <a:lnTo>
                    <a:pt x="1600251" y="19575"/>
                  </a:lnTo>
                  <a:close/>
                  <a:moveTo>
                    <a:pt x="1548167" y="19575"/>
                  </a:moveTo>
                  <a:lnTo>
                    <a:pt x="1548167" y="37575"/>
                  </a:lnTo>
                  <a:lnTo>
                    <a:pt x="1584167" y="37575"/>
                  </a:lnTo>
                  <a:lnTo>
                    <a:pt x="1584167" y="19575"/>
                  </a:lnTo>
                  <a:lnTo>
                    <a:pt x="1548167" y="19575"/>
                  </a:lnTo>
                  <a:close/>
                  <a:moveTo>
                    <a:pt x="1496083" y="19575"/>
                  </a:moveTo>
                  <a:lnTo>
                    <a:pt x="1496083" y="37575"/>
                  </a:lnTo>
                  <a:lnTo>
                    <a:pt x="1532083" y="37575"/>
                  </a:lnTo>
                  <a:lnTo>
                    <a:pt x="1532083" y="19575"/>
                  </a:lnTo>
                  <a:lnTo>
                    <a:pt x="1496083" y="19575"/>
                  </a:lnTo>
                  <a:close/>
                  <a:moveTo>
                    <a:pt x="1443999" y="19575"/>
                  </a:moveTo>
                  <a:lnTo>
                    <a:pt x="1443999" y="37575"/>
                  </a:lnTo>
                  <a:lnTo>
                    <a:pt x="1479999" y="37575"/>
                  </a:lnTo>
                  <a:lnTo>
                    <a:pt x="1479999" y="19575"/>
                  </a:lnTo>
                  <a:lnTo>
                    <a:pt x="1443999" y="19575"/>
                  </a:lnTo>
                  <a:close/>
                  <a:moveTo>
                    <a:pt x="1391915" y="19575"/>
                  </a:moveTo>
                  <a:lnTo>
                    <a:pt x="1391915" y="37575"/>
                  </a:lnTo>
                  <a:lnTo>
                    <a:pt x="1427915" y="37575"/>
                  </a:lnTo>
                  <a:lnTo>
                    <a:pt x="1427915" y="19575"/>
                  </a:lnTo>
                  <a:lnTo>
                    <a:pt x="1391915" y="19575"/>
                  </a:lnTo>
                  <a:close/>
                  <a:moveTo>
                    <a:pt x="1339831" y="19575"/>
                  </a:moveTo>
                  <a:lnTo>
                    <a:pt x="1339831" y="37575"/>
                  </a:lnTo>
                  <a:lnTo>
                    <a:pt x="1375831" y="37575"/>
                  </a:lnTo>
                  <a:lnTo>
                    <a:pt x="1375831" y="19575"/>
                  </a:lnTo>
                  <a:lnTo>
                    <a:pt x="1339831" y="19575"/>
                  </a:lnTo>
                  <a:close/>
                  <a:moveTo>
                    <a:pt x="1287747" y="19575"/>
                  </a:moveTo>
                  <a:lnTo>
                    <a:pt x="1287747" y="37575"/>
                  </a:lnTo>
                  <a:lnTo>
                    <a:pt x="1323747" y="37575"/>
                  </a:lnTo>
                  <a:lnTo>
                    <a:pt x="1323747" y="19575"/>
                  </a:lnTo>
                  <a:lnTo>
                    <a:pt x="1287747" y="19575"/>
                  </a:lnTo>
                  <a:close/>
                  <a:moveTo>
                    <a:pt x="1235663" y="19575"/>
                  </a:moveTo>
                  <a:lnTo>
                    <a:pt x="1235663" y="37575"/>
                  </a:lnTo>
                  <a:lnTo>
                    <a:pt x="1271663" y="37575"/>
                  </a:lnTo>
                  <a:lnTo>
                    <a:pt x="1271663" y="19575"/>
                  </a:lnTo>
                  <a:lnTo>
                    <a:pt x="1235663" y="19575"/>
                  </a:lnTo>
                  <a:close/>
                  <a:moveTo>
                    <a:pt x="1183579" y="19575"/>
                  </a:moveTo>
                  <a:lnTo>
                    <a:pt x="1183579" y="37575"/>
                  </a:lnTo>
                  <a:lnTo>
                    <a:pt x="1219579" y="37575"/>
                  </a:lnTo>
                  <a:lnTo>
                    <a:pt x="1219579" y="19575"/>
                  </a:lnTo>
                  <a:lnTo>
                    <a:pt x="1183579" y="19575"/>
                  </a:lnTo>
                  <a:close/>
                  <a:moveTo>
                    <a:pt x="1131495" y="19575"/>
                  </a:moveTo>
                  <a:lnTo>
                    <a:pt x="1131495" y="37575"/>
                  </a:lnTo>
                  <a:lnTo>
                    <a:pt x="1167495" y="37575"/>
                  </a:lnTo>
                  <a:lnTo>
                    <a:pt x="1167495" y="19575"/>
                  </a:lnTo>
                  <a:lnTo>
                    <a:pt x="1131495" y="19575"/>
                  </a:lnTo>
                  <a:close/>
                  <a:moveTo>
                    <a:pt x="1079411" y="19575"/>
                  </a:moveTo>
                  <a:lnTo>
                    <a:pt x="1079411" y="37575"/>
                  </a:lnTo>
                  <a:lnTo>
                    <a:pt x="1115411" y="37575"/>
                  </a:lnTo>
                  <a:lnTo>
                    <a:pt x="1115411" y="19575"/>
                  </a:lnTo>
                  <a:lnTo>
                    <a:pt x="1079411" y="19575"/>
                  </a:lnTo>
                  <a:close/>
                  <a:moveTo>
                    <a:pt x="1027327" y="19575"/>
                  </a:moveTo>
                  <a:lnTo>
                    <a:pt x="1027327" y="37575"/>
                  </a:lnTo>
                  <a:lnTo>
                    <a:pt x="1063327" y="37575"/>
                  </a:lnTo>
                  <a:lnTo>
                    <a:pt x="1063327" y="19575"/>
                  </a:lnTo>
                  <a:lnTo>
                    <a:pt x="1027327" y="19575"/>
                  </a:lnTo>
                  <a:close/>
                  <a:moveTo>
                    <a:pt x="975243" y="19575"/>
                  </a:moveTo>
                  <a:lnTo>
                    <a:pt x="975243" y="37575"/>
                  </a:lnTo>
                  <a:lnTo>
                    <a:pt x="1011243" y="37575"/>
                  </a:lnTo>
                  <a:lnTo>
                    <a:pt x="1011243" y="19575"/>
                  </a:lnTo>
                  <a:lnTo>
                    <a:pt x="975243" y="19575"/>
                  </a:lnTo>
                  <a:close/>
                  <a:moveTo>
                    <a:pt x="923159" y="19575"/>
                  </a:moveTo>
                  <a:lnTo>
                    <a:pt x="923159" y="37575"/>
                  </a:lnTo>
                  <a:lnTo>
                    <a:pt x="959159" y="37575"/>
                  </a:lnTo>
                  <a:lnTo>
                    <a:pt x="959159" y="19575"/>
                  </a:lnTo>
                  <a:lnTo>
                    <a:pt x="923159" y="19575"/>
                  </a:lnTo>
                  <a:close/>
                  <a:moveTo>
                    <a:pt x="871075" y="19575"/>
                  </a:moveTo>
                  <a:lnTo>
                    <a:pt x="871075" y="37575"/>
                  </a:lnTo>
                  <a:lnTo>
                    <a:pt x="907075" y="37575"/>
                  </a:lnTo>
                  <a:lnTo>
                    <a:pt x="907075" y="19575"/>
                  </a:lnTo>
                  <a:lnTo>
                    <a:pt x="871075" y="19575"/>
                  </a:lnTo>
                  <a:close/>
                  <a:moveTo>
                    <a:pt x="818991" y="19575"/>
                  </a:moveTo>
                  <a:lnTo>
                    <a:pt x="818991" y="37575"/>
                  </a:lnTo>
                  <a:lnTo>
                    <a:pt x="854991" y="37575"/>
                  </a:lnTo>
                  <a:lnTo>
                    <a:pt x="854991" y="19575"/>
                  </a:lnTo>
                  <a:lnTo>
                    <a:pt x="818991" y="19575"/>
                  </a:lnTo>
                  <a:close/>
                  <a:moveTo>
                    <a:pt x="766907" y="19575"/>
                  </a:moveTo>
                  <a:lnTo>
                    <a:pt x="766907" y="37575"/>
                  </a:lnTo>
                  <a:lnTo>
                    <a:pt x="802907" y="37575"/>
                  </a:lnTo>
                  <a:lnTo>
                    <a:pt x="802907" y="19575"/>
                  </a:lnTo>
                  <a:lnTo>
                    <a:pt x="766907" y="19575"/>
                  </a:lnTo>
                  <a:close/>
                  <a:moveTo>
                    <a:pt x="714823" y="19575"/>
                  </a:moveTo>
                  <a:lnTo>
                    <a:pt x="714823" y="37575"/>
                  </a:lnTo>
                  <a:lnTo>
                    <a:pt x="750823" y="37575"/>
                  </a:lnTo>
                  <a:lnTo>
                    <a:pt x="750823" y="19575"/>
                  </a:lnTo>
                  <a:lnTo>
                    <a:pt x="714823" y="19575"/>
                  </a:lnTo>
                  <a:close/>
                  <a:moveTo>
                    <a:pt x="662739" y="19575"/>
                  </a:moveTo>
                  <a:lnTo>
                    <a:pt x="662739" y="37575"/>
                  </a:lnTo>
                  <a:lnTo>
                    <a:pt x="698739" y="37575"/>
                  </a:lnTo>
                  <a:lnTo>
                    <a:pt x="698739" y="19575"/>
                  </a:lnTo>
                  <a:lnTo>
                    <a:pt x="662739" y="19575"/>
                  </a:lnTo>
                  <a:close/>
                  <a:moveTo>
                    <a:pt x="610655" y="19575"/>
                  </a:moveTo>
                  <a:lnTo>
                    <a:pt x="610655" y="37575"/>
                  </a:lnTo>
                  <a:lnTo>
                    <a:pt x="646655" y="37575"/>
                  </a:lnTo>
                  <a:lnTo>
                    <a:pt x="646655" y="19575"/>
                  </a:lnTo>
                  <a:lnTo>
                    <a:pt x="610655" y="19575"/>
                  </a:lnTo>
                  <a:close/>
                  <a:moveTo>
                    <a:pt x="558571" y="19575"/>
                  </a:moveTo>
                  <a:lnTo>
                    <a:pt x="558571" y="37575"/>
                  </a:lnTo>
                  <a:lnTo>
                    <a:pt x="594571" y="37575"/>
                  </a:lnTo>
                  <a:lnTo>
                    <a:pt x="594571" y="19575"/>
                  </a:lnTo>
                  <a:lnTo>
                    <a:pt x="558571" y="19575"/>
                  </a:lnTo>
                  <a:close/>
                  <a:moveTo>
                    <a:pt x="506487" y="19575"/>
                  </a:moveTo>
                  <a:lnTo>
                    <a:pt x="506487" y="37575"/>
                  </a:lnTo>
                  <a:lnTo>
                    <a:pt x="542487" y="37575"/>
                  </a:lnTo>
                  <a:lnTo>
                    <a:pt x="542487" y="19575"/>
                  </a:lnTo>
                  <a:lnTo>
                    <a:pt x="506487" y="19575"/>
                  </a:lnTo>
                  <a:close/>
                  <a:moveTo>
                    <a:pt x="454403" y="19575"/>
                  </a:moveTo>
                  <a:lnTo>
                    <a:pt x="454403" y="37575"/>
                  </a:lnTo>
                  <a:lnTo>
                    <a:pt x="490403" y="37575"/>
                  </a:lnTo>
                  <a:lnTo>
                    <a:pt x="490403" y="19575"/>
                  </a:lnTo>
                  <a:lnTo>
                    <a:pt x="454403" y="19575"/>
                  </a:lnTo>
                  <a:close/>
                  <a:moveTo>
                    <a:pt x="402319" y="19575"/>
                  </a:moveTo>
                  <a:lnTo>
                    <a:pt x="402319" y="37575"/>
                  </a:lnTo>
                  <a:lnTo>
                    <a:pt x="438319" y="37575"/>
                  </a:lnTo>
                  <a:lnTo>
                    <a:pt x="438319" y="19575"/>
                  </a:lnTo>
                  <a:lnTo>
                    <a:pt x="402319" y="19575"/>
                  </a:lnTo>
                  <a:close/>
                  <a:moveTo>
                    <a:pt x="350235" y="19575"/>
                  </a:moveTo>
                  <a:lnTo>
                    <a:pt x="350235" y="37575"/>
                  </a:lnTo>
                  <a:lnTo>
                    <a:pt x="386235" y="37575"/>
                  </a:lnTo>
                  <a:lnTo>
                    <a:pt x="386235" y="19575"/>
                  </a:lnTo>
                  <a:lnTo>
                    <a:pt x="350235" y="19575"/>
                  </a:lnTo>
                  <a:close/>
                  <a:moveTo>
                    <a:pt x="298151" y="19575"/>
                  </a:moveTo>
                  <a:lnTo>
                    <a:pt x="298151" y="37575"/>
                  </a:lnTo>
                  <a:lnTo>
                    <a:pt x="334151" y="37575"/>
                  </a:lnTo>
                  <a:lnTo>
                    <a:pt x="334151" y="19575"/>
                  </a:lnTo>
                  <a:lnTo>
                    <a:pt x="298151" y="19575"/>
                  </a:lnTo>
                  <a:close/>
                  <a:moveTo>
                    <a:pt x="246067" y="19575"/>
                  </a:moveTo>
                  <a:lnTo>
                    <a:pt x="246067" y="37575"/>
                  </a:lnTo>
                  <a:lnTo>
                    <a:pt x="282067" y="37575"/>
                  </a:lnTo>
                  <a:lnTo>
                    <a:pt x="282067" y="19575"/>
                  </a:lnTo>
                  <a:lnTo>
                    <a:pt x="246067" y="19575"/>
                  </a:lnTo>
                  <a:close/>
                  <a:moveTo>
                    <a:pt x="193983" y="19575"/>
                  </a:moveTo>
                  <a:lnTo>
                    <a:pt x="193983" y="37575"/>
                  </a:lnTo>
                  <a:lnTo>
                    <a:pt x="229983" y="37575"/>
                  </a:lnTo>
                  <a:lnTo>
                    <a:pt x="229983" y="19575"/>
                  </a:lnTo>
                  <a:lnTo>
                    <a:pt x="193983" y="19575"/>
                  </a:lnTo>
                  <a:close/>
                  <a:moveTo>
                    <a:pt x="141899" y="19575"/>
                  </a:moveTo>
                  <a:lnTo>
                    <a:pt x="141899" y="37575"/>
                  </a:lnTo>
                  <a:lnTo>
                    <a:pt x="177899" y="37575"/>
                  </a:lnTo>
                  <a:lnTo>
                    <a:pt x="177899" y="19575"/>
                  </a:lnTo>
                  <a:lnTo>
                    <a:pt x="141899" y="19575"/>
                  </a:lnTo>
                  <a:close/>
                  <a:moveTo>
                    <a:pt x="89815" y="19575"/>
                  </a:moveTo>
                  <a:lnTo>
                    <a:pt x="89815" y="37575"/>
                  </a:lnTo>
                  <a:lnTo>
                    <a:pt x="125815" y="37575"/>
                  </a:lnTo>
                  <a:lnTo>
                    <a:pt x="125815" y="19575"/>
                  </a:lnTo>
                  <a:lnTo>
                    <a:pt x="89815" y="19575"/>
                  </a:lnTo>
                  <a:close/>
                  <a:moveTo>
                    <a:pt x="37731" y="19575"/>
                  </a:moveTo>
                  <a:lnTo>
                    <a:pt x="37731" y="37575"/>
                  </a:lnTo>
                  <a:lnTo>
                    <a:pt x="73731" y="37575"/>
                  </a:lnTo>
                  <a:lnTo>
                    <a:pt x="73731" y="19575"/>
                  </a:lnTo>
                  <a:lnTo>
                    <a:pt x="37731" y="19575"/>
                  </a:lnTo>
                  <a:close/>
                  <a:moveTo>
                    <a:pt x="0" y="0"/>
                  </a:moveTo>
                  <a:lnTo>
                    <a:pt x="1882304" y="0"/>
                  </a:lnTo>
                  <a:lnTo>
                    <a:pt x="1882304" y="1239158"/>
                  </a:lnTo>
                  <a:lnTo>
                    <a:pt x="0" y="12391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8d0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240" name="MH_Other_8"/>
            <p:cNvSpPr/>
            <p:nvPr/>
          </p:nvSpPr>
          <p:spPr>
            <a:xfrm rot="1016400">
              <a:off x="923400" y="4473360"/>
              <a:ext cx="4182840" cy="1643760"/>
            </a:xfrm>
            <a:custGeom>
              <a:avLst/>
              <a:gdLst/>
              <a:ahLst/>
              <a:rect l="l" t="t" r="r" b="b"/>
              <a:pathLst>
                <a:path w="1882304" h="1239158">
                  <a:moveTo>
                    <a:pt x="1808573" y="19575"/>
                  </a:moveTo>
                  <a:lnTo>
                    <a:pt x="1808573" y="37575"/>
                  </a:lnTo>
                  <a:lnTo>
                    <a:pt x="1844573" y="37575"/>
                  </a:lnTo>
                  <a:lnTo>
                    <a:pt x="1844573" y="19575"/>
                  </a:lnTo>
                  <a:lnTo>
                    <a:pt x="1808573" y="19575"/>
                  </a:lnTo>
                  <a:close/>
                  <a:moveTo>
                    <a:pt x="1756503" y="19575"/>
                  </a:moveTo>
                  <a:lnTo>
                    <a:pt x="1756503" y="37575"/>
                  </a:lnTo>
                  <a:lnTo>
                    <a:pt x="1792503" y="37575"/>
                  </a:lnTo>
                  <a:lnTo>
                    <a:pt x="1792503" y="19575"/>
                  </a:lnTo>
                  <a:lnTo>
                    <a:pt x="1756503" y="19575"/>
                  </a:lnTo>
                  <a:close/>
                  <a:moveTo>
                    <a:pt x="1704419" y="19575"/>
                  </a:moveTo>
                  <a:lnTo>
                    <a:pt x="1704419" y="37575"/>
                  </a:lnTo>
                  <a:lnTo>
                    <a:pt x="1740419" y="37575"/>
                  </a:lnTo>
                  <a:lnTo>
                    <a:pt x="1740419" y="19575"/>
                  </a:lnTo>
                  <a:lnTo>
                    <a:pt x="1704419" y="19575"/>
                  </a:lnTo>
                  <a:close/>
                  <a:moveTo>
                    <a:pt x="1652335" y="19575"/>
                  </a:moveTo>
                  <a:lnTo>
                    <a:pt x="1652335" y="37575"/>
                  </a:lnTo>
                  <a:lnTo>
                    <a:pt x="1688335" y="37575"/>
                  </a:lnTo>
                  <a:lnTo>
                    <a:pt x="1688335" y="19575"/>
                  </a:lnTo>
                  <a:lnTo>
                    <a:pt x="1652335" y="19575"/>
                  </a:lnTo>
                  <a:close/>
                  <a:moveTo>
                    <a:pt x="1600251" y="19575"/>
                  </a:moveTo>
                  <a:lnTo>
                    <a:pt x="1600251" y="37575"/>
                  </a:lnTo>
                  <a:lnTo>
                    <a:pt x="1636251" y="37575"/>
                  </a:lnTo>
                  <a:lnTo>
                    <a:pt x="1636251" y="19575"/>
                  </a:lnTo>
                  <a:lnTo>
                    <a:pt x="1600251" y="19575"/>
                  </a:lnTo>
                  <a:close/>
                  <a:moveTo>
                    <a:pt x="1548167" y="19575"/>
                  </a:moveTo>
                  <a:lnTo>
                    <a:pt x="1548167" y="37575"/>
                  </a:lnTo>
                  <a:lnTo>
                    <a:pt x="1584167" y="37575"/>
                  </a:lnTo>
                  <a:lnTo>
                    <a:pt x="1584167" y="19575"/>
                  </a:lnTo>
                  <a:lnTo>
                    <a:pt x="1548167" y="19575"/>
                  </a:lnTo>
                  <a:close/>
                  <a:moveTo>
                    <a:pt x="1496083" y="19575"/>
                  </a:moveTo>
                  <a:lnTo>
                    <a:pt x="1496083" y="37575"/>
                  </a:lnTo>
                  <a:lnTo>
                    <a:pt x="1532083" y="37575"/>
                  </a:lnTo>
                  <a:lnTo>
                    <a:pt x="1532083" y="19575"/>
                  </a:lnTo>
                  <a:lnTo>
                    <a:pt x="1496083" y="19575"/>
                  </a:lnTo>
                  <a:close/>
                  <a:moveTo>
                    <a:pt x="1443999" y="19575"/>
                  </a:moveTo>
                  <a:lnTo>
                    <a:pt x="1443999" y="37575"/>
                  </a:lnTo>
                  <a:lnTo>
                    <a:pt x="1479999" y="37575"/>
                  </a:lnTo>
                  <a:lnTo>
                    <a:pt x="1479999" y="19575"/>
                  </a:lnTo>
                  <a:lnTo>
                    <a:pt x="1443999" y="19575"/>
                  </a:lnTo>
                  <a:close/>
                  <a:moveTo>
                    <a:pt x="1391915" y="19575"/>
                  </a:moveTo>
                  <a:lnTo>
                    <a:pt x="1391915" y="37575"/>
                  </a:lnTo>
                  <a:lnTo>
                    <a:pt x="1427915" y="37575"/>
                  </a:lnTo>
                  <a:lnTo>
                    <a:pt x="1427915" y="19575"/>
                  </a:lnTo>
                  <a:lnTo>
                    <a:pt x="1391915" y="19575"/>
                  </a:lnTo>
                  <a:close/>
                  <a:moveTo>
                    <a:pt x="1339831" y="19575"/>
                  </a:moveTo>
                  <a:lnTo>
                    <a:pt x="1339831" y="37575"/>
                  </a:lnTo>
                  <a:lnTo>
                    <a:pt x="1375831" y="37575"/>
                  </a:lnTo>
                  <a:lnTo>
                    <a:pt x="1375831" y="19575"/>
                  </a:lnTo>
                  <a:lnTo>
                    <a:pt x="1339831" y="19575"/>
                  </a:lnTo>
                  <a:close/>
                  <a:moveTo>
                    <a:pt x="1287747" y="19575"/>
                  </a:moveTo>
                  <a:lnTo>
                    <a:pt x="1287747" y="37575"/>
                  </a:lnTo>
                  <a:lnTo>
                    <a:pt x="1323747" y="37575"/>
                  </a:lnTo>
                  <a:lnTo>
                    <a:pt x="1323747" y="19575"/>
                  </a:lnTo>
                  <a:lnTo>
                    <a:pt x="1287747" y="19575"/>
                  </a:lnTo>
                  <a:close/>
                  <a:moveTo>
                    <a:pt x="1235663" y="19575"/>
                  </a:moveTo>
                  <a:lnTo>
                    <a:pt x="1235663" y="37575"/>
                  </a:lnTo>
                  <a:lnTo>
                    <a:pt x="1271663" y="37575"/>
                  </a:lnTo>
                  <a:lnTo>
                    <a:pt x="1271663" y="19575"/>
                  </a:lnTo>
                  <a:lnTo>
                    <a:pt x="1235663" y="19575"/>
                  </a:lnTo>
                  <a:close/>
                  <a:moveTo>
                    <a:pt x="1183579" y="19575"/>
                  </a:moveTo>
                  <a:lnTo>
                    <a:pt x="1183579" y="37575"/>
                  </a:lnTo>
                  <a:lnTo>
                    <a:pt x="1219579" y="37575"/>
                  </a:lnTo>
                  <a:lnTo>
                    <a:pt x="1219579" y="19575"/>
                  </a:lnTo>
                  <a:lnTo>
                    <a:pt x="1183579" y="19575"/>
                  </a:lnTo>
                  <a:close/>
                  <a:moveTo>
                    <a:pt x="1131495" y="19575"/>
                  </a:moveTo>
                  <a:lnTo>
                    <a:pt x="1131495" y="37575"/>
                  </a:lnTo>
                  <a:lnTo>
                    <a:pt x="1167495" y="37575"/>
                  </a:lnTo>
                  <a:lnTo>
                    <a:pt x="1167495" y="19575"/>
                  </a:lnTo>
                  <a:lnTo>
                    <a:pt x="1131495" y="19575"/>
                  </a:lnTo>
                  <a:close/>
                  <a:moveTo>
                    <a:pt x="1079411" y="19575"/>
                  </a:moveTo>
                  <a:lnTo>
                    <a:pt x="1079411" y="37575"/>
                  </a:lnTo>
                  <a:lnTo>
                    <a:pt x="1115411" y="37575"/>
                  </a:lnTo>
                  <a:lnTo>
                    <a:pt x="1115411" y="19575"/>
                  </a:lnTo>
                  <a:lnTo>
                    <a:pt x="1079411" y="19575"/>
                  </a:lnTo>
                  <a:close/>
                  <a:moveTo>
                    <a:pt x="1027327" y="19575"/>
                  </a:moveTo>
                  <a:lnTo>
                    <a:pt x="1027327" y="37575"/>
                  </a:lnTo>
                  <a:lnTo>
                    <a:pt x="1063327" y="37575"/>
                  </a:lnTo>
                  <a:lnTo>
                    <a:pt x="1063327" y="19575"/>
                  </a:lnTo>
                  <a:lnTo>
                    <a:pt x="1027327" y="19575"/>
                  </a:lnTo>
                  <a:close/>
                  <a:moveTo>
                    <a:pt x="975243" y="19575"/>
                  </a:moveTo>
                  <a:lnTo>
                    <a:pt x="975243" y="37575"/>
                  </a:lnTo>
                  <a:lnTo>
                    <a:pt x="1011243" y="37575"/>
                  </a:lnTo>
                  <a:lnTo>
                    <a:pt x="1011243" y="19575"/>
                  </a:lnTo>
                  <a:lnTo>
                    <a:pt x="975243" y="19575"/>
                  </a:lnTo>
                  <a:close/>
                  <a:moveTo>
                    <a:pt x="923159" y="19575"/>
                  </a:moveTo>
                  <a:lnTo>
                    <a:pt x="923159" y="37575"/>
                  </a:lnTo>
                  <a:lnTo>
                    <a:pt x="959159" y="37575"/>
                  </a:lnTo>
                  <a:lnTo>
                    <a:pt x="959159" y="19575"/>
                  </a:lnTo>
                  <a:lnTo>
                    <a:pt x="923159" y="19575"/>
                  </a:lnTo>
                  <a:close/>
                  <a:moveTo>
                    <a:pt x="871075" y="19575"/>
                  </a:moveTo>
                  <a:lnTo>
                    <a:pt x="871075" y="37575"/>
                  </a:lnTo>
                  <a:lnTo>
                    <a:pt x="907075" y="37575"/>
                  </a:lnTo>
                  <a:lnTo>
                    <a:pt x="907075" y="19575"/>
                  </a:lnTo>
                  <a:lnTo>
                    <a:pt x="871075" y="19575"/>
                  </a:lnTo>
                  <a:close/>
                  <a:moveTo>
                    <a:pt x="818991" y="19575"/>
                  </a:moveTo>
                  <a:lnTo>
                    <a:pt x="818991" y="37575"/>
                  </a:lnTo>
                  <a:lnTo>
                    <a:pt x="854991" y="37575"/>
                  </a:lnTo>
                  <a:lnTo>
                    <a:pt x="854991" y="19575"/>
                  </a:lnTo>
                  <a:lnTo>
                    <a:pt x="818991" y="19575"/>
                  </a:lnTo>
                  <a:close/>
                  <a:moveTo>
                    <a:pt x="766907" y="19575"/>
                  </a:moveTo>
                  <a:lnTo>
                    <a:pt x="766907" y="37575"/>
                  </a:lnTo>
                  <a:lnTo>
                    <a:pt x="802907" y="37575"/>
                  </a:lnTo>
                  <a:lnTo>
                    <a:pt x="802907" y="19575"/>
                  </a:lnTo>
                  <a:lnTo>
                    <a:pt x="766907" y="19575"/>
                  </a:lnTo>
                  <a:close/>
                  <a:moveTo>
                    <a:pt x="714823" y="19575"/>
                  </a:moveTo>
                  <a:lnTo>
                    <a:pt x="714823" y="37575"/>
                  </a:lnTo>
                  <a:lnTo>
                    <a:pt x="750823" y="37575"/>
                  </a:lnTo>
                  <a:lnTo>
                    <a:pt x="750823" y="19575"/>
                  </a:lnTo>
                  <a:lnTo>
                    <a:pt x="714823" y="19575"/>
                  </a:lnTo>
                  <a:close/>
                  <a:moveTo>
                    <a:pt x="662739" y="19575"/>
                  </a:moveTo>
                  <a:lnTo>
                    <a:pt x="662739" y="37575"/>
                  </a:lnTo>
                  <a:lnTo>
                    <a:pt x="698739" y="37575"/>
                  </a:lnTo>
                  <a:lnTo>
                    <a:pt x="698739" y="19575"/>
                  </a:lnTo>
                  <a:lnTo>
                    <a:pt x="662739" y="19575"/>
                  </a:lnTo>
                  <a:close/>
                  <a:moveTo>
                    <a:pt x="610655" y="19575"/>
                  </a:moveTo>
                  <a:lnTo>
                    <a:pt x="610655" y="37575"/>
                  </a:lnTo>
                  <a:lnTo>
                    <a:pt x="646655" y="37575"/>
                  </a:lnTo>
                  <a:lnTo>
                    <a:pt x="646655" y="19575"/>
                  </a:lnTo>
                  <a:lnTo>
                    <a:pt x="610655" y="19575"/>
                  </a:lnTo>
                  <a:close/>
                  <a:moveTo>
                    <a:pt x="558571" y="19575"/>
                  </a:moveTo>
                  <a:lnTo>
                    <a:pt x="558571" y="37575"/>
                  </a:lnTo>
                  <a:lnTo>
                    <a:pt x="594571" y="37575"/>
                  </a:lnTo>
                  <a:lnTo>
                    <a:pt x="594571" y="19575"/>
                  </a:lnTo>
                  <a:lnTo>
                    <a:pt x="558571" y="19575"/>
                  </a:lnTo>
                  <a:close/>
                  <a:moveTo>
                    <a:pt x="506487" y="19575"/>
                  </a:moveTo>
                  <a:lnTo>
                    <a:pt x="506487" y="37575"/>
                  </a:lnTo>
                  <a:lnTo>
                    <a:pt x="542487" y="37575"/>
                  </a:lnTo>
                  <a:lnTo>
                    <a:pt x="542487" y="19575"/>
                  </a:lnTo>
                  <a:lnTo>
                    <a:pt x="506487" y="19575"/>
                  </a:lnTo>
                  <a:close/>
                  <a:moveTo>
                    <a:pt x="454403" y="19575"/>
                  </a:moveTo>
                  <a:lnTo>
                    <a:pt x="454403" y="37575"/>
                  </a:lnTo>
                  <a:lnTo>
                    <a:pt x="490403" y="37575"/>
                  </a:lnTo>
                  <a:lnTo>
                    <a:pt x="490403" y="19575"/>
                  </a:lnTo>
                  <a:lnTo>
                    <a:pt x="454403" y="19575"/>
                  </a:lnTo>
                  <a:close/>
                  <a:moveTo>
                    <a:pt x="402319" y="19575"/>
                  </a:moveTo>
                  <a:lnTo>
                    <a:pt x="402319" y="37575"/>
                  </a:lnTo>
                  <a:lnTo>
                    <a:pt x="438319" y="37575"/>
                  </a:lnTo>
                  <a:lnTo>
                    <a:pt x="438319" y="19575"/>
                  </a:lnTo>
                  <a:lnTo>
                    <a:pt x="402319" y="19575"/>
                  </a:lnTo>
                  <a:close/>
                  <a:moveTo>
                    <a:pt x="350235" y="19575"/>
                  </a:moveTo>
                  <a:lnTo>
                    <a:pt x="350235" y="37575"/>
                  </a:lnTo>
                  <a:lnTo>
                    <a:pt x="386235" y="37575"/>
                  </a:lnTo>
                  <a:lnTo>
                    <a:pt x="386235" y="19575"/>
                  </a:lnTo>
                  <a:lnTo>
                    <a:pt x="350235" y="19575"/>
                  </a:lnTo>
                  <a:close/>
                  <a:moveTo>
                    <a:pt x="298151" y="19575"/>
                  </a:moveTo>
                  <a:lnTo>
                    <a:pt x="298151" y="37575"/>
                  </a:lnTo>
                  <a:lnTo>
                    <a:pt x="334151" y="37575"/>
                  </a:lnTo>
                  <a:lnTo>
                    <a:pt x="334151" y="19575"/>
                  </a:lnTo>
                  <a:lnTo>
                    <a:pt x="298151" y="19575"/>
                  </a:lnTo>
                  <a:close/>
                  <a:moveTo>
                    <a:pt x="246067" y="19575"/>
                  </a:moveTo>
                  <a:lnTo>
                    <a:pt x="246067" y="37575"/>
                  </a:lnTo>
                  <a:lnTo>
                    <a:pt x="282067" y="37575"/>
                  </a:lnTo>
                  <a:lnTo>
                    <a:pt x="282067" y="19575"/>
                  </a:lnTo>
                  <a:lnTo>
                    <a:pt x="246067" y="19575"/>
                  </a:lnTo>
                  <a:close/>
                  <a:moveTo>
                    <a:pt x="193983" y="19575"/>
                  </a:moveTo>
                  <a:lnTo>
                    <a:pt x="193983" y="37575"/>
                  </a:lnTo>
                  <a:lnTo>
                    <a:pt x="229983" y="37575"/>
                  </a:lnTo>
                  <a:lnTo>
                    <a:pt x="229983" y="19575"/>
                  </a:lnTo>
                  <a:lnTo>
                    <a:pt x="193983" y="19575"/>
                  </a:lnTo>
                  <a:close/>
                  <a:moveTo>
                    <a:pt x="141899" y="19575"/>
                  </a:moveTo>
                  <a:lnTo>
                    <a:pt x="141899" y="37575"/>
                  </a:lnTo>
                  <a:lnTo>
                    <a:pt x="177899" y="37575"/>
                  </a:lnTo>
                  <a:lnTo>
                    <a:pt x="177899" y="19575"/>
                  </a:lnTo>
                  <a:lnTo>
                    <a:pt x="141899" y="19575"/>
                  </a:lnTo>
                  <a:close/>
                  <a:moveTo>
                    <a:pt x="89815" y="19575"/>
                  </a:moveTo>
                  <a:lnTo>
                    <a:pt x="89815" y="37575"/>
                  </a:lnTo>
                  <a:lnTo>
                    <a:pt x="125815" y="37575"/>
                  </a:lnTo>
                  <a:lnTo>
                    <a:pt x="125815" y="19575"/>
                  </a:lnTo>
                  <a:lnTo>
                    <a:pt x="89815" y="19575"/>
                  </a:lnTo>
                  <a:close/>
                  <a:moveTo>
                    <a:pt x="37731" y="19575"/>
                  </a:moveTo>
                  <a:lnTo>
                    <a:pt x="37731" y="37575"/>
                  </a:lnTo>
                  <a:lnTo>
                    <a:pt x="73731" y="37575"/>
                  </a:lnTo>
                  <a:lnTo>
                    <a:pt x="73731" y="19575"/>
                  </a:lnTo>
                  <a:lnTo>
                    <a:pt x="37731" y="19575"/>
                  </a:lnTo>
                  <a:close/>
                  <a:moveTo>
                    <a:pt x="0" y="0"/>
                  </a:moveTo>
                  <a:lnTo>
                    <a:pt x="1882304" y="0"/>
                  </a:lnTo>
                  <a:lnTo>
                    <a:pt x="1882304" y="1239158"/>
                  </a:lnTo>
                  <a:lnTo>
                    <a:pt x="0" y="12391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a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241" name="MH_Other_9"/>
            <p:cNvSpPr/>
            <p:nvPr/>
          </p:nvSpPr>
          <p:spPr>
            <a:xfrm rot="558000">
              <a:off x="1071720" y="5550840"/>
              <a:ext cx="4243320" cy="897120"/>
            </a:xfrm>
            <a:custGeom>
              <a:avLst/>
              <a:gdLst/>
              <a:ahLst/>
              <a:rect l="l" t="t" r="r" b="b"/>
              <a:pathLst>
                <a:path w="1939924" h="596900">
                  <a:moveTo>
                    <a:pt x="50800" y="0"/>
                  </a:moveTo>
                  <a:lnTo>
                    <a:pt x="1892299" y="6350"/>
                  </a:lnTo>
                  <a:lnTo>
                    <a:pt x="1939924" y="596900"/>
                  </a:lnTo>
                  <a:lnTo>
                    <a:pt x="916939" y="489324"/>
                  </a:lnTo>
                  <a:lnTo>
                    <a:pt x="0" y="596900"/>
                  </a:lnTo>
                  <a:lnTo>
                    <a:pt x="5080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a9c"/>
                </a:gs>
                <a:gs pos="100000">
                  <a:srgbClr val="7d8183"/>
                </a:gs>
              </a:gsLst>
              <a:lin ang="48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242" name="MH_SubTitle_3"/>
            <p:cNvSpPr/>
            <p:nvPr/>
          </p:nvSpPr>
          <p:spPr>
            <a:xfrm rot="558000">
              <a:off x="1019520" y="4382640"/>
              <a:ext cx="4588200" cy="202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f6000"/>
                  </a:solidFill>
                  <a:latin typeface="Arial"/>
                  <a:ea typeface="宋体"/>
                </a:rPr>
                <a:t>车鸣峪</a:t>
              </a:r>
              <a:endParaRPr b="0" lang="en-US" sz="2000" spc="-1" strike="noStrike">
                <a:solidFill>
                  <a:srgbClr val="3d3f41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f6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7f6000"/>
                  </a:solidFill>
                  <a:latin typeface="Arial"/>
                  <a:ea typeface="宋体"/>
                </a:rPr>
                <a:t>车鸣峪沟深、谷幽、林密、壁绝。茂密错杂的林木枝蔓钩连、保留着原始的质朴。在四面环山的绿荫中，多种野生动物栖息繁衍，百鸟争鸣、夏时气候尤为凉爽，避暑、休闲、疗养、娱乐甚佳。</a:t>
              </a: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</p:grpSp>
      <p:grpSp>
        <p:nvGrpSpPr>
          <p:cNvPr id="243" name="组合 3"/>
          <p:cNvGrpSpPr/>
          <p:nvPr/>
        </p:nvGrpSpPr>
        <p:grpSpPr>
          <a:xfrm>
            <a:off x="6792840" y="3444480"/>
            <a:ext cx="4721760" cy="3427560"/>
            <a:chOff x="6792840" y="3444480"/>
            <a:chExt cx="4721760" cy="3427560"/>
          </a:xfrm>
        </p:grpSpPr>
        <p:sp>
          <p:nvSpPr>
            <p:cNvPr id="244" name="MH_Other_10"/>
            <p:cNvSpPr/>
            <p:nvPr/>
          </p:nvSpPr>
          <p:spPr>
            <a:xfrm rot="20809200">
              <a:off x="7667280" y="3907800"/>
              <a:ext cx="3622680" cy="2388960"/>
            </a:xfrm>
            <a:custGeom>
              <a:avLst/>
              <a:gdLst/>
              <a:ahLst/>
              <a:rect l="l" t="t" r="r" b="b"/>
              <a:pathLst>
                <a:path w="1882304" h="1239158">
                  <a:moveTo>
                    <a:pt x="1808573" y="19575"/>
                  </a:moveTo>
                  <a:lnTo>
                    <a:pt x="1808573" y="37575"/>
                  </a:lnTo>
                  <a:lnTo>
                    <a:pt x="1844573" y="37575"/>
                  </a:lnTo>
                  <a:lnTo>
                    <a:pt x="1844573" y="19575"/>
                  </a:lnTo>
                  <a:lnTo>
                    <a:pt x="1808573" y="19575"/>
                  </a:lnTo>
                  <a:close/>
                  <a:moveTo>
                    <a:pt x="1756503" y="19575"/>
                  </a:moveTo>
                  <a:lnTo>
                    <a:pt x="1756503" y="37575"/>
                  </a:lnTo>
                  <a:lnTo>
                    <a:pt x="1792503" y="37575"/>
                  </a:lnTo>
                  <a:lnTo>
                    <a:pt x="1792503" y="19575"/>
                  </a:lnTo>
                  <a:lnTo>
                    <a:pt x="1756503" y="19575"/>
                  </a:lnTo>
                  <a:close/>
                  <a:moveTo>
                    <a:pt x="1704419" y="19575"/>
                  </a:moveTo>
                  <a:lnTo>
                    <a:pt x="1704419" y="37575"/>
                  </a:lnTo>
                  <a:lnTo>
                    <a:pt x="1740419" y="37575"/>
                  </a:lnTo>
                  <a:lnTo>
                    <a:pt x="1740419" y="19575"/>
                  </a:lnTo>
                  <a:lnTo>
                    <a:pt x="1704419" y="19575"/>
                  </a:lnTo>
                  <a:close/>
                  <a:moveTo>
                    <a:pt x="1652335" y="19575"/>
                  </a:moveTo>
                  <a:lnTo>
                    <a:pt x="1652335" y="37575"/>
                  </a:lnTo>
                  <a:lnTo>
                    <a:pt x="1688335" y="37575"/>
                  </a:lnTo>
                  <a:lnTo>
                    <a:pt x="1688335" y="19575"/>
                  </a:lnTo>
                  <a:lnTo>
                    <a:pt x="1652335" y="19575"/>
                  </a:lnTo>
                  <a:close/>
                  <a:moveTo>
                    <a:pt x="1600251" y="19575"/>
                  </a:moveTo>
                  <a:lnTo>
                    <a:pt x="1600251" y="37575"/>
                  </a:lnTo>
                  <a:lnTo>
                    <a:pt x="1636251" y="37575"/>
                  </a:lnTo>
                  <a:lnTo>
                    <a:pt x="1636251" y="19575"/>
                  </a:lnTo>
                  <a:lnTo>
                    <a:pt x="1600251" y="19575"/>
                  </a:lnTo>
                  <a:close/>
                  <a:moveTo>
                    <a:pt x="1548167" y="19575"/>
                  </a:moveTo>
                  <a:lnTo>
                    <a:pt x="1548167" y="37575"/>
                  </a:lnTo>
                  <a:lnTo>
                    <a:pt x="1584167" y="37575"/>
                  </a:lnTo>
                  <a:lnTo>
                    <a:pt x="1584167" y="19575"/>
                  </a:lnTo>
                  <a:lnTo>
                    <a:pt x="1548167" y="19575"/>
                  </a:lnTo>
                  <a:close/>
                  <a:moveTo>
                    <a:pt x="1496083" y="19575"/>
                  </a:moveTo>
                  <a:lnTo>
                    <a:pt x="1496083" y="37575"/>
                  </a:lnTo>
                  <a:lnTo>
                    <a:pt x="1532083" y="37575"/>
                  </a:lnTo>
                  <a:lnTo>
                    <a:pt x="1532083" y="19575"/>
                  </a:lnTo>
                  <a:lnTo>
                    <a:pt x="1496083" y="19575"/>
                  </a:lnTo>
                  <a:close/>
                  <a:moveTo>
                    <a:pt x="1443999" y="19575"/>
                  </a:moveTo>
                  <a:lnTo>
                    <a:pt x="1443999" y="37575"/>
                  </a:lnTo>
                  <a:lnTo>
                    <a:pt x="1479999" y="37575"/>
                  </a:lnTo>
                  <a:lnTo>
                    <a:pt x="1479999" y="19575"/>
                  </a:lnTo>
                  <a:lnTo>
                    <a:pt x="1443999" y="19575"/>
                  </a:lnTo>
                  <a:close/>
                  <a:moveTo>
                    <a:pt x="1391915" y="19575"/>
                  </a:moveTo>
                  <a:lnTo>
                    <a:pt x="1391915" y="37575"/>
                  </a:lnTo>
                  <a:lnTo>
                    <a:pt x="1427915" y="37575"/>
                  </a:lnTo>
                  <a:lnTo>
                    <a:pt x="1427915" y="19575"/>
                  </a:lnTo>
                  <a:lnTo>
                    <a:pt x="1391915" y="19575"/>
                  </a:lnTo>
                  <a:close/>
                  <a:moveTo>
                    <a:pt x="1339831" y="19575"/>
                  </a:moveTo>
                  <a:lnTo>
                    <a:pt x="1339831" y="37575"/>
                  </a:lnTo>
                  <a:lnTo>
                    <a:pt x="1375831" y="37575"/>
                  </a:lnTo>
                  <a:lnTo>
                    <a:pt x="1375831" y="19575"/>
                  </a:lnTo>
                  <a:lnTo>
                    <a:pt x="1339831" y="19575"/>
                  </a:lnTo>
                  <a:close/>
                  <a:moveTo>
                    <a:pt x="1287747" y="19575"/>
                  </a:moveTo>
                  <a:lnTo>
                    <a:pt x="1287747" y="37575"/>
                  </a:lnTo>
                  <a:lnTo>
                    <a:pt x="1323747" y="37575"/>
                  </a:lnTo>
                  <a:lnTo>
                    <a:pt x="1323747" y="19575"/>
                  </a:lnTo>
                  <a:lnTo>
                    <a:pt x="1287747" y="19575"/>
                  </a:lnTo>
                  <a:close/>
                  <a:moveTo>
                    <a:pt x="1235663" y="19575"/>
                  </a:moveTo>
                  <a:lnTo>
                    <a:pt x="1235663" y="37575"/>
                  </a:lnTo>
                  <a:lnTo>
                    <a:pt x="1271663" y="37575"/>
                  </a:lnTo>
                  <a:lnTo>
                    <a:pt x="1271663" y="19575"/>
                  </a:lnTo>
                  <a:lnTo>
                    <a:pt x="1235663" y="19575"/>
                  </a:lnTo>
                  <a:close/>
                  <a:moveTo>
                    <a:pt x="1183579" y="19575"/>
                  </a:moveTo>
                  <a:lnTo>
                    <a:pt x="1183579" y="37575"/>
                  </a:lnTo>
                  <a:lnTo>
                    <a:pt x="1219579" y="37575"/>
                  </a:lnTo>
                  <a:lnTo>
                    <a:pt x="1219579" y="19575"/>
                  </a:lnTo>
                  <a:lnTo>
                    <a:pt x="1183579" y="19575"/>
                  </a:lnTo>
                  <a:close/>
                  <a:moveTo>
                    <a:pt x="1131495" y="19575"/>
                  </a:moveTo>
                  <a:lnTo>
                    <a:pt x="1131495" y="37575"/>
                  </a:lnTo>
                  <a:lnTo>
                    <a:pt x="1167495" y="37575"/>
                  </a:lnTo>
                  <a:lnTo>
                    <a:pt x="1167495" y="19575"/>
                  </a:lnTo>
                  <a:lnTo>
                    <a:pt x="1131495" y="19575"/>
                  </a:lnTo>
                  <a:close/>
                  <a:moveTo>
                    <a:pt x="1079411" y="19575"/>
                  </a:moveTo>
                  <a:lnTo>
                    <a:pt x="1079411" y="37575"/>
                  </a:lnTo>
                  <a:lnTo>
                    <a:pt x="1115411" y="37575"/>
                  </a:lnTo>
                  <a:lnTo>
                    <a:pt x="1115411" y="19575"/>
                  </a:lnTo>
                  <a:lnTo>
                    <a:pt x="1079411" y="19575"/>
                  </a:lnTo>
                  <a:close/>
                  <a:moveTo>
                    <a:pt x="1027327" y="19575"/>
                  </a:moveTo>
                  <a:lnTo>
                    <a:pt x="1027327" y="37575"/>
                  </a:lnTo>
                  <a:lnTo>
                    <a:pt x="1063327" y="37575"/>
                  </a:lnTo>
                  <a:lnTo>
                    <a:pt x="1063327" y="19575"/>
                  </a:lnTo>
                  <a:lnTo>
                    <a:pt x="1027327" y="19575"/>
                  </a:lnTo>
                  <a:close/>
                  <a:moveTo>
                    <a:pt x="975243" y="19575"/>
                  </a:moveTo>
                  <a:lnTo>
                    <a:pt x="975243" y="37575"/>
                  </a:lnTo>
                  <a:lnTo>
                    <a:pt x="1011243" y="37575"/>
                  </a:lnTo>
                  <a:lnTo>
                    <a:pt x="1011243" y="19575"/>
                  </a:lnTo>
                  <a:lnTo>
                    <a:pt x="975243" y="19575"/>
                  </a:lnTo>
                  <a:close/>
                  <a:moveTo>
                    <a:pt x="923159" y="19575"/>
                  </a:moveTo>
                  <a:lnTo>
                    <a:pt x="923159" y="37575"/>
                  </a:lnTo>
                  <a:lnTo>
                    <a:pt x="959159" y="37575"/>
                  </a:lnTo>
                  <a:lnTo>
                    <a:pt x="959159" y="19575"/>
                  </a:lnTo>
                  <a:lnTo>
                    <a:pt x="923159" y="19575"/>
                  </a:lnTo>
                  <a:close/>
                  <a:moveTo>
                    <a:pt x="871075" y="19575"/>
                  </a:moveTo>
                  <a:lnTo>
                    <a:pt x="871075" y="37575"/>
                  </a:lnTo>
                  <a:lnTo>
                    <a:pt x="907075" y="37575"/>
                  </a:lnTo>
                  <a:lnTo>
                    <a:pt x="907075" y="19575"/>
                  </a:lnTo>
                  <a:lnTo>
                    <a:pt x="871075" y="19575"/>
                  </a:lnTo>
                  <a:close/>
                  <a:moveTo>
                    <a:pt x="818991" y="19575"/>
                  </a:moveTo>
                  <a:lnTo>
                    <a:pt x="818991" y="37575"/>
                  </a:lnTo>
                  <a:lnTo>
                    <a:pt x="854991" y="37575"/>
                  </a:lnTo>
                  <a:lnTo>
                    <a:pt x="854991" y="19575"/>
                  </a:lnTo>
                  <a:lnTo>
                    <a:pt x="818991" y="19575"/>
                  </a:lnTo>
                  <a:close/>
                  <a:moveTo>
                    <a:pt x="766907" y="19575"/>
                  </a:moveTo>
                  <a:lnTo>
                    <a:pt x="766907" y="37575"/>
                  </a:lnTo>
                  <a:lnTo>
                    <a:pt x="802907" y="37575"/>
                  </a:lnTo>
                  <a:lnTo>
                    <a:pt x="802907" y="19575"/>
                  </a:lnTo>
                  <a:lnTo>
                    <a:pt x="766907" y="19575"/>
                  </a:lnTo>
                  <a:close/>
                  <a:moveTo>
                    <a:pt x="714823" y="19575"/>
                  </a:moveTo>
                  <a:lnTo>
                    <a:pt x="714823" y="37575"/>
                  </a:lnTo>
                  <a:lnTo>
                    <a:pt x="750823" y="37575"/>
                  </a:lnTo>
                  <a:lnTo>
                    <a:pt x="750823" y="19575"/>
                  </a:lnTo>
                  <a:lnTo>
                    <a:pt x="714823" y="19575"/>
                  </a:lnTo>
                  <a:close/>
                  <a:moveTo>
                    <a:pt x="662739" y="19575"/>
                  </a:moveTo>
                  <a:lnTo>
                    <a:pt x="662739" y="37575"/>
                  </a:lnTo>
                  <a:lnTo>
                    <a:pt x="698739" y="37575"/>
                  </a:lnTo>
                  <a:lnTo>
                    <a:pt x="698739" y="19575"/>
                  </a:lnTo>
                  <a:lnTo>
                    <a:pt x="662739" y="19575"/>
                  </a:lnTo>
                  <a:close/>
                  <a:moveTo>
                    <a:pt x="610655" y="19575"/>
                  </a:moveTo>
                  <a:lnTo>
                    <a:pt x="610655" y="37575"/>
                  </a:lnTo>
                  <a:lnTo>
                    <a:pt x="646655" y="37575"/>
                  </a:lnTo>
                  <a:lnTo>
                    <a:pt x="646655" y="19575"/>
                  </a:lnTo>
                  <a:lnTo>
                    <a:pt x="610655" y="19575"/>
                  </a:lnTo>
                  <a:close/>
                  <a:moveTo>
                    <a:pt x="558571" y="19575"/>
                  </a:moveTo>
                  <a:lnTo>
                    <a:pt x="558571" y="37575"/>
                  </a:lnTo>
                  <a:lnTo>
                    <a:pt x="594571" y="37575"/>
                  </a:lnTo>
                  <a:lnTo>
                    <a:pt x="594571" y="19575"/>
                  </a:lnTo>
                  <a:lnTo>
                    <a:pt x="558571" y="19575"/>
                  </a:lnTo>
                  <a:close/>
                  <a:moveTo>
                    <a:pt x="506487" y="19575"/>
                  </a:moveTo>
                  <a:lnTo>
                    <a:pt x="506487" y="37575"/>
                  </a:lnTo>
                  <a:lnTo>
                    <a:pt x="542487" y="37575"/>
                  </a:lnTo>
                  <a:lnTo>
                    <a:pt x="542487" y="19575"/>
                  </a:lnTo>
                  <a:lnTo>
                    <a:pt x="506487" y="19575"/>
                  </a:lnTo>
                  <a:close/>
                  <a:moveTo>
                    <a:pt x="454403" y="19575"/>
                  </a:moveTo>
                  <a:lnTo>
                    <a:pt x="454403" y="37575"/>
                  </a:lnTo>
                  <a:lnTo>
                    <a:pt x="490403" y="37575"/>
                  </a:lnTo>
                  <a:lnTo>
                    <a:pt x="490403" y="19575"/>
                  </a:lnTo>
                  <a:lnTo>
                    <a:pt x="454403" y="19575"/>
                  </a:lnTo>
                  <a:close/>
                  <a:moveTo>
                    <a:pt x="402319" y="19575"/>
                  </a:moveTo>
                  <a:lnTo>
                    <a:pt x="402319" y="37575"/>
                  </a:lnTo>
                  <a:lnTo>
                    <a:pt x="438319" y="37575"/>
                  </a:lnTo>
                  <a:lnTo>
                    <a:pt x="438319" y="19575"/>
                  </a:lnTo>
                  <a:lnTo>
                    <a:pt x="402319" y="19575"/>
                  </a:lnTo>
                  <a:close/>
                  <a:moveTo>
                    <a:pt x="350235" y="19575"/>
                  </a:moveTo>
                  <a:lnTo>
                    <a:pt x="350235" y="37575"/>
                  </a:lnTo>
                  <a:lnTo>
                    <a:pt x="386235" y="37575"/>
                  </a:lnTo>
                  <a:lnTo>
                    <a:pt x="386235" y="19575"/>
                  </a:lnTo>
                  <a:lnTo>
                    <a:pt x="350235" y="19575"/>
                  </a:lnTo>
                  <a:close/>
                  <a:moveTo>
                    <a:pt x="298151" y="19575"/>
                  </a:moveTo>
                  <a:lnTo>
                    <a:pt x="298151" y="37575"/>
                  </a:lnTo>
                  <a:lnTo>
                    <a:pt x="334151" y="37575"/>
                  </a:lnTo>
                  <a:lnTo>
                    <a:pt x="334151" y="19575"/>
                  </a:lnTo>
                  <a:lnTo>
                    <a:pt x="298151" y="19575"/>
                  </a:lnTo>
                  <a:close/>
                  <a:moveTo>
                    <a:pt x="246067" y="19575"/>
                  </a:moveTo>
                  <a:lnTo>
                    <a:pt x="246067" y="37575"/>
                  </a:lnTo>
                  <a:lnTo>
                    <a:pt x="282067" y="37575"/>
                  </a:lnTo>
                  <a:lnTo>
                    <a:pt x="282067" y="19575"/>
                  </a:lnTo>
                  <a:lnTo>
                    <a:pt x="246067" y="19575"/>
                  </a:lnTo>
                  <a:close/>
                  <a:moveTo>
                    <a:pt x="193983" y="19575"/>
                  </a:moveTo>
                  <a:lnTo>
                    <a:pt x="193983" y="37575"/>
                  </a:lnTo>
                  <a:lnTo>
                    <a:pt x="229983" y="37575"/>
                  </a:lnTo>
                  <a:lnTo>
                    <a:pt x="229983" y="19575"/>
                  </a:lnTo>
                  <a:lnTo>
                    <a:pt x="193983" y="19575"/>
                  </a:lnTo>
                  <a:close/>
                  <a:moveTo>
                    <a:pt x="141899" y="19575"/>
                  </a:moveTo>
                  <a:lnTo>
                    <a:pt x="141899" y="37575"/>
                  </a:lnTo>
                  <a:lnTo>
                    <a:pt x="177899" y="37575"/>
                  </a:lnTo>
                  <a:lnTo>
                    <a:pt x="177899" y="19575"/>
                  </a:lnTo>
                  <a:lnTo>
                    <a:pt x="141899" y="19575"/>
                  </a:lnTo>
                  <a:close/>
                  <a:moveTo>
                    <a:pt x="89815" y="19575"/>
                  </a:moveTo>
                  <a:lnTo>
                    <a:pt x="89815" y="37575"/>
                  </a:lnTo>
                  <a:lnTo>
                    <a:pt x="125815" y="37575"/>
                  </a:lnTo>
                  <a:lnTo>
                    <a:pt x="125815" y="19575"/>
                  </a:lnTo>
                  <a:lnTo>
                    <a:pt x="89815" y="19575"/>
                  </a:lnTo>
                  <a:close/>
                  <a:moveTo>
                    <a:pt x="37731" y="19575"/>
                  </a:moveTo>
                  <a:lnTo>
                    <a:pt x="37731" y="37575"/>
                  </a:lnTo>
                  <a:lnTo>
                    <a:pt x="73731" y="37575"/>
                  </a:lnTo>
                  <a:lnTo>
                    <a:pt x="73731" y="19575"/>
                  </a:lnTo>
                  <a:lnTo>
                    <a:pt x="37731" y="19575"/>
                  </a:lnTo>
                  <a:close/>
                  <a:moveTo>
                    <a:pt x="0" y="0"/>
                  </a:moveTo>
                  <a:lnTo>
                    <a:pt x="1882304" y="0"/>
                  </a:lnTo>
                  <a:lnTo>
                    <a:pt x="1882304" y="1239158"/>
                  </a:lnTo>
                  <a:lnTo>
                    <a:pt x="0" y="12391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9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245" name="MH_Other_11"/>
            <p:cNvSpPr/>
            <p:nvPr/>
          </p:nvSpPr>
          <p:spPr>
            <a:xfrm rot="1016400">
              <a:off x="7025760" y="4013640"/>
              <a:ext cx="3622680" cy="2139840"/>
            </a:xfrm>
            <a:custGeom>
              <a:avLst/>
              <a:gdLst/>
              <a:ahLst/>
              <a:rect l="l" t="t" r="r" b="b"/>
              <a:pathLst>
                <a:path w="1882304" h="1239158">
                  <a:moveTo>
                    <a:pt x="1808573" y="19575"/>
                  </a:moveTo>
                  <a:lnTo>
                    <a:pt x="1808573" y="37575"/>
                  </a:lnTo>
                  <a:lnTo>
                    <a:pt x="1844573" y="37575"/>
                  </a:lnTo>
                  <a:lnTo>
                    <a:pt x="1844573" y="19575"/>
                  </a:lnTo>
                  <a:lnTo>
                    <a:pt x="1808573" y="19575"/>
                  </a:lnTo>
                  <a:close/>
                  <a:moveTo>
                    <a:pt x="1756503" y="19575"/>
                  </a:moveTo>
                  <a:lnTo>
                    <a:pt x="1756503" y="37575"/>
                  </a:lnTo>
                  <a:lnTo>
                    <a:pt x="1792503" y="37575"/>
                  </a:lnTo>
                  <a:lnTo>
                    <a:pt x="1792503" y="19575"/>
                  </a:lnTo>
                  <a:lnTo>
                    <a:pt x="1756503" y="19575"/>
                  </a:lnTo>
                  <a:close/>
                  <a:moveTo>
                    <a:pt x="1704419" y="19575"/>
                  </a:moveTo>
                  <a:lnTo>
                    <a:pt x="1704419" y="37575"/>
                  </a:lnTo>
                  <a:lnTo>
                    <a:pt x="1740419" y="37575"/>
                  </a:lnTo>
                  <a:lnTo>
                    <a:pt x="1740419" y="19575"/>
                  </a:lnTo>
                  <a:lnTo>
                    <a:pt x="1704419" y="19575"/>
                  </a:lnTo>
                  <a:close/>
                  <a:moveTo>
                    <a:pt x="1652335" y="19575"/>
                  </a:moveTo>
                  <a:lnTo>
                    <a:pt x="1652335" y="37575"/>
                  </a:lnTo>
                  <a:lnTo>
                    <a:pt x="1688335" y="37575"/>
                  </a:lnTo>
                  <a:lnTo>
                    <a:pt x="1688335" y="19575"/>
                  </a:lnTo>
                  <a:lnTo>
                    <a:pt x="1652335" y="19575"/>
                  </a:lnTo>
                  <a:close/>
                  <a:moveTo>
                    <a:pt x="1600251" y="19575"/>
                  </a:moveTo>
                  <a:lnTo>
                    <a:pt x="1600251" y="37575"/>
                  </a:lnTo>
                  <a:lnTo>
                    <a:pt x="1636251" y="37575"/>
                  </a:lnTo>
                  <a:lnTo>
                    <a:pt x="1636251" y="19575"/>
                  </a:lnTo>
                  <a:lnTo>
                    <a:pt x="1600251" y="19575"/>
                  </a:lnTo>
                  <a:close/>
                  <a:moveTo>
                    <a:pt x="1548167" y="19575"/>
                  </a:moveTo>
                  <a:lnTo>
                    <a:pt x="1548167" y="37575"/>
                  </a:lnTo>
                  <a:lnTo>
                    <a:pt x="1584167" y="37575"/>
                  </a:lnTo>
                  <a:lnTo>
                    <a:pt x="1584167" y="19575"/>
                  </a:lnTo>
                  <a:lnTo>
                    <a:pt x="1548167" y="19575"/>
                  </a:lnTo>
                  <a:close/>
                  <a:moveTo>
                    <a:pt x="1496083" y="19575"/>
                  </a:moveTo>
                  <a:lnTo>
                    <a:pt x="1496083" y="37575"/>
                  </a:lnTo>
                  <a:lnTo>
                    <a:pt x="1532083" y="37575"/>
                  </a:lnTo>
                  <a:lnTo>
                    <a:pt x="1532083" y="19575"/>
                  </a:lnTo>
                  <a:lnTo>
                    <a:pt x="1496083" y="19575"/>
                  </a:lnTo>
                  <a:close/>
                  <a:moveTo>
                    <a:pt x="1443999" y="19575"/>
                  </a:moveTo>
                  <a:lnTo>
                    <a:pt x="1443999" y="37575"/>
                  </a:lnTo>
                  <a:lnTo>
                    <a:pt x="1479999" y="37575"/>
                  </a:lnTo>
                  <a:lnTo>
                    <a:pt x="1479999" y="19575"/>
                  </a:lnTo>
                  <a:lnTo>
                    <a:pt x="1443999" y="19575"/>
                  </a:lnTo>
                  <a:close/>
                  <a:moveTo>
                    <a:pt x="1391915" y="19575"/>
                  </a:moveTo>
                  <a:lnTo>
                    <a:pt x="1391915" y="37575"/>
                  </a:lnTo>
                  <a:lnTo>
                    <a:pt x="1427915" y="37575"/>
                  </a:lnTo>
                  <a:lnTo>
                    <a:pt x="1427915" y="19575"/>
                  </a:lnTo>
                  <a:lnTo>
                    <a:pt x="1391915" y="19575"/>
                  </a:lnTo>
                  <a:close/>
                  <a:moveTo>
                    <a:pt x="1339831" y="19575"/>
                  </a:moveTo>
                  <a:lnTo>
                    <a:pt x="1339831" y="37575"/>
                  </a:lnTo>
                  <a:lnTo>
                    <a:pt x="1375831" y="37575"/>
                  </a:lnTo>
                  <a:lnTo>
                    <a:pt x="1375831" y="19575"/>
                  </a:lnTo>
                  <a:lnTo>
                    <a:pt x="1339831" y="19575"/>
                  </a:lnTo>
                  <a:close/>
                  <a:moveTo>
                    <a:pt x="1287747" y="19575"/>
                  </a:moveTo>
                  <a:lnTo>
                    <a:pt x="1287747" y="37575"/>
                  </a:lnTo>
                  <a:lnTo>
                    <a:pt x="1323747" y="37575"/>
                  </a:lnTo>
                  <a:lnTo>
                    <a:pt x="1323747" y="19575"/>
                  </a:lnTo>
                  <a:lnTo>
                    <a:pt x="1287747" y="19575"/>
                  </a:lnTo>
                  <a:close/>
                  <a:moveTo>
                    <a:pt x="1235663" y="19575"/>
                  </a:moveTo>
                  <a:lnTo>
                    <a:pt x="1235663" y="37575"/>
                  </a:lnTo>
                  <a:lnTo>
                    <a:pt x="1271663" y="37575"/>
                  </a:lnTo>
                  <a:lnTo>
                    <a:pt x="1271663" y="19575"/>
                  </a:lnTo>
                  <a:lnTo>
                    <a:pt x="1235663" y="19575"/>
                  </a:lnTo>
                  <a:close/>
                  <a:moveTo>
                    <a:pt x="1183579" y="19575"/>
                  </a:moveTo>
                  <a:lnTo>
                    <a:pt x="1183579" y="37575"/>
                  </a:lnTo>
                  <a:lnTo>
                    <a:pt x="1219579" y="37575"/>
                  </a:lnTo>
                  <a:lnTo>
                    <a:pt x="1219579" y="19575"/>
                  </a:lnTo>
                  <a:lnTo>
                    <a:pt x="1183579" y="19575"/>
                  </a:lnTo>
                  <a:close/>
                  <a:moveTo>
                    <a:pt x="1131495" y="19575"/>
                  </a:moveTo>
                  <a:lnTo>
                    <a:pt x="1131495" y="37575"/>
                  </a:lnTo>
                  <a:lnTo>
                    <a:pt x="1167495" y="37575"/>
                  </a:lnTo>
                  <a:lnTo>
                    <a:pt x="1167495" y="19575"/>
                  </a:lnTo>
                  <a:lnTo>
                    <a:pt x="1131495" y="19575"/>
                  </a:lnTo>
                  <a:close/>
                  <a:moveTo>
                    <a:pt x="1079411" y="19575"/>
                  </a:moveTo>
                  <a:lnTo>
                    <a:pt x="1079411" y="37575"/>
                  </a:lnTo>
                  <a:lnTo>
                    <a:pt x="1115411" y="37575"/>
                  </a:lnTo>
                  <a:lnTo>
                    <a:pt x="1115411" y="19575"/>
                  </a:lnTo>
                  <a:lnTo>
                    <a:pt x="1079411" y="19575"/>
                  </a:lnTo>
                  <a:close/>
                  <a:moveTo>
                    <a:pt x="1027327" y="19575"/>
                  </a:moveTo>
                  <a:lnTo>
                    <a:pt x="1027327" y="37575"/>
                  </a:lnTo>
                  <a:lnTo>
                    <a:pt x="1063327" y="37575"/>
                  </a:lnTo>
                  <a:lnTo>
                    <a:pt x="1063327" y="19575"/>
                  </a:lnTo>
                  <a:lnTo>
                    <a:pt x="1027327" y="19575"/>
                  </a:lnTo>
                  <a:close/>
                  <a:moveTo>
                    <a:pt x="975243" y="19575"/>
                  </a:moveTo>
                  <a:lnTo>
                    <a:pt x="975243" y="37575"/>
                  </a:lnTo>
                  <a:lnTo>
                    <a:pt x="1011243" y="37575"/>
                  </a:lnTo>
                  <a:lnTo>
                    <a:pt x="1011243" y="19575"/>
                  </a:lnTo>
                  <a:lnTo>
                    <a:pt x="975243" y="19575"/>
                  </a:lnTo>
                  <a:close/>
                  <a:moveTo>
                    <a:pt x="923159" y="19575"/>
                  </a:moveTo>
                  <a:lnTo>
                    <a:pt x="923159" y="37575"/>
                  </a:lnTo>
                  <a:lnTo>
                    <a:pt x="959159" y="37575"/>
                  </a:lnTo>
                  <a:lnTo>
                    <a:pt x="959159" y="19575"/>
                  </a:lnTo>
                  <a:lnTo>
                    <a:pt x="923159" y="19575"/>
                  </a:lnTo>
                  <a:close/>
                  <a:moveTo>
                    <a:pt x="871075" y="19575"/>
                  </a:moveTo>
                  <a:lnTo>
                    <a:pt x="871075" y="37575"/>
                  </a:lnTo>
                  <a:lnTo>
                    <a:pt x="907075" y="37575"/>
                  </a:lnTo>
                  <a:lnTo>
                    <a:pt x="907075" y="19575"/>
                  </a:lnTo>
                  <a:lnTo>
                    <a:pt x="871075" y="19575"/>
                  </a:lnTo>
                  <a:close/>
                  <a:moveTo>
                    <a:pt x="818991" y="19575"/>
                  </a:moveTo>
                  <a:lnTo>
                    <a:pt x="818991" y="37575"/>
                  </a:lnTo>
                  <a:lnTo>
                    <a:pt x="854991" y="37575"/>
                  </a:lnTo>
                  <a:lnTo>
                    <a:pt x="854991" y="19575"/>
                  </a:lnTo>
                  <a:lnTo>
                    <a:pt x="818991" y="19575"/>
                  </a:lnTo>
                  <a:close/>
                  <a:moveTo>
                    <a:pt x="766907" y="19575"/>
                  </a:moveTo>
                  <a:lnTo>
                    <a:pt x="766907" y="37575"/>
                  </a:lnTo>
                  <a:lnTo>
                    <a:pt x="802907" y="37575"/>
                  </a:lnTo>
                  <a:lnTo>
                    <a:pt x="802907" y="19575"/>
                  </a:lnTo>
                  <a:lnTo>
                    <a:pt x="766907" y="19575"/>
                  </a:lnTo>
                  <a:close/>
                  <a:moveTo>
                    <a:pt x="714823" y="19575"/>
                  </a:moveTo>
                  <a:lnTo>
                    <a:pt x="714823" y="37575"/>
                  </a:lnTo>
                  <a:lnTo>
                    <a:pt x="750823" y="37575"/>
                  </a:lnTo>
                  <a:lnTo>
                    <a:pt x="750823" y="19575"/>
                  </a:lnTo>
                  <a:lnTo>
                    <a:pt x="714823" y="19575"/>
                  </a:lnTo>
                  <a:close/>
                  <a:moveTo>
                    <a:pt x="662739" y="19575"/>
                  </a:moveTo>
                  <a:lnTo>
                    <a:pt x="662739" y="37575"/>
                  </a:lnTo>
                  <a:lnTo>
                    <a:pt x="698739" y="37575"/>
                  </a:lnTo>
                  <a:lnTo>
                    <a:pt x="698739" y="19575"/>
                  </a:lnTo>
                  <a:lnTo>
                    <a:pt x="662739" y="19575"/>
                  </a:lnTo>
                  <a:close/>
                  <a:moveTo>
                    <a:pt x="610655" y="19575"/>
                  </a:moveTo>
                  <a:lnTo>
                    <a:pt x="610655" y="37575"/>
                  </a:lnTo>
                  <a:lnTo>
                    <a:pt x="646655" y="37575"/>
                  </a:lnTo>
                  <a:lnTo>
                    <a:pt x="646655" y="19575"/>
                  </a:lnTo>
                  <a:lnTo>
                    <a:pt x="610655" y="19575"/>
                  </a:lnTo>
                  <a:close/>
                  <a:moveTo>
                    <a:pt x="558571" y="19575"/>
                  </a:moveTo>
                  <a:lnTo>
                    <a:pt x="558571" y="37575"/>
                  </a:lnTo>
                  <a:lnTo>
                    <a:pt x="594571" y="37575"/>
                  </a:lnTo>
                  <a:lnTo>
                    <a:pt x="594571" y="19575"/>
                  </a:lnTo>
                  <a:lnTo>
                    <a:pt x="558571" y="19575"/>
                  </a:lnTo>
                  <a:close/>
                  <a:moveTo>
                    <a:pt x="506487" y="19575"/>
                  </a:moveTo>
                  <a:lnTo>
                    <a:pt x="506487" y="37575"/>
                  </a:lnTo>
                  <a:lnTo>
                    <a:pt x="542487" y="37575"/>
                  </a:lnTo>
                  <a:lnTo>
                    <a:pt x="542487" y="19575"/>
                  </a:lnTo>
                  <a:lnTo>
                    <a:pt x="506487" y="19575"/>
                  </a:lnTo>
                  <a:close/>
                  <a:moveTo>
                    <a:pt x="454403" y="19575"/>
                  </a:moveTo>
                  <a:lnTo>
                    <a:pt x="454403" y="37575"/>
                  </a:lnTo>
                  <a:lnTo>
                    <a:pt x="490403" y="37575"/>
                  </a:lnTo>
                  <a:lnTo>
                    <a:pt x="490403" y="19575"/>
                  </a:lnTo>
                  <a:lnTo>
                    <a:pt x="454403" y="19575"/>
                  </a:lnTo>
                  <a:close/>
                  <a:moveTo>
                    <a:pt x="402319" y="19575"/>
                  </a:moveTo>
                  <a:lnTo>
                    <a:pt x="402319" y="37575"/>
                  </a:lnTo>
                  <a:lnTo>
                    <a:pt x="438319" y="37575"/>
                  </a:lnTo>
                  <a:lnTo>
                    <a:pt x="438319" y="19575"/>
                  </a:lnTo>
                  <a:lnTo>
                    <a:pt x="402319" y="19575"/>
                  </a:lnTo>
                  <a:close/>
                  <a:moveTo>
                    <a:pt x="350235" y="19575"/>
                  </a:moveTo>
                  <a:lnTo>
                    <a:pt x="350235" y="37575"/>
                  </a:lnTo>
                  <a:lnTo>
                    <a:pt x="386235" y="37575"/>
                  </a:lnTo>
                  <a:lnTo>
                    <a:pt x="386235" y="19575"/>
                  </a:lnTo>
                  <a:lnTo>
                    <a:pt x="350235" y="19575"/>
                  </a:lnTo>
                  <a:close/>
                  <a:moveTo>
                    <a:pt x="298151" y="19575"/>
                  </a:moveTo>
                  <a:lnTo>
                    <a:pt x="298151" y="37575"/>
                  </a:lnTo>
                  <a:lnTo>
                    <a:pt x="334151" y="37575"/>
                  </a:lnTo>
                  <a:lnTo>
                    <a:pt x="334151" y="19575"/>
                  </a:lnTo>
                  <a:lnTo>
                    <a:pt x="298151" y="19575"/>
                  </a:lnTo>
                  <a:close/>
                  <a:moveTo>
                    <a:pt x="246067" y="19575"/>
                  </a:moveTo>
                  <a:lnTo>
                    <a:pt x="246067" y="37575"/>
                  </a:lnTo>
                  <a:lnTo>
                    <a:pt x="282067" y="37575"/>
                  </a:lnTo>
                  <a:lnTo>
                    <a:pt x="282067" y="19575"/>
                  </a:lnTo>
                  <a:lnTo>
                    <a:pt x="246067" y="19575"/>
                  </a:lnTo>
                  <a:close/>
                  <a:moveTo>
                    <a:pt x="193983" y="19575"/>
                  </a:moveTo>
                  <a:lnTo>
                    <a:pt x="193983" y="37575"/>
                  </a:lnTo>
                  <a:lnTo>
                    <a:pt x="229983" y="37575"/>
                  </a:lnTo>
                  <a:lnTo>
                    <a:pt x="229983" y="19575"/>
                  </a:lnTo>
                  <a:lnTo>
                    <a:pt x="193983" y="19575"/>
                  </a:lnTo>
                  <a:close/>
                  <a:moveTo>
                    <a:pt x="141899" y="19575"/>
                  </a:moveTo>
                  <a:lnTo>
                    <a:pt x="141899" y="37575"/>
                  </a:lnTo>
                  <a:lnTo>
                    <a:pt x="177899" y="37575"/>
                  </a:lnTo>
                  <a:lnTo>
                    <a:pt x="177899" y="19575"/>
                  </a:lnTo>
                  <a:lnTo>
                    <a:pt x="141899" y="19575"/>
                  </a:lnTo>
                  <a:close/>
                  <a:moveTo>
                    <a:pt x="89815" y="19575"/>
                  </a:moveTo>
                  <a:lnTo>
                    <a:pt x="89815" y="37575"/>
                  </a:lnTo>
                  <a:lnTo>
                    <a:pt x="125815" y="37575"/>
                  </a:lnTo>
                  <a:lnTo>
                    <a:pt x="125815" y="19575"/>
                  </a:lnTo>
                  <a:lnTo>
                    <a:pt x="89815" y="19575"/>
                  </a:lnTo>
                  <a:close/>
                  <a:moveTo>
                    <a:pt x="37731" y="19575"/>
                  </a:moveTo>
                  <a:lnTo>
                    <a:pt x="37731" y="37575"/>
                  </a:lnTo>
                  <a:lnTo>
                    <a:pt x="73731" y="37575"/>
                  </a:lnTo>
                  <a:lnTo>
                    <a:pt x="73731" y="19575"/>
                  </a:lnTo>
                  <a:lnTo>
                    <a:pt x="37731" y="19575"/>
                  </a:lnTo>
                  <a:close/>
                  <a:moveTo>
                    <a:pt x="0" y="0"/>
                  </a:moveTo>
                  <a:lnTo>
                    <a:pt x="1882304" y="0"/>
                  </a:lnTo>
                  <a:lnTo>
                    <a:pt x="1882304" y="1239158"/>
                  </a:lnTo>
                  <a:lnTo>
                    <a:pt x="0" y="12391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c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246" name="MH_Other_12"/>
            <p:cNvSpPr/>
            <p:nvPr/>
          </p:nvSpPr>
          <p:spPr>
            <a:xfrm rot="558000">
              <a:off x="7153920" y="5418720"/>
              <a:ext cx="3671280" cy="1163880"/>
            </a:xfrm>
            <a:custGeom>
              <a:avLst/>
              <a:gdLst/>
              <a:ahLst/>
              <a:rect l="l" t="t" r="r" b="b"/>
              <a:pathLst>
                <a:path w="1939924" h="596900">
                  <a:moveTo>
                    <a:pt x="50800" y="0"/>
                  </a:moveTo>
                  <a:lnTo>
                    <a:pt x="1892299" y="6350"/>
                  </a:lnTo>
                  <a:lnTo>
                    <a:pt x="1939924" y="596900"/>
                  </a:lnTo>
                  <a:lnTo>
                    <a:pt x="916939" y="489324"/>
                  </a:lnTo>
                  <a:lnTo>
                    <a:pt x="0" y="596900"/>
                  </a:lnTo>
                  <a:lnTo>
                    <a:pt x="5080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a9c"/>
                </a:gs>
                <a:gs pos="100000">
                  <a:srgbClr val="7d8183"/>
                </a:gs>
              </a:gsLst>
              <a:lin ang="48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247" name="MH_SubTitle_4"/>
            <p:cNvSpPr/>
            <p:nvPr/>
          </p:nvSpPr>
          <p:spPr>
            <a:xfrm rot="558000">
              <a:off x="7068240" y="3767040"/>
              <a:ext cx="4211640" cy="268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833c0b"/>
                  </a:solidFill>
                  <a:latin typeface="Arial"/>
                  <a:ea typeface="宋体"/>
                </a:rPr>
                <a:t>黄土源</a:t>
              </a:r>
              <a:endParaRPr b="0" lang="en-US" sz="2000" spc="-1" strike="noStrike">
                <a:solidFill>
                  <a:srgbClr val="3d3f41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833c0b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833c0b"/>
                  </a:solidFill>
                  <a:latin typeface="Arial"/>
                  <a:ea typeface="宋体"/>
                </a:rPr>
                <a:t>黄土源中阳西部地区属于吕梁山脉的一段典型黄土地貌，由于有第四纪厚层黄土堆积，形成中国特有的一种地貌类型</a:t>
              </a:r>
              <a:r>
                <a:rPr b="1" lang="zh-CN" sz="1800" spc="-1" strike="noStrike">
                  <a:solidFill>
                    <a:srgbClr val="833c0b"/>
                  </a:solidFill>
                  <a:latin typeface="Arial"/>
                  <a:ea typeface="宋体"/>
                </a:rPr>
                <a:t>--</a:t>
              </a:r>
              <a:r>
                <a:rPr b="1" lang="zh-CN" sz="1800" spc="-1" strike="noStrike">
                  <a:solidFill>
                    <a:srgbClr val="833c0b"/>
                  </a:solidFill>
                  <a:latin typeface="Arial"/>
                  <a:ea typeface="宋体"/>
                </a:rPr>
                <a:t>黄土地貌。在这片以黄土地貌为主体的山地，形成黄土梁、黄土柱等奇特的黄土地貌景观，体现出一种远古淳朴和旷世之美。</a:t>
              </a: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</p:grpSp>
      <p:grpSp>
        <p:nvGrpSpPr>
          <p:cNvPr id="248" name="组合 6"/>
          <p:cNvGrpSpPr/>
          <p:nvPr/>
        </p:nvGrpSpPr>
        <p:grpSpPr>
          <a:xfrm>
            <a:off x="6326640" y="677520"/>
            <a:ext cx="5321520" cy="2811600"/>
            <a:chOff x="6326640" y="677520"/>
            <a:chExt cx="5321520" cy="2811600"/>
          </a:xfrm>
        </p:grpSpPr>
        <p:grpSp>
          <p:nvGrpSpPr>
            <p:cNvPr id="249" name="组合 2"/>
            <p:cNvGrpSpPr/>
            <p:nvPr/>
          </p:nvGrpSpPr>
          <p:grpSpPr>
            <a:xfrm>
              <a:off x="6326640" y="677520"/>
              <a:ext cx="5321520" cy="2811600"/>
              <a:chOff x="6326640" y="677520"/>
              <a:chExt cx="5321520" cy="2811600"/>
            </a:xfrm>
          </p:grpSpPr>
          <p:sp>
            <p:nvSpPr>
              <p:cNvPr id="250" name="MH_Other_4"/>
              <p:cNvSpPr/>
              <p:nvPr/>
            </p:nvSpPr>
            <p:spPr>
              <a:xfrm rot="20809200">
                <a:off x="7220520" y="1192320"/>
                <a:ext cx="4285440" cy="1742400"/>
              </a:xfrm>
              <a:custGeom>
                <a:avLst/>
                <a:gdLst/>
                <a:ahLst/>
                <a:rect l="l" t="t" r="r" b="b"/>
                <a:pathLst>
                  <a:path w="1882304" h="1239158">
                    <a:moveTo>
                      <a:pt x="1808573" y="19575"/>
                    </a:moveTo>
                    <a:lnTo>
                      <a:pt x="1808573" y="37575"/>
                    </a:lnTo>
                    <a:lnTo>
                      <a:pt x="1844573" y="37575"/>
                    </a:lnTo>
                    <a:lnTo>
                      <a:pt x="1844573" y="19575"/>
                    </a:lnTo>
                    <a:lnTo>
                      <a:pt x="1808573" y="19575"/>
                    </a:lnTo>
                    <a:close/>
                    <a:moveTo>
                      <a:pt x="1756503" y="19575"/>
                    </a:moveTo>
                    <a:lnTo>
                      <a:pt x="1756503" y="37575"/>
                    </a:lnTo>
                    <a:lnTo>
                      <a:pt x="1792503" y="37575"/>
                    </a:lnTo>
                    <a:lnTo>
                      <a:pt x="1792503" y="19575"/>
                    </a:lnTo>
                    <a:lnTo>
                      <a:pt x="1756503" y="19575"/>
                    </a:lnTo>
                    <a:close/>
                    <a:moveTo>
                      <a:pt x="1704419" y="19575"/>
                    </a:moveTo>
                    <a:lnTo>
                      <a:pt x="1704419" y="37575"/>
                    </a:lnTo>
                    <a:lnTo>
                      <a:pt x="1740419" y="37575"/>
                    </a:lnTo>
                    <a:lnTo>
                      <a:pt x="1740419" y="19575"/>
                    </a:lnTo>
                    <a:lnTo>
                      <a:pt x="1704419" y="19575"/>
                    </a:lnTo>
                    <a:close/>
                    <a:moveTo>
                      <a:pt x="1652335" y="19575"/>
                    </a:moveTo>
                    <a:lnTo>
                      <a:pt x="1652335" y="37575"/>
                    </a:lnTo>
                    <a:lnTo>
                      <a:pt x="1688335" y="37575"/>
                    </a:lnTo>
                    <a:lnTo>
                      <a:pt x="1688335" y="19575"/>
                    </a:lnTo>
                    <a:lnTo>
                      <a:pt x="1652335" y="19575"/>
                    </a:lnTo>
                    <a:close/>
                    <a:moveTo>
                      <a:pt x="1600251" y="19575"/>
                    </a:moveTo>
                    <a:lnTo>
                      <a:pt x="1600251" y="37575"/>
                    </a:lnTo>
                    <a:lnTo>
                      <a:pt x="1636251" y="37575"/>
                    </a:lnTo>
                    <a:lnTo>
                      <a:pt x="1636251" y="19575"/>
                    </a:lnTo>
                    <a:lnTo>
                      <a:pt x="1600251" y="19575"/>
                    </a:lnTo>
                    <a:close/>
                    <a:moveTo>
                      <a:pt x="1548167" y="19575"/>
                    </a:moveTo>
                    <a:lnTo>
                      <a:pt x="1548167" y="37575"/>
                    </a:lnTo>
                    <a:lnTo>
                      <a:pt x="1584167" y="37575"/>
                    </a:lnTo>
                    <a:lnTo>
                      <a:pt x="1584167" y="19575"/>
                    </a:lnTo>
                    <a:lnTo>
                      <a:pt x="1548167" y="19575"/>
                    </a:lnTo>
                    <a:close/>
                    <a:moveTo>
                      <a:pt x="1496083" y="19575"/>
                    </a:moveTo>
                    <a:lnTo>
                      <a:pt x="1496083" y="37575"/>
                    </a:lnTo>
                    <a:lnTo>
                      <a:pt x="1532083" y="37575"/>
                    </a:lnTo>
                    <a:lnTo>
                      <a:pt x="1532083" y="19575"/>
                    </a:lnTo>
                    <a:lnTo>
                      <a:pt x="1496083" y="19575"/>
                    </a:lnTo>
                    <a:close/>
                    <a:moveTo>
                      <a:pt x="1443999" y="19575"/>
                    </a:moveTo>
                    <a:lnTo>
                      <a:pt x="1443999" y="37575"/>
                    </a:lnTo>
                    <a:lnTo>
                      <a:pt x="1479999" y="37575"/>
                    </a:lnTo>
                    <a:lnTo>
                      <a:pt x="1479999" y="19575"/>
                    </a:lnTo>
                    <a:lnTo>
                      <a:pt x="1443999" y="19575"/>
                    </a:lnTo>
                    <a:close/>
                    <a:moveTo>
                      <a:pt x="1391915" y="19575"/>
                    </a:moveTo>
                    <a:lnTo>
                      <a:pt x="1391915" y="37575"/>
                    </a:lnTo>
                    <a:lnTo>
                      <a:pt x="1427915" y="37575"/>
                    </a:lnTo>
                    <a:lnTo>
                      <a:pt x="1427915" y="19575"/>
                    </a:lnTo>
                    <a:lnTo>
                      <a:pt x="1391915" y="19575"/>
                    </a:lnTo>
                    <a:close/>
                    <a:moveTo>
                      <a:pt x="1339831" y="19575"/>
                    </a:moveTo>
                    <a:lnTo>
                      <a:pt x="1339831" y="37575"/>
                    </a:lnTo>
                    <a:lnTo>
                      <a:pt x="1375831" y="37575"/>
                    </a:lnTo>
                    <a:lnTo>
                      <a:pt x="1375831" y="19575"/>
                    </a:lnTo>
                    <a:lnTo>
                      <a:pt x="1339831" y="19575"/>
                    </a:lnTo>
                    <a:close/>
                    <a:moveTo>
                      <a:pt x="1287747" y="19575"/>
                    </a:moveTo>
                    <a:lnTo>
                      <a:pt x="1287747" y="37575"/>
                    </a:lnTo>
                    <a:lnTo>
                      <a:pt x="1323747" y="37575"/>
                    </a:lnTo>
                    <a:lnTo>
                      <a:pt x="1323747" y="19575"/>
                    </a:lnTo>
                    <a:lnTo>
                      <a:pt x="1287747" y="19575"/>
                    </a:lnTo>
                    <a:close/>
                    <a:moveTo>
                      <a:pt x="1235663" y="19575"/>
                    </a:moveTo>
                    <a:lnTo>
                      <a:pt x="1235663" y="37575"/>
                    </a:lnTo>
                    <a:lnTo>
                      <a:pt x="1271663" y="37575"/>
                    </a:lnTo>
                    <a:lnTo>
                      <a:pt x="1271663" y="19575"/>
                    </a:lnTo>
                    <a:lnTo>
                      <a:pt x="1235663" y="19575"/>
                    </a:lnTo>
                    <a:close/>
                    <a:moveTo>
                      <a:pt x="1183579" y="19575"/>
                    </a:moveTo>
                    <a:lnTo>
                      <a:pt x="1183579" y="37575"/>
                    </a:lnTo>
                    <a:lnTo>
                      <a:pt x="1219579" y="37575"/>
                    </a:lnTo>
                    <a:lnTo>
                      <a:pt x="1219579" y="19575"/>
                    </a:lnTo>
                    <a:lnTo>
                      <a:pt x="1183579" y="19575"/>
                    </a:lnTo>
                    <a:close/>
                    <a:moveTo>
                      <a:pt x="1131495" y="19575"/>
                    </a:moveTo>
                    <a:lnTo>
                      <a:pt x="1131495" y="37575"/>
                    </a:lnTo>
                    <a:lnTo>
                      <a:pt x="1167495" y="37575"/>
                    </a:lnTo>
                    <a:lnTo>
                      <a:pt x="1167495" y="19575"/>
                    </a:lnTo>
                    <a:lnTo>
                      <a:pt x="1131495" y="19575"/>
                    </a:lnTo>
                    <a:close/>
                    <a:moveTo>
                      <a:pt x="1079411" y="19575"/>
                    </a:moveTo>
                    <a:lnTo>
                      <a:pt x="1079411" y="37575"/>
                    </a:lnTo>
                    <a:lnTo>
                      <a:pt x="1115411" y="37575"/>
                    </a:lnTo>
                    <a:lnTo>
                      <a:pt x="1115411" y="19575"/>
                    </a:lnTo>
                    <a:lnTo>
                      <a:pt x="1079411" y="19575"/>
                    </a:lnTo>
                    <a:close/>
                    <a:moveTo>
                      <a:pt x="1027327" y="19575"/>
                    </a:moveTo>
                    <a:lnTo>
                      <a:pt x="1027327" y="37575"/>
                    </a:lnTo>
                    <a:lnTo>
                      <a:pt x="1063327" y="37575"/>
                    </a:lnTo>
                    <a:lnTo>
                      <a:pt x="1063327" y="19575"/>
                    </a:lnTo>
                    <a:lnTo>
                      <a:pt x="1027327" y="19575"/>
                    </a:lnTo>
                    <a:close/>
                    <a:moveTo>
                      <a:pt x="975243" y="19575"/>
                    </a:moveTo>
                    <a:lnTo>
                      <a:pt x="975243" y="37575"/>
                    </a:lnTo>
                    <a:lnTo>
                      <a:pt x="1011243" y="37575"/>
                    </a:lnTo>
                    <a:lnTo>
                      <a:pt x="1011243" y="19575"/>
                    </a:lnTo>
                    <a:lnTo>
                      <a:pt x="975243" y="19575"/>
                    </a:lnTo>
                    <a:close/>
                    <a:moveTo>
                      <a:pt x="923159" y="19575"/>
                    </a:moveTo>
                    <a:lnTo>
                      <a:pt x="923159" y="37575"/>
                    </a:lnTo>
                    <a:lnTo>
                      <a:pt x="959159" y="37575"/>
                    </a:lnTo>
                    <a:lnTo>
                      <a:pt x="959159" y="19575"/>
                    </a:lnTo>
                    <a:lnTo>
                      <a:pt x="923159" y="19575"/>
                    </a:lnTo>
                    <a:close/>
                    <a:moveTo>
                      <a:pt x="871075" y="19575"/>
                    </a:moveTo>
                    <a:lnTo>
                      <a:pt x="871075" y="37575"/>
                    </a:lnTo>
                    <a:lnTo>
                      <a:pt x="907075" y="37575"/>
                    </a:lnTo>
                    <a:lnTo>
                      <a:pt x="907075" y="19575"/>
                    </a:lnTo>
                    <a:lnTo>
                      <a:pt x="871075" y="19575"/>
                    </a:lnTo>
                    <a:close/>
                    <a:moveTo>
                      <a:pt x="818991" y="19575"/>
                    </a:moveTo>
                    <a:lnTo>
                      <a:pt x="818991" y="37575"/>
                    </a:lnTo>
                    <a:lnTo>
                      <a:pt x="854991" y="37575"/>
                    </a:lnTo>
                    <a:lnTo>
                      <a:pt x="854991" y="19575"/>
                    </a:lnTo>
                    <a:lnTo>
                      <a:pt x="818991" y="19575"/>
                    </a:lnTo>
                    <a:close/>
                    <a:moveTo>
                      <a:pt x="766907" y="19575"/>
                    </a:moveTo>
                    <a:lnTo>
                      <a:pt x="766907" y="37575"/>
                    </a:lnTo>
                    <a:lnTo>
                      <a:pt x="802907" y="37575"/>
                    </a:lnTo>
                    <a:lnTo>
                      <a:pt x="802907" y="19575"/>
                    </a:lnTo>
                    <a:lnTo>
                      <a:pt x="766907" y="19575"/>
                    </a:lnTo>
                    <a:close/>
                    <a:moveTo>
                      <a:pt x="714823" y="19575"/>
                    </a:moveTo>
                    <a:lnTo>
                      <a:pt x="714823" y="37575"/>
                    </a:lnTo>
                    <a:lnTo>
                      <a:pt x="750823" y="37575"/>
                    </a:lnTo>
                    <a:lnTo>
                      <a:pt x="750823" y="19575"/>
                    </a:lnTo>
                    <a:lnTo>
                      <a:pt x="714823" y="19575"/>
                    </a:lnTo>
                    <a:close/>
                    <a:moveTo>
                      <a:pt x="662739" y="19575"/>
                    </a:moveTo>
                    <a:lnTo>
                      <a:pt x="662739" y="37575"/>
                    </a:lnTo>
                    <a:lnTo>
                      <a:pt x="698739" y="37575"/>
                    </a:lnTo>
                    <a:lnTo>
                      <a:pt x="698739" y="19575"/>
                    </a:lnTo>
                    <a:lnTo>
                      <a:pt x="662739" y="19575"/>
                    </a:lnTo>
                    <a:close/>
                    <a:moveTo>
                      <a:pt x="610655" y="19575"/>
                    </a:moveTo>
                    <a:lnTo>
                      <a:pt x="610655" y="37575"/>
                    </a:lnTo>
                    <a:lnTo>
                      <a:pt x="646655" y="37575"/>
                    </a:lnTo>
                    <a:lnTo>
                      <a:pt x="646655" y="19575"/>
                    </a:lnTo>
                    <a:lnTo>
                      <a:pt x="610655" y="19575"/>
                    </a:lnTo>
                    <a:close/>
                    <a:moveTo>
                      <a:pt x="558571" y="19575"/>
                    </a:moveTo>
                    <a:lnTo>
                      <a:pt x="558571" y="37575"/>
                    </a:lnTo>
                    <a:lnTo>
                      <a:pt x="594571" y="37575"/>
                    </a:lnTo>
                    <a:lnTo>
                      <a:pt x="594571" y="19575"/>
                    </a:lnTo>
                    <a:lnTo>
                      <a:pt x="558571" y="19575"/>
                    </a:lnTo>
                    <a:close/>
                    <a:moveTo>
                      <a:pt x="506487" y="19575"/>
                    </a:moveTo>
                    <a:lnTo>
                      <a:pt x="506487" y="37575"/>
                    </a:lnTo>
                    <a:lnTo>
                      <a:pt x="542487" y="37575"/>
                    </a:lnTo>
                    <a:lnTo>
                      <a:pt x="542487" y="19575"/>
                    </a:lnTo>
                    <a:lnTo>
                      <a:pt x="506487" y="19575"/>
                    </a:lnTo>
                    <a:close/>
                    <a:moveTo>
                      <a:pt x="454403" y="19575"/>
                    </a:moveTo>
                    <a:lnTo>
                      <a:pt x="454403" y="37575"/>
                    </a:lnTo>
                    <a:lnTo>
                      <a:pt x="490403" y="37575"/>
                    </a:lnTo>
                    <a:lnTo>
                      <a:pt x="490403" y="19575"/>
                    </a:lnTo>
                    <a:lnTo>
                      <a:pt x="454403" y="19575"/>
                    </a:lnTo>
                    <a:close/>
                    <a:moveTo>
                      <a:pt x="402319" y="19575"/>
                    </a:moveTo>
                    <a:lnTo>
                      <a:pt x="402319" y="37575"/>
                    </a:lnTo>
                    <a:lnTo>
                      <a:pt x="438319" y="37575"/>
                    </a:lnTo>
                    <a:lnTo>
                      <a:pt x="438319" y="19575"/>
                    </a:lnTo>
                    <a:lnTo>
                      <a:pt x="402319" y="19575"/>
                    </a:lnTo>
                    <a:close/>
                    <a:moveTo>
                      <a:pt x="350235" y="19575"/>
                    </a:moveTo>
                    <a:lnTo>
                      <a:pt x="350235" y="37575"/>
                    </a:lnTo>
                    <a:lnTo>
                      <a:pt x="386235" y="37575"/>
                    </a:lnTo>
                    <a:lnTo>
                      <a:pt x="386235" y="19575"/>
                    </a:lnTo>
                    <a:lnTo>
                      <a:pt x="350235" y="19575"/>
                    </a:lnTo>
                    <a:close/>
                    <a:moveTo>
                      <a:pt x="298151" y="19575"/>
                    </a:moveTo>
                    <a:lnTo>
                      <a:pt x="298151" y="37575"/>
                    </a:lnTo>
                    <a:lnTo>
                      <a:pt x="334151" y="37575"/>
                    </a:lnTo>
                    <a:lnTo>
                      <a:pt x="334151" y="19575"/>
                    </a:lnTo>
                    <a:lnTo>
                      <a:pt x="298151" y="19575"/>
                    </a:lnTo>
                    <a:close/>
                    <a:moveTo>
                      <a:pt x="246067" y="19575"/>
                    </a:moveTo>
                    <a:lnTo>
                      <a:pt x="246067" y="37575"/>
                    </a:lnTo>
                    <a:lnTo>
                      <a:pt x="282067" y="37575"/>
                    </a:lnTo>
                    <a:lnTo>
                      <a:pt x="282067" y="19575"/>
                    </a:lnTo>
                    <a:lnTo>
                      <a:pt x="246067" y="19575"/>
                    </a:lnTo>
                    <a:close/>
                    <a:moveTo>
                      <a:pt x="193983" y="19575"/>
                    </a:moveTo>
                    <a:lnTo>
                      <a:pt x="193983" y="37575"/>
                    </a:lnTo>
                    <a:lnTo>
                      <a:pt x="229983" y="37575"/>
                    </a:lnTo>
                    <a:lnTo>
                      <a:pt x="229983" y="19575"/>
                    </a:lnTo>
                    <a:lnTo>
                      <a:pt x="193983" y="19575"/>
                    </a:lnTo>
                    <a:close/>
                    <a:moveTo>
                      <a:pt x="141899" y="19575"/>
                    </a:moveTo>
                    <a:lnTo>
                      <a:pt x="141899" y="37575"/>
                    </a:lnTo>
                    <a:lnTo>
                      <a:pt x="177899" y="37575"/>
                    </a:lnTo>
                    <a:lnTo>
                      <a:pt x="177899" y="19575"/>
                    </a:lnTo>
                    <a:lnTo>
                      <a:pt x="141899" y="19575"/>
                    </a:lnTo>
                    <a:close/>
                    <a:moveTo>
                      <a:pt x="89815" y="19575"/>
                    </a:moveTo>
                    <a:lnTo>
                      <a:pt x="89815" y="37575"/>
                    </a:lnTo>
                    <a:lnTo>
                      <a:pt x="125815" y="37575"/>
                    </a:lnTo>
                    <a:lnTo>
                      <a:pt x="125815" y="19575"/>
                    </a:lnTo>
                    <a:lnTo>
                      <a:pt x="89815" y="19575"/>
                    </a:lnTo>
                    <a:close/>
                    <a:moveTo>
                      <a:pt x="37731" y="19575"/>
                    </a:moveTo>
                    <a:lnTo>
                      <a:pt x="37731" y="37575"/>
                    </a:lnTo>
                    <a:lnTo>
                      <a:pt x="73731" y="37575"/>
                    </a:lnTo>
                    <a:lnTo>
                      <a:pt x="73731" y="19575"/>
                    </a:lnTo>
                    <a:lnTo>
                      <a:pt x="37731" y="19575"/>
                    </a:lnTo>
                    <a:close/>
                    <a:moveTo>
                      <a:pt x="0" y="0"/>
                    </a:moveTo>
                    <a:lnTo>
                      <a:pt x="1882304" y="0"/>
                    </a:lnTo>
                    <a:lnTo>
                      <a:pt x="1882304" y="1239158"/>
                    </a:lnTo>
                    <a:lnTo>
                      <a:pt x="0" y="12391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1b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251" name="MH_Other_5"/>
              <p:cNvSpPr/>
              <p:nvPr/>
            </p:nvSpPr>
            <p:spPr>
              <a:xfrm rot="1016400">
                <a:off x="6460920" y="1268280"/>
                <a:ext cx="4288680" cy="1562040"/>
              </a:xfrm>
              <a:custGeom>
                <a:avLst/>
                <a:gdLst/>
                <a:ahLst/>
                <a:rect l="l" t="t" r="r" b="b"/>
                <a:pathLst>
                  <a:path w="1882304" h="1239158">
                    <a:moveTo>
                      <a:pt x="1808573" y="19575"/>
                    </a:moveTo>
                    <a:lnTo>
                      <a:pt x="1808573" y="37575"/>
                    </a:lnTo>
                    <a:lnTo>
                      <a:pt x="1844573" y="37575"/>
                    </a:lnTo>
                    <a:lnTo>
                      <a:pt x="1844573" y="19575"/>
                    </a:lnTo>
                    <a:lnTo>
                      <a:pt x="1808573" y="19575"/>
                    </a:lnTo>
                    <a:close/>
                    <a:moveTo>
                      <a:pt x="1756503" y="19575"/>
                    </a:moveTo>
                    <a:lnTo>
                      <a:pt x="1756503" y="37575"/>
                    </a:lnTo>
                    <a:lnTo>
                      <a:pt x="1792503" y="37575"/>
                    </a:lnTo>
                    <a:lnTo>
                      <a:pt x="1792503" y="19575"/>
                    </a:lnTo>
                    <a:lnTo>
                      <a:pt x="1756503" y="19575"/>
                    </a:lnTo>
                    <a:close/>
                    <a:moveTo>
                      <a:pt x="1704419" y="19575"/>
                    </a:moveTo>
                    <a:lnTo>
                      <a:pt x="1704419" y="37575"/>
                    </a:lnTo>
                    <a:lnTo>
                      <a:pt x="1740419" y="37575"/>
                    </a:lnTo>
                    <a:lnTo>
                      <a:pt x="1740419" y="19575"/>
                    </a:lnTo>
                    <a:lnTo>
                      <a:pt x="1704419" y="19575"/>
                    </a:lnTo>
                    <a:close/>
                    <a:moveTo>
                      <a:pt x="1652335" y="19575"/>
                    </a:moveTo>
                    <a:lnTo>
                      <a:pt x="1652335" y="37575"/>
                    </a:lnTo>
                    <a:lnTo>
                      <a:pt x="1688335" y="37575"/>
                    </a:lnTo>
                    <a:lnTo>
                      <a:pt x="1688335" y="19575"/>
                    </a:lnTo>
                    <a:lnTo>
                      <a:pt x="1652335" y="19575"/>
                    </a:lnTo>
                    <a:close/>
                    <a:moveTo>
                      <a:pt x="1600251" y="19575"/>
                    </a:moveTo>
                    <a:lnTo>
                      <a:pt x="1600251" y="37575"/>
                    </a:lnTo>
                    <a:lnTo>
                      <a:pt x="1636251" y="37575"/>
                    </a:lnTo>
                    <a:lnTo>
                      <a:pt x="1636251" y="19575"/>
                    </a:lnTo>
                    <a:lnTo>
                      <a:pt x="1600251" y="19575"/>
                    </a:lnTo>
                    <a:close/>
                    <a:moveTo>
                      <a:pt x="1548167" y="19575"/>
                    </a:moveTo>
                    <a:lnTo>
                      <a:pt x="1548167" y="37575"/>
                    </a:lnTo>
                    <a:lnTo>
                      <a:pt x="1584167" y="37575"/>
                    </a:lnTo>
                    <a:lnTo>
                      <a:pt x="1584167" y="19575"/>
                    </a:lnTo>
                    <a:lnTo>
                      <a:pt x="1548167" y="19575"/>
                    </a:lnTo>
                    <a:close/>
                    <a:moveTo>
                      <a:pt x="1496083" y="19575"/>
                    </a:moveTo>
                    <a:lnTo>
                      <a:pt x="1496083" y="37575"/>
                    </a:lnTo>
                    <a:lnTo>
                      <a:pt x="1532083" y="37575"/>
                    </a:lnTo>
                    <a:lnTo>
                      <a:pt x="1532083" y="19575"/>
                    </a:lnTo>
                    <a:lnTo>
                      <a:pt x="1496083" y="19575"/>
                    </a:lnTo>
                    <a:close/>
                    <a:moveTo>
                      <a:pt x="1443999" y="19575"/>
                    </a:moveTo>
                    <a:lnTo>
                      <a:pt x="1443999" y="37575"/>
                    </a:lnTo>
                    <a:lnTo>
                      <a:pt x="1479999" y="37575"/>
                    </a:lnTo>
                    <a:lnTo>
                      <a:pt x="1479999" y="19575"/>
                    </a:lnTo>
                    <a:lnTo>
                      <a:pt x="1443999" y="19575"/>
                    </a:lnTo>
                    <a:close/>
                    <a:moveTo>
                      <a:pt x="1391915" y="19575"/>
                    </a:moveTo>
                    <a:lnTo>
                      <a:pt x="1391915" y="37575"/>
                    </a:lnTo>
                    <a:lnTo>
                      <a:pt x="1427915" y="37575"/>
                    </a:lnTo>
                    <a:lnTo>
                      <a:pt x="1427915" y="19575"/>
                    </a:lnTo>
                    <a:lnTo>
                      <a:pt x="1391915" y="19575"/>
                    </a:lnTo>
                    <a:close/>
                    <a:moveTo>
                      <a:pt x="1339831" y="19575"/>
                    </a:moveTo>
                    <a:lnTo>
                      <a:pt x="1339831" y="37575"/>
                    </a:lnTo>
                    <a:lnTo>
                      <a:pt x="1375831" y="37575"/>
                    </a:lnTo>
                    <a:lnTo>
                      <a:pt x="1375831" y="19575"/>
                    </a:lnTo>
                    <a:lnTo>
                      <a:pt x="1339831" y="19575"/>
                    </a:lnTo>
                    <a:close/>
                    <a:moveTo>
                      <a:pt x="1287747" y="19575"/>
                    </a:moveTo>
                    <a:lnTo>
                      <a:pt x="1287747" y="37575"/>
                    </a:lnTo>
                    <a:lnTo>
                      <a:pt x="1323747" y="37575"/>
                    </a:lnTo>
                    <a:lnTo>
                      <a:pt x="1323747" y="19575"/>
                    </a:lnTo>
                    <a:lnTo>
                      <a:pt x="1287747" y="19575"/>
                    </a:lnTo>
                    <a:close/>
                    <a:moveTo>
                      <a:pt x="1235663" y="19575"/>
                    </a:moveTo>
                    <a:lnTo>
                      <a:pt x="1235663" y="37575"/>
                    </a:lnTo>
                    <a:lnTo>
                      <a:pt x="1271663" y="37575"/>
                    </a:lnTo>
                    <a:lnTo>
                      <a:pt x="1271663" y="19575"/>
                    </a:lnTo>
                    <a:lnTo>
                      <a:pt x="1235663" y="19575"/>
                    </a:lnTo>
                    <a:close/>
                    <a:moveTo>
                      <a:pt x="1183579" y="19575"/>
                    </a:moveTo>
                    <a:lnTo>
                      <a:pt x="1183579" y="37575"/>
                    </a:lnTo>
                    <a:lnTo>
                      <a:pt x="1219579" y="37575"/>
                    </a:lnTo>
                    <a:lnTo>
                      <a:pt x="1219579" y="19575"/>
                    </a:lnTo>
                    <a:lnTo>
                      <a:pt x="1183579" y="19575"/>
                    </a:lnTo>
                    <a:close/>
                    <a:moveTo>
                      <a:pt x="1131495" y="19575"/>
                    </a:moveTo>
                    <a:lnTo>
                      <a:pt x="1131495" y="37575"/>
                    </a:lnTo>
                    <a:lnTo>
                      <a:pt x="1167495" y="37575"/>
                    </a:lnTo>
                    <a:lnTo>
                      <a:pt x="1167495" y="19575"/>
                    </a:lnTo>
                    <a:lnTo>
                      <a:pt x="1131495" y="19575"/>
                    </a:lnTo>
                    <a:close/>
                    <a:moveTo>
                      <a:pt x="1079411" y="19575"/>
                    </a:moveTo>
                    <a:lnTo>
                      <a:pt x="1079411" y="37575"/>
                    </a:lnTo>
                    <a:lnTo>
                      <a:pt x="1115411" y="37575"/>
                    </a:lnTo>
                    <a:lnTo>
                      <a:pt x="1115411" y="19575"/>
                    </a:lnTo>
                    <a:lnTo>
                      <a:pt x="1079411" y="19575"/>
                    </a:lnTo>
                    <a:close/>
                    <a:moveTo>
                      <a:pt x="1027327" y="19575"/>
                    </a:moveTo>
                    <a:lnTo>
                      <a:pt x="1027327" y="37575"/>
                    </a:lnTo>
                    <a:lnTo>
                      <a:pt x="1063327" y="37575"/>
                    </a:lnTo>
                    <a:lnTo>
                      <a:pt x="1063327" y="19575"/>
                    </a:lnTo>
                    <a:lnTo>
                      <a:pt x="1027327" y="19575"/>
                    </a:lnTo>
                    <a:close/>
                    <a:moveTo>
                      <a:pt x="975243" y="19575"/>
                    </a:moveTo>
                    <a:lnTo>
                      <a:pt x="975243" y="37575"/>
                    </a:lnTo>
                    <a:lnTo>
                      <a:pt x="1011243" y="37575"/>
                    </a:lnTo>
                    <a:lnTo>
                      <a:pt x="1011243" y="19575"/>
                    </a:lnTo>
                    <a:lnTo>
                      <a:pt x="975243" y="19575"/>
                    </a:lnTo>
                    <a:close/>
                    <a:moveTo>
                      <a:pt x="923159" y="19575"/>
                    </a:moveTo>
                    <a:lnTo>
                      <a:pt x="923159" y="37575"/>
                    </a:lnTo>
                    <a:lnTo>
                      <a:pt x="959159" y="37575"/>
                    </a:lnTo>
                    <a:lnTo>
                      <a:pt x="959159" y="19575"/>
                    </a:lnTo>
                    <a:lnTo>
                      <a:pt x="923159" y="19575"/>
                    </a:lnTo>
                    <a:close/>
                    <a:moveTo>
                      <a:pt x="871075" y="19575"/>
                    </a:moveTo>
                    <a:lnTo>
                      <a:pt x="871075" y="37575"/>
                    </a:lnTo>
                    <a:lnTo>
                      <a:pt x="907075" y="37575"/>
                    </a:lnTo>
                    <a:lnTo>
                      <a:pt x="907075" y="19575"/>
                    </a:lnTo>
                    <a:lnTo>
                      <a:pt x="871075" y="19575"/>
                    </a:lnTo>
                    <a:close/>
                    <a:moveTo>
                      <a:pt x="818991" y="19575"/>
                    </a:moveTo>
                    <a:lnTo>
                      <a:pt x="818991" y="37575"/>
                    </a:lnTo>
                    <a:lnTo>
                      <a:pt x="854991" y="37575"/>
                    </a:lnTo>
                    <a:lnTo>
                      <a:pt x="854991" y="19575"/>
                    </a:lnTo>
                    <a:lnTo>
                      <a:pt x="818991" y="19575"/>
                    </a:lnTo>
                    <a:close/>
                    <a:moveTo>
                      <a:pt x="766907" y="19575"/>
                    </a:moveTo>
                    <a:lnTo>
                      <a:pt x="766907" y="37575"/>
                    </a:lnTo>
                    <a:lnTo>
                      <a:pt x="802907" y="37575"/>
                    </a:lnTo>
                    <a:lnTo>
                      <a:pt x="802907" y="19575"/>
                    </a:lnTo>
                    <a:lnTo>
                      <a:pt x="766907" y="19575"/>
                    </a:lnTo>
                    <a:close/>
                    <a:moveTo>
                      <a:pt x="714823" y="19575"/>
                    </a:moveTo>
                    <a:lnTo>
                      <a:pt x="714823" y="37575"/>
                    </a:lnTo>
                    <a:lnTo>
                      <a:pt x="750823" y="37575"/>
                    </a:lnTo>
                    <a:lnTo>
                      <a:pt x="750823" y="19575"/>
                    </a:lnTo>
                    <a:lnTo>
                      <a:pt x="714823" y="19575"/>
                    </a:lnTo>
                    <a:close/>
                    <a:moveTo>
                      <a:pt x="662739" y="19575"/>
                    </a:moveTo>
                    <a:lnTo>
                      <a:pt x="662739" y="37575"/>
                    </a:lnTo>
                    <a:lnTo>
                      <a:pt x="698739" y="37575"/>
                    </a:lnTo>
                    <a:lnTo>
                      <a:pt x="698739" y="19575"/>
                    </a:lnTo>
                    <a:lnTo>
                      <a:pt x="662739" y="19575"/>
                    </a:lnTo>
                    <a:close/>
                    <a:moveTo>
                      <a:pt x="610655" y="19575"/>
                    </a:moveTo>
                    <a:lnTo>
                      <a:pt x="610655" y="37575"/>
                    </a:lnTo>
                    <a:lnTo>
                      <a:pt x="646655" y="37575"/>
                    </a:lnTo>
                    <a:lnTo>
                      <a:pt x="646655" y="19575"/>
                    </a:lnTo>
                    <a:lnTo>
                      <a:pt x="610655" y="19575"/>
                    </a:lnTo>
                    <a:close/>
                    <a:moveTo>
                      <a:pt x="558571" y="19575"/>
                    </a:moveTo>
                    <a:lnTo>
                      <a:pt x="558571" y="37575"/>
                    </a:lnTo>
                    <a:lnTo>
                      <a:pt x="594571" y="37575"/>
                    </a:lnTo>
                    <a:lnTo>
                      <a:pt x="594571" y="19575"/>
                    </a:lnTo>
                    <a:lnTo>
                      <a:pt x="558571" y="19575"/>
                    </a:lnTo>
                    <a:close/>
                    <a:moveTo>
                      <a:pt x="506487" y="19575"/>
                    </a:moveTo>
                    <a:lnTo>
                      <a:pt x="506487" y="37575"/>
                    </a:lnTo>
                    <a:lnTo>
                      <a:pt x="542487" y="37575"/>
                    </a:lnTo>
                    <a:lnTo>
                      <a:pt x="542487" y="19575"/>
                    </a:lnTo>
                    <a:lnTo>
                      <a:pt x="506487" y="19575"/>
                    </a:lnTo>
                    <a:close/>
                    <a:moveTo>
                      <a:pt x="454403" y="19575"/>
                    </a:moveTo>
                    <a:lnTo>
                      <a:pt x="454403" y="37575"/>
                    </a:lnTo>
                    <a:lnTo>
                      <a:pt x="490403" y="37575"/>
                    </a:lnTo>
                    <a:lnTo>
                      <a:pt x="490403" y="19575"/>
                    </a:lnTo>
                    <a:lnTo>
                      <a:pt x="454403" y="19575"/>
                    </a:lnTo>
                    <a:close/>
                    <a:moveTo>
                      <a:pt x="402319" y="19575"/>
                    </a:moveTo>
                    <a:lnTo>
                      <a:pt x="402319" y="37575"/>
                    </a:lnTo>
                    <a:lnTo>
                      <a:pt x="438319" y="37575"/>
                    </a:lnTo>
                    <a:lnTo>
                      <a:pt x="438319" y="19575"/>
                    </a:lnTo>
                    <a:lnTo>
                      <a:pt x="402319" y="19575"/>
                    </a:lnTo>
                    <a:close/>
                    <a:moveTo>
                      <a:pt x="350235" y="19575"/>
                    </a:moveTo>
                    <a:lnTo>
                      <a:pt x="350235" y="37575"/>
                    </a:lnTo>
                    <a:lnTo>
                      <a:pt x="386235" y="37575"/>
                    </a:lnTo>
                    <a:lnTo>
                      <a:pt x="386235" y="19575"/>
                    </a:lnTo>
                    <a:lnTo>
                      <a:pt x="350235" y="19575"/>
                    </a:lnTo>
                    <a:close/>
                    <a:moveTo>
                      <a:pt x="298151" y="19575"/>
                    </a:moveTo>
                    <a:lnTo>
                      <a:pt x="298151" y="37575"/>
                    </a:lnTo>
                    <a:lnTo>
                      <a:pt x="334151" y="37575"/>
                    </a:lnTo>
                    <a:lnTo>
                      <a:pt x="334151" y="19575"/>
                    </a:lnTo>
                    <a:lnTo>
                      <a:pt x="298151" y="19575"/>
                    </a:lnTo>
                    <a:close/>
                    <a:moveTo>
                      <a:pt x="246067" y="19575"/>
                    </a:moveTo>
                    <a:lnTo>
                      <a:pt x="246067" y="37575"/>
                    </a:lnTo>
                    <a:lnTo>
                      <a:pt x="282067" y="37575"/>
                    </a:lnTo>
                    <a:lnTo>
                      <a:pt x="282067" y="19575"/>
                    </a:lnTo>
                    <a:lnTo>
                      <a:pt x="246067" y="19575"/>
                    </a:lnTo>
                    <a:close/>
                    <a:moveTo>
                      <a:pt x="193983" y="19575"/>
                    </a:moveTo>
                    <a:lnTo>
                      <a:pt x="193983" y="37575"/>
                    </a:lnTo>
                    <a:lnTo>
                      <a:pt x="229983" y="37575"/>
                    </a:lnTo>
                    <a:lnTo>
                      <a:pt x="229983" y="19575"/>
                    </a:lnTo>
                    <a:lnTo>
                      <a:pt x="193983" y="19575"/>
                    </a:lnTo>
                    <a:close/>
                    <a:moveTo>
                      <a:pt x="141899" y="19575"/>
                    </a:moveTo>
                    <a:lnTo>
                      <a:pt x="141899" y="37575"/>
                    </a:lnTo>
                    <a:lnTo>
                      <a:pt x="177899" y="37575"/>
                    </a:lnTo>
                    <a:lnTo>
                      <a:pt x="177899" y="19575"/>
                    </a:lnTo>
                    <a:lnTo>
                      <a:pt x="141899" y="19575"/>
                    </a:lnTo>
                    <a:close/>
                    <a:moveTo>
                      <a:pt x="89815" y="19575"/>
                    </a:moveTo>
                    <a:lnTo>
                      <a:pt x="89815" y="37575"/>
                    </a:lnTo>
                    <a:lnTo>
                      <a:pt x="125815" y="37575"/>
                    </a:lnTo>
                    <a:lnTo>
                      <a:pt x="125815" y="19575"/>
                    </a:lnTo>
                    <a:lnTo>
                      <a:pt x="89815" y="19575"/>
                    </a:lnTo>
                    <a:close/>
                    <a:moveTo>
                      <a:pt x="37731" y="19575"/>
                    </a:moveTo>
                    <a:lnTo>
                      <a:pt x="37731" y="37575"/>
                    </a:lnTo>
                    <a:lnTo>
                      <a:pt x="73731" y="37575"/>
                    </a:lnTo>
                    <a:lnTo>
                      <a:pt x="73731" y="19575"/>
                    </a:lnTo>
                    <a:lnTo>
                      <a:pt x="37731" y="19575"/>
                    </a:lnTo>
                    <a:close/>
                    <a:moveTo>
                      <a:pt x="0" y="0"/>
                    </a:moveTo>
                    <a:lnTo>
                      <a:pt x="1882304" y="0"/>
                    </a:lnTo>
                    <a:lnTo>
                      <a:pt x="1882304" y="1239158"/>
                    </a:lnTo>
                    <a:lnTo>
                      <a:pt x="0" y="12391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d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252" name="MH_Other_6"/>
              <p:cNvSpPr/>
              <p:nvPr/>
            </p:nvSpPr>
            <p:spPr>
              <a:xfrm rot="558000">
                <a:off x="6612480" y="2292120"/>
                <a:ext cx="4346280" cy="851040"/>
              </a:xfrm>
              <a:custGeom>
                <a:avLst/>
                <a:gdLst/>
                <a:ahLst/>
                <a:rect l="l" t="t" r="r" b="b"/>
                <a:pathLst>
                  <a:path w="1939924" h="596900">
                    <a:moveTo>
                      <a:pt x="50800" y="0"/>
                    </a:moveTo>
                    <a:lnTo>
                      <a:pt x="1892299" y="6350"/>
                    </a:lnTo>
                    <a:lnTo>
                      <a:pt x="1939924" y="596900"/>
                    </a:lnTo>
                    <a:lnTo>
                      <a:pt x="916939" y="489324"/>
                    </a:lnTo>
                    <a:lnTo>
                      <a:pt x="0" y="596900"/>
                    </a:lnTo>
                    <a:lnTo>
                      <a:pt x="508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79a9c"/>
                  </a:gs>
                  <a:gs pos="100000">
                    <a:srgbClr val="7d8183"/>
                  </a:gs>
                </a:gsLst>
                <a:lin ang="48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253" name="MH_SubTitle_2"/>
              <p:cNvSpPr/>
              <p:nvPr/>
            </p:nvSpPr>
            <p:spPr>
              <a:xfrm rot="558000">
                <a:off x="6607080" y="1216080"/>
                <a:ext cx="4534560" cy="18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d3f41"/>
                  </a:solidFill>
                  <a:latin typeface="Arial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</p:grpSp>
        <p:sp>
          <p:nvSpPr>
            <p:cNvPr id="254" name="文本框 5"/>
            <p:cNvSpPr/>
            <p:nvPr/>
          </p:nvSpPr>
          <p:spPr>
            <a:xfrm rot="600000">
              <a:off x="6698160" y="1368720"/>
              <a:ext cx="4360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                </a:t>
              </a:r>
              <a:r>
                <a:rPr b="1" lang="en-US" sz="1800" spc="-1" strike="noStrike">
                  <a:solidFill>
                    <a:srgbClr val="64606d"/>
                  </a:solidFill>
                  <a:latin typeface="Arial"/>
                  <a:ea typeface="宋体"/>
                </a:rPr>
                <a:t>  </a:t>
              </a:r>
              <a:r>
                <a:rPr b="1" lang="zh-CN" sz="1800" spc="-1" strike="noStrike">
                  <a:solidFill>
                    <a:srgbClr val="64606d"/>
                  </a:solidFill>
                  <a:latin typeface="Arial"/>
                  <a:ea typeface="宋体"/>
                </a:rPr>
                <a:t>仙明洞</a:t>
              </a: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4606d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64606d"/>
                  </a:solidFill>
                  <a:latin typeface="Arial"/>
                  <a:ea typeface="宋体"/>
                </a:rPr>
                <a:t>仙明洞位于中阳县宁乡镇段家庄村东山腰，海拔</a:t>
              </a:r>
              <a:r>
                <a:rPr b="1" lang="zh-CN" sz="1800" spc="-1" strike="noStrike">
                  <a:solidFill>
                    <a:srgbClr val="64606d"/>
                  </a:solidFill>
                  <a:latin typeface="Arial"/>
                  <a:ea typeface="宋体"/>
                </a:rPr>
                <a:t>1300</a:t>
              </a:r>
              <a:r>
                <a:rPr b="1" lang="zh-CN" sz="1800" spc="-1" strike="noStrike">
                  <a:solidFill>
                    <a:srgbClr val="64606d"/>
                  </a:solidFill>
                  <a:latin typeface="Arial"/>
                  <a:ea typeface="宋体"/>
                </a:rPr>
                <a:t>米，为溶岩横向洞穴。相传古时有人在洞中修炼成仙，遂成洞主，故名为仙明洞。洞中有洞，洞洞相连，主洞深</a:t>
              </a:r>
              <a:r>
                <a:rPr b="1" lang="zh-CN" sz="1800" spc="-1" strike="noStrike">
                  <a:solidFill>
                    <a:srgbClr val="64606d"/>
                  </a:solidFill>
                  <a:latin typeface="Arial"/>
                  <a:ea typeface="宋体"/>
                </a:rPr>
                <a:t>350</a:t>
              </a:r>
              <a:r>
                <a:rPr b="1" lang="zh-CN" sz="1800" spc="-1" strike="noStrike">
                  <a:solidFill>
                    <a:srgbClr val="64606d"/>
                  </a:solidFill>
                  <a:latin typeface="Arial"/>
                  <a:ea typeface="宋体"/>
                </a:rPr>
                <a:t>米，分大、中、小三个洞厅，小者可容数十人，大者可纳上千人。</a:t>
              </a: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</p:grpSp>
      <p:sp>
        <p:nvSpPr>
          <p:cNvPr id="255" name="矩形 7"/>
          <p:cNvSpPr/>
          <p:nvPr/>
        </p:nvSpPr>
        <p:spPr>
          <a:xfrm>
            <a:off x="2578680" y="2221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d3f41"/>
                </a:solidFill>
                <a:latin typeface="华文隶书"/>
                <a:ea typeface="华文隶书"/>
              </a:rPr>
              <a:t>中阳的风景名胜</a:t>
            </a:r>
            <a:endParaRPr b="0" lang="en-US" sz="5400" spc="-1" strike="noStrike">
              <a:solidFill>
                <a:srgbClr val="3d3f41"/>
              </a:solidFill>
              <a:latin typeface="Arial"/>
            </a:endParaRPr>
          </a:p>
        </p:txBody>
      </p:sp>
      <p:pic>
        <p:nvPicPr>
          <p:cNvPr id="256" name="图片 2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 flipH="1" rot="937800">
            <a:off x="106200" y="69480"/>
            <a:ext cx="138132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40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组合 21"/>
          <p:cNvGrpSpPr/>
          <p:nvPr/>
        </p:nvGrpSpPr>
        <p:grpSpPr>
          <a:xfrm>
            <a:off x="-1320120" y="6308640"/>
            <a:ext cx="8330760" cy="9940680"/>
            <a:chOff x="-1320120" y="6308640"/>
            <a:chExt cx="8330760" cy="9940680"/>
          </a:xfrm>
        </p:grpSpPr>
        <p:sp>
          <p:nvSpPr>
            <p:cNvPr id="258" name="任意多边形 18"/>
            <p:cNvSpPr/>
            <p:nvPr/>
          </p:nvSpPr>
          <p:spPr>
            <a:xfrm flipH="1" rot="2104800">
              <a:off x="1217520" y="6347880"/>
              <a:ext cx="3254400" cy="9861480"/>
            </a:xfrm>
            <a:custGeom>
              <a:avLst/>
              <a:gdLst/>
              <a:ahLst/>
              <a:rect l="l" t="t" r="r" b="b"/>
              <a:pathLst>
                <a:path w="3471862" h="9866948">
                  <a:moveTo>
                    <a:pt x="233395" y="8366100"/>
                  </a:moveTo>
                  <a:cubicBezTo>
                    <a:pt x="238279" y="8370984"/>
                    <a:pt x="241300" y="8377732"/>
                    <a:pt x="241299" y="8385184"/>
                  </a:cubicBezTo>
                  <a:lnTo>
                    <a:pt x="241300" y="8493132"/>
                  </a:lnTo>
                  <a:cubicBezTo>
                    <a:pt x="241300" y="8508038"/>
                    <a:pt x="229217" y="8520120"/>
                    <a:pt x="214312" y="8520121"/>
                  </a:cubicBezTo>
                  <a:lnTo>
                    <a:pt x="106362" y="8520120"/>
                  </a:lnTo>
                  <a:cubicBezTo>
                    <a:pt x="91457" y="8520120"/>
                    <a:pt x="79374" y="8508037"/>
                    <a:pt x="79375" y="8493132"/>
                  </a:cubicBezTo>
                  <a:lnTo>
                    <a:pt x="79374" y="8385184"/>
                  </a:lnTo>
                  <a:cubicBezTo>
                    <a:pt x="79375" y="8370279"/>
                    <a:pt x="91458" y="8358196"/>
                    <a:pt x="106362" y="8358195"/>
                  </a:cubicBezTo>
                  <a:lnTo>
                    <a:pt x="214312" y="8358195"/>
                  </a:lnTo>
                  <a:cubicBezTo>
                    <a:pt x="221764" y="8358195"/>
                    <a:pt x="228512" y="8361216"/>
                    <a:pt x="233395" y="8366100"/>
                  </a:cubicBezTo>
                  <a:close/>
                  <a:moveTo>
                    <a:pt x="233395" y="8031773"/>
                  </a:moveTo>
                  <a:cubicBezTo>
                    <a:pt x="238279" y="8036656"/>
                    <a:pt x="241300" y="8043403"/>
                    <a:pt x="241300" y="8050856"/>
                  </a:cubicBezTo>
                  <a:lnTo>
                    <a:pt x="241300" y="8158805"/>
                  </a:lnTo>
                  <a:cubicBezTo>
                    <a:pt x="241300" y="8173710"/>
                    <a:pt x="229217" y="8185793"/>
                    <a:pt x="214312" y="8185793"/>
                  </a:cubicBezTo>
                  <a:lnTo>
                    <a:pt x="106362" y="8185793"/>
                  </a:lnTo>
                  <a:cubicBezTo>
                    <a:pt x="91457" y="8185793"/>
                    <a:pt x="79375" y="8173710"/>
                    <a:pt x="79375" y="8158805"/>
                  </a:cubicBezTo>
                  <a:lnTo>
                    <a:pt x="79375" y="8050856"/>
                  </a:lnTo>
                  <a:cubicBezTo>
                    <a:pt x="79375" y="8035951"/>
                    <a:pt x="91458" y="8023867"/>
                    <a:pt x="106363" y="8023868"/>
                  </a:cubicBezTo>
                  <a:lnTo>
                    <a:pt x="214312" y="8023868"/>
                  </a:lnTo>
                  <a:cubicBezTo>
                    <a:pt x="221764" y="8023868"/>
                    <a:pt x="228511" y="8026888"/>
                    <a:pt x="233395" y="8031773"/>
                  </a:cubicBezTo>
                  <a:close/>
                  <a:moveTo>
                    <a:pt x="233395" y="7697444"/>
                  </a:moveTo>
                  <a:cubicBezTo>
                    <a:pt x="238279" y="7702328"/>
                    <a:pt x="241300" y="7709075"/>
                    <a:pt x="241300" y="7716528"/>
                  </a:cubicBezTo>
                  <a:lnTo>
                    <a:pt x="241299" y="7824476"/>
                  </a:lnTo>
                  <a:cubicBezTo>
                    <a:pt x="241300" y="7839382"/>
                    <a:pt x="229217" y="7851465"/>
                    <a:pt x="214312" y="7851464"/>
                  </a:cubicBezTo>
                  <a:lnTo>
                    <a:pt x="106362" y="7851464"/>
                  </a:lnTo>
                  <a:cubicBezTo>
                    <a:pt x="91458" y="7851465"/>
                    <a:pt x="79375" y="7839381"/>
                    <a:pt x="79375" y="7824477"/>
                  </a:cubicBezTo>
                  <a:lnTo>
                    <a:pt x="79375" y="7716528"/>
                  </a:lnTo>
                  <a:cubicBezTo>
                    <a:pt x="79375" y="7701623"/>
                    <a:pt x="91458" y="7689539"/>
                    <a:pt x="106363" y="7689540"/>
                  </a:cubicBezTo>
                  <a:lnTo>
                    <a:pt x="214311" y="7689540"/>
                  </a:lnTo>
                  <a:cubicBezTo>
                    <a:pt x="221764" y="7689540"/>
                    <a:pt x="228511" y="7692561"/>
                    <a:pt x="233395" y="7697444"/>
                  </a:cubicBezTo>
                  <a:close/>
                  <a:moveTo>
                    <a:pt x="233395" y="7363116"/>
                  </a:moveTo>
                  <a:cubicBezTo>
                    <a:pt x="238279" y="7368001"/>
                    <a:pt x="241300" y="7374747"/>
                    <a:pt x="241300" y="7382200"/>
                  </a:cubicBezTo>
                  <a:lnTo>
                    <a:pt x="241299" y="7490149"/>
                  </a:lnTo>
                  <a:cubicBezTo>
                    <a:pt x="241300" y="7505053"/>
                    <a:pt x="229217" y="7517136"/>
                    <a:pt x="214312" y="7517137"/>
                  </a:cubicBezTo>
                  <a:lnTo>
                    <a:pt x="106362" y="7517137"/>
                  </a:lnTo>
                  <a:cubicBezTo>
                    <a:pt x="91458" y="7517137"/>
                    <a:pt x="79375" y="7505054"/>
                    <a:pt x="79375" y="7490149"/>
                  </a:cubicBezTo>
                  <a:lnTo>
                    <a:pt x="79375" y="7382200"/>
                  </a:lnTo>
                  <a:cubicBezTo>
                    <a:pt x="79375" y="7367295"/>
                    <a:pt x="91458" y="7355212"/>
                    <a:pt x="106363" y="7355212"/>
                  </a:cubicBezTo>
                  <a:lnTo>
                    <a:pt x="214312" y="7355212"/>
                  </a:lnTo>
                  <a:cubicBezTo>
                    <a:pt x="221765" y="7355212"/>
                    <a:pt x="228511" y="7358233"/>
                    <a:pt x="233395" y="7363116"/>
                  </a:cubicBezTo>
                  <a:close/>
                  <a:moveTo>
                    <a:pt x="233395" y="7028788"/>
                  </a:moveTo>
                  <a:cubicBezTo>
                    <a:pt x="238279" y="7033672"/>
                    <a:pt x="241300" y="7040419"/>
                    <a:pt x="241300" y="7047872"/>
                  </a:cubicBezTo>
                  <a:lnTo>
                    <a:pt x="241300" y="7155821"/>
                  </a:lnTo>
                  <a:cubicBezTo>
                    <a:pt x="241300" y="7170726"/>
                    <a:pt x="229217" y="7182809"/>
                    <a:pt x="214312" y="7182809"/>
                  </a:cubicBezTo>
                  <a:lnTo>
                    <a:pt x="106363" y="7182809"/>
                  </a:lnTo>
                  <a:cubicBezTo>
                    <a:pt x="91458" y="7182809"/>
                    <a:pt x="79375" y="7170726"/>
                    <a:pt x="79375" y="7155821"/>
                  </a:cubicBezTo>
                  <a:lnTo>
                    <a:pt x="79375" y="7047872"/>
                  </a:lnTo>
                  <a:cubicBezTo>
                    <a:pt x="79375" y="7032967"/>
                    <a:pt x="91458" y="7020884"/>
                    <a:pt x="106363" y="7020884"/>
                  </a:cubicBezTo>
                  <a:lnTo>
                    <a:pt x="214312" y="7020884"/>
                  </a:lnTo>
                  <a:cubicBezTo>
                    <a:pt x="221764" y="7020884"/>
                    <a:pt x="228511" y="7023905"/>
                    <a:pt x="233395" y="7028788"/>
                  </a:cubicBezTo>
                  <a:close/>
                  <a:moveTo>
                    <a:pt x="233395" y="6694461"/>
                  </a:moveTo>
                  <a:cubicBezTo>
                    <a:pt x="238279" y="6699344"/>
                    <a:pt x="241300" y="6706091"/>
                    <a:pt x="241300" y="6713544"/>
                  </a:cubicBezTo>
                  <a:lnTo>
                    <a:pt x="241300" y="6821483"/>
                  </a:lnTo>
                  <a:cubicBezTo>
                    <a:pt x="241300" y="6836388"/>
                    <a:pt x="229217" y="6848471"/>
                    <a:pt x="214312" y="6848471"/>
                  </a:cubicBezTo>
                  <a:lnTo>
                    <a:pt x="106363" y="6848471"/>
                  </a:lnTo>
                  <a:cubicBezTo>
                    <a:pt x="91458" y="6848471"/>
                    <a:pt x="79375" y="6836388"/>
                    <a:pt x="79375" y="6821483"/>
                  </a:cubicBezTo>
                  <a:lnTo>
                    <a:pt x="79375" y="6713544"/>
                  </a:lnTo>
                  <a:cubicBezTo>
                    <a:pt x="79375" y="6698639"/>
                    <a:pt x="91458" y="6686556"/>
                    <a:pt x="106363" y="6686556"/>
                  </a:cubicBezTo>
                  <a:lnTo>
                    <a:pt x="214312" y="6686556"/>
                  </a:lnTo>
                  <a:cubicBezTo>
                    <a:pt x="221764" y="6686556"/>
                    <a:pt x="228511" y="6689577"/>
                    <a:pt x="233395" y="6694461"/>
                  </a:cubicBezTo>
                  <a:close/>
                  <a:moveTo>
                    <a:pt x="233396" y="6360134"/>
                  </a:moveTo>
                  <a:cubicBezTo>
                    <a:pt x="238279" y="6365018"/>
                    <a:pt x="241300" y="6371766"/>
                    <a:pt x="241300" y="6379219"/>
                  </a:cubicBezTo>
                  <a:lnTo>
                    <a:pt x="241300" y="6487165"/>
                  </a:lnTo>
                  <a:cubicBezTo>
                    <a:pt x="241300" y="6502069"/>
                    <a:pt x="229217" y="6514153"/>
                    <a:pt x="214312" y="6514152"/>
                  </a:cubicBezTo>
                  <a:lnTo>
                    <a:pt x="106363" y="6514153"/>
                  </a:lnTo>
                  <a:cubicBezTo>
                    <a:pt x="91458" y="6514153"/>
                    <a:pt x="79375" y="6502070"/>
                    <a:pt x="79375" y="6487165"/>
                  </a:cubicBezTo>
                  <a:lnTo>
                    <a:pt x="79375" y="6379219"/>
                  </a:lnTo>
                  <a:cubicBezTo>
                    <a:pt x="79375" y="6364312"/>
                    <a:pt x="91458" y="6352229"/>
                    <a:pt x="106363" y="6352229"/>
                  </a:cubicBezTo>
                  <a:lnTo>
                    <a:pt x="214312" y="6352229"/>
                  </a:lnTo>
                  <a:cubicBezTo>
                    <a:pt x="221764" y="6352229"/>
                    <a:pt x="228512" y="6355250"/>
                    <a:pt x="233396" y="6360134"/>
                  </a:cubicBezTo>
                  <a:close/>
                  <a:moveTo>
                    <a:pt x="233396" y="6025808"/>
                  </a:moveTo>
                  <a:cubicBezTo>
                    <a:pt x="238279" y="6030691"/>
                    <a:pt x="241300" y="6037439"/>
                    <a:pt x="241300" y="6044891"/>
                  </a:cubicBezTo>
                  <a:lnTo>
                    <a:pt x="241300" y="6152837"/>
                  </a:lnTo>
                  <a:cubicBezTo>
                    <a:pt x="241300" y="6167742"/>
                    <a:pt x="229217" y="6179825"/>
                    <a:pt x="214312" y="6179825"/>
                  </a:cubicBezTo>
                  <a:lnTo>
                    <a:pt x="106363" y="6179825"/>
                  </a:lnTo>
                  <a:cubicBezTo>
                    <a:pt x="91458" y="6179825"/>
                    <a:pt x="79375" y="6167742"/>
                    <a:pt x="79375" y="6152838"/>
                  </a:cubicBezTo>
                  <a:lnTo>
                    <a:pt x="79375" y="6044891"/>
                  </a:lnTo>
                  <a:cubicBezTo>
                    <a:pt x="79375" y="6029986"/>
                    <a:pt x="91458" y="6017903"/>
                    <a:pt x="106363" y="6017903"/>
                  </a:cubicBezTo>
                  <a:lnTo>
                    <a:pt x="214312" y="6017903"/>
                  </a:lnTo>
                  <a:cubicBezTo>
                    <a:pt x="221764" y="6017903"/>
                    <a:pt x="228512" y="6020924"/>
                    <a:pt x="233396" y="6025808"/>
                  </a:cubicBezTo>
                  <a:close/>
                  <a:moveTo>
                    <a:pt x="233395" y="5691479"/>
                  </a:moveTo>
                  <a:cubicBezTo>
                    <a:pt x="238279" y="5696363"/>
                    <a:pt x="241300" y="5703111"/>
                    <a:pt x="241300" y="5710563"/>
                  </a:cubicBezTo>
                  <a:lnTo>
                    <a:pt x="241300" y="5818509"/>
                  </a:lnTo>
                  <a:cubicBezTo>
                    <a:pt x="241300" y="5833414"/>
                    <a:pt x="229217" y="5845497"/>
                    <a:pt x="214312" y="5845497"/>
                  </a:cubicBezTo>
                  <a:lnTo>
                    <a:pt x="106363" y="5845497"/>
                  </a:lnTo>
                  <a:cubicBezTo>
                    <a:pt x="91458" y="5845497"/>
                    <a:pt x="79375" y="5833414"/>
                    <a:pt x="79375" y="5818510"/>
                  </a:cubicBezTo>
                  <a:lnTo>
                    <a:pt x="79375" y="5710563"/>
                  </a:lnTo>
                  <a:cubicBezTo>
                    <a:pt x="79375" y="5695658"/>
                    <a:pt x="91458" y="5683574"/>
                    <a:pt x="106363" y="5683574"/>
                  </a:cubicBezTo>
                  <a:lnTo>
                    <a:pt x="214312" y="5683574"/>
                  </a:lnTo>
                  <a:cubicBezTo>
                    <a:pt x="221765" y="5683574"/>
                    <a:pt x="228511" y="5686595"/>
                    <a:pt x="233395" y="5691479"/>
                  </a:cubicBezTo>
                  <a:close/>
                  <a:moveTo>
                    <a:pt x="233395" y="5357152"/>
                  </a:moveTo>
                  <a:cubicBezTo>
                    <a:pt x="238279" y="5362036"/>
                    <a:pt x="241300" y="5368782"/>
                    <a:pt x="241300" y="5376235"/>
                  </a:cubicBezTo>
                  <a:lnTo>
                    <a:pt x="241300" y="5484181"/>
                  </a:lnTo>
                  <a:cubicBezTo>
                    <a:pt x="241300" y="5499086"/>
                    <a:pt x="229217" y="5511169"/>
                    <a:pt x="214312" y="5511169"/>
                  </a:cubicBezTo>
                  <a:lnTo>
                    <a:pt x="106363" y="5511169"/>
                  </a:lnTo>
                  <a:cubicBezTo>
                    <a:pt x="91458" y="5511169"/>
                    <a:pt x="79375" y="5499086"/>
                    <a:pt x="79375" y="5484181"/>
                  </a:cubicBezTo>
                  <a:lnTo>
                    <a:pt x="79375" y="5376235"/>
                  </a:lnTo>
                  <a:cubicBezTo>
                    <a:pt x="79375" y="5361330"/>
                    <a:pt x="91458" y="5349247"/>
                    <a:pt x="106363" y="5349248"/>
                  </a:cubicBezTo>
                  <a:lnTo>
                    <a:pt x="214312" y="5349247"/>
                  </a:lnTo>
                  <a:cubicBezTo>
                    <a:pt x="221764" y="5349247"/>
                    <a:pt x="228511" y="5352268"/>
                    <a:pt x="233395" y="5357152"/>
                  </a:cubicBezTo>
                  <a:close/>
                  <a:moveTo>
                    <a:pt x="233396" y="5022826"/>
                  </a:moveTo>
                  <a:cubicBezTo>
                    <a:pt x="238279" y="5027710"/>
                    <a:pt x="241300" y="5034456"/>
                    <a:pt x="241300" y="5041908"/>
                  </a:cubicBezTo>
                  <a:lnTo>
                    <a:pt x="241300" y="5149853"/>
                  </a:lnTo>
                  <a:cubicBezTo>
                    <a:pt x="241300" y="5164758"/>
                    <a:pt x="229217" y="5176841"/>
                    <a:pt x="214312" y="5176841"/>
                  </a:cubicBezTo>
                  <a:lnTo>
                    <a:pt x="106363" y="5176841"/>
                  </a:lnTo>
                  <a:cubicBezTo>
                    <a:pt x="91458" y="5176841"/>
                    <a:pt x="79375" y="5164758"/>
                    <a:pt x="79375" y="5149853"/>
                  </a:cubicBezTo>
                  <a:lnTo>
                    <a:pt x="79375" y="5041908"/>
                  </a:lnTo>
                  <a:cubicBezTo>
                    <a:pt x="79375" y="5027004"/>
                    <a:pt x="91458" y="5014921"/>
                    <a:pt x="106363" y="5014921"/>
                  </a:cubicBezTo>
                  <a:lnTo>
                    <a:pt x="214312" y="5014921"/>
                  </a:lnTo>
                  <a:cubicBezTo>
                    <a:pt x="221764" y="5014921"/>
                    <a:pt x="228512" y="5017942"/>
                    <a:pt x="233396" y="5022826"/>
                  </a:cubicBezTo>
                  <a:close/>
                  <a:moveTo>
                    <a:pt x="233396" y="4688497"/>
                  </a:moveTo>
                  <a:cubicBezTo>
                    <a:pt x="238280" y="4693381"/>
                    <a:pt x="241300" y="4700128"/>
                    <a:pt x="241300" y="4707580"/>
                  </a:cubicBezTo>
                  <a:lnTo>
                    <a:pt x="241300" y="4815525"/>
                  </a:lnTo>
                  <a:cubicBezTo>
                    <a:pt x="241300" y="4830431"/>
                    <a:pt x="229217" y="4842513"/>
                    <a:pt x="214312" y="4842513"/>
                  </a:cubicBezTo>
                  <a:lnTo>
                    <a:pt x="106363" y="4842513"/>
                  </a:lnTo>
                  <a:cubicBezTo>
                    <a:pt x="91458" y="4842513"/>
                    <a:pt x="79375" y="4830430"/>
                    <a:pt x="79375" y="4815525"/>
                  </a:cubicBezTo>
                  <a:lnTo>
                    <a:pt x="79375" y="4707580"/>
                  </a:lnTo>
                  <a:cubicBezTo>
                    <a:pt x="79375" y="4692675"/>
                    <a:pt x="91458" y="4680592"/>
                    <a:pt x="106363" y="4680593"/>
                  </a:cubicBezTo>
                  <a:lnTo>
                    <a:pt x="214312" y="4680592"/>
                  </a:lnTo>
                  <a:cubicBezTo>
                    <a:pt x="221765" y="4680592"/>
                    <a:pt x="228512" y="4683613"/>
                    <a:pt x="233396" y="4688497"/>
                  </a:cubicBezTo>
                  <a:close/>
                  <a:moveTo>
                    <a:pt x="233395" y="4354169"/>
                  </a:moveTo>
                  <a:cubicBezTo>
                    <a:pt x="238280" y="4359053"/>
                    <a:pt x="241300" y="4365800"/>
                    <a:pt x="241300" y="4373252"/>
                  </a:cubicBezTo>
                  <a:lnTo>
                    <a:pt x="241300" y="4481197"/>
                  </a:lnTo>
                  <a:cubicBezTo>
                    <a:pt x="241300" y="4496102"/>
                    <a:pt x="229217" y="4508185"/>
                    <a:pt x="214312" y="4508185"/>
                  </a:cubicBezTo>
                  <a:lnTo>
                    <a:pt x="106363" y="4508185"/>
                  </a:lnTo>
                  <a:cubicBezTo>
                    <a:pt x="91458" y="4508185"/>
                    <a:pt x="79375" y="4496102"/>
                    <a:pt x="79375" y="4481197"/>
                  </a:cubicBezTo>
                  <a:lnTo>
                    <a:pt x="79375" y="4373252"/>
                  </a:lnTo>
                  <a:cubicBezTo>
                    <a:pt x="79375" y="4358347"/>
                    <a:pt x="91458" y="4346264"/>
                    <a:pt x="106363" y="4346264"/>
                  </a:cubicBezTo>
                  <a:lnTo>
                    <a:pt x="214312" y="4346264"/>
                  </a:lnTo>
                  <a:cubicBezTo>
                    <a:pt x="221765" y="4346264"/>
                    <a:pt x="228512" y="4349285"/>
                    <a:pt x="233395" y="4354169"/>
                  </a:cubicBezTo>
                  <a:close/>
                  <a:moveTo>
                    <a:pt x="233395" y="4019841"/>
                  </a:moveTo>
                  <a:cubicBezTo>
                    <a:pt x="238279" y="4024725"/>
                    <a:pt x="241300" y="4031472"/>
                    <a:pt x="241300" y="4038924"/>
                  </a:cubicBezTo>
                  <a:lnTo>
                    <a:pt x="241300" y="4146869"/>
                  </a:lnTo>
                  <a:cubicBezTo>
                    <a:pt x="241300" y="4161774"/>
                    <a:pt x="229217" y="4173857"/>
                    <a:pt x="214312" y="4173857"/>
                  </a:cubicBezTo>
                  <a:lnTo>
                    <a:pt x="106363" y="4173857"/>
                  </a:lnTo>
                  <a:cubicBezTo>
                    <a:pt x="91458" y="4173857"/>
                    <a:pt x="79375" y="4161774"/>
                    <a:pt x="79375" y="4146869"/>
                  </a:cubicBezTo>
                  <a:lnTo>
                    <a:pt x="79375" y="4038924"/>
                  </a:lnTo>
                  <a:cubicBezTo>
                    <a:pt x="79375" y="4024019"/>
                    <a:pt x="91458" y="4011936"/>
                    <a:pt x="106363" y="4011936"/>
                  </a:cubicBezTo>
                  <a:lnTo>
                    <a:pt x="214312" y="4011936"/>
                  </a:lnTo>
                  <a:cubicBezTo>
                    <a:pt x="221765" y="4011936"/>
                    <a:pt x="228512" y="4014957"/>
                    <a:pt x="233395" y="4019841"/>
                  </a:cubicBezTo>
                  <a:close/>
                  <a:moveTo>
                    <a:pt x="3384582" y="9034756"/>
                  </a:moveTo>
                  <a:cubicBezTo>
                    <a:pt x="3389466" y="9039640"/>
                    <a:pt x="3392487" y="9046387"/>
                    <a:pt x="3392487" y="9053839"/>
                  </a:cubicBezTo>
                  <a:lnTo>
                    <a:pt x="3392487" y="9161788"/>
                  </a:lnTo>
                  <a:cubicBezTo>
                    <a:pt x="3392487" y="9176693"/>
                    <a:pt x="3380404" y="9188777"/>
                    <a:pt x="3365499" y="9188777"/>
                  </a:cubicBezTo>
                  <a:lnTo>
                    <a:pt x="3257550" y="9188776"/>
                  </a:lnTo>
                  <a:cubicBezTo>
                    <a:pt x="3242645" y="9188776"/>
                    <a:pt x="3230562" y="9176694"/>
                    <a:pt x="3230562" y="9161788"/>
                  </a:cubicBezTo>
                  <a:lnTo>
                    <a:pt x="3230562" y="9053839"/>
                  </a:lnTo>
                  <a:cubicBezTo>
                    <a:pt x="3230562" y="9038934"/>
                    <a:pt x="3242645" y="9026851"/>
                    <a:pt x="3257550" y="9026851"/>
                  </a:cubicBezTo>
                  <a:lnTo>
                    <a:pt x="3365499" y="9026851"/>
                  </a:lnTo>
                  <a:cubicBezTo>
                    <a:pt x="3372952" y="9026851"/>
                    <a:pt x="3379698" y="9029872"/>
                    <a:pt x="3384582" y="9034756"/>
                  </a:cubicBezTo>
                  <a:close/>
                  <a:moveTo>
                    <a:pt x="233395" y="3685513"/>
                  </a:moveTo>
                  <a:cubicBezTo>
                    <a:pt x="238279" y="3690397"/>
                    <a:pt x="241300" y="3697144"/>
                    <a:pt x="241300" y="3704596"/>
                  </a:cubicBezTo>
                  <a:lnTo>
                    <a:pt x="241300" y="3812541"/>
                  </a:lnTo>
                  <a:cubicBezTo>
                    <a:pt x="241300" y="3827446"/>
                    <a:pt x="229217" y="3839529"/>
                    <a:pt x="214312" y="3839529"/>
                  </a:cubicBezTo>
                  <a:lnTo>
                    <a:pt x="106363" y="3839529"/>
                  </a:lnTo>
                  <a:cubicBezTo>
                    <a:pt x="91458" y="3839529"/>
                    <a:pt x="79375" y="3827446"/>
                    <a:pt x="79375" y="3812541"/>
                  </a:cubicBezTo>
                  <a:lnTo>
                    <a:pt x="79375" y="3704596"/>
                  </a:lnTo>
                  <a:cubicBezTo>
                    <a:pt x="79375" y="3689691"/>
                    <a:pt x="91458" y="3677608"/>
                    <a:pt x="106363" y="3677608"/>
                  </a:cubicBezTo>
                  <a:lnTo>
                    <a:pt x="214312" y="3677608"/>
                  </a:lnTo>
                  <a:cubicBezTo>
                    <a:pt x="221764" y="3677608"/>
                    <a:pt x="228511" y="3680629"/>
                    <a:pt x="233395" y="3685513"/>
                  </a:cubicBezTo>
                  <a:close/>
                  <a:moveTo>
                    <a:pt x="3384582" y="8700428"/>
                  </a:moveTo>
                  <a:cubicBezTo>
                    <a:pt x="3389466" y="8705312"/>
                    <a:pt x="3392487" y="8712059"/>
                    <a:pt x="3392486" y="8719512"/>
                  </a:cubicBezTo>
                  <a:lnTo>
                    <a:pt x="3392487" y="8827460"/>
                  </a:lnTo>
                  <a:cubicBezTo>
                    <a:pt x="3392487" y="8842365"/>
                    <a:pt x="3380404" y="8854449"/>
                    <a:pt x="3365499" y="8854449"/>
                  </a:cubicBezTo>
                  <a:lnTo>
                    <a:pt x="3257550" y="8854448"/>
                  </a:lnTo>
                  <a:cubicBezTo>
                    <a:pt x="3242645" y="8854448"/>
                    <a:pt x="3230562" y="8842365"/>
                    <a:pt x="3230562" y="8827460"/>
                  </a:cubicBezTo>
                  <a:lnTo>
                    <a:pt x="3230562" y="8719511"/>
                  </a:lnTo>
                  <a:cubicBezTo>
                    <a:pt x="3230562" y="8704607"/>
                    <a:pt x="3242645" y="8692523"/>
                    <a:pt x="3257550" y="8692523"/>
                  </a:cubicBezTo>
                  <a:lnTo>
                    <a:pt x="3365499" y="8692524"/>
                  </a:lnTo>
                  <a:cubicBezTo>
                    <a:pt x="3372951" y="8692524"/>
                    <a:pt x="3379698" y="8695544"/>
                    <a:pt x="3384582" y="8700428"/>
                  </a:cubicBezTo>
                  <a:close/>
                  <a:moveTo>
                    <a:pt x="233395" y="3351185"/>
                  </a:moveTo>
                  <a:cubicBezTo>
                    <a:pt x="238279" y="3356069"/>
                    <a:pt x="241300" y="3362816"/>
                    <a:pt x="241300" y="3370268"/>
                  </a:cubicBezTo>
                  <a:lnTo>
                    <a:pt x="241300" y="3478213"/>
                  </a:lnTo>
                  <a:cubicBezTo>
                    <a:pt x="241300" y="3493118"/>
                    <a:pt x="229217" y="3505201"/>
                    <a:pt x="214312" y="3505201"/>
                  </a:cubicBezTo>
                  <a:lnTo>
                    <a:pt x="106363" y="3505201"/>
                  </a:lnTo>
                  <a:cubicBezTo>
                    <a:pt x="91458" y="3505201"/>
                    <a:pt x="79375" y="3493118"/>
                    <a:pt x="79375" y="3478213"/>
                  </a:cubicBezTo>
                  <a:lnTo>
                    <a:pt x="79375" y="3370268"/>
                  </a:lnTo>
                  <a:cubicBezTo>
                    <a:pt x="79375" y="3355363"/>
                    <a:pt x="91458" y="3343280"/>
                    <a:pt x="106363" y="3343280"/>
                  </a:cubicBezTo>
                  <a:lnTo>
                    <a:pt x="214312" y="3343280"/>
                  </a:lnTo>
                  <a:cubicBezTo>
                    <a:pt x="221764" y="3343280"/>
                    <a:pt x="228511" y="3346301"/>
                    <a:pt x="233395" y="3351185"/>
                  </a:cubicBezTo>
                  <a:close/>
                  <a:moveTo>
                    <a:pt x="3384582" y="8366101"/>
                  </a:moveTo>
                  <a:cubicBezTo>
                    <a:pt x="3389466" y="8370984"/>
                    <a:pt x="3392487" y="8377731"/>
                    <a:pt x="3392487" y="8385184"/>
                  </a:cubicBezTo>
                  <a:lnTo>
                    <a:pt x="3392487" y="8493133"/>
                  </a:lnTo>
                  <a:cubicBezTo>
                    <a:pt x="3392487" y="8508038"/>
                    <a:pt x="3380404" y="8520120"/>
                    <a:pt x="3365499" y="8520120"/>
                  </a:cubicBezTo>
                  <a:lnTo>
                    <a:pt x="3257550" y="8520121"/>
                  </a:lnTo>
                  <a:cubicBezTo>
                    <a:pt x="3242645" y="8520121"/>
                    <a:pt x="3230562" y="8508038"/>
                    <a:pt x="3230562" y="8493133"/>
                  </a:cubicBezTo>
                  <a:lnTo>
                    <a:pt x="3230562" y="8385184"/>
                  </a:lnTo>
                  <a:cubicBezTo>
                    <a:pt x="3230562" y="8370279"/>
                    <a:pt x="3242645" y="8358196"/>
                    <a:pt x="3257550" y="8358196"/>
                  </a:cubicBezTo>
                  <a:lnTo>
                    <a:pt x="3365499" y="8358196"/>
                  </a:lnTo>
                  <a:cubicBezTo>
                    <a:pt x="3372951" y="8358196"/>
                    <a:pt x="3379698" y="8361216"/>
                    <a:pt x="3384582" y="8366101"/>
                  </a:cubicBezTo>
                  <a:close/>
                  <a:moveTo>
                    <a:pt x="233395" y="3016857"/>
                  </a:moveTo>
                  <a:cubicBezTo>
                    <a:pt x="238279" y="3021741"/>
                    <a:pt x="241300" y="3028488"/>
                    <a:pt x="241300" y="3035940"/>
                  </a:cubicBezTo>
                  <a:lnTo>
                    <a:pt x="241300" y="3143888"/>
                  </a:lnTo>
                  <a:cubicBezTo>
                    <a:pt x="241300" y="3158793"/>
                    <a:pt x="229217" y="3170876"/>
                    <a:pt x="214312" y="3170876"/>
                  </a:cubicBezTo>
                  <a:lnTo>
                    <a:pt x="106363" y="3170876"/>
                  </a:lnTo>
                  <a:cubicBezTo>
                    <a:pt x="91458" y="3170876"/>
                    <a:pt x="79375" y="3158793"/>
                    <a:pt x="79375" y="3143888"/>
                  </a:cubicBezTo>
                  <a:lnTo>
                    <a:pt x="79375" y="3035940"/>
                  </a:lnTo>
                  <a:cubicBezTo>
                    <a:pt x="79375" y="3021035"/>
                    <a:pt x="91458" y="3008952"/>
                    <a:pt x="106363" y="3008952"/>
                  </a:cubicBezTo>
                  <a:lnTo>
                    <a:pt x="106361" y="3008952"/>
                  </a:lnTo>
                  <a:lnTo>
                    <a:pt x="106363" y="3008951"/>
                  </a:lnTo>
                  <a:lnTo>
                    <a:pt x="214312" y="3008951"/>
                  </a:lnTo>
                  <a:lnTo>
                    <a:pt x="214315" y="3008952"/>
                  </a:lnTo>
                  <a:lnTo>
                    <a:pt x="214312" y="3008952"/>
                  </a:lnTo>
                  <a:cubicBezTo>
                    <a:pt x="221764" y="3008953"/>
                    <a:pt x="228511" y="3011973"/>
                    <a:pt x="233395" y="3016857"/>
                  </a:cubicBezTo>
                  <a:close/>
                  <a:moveTo>
                    <a:pt x="3384582" y="8031772"/>
                  </a:moveTo>
                  <a:cubicBezTo>
                    <a:pt x="3389466" y="8036656"/>
                    <a:pt x="3392487" y="8043403"/>
                    <a:pt x="3392487" y="8050856"/>
                  </a:cubicBezTo>
                  <a:lnTo>
                    <a:pt x="3392487" y="8158805"/>
                  </a:lnTo>
                  <a:cubicBezTo>
                    <a:pt x="3392486" y="8173710"/>
                    <a:pt x="3380404" y="8185793"/>
                    <a:pt x="3365499" y="8185793"/>
                  </a:cubicBezTo>
                  <a:lnTo>
                    <a:pt x="3257550" y="8185793"/>
                  </a:lnTo>
                  <a:cubicBezTo>
                    <a:pt x="3242645" y="8185793"/>
                    <a:pt x="3230562" y="8173710"/>
                    <a:pt x="3230562" y="8158805"/>
                  </a:cubicBezTo>
                  <a:lnTo>
                    <a:pt x="3230562" y="8050856"/>
                  </a:lnTo>
                  <a:cubicBezTo>
                    <a:pt x="3230561" y="8035951"/>
                    <a:pt x="3242645" y="8023867"/>
                    <a:pt x="3257550" y="8023868"/>
                  </a:cubicBezTo>
                  <a:lnTo>
                    <a:pt x="3365498" y="8023868"/>
                  </a:lnTo>
                  <a:cubicBezTo>
                    <a:pt x="3372951" y="8023868"/>
                    <a:pt x="3379698" y="8026888"/>
                    <a:pt x="3384582" y="8031772"/>
                  </a:cubicBezTo>
                  <a:close/>
                  <a:moveTo>
                    <a:pt x="233395" y="2682528"/>
                  </a:moveTo>
                  <a:cubicBezTo>
                    <a:pt x="238279" y="2687411"/>
                    <a:pt x="241300" y="2694159"/>
                    <a:pt x="241300" y="2701611"/>
                  </a:cubicBezTo>
                  <a:lnTo>
                    <a:pt x="241300" y="2809560"/>
                  </a:lnTo>
                  <a:cubicBezTo>
                    <a:pt x="241300" y="2824465"/>
                    <a:pt x="229217" y="2836548"/>
                    <a:pt x="214312" y="2836548"/>
                  </a:cubicBezTo>
                  <a:lnTo>
                    <a:pt x="106362" y="2836548"/>
                  </a:lnTo>
                  <a:cubicBezTo>
                    <a:pt x="91458" y="2836549"/>
                    <a:pt x="79375" y="2824465"/>
                    <a:pt x="79375" y="2809560"/>
                  </a:cubicBezTo>
                  <a:lnTo>
                    <a:pt x="79375" y="2701611"/>
                  </a:lnTo>
                  <a:cubicBezTo>
                    <a:pt x="79375" y="2686706"/>
                    <a:pt x="91457" y="2674622"/>
                    <a:pt x="106363" y="2674622"/>
                  </a:cubicBezTo>
                  <a:lnTo>
                    <a:pt x="214312" y="2674623"/>
                  </a:lnTo>
                  <a:cubicBezTo>
                    <a:pt x="221764" y="2674622"/>
                    <a:pt x="228511" y="2677643"/>
                    <a:pt x="233395" y="2682528"/>
                  </a:cubicBezTo>
                  <a:close/>
                  <a:moveTo>
                    <a:pt x="3384582" y="7697444"/>
                  </a:moveTo>
                  <a:cubicBezTo>
                    <a:pt x="3389466" y="7702328"/>
                    <a:pt x="3392486" y="7709075"/>
                    <a:pt x="3392487" y="7716528"/>
                  </a:cubicBezTo>
                  <a:lnTo>
                    <a:pt x="3392487" y="7824477"/>
                  </a:lnTo>
                  <a:cubicBezTo>
                    <a:pt x="3392487" y="7839382"/>
                    <a:pt x="3380403" y="7851465"/>
                    <a:pt x="3365498" y="7851465"/>
                  </a:cubicBezTo>
                  <a:lnTo>
                    <a:pt x="3257549" y="7851465"/>
                  </a:lnTo>
                  <a:cubicBezTo>
                    <a:pt x="3242645" y="7851465"/>
                    <a:pt x="3230562" y="7839382"/>
                    <a:pt x="3230562" y="7824477"/>
                  </a:cubicBezTo>
                  <a:lnTo>
                    <a:pt x="3230562" y="7716528"/>
                  </a:lnTo>
                  <a:cubicBezTo>
                    <a:pt x="3230562" y="7701623"/>
                    <a:pt x="3242644" y="7689540"/>
                    <a:pt x="3257550" y="7689540"/>
                  </a:cubicBezTo>
                  <a:lnTo>
                    <a:pt x="3365499" y="7689540"/>
                  </a:lnTo>
                  <a:cubicBezTo>
                    <a:pt x="3372951" y="7689540"/>
                    <a:pt x="3379698" y="7692561"/>
                    <a:pt x="3384582" y="7697444"/>
                  </a:cubicBezTo>
                  <a:close/>
                  <a:moveTo>
                    <a:pt x="233395" y="2348200"/>
                  </a:moveTo>
                  <a:cubicBezTo>
                    <a:pt x="238279" y="2353084"/>
                    <a:pt x="241300" y="2359831"/>
                    <a:pt x="241300" y="2367283"/>
                  </a:cubicBezTo>
                  <a:lnTo>
                    <a:pt x="241300" y="2475234"/>
                  </a:lnTo>
                  <a:cubicBezTo>
                    <a:pt x="241300" y="2490138"/>
                    <a:pt x="229217" y="2502222"/>
                    <a:pt x="214312" y="2502223"/>
                  </a:cubicBezTo>
                  <a:lnTo>
                    <a:pt x="106363" y="2502222"/>
                  </a:lnTo>
                  <a:cubicBezTo>
                    <a:pt x="91458" y="2502222"/>
                    <a:pt x="79375" y="2490138"/>
                    <a:pt x="79375" y="2475234"/>
                  </a:cubicBezTo>
                  <a:lnTo>
                    <a:pt x="79375" y="2367283"/>
                  </a:lnTo>
                  <a:cubicBezTo>
                    <a:pt x="79375" y="2352378"/>
                    <a:pt x="91458" y="2340295"/>
                    <a:pt x="106363" y="2340296"/>
                  </a:cubicBezTo>
                  <a:lnTo>
                    <a:pt x="214312" y="2340295"/>
                  </a:lnTo>
                  <a:cubicBezTo>
                    <a:pt x="221764" y="2340295"/>
                    <a:pt x="228512" y="2343316"/>
                    <a:pt x="233395" y="2348200"/>
                  </a:cubicBezTo>
                  <a:close/>
                  <a:moveTo>
                    <a:pt x="3384582" y="7363116"/>
                  </a:moveTo>
                  <a:cubicBezTo>
                    <a:pt x="3389466" y="7368000"/>
                    <a:pt x="3392486" y="7374747"/>
                    <a:pt x="3392486" y="7382200"/>
                  </a:cubicBezTo>
                  <a:lnTo>
                    <a:pt x="3392487" y="7490149"/>
                  </a:lnTo>
                  <a:cubicBezTo>
                    <a:pt x="3392486" y="7505054"/>
                    <a:pt x="3380403" y="7517137"/>
                    <a:pt x="3365498" y="7517137"/>
                  </a:cubicBezTo>
                  <a:lnTo>
                    <a:pt x="3257550" y="7517137"/>
                  </a:lnTo>
                  <a:cubicBezTo>
                    <a:pt x="3242645" y="7517137"/>
                    <a:pt x="3230561" y="7505054"/>
                    <a:pt x="3230561" y="7490149"/>
                  </a:cubicBezTo>
                  <a:lnTo>
                    <a:pt x="3230562" y="7382200"/>
                  </a:lnTo>
                  <a:cubicBezTo>
                    <a:pt x="3230562" y="7367295"/>
                    <a:pt x="3242645" y="7355212"/>
                    <a:pt x="3257550" y="7355212"/>
                  </a:cubicBezTo>
                  <a:lnTo>
                    <a:pt x="3365499" y="7355212"/>
                  </a:lnTo>
                  <a:cubicBezTo>
                    <a:pt x="3372951" y="7355212"/>
                    <a:pt x="3379698" y="7358233"/>
                    <a:pt x="3384582" y="7363116"/>
                  </a:cubicBezTo>
                  <a:close/>
                  <a:moveTo>
                    <a:pt x="233395" y="2013874"/>
                  </a:moveTo>
                  <a:cubicBezTo>
                    <a:pt x="238279" y="2018757"/>
                    <a:pt x="241300" y="2025504"/>
                    <a:pt x="241300" y="2032956"/>
                  </a:cubicBezTo>
                  <a:lnTo>
                    <a:pt x="241300" y="2140905"/>
                  </a:lnTo>
                  <a:cubicBezTo>
                    <a:pt x="241300" y="2155809"/>
                    <a:pt x="229217" y="2167894"/>
                    <a:pt x="214312" y="2167894"/>
                  </a:cubicBezTo>
                  <a:lnTo>
                    <a:pt x="106363" y="2167894"/>
                  </a:lnTo>
                  <a:cubicBezTo>
                    <a:pt x="91458" y="2167894"/>
                    <a:pt x="79375" y="2155809"/>
                    <a:pt x="79374" y="2140906"/>
                  </a:cubicBezTo>
                  <a:lnTo>
                    <a:pt x="79375" y="2032956"/>
                  </a:lnTo>
                  <a:cubicBezTo>
                    <a:pt x="79375" y="2018052"/>
                    <a:pt x="91457" y="2005969"/>
                    <a:pt x="106363" y="2005969"/>
                  </a:cubicBezTo>
                  <a:lnTo>
                    <a:pt x="214312" y="2005969"/>
                  </a:lnTo>
                  <a:cubicBezTo>
                    <a:pt x="221764" y="2005969"/>
                    <a:pt x="228511" y="2008990"/>
                    <a:pt x="233395" y="2013874"/>
                  </a:cubicBezTo>
                  <a:close/>
                  <a:moveTo>
                    <a:pt x="3384582" y="7028789"/>
                  </a:moveTo>
                  <a:cubicBezTo>
                    <a:pt x="3389466" y="7033672"/>
                    <a:pt x="3392486" y="7040420"/>
                    <a:pt x="3392486" y="7047872"/>
                  </a:cubicBezTo>
                  <a:lnTo>
                    <a:pt x="3392487" y="7155821"/>
                  </a:lnTo>
                  <a:cubicBezTo>
                    <a:pt x="3392486" y="7170726"/>
                    <a:pt x="3380404" y="7182809"/>
                    <a:pt x="3365498" y="7182809"/>
                  </a:cubicBezTo>
                  <a:lnTo>
                    <a:pt x="3257550" y="7182809"/>
                  </a:lnTo>
                  <a:cubicBezTo>
                    <a:pt x="3242645" y="7182809"/>
                    <a:pt x="3230562" y="7170726"/>
                    <a:pt x="3230562" y="7155821"/>
                  </a:cubicBezTo>
                  <a:lnTo>
                    <a:pt x="3230561" y="7047872"/>
                  </a:lnTo>
                  <a:cubicBezTo>
                    <a:pt x="3230561" y="7032967"/>
                    <a:pt x="3242645" y="7020884"/>
                    <a:pt x="3257549" y="7020884"/>
                  </a:cubicBezTo>
                  <a:lnTo>
                    <a:pt x="3365499" y="7020884"/>
                  </a:lnTo>
                  <a:cubicBezTo>
                    <a:pt x="3372951" y="7020884"/>
                    <a:pt x="3379698" y="7023905"/>
                    <a:pt x="3384582" y="7028789"/>
                  </a:cubicBezTo>
                  <a:close/>
                  <a:moveTo>
                    <a:pt x="233395" y="1679545"/>
                  </a:moveTo>
                  <a:cubicBezTo>
                    <a:pt x="238279" y="1684429"/>
                    <a:pt x="241300" y="1691176"/>
                    <a:pt x="241300" y="1698628"/>
                  </a:cubicBezTo>
                  <a:lnTo>
                    <a:pt x="241300" y="1806578"/>
                  </a:lnTo>
                  <a:cubicBezTo>
                    <a:pt x="241299" y="1821482"/>
                    <a:pt x="229217" y="1833565"/>
                    <a:pt x="214312" y="1833565"/>
                  </a:cubicBezTo>
                  <a:lnTo>
                    <a:pt x="106363" y="1833565"/>
                  </a:lnTo>
                  <a:cubicBezTo>
                    <a:pt x="91458" y="1833565"/>
                    <a:pt x="79375" y="1821482"/>
                    <a:pt x="79375" y="1806578"/>
                  </a:cubicBezTo>
                  <a:lnTo>
                    <a:pt x="79375" y="1698628"/>
                  </a:lnTo>
                  <a:cubicBezTo>
                    <a:pt x="79374" y="1683723"/>
                    <a:pt x="91458" y="1671640"/>
                    <a:pt x="106363" y="1671641"/>
                  </a:cubicBezTo>
                  <a:lnTo>
                    <a:pt x="214311" y="1671640"/>
                  </a:lnTo>
                  <a:cubicBezTo>
                    <a:pt x="221764" y="1671640"/>
                    <a:pt x="228511" y="1674661"/>
                    <a:pt x="233395" y="1679545"/>
                  </a:cubicBezTo>
                  <a:close/>
                  <a:moveTo>
                    <a:pt x="3384582" y="6694461"/>
                  </a:moveTo>
                  <a:cubicBezTo>
                    <a:pt x="3389466" y="6699344"/>
                    <a:pt x="3392486" y="6706091"/>
                    <a:pt x="3392486" y="6713543"/>
                  </a:cubicBezTo>
                  <a:lnTo>
                    <a:pt x="3392486" y="6821483"/>
                  </a:lnTo>
                  <a:cubicBezTo>
                    <a:pt x="3392486" y="6836388"/>
                    <a:pt x="3380403" y="6848471"/>
                    <a:pt x="3365498" y="6848471"/>
                  </a:cubicBezTo>
                  <a:lnTo>
                    <a:pt x="3257549" y="6848471"/>
                  </a:lnTo>
                  <a:cubicBezTo>
                    <a:pt x="3242645" y="6848471"/>
                    <a:pt x="3230561" y="6836388"/>
                    <a:pt x="3230562" y="6821483"/>
                  </a:cubicBezTo>
                  <a:lnTo>
                    <a:pt x="3230561" y="6713544"/>
                  </a:lnTo>
                  <a:cubicBezTo>
                    <a:pt x="3230562" y="6698639"/>
                    <a:pt x="3242644" y="6686556"/>
                    <a:pt x="3257550" y="6686556"/>
                  </a:cubicBezTo>
                  <a:lnTo>
                    <a:pt x="3365498" y="6686556"/>
                  </a:lnTo>
                  <a:cubicBezTo>
                    <a:pt x="3372951" y="6686556"/>
                    <a:pt x="3379698" y="6689577"/>
                    <a:pt x="3384582" y="6694461"/>
                  </a:cubicBezTo>
                  <a:close/>
                  <a:moveTo>
                    <a:pt x="233396" y="1345217"/>
                  </a:moveTo>
                  <a:cubicBezTo>
                    <a:pt x="238279" y="1350101"/>
                    <a:pt x="241300" y="1356847"/>
                    <a:pt x="241299" y="1364300"/>
                  </a:cubicBezTo>
                  <a:lnTo>
                    <a:pt x="241299" y="1472249"/>
                  </a:lnTo>
                  <a:cubicBezTo>
                    <a:pt x="241300" y="1487155"/>
                    <a:pt x="229216" y="1499237"/>
                    <a:pt x="214312" y="1499238"/>
                  </a:cubicBezTo>
                  <a:lnTo>
                    <a:pt x="106362" y="1499237"/>
                  </a:lnTo>
                  <a:cubicBezTo>
                    <a:pt x="91458" y="1499237"/>
                    <a:pt x="79375" y="1487154"/>
                    <a:pt x="79375" y="1472249"/>
                  </a:cubicBezTo>
                  <a:lnTo>
                    <a:pt x="79375" y="1364300"/>
                  </a:lnTo>
                  <a:cubicBezTo>
                    <a:pt x="79375" y="1349396"/>
                    <a:pt x="91458" y="1337312"/>
                    <a:pt x="106363" y="1337312"/>
                  </a:cubicBezTo>
                  <a:lnTo>
                    <a:pt x="214312" y="1337312"/>
                  </a:lnTo>
                  <a:cubicBezTo>
                    <a:pt x="221764" y="1337312"/>
                    <a:pt x="228512" y="1340333"/>
                    <a:pt x="233396" y="1345217"/>
                  </a:cubicBezTo>
                  <a:close/>
                  <a:moveTo>
                    <a:pt x="3384582" y="6360134"/>
                  </a:moveTo>
                  <a:cubicBezTo>
                    <a:pt x="3389466" y="6365018"/>
                    <a:pt x="3392486" y="6371765"/>
                    <a:pt x="3392486" y="6379219"/>
                  </a:cubicBezTo>
                  <a:lnTo>
                    <a:pt x="3392486" y="6487165"/>
                  </a:lnTo>
                  <a:cubicBezTo>
                    <a:pt x="3392487" y="6502069"/>
                    <a:pt x="3380403" y="6514153"/>
                    <a:pt x="3365498" y="6514153"/>
                  </a:cubicBezTo>
                  <a:lnTo>
                    <a:pt x="3257549" y="6514153"/>
                  </a:lnTo>
                  <a:cubicBezTo>
                    <a:pt x="3242644" y="6514153"/>
                    <a:pt x="3230561" y="6502070"/>
                    <a:pt x="3230562" y="6487165"/>
                  </a:cubicBezTo>
                  <a:lnTo>
                    <a:pt x="3230562" y="6379218"/>
                  </a:lnTo>
                  <a:cubicBezTo>
                    <a:pt x="3230561" y="6364312"/>
                    <a:pt x="3242644" y="6352229"/>
                    <a:pt x="3257549" y="6352229"/>
                  </a:cubicBezTo>
                  <a:lnTo>
                    <a:pt x="3365498" y="6352229"/>
                  </a:lnTo>
                  <a:cubicBezTo>
                    <a:pt x="3372951" y="6352229"/>
                    <a:pt x="3379698" y="6355249"/>
                    <a:pt x="3384582" y="6360134"/>
                  </a:cubicBezTo>
                  <a:close/>
                  <a:moveTo>
                    <a:pt x="233396" y="1010889"/>
                  </a:moveTo>
                  <a:cubicBezTo>
                    <a:pt x="238280" y="1015773"/>
                    <a:pt x="241299" y="1022520"/>
                    <a:pt x="241300" y="1029973"/>
                  </a:cubicBezTo>
                  <a:lnTo>
                    <a:pt x="241300" y="1137921"/>
                  </a:lnTo>
                  <a:cubicBezTo>
                    <a:pt x="241300" y="1152826"/>
                    <a:pt x="229217" y="1164910"/>
                    <a:pt x="214311" y="1164910"/>
                  </a:cubicBezTo>
                  <a:lnTo>
                    <a:pt x="106362" y="1164909"/>
                  </a:lnTo>
                  <a:cubicBezTo>
                    <a:pt x="91457" y="1164909"/>
                    <a:pt x="79375" y="1152826"/>
                    <a:pt x="79374" y="1137921"/>
                  </a:cubicBezTo>
                  <a:lnTo>
                    <a:pt x="79375" y="1029972"/>
                  </a:lnTo>
                  <a:cubicBezTo>
                    <a:pt x="79375" y="1015068"/>
                    <a:pt x="91457" y="1002984"/>
                    <a:pt x="106363" y="1002984"/>
                  </a:cubicBezTo>
                  <a:lnTo>
                    <a:pt x="214311" y="1002984"/>
                  </a:lnTo>
                  <a:cubicBezTo>
                    <a:pt x="221764" y="1002984"/>
                    <a:pt x="228511" y="1006005"/>
                    <a:pt x="233396" y="1010889"/>
                  </a:cubicBezTo>
                  <a:close/>
                  <a:moveTo>
                    <a:pt x="3384582" y="6025807"/>
                  </a:moveTo>
                  <a:cubicBezTo>
                    <a:pt x="3389466" y="6030691"/>
                    <a:pt x="3392486" y="6037439"/>
                    <a:pt x="3392486" y="6044891"/>
                  </a:cubicBezTo>
                  <a:lnTo>
                    <a:pt x="3392486" y="6152837"/>
                  </a:lnTo>
                  <a:cubicBezTo>
                    <a:pt x="3392487" y="6167742"/>
                    <a:pt x="3380404" y="6179825"/>
                    <a:pt x="3365498" y="6179825"/>
                  </a:cubicBezTo>
                  <a:lnTo>
                    <a:pt x="3257550" y="6179825"/>
                  </a:lnTo>
                  <a:cubicBezTo>
                    <a:pt x="3242645" y="6179825"/>
                    <a:pt x="3230561" y="6167742"/>
                    <a:pt x="3230562" y="6152837"/>
                  </a:cubicBezTo>
                  <a:lnTo>
                    <a:pt x="3230561" y="6044891"/>
                  </a:lnTo>
                  <a:cubicBezTo>
                    <a:pt x="3230562" y="6029986"/>
                    <a:pt x="3242644" y="6017903"/>
                    <a:pt x="3257549" y="6017902"/>
                  </a:cubicBezTo>
                  <a:lnTo>
                    <a:pt x="3365498" y="6017903"/>
                  </a:lnTo>
                  <a:cubicBezTo>
                    <a:pt x="3372951" y="6017903"/>
                    <a:pt x="3379698" y="6020924"/>
                    <a:pt x="3384582" y="6025807"/>
                  </a:cubicBezTo>
                  <a:close/>
                  <a:moveTo>
                    <a:pt x="3384582" y="5691479"/>
                  </a:moveTo>
                  <a:cubicBezTo>
                    <a:pt x="3389466" y="5696363"/>
                    <a:pt x="3392486" y="5703111"/>
                    <a:pt x="3392486" y="5710563"/>
                  </a:cubicBezTo>
                  <a:lnTo>
                    <a:pt x="3392486" y="5818509"/>
                  </a:lnTo>
                  <a:cubicBezTo>
                    <a:pt x="3392486" y="5833413"/>
                    <a:pt x="3380403" y="5845497"/>
                    <a:pt x="3365498" y="5845496"/>
                  </a:cubicBezTo>
                  <a:lnTo>
                    <a:pt x="3257550" y="5845497"/>
                  </a:lnTo>
                  <a:cubicBezTo>
                    <a:pt x="3242644" y="5845497"/>
                    <a:pt x="3230562" y="5833414"/>
                    <a:pt x="3230562" y="5818509"/>
                  </a:cubicBezTo>
                  <a:lnTo>
                    <a:pt x="3230561" y="5710563"/>
                  </a:lnTo>
                  <a:cubicBezTo>
                    <a:pt x="3230561" y="5695658"/>
                    <a:pt x="3242644" y="5683574"/>
                    <a:pt x="3257549" y="5683574"/>
                  </a:cubicBezTo>
                  <a:lnTo>
                    <a:pt x="3365498" y="5683574"/>
                  </a:lnTo>
                  <a:cubicBezTo>
                    <a:pt x="3372951" y="5683574"/>
                    <a:pt x="3379698" y="5686595"/>
                    <a:pt x="3384582" y="5691479"/>
                  </a:cubicBezTo>
                  <a:close/>
                  <a:moveTo>
                    <a:pt x="3384582" y="5357151"/>
                  </a:moveTo>
                  <a:cubicBezTo>
                    <a:pt x="3389466" y="5362035"/>
                    <a:pt x="3392487" y="5368783"/>
                    <a:pt x="3392487" y="5376235"/>
                  </a:cubicBezTo>
                  <a:lnTo>
                    <a:pt x="3392486" y="5484181"/>
                  </a:lnTo>
                  <a:cubicBezTo>
                    <a:pt x="3392487" y="5499086"/>
                    <a:pt x="3380403" y="5511169"/>
                    <a:pt x="3365499" y="5511169"/>
                  </a:cubicBezTo>
                  <a:lnTo>
                    <a:pt x="3257550" y="5511169"/>
                  </a:lnTo>
                  <a:cubicBezTo>
                    <a:pt x="3242644" y="5511169"/>
                    <a:pt x="3230561" y="5499086"/>
                    <a:pt x="3230561" y="5484181"/>
                  </a:cubicBezTo>
                  <a:lnTo>
                    <a:pt x="3230562" y="5376235"/>
                  </a:lnTo>
                  <a:cubicBezTo>
                    <a:pt x="3230561" y="5361330"/>
                    <a:pt x="3242645" y="5349247"/>
                    <a:pt x="3257549" y="5349247"/>
                  </a:cubicBezTo>
                  <a:lnTo>
                    <a:pt x="3365498" y="5349247"/>
                  </a:lnTo>
                  <a:cubicBezTo>
                    <a:pt x="3372951" y="5349247"/>
                    <a:pt x="3379698" y="5352267"/>
                    <a:pt x="3384582" y="5357151"/>
                  </a:cubicBezTo>
                  <a:close/>
                  <a:moveTo>
                    <a:pt x="3384582" y="5022825"/>
                  </a:moveTo>
                  <a:cubicBezTo>
                    <a:pt x="3389465" y="5027709"/>
                    <a:pt x="3392486" y="5034456"/>
                    <a:pt x="3392487" y="5041908"/>
                  </a:cubicBezTo>
                  <a:lnTo>
                    <a:pt x="3392487" y="5149853"/>
                  </a:lnTo>
                  <a:cubicBezTo>
                    <a:pt x="3392486" y="5164758"/>
                    <a:pt x="3380404" y="5176841"/>
                    <a:pt x="3365499" y="5176841"/>
                  </a:cubicBezTo>
                  <a:lnTo>
                    <a:pt x="3257549" y="5176841"/>
                  </a:lnTo>
                  <a:cubicBezTo>
                    <a:pt x="3242644" y="5176841"/>
                    <a:pt x="3230561" y="5164758"/>
                    <a:pt x="3230561" y="5149853"/>
                  </a:cubicBezTo>
                  <a:lnTo>
                    <a:pt x="3230561" y="5041908"/>
                  </a:lnTo>
                  <a:cubicBezTo>
                    <a:pt x="3230561" y="5027004"/>
                    <a:pt x="3242644" y="5014921"/>
                    <a:pt x="3257549" y="5014921"/>
                  </a:cubicBezTo>
                  <a:lnTo>
                    <a:pt x="3365498" y="5014921"/>
                  </a:lnTo>
                  <a:cubicBezTo>
                    <a:pt x="3372951" y="5014921"/>
                    <a:pt x="3379698" y="5017942"/>
                    <a:pt x="3384582" y="5022825"/>
                  </a:cubicBezTo>
                  <a:close/>
                  <a:moveTo>
                    <a:pt x="3384582" y="4688497"/>
                  </a:moveTo>
                  <a:cubicBezTo>
                    <a:pt x="3389466" y="4693381"/>
                    <a:pt x="3392486" y="4700127"/>
                    <a:pt x="3392486" y="4707580"/>
                  </a:cubicBezTo>
                  <a:lnTo>
                    <a:pt x="3392486" y="4815525"/>
                  </a:lnTo>
                  <a:cubicBezTo>
                    <a:pt x="3392487" y="4830430"/>
                    <a:pt x="3380403" y="4842513"/>
                    <a:pt x="3365499" y="4842513"/>
                  </a:cubicBezTo>
                  <a:lnTo>
                    <a:pt x="3257550" y="4842513"/>
                  </a:lnTo>
                  <a:cubicBezTo>
                    <a:pt x="3242644" y="4842513"/>
                    <a:pt x="3230562" y="4830430"/>
                    <a:pt x="3230561" y="4815525"/>
                  </a:cubicBezTo>
                  <a:lnTo>
                    <a:pt x="3230561" y="4707580"/>
                  </a:lnTo>
                  <a:cubicBezTo>
                    <a:pt x="3230561" y="4692675"/>
                    <a:pt x="3242644" y="4680592"/>
                    <a:pt x="3257550" y="4680592"/>
                  </a:cubicBezTo>
                  <a:lnTo>
                    <a:pt x="3365498" y="4680592"/>
                  </a:lnTo>
                  <a:cubicBezTo>
                    <a:pt x="3372951" y="4680592"/>
                    <a:pt x="3379698" y="4683613"/>
                    <a:pt x="3384582" y="4688497"/>
                  </a:cubicBezTo>
                  <a:close/>
                  <a:moveTo>
                    <a:pt x="3384582" y="4354169"/>
                  </a:moveTo>
                  <a:cubicBezTo>
                    <a:pt x="3389466" y="4359053"/>
                    <a:pt x="3392487" y="4365800"/>
                    <a:pt x="3392487" y="4373253"/>
                  </a:cubicBezTo>
                  <a:lnTo>
                    <a:pt x="3392486" y="4481197"/>
                  </a:lnTo>
                  <a:cubicBezTo>
                    <a:pt x="3392487" y="4496102"/>
                    <a:pt x="3380404" y="4508185"/>
                    <a:pt x="3365499" y="4508185"/>
                  </a:cubicBezTo>
                  <a:lnTo>
                    <a:pt x="3257550" y="4508185"/>
                  </a:lnTo>
                  <a:cubicBezTo>
                    <a:pt x="3242645" y="4508186"/>
                    <a:pt x="3230561" y="4496102"/>
                    <a:pt x="3230562" y="4481198"/>
                  </a:cubicBezTo>
                  <a:lnTo>
                    <a:pt x="3230562" y="4373252"/>
                  </a:lnTo>
                  <a:cubicBezTo>
                    <a:pt x="3230562" y="4358347"/>
                    <a:pt x="3242645" y="4346265"/>
                    <a:pt x="3257550" y="4346264"/>
                  </a:cubicBezTo>
                  <a:lnTo>
                    <a:pt x="3365499" y="4346264"/>
                  </a:lnTo>
                  <a:cubicBezTo>
                    <a:pt x="3372951" y="4346264"/>
                    <a:pt x="3379698" y="4349285"/>
                    <a:pt x="3384582" y="4354169"/>
                  </a:cubicBezTo>
                  <a:close/>
                  <a:moveTo>
                    <a:pt x="3384582" y="4019841"/>
                  </a:moveTo>
                  <a:cubicBezTo>
                    <a:pt x="3389465" y="4024724"/>
                    <a:pt x="3392487" y="4031472"/>
                    <a:pt x="3392487" y="4038924"/>
                  </a:cubicBezTo>
                  <a:lnTo>
                    <a:pt x="3392487" y="4146870"/>
                  </a:lnTo>
                  <a:cubicBezTo>
                    <a:pt x="3392487" y="4161775"/>
                    <a:pt x="3380404" y="4173857"/>
                    <a:pt x="3365499" y="4173857"/>
                  </a:cubicBezTo>
                  <a:lnTo>
                    <a:pt x="3257550" y="4173858"/>
                  </a:lnTo>
                  <a:cubicBezTo>
                    <a:pt x="3242645" y="4173857"/>
                    <a:pt x="3230562" y="4161774"/>
                    <a:pt x="3230562" y="4146869"/>
                  </a:cubicBezTo>
                  <a:lnTo>
                    <a:pt x="3230562" y="4038924"/>
                  </a:lnTo>
                  <a:cubicBezTo>
                    <a:pt x="3230562" y="4024019"/>
                    <a:pt x="3242645" y="4011936"/>
                    <a:pt x="3257550" y="4011936"/>
                  </a:cubicBezTo>
                  <a:lnTo>
                    <a:pt x="3365499" y="4011936"/>
                  </a:lnTo>
                  <a:cubicBezTo>
                    <a:pt x="3372951" y="4011936"/>
                    <a:pt x="3379698" y="4014957"/>
                    <a:pt x="3384582" y="4019841"/>
                  </a:cubicBezTo>
                  <a:close/>
                  <a:moveTo>
                    <a:pt x="3384582" y="3685513"/>
                  </a:moveTo>
                  <a:cubicBezTo>
                    <a:pt x="3389466" y="3690397"/>
                    <a:pt x="3392487" y="3697144"/>
                    <a:pt x="3392487" y="3704596"/>
                  </a:cubicBezTo>
                  <a:lnTo>
                    <a:pt x="3392487" y="3812542"/>
                  </a:lnTo>
                  <a:cubicBezTo>
                    <a:pt x="3392487" y="3827447"/>
                    <a:pt x="3380404" y="3839529"/>
                    <a:pt x="3365499" y="3839529"/>
                  </a:cubicBezTo>
                  <a:lnTo>
                    <a:pt x="3257550" y="3839530"/>
                  </a:lnTo>
                  <a:cubicBezTo>
                    <a:pt x="3242645" y="3839529"/>
                    <a:pt x="3230562" y="3827446"/>
                    <a:pt x="3230562" y="3812541"/>
                  </a:cubicBezTo>
                  <a:lnTo>
                    <a:pt x="3230562" y="3704596"/>
                  </a:lnTo>
                  <a:cubicBezTo>
                    <a:pt x="3230562" y="3689691"/>
                    <a:pt x="3242645" y="3677608"/>
                    <a:pt x="3257550" y="3677608"/>
                  </a:cubicBezTo>
                  <a:lnTo>
                    <a:pt x="3365499" y="3677608"/>
                  </a:lnTo>
                  <a:cubicBezTo>
                    <a:pt x="3372951" y="3677608"/>
                    <a:pt x="3379698" y="3680629"/>
                    <a:pt x="3384582" y="3685513"/>
                  </a:cubicBezTo>
                  <a:close/>
                  <a:moveTo>
                    <a:pt x="3384582" y="3351185"/>
                  </a:moveTo>
                  <a:cubicBezTo>
                    <a:pt x="3389466" y="3356069"/>
                    <a:pt x="3392487" y="3362816"/>
                    <a:pt x="3392487" y="3370268"/>
                  </a:cubicBezTo>
                  <a:lnTo>
                    <a:pt x="3392487" y="3478213"/>
                  </a:lnTo>
                  <a:cubicBezTo>
                    <a:pt x="3392487" y="3493118"/>
                    <a:pt x="3380404" y="3505201"/>
                    <a:pt x="3365499" y="3505201"/>
                  </a:cubicBezTo>
                  <a:lnTo>
                    <a:pt x="3257550" y="3505201"/>
                  </a:lnTo>
                  <a:cubicBezTo>
                    <a:pt x="3242645" y="3505201"/>
                    <a:pt x="3230561" y="3493118"/>
                    <a:pt x="3230562" y="3478213"/>
                  </a:cubicBezTo>
                  <a:lnTo>
                    <a:pt x="3230562" y="3370268"/>
                  </a:lnTo>
                  <a:cubicBezTo>
                    <a:pt x="3230562" y="3355363"/>
                    <a:pt x="3242645" y="3343280"/>
                    <a:pt x="3257550" y="3343281"/>
                  </a:cubicBezTo>
                  <a:lnTo>
                    <a:pt x="3365499" y="3343280"/>
                  </a:lnTo>
                  <a:cubicBezTo>
                    <a:pt x="3372951" y="3343280"/>
                    <a:pt x="3379698" y="3346301"/>
                    <a:pt x="3384582" y="3351185"/>
                  </a:cubicBezTo>
                  <a:close/>
                  <a:moveTo>
                    <a:pt x="3384582" y="3016857"/>
                  </a:moveTo>
                  <a:cubicBezTo>
                    <a:pt x="3389466" y="3021741"/>
                    <a:pt x="3392487" y="3028488"/>
                    <a:pt x="3392487" y="3035940"/>
                  </a:cubicBezTo>
                  <a:lnTo>
                    <a:pt x="3392487" y="3143888"/>
                  </a:lnTo>
                  <a:cubicBezTo>
                    <a:pt x="3392487" y="3158793"/>
                    <a:pt x="3380404" y="3170876"/>
                    <a:pt x="3365499" y="3170876"/>
                  </a:cubicBezTo>
                  <a:lnTo>
                    <a:pt x="3257550" y="3170876"/>
                  </a:lnTo>
                  <a:cubicBezTo>
                    <a:pt x="3242645" y="3170876"/>
                    <a:pt x="3230562" y="3158793"/>
                    <a:pt x="3230561" y="3143888"/>
                  </a:cubicBezTo>
                  <a:lnTo>
                    <a:pt x="3230562" y="3035941"/>
                  </a:lnTo>
                  <a:cubicBezTo>
                    <a:pt x="3230562" y="3021036"/>
                    <a:pt x="3242645" y="3008952"/>
                    <a:pt x="3257550" y="3008952"/>
                  </a:cubicBezTo>
                  <a:lnTo>
                    <a:pt x="3257548" y="3008953"/>
                  </a:lnTo>
                  <a:lnTo>
                    <a:pt x="3257550" y="3008951"/>
                  </a:lnTo>
                  <a:lnTo>
                    <a:pt x="3365499" y="3008951"/>
                  </a:lnTo>
                  <a:lnTo>
                    <a:pt x="3365502" y="3008952"/>
                  </a:lnTo>
                  <a:lnTo>
                    <a:pt x="3365499" y="3008953"/>
                  </a:lnTo>
                  <a:cubicBezTo>
                    <a:pt x="3372951" y="3008952"/>
                    <a:pt x="3379698" y="3011973"/>
                    <a:pt x="3384582" y="3016857"/>
                  </a:cubicBezTo>
                  <a:close/>
                  <a:moveTo>
                    <a:pt x="3384582" y="2682528"/>
                  </a:moveTo>
                  <a:cubicBezTo>
                    <a:pt x="3389466" y="2687412"/>
                    <a:pt x="3392487" y="2694159"/>
                    <a:pt x="3392487" y="2701612"/>
                  </a:cubicBezTo>
                  <a:lnTo>
                    <a:pt x="3392487" y="2809560"/>
                  </a:lnTo>
                  <a:cubicBezTo>
                    <a:pt x="3392487" y="2824465"/>
                    <a:pt x="3380404" y="2836549"/>
                    <a:pt x="3365499" y="2836549"/>
                  </a:cubicBezTo>
                  <a:lnTo>
                    <a:pt x="3257550" y="2836548"/>
                  </a:lnTo>
                  <a:cubicBezTo>
                    <a:pt x="3242645" y="2836548"/>
                    <a:pt x="3230562" y="2824465"/>
                    <a:pt x="3230562" y="2809560"/>
                  </a:cubicBezTo>
                  <a:lnTo>
                    <a:pt x="3230562" y="2701611"/>
                  </a:lnTo>
                  <a:cubicBezTo>
                    <a:pt x="3230562" y="2686706"/>
                    <a:pt x="3242645" y="2674622"/>
                    <a:pt x="3257550" y="2674623"/>
                  </a:cubicBezTo>
                  <a:lnTo>
                    <a:pt x="3365499" y="2674622"/>
                  </a:lnTo>
                  <a:cubicBezTo>
                    <a:pt x="3372951" y="2674622"/>
                    <a:pt x="3379698" y="2677643"/>
                    <a:pt x="3384582" y="2682528"/>
                  </a:cubicBezTo>
                  <a:close/>
                  <a:moveTo>
                    <a:pt x="3384582" y="2348200"/>
                  </a:moveTo>
                  <a:cubicBezTo>
                    <a:pt x="3389466" y="2353084"/>
                    <a:pt x="3392487" y="2359831"/>
                    <a:pt x="3392487" y="2367283"/>
                  </a:cubicBezTo>
                  <a:lnTo>
                    <a:pt x="3392487" y="2475235"/>
                  </a:lnTo>
                  <a:cubicBezTo>
                    <a:pt x="3392487" y="2490138"/>
                    <a:pt x="3380404" y="2502222"/>
                    <a:pt x="3365499" y="2502222"/>
                  </a:cubicBezTo>
                  <a:lnTo>
                    <a:pt x="3257550" y="2502223"/>
                  </a:lnTo>
                  <a:cubicBezTo>
                    <a:pt x="3242645" y="2502222"/>
                    <a:pt x="3230562" y="2490138"/>
                    <a:pt x="3230562" y="2475234"/>
                  </a:cubicBezTo>
                  <a:lnTo>
                    <a:pt x="3230562" y="2367283"/>
                  </a:lnTo>
                  <a:cubicBezTo>
                    <a:pt x="3230562" y="2352378"/>
                    <a:pt x="3242645" y="2340295"/>
                    <a:pt x="3257550" y="2340295"/>
                  </a:cubicBezTo>
                  <a:lnTo>
                    <a:pt x="3365499" y="2340295"/>
                  </a:lnTo>
                  <a:cubicBezTo>
                    <a:pt x="3372951" y="2340295"/>
                    <a:pt x="3379698" y="2343316"/>
                    <a:pt x="3384582" y="2348200"/>
                  </a:cubicBezTo>
                  <a:close/>
                  <a:moveTo>
                    <a:pt x="3384582" y="2013874"/>
                  </a:moveTo>
                  <a:cubicBezTo>
                    <a:pt x="3389466" y="2018758"/>
                    <a:pt x="3392487" y="2025504"/>
                    <a:pt x="3392487" y="2032957"/>
                  </a:cubicBezTo>
                  <a:lnTo>
                    <a:pt x="3392487" y="2140905"/>
                  </a:lnTo>
                  <a:cubicBezTo>
                    <a:pt x="3392487" y="2155809"/>
                    <a:pt x="3380404" y="2167894"/>
                    <a:pt x="3365499" y="2167894"/>
                  </a:cubicBezTo>
                  <a:lnTo>
                    <a:pt x="3257550" y="2167895"/>
                  </a:lnTo>
                  <a:cubicBezTo>
                    <a:pt x="3242645" y="2167894"/>
                    <a:pt x="3230562" y="2155809"/>
                    <a:pt x="3230562" y="2140905"/>
                  </a:cubicBezTo>
                  <a:lnTo>
                    <a:pt x="3230562" y="2032956"/>
                  </a:lnTo>
                  <a:cubicBezTo>
                    <a:pt x="3230562" y="2018052"/>
                    <a:pt x="3242645" y="2005969"/>
                    <a:pt x="3257550" y="2005969"/>
                  </a:cubicBezTo>
                  <a:lnTo>
                    <a:pt x="3365499" y="2005970"/>
                  </a:lnTo>
                  <a:cubicBezTo>
                    <a:pt x="3372951" y="2005970"/>
                    <a:pt x="3379698" y="2008990"/>
                    <a:pt x="3384582" y="2013874"/>
                  </a:cubicBezTo>
                  <a:close/>
                  <a:moveTo>
                    <a:pt x="3384582" y="1679545"/>
                  </a:moveTo>
                  <a:cubicBezTo>
                    <a:pt x="3389466" y="1684429"/>
                    <a:pt x="3392487" y="1691176"/>
                    <a:pt x="3392487" y="1698628"/>
                  </a:cubicBezTo>
                  <a:lnTo>
                    <a:pt x="3392487" y="1806578"/>
                  </a:lnTo>
                  <a:cubicBezTo>
                    <a:pt x="3392487" y="1821482"/>
                    <a:pt x="3380404" y="1833565"/>
                    <a:pt x="3365499" y="1833565"/>
                  </a:cubicBezTo>
                  <a:lnTo>
                    <a:pt x="3257550" y="1833565"/>
                  </a:lnTo>
                  <a:cubicBezTo>
                    <a:pt x="3242645" y="1833565"/>
                    <a:pt x="3230562" y="1821483"/>
                    <a:pt x="3230562" y="1806578"/>
                  </a:cubicBezTo>
                  <a:lnTo>
                    <a:pt x="3230562" y="1698628"/>
                  </a:lnTo>
                  <a:cubicBezTo>
                    <a:pt x="3230562" y="1683723"/>
                    <a:pt x="3242645" y="1671640"/>
                    <a:pt x="3257550" y="1671640"/>
                  </a:cubicBezTo>
                  <a:lnTo>
                    <a:pt x="3365499" y="1671640"/>
                  </a:lnTo>
                  <a:cubicBezTo>
                    <a:pt x="3372951" y="1671640"/>
                    <a:pt x="3379698" y="1674661"/>
                    <a:pt x="3384582" y="1679545"/>
                  </a:cubicBezTo>
                  <a:close/>
                  <a:moveTo>
                    <a:pt x="3384582" y="1345217"/>
                  </a:moveTo>
                  <a:cubicBezTo>
                    <a:pt x="3389466" y="1350101"/>
                    <a:pt x="3392487" y="1356848"/>
                    <a:pt x="3392487" y="1364300"/>
                  </a:cubicBezTo>
                  <a:lnTo>
                    <a:pt x="3392487" y="1472249"/>
                  </a:lnTo>
                  <a:cubicBezTo>
                    <a:pt x="3392487" y="1487154"/>
                    <a:pt x="3380404" y="1499237"/>
                    <a:pt x="3365499" y="1499237"/>
                  </a:cubicBezTo>
                  <a:lnTo>
                    <a:pt x="3257550" y="1499237"/>
                  </a:lnTo>
                  <a:cubicBezTo>
                    <a:pt x="3242645" y="1499237"/>
                    <a:pt x="3230562" y="1487154"/>
                    <a:pt x="3230562" y="1472249"/>
                  </a:cubicBezTo>
                  <a:lnTo>
                    <a:pt x="3230562" y="1364300"/>
                  </a:lnTo>
                  <a:cubicBezTo>
                    <a:pt x="3230562" y="1349395"/>
                    <a:pt x="3242645" y="1337312"/>
                    <a:pt x="3257550" y="1337312"/>
                  </a:cubicBezTo>
                  <a:lnTo>
                    <a:pt x="3365499" y="1337312"/>
                  </a:lnTo>
                  <a:cubicBezTo>
                    <a:pt x="3372951" y="1337312"/>
                    <a:pt x="3379698" y="1340333"/>
                    <a:pt x="3384582" y="1345217"/>
                  </a:cubicBezTo>
                  <a:close/>
                  <a:moveTo>
                    <a:pt x="3471862" y="1235268"/>
                  </a:moveTo>
                  <a:lnTo>
                    <a:pt x="3392487" y="1107871"/>
                  </a:lnTo>
                  <a:lnTo>
                    <a:pt x="3392487" y="1137921"/>
                  </a:lnTo>
                  <a:cubicBezTo>
                    <a:pt x="3392487" y="1152826"/>
                    <a:pt x="3380404" y="1164909"/>
                    <a:pt x="3365499" y="1164909"/>
                  </a:cubicBezTo>
                  <a:lnTo>
                    <a:pt x="3257550" y="1164909"/>
                  </a:lnTo>
                  <a:cubicBezTo>
                    <a:pt x="3242645" y="1164909"/>
                    <a:pt x="3230562" y="1152826"/>
                    <a:pt x="3230562" y="1137921"/>
                  </a:cubicBezTo>
                  <a:lnTo>
                    <a:pt x="3230562" y="1029972"/>
                  </a:lnTo>
                  <a:cubicBezTo>
                    <a:pt x="3230562" y="1015067"/>
                    <a:pt x="3242645" y="1002984"/>
                    <a:pt x="3257550" y="1002985"/>
                  </a:cubicBezTo>
                  <a:lnTo>
                    <a:pt x="3327137" y="1002984"/>
                  </a:lnTo>
                  <a:lnTo>
                    <a:pt x="2702228" y="0"/>
                  </a:lnTo>
                  <a:lnTo>
                    <a:pt x="1752601" y="1"/>
                  </a:lnTo>
                  <a:lnTo>
                    <a:pt x="1719261" y="0"/>
                  </a:lnTo>
                  <a:lnTo>
                    <a:pt x="1248501" y="0"/>
                  </a:lnTo>
                  <a:lnTo>
                    <a:pt x="175303" y="668656"/>
                  </a:lnTo>
                  <a:lnTo>
                    <a:pt x="214312" y="668656"/>
                  </a:lnTo>
                  <a:cubicBezTo>
                    <a:pt x="221764" y="668656"/>
                    <a:pt x="228511" y="671677"/>
                    <a:pt x="233395" y="676561"/>
                  </a:cubicBezTo>
                  <a:cubicBezTo>
                    <a:pt x="238279" y="681445"/>
                    <a:pt x="241300" y="688192"/>
                    <a:pt x="241300" y="695645"/>
                  </a:cubicBezTo>
                  <a:lnTo>
                    <a:pt x="241299" y="803593"/>
                  </a:lnTo>
                  <a:cubicBezTo>
                    <a:pt x="241300" y="818498"/>
                    <a:pt x="229217" y="830582"/>
                    <a:pt x="214312" y="830581"/>
                  </a:cubicBezTo>
                  <a:lnTo>
                    <a:pt x="106362" y="830581"/>
                  </a:lnTo>
                  <a:cubicBezTo>
                    <a:pt x="91457" y="830581"/>
                    <a:pt x="79375" y="818499"/>
                    <a:pt x="79374" y="803593"/>
                  </a:cubicBezTo>
                  <a:lnTo>
                    <a:pt x="79375" y="728424"/>
                  </a:lnTo>
                  <a:lnTo>
                    <a:pt x="0" y="777879"/>
                  </a:lnTo>
                  <a:lnTo>
                    <a:pt x="0" y="3008952"/>
                  </a:lnTo>
                  <a:lnTo>
                    <a:pt x="0" y="6857996"/>
                  </a:lnTo>
                  <a:lnTo>
                    <a:pt x="0" y="8631684"/>
                  </a:lnTo>
                  <a:lnTo>
                    <a:pt x="79374" y="8759081"/>
                  </a:lnTo>
                  <a:lnTo>
                    <a:pt x="79374" y="8719511"/>
                  </a:lnTo>
                  <a:cubicBezTo>
                    <a:pt x="79374" y="8704606"/>
                    <a:pt x="91457" y="8692523"/>
                    <a:pt x="106362" y="8692523"/>
                  </a:cubicBezTo>
                  <a:lnTo>
                    <a:pt x="214312" y="8692523"/>
                  </a:lnTo>
                  <a:cubicBezTo>
                    <a:pt x="221764" y="8692523"/>
                    <a:pt x="228511" y="8695544"/>
                    <a:pt x="233395" y="8700428"/>
                  </a:cubicBezTo>
                  <a:cubicBezTo>
                    <a:pt x="238279" y="8705312"/>
                    <a:pt x="241299" y="8712059"/>
                    <a:pt x="241299" y="8719511"/>
                  </a:cubicBezTo>
                  <a:lnTo>
                    <a:pt x="241300" y="8827460"/>
                  </a:lnTo>
                  <a:cubicBezTo>
                    <a:pt x="241300" y="8842365"/>
                    <a:pt x="229217" y="8854448"/>
                    <a:pt x="214312" y="8854449"/>
                  </a:cubicBezTo>
                  <a:lnTo>
                    <a:pt x="138793" y="8854448"/>
                  </a:lnTo>
                  <a:lnTo>
                    <a:pt x="769631" y="9866948"/>
                  </a:lnTo>
                  <a:lnTo>
                    <a:pt x="1719261" y="9866948"/>
                  </a:lnTo>
                  <a:lnTo>
                    <a:pt x="1752601" y="9866948"/>
                  </a:lnTo>
                  <a:lnTo>
                    <a:pt x="2703687" y="9866947"/>
                  </a:lnTo>
                  <a:lnTo>
                    <a:pt x="3256353" y="9522609"/>
                  </a:lnTo>
                  <a:lnTo>
                    <a:pt x="3238466" y="9515200"/>
                  </a:lnTo>
                  <a:cubicBezTo>
                    <a:pt x="3233582" y="9510316"/>
                    <a:pt x="3230562" y="9503569"/>
                    <a:pt x="3230562" y="9496116"/>
                  </a:cubicBezTo>
                  <a:lnTo>
                    <a:pt x="3230562" y="9388168"/>
                  </a:lnTo>
                  <a:cubicBezTo>
                    <a:pt x="3230562" y="9373262"/>
                    <a:pt x="3242645" y="9361179"/>
                    <a:pt x="3257550" y="9361180"/>
                  </a:cubicBezTo>
                  <a:lnTo>
                    <a:pt x="3365499" y="9361180"/>
                  </a:lnTo>
                  <a:cubicBezTo>
                    <a:pt x="3372951" y="9361179"/>
                    <a:pt x="3379698" y="9364200"/>
                    <a:pt x="3384582" y="9369084"/>
                  </a:cubicBezTo>
                  <a:cubicBezTo>
                    <a:pt x="3389466" y="9373968"/>
                    <a:pt x="3392487" y="9380715"/>
                    <a:pt x="3392487" y="9388167"/>
                  </a:cubicBezTo>
                  <a:lnTo>
                    <a:pt x="3392487" y="9437791"/>
                  </a:lnTo>
                  <a:lnTo>
                    <a:pt x="3471862" y="9388336"/>
                  </a:lnTo>
                  <a:lnTo>
                    <a:pt x="3471861" y="6857996"/>
                  </a:lnTo>
                  <a:lnTo>
                    <a:pt x="3471862" y="3008952"/>
                  </a:lnTo>
                  <a:close/>
                </a:path>
              </a:pathLst>
            </a:custGeom>
            <a:solidFill>
              <a:srgbClr val="ceb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grpSp>
          <p:nvGrpSpPr>
            <p:cNvPr id="259" name="组合 20"/>
            <p:cNvGrpSpPr/>
            <p:nvPr/>
          </p:nvGrpSpPr>
          <p:grpSpPr>
            <a:xfrm>
              <a:off x="-1000080" y="6665760"/>
              <a:ext cx="7736040" cy="9104400"/>
              <a:chOff x="-1000080" y="6665760"/>
              <a:chExt cx="7736040" cy="9104400"/>
            </a:xfrm>
          </p:grpSpPr>
          <p:sp>
            <p:nvSpPr>
              <p:cNvPr id="260" name="KSO_Img3"/>
              <p:cNvSpPr/>
              <p:nvPr/>
            </p:nvSpPr>
            <p:spPr>
              <a:xfrm rot="18304200">
                <a:off x="3213720" y="7353000"/>
                <a:ext cx="3076920" cy="2687760"/>
              </a:xfrm>
              <a:custGeom>
                <a:avLst/>
                <a:gdLst/>
                <a:ahLst/>
                <a:rect l="l" t="t" r="r" b="b"/>
                <a:pathLst>
                  <a:path w="3078519" h="2868494">
                    <a:moveTo>
                      <a:pt x="2525536" y="0"/>
                    </a:moveTo>
                    <a:lnTo>
                      <a:pt x="3078519" y="344536"/>
                    </a:lnTo>
                    <a:lnTo>
                      <a:pt x="3078519" y="2239597"/>
                    </a:lnTo>
                    <a:lnTo>
                      <a:pt x="2686684" y="2868494"/>
                    </a:lnTo>
                    <a:lnTo>
                      <a:pt x="0" y="286849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grpSp>
            <p:nvGrpSpPr>
              <p:cNvPr id="261" name="组合 2"/>
              <p:cNvGrpSpPr/>
              <p:nvPr/>
            </p:nvGrpSpPr>
            <p:grpSpPr>
              <a:xfrm>
                <a:off x="-1000080" y="9189360"/>
                <a:ext cx="5845680" cy="6580800"/>
                <a:chOff x="-1000080" y="9189360"/>
                <a:chExt cx="5845680" cy="6580800"/>
              </a:xfrm>
            </p:grpSpPr>
            <p:sp>
              <p:nvSpPr>
                <p:cNvPr id="262" name="KSO_Img2"/>
                <p:cNvSpPr/>
                <p:nvPr/>
              </p:nvSpPr>
              <p:spPr>
                <a:xfrm rot="18304200">
                  <a:off x="1323000" y="9876960"/>
                  <a:ext cx="3077280" cy="2687400"/>
                </a:xfrm>
                <a:prstGeom prst="rect">
                  <a:avLst/>
                </a:pr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3f41"/>
                    </a:solidFill>
                    <a:latin typeface="Arial"/>
                  </a:endParaRPr>
                </a:p>
              </p:txBody>
            </p:sp>
            <p:sp>
              <p:nvSpPr>
                <p:cNvPr id="263" name="KSO_Img1"/>
                <p:cNvSpPr/>
                <p:nvPr/>
              </p:nvSpPr>
              <p:spPr>
                <a:xfrm rot="18304200">
                  <a:off x="-554760" y="12395160"/>
                  <a:ext cx="3077280" cy="2687400"/>
                </a:xfrm>
                <a:custGeom>
                  <a:avLst/>
                  <a:gdLst/>
                  <a:ahLst/>
                  <a:rect l="l" t="t" r="r" b="b"/>
                  <a:pathLst>
                    <a:path w="3078519" h="2868494">
                      <a:moveTo>
                        <a:pt x="3078519" y="0"/>
                      </a:moveTo>
                      <a:lnTo>
                        <a:pt x="3078519" y="2868494"/>
                      </a:lnTo>
                      <a:lnTo>
                        <a:pt x="556020" y="2868494"/>
                      </a:lnTo>
                      <a:lnTo>
                        <a:pt x="0" y="2522066"/>
                      </a:lnTo>
                      <a:lnTo>
                        <a:pt x="0" y="153444"/>
                      </a:lnTo>
                      <a:lnTo>
                        <a:pt x="95603" y="0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d3f41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4" name="文本框 1"/>
          <p:cNvSpPr/>
          <p:nvPr/>
        </p:nvSpPr>
        <p:spPr>
          <a:xfrm>
            <a:off x="858960" y="1587600"/>
            <a:ext cx="507204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000" spc="-1" strike="noStrike">
                <a:solidFill>
                  <a:srgbClr val="833c0b"/>
                </a:solidFill>
                <a:latin typeface="Arial"/>
                <a:ea typeface="宋体"/>
              </a:rPr>
              <a:t>中阳剪纸主要分布于中阳县境内南川河流域、刘家坪地区和西山边远山区。南川河流域的民俗剪纸风格细腻、古朴典雅，在中阳剪纸中占据主流地位。刘家坪的剪纸风格纯朴、刚健，西山边远地区的剪纸风格粗犷、浑厚，与南川河流域剪纸的主流风格相依相存，丰富着中阳剪纸的特色。</a:t>
            </a:r>
            <a:endParaRPr b="0" lang="en-US" sz="2000" spc="-1" strike="noStrike">
              <a:solidFill>
                <a:srgbClr val="3d3f41"/>
              </a:solidFill>
              <a:latin typeface="Arial"/>
            </a:endParaRPr>
          </a:p>
        </p:txBody>
      </p:sp>
      <p:pic>
        <p:nvPicPr>
          <p:cNvPr id="265" name="矩形 13" descr=""/>
          <p:cNvPicPr/>
          <p:nvPr/>
        </p:nvPicPr>
        <p:blipFill>
          <a:blip r:embed="rId5"/>
          <a:stretch/>
        </p:blipFill>
        <p:spPr>
          <a:xfrm>
            <a:off x="1503360" y="270000"/>
            <a:ext cx="6551640" cy="91440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28" descr=""/>
          <p:cNvPicPr/>
          <p:nvPr/>
        </p:nvPicPr>
        <p:blipFill>
          <a:blip r:embed="rId6">
            <a:lum bright="70000" contrast="-70000"/>
          </a:blip>
          <a:stretch/>
        </p:blipFill>
        <p:spPr>
          <a:xfrm flipH="1" rot="937800">
            <a:off x="106200" y="69480"/>
            <a:ext cx="1381320" cy="9144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0931400" y="6315120"/>
            <a:ext cx="1013040" cy="465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620b"/>
              </a:gs>
              <a:gs pos="50000">
                <a:srgbClr val="ffffff"/>
              </a:gs>
              <a:gs pos="100000">
                <a:srgbClr val="e5620b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3d3f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d3f41"/>
                </a:solidFill>
                <a:latin typeface="Calibri"/>
                <a:ea typeface="幼圆"/>
              </a:rPr>
              <a:t>返 回</a:t>
            </a:r>
            <a:endParaRPr b="0" lang="en-US" sz="20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9,96,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9,96,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9,96,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9,96,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6280"/>
                            </p:stCondLst>
                            <p:childTnLst>
                              <p:par>
                                <p:cTn id="549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83854 -1.089259 E">
                                      <p:cBhvr>
                                        <p:cTn id="550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8280"/>
                            </p:stCondLst>
                            <p:childTnLst>
                              <p:par>
                                <p:cTn id="552" dur="indefinite" nodeType="after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5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5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40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1"/>
          <p:cNvGrpSpPr/>
          <p:nvPr/>
        </p:nvGrpSpPr>
        <p:grpSpPr>
          <a:xfrm>
            <a:off x="66600" y="2782800"/>
            <a:ext cx="11914200" cy="1774800"/>
            <a:chOff x="66600" y="2782800"/>
            <a:chExt cx="11914200" cy="1774800"/>
          </a:xfrm>
        </p:grpSpPr>
        <p:sp>
          <p:nvSpPr>
            <p:cNvPr id="269" name="任意多边形 28"/>
            <p:cNvSpPr/>
            <p:nvPr/>
          </p:nvSpPr>
          <p:spPr>
            <a:xfrm>
              <a:off x="66600" y="2782800"/>
              <a:ext cx="11914200" cy="993240"/>
            </a:xfrm>
            <a:custGeom>
              <a:avLst/>
              <a:gdLst/>
              <a:ahLst/>
              <a:rect l="l" t="t" r="r" b="b"/>
              <a:pathLst>
                <a:path w="9151146" h="993775">
                  <a:moveTo>
                    <a:pt x="7303830" y="667863"/>
                  </a:moveTo>
                  <a:cubicBezTo>
                    <a:pt x="7348603" y="667863"/>
                    <a:pt x="7393376" y="667863"/>
                    <a:pt x="7438150" y="667863"/>
                  </a:cubicBezTo>
                  <a:cubicBezTo>
                    <a:pt x="7433958" y="703184"/>
                    <a:pt x="7425956" y="735642"/>
                    <a:pt x="7414144" y="764663"/>
                  </a:cubicBezTo>
                  <a:lnTo>
                    <a:pt x="7813204" y="869949"/>
                  </a:lnTo>
                  <a:lnTo>
                    <a:pt x="9151146" y="869949"/>
                  </a:lnTo>
                  <a:lnTo>
                    <a:pt x="9151146" y="991394"/>
                  </a:lnTo>
                  <a:lnTo>
                    <a:pt x="7764196" y="991394"/>
                  </a:lnTo>
                  <a:lnTo>
                    <a:pt x="7763946" y="991866"/>
                  </a:lnTo>
                  <a:cubicBezTo>
                    <a:pt x="7608478" y="938406"/>
                    <a:pt x="7471110" y="894684"/>
                    <a:pt x="7351270" y="860699"/>
                  </a:cubicBezTo>
                  <a:cubicBezTo>
                    <a:pt x="7284968" y="930769"/>
                    <a:pt x="7150458" y="974873"/>
                    <a:pt x="6947740" y="992821"/>
                  </a:cubicBezTo>
                  <a:cubicBezTo>
                    <a:pt x="6931355" y="954444"/>
                    <a:pt x="6910778" y="912631"/>
                    <a:pt x="6885819" y="867572"/>
                  </a:cubicBezTo>
                  <a:cubicBezTo>
                    <a:pt x="7036905" y="858599"/>
                    <a:pt x="7143218" y="839697"/>
                    <a:pt x="7204757" y="810867"/>
                  </a:cubicBezTo>
                  <a:cubicBezTo>
                    <a:pt x="7266106" y="782037"/>
                    <a:pt x="7299257" y="734305"/>
                    <a:pt x="7303830" y="667863"/>
                  </a:cubicBezTo>
                  <a:close/>
                  <a:moveTo>
                    <a:pt x="6987940" y="541660"/>
                  </a:moveTo>
                  <a:cubicBezTo>
                    <a:pt x="7242862" y="541660"/>
                    <a:pt x="7497974" y="541660"/>
                    <a:pt x="7753086" y="541660"/>
                  </a:cubicBezTo>
                  <a:cubicBezTo>
                    <a:pt x="7753086" y="631778"/>
                    <a:pt x="7753086" y="721895"/>
                    <a:pt x="7753086" y="812013"/>
                  </a:cubicBezTo>
                  <a:cubicBezTo>
                    <a:pt x="7710028" y="812013"/>
                    <a:pt x="7666779" y="812013"/>
                    <a:pt x="7623530" y="812013"/>
                  </a:cubicBezTo>
                  <a:cubicBezTo>
                    <a:pt x="7623530" y="757599"/>
                    <a:pt x="7623530" y="703184"/>
                    <a:pt x="7623530" y="648961"/>
                  </a:cubicBezTo>
                  <a:cubicBezTo>
                    <a:pt x="7454916" y="648961"/>
                    <a:pt x="7286111" y="648961"/>
                    <a:pt x="7117306" y="648961"/>
                  </a:cubicBezTo>
                  <a:cubicBezTo>
                    <a:pt x="7117306" y="703184"/>
                    <a:pt x="7117306" y="757599"/>
                    <a:pt x="7117306" y="812013"/>
                  </a:cubicBezTo>
                  <a:cubicBezTo>
                    <a:pt x="7074248" y="812013"/>
                    <a:pt x="7030999" y="812013"/>
                    <a:pt x="6987940" y="812013"/>
                  </a:cubicBezTo>
                  <a:cubicBezTo>
                    <a:pt x="6987940" y="721895"/>
                    <a:pt x="6987940" y="631778"/>
                    <a:pt x="6987940" y="541660"/>
                  </a:cubicBezTo>
                  <a:close/>
                  <a:moveTo>
                    <a:pt x="5258360" y="501756"/>
                  </a:moveTo>
                  <a:cubicBezTo>
                    <a:pt x="5258360" y="521613"/>
                    <a:pt x="5258360" y="541660"/>
                    <a:pt x="5258360" y="561517"/>
                  </a:cubicBezTo>
                  <a:cubicBezTo>
                    <a:pt x="5294941" y="561517"/>
                    <a:pt x="5331521" y="561517"/>
                    <a:pt x="5368102" y="561517"/>
                  </a:cubicBezTo>
                  <a:cubicBezTo>
                    <a:pt x="5368102" y="541660"/>
                    <a:pt x="5368102" y="521613"/>
                    <a:pt x="5368102" y="501756"/>
                  </a:cubicBezTo>
                  <a:cubicBezTo>
                    <a:pt x="5331521" y="501756"/>
                    <a:pt x="5294941" y="501756"/>
                    <a:pt x="5258360" y="501756"/>
                  </a:cubicBezTo>
                  <a:close/>
                  <a:moveTo>
                    <a:pt x="4253725" y="501756"/>
                  </a:moveTo>
                  <a:cubicBezTo>
                    <a:pt x="4253725" y="521613"/>
                    <a:pt x="4253725" y="541660"/>
                    <a:pt x="4253725" y="561517"/>
                  </a:cubicBezTo>
                  <a:cubicBezTo>
                    <a:pt x="4290305" y="561517"/>
                    <a:pt x="4326886" y="561517"/>
                    <a:pt x="4363467" y="561517"/>
                  </a:cubicBezTo>
                  <a:cubicBezTo>
                    <a:pt x="4363467" y="541660"/>
                    <a:pt x="4363467" y="521613"/>
                    <a:pt x="4363467" y="501756"/>
                  </a:cubicBezTo>
                  <a:cubicBezTo>
                    <a:pt x="4326886" y="501756"/>
                    <a:pt x="4290305" y="501756"/>
                    <a:pt x="4253725" y="501756"/>
                  </a:cubicBezTo>
                  <a:close/>
                  <a:moveTo>
                    <a:pt x="7188944" y="359707"/>
                  </a:moveTo>
                  <a:cubicBezTo>
                    <a:pt x="7188944" y="377845"/>
                    <a:pt x="7188944" y="396174"/>
                    <a:pt x="7188944" y="414312"/>
                  </a:cubicBezTo>
                  <a:cubicBezTo>
                    <a:pt x="7311260" y="414312"/>
                    <a:pt x="7433577" y="414312"/>
                    <a:pt x="7555894" y="414312"/>
                  </a:cubicBezTo>
                  <a:cubicBezTo>
                    <a:pt x="7555894" y="396174"/>
                    <a:pt x="7555894" y="377845"/>
                    <a:pt x="7555894" y="359707"/>
                  </a:cubicBezTo>
                  <a:cubicBezTo>
                    <a:pt x="7433577" y="359707"/>
                    <a:pt x="7311260" y="359707"/>
                    <a:pt x="7188944" y="359707"/>
                  </a:cubicBezTo>
                  <a:close/>
                  <a:moveTo>
                    <a:pt x="5258360" y="356652"/>
                  </a:moveTo>
                  <a:cubicBezTo>
                    <a:pt x="5258360" y="376508"/>
                    <a:pt x="5258360" y="396556"/>
                    <a:pt x="5258360" y="416412"/>
                  </a:cubicBezTo>
                  <a:cubicBezTo>
                    <a:pt x="5294941" y="416412"/>
                    <a:pt x="5331521" y="416412"/>
                    <a:pt x="5368102" y="416412"/>
                  </a:cubicBezTo>
                  <a:cubicBezTo>
                    <a:pt x="5368102" y="396556"/>
                    <a:pt x="5368102" y="376508"/>
                    <a:pt x="5368102" y="356652"/>
                  </a:cubicBezTo>
                  <a:cubicBezTo>
                    <a:pt x="5331521" y="356652"/>
                    <a:pt x="5294941" y="356652"/>
                    <a:pt x="5258360" y="356652"/>
                  </a:cubicBezTo>
                  <a:close/>
                  <a:moveTo>
                    <a:pt x="4253725" y="356652"/>
                  </a:moveTo>
                  <a:cubicBezTo>
                    <a:pt x="4253725" y="376508"/>
                    <a:pt x="4253725" y="396556"/>
                    <a:pt x="4253725" y="416412"/>
                  </a:cubicBezTo>
                  <a:cubicBezTo>
                    <a:pt x="4290305" y="416412"/>
                    <a:pt x="4326886" y="416412"/>
                    <a:pt x="4363467" y="416412"/>
                  </a:cubicBezTo>
                  <a:cubicBezTo>
                    <a:pt x="4363467" y="396556"/>
                    <a:pt x="4363467" y="376508"/>
                    <a:pt x="4363467" y="356652"/>
                  </a:cubicBezTo>
                  <a:cubicBezTo>
                    <a:pt x="4326886" y="356652"/>
                    <a:pt x="4290305" y="356652"/>
                    <a:pt x="4253725" y="356652"/>
                  </a:cubicBezTo>
                  <a:close/>
                  <a:moveTo>
                    <a:pt x="7069294" y="278180"/>
                  </a:moveTo>
                  <a:cubicBezTo>
                    <a:pt x="7271441" y="278180"/>
                    <a:pt x="7473587" y="278180"/>
                    <a:pt x="7675543" y="278180"/>
                  </a:cubicBezTo>
                  <a:cubicBezTo>
                    <a:pt x="7675543" y="350733"/>
                    <a:pt x="7675543" y="423285"/>
                    <a:pt x="7675543" y="495838"/>
                  </a:cubicBezTo>
                  <a:cubicBezTo>
                    <a:pt x="7473587" y="495838"/>
                    <a:pt x="7271441" y="495838"/>
                    <a:pt x="7069294" y="495838"/>
                  </a:cubicBezTo>
                  <a:cubicBezTo>
                    <a:pt x="7069294" y="423285"/>
                    <a:pt x="7069294" y="350733"/>
                    <a:pt x="7069294" y="278180"/>
                  </a:cubicBezTo>
                  <a:close/>
                  <a:moveTo>
                    <a:pt x="6469905" y="237513"/>
                  </a:moveTo>
                  <a:cubicBezTo>
                    <a:pt x="6514106" y="237513"/>
                    <a:pt x="6558117" y="237513"/>
                    <a:pt x="6602319" y="237513"/>
                  </a:cubicBezTo>
                  <a:cubicBezTo>
                    <a:pt x="6603653" y="378227"/>
                    <a:pt x="6594698" y="495265"/>
                    <a:pt x="6575265" y="588246"/>
                  </a:cubicBezTo>
                  <a:cubicBezTo>
                    <a:pt x="6597746" y="588246"/>
                    <a:pt x="6620228" y="588246"/>
                    <a:pt x="6642520" y="588246"/>
                  </a:cubicBezTo>
                  <a:cubicBezTo>
                    <a:pt x="6642520" y="661562"/>
                    <a:pt x="6642520" y="734687"/>
                    <a:pt x="6642520" y="808003"/>
                  </a:cubicBezTo>
                  <a:cubicBezTo>
                    <a:pt x="6642520" y="837788"/>
                    <a:pt x="6656237" y="852680"/>
                    <a:pt x="6683673" y="852680"/>
                  </a:cubicBezTo>
                  <a:cubicBezTo>
                    <a:pt x="6701773" y="852680"/>
                    <a:pt x="6713966" y="845807"/>
                    <a:pt x="6720635" y="832251"/>
                  </a:cubicBezTo>
                  <a:cubicBezTo>
                    <a:pt x="6727113" y="818695"/>
                    <a:pt x="6733209" y="772873"/>
                    <a:pt x="6738734" y="694593"/>
                  </a:cubicBezTo>
                  <a:cubicBezTo>
                    <a:pt x="6781793" y="715213"/>
                    <a:pt x="6823137" y="732778"/>
                    <a:pt x="6862385" y="747288"/>
                  </a:cubicBezTo>
                  <a:cubicBezTo>
                    <a:pt x="6846571" y="860317"/>
                    <a:pt x="6825614" y="925423"/>
                    <a:pt x="6799512" y="942798"/>
                  </a:cubicBezTo>
                  <a:cubicBezTo>
                    <a:pt x="6773410" y="960172"/>
                    <a:pt x="6745212" y="968955"/>
                    <a:pt x="6715109" y="968955"/>
                  </a:cubicBezTo>
                  <a:cubicBezTo>
                    <a:pt x="6690913" y="968955"/>
                    <a:pt x="6666716" y="968955"/>
                    <a:pt x="6642520" y="968955"/>
                  </a:cubicBezTo>
                  <a:cubicBezTo>
                    <a:pt x="6562118" y="968955"/>
                    <a:pt x="6521918" y="928860"/>
                    <a:pt x="6521918" y="848671"/>
                  </a:cubicBezTo>
                  <a:cubicBezTo>
                    <a:pt x="6521918" y="814686"/>
                    <a:pt x="6521918" y="780701"/>
                    <a:pt x="6521918" y="746907"/>
                  </a:cubicBezTo>
                  <a:cubicBezTo>
                    <a:pt x="6472191" y="846952"/>
                    <a:pt x="6386836" y="929242"/>
                    <a:pt x="6265853" y="993775"/>
                  </a:cubicBezTo>
                  <a:cubicBezTo>
                    <a:pt x="6240894" y="957308"/>
                    <a:pt x="6210220" y="917213"/>
                    <a:pt x="6173639" y="873491"/>
                  </a:cubicBezTo>
                  <a:cubicBezTo>
                    <a:pt x="6300528" y="816213"/>
                    <a:pt x="6382644" y="744043"/>
                    <a:pt x="6419797" y="656789"/>
                  </a:cubicBezTo>
                  <a:cubicBezTo>
                    <a:pt x="6457139" y="569726"/>
                    <a:pt x="6473715" y="429968"/>
                    <a:pt x="6469905" y="237513"/>
                  </a:cubicBezTo>
                  <a:close/>
                  <a:moveTo>
                    <a:pt x="5258360" y="211547"/>
                  </a:moveTo>
                  <a:cubicBezTo>
                    <a:pt x="5258360" y="231403"/>
                    <a:pt x="5258360" y="251451"/>
                    <a:pt x="5258360" y="271307"/>
                  </a:cubicBezTo>
                  <a:cubicBezTo>
                    <a:pt x="5294941" y="271307"/>
                    <a:pt x="5331521" y="271307"/>
                    <a:pt x="5368102" y="271307"/>
                  </a:cubicBezTo>
                  <a:cubicBezTo>
                    <a:pt x="5368102" y="251451"/>
                    <a:pt x="5368102" y="231403"/>
                    <a:pt x="5368102" y="211547"/>
                  </a:cubicBezTo>
                  <a:cubicBezTo>
                    <a:pt x="5331521" y="211547"/>
                    <a:pt x="5294941" y="211547"/>
                    <a:pt x="5258360" y="211547"/>
                  </a:cubicBezTo>
                  <a:close/>
                  <a:moveTo>
                    <a:pt x="4253725" y="211547"/>
                  </a:moveTo>
                  <a:cubicBezTo>
                    <a:pt x="4253725" y="231403"/>
                    <a:pt x="4253725" y="251451"/>
                    <a:pt x="4253725" y="271307"/>
                  </a:cubicBezTo>
                  <a:cubicBezTo>
                    <a:pt x="4290305" y="271307"/>
                    <a:pt x="4326886" y="271307"/>
                    <a:pt x="4363467" y="271307"/>
                  </a:cubicBezTo>
                  <a:cubicBezTo>
                    <a:pt x="4363467" y="251451"/>
                    <a:pt x="4363467" y="231403"/>
                    <a:pt x="4363467" y="211547"/>
                  </a:cubicBezTo>
                  <a:cubicBezTo>
                    <a:pt x="4326886" y="211547"/>
                    <a:pt x="4290305" y="211547"/>
                    <a:pt x="4253725" y="211547"/>
                  </a:cubicBezTo>
                  <a:close/>
                  <a:moveTo>
                    <a:pt x="5890139" y="91454"/>
                  </a:moveTo>
                  <a:cubicBezTo>
                    <a:pt x="6006549" y="91454"/>
                    <a:pt x="6122960" y="91454"/>
                    <a:pt x="6239370" y="91454"/>
                  </a:cubicBezTo>
                  <a:cubicBezTo>
                    <a:pt x="6233464" y="262715"/>
                    <a:pt x="6203742" y="419085"/>
                    <a:pt x="6150014" y="560562"/>
                  </a:cubicBezTo>
                  <a:cubicBezTo>
                    <a:pt x="6186976" y="631014"/>
                    <a:pt x="6223938" y="701657"/>
                    <a:pt x="6260899" y="772109"/>
                  </a:cubicBezTo>
                  <a:cubicBezTo>
                    <a:pt x="6224700" y="796739"/>
                    <a:pt x="6188309" y="821177"/>
                    <a:pt x="6152110" y="845616"/>
                  </a:cubicBezTo>
                  <a:cubicBezTo>
                    <a:pt x="6131152" y="799984"/>
                    <a:pt x="6108670" y="752634"/>
                    <a:pt x="6084855" y="703566"/>
                  </a:cubicBezTo>
                  <a:cubicBezTo>
                    <a:pt x="6044654" y="778791"/>
                    <a:pt x="5996261" y="849053"/>
                    <a:pt x="5940056" y="914350"/>
                  </a:cubicBezTo>
                  <a:cubicBezTo>
                    <a:pt x="5919099" y="871964"/>
                    <a:pt x="5894902" y="828814"/>
                    <a:pt x="5867466" y="785092"/>
                  </a:cubicBezTo>
                  <a:cubicBezTo>
                    <a:pt x="5928625" y="715595"/>
                    <a:pt x="5978352" y="642470"/>
                    <a:pt x="6016647" y="565908"/>
                  </a:cubicBezTo>
                  <a:cubicBezTo>
                    <a:pt x="5976446" y="486482"/>
                    <a:pt x="5933007" y="403429"/>
                    <a:pt x="5886138" y="316939"/>
                  </a:cubicBezTo>
                  <a:cubicBezTo>
                    <a:pt x="5920432" y="300328"/>
                    <a:pt x="5954917" y="283908"/>
                    <a:pt x="5989211" y="267298"/>
                  </a:cubicBezTo>
                  <a:cubicBezTo>
                    <a:pt x="6017409" y="318466"/>
                    <a:pt x="6045797" y="369635"/>
                    <a:pt x="6073995" y="420803"/>
                  </a:cubicBezTo>
                  <a:cubicBezTo>
                    <a:pt x="6094000" y="355315"/>
                    <a:pt x="6106193" y="287154"/>
                    <a:pt x="6110766" y="216511"/>
                  </a:cubicBezTo>
                  <a:cubicBezTo>
                    <a:pt x="6037224" y="216511"/>
                    <a:pt x="5963681" y="216511"/>
                    <a:pt x="5890139" y="216511"/>
                  </a:cubicBezTo>
                  <a:cubicBezTo>
                    <a:pt x="5890139" y="174889"/>
                    <a:pt x="5890139" y="133076"/>
                    <a:pt x="5890139" y="91454"/>
                  </a:cubicBezTo>
                  <a:close/>
                  <a:moveTo>
                    <a:pt x="6270807" y="46586"/>
                  </a:moveTo>
                  <a:cubicBezTo>
                    <a:pt x="6447042" y="46586"/>
                    <a:pt x="6623277" y="46586"/>
                    <a:pt x="6799512" y="46586"/>
                  </a:cubicBezTo>
                  <a:cubicBezTo>
                    <a:pt x="6799512" y="248778"/>
                    <a:pt x="6799512" y="450779"/>
                    <a:pt x="6799512" y="652971"/>
                  </a:cubicBezTo>
                  <a:cubicBezTo>
                    <a:pt x="6755691" y="652971"/>
                    <a:pt x="6711871" y="652971"/>
                    <a:pt x="6668050" y="652971"/>
                  </a:cubicBezTo>
                  <a:cubicBezTo>
                    <a:pt x="6668050" y="493928"/>
                    <a:pt x="6668050" y="334886"/>
                    <a:pt x="6668050" y="175844"/>
                  </a:cubicBezTo>
                  <a:cubicBezTo>
                    <a:pt x="6579456" y="175844"/>
                    <a:pt x="6490862" y="175844"/>
                    <a:pt x="6402268" y="175844"/>
                  </a:cubicBezTo>
                  <a:cubicBezTo>
                    <a:pt x="6402268" y="336795"/>
                    <a:pt x="6402268" y="497938"/>
                    <a:pt x="6402268" y="658889"/>
                  </a:cubicBezTo>
                  <a:cubicBezTo>
                    <a:pt x="6358448" y="658889"/>
                    <a:pt x="6314627" y="658889"/>
                    <a:pt x="6270807" y="658889"/>
                  </a:cubicBezTo>
                  <a:cubicBezTo>
                    <a:pt x="6270807" y="454788"/>
                    <a:pt x="6270807" y="250687"/>
                    <a:pt x="6270807" y="46586"/>
                  </a:cubicBezTo>
                  <a:close/>
                  <a:moveTo>
                    <a:pt x="4999247" y="17756"/>
                  </a:moveTo>
                  <a:cubicBezTo>
                    <a:pt x="5043067" y="76753"/>
                    <a:pt x="5081934" y="133840"/>
                    <a:pt x="5116038" y="188827"/>
                  </a:cubicBezTo>
                  <a:cubicBezTo>
                    <a:pt x="5080029" y="210592"/>
                    <a:pt x="5042686" y="233885"/>
                    <a:pt x="5004200" y="258324"/>
                  </a:cubicBezTo>
                  <a:cubicBezTo>
                    <a:pt x="4970096" y="193982"/>
                    <a:pt x="4934278" y="134794"/>
                    <a:pt x="4896173" y="80380"/>
                  </a:cubicBezTo>
                  <a:cubicBezTo>
                    <a:pt x="4930658" y="59569"/>
                    <a:pt x="4964952" y="38758"/>
                    <a:pt x="4999247" y="17756"/>
                  </a:cubicBezTo>
                  <a:close/>
                  <a:moveTo>
                    <a:pt x="3994611" y="17756"/>
                  </a:moveTo>
                  <a:cubicBezTo>
                    <a:pt x="4038432" y="76753"/>
                    <a:pt x="4077490" y="133840"/>
                    <a:pt x="4111403" y="188827"/>
                  </a:cubicBezTo>
                  <a:cubicBezTo>
                    <a:pt x="4075394" y="210592"/>
                    <a:pt x="4038242" y="233885"/>
                    <a:pt x="3999565" y="258324"/>
                  </a:cubicBezTo>
                  <a:cubicBezTo>
                    <a:pt x="3965652" y="193982"/>
                    <a:pt x="3929643" y="134794"/>
                    <a:pt x="3891728" y="80380"/>
                  </a:cubicBezTo>
                  <a:cubicBezTo>
                    <a:pt x="3926023" y="59569"/>
                    <a:pt x="3960317" y="38758"/>
                    <a:pt x="3994611" y="17756"/>
                  </a:cubicBezTo>
                  <a:close/>
                  <a:moveTo>
                    <a:pt x="5663415" y="16801"/>
                  </a:moveTo>
                  <a:cubicBezTo>
                    <a:pt x="5703615" y="16801"/>
                    <a:pt x="5743816" y="16801"/>
                    <a:pt x="5784207" y="16801"/>
                  </a:cubicBezTo>
                  <a:cubicBezTo>
                    <a:pt x="5784207" y="76180"/>
                    <a:pt x="5784207" y="135367"/>
                    <a:pt x="5784207" y="194745"/>
                  </a:cubicBezTo>
                  <a:cubicBezTo>
                    <a:pt x="5806308" y="194745"/>
                    <a:pt x="5828599" y="194745"/>
                    <a:pt x="5850891" y="194745"/>
                  </a:cubicBezTo>
                  <a:cubicBezTo>
                    <a:pt x="5850891" y="237513"/>
                    <a:pt x="5850891" y="280281"/>
                    <a:pt x="5850891" y="322858"/>
                  </a:cubicBezTo>
                  <a:cubicBezTo>
                    <a:pt x="5828599" y="322858"/>
                    <a:pt x="5806308" y="322858"/>
                    <a:pt x="5784207" y="322858"/>
                  </a:cubicBezTo>
                  <a:cubicBezTo>
                    <a:pt x="5784207" y="488201"/>
                    <a:pt x="5784207" y="653543"/>
                    <a:pt x="5784207" y="818886"/>
                  </a:cubicBezTo>
                  <a:cubicBezTo>
                    <a:pt x="5784207" y="868145"/>
                    <a:pt x="5774872" y="905758"/>
                    <a:pt x="5756200" y="931342"/>
                  </a:cubicBezTo>
                  <a:cubicBezTo>
                    <a:pt x="5737529" y="957117"/>
                    <a:pt x="5711236" y="971055"/>
                    <a:pt x="5677133" y="973155"/>
                  </a:cubicBezTo>
                  <a:cubicBezTo>
                    <a:pt x="5643219" y="975255"/>
                    <a:pt x="5599970" y="976592"/>
                    <a:pt x="5547766" y="976974"/>
                  </a:cubicBezTo>
                  <a:cubicBezTo>
                    <a:pt x="5542432" y="932488"/>
                    <a:pt x="5534239" y="889720"/>
                    <a:pt x="5523189" y="848671"/>
                  </a:cubicBezTo>
                  <a:cubicBezTo>
                    <a:pt x="5552530" y="850771"/>
                    <a:pt x="5582632" y="851726"/>
                    <a:pt x="5613497" y="851726"/>
                  </a:cubicBezTo>
                  <a:cubicBezTo>
                    <a:pt x="5646839" y="851726"/>
                    <a:pt x="5663415" y="833397"/>
                    <a:pt x="5663415" y="796929"/>
                  </a:cubicBezTo>
                  <a:cubicBezTo>
                    <a:pt x="5663415" y="639033"/>
                    <a:pt x="5663415" y="480945"/>
                    <a:pt x="5663415" y="322858"/>
                  </a:cubicBezTo>
                  <a:cubicBezTo>
                    <a:pt x="5611783" y="322858"/>
                    <a:pt x="5560151" y="322858"/>
                    <a:pt x="5508518" y="322858"/>
                  </a:cubicBezTo>
                  <a:cubicBezTo>
                    <a:pt x="5508518" y="280281"/>
                    <a:pt x="5508518" y="237513"/>
                    <a:pt x="5508518" y="194745"/>
                  </a:cubicBezTo>
                  <a:cubicBezTo>
                    <a:pt x="5560151" y="194745"/>
                    <a:pt x="5611783" y="194745"/>
                    <a:pt x="5663415" y="194745"/>
                  </a:cubicBezTo>
                  <a:cubicBezTo>
                    <a:pt x="5663415" y="135367"/>
                    <a:pt x="5663415" y="76180"/>
                    <a:pt x="5663415" y="16801"/>
                  </a:cubicBezTo>
                  <a:close/>
                  <a:moveTo>
                    <a:pt x="4658780" y="16801"/>
                  </a:moveTo>
                  <a:cubicBezTo>
                    <a:pt x="4698980" y="16801"/>
                    <a:pt x="4739371" y="16801"/>
                    <a:pt x="4779572" y="16801"/>
                  </a:cubicBezTo>
                  <a:cubicBezTo>
                    <a:pt x="4779572" y="76180"/>
                    <a:pt x="4779572" y="135367"/>
                    <a:pt x="4779572" y="194745"/>
                  </a:cubicBezTo>
                  <a:cubicBezTo>
                    <a:pt x="4801673" y="194745"/>
                    <a:pt x="4823964" y="194745"/>
                    <a:pt x="4846256" y="194745"/>
                  </a:cubicBezTo>
                  <a:cubicBezTo>
                    <a:pt x="4846256" y="237513"/>
                    <a:pt x="4846256" y="280281"/>
                    <a:pt x="4846256" y="322858"/>
                  </a:cubicBezTo>
                  <a:cubicBezTo>
                    <a:pt x="4823964" y="322858"/>
                    <a:pt x="4801673" y="322858"/>
                    <a:pt x="4779572" y="322858"/>
                  </a:cubicBezTo>
                  <a:cubicBezTo>
                    <a:pt x="4779572" y="488201"/>
                    <a:pt x="4779572" y="653543"/>
                    <a:pt x="4779572" y="818886"/>
                  </a:cubicBezTo>
                  <a:cubicBezTo>
                    <a:pt x="4779572" y="868145"/>
                    <a:pt x="4770236" y="905758"/>
                    <a:pt x="4751565" y="931342"/>
                  </a:cubicBezTo>
                  <a:cubicBezTo>
                    <a:pt x="4732894" y="957117"/>
                    <a:pt x="4706601" y="971055"/>
                    <a:pt x="4672497" y="973155"/>
                  </a:cubicBezTo>
                  <a:cubicBezTo>
                    <a:pt x="4638584" y="975255"/>
                    <a:pt x="4595335" y="976592"/>
                    <a:pt x="4543131" y="976974"/>
                  </a:cubicBezTo>
                  <a:cubicBezTo>
                    <a:pt x="4537797" y="932488"/>
                    <a:pt x="4529604" y="889720"/>
                    <a:pt x="4518554" y="848671"/>
                  </a:cubicBezTo>
                  <a:cubicBezTo>
                    <a:pt x="4547894" y="850771"/>
                    <a:pt x="4577997" y="851726"/>
                    <a:pt x="4608862" y="851726"/>
                  </a:cubicBezTo>
                  <a:cubicBezTo>
                    <a:pt x="4642204" y="851726"/>
                    <a:pt x="4658780" y="833397"/>
                    <a:pt x="4658780" y="796929"/>
                  </a:cubicBezTo>
                  <a:cubicBezTo>
                    <a:pt x="4658780" y="639033"/>
                    <a:pt x="4658780" y="480945"/>
                    <a:pt x="4658780" y="322858"/>
                  </a:cubicBezTo>
                  <a:cubicBezTo>
                    <a:pt x="4607148" y="322858"/>
                    <a:pt x="4555515" y="322858"/>
                    <a:pt x="4503883" y="322858"/>
                  </a:cubicBezTo>
                  <a:cubicBezTo>
                    <a:pt x="4503883" y="280281"/>
                    <a:pt x="4503883" y="237513"/>
                    <a:pt x="4503883" y="194745"/>
                  </a:cubicBezTo>
                  <a:cubicBezTo>
                    <a:pt x="4555515" y="194745"/>
                    <a:pt x="4607148" y="194745"/>
                    <a:pt x="4658780" y="194745"/>
                  </a:cubicBezTo>
                  <a:cubicBezTo>
                    <a:pt x="4658780" y="135367"/>
                    <a:pt x="4658780" y="76180"/>
                    <a:pt x="4658780" y="16801"/>
                  </a:cubicBezTo>
                  <a:close/>
                  <a:moveTo>
                    <a:pt x="7304783" y="11837"/>
                  </a:moveTo>
                  <a:cubicBezTo>
                    <a:pt x="7349175" y="11837"/>
                    <a:pt x="7393757" y="11837"/>
                    <a:pt x="7438150" y="11837"/>
                  </a:cubicBezTo>
                  <a:cubicBezTo>
                    <a:pt x="7438150" y="50596"/>
                    <a:pt x="7438150" y="89354"/>
                    <a:pt x="7438150" y="128112"/>
                  </a:cubicBezTo>
                  <a:cubicBezTo>
                    <a:pt x="7471491" y="128112"/>
                    <a:pt x="7504833" y="128112"/>
                    <a:pt x="7538175" y="128112"/>
                  </a:cubicBezTo>
                  <a:cubicBezTo>
                    <a:pt x="7562753" y="91072"/>
                    <a:pt x="7585615" y="53650"/>
                    <a:pt x="7606954" y="15847"/>
                  </a:cubicBezTo>
                  <a:cubicBezTo>
                    <a:pt x="7643916" y="31694"/>
                    <a:pt x="7680878" y="47541"/>
                    <a:pt x="7717839" y="63579"/>
                  </a:cubicBezTo>
                  <a:cubicBezTo>
                    <a:pt x="7702979" y="85153"/>
                    <a:pt x="7688118" y="106537"/>
                    <a:pt x="7673066" y="128112"/>
                  </a:cubicBezTo>
                  <a:cubicBezTo>
                    <a:pt x="7727556" y="128112"/>
                    <a:pt x="7782046" y="128112"/>
                    <a:pt x="7836536" y="128112"/>
                  </a:cubicBezTo>
                  <a:cubicBezTo>
                    <a:pt x="7836536" y="201619"/>
                    <a:pt x="7836536" y="275317"/>
                    <a:pt x="7836536" y="348824"/>
                  </a:cubicBezTo>
                  <a:cubicBezTo>
                    <a:pt x="7796526" y="348824"/>
                    <a:pt x="7756706" y="348824"/>
                    <a:pt x="7716887" y="348824"/>
                  </a:cubicBezTo>
                  <a:cubicBezTo>
                    <a:pt x="7716887" y="309684"/>
                    <a:pt x="7716887" y="270543"/>
                    <a:pt x="7716887" y="231403"/>
                  </a:cubicBezTo>
                  <a:cubicBezTo>
                    <a:pt x="7487305" y="231403"/>
                    <a:pt x="7257723" y="231403"/>
                    <a:pt x="7028141" y="231403"/>
                  </a:cubicBezTo>
                  <a:cubicBezTo>
                    <a:pt x="7028141" y="270543"/>
                    <a:pt x="7028141" y="309684"/>
                    <a:pt x="7028141" y="348824"/>
                  </a:cubicBezTo>
                  <a:cubicBezTo>
                    <a:pt x="6988131" y="348824"/>
                    <a:pt x="6948311" y="348824"/>
                    <a:pt x="6908492" y="348824"/>
                  </a:cubicBezTo>
                  <a:cubicBezTo>
                    <a:pt x="6908492" y="275317"/>
                    <a:pt x="6908492" y="201619"/>
                    <a:pt x="6908492" y="128112"/>
                  </a:cubicBezTo>
                  <a:cubicBezTo>
                    <a:pt x="6960314" y="128112"/>
                    <a:pt x="7012137" y="128112"/>
                    <a:pt x="7063960" y="128112"/>
                  </a:cubicBezTo>
                  <a:cubicBezTo>
                    <a:pt x="7051766" y="107301"/>
                    <a:pt x="7039191" y="86299"/>
                    <a:pt x="7026236" y="65488"/>
                  </a:cubicBezTo>
                  <a:cubicBezTo>
                    <a:pt x="7061102" y="49259"/>
                    <a:pt x="7096158" y="33030"/>
                    <a:pt x="7131024" y="16801"/>
                  </a:cubicBezTo>
                  <a:cubicBezTo>
                    <a:pt x="7156364" y="54605"/>
                    <a:pt x="7179798" y="91645"/>
                    <a:pt x="7201709" y="128112"/>
                  </a:cubicBezTo>
                  <a:cubicBezTo>
                    <a:pt x="7236003" y="128112"/>
                    <a:pt x="7270488" y="128112"/>
                    <a:pt x="7304783" y="128112"/>
                  </a:cubicBezTo>
                  <a:cubicBezTo>
                    <a:pt x="7304783" y="89354"/>
                    <a:pt x="7304783" y="50596"/>
                    <a:pt x="7304783" y="11837"/>
                  </a:cubicBezTo>
                  <a:close/>
                  <a:moveTo>
                    <a:pt x="5261218" y="0"/>
                  </a:moveTo>
                  <a:cubicBezTo>
                    <a:pt x="5309039" y="4964"/>
                    <a:pt x="5356671" y="9928"/>
                    <a:pt x="5404492" y="14892"/>
                  </a:cubicBezTo>
                  <a:cubicBezTo>
                    <a:pt x="5390774" y="45631"/>
                    <a:pt x="5376295" y="76753"/>
                    <a:pt x="5361243" y="108255"/>
                  </a:cubicBezTo>
                  <a:cubicBezTo>
                    <a:pt x="5402777" y="108255"/>
                    <a:pt x="5444312" y="108255"/>
                    <a:pt x="5485846" y="108255"/>
                  </a:cubicBezTo>
                  <a:cubicBezTo>
                    <a:pt x="5485846" y="214029"/>
                    <a:pt x="5485846" y="319994"/>
                    <a:pt x="5485846" y="425767"/>
                  </a:cubicBezTo>
                  <a:cubicBezTo>
                    <a:pt x="5516902" y="414312"/>
                    <a:pt x="5547957" y="402856"/>
                    <a:pt x="5579012" y="391591"/>
                  </a:cubicBezTo>
                  <a:cubicBezTo>
                    <a:pt x="5615022" y="482282"/>
                    <a:pt x="5641886" y="561135"/>
                    <a:pt x="5659604" y="627959"/>
                  </a:cubicBezTo>
                  <a:cubicBezTo>
                    <a:pt x="5623595" y="640560"/>
                    <a:pt x="5587586" y="653161"/>
                    <a:pt x="5551577" y="665763"/>
                  </a:cubicBezTo>
                  <a:cubicBezTo>
                    <a:pt x="5532334" y="596647"/>
                    <a:pt x="5510424" y="524286"/>
                    <a:pt x="5485846" y="449061"/>
                  </a:cubicBezTo>
                  <a:cubicBezTo>
                    <a:pt x="5485846" y="580418"/>
                    <a:pt x="5485846" y="711585"/>
                    <a:pt x="5485846" y="842752"/>
                  </a:cubicBezTo>
                  <a:cubicBezTo>
                    <a:pt x="5485846" y="887429"/>
                    <a:pt x="5477082" y="921032"/>
                    <a:pt x="5459554" y="943561"/>
                  </a:cubicBezTo>
                  <a:cubicBezTo>
                    <a:pt x="5442216" y="966091"/>
                    <a:pt x="5417448" y="977737"/>
                    <a:pt x="5385821" y="978310"/>
                  </a:cubicBezTo>
                  <a:cubicBezTo>
                    <a:pt x="5354003" y="979074"/>
                    <a:pt x="5314184" y="979456"/>
                    <a:pt x="5266171" y="979456"/>
                  </a:cubicBezTo>
                  <a:cubicBezTo>
                    <a:pt x="5260265" y="939934"/>
                    <a:pt x="5252644" y="900412"/>
                    <a:pt x="5243499" y="860699"/>
                  </a:cubicBezTo>
                  <a:cubicBezTo>
                    <a:pt x="5279508" y="865281"/>
                    <a:pt x="5307706" y="867572"/>
                    <a:pt x="5327901" y="867572"/>
                  </a:cubicBezTo>
                  <a:cubicBezTo>
                    <a:pt x="5354765" y="867572"/>
                    <a:pt x="5368102" y="852680"/>
                    <a:pt x="5368102" y="822896"/>
                  </a:cubicBezTo>
                  <a:cubicBezTo>
                    <a:pt x="5368102" y="793302"/>
                    <a:pt x="5368102" y="763899"/>
                    <a:pt x="5368102" y="734305"/>
                  </a:cubicBezTo>
                  <a:cubicBezTo>
                    <a:pt x="5300847" y="808194"/>
                    <a:pt x="5229210" y="868527"/>
                    <a:pt x="5153381" y="915304"/>
                  </a:cubicBezTo>
                  <a:cubicBezTo>
                    <a:pt x="5143093" y="900030"/>
                    <a:pt x="5131471" y="884374"/>
                    <a:pt x="5117943" y="868145"/>
                  </a:cubicBezTo>
                  <a:cubicBezTo>
                    <a:pt x="5062310" y="907094"/>
                    <a:pt x="5016584" y="943180"/>
                    <a:pt x="4980575" y="975828"/>
                  </a:cubicBezTo>
                  <a:cubicBezTo>
                    <a:pt x="4957141" y="946998"/>
                    <a:pt x="4933516" y="918168"/>
                    <a:pt x="4910081" y="889529"/>
                  </a:cubicBezTo>
                  <a:cubicBezTo>
                    <a:pt x="4930848" y="866236"/>
                    <a:pt x="4941327" y="838361"/>
                    <a:pt x="4941327" y="805903"/>
                  </a:cubicBezTo>
                  <a:cubicBezTo>
                    <a:pt x="4941327" y="681419"/>
                    <a:pt x="4941327" y="556743"/>
                    <a:pt x="4941327" y="432259"/>
                  </a:cubicBezTo>
                  <a:cubicBezTo>
                    <a:pt x="4919417" y="432259"/>
                    <a:pt x="4897507" y="432259"/>
                    <a:pt x="4875596" y="432259"/>
                  </a:cubicBezTo>
                  <a:cubicBezTo>
                    <a:pt x="4875596" y="389109"/>
                    <a:pt x="4875596" y="346151"/>
                    <a:pt x="4875596" y="303001"/>
                  </a:cubicBezTo>
                  <a:cubicBezTo>
                    <a:pt x="4937136" y="303001"/>
                    <a:pt x="4998675" y="303001"/>
                    <a:pt x="5060024" y="303001"/>
                  </a:cubicBezTo>
                  <a:cubicBezTo>
                    <a:pt x="5060024" y="453452"/>
                    <a:pt x="5060024" y="603902"/>
                    <a:pt x="5060024" y="754353"/>
                  </a:cubicBezTo>
                  <a:cubicBezTo>
                    <a:pt x="5069931" y="746907"/>
                    <a:pt x="5096795" y="729341"/>
                    <a:pt x="5140616" y="701657"/>
                  </a:cubicBezTo>
                  <a:cubicBezTo>
                    <a:pt x="5142521" y="728769"/>
                    <a:pt x="5144807" y="754353"/>
                    <a:pt x="5147475" y="778219"/>
                  </a:cubicBezTo>
                  <a:cubicBezTo>
                    <a:pt x="5200631" y="745952"/>
                    <a:pt x="5251501" y="708148"/>
                    <a:pt x="5299894" y="664808"/>
                  </a:cubicBezTo>
                  <a:cubicBezTo>
                    <a:pt x="5232068" y="664808"/>
                    <a:pt x="5164241" y="664808"/>
                    <a:pt x="5096414" y="664808"/>
                  </a:cubicBezTo>
                  <a:cubicBezTo>
                    <a:pt x="5096414" y="630441"/>
                    <a:pt x="5096414" y="595883"/>
                    <a:pt x="5096414" y="561517"/>
                  </a:cubicBezTo>
                  <a:cubicBezTo>
                    <a:pt x="5111085" y="561517"/>
                    <a:pt x="5125755" y="561517"/>
                    <a:pt x="5140616" y="561517"/>
                  </a:cubicBezTo>
                  <a:cubicBezTo>
                    <a:pt x="5140616" y="410302"/>
                    <a:pt x="5140616" y="259279"/>
                    <a:pt x="5140616" y="108255"/>
                  </a:cubicBezTo>
                  <a:cubicBezTo>
                    <a:pt x="5171100" y="108255"/>
                    <a:pt x="5201774" y="108255"/>
                    <a:pt x="5232258" y="108255"/>
                  </a:cubicBezTo>
                  <a:cubicBezTo>
                    <a:pt x="5242737" y="74843"/>
                    <a:pt x="5252454" y="38758"/>
                    <a:pt x="5261218" y="0"/>
                  </a:cubicBezTo>
                  <a:close/>
                  <a:moveTo>
                    <a:pt x="4256583" y="0"/>
                  </a:moveTo>
                  <a:cubicBezTo>
                    <a:pt x="4304404" y="4964"/>
                    <a:pt x="4352035" y="9928"/>
                    <a:pt x="4399857" y="14892"/>
                  </a:cubicBezTo>
                  <a:cubicBezTo>
                    <a:pt x="4386139" y="45631"/>
                    <a:pt x="4371659" y="76753"/>
                    <a:pt x="4356608" y="108255"/>
                  </a:cubicBezTo>
                  <a:cubicBezTo>
                    <a:pt x="4398142" y="108255"/>
                    <a:pt x="4439677" y="108255"/>
                    <a:pt x="4481211" y="108255"/>
                  </a:cubicBezTo>
                  <a:cubicBezTo>
                    <a:pt x="4481211" y="214029"/>
                    <a:pt x="4481211" y="319994"/>
                    <a:pt x="4481211" y="425767"/>
                  </a:cubicBezTo>
                  <a:cubicBezTo>
                    <a:pt x="4512266" y="414312"/>
                    <a:pt x="4543322" y="402856"/>
                    <a:pt x="4574377" y="391591"/>
                  </a:cubicBezTo>
                  <a:cubicBezTo>
                    <a:pt x="4610386" y="482282"/>
                    <a:pt x="4637250" y="561135"/>
                    <a:pt x="4654969" y="627959"/>
                  </a:cubicBezTo>
                  <a:cubicBezTo>
                    <a:pt x="4618960" y="640560"/>
                    <a:pt x="4582951" y="653161"/>
                    <a:pt x="4546942" y="665763"/>
                  </a:cubicBezTo>
                  <a:cubicBezTo>
                    <a:pt x="4527699" y="596647"/>
                    <a:pt x="4505789" y="524286"/>
                    <a:pt x="4481211" y="449061"/>
                  </a:cubicBezTo>
                  <a:cubicBezTo>
                    <a:pt x="4481211" y="580418"/>
                    <a:pt x="4481211" y="711585"/>
                    <a:pt x="4481211" y="842752"/>
                  </a:cubicBezTo>
                  <a:cubicBezTo>
                    <a:pt x="4481211" y="887429"/>
                    <a:pt x="4472447" y="921032"/>
                    <a:pt x="4455109" y="943561"/>
                  </a:cubicBezTo>
                  <a:cubicBezTo>
                    <a:pt x="4437581" y="966091"/>
                    <a:pt x="4413003" y="977737"/>
                    <a:pt x="4381186" y="978310"/>
                  </a:cubicBezTo>
                  <a:cubicBezTo>
                    <a:pt x="4349559" y="979074"/>
                    <a:pt x="4309548" y="979456"/>
                    <a:pt x="4261536" y="979456"/>
                  </a:cubicBezTo>
                  <a:cubicBezTo>
                    <a:pt x="4255630" y="939934"/>
                    <a:pt x="4248200" y="900412"/>
                    <a:pt x="4238864" y="860699"/>
                  </a:cubicBezTo>
                  <a:cubicBezTo>
                    <a:pt x="4274873" y="865281"/>
                    <a:pt x="4303071" y="867572"/>
                    <a:pt x="4323266" y="867572"/>
                  </a:cubicBezTo>
                  <a:cubicBezTo>
                    <a:pt x="4350130" y="867572"/>
                    <a:pt x="4363467" y="852680"/>
                    <a:pt x="4363467" y="822896"/>
                  </a:cubicBezTo>
                  <a:cubicBezTo>
                    <a:pt x="4363467" y="793302"/>
                    <a:pt x="4363467" y="763899"/>
                    <a:pt x="4363467" y="734305"/>
                  </a:cubicBezTo>
                  <a:cubicBezTo>
                    <a:pt x="4296212" y="808194"/>
                    <a:pt x="4224575" y="868527"/>
                    <a:pt x="4148746" y="915304"/>
                  </a:cubicBezTo>
                  <a:cubicBezTo>
                    <a:pt x="4138648" y="900030"/>
                    <a:pt x="4126835" y="884374"/>
                    <a:pt x="4113308" y="868145"/>
                  </a:cubicBezTo>
                  <a:cubicBezTo>
                    <a:pt x="4057866" y="907094"/>
                    <a:pt x="4011949" y="943180"/>
                    <a:pt x="3975940" y="975828"/>
                  </a:cubicBezTo>
                  <a:cubicBezTo>
                    <a:pt x="3952506" y="946998"/>
                    <a:pt x="3928881" y="918168"/>
                    <a:pt x="3905446" y="889529"/>
                  </a:cubicBezTo>
                  <a:cubicBezTo>
                    <a:pt x="3926404" y="866236"/>
                    <a:pt x="3936692" y="838361"/>
                    <a:pt x="3936692" y="805903"/>
                  </a:cubicBezTo>
                  <a:lnTo>
                    <a:pt x="3936692" y="433388"/>
                  </a:lnTo>
                  <a:lnTo>
                    <a:pt x="0" y="433388"/>
                  </a:lnTo>
                  <a:lnTo>
                    <a:pt x="0" y="303525"/>
                  </a:lnTo>
                  <a:lnTo>
                    <a:pt x="3870961" y="303525"/>
                  </a:lnTo>
                  <a:lnTo>
                    <a:pt x="3870961" y="303001"/>
                  </a:lnTo>
                  <a:cubicBezTo>
                    <a:pt x="3932501" y="303001"/>
                    <a:pt x="3994040" y="303001"/>
                    <a:pt x="4055579" y="303001"/>
                  </a:cubicBezTo>
                  <a:cubicBezTo>
                    <a:pt x="4055579" y="453452"/>
                    <a:pt x="4055579" y="603902"/>
                    <a:pt x="4055579" y="754353"/>
                  </a:cubicBezTo>
                  <a:cubicBezTo>
                    <a:pt x="4065296" y="746907"/>
                    <a:pt x="4092160" y="729341"/>
                    <a:pt x="4135981" y="701657"/>
                  </a:cubicBezTo>
                  <a:cubicBezTo>
                    <a:pt x="4137886" y="728769"/>
                    <a:pt x="4140172" y="754353"/>
                    <a:pt x="4142839" y="778219"/>
                  </a:cubicBezTo>
                  <a:cubicBezTo>
                    <a:pt x="4196186" y="745952"/>
                    <a:pt x="4247056" y="708148"/>
                    <a:pt x="4295450" y="664808"/>
                  </a:cubicBezTo>
                  <a:cubicBezTo>
                    <a:pt x="4227432" y="664808"/>
                    <a:pt x="4159606" y="664808"/>
                    <a:pt x="4091779" y="664808"/>
                  </a:cubicBezTo>
                  <a:cubicBezTo>
                    <a:pt x="4091779" y="630441"/>
                    <a:pt x="4091779" y="595883"/>
                    <a:pt x="4091779" y="561517"/>
                  </a:cubicBezTo>
                  <a:cubicBezTo>
                    <a:pt x="4106449" y="561517"/>
                    <a:pt x="4121310" y="561517"/>
                    <a:pt x="4135981" y="561517"/>
                  </a:cubicBezTo>
                  <a:cubicBezTo>
                    <a:pt x="4135981" y="410302"/>
                    <a:pt x="4135981" y="259279"/>
                    <a:pt x="4135981" y="108255"/>
                  </a:cubicBezTo>
                  <a:cubicBezTo>
                    <a:pt x="4166464" y="108255"/>
                    <a:pt x="4197139" y="108255"/>
                    <a:pt x="4227623" y="108255"/>
                  </a:cubicBezTo>
                  <a:cubicBezTo>
                    <a:pt x="4238102" y="74843"/>
                    <a:pt x="4247819" y="38758"/>
                    <a:pt x="42565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8afc8"/>
                </a:gs>
                <a:gs pos="100000">
                  <a:srgbClr val="ad8ead"/>
                </a:gs>
              </a:gsLst>
              <a:lin ang="5400000"/>
            </a:gradFill>
            <a:ln w="6480">
              <a:solidFill>
                <a:srgbClr val="c0a4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270" name="Freeform 9"/>
            <p:cNvSpPr/>
            <p:nvPr/>
          </p:nvSpPr>
          <p:spPr>
            <a:xfrm>
              <a:off x="4986000" y="3976920"/>
              <a:ext cx="2790360" cy="564840"/>
            </a:xfrm>
            <a:custGeom>
              <a:avLst/>
              <a:gdLst/>
              <a:ahLst/>
              <a:rect l="l" t="t" r="r" b="b"/>
              <a:pathLst>
                <a:path w="22500" h="5907">
                  <a:moveTo>
                    <a:pt x="11204" y="4079"/>
                  </a:moveTo>
                  <a:cubicBezTo>
                    <a:pt x="11042" y="4079"/>
                    <a:pt x="10903" y="4114"/>
                    <a:pt x="10788" y="4184"/>
                  </a:cubicBezTo>
                  <a:cubicBezTo>
                    <a:pt x="10672" y="4278"/>
                    <a:pt x="10614" y="4407"/>
                    <a:pt x="10614" y="4571"/>
                  </a:cubicBezTo>
                  <a:cubicBezTo>
                    <a:pt x="10614" y="4735"/>
                    <a:pt x="10672" y="4864"/>
                    <a:pt x="10788" y="4958"/>
                  </a:cubicBezTo>
                  <a:cubicBezTo>
                    <a:pt x="10903" y="5052"/>
                    <a:pt x="11042" y="5099"/>
                    <a:pt x="11204" y="5099"/>
                  </a:cubicBezTo>
                  <a:cubicBezTo>
                    <a:pt x="11804" y="5099"/>
                    <a:pt x="12405" y="5099"/>
                    <a:pt x="13006" y="5099"/>
                  </a:cubicBezTo>
                  <a:cubicBezTo>
                    <a:pt x="13006" y="4759"/>
                    <a:pt x="13006" y="4419"/>
                    <a:pt x="13006" y="4079"/>
                  </a:cubicBezTo>
                  <a:cubicBezTo>
                    <a:pt x="12405" y="4079"/>
                    <a:pt x="11804" y="4079"/>
                    <a:pt x="11204" y="4079"/>
                  </a:cubicBezTo>
                  <a:close/>
                  <a:moveTo>
                    <a:pt x="14254" y="1723"/>
                  </a:moveTo>
                  <a:cubicBezTo>
                    <a:pt x="14821" y="1723"/>
                    <a:pt x="15387" y="1723"/>
                    <a:pt x="15953" y="1723"/>
                  </a:cubicBezTo>
                  <a:cubicBezTo>
                    <a:pt x="16624" y="1723"/>
                    <a:pt x="17120" y="1864"/>
                    <a:pt x="17444" y="2145"/>
                  </a:cubicBezTo>
                  <a:cubicBezTo>
                    <a:pt x="17837" y="2497"/>
                    <a:pt x="18033" y="3083"/>
                    <a:pt x="18033" y="3903"/>
                  </a:cubicBezTo>
                  <a:cubicBezTo>
                    <a:pt x="18033" y="4571"/>
                    <a:pt x="18033" y="5239"/>
                    <a:pt x="18033" y="5907"/>
                  </a:cubicBezTo>
                  <a:cubicBezTo>
                    <a:pt x="17756" y="5907"/>
                    <a:pt x="17479" y="5907"/>
                    <a:pt x="17201" y="5907"/>
                  </a:cubicBezTo>
                  <a:cubicBezTo>
                    <a:pt x="17201" y="5239"/>
                    <a:pt x="17201" y="4571"/>
                    <a:pt x="17201" y="3903"/>
                  </a:cubicBezTo>
                  <a:cubicBezTo>
                    <a:pt x="17201" y="3341"/>
                    <a:pt x="17097" y="2966"/>
                    <a:pt x="16889" y="2778"/>
                  </a:cubicBezTo>
                  <a:cubicBezTo>
                    <a:pt x="16728" y="2614"/>
                    <a:pt x="16416" y="2532"/>
                    <a:pt x="15953" y="2532"/>
                  </a:cubicBezTo>
                  <a:cubicBezTo>
                    <a:pt x="15653" y="2532"/>
                    <a:pt x="15352" y="2532"/>
                    <a:pt x="15052" y="2532"/>
                  </a:cubicBezTo>
                  <a:cubicBezTo>
                    <a:pt x="15052" y="3657"/>
                    <a:pt x="15052" y="4782"/>
                    <a:pt x="15052" y="5907"/>
                  </a:cubicBezTo>
                  <a:cubicBezTo>
                    <a:pt x="14786" y="5907"/>
                    <a:pt x="14520" y="5907"/>
                    <a:pt x="14254" y="5907"/>
                  </a:cubicBezTo>
                  <a:cubicBezTo>
                    <a:pt x="14254" y="4513"/>
                    <a:pt x="14254" y="3118"/>
                    <a:pt x="14254" y="1723"/>
                  </a:cubicBezTo>
                  <a:close/>
                  <a:moveTo>
                    <a:pt x="9886" y="1688"/>
                  </a:moveTo>
                  <a:cubicBezTo>
                    <a:pt x="10556" y="1688"/>
                    <a:pt x="11227" y="1688"/>
                    <a:pt x="11897" y="1688"/>
                  </a:cubicBezTo>
                  <a:cubicBezTo>
                    <a:pt x="12521" y="1688"/>
                    <a:pt x="12995" y="1852"/>
                    <a:pt x="13318" y="2180"/>
                  </a:cubicBezTo>
                  <a:cubicBezTo>
                    <a:pt x="13642" y="2508"/>
                    <a:pt x="13804" y="2954"/>
                    <a:pt x="13804" y="3516"/>
                  </a:cubicBezTo>
                  <a:cubicBezTo>
                    <a:pt x="13804" y="4313"/>
                    <a:pt x="13804" y="5110"/>
                    <a:pt x="13804" y="5907"/>
                  </a:cubicBezTo>
                  <a:cubicBezTo>
                    <a:pt x="12937" y="5907"/>
                    <a:pt x="12070" y="5907"/>
                    <a:pt x="11204" y="5907"/>
                  </a:cubicBezTo>
                  <a:cubicBezTo>
                    <a:pt x="10903" y="5907"/>
                    <a:pt x="10626" y="5825"/>
                    <a:pt x="10371" y="5661"/>
                  </a:cubicBezTo>
                  <a:cubicBezTo>
                    <a:pt x="10002" y="5427"/>
                    <a:pt x="9817" y="5063"/>
                    <a:pt x="9817" y="4571"/>
                  </a:cubicBezTo>
                  <a:cubicBezTo>
                    <a:pt x="9817" y="4102"/>
                    <a:pt x="10002" y="3739"/>
                    <a:pt x="10371" y="3481"/>
                  </a:cubicBezTo>
                  <a:cubicBezTo>
                    <a:pt x="10626" y="3317"/>
                    <a:pt x="10903" y="3235"/>
                    <a:pt x="11204" y="3235"/>
                  </a:cubicBezTo>
                  <a:cubicBezTo>
                    <a:pt x="11793" y="3235"/>
                    <a:pt x="12382" y="3235"/>
                    <a:pt x="12972" y="3235"/>
                  </a:cubicBezTo>
                  <a:cubicBezTo>
                    <a:pt x="12902" y="2766"/>
                    <a:pt x="12544" y="2532"/>
                    <a:pt x="11897" y="2532"/>
                  </a:cubicBezTo>
                  <a:cubicBezTo>
                    <a:pt x="11227" y="2532"/>
                    <a:pt x="10556" y="2532"/>
                    <a:pt x="9886" y="2532"/>
                  </a:cubicBezTo>
                  <a:cubicBezTo>
                    <a:pt x="9886" y="2251"/>
                    <a:pt x="9886" y="1969"/>
                    <a:pt x="9886" y="1688"/>
                  </a:cubicBezTo>
                  <a:close/>
                  <a:moveTo>
                    <a:pt x="18444" y="0"/>
                  </a:moveTo>
                  <a:cubicBezTo>
                    <a:pt x="18709" y="0"/>
                    <a:pt x="18975" y="0"/>
                    <a:pt x="19241" y="0"/>
                  </a:cubicBezTo>
                  <a:cubicBezTo>
                    <a:pt x="19241" y="1067"/>
                    <a:pt x="19241" y="2133"/>
                    <a:pt x="19241" y="3200"/>
                  </a:cubicBezTo>
                  <a:cubicBezTo>
                    <a:pt x="19865" y="2708"/>
                    <a:pt x="20489" y="2215"/>
                    <a:pt x="21113" y="1723"/>
                  </a:cubicBezTo>
                  <a:cubicBezTo>
                    <a:pt x="21552" y="1723"/>
                    <a:pt x="21991" y="1723"/>
                    <a:pt x="22431" y="1723"/>
                  </a:cubicBezTo>
                  <a:cubicBezTo>
                    <a:pt x="21656" y="2333"/>
                    <a:pt x="20882" y="2942"/>
                    <a:pt x="20108" y="3552"/>
                  </a:cubicBezTo>
                  <a:cubicBezTo>
                    <a:pt x="20905" y="4337"/>
                    <a:pt x="21703" y="5122"/>
                    <a:pt x="22500" y="5907"/>
                  </a:cubicBezTo>
                  <a:cubicBezTo>
                    <a:pt x="22107" y="5907"/>
                    <a:pt x="21714" y="5907"/>
                    <a:pt x="21321" y="5907"/>
                  </a:cubicBezTo>
                  <a:cubicBezTo>
                    <a:pt x="20628" y="5216"/>
                    <a:pt x="19934" y="4524"/>
                    <a:pt x="19241" y="3833"/>
                  </a:cubicBezTo>
                  <a:cubicBezTo>
                    <a:pt x="19241" y="4524"/>
                    <a:pt x="19241" y="5216"/>
                    <a:pt x="19241" y="5907"/>
                  </a:cubicBezTo>
                  <a:cubicBezTo>
                    <a:pt x="18975" y="5907"/>
                    <a:pt x="18709" y="5907"/>
                    <a:pt x="18444" y="5907"/>
                  </a:cubicBezTo>
                  <a:cubicBezTo>
                    <a:pt x="18444" y="3938"/>
                    <a:pt x="18444" y="1969"/>
                    <a:pt x="18444" y="0"/>
                  </a:cubicBezTo>
                  <a:close/>
                  <a:moveTo>
                    <a:pt x="5787" y="0"/>
                  </a:moveTo>
                  <a:cubicBezTo>
                    <a:pt x="6053" y="0"/>
                    <a:pt x="6319" y="0"/>
                    <a:pt x="6585" y="0"/>
                  </a:cubicBezTo>
                  <a:cubicBezTo>
                    <a:pt x="6585" y="575"/>
                    <a:pt x="6585" y="1149"/>
                    <a:pt x="6585" y="1723"/>
                  </a:cubicBezTo>
                  <a:cubicBezTo>
                    <a:pt x="6908" y="1723"/>
                    <a:pt x="7232" y="1723"/>
                    <a:pt x="7556" y="1723"/>
                  </a:cubicBezTo>
                  <a:cubicBezTo>
                    <a:pt x="8757" y="1723"/>
                    <a:pt x="9358" y="2321"/>
                    <a:pt x="9358" y="3516"/>
                  </a:cubicBezTo>
                  <a:cubicBezTo>
                    <a:pt x="9358" y="4313"/>
                    <a:pt x="9358" y="5110"/>
                    <a:pt x="9358" y="5907"/>
                  </a:cubicBezTo>
                  <a:cubicBezTo>
                    <a:pt x="9093" y="5907"/>
                    <a:pt x="8827" y="5907"/>
                    <a:pt x="8561" y="5907"/>
                  </a:cubicBezTo>
                  <a:cubicBezTo>
                    <a:pt x="8561" y="5110"/>
                    <a:pt x="8561" y="4313"/>
                    <a:pt x="8561" y="3516"/>
                  </a:cubicBezTo>
                  <a:cubicBezTo>
                    <a:pt x="8561" y="3165"/>
                    <a:pt x="8503" y="2919"/>
                    <a:pt x="8388" y="2778"/>
                  </a:cubicBezTo>
                  <a:cubicBezTo>
                    <a:pt x="8226" y="2614"/>
                    <a:pt x="7948" y="2532"/>
                    <a:pt x="7556" y="2532"/>
                  </a:cubicBezTo>
                  <a:cubicBezTo>
                    <a:pt x="7232" y="2532"/>
                    <a:pt x="6908" y="2532"/>
                    <a:pt x="6585" y="2532"/>
                  </a:cubicBezTo>
                  <a:cubicBezTo>
                    <a:pt x="6585" y="3657"/>
                    <a:pt x="6585" y="4782"/>
                    <a:pt x="6585" y="5907"/>
                  </a:cubicBezTo>
                  <a:cubicBezTo>
                    <a:pt x="6319" y="5907"/>
                    <a:pt x="6053" y="5907"/>
                    <a:pt x="5787" y="5907"/>
                  </a:cubicBezTo>
                  <a:cubicBezTo>
                    <a:pt x="5787" y="3938"/>
                    <a:pt x="5787" y="1969"/>
                    <a:pt x="5787" y="0"/>
                  </a:cubicBezTo>
                  <a:close/>
                  <a:moveTo>
                    <a:pt x="0" y="0"/>
                  </a:moveTo>
                  <a:cubicBezTo>
                    <a:pt x="1768" y="0"/>
                    <a:pt x="3536" y="0"/>
                    <a:pt x="5304" y="0"/>
                  </a:cubicBezTo>
                  <a:cubicBezTo>
                    <a:pt x="5304" y="282"/>
                    <a:pt x="5304" y="563"/>
                    <a:pt x="5304" y="844"/>
                  </a:cubicBezTo>
                  <a:cubicBezTo>
                    <a:pt x="4553" y="844"/>
                    <a:pt x="3802" y="844"/>
                    <a:pt x="3051" y="844"/>
                  </a:cubicBezTo>
                  <a:cubicBezTo>
                    <a:pt x="3051" y="2532"/>
                    <a:pt x="3051" y="4220"/>
                    <a:pt x="3051" y="5907"/>
                  </a:cubicBezTo>
                  <a:cubicBezTo>
                    <a:pt x="2785" y="5907"/>
                    <a:pt x="2519" y="5907"/>
                    <a:pt x="2253" y="5907"/>
                  </a:cubicBezTo>
                  <a:cubicBezTo>
                    <a:pt x="2253" y="4220"/>
                    <a:pt x="2253" y="2532"/>
                    <a:pt x="2253" y="844"/>
                  </a:cubicBezTo>
                  <a:cubicBezTo>
                    <a:pt x="1502" y="844"/>
                    <a:pt x="751" y="844"/>
                    <a:pt x="0" y="844"/>
                  </a:cubicBezTo>
                  <a:cubicBezTo>
                    <a:pt x="0" y="563"/>
                    <a:pt x="0" y="282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8afc8"/>
                </a:gs>
                <a:gs pos="100000">
                  <a:srgbClr val="ad8ead"/>
                </a:gs>
              </a:gsLst>
              <a:lin ang="5400000"/>
            </a:gradFill>
            <a:ln w="6480">
              <a:solidFill>
                <a:srgbClr val="c0a4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271" name="Freeform 10"/>
            <p:cNvSpPr/>
            <p:nvPr/>
          </p:nvSpPr>
          <p:spPr>
            <a:xfrm>
              <a:off x="8137800" y="3976920"/>
              <a:ext cx="1862640" cy="580680"/>
            </a:xfrm>
            <a:custGeom>
              <a:avLst/>
              <a:gdLst/>
              <a:ahLst/>
              <a:rect l="l" t="t" r="r" b="b"/>
              <a:pathLst>
                <a:path w="7507" h="3042">
                  <a:moveTo>
                    <a:pt x="4234" y="1178"/>
                  </a:moveTo>
                  <a:cubicBezTo>
                    <a:pt x="4037" y="1178"/>
                    <a:pt x="3870" y="1249"/>
                    <a:pt x="3731" y="1389"/>
                  </a:cubicBezTo>
                  <a:cubicBezTo>
                    <a:pt x="3592" y="1530"/>
                    <a:pt x="3523" y="1700"/>
                    <a:pt x="3523" y="1899"/>
                  </a:cubicBezTo>
                  <a:cubicBezTo>
                    <a:pt x="3523" y="2098"/>
                    <a:pt x="3592" y="2268"/>
                    <a:pt x="3731" y="2409"/>
                  </a:cubicBezTo>
                  <a:cubicBezTo>
                    <a:pt x="3870" y="2549"/>
                    <a:pt x="4037" y="2620"/>
                    <a:pt x="4234" y="2620"/>
                  </a:cubicBezTo>
                  <a:cubicBezTo>
                    <a:pt x="4430" y="2620"/>
                    <a:pt x="4598" y="2549"/>
                    <a:pt x="4736" y="2409"/>
                  </a:cubicBezTo>
                  <a:cubicBezTo>
                    <a:pt x="4887" y="2268"/>
                    <a:pt x="4962" y="2098"/>
                    <a:pt x="4962" y="1899"/>
                  </a:cubicBezTo>
                  <a:cubicBezTo>
                    <a:pt x="4962" y="1700"/>
                    <a:pt x="4887" y="1530"/>
                    <a:pt x="4736" y="1389"/>
                  </a:cubicBezTo>
                  <a:cubicBezTo>
                    <a:pt x="4598" y="1249"/>
                    <a:pt x="4430" y="1178"/>
                    <a:pt x="4234" y="1178"/>
                  </a:cubicBezTo>
                  <a:close/>
                  <a:moveTo>
                    <a:pt x="5583" y="862"/>
                  </a:moveTo>
                  <a:cubicBezTo>
                    <a:pt x="5716" y="862"/>
                    <a:pt x="5848" y="862"/>
                    <a:pt x="5981" y="862"/>
                  </a:cubicBezTo>
                  <a:cubicBezTo>
                    <a:pt x="5981" y="1219"/>
                    <a:pt x="5981" y="1577"/>
                    <a:pt x="5981" y="1934"/>
                  </a:cubicBezTo>
                  <a:cubicBezTo>
                    <a:pt x="5981" y="2180"/>
                    <a:pt x="6045" y="2350"/>
                    <a:pt x="6172" y="2444"/>
                  </a:cubicBezTo>
                  <a:cubicBezTo>
                    <a:pt x="6264" y="2503"/>
                    <a:pt x="6409" y="2532"/>
                    <a:pt x="6605" y="2532"/>
                  </a:cubicBezTo>
                  <a:cubicBezTo>
                    <a:pt x="6773" y="2532"/>
                    <a:pt x="6941" y="2532"/>
                    <a:pt x="7108" y="2532"/>
                  </a:cubicBezTo>
                  <a:cubicBezTo>
                    <a:pt x="7108" y="1975"/>
                    <a:pt x="7108" y="1419"/>
                    <a:pt x="7108" y="862"/>
                  </a:cubicBezTo>
                  <a:cubicBezTo>
                    <a:pt x="7241" y="862"/>
                    <a:pt x="7374" y="862"/>
                    <a:pt x="7507" y="862"/>
                  </a:cubicBezTo>
                  <a:cubicBezTo>
                    <a:pt x="7507" y="1559"/>
                    <a:pt x="7507" y="2257"/>
                    <a:pt x="7507" y="2954"/>
                  </a:cubicBezTo>
                  <a:cubicBezTo>
                    <a:pt x="7206" y="2954"/>
                    <a:pt x="6906" y="2954"/>
                    <a:pt x="6605" y="2954"/>
                  </a:cubicBezTo>
                  <a:cubicBezTo>
                    <a:pt x="5924" y="2954"/>
                    <a:pt x="5583" y="2614"/>
                    <a:pt x="5583" y="1934"/>
                  </a:cubicBezTo>
                  <a:cubicBezTo>
                    <a:pt x="5583" y="1577"/>
                    <a:pt x="5583" y="1219"/>
                    <a:pt x="5583" y="862"/>
                  </a:cubicBezTo>
                  <a:close/>
                  <a:moveTo>
                    <a:pt x="4234" y="756"/>
                  </a:moveTo>
                  <a:cubicBezTo>
                    <a:pt x="4546" y="756"/>
                    <a:pt x="4811" y="868"/>
                    <a:pt x="5031" y="1090"/>
                  </a:cubicBezTo>
                  <a:cubicBezTo>
                    <a:pt x="5251" y="1313"/>
                    <a:pt x="5360" y="1583"/>
                    <a:pt x="5360" y="1899"/>
                  </a:cubicBezTo>
                  <a:cubicBezTo>
                    <a:pt x="5360" y="2215"/>
                    <a:pt x="5251" y="2485"/>
                    <a:pt x="5031" y="2708"/>
                  </a:cubicBezTo>
                  <a:cubicBezTo>
                    <a:pt x="4811" y="2930"/>
                    <a:pt x="4546" y="3042"/>
                    <a:pt x="4234" y="3042"/>
                  </a:cubicBezTo>
                  <a:cubicBezTo>
                    <a:pt x="3922" y="3042"/>
                    <a:pt x="3656" y="2930"/>
                    <a:pt x="3436" y="2708"/>
                  </a:cubicBezTo>
                  <a:cubicBezTo>
                    <a:pt x="3228" y="2485"/>
                    <a:pt x="3124" y="2215"/>
                    <a:pt x="3124" y="1899"/>
                  </a:cubicBezTo>
                  <a:cubicBezTo>
                    <a:pt x="3124" y="1583"/>
                    <a:pt x="3228" y="1313"/>
                    <a:pt x="3436" y="1090"/>
                  </a:cubicBezTo>
                  <a:cubicBezTo>
                    <a:pt x="3656" y="868"/>
                    <a:pt x="3922" y="756"/>
                    <a:pt x="4234" y="756"/>
                  </a:cubicBezTo>
                  <a:close/>
                  <a:moveTo>
                    <a:pt x="0" y="0"/>
                  </a:moveTo>
                  <a:cubicBezTo>
                    <a:pt x="167" y="0"/>
                    <a:pt x="335" y="0"/>
                    <a:pt x="502" y="0"/>
                  </a:cubicBezTo>
                  <a:cubicBezTo>
                    <a:pt x="814" y="452"/>
                    <a:pt x="1126" y="903"/>
                    <a:pt x="1438" y="1354"/>
                  </a:cubicBezTo>
                  <a:cubicBezTo>
                    <a:pt x="1750" y="903"/>
                    <a:pt x="2062" y="452"/>
                    <a:pt x="2374" y="0"/>
                  </a:cubicBezTo>
                  <a:cubicBezTo>
                    <a:pt x="2542" y="0"/>
                    <a:pt x="2710" y="0"/>
                    <a:pt x="2877" y="0"/>
                  </a:cubicBezTo>
                  <a:cubicBezTo>
                    <a:pt x="2467" y="592"/>
                    <a:pt x="2057" y="1184"/>
                    <a:pt x="1646" y="1776"/>
                  </a:cubicBezTo>
                  <a:cubicBezTo>
                    <a:pt x="1646" y="2169"/>
                    <a:pt x="1646" y="2561"/>
                    <a:pt x="1646" y="2954"/>
                  </a:cubicBezTo>
                  <a:cubicBezTo>
                    <a:pt x="1508" y="2954"/>
                    <a:pt x="1369" y="2954"/>
                    <a:pt x="1230" y="2954"/>
                  </a:cubicBezTo>
                  <a:cubicBezTo>
                    <a:pt x="1230" y="2561"/>
                    <a:pt x="1230" y="2169"/>
                    <a:pt x="1230" y="1776"/>
                  </a:cubicBezTo>
                  <a:cubicBezTo>
                    <a:pt x="820" y="1184"/>
                    <a:pt x="410" y="592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8afc8"/>
                </a:gs>
                <a:gs pos="100000">
                  <a:srgbClr val="ad8ead"/>
                </a:gs>
              </a:gsLst>
              <a:lin ang="5400000"/>
            </a:gradFill>
            <a:ln w="6480">
              <a:solidFill>
                <a:srgbClr val="c0a4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</p:grp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8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dur="indefinite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-2" evt="onNext"/>
                                  </p:endCondLst>
                                  <p:childTnLst>
                                    <p:animRot by="120000">
                                      <p:cBhvr>
                                        <p:cTn id="5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5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5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54"/>
          <p:cNvSpPr/>
          <p:nvPr/>
        </p:nvSpPr>
        <p:spPr>
          <a:xfrm>
            <a:off x="10764720" y="1063800"/>
            <a:ext cx="1127160" cy="4611600"/>
          </a:xfrm>
          <a:prstGeom prst="rect">
            <a:avLst/>
          </a:prstGeom>
          <a:gradFill rotWithShape="0">
            <a:gsLst>
              <a:gs pos="0">
                <a:srgbClr val="a2cce0"/>
              </a:gs>
              <a:gs pos="100000">
                <a:srgbClr val="7cb1ca"/>
              </a:gs>
            </a:gsLst>
            <a:lin ang="5400000"/>
          </a:gradFill>
          <a:ln w="6480">
            <a:solidFill>
              <a:srgbClr val="95c5db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5400" spc="-1" strike="noStrike">
              <a:solidFill>
                <a:srgbClr val="3d3f41"/>
              </a:solidFill>
              <a:latin typeface="Arial"/>
            </a:endParaRPr>
          </a:p>
        </p:txBody>
      </p:sp>
      <p:pic>
        <p:nvPicPr>
          <p:cNvPr id="88" name="文本框 1" descr=""/>
          <p:cNvPicPr/>
          <p:nvPr/>
        </p:nvPicPr>
        <p:blipFill>
          <a:blip r:embed="rId2"/>
          <a:stretch/>
        </p:blipFill>
        <p:spPr>
          <a:xfrm>
            <a:off x="8785080" y="3073320"/>
            <a:ext cx="1505160" cy="1930320"/>
          </a:xfrm>
          <a:prstGeom prst="rect">
            <a:avLst/>
          </a:prstGeom>
          <a:ln w="0">
            <a:noFill/>
          </a:ln>
        </p:spPr>
      </p:pic>
      <p:pic>
        <p:nvPicPr>
          <p:cNvPr id="89" name="文本框 17" descr=""/>
          <p:cNvPicPr/>
          <p:nvPr/>
        </p:nvPicPr>
        <p:blipFill>
          <a:blip r:embed="rId3"/>
          <a:stretch/>
        </p:blipFill>
        <p:spPr>
          <a:xfrm>
            <a:off x="6451560" y="3073320"/>
            <a:ext cx="1505160" cy="1930320"/>
          </a:xfrm>
          <a:prstGeom prst="rect">
            <a:avLst/>
          </a:prstGeom>
          <a:ln w="0">
            <a:noFill/>
          </a:ln>
        </p:spPr>
      </p:pic>
      <p:pic>
        <p:nvPicPr>
          <p:cNvPr id="90" name="文本框 20" descr=""/>
          <p:cNvPicPr/>
          <p:nvPr/>
        </p:nvPicPr>
        <p:blipFill>
          <a:blip r:embed="rId4"/>
          <a:stretch/>
        </p:blipFill>
        <p:spPr>
          <a:xfrm>
            <a:off x="4354560" y="3073320"/>
            <a:ext cx="1417680" cy="1825560"/>
          </a:xfrm>
          <a:prstGeom prst="rect">
            <a:avLst/>
          </a:prstGeom>
          <a:ln w="0">
            <a:noFill/>
          </a:ln>
        </p:spPr>
      </p:pic>
      <p:pic>
        <p:nvPicPr>
          <p:cNvPr id="91" name="文本框 22" descr=""/>
          <p:cNvPicPr/>
          <p:nvPr/>
        </p:nvPicPr>
        <p:blipFill>
          <a:blip r:embed="rId5"/>
          <a:stretch/>
        </p:blipFill>
        <p:spPr>
          <a:xfrm>
            <a:off x="2073240" y="3073320"/>
            <a:ext cx="1505160" cy="1930320"/>
          </a:xfrm>
          <a:prstGeom prst="rect">
            <a:avLst/>
          </a:prstGeom>
          <a:ln w="0">
            <a:noFill/>
          </a:ln>
        </p:spPr>
      </p:pic>
      <p:sp>
        <p:nvSpPr>
          <p:cNvPr id="92" name="任意多边形 32"/>
          <p:cNvSpPr/>
          <p:nvPr/>
        </p:nvSpPr>
        <p:spPr>
          <a:xfrm rot="1663800">
            <a:off x="1272960" y="458280"/>
            <a:ext cx="1371600" cy="5859720"/>
          </a:xfrm>
          <a:prstGeom prst="pie">
            <a:avLst/>
          </a:prstGeom>
          <a:gradFill rotWithShape="0">
            <a:gsLst>
              <a:gs pos="0">
                <a:srgbClr val="a2cce0"/>
              </a:gs>
              <a:gs pos="100000">
                <a:srgbClr val="7cb1ca"/>
              </a:gs>
            </a:gsLst>
            <a:lin ang="3738000"/>
          </a:gradFill>
          <a:ln w="6480">
            <a:solidFill>
              <a:srgbClr val="95c5db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纸之乡</a:t>
            </a: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阳</a:t>
            </a:r>
            <a:endParaRPr b="0" lang="en-US" sz="32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3" name="任意多边形 33"/>
          <p:cNvSpPr/>
          <p:nvPr/>
        </p:nvSpPr>
        <p:spPr>
          <a:xfrm rot="1663800">
            <a:off x="3527280" y="458280"/>
            <a:ext cx="1384560" cy="5931000"/>
          </a:xfrm>
          <a:prstGeom prst="pie">
            <a:avLst/>
          </a:prstGeom>
          <a:gradFill rotWithShape="0">
            <a:gsLst>
              <a:gs pos="0">
                <a:srgbClr val="a2cce0"/>
              </a:gs>
              <a:gs pos="100000">
                <a:srgbClr val="7cb1ca"/>
              </a:gs>
            </a:gsLst>
            <a:lin ang="3738000"/>
          </a:gradFill>
          <a:ln w="6480">
            <a:solidFill>
              <a:srgbClr val="95c5db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山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小城</a:t>
            </a: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城</a:t>
            </a:r>
            <a:endParaRPr b="0" lang="en-US" sz="32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4" name="任意多边形 34"/>
          <p:cNvSpPr/>
          <p:nvPr/>
        </p:nvSpPr>
        <p:spPr>
          <a:xfrm rot="1663800">
            <a:off x="5771880" y="436320"/>
            <a:ext cx="1298520" cy="5970600"/>
          </a:xfrm>
          <a:prstGeom prst="pie">
            <a:avLst/>
          </a:prstGeom>
          <a:gradFill rotWithShape="0">
            <a:gsLst>
              <a:gs pos="0">
                <a:srgbClr val="a2cce0"/>
              </a:gs>
              <a:gs pos="100000">
                <a:srgbClr val="7cb1ca"/>
              </a:gs>
            </a:gsLst>
            <a:lin ang="3738000"/>
          </a:gradFill>
          <a:ln w="6480">
            <a:solidFill>
              <a:srgbClr val="95c5db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名人故里</a:t>
            </a: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水</a:t>
            </a:r>
            <a:endParaRPr b="0" lang="en-US" sz="32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5" name="任意多边形 35"/>
          <p:cNvSpPr/>
          <p:nvPr/>
        </p:nvSpPr>
        <p:spPr>
          <a:xfrm rot="1663800">
            <a:off x="8134200" y="447840"/>
            <a:ext cx="1322640" cy="5851440"/>
          </a:xfrm>
          <a:prstGeom prst="pie">
            <a:avLst/>
          </a:prstGeom>
          <a:gradFill rotWithShape="0">
            <a:gsLst>
              <a:gs pos="0">
                <a:srgbClr val="a2cce0"/>
              </a:gs>
              <a:gs pos="100000">
                <a:srgbClr val="7cb1ca"/>
              </a:gs>
            </a:gsLst>
            <a:lin ang="3738000"/>
          </a:gradFill>
          <a:ln w="6480">
            <a:solidFill>
              <a:srgbClr val="95c5db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吕梁市政府所在地—离石</a:t>
            </a:r>
            <a:endParaRPr b="0" lang="en-US" sz="32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600"/>
                            </p:stCondLst>
                            <p:childTnLst>
                              <p:par>
                                <p:cTn id="55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200"/>
                            </p:stCondLst>
                            <p:childTnLst>
                              <p:par>
                                <p:cTn id="68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32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09200" y="438120"/>
            <a:ext cx="107730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64606d"/>
              </a:solidFill>
              <a:latin typeface="comic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09560" y="1390680"/>
            <a:ext cx="1087272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40000"/>
              </a:lnSpc>
              <a:spcBef>
                <a:spcPts val="1800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3f41"/>
                </a:solidFill>
                <a:latin typeface="Calibri"/>
                <a:ea typeface="宋体"/>
              </a:rPr>
              <a:t> </a:t>
            </a:r>
            <a:r>
              <a:rPr b="1" lang="zh-CN" sz="2000" spc="-1" strike="noStrike">
                <a:solidFill>
                  <a:srgbClr val="3d3f41"/>
                </a:solidFill>
                <a:latin typeface="Calibri"/>
                <a:ea typeface="宋体"/>
              </a:rPr>
              <a:t>吕梁市位于山西省中部西侧，因吕梁山脉由北向南纵贯全境而得名。西隔黄河同陕西榆林相望，东北与省会太原市相连，东部、东南部分别和晋中、临汾接壤。全市基本属于温带大陆性季风气候区，冬寒夏暑，四季分明。市境总面积</a:t>
            </a:r>
            <a:r>
              <a:rPr b="1" lang="en-US" sz="2000" spc="-1" strike="noStrike">
                <a:solidFill>
                  <a:srgbClr val="3d3f41"/>
                </a:solidFill>
                <a:latin typeface="Calibri"/>
                <a:ea typeface="宋体"/>
              </a:rPr>
              <a:t>21140</a:t>
            </a:r>
            <a:r>
              <a:rPr b="1" lang="zh-CN" sz="2000" spc="-1" strike="noStrike">
                <a:solidFill>
                  <a:srgbClr val="3d3f41"/>
                </a:solidFill>
                <a:latin typeface="Calibri"/>
                <a:ea typeface="宋体"/>
              </a:rPr>
              <a:t>平方千米，下辖</a:t>
            </a:r>
            <a:r>
              <a:rPr b="1" lang="en-US" sz="2000" spc="-1" strike="noStrike">
                <a:solidFill>
                  <a:srgbClr val="3d3f41"/>
                </a:solidFill>
                <a:latin typeface="Calibri"/>
                <a:ea typeface="宋体"/>
              </a:rPr>
              <a:t>1</a:t>
            </a:r>
            <a:r>
              <a:rPr b="1" lang="zh-CN" sz="2000" spc="-1" strike="noStrike">
                <a:solidFill>
                  <a:srgbClr val="3d3f41"/>
                </a:solidFill>
                <a:latin typeface="Calibri"/>
                <a:ea typeface="宋体"/>
              </a:rPr>
              <a:t>个市辖区、</a:t>
            </a:r>
            <a:r>
              <a:rPr b="1" lang="en-US" sz="2000" spc="-1" strike="noStrike">
                <a:solidFill>
                  <a:srgbClr val="3d3f41"/>
                </a:solidFill>
                <a:latin typeface="Calibri"/>
                <a:ea typeface="宋体"/>
              </a:rPr>
              <a:t>10</a:t>
            </a:r>
            <a:r>
              <a:rPr b="1" lang="zh-CN" sz="2000" spc="-1" strike="noStrike">
                <a:solidFill>
                  <a:srgbClr val="3d3f41"/>
                </a:solidFill>
                <a:latin typeface="Calibri"/>
                <a:ea typeface="宋体"/>
              </a:rPr>
              <a:t>个县，代管</a:t>
            </a:r>
            <a:r>
              <a:rPr b="1" lang="en-US" sz="2000" spc="-1" strike="noStrike">
                <a:solidFill>
                  <a:srgbClr val="3d3f41"/>
                </a:solidFill>
                <a:latin typeface="Calibri"/>
                <a:ea typeface="宋体"/>
              </a:rPr>
              <a:t>2</a:t>
            </a:r>
            <a:r>
              <a:rPr b="1" lang="zh-CN" sz="2000" spc="-1" strike="noStrike">
                <a:solidFill>
                  <a:srgbClr val="3d3f41"/>
                </a:solidFill>
                <a:latin typeface="Calibri"/>
                <a:ea typeface="宋体"/>
              </a:rPr>
              <a:t>个县级市。离石区是吕梁市政府所在地，是全市政治、文化和交通中心。</a:t>
            </a: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98" name="MH_Text_1"/>
          <p:cNvSpPr/>
          <p:nvPr/>
        </p:nvSpPr>
        <p:spPr>
          <a:xfrm>
            <a:off x="14400" y="1371600"/>
            <a:ext cx="11991960" cy="53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0" bIns="46800"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d3f41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Calibri"/>
                <a:ea typeface="宋体"/>
              </a:rPr>
              <a:t>          </a:t>
            </a:r>
            <a:endParaRPr b="0" lang="en-US" sz="2800" spc="-1" strike="noStrike">
              <a:solidFill>
                <a:srgbClr val="3d3f41"/>
              </a:solidFill>
              <a:latin typeface="Arial"/>
            </a:endParaRPr>
          </a:p>
        </p:txBody>
      </p:sp>
      <p:grpSp>
        <p:nvGrpSpPr>
          <p:cNvPr id="99" name="组合 1"/>
          <p:cNvGrpSpPr/>
          <p:nvPr/>
        </p:nvGrpSpPr>
        <p:grpSpPr>
          <a:xfrm>
            <a:off x="1378080" y="338040"/>
            <a:ext cx="8389800" cy="1111320"/>
            <a:chOff x="1378080" y="338040"/>
            <a:chExt cx="8389800" cy="1111320"/>
          </a:xfrm>
        </p:grpSpPr>
        <p:sp>
          <p:nvSpPr>
            <p:cNvPr id="100" name="MH_SubTitle_1"/>
            <p:cNvSpPr/>
            <p:nvPr/>
          </p:nvSpPr>
          <p:spPr>
            <a:xfrm>
              <a:off x="1378080" y="338040"/>
              <a:ext cx="8389800" cy="792000"/>
            </a:xfrm>
            <a:prstGeom prst="pie">
              <a:avLst/>
            </a:prstGeom>
            <a:solidFill>
              <a:srgbClr val="fffdd9"/>
            </a:solidFill>
            <a:ln w="15840">
              <a:solidFill>
                <a:srgbClr val="d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吕梁市简介</a:t>
              </a:r>
              <a:endParaRPr b="0" lang="en-US" sz="4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101" name="MH_Other_1"/>
            <p:cNvSpPr/>
            <p:nvPr/>
          </p:nvSpPr>
          <p:spPr>
            <a:xfrm>
              <a:off x="9287280" y="965520"/>
              <a:ext cx="380520" cy="483840"/>
            </a:xfrm>
            <a:custGeom>
              <a:avLst/>
              <a:gdLst/>
              <a:ahLst/>
              <a:rect l="l" t="t" r="r" b="b"/>
              <a:pathLst>
                <a:path w="489601" h="817519">
                  <a:moveTo>
                    <a:pt x="382030" y="148204"/>
                  </a:moveTo>
                  <a:cubicBezTo>
                    <a:pt x="376386" y="149144"/>
                    <a:pt x="372154" y="149144"/>
                    <a:pt x="369332" y="148556"/>
                  </a:cubicBezTo>
                  <a:lnTo>
                    <a:pt x="369178" y="148440"/>
                  </a:lnTo>
                  <a:lnTo>
                    <a:pt x="382030" y="148204"/>
                  </a:lnTo>
                  <a:close/>
                  <a:moveTo>
                    <a:pt x="72717" y="25053"/>
                  </a:moveTo>
                  <a:cubicBezTo>
                    <a:pt x="50129" y="22710"/>
                    <a:pt x="31306" y="29271"/>
                    <a:pt x="35070" y="57390"/>
                  </a:cubicBezTo>
                  <a:cubicBezTo>
                    <a:pt x="38835" y="100506"/>
                    <a:pt x="68011" y="130500"/>
                    <a:pt x="104246" y="143154"/>
                  </a:cubicBezTo>
                  <a:lnTo>
                    <a:pt x="109197" y="143624"/>
                  </a:lnTo>
                  <a:lnTo>
                    <a:pt x="173943" y="136089"/>
                  </a:lnTo>
                  <a:lnTo>
                    <a:pt x="180928" y="143134"/>
                  </a:lnTo>
                  <a:lnTo>
                    <a:pt x="189943" y="140583"/>
                  </a:lnTo>
                  <a:lnTo>
                    <a:pt x="211202" y="127656"/>
                  </a:lnTo>
                  <a:lnTo>
                    <a:pt x="212009" y="128625"/>
                  </a:lnTo>
                  <a:lnTo>
                    <a:pt x="212766" y="128743"/>
                  </a:lnTo>
                  <a:lnTo>
                    <a:pt x="218745" y="128743"/>
                  </a:lnTo>
                  <a:lnTo>
                    <a:pt x="214613" y="126103"/>
                  </a:lnTo>
                  <a:lnTo>
                    <a:pt x="214799" y="125468"/>
                  </a:lnTo>
                  <a:lnTo>
                    <a:pt x="211202" y="127656"/>
                  </a:lnTo>
                  <a:lnTo>
                    <a:pt x="175304" y="84572"/>
                  </a:lnTo>
                  <a:cubicBezTo>
                    <a:pt x="163069" y="69575"/>
                    <a:pt x="149893" y="55515"/>
                    <a:pt x="132952" y="46142"/>
                  </a:cubicBezTo>
                  <a:cubicBezTo>
                    <a:pt x="121658" y="38644"/>
                    <a:pt x="95305" y="27396"/>
                    <a:pt x="72717" y="25053"/>
                  </a:cubicBezTo>
                  <a:close/>
                  <a:moveTo>
                    <a:pt x="371684" y="557"/>
                  </a:moveTo>
                  <a:cubicBezTo>
                    <a:pt x="403662" y="-2265"/>
                    <a:pt x="434700" y="5259"/>
                    <a:pt x="457273" y="31591"/>
                  </a:cubicBezTo>
                  <a:cubicBezTo>
                    <a:pt x="483608" y="61684"/>
                    <a:pt x="479846" y="103063"/>
                    <a:pt x="449749" y="125633"/>
                  </a:cubicBezTo>
                  <a:cubicBezTo>
                    <a:pt x="430938" y="140680"/>
                    <a:pt x="404603" y="140680"/>
                    <a:pt x="382030" y="148204"/>
                  </a:cubicBezTo>
                  <a:cubicBezTo>
                    <a:pt x="404603" y="144442"/>
                    <a:pt x="400841" y="136918"/>
                    <a:pt x="382030" y="136918"/>
                  </a:cubicBezTo>
                  <a:cubicBezTo>
                    <a:pt x="415889" y="133156"/>
                    <a:pt x="445987" y="110586"/>
                    <a:pt x="434700" y="69208"/>
                  </a:cubicBezTo>
                  <a:cubicBezTo>
                    <a:pt x="430938" y="50399"/>
                    <a:pt x="419651" y="27829"/>
                    <a:pt x="397078" y="16544"/>
                  </a:cubicBezTo>
                  <a:cubicBezTo>
                    <a:pt x="343467" y="-6026"/>
                    <a:pt x="308903" y="30650"/>
                    <a:pt x="282274" y="67856"/>
                  </a:cubicBezTo>
                  <a:lnTo>
                    <a:pt x="265593" y="91929"/>
                  </a:lnTo>
                  <a:lnTo>
                    <a:pt x="268531" y="126930"/>
                  </a:lnTo>
                  <a:lnTo>
                    <a:pt x="279636" y="131298"/>
                  </a:lnTo>
                  <a:cubicBezTo>
                    <a:pt x="312665" y="140151"/>
                    <a:pt x="367922" y="139269"/>
                    <a:pt x="382030" y="136918"/>
                  </a:cubicBezTo>
                  <a:cubicBezTo>
                    <a:pt x="370743" y="138799"/>
                    <a:pt x="365100" y="142561"/>
                    <a:pt x="365100" y="145382"/>
                  </a:cubicBezTo>
                  <a:lnTo>
                    <a:pt x="369178" y="148440"/>
                  </a:lnTo>
                  <a:lnTo>
                    <a:pt x="305376" y="149614"/>
                  </a:lnTo>
                  <a:lnTo>
                    <a:pt x="269295" y="143410"/>
                  </a:lnTo>
                  <a:lnTo>
                    <a:pt x="269295" y="143478"/>
                  </a:lnTo>
                  <a:cubicBezTo>
                    <a:pt x="261791" y="143478"/>
                    <a:pt x="261791" y="143478"/>
                    <a:pt x="261791" y="143478"/>
                  </a:cubicBezTo>
                  <a:lnTo>
                    <a:pt x="257677" y="144158"/>
                  </a:lnTo>
                  <a:lnTo>
                    <a:pt x="291826" y="190460"/>
                  </a:lnTo>
                  <a:cubicBezTo>
                    <a:pt x="307273" y="217317"/>
                    <a:pt x="319444" y="245586"/>
                    <a:pt x="328806" y="275741"/>
                  </a:cubicBezTo>
                  <a:cubicBezTo>
                    <a:pt x="355020" y="362434"/>
                    <a:pt x="336296" y="441590"/>
                    <a:pt x="407448" y="509437"/>
                  </a:cubicBezTo>
                  <a:cubicBezTo>
                    <a:pt x="486091" y="584823"/>
                    <a:pt x="501070" y="709210"/>
                    <a:pt x="482346" y="810981"/>
                  </a:cubicBezTo>
                  <a:cubicBezTo>
                    <a:pt x="474856" y="829827"/>
                    <a:pt x="448642" y="803442"/>
                    <a:pt x="452387" y="788365"/>
                  </a:cubicBezTo>
                  <a:cubicBezTo>
                    <a:pt x="467366" y="716748"/>
                    <a:pt x="463622" y="599900"/>
                    <a:pt x="407448" y="547130"/>
                  </a:cubicBezTo>
                  <a:cubicBezTo>
                    <a:pt x="373745" y="516976"/>
                    <a:pt x="351275" y="498129"/>
                    <a:pt x="332551" y="456667"/>
                  </a:cubicBezTo>
                  <a:cubicBezTo>
                    <a:pt x="313827" y="415205"/>
                    <a:pt x="321316" y="362434"/>
                    <a:pt x="313827" y="320972"/>
                  </a:cubicBezTo>
                  <a:cubicBezTo>
                    <a:pt x="299783" y="267260"/>
                    <a:pt x="281527" y="219908"/>
                    <a:pt x="252738" y="175736"/>
                  </a:cubicBezTo>
                  <a:lnTo>
                    <a:pt x="229900" y="145390"/>
                  </a:lnTo>
                  <a:lnTo>
                    <a:pt x="226506" y="148167"/>
                  </a:lnTo>
                  <a:cubicBezTo>
                    <a:pt x="180924" y="198879"/>
                    <a:pt x="199445" y="284549"/>
                    <a:pt x="186275" y="347153"/>
                  </a:cubicBezTo>
                  <a:cubicBezTo>
                    <a:pt x="163697" y="437530"/>
                    <a:pt x="118542" y="516610"/>
                    <a:pt x="84675" y="599455"/>
                  </a:cubicBezTo>
                  <a:cubicBezTo>
                    <a:pt x="84675" y="610752"/>
                    <a:pt x="47045" y="603221"/>
                    <a:pt x="47045" y="599455"/>
                  </a:cubicBezTo>
                  <a:cubicBezTo>
                    <a:pt x="88438" y="505313"/>
                    <a:pt x="148645" y="407405"/>
                    <a:pt x="152408" y="301965"/>
                  </a:cubicBezTo>
                  <a:cubicBezTo>
                    <a:pt x="155230" y="256777"/>
                    <a:pt x="155936" y="200997"/>
                    <a:pt x="179925" y="161634"/>
                  </a:cubicBezTo>
                  <a:lnTo>
                    <a:pt x="192579" y="148902"/>
                  </a:lnTo>
                  <a:lnTo>
                    <a:pt x="185657" y="152996"/>
                  </a:lnTo>
                  <a:cubicBezTo>
                    <a:pt x="163069" y="161431"/>
                    <a:pt x="138599" y="166118"/>
                    <a:pt x="114128" y="166118"/>
                  </a:cubicBezTo>
                  <a:lnTo>
                    <a:pt x="102016" y="163312"/>
                  </a:lnTo>
                  <a:lnTo>
                    <a:pt x="76747" y="166252"/>
                  </a:lnTo>
                  <a:cubicBezTo>
                    <a:pt x="73009" y="166252"/>
                    <a:pt x="69270" y="162482"/>
                    <a:pt x="69270" y="158711"/>
                  </a:cubicBezTo>
                  <a:lnTo>
                    <a:pt x="71255" y="155709"/>
                  </a:lnTo>
                  <a:lnTo>
                    <a:pt x="33659" y="134249"/>
                  </a:lnTo>
                  <a:cubicBezTo>
                    <a:pt x="10600" y="115503"/>
                    <a:pt x="-4458" y="89258"/>
                    <a:pt x="1189" y="57390"/>
                  </a:cubicBezTo>
                  <a:cubicBezTo>
                    <a:pt x="4953" y="19898"/>
                    <a:pt x="68952" y="8650"/>
                    <a:pt x="99070" y="8650"/>
                  </a:cubicBezTo>
                  <a:cubicBezTo>
                    <a:pt x="155540" y="14274"/>
                    <a:pt x="184480" y="45205"/>
                    <a:pt x="216068" y="80881"/>
                  </a:cubicBezTo>
                  <a:lnTo>
                    <a:pt x="228999" y="94932"/>
                  </a:lnTo>
                  <a:lnTo>
                    <a:pt x="248943" y="67797"/>
                  </a:lnTo>
                  <a:lnTo>
                    <a:pt x="249881" y="66719"/>
                  </a:lnTo>
                  <a:lnTo>
                    <a:pt x="250534" y="61537"/>
                  </a:lnTo>
                  <a:cubicBezTo>
                    <a:pt x="250534" y="54088"/>
                    <a:pt x="254286" y="50364"/>
                    <a:pt x="258038" y="50364"/>
                  </a:cubicBezTo>
                  <a:lnTo>
                    <a:pt x="261298" y="53600"/>
                  </a:lnTo>
                  <a:lnTo>
                    <a:pt x="280451" y="31591"/>
                  </a:lnTo>
                  <a:cubicBezTo>
                    <a:pt x="306786" y="16544"/>
                    <a:pt x="339705" y="3378"/>
                    <a:pt x="371684" y="557"/>
                  </a:cubicBezTo>
                  <a:close/>
                </a:path>
              </a:pathLst>
            </a:custGeom>
            <a:solidFill>
              <a:srgbClr val="ead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102" name="MH_Other_2"/>
            <p:cNvSpPr/>
            <p:nvPr/>
          </p:nvSpPr>
          <p:spPr>
            <a:xfrm>
              <a:off x="2122200" y="346320"/>
              <a:ext cx="7251120" cy="753480"/>
            </a:xfrm>
            <a:custGeom>
              <a:avLst/>
              <a:gdLst/>
              <a:ahLst/>
              <a:rect l="l" t="t" r="r" b="b"/>
              <a:pathLst>
                <a:path w="3308350" h="847726">
                  <a:moveTo>
                    <a:pt x="2609389" y="817563"/>
                  </a:moveTo>
                  <a:cubicBezTo>
                    <a:pt x="2613127" y="817563"/>
                    <a:pt x="2613127" y="817563"/>
                    <a:pt x="2616866" y="817563"/>
                  </a:cubicBezTo>
                  <a:cubicBezTo>
                    <a:pt x="2646772" y="817563"/>
                    <a:pt x="2676679" y="817563"/>
                    <a:pt x="2710324" y="817563"/>
                  </a:cubicBezTo>
                  <a:cubicBezTo>
                    <a:pt x="2714062" y="817563"/>
                    <a:pt x="2717800" y="821373"/>
                    <a:pt x="2717800" y="825183"/>
                  </a:cubicBezTo>
                  <a:cubicBezTo>
                    <a:pt x="2717800" y="828993"/>
                    <a:pt x="2714062" y="836613"/>
                    <a:pt x="2710324" y="836613"/>
                  </a:cubicBezTo>
                  <a:cubicBezTo>
                    <a:pt x="2676679" y="836613"/>
                    <a:pt x="2646772" y="836613"/>
                    <a:pt x="2616866" y="836613"/>
                  </a:cubicBezTo>
                  <a:cubicBezTo>
                    <a:pt x="2613127" y="836613"/>
                    <a:pt x="2613127" y="836613"/>
                    <a:pt x="2609389" y="836613"/>
                  </a:cubicBezTo>
                  <a:cubicBezTo>
                    <a:pt x="2605651" y="836613"/>
                    <a:pt x="2601912" y="832803"/>
                    <a:pt x="2601912" y="825183"/>
                  </a:cubicBezTo>
                  <a:cubicBezTo>
                    <a:pt x="2601912" y="821373"/>
                    <a:pt x="2605651" y="817563"/>
                    <a:pt x="2609389" y="817563"/>
                  </a:cubicBezTo>
                  <a:close/>
                  <a:moveTo>
                    <a:pt x="466526" y="814842"/>
                  </a:moveTo>
                  <a:cubicBezTo>
                    <a:pt x="470296" y="811213"/>
                    <a:pt x="474067" y="818470"/>
                    <a:pt x="474067" y="822099"/>
                  </a:cubicBezTo>
                  <a:cubicBezTo>
                    <a:pt x="477837" y="825728"/>
                    <a:pt x="470296" y="829356"/>
                    <a:pt x="466526" y="829356"/>
                  </a:cubicBezTo>
                  <a:cubicBezTo>
                    <a:pt x="436363" y="832985"/>
                    <a:pt x="402431" y="832985"/>
                    <a:pt x="368498" y="836613"/>
                  </a:cubicBezTo>
                  <a:cubicBezTo>
                    <a:pt x="360957" y="836613"/>
                    <a:pt x="357187" y="832985"/>
                    <a:pt x="357187" y="825728"/>
                  </a:cubicBezTo>
                  <a:cubicBezTo>
                    <a:pt x="357187" y="822099"/>
                    <a:pt x="360957" y="818470"/>
                    <a:pt x="368498" y="818470"/>
                  </a:cubicBezTo>
                  <a:cubicBezTo>
                    <a:pt x="402431" y="814842"/>
                    <a:pt x="432593" y="814842"/>
                    <a:pt x="466526" y="814842"/>
                  </a:cubicBezTo>
                  <a:close/>
                  <a:moveTo>
                    <a:pt x="155360" y="814408"/>
                  </a:moveTo>
                  <a:cubicBezTo>
                    <a:pt x="156776" y="813039"/>
                    <a:pt x="158664" y="813039"/>
                    <a:pt x="160552" y="814865"/>
                  </a:cubicBezTo>
                  <a:cubicBezTo>
                    <a:pt x="171879" y="814865"/>
                    <a:pt x="183206" y="818516"/>
                    <a:pt x="198309" y="818516"/>
                  </a:cubicBezTo>
                  <a:cubicBezTo>
                    <a:pt x="224738" y="822167"/>
                    <a:pt x="251168" y="825818"/>
                    <a:pt x="281374" y="829470"/>
                  </a:cubicBezTo>
                  <a:cubicBezTo>
                    <a:pt x="285149" y="829470"/>
                    <a:pt x="288925" y="833121"/>
                    <a:pt x="285149" y="836772"/>
                  </a:cubicBezTo>
                  <a:cubicBezTo>
                    <a:pt x="285149" y="844075"/>
                    <a:pt x="281374" y="847726"/>
                    <a:pt x="277598" y="847726"/>
                  </a:cubicBezTo>
                  <a:cubicBezTo>
                    <a:pt x="251168" y="844075"/>
                    <a:pt x="224738" y="840424"/>
                    <a:pt x="194533" y="836772"/>
                  </a:cubicBezTo>
                  <a:cubicBezTo>
                    <a:pt x="179430" y="836772"/>
                    <a:pt x="168103" y="833121"/>
                    <a:pt x="156776" y="829470"/>
                  </a:cubicBezTo>
                  <a:cubicBezTo>
                    <a:pt x="153001" y="829470"/>
                    <a:pt x="149225" y="825818"/>
                    <a:pt x="153001" y="822167"/>
                  </a:cubicBezTo>
                  <a:cubicBezTo>
                    <a:pt x="153001" y="818516"/>
                    <a:pt x="153945" y="815777"/>
                    <a:pt x="155360" y="814408"/>
                  </a:cubicBezTo>
                  <a:close/>
                  <a:moveTo>
                    <a:pt x="2771314" y="814388"/>
                  </a:moveTo>
                  <a:cubicBezTo>
                    <a:pt x="2804959" y="814388"/>
                    <a:pt x="2834865" y="814388"/>
                    <a:pt x="2868510" y="814388"/>
                  </a:cubicBezTo>
                  <a:cubicBezTo>
                    <a:pt x="2872249" y="814388"/>
                    <a:pt x="2879725" y="818198"/>
                    <a:pt x="2879725" y="822008"/>
                  </a:cubicBezTo>
                  <a:cubicBezTo>
                    <a:pt x="2879725" y="825818"/>
                    <a:pt x="2875987" y="833438"/>
                    <a:pt x="2868510" y="833438"/>
                  </a:cubicBezTo>
                  <a:cubicBezTo>
                    <a:pt x="2838604" y="833438"/>
                    <a:pt x="2804959" y="833438"/>
                    <a:pt x="2771314" y="833438"/>
                  </a:cubicBezTo>
                  <a:cubicBezTo>
                    <a:pt x="2767576" y="833438"/>
                    <a:pt x="2763837" y="829628"/>
                    <a:pt x="2763837" y="825818"/>
                  </a:cubicBezTo>
                  <a:cubicBezTo>
                    <a:pt x="2763837" y="822008"/>
                    <a:pt x="2767576" y="814388"/>
                    <a:pt x="2771314" y="814388"/>
                  </a:cubicBezTo>
                  <a:close/>
                  <a:moveTo>
                    <a:pt x="2451202" y="814388"/>
                  </a:moveTo>
                  <a:cubicBezTo>
                    <a:pt x="2484847" y="818092"/>
                    <a:pt x="2514754" y="818092"/>
                    <a:pt x="2548399" y="818092"/>
                  </a:cubicBezTo>
                  <a:cubicBezTo>
                    <a:pt x="2552137" y="818092"/>
                    <a:pt x="2555875" y="821797"/>
                    <a:pt x="2555875" y="825501"/>
                  </a:cubicBezTo>
                  <a:cubicBezTo>
                    <a:pt x="2555875" y="832909"/>
                    <a:pt x="2552137" y="836613"/>
                    <a:pt x="2548399" y="836613"/>
                  </a:cubicBezTo>
                  <a:cubicBezTo>
                    <a:pt x="2514754" y="836613"/>
                    <a:pt x="2481109" y="836613"/>
                    <a:pt x="2451202" y="832909"/>
                  </a:cubicBezTo>
                  <a:cubicBezTo>
                    <a:pt x="2443726" y="832909"/>
                    <a:pt x="2439987" y="829205"/>
                    <a:pt x="2439987" y="825501"/>
                  </a:cubicBezTo>
                  <a:cubicBezTo>
                    <a:pt x="2439987" y="821797"/>
                    <a:pt x="2443726" y="814388"/>
                    <a:pt x="2451202" y="814388"/>
                  </a:cubicBezTo>
                  <a:close/>
                  <a:moveTo>
                    <a:pt x="2387498" y="811213"/>
                  </a:moveTo>
                  <a:cubicBezTo>
                    <a:pt x="2394975" y="811213"/>
                    <a:pt x="2398713" y="814842"/>
                    <a:pt x="2398713" y="818470"/>
                  </a:cubicBezTo>
                  <a:cubicBezTo>
                    <a:pt x="2398713" y="825728"/>
                    <a:pt x="2394975" y="829356"/>
                    <a:pt x="2391237" y="829356"/>
                  </a:cubicBezTo>
                  <a:cubicBezTo>
                    <a:pt x="2357592" y="832985"/>
                    <a:pt x="2323947" y="832985"/>
                    <a:pt x="2290302" y="836613"/>
                  </a:cubicBezTo>
                  <a:cubicBezTo>
                    <a:pt x="2286564" y="836613"/>
                    <a:pt x="2282825" y="832985"/>
                    <a:pt x="2282825" y="829356"/>
                  </a:cubicBezTo>
                  <a:cubicBezTo>
                    <a:pt x="2282825" y="822099"/>
                    <a:pt x="2286564" y="818470"/>
                    <a:pt x="2290302" y="818470"/>
                  </a:cubicBezTo>
                  <a:cubicBezTo>
                    <a:pt x="2323947" y="814842"/>
                    <a:pt x="2353853" y="814842"/>
                    <a:pt x="2387498" y="811213"/>
                  </a:cubicBezTo>
                  <a:close/>
                  <a:moveTo>
                    <a:pt x="2132115" y="811213"/>
                  </a:moveTo>
                  <a:cubicBezTo>
                    <a:pt x="2162022" y="811213"/>
                    <a:pt x="2195667" y="814917"/>
                    <a:pt x="2229312" y="814917"/>
                  </a:cubicBezTo>
                  <a:cubicBezTo>
                    <a:pt x="2233050" y="814917"/>
                    <a:pt x="2236788" y="818622"/>
                    <a:pt x="2236788" y="822326"/>
                  </a:cubicBezTo>
                  <a:cubicBezTo>
                    <a:pt x="2236788" y="829734"/>
                    <a:pt x="2233050" y="833438"/>
                    <a:pt x="2229312" y="833438"/>
                  </a:cubicBezTo>
                  <a:cubicBezTo>
                    <a:pt x="2195667" y="829734"/>
                    <a:pt x="2162022" y="829734"/>
                    <a:pt x="2128377" y="829734"/>
                  </a:cubicBezTo>
                  <a:cubicBezTo>
                    <a:pt x="2124639" y="829734"/>
                    <a:pt x="2120900" y="826030"/>
                    <a:pt x="2120900" y="822326"/>
                  </a:cubicBezTo>
                  <a:cubicBezTo>
                    <a:pt x="2120900" y="814917"/>
                    <a:pt x="2124639" y="811213"/>
                    <a:pt x="2132115" y="811213"/>
                  </a:cubicBezTo>
                  <a:close/>
                  <a:moveTo>
                    <a:pt x="1970286" y="811213"/>
                  </a:moveTo>
                  <a:cubicBezTo>
                    <a:pt x="1989138" y="811213"/>
                    <a:pt x="2011760" y="811213"/>
                    <a:pt x="2030611" y="811213"/>
                  </a:cubicBezTo>
                  <a:cubicBezTo>
                    <a:pt x="2041922" y="811213"/>
                    <a:pt x="2057003" y="811213"/>
                    <a:pt x="2068314" y="811213"/>
                  </a:cubicBezTo>
                  <a:cubicBezTo>
                    <a:pt x="2072085" y="811213"/>
                    <a:pt x="2079625" y="814706"/>
                    <a:pt x="2079625" y="821691"/>
                  </a:cubicBezTo>
                  <a:cubicBezTo>
                    <a:pt x="2079625" y="825184"/>
                    <a:pt x="2072085" y="828676"/>
                    <a:pt x="2068314" y="828676"/>
                  </a:cubicBezTo>
                  <a:cubicBezTo>
                    <a:pt x="2057003" y="828676"/>
                    <a:pt x="2041922" y="828676"/>
                    <a:pt x="2030611" y="828676"/>
                  </a:cubicBezTo>
                  <a:cubicBezTo>
                    <a:pt x="2011760" y="828676"/>
                    <a:pt x="1989138" y="828676"/>
                    <a:pt x="1970286" y="828676"/>
                  </a:cubicBezTo>
                  <a:cubicBezTo>
                    <a:pt x="1966516" y="828676"/>
                    <a:pt x="1958975" y="825184"/>
                    <a:pt x="1958975" y="821691"/>
                  </a:cubicBezTo>
                  <a:cubicBezTo>
                    <a:pt x="1958975" y="814706"/>
                    <a:pt x="1966516" y="811213"/>
                    <a:pt x="1970286" y="811213"/>
                  </a:cubicBezTo>
                  <a:close/>
                  <a:moveTo>
                    <a:pt x="1807804" y="811213"/>
                  </a:moveTo>
                  <a:cubicBezTo>
                    <a:pt x="1841910" y="811213"/>
                    <a:pt x="1876016" y="811213"/>
                    <a:pt x="1910121" y="811213"/>
                  </a:cubicBezTo>
                  <a:cubicBezTo>
                    <a:pt x="1913911" y="811213"/>
                    <a:pt x="1917700" y="814706"/>
                    <a:pt x="1917700" y="821691"/>
                  </a:cubicBezTo>
                  <a:cubicBezTo>
                    <a:pt x="1917700" y="825184"/>
                    <a:pt x="1913911" y="828676"/>
                    <a:pt x="1906332" y="828676"/>
                  </a:cubicBezTo>
                  <a:cubicBezTo>
                    <a:pt x="1876016" y="828676"/>
                    <a:pt x="1841910" y="828676"/>
                    <a:pt x="1807804" y="828676"/>
                  </a:cubicBezTo>
                  <a:cubicBezTo>
                    <a:pt x="1804015" y="828676"/>
                    <a:pt x="1800225" y="825184"/>
                    <a:pt x="1800225" y="818198"/>
                  </a:cubicBezTo>
                  <a:cubicBezTo>
                    <a:pt x="1800225" y="814706"/>
                    <a:pt x="1804015" y="811213"/>
                    <a:pt x="1807804" y="811213"/>
                  </a:cubicBezTo>
                  <a:close/>
                  <a:moveTo>
                    <a:pt x="1488613" y="806450"/>
                  </a:moveTo>
                  <a:cubicBezTo>
                    <a:pt x="1522259" y="806450"/>
                    <a:pt x="1555904" y="806450"/>
                    <a:pt x="1585810" y="806450"/>
                  </a:cubicBezTo>
                  <a:cubicBezTo>
                    <a:pt x="1593287" y="806450"/>
                    <a:pt x="1597025" y="810260"/>
                    <a:pt x="1597025" y="817880"/>
                  </a:cubicBezTo>
                  <a:cubicBezTo>
                    <a:pt x="1597025" y="821690"/>
                    <a:pt x="1593287" y="825500"/>
                    <a:pt x="1585810" y="825500"/>
                  </a:cubicBezTo>
                  <a:cubicBezTo>
                    <a:pt x="1552165" y="825500"/>
                    <a:pt x="1522259" y="825500"/>
                    <a:pt x="1488613" y="825500"/>
                  </a:cubicBezTo>
                  <a:cubicBezTo>
                    <a:pt x="1484875" y="825500"/>
                    <a:pt x="1481137" y="821690"/>
                    <a:pt x="1481137" y="814070"/>
                  </a:cubicBezTo>
                  <a:cubicBezTo>
                    <a:pt x="1481137" y="810260"/>
                    <a:pt x="1484875" y="806450"/>
                    <a:pt x="1488613" y="806450"/>
                  </a:cubicBezTo>
                  <a:close/>
                  <a:moveTo>
                    <a:pt x="627523" y="806450"/>
                  </a:moveTo>
                  <a:cubicBezTo>
                    <a:pt x="631262" y="806450"/>
                    <a:pt x="635000" y="810154"/>
                    <a:pt x="635000" y="813859"/>
                  </a:cubicBezTo>
                  <a:cubicBezTo>
                    <a:pt x="635000" y="821267"/>
                    <a:pt x="631262" y="824971"/>
                    <a:pt x="627523" y="824971"/>
                  </a:cubicBezTo>
                  <a:cubicBezTo>
                    <a:pt x="593878" y="824971"/>
                    <a:pt x="560233" y="824971"/>
                    <a:pt x="526589" y="828675"/>
                  </a:cubicBezTo>
                  <a:cubicBezTo>
                    <a:pt x="522850" y="828675"/>
                    <a:pt x="519112" y="824971"/>
                    <a:pt x="519112" y="817563"/>
                  </a:cubicBezTo>
                  <a:cubicBezTo>
                    <a:pt x="519112" y="813859"/>
                    <a:pt x="522850" y="810154"/>
                    <a:pt x="526589" y="810154"/>
                  </a:cubicBezTo>
                  <a:cubicBezTo>
                    <a:pt x="560233" y="806450"/>
                    <a:pt x="593878" y="806450"/>
                    <a:pt x="627523" y="806450"/>
                  </a:cubicBezTo>
                  <a:close/>
                  <a:moveTo>
                    <a:pt x="3030896" y="803275"/>
                  </a:moveTo>
                  <a:cubicBezTo>
                    <a:pt x="3034686" y="803275"/>
                    <a:pt x="3038475" y="806904"/>
                    <a:pt x="3038475" y="814161"/>
                  </a:cubicBezTo>
                  <a:cubicBezTo>
                    <a:pt x="3038475" y="817790"/>
                    <a:pt x="3034686" y="821418"/>
                    <a:pt x="3030896" y="821418"/>
                  </a:cubicBezTo>
                  <a:cubicBezTo>
                    <a:pt x="2996791" y="825047"/>
                    <a:pt x="2962685" y="825047"/>
                    <a:pt x="2932369" y="828675"/>
                  </a:cubicBezTo>
                  <a:cubicBezTo>
                    <a:pt x="2924790" y="828675"/>
                    <a:pt x="2921000" y="825047"/>
                    <a:pt x="2921000" y="821418"/>
                  </a:cubicBezTo>
                  <a:cubicBezTo>
                    <a:pt x="2921000" y="814161"/>
                    <a:pt x="2924790" y="810532"/>
                    <a:pt x="2928579" y="810532"/>
                  </a:cubicBezTo>
                  <a:cubicBezTo>
                    <a:pt x="2962685" y="810532"/>
                    <a:pt x="2996791" y="806904"/>
                    <a:pt x="3030896" y="803275"/>
                  </a:cubicBezTo>
                  <a:close/>
                  <a:moveTo>
                    <a:pt x="1168598" y="803275"/>
                  </a:moveTo>
                  <a:cubicBezTo>
                    <a:pt x="1202531" y="803275"/>
                    <a:pt x="1232693" y="803275"/>
                    <a:pt x="1266626" y="803275"/>
                  </a:cubicBezTo>
                  <a:cubicBezTo>
                    <a:pt x="1270396" y="803275"/>
                    <a:pt x="1277937" y="807085"/>
                    <a:pt x="1274167" y="814705"/>
                  </a:cubicBezTo>
                  <a:cubicBezTo>
                    <a:pt x="1274167" y="818515"/>
                    <a:pt x="1270396" y="822325"/>
                    <a:pt x="1266626" y="822325"/>
                  </a:cubicBezTo>
                  <a:cubicBezTo>
                    <a:pt x="1232693" y="822325"/>
                    <a:pt x="1202531" y="822325"/>
                    <a:pt x="1168598" y="822325"/>
                  </a:cubicBezTo>
                  <a:cubicBezTo>
                    <a:pt x="1161057" y="822325"/>
                    <a:pt x="1157287" y="818515"/>
                    <a:pt x="1157287" y="810895"/>
                  </a:cubicBezTo>
                  <a:cubicBezTo>
                    <a:pt x="1157287" y="807085"/>
                    <a:pt x="1161057" y="803275"/>
                    <a:pt x="1168598" y="803275"/>
                  </a:cubicBezTo>
                  <a:close/>
                  <a:moveTo>
                    <a:pt x="849415" y="803275"/>
                  </a:moveTo>
                  <a:cubicBezTo>
                    <a:pt x="879321" y="803275"/>
                    <a:pt x="912966" y="803275"/>
                    <a:pt x="946611" y="803275"/>
                  </a:cubicBezTo>
                  <a:cubicBezTo>
                    <a:pt x="950350" y="803275"/>
                    <a:pt x="954088" y="807085"/>
                    <a:pt x="954088" y="810895"/>
                  </a:cubicBezTo>
                  <a:cubicBezTo>
                    <a:pt x="954088" y="814705"/>
                    <a:pt x="950350" y="822325"/>
                    <a:pt x="946611" y="822325"/>
                  </a:cubicBezTo>
                  <a:cubicBezTo>
                    <a:pt x="912966" y="822325"/>
                    <a:pt x="879321" y="822325"/>
                    <a:pt x="849415" y="822325"/>
                  </a:cubicBezTo>
                  <a:cubicBezTo>
                    <a:pt x="841938" y="822325"/>
                    <a:pt x="838200" y="818515"/>
                    <a:pt x="838200" y="810895"/>
                  </a:cubicBezTo>
                  <a:cubicBezTo>
                    <a:pt x="838200" y="807085"/>
                    <a:pt x="841938" y="803275"/>
                    <a:pt x="849415" y="803275"/>
                  </a:cubicBezTo>
                  <a:close/>
                  <a:moveTo>
                    <a:pt x="1649669" y="798513"/>
                  </a:moveTo>
                  <a:cubicBezTo>
                    <a:pt x="1683774" y="806133"/>
                    <a:pt x="1717880" y="809943"/>
                    <a:pt x="1748196" y="817563"/>
                  </a:cubicBezTo>
                  <a:cubicBezTo>
                    <a:pt x="1751986" y="817563"/>
                    <a:pt x="1755775" y="825183"/>
                    <a:pt x="1755775" y="828993"/>
                  </a:cubicBezTo>
                  <a:cubicBezTo>
                    <a:pt x="1755775" y="832803"/>
                    <a:pt x="1751986" y="836613"/>
                    <a:pt x="1744407" y="836613"/>
                  </a:cubicBezTo>
                  <a:cubicBezTo>
                    <a:pt x="1714091" y="828993"/>
                    <a:pt x="1679985" y="825183"/>
                    <a:pt x="1645879" y="817563"/>
                  </a:cubicBezTo>
                  <a:cubicBezTo>
                    <a:pt x="1642090" y="817563"/>
                    <a:pt x="1638300" y="813753"/>
                    <a:pt x="1638300" y="806133"/>
                  </a:cubicBezTo>
                  <a:cubicBezTo>
                    <a:pt x="1642090" y="802323"/>
                    <a:pt x="1645879" y="798513"/>
                    <a:pt x="1649669" y="798513"/>
                  </a:cubicBezTo>
                  <a:close/>
                  <a:moveTo>
                    <a:pt x="1413286" y="798513"/>
                  </a:moveTo>
                  <a:cubicBezTo>
                    <a:pt x="1417049" y="798513"/>
                    <a:pt x="1420812" y="802284"/>
                    <a:pt x="1420812" y="809824"/>
                  </a:cubicBezTo>
                  <a:cubicBezTo>
                    <a:pt x="1420812" y="813595"/>
                    <a:pt x="1417049" y="817365"/>
                    <a:pt x="1413286" y="817365"/>
                  </a:cubicBezTo>
                  <a:cubicBezTo>
                    <a:pt x="1386945" y="821135"/>
                    <a:pt x="1356842" y="824906"/>
                    <a:pt x="1330501" y="828676"/>
                  </a:cubicBezTo>
                  <a:cubicBezTo>
                    <a:pt x="1322975" y="828676"/>
                    <a:pt x="1319212" y="824906"/>
                    <a:pt x="1319212" y="821135"/>
                  </a:cubicBezTo>
                  <a:cubicBezTo>
                    <a:pt x="1319212" y="813595"/>
                    <a:pt x="1322975" y="809824"/>
                    <a:pt x="1326738" y="809824"/>
                  </a:cubicBezTo>
                  <a:cubicBezTo>
                    <a:pt x="1353079" y="806054"/>
                    <a:pt x="1383182" y="802284"/>
                    <a:pt x="1413286" y="798513"/>
                  </a:cubicBezTo>
                  <a:close/>
                  <a:moveTo>
                    <a:pt x="785614" y="798513"/>
                  </a:moveTo>
                  <a:cubicBezTo>
                    <a:pt x="789384" y="798513"/>
                    <a:pt x="793155" y="802284"/>
                    <a:pt x="796925" y="806054"/>
                  </a:cubicBezTo>
                  <a:cubicBezTo>
                    <a:pt x="796925" y="813595"/>
                    <a:pt x="793155" y="817365"/>
                    <a:pt x="785614" y="817365"/>
                  </a:cubicBezTo>
                  <a:cubicBezTo>
                    <a:pt x="755451" y="821135"/>
                    <a:pt x="721519" y="824906"/>
                    <a:pt x="687586" y="824906"/>
                  </a:cubicBezTo>
                  <a:cubicBezTo>
                    <a:pt x="687586" y="824906"/>
                    <a:pt x="687586" y="828676"/>
                    <a:pt x="687586" y="828676"/>
                  </a:cubicBezTo>
                  <a:cubicBezTo>
                    <a:pt x="683815" y="828676"/>
                    <a:pt x="680045" y="824906"/>
                    <a:pt x="680045" y="817365"/>
                  </a:cubicBezTo>
                  <a:cubicBezTo>
                    <a:pt x="676275" y="813595"/>
                    <a:pt x="680045" y="809824"/>
                    <a:pt x="687586" y="809824"/>
                  </a:cubicBezTo>
                  <a:cubicBezTo>
                    <a:pt x="717748" y="806054"/>
                    <a:pt x="751681" y="802284"/>
                    <a:pt x="785614" y="798513"/>
                  </a:cubicBezTo>
                  <a:close/>
                  <a:moveTo>
                    <a:pt x="1011340" y="795338"/>
                  </a:moveTo>
                  <a:cubicBezTo>
                    <a:pt x="1041246" y="799042"/>
                    <a:pt x="1074891" y="802747"/>
                    <a:pt x="1108536" y="806451"/>
                  </a:cubicBezTo>
                  <a:cubicBezTo>
                    <a:pt x="1112275" y="810155"/>
                    <a:pt x="1116013" y="813859"/>
                    <a:pt x="1116013" y="817564"/>
                  </a:cubicBezTo>
                  <a:cubicBezTo>
                    <a:pt x="1116013" y="824972"/>
                    <a:pt x="1108536" y="828676"/>
                    <a:pt x="1104798" y="824972"/>
                  </a:cubicBezTo>
                  <a:cubicBezTo>
                    <a:pt x="1071153" y="821268"/>
                    <a:pt x="1041246" y="817564"/>
                    <a:pt x="1007602" y="813859"/>
                  </a:cubicBezTo>
                  <a:cubicBezTo>
                    <a:pt x="1003863" y="813859"/>
                    <a:pt x="1000125" y="806451"/>
                    <a:pt x="1000125" y="802747"/>
                  </a:cubicBezTo>
                  <a:cubicBezTo>
                    <a:pt x="1000125" y="799042"/>
                    <a:pt x="1003863" y="795338"/>
                    <a:pt x="1011340" y="795338"/>
                  </a:cubicBezTo>
                  <a:close/>
                  <a:moveTo>
                    <a:pt x="47983" y="734631"/>
                  </a:moveTo>
                  <a:cubicBezTo>
                    <a:pt x="50346" y="735563"/>
                    <a:pt x="52236" y="737425"/>
                    <a:pt x="52236" y="739287"/>
                  </a:cubicBezTo>
                  <a:cubicBezTo>
                    <a:pt x="67355" y="780257"/>
                    <a:pt x="78694" y="798880"/>
                    <a:pt x="105152" y="810054"/>
                  </a:cubicBezTo>
                  <a:cubicBezTo>
                    <a:pt x="108932" y="813778"/>
                    <a:pt x="112712" y="817503"/>
                    <a:pt x="108932" y="821227"/>
                  </a:cubicBezTo>
                  <a:cubicBezTo>
                    <a:pt x="108932" y="824952"/>
                    <a:pt x="105152" y="828676"/>
                    <a:pt x="101373" y="828676"/>
                  </a:cubicBezTo>
                  <a:cubicBezTo>
                    <a:pt x="101373" y="828676"/>
                    <a:pt x="97593" y="828676"/>
                    <a:pt x="97593" y="828676"/>
                  </a:cubicBezTo>
                  <a:cubicBezTo>
                    <a:pt x="63575" y="813778"/>
                    <a:pt x="48456" y="787706"/>
                    <a:pt x="33337" y="746736"/>
                  </a:cubicBezTo>
                  <a:cubicBezTo>
                    <a:pt x="33337" y="743012"/>
                    <a:pt x="37117" y="735563"/>
                    <a:pt x="40896" y="735563"/>
                  </a:cubicBezTo>
                  <a:cubicBezTo>
                    <a:pt x="42786" y="733700"/>
                    <a:pt x="45621" y="733700"/>
                    <a:pt x="47983" y="734631"/>
                  </a:cubicBezTo>
                  <a:close/>
                  <a:moveTo>
                    <a:pt x="13891" y="576263"/>
                  </a:moveTo>
                  <a:cubicBezTo>
                    <a:pt x="21431" y="576263"/>
                    <a:pt x="25202" y="580053"/>
                    <a:pt x="25202" y="583842"/>
                  </a:cubicBezTo>
                  <a:cubicBezTo>
                    <a:pt x="25202" y="617948"/>
                    <a:pt x="28972" y="648264"/>
                    <a:pt x="36513" y="682370"/>
                  </a:cubicBezTo>
                  <a:cubicBezTo>
                    <a:pt x="36513" y="686159"/>
                    <a:pt x="32742" y="693738"/>
                    <a:pt x="28972" y="693738"/>
                  </a:cubicBezTo>
                  <a:cubicBezTo>
                    <a:pt x="25202" y="693738"/>
                    <a:pt x="17661" y="689949"/>
                    <a:pt x="17661" y="686159"/>
                  </a:cubicBezTo>
                  <a:cubicBezTo>
                    <a:pt x="10120" y="652053"/>
                    <a:pt x="10120" y="617948"/>
                    <a:pt x="6350" y="583842"/>
                  </a:cubicBezTo>
                  <a:cubicBezTo>
                    <a:pt x="6350" y="580053"/>
                    <a:pt x="10120" y="576263"/>
                    <a:pt x="13891" y="576263"/>
                  </a:cubicBezTo>
                  <a:close/>
                  <a:moveTo>
                    <a:pt x="3282752" y="542925"/>
                  </a:moveTo>
                  <a:cubicBezTo>
                    <a:pt x="3290293" y="542925"/>
                    <a:pt x="3294063" y="546715"/>
                    <a:pt x="3294063" y="550504"/>
                  </a:cubicBezTo>
                  <a:cubicBezTo>
                    <a:pt x="3290293" y="584610"/>
                    <a:pt x="3286522" y="618715"/>
                    <a:pt x="3282752" y="649032"/>
                  </a:cubicBezTo>
                  <a:cubicBezTo>
                    <a:pt x="3282752" y="656611"/>
                    <a:pt x="3278982" y="660400"/>
                    <a:pt x="3275211" y="660400"/>
                  </a:cubicBezTo>
                  <a:cubicBezTo>
                    <a:pt x="3267671" y="660400"/>
                    <a:pt x="3263900" y="652821"/>
                    <a:pt x="3263900" y="649032"/>
                  </a:cubicBezTo>
                  <a:cubicBezTo>
                    <a:pt x="3267671" y="618715"/>
                    <a:pt x="3271441" y="584610"/>
                    <a:pt x="3275211" y="550504"/>
                  </a:cubicBezTo>
                  <a:cubicBezTo>
                    <a:pt x="3275211" y="546715"/>
                    <a:pt x="3278982" y="542925"/>
                    <a:pt x="3282752" y="542925"/>
                  </a:cubicBezTo>
                  <a:close/>
                  <a:moveTo>
                    <a:pt x="18256" y="414338"/>
                  </a:moveTo>
                  <a:cubicBezTo>
                    <a:pt x="26194" y="414338"/>
                    <a:pt x="30163" y="418128"/>
                    <a:pt x="30163" y="425707"/>
                  </a:cubicBezTo>
                  <a:cubicBezTo>
                    <a:pt x="26194" y="459812"/>
                    <a:pt x="26194" y="490128"/>
                    <a:pt x="26194" y="524234"/>
                  </a:cubicBezTo>
                  <a:cubicBezTo>
                    <a:pt x="26194" y="528024"/>
                    <a:pt x="22225" y="531813"/>
                    <a:pt x="14288" y="531813"/>
                  </a:cubicBezTo>
                  <a:cubicBezTo>
                    <a:pt x="10319" y="531813"/>
                    <a:pt x="6350" y="528024"/>
                    <a:pt x="6350" y="524234"/>
                  </a:cubicBezTo>
                  <a:cubicBezTo>
                    <a:pt x="6350" y="490128"/>
                    <a:pt x="6350" y="456023"/>
                    <a:pt x="10319" y="425707"/>
                  </a:cubicBezTo>
                  <a:cubicBezTo>
                    <a:pt x="10319" y="418128"/>
                    <a:pt x="14288" y="414338"/>
                    <a:pt x="18256" y="414338"/>
                  </a:cubicBezTo>
                  <a:close/>
                  <a:moveTo>
                    <a:pt x="3297464" y="381000"/>
                  </a:moveTo>
                  <a:cubicBezTo>
                    <a:pt x="3301320" y="381000"/>
                    <a:pt x="3305175" y="384790"/>
                    <a:pt x="3305175" y="392369"/>
                  </a:cubicBezTo>
                  <a:cubicBezTo>
                    <a:pt x="3305175" y="426474"/>
                    <a:pt x="3301320" y="456790"/>
                    <a:pt x="3297464" y="490896"/>
                  </a:cubicBezTo>
                  <a:cubicBezTo>
                    <a:pt x="3297464" y="494686"/>
                    <a:pt x="3293609" y="498475"/>
                    <a:pt x="3289754" y="498475"/>
                  </a:cubicBezTo>
                  <a:cubicBezTo>
                    <a:pt x="3289754" y="498475"/>
                    <a:pt x="3285898" y="498475"/>
                    <a:pt x="3285898" y="498475"/>
                  </a:cubicBezTo>
                  <a:cubicBezTo>
                    <a:pt x="3282043" y="498475"/>
                    <a:pt x="3278187" y="494686"/>
                    <a:pt x="3278187" y="490896"/>
                  </a:cubicBezTo>
                  <a:cubicBezTo>
                    <a:pt x="3282043" y="456790"/>
                    <a:pt x="3285898" y="422685"/>
                    <a:pt x="3285898" y="388579"/>
                  </a:cubicBezTo>
                  <a:cubicBezTo>
                    <a:pt x="3285898" y="384790"/>
                    <a:pt x="3289754" y="381000"/>
                    <a:pt x="3297464" y="381000"/>
                  </a:cubicBezTo>
                  <a:close/>
                  <a:moveTo>
                    <a:pt x="14741" y="257175"/>
                  </a:moveTo>
                  <a:cubicBezTo>
                    <a:pt x="18597" y="257175"/>
                    <a:pt x="22452" y="260913"/>
                    <a:pt x="26307" y="264652"/>
                  </a:cubicBezTo>
                  <a:cubicBezTo>
                    <a:pt x="26307" y="290820"/>
                    <a:pt x="30163" y="313250"/>
                    <a:pt x="30163" y="328203"/>
                  </a:cubicBezTo>
                  <a:cubicBezTo>
                    <a:pt x="30163" y="328203"/>
                    <a:pt x="30163" y="331942"/>
                    <a:pt x="30163" y="331942"/>
                  </a:cubicBezTo>
                  <a:cubicBezTo>
                    <a:pt x="30163" y="343157"/>
                    <a:pt x="30163" y="354372"/>
                    <a:pt x="30163" y="361848"/>
                  </a:cubicBezTo>
                  <a:cubicBezTo>
                    <a:pt x="30163" y="369325"/>
                    <a:pt x="26307" y="373063"/>
                    <a:pt x="22452" y="373063"/>
                  </a:cubicBezTo>
                  <a:cubicBezTo>
                    <a:pt x="14741" y="373063"/>
                    <a:pt x="10886" y="369325"/>
                    <a:pt x="10886" y="361848"/>
                  </a:cubicBezTo>
                  <a:cubicBezTo>
                    <a:pt x="10886" y="350633"/>
                    <a:pt x="10886" y="343157"/>
                    <a:pt x="10886" y="331942"/>
                  </a:cubicBezTo>
                  <a:cubicBezTo>
                    <a:pt x="10886" y="331942"/>
                    <a:pt x="10886" y="328203"/>
                    <a:pt x="10886" y="328203"/>
                  </a:cubicBezTo>
                  <a:cubicBezTo>
                    <a:pt x="10886" y="313250"/>
                    <a:pt x="10886" y="290820"/>
                    <a:pt x="7030" y="268390"/>
                  </a:cubicBezTo>
                  <a:cubicBezTo>
                    <a:pt x="3175" y="260913"/>
                    <a:pt x="7030" y="257175"/>
                    <a:pt x="14741" y="257175"/>
                  </a:cubicBezTo>
                  <a:close/>
                  <a:moveTo>
                    <a:pt x="3297238" y="222845"/>
                  </a:moveTo>
                  <a:cubicBezTo>
                    <a:pt x="3300942" y="219075"/>
                    <a:pt x="3304646" y="226616"/>
                    <a:pt x="3304646" y="230386"/>
                  </a:cubicBezTo>
                  <a:cubicBezTo>
                    <a:pt x="3308350" y="253008"/>
                    <a:pt x="3308350" y="275630"/>
                    <a:pt x="3308350" y="298252"/>
                  </a:cubicBezTo>
                  <a:cubicBezTo>
                    <a:pt x="3308350" y="309563"/>
                    <a:pt x="3308350" y="317103"/>
                    <a:pt x="3308350" y="328414"/>
                  </a:cubicBezTo>
                  <a:cubicBezTo>
                    <a:pt x="3308350" y="335955"/>
                    <a:pt x="3304646" y="339725"/>
                    <a:pt x="3297238" y="339725"/>
                  </a:cubicBezTo>
                  <a:cubicBezTo>
                    <a:pt x="3293534" y="339725"/>
                    <a:pt x="3289829" y="335955"/>
                    <a:pt x="3289829" y="328414"/>
                  </a:cubicBezTo>
                  <a:cubicBezTo>
                    <a:pt x="3289829" y="317103"/>
                    <a:pt x="3289829" y="309563"/>
                    <a:pt x="3289829" y="298252"/>
                  </a:cubicBezTo>
                  <a:cubicBezTo>
                    <a:pt x="3289829" y="275630"/>
                    <a:pt x="3289829" y="253008"/>
                    <a:pt x="3286125" y="230386"/>
                  </a:cubicBezTo>
                  <a:cubicBezTo>
                    <a:pt x="3286125" y="226616"/>
                    <a:pt x="3289829" y="222845"/>
                    <a:pt x="3297238" y="222845"/>
                  </a:cubicBezTo>
                  <a:close/>
                  <a:moveTo>
                    <a:pt x="18852" y="98054"/>
                  </a:moveTo>
                  <a:cubicBezTo>
                    <a:pt x="21680" y="97119"/>
                    <a:pt x="24507" y="97119"/>
                    <a:pt x="26392" y="98988"/>
                  </a:cubicBezTo>
                  <a:cubicBezTo>
                    <a:pt x="30163" y="102727"/>
                    <a:pt x="30163" y="106465"/>
                    <a:pt x="30163" y="113942"/>
                  </a:cubicBezTo>
                  <a:cubicBezTo>
                    <a:pt x="18852" y="125157"/>
                    <a:pt x="15081" y="147587"/>
                    <a:pt x="18852" y="173755"/>
                  </a:cubicBezTo>
                  <a:cubicBezTo>
                    <a:pt x="18852" y="184970"/>
                    <a:pt x="18852" y="192447"/>
                    <a:pt x="18852" y="203661"/>
                  </a:cubicBezTo>
                  <a:cubicBezTo>
                    <a:pt x="18852" y="207400"/>
                    <a:pt x="15081" y="211138"/>
                    <a:pt x="11311" y="211138"/>
                  </a:cubicBezTo>
                  <a:cubicBezTo>
                    <a:pt x="7541" y="211138"/>
                    <a:pt x="7541" y="211138"/>
                    <a:pt x="7541" y="211138"/>
                  </a:cubicBezTo>
                  <a:cubicBezTo>
                    <a:pt x="3770" y="211138"/>
                    <a:pt x="0" y="207400"/>
                    <a:pt x="0" y="203661"/>
                  </a:cubicBezTo>
                  <a:cubicBezTo>
                    <a:pt x="0" y="192447"/>
                    <a:pt x="0" y="184970"/>
                    <a:pt x="0" y="173755"/>
                  </a:cubicBezTo>
                  <a:cubicBezTo>
                    <a:pt x="0" y="147587"/>
                    <a:pt x="0" y="121418"/>
                    <a:pt x="11311" y="102727"/>
                  </a:cubicBezTo>
                  <a:cubicBezTo>
                    <a:pt x="13196" y="100858"/>
                    <a:pt x="16024" y="98988"/>
                    <a:pt x="18852" y="98054"/>
                  </a:cubicBezTo>
                  <a:close/>
                  <a:moveTo>
                    <a:pt x="3259666" y="65088"/>
                  </a:moveTo>
                  <a:cubicBezTo>
                    <a:pt x="3267075" y="65088"/>
                    <a:pt x="3270779" y="65088"/>
                    <a:pt x="3274483" y="72602"/>
                  </a:cubicBezTo>
                  <a:cubicBezTo>
                    <a:pt x="3285596" y="102659"/>
                    <a:pt x="3293004" y="132716"/>
                    <a:pt x="3300412" y="166530"/>
                  </a:cubicBezTo>
                  <a:cubicBezTo>
                    <a:pt x="3300412" y="174044"/>
                    <a:pt x="3296708" y="177801"/>
                    <a:pt x="3289300" y="177801"/>
                  </a:cubicBezTo>
                  <a:cubicBezTo>
                    <a:pt x="3285596" y="177801"/>
                    <a:pt x="3281891" y="174044"/>
                    <a:pt x="3281891" y="170287"/>
                  </a:cubicBezTo>
                  <a:cubicBezTo>
                    <a:pt x="3274483" y="136473"/>
                    <a:pt x="3267075" y="106416"/>
                    <a:pt x="3255962" y="76359"/>
                  </a:cubicBezTo>
                  <a:cubicBezTo>
                    <a:pt x="3255962" y="72602"/>
                    <a:pt x="3255962" y="68845"/>
                    <a:pt x="3259666" y="65088"/>
                  </a:cubicBezTo>
                  <a:close/>
                  <a:moveTo>
                    <a:pt x="168173" y="57150"/>
                  </a:moveTo>
                  <a:cubicBezTo>
                    <a:pt x="175650" y="57150"/>
                    <a:pt x="179388" y="60921"/>
                    <a:pt x="179388" y="64691"/>
                  </a:cubicBezTo>
                  <a:cubicBezTo>
                    <a:pt x="179388" y="72232"/>
                    <a:pt x="175650" y="76002"/>
                    <a:pt x="171911" y="76002"/>
                  </a:cubicBezTo>
                  <a:cubicBezTo>
                    <a:pt x="134528" y="76002"/>
                    <a:pt x="100883" y="79772"/>
                    <a:pt x="74715" y="87313"/>
                  </a:cubicBezTo>
                  <a:cubicBezTo>
                    <a:pt x="74715" y="87313"/>
                    <a:pt x="74715" y="87313"/>
                    <a:pt x="70977" y="87313"/>
                  </a:cubicBezTo>
                  <a:cubicBezTo>
                    <a:pt x="67238" y="87313"/>
                    <a:pt x="63500" y="83543"/>
                    <a:pt x="63500" y="79772"/>
                  </a:cubicBezTo>
                  <a:cubicBezTo>
                    <a:pt x="63500" y="76002"/>
                    <a:pt x="67238" y="68461"/>
                    <a:pt x="70977" y="68461"/>
                  </a:cubicBezTo>
                  <a:cubicBezTo>
                    <a:pt x="100883" y="60921"/>
                    <a:pt x="134528" y="60921"/>
                    <a:pt x="168173" y="57150"/>
                  </a:cubicBezTo>
                  <a:close/>
                  <a:moveTo>
                    <a:pt x="3116519" y="46038"/>
                  </a:moveTo>
                  <a:cubicBezTo>
                    <a:pt x="3146835" y="46038"/>
                    <a:pt x="3180941" y="49742"/>
                    <a:pt x="3215046" y="49742"/>
                  </a:cubicBezTo>
                  <a:cubicBezTo>
                    <a:pt x="3218836" y="49742"/>
                    <a:pt x="3222625" y="53446"/>
                    <a:pt x="3222625" y="57151"/>
                  </a:cubicBezTo>
                  <a:cubicBezTo>
                    <a:pt x="3222625" y="60855"/>
                    <a:pt x="3218836" y="68263"/>
                    <a:pt x="3215046" y="68263"/>
                  </a:cubicBezTo>
                  <a:cubicBezTo>
                    <a:pt x="3180941" y="68263"/>
                    <a:pt x="3146835" y="64559"/>
                    <a:pt x="3116519" y="64559"/>
                  </a:cubicBezTo>
                  <a:cubicBezTo>
                    <a:pt x="3108940" y="64559"/>
                    <a:pt x="3105150" y="60855"/>
                    <a:pt x="3105150" y="57151"/>
                  </a:cubicBezTo>
                  <a:cubicBezTo>
                    <a:pt x="3105150" y="49742"/>
                    <a:pt x="3108940" y="46038"/>
                    <a:pt x="3116519" y="46038"/>
                  </a:cubicBezTo>
                  <a:close/>
                  <a:moveTo>
                    <a:pt x="330001" y="46038"/>
                  </a:moveTo>
                  <a:cubicBezTo>
                    <a:pt x="333771" y="46038"/>
                    <a:pt x="337542" y="49742"/>
                    <a:pt x="337542" y="53447"/>
                  </a:cubicBezTo>
                  <a:cubicBezTo>
                    <a:pt x="341312" y="57151"/>
                    <a:pt x="337542" y="60855"/>
                    <a:pt x="330001" y="64559"/>
                  </a:cubicBezTo>
                  <a:cubicBezTo>
                    <a:pt x="318690" y="64559"/>
                    <a:pt x="307379" y="68263"/>
                    <a:pt x="296068" y="68263"/>
                  </a:cubicBezTo>
                  <a:cubicBezTo>
                    <a:pt x="280987" y="71968"/>
                    <a:pt x="258365" y="75672"/>
                    <a:pt x="231973" y="75672"/>
                  </a:cubicBezTo>
                  <a:cubicBezTo>
                    <a:pt x="228202" y="79376"/>
                    <a:pt x="224432" y="75672"/>
                    <a:pt x="224432" y="68263"/>
                  </a:cubicBezTo>
                  <a:cubicBezTo>
                    <a:pt x="220662" y="64559"/>
                    <a:pt x="224432" y="60855"/>
                    <a:pt x="231973" y="60855"/>
                  </a:cubicBezTo>
                  <a:cubicBezTo>
                    <a:pt x="258365" y="57151"/>
                    <a:pt x="280987" y="53447"/>
                    <a:pt x="296068" y="49742"/>
                  </a:cubicBezTo>
                  <a:cubicBezTo>
                    <a:pt x="307379" y="49742"/>
                    <a:pt x="318690" y="46038"/>
                    <a:pt x="330001" y="46038"/>
                  </a:cubicBezTo>
                  <a:close/>
                  <a:moveTo>
                    <a:pt x="3058268" y="38166"/>
                  </a:moveTo>
                  <a:cubicBezTo>
                    <a:pt x="3060137" y="39555"/>
                    <a:pt x="3062006" y="42334"/>
                    <a:pt x="3063875" y="46038"/>
                  </a:cubicBezTo>
                  <a:cubicBezTo>
                    <a:pt x="3063875" y="49742"/>
                    <a:pt x="3060137" y="53446"/>
                    <a:pt x="3056399" y="53446"/>
                  </a:cubicBezTo>
                  <a:cubicBezTo>
                    <a:pt x="3056399" y="53446"/>
                    <a:pt x="3056399" y="53446"/>
                    <a:pt x="3052660" y="53446"/>
                  </a:cubicBezTo>
                  <a:cubicBezTo>
                    <a:pt x="3022754" y="60855"/>
                    <a:pt x="2989109" y="64559"/>
                    <a:pt x="2955464" y="68263"/>
                  </a:cubicBezTo>
                  <a:cubicBezTo>
                    <a:pt x="2951726" y="68263"/>
                    <a:pt x="2947987" y="64559"/>
                    <a:pt x="2947987" y="60855"/>
                  </a:cubicBezTo>
                  <a:cubicBezTo>
                    <a:pt x="2947987" y="53446"/>
                    <a:pt x="2947987" y="49742"/>
                    <a:pt x="2955464" y="49742"/>
                  </a:cubicBezTo>
                  <a:cubicBezTo>
                    <a:pt x="2989109" y="46038"/>
                    <a:pt x="3019015" y="42334"/>
                    <a:pt x="3052660" y="38629"/>
                  </a:cubicBezTo>
                  <a:cubicBezTo>
                    <a:pt x="3054529" y="36777"/>
                    <a:pt x="3056399" y="36777"/>
                    <a:pt x="3058268" y="38166"/>
                  </a:cubicBezTo>
                  <a:close/>
                  <a:moveTo>
                    <a:pt x="2797277" y="34925"/>
                  </a:moveTo>
                  <a:cubicBezTo>
                    <a:pt x="2827184" y="34925"/>
                    <a:pt x="2860829" y="34925"/>
                    <a:pt x="2894474" y="38629"/>
                  </a:cubicBezTo>
                  <a:cubicBezTo>
                    <a:pt x="2898212" y="38629"/>
                    <a:pt x="2901950" y="42333"/>
                    <a:pt x="2901950" y="46038"/>
                  </a:cubicBezTo>
                  <a:cubicBezTo>
                    <a:pt x="2901950" y="53446"/>
                    <a:pt x="2898212" y="57150"/>
                    <a:pt x="2894474" y="57150"/>
                  </a:cubicBezTo>
                  <a:cubicBezTo>
                    <a:pt x="2860829" y="53446"/>
                    <a:pt x="2827184" y="53446"/>
                    <a:pt x="2793539" y="49742"/>
                  </a:cubicBezTo>
                  <a:cubicBezTo>
                    <a:pt x="2789801" y="49742"/>
                    <a:pt x="2786062" y="46038"/>
                    <a:pt x="2786062" y="42333"/>
                  </a:cubicBezTo>
                  <a:cubicBezTo>
                    <a:pt x="2786062" y="38629"/>
                    <a:pt x="2789801" y="34925"/>
                    <a:pt x="2797277" y="34925"/>
                  </a:cubicBezTo>
                  <a:close/>
                  <a:moveTo>
                    <a:pt x="393955" y="34925"/>
                  </a:moveTo>
                  <a:cubicBezTo>
                    <a:pt x="428061" y="38629"/>
                    <a:pt x="458377" y="42334"/>
                    <a:pt x="492483" y="49742"/>
                  </a:cubicBezTo>
                  <a:cubicBezTo>
                    <a:pt x="496272" y="49742"/>
                    <a:pt x="500062" y="53446"/>
                    <a:pt x="500062" y="57150"/>
                  </a:cubicBezTo>
                  <a:cubicBezTo>
                    <a:pt x="500062" y="64559"/>
                    <a:pt x="496272" y="68263"/>
                    <a:pt x="488693" y="64559"/>
                  </a:cubicBezTo>
                  <a:cubicBezTo>
                    <a:pt x="458377" y="60855"/>
                    <a:pt x="424272" y="57150"/>
                    <a:pt x="390166" y="53446"/>
                  </a:cubicBezTo>
                  <a:cubicBezTo>
                    <a:pt x="386376" y="53446"/>
                    <a:pt x="382587" y="46038"/>
                    <a:pt x="382587" y="42334"/>
                  </a:cubicBezTo>
                  <a:cubicBezTo>
                    <a:pt x="382587" y="38629"/>
                    <a:pt x="390166" y="34925"/>
                    <a:pt x="393955" y="34925"/>
                  </a:cubicBezTo>
                  <a:close/>
                  <a:moveTo>
                    <a:pt x="2474452" y="23813"/>
                  </a:moveTo>
                  <a:cubicBezTo>
                    <a:pt x="2508097" y="23813"/>
                    <a:pt x="2541742" y="23813"/>
                    <a:pt x="2575387" y="23813"/>
                  </a:cubicBezTo>
                  <a:cubicBezTo>
                    <a:pt x="2579125" y="23813"/>
                    <a:pt x="2582863" y="27623"/>
                    <a:pt x="2582863" y="35243"/>
                  </a:cubicBezTo>
                  <a:cubicBezTo>
                    <a:pt x="2582863" y="39053"/>
                    <a:pt x="2579125" y="42863"/>
                    <a:pt x="2575387" y="42863"/>
                  </a:cubicBezTo>
                  <a:cubicBezTo>
                    <a:pt x="2571648" y="42863"/>
                    <a:pt x="2571648" y="42863"/>
                    <a:pt x="2571648" y="42863"/>
                  </a:cubicBezTo>
                  <a:cubicBezTo>
                    <a:pt x="2541742" y="42863"/>
                    <a:pt x="2508097" y="42863"/>
                    <a:pt x="2474452" y="42863"/>
                  </a:cubicBezTo>
                  <a:cubicBezTo>
                    <a:pt x="2470714" y="42863"/>
                    <a:pt x="2466975" y="39053"/>
                    <a:pt x="2466975" y="31433"/>
                  </a:cubicBezTo>
                  <a:cubicBezTo>
                    <a:pt x="2466975" y="27623"/>
                    <a:pt x="2470714" y="23813"/>
                    <a:pt x="2474452" y="23813"/>
                  </a:cubicBezTo>
                  <a:close/>
                  <a:moveTo>
                    <a:pt x="796811" y="22906"/>
                  </a:moveTo>
                  <a:cubicBezTo>
                    <a:pt x="804295" y="19050"/>
                    <a:pt x="808037" y="26761"/>
                    <a:pt x="808037" y="30616"/>
                  </a:cubicBezTo>
                  <a:cubicBezTo>
                    <a:pt x="808037" y="34472"/>
                    <a:pt x="804295" y="38327"/>
                    <a:pt x="800553" y="38327"/>
                  </a:cubicBezTo>
                  <a:cubicBezTo>
                    <a:pt x="770617" y="42183"/>
                    <a:pt x="740682" y="42183"/>
                    <a:pt x="710746" y="46038"/>
                  </a:cubicBezTo>
                  <a:cubicBezTo>
                    <a:pt x="707004" y="46038"/>
                    <a:pt x="703262" y="42183"/>
                    <a:pt x="703262" y="34472"/>
                  </a:cubicBezTo>
                  <a:cubicBezTo>
                    <a:pt x="703262" y="30616"/>
                    <a:pt x="707004" y="26761"/>
                    <a:pt x="710746" y="26761"/>
                  </a:cubicBezTo>
                  <a:cubicBezTo>
                    <a:pt x="740682" y="22906"/>
                    <a:pt x="770617" y="22906"/>
                    <a:pt x="796811" y="22906"/>
                  </a:cubicBezTo>
                  <a:close/>
                  <a:moveTo>
                    <a:pt x="655355" y="22333"/>
                  </a:moveTo>
                  <a:cubicBezTo>
                    <a:pt x="657250" y="23740"/>
                    <a:pt x="658197" y="26555"/>
                    <a:pt x="658197" y="30307"/>
                  </a:cubicBezTo>
                  <a:cubicBezTo>
                    <a:pt x="661987" y="34059"/>
                    <a:pt x="658197" y="37811"/>
                    <a:pt x="650618" y="37811"/>
                  </a:cubicBezTo>
                  <a:cubicBezTo>
                    <a:pt x="620302" y="45316"/>
                    <a:pt x="586197" y="52821"/>
                    <a:pt x="555880" y="60325"/>
                  </a:cubicBezTo>
                  <a:cubicBezTo>
                    <a:pt x="548301" y="60325"/>
                    <a:pt x="544512" y="56573"/>
                    <a:pt x="544512" y="52821"/>
                  </a:cubicBezTo>
                  <a:cubicBezTo>
                    <a:pt x="544512" y="49068"/>
                    <a:pt x="544512" y="41564"/>
                    <a:pt x="552091" y="41564"/>
                  </a:cubicBezTo>
                  <a:cubicBezTo>
                    <a:pt x="582407" y="34059"/>
                    <a:pt x="616513" y="26555"/>
                    <a:pt x="646829" y="22802"/>
                  </a:cubicBezTo>
                  <a:cubicBezTo>
                    <a:pt x="650618" y="20926"/>
                    <a:pt x="653461" y="20926"/>
                    <a:pt x="655355" y="22333"/>
                  </a:cubicBezTo>
                  <a:close/>
                  <a:moveTo>
                    <a:pt x="2639218" y="19050"/>
                  </a:moveTo>
                  <a:cubicBezTo>
                    <a:pt x="2650529" y="22860"/>
                    <a:pt x="2661840" y="22860"/>
                    <a:pt x="2676922" y="26670"/>
                  </a:cubicBezTo>
                  <a:cubicBezTo>
                    <a:pt x="2695773" y="30480"/>
                    <a:pt x="2714625" y="34290"/>
                    <a:pt x="2733476" y="38100"/>
                  </a:cubicBezTo>
                  <a:cubicBezTo>
                    <a:pt x="2741017" y="38100"/>
                    <a:pt x="2744787" y="41910"/>
                    <a:pt x="2741017" y="45720"/>
                  </a:cubicBezTo>
                  <a:cubicBezTo>
                    <a:pt x="2741017" y="53340"/>
                    <a:pt x="2737247" y="57150"/>
                    <a:pt x="2733476" y="53340"/>
                  </a:cubicBezTo>
                  <a:cubicBezTo>
                    <a:pt x="2733476" y="53340"/>
                    <a:pt x="2729706" y="53340"/>
                    <a:pt x="2729706" y="53340"/>
                  </a:cubicBezTo>
                  <a:cubicBezTo>
                    <a:pt x="2710854" y="49530"/>
                    <a:pt x="2692003" y="49530"/>
                    <a:pt x="2673151" y="45720"/>
                  </a:cubicBezTo>
                  <a:cubicBezTo>
                    <a:pt x="2658070" y="41910"/>
                    <a:pt x="2646759" y="38100"/>
                    <a:pt x="2635448" y="38100"/>
                  </a:cubicBezTo>
                  <a:cubicBezTo>
                    <a:pt x="2627908" y="38100"/>
                    <a:pt x="2624137" y="30480"/>
                    <a:pt x="2627908" y="26670"/>
                  </a:cubicBezTo>
                  <a:cubicBezTo>
                    <a:pt x="2627908" y="22860"/>
                    <a:pt x="2631678" y="19050"/>
                    <a:pt x="2639218" y="19050"/>
                  </a:cubicBezTo>
                  <a:close/>
                  <a:moveTo>
                    <a:pt x="2153826" y="19050"/>
                  </a:moveTo>
                  <a:cubicBezTo>
                    <a:pt x="2180167" y="19050"/>
                    <a:pt x="2210271" y="19050"/>
                    <a:pt x="2236611" y="19050"/>
                  </a:cubicBezTo>
                  <a:cubicBezTo>
                    <a:pt x="2244137" y="19050"/>
                    <a:pt x="2247900" y="22860"/>
                    <a:pt x="2247900" y="30480"/>
                  </a:cubicBezTo>
                  <a:cubicBezTo>
                    <a:pt x="2244137" y="34290"/>
                    <a:pt x="2244137" y="38100"/>
                    <a:pt x="2236611" y="38100"/>
                  </a:cubicBezTo>
                  <a:cubicBezTo>
                    <a:pt x="2210271" y="38100"/>
                    <a:pt x="2180167" y="38100"/>
                    <a:pt x="2153826" y="38100"/>
                  </a:cubicBezTo>
                  <a:cubicBezTo>
                    <a:pt x="2146300" y="38100"/>
                    <a:pt x="2146300" y="34290"/>
                    <a:pt x="2146300" y="26670"/>
                  </a:cubicBezTo>
                  <a:cubicBezTo>
                    <a:pt x="2146300" y="22860"/>
                    <a:pt x="2150063" y="19050"/>
                    <a:pt x="2153826" y="19050"/>
                  </a:cubicBezTo>
                  <a:close/>
                  <a:moveTo>
                    <a:pt x="2316265" y="15875"/>
                  </a:moveTo>
                  <a:cubicBezTo>
                    <a:pt x="2349910" y="19646"/>
                    <a:pt x="2379817" y="23416"/>
                    <a:pt x="2413462" y="27186"/>
                  </a:cubicBezTo>
                  <a:cubicBezTo>
                    <a:pt x="2417200" y="27186"/>
                    <a:pt x="2420938" y="34727"/>
                    <a:pt x="2420938" y="38497"/>
                  </a:cubicBezTo>
                  <a:cubicBezTo>
                    <a:pt x="2420938" y="42268"/>
                    <a:pt x="2417200" y="46038"/>
                    <a:pt x="2413462" y="46038"/>
                  </a:cubicBezTo>
                  <a:cubicBezTo>
                    <a:pt x="2379817" y="42268"/>
                    <a:pt x="2346172" y="38497"/>
                    <a:pt x="2312527" y="34727"/>
                  </a:cubicBezTo>
                  <a:cubicBezTo>
                    <a:pt x="2308789" y="34727"/>
                    <a:pt x="2305050" y="27186"/>
                    <a:pt x="2305050" y="23416"/>
                  </a:cubicBezTo>
                  <a:cubicBezTo>
                    <a:pt x="2305050" y="19646"/>
                    <a:pt x="2312527" y="15875"/>
                    <a:pt x="2316265" y="15875"/>
                  </a:cubicBezTo>
                  <a:close/>
                  <a:moveTo>
                    <a:pt x="1995744" y="12700"/>
                  </a:moveTo>
                  <a:cubicBezTo>
                    <a:pt x="2018481" y="16404"/>
                    <a:pt x="2041218" y="16404"/>
                    <a:pt x="2067745" y="16404"/>
                  </a:cubicBezTo>
                  <a:cubicBezTo>
                    <a:pt x="2075324" y="16404"/>
                    <a:pt x="2082903" y="16404"/>
                    <a:pt x="2094271" y="16404"/>
                  </a:cubicBezTo>
                  <a:cubicBezTo>
                    <a:pt x="2098061" y="16404"/>
                    <a:pt x="2101850" y="23813"/>
                    <a:pt x="2101850" y="27517"/>
                  </a:cubicBezTo>
                  <a:cubicBezTo>
                    <a:pt x="2101850" y="31221"/>
                    <a:pt x="2098061" y="34925"/>
                    <a:pt x="2094271" y="34925"/>
                  </a:cubicBezTo>
                  <a:cubicBezTo>
                    <a:pt x="2082903" y="34925"/>
                    <a:pt x="2075324" y="34925"/>
                    <a:pt x="2063955" y="34925"/>
                  </a:cubicBezTo>
                  <a:cubicBezTo>
                    <a:pt x="2041218" y="34925"/>
                    <a:pt x="2018481" y="34925"/>
                    <a:pt x="1991954" y="31221"/>
                  </a:cubicBezTo>
                  <a:cubicBezTo>
                    <a:pt x="1988165" y="31221"/>
                    <a:pt x="1984375" y="27517"/>
                    <a:pt x="1984375" y="23813"/>
                  </a:cubicBezTo>
                  <a:cubicBezTo>
                    <a:pt x="1984375" y="16404"/>
                    <a:pt x="1988165" y="12700"/>
                    <a:pt x="1995744" y="12700"/>
                  </a:cubicBezTo>
                  <a:close/>
                  <a:moveTo>
                    <a:pt x="874968" y="7938"/>
                  </a:moveTo>
                  <a:cubicBezTo>
                    <a:pt x="890126" y="11819"/>
                    <a:pt x="905285" y="15699"/>
                    <a:pt x="920443" y="15699"/>
                  </a:cubicBezTo>
                  <a:cubicBezTo>
                    <a:pt x="935601" y="19580"/>
                    <a:pt x="954548" y="19580"/>
                    <a:pt x="973496" y="23460"/>
                  </a:cubicBezTo>
                  <a:cubicBezTo>
                    <a:pt x="977285" y="23460"/>
                    <a:pt x="981075" y="31221"/>
                    <a:pt x="981075" y="35102"/>
                  </a:cubicBezTo>
                  <a:cubicBezTo>
                    <a:pt x="981075" y="38983"/>
                    <a:pt x="973496" y="42863"/>
                    <a:pt x="969706" y="42863"/>
                  </a:cubicBezTo>
                  <a:cubicBezTo>
                    <a:pt x="950759" y="38983"/>
                    <a:pt x="935601" y="38983"/>
                    <a:pt x="916653" y="35102"/>
                  </a:cubicBezTo>
                  <a:cubicBezTo>
                    <a:pt x="901495" y="31221"/>
                    <a:pt x="886337" y="31221"/>
                    <a:pt x="871179" y="27341"/>
                  </a:cubicBezTo>
                  <a:cubicBezTo>
                    <a:pt x="867389" y="27341"/>
                    <a:pt x="863600" y="23460"/>
                    <a:pt x="863600" y="15699"/>
                  </a:cubicBezTo>
                  <a:cubicBezTo>
                    <a:pt x="863600" y="11819"/>
                    <a:pt x="867389" y="7938"/>
                    <a:pt x="874968" y="7938"/>
                  </a:cubicBezTo>
                  <a:close/>
                  <a:moveTo>
                    <a:pt x="1835199" y="4763"/>
                  </a:moveTo>
                  <a:cubicBezTo>
                    <a:pt x="1868686" y="8534"/>
                    <a:pt x="1902172" y="12304"/>
                    <a:pt x="1931938" y="16074"/>
                  </a:cubicBezTo>
                  <a:cubicBezTo>
                    <a:pt x="1939380" y="16074"/>
                    <a:pt x="1943100" y="19845"/>
                    <a:pt x="1939380" y="27385"/>
                  </a:cubicBezTo>
                  <a:cubicBezTo>
                    <a:pt x="1939380" y="31156"/>
                    <a:pt x="1935659" y="34926"/>
                    <a:pt x="1931938" y="34926"/>
                  </a:cubicBezTo>
                  <a:cubicBezTo>
                    <a:pt x="1898452" y="31156"/>
                    <a:pt x="1864965" y="27385"/>
                    <a:pt x="1835199" y="23615"/>
                  </a:cubicBezTo>
                  <a:cubicBezTo>
                    <a:pt x="1827758" y="23615"/>
                    <a:pt x="1824037" y="19845"/>
                    <a:pt x="1824037" y="12304"/>
                  </a:cubicBezTo>
                  <a:cubicBezTo>
                    <a:pt x="1827758" y="8534"/>
                    <a:pt x="1831479" y="4763"/>
                    <a:pt x="1835199" y="4763"/>
                  </a:cubicBezTo>
                  <a:close/>
                  <a:moveTo>
                    <a:pt x="1273664" y="4763"/>
                  </a:moveTo>
                  <a:cubicBezTo>
                    <a:pt x="1277388" y="4763"/>
                    <a:pt x="1281113" y="8467"/>
                    <a:pt x="1281113" y="15876"/>
                  </a:cubicBezTo>
                  <a:cubicBezTo>
                    <a:pt x="1281113" y="19580"/>
                    <a:pt x="1277388" y="23284"/>
                    <a:pt x="1273664" y="23284"/>
                  </a:cubicBezTo>
                  <a:cubicBezTo>
                    <a:pt x="1247592" y="23284"/>
                    <a:pt x="1217796" y="26988"/>
                    <a:pt x="1191724" y="26988"/>
                  </a:cubicBezTo>
                  <a:cubicBezTo>
                    <a:pt x="1187999" y="26988"/>
                    <a:pt x="1184275" y="23284"/>
                    <a:pt x="1184275" y="15876"/>
                  </a:cubicBezTo>
                  <a:cubicBezTo>
                    <a:pt x="1184275" y="12171"/>
                    <a:pt x="1187999" y="8467"/>
                    <a:pt x="1191724" y="8467"/>
                  </a:cubicBezTo>
                  <a:cubicBezTo>
                    <a:pt x="1217796" y="8467"/>
                    <a:pt x="1247592" y="4763"/>
                    <a:pt x="1273664" y="4763"/>
                  </a:cubicBezTo>
                  <a:close/>
                  <a:moveTo>
                    <a:pt x="1130761" y="4763"/>
                  </a:moveTo>
                  <a:cubicBezTo>
                    <a:pt x="1134500" y="4763"/>
                    <a:pt x="1138238" y="8534"/>
                    <a:pt x="1138238" y="12304"/>
                  </a:cubicBezTo>
                  <a:cubicBezTo>
                    <a:pt x="1138238" y="16074"/>
                    <a:pt x="1138238" y="23615"/>
                    <a:pt x="1130761" y="23615"/>
                  </a:cubicBezTo>
                  <a:cubicBezTo>
                    <a:pt x="1100855" y="27385"/>
                    <a:pt x="1067210" y="31156"/>
                    <a:pt x="1033565" y="34926"/>
                  </a:cubicBezTo>
                  <a:cubicBezTo>
                    <a:pt x="1029827" y="34926"/>
                    <a:pt x="1026088" y="31156"/>
                    <a:pt x="1022350" y="27385"/>
                  </a:cubicBezTo>
                  <a:cubicBezTo>
                    <a:pt x="1022350" y="23615"/>
                    <a:pt x="1026088" y="19845"/>
                    <a:pt x="1033565" y="16074"/>
                  </a:cubicBezTo>
                  <a:cubicBezTo>
                    <a:pt x="1063471" y="12304"/>
                    <a:pt x="1097116" y="8534"/>
                    <a:pt x="1130761" y="4763"/>
                  </a:cubicBezTo>
                  <a:close/>
                  <a:moveTo>
                    <a:pt x="1769960" y="0"/>
                  </a:moveTo>
                  <a:cubicBezTo>
                    <a:pt x="1777437" y="0"/>
                    <a:pt x="1781175" y="3771"/>
                    <a:pt x="1781175" y="11311"/>
                  </a:cubicBezTo>
                  <a:cubicBezTo>
                    <a:pt x="1781175" y="15082"/>
                    <a:pt x="1777437" y="18852"/>
                    <a:pt x="1773699" y="18852"/>
                  </a:cubicBezTo>
                  <a:cubicBezTo>
                    <a:pt x="1740054" y="22622"/>
                    <a:pt x="1706409" y="26393"/>
                    <a:pt x="1676502" y="30163"/>
                  </a:cubicBezTo>
                  <a:cubicBezTo>
                    <a:pt x="1669026" y="30163"/>
                    <a:pt x="1665287" y="26393"/>
                    <a:pt x="1665287" y="18852"/>
                  </a:cubicBezTo>
                  <a:cubicBezTo>
                    <a:pt x="1665287" y="15082"/>
                    <a:pt x="1669026" y="11311"/>
                    <a:pt x="1672764" y="11311"/>
                  </a:cubicBezTo>
                  <a:cubicBezTo>
                    <a:pt x="1706409" y="7541"/>
                    <a:pt x="1736315" y="3771"/>
                    <a:pt x="1769960" y="0"/>
                  </a:cubicBezTo>
                  <a:close/>
                  <a:moveTo>
                    <a:pt x="1514731" y="0"/>
                  </a:moveTo>
                  <a:cubicBezTo>
                    <a:pt x="1548836" y="3856"/>
                    <a:pt x="1579153" y="3856"/>
                    <a:pt x="1613258" y="7711"/>
                  </a:cubicBezTo>
                  <a:cubicBezTo>
                    <a:pt x="1617048" y="7711"/>
                    <a:pt x="1620837" y="11566"/>
                    <a:pt x="1620837" y="19277"/>
                  </a:cubicBezTo>
                  <a:cubicBezTo>
                    <a:pt x="1620837" y="23133"/>
                    <a:pt x="1617048" y="26988"/>
                    <a:pt x="1613258" y="26988"/>
                  </a:cubicBezTo>
                  <a:cubicBezTo>
                    <a:pt x="1579153" y="23133"/>
                    <a:pt x="1545047" y="23133"/>
                    <a:pt x="1510941" y="19277"/>
                  </a:cubicBezTo>
                  <a:cubicBezTo>
                    <a:pt x="1507152" y="19277"/>
                    <a:pt x="1503362" y="15422"/>
                    <a:pt x="1503362" y="7711"/>
                  </a:cubicBezTo>
                  <a:cubicBezTo>
                    <a:pt x="1503362" y="3856"/>
                    <a:pt x="1507152" y="0"/>
                    <a:pt x="1514731" y="0"/>
                  </a:cubicBezTo>
                  <a:close/>
                  <a:moveTo>
                    <a:pt x="1352794" y="0"/>
                  </a:moveTo>
                  <a:cubicBezTo>
                    <a:pt x="1379293" y="3969"/>
                    <a:pt x="1405792" y="3969"/>
                    <a:pt x="1432291" y="3969"/>
                  </a:cubicBezTo>
                  <a:cubicBezTo>
                    <a:pt x="1436076" y="3969"/>
                    <a:pt x="1439862" y="11907"/>
                    <a:pt x="1436076" y="15875"/>
                  </a:cubicBezTo>
                  <a:cubicBezTo>
                    <a:pt x="1436076" y="19844"/>
                    <a:pt x="1432291" y="23813"/>
                    <a:pt x="1428505" y="23813"/>
                  </a:cubicBezTo>
                  <a:cubicBezTo>
                    <a:pt x="1402006" y="23813"/>
                    <a:pt x="1375507" y="23813"/>
                    <a:pt x="1349008" y="19844"/>
                  </a:cubicBezTo>
                  <a:cubicBezTo>
                    <a:pt x="1345222" y="19844"/>
                    <a:pt x="1341437" y="15875"/>
                    <a:pt x="1345222" y="11907"/>
                  </a:cubicBezTo>
                  <a:cubicBezTo>
                    <a:pt x="1345222" y="7938"/>
                    <a:pt x="1349008" y="0"/>
                    <a:pt x="1352794" y="0"/>
                  </a:cubicBezTo>
                  <a:close/>
                </a:path>
              </a:pathLst>
            </a:custGeom>
            <a:solidFill>
              <a:srgbClr val="ead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</p:grpSp>
      <p:sp>
        <p:nvSpPr>
          <p:cNvPr id="103" name="MH_SubTitle_2"/>
          <p:cNvSpPr/>
          <p:nvPr/>
        </p:nvSpPr>
        <p:spPr>
          <a:xfrm>
            <a:off x="3476520" y="3246480"/>
            <a:ext cx="5423040" cy="3306600"/>
          </a:xfrm>
          <a:prstGeom prst="diamond">
            <a:avLst/>
          </a:prstGeom>
          <a:gradFill rotWithShape="0">
            <a:gsLst>
              <a:gs pos="0">
                <a:srgbClr val="ff9797"/>
              </a:gs>
              <a:gs pos="100000">
                <a:srgbClr val="e56a6a"/>
              </a:gs>
            </a:gsLst>
            <a:lin ang="5400000"/>
          </a:gradFill>
          <a:ln w="6480">
            <a:solidFill>
              <a:srgbClr val="ff8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385623"/>
                </a:solidFill>
                <a:latin typeface="Arial"/>
                <a:ea typeface="宋体"/>
              </a:rPr>
              <a:t>战国为赵之离石邑；秦属太原郡；西汉置离石县，属西河郡；唐《元和郡县图志》载：“县东北有离石水（今北川河），因取名焉。</a:t>
            </a:r>
            <a:r>
              <a:rPr b="0" lang="en-US" sz="1600" spc="-1" strike="noStrike">
                <a:solidFill>
                  <a:srgbClr val="385623"/>
                </a:solidFill>
                <a:latin typeface="Arial"/>
                <a:ea typeface="宋体"/>
              </a:rPr>
              <a:t>”</a:t>
            </a:r>
            <a:endParaRPr b="0" lang="en-US" sz="16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" name="MH_SubTitle_3"/>
          <p:cNvSpPr/>
          <p:nvPr/>
        </p:nvSpPr>
        <p:spPr>
          <a:xfrm>
            <a:off x="947880" y="3108240"/>
            <a:ext cx="3654360" cy="3552840"/>
          </a:xfrm>
          <a:prstGeom prst="diamond">
            <a:avLst/>
          </a:prstGeom>
          <a:solidFill>
            <a:srgbClr val="b9dd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85623"/>
                </a:solidFill>
                <a:latin typeface="宋体-方正超大字符集"/>
                <a:ea typeface="宋体-方正超大字符集"/>
              </a:rPr>
              <a:t>      </a:t>
            </a:r>
            <a:r>
              <a:rPr b="1" i="1" lang="en-US" sz="1800" spc="-1" strike="noStrike">
                <a:solidFill>
                  <a:srgbClr val="c55a11"/>
                </a:solidFill>
                <a:latin typeface="宋体"/>
                <a:ea typeface="宋体"/>
              </a:rPr>
              <a:t> </a:t>
            </a:r>
            <a:r>
              <a:rPr b="1" i="1" lang="zh-CN" sz="1400" spc="-1" strike="noStrike">
                <a:solidFill>
                  <a:srgbClr val="c55a11"/>
                </a:solidFill>
                <a:latin typeface="宋体"/>
                <a:ea typeface="宋体"/>
              </a:rPr>
              <a:t>1996</a:t>
            </a:r>
            <a:r>
              <a:rPr b="1" i="1" lang="zh-CN" sz="1400" spc="-1" strike="noStrike">
                <a:solidFill>
                  <a:srgbClr val="c55a11"/>
                </a:solidFill>
                <a:latin typeface="宋体"/>
                <a:ea typeface="宋体"/>
              </a:rPr>
              <a:t>年</a:t>
            </a:r>
            <a:r>
              <a:rPr b="1" i="1" lang="zh-CN" sz="1400" spc="-1" strike="noStrike">
                <a:solidFill>
                  <a:srgbClr val="c55a11"/>
                </a:solidFill>
                <a:latin typeface="宋体"/>
                <a:ea typeface="宋体"/>
              </a:rPr>
              <a:t>5</a:t>
            </a:r>
            <a:r>
              <a:rPr b="1" i="1" lang="zh-CN" sz="1400" spc="-1" strike="noStrike">
                <a:solidFill>
                  <a:srgbClr val="c55a11"/>
                </a:solidFill>
                <a:latin typeface="宋体"/>
                <a:ea typeface="宋体"/>
              </a:rPr>
              <a:t>月离石撤县设市，离石县改为离石市；</a:t>
            </a:r>
            <a:r>
              <a:rPr b="1" i="1" lang="zh-CN" sz="1400" spc="-1" strike="noStrike">
                <a:solidFill>
                  <a:srgbClr val="c55a11"/>
                </a:solidFill>
                <a:latin typeface="宋体"/>
                <a:ea typeface="宋体"/>
              </a:rPr>
              <a:t>2004</a:t>
            </a:r>
            <a:r>
              <a:rPr b="1" i="1" lang="zh-CN" sz="1400" spc="-1" strike="noStrike">
                <a:solidFill>
                  <a:srgbClr val="c55a11"/>
                </a:solidFill>
                <a:latin typeface="宋体"/>
                <a:ea typeface="宋体"/>
              </a:rPr>
              <a:t>年</a:t>
            </a:r>
            <a:r>
              <a:rPr b="1" i="1" lang="zh-CN" sz="1400" spc="-1" strike="noStrike">
                <a:solidFill>
                  <a:srgbClr val="c55a11"/>
                </a:solidFill>
                <a:latin typeface="宋体"/>
                <a:ea typeface="宋体"/>
              </a:rPr>
              <a:t>6</a:t>
            </a:r>
            <a:r>
              <a:rPr b="1" i="1" lang="zh-CN" sz="1400" spc="-1" strike="noStrike">
                <a:solidFill>
                  <a:srgbClr val="c55a11"/>
                </a:solidFill>
                <a:latin typeface="宋体"/>
                <a:ea typeface="宋体"/>
              </a:rPr>
              <a:t>月吕梁地区撤地设市，离石市更名为离石区，属吕梁市管辖。</a:t>
            </a:r>
            <a:endParaRPr b="0" lang="en-US" sz="1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5" name="MH_SubTitle_1"/>
          <p:cNvSpPr/>
          <p:nvPr/>
        </p:nvSpPr>
        <p:spPr>
          <a:xfrm>
            <a:off x="7932600" y="3251160"/>
            <a:ext cx="3272040" cy="3349800"/>
          </a:xfrm>
          <a:prstGeom prst="diamond">
            <a:avLst/>
          </a:prstGeom>
          <a:solidFill>
            <a:srgbClr val="f99f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7f6000"/>
                </a:solidFill>
                <a:latin typeface="Arial"/>
                <a:ea typeface="宋体"/>
              </a:rPr>
              <a:t>离石区的建置沿革，可追溯到战国时代。</a:t>
            </a:r>
            <a:endParaRPr b="0" lang="en-US" sz="16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9,96,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9,96,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9,96,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9,96,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940"/>
                            </p:stCondLst>
                            <p:childTnLst>
                              <p:par>
                                <p:cTn id="105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590"/>
                            </p:stCondLst>
                            <p:childTnLst>
                              <p:par>
                                <p:cTn id="112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390"/>
                            </p:stCondLst>
                            <p:childTnLst>
                              <p:par>
                                <p:cTn id="119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45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MH_Other_1"/>
          <p:cNvSpPr/>
          <p:nvPr/>
        </p:nvSpPr>
        <p:spPr>
          <a:xfrm>
            <a:off x="841320" y="1133640"/>
            <a:ext cx="3108240" cy="1174680"/>
          </a:xfrm>
          <a:prstGeom prst="pie">
            <a:avLst/>
          </a:prstGeom>
          <a:solidFill>
            <a:srgbClr val="47b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幼圆"/>
              </a:rPr>
              <a:t>01</a:t>
            </a:r>
            <a:endParaRPr b="0" lang="en-US" sz="32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7" name="MH_Other_4"/>
          <p:cNvSpPr/>
          <p:nvPr/>
        </p:nvSpPr>
        <p:spPr>
          <a:xfrm>
            <a:off x="4397400" y="1133640"/>
            <a:ext cx="3108240" cy="1128600"/>
          </a:xfrm>
          <a:prstGeom prst="pie">
            <a:avLst/>
          </a:prstGeom>
          <a:solidFill>
            <a:srgbClr val="628e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幼圆"/>
              </a:rPr>
              <a:t>02</a:t>
            </a:r>
            <a:endParaRPr b="0" lang="en-US" sz="32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8" name="MH_Other_7"/>
          <p:cNvSpPr/>
          <p:nvPr/>
        </p:nvSpPr>
        <p:spPr>
          <a:xfrm>
            <a:off x="8064360" y="1117440"/>
            <a:ext cx="3086280" cy="1128960"/>
          </a:xfrm>
          <a:prstGeom prst="pie">
            <a:avLst/>
          </a:prstGeom>
          <a:solidFill>
            <a:srgbClr val="2bc3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幼圆"/>
              </a:rPr>
              <a:t>03</a:t>
            </a:r>
            <a:endParaRPr b="0" lang="en-US" sz="32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9" name="MH_Other_3"/>
          <p:cNvSpPr/>
          <p:nvPr/>
        </p:nvSpPr>
        <p:spPr>
          <a:xfrm>
            <a:off x="168120" y="3400560"/>
            <a:ext cx="371484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0" name="MH_Other_9"/>
          <p:cNvSpPr/>
          <p:nvPr/>
        </p:nvSpPr>
        <p:spPr>
          <a:xfrm>
            <a:off x="8086680" y="2511360"/>
            <a:ext cx="357660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8135"/>
                </a:solidFill>
                <a:latin typeface="Arial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安国寺廉政文化教育基地、千年生态旅游区、“晋商通道”三个特色旅游产品得到深度开发，与碛口古镇、北武当山、晋商文化大院等周边旅游项目实现有效对接。</a:t>
            </a:r>
            <a:endParaRPr b="0" lang="en-US" sz="20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1" name="文本框 1"/>
          <p:cNvSpPr/>
          <p:nvPr/>
        </p:nvSpPr>
        <p:spPr>
          <a:xfrm>
            <a:off x="762120" y="2390760"/>
            <a:ext cx="30178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3d3f41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3d3f41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3d3f41"/>
                </a:solidFill>
                <a:latin typeface="Arial"/>
                <a:ea typeface="宋体"/>
              </a:rPr>
              <a:t>离石弹唱被列入第一批山西省非物质文化遗产名录，并在每年春节期间举行集中展演；特色锣鼓、离石秧歌在丰富群众生活、提高文化品位的实践中不断发扬光大。</a:t>
            </a:r>
            <a:endParaRPr b="0" lang="en-US" sz="20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2" name="文本框 2"/>
          <p:cNvSpPr/>
          <p:nvPr/>
        </p:nvSpPr>
        <p:spPr>
          <a:xfrm flipV="1" rot="10800000">
            <a:off x="4257720" y="2400120"/>
            <a:ext cx="334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宋体"/>
              </a:rPr>
              <a:t>作家王永泰创作的长篇小说《清官于成龙》被改编为电视剧，在央视一套黄金时间播出，引起强烈反响，以此为题材的京剧、晋剧在全国各地巡回演出。《直臣孙家淦》、《高高的南梁》、《浴血吕梁》、《师范女生》等一批文化精品相继问世。</a:t>
            </a:r>
            <a:endParaRPr b="0" lang="en-US" sz="2000" spc="-1" strike="noStrike">
              <a:solidFill>
                <a:srgbClr val="3d3f41"/>
              </a:solidFill>
              <a:latin typeface="Arial"/>
            </a:endParaRPr>
          </a:p>
        </p:txBody>
      </p:sp>
      <p:grpSp>
        <p:nvGrpSpPr>
          <p:cNvPr id="113" name="组合 1"/>
          <p:cNvGrpSpPr/>
          <p:nvPr/>
        </p:nvGrpSpPr>
        <p:grpSpPr>
          <a:xfrm>
            <a:off x="1378080" y="338040"/>
            <a:ext cx="8389800" cy="1111320"/>
            <a:chOff x="1378080" y="338040"/>
            <a:chExt cx="8389800" cy="1111320"/>
          </a:xfrm>
        </p:grpSpPr>
        <p:sp>
          <p:nvSpPr>
            <p:cNvPr id="114" name="MH_SubTitle_1"/>
            <p:cNvSpPr/>
            <p:nvPr/>
          </p:nvSpPr>
          <p:spPr>
            <a:xfrm>
              <a:off x="1378080" y="338040"/>
              <a:ext cx="8389800" cy="792000"/>
            </a:xfrm>
            <a:prstGeom prst="pie">
              <a:avLst/>
            </a:prstGeom>
            <a:solidFill>
              <a:srgbClr val="fffdd9"/>
            </a:solidFill>
            <a:ln w="15840">
              <a:solidFill>
                <a:srgbClr val="d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d3f41"/>
                  </a:solidFill>
                  <a:latin typeface="Arial"/>
                </a:rPr>
                <a:t>离石的文化</a:t>
              </a:r>
              <a:endParaRPr b="0" lang="en-US" sz="4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115" name="MH_Other_1"/>
            <p:cNvSpPr/>
            <p:nvPr/>
          </p:nvSpPr>
          <p:spPr>
            <a:xfrm>
              <a:off x="9287280" y="965520"/>
              <a:ext cx="380520" cy="483840"/>
            </a:xfrm>
            <a:custGeom>
              <a:avLst/>
              <a:gdLst/>
              <a:ahLst/>
              <a:rect l="l" t="t" r="r" b="b"/>
              <a:pathLst>
                <a:path w="489601" h="817519">
                  <a:moveTo>
                    <a:pt x="382030" y="148204"/>
                  </a:moveTo>
                  <a:cubicBezTo>
                    <a:pt x="376386" y="149144"/>
                    <a:pt x="372154" y="149144"/>
                    <a:pt x="369332" y="148556"/>
                  </a:cubicBezTo>
                  <a:lnTo>
                    <a:pt x="369178" y="148440"/>
                  </a:lnTo>
                  <a:lnTo>
                    <a:pt x="382030" y="148204"/>
                  </a:lnTo>
                  <a:close/>
                  <a:moveTo>
                    <a:pt x="72717" y="25053"/>
                  </a:moveTo>
                  <a:cubicBezTo>
                    <a:pt x="50129" y="22710"/>
                    <a:pt x="31306" y="29271"/>
                    <a:pt x="35070" y="57390"/>
                  </a:cubicBezTo>
                  <a:cubicBezTo>
                    <a:pt x="38835" y="100506"/>
                    <a:pt x="68011" y="130500"/>
                    <a:pt x="104246" y="143154"/>
                  </a:cubicBezTo>
                  <a:lnTo>
                    <a:pt x="109197" y="143624"/>
                  </a:lnTo>
                  <a:lnTo>
                    <a:pt x="173943" y="136089"/>
                  </a:lnTo>
                  <a:lnTo>
                    <a:pt x="180928" y="143134"/>
                  </a:lnTo>
                  <a:lnTo>
                    <a:pt x="189943" y="140583"/>
                  </a:lnTo>
                  <a:lnTo>
                    <a:pt x="211202" y="127656"/>
                  </a:lnTo>
                  <a:lnTo>
                    <a:pt x="212009" y="128625"/>
                  </a:lnTo>
                  <a:lnTo>
                    <a:pt x="212766" y="128743"/>
                  </a:lnTo>
                  <a:lnTo>
                    <a:pt x="218745" y="128743"/>
                  </a:lnTo>
                  <a:lnTo>
                    <a:pt x="214613" y="126103"/>
                  </a:lnTo>
                  <a:lnTo>
                    <a:pt x="214799" y="125468"/>
                  </a:lnTo>
                  <a:lnTo>
                    <a:pt x="211202" y="127656"/>
                  </a:lnTo>
                  <a:lnTo>
                    <a:pt x="175304" y="84572"/>
                  </a:lnTo>
                  <a:cubicBezTo>
                    <a:pt x="163069" y="69575"/>
                    <a:pt x="149893" y="55515"/>
                    <a:pt x="132952" y="46142"/>
                  </a:cubicBezTo>
                  <a:cubicBezTo>
                    <a:pt x="121658" y="38644"/>
                    <a:pt x="95305" y="27396"/>
                    <a:pt x="72717" y="25053"/>
                  </a:cubicBezTo>
                  <a:close/>
                  <a:moveTo>
                    <a:pt x="371684" y="557"/>
                  </a:moveTo>
                  <a:cubicBezTo>
                    <a:pt x="403662" y="-2265"/>
                    <a:pt x="434700" y="5259"/>
                    <a:pt x="457273" y="31591"/>
                  </a:cubicBezTo>
                  <a:cubicBezTo>
                    <a:pt x="483608" y="61684"/>
                    <a:pt x="479846" y="103063"/>
                    <a:pt x="449749" y="125633"/>
                  </a:cubicBezTo>
                  <a:cubicBezTo>
                    <a:pt x="430938" y="140680"/>
                    <a:pt x="404603" y="140680"/>
                    <a:pt x="382030" y="148204"/>
                  </a:cubicBezTo>
                  <a:cubicBezTo>
                    <a:pt x="404603" y="144442"/>
                    <a:pt x="400841" y="136918"/>
                    <a:pt x="382030" y="136918"/>
                  </a:cubicBezTo>
                  <a:cubicBezTo>
                    <a:pt x="415889" y="133156"/>
                    <a:pt x="445987" y="110586"/>
                    <a:pt x="434700" y="69208"/>
                  </a:cubicBezTo>
                  <a:cubicBezTo>
                    <a:pt x="430938" y="50399"/>
                    <a:pt x="419651" y="27829"/>
                    <a:pt x="397078" y="16544"/>
                  </a:cubicBezTo>
                  <a:cubicBezTo>
                    <a:pt x="343467" y="-6026"/>
                    <a:pt x="308903" y="30650"/>
                    <a:pt x="282274" y="67856"/>
                  </a:cubicBezTo>
                  <a:lnTo>
                    <a:pt x="265593" y="91929"/>
                  </a:lnTo>
                  <a:lnTo>
                    <a:pt x="268531" y="126930"/>
                  </a:lnTo>
                  <a:lnTo>
                    <a:pt x="279636" y="131298"/>
                  </a:lnTo>
                  <a:cubicBezTo>
                    <a:pt x="312665" y="140151"/>
                    <a:pt x="367922" y="139269"/>
                    <a:pt x="382030" y="136918"/>
                  </a:cubicBezTo>
                  <a:cubicBezTo>
                    <a:pt x="370743" y="138799"/>
                    <a:pt x="365100" y="142561"/>
                    <a:pt x="365100" y="145382"/>
                  </a:cubicBezTo>
                  <a:lnTo>
                    <a:pt x="369178" y="148440"/>
                  </a:lnTo>
                  <a:lnTo>
                    <a:pt x="305376" y="149614"/>
                  </a:lnTo>
                  <a:lnTo>
                    <a:pt x="269295" y="143410"/>
                  </a:lnTo>
                  <a:lnTo>
                    <a:pt x="269295" y="143478"/>
                  </a:lnTo>
                  <a:cubicBezTo>
                    <a:pt x="261791" y="143478"/>
                    <a:pt x="261791" y="143478"/>
                    <a:pt x="261791" y="143478"/>
                  </a:cubicBezTo>
                  <a:lnTo>
                    <a:pt x="257677" y="144158"/>
                  </a:lnTo>
                  <a:lnTo>
                    <a:pt x="291826" y="190460"/>
                  </a:lnTo>
                  <a:cubicBezTo>
                    <a:pt x="307273" y="217317"/>
                    <a:pt x="319444" y="245586"/>
                    <a:pt x="328806" y="275741"/>
                  </a:cubicBezTo>
                  <a:cubicBezTo>
                    <a:pt x="355020" y="362434"/>
                    <a:pt x="336296" y="441590"/>
                    <a:pt x="407448" y="509437"/>
                  </a:cubicBezTo>
                  <a:cubicBezTo>
                    <a:pt x="486091" y="584823"/>
                    <a:pt x="501070" y="709210"/>
                    <a:pt x="482346" y="810981"/>
                  </a:cubicBezTo>
                  <a:cubicBezTo>
                    <a:pt x="474856" y="829827"/>
                    <a:pt x="448642" y="803442"/>
                    <a:pt x="452387" y="788365"/>
                  </a:cubicBezTo>
                  <a:cubicBezTo>
                    <a:pt x="467366" y="716748"/>
                    <a:pt x="463622" y="599900"/>
                    <a:pt x="407448" y="547130"/>
                  </a:cubicBezTo>
                  <a:cubicBezTo>
                    <a:pt x="373745" y="516976"/>
                    <a:pt x="351275" y="498129"/>
                    <a:pt x="332551" y="456667"/>
                  </a:cubicBezTo>
                  <a:cubicBezTo>
                    <a:pt x="313827" y="415205"/>
                    <a:pt x="321316" y="362434"/>
                    <a:pt x="313827" y="320972"/>
                  </a:cubicBezTo>
                  <a:cubicBezTo>
                    <a:pt x="299783" y="267260"/>
                    <a:pt x="281527" y="219908"/>
                    <a:pt x="252738" y="175736"/>
                  </a:cubicBezTo>
                  <a:lnTo>
                    <a:pt x="229900" y="145390"/>
                  </a:lnTo>
                  <a:lnTo>
                    <a:pt x="226506" y="148167"/>
                  </a:lnTo>
                  <a:cubicBezTo>
                    <a:pt x="180924" y="198879"/>
                    <a:pt x="199445" y="284549"/>
                    <a:pt x="186275" y="347153"/>
                  </a:cubicBezTo>
                  <a:cubicBezTo>
                    <a:pt x="163697" y="437530"/>
                    <a:pt x="118542" y="516610"/>
                    <a:pt x="84675" y="599455"/>
                  </a:cubicBezTo>
                  <a:cubicBezTo>
                    <a:pt x="84675" y="610752"/>
                    <a:pt x="47045" y="603221"/>
                    <a:pt x="47045" y="599455"/>
                  </a:cubicBezTo>
                  <a:cubicBezTo>
                    <a:pt x="88438" y="505313"/>
                    <a:pt x="148645" y="407405"/>
                    <a:pt x="152408" y="301965"/>
                  </a:cubicBezTo>
                  <a:cubicBezTo>
                    <a:pt x="155230" y="256777"/>
                    <a:pt x="155936" y="200997"/>
                    <a:pt x="179925" y="161634"/>
                  </a:cubicBezTo>
                  <a:lnTo>
                    <a:pt x="192579" y="148902"/>
                  </a:lnTo>
                  <a:lnTo>
                    <a:pt x="185657" y="152996"/>
                  </a:lnTo>
                  <a:cubicBezTo>
                    <a:pt x="163069" y="161431"/>
                    <a:pt x="138599" y="166118"/>
                    <a:pt x="114128" y="166118"/>
                  </a:cubicBezTo>
                  <a:lnTo>
                    <a:pt x="102016" y="163312"/>
                  </a:lnTo>
                  <a:lnTo>
                    <a:pt x="76747" y="166252"/>
                  </a:lnTo>
                  <a:cubicBezTo>
                    <a:pt x="73009" y="166252"/>
                    <a:pt x="69270" y="162482"/>
                    <a:pt x="69270" y="158711"/>
                  </a:cubicBezTo>
                  <a:lnTo>
                    <a:pt x="71255" y="155709"/>
                  </a:lnTo>
                  <a:lnTo>
                    <a:pt x="33659" y="134249"/>
                  </a:lnTo>
                  <a:cubicBezTo>
                    <a:pt x="10600" y="115503"/>
                    <a:pt x="-4458" y="89258"/>
                    <a:pt x="1189" y="57390"/>
                  </a:cubicBezTo>
                  <a:cubicBezTo>
                    <a:pt x="4953" y="19898"/>
                    <a:pt x="68952" y="8650"/>
                    <a:pt x="99070" y="8650"/>
                  </a:cubicBezTo>
                  <a:cubicBezTo>
                    <a:pt x="155540" y="14274"/>
                    <a:pt x="184480" y="45205"/>
                    <a:pt x="216068" y="80881"/>
                  </a:cubicBezTo>
                  <a:lnTo>
                    <a:pt x="228999" y="94932"/>
                  </a:lnTo>
                  <a:lnTo>
                    <a:pt x="248943" y="67797"/>
                  </a:lnTo>
                  <a:lnTo>
                    <a:pt x="249881" y="66719"/>
                  </a:lnTo>
                  <a:lnTo>
                    <a:pt x="250534" y="61537"/>
                  </a:lnTo>
                  <a:cubicBezTo>
                    <a:pt x="250534" y="54088"/>
                    <a:pt x="254286" y="50364"/>
                    <a:pt x="258038" y="50364"/>
                  </a:cubicBezTo>
                  <a:lnTo>
                    <a:pt x="261298" y="53600"/>
                  </a:lnTo>
                  <a:lnTo>
                    <a:pt x="280451" y="31591"/>
                  </a:lnTo>
                  <a:cubicBezTo>
                    <a:pt x="306786" y="16544"/>
                    <a:pt x="339705" y="3378"/>
                    <a:pt x="371684" y="557"/>
                  </a:cubicBezTo>
                  <a:close/>
                </a:path>
              </a:pathLst>
            </a:custGeom>
            <a:solidFill>
              <a:srgbClr val="ead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116" name="MH_Other_2"/>
            <p:cNvSpPr/>
            <p:nvPr/>
          </p:nvSpPr>
          <p:spPr>
            <a:xfrm>
              <a:off x="2122200" y="346320"/>
              <a:ext cx="7251120" cy="753480"/>
            </a:xfrm>
            <a:custGeom>
              <a:avLst/>
              <a:gdLst/>
              <a:ahLst/>
              <a:rect l="l" t="t" r="r" b="b"/>
              <a:pathLst>
                <a:path w="3308350" h="847726">
                  <a:moveTo>
                    <a:pt x="2609389" y="817563"/>
                  </a:moveTo>
                  <a:cubicBezTo>
                    <a:pt x="2613127" y="817563"/>
                    <a:pt x="2613127" y="817563"/>
                    <a:pt x="2616866" y="817563"/>
                  </a:cubicBezTo>
                  <a:cubicBezTo>
                    <a:pt x="2646772" y="817563"/>
                    <a:pt x="2676679" y="817563"/>
                    <a:pt x="2710324" y="817563"/>
                  </a:cubicBezTo>
                  <a:cubicBezTo>
                    <a:pt x="2714062" y="817563"/>
                    <a:pt x="2717800" y="821373"/>
                    <a:pt x="2717800" y="825183"/>
                  </a:cubicBezTo>
                  <a:cubicBezTo>
                    <a:pt x="2717800" y="828993"/>
                    <a:pt x="2714062" y="836613"/>
                    <a:pt x="2710324" y="836613"/>
                  </a:cubicBezTo>
                  <a:cubicBezTo>
                    <a:pt x="2676679" y="836613"/>
                    <a:pt x="2646772" y="836613"/>
                    <a:pt x="2616866" y="836613"/>
                  </a:cubicBezTo>
                  <a:cubicBezTo>
                    <a:pt x="2613127" y="836613"/>
                    <a:pt x="2613127" y="836613"/>
                    <a:pt x="2609389" y="836613"/>
                  </a:cubicBezTo>
                  <a:cubicBezTo>
                    <a:pt x="2605651" y="836613"/>
                    <a:pt x="2601912" y="832803"/>
                    <a:pt x="2601912" y="825183"/>
                  </a:cubicBezTo>
                  <a:cubicBezTo>
                    <a:pt x="2601912" y="821373"/>
                    <a:pt x="2605651" y="817563"/>
                    <a:pt x="2609389" y="817563"/>
                  </a:cubicBezTo>
                  <a:close/>
                  <a:moveTo>
                    <a:pt x="466526" y="814842"/>
                  </a:moveTo>
                  <a:cubicBezTo>
                    <a:pt x="470296" y="811213"/>
                    <a:pt x="474067" y="818470"/>
                    <a:pt x="474067" y="822099"/>
                  </a:cubicBezTo>
                  <a:cubicBezTo>
                    <a:pt x="477837" y="825728"/>
                    <a:pt x="470296" y="829356"/>
                    <a:pt x="466526" y="829356"/>
                  </a:cubicBezTo>
                  <a:cubicBezTo>
                    <a:pt x="436363" y="832985"/>
                    <a:pt x="402431" y="832985"/>
                    <a:pt x="368498" y="836613"/>
                  </a:cubicBezTo>
                  <a:cubicBezTo>
                    <a:pt x="360957" y="836613"/>
                    <a:pt x="357187" y="832985"/>
                    <a:pt x="357187" y="825728"/>
                  </a:cubicBezTo>
                  <a:cubicBezTo>
                    <a:pt x="357187" y="822099"/>
                    <a:pt x="360957" y="818470"/>
                    <a:pt x="368498" y="818470"/>
                  </a:cubicBezTo>
                  <a:cubicBezTo>
                    <a:pt x="402431" y="814842"/>
                    <a:pt x="432593" y="814842"/>
                    <a:pt x="466526" y="814842"/>
                  </a:cubicBezTo>
                  <a:close/>
                  <a:moveTo>
                    <a:pt x="155360" y="814408"/>
                  </a:moveTo>
                  <a:cubicBezTo>
                    <a:pt x="156776" y="813039"/>
                    <a:pt x="158664" y="813039"/>
                    <a:pt x="160552" y="814865"/>
                  </a:cubicBezTo>
                  <a:cubicBezTo>
                    <a:pt x="171879" y="814865"/>
                    <a:pt x="183206" y="818516"/>
                    <a:pt x="198309" y="818516"/>
                  </a:cubicBezTo>
                  <a:cubicBezTo>
                    <a:pt x="224738" y="822167"/>
                    <a:pt x="251168" y="825818"/>
                    <a:pt x="281374" y="829470"/>
                  </a:cubicBezTo>
                  <a:cubicBezTo>
                    <a:pt x="285149" y="829470"/>
                    <a:pt x="288925" y="833121"/>
                    <a:pt x="285149" y="836772"/>
                  </a:cubicBezTo>
                  <a:cubicBezTo>
                    <a:pt x="285149" y="844075"/>
                    <a:pt x="281374" y="847726"/>
                    <a:pt x="277598" y="847726"/>
                  </a:cubicBezTo>
                  <a:cubicBezTo>
                    <a:pt x="251168" y="844075"/>
                    <a:pt x="224738" y="840424"/>
                    <a:pt x="194533" y="836772"/>
                  </a:cubicBezTo>
                  <a:cubicBezTo>
                    <a:pt x="179430" y="836772"/>
                    <a:pt x="168103" y="833121"/>
                    <a:pt x="156776" y="829470"/>
                  </a:cubicBezTo>
                  <a:cubicBezTo>
                    <a:pt x="153001" y="829470"/>
                    <a:pt x="149225" y="825818"/>
                    <a:pt x="153001" y="822167"/>
                  </a:cubicBezTo>
                  <a:cubicBezTo>
                    <a:pt x="153001" y="818516"/>
                    <a:pt x="153945" y="815777"/>
                    <a:pt x="155360" y="814408"/>
                  </a:cubicBezTo>
                  <a:close/>
                  <a:moveTo>
                    <a:pt x="2771314" y="814388"/>
                  </a:moveTo>
                  <a:cubicBezTo>
                    <a:pt x="2804959" y="814388"/>
                    <a:pt x="2834865" y="814388"/>
                    <a:pt x="2868510" y="814388"/>
                  </a:cubicBezTo>
                  <a:cubicBezTo>
                    <a:pt x="2872249" y="814388"/>
                    <a:pt x="2879725" y="818198"/>
                    <a:pt x="2879725" y="822008"/>
                  </a:cubicBezTo>
                  <a:cubicBezTo>
                    <a:pt x="2879725" y="825818"/>
                    <a:pt x="2875987" y="833438"/>
                    <a:pt x="2868510" y="833438"/>
                  </a:cubicBezTo>
                  <a:cubicBezTo>
                    <a:pt x="2838604" y="833438"/>
                    <a:pt x="2804959" y="833438"/>
                    <a:pt x="2771314" y="833438"/>
                  </a:cubicBezTo>
                  <a:cubicBezTo>
                    <a:pt x="2767576" y="833438"/>
                    <a:pt x="2763837" y="829628"/>
                    <a:pt x="2763837" y="825818"/>
                  </a:cubicBezTo>
                  <a:cubicBezTo>
                    <a:pt x="2763837" y="822008"/>
                    <a:pt x="2767576" y="814388"/>
                    <a:pt x="2771314" y="814388"/>
                  </a:cubicBezTo>
                  <a:close/>
                  <a:moveTo>
                    <a:pt x="2451202" y="814388"/>
                  </a:moveTo>
                  <a:cubicBezTo>
                    <a:pt x="2484847" y="818092"/>
                    <a:pt x="2514754" y="818092"/>
                    <a:pt x="2548399" y="818092"/>
                  </a:cubicBezTo>
                  <a:cubicBezTo>
                    <a:pt x="2552137" y="818092"/>
                    <a:pt x="2555875" y="821797"/>
                    <a:pt x="2555875" y="825501"/>
                  </a:cubicBezTo>
                  <a:cubicBezTo>
                    <a:pt x="2555875" y="832909"/>
                    <a:pt x="2552137" y="836613"/>
                    <a:pt x="2548399" y="836613"/>
                  </a:cubicBezTo>
                  <a:cubicBezTo>
                    <a:pt x="2514754" y="836613"/>
                    <a:pt x="2481109" y="836613"/>
                    <a:pt x="2451202" y="832909"/>
                  </a:cubicBezTo>
                  <a:cubicBezTo>
                    <a:pt x="2443726" y="832909"/>
                    <a:pt x="2439987" y="829205"/>
                    <a:pt x="2439987" y="825501"/>
                  </a:cubicBezTo>
                  <a:cubicBezTo>
                    <a:pt x="2439987" y="821797"/>
                    <a:pt x="2443726" y="814388"/>
                    <a:pt x="2451202" y="814388"/>
                  </a:cubicBezTo>
                  <a:close/>
                  <a:moveTo>
                    <a:pt x="2387498" y="811213"/>
                  </a:moveTo>
                  <a:cubicBezTo>
                    <a:pt x="2394975" y="811213"/>
                    <a:pt x="2398713" y="814842"/>
                    <a:pt x="2398713" y="818470"/>
                  </a:cubicBezTo>
                  <a:cubicBezTo>
                    <a:pt x="2398713" y="825728"/>
                    <a:pt x="2394975" y="829356"/>
                    <a:pt x="2391237" y="829356"/>
                  </a:cubicBezTo>
                  <a:cubicBezTo>
                    <a:pt x="2357592" y="832985"/>
                    <a:pt x="2323947" y="832985"/>
                    <a:pt x="2290302" y="836613"/>
                  </a:cubicBezTo>
                  <a:cubicBezTo>
                    <a:pt x="2286564" y="836613"/>
                    <a:pt x="2282825" y="832985"/>
                    <a:pt x="2282825" y="829356"/>
                  </a:cubicBezTo>
                  <a:cubicBezTo>
                    <a:pt x="2282825" y="822099"/>
                    <a:pt x="2286564" y="818470"/>
                    <a:pt x="2290302" y="818470"/>
                  </a:cubicBezTo>
                  <a:cubicBezTo>
                    <a:pt x="2323947" y="814842"/>
                    <a:pt x="2353853" y="814842"/>
                    <a:pt x="2387498" y="811213"/>
                  </a:cubicBezTo>
                  <a:close/>
                  <a:moveTo>
                    <a:pt x="2132115" y="811213"/>
                  </a:moveTo>
                  <a:cubicBezTo>
                    <a:pt x="2162022" y="811213"/>
                    <a:pt x="2195667" y="814917"/>
                    <a:pt x="2229312" y="814917"/>
                  </a:cubicBezTo>
                  <a:cubicBezTo>
                    <a:pt x="2233050" y="814917"/>
                    <a:pt x="2236788" y="818622"/>
                    <a:pt x="2236788" y="822326"/>
                  </a:cubicBezTo>
                  <a:cubicBezTo>
                    <a:pt x="2236788" y="829734"/>
                    <a:pt x="2233050" y="833438"/>
                    <a:pt x="2229312" y="833438"/>
                  </a:cubicBezTo>
                  <a:cubicBezTo>
                    <a:pt x="2195667" y="829734"/>
                    <a:pt x="2162022" y="829734"/>
                    <a:pt x="2128377" y="829734"/>
                  </a:cubicBezTo>
                  <a:cubicBezTo>
                    <a:pt x="2124639" y="829734"/>
                    <a:pt x="2120900" y="826030"/>
                    <a:pt x="2120900" y="822326"/>
                  </a:cubicBezTo>
                  <a:cubicBezTo>
                    <a:pt x="2120900" y="814917"/>
                    <a:pt x="2124639" y="811213"/>
                    <a:pt x="2132115" y="811213"/>
                  </a:cubicBezTo>
                  <a:close/>
                  <a:moveTo>
                    <a:pt x="1970286" y="811213"/>
                  </a:moveTo>
                  <a:cubicBezTo>
                    <a:pt x="1989138" y="811213"/>
                    <a:pt x="2011760" y="811213"/>
                    <a:pt x="2030611" y="811213"/>
                  </a:cubicBezTo>
                  <a:cubicBezTo>
                    <a:pt x="2041922" y="811213"/>
                    <a:pt x="2057003" y="811213"/>
                    <a:pt x="2068314" y="811213"/>
                  </a:cubicBezTo>
                  <a:cubicBezTo>
                    <a:pt x="2072085" y="811213"/>
                    <a:pt x="2079625" y="814706"/>
                    <a:pt x="2079625" y="821691"/>
                  </a:cubicBezTo>
                  <a:cubicBezTo>
                    <a:pt x="2079625" y="825184"/>
                    <a:pt x="2072085" y="828676"/>
                    <a:pt x="2068314" y="828676"/>
                  </a:cubicBezTo>
                  <a:cubicBezTo>
                    <a:pt x="2057003" y="828676"/>
                    <a:pt x="2041922" y="828676"/>
                    <a:pt x="2030611" y="828676"/>
                  </a:cubicBezTo>
                  <a:cubicBezTo>
                    <a:pt x="2011760" y="828676"/>
                    <a:pt x="1989138" y="828676"/>
                    <a:pt x="1970286" y="828676"/>
                  </a:cubicBezTo>
                  <a:cubicBezTo>
                    <a:pt x="1966516" y="828676"/>
                    <a:pt x="1958975" y="825184"/>
                    <a:pt x="1958975" y="821691"/>
                  </a:cubicBezTo>
                  <a:cubicBezTo>
                    <a:pt x="1958975" y="814706"/>
                    <a:pt x="1966516" y="811213"/>
                    <a:pt x="1970286" y="811213"/>
                  </a:cubicBezTo>
                  <a:close/>
                  <a:moveTo>
                    <a:pt x="1807804" y="811213"/>
                  </a:moveTo>
                  <a:cubicBezTo>
                    <a:pt x="1841910" y="811213"/>
                    <a:pt x="1876016" y="811213"/>
                    <a:pt x="1910121" y="811213"/>
                  </a:cubicBezTo>
                  <a:cubicBezTo>
                    <a:pt x="1913911" y="811213"/>
                    <a:pt x="1917700" y="814706"/>
                    <a:pt x="1917700" y="821691"/>
                  </a:cubicBezTo>
                  <a:cubicBezTo>
                    <a:pt x="1917700" y="825184"/>
                    <a:pt x="1913911" y="828676"/>
                    <a:pt x="1906332" y="828676"/>
                  </a:cubicBezTo>
                  <a:cubicBezTo>
                    <a:pt x="1876016" y="828676"/>
                    <a:pt x="1841910" y="828676"/>
                    <a:pt x="1807804" y="828676"/>
                  </a:cubicBezTo>
                  <a:cubicBezTo>
                    <a:pt x="1804015" y="828676"/>
                    <a:pt x="1800225" y="825184"/>
                    <a:pt x="1800225" y="818198"/>
                  </a:cubicBezTo>
                  <a:cubicBezTo>
                    <a:pt x="1800225" y="814706"/>
                    <a:pt x="1804015" y="811213"/>
                    <a:pt x="1807804" y="811213"/>
                  </a:cubicBezTo>
                  <a:close/>
                  <a:moveTo>
                    <a:pt x="1488613" y="806450"/>
                  </a:moveTo>
                  <a:cubicBezTo>
                    <a:pt x="1522259" y="806450"/>
                    <a:pt x="1555904" y="806450"/>
                    <a:pt x="1585810" y="806450"/>
                  </a:cubicBezTo>
                  <a:cubicBezTo>
                    <a:pt x="1593287" y="806450"/>
                    <a:pt x="1597025" y="810260"/>
                    <a:pt x="1597025" y="817880"/>
                  </a:cubicBezTo>
                  <a:cubicBezTo>
                    <a:pt x="1597025" y="821690"/>
                    <a:pt x="1593287" y="825500"/>
                    <a:pt x="1585810" y="825500"/>
                  </a:cubicBezTo>
                  <a:cubicBezTo>
                    <a:pt x="1552165" y="825500"/>
                    <a:pt x="1522259" y="825500"/>
                    <a:pt x="1488613" y="825500"/>
                  </a:cubicBezTo>
                  <a:cubicBezTo>
                    <a:pt x="1484875" y="825500"/>
                    <a:pt x="1481137" y="821690"/>
                    <a:pt x="1481137" y="814070"/>
                  </a:cubicBezTo>
                  <a:cubicBezTo>
                    <a:pt x="1481137" y="810260"/>
                    <a:pt x="1484875" y="806450"/>
                    <a:pt x="1488613" y="806450"/>
                  </a:cubicBezTo>
                  <a:close/>
                  <a:moveTo>
                    <a:pt x="627523" y="806450"/>
                  </a:moveTo>
                  <a:cubicBezTo>
                    <a:pt x="631262" y="806450"/>
                    <a:pt x="635000" y="810154"/>
                    <a:pt x="635000" y="813859"/>
                  </a:cubicBezTo>
                  <a:cubicBezTo>
                    <a:pt x="635000" y="821267"/>
                    <a:pt x="631262" y="824971"/>
                    <a:pt x="627523" y="824971"/>
                  </a:cubicBezTo>
                  <a:cubicBezTo>
                    <a:pt x="593878" y="824971"/>
                    <a:pt x="560233" y="824971"/>
                    <a:pt x="526589" y="828675"/>
                  </a:cubicBezTo>
                  <a:cubicBezTo>
                    <a:pt x="522850" y="828675"/>
                    <a:pt x="519112" y="824971"/>
                    <a:pt x="519112" y="817563"/>
                  </a:cubicBezTo>
                  <a:cubicBezTo>
                    <a:pt x="519112" y="813859"/>
                    <a:pt x="522850" y="810154"/>
                    <a:pt x="526589" y="810154"/>
                  </a:cubicBezTo>
                  <a:cubicBezTo>
                    <a:pt x="560233" y="806450"/>
                    <a:pt x="593878" y="806450"/>
                    <a:pt x="627523" y="806450"/>
                  </a:cubicBezTo>
                  <a:close/>
                  <a:moveTo>
                    <a:pt x="3030896" y="803275"/>
                  </a:moveTo>
                  <a:cubicBezTo>
                    <a:pt x="3034686" y="803275"/>
                    <a:pt x="3038475" y="806904"/>
                    <a:pt x="3038475" y="814161"/>
                  </a:cubicBezTo>
                  <a:cubicBezTo>
                    <a:pt x="3038475" y="817790"/>
                    <a:pt x="3034686" y="821418"/>
                    <a:pt x="3030896" y="821418"/>
                  </a:cubicBezTo>
                  <a:cubicBezTo>
                    <a:pt x="2996791" y="825047"/>
                    <a:pt x="2962685" y="825047"/>
                    <a:pt x="2932369" y="828675"/>
                  </a:cubicBezTo>
                  <a:cubicBezTo>
                    <a:pt x="2924790" y="828675"/>
                    <a:pt x="2921000" y="825047"/>
                    <a:pt x="2921000" y="821418"/>
                  </a:cubicBezTo>
                  <a:cubicBezTo>
                    <a:pt x="2921000" y="814161"/>
                    <a:pt x="2924790" y="810532"/>
                    <a:pt x="2928579" y="810532"/>
                  </a:cubicBezTo>
                  <a:cubicBezTo>
                    <a:pt x="2962685" y="810532"/>
                    <a:pt x="2996791" y="806904"/>
                    <a:pt x="3030896" y="803275"/>
                  </a:cubicBezTo>
                  <a:close/>
                  <a:moveTo>
                    <a:pt x="1168598" y="803275"/>
                  </a:moveTo>
                  <a:cubicBezTo>
                    <a:pt x="1202531" y="803275"/>
                    <a:pt x="1232693" y="803275"/>
                    <a:pt x="1266626" y="803275"/>
                  </a:cubicBezTo>
                  <a:cubicBezTo>
                    <a:pt x="1270396" y="803275"/>
                    <a:pt x="1277937" y="807085"/>
                    <a:pt x="1274167" y="814705"/>
                  </a:cubicBezTo>
                  <a:cubicBezTo>
                    <a:pt x="1274167" y="818515"/>
                    <a:pt x="1270396" y="822325"/>
                    <a:pt x="1266626" y="822325"/>
                  </a:cubicBezTo>
                  <a:cubicBezTo>
                    <a:pt x="1232693" y="822325"/>
                    <a:pt x="1202531" y="822325"/>
                    <a:pt x="1168598" y="822325"/>
                  </a:cubicBezTo>
                  <a:cubicBezTo>
                    <a:pt x="1161057" y="822325"/>
                    <a:pt x="1157287" y="818515"/>
                    <a:pt x="1157287" y="810895"/>
                  </a:cubicBezTo>
                  <a:cubicBezTo>
                    <a:pt x="1157287" y="807085"/>
                    <a:pt x="1161057" y="803275"/>
                    <a:pt x="1168598" y="803275"/>
                  </a:cubicBezTo>
                  <a:close/>
                  <a:moveTo>
                    <a:pt x="849415" y="803275"/>
                  </a:moveTo>
                  <a:cubicBezTo>
                    <a:pt x="879321" y="803275"/>
                    <a:pt x="912966" y="803275"/>
                    <a:pt x="946611" y="803275"/>
                  </a:cubicBezTo>
                  <a:cubicBezTo>
                    <a:pt x="950350" y="803275"/>
                    <a:pt x="954088" y="807085"/>
                    <a:pt x="954088" y="810895"/>
                  </a:cubicBezTo>
                  <a:cubicBezTo>
                    <a:pt x="954088" y="814705"/>
                    <a:pt x="950350" y="822325"/>
                    <a:pt x="946611" y="822325"/>
                  </a:cubicBezTo>
                  <a:cubicBezTo>
                    <a:pt x="912966" y="822325"/>
                    <a:pt x="879321" y="822325"/>
                    <a:pt x="849415" y="822325"/>
                  </a:cubicBezTo>
                  <a:cubicBezTo>
                    <a:pt x="841938" y="822325"/>
                    <a:pt x="838200" y="818515"/>
                    <a:pt x="838200" y="810895"/>
                  </a:cubicBezTo>
                  <a:cubicBezTo>
                    <a:pt x="838200" y="807085"/>
                    <a:pt x="841938" y="803275"/>
                    <a:pt x="849415" y="803275"/>
                  </a:cubicBezTo>
                  <a:close/>
                  <a:moveTo>
                    <a:pt x="1649669" y="798513"/>
                  </a:moveTo>
                  <a:cubicBezTo>
                    <a:pt x="1683774" y="806133"/>
                    <a:pt x="1717880" y="809943"/>
                    <a:pt x="1748196" y="817563"/>
                  </a:cubicBezTo>
                  <a:cubicBezTo>
                    <a:pt x="1751986" y="817563"/>
                    <a:pt x="1755775" y="825183"/>
                    <a:pt x="1755775" y="828993"/>
                  </a:cubicBezTo>
                  <a:cubicBezTo>
                    <a:pt x="1755775" y="832803"/>
                    <a:pt x="1751986" y="836613"/>
                    <a:pt x="1744407" y="836613"/>
                  </a:cubicBezTo>
                  <a:cubicBezTo>
                    <a:pt x="1714091" y="828993"/>
                    <a:pt x="1679985" y="825183"/>
                    <a:pt x="1645879" y="817563"/>
                  </a:cubicBezTo>
                  <a:cubicBezTo>
                    <a:pt x="1642090" y="817563"/>
                    <a:pt x="1638300" y="813753"/>
                    <a:pt x="1638300" y="806133"/>
                  </a:cubicBezTo>
                  <a:cubicBezTo>
                    <a:pt x="1642090" y="802323"/>
                    <a:pt x="1645879" y="798513"/>
                    <a:pt x="1649669" y="798513"/>
                  </a:cubicBezTo>
                  <a:close/>
                  <a:moveTo>
                    <a:pt x="1413286" y="798513"/>
                  </a:moveTo>
                  <a:cubicBezTo>
                    <a:pt x="1417049" y="798513"/>
                    <a:pt x="1420812" y="802284"/>
                    <a:pt x="1420812" y="809824"/>
                  </a:cubicBezTo>
                  <a:cubicBezTo>
                    <a:pt x="1420812" y="813595"/>
                    <a:pt x="1417049" y="817365"/>
                    <a:pt x="1413286" y="817365"/>
                  </a:cubicBezTo>
                  <a:cubicBezTo>
                    <a:pt x="1386945" y="821135"/>
                    <a:pt x="1356842" y="824906"/>
                    <a:pt x="1330501" y="828676"/>
                  </a:cubicBezTo>
                  <a:cubicBezTo>
                    <a:pt x="1322975" y="828676"/>
                    <a:pt x="1319212" y="824906"/>
                    <a:pt x="1319212" y="821135"/>
                  </a:cubicBezTo>
                  <a:cubicBezTo>
                    <a:pt x="1319212" y="813595"/>
                    <a:pt x="1322975" y="809824"/>
                    <a:pt x="1326738" y="809824"/>
                  </a:cubicBezTo>
                  <a:cubicBezTo>
                    <a:pt x="1353079" y="806054"/>
                    <a:pt x="1383182" y="802284"/>
                    <a:pt x="1413286" y="798513"/>
                  </a:cubicBezTo>
                  <a:close/>
                  <a:moveTo>
                    <a:pt x="785614" y="798513"/>
                  </a:moveTo>
                  <a:cubicBezTo>
                    <a:pt x="789384" y="798513"/>
                    <a:pt x="793155" y="802284"/>
                    <a:pt x="796925" y="806054"/>
                  </a:cubicBezTo>
                  <a:cubicBezTo>
                    <a:pt x="796925" y="813595"/>
                    <a:pt x="793155" y="817365"/>
                    <a:pt x="785614" y="817365"/>
                  </a:cubicBezTo>
                  <a:cubicBezTo>
                    <a:pt x="755451" y="821135"/>
                    <a:pt x="721519" y="824906"/>
                    <a:pt x="687586" y="824906"/>
                  </a:cubicBezTo>
                  <a:cubicBezTo>
                    <a:pt x="687586" y="824906"/>
                    <a:pt x="687586" y="828676"/>
                    <a:pt x="687586" y="828676"/>
                  </a:cubicBezTo>
                  <a:cubicBezTo>
                    <a:pt x="683815" y="828676"/>
                    <a:pt x="680045" y="824906"/>
                    <a:pt x="680045" y="817365"/>
                  </a:cubicBezTo>
                  <a:cubicBezTo>
                    <a:pt x="676275" y="813595"/>
                    <a:pt x="680045" y="809824"/>
                    <a:pt x="687586" y="809824"/>
                  </a:cubicBezTo>
                  <a:cubicBezTo>
                    <a:pt x="717748" y="806054"/>
                    <a:pt x="751681" y="802284"/>
                    <a:pt x="785614" y="798513"/>
                  </a:cubicBezTo>
                  <a:close/>
                  <a:moveTo>
                    <a:pt x="1011340" y="795338"/>
                  </a:moveTo>
                  <a:cubicBezTo>
                    <a:pt x="1041246" y="799042"/>
                    <a:pt x="1074891" y="802747"/>
                    <a:pt x="1108536" y="806451"/>
                  </a:cubicBezTo>
                  <a:cubicBezTo>
                    <a:pt x="1112275" y="810155"/>
                    <a:pt x="1116013" y="813859"/>
                    <a:pt x="1116013" y="817564"/>
                  </a:cubicBezTo>
                  <a:cubicBezTo>
                    <a:pt x="1116013" y="824972"/>
                    <a:pt x="1108536" y="828676"/>
                    <a:pt x="1104798" y="824972"/>
                  </a:cubicBezTo>
                  <a:cubicBezTo>
                    <a:pt x="1071153" y="821268"/>
                    <a:pt x="1041246" y="817564"/>
                    <a:pt x="1007602" y="813859"/>
                  </a:cubicBezTo>
                  <a:cubicBezTo>
                    <a:pt x="1003863" y="813859"/>
                    <a:pt x="1000125" y="806451"/>
                    <a:pt x="1000125" y="802747"/>
                  </a:cubicBezTo>
                  <a:cubicBezTo>
                    <a:pt x="1000125" y="799042"/>
                    <a:pt x="1003863" y="795338"/>
                    <a:pt x="1011340" y="795338"/>
                  </a:cubicBezTo>
                  <a:close/>
                  <a:moveTo>
                    <a:pt x="47983" y="734631"/>
                  </a:moveTo>
                  <a:cubicBezTo>
                    <a:pt x="50346" y="735563"/>
                    <a:pt x="52236" y="737425"/>
                    <a:pt x="52236" y="739287"/>
                  </a:cubicBezTo>
                  <a:cubicBezTo>
                    <a:pt x="67355" y="780257"/>
                    <a:pt x="78694" y="798880"/>
                    <a:pt x="105152" y="810054"/>
                  </a:cubicBezTo>
                  <a:cubicBezTo>
                    <a:pt x="108932" y="813778"/>
                    <a:pt x="112712" y="817503"/>
                    <a:pt x="108932" y="821227"/>
                  </a:cubicBezTo>
                  <a:cubicBezTo>
                    <a:pt x="108932" y="824952"/>
                    <a:pt x="105152" y="828676"/>
                    <a:pt x="101373" y="828676"/>
                  </a:cubicBezTo>
                  <a:cubicBezTo>
                    <a:pt x="101373" y="828676"/>
                    <a:pt x="97593" y="828676"/>
                    <a:pt x="97593" y="828676"/>
                  </a:cubicBezTo>
                  <a:cubicBezTo>
                    <a:pt x="63575" y="813778"/>
                    <a:pt x="48456" y="787706"/>
                    <a:pt x="33337" y="746736"/>
                  </a:cubicBezTo>
                  <a:cubicBezTo>
                    <a:pt x="33337" y="743012"/>
                    <a:pt x="37117" y="735563"/>
                    <a:pt x="40896" y="735563"/>
                  </a:cubicBezTo>
                  <a:cubicBezTo>
                    <a:pt x="42786" y="733700"/>
                    <a:pt x="45621" y="733700"/>
                    <a:pt x="47983" y="734631"/>
                  </a:cubicBezTo>
                  <a:close/>
                  <a:moveTo>
                    <a:pt x="13891" y="576263"/>
                  </a:moveTo>
                  <a:cubicBezTo>
                    <a:pt x="21431" y="576263"/>
                    <a:pt x="25202" y="580053"/>
                    <a:pt x="25202" y="583842"/>
                  </a:cubicBezTo>
                  <a:cubicBezTo>
                    <a:pt x="25202" y="617948"/>
                    <a:pt x="28972" y="648264"/>
                    <a:pt x="36513" y="682370"/>
                  </a:cubicBezTo>
                  <a:cubicBezTo>
                    <a:pt x="36513" y="686159"/>
                    <a:pt x="32742" y="693738"/>
                    <a:pt x="28972" y="693738"/>
                  </a:cubicBezTo>
                  <a:cubicBezTo>
                    <a:pt x="25202" y="693738"/>
                    <a:pt x="17661" y="689949"/>
                    <a:pt x="17661" y="686159"/>
                  </a:cubicBezTo>
                  <a:cubicBezTo>
                    <a:pt x="10120" y="652053"/>
                    <a:pt x="10120" y="617948"/>
                    <a:pt x="6350" y="583842"/>
                  </a:cubicBezTo>
                  <a:cubicBezTo>
                    <a:pt x="6350" y="580053"/>
                    <a:pt x="10120" y="576263"/>
                    <a:pt x="13891" y="576263"/>
                  </a:cubicBezTo>
                  <a:close/>
                  <a:moveTo>
                    <a:pt x="3282752" y="542925"/>
                  </a:moveTo>
                  <a:cubicBezTo>
                    <a:pt x="3290293" y="542925"/>
                    <a:pt x="3294063" y="546715"/>
                    <a:pt x="3294063" y="550504"/>
                  </a:cubicBezTo>
                  <a:cubicBezTo>
                    <a:pt x="3290293" y="584610"/>
                    <a:pt x="3286522" y="618715"/>
                    <a:pt x="3282752" y="649032"/>
                  </a:cubicBezTo>
                  <a:cubicBezTo>
                    <a:pt x="3282752" y="656611"/>
                    <a:pt x="3278982" y="660400"/>
                    <a:pt x="3275211" y="660400"/>
                  </a:cubicBezTo>
                  <a:cubicBezTo>
                    <a:pt x="3267671" y="660400"/>
                    <a:pt x="3263900" y="652821"/>
                    <a:pt x="3263900" y="649032"/>
                  </a:cubicBezTo>
                  <a:cubicBezTo>
                    <a:pt x="3267671" y="618715"/>
                    <a:pt x="3271441" y="584610"/>
                    <a:pt x="3275211" y="550504"/>
                  </a:cubicBezTo>
                  <a:cubicBezTo>
                    <a:pt x="3275211" y="546715"/>
                    <a:pt x="3278982" y="542925"/>
                    <a:pt x="3282752" y="542925"/>
                  </a:cubicBezTo>
                  <a:close/>
                  <a:moveTo>
                    <a:pt x="18256" y="414338"/>
                  </a:moveTo>
                  <a:cubicBezTo>
                    <a:pt x="26194" y="414338"/>
                    <a:pt x="30163" y="418128"/>
                    <a:pt x="30163" y="425707"/>
                  </a:cubicBezTo>
                  <a:cubicBezTo>
                    <a:pt x="26194" y="459812"/>
                    <a:pt x="26194" y="490128"/>
                    <a:pt x="26194" y="524234"/>
                  </a:cubicBezTo>
                  <a:cubicBezTo>
                    <a:pt x="26194" y="528024"/>
                    <a:pt x="22225" y="531813"/>
                    <a:pt x="14288" y="531813"/>
                  </a:cubicBezTo>
                  <a:cubicBezTo>
                    <a:pt x="10319" y="531813"/>
                    <a:pt x="6350" y="528024"/>
                    <a:pt x="6350" y="524234"/>
                  </a:cubicBezTo>
                  <a:cubicBezTo>
                    <a:pt x="6350" y="490128"/>
                    <a:pt x="6350" y="456023"/>
                    <a:pt x="10319" y="425707"/>
                  </a:cubicBezTo>
                  <a:cubicBezTo>
                    <a:pt x="10319" y="418128"/>
                    <a:pt x="14288" y="414338"/>
                    <a:pt x="18256" y="414338"/>
                  </a:cubicBezTo>
                  <a:close/>
                  <a:moveTo>
                    <a:pt x="3297464" y="381000"/>
                  </a:moveTo>
                  <a:cubicBezTo>
                    <a:pt x="3301320" y="381000"/>
                    <a:pt x="3305175" y="384790"/>
                    <a:pt x="3305175" y="392369"/>
                  </a:cubicBezTo>
                  <a:cubicBezTo>
                    <a:pt x="3305175" y="426474"/>
                    <a:pt x="3301320" y="456790"/>
                    <a:pt x="3297464" y="490896"/>
                  </a:cubicBezTo>
                  <a:cubicBezTo>
                    <a:pt x="3297464" y="494686"/>
                    <a:pt x="3293609" y="498475"/>
                    <a:pt x="3289754" y="498475"/>
                  </a:cubicBezTo>
                  <a:cubicBezTo>
                    <a:pt x="3289754" y="498475"/>
                    <a:pt x="3285898" y="498475"/>
                    <a:pt x="3285898" y="498475"/>
                  </a:cubicBezTo>
                  <a:cubicBezTo>
                    <a:pt x="3282043" y="498475"/>
                    <a:pt x="3278187" y="494686"/>
                    <a:pt x="3278187" y="490896"/>
                  </a:cubicBezTo>
                  <a:cubicBezTo>
                    <a:pt x="3282043" y="456790"/>
                    <a:pt x="3285898" y="422685"/>
                    <a:pt x="3285898" y="388579"/>
                  </a:cubicBezTo>
                  <a:cubicBezTo>
                    <a:pt x="3285898" y="384790"/>
                    <a:pt x="3289754" y="381000"/>
                    <a:pt x="3297464" y="381000"/>
                  </a:cubicBezTo>
                  <a:close/>
                  <a:moveTo>
                    <a:pt x="14741" y="257175"/>
                  </a:moveTo>
                  <a:cubicBezTo>
                    <a:pt x="18597" y="257175"/>
                    <a:pt x="22452" y="260913"/>
                    <a:pt x="26307" y="264652"/>
                  </a:cubicBezTo>
                  <a:cubicBezTo>
                    <a:pt x="26307" y="290820"/>
                    <a:pt x="30163" y="313250"/>
                    <a:pt x="30163" y="328203"/>
                  </a:cubicBezTo>
                  <a:cubicBezTo>
                    <a:pt x="30163" y="328203"/>
                    <a:pt x="30163" y="331942"/>
                    <a:pt x="30163" y="331942"/>
                  </a:cubicBezTo>
                  <a:cubicBezTo>
                    <a:pt x="30163" y="343157"/>
                    <a:pt x="30163" y="354372"/>
                    <a:pt x="30163" y="361848"/>
                  </a:cubicBezTo>
                  <a:cubicBezTo>
                    <a:pt x="30163" y="369325"/>
                    <a:pt x="26307" y="373063"/>
                    <a:pt x="22452" y="373063"/>
                  </a:cubicBezTo>
                  <a:cubicBezTo>
                    <a:pt x="14741" y="373063"/>
                    <a:pt x="10886" y="369325"/>
                    <a:pt x="10886" y="361848"/>
                  </a:cubicBezTo>
                  <a:cubicBezTo>
                    <a:pt x="10886" y="350633"/>
                    <a:pt x="10886" y="343157"/>
                    <a:pt x="10886" y="331942"/>
                  </a:cubicBezTo>
                  <a:cubicBezTo>
                    <a:pt x="10886" y="331942"/>
                    <a:pt x="10886" y="328203"/>
                    <a:pt x="10886" y="328203"/>
                  </a:cubicBezTo>
                  <a:cubicBezTo>
                    <a:pt x="10886" y="313250"/>
                    <a:pt x="10886" y="290820"/>
                    <a:pt x="7030" y="268390"/>
                  </a:cubicBezTo>
                  <a:cubicBezTo>
                    <a:pt x="3175" y="260913"/>
                    <a:pt x="7030" y="257175"/>
                    <a:pt x="14741" y="257175"/>
                  </a:cubicBezTo>
                  <a:close/>
                  <a:moveTo>
                    <a:pt x="3297238" y="222845"/>
                  </a:moveTo>
                  <a:cubicBezTo>
                    <a:pt x="3300942" y="219075"/>
                    <a:pt x="3304646" y="226616"/>
                    <a:pt x="3304646" y="230386"/>
                  </a:cubicBezTo>
                  <a:cubicBezTo>
                    <a:pt x="3308350" y="253008"/>
                    <a:pt x="3308350" y="275630"/>
                    <a:pt x="3308350" y="298252"/>
                  </a:cubicBezTo>
                  <a:cubicBezTo>
                    <a:pt x="3308350" y="309563"/>
                    <a:pt x="3308350" y="317103"/>
                    <a:pt x="3308350" y="328414"/>
                  </a:cubicBezTo>
                  <a:cubicBezTo>
                    <a:pt x="3308350" y="335955"/>
                    <a:pt x="3304646" y="339725"/>
                    <a:pt x="3297238" y="339725"/>
                  </a:cubicBezTo>
                  <a:cubicBezTo>
                    <a:pt x="3293534" y="339725"/>
                    <a:pt x="3289829" y="335955"/>
                    <a:pt x="3289829" y="328414"/>
                  </a:cubicBezTo>
                  <a:cubicBezTo>
                    <a:pt x="3289829" y="317103"/>
                    <a:pt x="3289829" y="309563"/>
                    <a:pt x="3289829" y="298252"/>
                  </a:cubicBezTo>
                  <a:cubicBezTo>
                    <a:pt x="3289829" y="275630"/>
                    <a:pt x="3289829" y="253008"/>
                    <a:pt x="3286125" y="230386"/>
                  </a:cubicBezTo>
                  <a:cubicBezTo>
                    <a:pt x="3286125" y="226616"/>
                    <a:pt x="3289829" y="222845"/>
                    <a:pt x="3297238" y="222845"/>
                  </a:cubicBezTo>
                  <a:close/>
                  <a:moveTo>
                    <a:pt x="18852" y="98054"/>
                  </a:moveTo>
                  <a:cubicBezTo>
                    <a:pt x="21680" y="97119"/>
                    <a:pt x="24507" y="97119"/>
                    <a:pt x="26392" y="98988"/>
                  </a:cubicBezTo>
                  <a:cubicBezTo>
                    <a:pt x="30163" y="102727"/>
                    <a:pt x="30163" y="106465"/>
                    <a:pt x="30163" y="113942"/>
                  </a:cubicBezTo>
                  <a:cubicBezTo>
                    <a:pt x="18852" y="125157"/>
                    <a:pt x="15081" y="147587"/>
                    <a:pt x="18852" y="173755"/>
                  </a:cubicBezTo>
                  <a:cubicBezTo>
                    <a:pt x="18852" y="184970"/>
                    <a:pt x="18852" y="192447"/>
                    <a:pt x="18852" y="203661"/>
                  </a:cubicBezTo>
                  <a:cubicBezTo>
                    <a:pt x="18852" y="207400"/>
                    <a:pt x="15081" y="211138"/>
                    <a:pt x="11311" y="211138"/>
                  </a:cubicBezTo>
                  <a:cubicBezTo>
                    <a:pt x="7541" y="211138"/>
                    <a:pt x="7541" y="211138"/>
                    <a:pt x="7541" y="211138"/>
                  </a:cubicBezTo>
                  <a:cubicBezTo>
                    <a:pt x="3770" y="211138"/>
                    <a:pt x="0" y="207400"/>
                    <a:pt x="0" y="203661"/>
                  </a:cubicBezTo>
                  <a:cubicBezTo>
                    <a:pt x="0" y="192447"/>
                    <a:pt x="0" y="184970"/>
                    <a:pt x="0" y="173755"/>
                  </a:cubicBezTo>
                  <a:cubicBezTo>
                    <a:pt x="0" y="147587"/>
                    <a:pt x="0" y="121418"/>
                    <a:pt x="11311" y="102727"/>
                  </a:cubicBezTo>
                  <a:cubicBezTo>
                    <a:pt x="13196" y="100858"/>
                    <a:pt x="16024" y="98988"/>
                    <a:pt x="18852" y="98054"/>
                  </a:cubicBezTo>
                  <a:close/>
                  <a:moveTo>
                    <a:pt x="3259666" y="65088"/>
                  </a:moveTo>
                  <a:cubicBezTo>
                    <a:pt x="3267075" y="65088"/>
                    <a:pt x="3270779" y="65088"/>
                    <a:pt x="3274483" y="72602"/>
                  </a:cubicBezTo>
                  <a:cubicBezTo>
                    <a:pt x="3285596" y="102659"/>
                    <a:pt x="3293004" y="132716"/>
                    <a:pt x="3300412" y="166530"/>
                  </a:cubicBezTo>
                  <a:cubicBezTo>
                    <a:pt x="3300412" y="174044"/>
                    <a:pt x="3296708" y="177801"/>
                    <a:pt x="3289300" y="177801"/>
                  </a:cubicBezTo>
                  <a:cubicBezTo>
                    <a:pt x="3285596" y="177801"/>
                    <a:pt x="3281891" y="174044"/>
                    <a:pt x="3281891" y="170287"/>
                  </a:cubicBezTo>
                  <a:cubicBezTo>
                    <a:pt x="3274483" y="136473"/>
                    <a:pt x="3267075" y="106416"/>
                    <a:pt x="3255962" y="76359"/>
                  </a:cubicBezTo>
                  <a:cubicBezTo>
                    <a:pt x="3255962" y="72602"/>
                    <a:pt x="3255962" y="68845"/>
                    <a:pt x="3259666" y="65088"/>
                  </a:cubicBezTo>
                  <a:close/>
                  <a:moveTo>
                    <a:pt x="168173" y="57150"/>
                  </a:moveTo>
                  <a:cubicBezTo>
                    <a:pt x="175650" y="57150"/>
                    <a:pt x="179388" y="60921"/>
                    <a:pt x="179388" y="64691"/>
                  </a:cubicBezTo>
                  <a:cubicBezTo>
                    <a:pt x="179388" y="72232"/>
                    <a:pt x="175650" y="76002"/>
                    <a:pt x="171911" y="76002"/>
                  </a:cubicBezTo>
                  <a:cubicBezTo>
                    <a:pt x="134528" y="76002"/>
                    <a:pt x="100883" y="79772"/>
                    <a:pt x="74715" y="87313"/>
                  </a:cubicBezTo>
                  <a:cubicBezTo>
                    <a:pt x="74715" y="87313"/>
                    <a:pt x="74715" y="87313"/>
                    <a:pt x="70977" y="87313"/>
                  </a:cubicBezTo>
                  <a:cubicBezTo>
                    <a:pt x="67238" y="87313"/>
                    <a:pt x="63500" y="83543"/>
                    <a:pt x="63500" y="79772"/>
                  </a:cubicBezTo>
                  <a:cubicBezTo>
                    <a:pt x="63500" y="76002"/>
                    <a:pt x="67238" y="68461"/>
                    <a:pt x="70977" y="68461"/>
                  </a:cubicBezTo>
                  <a:cubicBezTo>
                    <a:pt x="100883" y="60921"/>
                    <a:pt x="134528" y="60921"/>
                    <a:pt x="168173" y="57150"/>
                  </a:cubicBezTo>
                  <a:close/>
                  <a:moveTo>
                    <a:pt x="3116519" y="46038"/>
                  </a:moveTo>
                  <a:cubicBezTo>
                    <a:pt x="3146835" y="46038"/>
                    <a:pt x="3180941" y="49742"/>
                    <a:pt x="3215046" y="49742"/>
                  </a:cubicBezTo>
                  <a:cubicBezTo>
                    <a:pt x="3218836" y="49742"/>
                    <a:pt x="3222625" y="53446"/>
                    <a:pt x="3222625" y="57151"/>
                  </a:cubicBezTo>
                  <a:cubicBezTo>
                    <a:pt x="3222625" y="60855"/>
                    <a:pt x="3218836" y="68263"/>
                    <a:pt x="3215046" y="68263"/>
                  </a:cubicBezTo>
                  <a:cubicBezTo>
                    <a:pt x="3180941" y="68263"/>
                    <a:pt x="3146835" y="64559"/>
                    <a:pt x="3116519" y="64559"/>
                  </a:cubicBezTo>
                  <a:cubicBezTo>
                    <a:pt x="3108940" y="64559"/>
                    <a:pt x="3105150" y="60855"/>
                    <a:pt x="3105150" y="57151"/>
                  </a:cubicBezTo>
                  <a:cubicBezTo>
                    <a:pt x="3105150" y="49742"/>
                    <a:pt x="3108940" y="46038"/>
                    <a:pt x="3116519" y="46038"/>
                  </a:cubicBezTo>
                  <a:close/>
                  <a:moveTo>
                    <a:pt x="330001" y="46038"/>
                  </a:moveTo>
                  <a:cubicBezTo>
                    <a:pt x="333771" y="46038"/>
                    <a:pt x="337542" y="49742"/>
                    <a:pt x="337542" y="53447"/>
                  </a:cubicBezTo>
                  <a:cubicBezTo>
                    <a:pt x="341312" y="57151"/>
                    <a:pt x="337542" y="60855"/>
                    <a:pt x="330001" y="64559"/>
                  </a:cubicBezTo>
                  <a:cubicBezTo>
                    <a:pt x="318690" y="64559"/>
                    <a:pt x="307379" y="68263"/>
                    <a:pt x="296068" y="68263"/>
                  </a:cubicBezTo>
                  <a:cubicBezTo>
                    <a:pt x="280987" y="71968"/>
                    <a:pt x="258365" y="75672"/>
                    <a:pt x="231973" y="75672"/>
                  </a:cubicBezTo>
                  <a:cubicBezTo>
                    <a:pt x="228202" y="79376"/>
                    <a:pt x="224432" y="75672"/>
                    <a:pt x="224432" y="68263"/>
                  </a:cubicBezTo>
                  <a:cubicBezTo>
                    <a:pt x="220662" y="64559"/>
                    <a:pt x="224432" y="60855"/>
                    <a:pt x="231973" y="60855"/>
                  </a:cubicBezTo>
                  <a:cubicBezTo>
                    <a:pt x="258365" y="57151"/>
                    <a:pt x="280987" y="53447"/>
                    <a:pt x="296068" y="49742"/>
                  </a:cubicBezTo>
                  <a:cubicBezTo>
                    <a:pt x="307379" y="49742"/>
                    <a:pt x="318690" y="46038"/>
                    <a:pt x="330001" y="46038"/>
                  </a:cubicBezTo>
                  <a:close/>
                  <a:moveTo>
                    <a:pt x="3058268" y="38166"/>
                  </a:moveTo>
                  <a:cubicBezTo>
                    <a:pt x="3060137" y="39555"/>
                    <a:pt x="3062006" y="42334"/>
                    <a:pt x="3063875" y="46038"/>
                  </a:cubicBezTo>
                  <a:cubicBezTo>
                    <a:pt x="3063875" y="49742"/>
                    <a:pt x="3060137" y="53446"/>
                    <a:pt x="3056399" y="53446"/>
                  </a:cubicBezTo>
                  <a:cubicBezTo>
                    <a:pt x="3056399" y="53446"/>
                    <a:pt x="3056399" y="53446"/>
                    <a:pt x="3052660" y="53446"/>
                  </a:cubicBezTo>
                  <a:cubicBezTo>
                    <a:pt x="3022754" y="60855"/>
                    <a:pt x="2989109" y="64559"/>
                    <a:pt x="2955464" y="68263"/>
                  </a:cubicBezTo>
                  <a:cubicBezTo>
                    <a:pt x="2951726" y="68263"/>
                    <a:pt x="2947987" y="64559"/>
                    <a:pt x="2947987" y="60855"/>
                  </a:cubicBezTo>
                  <a:cubicBezTo>
                    <a:pt x="2947987" y="53446"/>
                    <a:pt x="2947987" y="49742"/>
                    <a:pt x="2955464" y="49742"/>
                  </a:cubicBezTo>
                  <a:cubicBezTo>
                    <a:pt x="2989109" y="46038"/>
                    <a:pt x="3019015" y="42334"/>
                    <a:pt x="3052660" y="38629"/>
                  </a:cubicBezTo>
                  <a:cubicBezTo>
                    <a:pt x="3054529" y="36777"/>
                    <a:pt x="3056399" y="36777"/>
                    <a:pt x="3058268" y="38166"/>
                  </a:cubicBezTo>
                  <a:close/>
                  <a:moveTo>
                    <a:pt x="2797277" y="34925"/>
                  </a:moveTo>
                  <a:cubicBezTo>
                    <a:pt x="2827184" y="34925"/>
                    <a:pt x="2860829" y="34925"/>
                    <a:pt x="2894474" y="38629"/>
                  </a:cubicBezTo>
                  <a:cubicBezTo>
                    <a:pt x="2898212" y="38629"/>
                    <a:pt x="2901950" y="42333"/>
                    <a:pt x="2901950" y="46038"/>
                  </a:cubicBezTo>
                  <a:cubicBezTo>
                    <a:pt x="2901950" y="53446"/>
                    <a:pt x="2898212" y="57150"/>
                    <a:pt x="2894474" y="57150"/>
                  </a:cubicBezTo>
                  <a:cubicBezTo>
                    <a:pt x="2860829" y="53446"/>
                    <a:pt x="2827184" y="53446"/>
                    <a:pt x="2793539" y="49742"/>
                  </a:cubicBezTo>
                  <a:cubicBezTo>
                    <a:pt x="2789801" y="49742"/>
                    <a:pt x="2786062" y="46038"/>
                    <a:pt x="2786062" y="42333"/>
                  </a:cubicBezTo>
                  <a:cubicBezTo>
                    <a:pt x="2786062" y="38629"/>
                    <a:pt x="2789801" y="34925"/>
                    <a:pt x="2797277" y="34925"/>
                  </a:cubicBezTo>
                  <a:close/>
                  <a:moveTo>
                    <a:pt x="393955" y="34925"/>
                  </a:moveTo>
                  <a:cubicBezTo>
                    <a:pt x="428061" y="38629"/>
                    <a:pt x="458377" y="42334"/>
                    <a:pt x="492483" y="49742"/>
                  </a:cubicBezTo>
                  <a:cubicBezTo>
                    <a:pt x="496272" y="49742"/>
                    <a:pt x="500062" y="53446"/>
                    <a:pt x="500062" y="57150"/>
                  </a:cubicBezTo>
                  <a:cubicBezTo>
                    <a:pt x="500062" y="64559"/>
                    <a:pt x="496272" y="68263"/>
                    <a:pt x="488693" y="64559"/>
                  </a:cubicBezTo>
                  <a:cubicBezTo>
                    <a:pt x="458377" y="60855"/>
                    <a:pt x="424272" y="57150"/>
                    <a:pt x="390166" y="53446"/>
                  </a:cubicBezTo>
                  <a:cubicBezTo>
                    <a:pt x="386376" y="53446"/>
                    <a:pt x="382587" y="46038"/>
                    <a:pt x="382587" y="42334"/>
                  </a:cubicBezTo>
                  <a:cubicBezTo>
                    <a:pt x="382587" y="38629"/>
                    <a:pt x="390166" y="34925"/>
                    <a:pt x="393955" y="34925"/>
                  </a:cubicBezTo>
                  <a:close/>
                  <a:moveTo>
                    <a:pt x="2474452" y="23813"/>
                  </a:moveTo>
                  <a:cubicBezTo>
                    <a:pt x="2508097" y="23813"/>
                    <a:pt x="2541742" y="23813"/>
                    <a:pt x="2575387" y="23813"/>
                  </a:cubicBezTo>
                  <a:cubicBezTo>
                    <a:pt x="2579125" y="23813"/>
                    <a:pt x="2582863" y="27623"/>
                    <a:pt x="2582863" y="35243"/>
                  </a:cubicBezTo>
                  <a:cubicBezTo>
                    <a:pt x="2582863" y="39053"/>
                    <a:pt x="2579125" y="42863"/>
                    <a:pt x="2575387" y="42863"/>
                  </a:cubicBezTo>
                  <a:cubicBezTo>
                    <a:pt x="2571648" y="42863"/>
                    <a:pt x="2571648" y="42863"/>
                    <a:pt x="2571648" y="42863"/>
                  </a:cubicBezTo>
                  <a:cubicBezTo>
                    <a:pt x="2541742" y="42863"/>
                    <a:pt x="2508097" y="42863"/>
                    <a:pt x="2474452" y="42863"/>
                  </a:cubicBezTo>
                  <a:cubicBezTo>
                    <a:pt x="2470714" y="42863"/>
                    <a:pt x="2466975" y="39053"/>
                    <a:pt x="2466975" y="31433"/>
                  </a:cubicBezTo>
                  <a:cubicBezTo>
                    <a:pt x="2466975" y="27623"/>
                    <a:pt x="2470714" y="23813"/>
                    <a:pt x="2474452" y="23813"/>
                  </a:cubicBezTo>
                  <a:close/>
                  <a:moveTo>
                    <a:pt x="796811" y="22906"/>
                  </a:moveTo>
                  <a:cubicBezTo>
                    <a:pt x="804295" y="19050"/>
                    <a:pt x="808037" y="26761"/>
                    <a:pt x="808037" y="30616"/>
                  </a:cubicBezTo>
                  <a:cubicBezTo>
                    <a:pt x="808037" y="34472"/>
                    <a:pt x="804295" y="38327"/>
                    <a:pt x="800553" y="38327"/>
                  </a:cubicBezTo>
                  <a:cubicBezTo>
                    <a:pt x="770617" y="42183"/>
                    <a:pt x="740682" y="42183"/>
                    <a:pt x="710746" y="46038"/>
                  </a:cubicBezTo>
                  <a:cubicBezTo>
                    <a:pt x="707004" y="46038"/>
                    <a:pt x="703262" y="42183"/>
                    <a:pt x="703262" y="34472"/>
                  </a:cubicBezTo>
                  <a:cubicBezTo>
                    <a:pt x="703262" y="30616"/>
                    <a:pt x="707004" y="26761"/>
                    <a:pt x="710746" y="26761"/>
                  </a:cubicBezTo>
                  <a:cubicBezTo>
                    <a:pt x="740682" y="22906"/>
                    <a:pt x="770617" y="22906"/>
                    <a:pt x="796811" y="22906"/>
                  </a:cubicBezTo>
                  <a:close/>
                  <a:moveTo>
                    <a:pt x="655355" y="22333"/>
                  </a:moveTo>
                  <a:cubicBezTo>
                    <a:pt x="657250" y="23740"/>
                    <a:pt x="658197" y="26555"/>
                    <a:pt x="658197" y="30307"/>
                  </a:cubicBezTo>
                  <a:cubicBezTo>
                    <a:pt x="661987" y="34059"/>
                    <a:pt x="658197" y="37811"/>
                    <a:pt x="650618" y="37811"/>
                  </a:cubicBezTo>
                  <a:cubicBezTo>
                    <a:pt x="620302" y="45316"/>
                    <a:pt x="586197" y="52821"/>
                    <a:pt x="555880" y="60325"/>
                  </a:cubicBezTo>
                  <a:cubicBezTo>
                    <a:pt x="548301" y="60325"/>
                    <a:pt x="544512" y="56573"/>
                    <a:pt x="544512" y="52821"/>
                  </a:cubicBezTo>
                  <a:cubicBezTo>
                    <a:pt x="544512" y="49068"/>
                    <a:pt x="544512" y="41564"/>
                    <a:pt x="552091" y="41564"/>
                  </a:cubicBezTo>
                  <a:cubicBezTo>
                    <a:pt x="582407" y="34059"/>
                    <a:pt x="616513" y="26555"/>
                    <a:pt x="646829" y="22802"/>
                  </a:cubicBezTo>
                  <a:cubicBezTo>
                    <a:pt x="650618" y="20926"/>
                    <a:pt x="653461" y="20926"/>
                    <a:pt x="655355" y="22333"/>
                  </a:cubicBezTo>
                  <a:close/>
                  <a:moveTo>
                    <a:pt x="2639218" y="19050"/>
                  </a:moveTo>
                  <a:cubicBezTo>
                    <a:pt x="2650529" y="22860"/>
                    <a:pt x="2661840" y="22860"/>
                    <a:pt x="2676922" y="26670"/>
                  </a:cubicBezTo>
                  <a:cubicBezTo>
                    <a:pt x="2695773" y="30480"/>
                    <a:pt x="2714625" y="34290"/>
                    <a:pt x="2733476" y="38100"/>
                  </a:cubicBezTo>
                  <a:cubicBezTo>
                    <a:pt x="2741017" y="38100"/>
                    <a:pt x="2744787" y="41910"/>
                    <a:pt x="2741017" y="45720"/>
                  </a:cubicBezTo>
                  <a:cubicBezTo>
                    <a:pt x="2741017" y="53340"/>
                    <a:pt x="2737247" y="57150"/>
                    <a:pt x="2733476" y="53340"/>
                  </a:cubicBezTo>
                  <a:cubicBezTo>
                    <a:pt x="2733476" y="53340"/>
                    <a:pt x="2729706" y="53340"/>
                    <a:pt x="2729706" y="53340"/>
                  </a:cubicBezTo>
                  <a:cubicBezTo>
                    <a:pt x="2710854" y="49530"/>
                    <a:pt x="2692003" y="49530"/>
                    <a:pt x="2673151" y="45720"/>
                  </a:cubicBezTo>
                  <a:cubicBezTo>
                    <a:pt x="2658070" y="41910"/>
                    <a:pt x="2646759" y="38100"/>
                    <a:pt x="2635448" y="38100"/>
                  </a:cubicBezTo>
                  <a:cubicBezTo>
                    <a:pt x="2627908" y="38100"/>
                    <a:pt x="2624137" y="30480"/>
                    <a:pt x="2627908" y="26670"/>
                  </a:cubicBezTo>
                  <a:cubicBezTo>
                    <a:pt x="2627908" y="22860"/>
                    <a:pt x="2631678" y="19050"/>
                    <a:pt x="2639218" y="19050"/>
                  </a:cubicBezTo>
                  <a:close/>
                  <a:moveTo>
                    <a:pt x="2153826" y="19050"/>
                  </a:moveTo>
                  <a:cubicBezTo>
                    <a:pt x="2180167" y="19050"/>
                    <a:pt x="2210271" y="19050"/>
                    <a:pt x="2236611" y="19050"/>
                  </a:cubicBezTo>
                  <a:cubicBezTo>
                    <a:pt x="2244137" y="19050"/>
                    <a:pt x="2247900" y="22860"/>
                    <a:pt x="2247900" y="30480"/>
                  </a:cubicBezTo>
                  <a:cubicBezTo>
                    <a:pt x="2244137" y="34290"/>
                    <a:pt x="2244137" y="38100"/>
                    <a:pt x="2236611" y="38100"/>
                  </a:cubicBezTo>
                  <a:cubicBezTo>
                    <a:pt x="2210271" y="38100"/>
                    <a:pt x="2180167" y="38100"/>
                    <a:pt x="2153826" y="38100"/>
                  </a:cubicBezTo>
                  <a:cubicBezTo>
                    <a:pt x="2146300" y="38100"/>
                    <a:pt x="2146300" y="34290"/>
                    <a:pt x="2146300" y="26670"/>
                  </a:cubicBezTo>
                  <a:cubicBezTo>
                    <a:pt x="2146300" y="22860"/>
                    <a:pt x="2150063" y="19050"/>
                    <a:pt x="2153826" y="19050"/>
                  </a:cubicBezTo>
                  <a:close/>
                  <a:moveTo>
                    <a:pt x="2316265" y="15875"/>
                  </a:moveTo>
                  <a:cubicBezTo>
                    <a:pt x="2349910" y="19646"/>
                    <a:pt x="2379817" y="23416"/>
                    <a:pt x="2413462" y="27186"/>
                  </a:cubicBezTo>
                  <a:cubicBezTo>
                    <a:pt x="2417200" y="27186"/>
                    <a:pt x="2420938" y="34727"/>
                    <a:pt x="2420938" y="38497"/>
                  </a:cubicBezTo>
                  <a:cubicBezTo>
                    <a:pt x="2420938" y="42268"/>
                    <a:pt x="2417200" y="46038"/>
                    <a:pt x="2413462" y="46038"/>
                  </a:cubicBezTo>
                  <a:cubicBezTo>
                    <a:pt x="2379817" y="42268"/>
                    <a:pt x="2346172" y="38497"/>
                    <a:pt x="2312527" y="34727"/>
                  </a:cubicBezTo>
                  <a:cubicBezTo>
                    <a:pt x="2308789" y="34727"/>
                    <a:pt x="2305050" y="27186"/>
                    <a:pt x="2305050" y="23416"/>
                  </a:cubicBezTo>
                  <a:cubicBezTo>
                    <a:pt x="2305050" y="19646"/>
                    <a:pt x="2312527" y="15875"/>
                    <a:pt x="2316265" y="15875"/>
                  </a:cubicBezTo>
                  <a:close/>
                  <a:moveTo>
                    <a:pt x="1995744" y="12700"/>
                  </a:moveTo>
                  <a:cubicBezTo>
                    <a:pt x="2018481" y="16404"/>
                    <a:pt x="2041218" y="16404"/>
                    <a:pt x="2067745" y="16404"/>
                  </a:cubicBezTo>
                  <a:cubicBezTo>
                    <a:pt x="2075324" y="16404"/>
                    <a:pt x="2082903" y="16404"/>
                    <a:pt x="2094271" y="16404"/>
                  </a:cubicBezTo>
                  <a:cubicBezTo>
                    <a:pt x="2098061" y="16404"/>
                    <a:pt x="2101850" y="23813"/>
                    <a:pt x="2101850" y="27517"/>
                  </a:cubicBezTo>
                  <a:cubicBezTo>
                    <a:pt x="2101850" y="31221"/>
                    <a:pt x="2098061" y="34925"/>
                    <a:pt x="2094271" y="34925"/>
                  </a:cubicBezTo>
                  <a:cubicBezTo>
                    <a:pt x="2082903" y="34925"/>
                    <a:pt x="2075324" y="34925"/>
                    <a:pt x="2063955" y="34925"/>
                  </a:cubicBezTo>
                  <a:cubicBezTo>
                    <a:pt x="2041218" y="34925"/>
                    <a:pt x="2018481" y="34925"/>
                    <a:pt x="1991954" y="31221"/>
                  </a:cubicBezTo>
                  <a:cubicBezTo>
                    <a:pt x="1988165" y="31221"/>
                    <a:pt x="1984375" y="27517"/>
                    <a:pt x="1984375" y="23813"/>
                  </a:cubicBezTo>
                  <a:cubicBezTo>
                    <a:pt x="1984375" y="16404"/>
                    <a:pt x="1988165" y="12700"/>
                    <a:pt x="1995744" y="12700"/>
                  </a:cubicBezTo>
                  <a:close/>
                  <a:moveTo>
                    <a:pt x="874968" y="7938"/>
                  </a:moveTo>
                  <a:cubicBezTo>
                    <a:pt x="890126" y="11819"/>
                    <a:pt x="905285" y="15699"/>
                    <a:pt x="920443" y="15699"/>
                  </a:cubicBezTo>
                  <a:cubicBezTo>
                    <a:pt x="935601" y="19580"/>
                    <a:pt x="954548" y="19580"/>
                    <a:pt x="973496" y="23460"/>
                  </a:cubicBezTo>
                  <a:cubicBezTo>
                    <a:pt x="977285" y="23460"/>
                    <a:pt x="981075" y="31221"/>
                    <a:pt x="981075" y="35102"/>
                  </a:cubicBezTo>
                  <a:cubicBezTo>
                    <a:pt x="981075" y="38983"/>
                    <a:pt x="973496" y="42863"/>
                    <a:pt x="969706" y="42863"/>
                  </a:cubicBezTo>
                  <a:cubicBezTo>
                    <a:pt x="950759" y="38983"/>
                    <a:pt x="935601" y="38983"/>
                    <a:pt x="916653" y="35102"/>
                  </a:cubicBezTo>
                  <a:cubicBezTo>
                    <a:pt x="901495" y="31221"/>
                    <a:pt x="886337" y="31221"/>
                    <a:pt x="871179" y="27341"/>
                  </a:cubicBezTo>
                  <a:cubicBezTo>
                    <a:pt x="867389" y="27341"/>
                    <a:pt x="863600" y="23460"/>
                    <a:pt x="863600" y="15699"/>
                  </a:cubicBezTo>
                  <a:cubicBezTo>
                    <a:pt x="863600" y="11819"/>
                    <a:pt x="867389" y="7938"/>
                    <a:pt x="874968" y="7938"/>
                  </a:cubicBezTo>
                  <a:close/>
                  <a:moveTo>
                    <a:pt x="1835199" y="4763"/>
                  </a:moveTo>
                  <a:cubicBezTo>
                    <a:pt x="1868686" y="8534"/>
                    <a:pt x="1902172" y="12304"/>
                    <a:pt x="1931938" y="16074"/>
                  </a:cubicBezTo>
                  <a:cubicBezTo>
                    <a:pt x="1939380" y="16074"/>
                    <a:pt x="1943100" y="19845"/>
                    <a:pt x="1939380" y="27385"/>
                  </a:cubicBezTo>
                  <a:cubicBezTo>
                    <a:pt x="1939380" y="31156"/>
                    <a:pt x="1935659" y="34926"/>
                    <a:pt x="1931938" y="34926"/>
                  </a:cubicBezTo>
                  <a:cubicBezTo>
                    <a:pt x="1898452" y="31156"/>
                    <a:pt x="1864965" y="27385"/>
                    <a:pt x="1835199" y="23615"/>
                  </a:cubicBezTo>
                  <a:cubicBezTo>
                    <a:pt x="1827758" y="23615"/>
                    <a:pt x="1824037" y="19845"/>
                    <a:pt x="1824037" y="12304"/>
                  </a:cubicBezTo>
                  <a:cubicBezTo>
                    <a:pt x="1827758" y="8534"/>
                    <a:pt x="1831479" y="4763"/>
                    <a:pt x="1835199" y="4763"/>
                  </a:cubicBezTo>
                  <a:close/>
                  <a:moveTo>
                    <a:pt x="1273664" y="4763"/>
                  </a:moveTo>
                  <a:cubicBezTo>
                    <a:pt x="1277388" y="4763"/>
                    <a:pt x="1281113" y="8467"/>
                    <a:pt x="1281113" y="15876"/>
                  </a:cubicBezTo>
                  <a:cubicBezTo>
                    <a:pt x="1281113" y="19580"/>
                    <a:pt x="1277388" y="23284"/>
                    <a:pt x="1273664" y="23284"/>
                  </a:cubicBezTo>
                  <a:cubicBezTo>
                    <a:pt x="1247592" y="23284"/>
                    <a:pt x="1217796" y="26988"/>
                    <a:pt x="1191724" y="26988"/>
                  </a:cubicBezTo>
                  <a:cubicBezTo>
                    <a:pt x="1187999" y="26988"/>
                    <a:pt x="1184275" y="23284"/>
                    <a:pt x="1184275" y="15876"/>
                  </a:cubicBezTo>
                  <a:cubicBezTo>
                    <a:pt x="1184275" y="12171"/>
                    <a:pt x="1187999" y="8467"/>
                    <a:pt x="1191724" y="8467"/>
                  </a:cubicBezTo>
                  <a:cubicBezTo>
                    <a:pt x="1217796" y="8467"/>
                    <a:pt x="1247592" y="4763"/>
                    <a:pt x="1273664" y="4763"/>
                  </a:cubicBezTo>
                  <a:close/>
                  <a:moveTo>
                    <a:pt x="1130761" y="4763"/>
                  </a:moveTo>
                  <a:cubicBezTo>
                    <a:pt x="1134500" y="4763"/>
                    <a:pt x="1138238" y="8534"/>
                    <a:pt x="1138238" y="12304"/>
                  </a:cubicBezTo>
                  <a:cubicBezTo>
                    <a:pt x="1138238" y="16074"/>
                    <a:pt x="1138238" y="23615"/>
                    <a:pt x="1130761" y="23615"/>
                  </a:cubicBezTo>
                  <a:cubicBezTo>
                    <a:pt x="1100855" y="27385"/>
                    <a:pt x="1067210" y="31156"/>
                    <a:pt x="1033565" y="34926"/>
                  </a:cubicBezTo>
                  <a:cubicBezTo>
                    <a:pt x="1029827" y="34926"/>
                    <a:pt x="1026088" y="31156"/>
                    <a:pt x="1022350" y="27385"/>
                  </a:cubicBezTo>
                  <a:cubicBezTo>
                    <a:pt x="1022350" y="23615"/>
                    <a:pt x="1026088" y="19845"/>
                    <a:pt x="1033565" y="16074"/>
                  </a:cubicBezTo>
                  <a:cubicBezTo>
                    <a:pt x="1063471" y="12304"/>
                    <a:pt x="1097116" y="8534"/>
                    <a:pt x="1130761" y="4763"/>
                  </a:cubicBezTo>
                  <a:close/>
                  <a:moveTo>
                    <a:pt x="1769960" y="0"/>
                  </a:moveTo>
                  <a:cubicBezTo>
                    <a:pt x="1777437" y="0"/>
                    <a:pt x="1781175" y="3771"/>
                    <a:pt x="1781175" y="11311"/>
                  </a:cubicBezTo>
                  <a:cubicBezTo>
                    <a:pt x="1781175" y="15082"/>
                    <a:pt x="1777437" y="18852"/>
                    <a:pt x="1773699" y="18852"/>
                  </a:cubicBezTo>
                  <a:cubicBezTo>
                    <a:pt x="1740054" y="22622"/>
                    <a:pt x="1706409" y="26393"/>
                    <a:pt x="1676502" y="30163"/>
                  </a:cubicBezTo>
                  <a:cubicBezTo>
                    <a:pt x="1669026" y="30163"/>
                    <a:pt x="1665287" y="26393"/>
                    <a:pt x="1665287" y="18852"/>
                  </a:cubicBezTo>
                  <a:cubicBezTo>
                    <a:pt x="1665287" y="15082"/>
                    <a:pt x="1669026" y="11311"/>
                    <a:pt x="1672764" y="11311"/>
                  </a:cubicBezTo>
                  <a:cubicBezTo>
                    <a:pt x="1706409" y="7541"/>
                    <a:pt x="1736315" y="3771"/>
                    <a:pt x="1769960" y="0"/>
                  </a:cubicBezTo>
                  <a:close/>
                  <a:moveTo>
                    <a:pt x="1514731" y="0"/>
                  </a:moveTo>
                  <a:cubicBezTo>
                    <a:pt x="1548836" y="3856"/>
                    <a:pt x="1579153" y="3856"/>
                    <a:pt x="1613258" y="7711"/>
                  </a:cubicBezTo>
                  <a:cubicBezTo>
                    <a:pt x="1617048" y="7711"/>
                    <a:pt x="1620837" y="11566"/>
                    <a:pt x="1620837" y="19277"/>
                  </a:cubicBezTo>
                  <a:cubicBezTo>
                    <a:pt x="1620837" y="23133"/>
                    <a:pt x="1617048" y="26988"/>
                    <a:pt x="1613258" y="26988"/>
                  </a:cubicBezTo>
                  <a:cubicBezTo>
                    <a:pt x="1579153" y="23133"/>
                    <a:pt x="1545047" y="23133"/>
                    <a:pt x="1510941" y="19277"/>
                  </a:cubicBezTo>
                  <a:cubicBezTo>
                    <a:pt x="1507152" y="19277"/>
                    <a:pt x="1503362" y="15422"/>
                    <a:pt x="1503362" y="7711"/>
                  </a:cubicBezTo>
                  <a:cubicBezTo>
                    <a:pt x="1503362" y="3856"/>
                    <a:pt x="1507152" y="0"/>
                    <a:pt x="1514731" y="0"/>
                  </a:cubicBezTo>
                  <a:close/>
                  <a:moveTo>
                    <a:pt x="1352794" y="0"/>
                  </a:moveTo>
                  <a:cubicBezTo>
                    <a:pt x="1379293" y="3969"/>
                    <a:pt x="1405792" y="3969"/>
                    <a:pt x="1432291" y="3969"/>
                  </a:cubicBezTo>
                  <a:cubicBezTo>
                    <a:pt x="1436076" y="3969"/>
                    <a:pt x="1439862" y="11907"/>
                    <a:pt x="1436076" y="15875"/>
                  </a:cubicBezTo>
                  <a:cubicBezTo>
                    <a:pt x="1436076" y="19844"/>
                    <a:pt x="1432291" y="23813"/>
                    <a:pt x="1428505" y="23813"/>
                  </a:cubicBezTo>
                  <a:cubicBezTo>
                    <a:pt x="1402006" y="23813"/>
                    <a:pt x="1375507" y="23813"/>
                    <a:pt x="1349008" y="19844"/>
                  </a:cubicBezTo>
                  <a:cubicBezTo>
                    <a:pt x="1345222" y="19844"/>
                    <a:pt x="1341437" y="15875"/>
                    <a:pt x="1345222" y="11907"/>
                  </a:cubicBezTo>
                  <a:cubicBezTo>
                    <a:pt x="1345222" y="7938"/>
                    <a:pt x="1349008" y="0"/>
                    <a:pt x="1352794" y="0"/>
                  </a:cubicBezTo>
                  <a:close/>
                </a:path>
              </a:pathLst>
            </a:custGeom>
            <a:solidFill>
              <a:srgbClr val="ead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</p:grp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709560" y="1390680"/>
            <a:ext cx="10872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40000"/>
              </a:lnSpc>
              <a:spcBef>
                <a:spcPts val="1800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d3f41"/>
                </a:solidFill>
                <a:latin typeface="Calibri"/>
                <a:ea typeface="宋体"/>
              </a:rPr>
              <a:t>吕梁山风景区拥有多处旅游景点，尤以十大景点闻名遐迩，即茫茫林海、古庙遗址、天然溶洞、鳌卧沙丘、峰山观洪、吕梁山烈士亭、凤冠山古碑刻、吕梁奇石、平湖荡舟、南山桃园</a:t>
            </a:r>
            <a:endParaRPr b="0" lang="en-US" sz="2000" spc="-1" strike="noStrike">
              <a:solidFill>
                <a:srgbClr val="976a4f"/>
              </a:solidFill>
              <a:latin typeface="Calibri"/>
            </a:endParaRPr>
          </a:p>
        </p:txBody>
      </p:sp>
      <p:grpSp>
        <p:nvGrpSpPr>
          <p:cNvPr id="118" name="组合 1"/>
          <p:cNvGrpSpPr/>
          <p:nvPr/>
        </p:nvGrpSpPr>
        <p:grpSpPr>
          <a:xfrm>
            <a:off x="1378080" y="338040"/>
            <a:ext cx="8389800" cy="1111320"/>
            <a:chOff x="1378080" y="338040"/>
            <a:chExt cx="8389800" cy="1111320"/>
          </a:xfrm>
        </p:grpSpPr>
        <p:sp>
          <p:nvSpPr>
            <p:cNvPr id="119" name="MH_SubTitle_1"/>
            <p:cNvSpPr/>
            <p:nvPr/>
          </p:nvSpPr>
          <p:spPr>
            <a:xfrm>
              <a:off x="1378080" y="338040"/>
              <a:ext cx="8389800" cy="792000"/>
            </a:xfrm>
            <a:prstGeom prst="pie">
              <a:avLst/>
            </a:prstGeom>
            <a:solidFill>
              <a:srgbClr val="fffdd9"/>
            </a:solidFill>
            <a:ln w="15840">
              <a:solidFill>
                <a:srgbClr val="d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吕梁市风景名胜</a:t>
              </a:r>
              <a:endParaRPr b="0" lang="en-US" sz="4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120" name="MH_Other_1"/>
            <p:cNvSpPr/>
            <p:nvPr/>
          </p:nvSpPr>
          <p:spPr>
            <a:xfrm>
              <a:off x="9287280" y="965520"/>
              <a:ext cx="380520" cy="483840"/>
            </a:xfrm>
            <a:custGeom>
              <a:avLst/>
              <a:gdLst/>
              <a:ahLst/>
              <a:rect l="l" t="t" r="r" b="b"/>
              <a:pathLst>
                <a:path w="489601" h="817519">
                  <a:moveTo>
                    <a:pt x="382030" y="148204"/>
                  </a:moveTo>
                  <a:cubicBezTo>
                    <a:pt x="376386" y="149144"/>
                    <a:pt x="372154" y="149144"/>
                    <a:pt x="369332" y="148556"/>
                  </a:cubicBezTo>
                  <a:lnTo>
                    <a:pt x="369178" y="148440"/>
                  </a:lnTo>
                  <a:lnTo>
                    <a:pt x="382030" y="148204"/>
                  </a:lnTo>
                  <a:close/>
                  <a:moveTo>
                    <a:pt x="72717" y="25053"/>
                  </a:moveTo>
                  <a:cubicBezTo>
                    <a:pt x="50129" y="22710"/>
                    <a:pt x="31306" y="29271"/>
                    <a:pt x="35070" y="57390"/>
                  </a:cubicBezTo>
                  <a:cubicBezTo>
                    <a:pt x="38835" y="100506"/>
                    <a:pt x="68011" y="130500"/>
                    <a:pt x="104246" y="143154"/>
                  </a:cubicBezTo>
                  <a:lnTo>
                    <a:pt x="109197" y="143624"/>
                  </a:lnTo>
                  <a:lnTo>
                    <a:pt x="173943" y="136089"/>
                  </a:lnTo>
                  <a:lnTo>
                    <a:pt x="180928" y="143134"/>
                  </a:lnTo>
                  <a:lnTo>
                    <a:pt x="189943" y="140583"/>
                  </a:lnTo>
                  <a:lnTo>
                    <a:pt x="211202" y="127656"/>
                  </a:lnTo>
                  <a:lnTo>
                    <a:pt x="212009" y="128625"/>
                  </a:lnTo>
                  <a:lnTo>
                    <a:pt x="212766" y="128743"/>
                  </a:lnTo>
                  <a:lnTo>
                    <a:pt x="218745" y="128743"/>
                  </a:lnTo>
                  <a:lnTo>
                    <a:pt x="214613" y="126103"/>
                  </a:lnTo>
                  <a:lnTo>
                    <a:pt x="214799" y="125468"/>
                  </a:lnTo>
                  <a:lnTo>
                    <a:pt x="211202" y="127656"/>
                  </a:lnTo>
                  <a:lnTo>
                    <a:pt x="175304" y="84572"/>
                  </a:lnTo>
                  <a:cubicBezTo>
                    <a:pt x="163069" y="69575"/>
                    <a:pt x="149893" y="55515"/>
                    <a:pt x="132952" y="46142"/>
                  </a:cubicBezTo>
                  <a:cubicBezTo>
                    <a:pt x="121658" y="38644"/>
                    <a:pt x="95305" y="27396"/>
                    <a:pt x="72717" y="25053"/>
                  </a:cubicBezTo>
                  <a:close/>
                  <a:moveTo>
                    <a:pt x="371684" y="557"/>
                  </a:moveTo>
                  <a:cubicBezTo>
                    <a:pt x="403662" y="-2265"/>
                    <a:pt x="434700" y="5259"/>
                    <a:pt x="457273" y="31591"/>
                  </a:cubicBezTo>
                  <a:cubicBezTo>
                    <a:pt x="483608" y="61684"/>
                    <a:pt x="479846" y="103063"/>
                    <a:pt x="449749" y="125633"/>
                  </a:cubicBezTo>
                  <a:cubicBezTo>
                    <a:pt x="430938" y="140680"/>
                    <a:pt x="404603" y="140680"/>
                    <a:pt x="382030" y="148204"/>
                  </a:cubicBezTo>
                  <a:cubicBezTo>
                    <a:pt x="404603" y="144442"/>
                    <a:pt x="400841" y="136918"/>
                    <a:pt x="382030" y="136918"/>
                  </a:cubicBezTo>
                  <a:cubicBezTo>
                    <a:pt x="415889" y="133156"/>
                    <a:pt x="445987" y="110586"/>
                    <a:pt x="434700" y="69208"/>
                  </a:cubicBezTo>
                  <a:cubicBezTo>
                    <a:pt x="430938" y="50399"/>
                    <a:pt x="419651" y="27829"/>
                    <a:pt x="397078" y="16544"/>
                  </a:cubicBezTo>
                  <a:cubicBezTo>
                    <a:pt x="343467" y="-6026"/>
                    <a:pt x="308903" y="30650"/>
                    <a:pt x="282274" y="67856"/>
                  </a:cubicBezTo>
                  <a:lnTo>
                    <a:pt x="265593" y="91929"/>
                  </a:lnTo>
                  <a:lnTo>
                    <a:pt x="268531" y="126930"/>
                  </a:lnTo>
                  <a:lnTo>
                    <a:pt x="279636" y="131298"/>
                  </a:lnTo>
                  <a:cubicBezTo>
                    <a:pt x="312665" y="140151"/>
                    <a:pt x="367922" y="139269"/>
                    <a:pt x="382030" y="136918"/>
                  </a:cubicBezTo>
                  <a:cubicBezTo>
                    <a:pt x="370743" y="138799"/>
                    <a:pt x="365100" y="142561"/>
                    <a:pt x="365100" y="145382"/>
                  </a:cubicBezTo>
                  <a:lnTo>
                    <a:pt x="369178" y="148440"/>
                  </a:lnTo>
                  <a:lnTo>
                    <a:pt x="305376" y="149614"/>
                  </a:lnTo>
                  <a:lnTo>
                    <a:pt x="269295" y="143410"/>
                  </a:lnTo>
                  <a:lnTo>
                    <a:pt x="269295" y="143478"/>
                  </a:lnTo>
                  <a:cubicBezTo>
                    <a:pt x="261791" y="143478"/>
                    <a:pt x="261791" y="143478"/>
                    <a:pt x="261791" y="143478"/>
                  </a:cubicBezTo>
                  <a:lnTo>
                    <a:pt x="257677" y="144158"/>
                  </a:lnTo>
                  <a:lnTo>
                    <a:pt x="291826" y="190460"/>
                  </a:lnTo>
                  <a:cubicBezTo>
                    <a:pt x="307273" y="217317"/>
                    <a:pt x="319444" y="245586"/>
                    <a:pt x="328806" y="275741"/>
                  </a:cubicBezTo>
                  <a:cubicBezTo>
                    <a:pt x="355020" y="362434"/>
                    <a:pt x="336296" y="441590"/>
                    <a:pt x="407448" y="509437"/>
                  </a:cubicBezTo>
                  <a:cubicBezTo>
                    <a:pt x="486091" y="584823"/>
                    <a:pt x="501070" y="709210"/>
                    <a:pt x="482346" y="810981"/>
                  </a:cubicBezTo>
                  <a:cubicBezTo>
                    <a:pt x="474856" y="829827"/>
                    <a:pt x="448642" y="803442"/>
                    <a:pt x="452387" y="788365"/>
                  </a:cubicBezTo>
                  <a:cubicBezTo>
                    <a:pt x="467366" y="716748"/>
                    <a:pt x="463622" y="599900"/>
                    <a:pt x="407448" y="547130"/>
                  </a:cubicBezTo>
                  <a:cubicBezTo>
                    <a:pt x="373745" y="516976"/>
                    <a:pt x="351275" y="498129"/>
                    <a:pt x="332551" y="456667"/>
                  </a:cubicBezTo>
                  <a:cubicBezTo>
                    <a:pt x="313827" y="415205"/>
                    <a:pt x="321316" y="362434"/>
                    <a:pt x="313827" y="320972"/>
                  </a:cubicBezTo>
                  <a:cubicBezTo>
                    <a:pt x="299783" y="267260"/>
                    <a:pt x="281527" y="219908"/>
                    <a:pt x="252738" y="175736"/>
                  </a:cubicBezTo>
                  <a:lnTo>
                    <a:pt x="229900" y="145390"/>
                  </a:lnTo>
                  <a:lnTo>
                    <a:pt x="226506" y="148167"/>
                  </a:lnTo>
                  <a:cubicBezTo>
                    <a:pt x="180924" y="198879"/>
                    <a:pt x="199445" y="284549"/>
                    <a:pt x="186275" y="347153"/>
                  </a:cubicBezTo>
                  <a:cubicBezTo>
                    <a:pt x="163697" y="437530"/>
                    <a:pt x="118542" y="516610"/>
                    <a:pt x="84675" y="599455"/>
                  </a:cubicBezTo>
                  <a:cubicBezTo>
                    <a:pt x="84675" y="610752"/>
                    <a:pt x="47045" y="603221"/>
                    <a:pt x="47045" y="599455"/>
                  </a:cubicBezTo>
                  <a:cubicBezTo>
                    <a:pt x="88438" y="505313"/>
                    <a:pt x="148645" y="407405"/>
                    <a:pt x="152408" y="301965"/>
                  </a:cubicBezTo>
                  <a:cubicBezTo>
                    <a:pt x="155230" y="256777"/>
                    <a:pt x="155936" y="200997"/>
                    <a:pt x="179925" y="161634"/>
                  </a:cubicBezTo>
                  <a:lnTo>
                    <a:pt x="192579" y="148902"/>
                  </a:lnTo>
                  <a:lnTo>
                    <a:pt x="185657" y="152996"/>
                  </a:lnTo>
                  <a:cubicBezTo>
                    <a:pt x="163069" y="161431"/>
                    <a:pt x="138599" y="166118"/>
                    <a:pt x="114128" y="166118"/>
                  </a:cubicBezTo>
                  <a:lnTo>
                    <a:pt x="102016" y="163312"/>
                  </a:lnTo>
                  <a:lnTo>
                    <a:pt x="76747" y="166252"/>
                  </a:lnTo>
                  <a:cubicBezTo>
                    <a:pt x="73009" y="166252"/>
                    <a:pt x="69270" y="162482"/>
                    <a:pt x="69270" y="158711"/>
                  </a:cubicBezTo>
                  <a:lnTo>
                    <a:pt x="71255" y="155709"/>
                  </a:lnTo>
                  <a:lnTo>
                    <a:pt x="33659" y="134249"/>
                  </a:lnTo>
                  <a:cubicBezTo>
                    <a:pt x="10600" y="115503"/>
                    <a:pt x="-4458" y="89258"/>
                    <a:pt x="1189" y="57390"/>
                  </a:cubicBezTo>
                  <a:cubicBezTo>
                    <a:pt x="4953" y="19898"/>
                    <a:pt x="68952" y="8650"/>
                    <a:pt x="99070" y="8650"/>
                  </a:cubicBezTo>
                  <a:cubicBezTo>
                    <a:pt x="155540" y="14274"/>
                    <a:pt x="184480" y="45205"/>
                    <a:pt x="216068" y="80881"/>
                  </a:cubicBezTo>
                  <a:lnTo>
                    <a:pt x="228999" y="94932"/>
                  </a:lnTo>
                  <a:lnTo>
                    <a:pt x="248943" y="67797"/>
                  </a:lnTo>
                  <a:lnTo>
                    <a:pt x="249881" y="66719"/>
                  </a:lnTo>
                  <a:lnTo>
                    <a:pt x="250534" y="61537"/>
                  </a:lnTo>
                  <a:cubicBezTo>
                    <a:pt x="250534" y="54088"/>
                    <a:pt x="254286" y="50364"/>
                    <a:pt x="258038" y="50364"/>
                  </a:cubicBezTo>
                  <a:lnTo>
                    <a:pt x="261298" y="53600"/>
                  </a:lnTo>
                  <a:lnTo>
                    <a:pt x="280451" y="31591"/>
                  </a:lnTo>
                  <a:cubicBezTo>
                    <a:pt x="306786" y="16544"/>
                    <a:pt x="339705" y="3378"/>
                    <a:pt x="371684" y="557"/>
                  </a:cubicBezTo>
                  <a:close/>
                </a:path>
              </a:pathLst>
            </a:custGeom>
            <a:solidFill>
              <a:srgbClr val="ead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121" name="MH_Other_2"/>
            <p:cNvSpPr/>
            <p:nvPr/>
          </p:nvSpPr>
          <p:spPr>
            <a:xfrm>
              <a:off x="2122200" y="346320"/>
              <a:ext cx="7251120" cy="753480"/>
            </a:xfrm>
            <a:custGeom>
              <a:avLst/>
              <a:gdLst/>
              <a:ahLst/>
              <a:rect l="l" t="t" r="r" b="b"/>
              <a:pathLst>
                <a:path w="3308350" h="847726">
                  <a:moveTo>
                    <a:pt x="2609389" y="817563"/>
                  </a:moveTo>
                  <a:cubicBezTo>
                    <a:pt x="2613127" y="817563"/>
                    <a:pt x="2613127" y="817563"/>
                    <a:pt x="2616866" y="817563"/>
                  </a:cubicBezTo>
                  <a:cubicBezTo>
                    <a:pt x="2646772" y="817563"/>
                    <a:pt x="2676679" y="817563"/>
                    <a:pt x="2710324" y="817563"/>
                  </a:cubicBezTo>
                  <a:cubicBezTo>
                    <a:pt x="2714062" y="817563"/>
                    <a:pt x="2717800" y="821373"/>
                    <a:pt x="2717800" y="825183"/>
                  </a:cubicBezTo>
                  <a:cubicBezTo>
                    <a:pt x="2717800" y="828993"/>
                    <a:pt x="2714062" y="836613"/>
                    <a:pt x="2710324" y="836613"/>
                  </a:cubicBezTo>
                  <a:cubicBezTo>
                    <a:pt x="2676679" y="836613"/>
                    <a:pt x="2646772" y="836613"/>
                    <a:pt x="2616866" y="836613"/>
                  </a:cubicBezTo>
                  <a:cubicBezTo>
                    <a:pt x="2613127" y="836613"/>
                    <a:pt x="2613127" y="836613"/>
                    <a:pt x="2609389" y="836613"/>
                  </a:cubicBezTo>
                  <a:cubicBezTo>
                    <a:pt x="2605651" y="836613"/>
                    <a:pt x="2601912" y="832803"/>
                    <a:pt x="2601912" y="825183"/>
                  </a:cubicBezTo>
                  <a:cubicBezTo>
                    <a:pt x="2601912" y="821373"/>
                    <a:pt x="2605651" y="817563"/>
                    <a:pt x="2609389" y="817563"/>
                  </a:cubicBezTo>
                  <a:close/>
                  <a:moveTo>
                    <a:pt x="466526" y="814842"/>
                  </a:moveTo>
                  <a:cubicBezTo>
                    <a:pt x="470296" y="811213"/>
                    <a:pt x="474067" y="818470"/>
                    <a:pt x="474067" y="822099"/>
                  </a:cubicBezTo>
                  <a:cubicBezTo>
                    <a:pt x="477837" y="825728"/>
                    <a:pt x="470296" y="829356"/>
                    <a:pt x="466526" y="829356"/>
                  </a:cubicBezTo>
                  <a:cubicBezTo>
                    <a:pt x="436363" y="832985"/>
                    <a:pt x="402431" y="832985"/>
                    <a:pt x="368498" y="836613"/>
                  </a:cubicBezTo>
                  <a:cubicBezTo>
                    <a:pt x="360957" y="836613"/>
                    <a:pt x="357187" y="832985"/>
                    <a:pt x="357187" y="825728"/>
                  </a:cubicBezTo>
                  <a:cubicBezTo>
                    <a:pt x="357187" y="822099"/>
                    <a:pt x="360957" y="818470"/>
                    <a:pt x="368498" y="818470"/>
                  </a:cubicBezTo>
                  <a:cubicBezTo>
                    <a:pt x="402431" y="814842"/>
                    <a:pt x="432593" y="814842"/>
                    <a:pt x="466526" y="814842"/>
                  </a:cubicBezTo>
                  <a:close/>
                  <a:moveTo>
                    <a:pt x="155360" y="814408"/>
                  </a:moveTo>
                  <a:cubicBezTo>
                    <a:pt x="156776" y="813039"/>
                    <a:pt x="158664" y="813039"/>
                    <a:pt x="160552" y="814865"/>
                  </a:cubicBezTo>
                  <a:cubicBezTo>
                    <a:pt x="171879" y="814865"/>
                    <a:pt x="183206" y="818516"/>
                    <a:pt x="198309" y="818516"/>
                  </a:cubicBezTo>
                  <a:cubicBezTo>
                    <a:pt x="224738" y="822167"/>
                    <a:pt x="251168" y="825818"/>
                    <a:pt x="281374" y="829470"/>
                  </a:cubicBezTo>
                  <a:cubicBezTo>
                    <a:pt x="285149" y="829470"/>
                    <a:pt x="288925" y="833121"/>
                    <a:pt x="285149" y="836772"/>
                  </a:cubicBezTo>
                  <a:cubicBezTo>
                    <a:pt x="285149" y="844075"/>
                    <a:pt x="281374" y="847726"/>
                    <a:pt x="277598" y="847726"/>
                  </a:cubicBezTo>
                  <a:cubicBezTo>
                    <a:pt x="251168" y="844075"/>
                    <a:pt x="224738" y="840424"/>
                    <a:pt x="194533" y="836772"/>
                  </a:cubicBezTo>
                  <a:cubicBezTo>
                    <a:pt x="179430" y="836772"/>
                    <a:pt x="168103" y="833121"/>
                    <a:pt x="156776" y="829470"/>
                  </a:cubicBezTo>
                  <a:cubicBezTo>
                    <a:pt x="153001" y="829470"/>
                    <a:pt x="149225" y="825818"/>
                    <a:pt x="153001" y="822167"/>
                  </a:cubicBezTo>
                  <a:cubicBezTo>
                    <a:pt x="153001" y="818516"/>
                    <a:pt x="153945" y="815777"/>
                    <a:pt x="155360" y="814408"/>
                  </a:cubicBezTo>
                  <a:close/>
                  <a:moveTo>
                    <a:pt x="2771314" y="814388"/>
                  </a:moveTo>
                  <a:cubicBezTo>
                    <a:pt x="2804959" y="814388"/>
                    <a:pt x="2834865" y="814388"/>
                    <a:pt x="2868510" y="814388"/>
                  </a:cubicBezTo>
                  <a:cubicBezTo>
                    <a:pt x="2872249" y="814388"/>
                    <a:pt x="2879725" y="818198"/>
                    <a:pt x="2879725" y="822008"/>
                  </a:cubicBezTo>
                  <a:cubicBezTo>
                    <a:pt x="2879725" y="825818"/>
                    <a:pt x="2875987" y="833438"/>
                    <a:pt x="2868510" y="833438"/>
                  </a:cubicBezTo>
                  <a:cubicBezTo>
                    <a:pt x="2838604" y="833438"/>
                    <a:pt x="2804959" y="833438"/>
                    <a:pt x="2771314" y="833438"/>
                  </a:cubicBezTo>
                  <a:cubicBezTo>
                    <a:pt x="2767576" y="833438"/>
                    <a:pt x="2763837" y="829628"/>
                    <a:pt x="2763837" y="825818"/>
                  </a:cubicBezTo>
                  <a:cubicBezTo>
                    <a:pt x="2763837" y="822008"/>
                    <a:pt x="2767576" y="814388"/>
                    <a:pt x="2771314" y="814388"/>
                  </a:cubicBezTo>
                  <a:close/>
                  <a:moveTo>
                    <a:pt x="2451202" y="814388"/>
                  </a:moveTo>
                  <a:cubicBezTo>
                    <a:pt x="2484847" y="818092"/>
                    <a:pt x="2514754" y="818092"/>
                    <a:pt x="2548399" y="818092"/>
                  </a:cubicBezTo>
                  <a:cubicBezTo>
                    <a:pt x="2552137" y="818092"/>
                    <a:pt x="2555875" y="821797"/>
                    <a:pt x="2555875" y="825501"/>
                  </a:cubicBezTo>
                  <a:cubicBezTo>
                    <a:pt x="2555875" y="832909"/>
                    <a:pt x="2552137" y="836613"/>
                    <a:pt x="2548399" y="836613"/>
                  </a:cubicBezTo>
                  <a:cubicBezTo>
                    <a:pt x="2514754" y="836613"/>
                    <a:pt x="2481109" y="836613"/>
                    <a:pt x="2451202" y="832909"/>
                  </a:cubicBezTo>
                  <a:cubicBezTo>
                    <a:pt x="2443726" y="832909"/>
                    <a:pt x="2439987" y="829205"/>
                    <a:pt x="2439987" y="825501"/>
                  </a:cubicBezTo>
                  <a:cubicBezTo>
                    <a:pt x="2439987" y="821797"/>
                    <a:pt x="2443726" y="814388"/>
                    <a:pt x="2451202" y="814388"/>
                  </a:cubicBezTo>
                  <a:close/>
                  <a:moveTo>
                    <a:pt x="2387498" y="811213"/>
                  </a:moveTo>
                  <a:cubicBezTo>
                    <a:pt x="2394975" y="811213"/>
                    <a:pt x="2398713" y="814842"/>
                    <a:pt x="2398713" y="818470"/>
                  </a:cubicBezTo>
                  <a:cubicBezTo>
                    <a:pt x="2398713" y="825728"/>
                    <a:pt x="2394975" y="829356"/>
                    <a:pt x="2391237" y="829356"/>
                  </a:cubicBezTo>
                  <a:cubicBezTo>
                    <a:pt x="2357592" y="832985"/>
                    <a:pt x="2323947" y="832985"/>
                    <a:pt x="2290302" y="836613"/>
                  </a:cubicBezTo>
                  <a:cubicBezTo>
                    <a:pt x="2286564" y="836613"/>
                    <a:pt x="2282825" y="832985"/>
                    <a:pt x="2282825" y="829356"/>
                  </a:cubicBezTo>
                  <a:cubicBezTo>
                    <a:pt x="2282825" y="822099"/>
                    <a:pt x="2286564" y="818470"/>
                    <a:pt x="2290302" y="818470"/>
                  </a:cubicBezTo>
                  <a:cubicBezTo>
                    <a:pt x="2323947" y="814842"/>
                    <a:pt x="2353853" y="814842"/>
                    <a:pt x="2387498" y="811213"/>
                  </a:cubicBezTo>
                  <a:close/>
                  <a:moveTo>
                    <a:pt x="2132115" y="811213"/>
                  </a:moveTo>
                  <a:cubicBezTo>
                    <a:pt x="2162022" y="811213"/>
                    <a:pt x="2195667" y="814917"/>
                    <a:pt x="2229312" y="814917"/>
                  </a:cubicBezTo>
                  <a:cubicBezTo>
                    <a:pt x="2233050" y="814917"/>
                    <a:pt x="2236788" y="818622"/>
                    <a:pt x="2236788" y="822326"/>
                  </a:cubicBezTo>
                  <a:cubicBezTo>
                    <a:pt x="2236788" y="829734"/>
                    <a:pt x="2233050" y="833438"/>
                    <a:pt x="2229312" y="833438"/>
                  </a:cubicBezTo>
                  <a:cubicBezTo>
                    <a:pt x="2195667" y="829734"/>
                    <a:pt x="2162022" y="829734"/>
                    <a:pt x="2128377" y="829734"/>
                  </a:cubicBezTo>
                  <a:cubicBezTo>
                    <a:pt x="2124639" y="829734"/>
                    <a:pt x="2120900" y="826030"/>
                    <a:pt x="2120900" y="822326"/>
                  </a:cubicBezTo>
                  <a:cubicBezTo>
                    <a:pt x="2120900" y="814917"/>
                    <a:pt x="2124639" y="811213"/>
                    <a:pt x="2132115" y="811213"/>
                  </a:cubicBezTo>
                  <a:close/>
                  <a:moveTo>
                    <a:pt x="1970286" y="811213"/>
                  </a:moveTo>
                  <a:cubicBezTo>
                    <a:pt x="1989138" y="811213"/>
                    <a:pt x="2011760" y="811213"/>
                    <a:pt x="2030611" y="811213"/>
                  </a:cubicBezTo>
                  <a:cubicBezTo>
                    <a:pt x="2041922" y="811213"/>
                    <a:pt x="2057003" y="811213"/>
                    <a:pt x="2068314" y="811213"/>
                  </a:cubicBezTo>
                  <a:cubicBezTo>
                    <a:pt x="2072085" y="811213"/>
                    <a:pt x="2079625" y="814706"/>
                    <a:pt x="2079625" y="821691"/>
                  </a:cubicBezTo>
                  <a:cubicBezTo>
                    <a:pt x="2079625" y="825184"/>
                    <a:pt x="2072085" y="828676"/>
                    <a:pt x="2068314" y="828676"/>
                  </a:cubicBezTo>
                  <a:cubicBezTo>
                    <a:pt x="2057003" y="828676"/>
                    <a:pt x="2041922" y="828676"/>
                    <a:pt x="2030611" y="828676"/>
                  </a:cubicBezTo>
                  <a:cubicBezTo>
                    <a:pt x="2011760" y="828676"/>
                    <a:pt x="1989138" y="828676"/>
                    <a:pt x="1970286" y="828676"/>
                  </a:cubicBezTo>
                  <a:cubicBezTo>
                    <a:pt x="1966516" y="828676"/>
                    <a:pt x="1958975" y="825184"/>
                    <a:pt x="1958975" y="821691"/>
                  </a:cubicBezTo>
                  <a:cubicBezTo>
                    <a:pt x="1958975" y="814706"/>
                    <a:pt x="1966516" y="811213"/>
                    <a:pt x="1970286" y="811213"/>
                  </a:cubicBezTo>
                  <a:close/>
                  <a:moveTo>
                    <a:pt x="1807804" y="811213"/>
                  </a:moveTo>
                  <a:cubicBezTo>
                    <a:pt x="1841910" y="811213"/>
                    <a:pt x="1876016" y="811213"/>
                    <a:pt x="1910121" y="811213"/>
                  </a:cubicBezTo>
                  <a:cubicBezTo>
                    <a:pt x="1913911" y="811213"/>
                    <a:pt x="1917700" y="814706"/>
                    <a:pt x="1917700" y="821691"/>
                  </a:cubicBezTo>
                  <a:cubicBezTo>
                    <a:pt x="1917700" y="825184"/>
                    <a:pt x="1913911" y="828676"/>
                    <a:pt x="1906332" y="828676"/>
                  </a:cubicBezTo>
                  <a:cubicBezTo>
                    <a:pt x="1876016" y="828676"/>
                    <a:pt x="1841910" y="828676"/>
                    <a:pt x="1807804" y="828676"/>
                  </a:cubicBezTo>
                  <a:cubicBezTo>
                    <a:pt x="1804015" y="828676"/>
                    <a:pt x="1800225" y="825184"/>
                    <a:pt x="1800225" y="818198"/>
                  </a:cubicBezTo>
                  <a:cubicBezTo>
                    <a:pt x="1800225" y="814706"/>
                    <a:pt x="1804015" y="811213"/>
                    <a:pt x="1807804" y="811213"/>
                  </a:cubicBezTo>
                  <a:close/>
                  <a:moveTo>
                    <a:pt x="1488613" y="806450"/>
                  </a:moveTo>
                  <a:cubicBezTo>
                    <a:pt x="1522259" y="806450"/>
                    <a:pt x="1555904" y="806450"/>
                    <a:pt x="1585810" y="806450"/>
                  </a:cubicBezTo>
                  <a:cubicBezTo>
                    <a:pt x="1593287" y="806450"/>
                    <a:pt x="1597025" y="810260"/>
                    <a:pt x="1597025" y="817880"/>
                  </a:cubicBezTo>
                  <a:cubicBezTo>
                    <a:pt x="1597025" y="821690"/>
                    <a:pt x="1593287" y="825500"/>
                    <a:pt x="1585810" y="825500"/>
                  </a:cubicBezTo>
                  <a:cubicBezTo>
                    <a:pt x="1552165" y="825500"/>
                    <a:pt x="1522259" y="825500"/>
                    <a:pt x="1488613" y="825500"/>
                  </a:cubicBezTo>
                  <a:cubicBezTo>
                    <a:pt x="1484875" y="825500"/>
                    <a:pt x="1481137" y="821690"/>
                    <a:pt x="1481137" y="814070"/>
                  </a:cubicBezTo>
                  <a:cubicBezTo>
                    <a:pt x="1481137" y="810260"/>
                    <a:pt x="1484875" y="806450"/>
                    <a:pt x="1488613" y="806450"/>
                  </a:cubicBezTo>
                  <a:close/>
                  <a:moveTo>
                    <a:pt x="627523" y="806450"/>
                  </a:moveTo>
                  <a:cubicBezTo>
                    <a:pt x="631262" y="806450"/>
                    <a:pt x="635000" y="810154"/>
                    <a:pt x="635000" y="813859"/>
                  </a:cubicBezTo>
                  <a:cubicBezTo>
                    <a:pt x="635000" y="821267"/>
                    <a:pt x="631262" y="824971"/>
                    <a:pt x="627523" y="824971"/>
                  </a:cubicBezTo>
                  <a:cubicBezTo>
                    <a:pt x="593878" y="824971"/>
                    <a:pt x="560233" y="824971"/>
                    <a:pt x="526589" y="828675"/>
                  </a:cubicBezTo>
                  <a:cubicBezTo>
                    <a:pt x="522850" y="828675"/>
                    <a:pt x="519112" y="824971"/>
                    <a:pt x="519112" y="817563"/>
                  </a:cubicBezTo>
                  <a:cubicBezTo>
                    <a:pt x="519112" y="813859"/>
                    <a:pt x="522850" y="810154"/>
                    <a:pt x="526589" y="810154"/>
                  </a:cubicBezTo>
                  <a:cubicBezTo>
                    <a:pt x="560233" y="806450"/>
                    <a:pt x="593878" y="806450"/>
                    <a:pt x="627523" y="806450"/>
                  </a:cubicBezTo>
                  <a:close/>
                  <a:moveTo>
                    <a:pt x="3030896" y="803275"/>
                  </a:moveTo>
                  <a:cubicBezTo>
                    <a:pt x="3034686" y="803275"/>
                    <a:pt x="3038475" y="806904"/>
                    <a:pt x="3038475" y="814161"/>
                  </a:cubicBezTo>
                  <a:cubicBezTo>
                    <a:pt x="3038475" y="817790"/>
                    <a:pt x="3034686" y="821418"/>
                    <a:pt x="3030896" y="821418"/>
                  </a:cubicBezTo>
                  <a:cubicBezTo>
                    <a:pt x="2996791" y="825047"/>
                    <a:pt x="2962685" y="825047"/>
                    <a:pt x="2932369" y="828675"/>
                  </a:cubicBezTo>
                  <a:cubicBezTo>
                    <a:pt x="2924790" y="828675"/>
                    <a:pt x="2921000" y="825047"/>
                    <a:pt x="2921000" y="821418"/>
                  </a:cubicBezTo>
                  <a:cubicBezTo>
                    <a:pt x="2921000" y="814161"/>
                    <a:pt x="2924790" y="810532"/>
                    <a:pt x="2928579" y="810532"/>
                  </a:cubicBezTo>
                  <a:cubicBezTo>
                    <a:pt x="2962685" y="810532"/>
                    <a:pt x="2996791" y="806904"/>
                    <a:pt x="3030896" y="803275"/>
                  </a:cubicBezTo>
                  <a:close/>
                  <a:moveTo>
                    <a:pt x="1168598" y="803275"/>
                  </a:moveTo>
                  <a:cubicBezTo>
                    <a:pt x="1202531" y="803275"/>
                    <a:pt x="1232693" y="803275"/>
                    <a:pt x="1266626" y="803275"/>
                  </a:cubicBezTo>
                  <a:cubicBezTo>
                    <a:pt x="1270396" y="803275"/>
                    <a:pt x="1277937" y="807085"/>
                    <a:pt x="1274167" y="814705"/>
                  </a:cubicBezTo>
                  <a:cubicBezTo>
                    <a:pt x="1274167" y="818515"/>
                    <a:pt x="1270396" y="822325"/>
                    <a:pt x="1266626" y="822325"/>
                  </a:cubicBezTo>
                  <a:cubicBezTo>
                    <a:pt x="1232693" y="822325"/>
                    <a:pt x="1202531" y="822325"/>
                    <a:pt x="1168598" y="822325"/>
                  </a:cubicBezTo>
                  <a:cubicBezTo>
                    <a:pt x="1161057" y="822325"/>
                    <a:pt x="1157287" y="818515"/>
                    <a:pt x="1157287" y="810895"/>
                  </a:cubicBezTo>
                  <a:cubicBezTo>
                    <a:pt x="1157287" y="807085"/>
                    <a:pt x="1161057" y="803275"/>
                    <a:pt x="1168598" y="803275"/>
                  </a:cubicBezTo>
                  <a:close/>
                  <a:moveTo>
                    <a:pt x="849415" y="803275"/>
                  </a:moveTo>
                  <a:cubicBezTo>
                    <a:pt x="879321" y="803275"/>
                    <a:pt x="912966" y="803275"/>
                    <a:pt x="946611" y="803275"/>
                  </a:cubicBezTo>
                  <a:cubicBezTo>
                    <a:pt x="950350" y="803275"/>
                    <a:pt x="954088" y="807085"/>
                    <a:pt x="954088" y="810895"/>
                  </a:cubicBezTo>
                  <a:cubicBezTo>
                    <a:pt x="954088" y="814705"/>
                    <a:pt x="950350" y="822325"/>
                    <a:pt x="946611" y="822325"/>
                  </a:cubicBezTo>
                  <a:cubicBezTo>
                    <a:pt x="912966" y="822325"/>
                    <a:pt x="879321" y="822325"/>
                    <a:pt x="849415" y="822325"/>
                  </a:cubicBezTo>
                  <a:cubicBezTo>
                    <a:pt x="841938" y="822325"/>
                    <a:pt x="838200" y="818515"/>
                    <a:pt x="838200" y="810895"/>
                  </a:cubicBezTo>
                  <a:cubicBezTo>
                    <a:pt x="838200" y="807085"/>
                    <a:pt x="841938" y="803275"/>
                    <a:pt x="849415" y="803275"/>
                  </a:cubicBezTo>
                  <a:close/>
                  <a:moveTo>
                    <a:pt x="1649669" y="798513"/>
                  </a:moveTo>
                  <a:cubicBezTo>
                    <a:pt x="1683774" y="806133"/>
                    <a:pt x="1717880" y="809943"/>
                    <a:pt x="1748196" y="817563"/>
                  </a:cubicBezTo>
                  <a:cubicBezTo>
                    <a:pt x="1751986" y="817563"/>
                    <a:pt x="1755775" y="825183"/>
                    <a:pt x="1755775" y="828993"/>
                  </a:cubicBezTo>
                  <a:cubicBezTo>
                    <a:pt x="1755775" y="832803"/>
                    <a:pt x="1751986" y="836613"/>
                    <a:pt x="1744407" y="836613"/>
                  </a:cubicBezTo>
                  <a:cubicBezTo>
                    <a:pt x="1714091" y="828993"/>
                    <a:pt x="1679985" y="825183"/>
                    <a:pt x="1645879" y="817563"/>
                  </a:cubicBezTo>
                  <a:cubicBezTo>
                    <a:pt x="1642090" y="817563"/>
                    <a:pt x="1638300" y="813753"/>
                    <a:pt x="1638300" y="806133"/>
                  </a:cubicBezTo>
                  <a:cubicBezTo>
                    <a:pt x="1642090" y="802323"/>
                    <a:pt x="1645879" y="798513"/>
                    <a:pt x="1649669" y="798513"/>
                  </a:cubicBezTo>
                  <a:close/>
                  <a:moveTo>
                    <a:pt x="1413286" y="798513"/>
                  </a:moveTo>
                  <a:cubicBezTo>
                    <a:pt x="1417049" y="798513"/>
                    <a:pt x="1420812" y="802284"/>
                    <a:pt x="1420812" y="809824"/>
                  </a:cubicBezTo>
                  <a:cubicBezTo>
                    <a:pt x="1420812" y="813595"/>
                    <a:pt x="1417049" y="817365"/>
                    <a:pt x="1413286" y="817365"/>
                  </a:cubicBezTo>
                  <a:cubicBezTo>
                    <a:pt x="1386945" y="821135"/>
                    <a:pt x="1356842" y="824906"/>
                    <a:pt x="1330501" y="828676"/>
                  </a:cubicBezTo>
                  <a:cubicBezTo>
                    <a:pt x="1322975" y="828676"/>
                    <a:pt x="1319212" y="824906"/>
                    <a:pt x="1319212" y="821135"/>
                  </a:cubicBezTo>
                  <a:cubicBezTo>
                    <a:pt x="1319212" y="813595"/>
                    <a:pt x="1322975" y="809824"/>
                    <a:pt x="1326738" y="809824"/>
                  </a:cubicBezTo>
                  <a:cubicBezTo>
                    <a:pt x="1353079" y="806054"/>
                    <a:pt x="1383182" y="802284"/>
                    <a:pt x="1413286" y="798513"/>
                  </a:cubicBezTo>
                  <a:close/>
                  <a:moveTo>
                    <a:pt x="785614" y="798513"/>
                  </a:moveTo>
                  <a:cubicBezTo>
                    <a:pt x="789384" y="798513"/>
                    <a:pt x="793155" y="802284"/>
                    <a:pt x="796925" y="806054"/>
                  </a:cubicBezTo>
                  <a:cubicBezTo>
                    <a:pt x="796925" y="813595"/>
                    <a:pt x="793155" y="817365"/>
                    <a:pt x="785614" y="817365"/>
                  </a:cubicBezTo>
                  <a:cubicBezTo>
                    <a:pt x="755451" y="821135"/>
                    <a:pt x="721519" y="824906"/>
                    <a:pt x="687586" y="824906"/>
                  </a:cubicBezTo>
                  <a:cubicBezTo>
                    <a:pt x="687586" y="824906"/>
                    <a:pt x="687586" y="828676"/>
                    <a:pt x="687586" y="828676"/>
                  </a:cubicBezTo>
                  <a:cubicBezTo>
                    <a:pt x="683815" y="828676"/>
                    <a:pt x="680045" y="824906"/>
                    <a:pt x="680045" y="817365"/>
                  </a:cubicBezTo>
                  <a:cubicBezTo>
                    <a:pt x="676275" y="813595"/>
                    <a:pt x="680045" y="809824"/>
                    <a:pt x="687586" y="809824"/>
                  </a:cubicBezTo>
                  <a:cubicBezTo>
                    <a:pt x="717748" y="806054"/>
                    <a:pt x="751681" y="802284"/>
                    <a:pt x="785614" y="798513"/>
                  </a:cubicBezTo>
                  <a:close/>
                  <a:moveTo>
                    <a:pt x="1011340" y="795338"/>
                  </a:moveTo>
                  <a:cubicBezTo>
                    <a:pt x="1041246" y="799042"/>
                    <a:pt x="1074891" y="802747"/>
                    <a:pt x="1108536" y="806451"/>
                  </a:cubicBezTo>
                  <a:cubicBezTo>
                    <a:pt x="1112275" y="810155"/>
                    <a:pt x="1116013" y="813859"/>
                    <a:pt x="1116013" y="817564"/>
                  </a:cubicBezTo>
                  <a:cubicBezTo>
                    <a:pt x="1116013" y="824972"/>
                    <a:pt x="1108536" y="828676"/>
                    <a:pt x="1104798" y="824972"/>
                  </a:cubicBezTo>
                  <a:cubicBezTo>
                    <a:pt x="1071153" y="821268"/>
                    <a:pt x="1041246" y="817564"/>
                    <a:pt x="1007602" y="813859"/>
                  </a:cubicBezTo>
                  <a:cubicBezTo>
                    <a:pt x="1003863" y="813859"/>
                    <a:pt x="1000125" y="806451"/>
                    <a:pt x="1000125" y="802747"/>
                  </a:cubicBezTo>
                  <a:cubicBezTo>
                    <a:pt x="1000125" y="799042"/>
                    <a:pt x="1003863" y="795338"/>
                    <a:pt x="1011340" y="795338"/>
                  </a:cubicBezTo>
                  <a:close/>
                  <a:moveTo>
                    <a:pt x="47983" y="734631"/>
                  </a:moveTo>
                  <a:cubicBezTo>
                    <a:pt x="50346" y="735563"/>
                    <a:pt x="52236" y="737425"/>
                    <a:pt x="52236" y="739287"/>
                  </a:cubicBezTo>
                  <a:cubicBezTo>
                    <a:pt x="67355" y="780257"/>
                    <a:pt x="78694" y="798880"/>
                    <a:pt x="105152" y="810054"/>
                  </a:cubicBezTo>
                  <a:cubicBezTo>
                    <a:pt x="108932" y="813778"/>
                    <a:pt x="112712" y="817503"/>
                    <a:pt x="108932" y="821227"/>
                  </a:cubicBezTo>
                  <a:cubicBezTo>
                    <a:pt x="108932" y="824952"/>
                    <a:pt x="105152" y="828676"/>
                    <a:pt x="101373" y="828676"/>
                  </a:cubicBezTo>
                  <a:cubicBezTo>
                    <a:pt x="101373" y="828676"/>
                    <a:pt x="97593" y="828676"/>
                    <a:pt x="97593" y="828676"/>
                  </a:cubicBezTo>
                  <a:cubicBezTo>
                    <a:pt x="63575" y="813778"/>
                    <a:pt x="48456" y="787706"/>
                    <a:pt x="33337" y="746736"/>
                  </a:cubicBezTo>
                  <a:cubicBezTo>
                    <a:pt x="33337" y="743012"/>
                    <a:pt x="37117" y="735563"/>
                    <a:pt x="40896" y="735563"/>
                  </a:cubicBezTo>
                  <a:cubicBezTo>
                    <a:pt x="42786" y="733700"/>
                    <a:pt x="45621" y="733700"/>
                    <a:pt x="47983" y="734631"/>
                  </a:cubicBezTo>
                  <a:close/>
                  <a:moveTo>
                    <a:pt x="13891" y="576263"/>
                  </a:moveTo>
                  <a:cubicBezTo>
                    <a:pt x="21431" y="576263"/>
                    <a:pt x="25202" y="580053"/>
                    <a:pt x="25202" y="583842"/>
                  </a:cubicBezTo>
                  <a:cubicBezTo>
                    <a:pt x="25202" y="617948"/>
                    <a:pt x="28972" y="648264"/>
                    <a:pt x="36513" y="682370"/>
                  </a:cubicBezTo>
                  <a:cubicBezTo>
                    <a:pt x="36513" y="686159"/>
                    <a:pt x="32742" y="693738"/>
                    <a:pt x="28972" y="693738"/>
                  </a:cubicBezTo>
                  <a:cubicBezTo>
                    <a:pt x="25202" y="693738"/>
                    <a:pt x="17661" y="689949"/>
                    <a:pt x="17661" y="686159"/>
                  </a:cubicBezTo>
                  <a:cubicBezTo>
                    <a:pt x="10120" y="652053"/>
                    <a:pt x="10120" y="617948"/>
                    <a:pt x="6350" y="583842"/>
                  </a:cubicBezTo>
                  <a:cubicBezTo>
                    <a:pt x="6350" y="580053"/>
                    <a:pt x="10120" y="576263"/>
                    <a:pt x="13891" y="576263"/>
                  </a:cubicBezTo>
                  <a:close/>
                  <a:moveTo>
                    <a:pt x="3282752" y="542925"/>
                  </a:moveTo>
                  <a:cubicBezTo>
                    <a:pt x="3290293" y="542925"/>
                    <a:pt x="3294063" y="546715"/>
                    <a:pt x="3294063" y="550504"/>
                  </a:cubicBezTo>
                  <a:cubicBezTo>
                    <a:pt x="3290293" y="584610"/>
                    <a:pt x="3286522" y="618715"/>
                    <a:pt x="3282752" y="649032"/>
                  </a:cubicBezTo>
                  <a:cubicBezTo>
                    <a:pt x="3282752" y="656611"/>
                    <a:pt x="3278982" y="660400"/>
                    <a:pt x="3275211" y="660400"/>
                  </a:cubicBezTo>
                  <a:cubicBezTo>
                    <a:pt x="3267671" y="660400"/>
                    <a:pt x="3263900" y="652821"/>
                    <a:pt x="3263900" y="649032"/>
                  </a:cubicBezTo>
                  <a:cubicBezTo>
                    <a:pt x="3267671" y="618715"/>
                    <a:pt x="3271441" y="584610"/>
                    <a:pt x="3275211" y="550504"/>
                  </a:cubicBezTo>
                  <a:cubicBezTo>
                    <a:pt x="3275211" y="546715"/>
                    <a:pt x="3278982" y="542925"/>
                    <a:pt x="3282752" y="542925"/>
                  </a:cubicBezTo>
                  <a:close/>
                  <a:moveTo>
                    <a:pt x="18256" y="414338"/>
                  </a:moveTo>
                  <a:cubicBezTo>
                    <a:pt x="26194" y="414338"/>
                    <a:pt x="30163" y="418128"/>
                    <a:pt x="30163" y="425707"/>
                  </a:cubicBezTo>
                  <a:cubicBezTo>
                    <a:pt x="26194" y="459812"/>
                    <a:pt x="26194" y="490128"/>
                    <a:pt x="26194" y="524234"/>
                  </a:cubicBezTo>
                  <a:cubicBezTo>
                    <a:pt x="26194" y="528024"/>
                    <a:pt x="22225" y="531813"/>
                    <a:pt x="14288" y="531813"/>
                  </a:cubicBezTo>
                  <a:cubicBezTo>
                    <a:pt x="10319" y="531813"/>
                    <a:pt x="6350" y="528024"/>
                    <a:pt x="6350" y="524234"/>
                  </a:cubicBezTo>
                  <a:cubicBezTo>
                    <a:pt x="6350" y="490128"/>
                    <a:pt x="6350" y="456023"/>
                    <a:pt x="10319" y="425707"/>
                  </a:cubicBezTo>
                  <a:cubicBezTo>
                    <a:pt x="10319" y="418128"/>
                    <a:pt x="14288" y="414338"/>
                    <a:pt x="18256" y="414338"/>
                  </a:cubicBezTo>
                  <a:close/>
                  <a:moveTo>
                    <a:pt x="3297464" y="381000"/>
                  </a:moveTo>
                  <a:cubicBezTo>
                    <a:pt x="3301320" y="381000"/>
                    <a:pt x="3305175" y="384790"/>
                    <a:pt x="3305175" y="392369"/>
                  </a:cubicBezTo>
                  <a:cubicBezTo>
                    <a:pt x="3305175" y="426474"/>
                    <a:pt x="3301320" y="456790"/>
                    <a:pt x="3297464" y="490896"/>
                  </a:cubicBezTo>
                  <a:cubicBezTo>
                    <a:pt x="3297464" y="494686"/>
                    <a:pt x="3293609" y="498475"/>
                    <a:pt x="3289754" y="498475"/>
                  </a:cubicBezTo>
                  <a:cubicBezTo>
                    <a:pt x="3289754" y="498475"/>
                    <a:pt x="3285898" y="498475"/>
                    <a:pt x="3285898" y="498475"/>
                  </a:cubicBezTo>
                  <a:cubicBezTo>
                    <a:pt x="3282043" y="498475"/>
                    <a:pt x="3278187" y="494686"/>
                    <a:pt x="3278187" y="490896"/>
                  </a:cubicBezTo>
                  <a:cubicBezTo>
                    <a:pt x="3282043" y="456790"/>
                    <a:pt x="3285898" y="422685"/>
                    <a:pt x="3285898" y="388579"/>
                  </a:cubicBezTo>
                  <a:cubicBezTo>
                    <a:pt x="3285898" y="384790"/>
                    <a:pt x="3289754" y="381000"/>
                    <a:pt x="3297464" y="381000"/>
                  </a:cubicBezTo>
                  <a:close/>
                  <a:moveTo>
                    <a:pt x="14741" y="257175"/>
                  </a:moveTo>
                  <a:cubicBezTo>
                    <a:pt x="18597" y="257175"/>
                    <a:pt x="22452" y="260913"/>
                    <a:pt x="26307" y="264652"/>
                  </a:cubicBezTo>
                  <a:cubicBezTo>
                    <a:pt x="26307" y="290820"/>
                    <a:pt x="30163" y="313250"/>
                    <a:pt x="30163" y="328203"/>
                  </a:cubicBezTo>
                  <a:cubicBezTo>
                    <a:pt x="30163" y="328203"/>
                    <a:pt x="30163" y="331942"/>
                    <a:pt x="30163" y="331942"/>
                  </a:cubicBezTo>
                  <a:cubicBezTo>
                    <a:pt x="30163" y="343157"/>
                    <a:pt x="30163" y="354372"/>
                    <a:pt x="30163" y="361848"/>
                  </a:cubicBezTo>
                  <a:cubicBezTo>
                    <a:pt x="30163" y="369325"/>
                    <a:pt x="26307" y="373063"/>
                    <a:pt x="22452" y="373063"/>
                  </a:cubicBezTo>
                  <a:cubicBezTo>
                    <a:pt x="14741" y="373063"/>
                    <a:pt x="10886" y="369325"/>
                    <a:pt x="10886" y="361848"/>
                  </a:cubicBezTo>
                  <a:cubicBezTo>
                    <a:pt x="10886" y="350633"/>
                    <a:pt x="10886" y="343157"/>
                    <a:pt x="10886" y="331942"/>
                  </a:cubicBezTo>
                  <a:cubicBezTo>
                    <a:pt x="10886" y="331942"/>
                    <a:pt x="10886" y="328203"/>
                    <a:pt x="10886" y="328203"/>
                  </a:cubicBezTo>
                  <a:cubicBezTo>
                    <a:pt x="10886" y="313250"/>
                    <a:pt x="10886" y="290820"/>
                    <a:pt x="7030" y="268390"/>
                  </a:cubicBezTo>
                  <a:cubicBezTo>
                    <a:pt x="3175" y="260913"/>
                    <a:pt x="7030" y="257175"/>
                    <a:pt x="14741" y="257175"/>
                  </a:cubicBezTo>
                  <a:close/>
                  <a:moveTo>
                    <a:pt x="3297238" y="222845"/>
                  </a:moveTo>
                  <a:cubicBezTo>
                    <a:pt x="3300942" y="219075"/>
                    <a:pt x="3304646" y="226616"/>
                    <a:pt x="3304646" y="230386"/>
                  </a:cubicBezTo>
                  <a:cubicBezTo>
                    <a:pt x="3308350" y="253008"/>
                    <a:pt x="3308350" y="275630"/>
                    <a:pt x="3308350" y="298252"/>
                  </a:cubicBezTo>
                  <a:cubicBezTo>
                    <a:pt x="3308350" y="309563"/>
                    <a:pt x="3308350" y="317103"/>
                    <a:pt x="3308350" y="328414"/>
                  </a:cubicBezTo>
                  <a:cubicBezTo>
                    <a:pt x="3308350" y="335955"/>
                    <a:pt x="3304646" y="339725"/>
                    <a:pt x="3297238" y="339725"/>
                  </a:cubicBezTo>
                  <a:cubicBezTo>
                    <a:pt x="3293534" y="339725"/>
                    <a:pt x="3289829" y="335955"/>
                    <a:pt x="3289829" y="328414"/>
                  </a:cubicBezTo>
                  <a:cubicBezTo>
                    <a:pt x="3289829" y="317103"/>
                    <a:pt x="3289829" y="309563"/>
                    <a:pt x="3289829" y="298252"/>
                  </a:cubicBezTo>
                  <a:cubicBezTo>
                    <a:pt x="3289829" y="275630"/>
                    <a:pt x="3289829" y="253008"/>
                    <a:pt x="3286125" y="230386"/>
                  </a:cubicBezTo>
                  <a:cubicBezTo>
                    <a:pt x="3286125" y="226616"/>
                    <a:pt x="3289829" y="222845"/>
                    <a:pt x="3297238" y="222845"/>
                  </a:cubicBezTo>
                  <a:close/>
                  <a:moveTo>
                    <a:pt x="18852" y="98054"/>
                  </a:moveTo>
                  <a:cubicBezTo>
                    <a:pt x="21680" y="97119"/>
                    <a:pt x="24507" y="97119"/>
                    <a:pt x="26392" y="98988"/>
                  </a:cubicBezTo>
                  <a:cubicBezTo>
                    <a:pt x="30163" y="102727"/>
                    <a:pt x="30163" y="106465"/>
                    <a:pt x="30163" y="113942"/>
                  </a:cubicBezTo>
                  <a:cubicBezTo>
                    <a:pt x="18852" y="125157"/>
                    <a:pt x="15081" y="147587"/>
                    <a:pt x="18852" y="173755"/>
                  </a:cubicBezTo>
                  <a:cubicBezTo>
                    <a:pt x="18852" y="184970"/>
                    <a:pt x="18852" y="192447"/>
                    <a:pt x="18852" y="203661"/>
                  </a:cubicBezTo>
                  <a:cubicBezTo>
                    <a:pt x="18852" y="207400"/>
                    <a:pt x="15081" y="211138"/>
                    <a:pt x="11311" y="211138"/>
                  </a:cubicBezTo>
                  <a:cubicBezTo>
                    <a:pt x="7541" y="211138"/>
                    <a:pt x="7541" y="211138"/>
                    <a:pt x="7541" y="211138"/>
                  </a:cubicBezTo>
                  <a:cubicBezTo>
                    <a:pt x="3770" y="211138"/>
                    <a:pt x="0" y="207400"/>
                    <a:pt x="0" y="203661"/>
                  </a:cubicBezTo>
                  <a:cubicBezTo>
                    <a:pt x="0" y="192447"/>
                    <a:pt x="0" y="184970"/>
                    <a:pt x="0" y="173755"/>
                  </a:cubicBezTo>
                  <a:cubicBezTo>
                    <a:pt x="0" y="147587"/>
                    <a:pt x="0" y="121418"/>
                    <a:pt x="11311" y="102727"/>
                  </a:cubicBezTo>
                  <a:cubicBezTo>
                    <a:pt x="13196" y="100858"/>
                    <a:pt x="16024" y="98988"/>
                    <a:pt x="18852" y="98054"/>
                  </a:cubicBezTo>
                  <a:close/>
                  <a:moveTo>
                    <a:pt x="3259666" y="65088"/>
                  </a:moveTo>
                  <a:cubicBezTo>
                    <a:pt x="3267075" y="65088"/>
                    <a:pt x="3270779" y="65088"/>
                    <a:pt x="3274483" y="72602"/>
                  </a:cubicBezTo>
                  <a:cubicBezTo>
                    <a:pt x="3285596" y="102659"/>
                    <a:pt x="3293004" y="132716"/>
                    <a:pt x="3300412" y="166530"/>
                  </a:cubicBezTo>
                  <a:cubicBezTo>
                    <a:pt x="3300412" y="174044"/>
                    <a:pt x="3296708" y="177801"/>
                    <a:pt x="3289300" y="177801"/>
                  </a:cubicBezTo>
                  <a:cubicBezTo>
                    <a:pt x="3285596" y="177801"/>
                    <a:pt x="3281891" y="174044"/>
                    <a:pt x="3281891" y="170287"/>
                  </a:cubicBezTo>
                  <a:cubicBezTo>
                    <a:pt x="3274483" y="136473"/>
                    <a:pt x="3267075" y="106416"/>
                    <a:pt x="3255962" y="76359"/>
                  </a:cubicBezTo>
                  <a:cubicBezTo>
                    <a:pt x="3255962" y="72602"/>
                    <a:pt x="3255962" y="68845"/>
                    <a:pt x="3259666" y="65088"/>
                  </a:cubicBezTo>
                  <a:close/>
                  <a:moveTo>
                    <a:pt x="168173" y="57150"/>
                  </a:moveTo>
                  <a:cubicBezTo>
                    <a:pt x="175650" y="57150"/>
                    <a:pt x="179388" y="60921"/>
                    <a:pt x="179388" y="64691"/>
                  </a:cubicBezTo>
                  <a:cubicBezTo>
                    <a:pt x="179388" y="72232"/>
                    <a:pt x="175650" y="76002"/>
                    <a:pt x="171911" y="76002"/>
                  </a:cubicBezTo>
                  <a:cubicBezTo>
                    <a:pt x="134528" y="76002"/>
                    <a:pt x="100883" y="79772"/>
                    <a:pt x="74715" y="87313"/>
                  </a:cubicBezTo>
                  <a:cubicBezTo>
                    <a:pt x="74715" y="87313"/>
                    <a:pt x="74715" y="87313"/>
                    <a:pt x="70977" y="87313"/>
                  </a:cubicBezTo>
                  <a:cubicBezTo>
                    <a:pt x="67238" y="87313"/>
                    <a:pt x="63500" y="83543"/>
                    <a:pt x="63500" y="79772"/>
                  </a:cubicBezTo>
                  <a:cubicBezTo>
                    <a:pt x="63500" y="76002"/>
                    <a:pt x="67238" y="68461"/>
                    <a:pt x="70977" y="68461"/>
                  </a:cubicBezTo>
                  <a:cubicBezTo>
                    <a:pt x="100883" y="60921"/>
                    <a:pt x="134528" y="60921"/>
                    <a:pt x="168173" y="57150"/>
                  </a:cubicBezTo>
                  <a:close/>
                  <a:moveTo>
                    <a:pt x="3116519" y="46038"/>
                  </a:moveTo>
                  <a:cubicBezTo>
                    <a:pt x="3146835" y="46038"/>
                    <a:pt x="3180941" y="49742"/>
                    <a:pt x="3215046" y="49742"/>
                  </a:cubicBezTo>
                  <a:cubicBezTo>
                    <a:pt x="3218836" y="49742"/>
                    <a:pt x="3222625" y="53446"/>
                    <a:pt x="3222625" y="57151"/>
                  </a:cubicBezTo>
                  <a:cubicBezTo>
                    <a:pt x="3222625" y="60855"/>
                    <a:pt x="3218836" y="68263"/>
                    <a:pt x="3215046" y="68263"/>
                  </a:cubicBezTo>
                  <a:cubicBezTo>
                    <a:pt x="3180941" y="68263"/>
                    <a:pt x="3146835" y="64559"/>
                    <a:pt x="3116519" y="64559"/>
                  </a:cubicBezTo>
                  <a:cubicBezTo>
                    <a:pt x="3108940" y="64559"/>
                    <a:pt x="3105150" y="60855"/>
                    <a:pt x="3105150" y="57151"/>
                  </a:cubicBezTo>
                  <a:cubicBezTo>
                    <a:pt x="3105150" y="49742"/>
                    <a:pt x="3108940" y="46038"/>
                    <a:pt x="3116519" y="46038"/>
                  </a:cubicBezTo>
                  <a:close/>
                  <a:moveTo>
                    <a:pt x="330001" y="46038"/>
                  </a:moveTo>
                  <a:cubicBezTo>
                    <a:pt x="333771" y="46038"/>
                    <a:pt x="337542" y="49742"/>
                    <a:pt x="337542" y="53447"/>
                  </a:cubicBezTo>
                  <a:cubicBezTo>
                    <a:pt x="341312" y="57151"/>
                    <a:pt x="337542" y="60855"/>
                    <a:pt x="330001" y="64559"/>
                  </a:cubicBezTo>
                  <a:cubicBezTo>
                    <a:pt x="318690" y="64559"/>
                    <a:pt x="307379" y="68263"/>
                    <a:pt x="296068" y="68263"/>
                  </a:cubicBezTo>
                  <a:cubicBezTo>
                    <a:pt x="280987" y="71968"/>
                    <a:pt x="258365" y="75672"/>
                    <a:pt x="231973" y="75672"/>
                  </a:cubicBezTo>
                  <a:cubicBezTo>
                    <a:pt x="228202" y="79376"/>
                    <a:pt x="224432" y="75672"/>
                    <a:pt x="224432" y="68263"/>
                  </a:cubicBezTo>
                  <a:cubicBezTo>
                    <a:pt x="220662" y="64559"/>
                    <a:pt x="224432" y="60855"/>
                    <a:pt x="231973" y="60855"/>
                  </a:cubicBezTo>
                  <a:cubicBezTo>
                    <a:pt x="258365" y="57151"/>
                    <a:pt x="280987" y="53447"/>
                    <a:pt x="296068" y="49742"/>
                  </a:cubicBezTo>
                  <a:cubicBezTo>
                    <a:pt x="307379" y="49742"/>
                    <a:pt x="318690" y="46038"/>
                    <a:pt x="330001" y="46038"/>
                  </a:cubicBezTo>
                  <a:close/>
                  <a:moveTo>
                    <a:pt x="3058268" y="38166"/>
                  </a:moveTo>
                  <a:cubicBezTo>
                    <a:pt x="3060137" y="39555"/>
                    <a:pt x="3062006" y="42334"/>
                    <a:pt x="3063875" y="46038"/>
                  </a:cubicBezTo>
                  <a:cubicBezTo>
                    <a:pt x="3063875" y="49742"/>
                    <a:pt x="3060137" y="53446"/>
                    <a:pt x="3056399" y="53446"/>
                  </a:cubicBezTo>
                  <a:cubicBezTo>
                    <a:pt x="3056399" y="53446"/>
                    <a:pt x="3056399" y="53446"/>
                    <a:pt x="3052660" y="53446"/>
                  </a:cubicBezTo>
                  <a:cubicBezTo>
                    <a:pt x="3022754" y="60855"/>
                    <a:pt x="2989109" y="64559"/>
                    <a:pt x="2955464" y="68263"/>
                  </a:cubicBezTo>
                  <a:cubicBezTo>
                    <a:pt x="2951726" y="68263"/>
                    <a:pt x="2947987" y="64559"/>
                    <a:pt x="2947987" y="60855"/>
                  </a:cubicBezTo>
                  <a:cubicBezTo>
                    <a:pt x="2947987" y="53446"/>
                    <a:pt x="2947987" y="49742"/>
                    <a:pt x="2955464" y="49742"/>
                  </a:cubicBezTo>
                  <a:cubicBezTo>
                    <a:pt x="2989109" y="46038"/>
                    <a:pt x="3019015" y="42334"/>
                    <a:pt x="3052660" y="38629"/>
                  </a:cubicBezTo>
                  <a:cubicBezTo>
                    <a:pt x="3054529" y="36777"/>
                    <a:pt x="3056399" y="36777"/>
                    <a:pt x="3058268" y="38166"/>
                  </a:cubicBezTo>
                  <a:close/>
                  <a:moveTo>
                    <a:pt x="2797277" y="34925"/>
                  </a:moveTo>
                  <a:cubicBezTo>
                    <a:pt x="2827184" y="34925"/>
                    <a:pt x="2860829" y="34925"/>
                    <a:pt x="2894474" y="38629"/>
                  </a:cubicBezTo>
                  <a:cubicBezTo>
                    <a:pt x="2898212" y="38629"/>
                    <a:pt x="2901950" y="42333"/>
                    <a:pt x="2901950" y="46038"/>
                  </a:cubicBezTo>
                  <a:cubicBezTo>
                    <a:pt x="2901950" y="53446"/>
                    <a:pt x="2898212" y="57150"/>
                    <a:pt x="2894474" y="57150"/>
                  </a:cubicBezTo>
                  <a:cubicBezTo>
                    <a:pt x="2860829" y="53446"/>
                    <a:pt x="2827184" y="53446"/>
                    <a:pt x="2793539" y="49742"/>
                  </a:cubicBezTo>
                  <a:cubicBezTo>
                    <a:pt x="2789801" y="49742"/>
                    <a:pt x="2786062" y="46038"/>
                    <a:pt x="2786062" y="42333"/>
                  </a:cubicBezTo>
                  <a:cubicBezTo>
                    <a:pt x="2786062" y="38629"/>
                    <a:pt x="2789801" y="34925"/>
                    <a:pt x="2797277" y="34925"/>
                  </a:cubicBezTo>
                  <a:close/>
                  <a:moveTo>
                    <a:pt x="393955" y="34925"/>
                  </a:moveTo>
                  <a:cubicBezTo>
                    <a:pt x="428061" y="38629"/>
                    <a:pt x="458377" y="42334"/>
                    <a:pt x="492483" y="49742"/>
                  </a:cubicBezTo>
                  <a:cubicBezTo>
                    <a:pt x="496272" y="49742"/>
                    <a:pt x="500062" y="53446"/>
                    <a:pt x="500062" y="57150"/>
                  </a:cubicBezTo>
                  <a:cubicBezTo>
                    <a:pt x="500062" y="64559"/>
                    <a:pt x="496272" y="68263"/>
                    <a:pt x="488693" y="64559"/>
                  </a:cubicBezTo>
                  <a:cubicBezTo>
                    <a:pt x="458377" y="60855"/>
                    <a:pt x="424272" y="57150"/>
                    <a:pt x="390166" y="53446"/>
                  </a:cubicBezTo>
                  <a:cubicBezTo>
                    <a:pt x="386376" y="53446"/>
                    <a:pt x="382587" y="46038"/>
                    <a:pt x="382587" y="42334"/>
                  </a:cubicBezTo>
                  <a:cubicBezTo>
                    <a:pt x="382587" y="38629"/>
                    <a:pt x="390166" y="34925"/>
                    <a:pt x="393955" y="34925"/>
                  </a:cubicBezTo>
                  <a:close/>
                  <a:moveTo>
                    <a:pt x="2474452" y="23813"/>
                  </a:moveTo>
                  <a:cubicBezTo>
                    <a:pt x="2508097" y="23813"/>
                    <a:pt x="2541742" y="23813"/>
                    <a:pt x="2575387" y="23813"/>
                  </a:cubicBezTo>
                  <a:cubicBezTo>
                    <a:pt x="2579125" y="23813"/>
                    <a:pt x="2582863" y="27623"/>
                    <a:pt x="2582863" y="35243"/>
                  </a:cubicBezTo>
                  <a:cubicBezTo>
                    <a:pt x="2582863" y="39053"/>
                    <a:pt x="2579125" y="42863"/>
                    <a:pt x="2575387" y="42863"/>
                  </a:cubicBezTo>
                  <a:cubicBezTo>
                    <a:pt x="2571648" y="42863"/>
                    <a:pt x="2571648" y="42863"/>
                    <a:pt x="2571648" y="42863"/>
                  </a:cubicBezTo>
                  <a:cubicBezTo>
                    <a:pt x="2541742" y="42863"/>
                    <a:pt x="2508097" y="42863"/>
                    <a:pt x="2474452" y="42863"/>
                  </a:cubicBezTo>
                  <a:cubicBezTo>
                    <a:pt x="2470714" y="42863"/>
                    <a:pt x="2466975" y="39053"/>
                    <a:pt x="2466975" y="31433"/>
                  </a:cubicBezTo>
                  <a:cubicBezTo>
                    <a:pt x="2466975" y="27623"/>
                    <a:pt x="2470714" y="23813"/>
                    <a:pt x="2474452" y="23813"/>
                  </a:cubicBezTo>
                  <a:close/>
                  <a:moveTo>
                    <a:pt x="796811" y="22906"/>
                  </a:moveTo>
                  <a:cubicBezTo>
                    <a:pt x="804295" y="19050"/>
                    <a:pt x="808037" y="26761"/>
                    <a:pt x="808037" y="30616"/>
                  </a:cubicBezTo>
                  <a:cubicBezTo>
                    <a:pt x="808037" y="34472"/>
                    <a:pt x="804295" y="38327"/>
                    <a:pt x="800553" y="38327"/>
                  </a:cubicBezTo>
                  <a:cubicBezTo>
                    <a:pt x="770617" y="42183"/>
                    <a:pt x="740682" y="42183"/>
                    <a:pt x="710746" y="46038"/>
                  </a:cubicBezTo>
                  <a:cubicBezTo>
                    <a:pt x="707004" y="46038"/>
                    <a:pt x="703262" y="42183"/>
                    <a:pt x="703262" y="34472"/>
                  </a:cubicBezTo>
                  <a:cubicBezTo>
                    <a:pt x="703262" y="30616"/>
                    <a:pt x="707004" y="26761"/>
                    <a:pt x="710746" y="26761"/>
                  </a:cubicBezTo>
                  <a:cubicBezTo>
                    <a:pt x="740682" y="22906"/>
                    <a:pt x="770617" y="22906"/>
                    <a:pt x="796811" y="22906"/>
                  </a:cubicBezTo>
                  <a:close/>
                  <a:moveTo>
                    <a:pt x="655355" y="22333"/>
                  </a:moveTo>
                  <a:cubicBezTo>
                    <a:pt x="657250" y="23740"/>
                    <a:pt x="658197" y="26555"/>
                    <a:pt x="658197" y="30307"/>
                  </a:cubicBezTo>
                  <a:cubicBezTo>
                    <a:pt x="661987" y="34059"/>
                    <a:pt x="658197" y="37811"/>
                    <a:pt x="650618" y="37811"/>
                  </a:cubicBezTo>
                  <a:cubicBezTo>
                    <a:pt x="620302" y="45316"/>
                    <a:pt x="586197" y="52821"/>
                    <a:pt x="555880" y="60325"/>
                  </a:cubicBezTo>
                  <a:cubicBezTo>
                    <a:pt x="548301" y="60325"/>
                    <a:pt x="544512" y="56573"/>
                    <a:pt x="544512" y="52821"/>
                  </a:cubicBezTo>
                  <a:cubicBezTo>
                    <a:pt x="544512" y="49068"/>
                    <a:pt x="544512" y="41564"/>
                    <a:pt x="552091" y="41564"/>
                  </a:cubicBezTo>
                  <a:cubicBezTo>
                    <a:pt x="582407" y="34059"/>
                    <a:pt x="616513" y="26555"/>
                    <a:pt x="646829" y="22802"/>
                  </a:cubicBezTo>
                  <a:cubicBezTo>
                    <a:pt x="650618" y="20926"/>
                    <a:pt x="653461" y="20926"/>
                    <a:pt x="655355" y="22333"/>
                  </a:cubicBezTo>
                  <a:close/>
                  <a:moveTo>
                    <a:pt x="2639218" y="19050"/>
                  </a:moveTo>
                  <a:cubicBezTo>
                    <a:pt x="2650529" y="22860"/>
                    <a:pt x="2661840" y="22860"/>
                    <a:pt x="2676922" y="26670"/>
                  </a:cubicBezTo>
                  <a:cubicBezTo>
                    <a:pt x="2695773" y="30480"/>
                    <a:pt x="2714625" y="34290"/>
                    <a:pt x="2733476" y="38100"/>
                  </a:cubicBezTo>
                  <a:cubicBezTo>
                    <a:pt x="2741017" y="38100"/>
                    <a:pt x="2744787" y="41910"/>
                    <a:pt x="2741017" y="45720"/>
                  </a:cubicBezTo>
                  <a:cubicBezTo>
                    <a:pt x="2741017" y="53340"/>
                    <a:pt x="2737247" y="57150"/>
                    <a:pt x="2733476" y="53340"/>
                  </a:cubicBezTo>
                  <a:cubicBezTo>
                    <a:pt x="2733476" y="53340"/>
                    <a:pt x="2729706" y="53340"/>
                    <a:pt x="2729706" y="53340"/>
                  </a:cubicBezTo>
                  <a:cubicBezTo>
                    <a:pt x="2710854" y="49530"/>
                    <a:pt x="2692003" y="49530"/>
                    <a:pt x="2673151" y="45720"/>
                  </a:cubicBezTo>
                  <a:cubicBezTo>
                    <a:pt x="2658070" y="41910"/>
                    <a:pt x="2646759" y="38100"/>
                    <a:pt x="2635448" y="38100"/>
                  </a:cubicBezTo>
                  <a:cubicBezTo>
                    <a:pt x="2627908" y="38100"/>
                    <a:pt x="2624137" y="30480"/>
                    <a:pt x="2627908" y="26670"/>
                  </a:cubicBezTo>
                  <a:cubicBezTo>
                    <a:pt x="2627908" y="22860"/>
                    <a:pt x="2631678" y="19050"/>
                    <a:pt x="2639218" y="19050"/>
                  </a:cubicBezTo>
                  <a:close/>
                  <a:moveTo>
                    <a:pt x="2153826" y="19050"/>
                  </a:moveTo>
                  <a:cubicBezTo>
                    <a:pt x="2180167" y="19050"/>
                    <a:pt x="2210271" y="19050"/>
                    <a:pt x="2236611" y="19050"/>
                  </a:cubicBezTo>
                  <a:cubicBezTo>
                    <a:pt x="2244137" y="19050"/>
                    <a:pt x="2247900" y="22860"/>
                    <a:pt x="2247900" y="30480"/>
                  </a:cubicBezTo>
                  <a:cubicBezTo>
                    <a:pt x="2244137" y="34290"/>
                    <a:pt x="2244137" y="38100"/>
                    <a:pt x="2236611" y="38100"/>
                  </a:cubicBezTo>
                  <a:cubicBezTo>
                    <a:pt x="2210271" y="38100"/>
                    <a:pt x="2180167" y="38100"/>
                    <a:pt x="2153826" y="38100"/>
                  </a:cubicBezTo>
                  <a:cubicBezTo>
                    <a:pt x="2146300" y="38100"/>
                    <a:pt x="2146300" y="34290"/>
                    <a:pt x="2146300" y="26670"/>
                  </a:cubicBezTo>
                  <a:cubicBezTo>
                    <a:pt x="2146300" y="22860"/>
                    <a:pt x="2150063" y="19050"/>
                    <a:pt x="2153826" y="19050"/>
                  </a:cubicBezTo>
                  <a:close/>
                  <a:moveTo>
                    <a:pt x="2316265" y="15875"/>
                  </a:moveTo>
                  <a:cubicBezTo>
                    <a:pt x="2349910" y="19646"/>
                    <a:pt x="2379817" y="23416"/>
                    <a:pt x="2413462" y="27186"/>
                  </a:cubicBezTo>
                  <a:cubicBezTo>
                    <a:pt x="2417200" y="27186"/>
                    <a:pt x="2420938" y="34727"/>
                    <a:pt x="2420938" y="38497"/>
                  </a:cubicBezTo>
                  <a:cubicBezTo>
                    <a:pt x="2420938" y="42268"/>
                    <a:pt x="2417200" y="46038"/>
                    <a:pt x="2413462" y="46038"/>
                  </a:cubicBezTo>
                  <a:cubicBezTo>
                    <a:pt x="2379817" y="42268"/>
                    <a:pt x="2346172" y="38497"/>
                    <a:pt x="2312527" y="34727"/>
                  </a:cubicBezTo>
                  <a:cubicBezTo>
                    <a:pt x="2308789" y="34727"/>
                    <a:pt x="2305050" y="27186"/>
                    <a:pt x="2305050" y="23416"/>
                  </a:cubicBezTo>
                  <a:cubicBezTo>
                    <a:pt x="2305050" y="19646"/>
                    <a:pt x="2312527" y="15875"/>
                    <a:pt x="2316265" y="15875"/>
                  </a:cubicBezTo>
                  <a:close/>
                  <a:moveTo>
                    <a:pt x="1995744" y="12700"/>
                  </a:moveTo>
                  <a:cubicBezTo>
                    <a:pt x="2018481" y="16404"/>
                    <a:pt x="2041218" y="16404"/>
                    <a:pt x="2067745" y="16404"/>
                  </a:cubicBezTo>
                  <a:cubicBezTo>
                    <a:pt x="2075324" y="16404"/>
                    <a:pt x="2082903" y="16404"/>
                    <a:pt x="2094271" y="16404"/>
                  </a:cubicBezTo>
                  <a:cubicBezTo>
                    <a:pt x="2098061" y="16404"/>
                    <a:pt x="2101850" y="23813"/>
                    <a:pt x="2101850" y="27517"/>
                  </a:cubicBezTo>
                  <a:cubicBezTo>
                    <a:pt x="2101850" y="31221"/>
                    <a:pt x="2098061" y="34925"/>
                    <a:pt x="2094271" y="34925"/>
                  </a:cubicBezTo>
                  <a:cubicBezTo>
                    <a:pt x="2082903" y="34925"/>
                    <a:pt x="2075324" y="34925"/>
                    <a:pt x="2063955" y="34925"/>
                  </a:cubicBezTo>
                  <a:cubicBezTo>
                    <a:pt x="2041218" y="34925"/>
                    <a:pt x="2018481" y="34925"/>
                    <a:pt x="1991954" y="31221"/>
                  </a:cubicBezTo>
                  <a:cubicBezTo>
                    <a:pt x="1988165" y="31221"/>
                    <a:pt x="1984375" y="27517"/>
                    <a:pt x="1984375" y="23813"/>
                  </a:cubicBezTo>
                  <a:cubicBezTo>
                    <a:pt x="1984375" y="16404"/>
                    <a:pt x="1988165" y="12700"/>
                    <a:pt x="1995744" y="12700"/>
                  </a:cubicBezTo>
                  <a:close/>
                  <a:moveTo>
                    <a:pt x="874968" y="7938"/>
                  </a:moveTo>
                  <a:cubicBezTo>
                    <a:pt x="890126" y="11819"/>
                    <a:pt x="905285" y="15699"/>
                    <a:pt x="920443" y="15699"/>
                  </a:cubicBezTo>
                  <a:cubicBezTo>
                    <a:pt x="935601" y="19580"/>
                    <a:pt x="954548" y="19580"/>
                    <a:pt x="973496" y="23460"/>
                  </a:cubicBezTo>
                  <a:cubicBezTo>
                    <a:pt x="977285" y="23460"/>
                    <a:pt x="981075" y="31221"/>
                    <a:pt x="981075" y="35102"/>
                  </a:cubicBezTo>
                  <a:cubicBezTo>
                    <a:pt x="981075" y="38983"/>
                    <a:pt x="973496" y="42863"/>
                    <a:pt x="969706" y="42863"/>
                  </a:cubicBezTo>
                  <a:cubicBezTo>
                    <a:pt x="950759" y="38983"/>
                    <a:pt x="935601" y="38983"/>
                    <a:pt x="916653" y="35102"/>
                  </a:cubicBezTo>
                  <a:cubicBezTo>
                    <a:pt x="901495" y="31221"/>
                    <a:pt x="886337" y="31221"/>
                    <a:pt x="871179" y="27341"/>
                  </a:cubicBezTo>
                  <a:cubicBezTo>
                    <a:pt x="867389" y="27341"/>
                    <a:pt x="863600" y="23460"/>
                    <a:pt x="863600" y="15699"/>
                  </a:cubicBezTo>
                  <a:cubicBezTo>
                    <a:pt x="863600" y="11819"/>
                    <a:pt x="867389" y="7938"/>
                    <a:pt x="874968" y="7938"/>
                  </a:cubicBezTo>
                  <a:close/>
                  <a:moveTo>
                    <a:pt x="1835199" y="4763"/>
                  </a:moveTo>
                  <a:cubicBezTo>
                    <a:pt x="1868686" y="8534"/>
                    <a:pt x="1902172" y="12304"/>
                    <a:pt x="1931938" y="16074"/>
                  </a:cubicBezTo>
                  <a:cubicBezTo>
                    <a:pt x="1939380" y="16074"/>
                    <a:pt x="1943100" y="19845"/>
                    <a:pt x="1939380" y="27385"/>
                  </a:cubicBezTo>
                  <a:cubicBezTo>
                    <a:pt x="1939380" y="31156"/>
                    <a:pt x="1935659" y="34926"/>
                    <a:pt x="1931938" y="34926"/>
                  </a:cubicBezTo>
                  <a:cubicBezTo>
                    <a:pt x="1898452" y="31156"/>
                    <a:pt x="1864965" y="27385"/>
                    <a:pt x="1835199" y="23615"/>
                  </a:cubicBezTo>
                  <a:cubicBezTo>
                    <a:pt x="1827758" y="23615"/>
                    <a:pt x="1824037" y="19845"/>
                    <a:pt x="1824037" y="12304"/>
                  </a:cubicBezTo>
                  <a:cubicBezTo>
                    <a:pt x="1827758" y="8534"/>
                    <a:pt x="1831479" y="4763"/>
                    <a:pt x="1835199" y="4763"/>
                  </a:cubicBezTo>
                  <a:close/>
                  <a:moveTo>
                    <a:pt x="1273664" y="4763"/>
                  </a:moveTo>
                  <a:cubicBezTo>
                    <a:pt x="1277388" y="4763"/>
                    <a:pt x="1281113" y="8467"/>
                    <a:pt x="1281113" y="15876"/>
                  </a:cubicBezTo>
                  <a:cubicBezTo>
                    <a:pt x="1281113" y="19580"/>
                    <a:pt x="1277388" y="23284"/>
                    <a:pt x="1273664" y="23284"/>
                  </a:cubicBezTo>
                  <a:cubicBezTo>
                    <a:pt x="1247592" y="23284"/>
                    <a:pt x="1217796" y="26988"/>
                    <a:pt x="1191724" y="26988"/>
                  </a:cubicBezTo>
                  <a:cubicBezTo>
                    <a:pt x="1187999" y="26988"/>
                    <a:pt x="1184275" y="23284"/>
                    <a:pt x="1184275" y="15876"/>
                  </a:cubicBezTo>
                  <a:cubicBezTo>
                    <a:pt x="1184275" y="12171"/>
                    <a:pt x="1187999" y="8467"/>
                    <a:pt x="1191724" y="8467"/>
                  </a:cubicBezTo>
                  <a:cubicBezTo>
                    <a:pt x="1217796" y="8467"/>
                    <a:pt x="1247592" y="4763"/>
                    <a:pt x="1273664" y="4763"/>
                  </a:cubicBezTo>
                  <a:close/>
                  <a:moveTo>
                    <a:pt x="1130761" y="4763"/>
                  </a:moveTo>
                  <a:cubicBezTo>
                    <a:pt x="1134500" y="4763"/>
                    <a:pt x="1138238" y="8534"/>
                    <a:pt x="1138238" y="12304"/>
                  </a:cubicBezTo>
                  <a:cubicBezTo>
                    <a:pt x="1138238" y="16074"/>
                    <a:pt x="1138238" y="23615"/>
                    <a:pt x="1130761" y="23615"/>
                  </a:cubicBezTo>
                  <a:cubicBezTo>
                    <a:pt x="1100855" y="27385"/>
                    <a:pt x="1067210" y="31156"/>
                    <a:pt x="1033565" y="34926"/>
                  </a:cubicBezTo>
                  <a:cubicBezTo>
                    <a:pt x="1029827" y="34926"/>
                    <a:pt x="1026088" y="31156"/>
                    <a:pt x="1022350" y="27385"/>
                  </a:cubicBezTo>
                  <a:cubicBezTo>
                    <a:pt x="1022350" y="23615"/>
                    <a:pt x="1026088" y="19845"/>
                    <a:pt x="1033565" y="16074"/>
                  </a:cubicBezTo>
                  <a:cubicBezTo>
                    <a:pt x="1063471" y="12304"/>
                    <a:pt x="1097116" y="8534"/>
                    <a:pt x="1130761" y="4763"/>
                  </a:cubicBezTo>
                  <a:close/>
                  <a:moveTo>
                    <a:pt x="1769960" y="0"/>
                  </a:moveTo>
                  <a:cubicBezTo>
                    <a:pt x="1777437" y="0"/>
                    <a:pt x="1781175" y="3771"/>
                    <a:pt x="1781175" y="11311"/>
                  </a:cubicBezTo>
                  <a:cubicBezTo>
                    <a:pt x="1781175" y="15082"/>
                    <a:pt x="1777437" y="18852"/>
                    <a:pt x="1773699" y="18852"/>
                  </a:cubicBezTo>
                  <a:cubicBezTo>
                    <a:pt x="1740054" y="22622"/>
                    <a:pt x="1706409" y="26393"/>
                    <a:pt x="1676502" y="30163"/>
                  </a:cubicBezTo>
                  <a:cubicBezTo>
                    <a:pt x="1669026" y="30163"/>
                    <a:pt x="1665287" y="26393"/>
                    <a:pt x="1665287" y="18852"/>
                  </a:cubicBezTo>
                  <a:cubicBezTo>
                    <a:pt x="1665287" y="15082"/>
                    <a:pt x="1669026" y="11311"/>
                    <a:pt x="1672764" y="11311"/>
                  </a:cubicBezTo>
                  <a:cubicBezTo>
                    <a:pt x="1706409" y="7541"/>
                    <a:pt x="1736315" y="3771"/>
                    <a:pt x="1769960" y="0"/>
                  </a:cubicBezTo>
                  <a:close/>
                  <a:moveTo>
                    <a:pt x="1514731" y="0"/>
                  </a:moveTo>
                  <a:cubicBezTo>
                    <a:pt x="1548836" y="3856"/>
                    <a:pt x="1579153" y="3856"/>
                    <a:pt x="1613258" y="7711"/>
                  </a:cubicBezTo>
                  <a:cubicBezTo>
                    <a:pt x="1617048" y="7711"/>
                    <a:pt x="1620837" y="11566"/>
                    <a:pt x="1620837" y="19277"/>
                  </a:cubicBezTo>
                  <a:cubicBezTo>
                    <a:pt x="1620837" y="23133"/>
                    <a:pt x="1617048" y="26988"/>
                    <a:pt x="1613258" y="26988"/>
                  </a:cubicBezTo>
                  <a:cubicBezTo>
                    <a:pt x="1579153" y="23133"/>
                    <a:pt x="1545047" y="23133"/>
                    <a:pt x="1510941" y="19277"/>
                  </a:cubicBezTo>
                  <a:cubicBezTo>
                    <a:pt x="1507152" y="19277"/>
                    <a:pt x="1503362" y="15422"/>
                    <a:pt x="1503362" y="7711"/>
                  </a:cubicBezTo>
                  <a:cubicBezTo>
                    <a:pt x="1503362" y="3856"/>
                    <a:pt x="1507152" y="0"/>
                    <a:pt x="1514731" y="0"/>
                  </a:cubicBezTo>
                  <a:close/>
                  <a:moveTo>
                    <a:pt x="1352794" y="0"/>
                  </a:moveTo>
                  <a:cubicBezTo>
                    <a:pt x="1379293" y="3969"/>
                    <a:pt x="1405792" y="3969"/>
                    <a:pt x="1432291" y="3969"/>
                  </a:cubicBezTo>
                  <a:cubicBezTo>
                    <a:pt x="1436076" y="3969"/>
                    <a:pt x="1439862" y="11907"/>
                    <a:pt x="1436076" y="15875"/>
                  </a:cubicBezTo>
                  <a:cubicBezTo>
                    <a:pt x="1436076" y="19844"/>
                    <a:pt x="1432291" y="23813"/>
                    <a:pt x="1428505" y="23813"/>
                  </a:cubicBezTo>
                  <a:cubicBezTo>
                    <a:pt x="1402006" y="23813"/>
                    <a:pt x="1375507" y="23813"/>
                    <a:pt x="1349008" y="19844"/>
                  </a:cubicBezTo>
                  <a:cubicBezTo>
                    <a:pt x="1345222" y="19844"/>
                    <a:pt x="1341437" y="15875"/>
                    <a:pt x="1345222" y="11907"/>
                  </a:cubicBezTo>
                  <a:cubicBezTo>
                    <a:pt x="1345222" y="7938"/>
                    <a:pt x="1349008" y="0"/>
                    <a:pt x="1352794" y="0"/>
                  </a:cubicBezTo>
                  <a:close/>
                </a:path>
              </a:pathLst>
            </a:custGeom>
            <a:solidFill>
              <a:srgbClr val="ead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</p:grpSp>
      <p:grpSp>
        <p:nvGrpSpPr>
          <p:cNvPr id="122" name="组合 15"/>
          <p:cNvGrpSpPr/>
          <p:nvPr/>
        </p:nvGrpSpPr>
        <p:grpSpPr>
          <a:xfrm>
            <a:off x="4556160" y="2695680"/>
            <a:ext cx="3473280" cy="3454200"/>
            <a:chOff x="4556160" y="2695680"/>
            <a:chExt cx="3473280" cy="3454200"/>
          </a:xfrm>
        </p:grpSpPr>
        <p:sp>
          <p:nvSpPr>
            <p:cNvPr id="123" name="KSO_Img1"/>
            <p:cNvSpPr/>
            <p:nvPr/>
          </p:nvSpPr>
          <p:spPr>
            <a:xfrm>
              <a:off x="4556160" y="2695680"/>
              <a:ext cx="3473280" cy="34516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pic>
          <p:nvPicPr>
            <p:cNvPr id="124" name="文本框 7" descr=""/>
            <p:cNvPicPr/>
            <p:nvPr/>
          </p:nvPicPr>
          <p:blipFill>
            <a:blip r:embed="rId3"/>
            <a:stretch/>
          </p:blipFill>
          <p:spPr>
            <a:xfrm>
              <a:off x="5236560" y="5571000"/>
              <a:ext cx="2252160" cy="57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组合 14"/>
          <p:cNvGrpSpPr/>
          <p:nvPr/>
        </p:nvGrpSpPr>
        <p:grpSpPr>
          <a:xfrm>
            <a:off x="966960" y="2705040"/>
            <a:ext cx="3443040" cy="3473640"/>
            <a:chOff x="966960" y="2705040"/>
            <a:chExt cx="3443040" cy="3473640"/>
          </a:xfrm>
        </p:grpSpPr>
        <p:sp>
          <p:nvSpPr>
            <p:cNvPr id="126" name="KSO_Img4"/>
            <p:cNvSpPr/>
            <p:nvPr/>
          </p:nvSpPr>
          <p:spPr>
            <a:xfrm>
              <a:off x="966960" y="2705040"/>
              <a:ext cx="3443040" cy="34736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pic>
          <p:nvPicPr>
            <p:cNvPr id="127" name="文本框 7" descr=""/>
            <p:cNvPicPr/>
            <p:nvPr/>
          </p:nvPicPr>
          <p:blipFill>
            <a:blip r:embed="rId5"/>
            <a:stretch/>
          </p:blipFill>
          <p:spPr>
            <a:xfrm>
              <a:off x="1500840" y="5555520"/>
              <a:ext cx="2251800" cy="57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组合 16"/>
          <p:cNvGrpSpPr/>
          <p:nvPr/>
        </p:nvGrpSpPr>
        <p:grpSpPr>
          <a:xfrm>
            <a:off x="8196120" y="2727360"/>
            <a:ext cx="3473640" cy="3451320"/>
            <a:chOff x="8196120" y="2727360"/>
            <a:chExt cx="3473640" cy="3451320"/>
          </a:xfrm>
        </p:grpSpPr>
        <p:sp>
          <p:nvSpPr>
            <p:cNvPr id="129" name="KSO_Img1"/>
            <p:cNvSpPr/>
            <p:nvPr/>
          </p:nvSpPr>
          <p:spPr>
            <a:xfrm>
              <a:off x="8196120" y="2727360"/>
              <a:ext cx="3473640" cy="3451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pic>
          <p:nvPicPr>
            <p:cNvPr id="130" name="文本框 7" descr=""/>
            <p:cNvPicPr/>
            <p:nvPr/>
          </p:nvPicPr>
          <p:blipFill>
            <a:blip r:embed="rId7"/>
            <a:stretch/>
          </p:blipFill>
          <p:spPr>
            <a:xfrm>
              <a:off x="8733960" y="5506920"/>
              <a:ext cx="2375640" cy="57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"/>
          <p:cNvSpPr/>
          <p:nvPr/>
        </p:nvSpPr>
        <p:spPr>
          <a:xfrm>
            <a:off x="10931400" y="6315120"/>
            <a:ext cx="1013040" cy="465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620b"/>
              </a:gs>
              <a:gs pos="50000">
                <a:srgbClr val="ffffff"/>
              </a:gs>
              <a:gs pos="100000">
                <a:srgbClr val="e5620b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3d3f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d3f41"/>
                </a:solidFill>
                <a:latin typeface="Calibri"/>
                <a:ea typeface="幼圆"/>
              </a:rPr>
              <a:t>返 回</a:t>
            </a:r>
            <a:endParaRPr b="0" lang="en-US" sz="20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40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66640" y="1437840"/>
            <a:ext cx="108727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90000"/>
              </a:lnSpc>
              <a:spcBef>
                <a:spcPts val="1800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d3f41"/>
                </a:solidFill>
                <a:latin typeface="Calibri"/>
                <a:ea typeface="宋体"/>
              </a:rPr>
              <a:t>文水县隶属于山西省吕梁市，西依吕梁山，东临汾河水，位于汾河谷地中部。文水县东隔汾河与祁县、平遥县相望，南与汾阳市接壤，西与吕梁市离石区交界，北与交城县、清徐县相邻。文水县总面积</a:t>
            </a:r>
            <a:r>
              <a:rPr b="1" lang="en-US" sz="1800" spc="-1" strike="noStrike">
                <a:solidFill>
                  <a:srgbClr val="3d3f41"/>
                </a:solidFill>
                <a:latin typeface="Calibri"/>
                <a:ea typeface="宋体"/>
              </a:rPr>
              <a:t>1064.4</a:t>
            </a:r>
            <a:r>
              <a:rPr b="1" lang="zh-CN" sz="1800" spc="-1" strike="noStrike">
                <a:solidFill>
                  <a:srgbClr val="3d3f41"/>
                </a:solidFill>
                <a:latin typeface="Calibri"/>
                <a:ea typeface="宋体"/>
              </a:rPr>
              <a:t>平方公里，耕地</a:t>
            </a:r>
            <a:r>
              <a:rPr b="1" lang="en-US" sz="1800" spc="-1" strike="noStrike">
                <a:solidFill>
                  <a:srgbClr val="3d3f41"/>
                </a:solidFill>
                <a:latin typeface="Calibri"/>
                <a:ea typeface="宋体"/>
              </a:rPr>
              <a:t>60</a:t>
            </a:r>
            <a:r>
              <a:rPr b="1" lang="zh-CN" sz="1800" spc="-1" strike="noStrike">
                <a:solidFill>
                  <a:srgbClr val="3d3f41"/>
                </a:solidFill>
                <a:latin typeface="Calibri"/>
                <a:ea typeface="宋体"/>
              </a:rPr>
              <a:t>万亩，山地平原各半，是山西省的农业县。至</a:t>
            </a:r>
            <a:r>
              <a:rPr b="1" lang="en-US" sz="1800" spc="-1" strike="noStrike">
                <a:solidFill>
                  <a:srgbClr val="3d3f41"/>
                </a:solidFill>
                <a:latin typeface="Calibri"/>
                <a:ea typeface="宋体"/>
              </a:rPr>
              <a:t>2012</a:t>
            </a:r>
            <a:r>
              <a:rPr b="1" lang="zh-CN" sz="1800" spc="-1" strike="noStrike">
                <a:solidFill>
                  <a:srgbClr val="3d3f41"/>
                </a:solidFill>
                <a:latin typeface="Calibri"/>
                <a:ea typeface="宋体"/>
              </a:rPr>
              <a:t>年，文水县下辖</a:t>
            </a:r>
            <a:r>
              <a:rPr b="1" lang="en-US" sz="1800" spc="-1" strike="noStrike">
                <a:solidFill>
                  <a:srgbClr val="3d3f41"/>
                </a:solidFill>
                <a:latin typeface="Calibri"/>
                <a:ea typeface="宋体"/>
              </a:rPr>
              <a:t>7</a:t>
            </a:r>
            <a:r>
              <a:rPr b="1" lang="zh-CN" sz="1800" spc="-1" strike="noStrike">
                <a:solidFill>
                  <a:srgbClr val="3d3f41"/>
                </a:solidFill>
                <a:latin typeface="Calibri"/>
                <a:ea typeface="宋体"/>
              </a:rPr>
              <a:t>个镇、</a:t>
            </a:r>
            <a:r>
              <a:rPr b="1" lang="en-US" sz="1800" spc="-1" strike="noStrike">
                <a:solidFill>
                  <a:srgbClr val="3d3f41"/>
                </a:solidFill>
                <a:latin typeface="Calibri"/>
                <a:ea typeface="宋体"/>
              </a:rPr>
              <a:t>5</a:t>
            </a:r>
            <a:r>
              <a:rPr b="1" lang="zh-CN" sz="1800" spc="-1" strike="noStrike">
                <a:solidFill>
                  <a:srgbClr val="3d3f41"/>
                </a:solidFill>
                <a:latin typeface="Calibri"/>
                <a:ea typeface="宋体"/>
              </a:rPr>
              <a:t>个乡，</a:t>
            </a:r>
            <a:r>
              <a:rPr b="1" lang="en-US" sz="1800" spc="-1" strike="noStrike">
                <a:solidFill>
                  <a:srgbClr val="3d3f41"/>
                </a:solidFill>
                <a:latin typeface="Calibri"/>
                <a:ea typeface="宋体"/>
              </a:rPr>
              <a:t>199</a:t>
            </a:r>
            <a:r>
              <a:rPr b="1" lang="zh-CN" sz="1800" spc="-1" strike="noStrike">
                <a:solidFill>
                  <a:srgbClr val="3d3f41"/>
                </a:solidFill>
                <a:latin typeface="Calibri"/>
                <a:ea typeface="宋体"/>
              </a:rPr>
              <a:t>个行政村，总人口</a:t>
            </a:r>
            <a:r>
              <a:rPr b="1" lang="en-US" sz="1800" spc="-1" strike="noStrike">
                <a:solidFill>
                  <a:srgbClr val="3d3f41"/>
                </a:solidFill>
                <a:latin typeface="Calibri"/>
                <a:ea typeface="宋体"/>
              </a:rPr>
              <a:t>426285</a:t>
            </a:r>
            <a:r>
              <a:rPr b="1" lang="zh-CN" sz="1800" spc="-1" strike="noStrike">
                <a:solidFill>
                  <a:srgbClr val="3d3f41"/>
                </a:solidFill>
                <a:latin typeface="Calibri"/>
                <a:ea typeface="宋体"/>
              </a:rPr>
              <a:t>人。</a:t>
            </a:r>
            <a:endParaRPr b="0" lang="en-US" sz="1800" spc="-1" strike="noStrike">
              <a:solidFill>
                <a:srgbClr val="976a4f"/>
              </a:solidFill>
              <a:latin typeface="Calibri"/>
            </a:endParaRPr>
          </a:p>
          <a:p>
            <a:pPr marL="357120" indent="-357120">
              <a:lnSpc>
                <a:spcPct val="190000"/>
              </a:lnSpc>
              <a:spcBef>
                <a:spcPts val="1800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d3f41"/>
                </a:solidFill>
                <a:latin typeface="Calibri"/>
                <a:ea typeface="宋体"/>
              </a:rPr>
              <a:t> </a:t>
            </a:r>
            <a:r>
              <a:rPr b="1" lang="zh-CN" sz="1800" spc="-1" strike="noStrike">
                <a:solidFill>
                  <a:srgbClr val="3d3f41"/>
                </a:solidFill>
                <a:latin typeface="Calibri"/>
                <a:ea typeface="宋体"/>
              </a:rPr>
              <a:t>据从文水县上贤、西峪口出土的石器及穴居房屋等考证，远在新石器时代，文水县就有人类定居。文水旧县志载：文水为古冀并之域，在唐虞时为冀州辖地；尧为唐候时都平陶（文水县平陶村）。后为并州辖地。文水之名由来，盖因县境文峪河自管涔龙门而下，至于峪口，其水波多纹，故以文水名之。</a:t>
            </a:r>
            <a:endParaRPr b="0" lang="en-US" sz="1800" spc="-1" strike="noStrike">
              <a:solidFill>
                <a:srgbClr val="976a4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66720" y="361800"/>
            <a:ext cx="4457880" cy="75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琥珀"/>
              </a:rPr>
              <a:t>名人故里—文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组合 4"/>
          <p:cNvGrpSpPr/>
          <p:nvPr/>
        </p:nvGrpSpPr>
        <p:grpSpPr>
          <a:xfrm>
            <a:off x="4595760" y="1236600"/>
            <a:ext cx="3640320" cy="2447640"/>
            <a:chOff x="4595760" y="1236600"/>
            <a:chExt cx="3640320" cy="2447640"/>
          </a:xfrm>
        </p:grpSpPr>
        <p:sp>
          <p:nvSpPr>
            <p:cNvPr id="135" name="MH_SubTitle_2"/>
            <p:cNvSpPr/>
            <p:nvPr/>
          </p:nvSpPr>
          <p:spPr>
            <a:xfrm>
              <a:off x="4595760" y="1236600"/>
              <a:ext cx="3640320" cy="555120"/>
            </a:xfrm>
            <a:prstGeom prst="pie">
              <a:avLst/>
            </a:prstGeom>
            <a:solidFill>
              <a:srgbClr val="5fa7ff"/>
            </a:solidFill>
            <a:ln w="3240">
              <a:solidFill>
                <a:srgbClr val="60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3200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effff"/>
                  </a:solidFill>
                  <a:latin typeface="Calibri"/>
                  <a:ea typeface="微软雅黑"/>
                </a:rPr>
                <a:t>      </a:t>
              </a:r>
              <a:r>
                <a:rPr b="1" i="1" lang="zh-CN" sz="2400" spc="-1" strike="noStrike">
                  <a:solidFill>
                    <a:srgbClr val="feffff"/>
                  </a:solidFill>
                  <a:latin typeface="Calibri"/>
                  <a:ea typeface="微软雅黑"/>
                </a:rPr>
                <a:t>武则天</a:t>
              </a:r>
              <a:endParaRPr b="0" lang="en-US" sz="24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136" name="MH_Text_2"/>
            <p:cNvSpPr/>
            <p:nvPr/>
          </p:nvSpPr>
          <p:spPr>
            <a:xfrm>
              <a:off x="4595760" y="1791720"/>
              <a:ext cx="3640320" cy="1812960"/>
            </a:xfrm>
            <a:prstGeom prst="rect">
              <a:avLst/>
            </a:prstGeom>
            <a:solidFill>
              <a:srgbClr val="feffff"/>
            </a:solidFill>
            <a:ln w="3240">
              <a:solidFill>
                <a:srgbClr val="60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4606d"/>
                  </a:solidFill>
                  <a:latin typeface="Arial"/>
                  <a:ea typeface="宋体"/>
                </a:rPr>
                <a:t>     </a:t>
              </a:r>
              <a:r>
                <a:rPr b="1" lang="zh-CN" sz="1800" spc="-1" strike="noStrike">
                  <a:solidFill>
                    <a:srgbClr val="64606d"/>
                  </a:solidFill>
                  <a:latin typeface="Arial"/>
                  <a:ea typeface="宋体"/>
                </a:rPr>
                <a:t>武则天（</a:t>
              </a:r>
              <a:r>
                <a:rPr b="1" lang="zh-CN" sz="1800" spc="-1" strike="noStrike">
                  <a:solidFill>
                    <a:srgbClr val="64606d"/>
                  </a:solidFill>
                  <a:latin typeface="Arial"/>
                  <a:ea typeface="宋体"/>
                </a:rPr>
                <a:t>624</a:t>
              </a:r>
              <a:r>
                <a:rPr b="1" lang="zh-CN" sz="1800" spc="-1" strike="noStrike">
                  <a:solidFill>
                    <a:srgbClr val="64606d"/>
                  </a:solidFill>
                  <a:latin typeface="Arial"/>
                  <a:ea typeface="宋体"/>
                </a:rPr>
                <a:t>年—</a:t>
              </a:r>
              <a:r>
                <a:rPr b="1" lang="zh-CN" sz="1800" spc="-1" strike="noStrike">
                  <a:solidFill>
                    <a:srgbClr val="64606d"/>
                  </a:solidFill>
                  <a:latin typeface="Arial"/>
                  <a:ea typeface="宋体"/>
                </a:rPr>
                <a:t>705</a:t>
              </a:r>
              <a:r>
                <a:rPr b="1" lang="zh-CN" sz="1800" spc="-1" strike="noStrike">
                  <a:solidFill>
                    <a:srgbClr val="64606d"/>
                  </a:solidFill>
                  <a:latin typeface="Arial"/>
                  <a:ea typeface="宋体"/>
                </a:rPr>
                <a:t>年），女，名曌。中国历史上唯一的女皇帝。文水县南徐村建有武则天纪念馆。</a:t>
              </a: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137" name="MH_Other_2"/>
            <p:cNvSpPr/>
            <p:nvPr/>
          </p:nvSpPr>
          <p:spPr>
            <a:xfrm>
              <a:off x="4595760" y="3605040"/>
              <a:ext cx="3640320" cy="79200"/>
            </a:xfrm>
            <a:prstGeom prst="rect">
              <a:avLst/>
            </a:prstGeom>
            <a:solidFill>
              <a:srgbClr val="5fa7ff"/>
            </a:solidFill>
            <a:ln w="3240">
              <a:solidFill>
                <a:srgbClr val="60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</p:grpSp>
      <p:grpSp>
        <p:nvGrpSpPr>
          <p:cNvPr id="138" name="组合 5"/>
          <p:cNvGrpSpPr/>
          <p:nvPr/>
        </p:nvGrpSpPr>
        <p:grpSpPr>
          <a:xfrm>
            <a:off x="8379000" y="1233360"/>
            <a:ext cx="3381120" cy="2516400"/>
            <a:chOff x="8379000" y="1233360"/>
            <a:chExt cx="3381120" cy="2516400"/>
          </a:xfrm>
        </p:grpSpPr>
        <p:sp>
          <p:nvSpPr>
            <p:cNvPr id="139" name="MH_SubTitle_3"/>
            <p:cNvSpPr/>
            <p:nvPr/>
          </p:nvSpPr>
          <p:spPr>
            <a:xfrm>
              <a:off x="8431200" y="1233360"/>
              <a:ext cx="3328920" cy="570600"/>
            </a:xfrm>
            <a:prstGeom prst="pie">
              <a:avLst/>
            </a:prstGeom>
            <a:solidFill>
              <a:srgbClr val="72cc36"/>
            </a:solidFill>
            <a:ln w="3240">
              <a:solidFill>
                <a:srgbClr val="72cc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32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0ad47"/>
                  </a:solidFill>
                  <a:latin typeface="Arial"/>
                  <a:ea typeface="宋体"/>
                </a:rPr>
                <a:t>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狄青</a:t>
              </a:r>
              <a:endParaRPr b="0" lang="en-US" sz="24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140" name="MH_Text_3"/>
            <p:cNvSpPr/>
            <p:nvPr/>
          </p:nvSpPr>
          <p:spPr>
            <a:xfrm>
              <a:off x="8379000" y="1803960"/>
              <a:ext cx="3361320" cy="1863720"/>
            </a:xfrm>
            <a:prstGeom prst="rect">
              <a:avLst/>
            </a:prstGeom>
            <a:solidFill>
              <a:srgbClr val="feffff"/>
            </a:solidFill>
            <a:ln w="3240">
              <a:solidFill>
                <a:srgbClr val="72cc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0ad47"/>
                  </a:solidFill>
                  <a:latin typeface="Arial"/>
                  <a:ea typeface="宋体"/>
                </a:rPr>
                <a:t>     </a:t>
              </a:r>
              <a:r>
                <a:rPr b="1" lang="zh-CN" sz="1800" spc="-1" strike="noStrike">
                  <a:solidFill>
                    <a:srgbClr val="70ad47"/>
                  </a:solidFill>
                  <a:latin typeface="Arial"/>
                  <a:ea typeface="宋体"/>
                </a:rPr>
                <a:t>狄青（</a:t>
              </a:r>
              <a:r>
                <a:rPr b="1" lang="zh-CN" sz="1800" spc="-1" strike="noStrike">
                  <a:solidFill>
                    <a:srgbClr val="70ad47"/>
                  </a:solidFill>
                  <a:latin typeface="Arial"/>
                  <a:ea typeface="宋体"/>
                </a:rPr>
                <a:t>1008</a:t>
              </a:r>
              <a:r>
                <a:rPr b="1" lang="zh-CN" sz="1800" spc="-1" strike="noStrike">
                  <a:solidFill>
                    <a:srgbClr val="70ad47"/>
                  </a:solidFill>
                  <a:latin typeface="Arial"/>
                  <a:ea typeface="宋体"/>
                </a:rPr>
                <a:t>年—</a:t>
              </a:r>
              <a:r>
                <a:rPr b="1" lang="zh-CN" sz="1800" spc="-1" strike="noStrike">
                  <a:solidFill>
                    <a:srgbClr val="70ad47"/>
                  </a:solidFill>
                  <a:latin typeface="Arial"/>
                  <a:ea typeface="宋体"/>
                </a:rPr>
                <a:t>1057</a:t>
              </a:r>
              <a:r>
                <a:rPr b="1" lang="zh-CN" sz="1800" spc="-1" strike="noStrike">
                  <a:solidFill>
                    <a:srgbClr val="70ad47"/>
                  </a:solidFill>
                  <a:latin typeface="Arial"/>
                  <a:ea typeface="宋体"/>
                </a:rPr>
                <a:t>年），男，字汉臣，北宋大将。</a:t>
              </a: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141" name="MH_Other_3"/>
            <p:cNvSpPr/>
            <p:nvPr/>
          </p:nvSpPr>
          <p:spPr>
            <a:xfrm>
              <a:off x="8379720" y="3668040"/>
              <a:ext cx="3344400" cy="81720"/>
            </a:xfrm>
            <a:prstGeom prst="rect">
              <a:avLst/>
            </a:prstGeom>
            <a:solidFill>
              <a:srgbClr val="72cc36"/>
            </a:solidFill>
            <a:ln w="3240">
              <a:solidFill>
                <a:srgbClr val="72cc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</p:grpSp>
      <p:grpSp>
        <p:nvGrpSpPr>
          <p:cNvPr id="142" name="组合 7"/>
          <p:cNvGrpSpPr/>
          <p:nvPr/>
        </p:nvGrpSpPr>
        <p:grpSpPr>
          <a:xfrm>
            <a:off x="406440" y="4038480"/>
            <a:ext cx="3870360" cy="2531880"/>
            <a:chOff x="406440" y="4038480"/>
            <a:chExt cx="3870360" cy="2531880"/>
          </a:xfrm>
        </p:grpSpPr>
        <p:sp>
          <p:nvSpPr>
            <p:cNvPr id="143" name="MH_SubTitle_4"/>
            <p:cNvSpPr/>
            <p:nvPr/>
          </p:nvSpPr>
          <p:spPr>
            <a:xfrm>
              <a:off x="406440" y="4038480"/>
              <a:ext cx="3870360" cy="574200"/>
            </a:xfrm>
            <a:prstGeom prst="pie">
              <a:avLst/>
            </a:prstGeom>
            <a:solidFill>
              <a:srgbClr val="f2b800"/>
            </a:solidFill>
            <a:ln w="3240">
              <a:solidFill>
                <a:srgbClr val="ffc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32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99179"/>
                  </a:solidFill>
                  <a:latin typeface="Arial"/>
                  <a:ea typeface="宋体"/>
                </a:rPr>
                <a:t>    </a:t>
              </a:r>
              <a:r>
                <a:rPr b="1" lang="en-US" sz="2400" spc="-1" strike="noStrike">
                  <a:solidFill>
                    <a:srgbClr val="3d3f41"/>
                  </a:solidFill>
                  <a:latin typeface="Arial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孔天胤</a:t>
              </a:r>
              <a:endParaRPr b="0" lang="en-US" sz="24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144" name="MH_Text_4"/>
            <p:cNvSpPr/>
            <p:nvPr/>
          </p:nvSpPr>
          <p:spPr>
            <a:xfrm>
              <a:off x="406440" y="4612680"/>
              <a:ext cx="3870360" cy="1875240"/>
            </a:xfrm>
            <a:prstGeom prst="rect">
              <a:avLst/>
            </a:prstGeom>
            <a:solidFill>
              <a:srgbClr val="feffff"/>
            </a:solidFill>
            <a:ln w="3240">
              <a:solidFill>
                <a:srgbClr val="daa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99179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b99179"/>
                  </a:solidFill>
                  <a:latin typeface="Arial"/>
                  <a:ea typeface="宋体"/>
                </a:rPr>
                <a:t>孔天胤（</a:t>
              </a:r>
              <a:r>
                <a:rPr b="1" lang="zh-CN" sz="1800" spc="-1" strike="noStrike">
                  <a:solidFill>
                    <a:srgbClr val="b99179"/>
                  </a:solidFill>
                  <a:latin typeface="Arial"/>
                  <a:ea typeface="宋体"/>
                </a:rPr>
                <a:t>1505</a:t>
              </a:r>
              <a:r>
                <a:rPr b="1" lang="zh-CN" sz="1800" spc="-1" strike="noStrike">
                  <a:solidFill>
                    <a:srgbClr val="b99179"/>
                  </a:solidFill>
                  <a:latin typeface="Arial"/>
                  <a:ea typeface="宋体"/>
                </a:rPr>
                <a:t>年—</a:t>
              </a:r>
              <a:r>
                <a:rPr b="1" lang="zh-CN" sz="1800" spc="-1" strike="noStrike">
                  <a:solidFill>
                    <a:srgbClr val="b99179"/>
                  </a:solidFill>
                  <a:latin typeface="Arial"/>
                  <a:ea typeface="宋体"/>
                </a:rPr>
                <a:t>1581</a:t>
              </a:r>
              <a:r>
                <a:rPr b="1" lang="zh-CN" sz="1800" spc="-1" strike="noStrike">
                  <a:solidFill>
                    <a:srgbClr val="b99179"/>
                  </a:solidFill>
                  <a:latin typeface="Arial"/>
                  <a:ea typeface="宋体"/>
                </a:rPr>
                <a:t>年），男，字汝阳，号文谷子，又称管涔山人，死后门人称文靖先生，理学泰斗。</a:t>
              </a: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145" name="MH_Other_4"/>
            <p:cNvSpPr/>
            <p:nvPr/>
          </p:nvSpPr>
          <p:spPr>
            <a:xfrm>
              <a:off x="406440" y="6488280"/>
              <a:ext cx="3870360" cy="82080"/>
            </a:xfrm>
            <a:prstGeom prst="rect">
              <a:avLst/>
            </a:prstGeom>
            <a:solidFill>
              <a:srgbClr val="f2b800"/>
            </a:solidFill>
            <a:ln w="3240">
              <a:solidFill>
                <a:srgbClr val="ffc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</p:grpSp>
      <p:grpSp>
        <p:nvGrpSpPr>
          <p:cNvPr id="146" name="组合 8"/>
          <p:cNvGrpSpPr/>
          <p:nvPr/>
        </p:nvGrpSpPr>
        <p:grpSpPr>
          <a:xfrm>
            <a:off x="4535640" y="4005360"/>
            <a:ext cx="3617640" cy="2580840"/>
            <a:chOff x="4535640" y="4005360"/>
            <a:chExt cx="3617640" cy="2580840"/>
          </a:xfrm>
        </p:grpSpPr>
        <p:sp>
          <p:nvSpPr>
            <p:cNvPr id="147" name="MH_SubTitle_5"/>
            <p:cNvSpPr/>
            <p:nvPr/>
          </p:nvSpPr>
          <p:spPr>
            <a:xfrm>
              <a:off x="4535640" y="4005360"/>
              <a:ext cx="3617640" cy="585360"/>
            </a:xfrm>
            <a:prstGeom prst="pie">
              <a:avLst/>
            </a:prstGeom>
            <a:solidFill>
              <a:srgbClr val="5fa7ff"/>
            </a:solidFill>
            <a:ln w="3240">
              <a:solidFill>
                <a:srgbClr val="60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32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孙谦</a:t>
              </a:r>
              <a:endParaRPr b="0" lang="en-US" sz="24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148" name="MH_Text_5"/>
            <p:cNvSpPr/>
            <p:nvPr/>
          </p:nvSpPr>
          <p:spPr>
            <a:xfrm>
              <a:off x="4535640" y="4590720"/>
              <a:ext cx="3617640" cy="1911600"/>
            </a:xfrm>
            <a:prstGeom prst="rect">
              <a:avLst/>
            </a:prstGeom>
            <a:solidFill>
              <a:srgbClr val="feffff"/>
            </a:solidFill>
            <a:ln w="3240">
              <a:solidFill>
                <a:srgbClr val="60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4606d"/>
                  </a:solidFill>
                  <a:latin typeface="Arial"/>
                  <a:ea typeface="宋体"/>
                </a:rPr>
                <a:t>  </a:t>
              </a:r>
              <a:r>
                <a:rPr b="1" lang="zh-CN" sz="1800" spc="-1" strike="noStrike">
                  <a:solidFill>
                    <a:srgbClr val="64606d"/>
                  </a:solidFill>
                  <a:latin typeface="Arial"/>
                  <a:ea typeface="宋体"/>
                </a:rPr>
                <a:t>孙谦（</a:t>
              </a:r>
              <a:r>
                <a:rPr b="1" lang="zh-CN" sz="1800" spc="-1" strike="noStrike">
                  <a:solidFill>
                    <a:srgbClr val="64606d"/>
                  </a:solidFill>
                  <a:latin typeface="Arial"/>
                  <a:ea typeface="宋体"/>
                </a:rPr>
                <a:t>1920</a:t>
              </a:r>
              <a:r>
                <a:rPr b="1" lang="zh-CN" sz="1800" spc="-1" strike="noStrike">
                  <a:solidFill>
                    <a:srgbClr val="64606d"/>
                  </a:solidFill>
                  <a:latin typeface="Arial"/>
                  <a:ea typeface="宋体"/>
                </a:rPr>
                <a:t>年—</a:t>
              </a:r>
              <a:r>
                <a:rPr b="1" lang="zh-CN" sz="1800" spc="-1" strike="noStrike">
                  <a:solidFill>
                    <a:srgbClr val="64606d"/>
                  </a:solidFill>
                  <a:latin typeface="Arial"/>
                  <a:ea typeface="宋体"/>
                </a:rPr>
                <a:t>1996</a:t>
              </a:r>
              <a:r>
                <a:rPr b="1" lang="zh-CN" sz="1800" spc="-1" strike="noStrike">
                  <a:solidFill>
                    <a:srgbClr val="64606d"/>
                  </a:solidFill>
                  <a:latin typeface="Arial"/>
                  <a:ea typeface="宋体"/>
                </a:rPr>
                <a:t>年），男，原名孙怀谦，文水县南安村人。曾任山西省文联副主席，山西作协副主席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，山西电影家协会主席等职。</a:t>
              </a: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149" name="MH_Other_5"/>
            <p:cNvSpPr/>
            <p:nvPr/>
          </p:nvSpPr>
          <p:spPr>
            <a:xfrm>
              <a:off x="4535640" y="6502680"/>
              <a:ext cx="3617640" cy="83520"/>
            </a:xfrm>
            <a:prstGeom prst="rect">
              <a:avLst/>
            </a:prstGeom>
            <a:solidFill>
              <a:srgbClr val="5fa7ff"/>
            </a:solidFill>
            <a:ln w="3240">
              <a:solidFill>
                <a:srgbClr val="60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</p:grpSp>
      <p:grpSp>
        <p:nvGrpSpPr>
          <p:cNvPr id="150" name="组合 6"/>
          <p:cNvGrpSpPr/>
          <p:nvPr/>
        </p:nvGrpSpPr>
        <p:grpSpPr>
          <a:xfrm>
            <a:off x="8326440" y="4016520"/>
            <a:ext cx="3519000" cy="2554200"/>
            <a:chOff x="8326440" y="4016520"/>
            <a:chExt cx="3519000" cy="2554200"/>
          </a:xfrm>
        </p:grpSpPr>
        <p:sp>
          <p:nvSpPr>
            <p:cNvPr id="151" name="MH_SubTitle_6"/>
            <p:cNvSpPr/>
            <p:nvPr/>
          </p:nvSpPr>
          <p:spPr>
            <a:xfrm>
              <a:off x="8340480" y="4016520"/>
              <a:ext cx="3504960" cy="533520"/>
            </a:xfrm>
            <a:prstGeom prst="pie">
              <a:avLst/>
            </a:prstGeom>
            <a:solidFill>
              <a:srgbClr val="72cc36"/>
            </a:solidFill>
            <a:ln w="3240">
              <a:solidFill>
                <a:srgbClr val="72cc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32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张稼夫</a:t>
              </a:r>
              <a:endParaRPr b="0" lang="en-US" sz="24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152" name="MH_Text_6"/>
            <p:cNvSpPr/>
            <p:nvPr/>
          </p:nvSpPr>
          <p:spPr>
            <a:xfrm>
              <a:off x="8326440" y="4550400"/>
              <a:ext cx="3477960" cy="2017440"/>
            </a:xfrm>
            <a:prstGeom prst="rect">
              <a:avLst/>
            </a:prstGeom>
            <a:solidFill>
              <a:srgbClr val="feffff"/>
            </a:solidFill>
            <a:ln w="3240">
              <a:solidFill>
                <a:srgbClr val="72cc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ad47"/>
                  </a:solidFill>
                  <a:latin typeface="Arial"/>
                  <a:ea typeface="宋体"/>
                </a:rPr>
                <a:t>     </a:t>
              </a:r>
              <a:r>
                <a:rPr b="1" lang="zh-CN" sz="1800" spc="-1" strike="noStrike">
                  <a:solidFill>
                    <a:srgbClr val="70ad47"/>
                  </a:solidFill>
                  <a:latin typeface="Arial"/>
                  <a:ea typeface="宋体"/>
                </a:rPr>
                <a:t>张稼夫（</a:t>
              </a:r>
              <a:r>
                <a:rPr b="1" lang="zh-CN" sz="1800" spc="-1" strike="noStrike">
                  <a:solidFill>
                    <a:srgbClr val="70ad47"/>
                  </a:solidFill>
                  <a:latin typeface="Arial"/>
                  <a:ea typeface="宋体"/>
                </a:rPr>
                <a:t>1903</a:t>
              </a:r>
              <a:r>
                <a:rPr b="1" lang="zh-CN" sz="1800" spc="-1" strike="noStrike">
                  <a:solidFill>
                    <a:srgbClr val="70ad47"/>
                  </a:solidFill>
                  <a:latin typeface="Arial"/>
                  <a:ea typeface="宋体"/>
                </a:rPr>
                <a:t>年—</a:t>
              </a:r>
              <a:r>
                <a:rPr b="1" lang="zh-CN" sz="1800" spc="-1" strike="noStrike">
                  <a:solidFill>
                    <a:srgbClr val="70ad47"/>
                  </a:solidFill>
                  <a:latin typeface="Arial"/>
                  <a:ea typeface="宋体"/>
                </a:rPr>
                <a:t>1991</a:t>
              </a:r>
              <a:r>
                <a:rPr b="1" lang="zh-CN" sz="1800" spc="-1" strike="noStrike">
                  <a:solidFill>
                    <a:srgbClr val="70ad47"/>
                  </a:solidFill>
                  <a:latin typeface="Arial"/>
                  <a:ea typeface="宋体"/>
                </a:rPr>
                <a:t>年），男，原名张法古，文水县西北安村人。曾任第五届全国人大法制委员会委员，中国科学院党组书记、副院长，中顾委委员等职。</a:t>
              </a: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153" name="MH_Other_6"/>
            <p:cNvSpPr/>
            <p:nvPr/>
          </p:nvSpPr>
          <p:spPr>
            <a:xfrm>
              <a:off x="8367840" y="6474240"/>
              <a:ext cx="3406320" cy="96480"/>
            </a:xfrm>
            <a:prstGeom prst="rect">
              <a:avLst/>
            </a:prstGeom>
            <a:solidFill>
              <a:srgbClr val="72cc36"/>
            </a:solidFill>
            <a:ln w="3240">
              <a:solidFill>
                <a:srgbClr val="72cc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</p:grpSp>
      <p:grpSp>
        <p:nvGrpSpPr>
          <p:cNvPr id="154" name="组合 7"/>
          <p:cNvGrpSpPr/>
          <p:nvPr/>
        </p:nvGrpSpPr>
        <p:grpSpPr>
          <a:xfrm>
            <a:off x="374760" y="1251000"/>
            <a:ext cx="4003560" cy="2480760"/>
            <a:chOff x="374760" y="1251000"/>
            <a:chExt cx="4003560" cy="2480760"/>
          </a:xfrm>
        </p:grpSpPr>
        <p:grpSp>
          <p:nvGrpSpPr>
            <p:cNvPr id="155" name="组合 1"/>
            <p:cNvGrpSpPr/>
            <p:nvPr/>
          </p:nvGrpSpPr>
          <p:grpSpPr>
            <a:xfrm>
              <a:off x="374760" y="1251000"/>
              <a:ext cx="3980160" cy="2480760"/>
              <a:chOff x="374760" y="1251000"/>
              <a:chExt cx="3980160" cy="2480760"/>
            </a:xfrm>
          </p:grpSpPr>
          <p:sp>
            <p:nvSpPr>
              <p:cNvPr id="156" name="MH_SubTitle_1"/>
              <p:cNvSpPr/>
              <p:nvPr/>
            </p:nvSpPr>
            <p:spPr>
              <a:xfrm>
                <a:off x="374760" y="1251000"/>
                <a:ext cx="3980160" cy="562680"/>
              </a:xfrm>
              <a:prstGeom prst="pie">
                <a:avLst/>
              </a:prstGeom>
              <a:solidFill>
                <a:srgbClr val="f2b800"/>
              </a:solidFill>
              <a:ln w="3240">
                <a:solidFill>
                  <a:srgbClr val="ffc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3200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effff"/>
                    </a:solidFill>
                    <a:latin typeface="Calibri"/>
                    <a:ea typeface="微软雅黑"/>
                  </a:rPr>
                  <a:t>      </a:t>
                </a:r>
                <a:r>
                  <a:rPr b="1" i="1" lang="zh-CN" sz="2400" spc="-1" strike="noStrike">
                    <a:solidFill>
                      <a:srgbClr val="feffff"/>
                    </a:solidFill>
                    <a:latin typeface="Calibri"/>
                    <a:ea typeface="微软雅黑"/>
                  </a:rPr>
                  <a:t>刘胡兰</a:t>
                </a:r>
                <a:endParaRPr b="0" lang="en-US" sz="24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157" name="MH_Text_1"/>
              <p:cNvSpPr/>
              <p:nvPr/>
            </p:nvSpPr>
            <p:spPr>
              <a:xfrm>
                <a:off x="374760" y="1813680"/>
                <a:ext cx="3980160" cy="1837440"/>
              </a:xfrm>
              <a:prstGeom prst="rect">
                <a:avLst/>
              </a:prstGeom>
              <a:solidFill>
                <a:srgbClr val="feffff"/>
              </a:solidFill>
              <a:ln w="3240">
                <a:solidFill>
                  <a:srgbClr val="daa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158" name="MH_Other_1"/>
              <p:cNvSpPr/>
              <p:nvPr/>
            </p:nvSpPr>
            <p:spPr>
              <a:xfrm>
                <a:off x="374760" y="3651480"/>
                <a:ext cx="3980160" cy="80280"/>
              </a:xfrm>
              <a:prstGeom prst="rect">
                <a:avLst/>
              </a:prstGeom>
              <a:solidFill>
                <a:srgbClr val="f2b800"/>
              </a:solidFill>
              <a:ln w="3240">
                <a:solidFill>
                  <a:srgbClr val="ffc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</p:grpSp>
        <p:sp>
          <p:nvSpPr>
            <p:cNvPr id="159" name="文本框 16"/>
            <p:cNvSpPr/>
            <p:nvPr/>
          </p:nvSpPr>
          <p:spPr>
            <a:xfrm>
              <a:off x="494640" y="1761840"/>
              <a:ext cx="3883680" cy="9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1" lang="zh-CN" sz="1800" spc="-1" strike="noStrike">
                  <a:solidFill>
                    <a:srgbClr val="b99179"/>
                  </a:solidFill>
                  <a:latin typeface="Arial"/>
                  <a:ea typeface="宋体"/>
                </a:rPr>
                <a:t>刘胡兰（</a:t>
              </a:r>
              <a:r>
                <a:rPr b="1" lang="zh-CN" sz="1800" spc="-1" strike="noStrike">
                  <a:solidFill>
                    <a:srgbClr val="b99179"/>
                  </a:solidFill>
                  <a:latin typeface="Arial"/>
                  <a:ea typeface="宋体"/>
                </a:rPr>
                <a:t>1932</a:t>
              </a:r>
              <a:r>
                <a:rPr b="1" lang="zh-CN" sz="1800" spc="-1" strike="noStrike">
                  <a:solidFill>
                    <a:srgbClr val="b99179"/>
                  </a:solidFill>
                  <a:latin typeface="Arial"/>
                  <a:ea typeface="宋体"/>
                </a:rPr>
                <a:t>年—</a:t>
              </a:r>
              <a:r>
                <a:rPr b="1" lang="zh-CN" sz="1800" spc="-1" strike="noStrike">
                  <a:solidFill>
                    <a:srgbClr val="b99179"/>
                  </a:solidFill>
                  <a:latin typeface="Arial"/>
                  <a:ea typeface="宋体"/>
                </a:rPr>
                <a:t>1947</a:t>
              </a:r>
              <a:r>
                <a:rPr b="1" lang="zh-CN" sz="1800" spc="-1" strike="noStrike">
                  <a:solidFill>
                    <a:srgbClr val="b99179"/>
                  </a:solidFill>
                  <a:latin typeface="Arial"/>
                  <a:ea typeface="宋体"/>
                </a:rPr>
                <a:t>年），女，文水县云周西村人。</a:t>
              </a:r>
              <a:r>
                <a:rPr b="1" lang="zh-CN" sz="1800" spc="-1" strike="noStrike">
                  <a:solidFill>
                    <a:srgbClr val="b99179"/>
                  </a:solidFill>
                  <a:latin typeface="Arial"/>
                  <a:ea typeface="宋体"/>
                </a:rPr>
                <a:t>1947</a:t>
              </a:r>
              <a:r>
                <a:rPr b="1" lang="zh-CN" sz="1800" spc="-1" strike="noStrike">
                  <a:solidFill>
                    <a:srgbClr val="b99179"/>
                  </a:solidFill>
                  <a:latin typeface="Arial"/>
                  <a:ea typeface="宋体"/>
                </a:rPr>
                <a:t>年</a:t>
              </a:r>
              <a:r>
                <a:rPr b="1" lang="zh-CN" sz="1800" spc="-1" strike="noStrike">
                  <a:solidFill>
                    <a:srgbClr val="b99179"/>
                  </a:solidFill>
                  <a:latin typeface="Arial"/>
                  <a:ea typeface="宋体"/>
                </a:rPr>
                <a:t>1</a:t>
              </a:r>
              <a:r>
                <a:rPr b="1" lang="zh-CN" sz="1800" spc="-1" strike="noStrike">
                  <a:solidFill>
                    <a:srgbClr val="b99179"/>
                  </a:solidFill>
                  <a:latin typeface="Arial"/>
                  <a:ea typeface="宋体"/>
                </a:rPr>
                <a:t>月</a:t>
              </a:r>
              <a:r>
                <a:rPr b="1" lang="zh-CN" sz="1800" spc="-1" strike="noStrike">
                  <a:solidFill>
                    <a:srgbClr val="b99179"/>
                  </a:solidFill>
                  <a:latin typeface="Arial"/>
                  <a:ea typeface="宋体"/>
                </a:rPr>
                <a:t>12</a:t>
              </a:r>
              <a:r>
                <a:rPr b="1" lang="zh-CN" sz="1800" spc="-1" strike="noStrike">
                  <a:solidFill>
                    <a:srgbClr val="b99179"/>
                  </a:solidFill>
                  <a:latin typeface="Arial"/>
                  <a:ea typeface="宋体"/>
                </a:rPr>
                <a:t>日，阎军包围了云周西村，刘胡兰慷慨就义，时年</a:t>
              </a:r>
              <a:r>
                <a:rPr b="1" lang="zh-CN" sz="1800" spc="-1" strike="noStrike">
                  <a:solidFill>
                    <a:srgbClr val="b99179"/>
                  </a:solidFill>
                  <a:latin typeface="Arial"/>
                  <a:ea typeface="宋体"/>
                </a:rPr>
                <a:t>15</a:t>
              </a:r>
              <a:r>
                <a:rPr b="1" lang="zh-CN" sz="1800" spc="-1" strike="noStrike">
                  <a:solidFill>
                    <a:srgbClr val="b99179"/>
                  </a:solidFill>
                  <a:latin typeface="Arial"/>
                  <a:ea typeface="宋体"/>
                </a:rPr>
                <a:t>岁。</a:t>
              </a:r>
              <a:r>
                <a:rPr b="1" lang="zh-CN" sz="1800" spc="-1" strike="noStrike">
                  <a:solidFill>
                    <a:srgbClr val="b99179"/>
                  </a:solidFill>
                  <a:latin typeface="Arial"/>
                  <a:ea typeface="宋体"/>
                </a:rPr>
                <a:t>1947</a:t>
              </a:r>
              <a:r>
                <a:rPr b="1" lang="zh-CN" sz="1800" spc="-1" strike="noStrike">
                  <a:solidFill>
                    <a:srgbClr val="b99179"/>
                  </a:solidFill>
                  <a:latin typeface="Arial"/>
                  <a:ea typeface="宋体"/>
                </a:rPr>
                <a:t>年</a:t>
              </a:r>
              <a:r>
                <a:rPr b="1" lang="zh-CN" sz="1800" spc="-1" strike="noStrike">
                  <a:solidFill>
                    <a:srgbClr val="b99179"/>
                  </a:solidFill>
                  <a:latin typeface="Arial"/>
                  <a:ea typeface="宋体"/>
                </a:rPr>
                <a:t>3</a:t>
              </a:r>
              <a:r>
                <a:rPr b="1" lang="zh-CN" sz="1800" spc="-1" strike="noStrike">
                  <a:solidFill>
                    <a:srgbClr val="b99179"/>
                  </a:solidFill>
                  <a:latin typeface="Arial"/>
                  <a:ea typeface="宋体"/>
                </a:rPr>
                <a:t>月</a:t>
              </a:r>
              <a:r>
                <a:rPr b="1" lang="zh-CN" sz="1800" spc="-1" strike="noStrike">
                  <a:solidFill>
                    <a:srgbClr val="b99179"/>
                  </a:solidFill>
                  <a:latin typeface="Arial"/>
                  <a:ea typeface="宋体"/>
                </a:rPr>
                <a:t>25</a:t>
              </a:r>
              <a:r>
                <a:rPr b="1" lang="zh-CN" sz="1800" spc="-1" strike="noStrike">
                  <a:solidFill>
                    <a:srgbClr val="b99179"/>
                  </a:solidFill>
                  <a:latin typeface="Arial"/>
                  <a:ea typeface="宋体"/>
                </a:rPr>
                <a:t>日，毛泽东为刘胡兰题词：“生的伟大，死的光荣”。</a:t>
              </a: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</p:grpSp>
      <p:sp>
        <p:nvSpPr>
          <p:cNvPr id="160" name=""/>
          <p:cNvSpPr txBox="1"/>
          <p:nvPr/>
        </p:nvSpPr>
        <p:spPr>
          <a:xfrm>
            <a:off x="666720" y="293760"/>
            <a:ext cx="3479760" cy="61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琥珀"/>
              </a:rPr>
              <a:t>文水名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500"/>
                            </p:stCondLst>
                            <p:childTnLst>
                              <p:par>
                                <p:cTn id="249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500"/>
                            </p:stCondLst>
                            <p:childTnLst>
                              <p:par>
                                <p:cTn id="256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500"/>
                            </p:stCondLst>
                            <p:childTnLst>
                              <p:par>
                                <p:cTn id="2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40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组合 4"/>
          <p:cNvGrpSpPr/>
          <p:nvPr/>
        </p:nvGrpSpPr>
        <p:grpSpPr>
          <a:xfrm>
            <a:off x="-131760" y="1836000"/>
            <a:ext cx="12304800" cy="3287880"/>
            <a:chOff x="-131760" y="1836000"/>
            <a:chExt cx="12304800" cy="3287880"/>
          </a:xfrm>
        </p:grpSpPr>
        <p:sp>
          <p:nvSpPr>
            <p:cNvPr id="162" name="任意多边形 15"/>
            <p:cNvSpPr/>
            <p:nvPr/>
          </p:nvSpPr>
          <p:spPr>
            <a:xfrm flipH="1" flipV="1" rot="16200000">
              <a:off x="4376520" y="-2672640"/>
              <a:ext cx="3287880" cy="12304800"/>
            </a:xfrm>
            <a:custGeom>
              <a:avLst/>
              <a:gdLst/>
              <a:ahLst/>
              <a:rect l="l" t="t" r="r" b="b"/>
              <a:pathLst>
                <a:path w="2814639" h="9144001">
                  <a:moveTo>
                    <a:pt x="2573339" y="414974"/>
                  </a:moveTo>
                  <a:cubicBezTo>
                    <a:pt x="2573339" y="429879"/>
                    <a:pt x="2585422" y="441962"/>
                    <a:pt x="2600327" y="441962"/>
                  </a:cubicBezTo>
                  <a:lnTo>
                    <a:pt x="2708276" y="441962"/>
                  </a:lnTo>
                  <a:cubicBezTo>
                    <a:pt x="2723181" y="441962"/>
                    <a:pt x="2735264" y="429879"/>
                    <a:pt x="2735264" y="414974"/>
                  </a:cubicBezTo>
                  <a:lnTo>
                    <a:pt x="2735264" y="307025"/>
                  </a:lnTo>
                  <a:cubicBezTo>
                    <a:pt x="2735264" y="292120"/>
                    <a:pt x="2723181" y="280037"/>
                    <a:pt x="2708276" y="280037"/>
                  </a:cubicBezTo>
                  <a:lnTo>
                    <a:pt x="2600327" y="280037"/>
                  </a:lnTo>
                  <a:cubicBezTo>
                    <a:pt x="2585422" y="280037"/>
                    <a:pt x="2573339" y="292120"/>
                    <a:pt x="2573339" y="307025"/>
                  </a:cubicBezTo>
                  <a:close/>
                  <a:moveTo>
                    <a:pt x="2573339" y="749302"/>
                  </a:moveTo>
                  <a:cubicBezTo>
                    <a:pt x="2573339" y="764207"/>
                    <a:pt x="2585422" y="776290"/>
                    <a:pt x="2600327" y="776290"/>
                  </a:cubicBezTo>
                  <a:lnTo>
                    <a:pt x="2708276" y="776290"/>
                  </a:lnTo>
                  <a:cubicBezTo>
                    <a:pt x="2723181" y="776290"/>
                    <a:pt x="2735264" y="764207"/>
                    <a:pt x="2735264" y="749302"/>
                  </a:cubicBezTo>
                  <a:lnTo>
                    <a:pt x="2735264" y="641353"/>
                  </a:lnTo>
                  <a:cubicBezTo>
                    <a:pt x="2735264" y="626448"/>
                    <a:pt x="2723181" y="614365"/>
                    <a:pt x="2708276" y="614365"/>
                  </a:cubicBezTo>
                  <a:lnTo>
                    <a:pt x="2600327" y="614365"/>
                  </a:lnTo>
                  <a:cubicBezTo>
                    <a:pt x="2585422" y="614365"/>
                    <a:pt x="2573339" y="626448"/>
                    <a:pt x="2573339" y="641353"/>
                  </a:cubicBezTo>
                  <a:close/>
                  <a:moveTo>
                    <a:pt x="2573339" y="1083631"/>
                  </a:moveTo>
                  <a:cubicBezTo>
                    <a:pt x="2573339" y="1098535"/>
                    <a:pt x="2585422" y="1110618"/>
                    <a:pt x="2600327" y="1110618"/>
                  </a:cubicBezTo>
                  <a:lnTo>
                    <a:pt x="2708276" y="1110618"/>
                  </a:lnTo>
                  <a:cubicBezTo>
                    <a:pt x="2723181" y="1110618"/>
                    <a:pt x="2735264" y="1098535"/>
                    <a:pt x="2735264" y="1083631"/>
                  </a:cubicBezTo>
                  <a:lnTo>
                    <a:pt x="2735264" y="975681"/>
                  </a:lnTo>
                  <a:cubicBezTo>
                    <a:pt x="2735264" y="960776"/>
                    <a:pt x="2723181" y="948693"/>
                    <a:pt x="2708276" y="948693"/>
                  </a:cubicBezTo>
                  <a:lnTo>
                    <a:pt x="2600327" y="948693"/>
                  </a:lnTo>
                  <a:cubicBezTo>
                    <a:pt x="2585422" y="948693"/>
                    <a:pt x="2573339" y="960776"/>
                    <a:pt x="2573339" y="975681"/>
                  </a:cubicBezTo>
                  <a:close/>
                  <a:moveTo>
                    <a:pt x="2573339" y="1417958"/>
                  </a:moveTo>
                  <a:cubicBezTo>
                    <a:pt x="2573339" y="1432862"/>
                    <a:pt x="2585422" y="1444947"/>
                    <a:pt x="2600327" y="1444947"/>
                  </a:cubicBezTo>
                  <a:lnTo>
                    <a:pt x="2708276" y="1444947"/>
                  </a:lnTo>
                  <a:cubicBezTo>
                    <a:pt x="2723181" y="1444947"/>
                    <a:pt x="2735264" y="1432862"/>
                    <a:pt x="2735264" y="1417958"/>
                  </a:cubicBezTo>
                  <a:lnTo>
                    <a:pt x="2735264" y="1310009"/>
                  </a:lnTo>
                  <a:cubicBezTo>
                    <a:pt x="2735264" y="1295105"/>
                    <a:pt x="2723181" y="1283022"/>
                    <a:pt x="2708276" y="1283022"/>
                  </a:cubicBezTo>
                  <a:lnTo>
                    <a:pt x="2600327" y="1283022"/>
                  </a:lnTo>
                  <a:cubicBezTo>
                    <a:pt x="2585422" y="1283022"/>
                    <a:pt x="2573339" y="1295105"/>
                    <a:pt x="2573339" y="1310009"/>
                  </a:cubicBezTo>
                  <a:close/>
                  <a:moveTo>
                    <a:pt x="2573339" y="1752287"/>
                  </a:moveTo>
                  <a:cubicBezTo>
                    <a:pt x="2573339" y="1767191"/>
                    <a:pt x="2585422" y="1779275"/>
                    <a:pt x="2600327" y="1779275"/>
                  </a:cubicBezTo>
                  <a:lnTo>
                    <a:pt x="2708276" y="1779275"/>
                  </a:lnTo>
                  <a:cubicBezTo>
                    <a:pt x="2723181" y="1779275"/>
                    <a:pt x="2735264" y="1767191"/>
                    <a:pt x="2735264" y="1752287"/>
                  </a:cubicBezTo>
                  <a:lnTo>
                    <a:pt x="2735264" y="1644336"/>
                  </a:lnTo>
                  <a:cubicBezTo>
                    <a:pt x="2735264" y="1629431"/>
                    <a:pt x="2723181" y="1617348"/>
                    <a:pt x="2708276" y="1617348"/>
                  </a:cubicBezTo>
                  <a:lnTo>
                    <a:pt x="2600327" y="1617348"/>
                  </a:lnTo>
                  <a:cubicBezTo>
                    <a:pt x="2585422" y="1617348"/>
                    <a:pt x="2573339" y="1629431"/>
                    <a:pt x="2573339" y="1644336"/>
                  </a:cubicBezTo>
                  <a:close/>
                  <a:moveTo>
                    <a:pt x="2573339" y="2086613"/>
                  </a:moveTo>
                  <a:cubicBezTo>
                    <a:pt x="2573339" y="2101518"/>
                    <a:pt x="2585422" y="2113601"/>
                    <a:pt x="2600327" y="2113601"/>
                  </a:cubicBezTo>
                  <a:lnTo>
                    <a:pt x="2708276" y="2113601"/>
                  </a:lnTo>
                  <a:cubicBezTo>
                    <a:pt x="2723181" y="2113601"/>
                    <a:pt x="2735264" y="2101518"/>
                    <a:pt x="2735264" y="2086613"/>
                  </a:cubicBezTo>
                  <a:lnTo>
                    <a:pt x="2735264" y="1978664"/>
                  </a:lnTo>
                  <a:cubicBezTo>
                    <a:pt x="2735264" y="1963759"/>
                    <a:pt x="2723181" y="1951675"/>
                    <a:pt x="2708276" y="1951675"/>
                  </a:cubicBezTo>
                  <a:lnTo>
                    <a:pt x="2600327" y="1951675"/>
                  </a:lnTo>
                  <a:cubicBezTo>
                    <a:pt x="2585422" y="1951675"/>
                    <a:pt x="2573339" y="1963759"/>
                    <a:pt x="2573339" y="1978664"/>
                  </a:cubicBezTo>
                  <a:close/>
                  <a:moveTo>
                    <a:pt x="2573339" y="2420941"/>
                  </a:moveTo>
                  <a:cubicBezTo>
                    <a:pt x="2573339" y="2435846"/>
                    <a:pt x="2585422" y="2447929"/>
                    <a:pt x="2600327" y="2447929"/>
                  </a:cubicBezTo>
                  <a:lnTo>
                    <a:pt x="2708276" y="2447929"/>
                  </a:lnTo>
                  <a:cubicBezTo>
                    <a:pt x="2723181" y="2447929"/>
                    <a:pt x="2735264" y="2435846"/>
                    <a:pt x="2735264" y="2420941"/>
                  </a:cubicBezTo>
                  <a:lnTo>
                    <a:pt x="2735264" y="2312993"/>
                  </a:lnTo>
                  <a:cubicBezTo>
                    <a:pt x="2735264" y="2298088"/>
                    <a:pt x="2723181" y="2286005"/>
                    <a:pt x="2708276" y="2286005"/>
                  </a:cubicBezTo>
                  <a:lnTo>
                    <a:pt x="2708278" y="2286005"/>
                  </a:lnTo>
                  <a:lnTo>
                    <a:pt x="2708276" y="2286004"/>
                  </a:lnTo>
                  <a:lnTo>
                    <a:pt x="2600327" y="2286004"/>
                  </a:lnTo>
                  <a:lnTo>
                    <a:pt x="2600324" y="2286005"/>
                  </a:lnTo>
                  <a:lnTo>
                    <a:pt x="2600327" y="2286005"/>
                  </a:lnTo>
                  <a:cubicBezTo>
                    <a:pt x="2585422" y="2286005"/>
                    <a:pt x="2573339" y="2298088"/>
                    <a:pt x="2573339" y="2312993"/>
                  </a:cubicBezTo>
                  <a:close/>
                  <a:moveTo>
                    <a:pt x="2573339" y="2755266"/>
                  </a:moveTo>
                  <a:cubicBezTo>
                    <a:pt x="2573339" y="2770171"/>
                    <a:pt x="2585422" y="2782254"/>
                    <a:pt x="2600327" y="2782254"/>
                  </a:cubicBezTo>
                  <a:lnTo>
                    <a:pt x="2708276" y="2782254"/>
                  </a:lnTo>
                  <a:cubicBezTo>
                    <a:pt x="2723181" y="2782254"/>
                    <a:pt x="2735264" y="2770171"/>
                    <a:pt x="2735264" y="2755266"/>
                  </a:cubicBezTo>
                  <a:lnTo>
                    <a:pt x="2735264" y="2647321"/>
                  </a:lnTo>
                  <a:cubicBezTo>
                    <a:pt x="2735264" y="2632416"/>
                    <a:pt x="2723181" y="2620333"/>
                    <a:pt x="2708276" y="2620333"/>
                  </a:cubicBezTo>
                  <a:lnTo>
                    <a:pt x="2600327" y="2620333"/>
                  </a:lnTo>
                  <a:cubicBezTo>
                    <a:pt x="2585422" y="2620333"/>
                    <a:pt x="2573339" y="2632416"/>
                    <a:pt x="2573339" y="2647321"/>
                  </a:cubicBezTo>
                  <a:close/>
                  <a:moveTo>
                    <a:pt x="2573339" y="3089594"/>
                  </a:moveTo>
                  <a:cubicBezTo>
                    <a:pt x="2573339" y="3104499"/>
                    <a:pt x="2585422" y="3116582"/>
                    <a:pt x="2600327" y="3116582"/>
                  </a:cubicBezTo>
                  <a:lnTo>
                    <a:pt x="2708276" y="3116582"/>
                  </a:lnTo>
                  <a:cubicBezTo>
                    <a:pt x="2723181" y="3116582"/>
                    <a:pt x="2735264" y="3104499"/>
                    <a:pt x="2735264" y="3089594"/>
                  </a:cubicBezTo>
                  <a:lnTo>
                    <a:pt x="2735264" y="2981649"/>
                  </a:lnTo>
                  <a:cubicBezTo>
                    <a:pt x="2735264" y="2966744"/>
                    <a:pt x="2723181" y="2954661"/>
                    <a:pt x="2708276" y="2954661"/>
                  </a:cubicBezTo>
                  <a:lnTo>
                    <a:pt x="2600327" y="2954661"/>
                  </a:lnTo>
                  <a:cubicBezTo>
                    <a:pt x="2585422" y="2954661"/>
                    <a:pt x="2573339" y="2966744"/>
                    <a:pt x="2573339" y="2981649"/>
                  </a:cubicBezTo>
                  <a:close/>
                  <a:moveTo>
                    <a:pt x="2573339" y="3423922"/>
                  </a:moveTo>
                  <a:cubicBezTo>
                    <a:pt x="2573339" y="3438827"/>
                    <a:pt x="2585422" y="3450910"/>
                    <a:pt x="2600327" y="3450910"/>
                  </a:cubicBezTo>
                  <a:lnTo>
                    <a:pt x="2708276" y="3450910"/>
                  </a:lnTo>
                  <a:cubicBezTo>
                    <a:pt x="2723181" y="3450910"/>
                    <a:pt x="2735264" y="3438827"/>
                    <a:pt x="2735264" y="3423922"/>
                  </a:cubicBezTo>
                  <a:lnTo>
                    <a:pt x="2735264" y="3315977"/>
                  </a:lnTo>
                  <a:cubicBezTo>
                    <a:pt x="2735264" y="3301072"/>
                    <a:pt x="2723181" y="3288989"/>
                    <a:pt x="2708276" y="3288989"/>
                  </a:cubicBezTo>
                  <a:lnTo>
                    <a:pt x="2600327" y="3288989"/>
                  </a:lnTo>
                  <a:cubicBezTo>
                    <a:pt x="2585422" y="3288989"/>
                    <a:pt x="2573339" y="3301072"/>
                    <a:pt x="2573339" y="3315977"/>
                  </a:cubicBezTo>
                  <a:close/>
                  <a:moveTo>
                    <a:pt x="2573339" y="3758250"/>
                  </a:moveTo>
                  <a:cubicBezTo>
                    <a:pt x="2573339" y="3773155"/>
                    <a:pt x="2585422" y="3785238"/>
                    <a:pt x="2600327" y="3785238"/>
                  </a:cubicBezTo>
                  <a:lnTo>
                    <a:pt x="2708276" y="3785238"/>
                  </a:lnTo>
                  <a:cubicBezTo>
                    <a:pt x="2723181" y="3785238"/>
                    <a:pt x="2735264" y="3773155"/>
                    <a:pt x="2735264" y="3758250"/>
                  </a:cubicBezTo>
                  <a:lnTo>
                    <a:pt x="2735264" y="3650305"/>
                  </a:lnTo>
                  <a:cubicBezTo>
                    <a:pt x="2735264" y="3635400"/>
                    <a:pt x="2723181" y="3623317"/>
                    <a:pt x="2708276" y="3623317"/>
                  </a:cubicBezTo>
                  <a:lnTo>
                    <a:pt x="2600327" y="3623317"/>
                  </a:lnTo>
                  <a:cubicBezTo>
                    <a:pt x="2585422" y="3623317"/>
                    <a:pt x="2573339" y="3635400"/>
                    <a:pt x="2573339" y="3650305"/>
                  </a:cubicBezTo>
                  <a:close/>
                  <a:moveTo>
                    <a:pt x="2573339" y="4092578"/>
                  </a:moveTo>
                  <a:cubicBezTo>
                    <a:pt x="2573339" y="4107483"/>
                    <a:pt x="2585422" y="4119566"/>
                    <a:pt x="2600327" y="4119566"/>
                  </a:cubicBezTo>
                  <a:lnTo>
                    <a:pt x="2708276" y="4119566"/>
                  </a:lnTo>
                  <a:cubicBezTo>
                    <a:pt x="2723181" y="4119566"/>
                    <a:pt x="2735264" y="4107483"/>
                    <a:pt x="2735264" y="4092578"/>
                  </a:cubicBezTo>
                  <a:lnTo>
                    <a:pt x="2735264" y="3984633"/>
                  </a:lnTo>
                  <a:cubicBezTo>
                    <a:pt x="2735264" y="3969728"/>
                    <a:pt x="2723181" y="3957645"/>
                    <a:pt x="2708276" y="3957645"/>
                  </a:cubicBezTo>
                  <a:lnTo>
                    <a:pt x="2600327" y="3957645"/>
                  </a:lnTo>
                  <a:cubicBezTo>
                    <a:pt x="2585422" y="3957645"/>
                    <a:pt x="2573339" y="3969728"/>
                    <a:pt x="2573339" y="3984633"/>
                  </a:cubicBezTo>
                  <a:close/>
                  <a:moveTo>
                    <a:pt x="2573339" y="4426906"/>
                  </a:moveTo>
                  <a:cubicBezTo>
                    <a:pt x="2573339" y="4441811"/>
                    <a:pt x="2585422" y="4453894"/>
                    <a:pt x="2600327" y="4453894"/>
                  </a:cubicBezTo>
                  <a:lnTo>
                    <a:pt x="2708276" y="4453894"/>
                  </a:lnTo>
                  <a:cubicBezTo>
                    <a:pt x="2723181" y="4453894"/>
                    <a:pt x="2735264" y="4441811"/>
                    <a:pt x="2735264" y="4426906"/>
                  </a:cubicBezTo>
                  <a:lnTo>
                    <a:pt x="2735264" y="4318961"/>
                  </a:lnTo>
                  <a:cubicBezTo>
                    <a:pt x="2735264" y="4304057"/>
                    <a:pt x="2723181" y="4291974"/>
                    <a:pt x="2708276" y="4291974"/>
                  </a:cubicBezTo>
                  <a:lnTo>
                    <a:pt x="2600327" y="4291974"/>
                  </a:lnTo>
                  <a:cubicBezTo>
                    <a:pt x="2585422" y="4291974"/>
                    <a:pt x="2573339" y="4304057"/>
                    <a:pt x="2573339" y="4318961"/>
                  </a:cubicBezTo>
                  <a:close/>
                  <a:moveTo>
                    <a:pt x="2573339" y="4761234"/>
                  </a:moveTo>
                  <a:cubicBezTo>
                    <a:pt x="2573339" y="4776139"/>
                    <a:pt x="2585422" y="4788222"/>
                    <a:pt x="2600327" y="4788222"/>
                  </a:cubicBezTo>
                  <a:lnTo>
                    <a:pt x="2708276" y="4788222"/>
                  </a:lnTo>
                  <a:cubicBezTo>
                    <a:pt x="2723181" y="4788222"/>
                    <a:pt x="2735264" y="4776139"/>
                    <a:pt x="2735264" y="4761234"/>
                  </a:cubicBezTo>
                  <a:lnTo>
                    <a:pt x="2735264" y="4653288"/>
                  </a:lnTo>
                  <a:cubicBezTo>
                    <a:pt x="2735264" y="4638383"/>
                    <a:pt x="2723181" y="4626300"/>
                    <a:pt x="2708276" y="4626300"/>
                  </a:cubicBezTo>
                  <a:lnTo>
                    <a:pt x="2600327" y="4626300"/>
                  </a:lnTo>
                  <a:cubicBezTo>
                    <a:pt x="2585422" y="4626300"/>
                    <a:pt x="2573339" y="4638383"/>
                    <a:pt x="2573339" y="4653288"/>
                  </a:cubicBezTo>
                  <a:close/>
                  <a:moveTo>
                    <a:pt x="2573339" y="5095562"/>
                  </a:moveTo>
                  <a:cubicBezTo>
                    <a:pt x="2573339" y="5110467"/>
                    <a:pt x="2585422" y="5122550"/>
                    <a:pt x="2600327" y="5122550"/>
                  </a:cubicBezTo>
                  <a:lnTo>
                    <a:pt x="2708276" y="5122550"/>
                  </a:lnTo>
                  <a:cubicBezTo>
                    <a:pt x="2723181" y="5122550"/>
                    <a:pt x="2735264" y="5110467"/>
                    <a:pt x="2735264" y="5095562"/>
                  </a:cubicBezTo>
                  <a:lnTo>
                    <a:pt x="2735264" y="4987616"/>
                  </a:lnTo>
                  <a:cubicBezTo>
                    <a:pt x="2735264" y="4972711"/>
                    <a:pt x="2723181" y="4960627"/>
                    <a:pt x="2708276" y="4960627"/>
                  </a:cubicBezTo>
                  <a:lnTo>
                    <a:pt x="2600327" y="4960627"/>
                  </a:lnTo>
                  <a:cubicBezTo>
                    <a:pt x="2585422" y="4960627"/>
                    <a:pt x="2573339" y="4972711"/>
                    <a:pt x="2573339" y="4987616"/>
                  </a:cubicBezTo>
                  <a:close/>
                  <a:moveTo>
                    <a:pt x="2573339" y="5429890"/>
                  </a:moveTo>
                  <a:cubicBezTo>
                    <a:pt x="2573339" y="5444795"/>
                    <a:pt x="2585422" y="5456878"/>
                    <a:pt x="2600327" y="5456878"/>
                  </a:cubicBezTo>
                  <a:lnTo>
                    <a:pt x="2708276" y="5456878"/>
                  </a:lnTo>
                  <a:cubicBezTo>
                    <a:pt x="2723181" y="5456878"/>
                    <a:pt x="2735264" y="5444795"/>
                    <a:pt x="2735264" y="5429890"/>
                  </a:cubicBezTo>
                  <a:lnTo>
                    <a:pt x="2735264" y="5321944"/>
                  </a:lnTo>
                  <a:cubicBezTo>
                    <a:pt x="2735264" y="5307039"/>
                    <a:pt x="2723181" y="5294956"/>
                    <a:pt x="2708276" y="5294956"/>
                  </a:cubicBezTo>
                  <a:lnTo>
                    <a:pt x="2600327" y="5294956"/>
                  </a:lnTo>
                  <a:cubicBezTo>
                    <a:pt x="2585422" y="5294956"/>
                    <a:pt x="2573339" y="5307039"/>
                    <a:pt x="2573339" y="5321944"/>
                  </a:cubicBezTo>
                  <a:close/>
                  <a:moveTo>
                    <a:pt x="2573339" y="5764218"/>
                  </a:moveTo>
                  <a:cubicBezTo>
                    <a:pt x="2573339" y="5779123"/>
                    <a:pt x="2585422" y="5791206"/>
                    <a:pt x="2600327" y="5791206"/>
                  </a:cubicBezTo>
                  <a:lnTo>
                    <a:pt x="2708276" y="5791206"/>
                  </a:lnTo>
                  <a:cubicBezTo>
                    <a:pt x="2723181" y="5791206"/>
                    <a:pt x="2735264" y="5779123"/>
                    <a:pt x="2735264" y="5764218"/>
                  </a:cubicBezTo>
                  <a:lnTo>
                    <a:pt x="2735264" y="5656272"/>
                  </a:lnTo>
                  <a:cubicBezTo>
                    <a:pt x="2735264" y="5641365"/>
                    <a:pt x="2723181" y="5629282"/>
                    <a:pt x="2708276" y="5629282"/>
                  </a:cubicBezTo>
                  <a:lnTo>
                    <a:pt x="2600327" y="5629282"/>
                  </a:lnTo>
                  <a:cubicBezTo>
                    <a:pt x="2585422" y="5629282"/>
                    <a:pt x="2573339" y="5641365"/>
                    <a:pt x="2573339" y="5656272"/>
                  </a:cubicBezTo>
                  <a:close/>
                  <a:moveTo>
                    <a:pt x="2573339" y="6098536"/>
                  </a:moveTo>
                  <a:cubicBezTo>
                    <a:pt x="2573339" y="6113441"/>
                    <a:pt x="2585422" y="6125524"/>
                    <a:pt x="2600327" y="6125524"/>
                  </a:cubicBezTo>
                  <a:lnTo>
                    <a:pt x="2708276" y="6125524"/>
                  </a:lnTo>
                  <a:cubicBezTo>
                    <a:pt x="2723181" y="6125524"/>
                    <a:pt x="2735264" y="6113441"/>
                    <a:pt x="2735264" y="6098536"/>
                  </a:cubicBezTo>
                  <a:lnTo>
                    <a:pt x="2735264" y="5990597"/>
                  </a:lnTo>
                  <a:cubicBezTo>
                    <a:pt x="2735264" y="5975692"/>
                    <a:pt x="2723181" y="5963609"/>
                    <a:pt x="2708276" y="5963609"/>
                  </a:cubicBezTo>
                  <a:lnTo>
                    <a:pt x="2600327" y="5963609"/>
                  </a:lnTo>
                  <a:cubicBezTo>
                    <a:pt x="2585422" y="5963609"/>
                    <a:pt x="2573339" y="5975692"/>
                    <a:pt x="2573339" y="5990597"/>
                  </a:cubicBezTo>
                  <a:close/>
                  <a:moveTo>
                    <a:pt x="2573339" y="6432874"/>
                  </a:moveTo>
                  <a:cubicBezTo>
                    <a:pt x="2573339" y="6447779"/>
                    <a:pt x="2585422" y="6459862"/>
                    <a:pt x="2600327" y="6459862"/>
                  </a:cubicBezTo>
                  <a:lnTo>
                    <a:pt x="2708276" y="6459862"/>
                  </a:lnTo>
                  <a:cubicBezTo>
                    <a:pt x="2723181" y="6459862"/>
                    <a:pt x="2735264" y="6447779"/>
                    <a:pt x="2735264" y="6432874"/>
                  </a:cubicBezTo>
                  <a:lnTo>
                    <a:pt x="2735264" y="6324925"/>
                  </a:lnTo>
                  <a:cubicBezTo>
                    <a:pt x="2735264" y="6310020"/>
                    <a:pt x="2723181" y="6297937"/>
                    <a:pt x="2708276" y="6297937"/>
                  </a:cubicBezTo>
                  <a:lnTo>
                    <a:pt x="2600327" y="6297937"/>
                  </a:lnTo>
                  <a:cubicBezTo>
                    <a:pt x="2585422" y="6297937"/>
                    <a:pt x="2573339" y="6310020"/>
                    <a:pt x="2573339" y="6324925"/>
                  </a:cubicBezTo>
                  <a:close/>
                  <a:moveTo>
                    <a:pt x="2573339" y="6767202"/>
                  </a:moveTo>
                  <a:cubicBezTo>
                    <a:pt x="2573339" y="6782107"/>
                    <a:pt x="2585422" y="6794190"/>
                    <a:pt x="2600327" y="6794190"/>
                  </a:cubicBezTo>
                  <a:lnTo>
                    <a:pt x="2708276" y="6794190"/>
                  </a:lnTo>
                  <a:cubicBezTo>
                    <a:pt x="2723181" y="6794190"/>
                    <a:pt x="2735264" y="6782107"/>
                    <a:pt x="2735264" y="6767202"/>
                  </a:cubicBezTo>
                  <a:lnTo>
                    <a:pt x="2735264" y="6659253"/>
                  </a:lnTo>
                  <a:cubicBezTo>
                    <a:pt x="2735264" y="6644348"/>
                    <a:pt x="2723181" y="6632265"/>
                    <a:pt x="2708276" y="6632265"/>
                  </a:cubicBezTo>
                  <a:lnTo>
                    <a:pt x="2600327" y="6632265"/>
                  </a:lnTo>
                  <a:cubicBezTo>
                    <a:pt x="2585422" y="6632265"/>
                    <a:pt x="2573339" y="6644348"/>
                    <a:pt x="2573339" y="6659253"/>
                  </a:cubicBezTo>
                  <a:close/>
                  <a:moveTo>
                    <a:pt x="2573339" y="7101530"/>
                  </a:moveTo>
                  <a:cubicBezTo>
                    <a:pt x="2573339" y="7116435"/>
                    <a:pt x="2585422" y="7128518"/>
                    <a:pt x="2600327" y="7128518"/>
                  </a:cubicBezTo>
                  <a:lnTo>
                    <a:pt x="2708276" y="7128518"/>
                  </a:lnTo>
                  <a:cubicBezTo>
                    <a:pt x="2723181" y="7128518"/>
                    <a:pt x="2735264" y="7116435"/>
                    <a:pt x="2735264" y="7101530"/>
                  </a:cubicBezTo>
                  <a:lnTo>
                    <a:pt x="2735264" y="6993581"/>
                  </a:lnTo>
                  <a:cubicBezTo>
                    <a:pt x="2735264" y="6978676"/>
                    <a:pt x="2723181" y="6966593"/>
                    <a:pt x="2708276" y="6966593"/>
                  </a:cubicBezTo>
                  <a:lnTo>
                    <a:pt x="2600327" y="6966593"/>
                  </a:lnTo>
                  <a:cubicBezTo>
                    <a:pt x="2585422" y="6966593"/>
                    <a:pt x="2573339" y="6978676"/>
                    <a:pt x="2573339" y="6993581"/>
                  </a:cubicBezTo>
                  <a:close/>
                  <a:moveTo>
                    <a:pt x="2573339" y="7435858"/>
                  </a:moveTo>
                  <a:cubicBezTo>
                    <a:pt x="2573339" y="7450763"/>
                    <a:pt x="2585422" y="7462846"/>
                    <a:pt x="2600327" y="7462846"/>
                  </a:cubicBezTo>
                  <a:lnTo>
                    <a:pt x="2708276" y="7462846"/>
                  </a:lnTo>
                  <a:cubicBezTo>
                    <a:pt x="2723181" y="7462846"/>
                    <a:pt x="2735264" y="7450763"/>
                    <a:pt x="2735264" y="7435858"/>
                  </a:cubicBezTo>
                  <a:lnTo>
                    <a:pt x="2735264" y="7327909"/>
                  </a:lnTo>
                  <a:cubicBezTo>
                    <a:pt x="2735264" y="7313004"/>
                    <a:pt x="2723181" y="7300921"/>
                    <a:pt x="2708276" y="7300921"/>
                  </a:cubicBezTo>
                  <a:lnTo>
                    <a:pt x="2600327" y="7300921"/>
                  </a:lnTo>
                  <a:cubicBezTo>
                    <a:pt x="2585422" y="7300921"/>
                    <a:pt x="2573339" y="7313004"/>
                    <a:pt x="2573339" y="7327909"/>
                  </a:cubicBezTo>
                  <a:close/>
                  <a:moveTo>
                    <a:pt x="2573339" y="7770186"/>
                  </a:moveTo>
                  <a:cubicBezTo>
                    <a:pt x="2573339" y="7785091"/>
                    <a:pt x="2585422" y="7797174"/>
                    <a:pt x="2600327" y="7797174"/>
                  </a:cubicBezTo>
                  <a:lnTo>
                    <a:pt x="2708276" y="7797174"/>
                  </a:lnTo>
                  <a:cubicBezTo>
                    <a:pt x="2723181" y="7797174"/>
                    <a:pt x="2735264" y="7785091"/>
                    <a:pt x="2735264" y="7770186"/>
                  </a:cubicBezTo>
                  <a:lnTo>
                    <a:pt x="2735264" y="7662237"/>
                  </a:lnTo>
                  <a:cubicBezTo>
                    <a:pt x="2735264" y="7647332"/>
                    <a:pt x="2723181" y="7635249"/>
                    <a:pt x="2708276" y="7635249"/>
                  </a:cubicBezTo>
                  <a:lnTo>
                    <a:pt x="2600327" y="7635249"/>
                  </a:lnTo>
                  <a:cubicBezTo>
                    <a:pt x="2585422" y="7635249"/>
                    <a:pt x="2573339" y="7647332"/>
                    <a:pt x="2573339" y="7662237"/>
                  </a:cubicBezTo>
                  <a:close/>
                  <a:moveTo>
                    <a:pt x="2573339" y="8104514"/>
                  </a:moveTo>
                  <a:cubicBezTo>
                    <a:pt x="2573339" y="8119419"/>
                    <a:pt x="2585422" y="8131502"/>
                    <a:pt x="2600327" y="8131502"/>
                  </a:cubicBezTo>
                  <a:lnTo>
                    <a:pt x="2708276" y="8131502"/>
                  </a:lnTo>
                  <a:cubicBezTo>
                    <a:pt x="2723181" y="8131502"/>
                    <a:pt x="2735264" y="8119419"/>
                    <a:pt x="2735264" y="8104514"/>
                  </a:cubicBezTo>
                  <a:lnTo>
                    <a:pt x="2735264" y="7996565"/>
                  </a:lnTo>
                  <a:cubicBezTo>
                    <a:pt x="2735264" y="7981660"/>
                    <a:pt x="2723181" y="7969577"/>
                    <a:pt x="2708276" y="7969577"/>
                  </a:cubicBezTo>
                  <a:lnTo>
                    <a:pt x="2600327" y="7969577"/>
                  </a:lnTo>
                  <a:cubicBezTo>
                    <a:pt x="2585422" y="7969577"/>
                    <a:pt x="2573339" y="7981660"/>
                    <a:pt x="2573339" y="7996565"/>
                  </a:cubicBezTo>
                  <a:close/>
                  <a:moveTo>
                    <a:pt x="2573339" y="8438842"/>
                  </a:moveTo>
                  <a:cubicBezTo>
                    <a:pt x="2573339" y="8453747"/>
                    <a:pt x="2585422" y="8465830"/>
                    <a:pt x="2600327" y="8465830"/>
                  </a:cubicBezTo>
                  <a:lnTo>
                    <a:pt x="2708276" y="8465830"/>
                  </a:lnTo>
                  <a:cubicBezTo>
                    <a:pt x="2723181" y="8465830"/>
                    <a:pt x="2735264" y="8453747"/>
                    <a:pt x="2735264" y="8438842"/>
                  </a:cubicBezTo>
                  <a:lnTo>
                    <a:pt x="2735264" y="8330893"/>
                  </a:lnTo>
                  <a:cubicBezTo>
                    <a:pt x="2735264" y="8315988"/>
                    <a:pt x="2723181" y="8303905"/>
                    <a:pt x="2708276" y="8303905"/>
                  </a:cubicBezTo>
                  <a:lnTo>
                    <a:pt x="2600327" y="8303905"/>
                  </a:lnTo>
                  <a:cubicBezTo>
                    <a:pt x="2585422" y="8303905"/>
                    <a:pt x="2573339" y="8315988"/>
                    <a:pt x="2573339" y="8330893"/>
                  </a:cubicBezTo>
                  <a:close/>
                  <a:moveTo>
                    <a:pt x="2573339" y="8773170"/>
                  </a:moveTo>
                  <a:cubicBezTo>
                    <a:pt x="2573339" y="8788075"/>
                    <a:pt x="2585422" y="8800158"/>
                    <a:pt x="2600327" y="8800158"/>
                  </a:cubicBezTo>
                  <a:lnTo>
                    <a:pt x="2708276" y="8800158"/>
                  </a:lnTo>
                  <a:cubicBezTo>
                    <a:pt x="2723181" y="8800158"/>
                    <a:pt x="2735264" y="8788075"/>
                    <a:pt x="2735264" y="8773170"/>
                  </a:cubicBezTo>
                  <a:lnTo>
                    <a:pt x="2735264" y="8665221"/>
                  </a:lnTo>
                  <a:cubicBezTo>
                    <a:pt x="2735264" y="8650316"/>
                    <a:pt x="2723181" y="8638233"/>
                    <a:pt x="2708276" y="8638233"/>
                  </a:cubicBezTo>
                  <a:lnTo>
                    <a:pt x="2600327" y="8638233"/>
                  </a:lnTo>
                  <a:cubicBezTo>
                    <a:pt x="2585422" y="8638233"/>
                    <a:pt x="2573339" y="8650316"/>
                    <a:pt x="2573339" y="8665221"/>
                  </a:cubicBezTo>
                  <a:close/>
                  <a:moveTo>
                    <a:pt x="2573339" y="9107488"/>
                  </a:moveTo>
                  <a:cubicBezTo>
                    <a:pt x="2573339" y="9122393"/>
                    <a:pt x="2585422" y="9134476"/>
                    <a:pt x="2600327" y="9134476"/>
                  </a:cubicBezTo>
                  <a:lnTo>
                    <a:pt x="2708276" y="9134476"/>
                  </a:lnTo>
                  <a:cubicBezTo>
                    <a:pt x="2723181" y="9134476"/>
                    <a:pt x="2735264" y="9122393"/>
                    <a:pt x="2735264" y="9107488"/>
                  </a:cubicBezTo>
                  <a:lnTo>
                    <a:pt x="2735264" y="8999539"/>
                  </a:lnTo>
                  <a:cubicBezTo>
                    <a:pt x="2735264" y="8984634"/>
                    <a:pt x="2723181" y="8972551"/>
                    <a:pt x="2708276" y="8972551"/>
                  </a:cubicBezTo>
                  <a:lnTo>
                    <a:pt x="2600327" y="8972551"/>
                  </a:lnTo>
                  <a:cubicBezTo>
                    <a:pt x="2585422" y="8972551"/>
                    <a:pt x="2573339" y="8984634"/>
                    <a:pt x="2573339" y="8999539"/>
                  </a:cubicBezTo>
                  <a:close/>
                  <a:moveTo>
                    <a:pt x="79375" y="414973"/>
                  </a:moveTo>
                  <a:cubicBezTo>
                    <a:pt x="79375" y="429878"/>
                    <a:pt x="91458" y="441961"/>
                    <a:pt x="106363" y="441961"/>
                  </a:cubicBezTo>
                  <a:lnTo>
                    <a:pt x="214312" y="441961"/>
                  </a:lnTo>
                  <a:cubicBezTo>
                    <a:pt x="229217" y="441961"/>
                    <a:pt x="241300" y="429878"/>
                    <a:pt x="241300" y="414973"/>
                  </a:cubicBezTo>
                  <a:lnTo>
                    <a:pt x="241300" y="307024"/>
                  </a:lnTo>
                  <a:cubicBezTo>
                    <a:pt x="241300" y="292119"/>
                    <a:pt x="229217" y="280036"/>
                    <a:pt x="214312" y="280036"/>
                  </a:cubicBezTo>
                  <a:lnTo>
                    <a:pt x="106363" y="280036"/>
                  </a:lnTo>
                  <a:cubicBezTo>
                    <a:pt x="91458" y="280036"/>
                    <a:pt x="79375" y="292119"/>
                    <a:pt x="79375" y="307024"/>
                  </a:cubicBezTo>
                  <a:close/>
                  <a:moveTo>
                    <a:pt x="79375" y="749301"/>
                  </a:moveTo>
                  <a:cubicBezTo>
                    <a:pt x="79375" y="764206"/>
                    <a:pt x="91458" y="776289"/>
                    <a:pt x="106363" y="776289"/>
                  </a:cubicBezTo>
                  <a:lnTo>
                    <a:pt x="214312" y="776289"/>
                  </a:lnTo>
                  <a:cubicBezTo>
                    <a:pt x="229217" y="776289"/>
                    <a:pt x="241300" y="764206"/>
                    <a:pt x="241300" y="749301"/>
                  </a:cubicBezTo>
                  <a:lnTo>
                    <a:pt x="241300" y="641352"/>
                  </a:lnTo>
                  <a:cubicBezTo>
                    <a:pt x="241300" y="626447"/>
                    <a:pt x="229217" y="614364"/>
                    <a:pt x="214312" y="614364"/>
                  </a:cubicBezTo>
                  <a:lnTo>
                    <a:pt x="106363" y="614364"/>
                  </a:lnTo>
                  <a:cubicBezTo>
                    <a:pt x="91458" y="614364"/>
                    <a:pt x="79375" y="626447"/>
                    <a:pt x="79375" y="641352"/>
                  </a:cubicBezTo>
                  <a:close/>
                  <a:moveTo>
                    <a:pt x="79375" y="1083630"/>
                  </a:moveTo>
                  <a:cubicBezTo>
                    <a:pt x="79375" y="1098534"/>
                    <a:pt x="91458" y="1110617"/>
                    <a:pt x="106363" y="1110617"/>
                  </a:cubicBezTo>
                  <a:lnTo>
                    <a:pt x="214312" y="1110617"/>
                  </a:lnTo>
                  <a:cubicBezTo>
                    <a:pt x="229217" y="1110617"/>
                    <a:pt x="241300" y="1098534"/>
                    <a:pt x="241300" y="1083630"/>
                  </a:cubicBezTo>
                  <a:lnTo>
                    <a:pt x="241300" y="975680"/>
                  </a:lnTo>
                  <a:cubicBezTo>
                    <a:pt x="241300" y="960775"/>
                    <a:pt x="229217" y="948692"/>
                    <a:pt x="214312" y="948692"/>
                  </a:cubicBezTo>
                  <a:lnTo>
                    <a:pt x="106363" y="948692"/>
                  </a:lnTo>
                  <a:cubicBezTo>
                    <a:pt x="91458" y="948692"/>
                    <a:pt x="79375" y="960775"/>
                    <a:pt x="79375" y="975680"/>
                  </a:cubicBezTo>
                  <a:close/>
                  <a:moveTo>
                    <a:pt x="79375" y="1417957"/>
                  </a:moveTo>
                  <a:cubicBezTo>
                    <a:pt x="79375" y="1432861"/>
                    <a:pt x="91458" y="1444946"/>
                    <a:pt x="106363" y="1444946"/>
                  </a:cubicBezTo>
                  <a:lnTo>
                    <a:pt x="214312" y="1444946"/>
                  </a:lnTo>
                  <a:cubicBezTo>
                    <a:pt x="229217" y="1444946"/>
                    <a:pt x="241300" y="1432861"/>
                    <a:pt x="241300" y="1417957"/>
                  </a:cubicBezTo>
                  <a:lnTo>
                    <a:pt x="241300" y="1310008"/>
                  </a:lnTo>
                  <a:cubicBezTo>
                    <a:pt x="241300" y="1295104"/>
                    <a:pt x="229217" y="1283021"/>
                    <a:pt x="214312" y="1283021"/>
                  </a:cubicBezTo>
                  <a:lnTo>
                    <a:pt x="106363" y="1283021"/>
                  </a:lnTo>
                  <a:cubicBezTo>
                    <a:pt x="91458" y="1283021"/>
                    <a:pt x="79375" y="1295104"/>
                    <a:pt x="79375" y="1310008"/>
                  </a:cubicBezTo>
                  <a:close/>
                  <a:moveTo>
                    <a:pt x="79375" y="1752286"/>
                  </a:moveTo>
                  <a:cubicBezTo>
                    <a:pt x="79375" y="1767190"/>
                    <a:pt x="91458" y="1779274"/>
                    <a:pt x="106363" y="1779274"/>
                  </a:cubicBezTo>
                  <a:lnTo>
                    <a:pt x="214312" y="1779274"/>
                  </a:lnTo>
                  <a:cubicBezTo>
                    <a:pt x="229217" y="1779274"/>
                    <a:pt x="241300" y="1767190"/>
                    <a:pt x="241300" y="1752286"/>
                  </a:cubicBezTo>
                  <a:lnTo>
                    <a:pt x="241300" y="1644335"/>
                  </a:lnTo>
                  <a:cubicBezTo>
                    <a:pt x="241300" y="1629430"/>
                    <a:pt x="229217" y="1617347"/>
                    <a:pt x="214312" y="1617347"/>
                  </a:cubicBezTo>
                  <a:lnTo>
                    <a:pt x="106363" y="1617347"/>
                  </a:lnTo>
                  <a:cubicBezTo>
                    <a:pt x="91458" y="1617347"/>
                    <a:pt x="79375" y="1629430"/>
                    <a:pt x="79375" y="1644335"/>
                  </a:cubicBezTo>
                  <a:close/>
                  <a:moveTo>
                    <a:pt x="79375" y="2086612"/>
                  </a:moveTo>
                  <a:cubicBezTo>
                    <a:pt x="79375" y="2101517"/>
                    <a:pt x="91458" y="2113600"/>
                    <a:pt x="106363" y="2113600"/>
                  </a:cubicBezTo>
                  <a:lnTo>
                    <a:pt x="214312" y="2113600"/>
                  </a:lnTo>
                  <a:cubicBezTo>
                    <a:pt x="229217" y="2113600"/>
                    <a:pt x="241300" y="2101517"/>
                    <a:pt x="241300" y="2086612"/>
                  </a:cubicBezTo>
                  <a:lnTo>
                    <a:pt x="241300" y="1978663"/>
                  </a:lnTo>
                  <a:cubicBezTo>
                    <a:pt x="241300" y="1963758"/>
                    <a:pt x="229217" y="1951674"/>
                    <a:pt x="214312" y="1951674"/>
                  </a:cubicBezTo>
                  <a:lnTo>
                    <a:pt x="106363" y="1951674"/>
                  </a:lnTo>
                  <a:cubicBezTo>
                    <a:pt x="91458" y="1951674"/>
                    <a:pt x="79375" y="1963758"/>
                    <a:pt x="79375" y="1978663"/>
                  </a:cubicBezTo>
                  <a:close/>
                  <a:moveTo>
                    <a:pt x="79375" y="2420940"/>
                  </a:moveTo>
                  <a:cubicBezTo>
                    <a:pt x="79375" y="2435845"/>
                    <a:pt x="91458" y="2447928"/>
                    <a:pt x="106363" y="2447928"/>
                  </a:cubicBezTo>
                  <a:lnTo>
                    <a:pt x="214312" y="2447928"/>
                  </a:lnTo>
                  <a:cubicBezTo>
                    <a:pt x="229217" y="2447928"/>
                    <a:pt x="241300" y="2435845"/>
                    <a:pt x="241300" y="2420940"/>
                  </a:cubicBezTo>
                  <a:lnTo>
                    <a:pt x="241300" y="2312992"/>
                  </a:lnTo>
                  <a:cubicBezTo>
                    <a:pt x="241300" y="2298087"/>
                    <a:pt x="229217" y="2286004"/>
                    <a:pt x="214312" y="2286004"/>
                  </a:cubicBezTo>
                  <a:lnTo>
                    <a:pt x="214315" y="2286004"/>
                  </a:lnTo>
                  <a:lnTo>
                    <a:pt x="214312" y="2286003"/>
                  </a:lnTo>
                  <a:lnTo>
                    <a:pt x="106363" y="2286003"/>
                  </a:lnTo>
                  <a:lnTo>
                    <a:pt x="106361" y="2286004"/>
                  </a:lnTo>
                  <a:lnTo>
                    <a:pt x="106363" y="2286004"/>
                  </a:lnTo>
                  <a:cubicBezTo>
                    <a:pt x="91458" y="2286004"/>
                    <a:pt x="79375" y="2298087"/>
                    <a:pt x="79375" y="2312992"/>
                  </a:cubicBezTo>
                  <a:close/>
                  <a:moveTo>
                    <a:pt x="79375" y="2755265"/>
                  </a:moveTo>
                  <a:cubicBezTo>
                    <a:pt x="79375" y="2770170"/>
                    <a:pt x="91458" y="2782253"/>
                    <a:pt x="106363" y="2782253"/>
                  </a:cubicBezTo>
                  <a:lnTo>
                    <a:pt x="214312" y="2782253"/>
                  </a:lnTo>
                  <a:cubicBezTo>
                    <a:pt x="229217" y="2782253"/>
                    <a:pt x="241300" y="2770170"/>
                    <a:pt x="241300" y="2755265"/>
                  </a:cubicBezTo>
                  <a:lnTo>
                    <a:pt x="241300" y="2647320"/>
                  </a:lnTo>
                  <a:cubicBezTo>
                    <a:pt x="241300" y="2632415"/>
                    <a:pt x="229217" y="2620332"/>
                    <a:pt x="214312" y="2620332"/>
                  </a:cubicBezTo>
                  <a:lnTo>
                    <a:pt x="106363" y="2620332"/>
                  </a:lnTo>
                  <a:cubicBezTo>
                    <a:pt x="91458" y="2620332"/>
                    <a:pt x="79375" y="2632415"/>
                    <a:pt x="79375" y="2647320"/>
                  </a:cubicBezTo>
                  <a:close/>
                  <a:moveTo>
                    <a:pt x="79375" y="3089593"/>
                  </a:moveTo>
                  <a:cubicBezTo>
                    <a:pt x="79375" y="3104498"/>
                    <a:pt x="91458" y="3116581"/>
                    <a:pt x="106363" y="3116581"/>
                  </a:cubicBezTo>
                  <a:lnTo>
                    <a:pt x="214312" y="3116581"/>
                  </a:lnTo>
                  <a:cubicBezTo>
                    <a:pt x="229217" y="3116581"/>
                    <a:pt x="241300" y="3104498"/>
                    <a:pt x="241300" y="3089593"/>
                  </a:cubicBezTo>
                  <a:lnTo>
                    <a:pt x="241300" y="2981648"/>
                  </a:lnTo>
                  <a:cubicBezTo>
                    <a:pt x="241300" y="2966743"/>
                    <a:pt x="229217" y="2954660"/>
                    <a:pt x="214312" y="2954660"/>
                  </a:cubicBezTo>
                  <a:lnTo>
                    <a:pt x="106363" y="2954660"/>
                  </a:lnTo>
                  <a:cubicBezTo>
                    <a:pt x="91458" y="2954660"/>
                    <a:pt x="79375" y="2966743"/>
                    <a:pt x="79375" y="2981648"/>
                  </a:cubicBezTo>
                  <a:close/>
                  <a:moveTo>
                    <a:pt x="79375" y="3423921"/>
                  </a:moveTo>
                  <a:cubicBezTo>
                    <a:pt x="79375" y="3438826"/>
                    <a:pt x="91458" y="3450909"/>
                    <a:pt x="106363" y="3450909"/>
                  </a:cubicBezTo>
                  <a:lnTo>
                    <a:pt x="214312" y="3450909"/>
                  </a:lnTo>
                  <a:cubicBezTo>
                    <a:pt x="229217" y="3450909"/>
                    <a:pt x="241300" y="3438826"/>
                    <a:pt x="241300" y="3423921"/>
                  </a:cubicBezTo>
                  <a:lnTo>
                    <a:pt x="241300" y="3315976"/>
                  </a:lnTo>
                  <a:cubicBezTo>
                    <a:pt x="241300" y="3301071"/>
                    <a:pt x="229217" y="3288988"/>
                    <a:pt x="214312" y="3288988"/>
                  </a:cubicBezTo>
                  <a:lnTo>
                    <a:pt x="106363" y="3288988"/>
                  </a:lnTo>
                  <a:cubicBezTo>
                    <a:pt x="91458" y="3288988"/>
                    <a:pt x="79375" y="3301071"/>
                    <a:pt x="79375" y="3315976"/>
                  </a:cubicBezTo>
                  <a:close/>
                  <a:moveTo>
                    <a:pt x="79375" y="3758249"/>
                  </a:moveTo>
                  <a:cubicBezTo>
                    <a:pt x="79375" y="3773154"/>
                    <a:pt x="91458" y="3785237"/>
                    <a:pt x="106363" y="3785237"/>
                  </a:cubicBezTo>
                  <a:lnTo>
                    <a:pt x="214312" y="3785237"/>
                  </a:lnTo>
                  <a:cubicBezTo>
                    <a:pt x="229217" y="3785237"/>
                    <a:pt x="241300" y="3773154"/>
                    <a:pt x="241300" y="3758249"/>
                  </a:cubicBezTo>
                  <a:lnTo>
                    <a:pt x="241300" y="3650304"/>
                  </a:lnTo>
                  <a:cubicBezTo>
                    <a:pt x="241300" y="3635399"/>
                    <a:pt x="229217" y="3623316"/>
                    <a:pt x="214312" y="3623316"/>
                  </a:cubicBezTo>
                  <a:lnTo>
                    <a:pt x="106363" y="3623316"/>
                  </a:lnTo>
                  <a:cubicBezTo>
                    <a:pt x="91458" y="3623316"/>
                    <a:pt x="79375" y="3635399"/>
                    <a:pt x="79375" y="3650304"/>
                  </a:cubicBezTo>
                  <a:close/>
                  <a:moveTo>
                    <a:pt x="79375" y="4092577"/>
                  </a:moveTo>
                  <a:cubicBezTo>
                    <a:pt x="79375" y="4107482"/>
                    <a:pt x="91458" y="4119565"/>
                    <a:pt x="106363" y="4119565"/>
                  </a:cubicBezTo>
                  <a:lnTo>
                    <a:pt x="214312" y="4119565"/>
                  </a:lnTo>
                  <a:cubicBezTo>
                    <a:pt x="229217" y="4119565"/>
                    <a:pt x="241300" y="4107482"/>
                    <a:pt x="241300" y="4092577"/>
                  </a:cubicBezTo>
                  <a:lnTo>
                    <a:pt x="241300" y="3984632"/>
                  </a:lnTo>
                  <a:cubicBezTo>
                    <a:pt x="241300" y="3969727"/>
                    <a:pt x="229217" y="3957644"/>
                    <a:pt x="214312" y="3957644"/>
                  </a:cubicBezTo>
                  <a:lnTo>
                    <a:pt x="106363" y="3957644"/>
                  </a:lnTo>
                  <a:cubicBezTo>
                    <a:pt x="91458" y="3957644"/>
                    <a:pt x="79375" y="3969727"/>
                    <a:pt x="79375" y="3984632"/>
                  </a:cubicBezTo>
                  <a:close/>
                  <a:moveTo>
                    <a:pt x="79375" y="4426905"/>
                  </a:moveTo>
                  <a:cubicBezTo>
                    <a:pt x="79375" y="4441810"/>
                    <a:pt x="91458" y="4453893"/>
                    <a:pt x="106363" y="4453893"/>
                  </a:cubicBezTo>
                  <a:lnTo>
                    <a:pt x="214312" y="4453893"/>
                  </a:lnTo>
                  <a:cubicBezTo>
                    <a:pt x="229217" y="4453893"/>
                    <a:pt x="241300" y="4441810"/>
                    <a:pt x="241300" y="4426905"/>
                  </a:cubicBezTo>
                  <a:lnTo>
                    <a:pt x="241300" y="4318960"/>
                  </a:lnTo>
                  <a:cubicBezTo>
                    <a:pt x="241300" y="4304056"/>
                    <a:pt x="229217" y="4291973"/>
                    <a:pt x="214312" y="4291973"/>
                  </a:cubicBezTo>
                  <a:lnTo>
                    <a:pt x="106363" y="4291973"/>
                  </a:lnTo>
                  <a:cubicBezTo>
                    <a:pt x="91458" y="4291973"/>
                    <a:pt x="79375" y="4304056"/>
                    <a:pt x="79375" y="4318960"/>
                  </a:cubicBezTo>
                  <a:close/>
                  <a:moveTo>
                    <a:pt x="79375" y="4761233"/>
                  </a:moveTo>
                  <a:cubicBezTo>
                    <a:pt x="79375" y="4776138"/>
                    <a:pt x="91458" y="4788221"/>
                    <a:pt x="106363" y="4788221"/>
                  </a:cubicBezTo>
                  <a:lnTo>
                    <a:pt x="214312" y="4788221"/>
                  </a:lnTo>
                  <a:cubicBezTo>
                    <a:pt x="229217" y="4788221"/>
                    <a:pt x="241300" y="4776138"/>
                    <a:pt x="241300" y="4761233"/>
                  </a:cubicBezTo>
                  <a:lnTo>
                    <a:pt x="241300" y="4653287"/>
                  </a:lnTo>
                  <a:cubicBezTo>
                    <a:pt x="241300" y="4638382"/>
                    <a:pt x="229217" y="4626299"/>
                    <a:pt x="214312" y="4626299"/>
                  </a:cubicBezTo>
                  <a:lnTo>
                    <a:pt x="106363" y="4626299"/>
                  </a:lnTo>
                  <a:cubicBezTo>
                    <a:pt x="91458" y="4626299"/>
                    <a:pt x="79375" y="4638382"/>
                    <a:pt x="79375" y="4653287"/>
                  </a:cubicBezTo>
                  <a:close/>
                  <a:moveTo>
                    <a:pt x="79375" y="5095561"/>
                  </a:moveTo>
                  <a:cubicBezTo>
                    <a:pt x="79375" y="5110466"/>
                    <a:pt x="91458" y="5122549"/>
                    <a:pt x="106363" y="5122549"/>
                  </a:cubicBezTo>
                  <a:lnTo>
                    <a:pt x="214312" y="5122549"/>
                  </a:lnTo>
                  <a:cubicBezTo>
                    <a:pt x="229217" y="5122549"/>
                    <a:pt x="241300" y="5110466"/>
                    <a:pt x="241300" y="5095561"/>
                  </a:cubicBezTo>
                  <a:lnTo>
                    <a:pt x="241300" y="4987615"/>
                  </a:lnTo>
                  <a:cubicBezTo>
                    <a:pt x="241300" y="4972710"/>
                    <a:pt x="229217" y="4960626"/>
                    <a:pt x="214312" y="4960626"/>
                  </a:cubicBezTo>
                  <a:lnTo>
                    <a:pt x="106363" y="4960626"/>
                  </a:lnTo>
                  <a:cubicBezTo>
                    <a:pt x="91458" y="4960626"/>
                    <a:pt x="79375" y="4972710"/>
                    <a:pt x="79375" y="4987615"/>
                  </a:cubicBezTo>
                  <a:close/>
                  <a:moveTo>
                    <a:pt x="79375" y="5429889"/>
                  </a:moveTo>
                  <a:cubicBezTo>
                    <a:pt x="79375" y="5444794"/>
                    <a:pt x="91458" y="5456877"/>
                    <a:pt x="106363" y="5456877"/>
                  </a:cubicBezTo>
                  <a:lnTo>
                    <a:pt x="214312" y="5456877"/>
                  </a:lnTo>
                  <a:cubicBezTo>
                    <a:pt x="229217" y="5456877"/>
                    <a:pt x="241300" y="5444794"/>
                    <a:pt x="241300" y="5429889"/>
                  </a:cubicBezTo>
                  <a:lnTo>
                    <a:pt x="241300" y="5321943"/>
                  </a:lnTo>
                  <a:cubicBezTo>
                    <a:pt x="241300" y="5307038"/>
                    <a:pt x="229217" y="5294955"/>
                    <a:pt x="214312" y="5294955"/>
                  </a:cubicBezTo>
                  <a:lnTo>
                    <a:pt x="106363" y="5294955"/>
                  </a:lnTo>
                  <a:cubicBezTo>
                    <a:pt x="91458" y="5294955"/>
                    <a:pt x="79375" y="5307038"/>
                    <a:pt x="79375" y="5321943"/>
                  </a:cubicBezTo>
                  <a:close/>
                  <a:moveTo>
                    <a:pt x="79375" y="5764217"/>
                  </a:moveTo>
                  <a:cubicBezTo>
                    <a:pt x="79375" y="5779122"/>
                    <a:pt x="91458" y="5791205"/>
                    <a:pt x="106363" y="5791205"/>
                  </a:cubicBezTo>
                  <a:lnTo>
                    <a:pt x="214312" y="5791205"/>
                  </a:lnTo>
                  <a:cubicBezTo>
                    <a:pt x="229217" y="5791205"/>
                    <a:pt x="241300" y="5779122"/>
                    <a:pt x="241300" y="5764217"/>
                  </a:cubicBezTo>
                  <a:lnTo>
                    <a:pt x="241300" y="5656271"/>
                  </a:lnTo>
                  <a:cubicBezTo>
                    <a:pt x="241300" y="5641364"/>
                    <a:pt x="229217" y="5629281"/>
                    <a:pt x="214312" y="5629281"/>
                  </a:cubicBezTo>
                  <a:lnTo>
                    <a:pt x="106363" y="5629281"/>
                  </a:lnTo>
                  <a:cubicBezTo>
                    <a:pt x="91458" y="5629281"/>
                    <a:pt x="79375" y="5641364"/>
                    <a:pt x="79375" y="5656271"/>
                  </a:cubicBezTo>
                  <a:close/>
                  <a:moveTo>
                    <a:pt x="79375" y="6098535"/>
                  </a:moveTo>
                  <a:cubicBezTo>
                    <a:pt x="79375" y="6113440"/>
                    <a:pt x="91458" y="6125523"/>
                    <a:pt x="106363" y="6125523"/>
                  </a:cubicBezTo>
                  <a:lnTo>
                    <a:pt x="214312" y="6125523"/>
                  </a:lnTo>
                  <a:cubicBezTo>
                    <a:pt x="229217" y="6125523"/>
                    <a:pt x="241300" y="6113440"/>
                    <a:pt x="241300" y="6098535"/>
                  </a:cubicBezTo>
                  <a:lnTo>
                    <a:pt x="241300" y="5990596"/>
                  </a:lnTo>
                  <a:cubicBezTo>
                    <a:pt x="241300" y="5975691"/>
                    <a:pt x="229217" y="5963608"/>
                    <a:pt x="214312" y="5963608"/>
                  </a:cubicBezTo>
                  <a:lnTo>
                    <a:pt x="106363" y="5963608"/>
                  </a:lnTo>
                  <a:cubicBezTo>
                    <a:pt x="91458" y="5963608"/>
                    <a:pt x="79375" y="5975691"/>
                    <a:pt x="79375" y="5990596"/>
                  </a:cubicBezTo>
                  <a:close/>
                  <a:moveTo>
                    <a:pt x="79375" y="6432873"/>
                  </a:moveTo>
                  <a:cubicBezTo>
                    <a:pt x="79375" y="6447778"/>
                    <a:pt x="91458" y="6459861"/>
                    <a:pt x="106363" y="6459861"/>
                  </a:cubicBezTo>
                  <a:lnTo>
                    <a:pt x="214312" y="6459861"/>
                  </a:lnTo>
                  <a:cubicBezTo>
                    <a:pt x="229217" y="6459861"/>
                    <a:pt x="241300" y="6447778"/>
                    <a:pt x="241300" y="6432873"/>
                  </a:cubicBezTo>
                  <a:lnTo>
                    <a:pt x="241300" y="6324924"/>
                  </a:lnTo>
                  <a:cubicBezTo>
                    <a:pt x="241300" y="6310019"/>
                    <a:pt x="229217" y="6297936"/>
                    <a:pt x="214312" y="6297936"/>
                  </a:cubicBezTo>
                  <a:lnTo>
                    <a:pt x="106363" y="6297936"/>
                  </a:lnTo>
                  <a:cubicBezTo>
                    <a:pt x="91458" y="6297936"/>
                    <a:pt x="79375" y="6310019"/>
                    <a:pt x="79375" y="6324924"/>
                  </a:cubicBezTo>
                  <a:close/>
                  <a:moveTo>
                    <a:pt x="79375" y="6767201"/>
                  </a:moveTo>
                  <a:cubicBezTo>
                    <a:pt x="79375" y="6782106"/>
                    <a:pt x="91458" y="6794189"/>
                    <a:pt x="106363" y="6794189"/>
                  </a:cubicBezTo>
                  <a:lnTo>
                    <a:pt x="214312" y="6794189"/>
                  </a:lnTo>
                  <a:cubicBezTo>
                    <a:pt x="229217" y="6794189"/>
                    <a:pt x="241300" y="6782106"/>
                    <a:pt x="241300" y="6767201"/>
                  </a:cubicBezTo>
                  <a:lnTo>
                    <a:pt x="241300" y="6659252"/>
                  </a:lnTo>
                  <a:cubicBezTo>
                    <a:pt x="241300" y="6644347"/>
                    <a:pt x="229217" y="6632264"/>
                    <a:pt x="214312" y="6632264"/>
                  </a:cubicBezTo>
                  <a:lnTo>
                    <a:pt x="106363" y="6632264"/>
                  </a:lnTo>
                  <a:cubicBezTo>
                    <a:pt x="91458" y="6632264"/>
                    <a:pt x="79375" y="6644347"/>
                    <a:pt x="79375" y="6659252"/>
                  </a:cubicBezTo>
                  <a:close/>
                  <a:moveTo>
                    <a:pt x="79375" y="7101529"/>
                  </a:moveTo>
                  <a:cubicBezTo>
                    <a:pt x="79375" y="7116434"/>
                    <a:pt x="91458" y="7128517"/>
                    <a:pt x="106363" y="7128517"/>
                  </a:cubicBezTo>
                  <a:lnTo>
                    <a:pt x="214312" y="7128517"/>
                  </a:lnTo>
                  <a:cubicBezTo>
                    <a:pt x="229217" y="7128517"/>
                    <a:pt x="241300" y="7116434"/>
                    <a:pt x="241300" y="7101529"/>
                  </a:cubicBezTo>
                  <a:lnTo>
                    <a:pt x="241300" y="6993580"/>
                  </a:lnTo>
                  <a:cubicBezTo>
                    <a:pt x="241300" y="6978675"/>
                    <a:pt x="229217" y="6966592"/>
                    <a:pt x="214312" y="6966592"/>
                  </a:cubicBezTo>
                  <a:lnTo>
                    <a:pt x="106363" y="6966592"/>
                  </a:lnTo>
                  <a:cubicBezTo>
                    <a:pt x="91458" y="6966592"/>
                    <a:pt x="79375" y="6978675"/>
                    <a:pt x="79375" y="6993580"/>
                  </a:cubicBezTo>
                  <a:close/>
                  <a:moveTo>
                    <a:pt x="79375" y="7435857"/>
                  </a:moveTo>
                  <a:cubicBezTo>
                    <a:pt x="79375" y="7450762"/>
                    <a:pt x="91458" y="7462845"/>
                    <a:pt x="106363" y="7462845"/>
                  </a:cubicBezTo>
                  <a:lnTo>
                    <a:pt x="214312" y="7462845"/>
                  </a:lnTo>
                  <a:cubicBezTo>
                    <a:pt x="229217" y="7462845"/>
                    <a:pt x="241300" y="7450762"/>
                    <a:pt x="241300" y="7435857"/>
                  </a:cubicBezTo>
                  <a:lnTo>
                    <a:pt x="241300" y="7327908"/>
                  </a:lnTo>
                  <a:cubicBezTo>
                    <a:pt x="241300" y="7313003"/>
                    <a:pt x="229217" y="7300920"/>
                    <a:pt x="214312" y="7300920"/>
                  </a:cubicBezTo>
                  <a:lnTo>
                    <a:pt x="106363" y="7300920"/>
                  </a:lnTo>
                  <a:cubicBezTo>
                    <a:pt x="91458" y="7300920"/>
                    <a:pt x="79375" y="7313003"/>
                    <a:pt x="79375" y="7327908"/>
                  </a:cubicBezTo>
                  <a:close/>
                  <a:moveTo>
                    <a:pt x="79375" y="7770185"/>
                  </a:moveTo>
                  <a:cubicBezTo>
                    <a:pt x="79375" y="7785090"/>
                    <a:pt x="91458" y="7797173"/>
                    <a:pt x="106363" y="7797173"/>
                  </a:cubicBezTo>
                  <a:lnTo>
                    <a:pt x="214312" y="7797173"/>
                  </a:lnTo>
                  <a:cubicBezTo>
                    <a:pt x="229217" y="7797173"/>
                    <a:pt x="241300" y="7785090"/>
                    <a:pt x="241300" y="7770185"/>
                  </a:cubicBezTo>
                  <a:lnTo>
                    <a:pt x="241300" y="7662236"/>
                  </a:lnTo>
                  <a:cubicBezTo>
                    <a:pt x="241300" y="7647331"/>
                    <a:pt x="229217" y="7635248"/>
                    <a:pt x="214312" y="7635248"/>
                  </a:cubicBezTo>
                  <a:lnTo>
                    <a:pt x="106363" y="7635248"/>
                  </a:lnTo>
                  <a:cubicBezTo>
                    <a:pt x="91458" y="7635248"/>
                    <a:pt x="79375" y="7647331"/>
                    <a:pt x="79375" y="7662236"/>
                  </a:cubicBezTo>
                  <a:close/>
                  <a:moveTo>
                    <a:pt x="79375" y="8104513"/>
                  </a:moveTo>
                  <a:cubicBezTo>
                    <a:pt x="79375" y="8119418"/>
                    <a:pt x="91458" y="8131501"/>
                    <a:pt x="106363" y="8131501"/>
                  </a:cubicBezTo>
                  <a:lnTo>
                    <a:pt x="214312" y="8131501"/>
                  </a:lnTo>
                  <a:cubicBezTo>
                    <a:pt x="229217" y="8131501"/>
                    <a:pt x="241300" y="8119418"/>
                    <a:pt x="241300" y="8104513"/>
                  </a:cubicBezTo>
                  <a:lnTo>
                    <a:pt x="241300" y="7996564"/>
                  </a:lnTo>
                  <a:cubicBezTo>
                    <a:pt x="241300" y="7981659"/>
                    <a:pt x="229217" y="7969576"/>
                    <a:pt x="214312" y="7969576"/>
                  </a:cubicBezTo>
                  <a:lnTo>
                    <a:pt x="106363" y="7969576"/>
                  </a:lnTo>
                  <a:cubicBezTo>
                    <a:pt x="91458" y="7969576"/>
                    <a:pt x="79375" y="7981659"/>
                    <a:pt x="79375" y="7996564"/>
                  </a:cubicBezTo>
                  <a:close/>
                  <a:moveTo>
                    <a:pt x="79375" y="8438841"/>
                  </a:moveTo>
                  <a:cubicBezTo>
                    <a:pt x="79375" y="8453746"/>
                    <a:pt x="91458" y="8465829"/>
                    <a:pt x="106363" y="8465829"/>
                  </a:cubicBezTo>
                  <a:lnTo>
                    <a:pt x="214312" y="8465829"/>
                  </a:lnTo>
                  <a:cubicBezTo>
                    <a:pt x="229217" y="8465829"/>
                    <a:pt x="241300" y="8453746"/>
                    <a:pt x="241300" y="8438841"/>
                  </a:cubicBezTo>
                  <a:lnTo>
                    <a:pt x="241300" y="8330892"/>
                  </a:lnTo>
                  <a:cubicBezTo>
                    <a:pt x="241300" y="8315987"/>
                    <a:pt x="229217" y="8303904"/>
                    <a:pt x="214312" y="8303904"/>
                  </a:cubicBezTo>
                  <a:lnTo>
                    <a:pt x="106363" y="8303904"/>
                  </a:lnTo>
                  <a:cubicBezTo>
                    <a:pt x="91458" y="8303904"/>
                    <a:pt x="79375" y="8315987"/>
                    <a:pt x="79375" y="8330892"/>
                  </a:cubicBezTo>
                  <a:close/>
                  <a:moveTo>
                    <a:pt x="79375" y="8773169"/>
                  </a:moveTo>
                  <a:cubicBezTo>
                    <a:pt x="79375" y="8788074"/>
                    <a:pt x="91458" y="8800157"/>
                    <a:pt x="106363" y="8800157"/>
                  </a:cubicBezTo>
                  <a:lnTo>
                    <a:pt x="214312" y="8800157"/>
                  </a:lnTo>
                  <a:cubicBezTo>
                    <a:pt x="229217" y="8800157"/>
                    <a:pt x="241300" y="8788074"/>
                    <a:pt x="241300" y="8773169"/>
                  </a:cubicBezTo>
                  <a:lnTo>
                    <a:pt x="241300" y="8665220"/>
                  </a:lnTo>
                  <a:cubicBezTo>
                    <a:pt x="241300" y="8650315"/>
                    <a:pt x="229217" y="8638232"/>
                    <a:pt x="214312" y="8638232"/>
                  </a:cubicBezTo>
                  <a:lnTo>
                    <a:pt x="106363" y="8638232"/>
                  </a:lnTo>
                  <a:cubicBezTo>
                    <a:pt x="91458" y="8638232"/>
                    <a:pt x="79375" y="8650315"/>
                    <a:pt x="79375" y="8665220"/>
                  </a:cubicBezTo>
                  <a:close/>
                  <a:moveTo>
                    <a:pt x="79375" y="9107487"/>
                  </a:moveTo>
                  <a:cubicBezTo>
                    <a:pt x="79375" y="9122392"/>
                    <a:pt x="91458" y="9134475"/>
                    <a:pt x="106363" y="9134475"/>
                  </a:cubicBezTo>
                  <a:lnTo>
                    <a:pt x="214312" y="9134475"/>
                  </a:lnTo>
                  <a:cubicBezTo>
                    <a:pt x="229217" y="9134475"/>
                    <a:pt x="241300" y="9122392"/>
                    <a:pt x="241300" y="9107487"/>
                  </a:cubicBezTo>
                  <a:lnTo>
                    <a:pt x="241300" y="8999538"/>
                  </a:lnTo>
                  <a:cubicBezTo>
                    <a:pt x="241300" y="8984633"/>
                    <a:pt x="229217" y="8972550"/>
                    <a:pt x="214312" y="8972550"/>
                  </a:cubicBezTo>
                  <a:lnTo>
                    <a:pt x="106363" y="8972550"/>
                  </a:lnTo>
                  <a:cubicBezTo>
                    <a:pt x="91458" y="8972550"/>
                    <a:pt x="79375" y="8984633"/>
                    <a:pt x="79375" y="8999538"/>
                  </a:cubicBezTo>
                  <a:close/>
                  <a:moveTo>
                    <a:pt x="0" y="9144000"/>
                  </a:moveTo>
                  <a:lnTo>
                    <a:pt x="0" y="6135048"/>
                  </a:lnTo>
                  <a:lnTo>
                    <a:pt x="0" y="2286004"/>
                  </a:lnTo>
                  <a:lnTo>
                    <a:pt x="0" y="0"/>
                  </a:lnTo>
                  <a:lnTo>
                    <a:pt x="79375" y="0"/>
                  </a:lnTo>
                  <a:lnTo>
                    <a:pt x="79375" y="80645"/>
                  </a:lnTo>
                  <a:cubicBezTo>
                    <a:pt x="79375" y="95550"/>
                    <a:pt x="91458" y="107633"/>
                    <a:pt x="106363" y="107633"/>
                  </a:cubicBezTo>
                  <a:lnTo>
                    <a:pt x="214312" y="107633"/>
                  </a:lnTo>
                  <a:cubicBezTo>
                    <a:pt x="229217" y="107633"/>
                    <a:pt x="241300" y="95550"/>
                    <a:pt x="241300" y="80645"/>
                  </a:cubicBezTo>
                  <a:lnTo>
                    <a:pt x="241300" y="0"/>
                  </a:lnTo>
                  <a:lnTo>
                    <a:pt x="2573339" y="0"/>
                  </a:lnTo>
                  <a:lnTo>
                    <a:pt x="2573339" y="80646"/>
                  </a:lnTo>
                  <a:cubicBezTo>
                    <a:pt x="2573339" y="95551"/>
                    <a:pt x="2585422" y="107634"/>
                    <a:pt x="2600327" y="107634"/>
                  </a:cubicBezTo>
                  <a:lnTo>
                    <a:pt x="2708276" y="107634"/>
                  </a:lnTo>
                  <a:cubicBezTo>
                    <a:pt x="2723181" y="107634"/>
                    <a:pt x="2735264" y="95551"/>
                    <a:pt x="2735264" y="80646"/>
                  </a:cubicBezTo>
                  <a:lnTo>
                    <a:pt x="2735264" y="0"/>
                  </a:lnTo>
                  <a:lnTo>
                    <a:pt x="2814639" y="0"/>
                  </a:lnTo>
                  <a:lnTo>
                    <a:pt x="2814639" y="2286005"/>
                  </a:lnTo>
                  <a:lnTo>
                    <a:pt x="2814639" y="6135049"/>
                  </a:lnTo>
                  <a:lnTo>
                    <a:pt x="2814639" y="9144001"/>
                  </a:lnTo>
                  <a:lnTo>
                    <a:pt x="1095378" y="9144001"/>
                  </a:lnTo>
                  <a:lnTo>
                    <a:pt x="1062038" y="9144001"/>
                  </a:lnTo>
                  <a:lnTo>
                    <a:pt x="446239" y="9144001"/>
                  </a:lnTo>
                  <a:lnTo>
                    <a:pt x="446239" y="9144000"/>
                  </a:lnTo>
                  <a:close/>
                </a:path>
              </a:pathLst>
            </a:custGeom>
            <a:solidFill>
              <a:srgbClr val="ceb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163" name="KSO_Img4"/>
            <p:cNvSpPr/>
            <p:nvPr/>
          </p:nvSpPr>
          <p:spPr>
            <a:xfrm>
              <a:off x="9429120" y="2191320"/>
              <a:ext cx="2743560" cy="2530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164" name="KSO_Img3"/>
            <p:cNvSpPr/>
            <p:nvPr/>
          </p:nvSpPr>
          <p:spPr>
            <a:xfrm>
              <a:off x="6264000" y="2215080"/>
              <a:ext cx="3026520" cy="2531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165" name="KSO_Img2"/>
            <p:cNvSpPr/>
            <p:nvPr/>
          </p:nvSpPr>
          <p:spPr>
            <a:xfrm>
              <a:off x="3105720" y="2215080"/>
              <a:ext cx="3019680" cy="25311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166" name="KSO_Img1"/>
            <p:cNvSpPr/>
            <p:nvPr/>
          </p:nvSpPr>
          <p:spPr>
            <a:xfrm>
              <a:off x="-131760" y="2215080"/>
              <a:ext cx="3098520" cy="2531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</p:grpSp>
      <p:grpSp>
        <p:nvGrpSpPr>
          <p:cNvPr id="167" name="组合 12"/>
          <p:cNvGrpSpPr/>
          <p:nvPr/>
        </p:nvGrpSpPr>
        <p:grpSpPr>
          <a:xfrm>
            <a:off x="-1833120" y="-7992720"/>
            <a:ext cx="5302440" cy="8651160"/>
            <a:chOff x="-1833120" y="-7992720"/>
            <a:chExt cx="5302440" cy="8651160"/>
          </a:xfrm>
        </p:grpSpPr>
        <p:sp>
          <p:nvSpPr>
            <p:cNvPr id="168" name="任意多边形 40"/>
            <p:cNvSpPr/>
            <p:nvPr/>
          </p:nvSpPr>
          <p:spPr>
            <a:xfrm rot="21000000">
              <a:off x="-1161000" y="-7710480"/>
              <a:ext cx="3958200" cy="8086680"/>
            </a:xfrm>
            <a:custGeom>
              <a:avLst/>
              <a:gdLst/>
              <a:ahLst/>
              <a:rect l="l" t="t" r="r" b="b"/>
              <a:pathLst>
                <a:path w="4614068" h="7790473">
                  <a:moveTo>
                    <a:pt x="4507705" y="7480029"/>
                  </a:moveTo>
                  <a:lnTo>
                    <a:pt x="4399756" y="7480029"/>
                  </a:lnTo>
                  <a:cubicBezTo>
                    <a:pt x="4384851" y="7480029"/>
                    <a:pt x="4372768" y="7494471"/>
                    <a:pt x="4372768" y="7512287"/>
                  </a:cubicBezTo>
                  <a:lnTo>
                    <a:pt x="4372768" y="7641317"/>
                  </a:lnTo>
                  <a:cubicBezTo>
                    <a:pt x="4372769" y="7659133"/>
                    <a:pt x="4384851" y="7673576"/>
                    <a:pt x="4399756" y="7673576"/>
                  </a:cubicBezTo>
                  <a:lnTo>
                    <a:pt x="4507705" y="7673576"/>
                  </a:lnTo>
                  <a:cubicBezTo>
                    <a:pt x="4522610" y="7673576"/>
                    <a:pt x="4534694" y="7659133"/>
                    <a:pt x="4534693" y="7641317"/>
                  </a:cubicBezTo>
                  <a:lnTo>
                    <a:pt x="4534693" y="7512287"/>
                  </a:lnTo>
                  <a:cubicBezTo>
                    <a:pt x="4534693" y="7494471"/>
                    <a:pt x="4522610" y="7480029"/>
                    <a:pt x="4507705" y="7480029"/>
                  </a:cubicBezTo>
                  <a:close/>
                  <a:moveTo>
                    <a:pt x="214312" y="6680790"/>
                  </a:moveTo>
                  <a:lnTo>
                    <a:pt x="106363" y="6680790"/>
                  </a:lnTo>
                  <a:cubicBezTo>
                    <a:pt x="91458" y="6680790"/>
                    <a:pt x="79375" y="6695233"/>
                    <a:pt x="79375" y="6713049"/>
                  </a:cubicBezTo>
                  <a:lnTo>
                    <a:pt x="79375" y="6842079"/>
                  </a:lnTo>
                  <a:cubicBezTo>
                    <a:pt x="79375" y="6859895"/>
                    <a:pt x="91458" y="6874338"/>
                    <a:pt x="106363" y="6874338"/>
                  </a:cubicBezTo>
                  <a:lnTo>
                    <a:pt x="214312" y="6874338"/>
                  </a:lnTo>
                  <a:cubicBezTo>
                    <a:pt x="229217" y="6874338"/>
                    <a:pt x="241300" y="6859895"/>
                    <a:pt x="241300" y="6842079"/>
                  </a:cubicBezTo>
                  <a:lnTo>
                    <a:pt x="241300" y="6713049"/>
                  </a:lnTo>
                  <a:cubicBezTo>
                    <a:pt x="241300" y="6695233"/>
                    <a:pt x="229217" y="6680790"/>
                    <a:pt x="214312" y="6680790"/>
                  </a:cubicBezTo>
                  <a:close/>
                  <a:moveTo>
                    <a:pt x="4507705" y="7080409"/>
                  </a:moveTo>
                  <a:lnTo>
                    <a:pt x="4399756" y="7080409"/>
                  </a:lnTo>
                  <a:cubicBezTo>
                    <a:pt x="4384851" y="7080409"/>
                    <a:pt x="4372768" y="7094852"/>
                    <a:pt x="4372768" y="7112668"/>
                  </a:cubicBezTo>
                  <a:lnTo>
                    <a:pt x="4372768" y="7241698"/>
                  </a:lnTo>
                  <a:cubicBezTo>
                    <a:pt x="4372768" y="7259514"/>
                    <a:pt x="4384851" y="7273957"/>
                    <a:pt x="4399756" y="7273957"/>
                  </a:cubicBezTo>
                  <a:lnTo>
                    <a:pt x="4507705" y="7273957"/>
                  </a:lnTo>
                  <a:cubicBezTo>
                    <a:pt x="4522610" y="7273957"/>
                    <a:pt x="4534693" y="7259514"/>
                    <a:pt x="4534693" y="7241698"/>
                  </a:cubicBezTo>
                  <a:lnTo>
                    <a:pt x="4534693" y="7112668"/>
                  </a:lnTo>
                  <a:cubicBezTo>
                    <a:pt x="4534693" y="7094852"/>
                    <a:pt x="4522610" y="7080409"/>
                    <a:pt x="4507705" y="7080409"/>
                  </a:cubicBezTo>
                  <a:close/>
                  <a:moveTo>
                    <a:pt x="214312" y="6281171"/>
                  </a:moveTo>
                  <a:lnTo>
                    <a:pt x="106363" y="6281171"/>
                  </a:lnTo>
                  <a:cubicBezTo>
                    <a:pt x="91458" y="6281171"/>
                    <a:pt x="79375" y="6295614"/>
                    <a:pt x="79375" y="6313430"/>
                  </a:cubicBezTo>
                  <a:lnTo>
                    <a:pt x="79375" y="6442460"/>
                  </a:lnTo>
                  <a:cubicBezTo>
                    <a:pt x="79375" y="6460276"/>
                    <a:pt x="91458" y="6474719"/>
                    <a:pt x="106363" y="6474719"/>
                  </a:cubicBezTo>
                  <a:lnTo>
                    <a:pt x="214312" y="6474719"/>
                  </a:lnTo>
                  <a:cubicBezTo>
                    <a:pt x="229217" y="6474719"/>
                    <a:pt x="241300" y="6460276"/>
                    <a:pt x="241300" y="6442460"/>
                  </a:cubicBezTo>
                  <a:lnTo>
                    <a:pt x="241300" y="6313430"/>
                  </a:lnTo>
                  <a:cubicBezTo>
                    <a:pt x="241300" y="6295614"/>
                    <a:pt x="229217" y="6281171"/>
                    <a:pt x="214312" y="6281171"/>
                  </a:cubicBezTo>
                  <a:close/>
                  <a:moveTo>
                    <a:pt x="4507705" y="6680790"/>
                  </a:moveTo>
                  <a:lnTo>
                    <a:pt x="4399756" y="6680790"/>
                  </a:lnTo>
                  <a:cubicBezTo>
                    <a:pt x="4384851" y="6680790"/>
                    <a:pt x="4372768" y="6695233"/>
                    <a:pt x="4372768" y="6713049"/>
                  </a:cubicBezTo>
                  <a:lnTo>
                    <a:pt x="4372768" y="6842079"/>
                  </a:lnTo>
                  <a:cubicBezTo>
                    <a:pt x="4372768" y="6859895"/>
                    <a:pt x="4384851" y="6874338"/>
                    <a:pt x="4399756" y="6874338"/>
                  </a:cubicBezTo>
                  <a:lnTo>
                    <a:pt x="4507705" y="6874338"/>
                  </a:lnTo>
                  <a:cubicBezTo>
                    <a:pt x="4522610" y="6874338"/>
                    <a:pt x="4534693" y="6859895"/>
                    <a:pt x="4534693" y="6842079"/>
                  </a:cubicBezTo>
                  <a:lnTo>
                    <a:pt x="4534693" y="6713049"/>
                  </a:lnTo>
                  <a:cubicBezTo>
                    <a:pt x="4534693" y="6695233"/>
                    <a:pt x="4522610" y="6680790"/>
                    <a:pt x="4507705" y="6680790"/>
                  </a:cubicBezTo>
                  <a:close/>
                  <a:moveTo>
                    <a:pt x="214312" y="5881552"/>
                  </a:moveTo>
                  <a:lnTo>
                    <a:pt x="106363" y="5881552"/>
                  </a:lnTo>
                  <a:cubicBezTo>
                    <a:pt x="91458" y="5881552"/>
                    <a:pt x="79375" y="5895995"/>
                    <a:pt x="79375" y="5913811"/>
                  </a:cubicBezTo>
                  <a:lnTo>
                    <a:pt x="79375" y="6042841"/>
                  </a:lnTo>
                  <a:cubicBezTo>
                    <a:pt x="79375" y="6060657"/>
                    <a:pt x="91458" y="6075100"/>
                    <a:pt x="106363" y="6075100"/>
                  </a:cubicBezTo>
                  <a:lnTo>
                    <a:pt x="214312" y="6075100"/>
                  </a:lnTo>
                  <a:cubicBezTo>
                    <a:pt x="229217" y="6075100"/>
                    <a:pt x="241300" y="6060657"/>
                    <a:pt x="241300" y="6042841"/>
                  </a:cubicBezTo>
                  <a:lnTo>
                    <a:pt x="241300" y="5913811"/>
                  </a:lnTo>
                  <a:cubicBezTo>
                    <a:pt x="241300" y="5895995"/>
                    <a:pt x="229217" y="5881552"/>
                    <a:pt x="214312" y="5881552"/>
                  </a:cubicBezTo>
                  <a:close/>
                  <a:moveTo>
                    <a:pt x="4507705" y="6281171"/>
                  </a:moveTo>
                  <a:lnTo>
                    <a:pt x="4399756" y="6281171"/>
                  </a:lnTo>
                  <a:cubicBezTo>
                    <a:pt x="4384851" y="6281171"/>
                    <a:pt x="4372768" y="6295614"/>
                    <a:pt x="4372768" y="6313430"/>
                  </a:cubicBezTo>
                  <a:lnTo>
                    <a:pt x="4372768" y="6442460"/>
                  </a:lnTo>
                  <a:cubicBezTo>
                    <a:pt x="4372768" y="6460276"/>
                    <a:pt x="4384851" y="6474719"/>
                    <a:pt x="4399756" y="6474719"/>
                  </a:cubicBezTo>
                  <a:lnTo>
                    <a:pt x="4507705" y="6474719"/>
                  </a:lnTo>
                  <a:cubicBezTo>
                    <a:pt x="4522610" y="6474719"/>
                    <a:pt x="4534693" y="6460276"/>
                    <a:pt x="4534693" y="6442460"/>
                  </a:cubicBezTo>
                  <a:lnTo>
                    <a:pt x="4534693" y="6313430"/>
                  </a:lnTo>
                  <a:cubicBezTo>
                    <a:pt x="4534693" y="6295614"/>
                    <a:pt x="4522610" y="6281171"/>
                    <a:pt x="4507705" y="6281171"/>
                  </a:cubicBezTo>
                  <a:close/>
                  <a:moveTo>
                    <a:pt x="214312" y="5481933"/>
                  </a:moveTo>
                  <a:lnTo>
                    <a:pt x="106363" y="5481933"/>
                  </a:lnTo>
                  <a:cubicBezTo>
                    <a:pt x="91458" y="5481933"/>
                    <a:pt x="79375" y="5496376"/>
                    <a:pt x="79375" y="5514191"/>
                  </a:cubicBezTo>
                  <a:lnTo>
                    <a:pt x="79375" y="5643222"/>
                  </a:lnTo>
                  <a:cubicBezTo>
                    <a:pt x="79375" y="5661038"/>
                    <a:pt x="91458" y="5675480"/>
                    <a:pt x="106363" y="5675481"/>
                  </a:cubicBezTo>
                  <a:lnTo>
                    <a:pt x="214312" y="5675480"/>
                  </a:lnTo>
                  <a:cubicBezTo>
                    <a:pt x="229217" y="5675480"/>
                    <a:pt x="241300" y="5661038"/>
                    <a:pt x="241300" y="5643222"/>
                  </a:cubicBezTo>
                  <a:lnTo>
                    <a:pt x="241300" y="5514191"/>
                  </a:lnTo>
                  <a:cubicBezTo>
                    <a:pt x="241300" y="5496376"/>
                    <a:pt x="229217" y="5481933"/>
                    <a:pt x="214312" y="5481933"/>
                  </a:cubicBezTo>
                  <a:close/>
                  <a:moveTo>
                    <a:pt x="4507705" y="5881552"/>
                  </a:moveTo>
                  <a:lnTo>
                    <a:pt x="4399756" y="5881552"/>
                  </a:lnTo>
                  <a:cubicBezTo>
                    <a:pt x="4384851" y="5881552"/>
                    <a:pt x="4372768" y="5895995"/>
                    <a:pt x="4372768" y="5913811"/>
                  </a:cubicBezTo>
                  <a:lnTo>
                    <a:pt x="4372768" y="6042841"/>
                  </a:lnTo>
                  <a:cubicBezTo>
                    <a:pt x="4372768" y="6060657"/>
                    <a:pt x="4384851" y="6075100"/>
                    <a:pt x="4399756" y="6075100"/>
                  </a:cubicBezTo>
                  <a:lnTo>
                    <a:pt x="4507705" y="6075100"/>
                  </a:lnTo>
                  <a:cubicBezTo>
                    <a:pt x="4522610" y="6075100"/>
                    <a:pt x="4534693" y="6060657"/>
                    <a:pt x="4534693" y="6042841"/>
                  </a:cubicBezTo>
                  <a:lnTo>
                    <a:pt x="4534693" y="5913811"/>
                  </a:lnTo>
                  <a:cubicBezTo>
                    <a:pt x="4534693" y="5895995"/>
                    <a:pt x="4522610" y="5881552"/>
                    <a:pt x="4507705" y="5881552"/>
                  </a:cubicBezTo>
                  <a:close/>
                  <a:moveTo>
                    <a:pt x="214312" y="5082314"/>
                  </a:moveTo>
                  <a:lnTo>
                    <a:pt x="106363" y="5082314"/>
                  </a:lnTo>
                  <a:cubicBezTo>
                    <a:pt x="91458" y="5082314"/>
                    <a:pt x="79375" y="5096757"/>
                    <a:pt x="79375" y="5114572"/>
                  </a:cubicBezTo>
                  <a:lnTo>
                    <a:pt x="79375" y="5243603"/>
                  </a:lnTo>
                  <a:cubicBezTo>
                    <a:pt x="79375" y="5261419"/>
                    <a:pt x="91458" y="5275861"/>
                    <a:pt x="106363" y="5275861"/>
                  </a:cubicBezTo>
                  <a:lnTo>
                    <a:pt x="214312" y="5275861"/>
                  </a:lnTo>
                  <a:cubicBezTo>
                    <a:pt x="229217" y="5275861"/>
                    <a:pt x="241300" y="5261419"/>
                    <a:pt x="241300" y="5243603"/>
                  </a:cubicBezTo>
                  <a:lnTo>
                    <a:pt x="241300" y="5114572"/>
                  </a:lnTo>
                  <a:cubicBezTo>
                    <a:pt x="241300" y="5096757"/>
                    <a:pt x="229217" y="5082314"/>
                    <a:pt x="214312" y="5082314"/>
                  </a:cubicBezTo>
                  <a:close/>
                  <a:moveTo>
                    <a:pt x="4507705" y="5481933"/>
                  </a:moveTo>
                  <a:lnTo>
                    <a:pt x="4399756" y="5481933"/>
                  </a:lnTo>
                  <a:cubicBezTo>
                    <a:pt x="4384851" y="5481933"/>
                    <a:pt x="4372768" y="5496376"/>
                    <a:pt x="4372768" y="5514191"/>
                  </a:cubicBezTo>
                  <a:lnTo>
                    <a:pt x="4372768" y="5643222"/>
                  </a:lnTo>
                  <a:cubicBezTo>
                    <a:pt x="4372768" y="5661037"/>
                    <a:pt x="4384851" y="5675480"/>
                    <a:pt x="4399756" y="5675480"/>
                  </a:cubicBezTo>
                  <a:lnTo>
                    <a:pt x="4507705" y="5675480"/>
                  </a:lnTo>
                  <a:cubicBezTo>
                    <a:pt x="4522610" y="5675480"/>
                    <a:pt x="4534693" y="5661038"/>
                    <a:pt x="4534693" y="5643222"/>
                  </a:cubicBezTo>
                  <a:lnTo>
                    <a:pt x="4534693" y="5514191"/>
                  </a:lnTo>
                  <a:cubicBezTo>
                    <a:pt x="4534693" y="5496376"/>
                    <a:pt x="4522610" y="5481933"/>
                    <a:pt x="4507705" y="5481933"/>
                  </a:cubicBezTo>
                  <a:close/>
                  <a:moveTo>
                    <a:pt x="214312" y="4682695"/>
                  </a:moveTo>
                  <a:lnTo>
                    <a:pt x="106363" y="4682695"/>
                  </a:lnTo>
                  <a:cubicBezTo>
                    <a:pt x="91458" y="4682695"/>
                    <a:pt x="79375" y="4697137"/>
                    <a:pt x="79375" y="4714954"/>
                  </a:cubicBezTo>
                  <a:lnTo>
                    <a:pt x="79375" y="4843984"/>
                  </a:lnTo>
                  <a:cubicBezTo>
                    <a:pt x="79375" y="4861799"/>
                    <a:pt x="91458" y="4876242"/>
                    <a:pt x="106363" y="4876242"/>
                  </a:cubicBezTo>
                  <a:lnTo>
                    <a:pt x="214312" y="4876242"/>
                  </a:lnTo>
                  <a:cubicBezTo>
                    <a:pt x="229217" y="4876242"/>
                    <a:pt x="241300" y="4861799"/>
                    <a:pt x="241300" y="4843984"/>
                  </a:cubicBezTo>
                  <a:lnTo>
                    <a:pt x="241300" y="4714953"/>
                  </a:lnTo>
                  <a:cubicBezTo>
                    <a:pt x="241300" y="4697137"/>
                    <a:pt x="229217" y="4682695"/>
                    <a:pt x="214312" y="4682695"/>
                  </a:cubicBezTo>
                  <a:close/>
                  <a:moveTo>
                    <a:pt x="4507705" y="5082314"/>
                  </a:moveTo>
                  <a:lnTo>
                    <a:pt x="4399756" y="5082314"/>
                  </a:lnTo>
                  <a:cubicBezTo>
                    <a:pt x="4384851" y="5082314"/>
                    <a:pt x="4372768" y="5096757"/>
                    <a:pt x="4372768" y="5114572"/>
                  </a:cubicBezTo>
                  <a:lnTo>
                    <a:pt x="4372768" y="5243603"/>
                  </a:lnTo>
                  <a:cubicBezTo>
                    <a:pt x="4372768" y="5261419"/>
                    <a:pt x="4384851" y="5275861"/>
                    <a:pt x="4399756" y="5275861"/>
                  </a:cubicBezTo>
                  <a:lnTo>
                    <a:pt x="4507705" y="5275861"/>
                  </a:lnTo>
                  <a:cubicBezTo>
                    <a:pt x="4522610" y="5275861"/>
                    <a:pt x="4534693" y="5261419"/>
                    <a:pt x="4534693" y="5243603"/>
                  </a:cubicBezTo>
                  <a:lnTo>
                    <a:pt x="4534693" y="5114572"/>
                  </a:lnTo>
                  <a:cubicBezTo>
                    <a:pt x="4534693" y="5096757"/>
                    <a:pt x="4522610" y="5082314"/>
                    <a:pt x="4507705" y="5082314"/>
                  </a:cubicBezTo>
                  <a:close/>
                  <a:moveTo>
                    <a:pt x="214312" y="4283076"/>
                  </a:moveTo>
                  <a:lnTo>
                    <a:pt x="106363" y="4283076"/>
                  </a:lnTo>
                  <a:cubicBezTo>
                    <a:pt x="91458" y="4283076"/>
                    <a:pt x="79375" y="4297518"/>
                    <a:pt x="79375" y="4315334"/>
                  </a:cubicBezTo>
                  <a:lnTo>
                    <a:pt x="79375" y="4444365"/>
                  </a:lnTo>
                  <a:cubicBezTo>
                    <a:pt x="79375" y="4462180"/>
                    <a:pt x="91458" y="4476623"/>
                    <a:pt x="106363" y="4476623"/>
                  </a:cubicBezTo>
                  <a:lnTo>
                    <a:pt x="214312" y="4476623"/>
                  </a:lnTo>
                  <a:cubicBezTo>
                    <a:pt x="229217" y="4476623"/>
                    <a:pt x="241300" y="4462180"/>
                    <a:pt x="241300" y="4444365"/>
                  </a:cubicBezTo>
                  <a:lnTo>
                    <a:pt x="241300" y="4315334"/>
                  </a:lnTo>
                  <a:cubicBezTo>
                    <a:pt x="241300" y="4297518"/>
                    <a:pt x="229217" y="4283076"/>
                    <a:pt x="214312" y="4283076"/>
                  </a:cubicBezTo>
                  <a:close/>
                  <a:moveTo>
                    <a:pt x="4507705" y="4682695"/>
                  </a:moveTo>
                  <a:lnTo>
                    <a:pt x="4399756" y="4682695"/>
                  </a:lnTo>
                  <a:cubicBezTo>
                    <a:pt x="4384851" y="4682695"/>
                    <a:pt x="4372768" y="4697137"/>
                    <a:pt x="4372768" y="4714954"/>
                  </a:cubicBezTo>
                  <a:lnTo>
                    <a:pt x="4372768" y="4843984"/>
                  </a:lnTo>
                  <a:cubicBezTo>
                    <a:pt x="4372768" y="4861800"/>
                    <a:pt x="4384851" y="4876242"/>
                    <a:pt x="4399756" y="4876243"/>
                  </a:cubicBezTo>
                  <a:lnTo>
                    <a:pt x="4507705" y="4876242"/>
                  </a:lnTo>
                  <a:cubicBezTo>
                    <a:pt x="4522610" y="4876242"/>
                    <a:pt x="4534693" y="4861800"/>
                    <a:pt x="4534693" y="4843984"/>
                  </a:cubicBezTo>
                  <a:lnTo>
                    <a:pt x="4534693" y="4714954"/>
                  </a:lnTo>
                  <a:cubicBezTo>
                    <a:pt x="4534693" y="4697137"/>
                    <a:pt x="4522610" y="4682695"/>
                    <a:pt x="4507705" y="4682695"/>
                  </a:cubicBezTo>
                  <a:close/>
                  <a:moveTo>
                    <a:pt x="214312" y="3883458"/>
                  </a:moveTo>
                  <a:lnTo>
                    <a:pt x="106363" y="3883458"/>
                  </a:lnTo>
                  <a:cubicBezTo>
                    <a:pt x="91458" y="3883458"/>
                    <a:pt x="79375" y="3897901"/>
                    <a:pt x="79375" y="3915719"/>
                  </a:cubicBezTo>
                  <a:lnTo>
                    <a:pt x="79375" y="4044745"/>
                  </a:lnTo>
                  <a:cubicBezTo>
                    <a:pt x="79375" y="4062561"/>
                    <a:pt x="91458" y="4077004"/>
                    <a:pt x="106363" y="4077004"/>
                  </a:cubicBezTo>
                  <a:lnTo>
                    <a:pt x="214312" y="4077004"/>
                  </a:lnTo>
                  <a:cubicBezTo>
                    <a:pt x="229217" y="4077004"/>
                    <a:pt x="241300" y="4062561"/>
                    <a:pt x="241300" y="4044745"/>
                  </a:cubicBezTo>
                  <a:lnTo>
                    <a:pt x="241300" y="3915719"/>
                  </a:lnTo>
                  <a:cubicBezTo>
                    <a:pt x="241300" y="3897901"/>
                    <a:pt x="229217" y="3883458"/>
                    <a:pt x="214312" y="3883458"/>
                  </a:cubicBezTo>
                  <a:close/>
                  <a:moveTo>
                    <a:pt x="4507705" y="4283076"/>
                  </a:moveTo>
                  <a:lnTo>
                    <a:pt x="4399756" y="4283076"/>
                  </a:lnTo>
                  <a:cubicBezTo>
                    <a:pt x="4384851" y="4283076"/>
                    <a:pt x="4372768" y="4297518"/>
                    <a:pt x="4372768" y="4315334"/>
                  </a:cubicBezTo>
                  <a:lnTo>
                    <a:pt x="4372768" y="4444365"/>
                  </a:lnTo>
                  <a:cubicBezTo>
                    <a:pt x="4372768" y="4462180"/>
                    <a:pt x="4384851" y="4476623"/>
                    <a:pt x="4399756" y="4476623"/>
                  </a:cubicBezTo>
                  <a:lnTo>
                    <a:pt x="4507705" y="4476623"/>
                  </a:lnTo>
                  <a:cubicBezTo>
                    <a:pt x="4522610" y="4476623"/>
                    <a:pt x="4534693" y="4462180"/>
                    <a:pt x="4534693" y="4444365"/>
                  </a:cubicBezTo>
                  <a:lnTo>
                    <a:pt x="4534693" y="4315334"/>
                  </a:lnTo>
                  <a:cubicBezTo>
                    <a:pt x="4534693" y="4297519"/>
                    <a:pt x="4522610" y="4283076"/>
                    <a:pt x="4507705" y="4283076"/>
                  </a:cubicBezTo>
                  <a:close/>
                  <a:moveTo>
                    <a:pt x="214312" y="3483841"/>
                  </a:moveTo>
                  <a:lnTo>
                    <a:pt x="106363" y="3483841"/>
                  </a:lnTo>
                  <a:cubicBezTo>
                    <a:pt x="91458" y="3483841"/>
                    <a:pt x="79375" y="3498284"/>
                    <a:pt x="79375" y="3516099"/>
                  </a:cubicBezTo>
                  <a:lnTo>
                    <a:pt x="79375" y="3645130"/>
                  </a:lnTo>
                  <a:cubicBezTo>
                    <a:pt x="79375" y="3662946"/>
                    <a:pt x="91458" y="3677389"/>
                    <a:pt x="106363" y="3677389"/>
                  </a:cubicBezTo>
                  <a:lnTo>
                    <a:pt x="214312" y="3677389"/>
                  </a:lnTo>
                  <a:cubicBezTo>
                    <a:pt x="229217" y="3677388"/>
                    <a:pt x="241300" y="3662946"/>
                    <a:pt x="241300" y="3645130"/>
                  </a:cubicBezTo>
                  <a:lnTo>
                    <a:pt x="241300" y="3516100"/>
                  </a:lnTo>
                  <a:cubicBezTo>
                    <a:pt x="241300" y="3498284"/>
                    <a:pt x="229217" y="3483841"/>
                    <a:pt x="214312" y="3483841"/>
                  </a:cubicBezTo>
                  <a:close/>
                  <a:moveTo>
                    <a:pt x="4507705" y="3883458"/>
                  </a:moveTo>
                  <a:lnTo>
                    <a:pt x="4399756" y="3883458"/>
                  </a:lnTo>
                  <a:cubicBezTo>
                    <a:pt x="4384851" y="3883458"/>
                    <a:pt x="4372768" y="3897901"/>
                    <a:pt x="4372768" y="3915719"/>
                  </a:cubicBezTo>
                  <a:lnTo>
                    <a:pt x="4372768" y="4044746"/>
                  </a:lnTo>
                  <a:cubicBezTo>
                    <a:pt x="4372768" y="4062562"/>
                    <a:pt x="4384851" y="4077004"/>
                    <a:pt x="4399756" y="4077004"/>
                  </a:cubicBezTo>
                  <a:lnTo>
                    <a:pt x="4507705" y="4077004"/>
                  </a:lnTo>
                  <a:cubicBezTo>
                    <a:pt x="4522610" y="4077004"/>
                    <a:pt x="4534693" y="4062561"/>
                    <a:pt x="4534693" y="4044746"/>
                  </a:cubicBezTo>
                  <a:lnTo>
                    <a:pt x="4534693" y="3915719"/>
                  </a:lnTo>
                  <a:cubicBezTo>
                    <a:pt x="4534693" y="3897900"/>
                    <a:pt x="4522610" y="3883458"/>
                    <a:pt x="4507705" y="3883458"/>
                  </a:cubicBezTo>
                  <a:close/>
                  <a:moveTo>
                    <a:pt x="214312" y="3084221"/>
                  </a:moveTo>
                  <a:lnTo>
                    <a:pt x="106363" y="3084221"/>
                  </a:lnTo>
                  <a:cubicBezTo>
                    <a:pt x="91458" y="3084221"/>
                    <a:pt x="79375" y="3098665"/>
                    <a:pt x="79375" y="3116481"/>
                  </a:cubicBezTo>
                  <a:lnTo>
                    <a:pt x="79375" y="3245511"/>
                  </a:lnTo>
                  <a:cubicBezTo>
                    <a:pt x="79375" y="3263327"/>
                    <a:pt x="91458" y="3277769"/>
                    <a:pt x="106363" y="3277769"/>
                  </a:cubicBezTo>
                  <a:lnTo>
                    <a:pt x="214312" y="3277770"/>
                  </a:lnTo>
                  <a:cubicBezTo>
                    <a:pt x="229217" y="3277769"/>
                    <a:pt x="241300" y="3263327"/>
                    <a:pt x="241300" y="3245511"/>
                  </a:cubicBezTo>
                  <a:lnTo>
                    <a:pt x="241300" y="3116481"/>
                  </a:lnTo>
                  <a:cubicBezTo>
                    <a:pt x="241300" y="3098665"/>
                    <a:pt x="229217" y="3084221"/>
                    <a:pt x="214312" y="3084221"/>
                  </a:cubicBezTo>
                  <a:close/>
                  <a:moveTo>
                    <a:pt x="4507705" y="3483841"/>
                  </a:moveTo>
                  <a:lnTo>
                    <a:pt x="4399756" y="3483841"/>
                  </a:lnTo>
                  <a:cubicBezTo>
                    <a:pt x="4384851" y="3483841"/>
                    <a:pt x="4372768" y="3498284"/>
                    <a:pt x="4372768" y="3516099"/>
                  </a:cubicBezTo>
                  <a:lnTo>
                    <a:pt x="4372768" y="3645130"/>
                  </a:lnTo>
                  <a:cubicBezTo>
                    <a:pt x="4372768" y="3662946"/>
                    <a:pt x="4384851" y="3677389"/>
                    <a:pt x="4399756" y="3677389"/>
                  </a:cubicBezTo>
                  <a:lnTo>
                    <a:pt x="4507705" y="3677389"/>
                  </a:lnTo>
                  <a:cubicBezTo>
                    <a:pt x="4522610" y="3677389"/>
                    <a:pt x="4534693" y="3662946"/>
                    <a:pt x="4534693" y="3645130"/>
                  </a:cubicBezTo>
                  <a:lnTo>
                    <a:pt x="4534693" y="3516100"/>
                  </a:lnTo>
                  <a:cubicBezTo>
                    <a:pt x="4534693" y="3498284"/>
                    <a:pt x="4522610" y="3483841"/>
                    <a:pt x="4507705" y="3483841"/>
                  </a:cubicBezTo>
                  <a:close/>
                  <a:moveTo>
                    <a:pt x="214312" y="2684603"/>
                  </a:moveTo>
                  <a:lnTo>
                    <a:pt x="106363" y="2684603"/>
                  </a:lnTo>
                  <a:cubicBezTo>
                    <a:pt x="91458" y="2684603"/>
                    <a:pt x="79375" y="2699046"/>
                    <a:pt x="79375" y="2716862"/>
                  </a:cubicBezTo>
                  <a:lnTo>
                    <a:pt x="79375" y="2845894"/>
                  </a:lnTo>
                  <a:cubicBezTo>
                    <a:pt x="79375" y="2863709"/>
                    <a:pt x="91458" y="2878153"/>
                    <a:pt x="106363" y="2878153"/>
                  </a:cubicBezTo>
                  <a:lnTo>
                    <a:pt x="214312" y="2878153"/>
                  </a:lnTo>
                  <a:cubicBezTo>
                    <a:pt x="229217" y="2878153"/>
                    <a:pt x="241300" y="2863709"/>
                    <a:pt x="241300" y="2845895"/>
                  </a:cubicBezTo>
                  <a:lnTo>
                    <a:pt x="241300" y="2716861"/>
                  </a:lnTo>
                  <a:cubicBezTo>
                    <a:pt x="241300" y="2699046"/>
                    <a:pt x="229217" y="2684603"/>
                    <a:pt x="214312" y="2684603"/>
                  </a:cubicBezTo>
                  <a:close/>
                  <a:moveTo>
                    <a:pt x="4507705" y="3084221"/>
                  </a:moveTo>
                  <a:lnTo>
                    <a:pt x="4399756" y="3084221"/>
                  </a:lnTo>
                  <a:cubicBezTo>
                    <a:pt x="4384851" y="3084221"/>
                    <a:pt x="4372768" y="3098665"/>
                    <a:pt x="4372768" y="3116481"/>
                  </a:cubicBezTo>
                  <a:lnTo>
                    <a:pt x="4372768" y="3245511"/>
                  </a:lnTo>
                  <a:cubicBezTo>
                    <a:pt x="4372768" y="3263327"/>
                    <a:pt x="4384851" y="3277769"/>
                    <a:pt x="4399756" y="3277769"/>
                  </a:cubicBezTo>
                  <a:lnTo>
                    <a:pt x="4507705" y="3277770"/>
                  </a:lnTo>
                  <a:cubicBezTo>
                    <a:pt x="4522610" y="3277770"/>
                    <a:pt x="4534693" y="3263327"/>
                    <a:pt x="4534693" y="3245511"/>
                  </a:cubicBezTo>
                  <a:lnTo>
                    <a:pt x="4534693" y="3116480"/>
                  </a:lnTo>
                  <a:cubicBezTo>
                    <a:pt x="4534693" y="3098665"/>
                    <a:pt x="4522610" y="3084221"/>
                    <a:pt x="4507705" y="3084221"/>
                  </a:cubicBezTo>
                  <a:close/>
                  <a:moveTo>
                    <a:pt x="214312" y="2284986"/>
                  </a:moveTo>
                  <a:lnTo>
                    <a:pt x="106363" y="2284986"/>
                  </a:lnTo>
                  <a:cubicBezTo>
                    <a:pt x="91458" y="2284986"/>
                    <a:pt x="79375" y="2299429"/>
                    <a:pt x="79375" y="2317244"/>
                  </a:cubicBezTo>
                  <a:lnTo>
                    <a:pt x="79375" y="2446274"/>
                  </a:lnTo>
                  <a:cubicBezTo>
                    <a:pt x="79375" y="2464089"/>
                    <a:pt x="91458" y="2478533"/>
                    <a:pt x="106363" y="2478533"/>
                  </a:cubicBezTo>
                  <a:lnTo>
                    <a:pt x="214312" y="2478534"/>
                  </a:lnTo>
                  <a:cubicBezTo>
                    <a:pt x="229217" y="2478534"/>
                    <a:pt x="241300" y="2464089"/>
                    <a:pt x="241300" y="2446274"/>
                  </a:cubicBezTo>
                  <a:lnTo>
                    <a:pt x="241300" y="2317244"/>
                  </a:lnTo>
                  <a:cubicBezTo>
                    <a:pt x="241300" y="2299429"/>
                    <a:pt x="229217" y="2284986"/>
                    <a:pt x="214312" y="2284986"/>
                  </a:cubicBezTo>
                  <a:close/>
                  <a:moveTo>
                    <a:pt x="4507705" y="2684603"/>
                  </a:moveTo>
                  <a:lnTo>
                    <a:pt x="4399756" y="2684603"/>
                  </a:lnTo>
                  <a:cubicBezTo>
                    <a:pt x="4384851" y="2684603"/>
                    <a:pt x="4372768" y="2699046"/>
                    <a:pt x="4372768" y="2716861"/>
                  </a:cubicBezTo>
                  <a:lnTo>
                    <a:pt x="4372768" y="2845895"/>
                  </a:lnTo>
                  <a:cubicBezTo>
                    <a:pt x="4372768" y="2863709"/>
                    <a:pt x="4384851" y="2878153"/>
                    <a:pt x="4399756" y="2878153"/>
                  </a:cubicBezTo>
                  <a:lnTo>
                    <a:pt x="4507705" y="2878153"/>
                  </a:lnTo>
                  <a:cubicBezTo>
                    <a:pt x="4522610" y="2878153"/>
                    <a:pt x="4534693" y="2863709"/>
                    <a:pt x="4534693" y="2845894"/>
                  </a:cubicBezTo>
                  <a:lnTo>
                    <a:pt x="4534693" y="2716861"/>
                  </a:lnTo>
                  <a:cubicBezTo>
                    <a:pt x="4534693" y="2699046"/>
                    <a:pt x="4522610" y="2684603"/>
                    <a:pt x="4507705" y="2684603"/>
                  </a:cubicBezTo>
                  <a:close/>
                  <a:moveTo>
                    <a:pt x="214312" y="1885366"/>
                  </a:moveTo>
                  <a:lnTo>
                    <a:pt x="106363" y="1885366"/>
                  </a:lnTo>
                  <a:cubicBezTo>
                    <a:pt x="91458" y="1885366"/>
                    <a:pt x="79375" y="1899809"/>
                    <a:pt x="79375" y="1917624"/>
                  </a:cubicBezTo>
                  <a:lnTo>
                    <a:pt x="79375" y="2046656"/>
                  </a:lnTo>
                  <a:cubicBezTo>
                    <a:pt x="79375" y="2064471"/>
                    <a:pt x="91458" y="2078913"/>
                    <a:pt x="106363" y="2078913"/>
                  </a:cubicBezTo>
                  <a:lnTo>
                    <a:pt x="214312" y="2078913"/>
                  </a:lnTo>
                  <a:cubicBezTo>
                    <a:pt x="229217" y="2078913"/>
                    <a:pt x="241300" y="2064471"/>
                    <a:pt x="241300" y="2046656"/>
                  </a:cubicBezTo>
                  <a:lnTo>
                    <a:pt x="241300" y="1917624"/>
                  </a:lnTo>
                  <a:cubicBezTo>
                    <a:pt x="241300" y="1899809"/>
                    <a:pt x="229217" y="1885366"/>
                    <a:pt x="214312" y="1885366"/>
                  </a:cubicBezTo>
                  <a:close/>
                  <a:moveTo>
                    <a:pt x="4507705" y="2284986"/>
                  </a:moveTo>
                  <a:lnTo>
                    <a:pt x="4399756" y="2284986"/>
                  </a:lnTo>
                  <a:cubicBezTo>
                    <a:pt x="4384851" y="2284986"/>
                    <a:pt x="4372768" y="2299429"/>
                    <a:pt x="4372768" y="2317244"/>
                  </a:cubicBezTo>
                  <a:lnTo>
                    <a:pt x="4372768" y="2446274"/>
                  </a:lnTo>
                  <a:cubicBezTo>
                    <a:pt x="4372768" y="2464089"/>
                    <a:pt x="4384851" y="2478534"/>
                    <a:pt x="4399756" y="2478534"/>
                  </a:cubicBezTo>
                  <a:lnTo>
                    <a:pt x="4507705" y="2478534"/>
                  </a:lnTo>
                  <a:cubicBezTo>
                    <a:pt x="4522610" y="2478534"/>
                    <a:pt x="4534693" y="2464089"/>
                    <a:pt x="4534693" y="2446274"/>
                  </a:cubicBezTo>
                  <a:lnTo>
                    <a:pt x="4534693" y="2317244"/>
                  </a:lnTo>
                  <a:cubicBezTo>
                    <a:pt x="4534693" y="2299429"/>
                    <a:pt x="4522610" y="2284986"/>
                    <a:pt x="4507705" y="2284986"/>
                  </a:cubicBezTo>
                  <a:close/>
                  <a:moveTo>
                    <a:pt x="214312" y="1485747"/>
                  </a:moveTo>
                  <a:lnTo>
                    <a:pt x="106363" y="1485747"/>
                  </a:lnTo>
                  <a:cubicBezTo>
                    <a:pt x="91458" y="1485747"/>
                    <a:pt x="79375" y="1500189"/>
                    <a:pt x="79375" y="1518005"/>
                  </a:cubicBezTo>
                  <a:lnTo>
                    <a:pt x="79375" y="1647036"/>
                  </a:lnTo>
                  <a:cubicBezTo>
                    <a:pt x="79375" y="1664851"/>
                    <a:pt x="91458" y="1679294"/>
                    <a:pt x="106363" y="1679294"/>
                  </a:cubicBezTo>
                  <a:lnTo>
                    <a:pt x="214312" y="1679294"/>
                  </a:lnTo>
                  <a:cubicBezTo>
                    <a:pt x="229217" y="1679294"/>
                    <a:pt x="241300" y="1664851"/>
                    <a:pt x="241300" y="1647036"/>
                  </a:cubicBezTo>
                  <a:lnTo>
                    <a:pt x="241300" y="1518005"/>
                  </a:lnTo>
                  <a:cubicBezTo>
                    <a:pt x="241300" y="1500189"/>
                    <a:pt x="229217" y="1485747"/>
                    <a:pt x="214312" y="1485747"/>
                  </a:cubicBezTo>
                  <a:close/>
                  <a:moveTo>
                    <a:pt x="4507705" y="1885366"/>
                  </a:moveTo>
                  <a:lnTo>
                    <a:pt x="4399756" y="1885366"/>
                  </a:lnTo>
                  <a:cubicBezTo>
                    <a:pt x="4384851" y="1885366"/>
                    <a:pt x="4372768" y="1899809"/>
                    <a:pt x="4372768" y="1917624"/>
                  </a:cubicBezTo>
                  <a:lnTo>
                    <a:pt x="4372768" y="2046656"/>
                  </a:lnTo>
                  <a:cubicBezTo>
                    <a:pt x="4372768" y="2064471"/>
                    <a:pt x="4384851" y="2078913"/>
                    <a:pt x="4399756" y="2078913"/>
                  </a:cubicBezTo>
                  <a:lnTo>
                    <a:pt x="4507705" y="2078913"/>
                  </a:lnTo>
                  <a:cubicBezTo>
                    <a:pt x="4522610" y="2078913"/>
                    <a:pt x="4534693" y="2064471"/>
                    <a:pt x="4534693" y="2046656"/>
                  </a:cubicBezTo>
                  <a:lnTo>
                    <a:pt x="4534693" y="1917624"/>
                  </a:lnTo>
                  <a:cubicBezTo>
                    <a:pt x="4534693" y="1899809"/>
                    <a:pt x="4522610" y="1885366"/>
                    <a:pt x="4507705" y="1885366"/>
                  </a:cubicBezTo>
                  <a:close/>
                  <a:moveTo>
                    <a:pt x="214312" y="1086128"/>
                  </a:moveTo>
                  <a:lnTo>
                    <a:pt x="106363" y="1086128"/>
                  </a:lnTo>
                  <a:cubicBezTo>
                    <a:pt x="91458" y="1086128"/>
                    <a:pt x="79375" y="1100570"/>
                    <a:pt x="79375" y="1118386"/>
                  </a:cubicBezTo>
                  <a:lnTo>
                    <a:pt x="79375" y="1247417"/>
                  </a:lnTo>
                  <a:cubicBezTo>
                    <a:pt x="79375" y="1265232"/>
                    <a:pt x="91458" y="1279675"/>
                    <a:pt x="106363" y="1279675"/>
                  </a:cubicBezTo>
                  <a:lnTo>
                    <a:pt x="214312" y="1279675"/>
                  </a:lnTo>
                  <a:cubicBezTo>
                    <a:pt x="229217" y="1279675"/>
                    <a:pt x="241300" y="1265232"/>
                    <a:pt x="241300" y="1247417"/>
                  </a:cubicBezTo>
                  <a:lnTo>
                    <a:pt x="241300" y="1118386"/>
                  </a:lnTo>
                  <a:cubicBezTo>
                    <a:pt x="241300" y="1100570"/>
                    <a:pt x="229217" y="1086128"/>
                    <a:pt x="214312" y="1086128"/>
                  </a:cubicBezTo>
                  <a:close/>
                  <a:moveTo>
                    <a:pt x="4507705" y="1485747"/>
                  </a:moveTo>
                  <a:lnTo>
                    <a:pt x="4399756" y="1485747"/>
                  </a:lnTo>
                  <a:cubicBezTo>
                    <a:pt x="4384851" y="1485747"/>
                    <a:pt x="4372768" y="1500189"/>
                    <a:pt x="4372768" y="1518005"/>
                  </a:cubicBezTo>
                  <a:lnTo>
                    <a:pt x="4372768" y="1647036"/>
                  </a:lnTo>
                  <a:cubicBezTo>
                    <a:pt x="4372768" y="1664851"/>
                    <a:pt x="4384851" y="1679294"/>
                    <a:pt x="4399756" y="1679294"/>
                  </a:cubicBezTo>
                  <a:lnTo>
                    <a:pt x="4507705" y="1679294"/>
                  </a:lnTo>
                  <a:cubicBezTo>
                    <a:pt x="4522610" y="1679294"/>
                    <a:pt x="4534693" y="1664851"/>
                    <a:pt x="4534693" y="1647036"/>
                  </a:cubicBezTo>
                  <a:lnTo>
                    <a:pt x="4534693" y="1518005"/>
                  </a:lnTo>
                  <a:cubicBezTo>
                    <a:pt x="4534693" y="1500189"/>
                    <a:pt x="4522610" y="1485747"/>
                    <a:pt x="4507705" y="1485747"/>
                  </a:cubicBezTo>
                  <a:close/>
                  <a:moveTo>
                    <a:pt x="214312" y="686509"/>
                  </a:moveTo>
                  <a:lnTo>
                    <a:pt x="106363" y="686508"/>
                  </a:lnTo>
                  <a:cubicBezTo>
                    <a:pt x="91458" y="686508"/>
                    <a:pt x="79375" y="700951"/>
                    <a:pt x="79375" y="718767"/>
                  </a:cubicBezTo>
                  <a:lnTo>
                    <a:pt x="79375" y="847798"/>
                  </a:lnTo>
                  <a:cubicBezTo>
                    <a:pt x="79375" y="865613"/>
                    <a:pt x="91458" y="880056"/>
                    <a:pt x="106363" y="880056"/>
                  </a:cubicBezTo>
                  <a:lnTo>
                    <a:pt x="214312" y="880056"/>
                  </a:lnTo>
                  <a:cubicBezTo>
                    <a:pt x="229217" y="880056"/>
                    <a:pt x="241300" y="865613"/>
                    <a:pt x="241300" y="847797"/>
                  </a:cubicBezTo>
                  <a:lnTo>
                    <a:pt x="241300" y="718767"/>
                  </a:lnTo>
                  <a:cubicBezTo>
                    <a:pt x="241300" y="700951"/>
                    <a:pt x="229217" y="686509"/>
                    <a:pt x="214312" y="686509"/>
                  </a:cubicBezTo>
                  <a:close/>
                  <a:moveTo>
                    <a:pt x="4507705" y="1086128"/>
                  </a:moveTo>
                  <a:lnTo>
                    <a:pt x="4399756" y="1086128"/>
                  </a:lnTo>
                  <a:cubicBezTo>
                    <a:pt x="4384851" y="1086128"/>
                    <a:pt x="4372768" y="1100570"/>
                    <a:pt x="4372768" y="1118386"/>
                  </a:cubicBezTo>
                  <a:lnTo>
                    <a:pt x="4372768" y="1247417"/>
                  </a:lnTo>
                  <a:cubicBezTo>
                    <a:pt x="4372768" y="1265232"/>
                    <a:pt x="4384851" y="1279675"/>
                    <a:pt x="4399756" y="1279675"/>
                  </a:cubicBezTo>
                  <a:lnTo>
                    <a:pt x="4507705" y="1279675"/>
                  </a:lnTo>
                  <a:cubicBezTo>
                    <a:pt x="4522610" y="1279675"/>
                    <a:pt x="4534693" y="1265232"/>
                    <a:pt x="4534693" y="1247417"/>
                  </a:cubicBezTo>
                  <a:lnTo>
                    <a:pt x="4534693" y="1118386"/>
                  </a:lnTo>
                  <a:cubicBezTo>
                    <a:pt x="4534693" y="1100570"/>
                    <a:pt x="4522610" y="1086128"/>
                    <a:pt x="4507705" y="1086128"/>
                  </a:cubicBezTo>
                  <a:close/>
                  <a:moveTo>
                    <a:pt x="214312" y="286889"/>
                  </a:moveTo>
                  <a:lnTo>
                    <a:pt x="106363" y="286889"/>
                  </a:lnTo>
                  <a:cubicBezTo>
                    <a:pt x="91458" y="286889"/>
                    <a:pt x="79375" y="301332"/>
                    <a:pt x="79375" y="319148"/>
                  </a:cubicBezTo>
                  <a:lnTo>
                    <a:pt x="79375" y="448178"/>
                  </a:lnTo>
                  <a:cubicBezTo>
                    <a:pt x="79375" y="465994"/>
                    <a:pt x="91458" y="480437"/>
                    <a:pt x="106363" y="480437"/>
                  </a:cubicBezTo>
                  <a:lnTo>
                    <a:pt x="214312" y="480437"/>
                  </a:lnTo>
                  <a:cubicBezTo>
                    <a:pt x="229217" y="480437"/>
                    <a:pt x="241300" y="465994"/>
                    <a:pt x="241300" y="448178"/>
                  </a:cubicBezTo>
                  <a:lnTo>
                    <a:pt x="241300" y="319148"/>
                  </a:lnTo>
                  <a:cubicBezTo>
                    <a:pt x="241300" y="301332"/>
                    <a:pt x="229217" y="286889"/>
                    <a:pt x="214312" y="286889"/>
                  </a:cubicBezTo>
                  <a:close/>
                  <a:moveTo>
                    <a:pt x="0" y="0"/>
                  </a:moveTo>
                  <a:lnTo>
                    <a:pt x="79375" y="13996"/>
                  </a:lnTo>
                  <a:lnTo>
                    <a:pt x="79375" y="48559"/>
                  </a:lnTo>
                  <a:cubicBezTo>
                    <a:pt x="79375" y="66375"/>
                    <a:pt x="91458" y="80818"/>
                    <a:pt x="106363" y="80818"/>
                  </a:cubicBezTo>
                  <a:lnTo>
                    <a:pt x="214312" y="80818"/>
                  </a:lnTo>
                  <a:cubicBezTo>
                    <a:pt x="229217" y="80818"/>
                    <a:pt x="241300" y="66375"/>
                    <a:pt x="241300" y="48559"/>
                  </a:cubicBezTo>
                  <a:lnTo>
                    <a:pt x="241300" y="42548"/>
                  </a:lnTo>
                  <a:lnTo>
                    <a:pt x="4372768" y="771037"/>
                  </a:lnTo>
                  <a:lnTo>
                    <a:pt x="4372768" y="847797"/>
                  </a:lnTo>
                  <a:cubicBezTo>
                    <a:pt x="4372768" y="865613"/>
                    <a:pt x="4384851" y="880056"/>
                    <a:pt x="4399756" y="880056"/>
                  </a:cubicBezTo>
                  <a:lnTo>
                    <a:pt x="4507705" y="880056"/>
                  </a:lnTo>
                  <a:cubicBezTo>
                    <a:pt x="4522610" y="880056"/>
                    <a:pt x="4534693" y="865613"/>
                    <a:pt x="4534693" y="847797"/>
                  </a:cubicBezTo>
                  <a:lnTo>
                    <a:pt x="4534693" y="799589"/>
                  </a:lnTo>
                  <a:lnTo>
                    <a:pt x="4614068" y="813585"/>
                  </a:lnTo>
                  <a:lnTo>
                    <a:pt x="4614068" y="7790473"/>
                  </a:lnTo>
                  <a:lnTo>
                    <a:pt x="0" y="6976889"/>
                  </a:lnTo>
                  <a:close/>
                </a:path>
              </a:pathLst>
            </a:custGeom>
            <a:solidFill>
              <a:srgbClr val="ceb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grpSp>
          <p:nvGrpSpPr>
            <p:cNvPr id="169" name="组合 11"/>
            <p:cNvGrpSpPr/>
            <p:nvPr/>
          </p:nvGrpSpPr>
          <p:grpSpPr>
            <a:xfrm>
              <a:off x="-1477800" y="-7869600"/>
              <a:ext cx="4592520" cy="8416800"/>
              <a:chOff x="-1477800" y="-7869600"/>
              <a:chExt cx="4592520" cy="8416800"/>
            </a:xfrm>
          </p:grpSpPr>
          <p:sp>
            <p:nvSpPr>
              <p:cNvPr id="170" name="KSO_Img2"/>
              <p:cNvSpPr/>
              <p:nvPr/>
            </p:nvSpPr>
            <p:spPr>
              <a:xfrm rot="21000000">
                <a:off x="-586080" y="-3713400"/>
                <a:ext cx="3379320" cy="3997800"/>
              </a:xfrm>
              <a:custGeom>
                <a:avLst/>
                <a:gdLst/>
                <a:ahLst/>
                <a:rect l="l" t="t" r="r" b="b"/>
                <a:pathLst>
                  <a:path w="3941714" h="3849998">
                    <a:moveTo>
                      <a:pt x="3941714" y="0"/>
                    </a:moveTo>
                    <a:lnTo>
                      <a:pt x="3941714" y="3849998"/>
                    </a:lnTo>
                    <a:lnTo>
                      <a:pt x="0" y="315496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171" name="KSO_Img1"/>
              <p:cNvSpPr/>
              <p:nvPr/>
            </p:nvSpPr>
            <p:spPr>
              <a:xfrm rot="21000000">
                <a:off x="-1174680" y="-7604640"/>
                <a:ext cx="3381120" cy="3786840"/>
              </a:xfrm>
              <a:custGeom>
                <a:avLst/>
                <a:gdLst/>
                <a:ahLst/>
                <a:rect l="l" t="t" r="r" b="b"/>
                <a:pathLst>
                  <a:path w="3941714" h="3648186">
                    <a:moveTo>
                      <a:pt x="0" y="0"/>
                    </a:moveTo>
                    <a:lnTo>
                      <a:pt x="3941714" y="695031"/>
                    </a:lnTo>
                    <a:lnTo>
                      <a:pt x="3941714" y="3648186"/>
                    </a:lnTo>
                    <a:lnTo>
                      <a:pt x="0" y="3648186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组合 10"/>
          <p:cNvGrpSpPr/>
          <p:nvPr/>
        </p:nvGrpSpPr>
        <p:grpSpPr>
          <a:xfrm>
            <a:off x="4718160" y="5991120"/>
            <a:ext cx="7439040" cy="8001000"/>
            <a:chOff x="4718160" y="5991120"/>
            <a:chExt cx="7439040" cy="8001000"/>
          </a:xfrm>
        </p:grpSpPr>
        <p:pic>
          <p:nvPicPr>
            <p:cNvPr id="173" name="图片 3" descr=""/>
            <p:cNvPicPr/>
            <p:nvPr/>
          </p:nvPicPr>
          <p:blipFill>
            <a:blip r:embed="rId8">
              <a:lum bright="70000" contrast="-70000"/>
            </a:blip>
            <a:stretch/>
          </p:blipFill>
          <p:spPr>
            <a:xfrm rot="1299600">
              <a:off x="10157400" y="11988360"/>
              <a:ext cx="1821960" cy="118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" name="组合 1"/>
            <p:cNvGrpSpPr/>
            <p:nvPr/>
          </p:nvGrpSpPr>
          <p:grpSpPr>
            <a:xfrm>
              <a:off x="5398920" y="7898400"/>
              <a:ext cx="6525000" cy="5106600"/>
              <a:chOff x="5398920" y="7898400"/>
              <a:chExt cx="6525000" cy="5106600"/>
            </a:xfrm>
          </p:grpSpPr>
          <p:sp>
            <p:nvSpPr>
              <p:cNvPr id="175" name="椭圆 9"/>
              <p:cNvSpPr/>
              <p:nvPr/>
            </p:nvSpPr>
            <p:spPr>
              <a:xfrm>
                <a:off x="9369360" y="9565200"/>
                <a:ext cx="1483560" cy="2490840"/>
              </a:xfrm>
              <a:prstGeom prst="ellipse">
                <a:avLst/>
              </a:prstGeom>
              <a:noFill/>
              <a:ln w="25560">
                <a:solidFill>
                  <a:srgbClr val="e2d7d6">
                    <a:alpha val="2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10082160" y="8982720"/>
                <a:ext cx="720" cy="4022280"/>
                <a:chOff x="10082160" y="8982720"/>
                <a:chExt cx="720" cy="4022280"/>
              </a:xfrm>
            </p:grpSpPr>
            <p:sp>
              <p:nvSpPr>
                <p:cNvPr id="177" name="直接连接符 13"/>
                <p:cNvSpPr/>
                <p:nvPr/>
              </p:nvSpPr>
              <p:spPr>
                <a:xfrm>
                  <a:off x="10082160" y="8982720"/>
                  <a:ext cx="720" cy="4022280"/>
                </a:xfrm>
                <a:prstGeom prst="line">
                  <a:avLst/>
                </a:prstGeom>
                <a:ln w="25560">
                  <a:solidFill>
                    <a:srgbClr val="e2d7d6">
                      <a:alpha val="27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d3f41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 txBox="1"/>
                <p:nvPr/>
              </p:nvSpPr>
              <p:spPr>
                <a:xfrm>
                  <a:off x="10082160" y="8982720"/>
                  <a:ext cx="720" cy="40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3f4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8879760" y="10985040"/>
                <a:ext cx="2395800" cy="1800"/>
                <a:chOff x="8879760" y="10985040"/>
                <a:chExt cx="2395800" cy="1800"/>
              </a:xfrm>
            </p:grpSpPr>
            <p:sp>
              <p:nvSpPr>
                <p:cNvPr id="180" name="直接连接符 36"/>
                <p:cNvSpPr/>
                <p:nvPr/>
              </p:nvSpPr>
              <p:spPr>
                <a:xfrm flipH="1">
                  <a:off x="8879760" y="10985040"/>
                  <a:ext cx="2395800" cy="1800"/>
                </a:xfrm>
                <a:prstGeom prst="line">
                  <a:avLst/>
                </a:prstGeom>
                <a:ln w="25560">
                  <a:solidFill>
                    <a:srgbClr val="e2d7d6">
                      <a:alpha val="27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3d3f41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 txBox="1"/>
                <p:nvPr/>
              </p:nvSpPr>
              <p:spPr>
                <a:xfrm rot="5400000">
                  <a:off x="10076760" y="9788040"/>
                  <a:ext cx="1800" cy="239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d3f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矩形 20"/>
              <p:cNvSpPr/>
              <p:nvPr/>
            </p:nvSpPr>
            <p:spPr>
              <a:xfrm rot="20940000">
                <a:off x="5408280" y="8512200"/>
                <a:ext cx="6506280" cy="72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</p:grpSp>
        <p:sp>
          <p:nvSpPr>
            <p:cNvPr id="183" name="任意多边形 18"/>
            <p:cNvSpPr/>
            <p:nvPr/>
          </p:nvSpPr>
          <p:spPr>
            <a:xfrm flipH="1" rot="2644200">
              <a:off x="9307080" y="11073600"/>
              <a:ext cx="2643120" cy="1148040"/>
            </a:xfrm>
            <a:custGeom>
              <a:avLst/>
              <a:gdLst/>
              <a:ahLst/>
              <a:rect l="l" t="t" r="r" b="b"/>
              <a:pathLst>
                <a:path w="9144000" h="5113239">
                  <a:moveTo>
                    <a:pt x="6981362" y="4585521"/>
                  </a:moveTo>
                  <a:lnTo>
                    <a:pt x="6981362" y="4908190"/>
                  </a:lnTo>
                  <a:lnTo>
                    <a:pt x="7143749" y="4912637"/>
                  </a:lnTo>
                  <a:lnTo>
                    <a:pt x="7235362" y="4911672"/>
                  </a:lnTo>
                  <a:lnTo>
                    <a:pt x="7235362" y="4588031"/>
                  </a:lnTo>
                  <a:close/>
                  <a:moveTo>
                    <a:pt x="7743362" y="4569382"/>
                  </a:moveTo>
                  <a:lnTo>
                    <a:pt x="7581304" y="4580990"/>
                  </a:lnTo>
                  <a:lnTo>
                    <a:pt x="7489362" y="4584389"/>
                  </a:lnTo>
                  <a:lnTo>
                    <a:pt x="7489362" y="4906476"/>
                  </a:lnTo>
                  <a:lnTo>
                    <a:pt x="7715249" y="4894580"/>
                  </a:lnTo>
                  <a:lnTo>
                    <a:pt x="7743362" y="4891797"/>
                  </a:lnTo>
                  <a:close/>
                  <a:moveTo>
                    <a:pt x="6473362" y="4556882"/>
                  </a:moveTo>
                  <a:lnTo>
                    <a:pt x="6473362" y="4878400"/>
                  </a:lnTo>
                  <a:lnTo>
                    <a:pt x="6572249" y="4887357"/>
                  </a:lnTo>
                  <a:lnTo>
                    <a:pt x="6727362" y="4896832"/>
                  </a:lnTo>
                  <a:lnTo>
                    <a:pt x="6727362" y="4573082"/>
                  </a:lnTo>
                  <a:close/>
                  <a:moveTo>
                    <a:pt x="8251362" y="4507443"/>
                  </a:moveTo>
                  <a:lnTo>
                    <a:pt x="8251030" y="4507506"/>
                  </a:lnTo>
                  <a:cubicBezTo>
                    <a:pt x="8176616" y="4520114"/>
                    <a:pt x="8102202" y="4531146"/>
                    <a:pt x="8027788" y="4540696"/>
                  </a:cubicBezTo>
                  <a:lnTo>
                    <a:pt x="7997362" y="4544008"/>
                  </a:lnTo>
                  <a:lnTo>
                    <a:pt x="7997362" y="4866649"/>
                  </a:lnTo>
                  <a:lnTo>
                    <a:pt x="8000999" y="4866289"/>
                  </a:lnTo>
                  <a:lnTo>
                    <a:pt x="8251362" y="4828845"/>
                  </a:lnTo>
                  <a:close/>
                  <a:moveTo>
                    <a:pt x="5965362" y="4500915"/>
                  </a:moveTo>
                  <a:lnTo>
                    <a:pt x="5965362" y="4820885"/>
                  </a:lnTo>
                  <a:lnTo>
                    <a:pt x="6219362" y="4852989"/>
                  </a:lnTo>
                  <a:lnTo>
                    <a:pt x="6219362" y="4529966"/>
                  </a:lnTo>
                  <a:lnTo>
                    <a:pt x="6018608" y="4508407"/>
                  </a:lnTo>
                  <a:close/>
                  <a:moveTo>
                    <a:pt x="5457362" y="4426788"/>
                  </a:moveTo>
                  <a:lnTo>
                    <a:pt x="5457362" y="4747997"/>
                  </a:lnTo>
                  <a:lnTo>
                    <a:pt x="5711362" y="4788661"/>
                  </a:lnTo>
                  <a:lnTo>
                    <a:pt x="5711362" y="4465174"/>
                  </a:lnTo>
                  <a:lnTo>
                    <a:pt x="5572124" y="4445581"/>
                  </a:lnTo>
                  <a:close/>
                  <a:moveTo>
                    <a:pt x="8759362" y="4394639"/>
                  </a:moveTo>
                  <a:lnTo>
                    <a:pt x="8697515" y="4412173"/>
                  </a:lnTo>
                  <a:lnTo>
                    <a:pt x="8505362" y="4457520"/>
                  </a:lnTo>
                  <a:lnTo>
                    <a:pt x="8505362" y="4778883"/>
                  </a:lnTo>
                  <a:lnTo>
                    <a:pt x="8572499" y="4765165"/>
                  </a:lnTo>
                  <a:lnTo>
                    <a:pt x="8759362" y="4715962"/>
                  </a:lnTo>
                  <a:close/>
                  <a:moveTo>
                    <a:pt x="4949362" y="4341353"/>
                  </a:moveTo>
                  <a:lnTo>
                    <a:pt x="4949362" y="4663399"/>
                  </a:lnTo>
                  <a:lnTo>
                    <a:pt x="5143499" y="4697750"/>
                  </a:lnTo>
                  <a:lnTo>
                    <a:pt x="5203362" y="4707334"/>
                  </a:lnTo>
                  <a:lnTo>
                    <a:pt x="5203362" y="4385194"/>
                  </a:lnTo>
                  <a:lnTo>
                    <a:pt x="5125640" y="4372467"/>
                  </a:lnTo>
                  <a:close/>
                  <a:moveTo>
                    <a:pt x="0" y="4274407"/>
                  </a:moveTo>
                  <a:lnTo>
                    <a:pt x="0" y="4596626"/>
                  </a:lnTo>
                  <a:lnTo>
                    <a:pt x="0" y="4596626"/>
                  </a:lnTo>
                  <a:lnTo>
                    <a:pt x="0" y="4274407"/>
                  </a:lnTo>
                  <a:close/>
                  <a:moveTo>
                    <a:pt x="4441361" y="4251098"/>
                  </a:moveTo>
                  <a:lnTo>
                    <a:pt x="4441361" y="4573509"/>
                  </a:lnTo>
                  <a:lnTo>
                    <a:pt x="4571999" y="4596625"/>
                  </a:lnTo>
                  <a:lnTo>
                    <a:pt x="4695362" y="4618454"/>
                  </a:lnTo>
                  <a:lnTo>
                    <a:pt x="4695362" y="4296519"/>
                  </a:lnTo>
                  <a:lnTo>
                    <a:pt x="4679155" y="4293658"/>
                  </a:lnTo>
                  <a:close/>
                  <a:moveTo>
                    <a:pt x="3933363" y="4162517"/>
                  </a:moveTo>
                  <a:lnTo>
                    <a:pt x="3933363" y="4484753"/>
                  </a:lnTo>
                  <a:lnTo>
                    <a:pt x="4000501" y="4495501"/>
                  </a:lnTo>
                  <a:lnTo>
                    <a:pt x="4187363" y="4528565"/>
                  </a:lnTo>
                  <a:lnTo>
                    <a:pt x="4187363" y="4205992"/>
                  </a:lnTo>
                  <a:close/>
                  <a:moveTo>
                    <a:pt x="631362" y="4093866"/>
                  </a:moveTo>
                  <a:lnTo>
                    <a:pt x="500062" y="4123049"/>
                  </a:lnTo>
                  <a:lnTo>
                    <a:pt x="377362" y="4156767"/>
                  </a:lnTo>
                  <a:lnTo>
                    <a:pt x="377362" y="4479204"/>
                  </a:lnTo>
                  <a:lnTo>
                    <a:pt x="571500" y="4428085"/>
                  </a:lnTo>
                  <a:lnTo>
                    <a:pt x="631362" y="4415854"/>
                  </a:lnTo>
                  <a:close/>
                  <a:moveTo>
                    <a:pt x="3425363" y="4082101"/>
                  </a:moveTo>
                  <a:lnTo>
                    <a:pt x="3425363" y="4403549"/>
                  </a:lnTo>
                  <a:lnTo>
                    <a:pt x="3429001" y="4404009"/>
                  </a:lnTo>
                  <a:lnTo>
                    <a:pt x="3679363" y="4444090"/>
                  </a:lnTo>
                  <a:lnTo>
                    <a:pt x="3679363" y="4120978"/>
                  </a:lnTo>
                  <a:close/>
                  <a:moveTo>
                    <a:pt x="2917363" y="4016336"/>
                  </a:moveTo>
                  <a:lnTo>
                    <a:pt x="2917363" y="4339343"/>
                  </a:lnTo>
                  <a:lnTo>
                    <a:pt x="3171363" y="4371446"/>
                  </a:lnTo>
                  <a:lnTo>
                    <a:pt x="3171363" y="4048002"/>
                  </a:lnTo>
                  <a:close/>
                  <a:moveTo>
                    <a:pt x="1139363" y="4006564"/>
                  </a:moveTo>
                  <a:lnTo>
                    <a:pt x="1000125" y="4024231"/>
                  </a:lnTo>
                  <a:lnTo>
                    <a:pt x="885362" y="4044081"/>
                  </a:lnTo>
                  <a:lnTo>
                    <a:pt x="885362" y="4365495"/>
                  </a:lnTo>
                  <a:lnTo>
                    <a:pt x="1139363" y="4327506"/>
                  </a:lnTo>
                  <a:close/>
                  <a:moveTo>
                    <a:pt x="2409362" y="3973546"/>
                  </a:moveTo>
                  <a:lnTo>
                    <a:pt x="2409362" y="4295974"/>
                  </a:lnTo>
                  <a:lnTo>
                    <a:pt x="2571750" y="4305894"/>
                  </a:lnTo>
                  <a:lnTo>
                    <a:pt x="2663362" y="4314192"/>
                  </a:lnTo>
                  <a:lnTo>
                    <a:pt x="2663362" y="3993559"/>
                  </a:lnTo>
                  <a:lnTo>
                    <a:pt x="2446735" y="3974930"/>
                  </a:lnTo>
                  <a:close/>
                  <a:moveTo>
                    <a:pt x="1647363" y="3964961"/>
                  </a:moveTo>
                  <a:lnTo>
                    <a:pt x="1500188" y="3971495"/>
                  </a:lnTo>
                  <a:lnTo>
                    <a:pt x="1393363" y="3980472"/>
                  </a:lnTo>
                  <a:lnTo>
                    <a:pt x="1393363" y="4302175"/>
                  </a:lnTo>
                  <a:lnTo>
                    <a:pt x="1428750" y="4298671"/>
                  </a:lnTo>
                  <a:lnTo>
                    <a:pt x="1647363" y="4287159"/>
                  </a:lnTo>
                  <a:close/>
                  <a:moveTo>
                    <a:pt x="2000251" y="3958395"/>
                  </a:moveTo>
                  <a:lnTo>
                    <a:pt x="1901363" y="3959186"/>
                  </a:lnTo>
                  <a:lnTo>
                    <a:pt x="1901363" y="4281656"/>
                  </a:lnTo>
                  <a:lnTo>
                    <a:pt x="2000251" y="4280614"/>
                  </a:lnTo>
                  <a:lnTo>
                    <a:pt x="2155363" y="4284862"/>
                  </a:lnTo>
                  <a:lnTo>
                    <a:pt x="2155363" y="3964140"/>
                  </a:lnTo>
                  <a:close/>
                  <a:moveTo>
                    <a:pt x="6981362" y="779875"/>
                  </a:moveTo>
                  <a:lnTo>
                    <a:pt x="6981362" y="1102544"/>
                  </a:lnTo>
                  <a:lnTo>
                    <a:pt x="7143749" y="1106991"/>
                  </a:lnTo>
                  <a:lnTo>
                    <a:pt x="7235362" y="1106026"/>
                  </a:lnTo>
                  <a:lnTo>
                    <a:pt x="7235362" y="782385"/>
                  </a:lnTo>
                  <a:close/>
                  <a:moveTo>
                    <a:pt x="7743362" y="763736"/>
                  </a:moveTo>
                  <a:lnTo>
                    <a:pt x="7581304" y="775344"/>
                  </a:lnTo>
                  <a:lnTo>
                    <a:pt x="7489362" y="778743"/>
                  </a:lnTo>
                  <a:lnTo>
                    <a:pt x="7489362" y="1100830"/>
                  </a:lnTo>
                  <a:lnTo>
                    <a:pt x="7715249" y="1088934"/>
                  </a:lnTo>
                  <a:lnTo>
                    <a:pt x="7743362" y="1086151"/>
                  </a:lnTo>
                  <a:close/>
                  <a:moveTo>
                    <a:pt x="6473362" y="751236"/>
                  </a:moveTo>
                  <a:lnTo>
                    <a:pt x="6473362" y="1072754"/>
                  </a:lnTo>
                  <a:lnTo>
                    <a:pt x="6572249" y="1081711"/>
                  </a:lnTo>
                  <a:lnTo>
                    <a:pt x="6727362" y="1091186"/>
                  </a:lnTo>
                  <a:lnTo>
                    <a:pt x="6727362" y="767436"/>
                  </a:lnTo>
                  <a:close/>
                  <a:moveTo>
                    <a:pt x="8251362" y="701797"/>
                  </a:moveTo>
                  <a:lnTo>
                    <a:pt x="8251030" y="701860"/>
                  </a:lnTo>
                  <a:cubicBezTo>
                    <a:pt x="8176616" y="714468"/>
                    <a:pt x="8102202" y="725500"/>
                    <a:pt x="8027788" y="735050"/>
                  </a:cubicBezTo>
                  <a:lnTo>
                    <a:pt x="7997362" y="738362"/>
                  </a:lnTo>
                  <a:lnTo>
                    <a:pt x="7997362" y="1061003"/>
                  </a:lnTo>
                  <a:lnTo>
                    <a:pt x="8000999" y="1060643"/>
                  </a:lnTo>
                  <a:lnTo>
                    <a:pt x="8251362" y="1023199"/>
                  </a:lnTo>
                  <a:close/>
                  <a:moveTo>
                    <a:pt x="5965362" y="695269"/>
                  </a:moveTo>
                  <a:lnTo>
                    <a:pt x="5965362" y="1015239"/>
                  </a:lnTo>
                  <a:lnTo>
                    <a:pt x="6219362" y="1047343"/>
                  </a:lnTo>
                  <a:lnTo>
                    <a:pt x="6219362" y="724320"/>
                  </a:lnTo>
                  <a:lnTo>
                    <a:pt x="6018608" y="702761"/>
                  </a:lnTo>
                  <a:close/>
                  <a:moveTo>
                    <a:pt x="5457362" y="621142"/>
                  </a:moveTo>
                  <a:lnTo>
                    <a:pt x="5457362" y="942351"/>
                  </a:lnTo>
                  <a:lnTo>
                    <a:pt x="5711362" y="983015"/>
                  </a:lnTo>
                  <a:lnTo>
                    <a:pt x="5711362" y="659528"/>
                  </a:lnTo>
                  <a:lnTo>
                    <a:pt x="5572124" y="639935"/>
                  </a:lnTo>
                  <a:close/>
                  <a:moveTo>
                    <a:pt x="8759362" y="588993"/>
                  </a:moveTo>
                  <a:lnTo>
                    <a:pt x="8697515" y="606527"/>
                  </a:lnTo>
                  <a:lnTo>
                    <a:pt x="8505362" y="651874"/>
                  </a:lnTo>
                  <a:lnTo>
                    <a:pt x="8505362" y="973237"/>
                  </a:lnTo>
                  <a:lnTo>
                    <a:pt x="8572499" y="959519"/>
                  </a:lnTo>
                  <a:lnTo>
                    <a:pt x="8759362" y="910316"/>
                  </a:lnTo>
                  <a:close/>
                  <a:moveTo>
                    <a:pt x="4949362" y="535707"/>
                  </a:moveTo>
                  <a:lnTo>
                    <a:pt x="4949362" y="857753"/>
                  </a:lnTo>
                  <a:lnTo>
                    <a:pt x="5143499" y="892104"/>
                  </a:lnTo>
                  <a:lnTo>
                    <a:pt x="5203362" y="901688"/>
                  </a:lnTo>
                  <a:lnTo>
                    <a:pt x="5203362" y="579548"/>
                  </a:lnTo>
                  <a:lnTo>
                    <a:pt x="5125640" y="566821"/>
                  </a:lnTo>
                  <a:close/>
                  <a:moveTo>
                    <a:pt x="4441361" y="445452"/>
                  </a:moveTo>
                  <a:lnTo>
                    <a:pt x="4441361" y="767863"/>
                  </a:lnTo>
                  <a:lnTo>
                    <a:pt x="4571999" y="790979"/>
                  </a:lnTo>
                  <a:lnTo>
                    <a:pt x="4695362" y="812808"/>
                  </a:lnTo>
                  <a:lnTo>
                    <a:pt x="4695362" y="490873"/>
                  </a:lnTo>
                  <a:lnTo>
                    <a:pt x="4679155" y="488012"/>
                  </a:lnTo>
                  <a:close/>
                  <a:moveTo>
                    <a:pt x="3933364" y="356871"/>
                  </a:moveTo>
                  <a:lnTo>
                    <a:pt x="3933364" y="679107"/>
                  </a:lnTo>
                  <a:lnTo>
                    <a:pt x="4000501" y="689855"/>
                  </a:lnTo>
                  <a:lnTo>
                    <a:pt x="4187364" y="722919"/>
                  </a:lnTo>
                  <a:lnTo>
                    <a:pt x="4187364" y="400346"/>
                  </a:lnTo>
                  <a:close/>
                  <a:moveTo>
                    <a:pt x="631362" y="288220"/>
                  </a:moveTo>
                  <a:lnTo>
                    <a:pt x="500062" y="317403"/>
                  </a:lnTo>
                  <a:lnTo>
                    <a:pt x="377362" y="351121"/>
                  </a:lnTo>
                  <a:lnTo>
                    <a:pt x="377362" y="673558"/>
                  </a:lnTo>
                  <a:lnTo>
                    <a:pt x="571500" y="622439"/>
                  </a:lnTo>
                  <a:lnTo>
                    <a:pt x="631362" y="610208"/>
                  </a:lnTo>
                  <a:close/>
                  <a:moveTo>
                    <a:pt x="3425363" y="276455"/>
                  </a:moveTo>
                  <a:lnTo>
                    <a:pt x="3425363" y="597903"/>
                  </a:lnTo>
                  <a:lnTo>
                    <a:pt x="3429001" y="598363"/>
                  </a:lnTo>
                  <a:lnTo>
                    <a:pt x="3679364" y="638444"/>
                  </a:lnTo>
                  <a:lnTo>
                    <a:pt x="3679364" y="315332"/>
                  </a:lnTo>
                  <a:close/>
                  <a:moveTo>
                    <a:pt x="2917363" y="210690"/>
                  </a:moveTo>
                  <a:lnTo>
                    <a:pt x="2917363" y="533697"/>
                  </a:lnTo>
                  <a:lnTo>
                    <a:pt x="3171363" y="565800"/>
                  </a:lnTo>
                  <a:lnTo>
                    <a:pt x="3171363" y="242356"/>
                  </a:lnTo>
                  <a:close/>
                  <a:moveTo>
                    <a:pt x="1139363" y="200918"/>
                  </a:moveTo>
                  <a:lnTo>
                    <a:pt x="1000125" y="218585"/>
                  </a:lnTo>
                  <a:lnTo>
                    <a:pt x="885362" y="238435"/>
                  </a:lnTo>
                  <a:lnTo>
                    <a:pt x="885362" y="559849"/>
                  </a:lnTo>
                  <a:lnTo>
                    <a:pt x="1139363" y="521860"/>
                  </a:lnTo>
                  <a:close/>
                  <a:moveTo>
                    <a:pt x="2409363" y="167900"/>
                  </a:moveTo>
                  <a:lnTo>
                    <a:pt x="2409363" y="490328"/>
                  </a:lnTo>
                  <a:lnTo>
                    <a:pt x="2571751" y="500248"/>
                  </a:lnTo>
                  <a:lnTo>
                    <a:pt x="2663363" y="508546"/>
                  </a:lnTo>
                  <a:lnTo>
                    <a:pt x="2663363" y="187913"/>
                  </a:lnTo>
                  <a:lnTo>
                    <a:pt x="2446735" y="169284"/>
                  </a:lnTo>
                  <a:close/>
                  <a:moveTo>
                    <a:pt x="1647363" y="159315"/>
                  </a:moveTo>
                  <a:lnTo>
                    <a:pt x="1500188" y="165849"/>
                  </a:lnTo>
                  <a:lnTo>
                    <a:pt x="1393363" y="174826"/>
                  </a:lnTo>
                  <a:lnTo>
                    <a:pt x="1393363" y="496529"/>
                  </a:lnTo>
                  <a:lnTo>
                    <a:pt x="1428750" y="493025"/>
                  </a:lnTo>
                  <a:lnTo>
                    <a:pt x="1647363" y="481513"/>
                  </a:lnTo>
                  <a:close/>
                  <a:moveTo>
                    <a:pt x="2000251" y="152749"/>
                  </a:moveTo>
                  <a:lnTo>
                    <a:pt x="1901363" y="153540"/>
                  </a:lnTo>
                  <a:lnTo>
                    <a:pt x="1901363" y="476010"/>
                  </a:lnTo>
                  <a:lnTo>
                    <a:pt x="2000251" y="474968"/>
                  </a:lnTo>
                  <a:lnTo>
                    <a:pt x="2155363" y="479216"/>
                  </a:lnTo>
                  <a:lnTo>
                    <a:pt x="2155363" y="158494"/>
                  </a:lnTo>
                  <a:close/>
                  <a:moveTo>
                    <a:pt x="2000250" y="312"/>
                  </a:moveTo>
                  <a:cubicBezTo>
                    <a:pt x="4381500" y="22048"/>
                    <a:pt x="6762750" y="1172399"/>
                    <a:pt x="9144000" y="316324"/>
                  </a:cubicBezTo>
                  <a:lnTo>
                    <a:pt x="9144000" y="468761"/>
                  </a:lnTo>
                  <a:lnTo>
                    <a:pt x="9013363" y="512342"/>
                  </a:lnTo>
                  <a:lnTo>
                    <a:pt x="9013363" y="833634"/>
                  </a:lnTo>
                  <a:lnTo>
                    <a:pt x="9144000" y="790980"/>
                  </a:lnTo>
                  <a:lnTo>
                    <a:pt x="9144000" y="4274407"/>
                  </a:lnTo>
                  <a:lnTo>
                    <a:pt x="9013363" y="4317988"/>
                  </a:lnTo>
                  <a:lnTo>
                    <a:pt x="9013363" y="4639280"/>
                  </a:lnTo>
                  <a:lnTo>
                    <a:pt x="9144000" y="4596626"/>
                  </a:lnTo>
                  <a:lnTo>
                    <a:pt x="9144000" y="4796916"/>
                  </a:lnTo>
                  <a:cubicBezTo>
                    <a:pt x="6096000" y="5892693"/>
                    <a:pt x="3048000" y="3701140"/>
                    <a:pt x="0" y="4796916"/>
                  </a:cubicBezTo>
                  <a:lnTo>
                    <a:pt x="0" y="4596626"/>
                  </a:lnTo>
                  <a:lnTo>
                    <a:pt x="123362" y="4556348"/>
                  </a:lnTo>
                  <a:lnTo>
                    <a:pt x="123362" y="4233629"/>
                  </a:lnTo>
                  <a:lnTo>
                    <a:pt x="0" y="4274407"/>
                  </a:lnTo>
                  <a:lnTo>
                    <a:pt x="0" y="790980"/>
                  </a:lnTo>
                  <a:lnTo>
                    <a:pt x="123362" y="750702"/>
                  </a:lnTo>
                  <a:lnTo>
                    <a:pt x="123362" y="427983"/>
                  </a:lnTo>
                  <a:lnTo>
                    <a:pt x="0" y="468761"/>
                  </a:lnTo>
                  <a:lnTo>
                    <a:pt x="0" y="316324"/>
                  </a:lnTo>
                  <a:cubicBezTo>
                    <a:pt x="666750" y="76623"/>
                    <a:pt x="1333500" y="-5774"/>
                    <a:pt x="2000250" y="312"/>
                  </a:cubicBezTo>
                  <a:close/>
                </a:path>
              </a:pathLst>
            </a:custGeom>
            <a:solidFill>
              <a:srgbClr val="cebbb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184" name="任意多边形 13"/>
            <p:cNvSpPr/>
            <p:nvPr/>
          </p:nvSpPr>
          <p:spPr>
            <a:xfrm flipH="1" rot="1058400">
              <a:off x="4921200" y="9438480"/>
              <a:ext cx="4802400" cy="2085120"/>
            </a:xfrm>
            <a:custGeom>
              <a:avLst/>
              <a:gdLst/>
              <a:ahLst/>
              <a:rect l="l" t="t" r="r" b="b"/>
              <a:pathLst>
                <a:path w="9144000" h="5113239">
                  <a:moveTo>
                    <a:pt x="6981362" y="4585521"/>
                  </a:moveTo>
                  <a:lnTo>
                    <a:pt x="6981362" y="4908190"/>
                  </a:lnTo>
                  <a:lnTo>
                    <a:pt x="7143749" y="4912637"/>
                  </a:lnTo>
                  <a:lnTo>
                    <a:pt x="7235362" y="4911672"/>
                  </a:lnTo>
                  <a:lnTo>
                    <a:pt x="7235362" y="4588031"/>
                  </a:lnTo>
                  <a:close/>
                  <a:moveTo>
                    <a:pt x="7743362" y="4569382"/>
                  </a:moveTo>
                  <a:lnTo>
                    <a:pt x="7581304" y="4580990"/>
                  </a:lnTo>
                  <a:lnTo>
                    <a:pt x="7489362" y="4584389"/>
                  </a:lnTo>
                  <a:lnTo>
                    <a:pt x="7489362" y="4906476"/>
                  </a:lnTo>
                  <a:lnTo>
                    <a:pt x="7715249" y="4894580"/>
                  </a:lnTo>
                  <a:lnTo>
                    <a:pt x="7743362" y="4891797"/>
                  </a:lnTo>
                  <a:close/>
                  <a:moveTo>
                    <a:pt x="6473362" y="4556882"/>
                  </a:moveTo>
                  <a:lnTo>
                    <a:pt x="6473362" y="4878400"/>
                  </a:lnTo>
                  <a:lnTo>
                    <a:pt x="6572249" y="4887357"/>
                  </a:lnTo>
                  <a:lnTo>
                    <a:pt x="6727362" y="4896832"/>
                  </a:lnTo>
                  <a:lnTo>
                    <a:pt x="6727362" y="4573082"/>
                  </a:lnTo>
                  <a:close/>
                  <a:moveTo>
                    <a:pt x="8251362" y="4507443"/>
                  </a:moveTo>
                  <a:lnTo>
                    <a:pt x="8251030" y="4507506"/>
                  </a:lnTo>
                  <a:cubicBezTo>
                    <a:pt x="8176616" y="4520114"/>
                    <a:pt x="8102202" y="4531146"/>
                    <a:pt x="8027788" y="4540696"/>
                  </a:cubicBezTo>
                  <a:lnTo>
                    <a:pt x="7997362" y="4544008"/>
                  </a:lnTo>
                  <a:lnTo>
                    <a:pt x="7997362" y="4866649"/>
                  </a:lnTo>
                  <a:lnTo>
                    <a:pt x="8000999" y="4866289"/>
                  </a:lnTo>
                  <a:lnTo>
                    <a:pt x="8251362" y="4828845"/>
                  </a:lnTo>
                  <a:close/>
                  <a:moveTo>
                    <a:pt x="5965362" y="4500915"/>
                  </a:moveTo>
                  <a:lnTo>
                    <a:pt x="5965362" y="4820885"/>
                  </a:lnTo>
                  <a:lnTo>
                    <a:pt x="6219362" y="4852989"/>
                  </a:lnTo>
                  <a:lnTo>
                    <a:pt x="6219362" y="4529966"/>
                  </a:lnTo>
                  <a:lnTo>
                    <a:pt x="6018608" y="4508407"/>
                  </a:lnTo>
                  <a:close/>
                  <a:moveTo>
                    <a:pt x="5457362" y="4426788"/>
                  </a:moveTo>
                  <a:lnTo>
                    <a:pt x="5457362" y="4747997"/>
                  </a:lnTo>
                  <a:lnTo>
                    <a:pt x="5711362" y="4788661"/>
                  </a:lnTo>
                  <a:lnTo>
                    <a:pt x="5711362" y="4465174"/>
                  </a:lnTo>
                  <a:lnTo>
                    <a:pt x="5572124" y="4445581"/>
                  </a:lnTo>
                  <a:close/>
                  <a:moveTo>
                    <a:pt x="8759362" y="4394639"/>
                  </a:moveTo>
                  <a:lnTo>
                    <a:pt x="8697515" y="4412173"/>
                  </a:lnTo>
                  <a:lnTo>
                    <a:pt x="8505362" y="4457520"/>
                  </a:lnTo>
                  <a:lnTo>
                    <a:pt x="8505362" y="4778883"/>
                  </a:lnTo>
                  <a:lnTo>
                    <a:pt x="8572499" y="4765165"/>
                  </a:lnTo>
                  <a:lnTo>
                    <a:pt x="8759362" y="4715962"/>
                  </a:lnTo>
                  <a:close/>
                  <a:moveTo>
                    <a:pt x="4949362" y="4341353"/>
                  </a:moveTo>
                  <a:lnTo>
                    <a:pt x="4949362" y="4663399"/>
                  </a:lnTo>
                  <a:lnTo>
                    <a:pt x="5143499" y="4697750"/>
                  </a:lnTo>
                  <a:lnTo>
                    <a:pt x="5203362" y="4707334"/>
                  </a:lnTo>
                  <a:lnTo>
                    <a:pt x="5203362" y="4385194"/>
                  </a:lnTo>
                  <a:lnTo>
                    <a:pt x="5125640" y="4372467"/>
                  </a:lnTo>
                  <a:close/>
                  <a:moveTo>
                    <a:pt x="0" y="4274407"/>
                  </a:moveTo>
                  <a:lnTo>
                    <a:pt x="0" y="4596626"/>
                  </a:lnTo>
                  <a:lnTo>
                    <a:pt x="0" y="4596626"/>
                  </a:lnTo>
                  <a:lnTo>
                    <a:pt x="0" y="4274407"/>
                  </a:lnTo>
                  <a:close/>
                  <a:moveTo>
                    <a:pt x="4441361" y="4251098"/>
                  </a:moveTo>
                  <a:lnTo>
                    <a:pt x="4441361" y="4573509"/>
                  </a:lnTo>
                  <a:lnTo>
                    <a:pt x="4571999" y="4596625"/>
                  </a:lnTo>
                  <a:lnTo>
                    <a:pt x="4695362" y="4618454"/>
                  </a:lnTo>
                  <a:lnTo>
                    <a:pt x="4695362" y="4296519"/>
                  </a:lnTo>
                  <a:lnTo>
                    <a:pt x="4679155" y="4293658"/>
                  </a:lnTo>
                  <a:close/>
                  <a:moveTo>
                    <a:pt x="3933363" y="4162517"/>
                  </a:moveTo>
                  <a:lnTo>
                    <a:pt x="3933363" y="4484753"/>
                  </a:lnTo>
                  <a:lnTo>
                    <a:pt x="4000501" y="4495501"/>
                  </a:lnTo>
                  <a:lnTo>
                    <a:pt x="4187363" y="4528565"/>
                  </a:lnTo>
                  <a:lnTo>
                    <a:pt x="4187363" y="4205992"/>
                  </a:lnTo>
                  <a:close/>
                  <a:moveTo>
                    <a:pt x="631362" y="4093866"/>
                  </a:moveTo>
                  <a:lnTo>
                    <a:pt x="500062" y="4123049"/>
                  </a:lnTo>
                  <a:lnTo>
                    <a:pt x="377362" y="4156767"/>
                  </a:lnTo>
                  <a:lnTo>
                    <a:pt x="377362" y="4479204"/>
                  </a:lnTo>
                  <a:lnTo>
                    <a:pt x="571500" y="4428085"/>
                  </a:lnTo>
                  <a:lnTo>
                    <a:pt x="631362" y="4415854"/>
                  </a:lnTo>
                  <a:close/>
                  <a:moveTo>
                    <a:pt x="3425363" y="4082101"/>
                  </a:moveTo>
                  <a:lnTo>
                    <a:pt x="3425363" y="4403549"/>
                  </a:lnTo>
                  <a:lnTo>
                    <a:pt x="3429001" y="4404009"/>
                  </a:lnTo>
                  <a:lnTo>
                    <a:pt x="3679363" y="4444090"/>
                  </a:lnTo>
                  <a:lnTo>
                    <a:pt x="3679363" y="4120978"/>
                  </a:lnTo>
                  <a:close/>
                  <a:moveTo>
                    <a:pt x="2917363" y="4016336"/>
                  </a:moveTo>
                  <a:lnTo>
                    <a:pt x="2917363" y="4339343"/>
                  </a:lnTo>
                  <a:lnTo>
                    <a:pt x="3171363" y="4371446"/>
                  </a:lnTo>
                  <a:lnTo>
                    <a:pt x="3171363" y="4048002"/>
                  </a:lnTo>
                  <a:close/>
                  <a:moveTo>
                    <a:pt x="1139363" y="4006564"/>
                  </a:moveTo>
                  <a:lnTo>
                    <a:pt x="1000125" y="4024231"/>
                  </a:lnTo>
                  <a:lnTo>
                    <a:pt x="885362" y="4044081"/>
                  </a:lnTo>
                  <a:lnTo>
                    <a:pt x="885362" y="4365495"/>
                  </a:lnTo>
                  <a:lnTo>
                    <a:pt x="1139363" y="4327506"/>
                  </a:lnTo>
                  <a:close/>
                  <a:moveTo>
                    <a:pt x="2409362" y="3973546"/>
                  </a:moveTo>
                  <a:lnTo>
                    <a:pt x="2409362" y="4295974"/>
                  </a:lnTo>
                  <a:lnTo>
                    <a:pt x="2571750" y="4305894"/>
                  </a:lnTo>
                  <a:lnTo>
                    <a:pt x="2663362" y="4314192"/>
                  </a:lnTo>
                  <a:lnTo>
                    <a:pt x="2663362" y="3993559"/>
                  </a:lnTo>
                  <a:lnTo>
                    <a:pt x="2446735" y="3974930"/>
                  </a:lnTo>
                  <a:close/>
                  <a:moveTo>
                    <a:pt x="1647363" y="3964961"/>
                  </a:moveTo>
                  <a:lnTo>
                    <a:pt x="1500188" y="3971495"/>
                  </a:lnTo>
                  <a:lnTo>
                    <a:pt x="1393363" y="3980472"/>
                  </a:lnTo>
                  <a:lnTo>
                    <a:pt x="1393363" y="4302175"/>
                  </a:lnTo>
                  <a:lnTo>
                    <a:pt x="1428750" y="4298671"/>
                  </a:lnTo>
                  <a:lnTo>
                    <a:pt x="1647363" y="4287159"/>
                  </a:lnTo>
                  <a:close/>
                  <a:moveTo>
                    <a:pt x="2000251" y="3958395"/>
                  </a:moveTo>
                  <a:lnTo>
                    <a:pt x="1901363" y="3959186"/>
                  </a:lnTo>
                  <a:lnTo>
                    <a:pt x="1901363" y="4281656"/>
                  </a:lnTo>
                  <a:lnTo>
                    <a:pt x="2000251" y="4280614"/>
                  </a:lnTo>
                  <a:lnTo>
                    <a:pt x="2155363" y="4284862"/>
                  </a:lnTo>
                  <a:lnTo>
                    <a:pt x="2155363" y="3964140"/>
                  </a:lnTo>
                  <a:close/>
                  <a:moveTo>
                    <a:pt x="6981362" y="779875"/>
                  </a:moveTo>
                  <a:lnTo>
                    <a:pt x="6981362" y="1102544"/>
                  </a:lnTo>
                  <a:lnTo>
                    <a:pt x="7143749" y="1106991"/>
                  </a:lnTo>
                  <a:lnTo>
                    <a:pt x="7235362" y="1106026"/>
                  </a:lnTo>
                  <a:lnTo>
                    <a:pt x="7235362" y="782385"/>
                  </a:lnTo>
                  <a:close/>
                  <a:moveTo>
                    <a:pt x="7743362" y="763736"/>
                  </a:moveTo>
                  <a:lnTo>
                    <a:pt x="7581304" y="775344"/>
                  </a:lnTo>
                  <a:lnTo>
                    <a:pt x="7489362" y="778743"/>
                  </a:lnTo>
                  <a:lnTo>
                    <a:pt x="7489362" y="1100830"/>
                  </a:lnTo>
                  <a:lnTo>
                    <a:pt x="7715249" y="1088934"/>
                  </a:lnTo>
                  <a:lnTo>
                    <a:pt x="7743362" y="1086151"/>
                  </a:lnTo>
                  <a:close/>
                  <a:moveTo>
                    <a:pt x="6473362" y="751236"/>
                  </a:moveTo>
                  <a:lnTo>
                    <a:pt x="6473362" y="1072754"/>
                  </a:lnTo>
                  <a:lnTo>
                    <a:pt x="6572249" y="1081711"/>
                  </a:lnTo>
                  <a:lnTo>
                    <a:pt x="6727362" y="1091186"/>
                  </a:lnTo>
                  <a:lnTo>
                    <a:pt x="6727362" y="767436"/>
                  </a:lnTo>
                  <a:close/>
                  <a:moveTo>
                    <a:pt x="8251362" y="701797"/>
                  </a:moveTo>
                  <a:lnTo>
                    <a:pt x="8251030" y="701860"/>
                  </a:lnTo>
                  <a:cubicBezTo>
                    <a:pt x="8176616" y="714468"/>
                    <a:pt x="8102202" y="725500"/>
                    <a:pt x="8027788" y="735050"/>
                  </a:cubicBezTo>
                  <a:lnTo>
                    <a:pt x="7997362" y="738362"/>
                  </a:lnTo>
                  <a:lnTo>
                    <a:pt x="7997362" y="1061003"/>
                  </a:lnTo>
                  <a:lnTo>
                    <a:pt x="8000999" y="1060643"/>
                  </a:lnTo>
                  <a:lnTo>
                    <a:pt x="8251362" y="1023199"/>
                  </a:lnTo>
                  <a:close/>
                  <a:moveTo>
                    <a:pt x="5965362" y="695269"/>
                  </a:moveTo>
                  <a:lnTo>
                    <a:pt x="5965362" y="1015239"/>
                  </a:lnTo>
                  <a:lnTo>
                    <a:pt x="6219362" y="1047343"/>
                  </a:lnTo>
                  <a:lnTo>
                    <a:pt x="6219362" y="724320"/>
                  </a:lnTo>
                  <a:lnTo>
                    <a:pt x="6018608" y="702761"/>
                  </a:lnTo>
                  <a:close/>
                  <a:moveTo>
                    <a:pt x="5457362" y="621142"/>
                  </a:moveTo>
                  <a:lnTo>
                    <a:pt x="5457362" y="942351"/>
                  </a:lnTo>
                  <a:lnTo>
                    <a:pt x="5711362" y="983015"/>
                  </a:lnTo>
                  <a:lnTo>
                    <a:pt x="5711362" y="659528"/>
                  </a:lnTo>
                  <a:lnTo>
                    <a:pt x="5572124" y="639935"/>
                  </a:lnTo>
                  <a:close/>
                  <a:moveTo>
                    <a:pt x="8759362" y="588993"/>
                  </a:moveTo>
                  <a:lnTo>
                    <a:pt x="8697515" y="606527"/>
                  </a:lnTo>
                  <a:lnTo>
                    <a:pt x="8505362" y="651874"/>
                  </a:lnTo>
                  <a:lnTo>
                    <a:pt x="8505362" y="973237"/>
                  </a:lnTo>
                  <a:lnTo>
                    <a:pt x="8572499" y="959519"/>
                  </a:lnTo>
                  <a:lnTo>
                    <a:pt x="8759362" y="910316"/>
                  </a:lnTo>
                  <a:close/>
                  <a:moveTo>
                    <a:pt x="4949362" y="535707"/>
                  </a:moveTo>
                  <a:lnTo>
                    <a:pt x="4949362" y="857753"/>
                  </a:lnTo>
                  <a:lnTo>
                    <a:pt x="5143499" y="892104"/>
                  </a:lnTo>
                  <a:lnTo>
                    <a:pt x="5203362" y="901688"/>
                  </a:lnTo>
                  <a:lnTo>
                    <a:pt x="5203362" y="579548"/>
                  </a:lnTo>
                  <a:lnTo>
                    <a:pt x="5125640" y="566821"/>
                  </a:lnTo>
                  <a:close/>
                  <a:moveTo>
                    <a:pt x="4441361" y="445452"/>
                  </a:moveTo>
                  <a:lnTo>
                    <a:pt x="4441361" y="767863"/>
                  </a:lnTo>
                  <a:lnTo>
                    <a:pt x="4571999" y="790979"/>
                  </a:lnTo>
                  <a:lnTo>
                    <a:pt x="4695362" y="812808"/>
                  </a:lnTo>
                  <a:lnTo>
                    <a:pt x="4695362" y="490873"/>
                  </a:lnTo>
                  <a:lnTo>
                    <a:pt x="4679155" y="488012"/>
                  </a:lnTo>
                  <a:close/>
                  <a:moveTo>
                    <a:pt x="3933364" y="356871"/>
                  </a:moveTo>
                  <a:lnTo>
                    <a:pt x="3933364" y="679107"/>
                  </a:lnTo>
                  <a:lnTo>
                    <a:pt x="4000501" y="689855"/>
                  </a:lnTo>
                  <a:lnTo>
                    <a:pt x="4187364" y="722919"/>
                  </a:lnTo>
                  <a:lnTo>
                    <a:pt x="4187364" y="400346"/>
                  </a:lnTo>
                  <a:close/>
                  <a:moveTo>
                    <a:pt x="631362" y="288220"/>
                  </a:moveTo>
                  <a:lnTo>
                    <a:pt x="500062" y="317403"/>
                  </a:lnTo>
                  <a:lnTo>
                    <a:pt x="377362" y="351121"/>
                  </a:lnTo>
                  <a:lnTo>
                    <a:pt x="377362" y="673558"/>
                  </a:lnTo>
                  <a:lnTo>
                    <a:pt x="571500" y="622439"/>
                  </a:lnTo>
                  <a:lnTo>
                    <a:pt x="631362" y="610208"/>
                  </a:lnTo>
                  <a:close/>
                  <a:moveTo>
                    <a:pt x="3425363" y="276455"/>
                  </a:moveTo>
                  <a:lnTo>
                    <a:pt x="3425363" y="597903"/>
                  </a:lnTo>
                  <a:lnTo>
                    <a:pt x="3429001" y="598363"/>
                  </a:lnTo>
                  <a:lnTo>
                    <a:pt x="3679364" y="638444"/>
                  </a:lnTo>
                  <a:lnTo>
                    <a:pt x="3679364" y="315332"/>
                  </a:lnTo>
                  <a:close/>
                  <a:moveTo>
                    <a:pt x="2917363" y="210690"/>
                  </a:moveTo>
                  <a:lnTo>
                    <a:pt x="2917363" y="533697"/>
                  </a:lnTo>
                  <a:lnTo>
                    <a:pt x="3171363" y="565800"/>
                  </a:lnTo>
                  <a:lnTo>
                    <a:pt x="3171363" y="242356"/>
                  </a:lnTo>
                  <a:close/>
                  <a:moveTo>
                    <a:pt x="1139363" y="200918"/>
                  </a:moveTo>
                  <a:lnTo>
                    <a:pt x="1000125" y="218585"/>
                  </a:lnTo>
                  <a:lnTo>
                    <a:pt x="885362" y="238435"/>
                  </a:lnTo>
                  <a:lnTo>
                    <a:pt x="885362" y="559849"/>
                  </a:lnTo>
                  <a:lnTo>
                    <a:pt x="1139363" y="521860"/>
                  </a:lnTo>
                  <a:close/>
                  <a:moveTo>
                    <a:pt x="2409363" y="167900"/>
                  </a:moveTo>
                  <a:lnTo>
                    <a:pt x="2409363" y="490328"/>
                  </a:lnTo>
                  <a:lnTo>
                    <a:pt x="2571751" y="500248"/>
                  </a:lnTo>
                  <a:lnTo>
                    <a:pt x="2663363" y="508546"/>
                  </a:lnTo>
                  <a:lnTo>
                    <a:pt x="2663363" y="187913"/>
                  </a:lnTo>
                  <a:lnTo>
                    <a:pt x="2446735" y="169284"/>
                  </a:lnTo>
                  <a:close/>
                  <a:moveTo>
                    <a:pt x="1647363" y="159315"/>
                  </a:moveTo>
                  <a:lnTo>
                    <a:pt x="1500188" y="165849"/>
                  </a:lnTo>
                  <a:lnTo>
                    <a:pt x="1393363" y="174826"/>
                  </a:lnTo>
                  <a:lnTo>
                    <a:pt x="1393363" y="496529"/>
                  </a:lnTo>
                  <a:lnTo>
                    <a:pt x="1428750" y="493025"/>
                  </a:lnTo>
                  <a:lnTo>
                    <a:pt x="1647363" y="481513"/>
                  </a:lnTo>
                  <a:close/>
                  <a:moveTo>
                    <a:pt x="2000251" y="152749"/>
                  </a:moveTo>
                  <a:lnTo>
                    <a:pt x="1901363" y="153540"/>
                  </a:lnTo>
                  <a:lnTo>
                    <a:pt x="1901363" y="476010"/>
                  </a:lnTo>
                  <a:lnTo>
                    <a:pt x="2000251" y="474968"/>
                  </a:lnTo>
                  <a:lnTo>
                    <a:pt x="2155363" y="479216"/>
                  </a:lnTo>
                  <a:lnTo>
                    <a:pt x="2155363" y="158494"/>
                  </a:lnTo>
                  <a:close/>
                  <a:moveTo>
                    <a:pt x="2000250" y="312"/>
                  </a:moveTo>
                  <a:cubicBezTo>
                    <a:pt x="4381500" y="22048"/>
                    <a:pt x="6762750" y="1172399"/>
                    <a:pt x="9144000" y="316324"/>
                  </a:cubicBezTo>
                  <a:lnTo>
                    <a:pt x="9144000" y="468761"/>
                  </a:lnTo>
                  <a:lnTo>
                    <a:pt x="9013363" y="512342"/>
                  </a:lnTo>
                  <a:lnTo>
                    <a:pt x="9013363" y="833634"/>
                  </a:lnTo>
                  <a:lnTo>
                    <a:pt x="9144000" y="790980"/>
                  </a:lnTo>
                  <a:lnTo>
                    <a:pt x="9144000" y="4274407"/>
                  </a:lnTo>
                  <a:lnTo>
                    <a:pt x="9013363" y="4317988"/>
                  </a:lnTo>
                  <a:lnTo>
                    <a:pt x="9013363" y="4639280"/>
                  </a:lnTo>
                  <a:lnTo>
                    <a:pt x="9144000" y="4596626"/>
                  </a:lnTo>
                  <a:lnTo>
                    <a:pt x="9144000" y="4796916"/>
                  </a:lnTo>
                  <a:cubicBezTo>
                    <a:pt x="6096000" y="5892693"/>
                    <a:pt x="3048000" y="3701140"/>
                    <a:pt x="0" y="4796916"/>
                  </a:cubicBezTo>
                  <a:lnTo>
                    <a:pt x="0" y="4596626"/>
                  </a:lnTo>
                  <a:lnTo>
                    <a:pt x="123362" y="4556348"/>
                  </a:lnTo>
                  <a:lnTo>
                    <a:pt x="123362" y="4233629"/>
                  </a:lnTo>
                  <a:lnTo>
                    <a:pt x="0" y="4274407"/>
                  </a:lnTo>
                  <a:lnTo>
                    <a:pt x="0" y="790980"/>
                  </a:lnTo>
                  <a:lnTo>
                    <a:pt x="123362" y="750702"/>
                  </a:lnTo>
                  <a:lnTo>
                    <a:pt x="123362" y="427983"/>
                  </a:lnTo>
                  <a:lnTo>
                    <a:pt x="0" y="468761"/>
                  </a:lnTo>
                  <a:lnTo>
                    <a:pt x="0" y="316324"/>
                  </a:lnTo>
                  <a:cubicBezTo>
                    <a:pt x="666750" y="76623"/>
                    <a:pt x="1333500" y="-5774"/>
                    <a:pt x="2000250" y="312"/>
                  </a:cubicBezTo>
                  <a:close/>
                </a:path>
              </a:pathLst>
            </a:custGeom>
            <a:solidFill>
              <a:srgbClr val="cebbb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185" name="任意多边形 21"/>
            <p:cNvSpPr/>
            <p:nvPr/>
          </p:nvSpPr>
          <p:spPr>
            <a:xfrm flipH="1" rot="540000">
              <a:off x="8030880" y="6222960"/>
              <a:ext cx="3558240" cy="7537320"/>
            </a:xfrm>
            <a:custGeom>
              <a:avLst/>
              <a:gdLst/>
              <a:ahLst/>
              <a:rect l="l" t="t" r="r" b="b"/>
              <a:pathLst>
                <a:path w="3574494" h="7542528">
                  <a:moveTo>
                    <a:pt x="3464987" y="7319471"/>
                  </a:moveTo>
                  <a:cubicBezTo>
                    <a:pt x="3480333" y="7319471"/>
                    <a:pt x="3492773" y="7331554"/>
                    <a:pt x="3492773" y="7346459"/>
                  </a:cubicBezTo>
                  <a:lnTo>
                    <a:pt x="3492773" y="7454408"/>
                  </a:lnTo>
                  <a:cubicBezTo>
                    <a:pt x="3492773" y="7469313"/>
                    <a:pt x="3480333" y="7481396"/>
                    <a:pt x="3464987" y="7481396"/>
                  </a:cubicBezTo>
                  <a:lnTo>
                    <a:pt x="3353847" y="7481396"/>
                  </a:lnTo>
                  <a:cubicBezTo>
                    <a:pt x="3338501" y="7481396"/>
                    <a:pt x="3326061" y="7469313"/>
                    <a:pt x="3326061" y="7454408"/>
                  </a:cubicBezTo>
                  <a:lnTo>
                    <a:pt x="3326061" y="7346459"/>
                  </a:lnTo>
                  <a:cubicBezTo>
                    <a:pt x="3326061" y="7331554"/>
                    <a:pt x="3338501" y="7319471"/>
                    <a:pt x="3353847" y="7319471"/>
                  </a:cubicBezTo>
                  <a:close/>
                  <a:moveTo>
                    <a:pt x="220647" y="6650815"/>
                  </a:moveTo>
                  <a:cubicBezTo>
                    <a:pt x="235993" y="6650815"/>
                    <a:pt x="248433" y="6662898"/>
                    <a:pt x="248433" y="6677803"/>
                  </a:cubicBezTo>
                  <a:lnTo>
                    <a:pt x="248433" y="6785752"/>
                  </a:lnTo>
                  <a:cubicBezTo>
                    <a:pt x="248433" y="6800657"/>
                    <a:pt x="235993" y="6812740"/>
                    <a:pt x="220647" y="6812740"/>
                  </a:cubicBezTo>
                  <a:lnTo>
                    <a:pt x="109507" y="6812740"/>
                  </a:lnTo>
                  <a:cubicBezTo>
                    <a:pt x="94162" y="6812740"/>
                    <a:pt x="81722" y="6800657"/>
                    <a:pt x="81721" y="6785752"/>
                  </a:cubicBezTo>
                  <a:lnTo>
                    <a:pt x="81721" y="6677803"/>
                  </a:lnTo>
                  <a:cubicBezTo>
                    <a:pt x="81721" y="6662898"/>
                    <a:pt x="94162" y="6650815"/>
                    <a:pt x="109507" y="6650815"/>
                  </a:cubicBezTo>
                  <a:close/>
                  <a:moveTo>
                    <a:pt x="3464987" y="6985143"/>
                  </a:moveTo>
                  <a:cubicBezTo>
                    <a:pt x="3480333" y="6985143"/>
                    <a:pt x="3492773" y="6997227"/>
                    <a:pt x="3492773" y="7012131"/>
                  </a:cubicBezTo>
                  <a:lnTo>
                    <a:pt x="3492773" y="7120080"/>
                  </a:lnTo>
                  <a:cubicBezTo>
                    <a:pt x="3492773" y="7134985"/>
                    <a:pt x="3480333" y="7147068"/>
                    <a:pt x="3464987" y="7147068"/>
                  </a:cubicBezTo>
                  <a:lnTo>
                    <a:pt x="3353847" y="7147068"/>
                  </a:lnTo>
                  <a:cubicBezTo>
                    <a:pt x="3338501" y="7147068"/>
                    <a:pt x="3326061" y="7134985"/>
                    <a:pt x="3326061" y="7120080"/>
                  </a:cubicBezTo>
                  <a:lnTo>
                    <a:pt x="3326061" y="7012131"/>
                  </a:lnTo>
                  <a:cubicBezTo>
                    <a:pt x="3326061" y="6997226"/>
                    <a:pt x="3338501" y="6985143"/>
                    <a:pt x="3353847" y="6985143"/>
                  </a:cubicBezTo>
                  <a:close/>
                  <a:moveTo>
                    <a:pt x="220647" y="6316487"/>
                  </a:moveTo>
                  <a:cubicBezTo>
                    <a:pt x="235993" y="6316487"/>
                    <a:pt x="248433" y="6328570"/>
                    <a:pt x="248433" y="6343475"/>
                  </a:cubicBezTo>
                  <a:lnTo>
                    <a:pt x="248433" y="6451424"/>
                  </a:lnTo>
                  <a:cubicBezTo>
                    <a:pt x="248433" y="6466329"/>
                    <a:pt x="235993" y="6478412"/>
                    <a:pt x="220647" y="6478412"/>
                  </a:cubicBezTo>
                  <a:lnTo>
                    <a:pt x="109507" y="6478412"/>
                  </a:lnTo>
                  <a:cubicBezTo>
                    <a:pt x="94161" y="6478412"/>
                    <a:pt x="81721" y="6466329"/>
                    <a:pt x="81722" y="6451424"/>
                  </a:cubicBezTo>
                  <a:lnTo>
                    <a:pt x="81722" y="6343475"/>
                  </a:lnTo>
                  <a:cubicBezTo>
                    <a:pt x="81721" y="6328570"/>
                    <a:pt x="94162" y="6316487"/>
                    <a:pt x="109507" y="6316487"/>
                  </a:cubicBezTo>
                  <a:close/>
                  <a:moveTo>
                    <a:pt x="3464987" y="6650815"/>
                  </a:moveTo>
                  <a:cubicBezTo>
                    <a:pt x="3480333" y="6650815"/>
                    <a:pt x="3492773" y="6662898"/>
                    <a:pt x="3492772" y="6677803"/>
                  </a:cubicBezTo>
                  <a:lnTo>
                    <a:pt x="3492773" y="6785752"/>
                  </a:lnTo>
                  <a:cubicBezTo>
                    <a:pt x="3492772" y="6800657"/>
                    <a:pt x="3480333" y="6812740"/>
                    <a:pt x="3464987" y="6812740"/>
                  </a:cubicBezTo>
                  <a:lnTo>
                    <a:pt x="3353847" y="6812740"/>
                  </a:lnTo>
                  <a:cubicBezTo>
                    <a:pt x="3338501" y="6812740"/>
                    <a:pt x="3326061" y="6800657"/>
                    <a:pt x="3326061" y="6785752"/>
                  </a:cubicBezTo>
                  <a:lnTo>
                    <a:pt x="3326061" y="6677803"/>
                  </a:lnTo>
                  <a:cubicBezTo>
                    <a:pt x="3326061" y="6662898"/>
                    <a:pt x="3338501" y="6650815"/>
                    <a:pt x="3353847" y="6650815"/>
                  </a:cubicBezTo>
                  <a:close/>
                  <a:moveTo>
                    <a:pt x="220647" y="5982159"/>
                  </a:moveTo>
                  <a:cubicBezTo>
                    <a:pt x="235993" y="5982159"/>
                    <a:pt x="248433" y="5994242"/>
                    <a:pt x="248433" y="6009147"/>
                  </a:cubicBezTo>
                  <a:lnTo>
                    <a:pt x="248433" y="6117096"/>
                  </a:lnTo>
                  <a:cubicBezTo>
                    <a:pt x="248433" y="6132001"/>
                    <a:pt x="235993" y="6144084"/>
                    <a:pt x="220647" y="6144084"/>
                  </a:cubicBezTo>
                  <a:lnTo>
                    <a:pt x="109507" y="6144084"/>
                  </a:lnTo>
                  <a:cubicBezTo>
                    <a:pt x="94161" y="6144084"/>
                    <a:pt x="81721" y="6132001"/>
                    <a:pt x="81722" y="6117096"/>
                  </a:cubicBezTo>
                  <a:lnTo>
                    <a:pt x="81722" y="6009147"/>
                  </a:lnTo>
                  <a:cubicBezTo>
                    <a:pt x="81722" y="5994242"/>
                    <a:pt x="94161" y="5982159"/>
                    <a:pt x="109507" y="5982159"/>
                  </a:cubicBezTo>
                  <a:close/>
                  <a:moveTo>
                    <a:pt x="3464987" y="6316487"/>
                  </a:moveTo>
                  <a:cubicBezTo>
                    <a:pt x="3480333" y="6316487"/>
                    <a:pt x="3492773" y="6328570"/>
                    <a:pt x="3492772" y="6343475"/>
                  </a:cubicBezTo>
                  <a:lnTo>
                    <a:pt x="3492772" y="6451424"/>
                  </a:lnTo>
                  <a:cubicBezTo>
                    <a:pt x="3492773" y="6466329"/>
                    <a:pt x="3480332" y="6478412"/>
                    <a:pt x="3464987" y="6478412"/>
                  </a:cubicBezTo>
                  <a:lnTo>
                    <a:pt x="3353847" y="6478412"/>
                  </a:lnTo>
                  <a:cubicBezTo>
                    <a:pt x="3338501" y="6478412"/>
                    <a:pt x="3326061" y="6466329"/>
                    <a:pt x="3326061" y="6451424"/>
                  </a:cubicBezTo>
                  <a:lnTo>
                    <a:pt x="3326061" y="6343475"/>
                  </a:lnTo>
                  <a:cubicBezTo>
                    <a:pt x="3326061" y="6328570"/>
                    <a:pt x="3338501" y="6316487"/>
                    <a:pt x="3353847" y="6316487"/>
                  </a:cubicBezTo>
                  <a:close/>
                  <a:moveTo>
                    <a:pt x="220647" y="5647831"/>
                  </a:moveTo>
                  <a:cubicBezTo>
                    <a:pt x="235993" y="5647831"/>
                    <a:pt x="248433" y="5659914"/>
                    <a:pt x="248433" y="5674819"/>
                  </a:cubicBezTo>
                  <a:lnTo>
                    <a:pt x="248433" y="5782768"/>
                  </a:lnTo>
                  <a:cubicBezTo>
                    <a:pt x="248433" y="5797673"/>
                    <a:pt x="235993" y="5809756"/>
                    <a:pt x="220648" y="5809756"/>
                  </a:cubicBezTo>
                  <a:lnTo>
                    <a:pt x="109507" y="5809756"/>
                  </a:lnTo>
                  <a:cubicBezTo>
                    <a:pt x="94162" y="5809756"/>
                    <a:pt x="81721" y="5797673"/>
                    <a:pt x="81722" y="5782768"/>
                  </a:cubicBezTo>
                  <a:lnTo>
                    <a:pt x="81721" y="5674819"/>
                  </a:lnTo>
                  <a:cubicBezTo>
                    <a:pt x="81722" y="5659914"/>
                    <a:pt x="94161" y="5647831"/>
                    <a:pt x="109507" y="5647831"/>
                  </a:cubicBezTo>
                  <a:close/>
                  <a:moveTo>
                    <a:pt x="3464987" y="5982159"/>
                  </a:moveTo>
                  <a:cubicBezTo>
                    <a:pt x="3480333" y="5982159"/>
                    <a:pt x="3492773" y="5994242"/>
                    <a:pt x="3492773" y="6009147"/>
                  </a:cubicBezTo>
                  <a:lnTo>
                    <a:pt x="3492772" y="6117096"/>
                  </a:lnTo>
                  <a:cubicBezTo>
                    <a:pt x="3492773" y="6132001"/>
                    <a:pt x="3480332" y="6144084"/>
                    <a:pt x="3464987" y="6144084"/>
                  </a:cubicBezTo>
                  <a:lnTo>
                    <a:pt x="3353847" y="6144084"/>
                  </a:lnTo>
                  <a:cubicBezTo>
                    <a:pt x="3338501" y="6144084"/>
                    <a:pt x="3326061" y="6132001"/>
                    <a:pt x="3326061" y="6117096"/>
                  </a:cubicBezTo>
                  <a:lnTo>
                    <a:pt x="3326061" y="6009147"/>
                  </a:lnTo>
                  <a:cubicBezTo>
                    <a:pt x="3326061" y="5994242"/>
                    <a:pt x="3338501" y="5982159"/>
                    <a:pt x="3353847" y="5982159"/>
                  </a:cubicBezTo>
                  <a:close/>
                  <a:moveTo>
                    <a:pt x="220647" y="5313503"/>
                  </a:moveTo>
                  <a:cubicBezTo>
                    <a:pt x="235993" y="5313504"/>
                    <a:pt x="248433" y="5325586"/>
                    <a:pt x="248433" y="5340491"/>
                  </a:cubicBezTo>
                  <a:lnTo>
                    <a:pt x="248433" y="5448430"/>
                  </a:lnTo>
                  <a:cubicBezTo>
                    <a:pt x="248433" y="5463335"/>
                    <a:pt x="235993" y="5475418"/>
                    <a:pt x="220648" y="5475418"/>
                  </a:cubicBezTo>
                  <a:lnTo>
                    <a:pt x="109507" y="5475418"/>
                  </a:lnTo>
                  <a:cubicBezTo>
                    <a:pt x="94162" y="5475418"/>
                    <a:pt x="81721" y="5463335"/>
                    <a:pt x="81721" y="5448430"/>
                  </a:cubicBezTo>
                  <a:lnTo>
                    <a:pt x="81721" y="5340491"/>
                  </a:lnTo>
                  <a:cubicBezTo>
                    <a:pt x="81721" y="5325586"/>
                    <a:pt x="94161" y="5313503"/>
                    <a:pt x="109507" y="5313503"/>
                  </a:cubicBezTo>
                  <a:close/>
                  <a:moveTo>
                    <a:pt x="3464987" y="5647831"/>
                  </a:moveTo>
                  <a:cubicBezTo>
                    <a:pt x="3480332" y="5647831"/>
                    <a:pt x="3492772" y="5659914"/>
                    <a:pt x="3492773" y="5674819"/>
                  </a:cubicBezTo>
                  <a:lnTo>
                    <a:pt x="3492773" y="5782769"/>
                  </a:lnTo>
                  <a:cubicBezTo>
                    <a:pt x="3492773" y="5797673"/>
                    <a:pt x="3480333" y="5809756"/>
                    <a:pt x="3464987" y="5809756"/>
                  </a:cubicBezTo>
                  <a:lnTo>
                    <a:pt x="3353847" y="5809757"/>
                  </a:lnTo>
                  <a:cubicBezTo>
                    <a:pt x="3338501" y="5809756"/>
                    <a:pt x="3326061" y="5797673"/>
                    <a:pt x="3326061" y="5782768"/>
                  </a:cubicBezTo>
                  <a:lnTo>
                    <a:pt x="3326061" y="5674819"/>
                  </a:lnTo>
                  <a:cubicBezTo>
                    <a:pt x="3326061" y="5659914"/>
                    <a:pt x="3338501" y="5647831"/>
                    <a:pt x="3353847" y="5647831"/>
                  </a:cubicBezTo>
                  <a:close/>
                  <a:moveTo>
                    <a:pt x="220647" y="4979176"/>
                  </a:moveTo>
                  <a:cubicBezTo>
                    <a:pt x="235993" y="4979176"/>
                    <a:pt x="248433" y="4991259"/>
                    <a:pt x="248433" y="5006166"/>
                  </a:cubicBezTo>
                  <a:lnTo>
                    <a:pt x="248433" y="5114112"/>
                  </a:lnTo>
                  <a:cubicBezTo>
                    <a:pt x="248433" y="5129017"/>
                    <a:pt x="235993" y="5141100"/>
                    <a:pt x="220647" y="5141100"/>
                  </a:cubicBezTo>
                  <a:lnTo>
                    <a:pt x="109507" y="5141100"/>
                  </a:lnTo>
                  <a:cubicBezTo>
                    <a:pt x="94162" y="5141100"/>
                    <a:pt x="81721" y="5129017"/>
                    <a:pt x="81721" y="5114112"/>
                  </a:cubicBezTo>
                  <a:lnTo>
                    <a:pt x="81721" y="5006166"/>
                  </a:lnTo>
                  <a:cubicBezTo>
                    <a:pt x="81721" y="4991259"/>
                    <a:pt x="94162" y="4979176"/>
                    <a:pt x="109507" y="4979176"/>
                  </a:cubicBezTo>
                  <a:close/>
                  <a:moveTo>
                    <a:pt x="3464987" y="5313503"/>
                  </a:moveTo>
                  <a:cubicBezTo>
                    <a:pt x="3480333" y="5313503"/>
                    <a:pt x="3492773" y="5325586"/>
                    <a:pt x="3492773" y="5340491"/>
                  </a:cubicBezTo>
                  <a:lnTo>
                    <a:pt x="3492773" y="5448430"/>
                  </a:lnTo>
                  <a:cubicBezTo>
                    <a:pt x="3492773" y="5463335"/>
                    <a:pt x="3480333" y="5475418"/>
                    <a:pt x="3464987" y="5475418"/>
                  </a:cubicBezTo>
                  <a:lnTo>
                    <a:pt x="3353847" y="5475418"/>
                  </a:lnTo>
                  <a:cubicBezTo>
                    <a:pt x="3338501" y="5475418"/>
                    <a:pt x="3326061" y="5463335"/>
                    <a:pt x="3326061" y="5448430"/>
                  </a:cubicBezTo>
                  <a:lnTo>
                    <a:pt x="3326061" y="5340491"/>
                  </a:lnTo>
                  <a:cubicBezTo>
                    <a:pt x="3326061" y="5325586"/>
                    <a:pt x="3338501" y="5313503"/>
                    <a:pt x="3353847" y="5313503"/>
                  </a:cubicBezTo>
                  <a:close/>
                  <a:moveTo>
                    <a:pt x="220648" y="4644850"/>
                  </a:moveTo>
                  <a:cubicBezTo>
                    <a:pt x="235993" y="4644850"/>
                    <a:pt x="248433" y="4656933"/>
                    <a:pt x="248433" y="4671838"/>
                  </a:cubicBezTo>
                  <a:lnTo>
                    <a:pt x="248433" y="4779784"/>
                  </a:lnTo>
                  <a:cubicBezTo>
                    <a:pt x="248433" y="4794689"/>
                    <a:pt x="235993" y="4806772"/>
                    <a:pt x="220647" y="4806772"/>
                  </a:cubicBezTo>
                  <a:lnTo>
                    <a:pt x="109507" y="4806772"/>
                  </a:lnTo>
                  <a:cubicBezTo>
                    <a:pt x="94162" y="4806772"/>
                    <a:pt x="81722" y="4794689"/>
                    <a:pt x="81721" y="4779784"/>
                  </a:cubicBezTo>
                  <a:lnTo>
                    <a:pt x="81721" y="4671838"/>
                  </a:lnTo>
                  <a:cubicBezTo>
                    <a:pt x="81721" y="4656933"/>
                    <a:pt x="94162" y="4644850"/>
                    <a:pt x="109507" y="4644850"/>
                  </a:cubicBezTo>
                  <a:close/>
                  <a:moveTo>
                    <a:pt x="3464987" y="4979176"/>
                  </a:moveTo>
                  <a:cubicBezTo>
                    <a:pt x="3480333" y="4979176"/>
                    <a:pt x="3492773" y="4991259"/>
                    <a:pt x="3492773" y="5006166"/>
                  </a:cubicBezTo>
                  <a:lnTo>
                    <a:pt x="3492773" y="5114112"/>
                  </a:lnTo>
                  <a:cubicBezTo>
                    <a:pt x="3492773" y="5129017"/>
                    <a:pt x="3480333" y="5141100"/>
                    <a:pt x="3464987" y="5141100"/>
                  </a:cubicBezTo>
                  <a:lnTo>
                    <a:pt x="3353847" y="5141100"/>
                  </a:lnTo>
                  <a:cubicBezTo>
                    <a:pt x="3338501" y="5141100"/>
                    <a:pt x="3326061" y="5129017"/>
                    <a:pt x="3326061" y="5114112"/>
                  </a:cubicBezTo>
                  <a:lnTo>
                    <a:pt x="3326061" y="5006166"/>
                  </a:lnTo>
                  <a:cubicBezTo>
                    <a:pt x="3326061" y="4991259"/>
                    <a:pt x="3338501" y="4979176"/>
                    <a:pt x="3353847" y="4979176"/>
                  </a:cubicBezTo>
                  <a:close/>
                  <a:moveTo>
                    <a:pt x="220647" y="4310521"/>
                  </a:moveTo>
                  <a:cubicBezTo>
                    <a:pt x="235993" y="4310521"/>
                    <a:pt x="248433" y="4322605"/>
                    <a:pt x="248433" y="4337510"/>
                  </a:cubicBezTo>
                  <a:lnTo>
                    <a:pt x="248433" y="4445456"/>
                  </a:lnTo>
                  <a:cubicBezTo>
                    <a:pt x="248433" y="4460361"/>
                    <a:pt x="235993" y="4472444"/>
                    <a:pt x="220647" y="4472444"/>
                  </a:cubicBezTo>
                  <a:lnTo>
                    <a:pt x="109507" y="4472444"/>
                  </a:lnTo>
                  <a:cubicBezTo>
                    <a:pt x="94161" y="4472444"/>
                    <a:pt x="81722" y="4460361"/>
                    <a:pt x="81721" y="4445456"/>
                  </a:cubicBezTo>
                  <a:lnTo>
                    <a:pt x="81722" y="4337510"/>
                  </a:lnTo>
                  <a:cubicBezTo>
                    <a:pt x="81721" y="4322605"/>
                    <a:pt x="94162" y="4310521"/>
                    <a:pt x="109507" y="4310521"/>
                  </a:cubicBezTo>
                  <a:close/>
                  <a:moveTo>
                    <a:pt x="3464987" y="4644850"/>
                  </a:moveTo>
                  <a:cubicBezTo>
                    <a:pt x="3480333" y="4644851"/>
                    <a:pt x="3492773" y="4656934"/>
                    <a:pt x="3492772" y="4671839"/>
                  </a:cubicBezTo>
                  <a:lnTo>
                    <a:pt x="3492773" y="4779785"/>
                  </a:lnTo>
                  <a:cubicBezTo>
                    <a:pt x="3492772" y="4794690"/>
                    <a:pt x="3480333" y="4806772"/>
                    <a:pt x="3464987" y="4806772"/>
                  </a:cubicBezTo>
                  <a:lnTo>
                    <a:pt x="3353847" y="4806772"/>
                  </a:lnTo>
                  <a:cubicBezTo>
                    <a:pt x="3338501" y="4806772"/>
                    <a:pt x="3326061" y="4794689"/>
                    <a:pt x="3326061" y="4779784"/>
                  </a:cubicBezTo>
                  <a:lnTo>
                    <a:pt x="3326061" y="4671838"/>
                  </a:lnTo>
                  <a:cubicBezTo>
                    <a:pt x="3326061" y="4656933"/>
                    <a:pt x="3338501" y="4644850"/>
                    <a:pt x="3353847" y="4644851"/>
                  </a:cubicBezTo>
                  <a:close/>
                  <a:moveTo>
                    <a:pt x="220647" y="3976194"/>
                  </a:moveTo>
                  <a:cubicBezTo>
                    <a:pt x="235993" y="3976194"/>
                    <a:pt x="248433" y="3988277"/>
                    <a:pt x="248433" y="4003182"/>
                  </a:cubicBezTo>
                  <a:lnTo>
                    <a:pt x="248433" y="4111128"/>
                  </a:lnTo>
                  <a:cubicBezTo>
                    <a:pt x="248433" y="4126033"/>
                    <a:pt x="235993" y="4138116"/>
                    <a:pt x="220647" y="4138116"/>
                  </a:cubicBezTo>
                  <a:lnTo>
                    <a:pt x="109507" y="4138116"/>
                  </a:lnTo>
                  <a:cubicBezTo>
                    <a:pt x="94162" y="4138117"/>
                    <a:pt x="81721" y="4126033"/>
                    <a:pt x="81722" y="4111128"/>
                  </a:cubicBezTo>
                  <a:lnTo>
                    <a:pt x="81721" y="4003182"/>
                  </a:lnTo>
                  <a:cubicBezTo>
                    <a:pt x="81722" y="3988277"/>
                    <a:pt x="94162" y="3976194"/>
                    <a:pt x="109507" y="3976194"/>
                  </a:cubicBezTo>
                  <a:close/>
                  <a:moveTo>
                    <a:pt x="3464987" y="4310522"/>
                  </a:moveTo>
                  <a:cubicBezTo>
                    <a:pt x="3480333" y="4310521"/>
                    <a:pt x="3492773" y="4322605"/>
                    <a:pt x="3492772" y="4337510"/>
                  </a:cubicBezTo>
                  <a:lnTo>
                    <a:pt x="3492772" y="4445456"/>
                  </a:lnTo>
                  <a:cubicBezTo>
                    <a:pt x="3492773" y="4460362"/>
                    <a:pt x="3480332" y="4472444"/>
                    <a:pt x="3464987" y="4472445"/>
                  </a:cubicBezTo>
                  <a:lnTo>
                    <a:pt x="3353847" y="4472444"/>
                  </a:lnTo>
                  <a:cubicBezTo>
                    <a:pt x="3338501" y="4472444"/>
                    <a:pt x="3326061" y="4460361"/>
                    <a:pt x="3326061" y="4445457"/>
                  </a:cubicBezTo>
                  <a:lnTo>
                    <a:pt x="3326061" y="4337511"/>
                  </a:lnTo>
                  <a:cubicBezTo>
                    <a:pt x="3326061" y="4322606"/>
                    <a:pt x="3338501" y="4310521"/>
                    <a:pt x="3353847" y="4310521"/>
                  </a:cubicBezTo>
                  <a:close/>
                  <a:moveTo>
                    <a:pt x="220647" y="3641868"/>
                  </a:moveTo>
                  <a:cubicBezTo>
                    <a:pt x="235993" y="3641868"/>
                    <a:pt x="248433" y="3653952"/>
                    <a:pt x="248433" y="3668856"/>
                  </a:cubicBezTo>
                  <a:lnTo>
                    <a:pt x="248433" y="3776800"/>
                  </a:lnTo>
                  <a:cubicBezTo>
                    <a:pt x="248433" y="3791705"/>
                    <a:pt x="235993" y="3803788"/>
                    <a:pt x="220647" y="3803789"/>
                  </a:cubicBezTo>
                  <a:lnTo>
                    <a:pt x="109507" y="3803788"/>
                  </a:lnTo>
                  <a:cubicBezTo>
                    <a:pt x="94161" y="3803789"/>
                    <a:pt x="81721" y="3791705"/>
                    <a:pt x="81721" y="3776800"/>
                  </a:cubicBezTo>
                  <a:lnTo>
                    <a:pt x="81721" y="3668855"/>
                  </a:lnTo>
                  <a:cubicBezTo>
                    <a:pt x="81722" y="3653952"/>
                    <a:pt x="94161" y="3641869"/>
                    <a:pt x="109507" y="3641868"/>
                  </a:cubicBezTo>
                  <a:close/>
                  <a:moveTo>
                    <a:pt x="3464987" y="3976194"/>
                  </a:moveTo>
                  <a:cubicBezTo>
                    <a:pt x="3480333" y="3976195"/>
                    <a:pt x="3492772" y="3988278"/>
                    <a:pt x="3492772" y="4003183"/>
                  </a:cubicBezTo>
                  <a:lnTo>
                    <a:pt x="3492772" y="4111129"/>
                  </a:lnTo>
                  <a:cubicBezTo>
                    <a:pt x="3492773" y="4126034"/>
                    <a:pt x="3480332" y="4138117"/>
                    <a:pt x="3464987" y="4138116"/>
                  </a:cubicBezTo>
                  <a:lnTo>
                    <a:pt x="3353847" y="4138116"/>
                  </a:lnTo>
                  <a:cubicBezTo>
                    <a:pt x="3338501" y="4138116"/>
                    <a:pt x="3326061" y="4126033"/>
                    <a:pt x="3326061" y="4111128"/>
                  </a:cubicBezTo>
                  <a:lnTo>
                    <a:pt x="3326061" y="4003182"/>
                  </a:lnTo>
                  <a:cubicBezTo>
                    <a:pt x="3326061" y="3988277"/>
                    <a:pt x="3338501" y="3976194"/>
                    <a:pt x="3353847" y="3976195"/>
                  </a:cubicBezTo>
                  <a:close/>
                  <a:moveTo>
                    <a:pt x="220647" y="3307540"/>
                  </a:moveTo>
                  <a:cubicBezTo>
                    <a:pt x="235993" y="3307540"/>
                    <a:pt x="248433" y="3319623"/>
                    <a:pt x="248433" y="3334528"/>
                  </a:cubicBezTo>
                  <a:lnTo>
                    <a:pt x="248433" y="3442472"/>
                  </a:lnTo>
                  <a:cubicBezTo>
                    <a:pt x="248433" y="3457377"/>
                    <a:pt x="235993" y="3469460"/>
                    <a:pt x="220647" y="3469460"/>
                  </a:cubicBezTo>
                  <a:lnTo>
                    <a:pt x="109508" y="3469461"/>
                  </a:lnTo>
                  <a:cubicBezTo>
                    <a:pt x="94162" y="3469460"/>
                    <a:pt x="81722" y="3457378"/>
                    <a:pt x="81721" y="3442472"/>
                  </a:cubicBezTo>
                  <a:lnTo>
                    <a:pt x="81722" y="3334527"/>
                  </a:lnTo>
                  <a:cubicBezTo>
                    <a:pt x="81721" y="3319622"/>
                    <a:pt x="94162" y="3307539"/>
                    <a:pt x="109508" y="3307540"/>
                  </a:cubicBezTo>
                  <a:close/>
                  <a:moveTo>
                    <a:pt x="3464987" y="3641869"/>
                  </a:moveTo>
                  <a:cubicBezTo>
                    <a:pt x="3480333" y="3641869"/>
                    <a:pt x="3492773" y="3653951"/>
                    <a:pt x="3492773" y="3668855"/>
                  </a:cubicBezTo>
                  <a:lnTo>
                    <a:pt x="3492773" y="3776801"/>
                  </a:lnTo>
                  <a:cubicBezTo>
                    <a:pt x="3492773" y="3791705"/>
                    <a:pt x="3480333" y="3803788"/>
                    <a:pt x="3464987" y="3803789"/>
                  </a:cubicBezTo>
                  <a:lnTo>
                    <a:pt x="3353847" y="3803788"/>
                  </a:lnTo>
                  <a:cubicBezTo>
                    <a:pt x="3338501" y="3803789"/>
                    <a:pt x="3326061" y="3791706"/>
                    <a:pt x="3326061" y="3776801"/>
                  </a:cubicBezTo>
                  <a:lnTo>
                    <a:pt x="3326061" y="3668856"/>
                  </a:lnTo>
                  <a:cubicBezTo>
                    <a:pt x="3326061" y="3653952"/>
                    <a:pt x="3338501" y="3641869"/>
                    <a:pt x="3353847" y="3641869"/>
                  </a:cubicBezTo>
                  <a:close/>
                  <a:moveTo>
                    <a:pt x="220647" y="2973212"/>
                  </a:moveTo>
                  <a:cubicBezTo>
                    <a:pt x="235993" y="2973212"/>
                    <a:pt x="248433" y="2985294"/>
                    <a:pt x="248433" y="3000200"/>
                  </a:cubicBezTo>
                  <a:lnTo>
                    <a:pt x="248433" y="3108144"/>
                  </a:lnTo>
                  <a:cubicBezTo>
                    <a:pt x="248433" y="3123049"/>
                    <a:pt x="235993" y="3135132"/>
                    <a:pt x="220647" y="3135133"/>
                  </a:cubicBezTo>
                  <a:lnTo>
                    <a:pt x="109507" y="3135133"/>
                  </a:lnTo>
                  <a:cubicBezTo>
                    <a:pt x="94161" y="3135133"/>
                    <a:pt x="81721" y="3123049"/>
                    <a:pt x="81722" y="3108145"/>
                  </a:cubicBezTo>
                  <a:lnTo>
                    <a:pt x="81721" y="3000199"/>
                  </a:lnTo>
                  <a:cubicBezTo>
                    <a:pt x="81722" y="2985295"/>
                    <a:pt x="94161" y="2973212"/>
                    <a:pt x="109507" y="2973212"/>
                  </a:cubicBezTo>
                  <a:close/>
                  <a:moveTo>
                    <a:pt x="3464987" y="3307539"/>
                  </a:moveTo>
                  <a:cubicBezTo>
                    <a:pt x="3480333" y="3307540"/>
                    <a:pt x="3492773" y="3319623"/>
                    <a:pt x="3492773" y="3334528"/>
                  </a:cubicBezTo>
                  <a:lnTo>
                    <a:pt x="3492773" y="3442473"/>
                  </a:lnTo>
                  <a:cubicBezTo>
                    <a:pt x="3492773" y="3457378"/>
                    <a:pt x="3480333" y="3469461"/>
                    <a:pt x="3464987" y="3469461"/>
                  </a:cubicBezTo>
                  <a:lnTo>
                    <a:pt x="3353847" y="3469460"/>
                  </a:lnTo>
                  <a:cubicBezTo>
                    <a:pt x="3338501" y="3469460"/>
                    <a:pt x="3326061" y="3457377"/>
                    <a:pt x="3326061" y="3442473"/>
                  </a:cubicBezTo>
                  <a:lnTo>
                    <a:pt x="3326061" y="3334527"/>
                  </a:lnTo>
                  <a:cubicBezTo>
                    <a:pt x="3326061" y="3319622"/>
                    <a:pt x="3338501" y="3307539"/>
                    <a:pt x="3353847" y="3307540"/>
                  </a:cubicBezTo>
                  <a:close/>
                  <a:moveTo>
                    <a:pt x="220647" y="2638883"/>
                  </a:moveTo>
                  <a:cubicBezTo>
                    <a:pt x="235993" y="2638884"/>
                    <a:pt x="248433" y="2650967"/>
                    <a:pt x="248433" y="2665872"/>
                  </a:cubicBezTo>
                  <a:lnTo>
                    <a:pt x="248433" y="2773816"/>
                  </a:lnTo>
                  <a:cubicBezTo>
                    <a:pt x="248433" y="2788721"/>
                    <a:pt x="235993" y="2800804"/>
                    <a:pt x="220647" y="2800804"/>
                  </a:cubicBezTo>
                  <a:lnTo>
                    <a:pt x="109507" y="2800805"/>
                  </a:lnTo>
                  <a:cubicBezTo>
                    <a:pt x="94162" y="2800805"/>
                    <a:pt x="81722" y="2788722"/>
                    <a:pt x="81721" y="2773816"/>
                  </a:cubicBezTo>
                  <a:lnTo>
                    <a:pt x="81722" y="2665872"/>
                  </a:lnTo>
                  <a:cubicBezTo>
                    <a:pt x="81721" y="2650967"/>
                    <a:pt x="94162" y="2638883"/>
                    <a:pt x="109507" y="2638884"/>
                  </a:cubicBezTo>
                  <a:close/>
                  <a:moveTo>
                    <a:pt x="3464987" y="2973212"/>
                  </a:moveTo>
                  <a:cubicBezTo>
                    <a:pt x="3480333" y="2973211"/>
                    <a:pt x="3492773" y="2985294"/>
                    <a:pt x="3492772" y="3000199"/>
                  </a:cubicBezTo>
                  <a:lnTo>
                    <a:pt x="3492773" y="3108144"/>
                  </a:lnTo>
                  <a:cubicBezTo>
                    <a:pt x="3492772" y="3123050"/>
                    <a:pt x="3480333" y="3135133"/>
                    <a:pt x="3464987" y="3135133"/>
                  </a:cubicBezTo>
                  <a:lnTo>
                    <a:pt x="3353847" y="3135132"/>
                  </a:lnTo>
                  <a:cubicBezTo>
                    <a:pt x="3338501" y="3135133"/>
                    <a:pt x="3326061" y="3123049"/>
                    <a:pt x="3326061" y="3108145"/>
                  </a:cubicBezTo>
                  <a:lnTo>
                    <a:pt x="3326061" y="3000200"/>
                  </a:lnTo>
                  <a:cubicBezTo>
                    <a:pt x="3326061" y="2985295"/>
                    <a:pt x="3338501" y="2973212"/>
                    <a:pt x="3353847" y="2973211"/>
                  </a:cubicBezTo>
                  <a:close/>
                  <a:moveTo>
                    <a:pt x="220647" y="2304556"/>
                  </a:moveTo>
                  <a:cubicBezTo>
                    <a:pt x="235993" y="2304556"/>
                    <a:pt x="248433" y="2316639"/>
                    <a:pt x="248433" y="2331544"/>
                  </a:cubicBezTo>
                  <a:lnTo>
                    <a:pt x="248433" y="2439488"/>
                  </a:lnTo>
                  <a:cubicBezTo>
                    <a:pt x="248434" y="2454393"/>
                    <a:pt x="235993" y="2466477"/>
                    <a:pt x="220647" y="2466476"/>
                  </a:cubicBezTo>
                  <a:lnTo>
                    <a:pt x="109507" y="2466476"/>
                  </a:lnTo>
                  <a:cubicBezTo>
                    <a:pt x="94162" y="2466476"/>
                    <a:pt x="81721" y="2454394"/>
                    <a:pt x="81722" y="2439488"/>
                  </a:cubicBezTo>
                  <a:lnTo>
                    <a:pt x="81721" y="2331544"/>
                  </a:lnTo>
                  <a:cubicBezTo>
                    <a:pt x="81722" y="2316638"/>
                    <a:pt x="94162" y="2304555"/>
                    <a:pt x="109507" y="2304555"/>
                  </a:cubicBezTo>
                  <a:close/>
                  <a:moveTo>
                    <a:pt x="3464987" y="2638883"/>
                  </a:moveTo>
                  <a:cubicBezTo>
                    <a:pt x="3480333" y="2638883"/>
                    <a:pt x="3492773" y="2650966"/>
                    <a:pt x="3492772" y="2665871"/>
                  </a:cubicBezTo>
                  <a:lnTo>
                    <a:pt x="3492773" y="2773817"/>
                  </a:lnTo>
                  <a:cubicBezTo>
                    <a:pt x="3492772" y="2788722"/>
                    <a:pt x="3480333" y="2800805"/>
                    <a:pt x="3464987" y="2800804"/>
                  </a:cubicBezTo>
                  <a:lnTo>
                    <a:pt x="3353847" y="2800804"/>
                  </a:lnTo>
                  <a:cubicBezTo>
                    <a:pt x="3338501" y="2800804"/>
                    <a:pt x="3326061" y="2788721"/>
                    <a:pt x="3326061" y="2773816"/>
                  </a:cubicBezTo>
                  <a:lnTo>
                    <a:pt x="3326061" y="2665871"/>
                  </a:lnTo>
                  <a:cubicBezTo>
                    <a:pt x="3326061" y="2650966"/>
                    <a:pt x="3338501" y="2638883"/>
                    <a:pt x="3353847" y="2638883"/>
                  </a:cubicBezTo>
                  <a:close/>
                  <a:moveTo>
                    <a:pt x="220648" y="1970227"/>
                  </a:moveTo>
                  <a:cubicBezTo>
                    <a:pt x="235993" y="1970227"/>
                    <a:pt x="248433" y="1982310"/>
                    <a:pt x="248433" y="1997216"/>
                  </a:cubicBezTo>
                  <a:lnTo>
                    <a:pt x="248433" y="2105160"/>
                  </a:lnTo>
                  <a:cubicBezTo>
                    <a:pt x="248433" y="2120066"/>
                    <a:pt x="235993" y="2132148"/>
                    <a:pt x="220648" y="2132149"/>
                  </a:cubicBezTo>
                  <a:lnTo>
                    <a:pt x="109507" y="2132149"/>
                  </a:lnTo>
                  <a:cubicBezTo>
                    <a:pt x="94161" y="2132149"/>
                    <a:pt x="81721" y="2120065"/>
                    <a:pt x="81721" y="2105160"/>
                  </a:cubicBezTo>
                  <a:lnTo>
                    <a:pt x="81721" y="1997215"/>
                  </a:lnTo>
                  <a:cubicBezTo>
                    <a:pt x="81721" y="1982310"/>
                    <a:pt x="94161" y="1970227"/>
                    <a:pt x="109507" y="1970227"/>
                  </a:cubicBezTo>
                  <a:close/>
                  <a:moveTo>
                    <a:pt x="3464987" y="2304556"/>
                  </a:moveTo>
                  <a:cubicBezTo>
                    <a:pt x="3480332" y="2304555"/>
                    <a:pt x="3492772" y="2316638"/>
                    <a:pt x="3492773" y="2331543"/>
                  </a:cubicBezTo>
                  <a:lnTo>
                    <a:pt x="3492772" y="2439488"/>
                  </a:lnTo>
                  <a:cubicBezTo>
                    <a:pt x="3492773" y="2454393"/>
                    <a:pt x="3480332" y="2466476"/>
                    <a:pt x="3464987" y="2466476"/>
                  </a:cubicBezTo>
                  <a:lnTo>
                    <a:pt x="3353847" y="2466476"/>
                  </a:lnTo>
                  <a:cubicBezTo>
                    <a:pt x="3338501" y="2466476"/>
                    <a:pt x="3326061" y="2454393"/>
                    <a:pt x="3326061" y="2439488"/>
                  </a:cubicBezTo>
                  <a:lnTo>
                    <a:pt x="3326061" y="2331544"/>
                  </a:lnTo>
                  <a:cubicBezTo>
                    <a:pt x="3326061" y="2316638"/>
                    <a:pt x="3338501" y="2304556"/>
                    <a:pt x="3353847" y="2304556"/>
                  </a:cubicBezTo>
                  <a:close/>
                  <a:moveTo>
                    <a:pt x="220647" y="1635898"/>
                  </a:moveTo>
                  <a:lnTo>
                    <a:pt x="220650" y="1635899"/>
                  </a:lnTo>
                  <a:lnTo>
                    <a:pt x="220647" y="1635899"/>
                  </a:lnTo>
                  <a:cubicBezTo>
                    <a:pt x="235993" y="1635899"/>
                    <a:pt x="248433" y="1647983"/>
                    <a:pt x="248433" y="1662887"/>
                  </a:cubicBezTo>
                  <a:lnTo>
                    <a:pt x="248434" y="1770835"/>
                  </a:lnTo>
                  <a:cubicBezTo>
                    <a:pt x="248433" y="1785740"/>
                    <a:pt x="235993" y="1797823"/>
                    <a:pt x="220648" y="1797824"/>
                  </a:cubicBezTo>
                  <a:lnTo>
                    <a:pt x="109507" y="1797824"/>
                  </a:lnTo>
                  <a:cubicBezTo>
                    <a:pt x="94161" y="1797823"/>
                    <a:pt x="81721" y="1785740"/>
                    <a:pt x="81721" y="1770835"/>
                  </a:cubicBezTo>
                  <a:lnTo>
                    <a:pt x="81722" y="1662888"/>
                  </a:lnTo>
                  <a:cubicBezTo>
                    <a:pt x="81721" y="1647982"/>
                    <a:pt x="94162" y="1635899"/>
                    <a:pt x="109507" y="1635899"/>
                  </a:cubicBezTo>
                  <a:lnTo>
                    <a:pt x="109505" y="1635899"/>
                  </a:lnTo>
                  <a:lnTo>
                    <a:pt x="109507" y="1635898"/>
                  </a:lnTo>
                  <a:close/>
                  <a:moveTo>
                    <a:pt x="3464987" y="1970227"/>
                  </a:moveTo>
                  <a:cubicBezTo>
                    <a:pt x="3480332" y="1970227"/>
                    <a:pt x="3492772" y="1982310"/>
                    <a:pt x="3492773" y="1997215"/>
                  </a:cubicBezTo>
                  <a:lnTo>
                    <a:pt x="3492772" y="2105160"/>
                  </a:lnTo>
                  <a:cubicBezTo>
                    <a:pt x="3492773" y="2120066"/>
                    <a:pt x="3480332" y="2132148"/>
                    <a:pt x="3464987" y="2132149"/>
                  </a:cubicBezTo>
                  <a:lnTo>
                    <a:pt x="3353847" y="2132148"/>
                  </a:lnTo>
                  <a:cubicBezTo>
                    <a:pt x="3338501" y="2132149"/>
                    <a:pt x="3326061" y="2120065"/>
                    <a:pt x="3326061" y="2105160"/>
                  </a:cubicBezTo>
                  <a:lnTo>
                    <a:pt x="3326061" y="1997215"/>
                  </a:lnTo>
                  <a:cubicBezTo>
                    <a:pt x="3326061" y="1982310"/>
                    <a:pt x="3338501" y="1970227"/>
                    <a:pt x="3353847" y="1970227"/>
                  </a:cubicBezTo>
                  <a:close/>
                  <a:moveTo>
                    <a:pt x="220647" y="1301569"/>
                  </a:moveTo>
                  <a:cubicBezTo>
                    <a:pt x="235993" y="1301569"/>
                    <a:pt x="248433" y="1313653"/>
                    <a:pt x="248433" y="1328558"/>
                  </a:cubicBezTo>
                  <a:lnTo>
                    <a:pt x="248433" y="1436507"/>
                  </a:lnTo>
                  <a:cubicBezTo>
                    <a:pt x="248433" y="1451412"/>
                    <a:pt x="235993" y="1463495"/>
                    <a:pt x="220647" y="1463495"/>
                  </a:cubicBezTo>
                  <a:lnTo>
                    <a:pt x="109507" y="1463495"/>
                  </a:lnTo>
                  <a:cubicBezTo>
                    <a:pt x="94162" y="1463495"/>
                    <a:pt x="81722" y="1451412"/>
                    <a:pt x="81721" y="1436507"/>
                  </a:cubicBezTo>
                  <a:lnTo>
                    <a:pt x="81721" y="1328558"/>
                  </a:lnTo>
                  <a:cubicBezTo>
                    <a:pt x="81721" y="1313653"/>
                    <a:pt x="94162" y="1301569"/>
                    <a:pt x="109508" y="1301569"/>
                  </a:cubicBezTo>
                  <a:close/>
                  <a:moveTo>
                    <a:pt x="3464987" y="1635899"/>
                  </a:moveTo>
                  <a:lnTo>
                    <a:pt x="3464990" y="1635899"/>
                  </a:lnTo>
                  <a:lnTo>
                    <a:pt x="3464987" y="1635899"/>
                  </a:lnTo>
                  <a:cubicBezTo>
                    <a:pt x="3480332" y="1635899"/>
                    <a:pt x="3492773" y="1647983"/>
                    <a:pt x="3492773" y="1662887"/>
                  </a:cubicBezTo>
                  <a:lnTo>
                    <a:pt x="3492772" y="1770835"/>
                  </a:lnTo>
                  <a:cubicBezTo>
                    <a:pt x="3492773" y="1785740"/>
                    <a:pt x="3480332" y="1797824"/>
                    <a:pt x="3464987" y="1797823"/>
                  </a:cubicBezTo>
                  <a:lnTo>
                    <a:pt x="3353847" y="1797823"/>
                  </a:lnTo>
                  <a:cubicBezTo>
                    <a:pt x="3338501" y="1797823"/>
                    <a:pt x="3326061" y="1785740"/>
                    <a:pt x="3326061" y="1770835"/>
                  </a:cubicBezTo>
                  <a:lnTo>
                    <a:pt x="3326061" y="1662888"/>
                  </a:lnTo>
                  <a:cubicBezTo>
                    <a:pt x="3326061" y="1647982"/>
                    <a:pt x="3338501" y="1635899"/>
                    <a:pt x="3353847" y="1635899"/>
                  </a:cubicBezTo>
                  <a:lnTo>
                    <a:pt x="3353845" y="1635899"/>
                  </a:lnTo>
                  <a:lnTo>
                    <a:pt x="3353847" y="1635898"/>
                  </a:lnTo>
                  <a:close/>
                  <a:moveTo>
                    <a:pt x="220647" y="967242"/>
                  </a:moveTo>
                  <a:cubicBezTo>
                    <a:pt x="235993" y="967242"/>
                    <a:pt x="248433" y="979326"/>
                    <a:pt x="248433" y="994230"/>
                  </a:cubicBezTo>
                  <a:lnTo>
                    <a:pt x="248433" y="1102181"/>
                  </a:lnTo>
                  <a:cubicBezTo>
                    <a:pt x="248433" y="1117085"/>
                    <a:pt x="235993" y="1129169"/>
                    <a:pt x="220647" y="1129169"/>
                  </a:cubicBezTo>
                  <a:lnTo>
                    <a:pt x="109507" y="1129169"/>
                  </a:lnTo>
                  <a:cubicBezTo>
                    <a:pt x="94162" y="1129169"/>
                    <a:pt x="81721" y="1117085"/>
                    <a:pt x="81722" y="1102182"/>
                  </a:cubicBezTo>
                  <a:lnTo>
                    <a:pt x="81722" y="994230"/>
                  </a:lnTo>
                  <a:cubicBezTo>
                    <a:pt x="81721" y="979325"/>
                    <a:pt x="94162" y="967242"/>
                    <a:pt x="109507" y="967242"/>
                  </a:cubicBezTo>
                  <a:close/>
                  <a:moveTo>
                    <a:pt x="3464987" y="1301569"/>
                  </a:moveTo>
                  <a:cubicBezTo>
                    <a:pt x="3480333" y="1301570"/>
                    <a:pt x="3492772" y="1313653"/>
                    <a:pt x="3492773" y="1328558"/>
                  </a:cubicBezTo>
                  <a:lnTo>
                    <a:pt x="3492773" y="1436508"/>
                  </a:lnTo>
                  <a:cubicBezTo>
                    <a:pt x="3492773" y="1451413"/>
                    <a:pt x="3480333" y="1463495"/>
                    <a:pt x="3464987" y="1463495"/>
                  </a:cubicBezTo>
                  <a:lnTo>
                    <a:pt x="3353847" y="1463495"/>
                  </a:lnTo>
                  <a:cubicBezTo>
                    <a:pt x="3338501" y="1463496"/>
                    <a:pt x="3326061" y="1451413"/>
                    <a:pt x="3326061" y="1436507"/>
                  </a:cubicBezTo>
                  <a:lnTo>
                    <a:pt x="3326061" y="1328558"/>
                  </a:lnTo>
                  <a:cubicBezTo>
                    <a:pt x="3326061" y="1313653"/>
                    <a:pt x="3338501" y="1301569"/>
                    <a:pt x="3353847" y="1301569"/>
                  </a:cubicBezTo>
                  <a:close/>
                  <a:moveTo>
                    <a:pt x="220647" y="632916"/>
                  </a:moveTo>
                  <a:cubicBezTo>
                    <a:pt x="235993" y="632916"/>
                    <a:pt x="248433" y="644999"/>
                    <a:pt x="248433" y="659903"/>
                  </a:cubicBezTo>
                  <a:lnTo>
                    <a:pt x="248433" y="767852"/>
                  </a:lnTo>
                  <a:cubicBezTo>
                    <a:pt x="248433" y="782756"/>
                    <a:pt x="235992" y="794841"/>
                    <a:pt x="220648" y="794841"/>
                  </a:cubicBezTo>
                  <a:lnTo>
                    <a:pt x="109507" y="794841"/>
                  </a:lnTo>
                  <a:cubicBezTo>
                    <a:pt x="94161" y="794841"/>
                    <a:pt x="81722" y="782756"/>
                    <a:pt x="81721" y="767852"/>
                  </a:cubicBezTo>
                  <a:lnTo>
                    <a:pt x="81721" y="659903"/>
                  </a:lnTo>
                  <a:cubicBezTo>
                    <a:pt x="81722" y="644999"/>
                    <a:pt x="94162" y="632916"/>
                    <a:pt x="109507" y="632916"/>
                  </a:cubicBezTo>
                  <a:close/>
                  <a:moveTo>
                    <a:pt x="3464987" y="967242"/>
                  </a:moveTo>
                  <a:cubicBezTo>
                    <a:pt x="3480332" y="967242"/>
                    <a:pt x="3492773" y="979325"/>
                    <a:pt x="3492773" y="994230"/>
                  </a:cubicBezTo>
                  <a:lnTo>
                    <a:pt x="3492772" y="1102181"/>
                  </a:lnTo>
                  <a:cubicBezTo>
                    <a:pt x="3492772" y="1117085"/>
                    <a:pt x="3480332" y="1129169"/>
                    <a:pt x="3464987" y="1129169"/>
                  </a:cubicBezTo>
                  <a:lnTo>
                    <a:pt x="3353847" y="1129169"/>
                  </a:lnTo>
                  <a:cubicBezTo>
                    <a:pt x="3338501" y="1129169"/>
                    <a:pt x="3326061" y="1117085"/>
                    <a:pt x="3326061" y="1102181"/>
                  </a:cubicBezTo>
                  <a:lnTo>
                    <a:pt x="3326061" y="994230"/>
                  </a:lnTo>
                  <a:cubicBezTo>
                    <a:pt x="3326061" y="979326"/>
                    <a:pt x="3338501" y="967242"/>
                    <a:pt x="3353847" y="967243"/>
                  </a:cubicBezTo>
                  <a:close/>
                  <a:moveTo>
                    <a:pt x="220647" y="298587"/>
                  </a:moveTo>
                  <a:cubicBezTo>
                    <a:pt x="235993" y="298587"/>
                    <a:pt x="248433" y="310670"/>
                    <a:pt x="248433" y="325575"/>
                  </a:cubicBezTo>
                  <a:lnTo>
                    <a:pt x="248433" y="433525"/>
                  </a:lnTo>
                  <a:cubicBezTo>
                    <a:pt x="248433" y="448429"/>
                    <a:pt x="235993" y="460512"/>
                    <a:pt x="220647" y="460512"/>
                  </a:cubicBezTo>
                  <a:lnTo>
                    <a:pt x="109507" y="460512"/>
                  </a:lnTo>
                  <a:cubicBezTo>
                    <a:pt x="94162" y="460512"/>
                    <a:pt x="81721" y="448429"/>
                    <a:pt x="81721" y="433525"/>
                  </a:cubicBezTo>
                  <a:lnTo>
                    <a:pt x="81722" y="325575"/>
                  </a:lnTo>
                  <a:cubicBezTo>
                    <a:pt x="81721" y="310670"/>
                    <a:pt x="94162" y="298587"/>
                    <a:pt x="109507" y="298587"/>
                  </a:cubicBezTo>
                  <a:close/>
                  <a:moveTo>
                    <a:pt x="3464987" y="632916"/>
                  </a:moveTo>
                  <a:cubicBezTo>
                    <a:pt x="3480332" y="632916"/>
                    <a:pt x="3492772" y="644999"/>
                    <a:pt x="3492772" y="659903"/>
                  </a:cubicBezTo>
                  <a:lnTo>
                    <a:pt x="3492772" y="767852"/>
                  </a:lnTo>
                  <a:cubicBezTo>
                    <a:pt x="3492772" y="782756"/>
                    <a:pt x="3480333" y="794841"/>
                    <a:pt x="3464987" y="794841"/>
                  </a:cubicBezTo>
                  <a:lnTo>
                    <a:pt x="3353847" y="794841"/>
                  </a:lnTo>
                  <a:cubicBezTo>
                    <a:pt x="3338501" y="794841"/>
                    <a:pt x="3326061" y="782756"/>
                    <a:pt x="3326061" y="767852"/>
                  </a:cubicBezTo>
                  <a:lnTo>
                    <a:pt x="3326061" y="659903"/>
                  </a:lnTo>
                  <a:cubicBezTo>
                    <a:pt x="3326061" y="644999"/>
                    <a:pt x="3338501" y="632916"/>
                    <a:pt x="3353847" y="632916"/>
                  </a:cubicBezTo>
                  <a:close/>
                  <a:moveTo>
                    <a:pt x="3574494" y="566144"/>
                  </a:moveTo>
                  <a:lnTo>
                    <a:pt x="248434" y="39348"/>
                  </a:lnTo>
                  <a:lnTo>
                    <a:pt x="248433" y="99196"/>
                  </a:lnTo>
                  <a:cubicBezTo>
                    <a:pt x="248433" y="114101"/>
                    <a:pt x="235992" y="126184"/>
                    <a:pt x="220648" y="126184"/>
                  </a:cubicBezTo>
                  <a:lnTo>
                    <a:pt x="109507" y="126184"/>
                  </a:lnTo>
                  <a:cubicBezTo>
                    <a:pt x="94161" y="126184"/>
                    <a:pt x="81721" y="114101"/>
                    <a:pt x="81721" y="99196"/>
                  </a:cubicBezTo>
                  <a:lnTo>
                    <a:pt x="81721" y="12943"/>
                  </a:lnTo>
                  <a:lnTo>
                    <a:pt x="0" y="0"/>
                  </a:lnTo>
                  <a:lnTo>
                    <a:pt x="0" y="1635899"/>
                  </a:lnTo>
                  <a:lnTo>
                    <a:pt x="0" y="5484943"/>
                  </a:lnTo>
                  <a:lnTo>
                    <a:pt x="0" y="6976384"/>
                  </a:lnTo>
                  <a:lnTo>
                    <a:pt x="94196" y="6991303"/>
                  </a:lnTo>
                  <a:lnTo>
                    <a:pt x="109507" y="6985143"/>
                  </a:lnTo>
                  <a:lnTo>
                    <a:pt x="220648" y="6985143"/>
                  </a:lnTo>
                  <a:cubicBezTo>
                    <a:pt x="235993" y="6985143"/>
                    <a:pt x="248433" y="6997226"/>
                    <a:pt x="248433" y="7012132"/>
                  </a:cubicBezTo>
                  <a:lnTo>
                    <a:pt x="248433" y="7015732"/>
                  </a:lnTo>
                  <a:lnTo>
                    <a:pt x="3574494" y="7542528"/>
                  </a:lnTo>
                  <a:lnTo>
                    <a:pt x="3574494" y="5484943"/>
                  </a:lnTo>
                  <a:lnTo>
                    <a:pt x="3574494" y="1635899"/>
                  </a:lnTo>
                  <a:close/>
                </a:path>
              </a:pathLst>
            </a:custGeom>
            <a:solidFill>
              <a:srgbClr val="ceb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186" name="KSO_Img3"/>
            <p:cNvSpPr/>
            <p:nvPr/>
          </p:nvSpPr>
          <p:spPr>
            <a:xfrm rot="540000">
              <a:off x="7979760" y="11346840"/>
              <a:ext cx="2860560" cy="2325960"/>
            </a:xfrm>
            <a:custGeom>
              <a:avLst/>
              <a:gdLst/>
              <a:ahLst/>
              <a:rect l="l" t="t" r="r" b="b"/>
              <a:pathLst>
                <a:path w="2873464" h="2327490">
                  <a:moveTo>
                    <a:pt x="0" y="0"/>
                  </a:moveTo>
                  <a:lnTo>
                    <a:pt x="2873464" y="0"/>
                  </a:lnTo>
                  <a:lnTo>
                    <a:pt x="2873464" y="1872378"/>
                  </a:lnTo>
                  <a:lnTo>
                    <a:pt x="0" y="2327490"/>
                  </a:ln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187" name="KSO_Img2"/>
            <p:cNvSpPr/>
            <p:nvPr/>
          </p:nvSpPr>
          <p:spPr>
            <a:xfrm rot="540000">
              <a:off x="8383320" y="8650800"/>
              <a:ext cx="2860560" cy="258588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188" name="KSO_Img1"/>
            <p:cNvSpPr/>
            <p:nvPr/>
          </p:nvSpPr>
          <p:spPr>
            <a:xfrm rot="540000">
              <a:off x="8792280" y="6309000"/>
              <a:ext cx="2860560" cy="2228760"/>
            </a:xfrm>
            <a:custGeom>
              <a:avLst/>
              <a:gdLst/>
              <a:ahLst/>
              <a:rect l="l" t="t" r="r" b="b"/>
              <a:pathLst>
                <a:path w="2873464" h="2230234">
                  <a:moveTo>
                    <a:pt x="0" y="455112"/>
                  </a:moveTo>
                  <a:lnTo>
                    <a:pt x="2873464" y="0"/>
                  </a:lnTo>
                  <a:lnTo>
                    <a:pt x="2873464" y="2230234"/>
                  </a:lnTo>
                  <a:lnTo>
                    <a:pt x="0" y="2230234"/>
                  </a:ln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</p:grpSp>
      <p:sp>
        <p:nvSpPr>
          <p:cNvPr id="189" name=""/>
          <p:cNvSpPr txBox="1"/>
          <p:nvPr/>
        </p:nvSpPr>
        <p:spPr>
          <a:xfrm>
            <a:off x="3968640" y="426960"/>
            <a:ext cx="364500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琥珀"/>
              </a:rPr>
              <a:t>文水旅游名胜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90" name=""/>
          <p:cNvSpPr/>
          <p:nvPr/>
        </p:nvSpPr>
        <p:spPr>
          <a:xfrm>
            <a:off x="10931400" y="6315120"/>
            <a:ext cx="1013040" cy="465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620b"/>
              </a:gs>
              <a:gs pos="50000">
                <a:srgbClr val="ffffff"/>
              </a:gs>
              <a:gs pos="100000">
                <a:srgbClr val="e5620b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3d3f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d3f41"/>
                </a:solidFill>
                <a:latin typeface="Calibri"/>
                <a:ea typeface="幼圆"/>
              </a:rPr>
              <a:t>返 回</a:t>
            </a:r>
            <a:endParaRPr b="0" lang="en-US" sz="20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3177 1.016944 E">
                                      <p:cBhvr>
                                        <p:cTn id="286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6875 -0.971296 E">
                                      <p:cBhvr>
                                        <p:cTn id="289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72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组合 1"/>
          <p:cNvGrpSpPr/>
          <p:nvPr/>
        </p:nvGrpSpPr>
        <p:grpSpPr>
          <a:xfrm>
            <a:off x="2716200" y="4163040"/>
            <a:ext cx="2319840" cy="1295640"/>
            <a:chOff x="2716200" y="4163040"/>
            <a:chExt cx="2319840" cy="1295640"/>
          </a:xfrm>
        </p:grpSpPr>
        <p:sp>
          <p:nvSpPr>
            <p:cNvPr id="192" name="MH_Other_1"/>
            <p:cNvSpPr/>
            <p:nvPr/>
          </p:nvSpPr>
          <p:spPr>
            <a:xfrm rot="21439200">
              <a:off x="2744280" y="4190760"/>
              <a:ext cx="1224000" cy="1239840"/>
            </a:xfrm>
            <a:custGeom>
              <a:avLst/>
              <a:gdLst>
                <a:gd name="textAreaLeft" fmla="*/ 66240 w 1224000"/>
                <a:gd name="textAreaRight" fmla="*/ 1157760 w 1224000"/>
                <a:gd name="textAreaTop" fmla="*/ 66240 h 1239840"/>
                <a:gd name="textAreaBottom" fmla="*/ 1173600 h 1239840"/>
              </a:gdLst>
              <a:ahLst/>
              <a:rect l="textAreaLeft" t="textAreaTop" r="textAreaRight" b="textAreaBottom"/>
              <a:pathLst>
                <a:path w="21600" h="21879">
                  <a:moveTo>
                    <a:pt x="4010" y="0"/>
                  </a:moveTo>
                  <a:arcTo wR="4010" hR="4010" stAng="16200000" swAng="-5400000"/>
                  <a:lnTo>
                    <a:pt x="0" y="17869"/>
                  </a:lnTo>
                  <a:arcTo wR="4010" hR="4010" stAng="10800000" swAng="-5400000"/>
                  <a:lnTo>
                    <a:pt x="17590" y="21879"/>
                  </a:lnTo>
                  <a:arcTo wR="4010" hR="4010" stAng="5400000" swAng="-5400000"/>
                  <a:lnTo>
                    <a:pt x="21600" y="4010"/>
                  </a:lnTo>
                  <a:arcTo wR="4010" hR="4010" stAng="0" swAng="-5400000"/>
                  <a:close/>
                </a:path>
              </a:pathLst>
            </a:custGeom>
            <a:solidFill>
              <a:srgbClr val="a5a5a5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1</a:t>
              </a:r>
              <a:endParaRPr b="0" lang="en-US" sz="6000" spc="-1" strike="noStrike">
                <a:solidFill>
                  <a:srgbClr val="3d3f41"/>
                </a:solidFill>
                <a:latin typeface="Arial"/>
              </a:endParaRPr>
            </a:p>
          </p:txBody>
        </p:sp>
        <p:cxnSp>
          <p:nvCxnSpPr>
            <p:cNvPr id="193" name="MH_Other_2"/>
            <p:cNvCxnSpPr/>
            <p:nvPr/>
          </p:nvCxnSpPr>
          <p:spPr>
            <a:xfrm flipV="1">
              <a:off x="3968640" y="4778280"/>
              <a:ext cx="1067760" cy="5040"/>
            </a:xfrm>
            <a:prstGeom prst="straightConnector1">
              <a:avLst/>
            </a:prstGeom>
            <a:ln w="6480">
              <a:solidFill>
                <a:srgbClr val="b2b2b2"/>
              </a:solidFill>
              <a:miter/>
              <a:tailEnd len="med" type="triangle" w="med"/>
            </a:ln>
          </p:spPr>
        </p:cxnSp>
      </p:grpSp>
      <p:grpSp>
        <p:nvGrpSpPr>
          <p:cNvPr id="194" name="组合 2"/>
          <p:cNvGrpSpPr/>
          <p:nvPr/>
        </p:nvGrpSpPr>
        <p:grpSpPr>
          <a:xfrm>
            <a:off x="2421720" y="2151000"/>
            <a:ext cx="2607480" cy="1303560"/>
            <a:chOff x="2421720" y="2151000"/>
            <a:chExt cx="2607480" cy="1303560"/>
          </a:xfrm>
        </p:grpSpPr>
        <p:sp>
          <p:nvSpPr>
            <p:cNvPr id="195" name="MH_Other_3"/>
            <p:cNvSpPr/>
            <p:nvPr/>
          </p:nvSpPr>
          <p:spPr>
            <a:xfrm rot="183600">
              <a:off x="2453760" y="2182680"/>
              <a:ext cx="1225440" cy="1239840"/>
            </a:xfrm>
            <a:custGeom>
              <a:avLst/>
              <a:gdLst>
                <a:gd name="textAreaLeft" fmla="*/ 66600 w 1225440"/>
                <a:gd name="textAreaRight" fmla="*/ 1158840 w 1225440"/>
                <a:gd name="textAreaTop" fmla="*/ 66600 h 1239840"/>
                <a:gd name="textAreaBottom" fmla="*/ 1173240 h 1239840"/>
              </a:gdLst>
              <a:ahLst/>
              <a:rect l="textAreaLeft" t="textAreaTop" r="textAreaRight" b="textAreaBottom"/>
              <a:pathLst>
                <a:path w="21600" h="21854">
                  <a:moveTo>
                    <a:pt x="4010" y="0"/>
                  </a:moveTo>
                  <a:arcTo wR="4010" hR="4010" stAng="16200000" swAng="-5400000"/>
                  <a:lnTo>
                    <a:pt x="0" y="17844"/>
                  </a:lnTo>
                  <a:arcTo wR="4010" hR="4010" stAng="10800000" swAng="-5400000"/>
                  <a:lnTo>
                    <a:pt x="17590" y="21854"/>
                  </a:lnTo>
                  <a:arcTo wR="4010" hR="4010" stAng="5400000" swAng="-5400000"/>
                  <a:lnTo>
                    <a:pt x="21600" y="4010"/>
                  </a:lnTo>
                  <a:arcTo wR="4010" hR="4010" stAng="0" swAng="-5400000"/>
                  <a:close/>
                </a:path>
              </a:pathLst>
            </a:custGeom>
            <a:solidFill>
              <a:srgbClr val="f06c55"/>
            </a:solidFill>
            <a:ln w="12600">
              <a:solidFill>
                <a:srgbClr val="e93c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2</a:t>
              </a:r>
              <a:endParaRPr b="0" lang="en-US" sz="6000" spc="-1" strike="noStrike">
                <a:solidFill>
                  <a:srgbClr val="3d3f41"/>
                </a:solidFill>
                <a:latin typeface="Arial"/>
              </a:endParaRPr>
            </a:p>
          </p:txBody>
        </p:sp>
        <p:cxnSp>
          <p:nvCxnSpPr>
            <p:cNvPr id="196" name="MH_Other_4"/>
            <p:cNvCxnSpPr/>
            <p:nvPr/>
          </p:nvCxnSpPr>
          <p:spPr>
            <a:xfrm>
              <a:off x="3690720" y="2709360"/>
              <a:ext cx="1338840" cy="1080"/>
            </a:xfrm>
            <a:prstGeom prst="straightConnector1">
              <a:avLst/>
            </a:prstGeom>
            <a:ln w="6480">
              <a:solidFill>
                <a:srgbClr val="e93c1f"/>
              </a:solidFill>
              <a:miter/>
              <a:tailEnd len="med" type="triangle" w="med"/>
            </a:ln>
          </p:spPr>
        </p:cxnSp>
      </p:grpSp>
      <p:sp>
        <p:nvSpPr>
          <p:cNvPr id="197" name="MH_Other_5"/>
          <p:cNvSpPr/>
          <p:nvPr/>
        </p:nvSpPr>
        <p:spPr>
          <a:xfrm>
            <a:off x="887400" y="3832200"/>
            <a:ext cx="1569960" cy="2779560"/>
          </a:xfrm>
          <a:custGeom>
            <a:avLst/>
            <a:gdLst/>
            <a:ahLst/>
            <a:rect l="l" t="t" r="r" b="b"/>
            <a:pathLst>
              <a:path w="965707" h="1986527">
                <a:moveTo>
                  <a:pt x="217182" y="0"/>
                </a:moveTo>
                <a:cubicBezTo>
                  <a:pt x="336315" y="0"/>
                  <a:pt x="432892" y="96577"/>
                  <a:pt x="432892" y="215710"/>
                </a:cubicBezTo>
                <a:cubicBezTo>
                  <a:pt x="432892" y="230602"/>
                  <a:pt x="431383" y="245141"/>
                  <a:pt x="428510" y="259183"/>
                </a:cubicBezTo>
                <a:lnTo>
                  <a:pt x="426677" y="265085"/>
                </a:lnTo>
                <a:lnTo>
                  <a:pt x="691433" y="70895"/>
                </a:lnTo>
                <a:cubicBezTo>
                  <a:pt x="702812" y="62549"/>
                  <a:pt x="718803" y="65008"/>
                  <a:pt x="727149" y="76387"/>
                </a:cubicBezTo>
                <a:lnTo>
                  <a:pt x="787596" y="158799"/>
                </a:lnTo>
                <a:cubicBezTo>
                  <a:pt x="795942" y="170178"/>
                  <a:pt x="793483" y="186169"/>
                  <a:pt x="782104" y="194515"/>
                </a:cubicBezTo>
                <a:lnTo>
                  <a:pt x="453481" y="435549"/>
                </a:lnTo>
                <a:lnTo>
                  <a:pt x="874061" y="181449"/>
                </a:lnTo>
                <a:cubicBezTo>
                  <a:pt x="886143" y="174150"/>
                  <a:pt x="901855" y="178027"/>
                  <a:pt x="909154" y="190109"/>
                </a:cubicBezTo>
                <a:lnTo>
                  <a:pt x="962021" y="277611"/>
                </a:lnTo>
                <a:cubicBezTo>
                  <a:pt x="969320" y="289694"/>
                  <a:pt x="965443" y="305405"/>
                  <a:pt x="953361" y="312705"/>
                </a:cubicBezTo>
                <a:lnTo>
                  <a:pt x="384793" y="656215"/>
                </a:lnTo>
                <a:lnTo>
                  <a:pt x="384793" y="1131649"/>
                </a:lnTo>
                <a:lnTo>
                  <a:pt x="381842" y="1146266"/>
                </a:lnTo>
                <a:lnTo>
                  <a:pt x="387708" y="1152370"/>
                </a:lnTo>
                <a:lnTo>
                  <a:pt x="442440" y="1292303"/>
                </a:lnTo>
                <a:lnTo>
                  <a:pt x="445419" y="1293537"/>
                </a:lnTo>
                <a:cubicBezTo>
                  <a:pt x="450626" y="1298744"/>
                  <a:pt x="453847" y="1305938"/>
                  <a:pt x="453847" y="1313884"/>
                </a:cubicBezTo>
                <a:lnTo>
                  <a:pt x="453847" y="1951177"/>
                </a:lnTo>
                <a:cubicBezTo>
                  <a:pt x="453847" y="1967069"/>
                  <a:pt x="440964" y="1979952"/>
                  <a:pt x="425072" y="1979952"/>
                </a:cubicBezTo>
                <a:lnTo>
                  <a:pt x="309975" y="1979952"/>
                </a:lnTo>
                <a:cubicBezTo>
                  <a:pt x="294083" y="1979952"/>
                  <a:pt x="281200" y="1967069"/>
                  <a:pt x="281200" y="1951177"/>
                </a:cubicBezTo>
                <a:lnTo>
                  <a:pt x="281200" y="1342234"/>
                </a:lnTo>
                <a:lnTo>
                  <a:pt x="230924" y="1213693"/>
                </a:lnTo>
                <a:lnTo>
                  <a:pt x="227782" y="1195782"/>
                </a:lnTo>
                <a:lnTo>
                  <a:pt x="172672" y="1195782"/>
                </a:lnTo>
                <a:lnTo>
                  <a:pt x="172672" y="1958468"/>
                </a:lnTo>
                <a:cubicBezTo>
                  <a:pt x="172672" y="1973965"/>
                  <a:pt x="160110" y="1986527"/>
                  <a:pt x="144613" y="1986527"/>
                </a:cubicBezTo>
                <a:lnTo>
                  <a:pt x="32381" y="1986527"/>
                </a:lnTo>
                <a:cubicBezTo>
                  <a:pt x="16884" y="1986527"/>
                  <a:pt x="4322" y="1973965"/>
                  <a:pt x="4322" y="1958468"/>
                </a:cubicBezTo>
                <a:lnTo>
                  <a:pt x="4322" y="1169537"/>
                </a:lnTo>
                <a:lnTo>
                  <a:pt x="7911" y="1160872"/>
                </a:lnTo>
                <a:lnTo>
                  <a:pt x="5040" y="1156613"/>
                </a:lnTo>
                <a:cubicBezTo>
                  <a:pt x="1795" y="1148940"/>
                  <a:pt x="0" y="1140504"/>
                  <a:pt x="0" y="1131649"/>
                </a:cubicBezTo>
                <a:lnTo>
                  <a:pt x="0" y="514378"/>
                </a:lnTo>
                <a:cubicBezTo>
                  <a:pt x="0" y="478958"/>
                  <a:pt x="28713" y="450245"/>
                  <a:pt x="64133" y="450245"/>
                </a:cubicBezTo>
                <a:lnTo>
                  <a:pt x="174233" y="450245"/>
                </a:lnTo>
                <a:lnTo>
                  <a:pt x="203629" y="428684"/>
                </a:lnTo>
                <a:lnTo>
                  <a:pt x="133218" y="414469"/>
                </a:lnTo>
                <a:cubicBezTo>
                  <a:pt x="55797" y="381722"/>
                  <a:pt x="1472" y="305060"/>
                  <a:pt x="1472" y="215710"/>
                </a:cubicBezTo>
                <a:cubicBezTo>
                  <a:pt x="1472" y="96577"/>
                  <a:pt x="98049" y="0"/>
                  <a:pt x="217182" y="0"/>
                </a:cubicBezTo>
                <a:close/>
              </a:path>
            </a:pathLst>
          </a:cu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8" name="MH_Text_2"/>
          <p:cNvSpPr/>
          <p:nvPr/>
        </p:nvSpPr>
        <p:spPr>
          <a:xfrm>
            <a:off x="5089680" y="1641600"/>
            <a:ext cx="58672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  <a:ea typeface="宋体"/>
              </a:rPr>
              <a:t>  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1984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年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月，横尖、中庄、会立、西社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公社境域复归交城县，南自、南安、南庄、西城四公社境域复归文水县。是为现辖境域。</a:t>
            </a:r>
            <a:endParaRPr b="0" lang="en-US" sz="22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9" name="MH_Text_1"/>
          <p:cNvSpPr/>
          <p:nvPr/>
        </p:nvSpPr>
        <p:spPr>
          <a:xfrm>
            <a:off x="5121360" y="4005360"/>
            <a:ext cx="5548320" cy="19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600" spc="-1" strike="noStrike">
                <a:solidFill>
                  <a:srgbClr val="a5a5a5"/>
                </a:solidFill>
                <a:latin typeface="Arial"/>
                <a:ea typeface="宋体"/>
              </a:rPr>
              <a:t> </a:t>
            </a:r>
            <a:r>
              <a:rPr b="0" lang="en-US" sz="2600" spc="-1" strike="noStrike">
                <a:solidFill>
                  <a:srgbClr val="7f7f7f"/>
                </a:solidFill>
                <a:latin typeface="Arial"/>
                <a:ea typeface="宋体"/>
              </a:rPr>
              <a:t> </a:t>
            </a:r>
            <a:r>
              <a:rPr b="1" lang="en-US" sz="2600" spc="-1" strike="noStrike">
                <a:solidFill>
                  <a:srgbClr val="262626"/>
                </a:solidFill>
                <a:latin typeface="Arial"/>
                <a:ea typeface="宋体"/>
              </a:rPr>
              <a:t>  </a:t>
            </a:r>
            <a:r>
              <a:rPr b="1" lang="zh-CN" sz="2200" spc="-1" strike="noStrike">
                <a:solidFill>
                  <a:srgbClr val="3d3f41"/>
                </a:solidFill>
                <a:latin typeface="Arial"/>
                <a:ea typeface="宋体"/>
              </a:rPr>
              <a:t>交城县置县始于隋开皇十六年（</a:t>
            </a:r>
            <a:r>
              <a:rPr b="1" lang="zh-CN" sz="2200" spc="-1" strike="noStrike">
                <a:solidFill>
                  <a:srgbClr val="3d3f41"/>
                </a:solidFill>
                <a:latin typeface="Arial"/>
                <a:ea typeface="宋体"/>
              </a:rPr>
              <a:t>596</a:t>
            </a:r>
            <a:r>
              <a:rPr b="1" lang="zh-CN" sz="2200" spc="-1" strike="noStrike">
                <a:solidFill>
                  <a:srgbClr val="3d3f41"/>
                </a:solidFill>
                <a:latin typeface="Arial"/>
                <a:ea typeface="宋体"/>
              </a:rPr>
              <a:t>年），隋代县境北连娄烦郡，西北接离石郡，南邻西河郡，为太原郡西、西北、西南界地。</a:t>
            </a:r>
            <a:endParaRPr b="0" lang="en-US" sz="22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72960" y="307800"/>
            <a:ext cx="489420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e5620b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新魏"/>
              </a:rPr>
              <a:t>山水小城</a:t>
            </a:r>
            <a:r>
              <a:rPr b="0" lang="en-US" sz="1800" spc="-1" strike="noStrike">
                <a:ln w="9360">
                  <a:solidFill>
                    <a:srgbClr val="e5620b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新魏"/>
              </a:rPr>
              <a:t>-</a:t>
            </a:r>
            <a:r>
              <a:rPr b="0" lang="zh-CN" sz="1800" spc="-1" strike="noStrike">
                <a:ln w="9360">
                  <a:solidFill>
                    <a:srgbClr val="e5620b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新魏"/>
              </a:rPr>
              <a:t>交城</a:t>
            </a:r>
            <a:endParaRPr b="0" lang="en-US" sz="1800" spc="-1" strike="noStrike">
              <a:ln w="9360">
                <a:solidFill>
                  <a:srgbClr val="e5620b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400"/>
                            </p:stCondLst>
                            <p:childTnLst>
                              <p:par>
                                <p:cTn id="319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400"/>
                            </p:stCondLst>
                            <p:childTnLst>
                              <p:par>
                                <p:cTn id="326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9T11:55:00Z</dcterms:created>
  <dc:creator>Administrator</dc:creator>
  <dc:description/>
  <dc:language>en-US</dc:language>
  <cp:lastModifiedBy>Administrator</cp:lastModifiedBy>
  <dcterms:modified xsi:type="dcterms:W3CDTF">2015-12-28T09:18:24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6</vt:lpwstr>
  </property>
</Properties>
</file>