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E873-9F89-4E73-BB85-C5946725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2617-672D-4D9E-BA9C-24EFBA6C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5221-16EA-46B1-9E1D-0941B272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8AC8-49A1-4EFF-BEE9-DA8A8E6C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F761-5321-42AA-A48C-49393B0F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D4C0-877D-4151-9A86-C0601E56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D5E9C-5FA6-4D7A-A3F2-984E438F5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D402-6AE5-4F2C-A0B3-A9B4C1BC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551A-4CB5-4112-B739-7E31B0E4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03C0-B061-48A4-B018-F5C6B455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FB84-F30A-46A5-8389-8E67F3C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FBA7-D05D-4319-A0D0-9CE6F8C6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5E4B-7143-4589-8F3C-D3A4A55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2077-E593-474D-8C93-68AF00FE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119E-FC14-44D1-98BC-7CF4CCB0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1F18-B796-4EF7-9F1F-5B8681A04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8BFFD-D225-4906-9397-D493A81E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0E84-14A7-4F50-93FB-B0839C2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05E-0C50-4BC9-95D9-E223B628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8A4-D25B-4E51-B13D-7A3A3783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CD47-1CFF-431D-A60F-7B59F769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4FC-D6DA-44F4-8AB3-B7697B05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D41B-0D85-4513-B926-B65E6077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33C5-8B1B-4D99-9B8B-0BB0FC3A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76D9-4D7E-495E-BFF0-3662CB4B428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8E12-B673-44E2-92C3-4710BB040F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E92A-266A-4F20-81FF-D221C45E0B1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BC5E-F03B-4FF8-A68B-BA18E636E4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4097"/>
          <p:cNvSpPr txBox="1"/>
          <p:nvPr/>
        </p:nvSpPr>
        <p:spPr>
          <a:xfrm>
            <a:off x="714240" y="2111400"/>
            <a:ext cx="3038760" cy="99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新魏"/>
              </a:rPr>
              <a:t>如颖随行</a:t>
            </a:r>
            <a:endParaRPr b="1" lang="en-US" sz="4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9" name="矩形 4098"/>
          <p:cNvSpPr txBox="1"/>
          <p:nvPr/>
        </p:nvSpPr>
        <p:spPr>
          <a:xfrm rot="960000">
            <a:off x="4173480" y="3103560"/>
            <a:ext cx="1847880" cy="130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赵丽颖</a:t>
            </a:r>
            <a:endParaRPr b="1" lang="en-US" sz="40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0" name="文本框 4100"/>
          <p:cNvSpPr/>
          <p:nvPr/>
        </p:nvSpPr>
        <p:spPr>
          <a:xfrm>
            <a:off x="2197080" y="5200560"/>
            <a:ext cx="440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华文细黑"/>
              </a:rPr>
              <a:t>制作者——张启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华文细黑"/>
              </a:rPr>
              <a:t>班    级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华文细黑"/>
              </a:rPr>
              <a:t>——</a:t>
            </a:r>
            <a:r>
              <a:rPr b="1" lang="en-US" sz="2400" spc="-1" strike="noStrike">
                <a:solidFill>
                  <a:srgbClr val="ff9933"/>
                </a:solidFill>
                <a:latin typeface="Arial"/>
                <a:ea typeface="华文细黑"/>
              </a:rPr>
              <a:t>15</a:t>
            </a:r>
            <a:r>
              <a:rPr b="1" lang="zh-CN" sz="2400" spc="-1" strike="noStrike">
                <a:solidFill>
                  <a:srgbClr val="ff9933"/>
                </a:solidFill>
                <a:latin typeface="Arial"/>
                <a:ea typeface="华文细黑"/>
              </a:rPr>
              <a:t>酒店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陈晓 - 心情.mp3" descr=""/>
          <p:cNvPicPr/>
          <p:nvPr/>
        </p:nvPicPr>
        <p:blipFill>
          <a:blip r:embed="rId1"/>
          <a:stretch/>
        </p:blipFill>
        <p:spPr>
          <a:xfrm>
            <a:off x="95400" y="6143760"/>
            <a:ext cx="618840" cy="6188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054" descr="1209_2"/>
          <p:cNvPicPr/>
          <p:nvPr/>
        </p:nvPicPr>
        <p:blipFill>
          <a:blip r:embed="rId2"/>
          <a:srcRect l="14078" t="5576" r="7976" b="5446"/>
          <a:stretch/>
        </p:blipFill>
        <p:spPr>
          <a:xfrm flipH="1" rot="21000000">
            <a:off x="882360" y="4595400"/>
            <a:ext cx="1146240" cy="20336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289" descr="54fbb2fb43166d228d8a5149432309f79152d26a"/>
          <p:cNvPicPr/>
          <p:nvPr/>
        </p:nvPicPr>
        <p:blipFill>
          <a:blip r:embed="rId3"/>
          <a:stretch/>
        </p:blipFill>
        <p:spPr>
          <a:xfrm>
            <a:off x="6373800" y="3030480"/>
            <a:ext cx="2068560" cy="2581200"/>
          </a:xfrm>
          <a:prstGeom prst="rect">
            <a:avLst/>
          </a:prstGeom>
          <a:ln w="57240">
            <a:solidFill>
              <a:srgbClr val="333399"/>
            </a:solidFill>
            <a:miter/>
          </a:ln>
          <a:effectLst>
            <a:outerShdw dist="52300" dir="4563564" blurRad="0" rotWithShape="0">
              <a:srgbClr val="333399"/>
            </a:outerShdw>
          </a:effectLst>
        </p:spPr>
      </p:pic>
      <p:grpSp>
        <p:nvGrpSpPr>
          <p:cNvPr id="84" name=""/>
          <p:cNvGrpSpPr/>
          <p:nvPr/>
        </p:nvGrpSpPr>
        <p:grpSpPr>
          <a:xfrm>
            <a:off x="2825640" y="3754440"/>
            <a:ext cx="1090800" cy="360"/>
            <a:chOff x="2825640" y="3754440"/>
            <a:chExt cx="1090800" cy="360"/>
          </a:xfrm>
        </p:grpSpPr>
        <p:sp>
          <p:nvSpPr>
            <p:cNvPr id="85" name="直接连接符 4103"/>
            <p:cNvSpPr/>
            <p:nvPr/>
          </p:nvSpPr>
          <p:spPr>
            <a:xfrm>
              <a:off x="2825640" y="3754440"/>
              <a:ext cx="1090800" cy="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2825640" y="3754440"/>
              <a:ext cx="1090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4000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500"/>
                            </p:stCondLst>
                            <p:childTnLst>
                              <p:par>
                                <p:cTn id="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15361"/>
          <p:cNvSpPr txBox="1"/>
          <p:nvPr/>
        </p:nvSpPr>
        <p:spPr>
          <a:xfrm>
            <a:off x="1996920" y="2435400"/>
            <a:ext cx="5286600" cy="16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谢谢欣赏</a:t>
            </a:r>
            <a:endParaRPr b="0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 advTm="3000">
    <p:checker dir="horz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3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0120" y="3911760"/>
            <a:ext cx="4984560" cy="16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出       生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	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1987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年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10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月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16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日 河北廊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国       籍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	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中华人民共和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人物信息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	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A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型 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| 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天秤座 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| 165cm | 43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经纪公司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	</a:t>
            </a:r>
            <a:r>
              <a:rPr b="0" lang="zh-CN" sz="1800" spc="-1" strike="noStrike">
                <a:solidFill>
                  <a:srgbClr val="009900"/>
                </a:solidFill>
                <a:latin typeface="Arial"/>
                <a:ea typeface="华文行楷"/>
              </a:rPr>
              <a:t>海润传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122"/>
          <p:cNvSpPr txBox="1"/>
          <p:nvPr/>
        </p:nvSpPr>
        <p:spPr>
          <a:xfrm>
            <a:off x="600120" y="423720"/>
            <a:ext cx="405756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47ff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9000"/>
                    </a:srgbClr>
                  </a:outerShdw>
                </a:effectLst>
                <a:latin typeface="方正胖娃简体"/>
              </a:rPr>
              <a:t>我的偶像 — 赵丽颖 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47ff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9000"/>
                  </a:srgbClr>
                </a:outerShdw>
              </a:effectLst>
              <a:latin typeface="方正胖娃简体"/>
              <a:ea typeface="方正胖娃简体"/>
            </a:endParaRPr>
          </a:p>
        </p:txBody>
      </p:sp>
      <p:sp>
        <p:nvSpPr>
          <p:cNvPr id="89" name="圆角矩形 5123"/>
          <p:cNvSpPr/>
          <p:nvPr/>
        </p:nvSpPr>
        <p:spPr>
          <a:xfrm>
            <a:off x="5584680" y="1276200"/>
            <a:ext cx="3195720" cy="4499280"/>
          </a:xfrm>
          <a:custGeom>
            <a:avLst/>
            <a:gdLst>
              <a:gd name="textAreaLeft" fmla="*/ 56880 w 3195720"/>
              <a:gd name="textAreaRight" fmla="*/ 3138840 w 3195720"/>
              <a:gd name="textAreaTop" fmla="*/ 56880 h 4499280"/>
              <a:gd name="textAreaBottom" fmla="*/ 4442400 h 4499280"/>
            </a:gdLst>
            <a:ahLst/>
            <a:rect l="textAreaLeft" t="textAreaTop" r="textAreaRight" b="textAreaBottom"/>
            <a:pathLst>
              <a:path w="21600" h="30410">
                <a:moveTo>
                  <a:pt x="1318" y="0"/>
                </a:moveTo>
                <a:arcTo wR="1318" hR="1318" stAng="16200000" swAng="-5400000"/>
                <a:lnTo>
                  <a:pt x="0" y="29092"/>
                </a:lnTo>
                <a:arcTo wR="1318" hR="1318" stAng="10800000" swAng="-5400000"/>
                <a:lnTo>
                  <a:pt x="20282" y="30410"/>
                </a:lnTo>
                <a:arcTo wR="1318" hR="1318" stAng="5400000" swAng="-5400000"/>
                <a:lnTo>
                  <a:pt x="21600" y="1318"/>
                </a:lnTo>
                <a:arcTo wR="1318" hR="1318" stAng="0" swAng="-5400000"/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124"/>
          <p:cNvSpPr/>
          <p:nvPr/>
        </p:nvSpPr>
        <p:spPr>
          <a:xfrm>
            <a:off x="600120" y="1276200"/>
            <a:ext cx="47973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9999"/>
                </a:solidFill>
                <a:latin typeface="Arial"/>
                <a:ea typeface="华文行楷"/>
              </a:rPr>
              <a:t>赵丽颖：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华文行楷"/>
              </a:rPr>
              <a:t>中国内地女演员。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华文行楷"/>
              </a:rPr>
              <a:t>2006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华文行楷"/>
              </a:rPr>
              <a:t>年，参加雅虎搜星，获得冯小刚组冠军，并担任冯小刚执导的广告片《跪族篇》女主角，由此开始自己的演艺道路 ，先后参演了《金婚》等剧集。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华文行楷"/>
              </a:rPr>
              <a:t>2011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华文行楷"/>
              </a:rPr>
              <a:t>年因出演《新还珠格格》中的晴儿一角受到关注；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华文行楷"/>
              </a:rPr>
              <a:t>2014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华文行楷"/>
              </a:rPr>
              <a:t>年主演的《杉杉来了》暑假播出引起热议。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华文行楷"/>
              </a:rPr>
              <a:t>2015</a:t>
            </a:r>
            <a:r>
              <a:rPr b="0" lang="zh-CN" sz="1800" spc="-1" strike="noStrike">
                <a:solidFill>
                  <a:srgbClr val="ff6600"/>
                </a:solidFill>
                <a:latin typeface="Arial"/>
                <a:ea typeface="华文行楷"/>
              </a:rPr>
              <a:t>年主演的《花千骨》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pull dir="r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700"/>
                            </p:stCondLst>
                            <p:childTnLst>
                              <p:par>
                                <p:cTn id="59" dur="indefinite" nodeType="afterEffect" fill="hold" presetClass="emph" presetID="32" repeatCount="3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2700"/>
                            </p:stCondLst>
                            <p:childTnLst>
                              <p:par>
                                <p:cTn id="6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700"/>
                            </p:stCondLst>
                            <p:childTnLst>
                              <p:par>
                                <p:cTn id="7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700"/>
                            </p:stCondLst>
                            <p:childTnLst>
                              <p:par>
                                <p:cTn id="77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1"/>
          <p:cNvGrpSpPr/>
          <p:nvPr/>
        </p:nvGrpSpPr>
        <p:grpSpPr>
          <a:xfrm>
            <a:off x="625320" y="668160"/>
            <a:ext cx="4838760" cy="1141560"/>
            <a:chOff x="625320" y="668160"/>
            <a:chExt cx="4838760" cy="1141560"/>
          </a:xfrm>
        </p:grpSpPr>
        <p:pic>
          <p:nvPicPr>
            <p:cNvPr id="92" name="图片 6146" descr="t01ac8341ca6a7e0fad"/>
            <p:cNvPicPr/>
            <p:nvPr/>
          </p:nvPicPr>
          <p:blipFill>
            <a:blip r:embed="rId1"/>
            <a:srcRect l="652" t="71134" r="-645" b="5365"/>
            <a:stretch/>
          </p:blipFill>
          <p:spPr>
            <a:xfrm>
              <a:off x="625320" y="668160"/>
              <a:ext cx="4838760" cy="11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矩形 6149"/>
            <p:cNvSpPr txBox="1"/>
            <p:nvPr/>
          </p:nvSpPr>
          <p:spPr>
            <a:xfrm>
              <a:off x="2545920" y="992160"/>
              <a:ext cx="231264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round/>
                  </a:ln>
                  <a:solidFill>
                    <a:srgbClr val="cc00ff"/>
                  </a:solidFill>
                  <a:effectLst>
                    <a:outerShdw dist="153753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方正少儿简体"/>
                </a:rPr>
                <a:t>演艺经历</a:t>
              </a:r>
              <a:endParaRPr b="0" lang="en-US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cc00ff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方正少儿简体"/>
                <a:ea typeface="方正少儿简体"/>
              </a:endParaRPr>
            </a:p>
          </p:txBody>
        </p:sp>
        <p:sp>
          <p:nvSpPr>
            <p:cNvPr id="94" name="矩形 6153"/>
            <p:cNvSpPr txBox="1"/>
            <p:nvPr/>
          </p:nvSpPr>
          <p:spPr>
            <a:xfrm>
              <a:off x="1076040" y="992160"/>
              <a:ext cx="260280" cy="47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blipFill rotWithShape="0">
                    <a:blip r:embed="rId2"/>
                    <a:srcRect/>
                    <a:tile tx="0" ty="0" sx="100000" sy="100000" algn="ctr"/>
                  </a:blipFill>
                  <a:latin typeface="华文彩云"/>
                </a:rPr>
                <a:t>1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彩云"/>
                <a:ea typeface="华文彩云"/>
              </a:endParaRPr>
            </a:p>
          </p:txBody>
        </p:sp>
      </p:grpSp>
      <p:grpSp>
        <p:nvGrpSpPr>
          <p:cNvPr id="95" name="组合 2"/>
          <p:cNvGrpSpPr/>
          <p:nvPr/>
        </p:nvGrpSpPr>
        <p:grpSpPr>
          <a:xfrm>
            <a:off x="2897280" y="1809720"/>
            <a:ext cx="5041800" cy="1306440"/>
            <a:chOff x="2897280" y="1809720"/>
            <a:chExt cx="5041800" cy="1306440"/>
          </a:xfrm>
        </p:grpSpPr>
        <p:pic>
          <p:nvPicPr>
            <p:cNvPr id="96" name="图片 6145" descr="t01ac8341ca6a7e0fad"/>
            <p:cNvPicPr/>
            <p:nvPr/>
          </p:nvPicPr>
          <p:blipFill>
            <a:blip r:embed="rId4"/>
            <a:srcRect l="751" t="34209" r="0" b="38869"/>
            <a:stretch/>
          </p:blipFill>
          <p:spPr>
            <a:xfrm>
              <a:off x="2897280" y="1809720"/>
              <a:ext cx="5041800" cy="13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6150"/>
            <p:cNvSpPr txBox="1"/>
            <p:nvPr/>
          </p:nvSpPr>
          <p:spPr>
            <a:xfrm>
              <a:off x="4859280" y="2171520"/>
              <a:ext cx="240768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99cc00"/>
                  </a:solidFill>
                  <a:effectLst>
                    <a:outerShdw dist="153753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方正少儿简体"/>
                </a:rPr>
                <a:t>演绎作品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方正少儿简体"/>
                <a:ea typeface="方正少儿简体"/>
              </a:endParaRPr>
            </a:p>
          </p:txBody>
        </p:sp>
        <p:sp>
          <p:nvSpPr>
            <p:cNvPr id="98" name="矩形 6154"/>
            <p:cNvSpPr txBox="1"/>
            <p:nvPr/>
          </p:nvSpPr>
          <p:spPr>
            <a:xfrm>
              <a:off x="3375360" y="2212920"/>
              <a:ext cx="260280" cy="47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华文彩云"/>
                </a:rPr>
                <a:t>2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华文彩云"/>
                <a:ea typeface="华文彩云"/>
              </a:endParaRPr>
            </a:p>
          </p:txBody>
        </p:sp>
      </p:grpSp>
      <p:grpSp>
        <p:nvGrpSpPr>
          <p:cNvPr id="99" name="组合 3"/>
          <p:cNvGrpSpPr/>
          <p:nvPr/>
        </p:nvGrpSpPr>
        <p:grpSpPr>
          <a:xfrm>
            <a:off x="898560" y="3301920"/>
            <a:ext cx="5079960" cy="1139760"/>
            <a:chOff x="898560" y="3301920"/>
            <a:chExt cx="5079960" cy="1139760"/>
          </a:xfrm>
        </p:grpSpPr>
        <p:pic>
          <p:nvPicPr>
            <p:cNvPr id="100" name="图片 6148" descr="t01ac8341ca6a7e0fad"/>
            <p:cNvPicPr/>
            <p:nvPr/>
          </p:nvPicPr>
          <p:blipFill>
            <a:blip r:embed="rId7"/>
            <a:srcRect l="652" t="71134" r="-645" b="5365"/>
            <a:stretch/>
          </p:blipFill>
          <p:spPr>
            <a:xfrm>
              <a:off x="898560" y="3301920"/>
              <a:ext cx="507996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6151"/>
            <p:cNvSpPr txBox="1"/>
            <p:nvPr/>
          </p:nvSpPr>
          <p:spPr>
            <a:xfrm>
              <a:off x="2871360" y="3642840"/>
              <a:ext cx="2290320" cy="461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cc00ff"/>
                  </a:solidFill>
                  <a:effectLst>
                    <a:outerShdw dist="153753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方正少儿简体"/>
                </a:rPr>
                <a:t>获奖记录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cc00ff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方正少儿简体"/>
                <a:ea typeface="方正少儿简体"/>
              </a:endParaRPr>
            </a:p>
          </p:txBody>
        </p:sp>
        <p:sp>
          <p:nvSpPr>
            <p:cNvPr id="102" name="矩形 6155"/>
            <p:cNvSpPr txBox="1"/>
            <p:nvPr/>
          </p:nvSpPr>
          <p:spPr>
            <a:xfrm>
              <a:off x="1349280" y="3641400"/>
              <a:ext cx="258120" cy="474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blipFill rotWithShape="0">
                    <a:blip r:embed="rId8"/>
                    <a:srcRect/>
                    <a:tile tx="0" ty="0" sx="100000" sy="100000" algn="ctr"/>
                  </a:blipFill>
                  <a:latin typeface="华文彩云"/>
                </a:rPr>
                <a:t>3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华文彩云"/>
                <a:ea typeface="华文彩云"/>
              </a:endParaRPr>
            </a:p>
          </p:txBody>
        </p:sp>
      </p:grpSp>
      <p:grpSp>
        <p:nvGrpSpPr>
          <p:cNvPr id="103" name="组合 4"/>
          <p:cNvGrpSpPr/>
          <p:nvPr/>
        </p:nvGrpSpPr>
        <p:grpSpPr>
          <a:xfrm>
            <a:off x="2897280" y="4611600"/>
            <a:ext cx="5041800" cy="1306440"/>
            <a:chOff x="2897280" y="4611600"/>
            <a:chExt cx="5041800" cy="1306440"/>
          </a:xfrm>
        </p:grpSpPr>
        <p:pic>
          <p:nvPicPr>
            <p:cNvPr id="104" name="图片 6147" descr="t01ac8341ca6a7e0fad"/>
            <p:cNvPicPr/>
            <p:nvPr/>
          </p:nvPicPr>
          <p:blipFill>
            <a:blip r:embed="rId10"/>
            <a:srcRect l="751" t="34209" r="0" b="38869"/>
            <a:stretch/>
          </p:blipFill>
          <p:spPr>
            <a:xfrm>
              <a:off x="2897280" y="4611600"/>
              <a:ext cx="5041800" cy="13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矩形 6152"/>
            <p:cNvSpPr txBox="1"/>
            <p:nvPr/>
          </p:nvSpPr>
          <p:spPr>
            <a:xfrm>
              <a:off x="4935600" y="5019840"/>
              <a:ext cx="2331720" cy="51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eaeaea"/>
                    </a:solidFill>
                    <a:round/>
                  </a:ln>
                  <a:solidFill>
                    <a:srgbClr val="99cc00"/>
                  </a:solidFill>
                  <a:effectLst>
                    <a:outerShdw dist="153753" dir="2700000" blurRad="0" rotWithShape="0">
                      <a:srgbClr val="c0c0c0">
                        <a:alpha val="79000"/>
                      </a:srgbClr>
                    </a:outerShdw>
                  </a:effectLst>
                  <a:latin typeface="方正少儿简体"/>
                </a:rPr>
                <a:t>社会评价</a:t>
              </a:r>
              <a:endParaRPr b="0" lang="en-US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99cc00"/>
                </a:soli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方正少儿简体"/>
                <a:ea typeface="方正少儿简体"/>
              </a:endParaRPr>
            </a:p>
          </p:txBody>
        </p:sp>
        <p:sp>
          <p:nvSpPr>
            <p:cNvPr id="106" name="矩形 6156"/>
            <p:cNvSpPr txBox="1"/>
            <p:nvPr/>
          </p:nvSpPr>
          <p:spPr>
            <a:xfrm>
              <a:off x="3375360" y="4979880"/>
              <a:ext cx="2602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blipFill rotWithShape="0">
                    <a:blip r:embed="rId11"/>
                    <a:srcRect/>
                    <a:tile tx="0" ty="0" sx="100000" sy="100000" algn="ctr"/>
                  </a:blipFill>
                  <a:latin typeface="华文彩云"/>
                </a:rPr>
                <a:t>4</a:t>
              </a:r>
              <a:endParaRPr b="0" lang="en-US" sz="1800" spc="-1" strike="noStrike">
                <a:ln w="0">
                  <a:noFill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华文彩云"/>
                <a:ea typeface="华文彩云"/>
              </a:endParaRPr>
            </a:p>
          </p:txBody>
        </p:sp>
      </p:grpSp>
    </p:spTree>
  </p:cSld>
  <p:transition>
    <p:checker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6840" y="1191960"/>
            <a:ext cx="8234280" cy="46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7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接拍了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春去春又回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饰演任洁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8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接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锁清秋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饰演安以轩的丫鬟文雁；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出演了由日本同名畅销小说改编的电视剧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苍穹之昴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玲儿一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9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1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，第三届全球华人“非常短片”创意大赛在北京大学百年讲堂隆重举行，颁奖现场赵丽颖获得“最佳人气女演员”大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在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佳期如梦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一改往日的玉女形象，挑战性格叛逆、迷恋朋克的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女孩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ANN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剧中与邱泽饰演的男主角阮正东上演暗恋戏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，由她主演的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吉祥天宝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顺利杀青。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，赵丽颖主演的电视剧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陆贞传奇</a:t>
            </a:r>
            <a:r>
              <a:rPr b="0" lang="en-US" sz="2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年，主演电视剧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点鸳鸯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戏点鸳鸯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5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日，凭借在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花千骨</a:t>
            </a:r>
            <a:r>
              <a:rPr b="0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的表演，获得了第六届澳门国际电视节的最佳女主角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145"/>
          <p:cNvSpPr txBox="1"/>
          <p:nvPr/>
        </p:nvSpPr>
        <p:spPr>
          <a:xfrm>
            <a:off x="457200" y="361800"/>
            <a:ext cx="2876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beve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演艺经历</a:t>
            </a:r>
            <a:endParaRPr b="1" lang="en-US" sz="2800" spc="1" strike="noStrike">
              <a:ln w="19080">
                <a:solidFill>
                  <a:srgbClr val="99ccff"/>
                </a:solidFill>
                <a:beve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09" name="下弧形箭头 1" descr=""/>
          <p:cNvPicPr/>
          <p:nvPr/>
        </p:nvPicPr>
        <p:blipFill>
          <a:blip r:embed="rId3"/>
          <a:stretch/>
        </p:blipFill>
        <p:spPr>
          <a:xfrm>
            <a:off x="7959600" y="6308640"/>
            <a:ext cx="1017720" cy="474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000"/>
                            </p:stCondLst>
                            <p:childTnLst>
                              <p:par>
                                <p:cTn id="147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5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矩形 7169"/>
          <p:cNvSpPr txBox="1"/>
          <p:nvPr/>
        </p:nvSpPr>
        <p:spPr>
          <a:xfrm>
            <a:off x="307800" y="317520"/>
            <a:ext cx="30196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演绎作品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1" name="图片 7170" descr="ae51f3deb48f8c54e377ecd03a292df5e1fe7fac"/>
          <p:cNvPicPr/>
          <p:nvPr/>
        </p:nvPicPr>
        <p:blipFill>
          <a:blip r:embed="rId1"/>
          <a:stretch/>
        </p:blipFill>
        <p:spPr>
          <a:xfrm>
            <a:off x="3276720" y="2152800"/>
            <a:ext cx="2519280" cy="32400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sp>
        <p:nvSpPr>
          <p:cNvPr id="112" name="矩形 8195"/>
          <p:cNvSpPr txBox="1"/>
          <p:nvPr/>
        </p:nvSpPr>
        <p:spPr>
          <a:xfrm>
            <a:off x="3716280" y="673200"/>
            <a:ext cx="248940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66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华文行楷"/>
              </a:rPr>
              <a:t>之作品欣赏</a:t>
            </a:r>
            <a:endParaRPr b="0" lang="en-US" sz="2800" spc="1" strike="noStrike">
              <a:ln w="9360">
                <a:solidFill>
                  <a:srgbClr val="0066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3" name="图片 8199" descr="faf2b2119313b07e69c4d8be0ad7912397dd8c0f"/>
          <p:cNvPicPr/>
          <p:nvPr/>
        </p:nvPicPr>
        <p:blipFill>
          <a:blip r:embed="rId4"/>
          <a:stretch/>
        </p:blipFill>
        <p:spPr>
          <a:xfrm>
            <a:off x="444600" y="2152800"/>
            <a:ext cx="2519280" cy="32400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  <p:pic>
        <p:nvPicPr>
          <p:cNvPr id="114" name="图片 9219" descr="0df3d7ca7bcb0a461cd5edec6963f6246a60af74"/>
          <p:cNvPicPr/>
          <p:nvPr/>
        </p:nvPicPr>
        <p:blipFill>
          <a:blip r:embed="rId5"/>
          <a:stretch/>
        </p:blipFill>
        <p:spPr>
          <a:xfrm>
            <a:off x="6154560" y="2152800"/>
            <a:ext cx="2521080" cy="3240000"/>
          </a:xfrm>
          <a:prstGeom prst="rect">
            <a:avLst/>
          </a:prstGeom>
          <a:ln w="57240">
            <a:solidFill>
              <a:srgbClr val="92d050"/>
            </a:solidFill>
            <a:miter/>
          </a:ln>
        </p:spPr>
      </p:pic>
    </p:spTree>
  </p:cSld>
  <p:transition spd="med" advTm="3000">
    <p:pull dir="l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700"/>
                            </p:stCondLst>
                            <p:childTnLst>
                              <p:par>
                                <p:cTn id="18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700"/>
                            </p:stCondLst>
                            <p:childTnLst>
                              <p:par>
                                <p:cTn id="18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700"/>
                            </p:stCondLst>
                            <p:childTnLst>
                              <p:par>
                                <p:cTn id="188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7169"/>
          <p:cNvSpPr txBox="1"/>
          <p:nvPr/>
        </p:nvSpPr>
        <p:spPr>
          <a:xfrm>
            <a:off x="307800" y="317520"/>
            <a:ext cx="30196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演绎作品</a:t>
            </a:r>
            <a:endParaRPr b="1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16" name="矩形 9218"/>
          <p:cNvSpPr txBox="1"/>
          <p:nvPr/>
        </p:nvSpPr>
        <p:spPr>
          <a:xfrm>
            <a:off x="3757680" y="673200"/>
            <a:ext cx="2489040" cy="38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6600"/>
                  </a:solidFill>
                  <a:bevel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9000"/>
                    </a:srgbClr>
                  </a:outerShdw>
                </a:effectLst>
                <a:latin typeface="华文行楷"/>
              </a:rPr>
              <a:t>之角色欣赏</a:t>
            </a:r>
            <a:endParaRPr b="0" lang="en-US" sz="2800" spc="1" strike="noStrike">
              <a:ln w="9360">
                <a:solidFill>
                  <a:srgbClr val="006600"/>
                </a:solidFill>
                <a:bevel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17" name="图片 11266" descr="d52a2834349b033b06ba3bdc13ce36d3d539bd82"/>
          <p:cNvPicPr/>
          <p:nvPr/>
        </p:nvPicPr>
        <p:blipFill>
          <a:blip r:embed="rId3"/>
          <a:stretch/>
        </p:blipFill>
        <p:spPr>
          <a:xfrm>
            <a:off x="914400" y="1433520"/>
            <a:ext cx="3308400" cy="2165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8" name="文本框 11265"/>
          <p:cNvSpPr/>
          <p:nvPr/>
        </p:nvSpPr>
        <p:spPr>
          <a:xfrm>
            <a:off x="4334040" y="1679400"/>
            <a:ext cx="384804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俏皮呆萌，她曾是《实习生》里不能拼爹努力奋斗的职场菜鸟，宋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0242" descr="d043ad4bd11373f0769ca244a60f4bfbfaed044e"/>
          <p:cNvPicPr/>
          <p:nvPr/>
        </p:nvPicPr>
        <p:blipFill>
          <a:blip r:embed="rId4"/>
          <a:stretch/>
        </p:blipFill>
        <p:spPr>
          <a:xfrm>
            <a:off x="4521240" y="3751200"/>
            <a:ext cx="3514680" cy="2219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20" name="文本框 10241"/>
          <p:cNvSpPr/>
          <p:nvPr/>
        </p:nvSpPr>
        <p:spPr>
          <a:xfrm>
            <a:off x="914400" y="4068720"/>
            <a:ext cx="3419640" cy="5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行楷"/>
              </a:rPr>
              <a:t>俏皮呆萌，她曾是《杉杉来了》里天真纯洁也为爱执着的白领，薛杉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下弧形箭头 2" descr=""/>
          <p:cNvPicPr/>
          <p:nvPr/>
        </p:nvPicPr>
        <p:blipFill>
          <a:blip r:embed="rId5"/>
          <a:stretch/>
        </p:blipFill>
        <p:spPr>
          <a:xfrm>
            <a:off x="7959600" y="6308640"/>
            <a:ext cx="1017720" cy="474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3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2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7200"/>
                            </p:stCondLst>
                            <p:childTnLst>
                              <p:par>
                                <p:cTn id="218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200"/>
                            </p:stCondLst>
                            <p:childTnLst>
                              <p:par>
                                <p:cTn id="222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2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2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2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3313"/>
          <p:cNvSpPr txBox="1"/>
          <p:nvPr/>
        </p:nvSpPr>
        <p:spPr>
          <a:xfrm>
            <a:off x="1447920" y="1101600"/>
            <a:ext cx="701676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你是星星是我世界里最亮的光芒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3" name="矩形 13315"/>
          <p:cNvSpPr txBox="1"/>
          <p:nvPr/>
        </p:nvSpPr>
        <p:spPr>
          <a:xfrm>
            <a:off x="2063880" y="5772240"/>
            <a:ext cx="6400800" cy="49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第十届金鹰电视艺术节金鹰女神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4" name="矩形 13316"/>
          <p:cNvSpPr txBox="1"/>
          <p:nvPr/>
        </p:nvSpPr>
        <p:spPr>
          <a:xfrm>
            <a:off x="982800" y="5443560"/>
            <a:ext cx="1081080" cy="11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行楷"/>
              </a:rPr>
              <a:t>是</a:t>
            </a:r>
            <a:endParaRPr b="0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5" name="矩形 10244"/>
          <p:cNvSpPr txBox="1"/>
          <p:nvPr/>
        </p:nvSpPr>
        <p:spPr>
          <a:xfrm>
            <a:off x="522360" y="168120"/>
            <a:ext cx="25639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获奖记录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00080" y="1806480"/>
          <a:ext cx="7481880" cy="3521160"/>
        </p:xfrm>
        <a:graphic>
          <a:graphicData uri="http://schemas.openxmlformats.org/drawingml/2006/table">
            <a:tbl>
              <a:tblPr/>
              <a:tblGrid>
                <a:gridCol w="1749600"/>
                <a:gridCol w="5732280"/>
              </a:tblGrid>
              <a:tr h="6271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华文行楷"/>
                        </a:rPr>
                        <a:t>获奖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华文行楷"/>
                        </a:rPr>
                        <a:t>奖项明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90468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凭借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《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花千骨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》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中的表演，获得了第六届澳门国际电视节的最佳女主角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000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十届   金鹰电视艺术节金鹰女神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0468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第四届   国剧盛典最受观众喜爱新人奖   陆贞传奇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4468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c0504d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古装十大美女   新还珠格格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7" name="下弧形箭头 3" descr=""/>
          <p:cNvPicPr/>
          <p:nvPr/>
        </p:nvPicPr>
        <p:blipFill>
          <a:blip r:embed="rId1"/>
          <a:stretch/>
        </p:blipFill>
        <p:spPr>
          <a:xfrm>
            <a:off x="7959600" y="6308640"/>
            <a:ext cx="1017720" cy="4748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249" dur="indefinite" nodeType="after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1265"/>
          <p:cNvSpPr txBox="1"/>
          <p:nvPr/>
        </p:nvSpPr>
        <p:spPr>
          <a:xfrm>
            <a:off x="534960" y="324000"/>
            <a:ext cx="256392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bevel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社会评价</a:t>
            </a:r>
            <a:endParaRPr b="0" lang="en-US" sz="1800" spc="1" strike="noStrike">
              <a:ln w="19080">
                <a:solidFill>
                  <a:srgbClr val="99ccff"/>
                </a:solidFill>
                <a:bevel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9" name="文本框 11266"/>
          <p:cNvSpPr/>
          <p:nvPr/>
        </p:nvSpPr>
        <p:spPr>
          <a:xfrm>
            <a:off x="4524480" y="2117880"/>
            <a:ext cx="457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267"/>
          <p:cNvSpPr/>
          <p:nvPr/>
        </p:nvSpPr>
        <p:spPr>
          <a:xfrm>
            <a:off x="6715080" y="1208160"/>
            <a:ext cx="1962360" cy="49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4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月，电视剧《杉杉来了》在江苏卫视圆满收官，赵丽颖剧中饰演的薛杉杉以“呆萌小吃货”的形象俘获了大批观众，成了网上热议的话题。让素有“收视小天后”称号的赵丽颖展示出了别样的一面。“国民甜心”赵丽颖在此剧中凭借自己乖巧甜美的形象和自然脱俗的演技，再度续写收视传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13</a:t>
            </a:r>
            <a:r>
              <a:rPr b="0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秋天，电影《宫锁沉香》中，赵丽颖沉陷琉璃，演到淋漓尽致火候正当时，运用前后反差，震撼观者之心。通过琉璃这角色的演技锻炼，赵丽颖已有了跨跃式的进步，她已真正走出了“美貌萌妹子”的光环，用角色证明了自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1268" descr="t0174c02861fec6727a"/>
          <p:cNvPicPr/>
          <p:nvPr/>
        </p:nvPicPr>
        <p:blipFill>
          <a:blip r:embed="rId1"/>
          <a:stretch/>
        </p:blipFill>
        <p:spPr>
          <a:xfrm>
            <a:off x="938160" y="1635120"/>
            <a:ext cx="3281400" cy="397512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</p:pic>
      <p:pic>
        <p:nvPicPr>
          <p:cNvPr id="132" name="下弧形箭头 2" descr=""/>
          <p:cNvPicPr/>
          <p:nvPr/>
        </p:nvPicPr>
        <p:blipFill>
          <a:blip r:embed="rId2"/>
          <a:stretch/>
        </p:blipFill>
        <p:spPr>
          <a:xfrm>
            <a:off x="7959600" y="6308640"/>
            <a:ext cx="1017720" cy="4748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100"/>
                            </p:stCondLst>
                            <p:childTnLst>
                              <p:par>
                                <p:cTn id="276" dur="indefinite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8193"/>
          <p:cNvSpPr txBox="1"/>
          <p:nvPr/>
        </p:nvSpPr>
        <p:spPr>
          <a:xfrm>
            <a:off x="708120" y="430200"/>
            <a:ext cx="3657600" cy="46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你就是最初的梦想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34" name="文本框 8194"/>
          <p:cNvSpPr/>
          <p:nvPr/>
        </p:nvSpPr>
        <p:spPr>
          <a:xfrm rot="21540000">
            <a:off x="1034640" y="1455480"/>
            <a:ext cx="43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  <a:ea typeface="华文行楷"/>
              </a:rPr>
              <a:t>你，是坚强勇敢的陆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8195" descr=""/>
          <p:cNvPicPr/>
          <p:nvPr/>
        </p:nvPicPr>
        <p:blipFill>
          <a:blip r:embed="rId1"/>
          <a:stretch/>
        </p:blipFill>
        <p:spPr>
          <a:xfrm>
            <a:off x="1266840" y="2279520"/>
            <a:ext cx="2305080" cy="61056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8196"/>
          <p:cNvSpPr/>
          <p:nvPr/>
        </p:nvSpPr>
        <p:spPr>
          <a:xfrm>
            <a:off x="4559400" y="3405240"/>
            <a:ext cx="40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华文行楷"/>
              </a:rPr>
              <a:t>你，是天真俏皮的红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8197" descr=""/>
          <p:cNvPicPr/>
          <p:nvPr/>
        </p:nvPicPr>
        <p:blipFill>
          <a:blip r:embed="rId2"/>
          <a:stretch/>
        </p:blipFill>
        <p:spPr>
          <a:xfrm>
            <a:off x="4552920" y="4219560"/>
            <a:ext cx="3201840" cy="430056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8198"/>
          <p:cNvSpPr/>
          <p:nvPr/>
        </p:nvSpPr>
        <p:spPr>
          <a:xfrm>
            <a:off x="3535200" y="2460600"/>
            <a:ext cx="419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cc"/>
                </a:solidFill>
                <a:latin typeface="Arial"/>
                <a:ea typeface="华文行楷"/>
              </a:rPr>
              <a:t>你，是不忘初心的花千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4000"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9000"/>
                            </p:stCondLst>
                            <p:childTnLst>
                              <p:par>
                                <p:cTn id="30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申育斐</cp:lastModifiedBy>
  <dcterms:modified xsi:type="dcterms:W3CDTF">2015-12-25T07:57:46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