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5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6.wmf" ContentType="image/x-wmf"/>
  <Override PartName="/ppt/media/image11.png" ContentType="image/png"/>
  <Override PartName="/ppt/media/image3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9.jpeg" ContentType="image/jpeg"/>
  <Override PartName="/ppt/media/image31.jpeg" ContentType="image/jpeg"/>
  <Override PartName="/ppt/media/image41.png" ContentType="image/png"/>
  <Override PartName="/ppt/media/image30.png" ContentType="image/png"/>
  <Override PartName="/ppt/media/image37.jpeg" ContentType="image/jpeg"/>
  <Override PartName="/ppt/media/image40.png" ContentType="image/png"/>
  <Override PartName="/ppt/media/image8.wmf" ContentType="image/x-wmf"/>
  <Override PartName="/ppt/media/image42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89D-E094-42F2-A7A4-5CD5949C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A3E-5606-4DD9-8090-B738CCCA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351-FC96-47E4-BF37-10CBA977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C37-BC3B-4C95-9584-F2748777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DF9-1059-4D63-9217-A5F3CC18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C77-9ECD-40EB-AA9A-710B01BF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49E-7E72-4BD7-BB21-C50E0636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200-C444-42BD-8441-C3425BF6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BC0-B74B-4562-8545-9196650F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F99-6677-4BD5-9D4D-AFAAD0A6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142-E2FA-4B41-9BD9-1AE3818A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BB5-051A-48D8-9626-47545AA6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4f1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a97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7371-906E-4E45-A415-33394A241AE8}" type="datetime">
              <a:rPr b="0" lang="zh-CN" sz="1200" spc="-1" strike="noStrike">
                <a:solidFill>
                  <a:srgbClr val="9a978c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a97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DCBF-7D2D-40B5-A71F-55B2A55C8442}" type="slidenum">
              <a:rPr b="0" lang="zh-CN" sz="1200" spc="-1" strike="noStrike">
                <a:solidFill>
                  <a:srgbClr val="9a97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组合 6" descr=""/>
          <p:cNvPicPr/>
          <p:nvPr/>
        </p:nvPicPr>
        <p:blipFill>
          <a:blip r:embed="rId3"/>
          <a:stretch/>
        </p:blipFill>
        <p:spPr>
          <a:xfrm>
            <a:off x="8972640" y="3151080"/>
            <a:ext cx="4170240" cy="3372120"/>
          </a:xfrm>
          <a:prstGeom prst="rect">
            <a:avLst/>
          </a:prstGeom>
          <a:ln w="0">
            <a:noFill/>
          </a:ln>
        </p:spPr>
      </p:pic>
      <p:sp>
        <p:nvSpPr>
          <p:cNvPr id="42" name="Freeform 1224"/>
          <p:cNvSpPr/>
          <p:nvPr/>
        </p:nvSpPr>
        <p:spPr>
          <a:xfrm flipH="1">
            <a:off x="5495040" y="3911760"/>
            <a:ext cx="4054680" cy="2849400"/>
          </a:xfrm>
          <a:custGeom>
            <a:avLst/>
            <a:gdLst/>
            <a:ahLst/>
            <a:rect l="l" t="t" r="r" b="b"/>
            <a:pathLst>
              <a:path w="1162" h="815">
                <a:moveTo>
                  <a:pt x="1160" y="552"/>
                </a:moveTo>
                <a:cubicBezTo>
                  <a:pt x="1159" y="552"/>
                  <a:pt x="1159" y="552"/>
                  <a:pt x="1158" y="551"/>
                </a:cubicBezTo>
                <a:cubicBezTo>
                  <a:pt x="1161" y="547"/>
                  <a:pt x="1162" y="542"/>
                  <a:pt x="1160" y="537"/>
                </a:cubicBezTo>
                <a:cubicBezTo>
                  <a:pt x="1159" y="534"/>
                  <a:pt x="1156" y="532"/>
                  <a:pt x="1155" y="530"/>
                </a:cubicBezTo>
                <a:cubicBezTo>
                  <a:pt x="1153" y="527"/>
                  <a:pt x="1153" y="523"/>
                  <a:pt x="1151" y="521"/>
                </a:cubicBezTo>
                <a:cubicBezTo>
                  <a:pt x="1148" y="518"/>
                  <a:pt x="1144" y="517"/>
                  <a:pt x="1142" y="514"/>
                </a:cubicBezTo>
                <a:cubicBezTo>
                  <a:pt x="1139" y="512"/>
                  <a:pt x="1138" y="509"/>
                  <a:pt x="1134" y="507"/>
                </a:cubicBezTo>
                <a:cubicBezTo>
                  <a:pt x="1131" y="505"/>
                  <a:pt x="1127" y="503"/>
                  <a:pt x="1123" y="503"/>
                </a:cubicBezTo>
                <a:cubicBezTo>
                  <a:pt x="1127" y="498"/>
                  <a:pt x="1130" y="492"/>
                  <a:pt x="1132" y="486"/>
                </a:cubicBezTo>
                <a:cubicBezTo>
                  <a:pt x="1137" y="477"/>
                  <a:pt x="1140" y="466"/>
                  <a:pt x="1136" y="456"/>
                </a:cubicBezTo>
                <a:cubicBezTo>
                  <a:pt x="1135" y="452"/>
                  <a:pt x="1132" y="448"/>
                  <a:pt x="1128" y="446"/>
                </a:cubicBezTo>
                <a:cubicBezTo>
                  <a:pt x="1126" y="445"/>
                  <a:pt x="1122" y="445"/>
                  <a:pt x="1121" y="442"/>
                </a:cubicBezTo>
                <a:cubicBezTo>
                  <a:pt x="1121" y="439"/>
                  <a:pt x="1121" y="437"/>
                  <a:pt x="1120" y="434"/>
                </a:cubicBezTo>
                <a:cubicBezTo>
                  <a:pt x="1118" y="423"/>
                  <a:pt x="1109" y="413"/>
                  <a:pt x="1098" y="410"/>
                </a:cubicBezTo>
                <a:cubicBezTo>
                  <a:pt x="1086" y="406"/>
                  <a:pt x="1072" y="408"/>
                  <a:pt x="1060" y="410"/>
                </a:cubicBezTo>
                <a:cubicBezTo>
                  <a:pt x="1045" y="413"/>
                  <a:pt x="1030" y="417"/>
                  <a:pt x="1015" y="421"/>
                </a:cubicBezTo>
                <a:cubicBezTo>
                  <a:pt x="1006" y="423"/>
                  <a:pt x="996" y="426"/>
                  <a:pt x="987" y="429"/>
                </a:cubicBezTo>
                <a:cubicBezTo>
                  <a:pt x="988" y="428"/>
                  <a:pt x="989" y="425"/>
                  <a:pt x="989" y="423"/>
                </a:cubicBezTo>
                <a:cubicBezTo>
                  <a:pt x="992" y="419"/>
                  <a:pt x="995" y="414"/>
                  <a:pt x="998" y="410"/>
                </a:cubicBezTo>
                <a:cubicBezTo>
                  <a:pt x="1006" y="400"/>
                  <a:pt x="1016" y="393"/>
                  <a:pt x="1026" y="384"/>
                </a:cubicBezTo>
                <a:cubicBezTo>
                  <a:pt x="1041" y="371"/>
                  <a:pt x="1052" y="354"/>
                  <a:pt x="1050" y="332"/>
                </a:cubicBezTo>
                <a:cubicBezTo>
                  <a:pt x="1048" y="314"/>
                  <a:pt x="1035" y="295"/>
                  <a:pt x="1017" y="290"/>
                </a:cubicBezTo>
                <a:cubicBezTo>
                  <a:pt x="1007" y="288"/>
                  <a:pt x="998" y="287"/>
                  <a:pt x="988" y="289"/>
                </a:cubicBezTo>
                <a:cubicBezTo>
                  <a:pt x="987" y="289"/>
                  <a:pt x="984" y="289"/>
                  <a:pt x="982" y="290"/>
                </a:cubicBezTo>
                <a:cubicBezTo>
                  <a:pt x="988" y="286"/>
                  <a:pt x="993" y="280"/>
                  <a:pt x="997" y="275"/>
                </a:cubicBezTo>
                <a:cubicBezTo>
                  <a:pt x="1002" y="269"/>
                  <a:pt x="1006" y="261"/>
                  <a:pt x="1003" y="253"/>
                </a:cubicBezTo>
                <a:cubicBezTo>
                  <a:pt x="1003" y="252"/>
                  <a:pt x="1002" y="252"/>
                  <a:pt x="1001" y="252"/>
                </a:cubicBezTo>
                <a:cubicBezTo>
                  <a:pt x="1000" y="252"/>
                  <a:pt x="998" y="252"/>
                  <a:pt x="997" y="253"/>
                </a:cubicBezTo>
                <a:cubicBezTo>
                  <a:pt x="994" y="253"/>
                  <a:pt x="994" y="252"/>
                  <a:pt x="995" y="249"/>
                </a:cubicBezTo>
                <a:cubicBezTo>
                  <a:pt x="996" y="248"/>
                  <a:pt x="994" y="246"/>
                  <a:pt x="993" y="246"/>
                </a:cubicBezTo>
                <a:cubicBezTo>
                  <a:pt x="994" y="243"/>
                  <a:pt x="993" y="240"/>
                  <a:pt x="991" y="238"/>
                </a:cubicBezTo>
                <a:cubicBezTo>
                  <a:pt x="988" y="234"/>
                  <a:pt x="984" y="233"/>
                  <a:pt x="980" y="232"/>
                </a:cubicBezTo>
                <a:cubicBezTo>
                  <a:pt x="975" y="231"/>
                  <a:pt x="972" y="225"/>
                  <a:pt x="966" y="225"/>
                </a:cubicBezTo>
                <a:cubicBezTo>
                  <a:pt x="961" y="224"/>
                  <a:pt x="955" y="224"/>
                  <a:pt x="949" y="225"/>
                </a:cubicBezTo>
                <a:cubicBezTo>
                  <a:pt x="934" y="227"/>
                  <a:pt x="920" y="232"/>
                  <a:pt x="905" y="234"/>
                </a:cubicBezTo>
                <a:cubicBezTo>
                  <a:pt x="898" y="235"/>
                  <a:pt x="891" y="235"/>
                  <a:pt x="884" y="237"/>
                </a:cubicBezTo>
                <a:cubicBezTo>
                  <a:pt x="879" y="238"/>
                  <a:pt x="874" y="240"/>
                  <a:pt x="870" y="242"/>
                </a:cubicBezTo>
                <a:cubicBezTo>
                  <a:pt x="870" y="241"/>
                  <a:pt x="871" y="240"/>
                  <a:pt x="872" y="239"/>
                </a:cubicBezTo>
                <a:cubicBezTo>
                  <a:pt x="874" y="236"/>
                  <a:pt x="875" y="234"/>
                  <a:pt x="877" y="232"/>
                </a:cubicBezTo>
                <a:cubicBezTo>
                  <a:pt x="894" y="206"/>
                  <a:pt x="903" y="178"/>
                  <a:pt x="899" y="148"/>
                </a:cubicBezTo>
                <a:cubicBezTo>
                  <a:pt x="895" y="121"/>
                  <a:pt x="885" y="86"/>
                  <a:pt x="857" y="76"/>
                </a:cubicBezTo>
                <a:cubicBezTo>
                  <a:pt x="851" y="73"/>
                  <a:pt x="844" y="69"/>
                  <a:pt x="838" y="70"/>
                </a:cubicBezTo>
                <a:cubicBezTo>
                  <a:pt x="833" y="70"/>
                  <a:pt x="827" y="73"/>
                  <a:pt x="824" y="77"/>
                </a:cubicBezTo>
                <a:cubicBezTo>
                  <a:pt x="822" y="78"/>
                  <a:pt x="819" y="81"/>
                  <a:pt x="816" y="82"/>
                </a:cubicBezTo>
                <a:cubicBezTo>
                  <a:pt x="813" y="82"/>
                  <a:pt x="810" y="81"/>
                  <a:pt x="806" y="80"/>
                </a:cubicBezTo>
                <a:cubicBezTo>
                  <a:pt x="800" y="79"/>
                  <a:pt x="794" y="79"/>
                  <a:pt x="788" y="82"/>
                </a:cubicBezTo>
                <a:cubicBezTo>
                  <a:pt x="775" y="87"/>
                  <a:pt x="763" y="95"/>
                  <a:pt x="752" y="105"/>
                </a:cubicBezTo>
                <a:cubicBezTo>
                  <a:pt x="747" y="110"/>
                  <a:pt x="743" y="116"/>
                  <a:pt x="738" y="121"/>
                </a:cubicBezTo>
                <a:cubicBezTo>
                  <a:pt x="736" y="124"/>
                  <a:pt x="733" y="127"/>
                  <a:pt x="733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29" y="130"/>
                  <a:pt x="729" y="126"/>
                  <a:pt x="727" y="125"/>
                </a:cubicBezTo>
                <a:cubicBezTo>
                  <a:pt x="724" y="123"/>
                  <a:pt x="722" y="123"/>
                  <a:pt x="719" y="123"/>
                </a:cubicBezTo>
                <a:cubicBezTo>
                  <a:pt x="712" y="122"/>
                  <a:pt x="704" y="122"/>
                  <a:pt x="697" y="123"/>
                </a:cubicBezTo>
                <a:cubicBezTo>
                  <a:pt x="689" y="124"/>
                  <a:pt x="681" y="125"/>
                  <a:pt x="673" y="126"/>
                </a:cubicBezTo>
                <a:cubicBezTo>
                  <a:pt x="670" y="127"/>
                  <a:pt x="668" y="127"/>
                  <a:pt x="665" y="128"/>
                </a:cubicBezTo>
                <a:cubicBezTo>
                  <a:pt x="662" y="127"/>
                  <a:pt x="658" y="124"/>
                  <a:pt x="655" y="122"/>
                </a:cubicBezTo>
                <a:cubicBezTo>
                  <a:pt x="652" y="121"/>
                  <a:pt x="648" y="119"/>
                  <a:pt x="645" y="117"/>
                </a:cubicBezTo>
                <a:cubicBezTo>
                  <a:pt x="638" y="114"/>
                  <a:pt x="630" y="111"/>
                  <a:pt x="623" y="109"/>
                </a:cubicBezTo>
                <a:cubicBezTo>
                  <a:pt x="610" y="106"/>
                  <a:pt x="595" y="105"/>
                  <a:pt x="581" y="106"/>
                </a:cubicBezTo>
                <a:cubicBezTo>
                  <a:pt x="567" y="107"/>
                  <a:pt x="554" y="112"/>
                  <a:pt x="543" y="121"/>
                </a:cubicBezTo>
                <a:cubicBezTo>
                  <a:pt x="540" y="124"/>
                  <a:pt x="535" y="128"/>
                  <a:pt x="533" y="132"/>
                </a:cubicBezTo>
                <a:cubicBezTo>
                  <a:pt x="533" y="132"/>
                  <a:pt x="533" y="132"/>
                  <a:pt x="533" y="132"/>
                </a:cubicBezTo>
                <a:cubicBezTo>
                  <a:pt x="530" y="131"/>
                  <a:pt x="528" y="131"/>
                  <a:pt x="525" y="130"/>
                </a:cubicBezTo>
                <a:cubicBezTo>
                  <a:pt x="520" y="116"/>
                  <a:pt x="514" y="101"/>
                  <a:pt x="505" y="89"/>
                </a:cubicBezTo>
                <a:cubicBezTo>
                  <a:pt x="499" y="81"/>
                  <a:pt x="488" y="68"/>
                  <a:pt x="477" y="74"/>
                </a:cubicBezTo>
                <a:cubicBezTo>
                  <a:pt x="474" y="75"/>
                  <a:pt x="472" y="78"/>
                  <a:pt x="469" y="79"/>
                </a:cubicBezTo>
                <a:cubicBezTo>
                  <a:pt x="465" y="81"/>
                  <a:pt x="463" y="78"/>
                  <a:pt x="460" y="76"/>
                </a:cubicBezTo>
                <a:cubicBezTo>
                  <a:pt x="457" y="74"/>
                  <a:pt x="454" y="74"/>
                  <a:pt x="451" y="77"/>
                </a:cubicBezTo>
                <a:cubicBezTo>
                  <a:pt x="450" y="79"/>
                  <a:pt x="449" y="76"/>
                  <a:pt x="447" y="75"/>
                </a:cubicBezTo>
                <a:cubicBezTo>
                  <a:pt x="445" y="73"/>
                  <a:pt x="443" y="72"/>
                  <a:pt x="440" y="71"/>
                </a:cubicBezTo>
                <a:cubicBezTo>
                  <a:pt x="436" y="69"/>
                  <a:pt x="433" y="69"/>
                  <a:pt x="429" y="72"/>
                </a:cubicBezTo>
                <a:cubicBezTo>
                  <a:pt x="424" y="75"/>
                  <a:pt x="419" y="82"/>
                  <a:pt x="415" y="87"/>
                </a:cubicBezTo>
                <a:cubicBezTo>
                  <a:pt x="410" y="92"/>
                  <a:pt x="407" y="99"/>
                  <a:pt x="402" y="105"/>
                </a:cubicBezTo>
                <a:cubicBezTo>
                  <a:pt x="397" y="112"/>
                  <a:pt x="390" y="118"/>
                  <a:pt x="386" y="126"/>
                </a:cubicBezTo>
                <a:cubicBezTo>
                  <a:pt x="383" y="133"/>
                  <a:pt x="381" y="139"/>
                  <a:pt x="380" y="147"/>
                </a:cubicBezTo>
                <a:cubicBezTo>
                  <a:pt x="377" y="162"/>
                  <a:pt x="373" y="177"/>
                  <a:pt x="371" y="192"/>
                </a:cubicBezTo>
                <a:cubicBezTo>
                  <a:pt x="369" y="183"/>
                  <a:pt x="366" y="173"/>
                  <a:pt x="362" y="164"/>
                </a:cubicBezTo>
                <a:cubicBezTo>
                  <a:pt x="357" y="153"/>
                  <a:pt x="351" y="143"/>
                  <a:pt x="344" y="133"/>
                </a:cubicBezTo>
                <a:cubicBezTo>
                  <a:pt x="342" y="129"/>
                  <a:pt x="341" y="125"/>
                  <a:pt x="338" y="122"/>
                </a:cubicBezTo>
                <a:cubicBezTo>
                  <a:pt x="337" y="121"/>
                  <a:pt x="333" y="120"/>
                  <a:pt x="333" y="119"/>
                </a:cubicBezTo>
                <a:cubicBezTo>
                  <a:pt x="332" y="118"/>
                  <a:pt x="331" y="117"/>
                  <a:pt x="330" y="116"/>
                </a:cubicBezTo>
                <a:cubicBezTo>
                  <a:pt x="329" y="114"/>
                  <a:pt x="328" y="113"/>
                  <a:pt x="327" y="111"/>
                </a:cubicBezTo>
                <a:cubicBezTo>
                  <a:pt x="325" y="109"/>
                  <a:pt x="322" y="106"/>
                  <a:pt x="319" y="104"/>
                </a:cubicBezTo>
                <a:cubicBezTo>
                  <a:pt x="319" y="103"/>
                  <a:pt x="319" y="103"/>
                  <a:pt x="319" y="103"/>
                </a:cubicBezTo>
                <a:cubicBezTo>
                  <a:pt x="314" y="98"/>
                  <a:pt x="313" y="88"/>
                  <a:pt x="310" y="82"/>
                </a:cubicBezTo>
                <a:cubicBezTo>
                  <a:pt x="307" y="74"/>
                  <a:pt x="304" y="67"/>
                  <a:pt x="300" y="60"/>
                </a:cubicBezTo>
                <a:cubicBezTo>
                  <a:pt x="296" y="53"/>
                  <a:pt x="291" y="46"/>
                  <a:pt x="286" y="40"/>
                </a:cubicBezTo>
                <a:cubicBezTo>
                  <a:pt x="280" y="33"/>
                  <a:pt x="274" y="26"/>
                  <a:pt x="267" y="20"/>
                </a:cubicBezTo>
                <a:cubicBezTo>
                  <a:pt x="261" y="15"/>
                  <a:pt x="254" y="10"/>
                  <a:pt x="246" y="6"/>
                </a:cubicBezTo>
                <a:cubicBezTo>
                  <a:pt x="244" y="5"/>
                  <a:pt x="238" y="2"/>
                  <a:pt x="236" y="4"/>
                </a:cubicBezTo>
                <a:cubicBezTo>
                  <a:pt x="229" y="0"/>
                  <a:pt x="223" y="18"/>
                  <a:pt x="222" y="23"/>
                </a:cubicBezTo>
                <a:cubicBezTo>
                  <a:pt x="217" y="41"/>
                  <a:pt x="218" y="59"/>
                  <a:pt x="222" y="77"/>
                </a:cubicBezTo>
                <a:cubicBezTo>
                  <a:pt x="227" y="99"/>
                  <a:pt x="234" y="120"/>
                  <a:pt x="245" y="140"/>
                </a:cubicBezTo>
                <a:cubicBezTo>
                  <a:pt x="251" y="150"/>
                  <a:pt x="259" y="158"/>
                  <a:pt x="267" y="167"/>
                </a:cubicBezTo>
                <a:cubicBezTo>
                  <a:pt x="271" y="172"/>
                  <a:pt x="276" y="177"/>
                  <a:pt x="281" y="182"/>
                </a:cubicBezTo>
                <a:cubicBezTo>
                  <a:pt x="269" y="179"/>
                  <a:pt x="256" y="178"/>
                  <a:pt x="244" y="180"/>
                </a:cubicBezTo>
                <a:cubicBezTo>
                  <a:pt x="244" y="176"/>
                  <a:pt x="243" y="172"/>
                  <a:pt x="243" y="168"/>
                </a:cubicBezTo>
                <a:cubicBezTo>
                  <a:pt x="242" y="163"/>
                  <a:pt x="242" y="159"/>
                  <a:pt x="241" y="154"/>
                </a:cubicBezTo>
                <a:cubicBezTo>
                  <a:pt x="239" y="146"/>
                  <a:pt x="237" y="138"/>
                  <a:pt x="233" y="130"/>
                </a:cubicBezTo>
                <a:cubicBezTo>
                  <a:pt x="229" y="122"/>
                  <a:pt x="222" y="115"/>
                  <a:pt x="217" y="107"/>
                </a:cubicBezTo>
                <a:cubicBezTo>
                  <a:pt x="213" y="99"/>
                  <a:pt x="210" y="90"/>
                  <a:pt x="204" y="84"/>
                </a:cubicBezTo>
                <a:cubicBezTo>
                  <a:pt x="199" y="80"/>
                  <a:pt x="196" y="76"/>
                  <a:pt x="193" y="71"/>
                </a:cubicBezTo>
                <a:cubicBezTo>
                  <a:pt x="191" y="68"/>
                  <a:pt x="189" y="65"/>
                  <a:pt x="186" y="63"/>
                </a:cubicBezTo>
                <a:cubicBezTo>
                  <a:pt x="183" y="59"/>
                  <a:pt x="179" y="56"/>
                  <a:pt x="176" y="52"/>
                </a:cubicBezTo>
                <a:cubicBezTo>
                  <a:pt x="170" y="47"/>
                  <a:pt x="162" y="42"/>
                  <a:pt x="156" y="49"/>
                </a:cubicBezTo>
                <a:cubicBezTo>
                  <a:pt x="156" y="49"/>
                  <a:pt x="156" y="49"/>
                  <a:pt x="156" y="49"/>
                </a:cubicBezTo>
                <a:cubicBezTo>
                  <a:pt x="153" y="45"/>
                  <a:pt x="149" y="42"/>
                  <a:pt x="145" y="42"/>
                </a:cubicBezTo>
                <a:cubicBezTo>
                  <a:pt x="138" y="42"/>
                  <a:pt x="131" y="41"/>
                  <a:pt x="126" y="45"/>
                </a:cubicBezTo>
                <a:cubicBezTo>
                  <a:pt x="119" y="50"/>
                  <a:pt x="114" y="58"/>
                  <a:pt x="108" y="65"/>
                </a:cubicBezTo>
                <a:cubicBezTo>
                  <a:pt x="103" y="72"/>
                  <a:pt x="98" y="79"/>
                  <a:pt x="94" y="87"/>
                </a:cubicBezTo>
                <a:cubicBezTo>
                  <a:pt x="87" y="103"/>
                  <a:pt x="77" y="119"/>
                  <a:pt x="74" y="137"/>
                </a:cubicBezTo>
                <a:cubicBezTo>
                  <a:pt x="72" y="145"/>
                  <a:pt x="71" y="154"/>
                  <a:pt x="71" y="163"/>
                </a:cubicBezTo>
                <a:cubicBezTo>
                  <a:pt x="71" y="168"/>
                  <a:pt x="71" y="172"/>
                  <a:pt x="72" y="177"/>
                </a:cubicBezTo>
                <a:cubicBezTo>
                  <a:pt x="72" y="178"/>
                  <a:pt x="72" y="179"/>
                  <a:pt x="72" y="181"/>
                </a:cubicBezTo>
                <a:cubicBezTo>
                  <a:pt x="69" y="178"/>
                  <a:pt x="65" y="177"/>
                  <a:pt x="63" y="173"/>
                </a:cubicBezTo>
                <a:cubicBezTo>
                  <a:pt x="58" y="164"/>
                  <a:pt x="47" y="163"/>
                  <a:pt x="38" y="160"/>
                </a:cubicBezTo>
                <a:cubicBezTo>
                  <a:pt x="35" y="159"/>
                  <a:pt x="32" y="159"/>
                  <a:pt x="30" y="158"/>
                </a:cubicBezTo>
                <a:cubicBezTo>
                  <a:pt x="26" y="152"/>
                  <a:pt x="23" y="145"/>
                  <a:pt x="19" y="139"/>
                </a:cubicBezTo>
                <a:cubicBezTo>
                  <a:pt x="13" y="133"/>
                  <a:pt x="6" y="127"/>
                  <a:pt x="0" y="122"/>
                </a:cubicBezTo>
                <a:cubicBezTo>
                  <a:pt x="0" y="126"/>
                  <a:pt x="0" y="126"/>
                  <a:pt x="0" y="126"/>
                </a:cubicBezTo>
                <a:cubicBezTo>
                  <a:pt x="1" y="127"/>
                  <a:pt x="2" y="128"/>
                  <a:pt x="3" y="129"/>
                </a:cubicBezTo>
                <a:cubicBezTo>
                  <a:pt x="9" y="134"/>
                  <a:pt x="15" y="139"/>
                  <a:pt x="19" y="145"/>
                </a:cubicBezTo>
                <a:cubicBezTo>
                  <a:pt x="22" y="149"/>
                  <a:pt x="24" y="154"/>
                  <a:pt x="27" y="158"/>
                </a:cubicBezTo>
                <a:cubicBezTo>
                  <a:pt x="20" y="157"/>
                  <a:pt x="13" y="158"/>
                  <a:pt x="5" y="160"/>
                </a:cubicBezTo>
                <a:cubicBezTo>
                  <a:pt x="4" y="160"/>
                  <a:pt x="2" y="161"/>
                  <a:pt x="0" y="162"/>
                </a:cubicBezTo>
                <a:cubicBezTo>
                  <a:pt x="1" y="160"/>
                  <a:pt x="0" y="159"/>
                  <a:pt x="0" y="157"/>
                </a:cubicBezTo>
                <a:cubicBezTo>
                  <a:pt x="0" y="166"/>
                  <a:pt x="0" y="166"/>
                  <a:pt x="0" y="166"/>
                </a:cubicBezTo>
                <a:cubicBezTo>
                  <a:pt x="5" y="163"/>
                  <a:pt x="10" y="162"/>
                  <a:pt x="15" y="162"/>
                </a:cubicBezTo>
                <a:cubicBezTo>
                  <a:pt x="27" y="159"/>
                  <a:pt x="38" y="163"/>
                  <a:pt x="49" y="167"/>
                </a:cubicBezTo>
                <a:cubicBezTo>
                  <a:pt x="52" y="168"/>
                  <a:pt x="57" y="169"/>
                  <a:pt x="59" y="173"/>
                </a:cubicBezTo>
                <a:cubicBezTo>
                  <a:pt x="60" y="174"/>
                  <a:pt x="61" y="176"/>
                  <a:pt x="62" y="178"/>
                </a:cubicBezTo>
                <a:cubicBezTo>
                  <a:pt x="65" y="182"/>
                  <a:pt x="70" y="183"/>
                  <a:pt x="73" y="188"/>
                </a:cubicBezTo>
                <a:cubicBezTo>
                  <a:pt x="79" y="197"/>
                  <a:pt x="80" y="209"/>
                  <a:pt x="81" y="220"/>
                </a:cubicBezTo>
                <a:cubicBezTo>
                  <a:pt x="81" y="231"/>
                  <a:pt x="82" y="242"/>
                  <a:pt x="84" y="253"/>
                </a:cubicBezTo>
                <a:cubicBezTo>
                  <a:pt x="86" y="264"/>
                  <a:pt x="87" y="275"/>
                  <a:pt x="90" y="285"/>
                </a:cubicBezTo>
                <a:cubicBezTo>
                  <a:pt x="97" y="304"/>
                  <a:pt x="108" y="320"/>
                  <a:pt x="114" y="338"/>
                </a:cubicBezTo>
                <a:cubicBezTo>
                  <a:pt x="114" y="339"/>
                  <a:pt x="114" y="339"/>
                  <a:pt x="115" y="339"/>
                </a:cubicBezTo>
                <a:cubicBezTo>
                  <a:pt x="115" y="339"/>
                  <a:pt x="115" y="340"/>
                  <a:pt x="115" y="340"/>
                </a:cubicBezTo>
                <a:cubicBezTo>
                  <a:pt x="114" y="343"/>
                  <a:pt x="115" y="346"/>
                  <a:pt x="118" y="348"/>
                </a:cubicBezTo>
                <a:cubicBezTo>
                  <a:pt x="122" y="353"/>
                  <a:pt x="124" y="359"/>
                  <a:pt x="127" y="365"/>
                </a:cubicBezTo>
                <a:cubicBezTo>
                  <a:pt x="128" y="366"/>
                  <a:pt x="131" y="374"/>
                  <a:pt x="129" y="374"/>
                </a:cubicBezTo>
                <a:cubicBezTo>
                  <a:pt x="128" y="374"/>
                  <a:pt x="126" y="374"/>
                  <a:pt x="125" y="374"/>
                </a:cubicBezTo>
                <a:cubicBezTo>
                  <a:pt x="124" y="376"/>
                  <a:pt x="123" y="377"/>
                  <a:pt x="124" y="378"/>
                </a:cubicBezTo>
                <a:cubicBezTo>
                  <a:pt x="118" y="374"/>
                  <a:pt x="115" y="366"/>
                  <a:pt x="109" y="361"/>
                </a:cubicBezTo>
                <a:cubicBezTo>
                  <a:pt x="108" y="360"/>
                  <a:pt x="106" y="360"/>
                  <a:pt x="106" y="362"/>
                </a:cubicBezTo>
                <a:cubicBezTo>
                  <a:pt x="105" y="367"/>
                  <a:pt x="108" y="371"/>
                  <a:pt x="110" y="375"/>
                </a:cubicBezTo>
                <a:cubicBezTo>
                  <a:pt x="110" y="375"/>
                  <a:pt x="114" y="383"/>
                  <a:pt x="112" y="382"/>
                </a:cubicBezTo>
                <a:cubicBezTo>
                  <a:pt x="110" y="382"/>
                  <a:pt x="107" y="380"/>
                  <a:pt x="105" y="379"/>
                </a:cubicBezTo>
                <a:cubicBezTo>
                  <a:pt x="102" y="378"/>
                  <a:pt x="98" y="378"/>
                  <a:pt x="97" y="381"/>
                </a:cubicBezTo>
                <a:cubicBezTo>
                  <a:pt x="96" y="382"/>
                  <a:pt x="96" y="382"/>
                  <a:pt x="96" y="382"/>
                </a:cubicBezTo>
                <a:cubicBezTo>
                  <a:pt x="90" y="377"/>
                  <a:pt x="82" y="372"/>
                  <a:pt x="75" y="368"/>
                </a:cubicBezTo>
                <a:cubicBezTo>
                  <a:pt x="66" y="363"/>
                  <a:pt x="57" y="357"/>
                  <a:pt x="47" y="352"/>
                </a:cubicBezTo>
                <a:cubicBezTo>
                  <a:pt x="38" y="348"/>
                  <a:pt x="29" y="342"/>
                  <a:pt x="20" y="337"/>
                </a:cubicBezTo>
                <a:cubicBezTo>
                  <a:pt x="13" y="333"/>
                  <a:pt x="7" y="329"/>
                  <a:pt x="0" y="326"/>
                </a:cubicBezTo>
                <a:cubicBezTo>
                  <a:pt x="0" y="330"/>
                  <a:pt x="0" y="330"/>
                  <a:pt x="0" y="330"/>
                </a:cubicBezTo>
                <a:cubicBezTo>
                  <a:pt x="7" y="333"/>
                  <a:pt x="13" y="337"/>
                  <a:pt x="20" y="341"/>
                </a:cubicBezTo>
                <a:cubicBezTo>
                  <a:pt x="29" y="346"/>
                  <a:pt x="38" y="351"/>
                  <a:pt x="47" y="356"/>
                </a:cubicBezTo>
                <a:cubicBezTo>
                  <a:pt x="52" y="359"/>
                  <a:pt x="56" y="361"/>
                  <a:pt x="61" y="363"/>
                </a:cubicBezTo>
                <a:cubicBezTo>
                  <a:pt x="60" y="363"/>
                  <a:pt x="59" y="363"/>
                  <a:pt x="58" y="363"/>
                </a:cubicBezTo>
                <a:cubicBezTo>
                  <a:pt x="56" y="362"/>
                  <a:pt x="54" y="360"/>
                  <a:pt x="51" y="359"/>
                </a:cubicBezTo>
                <a:cubicBezTo>
                  <a:pt x="51" y="359"/>
                  <a:pt x="50" y="359"/>
                  <a:pt x="50" y="359"/>
                </a:cubicBezTo>
                <a:cubicBezTo>
                  <a:pt x="48" y="357"/>
                  <a:pt x="45" y="356"/>
                  <a:pt x="43" y="356"/>
                </a:cubicBezTo>
                <a:cubicBezTo>
                  <a:pt x="32" y="352"/>
                  <a:pt x="20" y="349"/>
                  <a:pt x="9" y="348"/>
                </a:cubicBezTo>
                <a:cubicBezTo>
                  <a:pt x="6" y="348"/>
                  <a:pt x="3" y="348"/>
                  <a:pt x="0" y="347"/>
                </a:cubicBezTo>
                <a:cubicBezTo>
                  <a:pt x="0" y="350"/>
                  <a:pt x="0" y="350"/>
                  <a:pt x="0" y="350"/>
                </a:cubicBezTo>
                <a:cubicBezTo>
                  <a:pt x="12" y="352"/>
                  <a:pt x="25" y="353"/>
                  <a:pt x="37" y="356"/>
                </a:cubicBezTo>
                <a:cubicBezTo>
                  <a:pt x="41" y="357"/>
                  <a:pt x="45" y="359"/>
                  <a:pt x="48" y="360"/>
                </a:cubicBezTo>
                <a:cubicBezTo>
                  <a:pt x="48" y="360"/>
                  <a:pt x="48" y="361"/>
                  <a:pt x="48" y="361"/>
                </a:cubicBezTo>
                <a:cubicBezTo>
                  <a:pt x="51" y="366"/>
                  <a:pt x="54" y="370"/>
                  <a:pt x="56" y="374"/>
                </a:cubicBezTo>
                <a:cubicBezTo>
                  <a:pt x="59" y="380"/>
                  <a:pt x="61" y="386"/>
                  <a:pt x="64" y="392"/>
                </a:cubicBezTo>
                <a:cubicBezTo>
                  <a:pt x="70" y="403"/>
                  <a:pt x="78" y="412"/>
                  <a:pt x="87" y="421"/>
                </a:cubicBezTo>
                <a:cubicBezTo>
                  <a:pt x="91" y="425"/>
                  <a:pt x="96" y="428"/>
                  <a:pt x="101" y="432"/>
                </a:cubicBezTo>
                <a:cubicBezTo>
                  <a:pt x="107" y="436"/>
                  <a:pt x="111" y="442"/>
                  <a:pt x="115" y="448"/>
                </a:cubicBezTo>
                <a:cubicBezTo>
                  <a:pt x="122" y="460"/>
                  <a:pt x="126" y="473"/>
                  <a:pt x="131" y="485"/>
                </a:cubicBezTo>
                <a:cubicBezTo>
                  <a:pt x="131" y="485"/>
                  <a:pt x="131" y="486"/>
                  <a:pt x="131" y="486"/>
                </a:cubicBezTo>
                <a:cubicBezTo>
                  <a:pt x="130" y="489"/>
                  <a:pt x="131" y="492"/>
                  <a:pt x="132" y="495"/>
                </a:cubicBezTo>
                <a:cubicBezTo>
                  <a:pt x="134" y="499"/>
                  <a:pt x="135" y="503"/>
                  <a:pt x="135" y="507"/>
                </a:cubicBezTo>
                <a:cubicBezTo>
                  <a:pt x="136" y="515"/>
                  <a:pt x="137" y="524"/>
                  <a:pt x="142" y="531"/>
                </a:cubicBezTo>
                <a:cubicBezTo>
                  <a:pt x="146" y="535"/>
                  <a:pt x="151" y="538"/>
                  <a:pt x="154" y="542"/>
                </a:cubicBezTo>
                <a:cubicBezTo>
                  <a:pt x="158" y="545"/>
                  <a:pt x="162" y="549"/>
                  <a:pt x="166" y="553"/>
                </a:cubicBezTo>
                <a:cubicBezTo>
                  <a:pt x="175" y="561"/>
                  <a:pt x="184" y="569"/>
                  <a:pt x="194" y="575"/>
                </a:cubicBezTo>
                <a:cubicBezTo>
                  <a:pt x="204" y="582"/>
                  <a:pt x="213" y="588"/>
                  <a:pt x="224" y="594"/>
                </a:cubicBezTo>
                <a:cubicBezTo>
                  <a:pt x="228" y="596"/>
                  <a:pt x="232" y="598"/>
                  <a:pt x="237" y="599"/>
                </a:cubicBezTo>
                <a:cubicBezTo>
                  <a:pt x="243" y="600"/>
                  <a:pt x="248" y="602"/>
                  <a:pt x="253" y="606"/>
                </a:cubicBezTo>
                <a:cubicBezTo>
                  <a:pt x="257" y="609"/>
                  <a:pt x="261" y="612"/>
                  <a:pt x="265" y="615"/>
                </a:cubicBezTo>
                <a:cubicBezTo>
                  <a:pt x="270" y="618"/>
                  <a:pt x="272" y="621"/>
                  <a:pt x="275" y="626"/>
                </a:cubicBezTo>
                <a:cubicBezTo>
                  <a:pt x="270" y="632"/>
                  <a:pt x="277" y="639"/>
                  <a:pt x="281" y="643"/>
                </a:cubicBezTo>
                <a:cubicBezTo>
                  <a:pt x="291" y="651"/>
                  <a:pt x="296" y="663"/>
                  <a:pt x="303" y="673"/>
                </a:cubicBezTo>
                <a:cubicBezTo>
                  <a:pt x="312" y="684"/>
                  <a:pt x="322" y="694"/>
                  <a:pt x="329" y="706"/>
                </a:cubicBezTo>
                <a:cubicBezTo>
                  <a:pt x="334" y="716"/>
                  <a:pt x="340" y="726"/>
                  <a:pt x="345" y="736"/>
                </a:cubicBezTo>
                <a:cubicBezTo>
                  <a:pt x="348" y="741"/>
                  <a:pt x="351" y="747"/>
                  <a:pt x="353" y="753"/>
                </a:cubicBezTo>
                <a:cubicBezTo>
                  <a:pt x="354" y="758"/>
                  <a:pt x="352" y="762"/>
                  <a:pt x="352" y="766"/>
                </a:cubicBezTo>
                <a:cubicBezTo>
                  <a:pt x="352" y="768"/>
                  <a:pt x="353" y="770"/>
                  <a:pt x="353" y="771"/>
                </a:cubicBezTo>
                <a:cubicBezTo>
                  <a:pt x="353" y="771"/>
                  <a:pt x="353" y="772"/>
                  <a:pt x="353" y="772"/>
                </a:cubicBezTo>
                <a:cubicBezTo>
                  <a:pt x="352" y="777"/>
                  <a:pt x="353" y="783"/>
                  <a:pt x="353" y="789"/>
                </a:cubicBezTo>
                <a:cubicBezTo>
                  <a:pt x="354" y="795"/>
                  <a:pt x="354" y="800"/>
                  <a:pt x="354" y="806"/>
                </a:cubicBezTo>
                <a:cubicBezTo>
                  <a:pt x="353" y="809"/>
                  <a:pt x="353" y="812"/>
                  <a:pt x="352" y="815"/>
                </a:cubicBezTo>
                <a:cubicBezTo>
                  <a:pt x="356" y="815"/>
                  <a:pt x="356" y="815"/>
                  <a:pt x="356" y="815"/>
                </a:cubicBezTo>
                <a:cubicBezTo>
                  <a:pt x="357" y="810"/>
                  <a:pt x="357" y="805"/>
                  <a:pt x="357" y="800"/>
                </a:cubicBezTo>
                <a:cubicBezTo>
                  <a:pt x="357" y="791"/>
                  <a:pt x="357" y="782"/>
                  <a:pt x="356" y="774"/>
                </a:cubicBezTo>
                <a:cubicBezTo>
                  <a:pt x="358" y="775"/>
                  <a:pt x="362" y="775"/>
                  <a:pt x="366" y="773"/>
                </a:cubicBezTo>
                <a:cubicBezTo>
                  <a:pt x="373" y="770"/>
                  <a:pt x="385" y="768"/>
                  <a:pt x="389" y="760"/>
                </a:cubicBezTo>
                <a:cubicBezTo>
                  <a:pt x="393" y="752"/>
                  <a:pt x="394" y="744"/>
                  <a:pt x="392" y="735"/>
                </a:cubicBezTo>
                <a:cubicBezTo>
                  <a:pt x="392" y="735"/>
                  <a:pt x="393" y="735"/>
                  <a:pt x="393" y="735"/>
                </a:cubicBezTo>
                <a:cubicBezTo>
                  <a:pt x="393" y="735"/>
                  <a:pt x="394" y="734"/>
                  <a:pt x="393" y="734"/>
                </a:cubicBezTo>
                <a:cubicBezTo>
                  <a:pt x="392" y="731"/>
                  <a:pt x="391" y="729"/>
                  <a:pt x="390" y="726"/>
                </a:cubicBezTo>
                <a:cubicBezTo>
                  <a:pt x="391" y="727"/>
                  <a:pt x="393" y="728"/>
                  <a:pt x="394" y="729"/>
                </a:cubicBezTo>
                <a:cubicBezTo>
                  <a:pt x="397" y="730"/>
                  <a:pt x="399" y="731"/>
                  <a:pt x="402" y="732"/>
                </a:cubicBezTo>
                <a:cubicBezTo>
                  <a:pt x="398" y="732"/>
                  <a:pt x="396" y="739"/>
                  <a:pt x="397" y="743"/>
                </a:cubicBezTo>
                <a:cubicBezTo>
                  <a:pt x="397" y="743"/>
                  <a:pt x="398" y="743"/>
                  <a:pt x="398" y="743"/>
                </a:cubicBezTo>
                <a:cubicBezTo>
                  <a:pt x="399" y="740"/>
                  <a:pt x="400" y="732"/>
                  <a:pt x="404" y="733"/>
                </a:cubicBezTo>
                <a:cubicBezTo>
                  <a:pt x="405" y="733"/>
                  <a:pt x="405" y="732"/>
                  <a:pt x="405" y="732"/>
                </a:cubicBezTo>
                <a:cubicBezTo>
                  <a:pt x="411" y="732"/>
                  <a:pt x="417" y="731"/>
                  <a:pt x="421" y="726"/>
                </a:cubicBezTo>
                <a:cubicBezTo>
                  <a:pt x="420" y="728"/>
                  <a:pt x="421" y="730"/>
                  <a:pt x="421" y="732"/>
                </a:cubicBezTo>
                <a:cubicBezTo>
                  <a:pt x="427" y="752"/>
                  <a:pt x="465" y="751"/>
                  <a:pt x="469" y="732"/>
                </a:cubicBezTo>
                <a:cubicBezTo>
                  <a:pt x="469" y="732"/>
                  <a:pt x="470" y="731"/>
                  <a:pt x="470" y="731"/>
                </a:cubicBezTo>
                <a:cubicBezTo>
                  <a:pt x="469" y="734"/>
                  <a:pt x="468" y="736"/>
                  <a:pt x="467" y="738"/>
                </a:cubicBezTo>
                <a:cubicBezTo>
                  <a:pt x="463" y="745"/>
                  <a:pt x="455" y="749"/>
                  <a:pt x="447" y="750"/>
                </a:cubicBezTo>
                <a:cubicBezTo>
                  <a:pt x="439" y="751"/>
                  <a:pt x="431" y="750"/>
                  <a:pt x="425" y="746"/>
                </a:cubicBezTo>
                <a:cubicBezTo>
                  <a:pt x="419" y="743"/>
                  <a:pt x="415" y="738"/>
                  <a:pt x="411" y="732"/>
                </a:cubicBezTo>
                <a:cubicBezTo>
                  <a:pt x="411" y="732"/>
                  <a:pt x="410" y="732"/>
                  <a:pt x="410" y="733"/>
                </a:cubicBezTo>
                <a:cubicBezTo>
                  <a:pt x="412" y="749"/>
                  <a:pt x="433" y="756"/>
                  <a:pt x="447" y="753"/>
                </a:cubicBezTo>
                <a:cubicBezTo>
                  <a:pt x="453" y="752"/>
                  <a:pt x="459" y="751"/>
                  <a:pt x="463" y="748"/>
                </a:cubicBezTo>
                <a:cubicBezTo>
                  <a:pt x="461" y="759"/>
                  <a:pt x="460" y="772"/>
                  <a:pt x="458" y="784"/>
                </a:cubicBezTo>
                <a:cubicBezTo>
                  <a:pt x="456" y="793"/>
                  <a:pt x="454" y="803"/>
                  <a:pt x="454" y="812"/>
                </a:cubicBezTo>
                <a:cubicBezTo>
                  <a:pt x="454" y="813"/>
                  <a:pt x="454" y="813"/>
                  <a:pt x="454" y="813"/>
                </a:cubicBezTo>
                <a:cubicBezTo>
                  <a:pt x="453" y="805"/>
                  <a:pt x="453" y="798"/>
                  <a:pt x="455" y="791"/>
                </a:cubicBezTo>
                <a:cubicBezTo>
                  <a:pt x="455" y="790"/>
                  <a:pt x="454" y="790"/>
                  <a:pt x="454" y="790"/>
                </a:cubicBezTo>
                <a:cubicBezTo>
                  <a:pt x="450" y="797"/>
                  <a:pt x="450" y="806"/>
                  <a:pt x="451" y="814"/>
                </a:cubicBezTo>
                <a:cubicBezTo>
                  <a:pt x="451" y="814"/>
                  <a:pt x="451" y="815"/>
                  <a:pt x="451" y="815"/>
                </a:cubicBezTo>
                <a:cubicBezTo>
                  <a:pt x="459" y="815"/>
                  <a:pt x="459" y="815"/>
                  <a:pt x="459" y="815"/>
                </a:cubicBezTo>
                <a:cubicBezTo>
                  <a:pt x="476" y="808"/>
                  <a:pt x="492" y="798"/>
                  <a:pt x="507" y="788"/>
                </a:cubicBezTo>
                <a:cubicBezTo>
                  <a:pt x="525" y="776"/>
                  <a:pt x="543" y="763"/>
                  <a:pt x="561" y="752"/>
                </a:cubicBezTo>
                <a:cubicBezTo>
                  <a:pt x="579" y="740"/>
                  <a:pt x="597" y="727"/>
                  <a:pt x="616" y="716"/>
                </a:cubicBezTo>
                <a:cubicBezTo>
                  <a:pt x="631" y="707"/>
                  <a:pt x="645" y="697"/>
                  <a:pt x="658" y="686"/>
                </a:cubicBezTo>
                <a:cubicBezTo>
                  <a:pt x="653" y="695"/>
                  <a:pt x="653" y="705"/>
                  <a:pt x="660" y="713"/>
                </a:cubicBezTo>
                <a:cubicBezTo>
                  <a:pt x="662" y="716"/>
                  <a:pt x="665" y="718"/>
                  <a:pt x="668" y="720"/>
                </a:cubicBezTo>
                <a:cubicBezTo>
                  <a:pt x="664" y="721"/>
                  <a:pt x="661" y="724"/>
                  <a:pt x="658" y="726"/>
                </a:cubicBezTo>
                <a:cubicBezTo>
                  <a:pt x="651" y="731"/>
                  <a:pt x="645" y="736"/>
                  <a:pt x="638" y="741"/>
                </a:cubicBezTo>
                <a:cubicBezTo>
                  <a:pt x="628" y="749"/>
                  <a:pt x="617" y="756"/>
                  <a:pt x="606" y="762"/>
                </a:cubicBezTo>
                <a:cubicBezTo>
                  <a:pt x="596" y="767"/>
                  <a:pt x="586" y="774"/>
                  <a:pt x="577" y="781"/>
                </a:cubicBezTo>
                <a:cubicBezTo>
                  <a:pt x="560" y="794"/>
                  <a:pt x="541" y="804"/>
                  <a:pt x="523" y="815"/>
                </a:cubicBezTo>
                <a:cubicBezTo>
                  <a:pt x="530" y="815"/>
                  <a:pt x="530" y="815"/>
                  <a:pt x="530" y="815"/>
                </a:cubicBezTo>
                <a:cubicBezTo>
                  <a:pt x="546" y="805"/>
                  <a:pt x="563" y="795"/>
                  <a:pt x="578" y="784"/>
                </a:cubicBezTo>
                <a:cubicBezTo>
                  <a:pt x="597" y="771"/>
                  <a:pt x="617" y="760"/>
                  <a:pt x="636" y="747"/>
                </a:cubicBezTo>
                <a:cubicBezTo>
                  <a:pt x="643" y="742"/>
                  <a:pt x="649" y="738"/>
                  <a:pt x="656" y="732"/>
                </a:cubicBezTo>
                <a:cubicBezTo>
                  <a:pt x="660" y="729"/>
                  <a:pt x="666" y="721"/>
                  <a:pt x="672" y="721"/>
                </a:cubicBezTo>
                <a:cubicBezTo>
                  <a:pt x="676" y="721"/>
                  <a:pt x="680" y="721"/>
                  <a:pt x="684" y="720"/>
                </a:cubicBezTo>
                <a:cubicBezTo>
                  <a:pt x="689" y="718"/>
                  <a:pt x="693" y="716"/>
                  <a:pt x="698" y="714"/>
                </a:cubicBezTo>
                <a:cubicBezTo>
                  <a:pt x="702" y="713"/>
                  <a:pt x="706" y="713"/>
                  <a:pt x="710" y="712"/>
                </a:cubicBezTo>
                <a:cubicBezTo>
                  <a:pt x="712" y="713"/>
                  <a:pt x="715" y="714"/>
                  <a:pt x="719" y="714"/>
                </a:cubicBezTo>
                <a:cubicBezTo>
                  <a:pt x="727" y="715"/>
                  <a:pt x="736" y="713"/>
                  <a:pt x="741" y="706"/>
                </a:cubicBezTo>
                <a:cubicBezTo>
                  <a:pt x="744" y="702"/>
                  <a:pt x="747" y="698"/>
                  <a:pt x="747" y="693"/>
                </a:cubicBezTo>
                <a:cubicBezTo>
                  <a:pt x="747" y="692"/>
                  <a:pt x="748" y="691"/>
                  <a:pt x="748" y="690"/>
                </a:cubicBezTo>
                <a:cubicBezTo>
                  <a:pt x="751" y="688"/>
                  <a:pt x="754" y="686"/>
                  <a:pt x="757" y="683"/>
                </a:cubicBezTo>
                <a:cubicBezTo>
                  <a:pt x="769" y="675"/>
                  <a:pt x="780" y="665"/>
                  <a:pt x="792" y="656"/>
                </a:cubicBezTo>
                <a:cubicBezTo>
                  <a:pt x="802" y="647"/>
                  <a:pt x="813" y="639"/>
                  <a:pt x="821" y="628"/>
                </a:cubicBezTo>
                <a:cubicBezTo>
                  <a:pt x="821" y="628"/>
                  <a:pt x="821" y="628"/>
                  <a:pt x="821" y="629"/>
                </a:cubicBezTo>
                <a:cubicBezTo>
                  <a:pt x="822" y="644"/>
                  <a:pt x="825" y="659"/>
                  <a:pt x="830" y="673"/>
                </a:cubicBezTo>
                <a:cubicBezTo>
                  <a:pt x="833" y="681"/>
                  <a:pt x="836" y="688"/>
                  <a:pt x="840" y="695"/>
                </a:cubicBezTo>
                <a:cubicBezTo>
                  <a:pt x="843" y="702"/>
                  <a:pt x="846" y="709"/>
                  <a:pt x="850" y="715"/>
                </a:cubicBezTo>
                <a:cubicBezTo>
                  <a:pt x="858" y="725"/>
                  <a:pt x="868" y="734"/>
                  <a:pt x="881" y="735"/>
                </a:cubicBezTo>
                <a:cubicBezTo>
                  <a:pt x="888" y="736"/>
                  <a:pt x="895" y="735"/>
                  <a:pt x="902" y="735"/>
                </a:cubicBezTo>
                <a:cubicBezTo>
                  <a:pt x="910" y="735"/>
                  <a:pt x="917" y="735"/>
                  <a:pt x="924" y="734"/>
                </a:cubicBezTo>
                <a:cubicBezTo>
                  <a:pt x="932" y="733"/>
                  <a:pt x="940" y="732"/>
                  <a:pt x="948" y="729"/>
                </a:cubicBezTo>
                <a:cubicBezTo>
                  <a:pt x="953" y="727"/>
                  <a:pt x="960" y="725"/>
                  <a:pt x="965" y="721"/>
                </a:cubicBezTo>
                <a:cubicBezTo>
                  <a:pt x="973" y="712"/>
                  <a:pt x="980" y="697"/>
                  <a:pt x="980" y="684"/>
                </a:cubicBezTo>
                <a:cubicBezTo>
                  <a:pt x="980" y="670"/>
                  <a:pt x="973" y="658"/>
                  <a:pt x="967" y="646"/>
                </a:cubicBezTo>
                <a:cubicBezTo>
                  <a:pt x="960" y="631"/>
                  <a:pt x="953" y="616"/>
                  <a:pt x="943" y="603"/>
                </a:cubicBezTo>
                <a:cubicBezTo>
                  <a:pt x="940" y="599"/>
                  <a:pt x="936" y="593"/>
                  <a:pt x="931" y="588"/>
                </a:cubicBezTo>
                <a:cubicBezTo>
                  <a:pt x="935" y="588"/>
                  <a:pt x="939" y="588"/>
                  <a:pt x="942" y="588"/>
                </a:cubicBezTo>
                <a:cubicBezTo>
                  <a:pt x="943" y="589"/>
                  <a:pt x="943" y="589"/>
                  <a:pt x="944" y="589"/>
                </a:cubicBezTo>
                <a:cubicBezTo>
                  <a:pt x="947" y="588"/>
                  <a:pt x="954" y="592"/>
                  <a:pt x="957" y="593"/>
                </a:cubicBezTo>
                <a:cubicBezTo>
                  <a:pt x="961" y="594"/>
                  <a:pt x="966" y="596"/>
                  <a:pt x="970" y="598"/>
                </a:cubicBezTo>
                <a:cubicBezTo>
                  <a:pt x="977" y="600"/>
                  <a:pt x="984" y="600"/>
                  <a:pt x="991" y="600"/>
                </a:cubicBezTo>
                <a:cubicBezTo>
                  <a:pt x="997" y="601"/>
                  <a:pt x="1003" y="601"/>
                  <a:pt x="1009" y="600"/>
                </a:cubicBezTo>
                <a:cubicBezTo>
                  <a:pt x="1023" y="598"/>
                  <a:pt x="1036" y="595"/>
                  <a:pt x="1050" y="593"/>
                </a:cubicBezTo>
                <a:cubicBezTo>
                  <a:pt x="1057" y="592"/>
                  <a:pt x="1064" y="590"/>
                  <a:pt x="1071" y="589"/>
                </a:cubicBezTo>
                <a:cubicBezTo>
                  <a:pt x="1078" y="589"/>
                  <a:pt x="1084" y="588"/>
                  <a:pt x="1091" y="588"/>
                </a:cubicBezTo>
                <a:cubicBezTo>
                  <a:pt x="1098" y="587"/>
                  <a:pt x="1105" y="585"/>
                  <a:pt x="1112" y="582"/>
                </a:cubicBezTo>
                <a:cubicBezTo>
                  <a:pt x="1119" y="579"/>
                  <a:pt x="1127" y="576"/>
                  <a:pt x="1135" y="574"/>
                </a:cubicBezTo>
                <a:cubicBezTo>
                  <a:pt x="1143" y="571"/>
                  <a:pt x="1155" y="567"/>
                  <a:pt x="1159" y="560"/>
                </a:cubicBezTo>
                <a:cubicBezTo>
                  <a:pt x="1161" y="558"/>
                  <a:pt x="1162" y="554"/>
                  <a:pt x="1160" y="552"/>
                </a:cubicBezTo>
                <a:close/>
                <a:moveTo>
                  <a:pt x="1016" y="424"/>
                </a:moveTo>
                <a:cubicBezTo>
                  <a:pt x="1028" y="421"/>
                  <a:pt x="1041" y="418"/>
                  <a:pt x="1054" y="415"/>
                </a:cubicBezTo>
                <a:cubicBezTo>
                  <a:pt x="1065" y="413"/>
                  <a:pt x="1078" y="410"/>
                  <a:pt x="1090" y="412"/>
                </a:cubicBezTo>
                <a:cubicBezTo>
                  <a:pt x="1103" y="414"/>
                  <a:pt x="1115" y="423"/>
                  <a:pt x="1117" y="436"/>
                </a:cubicBezTo>
                <a:cubicBezTo>
                  <a:pt x="1118" y="439"/>
                  <a:pt x="1117" y="445"/>
                  <a:pt x="1120" y="447"/>
                </a:cubicBezTo>
                <a:cubicBezTo>
                  <a:pt x="1125" y="449"/>
                  <a:pt x="1129" y="449"/>
                  <a:pt x="1132" y="454"/>
                </a:cubicBezTo>
                <a:cubicBezTo>
                  <a:pt x="1137" y="464"/>
                  <a:pt x="1134" y="477"/>
                  <a:pt x="1129" y="486"/>
                </a:cubicBezTo>
                <a:cubicBezTo>
                  <a:pt x="1123" y="498"/>
                  <a:pt x="1116" y="510"/>
                  <a:pt x="1108" y="519"/>
                </a:cubicBezTo>
                <a:cubicBezTo>
                  <a:pt x="1103" y="524"/>
                  <a:pt x="1099" y="528"/>
                  <a:pt x="1095" y="533"/>
                </a:cubicBezTo>
                <a:cubicBezTo>
                  <a:pt x="1092" y="536"/>
                  <a:pt x="1089" y="540"/>
                  <a:pt x="1084" y="541"/>
                </a:cubicBezTo>
                <a:cubicBezTo>
                  <a:pt x="1084" y="541"/>
                  <a:pt x="1084" y="541"/>
                  <a:pt x="1084" y="541"/>
                </a:cubicBezTo>
                <a:cubicBezTo>
                  <a:pt x="1078" y="541"/>
                  <a:pt x="1072" y="542"/>
                  <a:pt x="1066" y="542"/>
                </a:cubicBezTo>
                <a:cubicBezTo>
                  <a:pt x="1049" y="544"/>
                  <a:pt x="1033" y="545"/>
                  <a:pt x="1016" y="545"/>
                </a:cubicBezTo>
                <a:cubicBezTo>
                  <a:pt x="1007" y="545"/>
                  <a:pt x="998" y="545"/>
                  <a:pt x="989" y="545"/>
                </a:cubicBezTo>
                <a:cubicBezTo>
                  <a:pt x="991" y="544"/>
                  <a:pt x="992" y="544"/>
                  <a:pt x="994" y="544"/>
                </a:cubicBezTo>
                <a:cubicBezTo>
                  <a:pt x="996" y="544"/>
                  <a:pt x="999" y="544"/>
                  <a:pt x="1002" y="544"/>
                </a:cubicBezTo>
                <a:cubicBezTo>
                  <a:pt x="1001" y="544"/>
                  <a:pt x="1001" y="544"/>
                  <a:pt x="1001" y="544"/>
                </a:cubicBezTo>
                <a:cubicBezTo>
                  <a:pt x="1001" y="544"/>
                  <a:pt x="1001" y="545"/>
                  <a:pt x="1001" y="545"/>
                </a:cubicBezTo>
                <a:cubicBezTo>
                  <a:pt x="1005" y="545"/>
                  <a:pt x="1008" y="544"/>
                  <a:pt x="1012" y="544"/>
                </a:cubicBezTo>
                <a:cubicBezTo>
                  <a:pt x="1013" y="544"/>
                  <a:pt x="1014" y="544"/>
                  <a:pt x="1015" y="544"/>
                </a:cubicBezTo>
                <a:cubicBezTo>
                  <a:pt x="1021" y="544"/>
                  <a:pt x="1027" y="544"/>
                  <a:pt x="1033" y="543"/>
                </a:cubicBezTo>
                <a:cubicBezTo>
                  <a:pt x="1040" y="541"/>
                  <a:pt x="1045" y="539"/>
                  <a:pt x="1051" y="537"/>
                </a:cubicBezTo>
                <a:cubicBezTo>
                  <a:pt x="1052" y="537"/>
                  <a:pt x="1051" y="536"/>
                  <a:pt x="1051" y="536"/>
                </a:cubicBezTo>
                <a:cubicBezTo>
                  <a:pt x="1045" y="538"/>
                  <a:pt x="1038" y="540"/>
                  <a:pt x="1031" y="541"/>
                </a:cubicBezTo>
                <a:cubicBezTo>
                  <a:pt x="1030" y="541"/>
                  <a:pt x="1028" y="541"/>
                  <a:pt x="1026" y="541"/>
                </a:cubicBezTo>
                <a:cubicBezTo>
                  <a:pt x="1033" y="540"/>
                  <a:pt x="1038" y="537"/>
                  <a:pt x="1044" y="536"/>
                </a:cubicBezTo>
                <a:cubicBezTo>
                  <a:pt x="1045" y="535"/>
                  <a:pt x="1045" y="535"/>
                  <a:pt x="1044" y="535"/>
                </a:cubicBezTo>
                <a:cubicBezTo>
                  <a:pt x="1037" y="536"/>
                  <a:pt x="1029" y="539"/>
                  <a:pt x="1022" y="540"/>
                </a:cubicBezTo>
                <a:cubicBezTo>
                  <a:pt x="1018" y="541"/>
                  <a:pt x="1015" y="541"/>
                  <a:pt x="1011" y="541"/>
                </a:cubicBezTo>
                <a:cubicBezTo>
                  <a:pt x="1011" y="541"/>
                  <a:pt x="1010" y="541"/>
                  <a:pt x="1010" y="541"/>
                </a:cubicBezTo>
                <a:cubicBezTo>
                  <a:pt x="1007" y="541"/>
                  <a:pt x="1003" y="541"/>
                  <a:pt x="1000" y="541"/>
                </a:cubicBezTo>
                <a:cubicBezTo>
                  <a:pt x="1007" y="539"/>
                  <a:pt x="1014" y="536"/>
                  <a:pt x="1020" y="534"/>
                </a:cubicBezTo>
                <a:cubicBezTo>
                  <a:pt x="1021" y="534"/>
                  <a:pt x="1020" y="533"/>
                  <a:pt x="1020" y="533"/>
                </a:cubicBezTo>
                <a:cubicBezTo>
                  <a:pt x="1008" y="537"/>
                  <a:pt x="996" y="540"/>
                  <a:pt x="984" y="543"/>
                </a:cubicBezTo>
                <a:cubicBezTo>
                  <a:pt x="984" y="543"/>
                  <a:pt x="984" y="543"/>
                  <a:pt x="984" y="543"/>
                </a:cubicBezTo>
                <a:cubicBezTo>
                  <a:pt x="982" y="543"/>
                  <a:pt x="981" y="543"/>
                  <a:pt x="979" y="544"/>
                </a:cubicBezTo>
                <a:cubicBezTo>
                  <a:pt x="978" y="544"/>
                  <a:pt x="977" y="544"/>
                  <a:pt x="977" y="544"/>
                </a:cubicBezTo>
                <a:cubicBezTo>
                  <a:pt x="981" y="542"/>
                  <a:pt x="985" y="539"/>
                  <a:pt x="989" y="537"/>
                </a:cubicBezTo>
                <a:cubicBezTo>
                  <a:pt x="996" y="533"/>
                  <a:pt x="1004" y="529"/>
                  <a:pt x="1012" y="527"/>
                </a:cubicBezTo>
                <a:cubicBezTo>
                  <a:pt x="1012" y="527"/>
                  <a:pt x="1012" y="526"/>
                  <a:pt x="1012" y="526"/>
                </a:cubicBezTo>
                <a:cubicBezTo>
                  <a:pt x="1003" y="528"/>
                  <a:pt x="997" y="531"/>
                  <a:pt x="989" y="535"/>
                </a:cubicBezTo>
                <a:cubicBezTo>
                  <a:pt x="985" y="536"/>
                  <a:pt x="982" y="538"/>
                  <a:pt x="978" y="540"/>
                </a:cubicBezTo>
                <a:cubicBezTo>
                  <a:pt x="976" y="541"/>
                  <a:pt x="973" y="542"/>
                  <a:pt x="971" y="543"/>
                </a:cubicBezTo>
                <a:cubicBezTo>
                  <a:pt x="970" y="543"/>
                  <a:pt x="969" y="543"/>
                  <a:pt x="968" y="543"/>
                </a:cubicBezTo>
                <a:cubicBezTo>
                  <a:pt x="962" y="542"/>
                  <a:pt x="955" y="541"/>
                  <a:pt x="950" y="544"/>
                </a:cubicBezTo>
                <a:cubicBezTo>
                  <a:pt x="946" y="546"/>
                  <a:pt x="943" y="548"/>
                  <a:pt x="941" y="552"/>
                </a:cubicBezTo>
                <a:cubicBezTo>
                  <a:pt x="938" y="550"/>
                  <a:pt x="933" y="551"/>
                  <a:pt x="930" y="551"/>
                </a:cubicBezTo>
                <a:cubicBezTo>
                  <a:pt x="929" y="551"/>
                  <a:pt x="928" y="551"/>
                  <a:pt x="927" y="551"/>
                </a:cubicBezTo>
                <a:cubicBezTo>
                  <a:pt x="937" y="549"/>
                  <a:pt x="947" y="544"/>
                  <a:pt x="956" y="541"/>
                </a:cubicBezTo>
                <a:cubicBezTo>
                  <a:pt x="964" y="538"/>
                  <a:pt x="971" y="535"/>
                  <a:pt x="978" y="532"/>
                </a:cubicBezTo>
                <a:cubicBezTo>
                  <a:pt x="985" y="528"/>
                  <a:pt x="993" y="524"/>
                  <a:pt x="1001" y="521"/>
                </a:cubicBezTo>
                <a:cubicBezTo>
                  <a:pt x="1001" y="520"/>
                  <a:pt x="1001" y="519"/>
                  <a:pt x="1000" y="520"/>
                </a:cubicBezTo>
                <a:cubicBezTo>
                  <a:pt x="992" y="523"/>
                  <a:pt x="985" y="527"/>
                  <a:pt x="977" y="530"/>
                </a:cubicBezTo>
                <a:cubicBezTo>
                  <a:pt x="970" y="533"/>
                  <a:pt x="963" y="535"/>
                  <a:pt x="955" y="538"/>
                </a:cubicBezTo>
                <a:cubicBezTo>
                  <a:pt x="942" y="543"/>
                  <a:pt x="928" y="548"/>
                  <a:pt x="914" y="549"/>
                </a:cubicBezTo>
                <a:cubicBezTo>
                  <a:pt x="913" y="549"/>
                  <a:pt x="913" y="550"/>
                  <a:pt x="912" y="550"/>
                </a:cubicBezTo>
                <a:cubicBezTo>
                  <a:pt x="912" y="550"/>
                  <a:pt x="911" y="550"/>
                  <a:pt x="911" y="550"/>
                </a:cubicBezTo>
                <a:cubicBezTo>
                  <a:pt x="909" y="550"/>
                  <a:pt x="907" y="550"/>
                  <a:pt x="905" y="550"/>
                </a:cubicBezTo>
                <a:cubicBezTo>
                  <a:pt x="905" y="550"/>
                  <a:pt x="906" y="549"/>
                  <a:pt x="906" y="549"/>
                </a:cubicBezTo>
                <a:cubicBezTo>
                  <a:pt x="906" y="549"/>
                  <a:pt x="907" y="549"/>
                  <a:pt x="907" y="549"/>
                </a:cubicBezTo>
                <a:cubicBezTo>
                  <a:pt x="911" y="549"/>
                  <a:pt x="915" y="547"/>
                  <a:pt x="919" y="545"/>
                </a:cubicBezTo>
                <a:cubicBezTo>
                  <a:pt x="924" y="543"/>
                  <a:pt x="929" y="540"/>
                  <a:pt x="934" y="538"/>
                </a:cubicBezTo>
                <a:cubicBezTo>
                  <a:pt x="944" y="532"/>
                  <a:pt x="954" y="526"/>
                  <a:pt x="965" y="523"/>
                </a:cubicBezTo>
                <a:cubicBezTo>
                  <a:pt x="966" y="522"/>
                  <a:pt x="966" y="521"/>
                  <a:pt x="965" y="521"/>
                </a:cubicBezTo>
                <a:cubicBezTo>
                  <a:pt x="954" y="525"/>
                  <a:pt x="944" y="529"/>
                  <a:pt x="934" y="534"/>
                </a:cubicBezTo>
                <a:cubicBezTo>
                  <a:pt x="929" y="536"/>
                  <a:pt x="924" y="539"/>
                  <a:pt x="919" y="541"/>
                </a:cubicBezTo>
                <a:cubicBezTo>
                  <a:pt x="916" y="543"/>
                  <a:pt x="912" y="544"/>
                  <a:pt x="909" y="545"/>
                </a:cubicBezTo>
                <a:cubicBezTo>
                  <a:pt x="910" y="545"/>
                  <a:pt x="910" y="544"/>
                  <a:pt x="910" y="544"/>
                </a:cubicBezTo>
                <a:cubicBezTo>
                  <a:pt x="911" y="543"/>
                  <a:pt x="912" y="543"/>
                  <a:pt x="913" y="542"/>
                </a:cubicBezTo>
                <a:cubicBezTo>
                  <a:pt x="916" y="541"/>
                  <a:pt x="919" y="539"/>
                  <a:pt x="921" y="538"/>
                </a:cubicBezTo>
                <a:cubicBezTo>
                  <a:pt x="928" y="534"/>
                  <a:pt x="934" y="529"/>
                  <a:pt x="940" y="525"/>
                </a:cubicBezTo>
                <a:cubicBezTo>
                  <a:pt x="947" y="521"/>
                  <a:pt x="954" y="517"/>
                  <a:pt x="960" y="513"/>
                </a:cubicBezTo>
                <a:cubicBezTo>
                  <a:pt x="967" y="508"/>
                  <a:pt x="974" y="504"/>
                  <a:pt x="980" y="500"/>
                </a:cubicBezTo>
                <a:cubicBezTo>
                  <a:pt x="981" y="500"/>
                  <a:pt x="980" y="500"/>
                  <a:pt x="980" y="500"/>
                </a:cubicBezTo>
                <a:cubicBezTo>
                  <a:pt x="964" y="508"/>
                  <a:pt x="950" y="518"/>
                  <a:pt x="934" y="527"/>
                </a:cubicBezTo>
                <a:cubicBezTo>
                  <a:pt x="928" y="531"/>
                  <a:pt x="923" y="534"/>
                  <a:pt x="917" y="537"/>
                </a:cubicBezTo>
                <a:cubicBezTo>
                  <a:pt x="918" y="535"/>
                  <a:pt x="920" y="534"/>
                  <a:pt x="921" y="532"/>
                </a:cubicBezTo>
                <a:cubicBezTo>
                  <a:pt x="921" y="532"/>
                  <a:pt x="921" y="532"/>
                  <a:pt x="921" y="532"/>
                </a:cubicBezTo>
                <a:cubicBezTo>
                  <a:pt x="926" y="532"/>
                  <a:pt x="930" y="529"/>
                  <a:pt x="934" y="526"/>
                </a:cubicBezTo>
                <a:cubicBezTo>
                  <a:pt x="939" y="523"/>
                  <a:pt x="943" y="520"/>
                  <a:pt x="948" y="517"/>
                </a:cubicBezTo>
                <a:cubicBezTo>
                  <a:pt x="957" y="510"/>
                  <a:pt x="965" y="503"/>
                  <a:pt x="972" y="495"/>
                </a:cubicBezTo>
                <a:cubicBezTo>
                  <a:pt x="973" y="494"/>
                  <a:pt x="972" y="494"/>
                  <a:pt x="972" y="494"/>
                </a:cubicBezTo>
                <a:cubicBezTo>
                  <a:pt x="964" y="503"/>
                  <a:pt x="955" y="510"/>
                  <a:pt x="945" y="516"/>
                </a:cubicBezTo>
                <a:cubicBezTo>
                  <a:pt x="940" y="519"/>
                  <a:pt x="936" y="522"/>
                  <a:pt x="931" y="524"/>
                </a:cubicBezTo>
                <a:cubicBezTo>
                  <a:pt x="930" y="525"/>
                  <a:pt x="929" y="525"/>
                  <a:pt x="928" y="526"/>
                </a:cubicBezTo>
                <a:cubicBezTo>
                  <a:pt x="928" y="526"/>
                  <a:pt x="928" y="526"/>
                  <a:pt x="928" y="525"/>
                </a:cubicBezTo>
                <a:cubicBezTo>
                  <a:pt x="928" y="525"/>
                  <a:pt x="928" y="525"/>
                  <a:pt x="928" y="525"/>
                </a:cubicBezTo>
                <a:cubicBezTo>
                  <a:pt x="934" y="521"/>
                  <a:pt x="939" y="517"/>
                  <a:pt x="945" y="513"/>
                </a:cubicBezTo>
                <a:cubicBezTo>
                  <a:pt x="950" y="510"/>
                  <a:pt x="953" y="508"/>
                  <a:pt x="957" y="502"/>
                </a:cubicBezTo>
                <a:cubicBezTo>
                  <a:pt x="957" y="502"/>
                  <a:pt x="957" y="502"/>
                  <a:pt x="957" y="502"/>
                </a:cubicBezTo>
                <a:cubicBezTo>
                  <a:pt x="960" y="499"/>
                  <a:pt x="963" y="496"/>
                  <a:pt x="965" y="494"/>
                </a:cubicBezTo>
                <a:cubicBezTo>
                  <a:pt x="974" y="485"/>
                  <a:pt x="983" y="476"/>
                  <a:pt x="994" y="469"/>
                </a:cubicBezTo>
                <a:cubicBezTo>
                  <a:pt x="994" y="469"/>
                  <a:pt x="994" y="468"/>
                  <a:pt x="993" y="469"/>
                </a:cubicBezTo>
                <a:cubicBezTo>
                  <a:pt x="983" y="474"/>
                  <a:pt x="975" y="483"/>
                  <a:pt x="966" y="491"/>
                </a:cubicBezTo>
                <a:cubicBezTo>
                  <a:pt x="964" y="492"/>
                  <a:pt x="962" y="494"/>
                  <a:pt x="960" y="496"/>
                </a:cubicBezTo>
                <a:cubicBezTo>
                  <a:pt x="957" y="497"/>
                  <a:pt x="954" y="499"/>
                  <a:pt x="951" y="501"/>
                </a:cubicBezTo>
                <a:cubicBezTo>
                  <a:pt x="953" y="499"/>
                  <a:pt x="955" y="497"/>
                  <a:pt x="957" y="495"/>
                </a:cubicBezTo>
                <a:cubicBezTo>
                  <a:pt x="964" y="488"/>
                  <a:pt x="972" y="481"/>
                  <a:pt x="979" y="475"/>
                </a:cubicBezTo>
                <a:cubicBezTo>
                  <a:pt x="982" y="471"/>
                  <a:pt x="986" y="468"/>
                  <a:pt x="989" y="465"/>
                </a:cubicBezTo>
                <a:cubicBezTo>
                  <a:pt x="993" y="461"/>
                  <a:pt x="997" y="459"/>
                  <a:pt x="1001" y="457"/>
                </a:cubicBezTo>
                <a:cubicBezTo>
                  <a:pt x="1006" y="453"/>
                  <a:pt x="1012" y="448"/>
                  <a:pt x="1019" y="447"/>
                </a:cubicBezTo>
                <a:cubicBezTo>
                  <a:pt x="1019" y="447"/>
                  <a:pt x="1019" y="446"/>
                  <a:pt x="1019" y="446"/>
                </a:cubicBezTo>
                <a:cubicBezTo>
                  <a:pt x="1013" y="446"/>
                  <a:pt x="1008" y="449"/>
                  <a:pt x="1003" y="453"/>
                </a:cubicBezTo>
                <a:cubicBezTo>
                  <a:pt x="997" y="458"/>
                  <a:pt x="990" y="462"/>
                  <a:pt x="984" y="468"/>
                </a:cubicBezTo>
                <a:cubicBezTo>
                  <a:pt x="975" y="474"/>
                  <a:pt x="967" y="481"/>
                  <a:pt x="959" y="489"/>
                </a:cubicBezTo>
                <a:cubicBezTo>
                  <a:pt x="955" y="492"/>
                  <a:pt x="951" y="497"/>
                  <a:pt x="947" y="501"/>
                </a:cubicBezTo>
                <a:cubicBezTo>
                  <a:pt x="955" y="492"/>
                  <a:pt x="964" y="484"/>
                  <a:pt x="972" y="476"/>
                </a:cubicBezTo>
                <a:cubicBezTo>
                  <a:pt x="977" y="471"/>
                  <a:pt x="982" y="465"/>
                  <a:pt x="987" y="462"/>
                </a:cubicBezTo>
                <a:cubicBezTo>
                  <a:pt x="992" y="459"/>
                  <a:pt x="996" y="457"/>
                  <a:pt x="1000" y="452"/>
                </a:cubicBezTo>
                <a:cubicBezTo>
                  <a:pt x="1001" y="452"/>
                  <a:pt x="1000" y="451"/>
                  <a:pt x="999" y="451"/>
                </a:cubicBezTo>
                <a:cubicBezTo>
                  <a:pt x="990" y="461"/>
                  <a:pt x="978" y="467"/>
                  <a:pt x="969" y="476"/>
                </a:cubicBezTo>
                <a:cubicBezTo>
                  <a:pt x="962" y="483"/>
                  <a:pt x="954" y="489"/>
                  <a:pt x="948" y="496"/>
                </a:cubicBezTo>
                <a:cubicBezTo>
                  <a:pt x="949" y="494"/>
                  <a:pt x="950" y="492"/>
                  <a:pt x="951" y="490"/>
                </a:cubicBezTo>
                <a:cubicBezTo>
                  <a:pt x="952" y="491"/>
                  <a:pt x="952" y="491"/>
                  <a:pt x="953" y="491"/>
                </a:cubicBezTo>
                <a:cubicBezTo>
                  <a:pt x="958" y="487"/>
                  <a:pt x="962" y="481"/>
                  <a:pt x="966" y="476"/>
                </a:cubicBezTo>
                <a:cubicBezTo>
                  <a:pt x="970" y="471"/>
                  <a:pt x="974" y="467"/>
                  <a:pt x="979" y="463"/>
                </a:cubicBezTo>
                <a:cubicBezTo>
                  <a:pt x="988" y="454"/>
                  <a:pt x="999" y="447"/>
                  <a:pt x="1008" y="439"/>
                </a:cubicBezTo>
                <a:cubicBezTo>
                  <a:pt x="1009" y="439"/>
                  <a:pt x="1008" y="439"/>
                  <a:pt x="1008" y="439"/>
                </a:cubicBezTo>
                <a:cubicBezTo>
                  <a:pt x="996" y="444"/>
                  <a:pt x="987" y="453"/>
                  <a:pt x="977" y="461"/>
                </a:cubicBezTo>
                <a:cubicBezTo>
                  <a:pt x="972" y="466"/>
                  <a:pt x="968" y="471"/>
                  <a:pt x="963" y="475"/>
                </a:cubicBezTo>
                <a:cubicBezTo>
                  <a:pt x="961" y="478"/>
                  <a:pt x="959" y="480"/>
                  <a:pt x="957" y="482"/>
                </a:cubicBezTo>
                <a:cubicBezTo>
                  <a:pt x="965" y="470"/>
                  <a:pt x="972" y="457"/>
                  <a:pt x="976" y="443"/>
                </a:cubicBezTo>
                <a:cubicBezTo>
                  <a:pt x="977" y="441"/>
                  <a:pt x="977" y="439"/>
                  <a:pt x="978" y="438"/>
                </a:cubicBezTo>
                <a:cubicBezTo>
                  <a:pt x="978" y="438"/>
                  <a:pt x="979" y="437"/>
                  <a:pt x="979" y="437"/>
                </a:cubicBezTo>
                <a:cubicBezTo>
                  <a:pt x="990" y="431"/>
                  <a:pt x="1004" y="428"/>
                  <a:pt x="1016" y="424"/>
                </a:cubicBezTo>
                <a:close/>
                <a:moveTo>
                  <a:pt x="893" y="481"/>
                </a:moveTo>
                <a:cubicBezTo>
                  <a:pt x="893" y="481"/>
                  <a:pt x="893" y="481"/>
                  <a:pt x="893" y="481"/>
                </a:cubicBezTo>
                <a:cubicBezTo>
                  <a:pt x="893" y="481"/>
                  <a:pt x="893" y="481"/>
                  <a:pt x="894" y="481"/>
                </a:cubicBezTo>
                <a:cubicBezTo>
                  <a:pt x="895" y="480"/>
                  <a:pt x="894" y="478"/>
                  <a:pt x="894" y="477"/>
                </a:cubicBezTo>
                <a:cubicBezTo>
                  <a:pt x="895" y="474"/>
                  <a:pt x="895" y="471"/>
                  <a:pt x="896" y="469"/>
                </a:cubicBezTo>
                <a:cubicBezTo>
                  <a:pt x="896" y="466"/>
                  <a:pt x="896" y="462"/>
                  <a:pt x="895" y="459"/>
                </a:cubicBezTo>
                <a:cubicBezTo>
                  <a:pt x="895" y="456"/>
                  <a:pt x="896" y="452"/>
                  <a:pt x="895" y="448"/>
                </a:cubicBezTo>
                <a:cubicBezTo>
                  <a:pt x="895" y="448"/>
                  <a:pt x="894" y="448"/>
                  <a:pt x="894" y="448"/>
                </a:cubicBezTo>
                <a:cubicBezTo>
                  <a:pt x="893" y="452"/>
                  <a:pt x="894" y="455"/>
                  <a:pt x="894" y="459"/>
                </a:cubicBezTo>
                <a:cubicBezTo>
                  <a:pt x="894" y="462"/>
                  <a:pt x="893" y="466"/>
                  <a:pt x="894" y="469"/>
                </a:cubicBezTo>
                <a:cubicBezTo>
                  <a:pt x="894" y="471"/>
                  <a:pt x="893" y="474"/>
                  <a:pt x="892" y="477"/>
                </a:cubicBezTo>
                <a:cubicBezTo>
                  <a:pt x="892" y="476"/>
                  <a:pt x="892" y="475"/>
                  <a:pt x="892" y="475"/>
                </a:cubicBezTo>
                <a:cubicBezTo>
                  <a:pt x="890" y="465"/>
                  <a:pt x="889" y="455"/>
                  <a:pt x="885" y="446"/>
                </a:cubicBezTo>
                <a:cubicBezTo>
                  <a:pt x="883" y="441"/>
                  <a:pt x="880" y="437"/>
                  <a:pt x="877" y="432"/>
                </a:cubicBezTo>
                <a:cubicBezTo>
                  <a:pt x="877" y="428"/>
                  <a:pt x="875" y="424"/>
                  <a:pt x="874" y="420"/>
                </a:cubicBezTo>
                <a:cubicBezTo>
                  <a:pt x="873" y="414"/>
                  <a:pt x="872" y="408"/>
                  <a:pt x="873" y="403"/>
                </a:cubicBezTo>
                <a:cubicBezTo>
                  <a:pt x="873" y="402"/>
                  <a:pt x="871" y="401"/>
                  <a:pt x="871" y="402"/>
                </a:cubicBezTo>
                <a:cubicBezTo>
                  <a:pt x="871" y="408"/>
                  <a:pt x="871" y="413"/>
                  <a:pt x="872" y="419"/>
                </a:cubicBezTo>
                <a:cubicBezTo>
                  <a:pt x="872" y="422"/>
                  <a:pt x="873" y="425"/>
                  <a:pt x="874" y="427"/>
                </a:cubicBezTo>
                <a:cubicBezTo>
                  <a:pt x="870" y="422"/>
                  <a:pt x="865" y="417"/>
                  <a:pt x="859" y="412"/>
                </a:cubicBezTo>
                <a:cubicBezTo>
                  <a:pt x="859" y="408"/>
                  <a:pt x="858" y="405"/>
                  <a:pt x="857" y="402"/>
                </a:cubicBezTo>
                <a:cubicBezTo>
                  <a:pt x="856" y="397"/>
                  <a:pt x="856" y="390"/>
                  <a:pt x="857" y="385"/>
                </a:cubicBezTo>
                <a:cubicBezTo>
                  <a:pt x="857" y="384"/>
                  <a:pt x="855" y="383"/>
                  <a:pt x="855" y="385"/>
                </a:cubicBezTo>
                <a:cubicBezTo>
                  <a:pt x="855" y="391"/>
                  <a:pt x="855" y="396"/>
                  <a:pt x="856" y="402"/>
                </a:cubicBezTo>
                <a:cubicBezTo>
                  <a:pt x="856" y="404"/>
                  <a:pt x="856" y="407"/>
                  <a:pt x="857" y="410"/>
                </a:cubicBezTo>
                <a:cubicBezTo>
                  <a:pt x="855" y="408"/>
                  <a:pt x="853" y="407"/>
                  <a:pt x="851" y="405"/>
                </a:cubicBezTo>
                <a:cubicBezTo>
                  <a:pt x="851" y="404"/>
                  <a:pt x="851" y="403"/>
                  <a:pt x="851" y="402"/>
                </a:cubicBezTo>
                <a:cubicBezTo>
                  <a:pt x="851" y="401"/>
                  <a:pt x="850" y="400"/>
                  <a:pt x="850" y="399"/>
                </a:cubicBezTo>
                <a:cubicBezTo>
                  <a:pt x="850" y="398"/>
                  <a:pt x="848" y="398"/>
                  <a:pt x="848" y="399"/>
                </a:cubicBezTo>
                <a:cubicBezTo>
                  <a:pt x="848" y="400"/>
                  <a:pt x="848" y="402"/>
                  <a:pt x="849" y="403"/>
                </a:cubicBezTo>
                <a:cubicBezTo>
                  <a:pt x="849" y="403"/>
                  <a:pt x="849" y="403"/>
                  <a:pt x="849" y="404"/>
                </a:cubicBezTo>
                <a:cubicBezTo>
                  <a:pt x="841" y="399"/>
                  <a:pt x="833" y="396"/>
                  <a:pt x="824" y="394"/>
                </a:cubicBezTo>
                <a:cubicBezTo>
                  <a:pt x="821" y="394"/>
                  <a:pt x="816" y="391"/>
                  <a:pt x="812" y="391"/>
                </a:cubicBezTo>
                <a:cubicBezTo>
                  <a:pt x="813" y="390"/>
                  <a:pt x="814" y="390"/>
                  <a:pt x="815" y="389"/>
                </a:cubicBezTo>
                <a:cubicBezTo>
                  <a:pt x="820" y="385"/>
                  <a:pt x="824" y="382"/>
                  <a:pt x="828" y="378"/>
                </a:cubicBezTo>
                <a:cubicBezTo>
                  <a:pt x="836" y="372"/>
                  <a:pt x="851" y="362"/>
                  <a:pt x="854" y="350"/>
                </a:cubicBezTo>
                <a:cubicBezTo>
                  <a:pt x="854" y="350"/>
                  <a:pt x="855" y="350"/>
                  <a:pt x="855" y="349"/>
                </a:cubicBezTo>
                <a:cubicBezTo>
                  <a:pt x="855" y="335"/>
                  <a:pt x="848" y="321"/>
                  <a:pt x="838" y="310"/>
                </a:cubicBezTo>
                <a:cubicBezTo>
                  <a:pt x="838" y="310"/>
                  <a:pt x="838" y="309"/>
                  <a:pt x="838" y="309"/>
                </a:cubicBezTo>
                <a:cubicBezTo>
                  <a:pt x="839" y="309"/>
                  <a:pt x="839" y="308"/>
                  <a:pt x="839" y="308"/>
                </a:cubicBezTo>
                <a:cubicBezTo>
                  <a:pt x="840" y="305"/>
                  <a:pt x="845" y="302"/>
                  <a:pt x="847" y="300"/>
                </a:cubicBezTo>
                <a:cubicBezTo>
                  <a:pt x="851" y="295"/>
                  <a:pt x="856" y="290"/>
                  <a:pt x="860" y="285"/>
                </a:cubicBezTo>
                <a:cubicBezTo>
                  <a:pt x="864" y="280"/>
                  <a:pt x="868" y="274"/>
                  <a:pt x="874" y="272"/>
                </a:cubicBezTo>
                <a:cubicBezTo>
                  <a:pt x="879" y="270"/>
                  <a:pt x="883" y="269"/>
                  <a:pt x="886" y="266"/>
                </a:cubicBezTo>
                <a:cubicBezTo>
                  <a:pt x="899" y="257"/>
                  <a:pt x="911" y="251"/>
                  <a:pt x="927" y="252"/>
                </a:cubicBezTo>
                <a:cubicBezTo>
                  <a:pt x="945" y="254"/>
                  <a:pt x="957" y="264"/>
                  <a:pt x="966" y="280"/>
                </a:cubicBezTo>
                <a:cubicBezTo>
                  <a:pt x="980" y="306"/>
                  <a:pt x="988" y="337"/>
                  <a:pt x="988" y="367"/>
                </a:cubicBezTo>
                <a:cubicBezTo>
                  <a:pt x="986" y="382"/>
                  <a:pt x="984" y="397"/>
                  <a:pt x="978" y="411"/>
                </a:cubicBezTo>
                <a:cubicBezTo>
                  <a:pt x="972" y="429"/>
                  <a:pt x="962" y="446"/>
                  <a:pt x="953" y="463"/>
                </a:cubicBezTo>
                <a:cubicBezTo>
                  <a:pt x="945" y="478"/>
                  <a:pt x="935" y="492"/>
                  <a:pt x="924" y="505"/>
                </a:cubicBezTo>
                <a:cubicBezTo>
                  <a:pt x="926" y="501"/>
                  <a:pt x="929" y="496"/>
                  <a:pt x="931" y="492"/>
                </a:cubicBezTo>
                <a:cubicBezTo>
                  <a:pt x="933" y="487"/>
                  <a:pt x="935" y="482"/>
                  <a:pt x="938" y="478"/>
                </a:cubicBezTo>
                <a:cubicBezTo>
                  <a:pt x="939" y="478"/>
                  <a:pt x="938" y="477"/>
                  <a:pt x="938" y="477"/>
                </a:cubicBezTo>
                <a:cubicBezTo>
                  <a:pt x="933" y="480"/>
                  <a:pt x="932" y="486"/>
                  <a:pt x="929" y="491"/>
                </a:cubicBezTo>
                <a:cubicBezTo>
                  <a:pt x="926" y="497"/>
                  <a:pt x="921" y="503"/>
                  <a:pt x="920" y="510"/>
                </a:cubicBezTo>
                <a:cubicBezTo>
                  <a:pt x="920" y="510"/>
                  <a:pt x="919" y="510"/>
                  <a:pt x="919" y="511"/>
                </a:cubicBezTo>
                <a:cubicBezTo>
                  <a:pt x="913" y="517"/>
                  <a:pt x="907" y="524"/>
                  <a:pt x="901" y="530"/>
                </a:cubicBezTo>
                <a:cubicBezTo>
                  <a:pt x="901" y="529"/>
                  <a:pt x="902" y="527"/>
                  <a:pt x="902" y="526"/>
                </a:cubicBezTo>
                <a:cubicBezTo>
                  <a:pt x="904" y="522"/>
                  <a:pt x="907" y="517"/>
                  <a:pt x="909" y="513"/>
                </a:cubicBezTo>
                <a:cubicBezTo>
                  <a:pt x="910" y="513"/>
                  <a:pt x="909" y="513"/>
                  <a:pt x="909" y="513"/>
                </a:cubicBezTo>
                <a:cubicBezTo>
                  <a:pt x="908" y="514"/>
                  <a:pt x="906" y="516"/>
                  <a:pt x="905" y="517"/>
                </a:cubicBezTo>
                <a:cubicBezTo>
                  <a:pt x="906" y="517"/>
                  <a:pt x="906" y="516"/>
                  <a:pt x="906" y="516"/>
                </a:cubicBezTo>
                <a:cubicBezTo>
                  <a:pt x="909" y="507"/>
                  <a:pt x="912" y="498"/>
                  <a:pt x="913" y="488"/>
                </a:cubicBezTo>
                <a:cubicBezTo>
                  <a:pt x="913" y="488"/>
                  <a:pt x="912" y="488"/>
                  <a:pt x="912" y="488"/>
                </a:cubicBezTo>
                <a:cubicBezTo>
                  <a:pt x="909" y="497"/>
                  <a:pt x="908" y="506"/>
                  <a:pt x="904" y="515"/>
                </a:cubicBezTo>
                <a:cubicBezTo>
                  <a:pt x="901" y="522"/>
                  <a:pt x="898" y="529"/>
                  <a:pt x="894" y="535"/>
                </a:cubicBezTo>
                <a:cubicBezTo>
                  <a:pt x="894" y="535"/>
                  <a:pt x="894" y="535"/>
                  <a:pt x="894" y="535"/>
                </a:cubicBezTo>
                <a:cubicBezTo>
                  <a:pt x="893" y="537"/>
                  <a:pt x="891" y="538"/>
                  <a:pt x="890" y="540"/>
                </a:cubicBezTo>
                <a:cubicBezTo>
                  <a:pt x="890" y="538"/>
                  <a:pt x="890" y="537"/>
                  <a:pt x="890" y="535"/>
                </a:cubicBezTo>
                <a:cubicBezTo>
                  <a:pt x="891" y="526"/>
                  <a:pt x="894" y="516"/>
                  <a:pt x="894" y="507"/>
                </a:cubicBezTo>
                <a:cubicBezTo>
                  <a:pt x="894" y="498"/>
                  <a:pt x="894" y="490"/>
                  <a:pt x="893" y="481"/>
                </a:cubicBezTo>
                <a:close/>
                <a:moveTo>
                  <a:pt x="713" y="477"/>
                </a:moveTo>
                <a:cubicBezTo>
                  <a:pt x="712" y="474"/>
                  <a:pt x="712" y="471"/>
                  <a:pt x="711" y="468"/>
                </a:cubicBezTo>
                <a:cubicBezTo>
                  <a:pt x="710" y="459"/>
                  <a:pt x="714" y="450"/>
                  <a:pt x="715" y="441"/>
                </a:cubicBezTo>
                <a:cubicBezTo>
                  <a:pt x="716" y="435"/>
                  <a:pt x="717" y="429"/>
                  <a:pt x="721" y="424"/>
                </a:cubicBezTo>
                <a:cubicBezTo>
                  <a:pt x="724" y="421"/>
                  <a:pt x="728" y="418"/>
                  <a:pt x="731" y="416"/>
                </a:cubicBezTo>
                <a:cubicBezTo>
                  <a:pt x="735" y="415"/>
                  <a:pt x="739" y="414"/>
                  <a:pt x="742" y="414"/>
                </a:cubicBezTo>
                <a:cubicBezTo>
                  <a:pt x="740" y="414"/>
                  <a:pt x="738" y="415"/>
                  <a:pt x="737" y="416"/>
                </a:cubicBezTo>
                <a:cubicBezTo>
                  <a:pt x="733" y="418"/>
                  <a:pt x="729" y="421"/>
                  <a:pt x="726" y="424"/>
                </a:cubicBezTo>
                <a:cubicBezTo>
                  <a:pt x="720" y="433"/>
                  <a:pt x="716" y="443"/>
                  <a:pt x="714" y="454"/>
                </a:cubicBezTo>
                <a:cubicBezTo>
                  <a:pt x="713" y="461"/>
                  <a:pt x="712" y="469"/>
                  <a:pt x="713" y="477"/>
                </a:cubicBezTo>
                <a:close/>
                <a:moveTo>
                  <a:pt x="712" y="421"/>
                </a:moveTo>
                <a:cubicBezTo>
                  <a:pt x="712" y="420"/>
                  <a:pt x="711" y="418"/>
                  <a:pt x="709" y="416"/>
                </a:cubicBezTo>
                <a:cubicBezTo>
                  <a:pt x="712" y="417"/>
                  <a:pt x="715" y="417"/>
                  <a:pt x="717" y="417"/>
                </a:cubicBezTo>
                <a:cubicBezTo>
                  <a:pt x="720" y="417"/>
                  <a:pt x="723" y="417"/>
                  <a:pt x="726" y="416"/>
                </a:cubicBezTo>
                <a:cubicBezTo>
                  <a:pt x="721" y="419"/>
                  <a:pt x="718" y="423"/>
                  <a:pt x="715" y="428"/>
                </a:cubicBezTo>
                <a:cubicBezTo>
                  <a:pt x="714" y="425"/>
                  <a:pt x="713" y="421"/>
                  <a:pt x="712" y="421"/>
                </a:cubicBezTo>
                <a:close/>
                <a:moveTo>
                  <a:pt x="741" y="410"/>
                </a:moveTo>
                <a:cubicBezTo>
                  <a:pt x="728" y="413"/>
                  <a:pt x="715" y="413"/>
                  <a:pt x="702" y="412"/>
                </a:cubicBezTo>
                <a:cubicBezTo>
                  <a:pt x="695" y="411"/>
                  <a:pt x="689" y="411"/>
                  <a:pt x="682" y="410"/>
                </a:cubicBezTo>
                <a:cubicBezTo>
                  <a:pt x="676" y="409"/>
                  <a:pt x="670" y="409"/>
                  <a:pt x="664" y="407"/>
                </a:cubicBezTo>
                <a:cubicBezTo>
                  <a:pt x="653" y="404"/>
                  <a:pt x="644" y="398"/>
                  <a:pt x="636" y="390"/>
                </a:cubicBezTo>
                <a:cubicBezTo>
                  <a:pt x="632" y="386"/>
                  <a:pt x="626" y="379"/>
                  <a:pt x="620" y="383"/>
                </a:cubicBezTo>
                <a:cubicBezTo>
                  <a:pt x="619" y="383"/>
                  <a:pt x="619" y="384"/>
                  <a:pt x="620" y="384"/>
                </a:cubicBezTo>
                <a:cubicBezTo>
                  <a:pt x="628" y="385"/>
                  <a:pt x="633" y="393"/>
                  <a:pt x="639" y="399"/>
                </a:cubicBezTo>
                <a:cubicBezTo>
                  <a:pt x="638" y="398"/>
                  <a:pt x="637" y="398"/>
                  <a:pt x="635" y="397"/>
                </a:cubicBezTo>
                <a:cubicBezTo>
                  <a:pt x="634" y="396"/>
                  <a:pt x="633" y="396"/>
                  <a:pt x="632" y="396"/>
                </a:cubicBezTo>
                <a:cubicBezTo>
                  <a:pt x="631" y="396"/>
                  <a:pt x="631" y="396"/>
                  <a:pt x="631" y="396"/>
                </a:cubicBezTo>
                <a:cubicBezTo>
                  <a:pt x="630" y="399"/>
                  <a:pt x="636" y="399"/>
                  <a:pt x="637" y="400"/>
                </a:cubicBezTo>
                <a:cubicBezTo>
                  <a:pt x="640" y="402"/>
                  <a:pt x="643" y="404"/>
                  <a:pt x="646" y="406"/>
                </a:cubicBezTo>
                <a:cubicBezTo>
                  <a:pt x="647" y="406"/>
                  <a:pt x="647" y="405"/>
                  <a:pt x="647" y="405"/>
                </a:cubicBezTo>
                <a:cubicBezTo>
                  <a:pt x="647" y="405"/>
                  <a:pt x="647" y="404"/>
                  <a:pt x="646" y="404"/>
                </a:cubicBezTo>
                <a:cubicBezTo>
                  <a:pt x="656" y="409"/>
                  <a:pt x="665" y="412"/>
                  <a:pt x="676" y="413"/>
                </a:cubicBezTo>
                <a:cubicBezTo>
                  <a:pt x="685" y="414"/>
                  <a:pt x="695" y="415"/>
                  <a:pt x="704" y="416"/>
                </a:cubicBezTo>
                <a:cubicBezTo>
                  <a:pt x="705" y="417"/>
                  <a:pt x="706" y="417"/>
                  <a:pt x="707" y="418"/>
                </a:cubicBezTo>
                <a:cubicBezTo>
                  <a:pt x="709" y="420"/>
                  <a:pt x="710" y="422"/>
                  <a:pt x="711" y="424"/>
                </a:cubicBezTo>
                <a:cubicBezTo>
                  <a:pt x="712" y="425"/>
                  <a:pt x="713" y="429"/>
                  <a:pt x="714" y="430"/>
                </a:cubicBezTo>
                <a:cubicBezTo>
                  <a:pt x="714" y="431"/>
                  <a:pt x="713" y="432"/>
                  <a:pt x="713" y="433"/>
                </a:cubicBezTo>
                <a:cubicBezTo>
                  <a:pt x="712" y="439"/>
                  <a:pt x="712" y="444"/>
                  <a:pt x="710" y="450"/>
                </a:cubicBezTo>
                <a:cubicBezTo>
                  <a:pt x="709" y="454"/>
                  <a:pt x="708" y="459"/>
                  <a:pt x="707" y="463"/>
                </a:cubicBezTo>
                <a:cubicBezTo>
                  <a:pt x="702" y="472"/>
                  <a:pt x="691" y="476"/>
                  <a:pt x="683" y="480"/>
                </a:cubicBezTo>
                <a:cubicBezTo>
                  <a:pt x="671" y="485"/>
                  <a:pt x="660" y="489"/>
                  <a:pt x="648" y="494"/>
                </a:cubicBezTo>
                <a:cubicBezTo>
                  <a:pt x="642" y="496"/>
                  <a:pt x="636" y="499"/>
                  <a:pt x="630" y="500"/>
                </a:cubicBezTo>
                <a:cubicBezTo>
                  <a:pt x="624" y="501"/>
                  <a:pt x="619" y="501"/>
                  <a:pt x="613" y="502"/>
                </a:cubicBezTo>
                <a:cubicBezTo>
                  <a:pt x="601" y="503"/>
                  <a:pt x="590" y="500"/>
                  <a:pt x="581" y="493"/>
                </a:cubicBezTo>
                <a:cubicBezTo>
                  <a:pt x="572" y="487"/>
                  <a:pt x="563" y="477"/>
                  <a:pt x="557" y="468"/>
                </a:cubicBezTo>
                <a:cubicBezTo>
                  <a:pt x="550" y="457"/>
                  <a:pt x="547" y="445"/>
                  <a:pt x="543" y="434"/>
                </a:cubicBezTo>
                <a:cubicBezTo>
                  <a:pt x="539" y="423"/>
                  <a:pt x="536" y="412"/>
                  <a:pt x="540" y="401"/>
                </a:cubicBezTo>
                <a:cubicBezTo>
                  <a:pt x="542" y="395"/>
                  <a:pt x="543" y="389"/>
                  <a:pt x="545" y="383"/>
                </a:cubicBezTo>
                <a:cubicBezTo>
                  <a:pt x="547" y="378"/>
                  <a:pt x="550" y="375"/>
                  <a:pt x="553" y="371"/>
                </a:cubicBezTo>
                <a:cubicBezTo>
                  <a:pt x="560" y="366"/>
                  <a:pt x="567" y="360"/>
                  <a:pt x="576" y="360"/>
                </a:cubicBezTo>
                <a:cubicBezTo>
                  <a:pt x="583" y="360"/>
                  <a:pt x="589" y="361"/>
                  <a:pt x="595" y="364"/>
                </a:cubicBezTo>
                <a:cubicBezTo>
                  <a:pt x="598" y="365"/>
                  <a:pt x="601" y="367"/>
                  <a:pt x="604" y="368"/>
                </a:cubicBezTo>
                <a:cubicBezTo>
                  <a:pt x="606" y="369"/>
                  <a:pt x="607" y="370"/>
                  <a:pt x="609" y="370"/>
                </a:cubicBezTo>
                <a:cubicBezTo>
                  <a:pt x="609" y="370"/>
                  <a:pt x="609" y="370"/>
                  <a:pt x="609" y="370"/>
                </a:cubicBezTo>
                <a:cubicBezTo>
                  <a:pt x="608" y="371"/>
                  <a:pt x="607" y="372"/>
                  <a:pt x="607" y="373"/>
                </a:cubicBezTo>
                <a:cubicBezTo>
                  <a:pt x="606" y="375"/>
                  <a:pt x="605" y="378"/>
                  <a:pt x="605" y="380"/>
                </a:cubicBezTo>
                <a:cubicBezTo>
                  <a:pt x="593" y="374"/>
                  <a:pt x="579" y="385"/>
                  <a:pt x="567" y="386"/>
                </a:cubicBezTo>
                <a:cubicBezTo>
                  <a:pt x="566" y="386"/>
                  <a:pt x="566" y="388"/>
                  <a:pt x="567" y="388"/>
                </a:cubicBezTo>
                <a:cubicBezTo>
                  <a:pt x="573" y="387"/>
                  <a:pt x="579" y="384"/>
                  <a:pt x="584" y="383"/>
                </a:cubicBezTo>
                <a:cubicBezTo>
                  <a:pt x="591" y="381"/>
                  <a:pt x="598" y="380"/>
                  <a:pt x="604" y="381"/>
                </a:cubicBezTo>
                <a:cubicBezTo>
                  <a:pt x="605" y="381"/>
                  <a:pt x="605" y="381"/>
                  <a:pt x="605" y="381"/>
                </a:cubicBezTo>
                <a:cubicBezTo>
                  <a:pt x="605" y="381"/>
                  <a:pt x="605" y="382"/>
                  <a:pt x="605" y="383"/>
                </a:cubicBezTo>
                <a:cubicBezTo>
                  <a:pt x="604" y="383"/>
                  <a:pt x="604" y="383"/>
                  <a:pt x="603" y="384"/>
                </a:cubicBezTo>
                <a:cubicBezTo>
                  <a:pt x="602" y="386"/>
                  <a:pt x="601" y="389"/>
                  <a:pt x="601" y="391"/>
                </a:cubicBezTo>
                <a:cubicBezTo>
                  <a:pt x="595" y="392"/>
                  <a:pt x="592" y="397"/>
                  <a:pt x="587" y="400"/>
                </a:cubicBezTo>
                <a:cubicBezTo>
                  <a:pt x="583" y="402"/>
                  <a:pt x="581" y="404"/>
                  <a:pt x="578" y="407"/>
                </a:cubicBezTo>
                <a:cubicBezTo>
                  <a:pt x="576" y="409"/>
                  <a:pt x="574" y="410"/>
                  <a:pt x="571" y="412"/>
                </a:cubicBezTo>
                <a:cubicBezTo>
                  <a:pt x="571" y="412"/>
                  <a:pt x="571" y="412"/>
                  <a:pt x="570" y="412"/>
                </a:cubicBezTo>
                <a:cubicBezTo>
                  <a:pt x="570" y="413"/>
                  <a:pt x="569" y="414"/>
                  <a:pt x="568" y="414"/>
                </a:cubicBezTo>
                <a:cubicBezTo>
                  <a:pt x="567" y="415"/>
                  <a:pt x="569" y="418"/>
                  <a:pt x="571" y="416"/>
                </a:cubicBezTo>
                <a:cubicBezTo>
                  <a:pt x="574" y="413"/>
                  <a:pt x="577" y="410"/>
                  <a:pt x="581" y="407"/>
                </a:cubicBezTo>
                <a:cubicBezTo>
                  <a:pt x="583" y="406"/>
                  <a:pt x="585" y="404"/>
                  <a:pt x="587" y="402"/>
                </a:cubicBezTo>
                <a:cubicBezTo>
                  <a:pt x="590" y="398"/>
                  <a:pt x="596" y="393"/>
                  <a:pt x="601" y="391"/>
                </a:cubicBezTo>
                <a:cubicBezTo>
                  <a:pt x="602" y="392"/>
                  <a:pt x="602" y="392"/>
                  <a:pt x="602" y="393"/>
                </a:cubicBezTo>
                <a:cubicBezTo>
                  <a:pt x="599" y="395"/>
                  <a:pt x="597" y="398"/>
                  <a:pt x="595" y="401"/>
                </a:cubicBezTo>
                <a:cubicBezTo>
                  <a:pt x="595" y="401"/>
                  <a:pt x="595" y="401"/>
                  <a:pt x="596" y="401"/>
                </a:cubicBezTo>
                <a:cubicBezTo>
                  <a:pt x="598" y="399"/>
                  <a:pt x="600" y="396"/>
                  <a:pt x="602" y="394"/>
                </a:cubicBezTo>
                <a:cubicBezTo>
                  <a:pt x="603" y="394"/>
                  <a:pt x="603" y="395"/>
                  <a:pt x="604" y="395"/>
                </a:cubicBezTo>
                <a:cubicBezTo>
                  <a:pt x="602" y="397"/>
                  <a:pt x="601" y="400"/>
                  <a:pt x="600" y="403"/>
                </a:cubicBezTo>
                <a:cubicBezTo>
                  <a:pt x="600" y="403"/>
                  <a:pt x="600" y="403"/>
                  <a:pt x="600" y="403"/>
                </a:cubicBezTo>
                <a:cubicBezTo>
                  <a:pt x="601" y="400"/>
                  <a:pt x="603" y="398"/>
                  <a:pt x="605" y="396"/>
                </a:cubicBezTo>
                <a:cubicBezTo>
                  <a:pt x="606" y="397"/>
                  <a:pt x="608" y="397"/>
                  <a:pt x="610" y="397"/>
                </a:cubicBezTo>
                <a:cubicBezTo>
                  <a:pt x="612" y="397"/>
                  <a:pt x="614" y="397"/>
                  <a:pt x="617" y="397"/>
                </a:cubicBezTo>
                <a:cubicBezTo>
                  <a:pt x="617" y="397"/>
                  <a:pt x="617" y="397"/>
                  <a:pt x="617" y="397"/>
                </a:cubicBezTo>
                <a:cubicBezTo>
                  <a:pt x="617" y="404"/>
                  <a:pt x="621" y="410"/>
                  <a:pt x="625" y="414"/>
                </a:cubicBezTo>
                <a:cubicBezTo>
                  <a:pt x="631" y="421"/>
                  <a:pt x="637" y="428"/>
                  <a:pt x="644" y="433"/>
                </a:cubicBezTo>
                <a:cubicBezTo>
                  <a:pt x="644" y="434"/>
                  <a:pt x="645" y="433"/>
                  <a:pt x="644" y="433"/>
                </a:cubicBezTo>
                <a:cubicBezTo>
                  <a:pt x="638" y="428"/>
                  <a:pt x="633" y="421"/>
                  <a:pt x="628" y="415"/>
                </a:cubicBezTo>
                <a:cubicBezTo>
                  <a:pt x="626" y="412"/>
                  <a:pt x="623" y="410"/>
                  <a:pt x="622" y="407"/>
                </a:cubicBezTo>
                <a:cubicBezTo>
                  <a:pt x="620" y="404"/>
                  <a:pt x="620" y="401"/>
                  <a:pt x="619" y="398"/>
                </a:cubicBezTo>
                <a:cubicBezTo>
                  <a:pt x="619" y="398"/>
                  <a:pt x="619" y="398"/>
                  <a:pt x="619" y="398"/>
                </a:cubicBezTo>
                <a:cubicBezTo>
                  <a:pt x="619" y="398"/>
                  <a:pt x="619" y="397"/>
                  <a:pt x="619" y="397"/>
                </a:cubicBezTo>
                <a:cubicBezTo>
                  <a:pt x="619" y="397"/>
                  <a:pt x="618" y="397"/>
                  <a:pt x="618" y="397"/>
                </a:cubicBezTo>
                <a:cubicBezTo>
                  <a:pt x="619" y="396"/>
                  <a:pt x="620" y="396"/>
                  <a:pt x="622" y="396"/>
                </a:cubicBezTo>
                <a:cubicBezTo>
                  <a:pt x="622" y="398"/>
                  <a:pt x="623" y="400"/>
                  <a:pt x="625" y="401"/>
                </a:cubicBezTo>
                <a:cubicBezTo>
                  <a:pt x="626" y="404"/>
                  <a:pt x="629" y="405"/>
                  <a:pt x="630" y="406"/>
                </a:cubicBezTo>
                <a:cubicBezTo>
                  <a:pt x="630" y="407"/>
                  <a:pt x="631" y="406"/>
                  <a:pt x="631" y="406"/>
                </a:cubicBezTo>
                <a:cubicBezTo>
                  <a:pt x="629" y="405"/>
                  <a:pt x="628" y="403"/>
                  <a:pt x="627" y="401"/>
                </a:cubicBezTo>
                <a:cubicBezTo>
                  <a:pt x="625" y="399"/>
                  <a:pt x="624" y="398"/>
                  <a:pt x="623" y="396"/>
                </a:cubicBezTo>
                <a:cubicBezTo>
                  <a:pt x="624" y="396"/>
                  <a:pt x="625" y="395"/>
                  <a:pt x="625" y="395"/>
                </a:cubicBezTo>
                <a:cubicBezTo>
                  <a:pt x="625" y="396"/>
                  <a:pt x="625" y="396"/>
                  <a:pt x="626" y="397"/>
                </a:cubicBezTo>
                <a:cubicBezTo>
                  <a:pt x="632" y="405"/>
                  <a:pt x="641" y="409"/>
                  <a:pt x="651" y="412"/>
                </a:cubicBezTo>
                <a:cubicBezTo>
                  <a:pt x="651" y="412"/>
                  <a:pt x="651" y="412"/>
                  <a:pt x="651" y="412"/>
                </a:cubicBezTo>
                <a:cubicBezTo>
                  <a:pt x="641" y="409"/>
                  <a:pt x="634" y="402"/>
                  <a:pt x="627" y="395"/>
                </a:cubicBezTo>
                <a:cubicBezTo>
                  <a:pt x="627" y="395"/>
                  <a:pt x="627" y="395"/>
                  <a:pt x="627" y="395"/>
                </a:cubicBezTo>
                <a:cubicBezTo>
                  <a:pt x="628" y="394"/>
                  <a:pt x="629" y="394"/>
                  <a:pt x="630" y="394"/>
                </a:cubicBezTo>
                <a:cubicBezTo>
                  <a:pt x="631" y="393"/>
                  <a:pt x="631" y="392"/>
                  <a:pt x="630" y="392"/>
                </a:cubicBezTo>
                <a:cubicBezTo>
                  <a:pt x="626" y="392"/>
                  <a:pt x="622" y="392"/>
                  <a:pt x="619" y="393"/>
                </a:cubicBezTo>
                <a:cubicBezTo>
                  <a:pt x="615" y="393"/>
                  <a:pt x="612" y="393"/>
                  <a:pt x="610" y="390"/>
                </a:cubicBezTo>
                <a:cubicBezTo>
                  <a:pt x="608" y="387"/>
                  <a:pt x="607" y="383"/>
                  <a:pt x="608" y="380"/>
                </a:cubicBezTo>
                <a:cubicBezTo>
                  <a:pt x="610" y="372"/>
                  <a:pt x="619" y="365"/>
                  <a:pt x="627" y="371"/>
                </a:cubicBezTo>
                <a:cubicBezTo>
                  <a:pt x="631" y="374"/>
                  <a:pt x="634" y="378"/>
                  <a:pt x="639" y="380"/>
                </a:cubicBezTo>
                <a:cubicBezTo>
                  <a:pt x="643" y="382"/>
                  <a:pt x="648" y="382"/>
                  <a:pt x="652" y="383"/>
                </a:cubicBezTo>
                <a:cubicBezTo>
                  <a:pt x="665" y="384"/>
                  <a:pt x="677" y="388"/>
                  <a:pt x="689" y="392"/>
                </a:cubicBezTo>
                <a:cubicBezTo>
                  <a:pt x="700" y="394"/>
                  <a:pt x="711" y="398"/>
                  <a:pt x="722" y="400"/>
                </a:cubicBezTo>
                <a:cubicBezTo>
                  <a:pt x="731" y="401"/>
                  <a:pt x="741" y="399"/>
                  <a:pt x="750" y="398"/>
                </a:cubicBezTo>
                <a:cubicBezTo>
                  <a:pt x="758" y="397"/>
                  <a:pt x="766" y="395"/>
                  <a:pt x="774" y="394"/>
                </a:cubicBezTo>
                <a:cubicBezTo>
                  <a:pt x="778" y="393"/>
                  <a:pt x="785" y="392"/>
                  <a:pt x="787" y="388"/>
                </a:cubicBezTo>
                <a:cubicBezTo>
                  <a:pt x="787" y="387"/>
                  <a:pt x="786" y="386"/>
                  <a:pt x="786" y="387"/>
                </a:cubicBezTo>
                <a:cubicBezTo>
                  <a:pt x="784" y="390"/>
                  <a:pt x="778" y="390"/>
                  <a:pt x="775" y="391"/>
                </a:cubicBezTo>
                <a:cubicBezTo>
                  <a:pt x="771" y="392"/>
                  <a:pt x="767" y="392"/>
                  <a:pt x="764" y="393"/>
                </a:cubicBezTo>
                <a:cubicBezTo>
                  <a:pt x="758" y="394"/>
                  <a:pt x="752" y="395"/>
                  <a:pt x="746" y="395"/>
                </a:cubicBezTo>
                <a:cubicBezTo>
                  <a:pt x="740" y="396"/>
                  <a:pt x="733" y="397"/>
                  <a:pt x="727" y="396"/>
                </a:cubicBezTo>
                <a:cubicBezTo>
                  <a:pt x="720" y="396"/>
                  <a:pt x="712" y="394"/>
                  <a:pt x="705" y="392"/>
                </a:cubicBezTo>
                <a:cubicBezTo>
                  <a:pt x="709" y="392"/>
                  <a:pt x="712" y="391"/>
                  <a:pt x="715" y="390"/>
                </a:cubicBezTo>
                <a:cubicBezTo>
                  <a:pt x="723" y="388"/>
                  <a:pt x="731" y="387"/>
                  <a:pt x="740" y="387"/>
                </a:cubicBezTo>
                <a:cubicBezTo>
                  <a:pt x="740" y="387"/>
                  <a:pt x="740" y="386"/>
                  <a:pt x="740" y="386"/>
                </a:cubicBezTo>
                <a:cubicBezTo>
                  <a:pt x="733" y="385"/>
                  <a:pt x="727" y="386"/>
                  <a:pt x="721" y="388"/>
                </a:cubicBezTo>
                <a:cubicBezTo>
                  <a:pt x="717" y="389"/>
                  <a:pt x="712" y="390"/>
                  <a:pt x="707" y="390"/>
                </a:cubicBezTo>
                <a:cubicBezTo>
                  <a:pt x="704" y="390"/>
                  <a:pt x="700" y="389"/>
                  <a:pt x="697" y="390"/>
                </a:cubicBezTo>
                <a:cubicBezTo>
                  <a:pt x="694" y="389"/>
                  <a:pt x="691" y="388"/>
                  <a:pt x="688" y="387"/>
                </a:cubicBezTo>
                <a:cubicBezTo>
                  <a:pt x="688" y="387"/>
                  <a:pt x="688" y="387"/>
                  <a:pt x="688" y="387"/>
                </a:cubicBezTo>
                <a:cubicBezTo>
                  <a:pt x="690" y="387"/>
                  <a:pt x="693" y="386"/>
                  <a:pt x="695" y="386"/>
                </a:cubicBezTo>
                <a:cubicBezTo>
                  <a:pt x="706" y="385"/>
                  <a:pt x="716" y="383"/>
                  <a:pt x="726" y="381"/>
                </a:cubicBezTo>
                <a:cubicBezTo>
                  <a:pt x="727" y="381"/>
                  <a:pt x="727" y="380"/>
                  <a:pt x="726" y="380"/>
                </a:cubicBezTo>
                <a:cubicBezTo>
                  <a:pt x="717" y="382"/>
                  <a:pt x="708" y="384"/>
                  <a:pt x="698" y="384"/>
                </a:cubicBezTo>
                <a:cubicBezTo>
                  <a:pt x="694" y="384"/>
                  <a:pt x="690" y="385"/>
                  <a:pt x="686" y="385"/>
                </a:cubicBezTo>
                <a:cubicBezTo>
                  <a:pt x="683" y="385"/>
                  <a:pt x="680" y="384"/>
                  <a:pt x="678" y="383"/>
                </a:cubicBezTo>
                <a:cubicBezTo>
                  <a:pt x="678" y="383"/>
                  <a:pt x="679" y="383"/>
                  <a:pt x="680" y="383"/>
                </a:cubicBezTo>
                <a:cubicBezTo>
                  <a:pt x="687" y="382"/>
                  <a:pt x="694" y="380"/>
                  <a:pt x="701" y="378"/>
                </a:cubicBezTo>
                <a:cubicBezTo>
                  <a:pt x="717" y="375"/>
                  <a:pt x="732" y="370"/>
                  <a:pt x="748" y="367"/>
                </a:cubicBezTo>
                <a:cubicBezTo>
                  <a:pt x="749" y="366"/>
                  <a:pt x="748" y="366"/>
                  <a:pt x="748" y="366"/>
                </a:cubicBezTo>
                <a:cubicBezTo>
                  <a:pt x="740" y="366"/>
                  <a:pt x="734" y="369"/>
                  <a:pt x="726" y="371"/>
                </a:cubicBezTo>
                <a:cubicBezTo>
                  <a:pt x="718" y="372"/>
                  <a:pt x="711" y="375"/>
                  <a:pt x="703" y="376"/>
                </a:cubicBezTo>
                <a:cubicBezTo>
                  <a:pt x="695" y="377"/>
                  <a:pt x="688" y="379"/>
                  <a:pt x="681" y="380"/>
                </a:cubicBezTo>
                <a:cubicBezTo>
                  <a:pt x="675" y="381"/>
                  <a:pt x="669" y="380"/>
                  <a:pt x="664" y="379"/>
                </a:cubicBezTo>
                <a:cubicBezTo>
                  <a:pt x="667" y="378"/>
                  <a:pt x="670" y="378"/>
                  <a:pt x="673" y="377"/>
                </a:cubicBezTo>
                <a:cubicBezTo>
                  <a:pt x="678" y="376"/>
                  <a:pt x="684" y="377"/>
                  <a:pt x="689" y="375"/>
                </a:cubicBezTo>
                <a:cubicBezTo>
                  <a:pt x="694" y="374"/>
                  <a:pt x="699" y="372"/>
                  <a:pt x="704" y="371"/>
                </a:cubicBezTo>
                <a:cubicBezTo>
                  <a:pt x="705" y="371"/>
                  <a:pt x="704" y="370"/>
                  <a:pt x="704" y="370"/>
                </a:cubicBezTo>
                <a:cubicBezTo>
                  <a:pt x="694" y="372"/>
                  <a:pt x="684" y="374"/>
                  <a:pt x="674" y="375"/>
                </a:cubicBezTo>
                <a:cubicBezTo>
                  <a:pt x="675" y="375"/>
                  <a:pt x="676" y="374"/>
                  <a:pt x="677" y="374"/>
                </a:cubicBezTo>
                <a:cubicBezTo>
                  <a:pt x="687" y="369"/>
                  <a:pt x="698" y="363"/>
                  <a:pt x="709" y="359"/>
                </a:cubicBezTo>
                <a:cubicBezTo>
                  <a:pt x="710" y="359"/>
                  <a:pt x="710" y="359"/>
                  <a:pt x="709" y="359"/>
                </a:cubicBezTo>
                <a:cubicBezTo>
                  <a:pt x="690" y="363"/>
                  <a:pt x="674" y="378"/>
                  <a:pt x="654" y="376"/>
                </a:cubicBezTo>
                <a:cubicBezTo>
                  <a:pt x="654" y="376"/>
                  <a:pt x="654" y="377"/>
                  <a:pt x="653" y="377"/>
                </a:cubicBezTo>
                <a:cubicBezTo>
                  <a:pt x="652" y="377"/>
                  <a:pt x="651" y="377"/>
                  <a:pt x="650" y="377"/>
                </a:cubicBezTo>
                <a:cubicBezTo>
                  <a:pt x="657" y="376"/>
                  <a:pt x="664" y="374"/>
                  <a:pt x="670" y="371"/>
                </a:cubicBezTo>
                <a:cubicBezTo>
                  <a:pt x="680" y="368"/>
                  <a:pt x="689" y="364"/>
                  <a:pt x="698" y="360"/>
                </a:cubicBezTo>
                <a:cubicBezTo>
                  <a:pt x="718" y="351"/>
                  <a:pt x="738" y="342"/>
                  <a:pt x="760" y="338"/>
                </a:cubicBezTo>
                <a:cubicBezTo>
                  <a:pt x="761" y="337"/>
                  <a:pt x="760" y="336"/>
                  <a:pt x="760" y="336"/>
                </a:cubicBezTo>
                <a:cubicBezTo>
                  <a:pt x="739" y="340"/>
                  <a:pt x="720" y="349"/>
                  <a:pt x="701" y="357"/>
                </a:cubicBezTo>
                <a:cubicBezTo>
                  <a:pt x="691" y="361"/>
                  <a:pt x="681" y="365"/>
                  <a:pt x="671" y="369"/>
                </a:cubicBezTo>
                <a:cubicBezTo>
                  <a:pt x="663" y="371"/>
                  <a:pt x="655" y="373"/>
                  <a:pt x="647" y="375"/>
                </a:cubicBezTo>
                <a:cubicBezTo>
                  <a:pt x="647" y="374"/>
                  <a:pt x="647" y="374"/>
                  <a:pt x="647" y="374"/>
                </a:cubicBezTo>
                <a:cubicBezTo>
                  <a:pt x="654" y="373"/>
                  <a:pt x="661" y="370"/>
                  <a:pt x="667" y="367"/>
                </a:cubicBezTo>
                <a:cubicBezTo>
                  <a:pt x="680" y="362"/>
                  <a:pt x="691" y="352"/>
                  <a:pt x="705" y="349"/>
                </a:cubicBezTo>
                <a:cubicBezTo>
                  <a:pt x="705" y="349"/>
                  <a:pt x="705" y="349"/>
                  <a:pt x="705" y="349"/>
                </a:cubicBezTo>
                <a:cubicBezTo>
                  <a:pt x="698" y="350"/>
                  <a:pt x="693" y="352"/>
                  <a:pt x="687" y="356"/>
                </a:cubicBezTo>
                <a:cubicBezTo>
                  <a:pt x="679" y="360"/>
                  <a:pt x="671" y="364"/>
                  <a:pt x="663" y="367"/>
                </a:cubicBezTo>
                <a:cubicBezTo>
                  <a:pt x="661" y="368"/>
                  <a:pt x="658" y="369"/>
                  <a:pt x="656" y="369"/>
                </a:cubicBezTo>
                <a:cubicBezTo>
                  <a:pt x="658" y="368"/>
                  <a:pt x="661" y="366"/>
                  <a:pt x="663" y="365"/>
                </a:cubicBezTo>
                <a:cubicBezTo>
                  <a:pt x="663" y="365"/>
                  <a:pt x="663" y="365"/>
                  <a:pt x="663" y="365"/>
                </a:cubicBezTo>
                <a:cubicBezTo>
                  <a:pt x="660" y="366"/>
                  <a:pt x="657" y="366"/>
                  <a:pt x="654" y="367"/>
                </a:cubicBezTo>
                <a:cubicBezTo>
                  <a:pt x="651" y="369"/>
                  <a:pt x="648" y="370"/>
                  <a:pt x="644" y="371"/>
                </a:cubicBezTo>
                <a:cubicBezTo>
                  <a:pt x="644" y="371"/>
                  <a:pt x="644" y="371"/>
                  <a:pt x="643" y="371"/>
                </a:cubicBezTo>
                <a:cubicBezTo>
                  <a:pt x="647" y="369"/>
                  <a:pt x="650" y="367"/>
                  <a:pt x="654" y="365"/>
                </a:cubicBezTo>
                <a:cubicBezTo>
                  <a:pt x="659" y="362"/>
                  <a:pt x="664" y="359"/>
                  <a:pt x="668" y="355"/>
                </a:cubicBezTo>
                <a:cubicBezTo>
                  <a:pt x="677" y="349"/>
                  <a:pt x="687" y="343"/>
                  <a:pt x="697" y="338"/>
                </a:cubicBezTo>
                <a:cubicBezTo>
                  <a:pt x="698" y="338"/>
                  <a:pt x="697" y="337"/>
                  <a:pt x="696" y="337"/>
                </a:cubicBezTo>
                <a:cubicBezTo>
                  <a:pt x="686" y="342"/>
                  <a:pt x="675" y="347"/>
                  <a:pt x="665" y="354"/>
                </a:cubicBezTo>
                <a:cubicBezTo>
                  <a:pt x="660" y="358"/>
                  <a:pt x="655" y="361"/>
                  <a:pt x="649" y="364"/>
                </a:cubicBezTo>
                <a:cubicBezTo>
                  <a:pt x="648" y="365"/>
                  <a:pt x="647" y="366"/>
                  <a:pt x="646" y="366"/>
                </a:cubicBezTo>
                <a:cubicBezTo>
                  <a:pt x="646" y="366"/>
                  <a:pt x="646" y="366"/>
                  <a:pt x="647" y="365"/>
                </a:cubicBezTo>
                <a:cubicBezTo>
                  <a:pt x="649" y="364"/>
                  <a:pt x="651" y="362"/>
                  <a:pt x="653" y="361"/>
                </a:cubicBezTo>
                <a:cubicBezTo>
                  <a:pt x="658" y="358"/>
                  <a:pt x="663" y="355"/>
                  <a:pt x="668" y="351"/>
                </a:cubicBezTo>
                <a:cubicBezTo>
                  <a:pt x="677" y="344"/>
                  <a:pt x="685" y="335"/>
                  <a:pt x="696" y="330"/>
                </a:cubicBezTo>
                <a:cubicBezTo>
                  <a:pt x="697" y="329"/>
                  <a:pt x="696" y="328"/>
                  <a:pt x="696" y="329"/>
                </a:cubicBezTo>
                <a:cubicBezTo>
                  <a:pt x="683" y="334"/>
                  <a:pt x="674" y="344"/>
                  <a:pt x="663" y="351"/>
                </a:cubicBezTo>
                <a:cubicBezTo>
                  <a:pt x="659" y="354"/>
                  <a:pt x="654" y="356"/>
                  <a:pt x="650" y="359"/>
                </a:cubicBezTo>
                <a:cubicBezTo>
                  <a:pt x="650" y="359"/>
                  <a:pt x="650" y="359"/>
                  <a:pt x="650" y="359"/>
                </a:cubicBezTo>
                <a:cubicBezTo>
                  <a:pt x="655" y="355"/>
                  <a:pt x="660" y="351"/>
                  <a:pt x="666" y="347"/>
                </a:cubicBezTo>
                <a:cubicBezTo>
                  <a:pt x="676" y="340"/>
                  <a:pt x="685" y="332"/>
                  <a:pt x="695" y="324"/>
                </a:cubicBezTo>
                <a:cubicBezTo>
                  <a:pt x="705" y="316"/>
                  <a:pt x="716" y="308"/>
                  <a:pt x="725" y="298"/>
                </a:cubicBezTo>
                <a:cubicBezTo>
                  <a:pt x="729" y="293"/>
                  <a:pt x="733" y="287"/>
                  <a:pt x="738" y="283"/>
                </a:cubicBezTo>
                <a:cubicBezTo>
                  <a:pt x="741" y="282"/>
                  <a:pt x="743" y="280"/>
                  <a:pt x="745" y="278"/>
                </a:cubicBezTo>
                <a:cubicBezTo>
                  <a:pt x="745" y="278"/>
                  <a:pt x="746" y="278"/>
                  <a:pt x="746" y="278"/>
                </a:cubicBezTo>
                <a:cubicBezTo>
                  <a:pt x="758" y="276"/>
                  <a:pt x="768" y="279"/>
                  <a:pt x="779" y="281"/>
                </a:cubicBezTo>
                <a:cubicBezTo>
                  <a:pt x="788" y="284"/>
                  <a:pt x="796" y="285"/>
                  <a:pt x="804" y="289"/>
                </a:cubicBezTo>
                <a:cubicBezTo>
                  <a:pt x="804" y="289"/>
                  <a:pt x="805" y="289"/>
                  <a:pt x="805" y="289"/>
                </a:cubicBezTo>
                <a:cubicBezTo>
                  <a:pt x="807" y="290"/>
                  <a:pt x="808" y="291"/>
                  <a:pt x="810" y="292"/>
                </a:cubicBezTo>
                <a:cubicBezTo>
                  <a:pt x="828" y="302"/>
                  <a:pt x="847" y="320"/>
                  <a:pt x="852" y="341"/>
                </a:cubicBezTo>
                <a:cubicBezTo>
                  <a:pt x="852" y="342"/>
                  <a:pt x="852" y="342"/>
                  <a:pt x="852" y="342"/>
                </a:cubicBezTo>
                <a:cubicBezTo>
                  <a:pt x="854" y="351"/>
                  <a:pt x="846" y="359"/>
                  <a:pt x="839" y="365"/>
                </a:cubicBezTo>
                <a:cubicBezTo>
                  <a:pt x="832" y="371"/>
                  <a:pt x="825" y="377"/>
                  <a:pt x="817" y="382"/>
                </a:cubicBezTo>
                <a:cubicBezTo>
                  <a:pt x="806" y="391"/>
                  <a:pt x="792" y="397"/>
                  <a:pt x="778" y="402"/>
                </a:cubicBezTo>
                <a:cubicBezTo>
                  <a:pt x="766" y="406"/>
                  <a:pt x="754" y="407"/>
                  <a:pt x="741" y="410"/>
                </a:cubicBezTo>
                <a:close/>
                <a:moveTo>
                  <a:pt x="521" y="621"/>
                </a:moveTo>
                <a:cubicBezTo>
                  <a:pt x="520" y="621"/>
                  <a:pt x="520" y="621"/>
                  <a:pt x="519" y="621"/>
                </a:cubicBezTo>
                <a:cubicBezTo>
                  <a:pt x="521" y="620"/>
                  <a:pt x="522" y="617"/>
                  <a:pt x="522" y="615"/>
                </a:cubicBezTo>
                <a:cubicBezTo>
                  <a:pt x="523" y="613"/>
                  <a:pt x="520" y="613"/>
                  <a:pt x="520" y="614"/>
                </a:cubicBezTo>
                <a:cubicBezTo>
                  <a:pt x="520" y="616"/>
                  <a:pt x="519" y="617"/>
                  <a:pt x="519" y="618"/>
                </a:cubicBezTo>
                <a:cubicBezTo>
                  <a:pt x="518" y="618"/>
                  <a:pt x="517" y="619"/>
                  <a:pt x="516" y="619"/>
                </a:cubicBezTo>
                <a:cubicBezTo>
                  <a:pt x="515" y="619"/>
                  <a:pt x="515" y="620"/>
                  <a:pt x="516" y="621"/>
                </a:cubicBezTo>
                <a:cubicBezTo>
                  <a:pt x="514" y="621"/>
                  <a:pt x="513" y="621"/>
                  <a:pt x="512" y="621"/>
                </a:cubicBezTo>
                <a:cubicBezTo>
                  <a:pt x="509" y="622"/>
                  <a:pt x="506" y="623"/>
                  <a:pt x="504" y="624"/>
                </a:cubicBezTo>
                <a:cubicBezTo>
                  <a:pt x="501" y="625"/>
                  <a:pt x="499" y="625"/>
                  <a:pt x="497" y="624"/>
                </a:cubicBezTo>
                <a:cubicBezTo>
                  <a:pt x="497" y="623"/>
                  <a:pt x="497" y="623"/>
                  <a:pt x="496" y="622"/>
                </a:cubicBezTo>
                <a:cubicBezTo>
                  <a:pt x="495" y="621"/>
                  <a:pt x="495" y="620"/>
                  <a:pt x="493" y="619"/>
                </a:cubicBezTo>
                <a:cubicBezTo>
                  <a:pt x="493" y="619"/>
                  <a:pt x="492" y="619"/>
                  <a:pt x="492" y="619"/>
                </a:cubicBezTo>
                <a:cubicBezTo>
                  <a:pt x="492" y="619"/>
                  <a:pt x="492" y="619"/>
                  <a:pt x="491" y="619"/>
                </a:cubicBezTo>
                <a:cubicBezTo>
                  <a:pt x="491" y="619"/>
                  <a:pt x="490" y="618"/>
                  <a:pt x="490" y="618"/>
                </a:cubicBezTo>
                <a:cubicBezTo>
                  <a:pt x="491" y="616"/>
                  <a:pt x="492" y="615"/>
                  <a:pt x="494" y="613"/>
                </a:cubicBezTo>
                <a:cubicBezTo>
                  <a:pt x="495" y="611"/>
                  <a:pt x="498" y="609"/>
                  <a:pt x="499" y="606"/>
                </a:cubicBezTo>
                <a:cubicBezTo>
                  <a:pt x="503" y="600"/>
                  <a:pt x="506" y="592"/>
                  <a:pt x="513" y="588"/>
                </a:cubicBezTo>
                <a:cubicBezTo>
                  <a:pt x="518" y="585"/>
                  <a:pt x="522" y="583"/>
                  <a:pt x="525" y="578"/>
                </a:cubicBezTo>
                <a:cubicBezTo>
                  <a:pt x="528" y="571"/>
                  <a:pt x="532" y="566"/>
                  <a:pt x="536" y="560"/>
                </a:cubicBezTo>
                <a:cubicBezTo>
                  <a:pt x="547" y="548"/>
                  <a:pt x="558" y="537"/>
                  <a:pt x="570" y="526"/>
                </a:cubicBezTo>
                <a:cubicBezTo>
                  <a:pt x="573" y="523"/>
                  <a:pt x="577" y="519"/>
                  <a:pt x="580" y="515"/>
                </a:cubicBezTo>
                <a:cubicBezTo>
                  <a:pt x="582" y="512"/>
                  <a:pt x="585" y="507"/>
                  <a:pt x="589" y="505"/>
                </a:cubicBezTo>
                <a:cubicBezTo>
                  <a:pt x="590" y="504"/>
                  <a:pt x="590" y="502"/>
                  <a:pt x="588" y="503"/>
                </a:cubicBezTo>
                <a:cubicBezTo>
                  <a:pt x="585" y="504"/>
                  <a:pt x="582" y="508"/>
                  <a:pt x="579" y="511"/>
                </a:cubicBezTo>
                <a:cubicBezTo>
                  <a:pt x="576" y="515"/>
                  <a:pt x="573" y="519"/>
                  <a:pt x="569" y="523"/>
                </a:cubicBezTo>
                <a:cubicBezTo>
                  <a:pt x="565" y="526"/>
                  <a:pt x="562" y="529"/>
                  <a:pt x="559" y="532"/>
                </a:cubicBezTo>
                <a:cubicBezTo>
                  <a:pt x="559" y="531"/>
                  <a:pt x="560" y="530"/>
                  <a:pt x="561" y="529"/>
                </a:cubicBezTo>
                <a:cubicBezTo>
                  <a:pt x="563" y="526"/>
                  <a:pt x="566" y="522"/>
                  <a:pt x="569" y="519"/>
                </a:cubicBezTo>
                <a:cubicBezTo>
                  <a:pt x="574" y="513"/>
                  <a:pt x="580" y="507"/>
                  <a:pt x="584" y="500"/>
                </a:cubicBezTo>
                <a:cubicBezTo>
                  <a:pt x="584" y="500"/>
                  <a:pt x="584" y="500"/>
                  <a:pt x="584" y="500"/>
                </a:cubicBezTo>
                <a:cubicBezTo>
                  <a:pt x="592" y="504"/>
                  <a:pt x="601" y="507"/>
                  <a:pt x="610" y="506"/>
                </a:cubicBezTo>
                <a:cubicBezTo>
                  <a:pt x="614" y="505"/>
                  <a:pt x="618" y="505"/>
                  <a:pt x="623" y="505"/>
                </a:cubicBezTo>
                <a:cubicBezTo>
                  <a:pt x="617" y="510"/>
                  <a:pt x="609" y="520"/>
                  <a:pt x="608" y="521"/>
                </a:cubicBezTo>
                <a:cubicBezTo>
                  <a:pt x="594" y="537"/>
                  <a:pt x="577" y="551"/>
                  <a:pt x="563" y="567"/>
                </a:cubicBezTo>
                <a:cubicBezTo>
                  <a:pt x="555" y="575"/>
                  <a:pt x="547" y="582"/>
                  <a:pt x="540" y="590"/>
                </a:cubicBezTo>
                <a:cubicBezTo>
                  <a:pt x="533" y="596"/>
                  <a:pt x="529" y="602"/>
                  <a:pt x="527" y="610"/>
                </a:cubicBezTo>
                <a:cubicBezTo>
                  <a:pt x="526" y="611"/>
                  <a:pt x="526" y="613"/>
                  <a:pt x="525" y="616"/>
                </a:cubicBezTo>
                <a:cubicBezTo>
                  <a:pt x="525" y="616"/>
                  <a:pt x="525" y="616"/>
                  <a:pt x="524" y="616"/>
                </a:cubicBezTo>
                <a:cubicBezTo>
                  <a:pt x="524" y="616"/>
                  <a:pt x="523" y="617"/>
                  <a:pt x="523" y="617"/>
                </a:cubicBezTo>
                <a:cubicBezTo>
                  <a:pt x="522" y="618"/>
                  <a:pt x="521" y="619"/>
                  <a:pt x="521" y="621"/>
                </a:cubicBezTo>
                <a:cubicBezTo>
                  <a:pt x="521" y="621"/>
                  <a:pt x="521" y="621"/>
                  <a:pt x="521" y="621"/>
                </a:cubicBezTo>
                <a:close/>
                <a:moveTo>
                  <a:pt x="453" y="616"/>
                </a:moveTo>
                <a:cubicBezTo>
                  <a:pt x="451" y="615"/>
                  <a:pt x="449" y="613"/>
                  <a:pt x="448" y="612"/>
                </a:cubicBezTo>
                <a:cubicBezTo>
                  <a:pt x="448" y="611"/>
                  <a:pt x="448" y="610"/>
                  <a:pt x="447" y="610"/>
                </a:cubicBezTo>
                <a:cubicBezTo>
                  <a:pt x="450" y="612"/>
                  <a:pt x="453" y="613"/>
                  <a:pt x="457" y="614"/>
                </a:cubicBezTo>
                <a:cubicBezTo>
                  <a:pt x="458" y="615"/>
                  <a:pt x="459" y="616"/>
                  <a:pt x="460" y="617"/>
                </a:cubicBezTo>
                <a:cubicBezTo>
                  <a:pt x="465" y="619"/>
                  <a:pt x="471" y="620"/>
                  <a:pt x="476" y="622"/>
                </a:cubicBezTo>
                <a:cubicBezTo>
                  <a:pt x="482" y="624"/>
                  <a:pt x="486" y="624"/>
                  <a:pt x="492" y="622"/>
                </a:cubicBezTo>
                <a:cubicBezTo>
                  <a:pt x="492" y="622"/>
                  <a:pt x="492" y="622"/>
                  <a:pt x="492" y="622"/>
                </a:cubicBezTo>
                <a:cubicBezTo>
                  <a:pt x="492" y="623"/>
                  <a:pt x="493" y="623"/>
                  <a:pt x="493" y="624"/>
                </a:cubicBezTo>
                <a:cubicBezTo>
                  <a:pt x="494" y="628"/>
                  <a:pt x="498" y="630"/>
                  <a:pt x="503" y="629"/>
                </a:cubicBezTo>
                <a:cubicBezTo>
                  <a:pt x="506" y="628"/>
                  <a:pt x="508" y="627"/>
                  <a:pt x="511" y="625"/>
                </a:cubicBezTo>
                <a:cubicBezTo>
                  <a:pt x="513" y="625"/>
                  <a:pt x="515" y="625"/>
                  <a:pt x="517" y="625"/>
                </a:cubicBezTo>
                <a:cubicBezTo>
                  <a:pt x="518" y="634"/>
                  <a:pt x="509" y="640"/>
                  <a:pt x="501" y="639"/>
                </a:cubicBezTo>
                <a:cubicBezTo>
                  <a:pt x="492" y="639"/>
                  <a:pt x="484" y="635"/>
                  <a:pt x="476" y="632"/>
                </a:cubicBezTo>
                <a:cubicBezTo>
                  <a:pt x="472" y="630"/>
                  <a:pt x="468" y="628"/>
                  <a:pt x="464" y="626"/>
                </a:cubicBezTo>
                <a:cubicBezTo>
                  <a:pt x="461" y="624"/>
                  <a:pt x="458" y="621"/>
                  <a:pt x="454" y="619"/>
                </a:cubicBezTo>
                <a:cubicBezTo>
                  <a:pt x="454" y="619"/>
                  <a:pt x="453" y="619"/>
                  <a:pt x="453" y="619"/>
                </a:cubicBezTo>
                <a:cubicBezTo>
                  <a:pt x="454" y="618"/>
                  <a:pt x="454" y="617"/>
                  <a:pt x="453" y="616"/>
                </a:cubicBezTo>
                <a:close/>
                <a:moveTo>
                  <a:pt x="360" y="549"/>
                </a:moveTo>
                <a:cubicBezTo>
                  <a:pt x="361" y="525"/>
                  <a:pt x="362" y="499"/>
                  <a:pt x="367" y="475"/>
                </a:cubicBezTo>
                <a:cubicBezTo>
                  <a:pt x="367" y="474"/>
                  <a:pt x="367" y="474"/>
                  <a:pt x="366" y="473"/>
                </a:cubicBezTo>
                <a:cubicBezTo>
                  <a:pt x="366" y="473"/>
                  <a:pt x="366" y="473"/>
                  <a:pt x="367" y="473"/>
                </a:cubicBezTo>
                <a:cubicBezTo>
                  <a:pt x="368" y="472"/>
                  <a:pt x="370" y="471"/>
                  <a:pt x="372" y="471"/>
                </a:cubicBezTo>
                <a:cubicBezTo>
                  <a:pt x="372" y="471"/>
                  <a:pt x="372" y="471"/>
                  <a:pt x="372" y="471"/>
                </a:cubicBezTo>
                <a:cubicBezTo>
                  <a:pt x="372" y="471"/>
                  <a:pt x="372" y="471"/>
                  <a:pt x="372" y="472"/>
                </a:cubicBezTo>
                <a:cubicBezTo>
                  <a:pt x="371" y="472"/>
                  <a:pt x="371" y="473"/>
                  <a:pt x="371" y="474"/>
                </a:cubicBezTo>
                <a:cubicBezTo>
                  <a:pt x="371" y="476"/>
                  <a:pt x="370" y="478"/>
                  <a:pt x="370" y="479"/>
                </a:cubicBezTo>
                <a:cubicBezTo>
                  <a:pt x="370" y="480"/>
                  <a:pt x="371" y="480"/>
                  <a:pt x="371" y="480"/>
                </a:cubicBezTo>
                <a:cubicBezTo>
                  <a:pt x="372" y="478"/>
                  <a:pt x="373" y="475"/>
                  <a:pt x="373" y="473"/>
                </a:cubicBezTo>
                <a:cubicBezTo>
                  <a:pt x="373" y="472"/>
                  <a:pt x="374" y="471"/>
                  <a:pt x="373" y="470"/>
                </a:cubicBezTo>
                <a:cubicBezTo>
                  <a:pt x="376" y="469"/>
                  <a:pt x="378" y="468"/>
                  <a:pt x="380" y="466"/>
                </a:cubicBezTo>
                <a:cubicBezTo>
                  <a:pt x="380" y="467"/>
                  <a:pt x="380" y="467"/>
                  <a:pt x="380" y="468"/>
                </a:cubicBezTo>
                <a:cubicBezTo>
                  <a:pt x="380" y="468"/>
                  <a:pt x="380" y="469"/>
                  <a:pt x="380" y="469"/>
                </a:cubicBezTo>
                <a:cubicBezTo>
                  <a:pt x="377" y="475"/>
                  <a:pt x="377" y="484"/>
                  <a:pt x="376" y="490"/>
                </a:cubicBezTo>
                <a:cubicBezTo>
                  <a:pt x="374" y="499"/>
                  <a:pt x="375" y="507"/>
                  <a:pt x="375" y="516"/>
                </a:cubicBezTo>
                <a:cubicBezTo>
                  <a:pt x="375" y="526"/>
                  <a:pt x="375" y="535"/>
                  <a:pt x="374" y="545"/>
                </a:cubicBezTo>
                <a:cubicBezTo>
                  <a:pt x="373" y="550"/>
                  <a:pt x="372" y="556"/>
                  <a:pt x="371" y="561"/>
                </a:cubicBezTo>
                <a:cubicBezTo>
                  <a:pt x="370" y="565"/>
                  <a:pt x="369" y="568"/>
                  <a:pt x="369" y="571"/>
                </a:cubicBezTo>
                <a:cubicBezTo>
                  <a:pt x="369" y="571"/>
                  <a:pt x="369" y="571"/>
                  <a:pt x="368" y="571"/>
                </a:cubicBezTo>
                <a:cubicBezTo>
                  <a:pt x="366" y="575"/>
                  <a:pt x="368" y="580"/>
                  <a:pt x="365" y="584"/>
                </a:cubicBezTo>
                <a:cubicBezTo>
                  <a:pt x="364" y="585"/>
                  <a:pt x="364" y="586"/>
                  <a:pt x="363" y="587"/>
                </a:cubicBezTo>
                <a:cubicBezTo>
                  <a:pt x="363" y="586"/>
                  <a:pt x="363" y="585"/>
                  <a:pt x="363" y="584"/>
                </a:cubicBezTo>
                <a:cubicBezTo>
                  <a:pt x="363" y="572"/>
                  <a:pt x="360" y="561"/>
                  <a:pt x="360" y="549"/>
                </a:cubicBezTo>
                <a:close/>
                <a:moveTo>
                  <a:pt x="359" y="574"/>
                </a:moveTo>
                <a:cubicBezTo>
                  <a:pt x="360" y="581"/>
                  <a:pt x="361" y="587"/>
                  <a:pt x="357" y="593"/>
                </a:cubicBezTo>
                <a:cubicBezTo>
                  <a:pt x="356" y="594"/>
                  <a:pt x="355" y="595"/>
                  <a:pt x="355" y="596"/>
                </a:cubicBezTo>
                <a:cubicBezTo>
                  <a:pt x="354" y="596"/>
                  <a:pt x="353" y="597"/>
                  <a:pt x="352" y="598"/>
                </a:cubicBezTo>
                <a:cubicBezTo>
                  <a:pt x="351" y="598"/>
                  <a:pt x="351" y="599"/>
                  <a:pt x="350" y="599"/>
                </a:cubicBezTo>
                <a:cubicBezTo>
                  <a:pt x="350" y="599"/>
                  <a:pt x="349" y="599"/>
                  <a:pt x="349" y="599"/>
                </a:cubicBezTo>
                <a:cubicBezTo>
                  <a:pt x="349" y="598"/>
                  <a:pt x="349" y="596"/>
                  <a:pt x="349" y="595"/>
                </a:cubicBezTo>
                <a:cubicBezTo>
                  <a:pt x="350" y="595"/>
                  <a:pt x="350" y="596"/>
                  <a:pt x="350" y="596"/>
                </a:cubicBezTo>
                <a:cubicBezTo>
                  <a:pt x="350" y="596"/>
                  <a:pt x="351" y="596"/>
                  <a:pt x="351" y="595"/>
                </a:cubicBezTo>
                <a:cubicBezTo>
                  <a:pt x="351" y="591"/>
                  <a:pt x="352" y="587"/>
                  <a:pt x="352" y="582"/>
                </a:cubicBezTo>
                <a:cubicBezTo>
                  <a:pt x="351" y="579"/>
                  <a:pt x="351" y="576"/>
                  <a:pt x="350" y="573"/>
                </a:cubicBezTo>
                <a:cubicBezTo>
                  <a:pt x="351" y="575"/>
                  <a:pt x="352" y="577"/>
                  <a:pt x="352" y="580"/>
                </a:cubicBezTo>
                <a:cubicBezTo>
                  <a:pt x="352" y="583"/>
                  <a:pt x="352" y="587"/>
                  <a:pt x="352" y="590"/>
                </a:cubicBezTo>
                <a:cubicBezTo>
                  <a:pt x="352" y="591"/>
                  <a:pt x="353" y="591"/>
                  <a:pt x="353" y="590"/>
                </a:cubicBezTo>
                <a:cubicBezTo>
                  <a:pt x="353" y="586"/>
                  <a:pt x="353" y="582"/>
                  <a:pt x="353" y="578"/>
                </a:cubicBezTo>
                <a:cubicBezTo>
                  <a:pt x="352" y="574"/>
                  <a:pt x="352" y="571"/>
                  <a:pt x="350" y="568"/>
                </a:cubicBezTo>
                <a:cubicBezTo>
                  <a:pt x="350" y="568"/>
                  <a:pt x="349" y="568"/>
                  <a:pt x="349" y="568"/>
                </a:cubicBezTo>
                <a:cubicBezTo>
                  <a:pt x="349" y="567"/>
                  <a:pt x="349" y="566"/>
                  <a:pt x="349" y="565"/>
                </a:cubicBezTo>
                <a:cubicBezTo>
                  <a:pt x="348" y="562"/>
                  <a:pt x="348" y="558"/>
                  <a:pt x="348" y="554"/>
                </a:cubicBezTo>
                <a:cubicBezTo>
                  <a:pt x="347" y="551"/>
                  <a:pt x="348" y="548"/>
                  <a:pt x="347" y="544"/>
                </a:cubicBezTo>
                <a:cubicBezTo>
                  <a:pt x="347" y="538"/>
                  <a:pt x="347" y="532"/>
                  <a:pt x="346" y="526"/>
                </a:cubicBezTo>
                <a:cubicBezTo>
                  <a:pt x="346" y="525"/>
                  <a:pt x="345" y="525"/>
                  <a:pt x="345" y="526"/>
                </a:cubicBezTo>
                <a:cubicBezTo>
                  <a:pt x="345" y="533"/>
                  <a:pt x="344" y="540"/>
                  <a:pt x="346" y="547"/>
                </a:cubicBezTo>
                <a:cubicBezTo>
                  <a:pt x="347" y="553"/>
                  <a:pt x="346" y="561"/>
                  <a:pt x="347" y="567"/>
                </a:cubicBezTo>
                <a:cubicBezTo>
                  <a:pt x="347" y="574"/>
                  <a:pt x="350" y="580"/>
                  <a:pt x="349" y="586"/>
                </a:cubicBezTo>
                <a:cubicBezTo>
                  <a:pt x="349" y="587"/>
                  <a:pt x="349" y="588"/>
                  <a:pt x="349" y="590"/>
                </a:cubicBezTo>
                <a:cubicBezTo>
                  <a:pt x="349" y="589"/>
                  <a:pt x="349" y="589"/>
                  <a:pt x="349" y="588"/>
                </a:cubicBezTo>
                <a:cubicBezTo>
                  <a:pt x="347" y="584"/>
                  <a:pt x="345" y="579"/>
                  <a:pt x="344" y="575"/>
                </a:cubicBezTo>
                <a:cubicBezTo>
                  <a:pt x="342" y="564"/>
                  <a:pt x="340" y="552"/>
                  <a:pt x="340" y="541"/>
                </a:cubicBezTo>
                <a:cubicBezTo>
                  <a:pt x="340" y="522"/>
                  <a:pt x="344" y="504"/>
                  <a:pt x="340" y="485"/>
                </a:cubicBezTo>
                <a:cubicBezTo>
                  <a:pt x="340" y="485"/>
                  <a:pt x="341" y="485"/>
                  <a:pt x="341" y="485"/>
                </a:cubicBezTo>
                <a:cubicBezTo>
                  <a:pt x="349" y="482"/>
                  <a:pt x="356" y="478"/>
                  <a:pt x="364" y="474"/>
                </a:cubicBezTo>
                <a:cubicBezTo>
                  <a:pt x="361" y="484"/>
                  <a:pt x="360" y="496"/>
                  <a:pt x="359" y="506"/>
                </a:cubicBezTo>
                <a:cubicBezTo>
                  <a:pt x="359" y="518"/>
                  <a:pt x="358" y="530"/>
                  <a:pt x="357" y="542"/>
                </a:cubicBezTo>
                <a:cubicBezTo>
                  <a:pt x="357" y="553"/>
                  <a:pt x="358" y="563"/>
                  <a:pt x="359" y="574"/>
                </a:cubicBezTo>
                <a:close/>
                <a:moveTo>
                  <a:pt x="323" y="576"/>
                </a:moveTo>
                <a:cubicBezTo>
                  <a:pt x="323" y="576"/>
                  <a:pt x="323" y="576"/>
                  <a:pt x="323" y="576"/>
                </a:cubicBezTo>
                <a:cubicBezTo>
                  <a:pt x="322" y="577"/>
                  <a:pt x="322" y="577"/>
                  <a:pt x="321" y="578"/>
                </a:cubicBezTo>
                <a:cubicBezTo>
                  <a:pt x="320" y="578"/>
                  <a:pt x="320" y="579"/>
                  <a:pt x="319" y="579"/>
                </a:cubicBezTo>
                <a:cubicBezTo>
                  <a:pt x="319" y="579"/>
                  <a:pt x="319" y="579"/>
                  <a:pt x="319" y="579"/>
                </a:cubicBezTo>
                <a:cubicBezTo>
                  <a:pt x="311" y="566"/>
                  <a:pt x="307" y="551"/>
                  <a:pt x="302" y="537"/>
                </a:cubicBezTo>
                <a:cubicBezTo>
                  <a:pt x="297" y="523"/>
                  <a:pt x="291" y="509"/>
                  <a:pt x="286" y="495"/>
                </a:cubicBezTo>
                <a:cubicBezTo>
                  <a:pt x="282" y="486"/>
                  <a:pt x="277" y="478"/>
                  <a:pt x="272" y="469"/>
                </a:cubicBezTo>
                <a:cubicBezTo>
                  <a:pt x="274" y="471"/>
                  <a:pt x="276" y="473"/>
                  <a:pt x="279" y="475"/>
                </a:cubicBezTo>
                <a:cubicBezTo>
                  <a:pt x="286" y="480"/>
                  <a:pt x="294" y="484"/>
                  <a:pt x="303" y="487"/>
                </a:cubicBezTo>
                <a:cubicBezTo>
                  <a:pt x="303" y="487"/>
                  <a:pt x="303" y="487"/>
                  <a:pt x="303" y="487"/>
                </a:cubicBezTo>
                <a:cubicBezTo>
                  <a:pt x="303" y="491"/>
                  <a:pt x="304" y="495"/>
                  <a:pt x="305" y="499"/>
                </a:cubicBezTo>
                <a:cubicBezTo>
                  <a:pt x="305" y="503"/>
                  <a:pt x="306" y="506"/>
                  <a:pt x="307" y="510"/>
                </a:cubicBezTo>
                <a:cubicBezTo>
                  <a:pt x="309" y="517"/>
                  <a:pt x="313" y="524"/>
                  <a:pt x="316" y="531"/>
                </a:cubicBezTo>
                <a:cubicBezTo>
                  <a:pt x="321" y="545"/>
                  <a:pt x="326" y="560"/>
                  <a:pt x="336" y="571"/>
                </a:cubicBezTo>
                <a:cubicBezTo>
                  <a:pt x="335" y="571"/>
                  <a:pt x="334" y="570"/>
                  <a:pt x="333" y="570"/>
                </a:cubicBezTo>
                <a:cubicBezTo>
                  <a:pt x="330" y="570"/>
                  <a:pt x="327" y="571"/>
                  <a:pt x="325" y="573"/>
                </a:cubicBezTo>
                <a:cubicBezTo>
                  <a:pt x="325" y="574"/>
                  <a:pt x="324" y="574"/>
                  <a:pt x="324" y="575"/>
                </a:cubicBezTo>
                <a:cubicBezTo>
                  <a:pt x="323" y="574"/>
                  <a:pt x="323" y="574"/>
                  <a:pt x="322" y="574"/>
                </a:cubicBezTo>
                <a:cubicBezTo>
                  <a:pt x="322" y="574"/>
                  <a:pt x="321" y="574"/>
                  <a:pt x="322" y="574"/>
                </a:cubicBezTo>
                <a:cubicBezTo>
                  <a:pt x="322" y="575"/>
                  <a:pt x="322" y="575"/>
                  <a:pt x="323" y="576"/>
                </a:cubicBezTo>
                <a:close/>
                <a:moveTo>
                  <a:pt x="176" y="253"/>
                </a:moveTo>
                <a:cubicBezTo>
                  <a:pt x="172" y="261"/>
                  <a:pt x="166" y="272"/>
                  <a:pt x="168" y="281"/>
                </a:cubicBezTo>
                <a:cubicBezTo>
                  <a:pt x="167" y="278"/>
                  <a:pt x="166" y="274"/>
                  <a:pt x="165" y="270"/>
                </a:cubicBezTo>
                <a:cubicBezTo>
                  <a:pt x="165" y="271"/>
                  <a:pt x="166" y="271"/>
                  <a:pt x="167" y="271"/>
                </a:cubicBezTo>
                <a:cubicBezTo>
                  <a:pt x="167" y="272"/>
                  <a:pt x="167" y="271"/>
                  <a:pt x="167" y="271"/>
                </a:cubicBezTo>
                <a:cubicBezTo>
                  <a:pt x="167" y="269"/>
                  <a:pt x="165" y="267"/>
                  <a:pt x="165" y="265"/>
                </a:cubicBezTo>
                <a:cubicBezTo>
                  <a:pt x="166" y="262"/>
                  <a:pt x="166" y="259"/>
                  <a:pt x="167" y="256"/>
                </a:cubicBezTo>
                <a:cubicBezTo>
                  <a:pt x="168" y="251"/>
                  <a:pt x="170" y="245"/>
                  <a:pt x="173" y="241"/>
                </a:cubicBezTo>
                <a:cubicBezTo>
                  <a:pt x="174" y="241"/>
                  <a:pt x="173" y="241"/>
                  <a:pt x="173" y="241"/>
                </a:cubicBezTo>
                <a:cubicBezTo>
                  <a:pt x="169" y="246"/>
                  <a:pt x="167" y="252"/>
                  <a:pt x="165" y="258"/>
                </a:cubicBezTo>
                <a:cubicBezTo>
                  <a:pt x="165" y="258"/>
                  <a:pt x="165" y="258"/>
                  <a:pt x="165" y="259"/>
                </a:cubicBezTo>
                <a:cubicBezTo>
                  <a:pt x="164" y="257"/>
                  <a:pt x="164" y="256"/>
                  <a:pt x="164" y="255"/>
                </a:cubicBezTo>
                <a:cubicBezTo>
                  <a:pt x="164" y="252"/>
                  <a:pt x="164" y="249"/>
                  <a:pt x="165" y="246"/>
                </a:cubicBezTo>
                <a:cubicBezTo>
                  <a:pt x="165" y="245"/>
                  <a:pt x="165" y="245"/>
                  <a:pt x="165" y="245"/>
                </a:cubicBezTo>
                <a:cubicBezTo>
                  <a:pt x="165" y="245"/>
                  <a:pt x="165" y="245"/>
                  <a:pt x="165" y="245"/>
                </a:cubicBezTo>
                <a:cubicBezTo>
                  <a:pt x="165" y="244"/>
                  <a:pt x="165" y="244"/>
                  <a:pt x="165" y="244"/>
                </a:cubicBezTo>
                <a:cubicBezTo>
                  <a:pt x="167" y="237"/>
                  <a:pt x="170" y="232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0" y="229"/>
                  <a:pt x="167" y="234"/>
                  <a:pt x="165" y="239"/>
                </a:cubicBezTo>
                <a:cubicBezTo>
                  <a:pt x="165" y="237"/>
                  <a:pt x="165" y="236"/>
                  <a:pt x="165" y="234"/>
                </a:cubicBezTo>
                <a:cubicBezTo>
                  <a:pt x="165" y="230"/>
                  <a:pt x="166" y="226"/>
                  <a:pt x="166" y="222"/>
                </a:cubicBezTo>
                <a:cubicBezTo>
                  <a:pt x="166" y="221"/>
                  <a:pt x="164" y="221"/>
                  <a:pt x="164" y="222"/>
                </a:cubicBezTo>
                <a:cubicBezTo>
                  <a:pt x="164" y="224"/>
                  <a:pt x="164" y="227"/>
                  <a:pt x="164" y="229"/>
                </a:cubicBezTo>
                <a:cubicBezTo>
                  <a:pt x="164" y="231"/>
                  <a:pt x="163" y="233"/>
                  <a:pt x="163" y="235"/>
                </a:cubicBezTo>
                <a:cubicBezTo>
                  <a:pt x="163" y="238"/>
                  <a:pt x="163" y="241"/>
                  <a:pt x="164" y="244"/>
                </a:cubicBezTo>
                <a:cubicBezTo>
                  <a:pt x="164" y="245"/>
                  <a:pt x="163" y="247"/>
                  <a:pt x="163" y="248"/>
                </a:cubicBezTo>
                <a:cubicBezTo>
                  <a:pt x="163" y="250"/>
                  <a:pt x="162" y="253"/>
                  <a:pt x="162" y="257"/>
                </a:cubicBezTo>
                <a:cubicBezTo>
                  <a:pt x="161" y="250"/>
                  <a:pt x="160" y="244"/>
                  <a:pt x="160" y="237"/>
                </a:cubicBezTo>
                <a:cubicBezTo>
                  <a:pt x="161" y="233"/>
                  <a:pt x="161" y="229"/>
                  <a:pt x="159" y="226"/>
                </a:cubicBezTo>
                <a:cubicBezTo>
                  <a:pt x="156" y="222"/>
                  <a:pt x="152" y="218"/>
                  <a:pt x="151" y="212"/>
                </a:cubicBezTo>
                <a:cubicBezTo>
                  <a:pt x="151" y="204"/>
                  <a:pt x="151" y="198"/>
                  <a:pt x="146" y="190"/>
                </a:cubicBezTo>
                <a:cubicBezTo>
                  <a:pt x="144" y="187"/>
                  <a:pt x="141" y="183"/>
                  <a:pt x="140" y="179"/>
                </a:cubicBezTo>
                <a:cubicBezTo>
                  <a:pt x="139" y="178"/>
                  <a:pt x="138" y="170"/>
                  <a:pt x="141" y="171"/>
                </a:cubicBezTo>
                <a:cubicBezTo>
                  <a:pt x="143" y="171"/>
                  <a:pt x="144" y="172"/>
                  <a:pt x="146" y="173"/>
                </a:cubicBezTo>
                <a:cubicBezTo>
                  <a:pt x="151" y="175"/>
                  <a:pt x="158" y="178"/>
                  <a:pt x="160" y="184"/>
                </a:cubicBezTo>
                <a:cubicBezTo>
                  <a:pt x="161" y="186"/>
                  <a:pt x="162" y="189"/>
                  <a:pt x="164" y="190"/>
                </a:cubicBezTo>
                <a:cubicBezTo>
                  <a:pt x="164" y="192"/>
                  <a:pt x="166" y="194"/>
                  <a:pt x="166" y="195"/>
                </a:cubicBezTo>
                <a:cubicBezTo>
                  <a:pt x="167" y="197"/>
                  <a:pt x="168" y="199"/>
                  <a:pt x="169" y="200"/>
                </a:cubicBezTo>
                <a:cubicBezTo>
                  <a:pt x="170" y="202"/>
                  <a:pt x="170" y="203"/>
                  <a:pt x="171" y="205"/>
                </a:cubicBezTo>
                <a:cubicBezTo>
                  <a:pt x="172" y="213"/>
                  <a:pt x="178" y="221"/>
                  <a:pt x="180" y="229"/>
                </a:cubicBezTo>
                <a:cubicBezTo>
                  <a:pt x="181" y="233"/>
                  <a:pt x="182" y="238"/>
                  <a:pt x="183" y="242"/>
                </a:cubicBezTo>
                <a:cubicBezTo>
                  <a:pt x="184" y="247"/>
                  <a:pt x="184" y="251"/>
                  <a:pt x="185" y="256"/>
                </a:cubicBezTo>
                <a:cubicBezTo>
                  <a:pt x="185" y="256"/>
                  <a:pt x="185" y="256"/>
                  <a:pt x="185" y="256"/>
                </a:cubicBezTo>
                <a:cubicBezTo>
                  <a:pt x="184" y="258"/>
                  <a:pt x="182" y="260"/>
                  <a:pt x="181" y="263"/>
                </a:cubicBezTo>
                <a:cubicBezTo>
                  <a:pt x="179" y="267"/>
                  <a:pt x="179" y="271"/>
                  <a:pt x="179" y="275"/>
                </a:cubicBezTo>
                <a:cubicBezTo>
                  <a:pt x="177" y="287"/>
                  <a:pt x="178" y="301"/>
                  <a:pt x="180" y="312"/>
                </a:cubicBezTo>
                <a:cubicBezTo>
                  <a:pt x="181" y="318"/>
                  <a:pt x="182" y="325"/>
                  <a:pt x="184" y="331"/>
                </a:cubicBezTo>
                <a:cubicBezTo>
                  <a:pt x="179" y="322"/>
                  <a:pt x="178" y="312"/>
                  <a:pt x="174" y="303"/>
                </a:cubicBezTo>
                <a:cubicBezTo>
                  <a:pt x="173" y="297"/>
                  <a:pt x="171" y="291"/>
                  <a:pt x="169" y="286"/>
                </a:cubicBezTo>
                <a:cubicBezTo>
                  <a:pt x="169" y="286"/>
                  <a:pt x="170" y="286"/>
                  <a:pt x="170" y="285"/>
                </a:cubicBezTo>
                <a:cubicBezTo>
                  <a:pt x="170" y="280"/>
                  <a:pt x="170" y="275"/>
                  <a:pt x="171" y="270"/>
                </a:cubicBezTo>
                <a:cubicBezTo>
                  <a:pt x="172" y="264"/>
                  <a:pt x="174" y="258"/>
                  <a:pt x="176" y="253"/>
                </a:cubicBezTo>
                <a:cubicBezTo>
                  <a:pt x="176" y="253"/>
                  <a:pt x="176" y="253"/>
                  <a:pt x="176" y="253"/>
                </a:cubicBezTo>
                <a:close/>
                <a:moveTo>
                  <a:pt x="157" y="248"/>
                </a:moveTo>
                <a:cubicBezTo>
                  <a:pt x="158" y="254"/>
                  <a:pt x="159" y="260"/>
                  <a:pt x="160" y="266"/>
                </a:cubicBezTo>
                <a:cubicBezTo>
                  <a:pt x="162" y="271"/>
                  <a:pt x="163" y="276"/>
                  <a:pt x="165" y="281"/>
                </a:cubicBezTo>
                <a:cubicBezTo>
                  <a:pt x="163" y="278"/>
                  <a:pt x="162" y="275"/>
                  <a:pt x="161" y="273"/>
                </a:cubicBezTo>
                <a:cubicBezTo>
                  <a:pt x="157" y="261"/>
                  <a:pt x="152" y="250"/>
                  <a:pt x="148" y="238"/>
                </a:cubicBezTo>
                <a:cubicBezTo>
                  <a:pt x="140" y="219"/>
                  <a:pt x="131" y="197"/>
                  <a:pt x="136" y="176"/>
                </a:cubicBezTo>
                <a:cubicBezTo>
                  <a:pt x="136" y="177"/>
                  <a:pt x="136" y="177"/>
                  <a:pt x="136" y="177"/>
                </a:cubicBezTo>
                <a:cubicBezTo>
                  <a:pt x="137" y="186"/>
                  <a:pt x="145" y="191"/>
                  <a:pt x="147" y="200"/>
                </a:cubicBezTo>
                <a:cubicBezTo>
                  <a:pt x="148" y="205"/>
                  <a:pt x="147" y="211"/>
                  <a:pt x="149" y="216"/>
                </a:cubicBezTo>
                <a:cubicBezTo>
                  <a:pt x="150" y="221"/>
                  <a:pt x="156" y="225"/>
                  <a:pt x="157" y="230"/>
                </a:cubicBezTo>
                <a:cubicBezTo>
                  <a:pt x="158" y="236"/>
                  <a:pt x="157" y="242"/>
                  <a:pt x="157" y="248"/>
                </a:cubicBezTo>
                <a:close/>
                <a:moveTo>
                  <a:pt x="163" y="261"/>
                </a:moveTo>
                <a:cubicBezTo>
                  <a:pt x="163" y="261"/>
                  <a:pt x="163" y="262"/>
                  <a:pt x="164" y="263"/>
                </a:cubicBezTo>
                <a:cubicBezTo>
                  <a:pt x="164" y="264"/>
                  <a:pt x="164" y="265"/>
                  <a:pt x="164" y="266"/>
                </a:cubicBezTo>
                <a:cubicBezTo>
                  <a:pt x="163" y="264"/>
                  <a:pt x="163" y="262"/>
                  <a:pt x="163" y="261"/>
                </a:cubicBezTo>
                <a:close/>
                <a:moveTo>
                  <a:pt x="213" y="192"/>
                </a:moveTo>
                <a:cubicBezTo>
                  <a:pt x="206" y="196"/>
                  <a:pt x="200" y="201"/>
                  <a:pt x="196" y="208"/>
                </a:cubicBezTo>
                <a:cubicBezTo>
                  <a:pt x="194" y="213"/>
                  <a:pt x="192" y="218"/>
                  <a:pt x="192" y="223"/>
                </a:cubicBezTo>
                <a:cubicBezTo>
                  <a:pt x="190" y="220"/>
                  <a:pt x="189" y="218"/>
                  <a:pt x="187" y="215"/>
                </a:cubicBezTo>
                <a:cubicBezTo>
                  <a:pt x="184" y="210"/>
                  <a:pt x="183" y="204"/>
                  <a:pt x="182" y="197"/>
                </a:cubicBezTo>
                <a:cubicBezTo>
                  <a:pt x="179" y="184"/>
                  <a:pt x="177" y="170"/>
                  <a:pt x="174" y="157"/>
                </a:cubicBezTo>
                <a:cubicBezTo>
                  <a:pt x="172" y="143"/>
                  <a:pt x="169" y="130"/>
                  <a:pt x="164" y="117"/>
                </a:cubicBezTo>
                <a:cubicBezTo>
                  <a:pt x="164" y="115"/>
                  <a:pt x="162" y="111"/>
                  <a:pt x="160" y="110"/>
                </a:cubicBezTo>
                <a:cubicBezTo>
                  <a:pt x="160" y="102"/>
                  <a:pt x="160" y="95"/>
                  <a:pt x="161" y="87"/>
                </a:cubicBezTo>
                <a:cubicBezTo>
                  <a:pt x="161" y="81"/>
                  <a:pt x="161" y="74"/>
                  <a:pt x="164" y="68"/>
                </a:cubicBezTo>
                <a:cubicBezTo>
                  <a:pt x="167" y="63"/>
                  <a:pt x="169" y="72"/>
                  <a:pt x="170" y="74"/>
                </a:cubicBezTo>
                <a:cubicBezTo>
                  <a:pt x="171" y="78"/>
                  <a:pt x="173" y="80"/>
                  <a:pt x="176" y="82"/>
                </a:cubicBezTo>
                <a:cubicBezTo>
                  <a:pt x="183" y="89"/>
                  <a:pt x="187" y="98"/>
                  <a:pt x="189" y="107"/>
                </a:cubicBezTo>
                <a:cubicBezTo>
                  <a:pt x="191" y="112"/>
                  <a:pt x="191" y="116"/>
                  <a:pt x="191" y="121"/>
                </a:cubicBezTo>
                <a:cubicBezTo>
                  <a:pt x="191" y="123"/>
                  <a:pt x="192" y="125"/>
                  <a:pt x="193" y="127"/>
                </a:cubicBezTo>
                <a:cubicBezTo>
                  <a:pt x="194" y="128"/>
                  <a:pt x="196" y="129"/>
                  <a:pt x="197" y="129"/>
                </a:cubicBezTo>
                <a:cubicBezTo>
                  <a:pt x="200" y="131"/>
                  <a:pt x="202" y="132"/>
                  <a:pt x="203" y="135"/>
                </a:cubicBezTo>
                <a:cubicBezTo>
                  <a:pt x="205" y="139"/>
                  <a:pt x="207" y="143"/>
                  <a:pt x="208" y="146"/>
                </a:cubicBezTo>
                <a:cubicBezTo>
                  <a:pt x="212" y="155"/>
                  <a:pt x="214" y="164"/>
                  <a:pt x="213" y="174"/>
                </a:cubicBezTo>
                <a:cubicBezTo>
                  <a:pt x="213" y="180"/>
                  <a:pt x="212" y="186"/>
                  <a:pt x="213" y="192"/>
                </a:cubicBezTo>
                <a:close/>
                <a:moveTo>
                  <a:pt x="193" y="242"/>
                </a:moveTo>
                <a:cubicBezTo>
                  <a:pt x="193" y="240"/>
                  <a:pt x="192" y="239"/>
                  <a:pt x="192" y="238"/>
                </a:cubicBezTo>
                <a:cubicBezTo>
                  <a:pt x="192" y="236"/>
                  <a:pt x="191" y="234"/>
                  <a:pt x="191" y="233"/>
                </a:cubicBezTo>
                <a:cubicBezTo>
                  <a:pt x="191" y="232"/>
                  <a:pt x="191" y="232"/>
                  <a:pt x="191" y="232"/>
                </a:cubicBezTo>
                <a:cubicBezTo>
                  <a:pt x="192" y="232"/>
                  <a:pt x="192" y="233"/>
                  <a:pt x="193" y="234"/>
                </a:cubicBezTo>
                <a:cubicBezTo>
                  <a:pt x="194" y="237"/>
                  <a:pt x="194" y="239"/>
                  <a:pt x="193" y="242"/>
                </a:cubicBezTo>
                <a:close/>
                <a:moveTo>
                  <a:pt x="189" y="237"/>
                </a:moveTo>
                <a:cubicBezTo>
                  <a:pt x="189" y="239"/>
                  <a:pt x="190" y="241"/>
                  <a:pt x="190" y="243"/>
                </a:cubicBezTo>
                <a:cubicBezTo>
                  <a:pt x="190" y="244"/>
                  <a:pt x="190" y="245"/>
                  <a:pt x="191" y="246"/>
                </a:cubicBezTo>
                <a:cubicBezTo>
                  <a:pt x="189" y="248"/>
                  <a:pt x="188" y="251"/>
                  <a:pt x="186" y="254"/>
                </a:cubicBezTo>
                <a:cubicBezTo>
                  <a:pt x="186" y="246"/>
                  <a:pt x="183" y="237"/>
                  <a:pt x="181" y="228"/>
                </a:cubicBezTo>
                <a:cubicBezTo>
                  <a:pt x="180" y="224"/>
                  <a:pt x="179" y="219"/>
                  <a:pt x="177" y="214"/>
                </a:cubicBezTo>
                <a:cubicBezTo>
                  <a:pt x="177" y="214"/>
                  <a:pt x="177" y="215"/>
                  <a:pt x="177" y="215"/>
                </a:cubicBezTo>
                <a:cubicBezTo>
                  <a:pt x="181" y="220"/>
                  <a:pt x="185" y="225"/>
                  <a:pt x="190" y="230"/>
                </a:cubicBezTo>
                <a:cubicBezTo>
                  <a:pt x="188" y="231"/>
                  <a:pt x="188" y="235"/>
                  <a:pt x="189" y="237"/>
                </a:cubicBezTo>
                <a:close/>
                <a:moveTo>
                  <a:pt x="161" y="121"/>
                </a:moveTo>
                <a:cubicBezTo>
                  <a:pt x="162" y="124"/>
                  <a:pt x="163" y="128"/>
                  <a:pt x="165" y="131"/>
                </a:cubicBezTo>
                <a:cubicBezTo>
                  <a:pt x="165" y="132"/>
                  <a:pt x="166" y="134"/>
                  <a:pt x="167" y="135"/>
                </a:cubicBezTo>
                <a:cubicBezTo>
                  <a:pt x="167" y="136"/>
                  <a:pt x="167" y="137"/>
                  <a:pt x="167" y="138"/>
                </a:cubicBezTo>
                <a:cubicBezTo>
                  <a:pt x="170" y="150"/>
                  <a:pt x="172" y="162"/>
                  <a:pt x="174" y="173"/>
                </a:cubicBezTo>
                <a:cubicBezTo>
                  <a:pt x="176" y="184"/>
                  <a:pt x="177" y="196"/>
                  <a:pt x="180" y="207"/>
                </a:cubicBezTo>
                <a:cubicBezTo>
                  <a:pt x="182" y="213"/>
                  <a:pt x="185" y="218"/>
                  <a:pt x="188" y="223"/>
                </a:cubicBezTo>
                <a:cubicBezTo>
                  <a:pt x="186" y="221"/>
                  <a:pt x="184" y="218"/>
                  <a:pt x="182" y="216"/>
                </a:cubicBezTo>
                <a:cubicBezTo>
                  <a:pt x="175" y="206"/>
                  <a:pt x="169" y="195"/>
                  <a:pt x="167" y="183"/>
                </a:cubicBezTo>
                <a:cubicBezTo>
                  <a:pt x="164" y="171"/>
                  <a:pt x="162" y="159"/>
                  <a:pt x="161" y="148"/>
                </a:cubicBezTo>
                <a:cubicBezTo>
                  <a:pt x="160" y="142"/>
                  <a:pt x="160" y="137"/>
                  <a:pt x="159" y="132"/>
                </a:cubicBezTo>
                <a:cubicBezTo>
                  <a:pt x="159" y="127"/>
                  <a:pt x="158" y="123"/>
                  <a:pt x="158" y="118"/>
                </a:cubicBezTo>
                <a:cubicBezTo>
                  <a:pt x="158" y="118"/>
                  <a:pt x="158" y="118"/>
                  <a:pt x="158" y="117"/>
                </a:cubicBezTo>
                <a:cubicBezTo>
                  <a:pt x="159" y="119"/>
                  <a:pt x="160" y="120"/>
                  <a:pt x="161" y="121"/>
                </a:cubicBezTo>
                <a:close/>
                <a:moveTo>
                  <a:pt x="184" y="312"/>
                </a:moveTo>
                <a:cubicBezTo>
                  <a:pt x="182" y="304"/>
                  <a:pt x="181" y="297"/>
                  <a:pt x="181" y="290"/>
                </a:cubicBezTo>
                <a:cubicBezTo>
                  <a:pt x="181" y="288"/>
                  <a:pt x="181" y="286"/>
                  <a:pt x="182" y="284"/>
                </a:cubicBezTo>
                <a:cubicBezTo>
                  <a:pt x="185" y="294"/>
                  <a:pt x="191" y="303"/>
                  <a:pt x="198" y="311"/>
                </a:cubicBezTo>
                <a:cubicBezTo>
                  <a:pt x="202" y="315"/>
                  <a:pt x="206" y="320"/>
                  <a:pt x="211" y="324"/>
                </a:cubicBezTo>
                <a:cubicBezTo>
                  <a:pt x="210" y="328"/>
                  <a:pt x="211" y="332"/>
                  <a:pt x="209" y="336"/>
                </a:cubicBezTo>
                <a:cubicBezTo>
                  <a:pt x="208" y="338"/>
                  <a:pt x="207" y="344"/>
                  <a:pt x="204" y="345"/>
                </a:cubicBezTo>
                <a:cubicBezTo>
                  <a:pt x="202" y="347"/>
                  <a:pt x="197" y="345"/>
                  <a:pt x="194" y="344"/>
                </a:cubicBezTo>
                <a:cubicBezTo>
                  <a:pt x="192" y="339"/>
                  <a:pt x="189" y="335"/>
                  <a:pt x="188" y="329"/>
                </a:cubicBezTo>
                <a:cubicBezTo>
                  <a:pt x="186" y="324"/>
                  <a:pt x="185" y="318"/>
                  <a:pt x="184" y="312"/>
                </a:cubicBezTo>
                <a:close/>
                <a:moveTo>
                  <a:pt x="208" y="347"/>
                </a:moveTo>
                <a:cubicBezTo>
                  <a:pt x="210" y="344"/>
                  <a:pt x="211" y="340"/>
                  <a:pt x="212" y="336"/>
                </a:cubicBezTo>
                <a:cubicBezTo>
                  <a:pt x="213" y="333"/>
                  <a:pt x="213" y="330"/>
                  <a:pt x="213" y="327"/>
                </a:cubicBezTo>
                <a:cubicBezTo>
                  <a:pt x="218" y="331"/>
                  <a:pt x="223" y="335"/>
                  <a:pt x="229" y="338"/>
                </a:cubicBezTo>
                <a:cubicBezTo>
                  <a:pt x="230" y="338"/>
                  <a:pt x="230" y="338"/>
                  <a:pt x="231" y="338"/>
                </a:cubicBezTo>
                <a:cubicBezTo>
                  <a:pt x="229" y="341"/>
                  <a:pt x="229" y="345"/>
                  <a:pt x="228" y="348"/>
                </a:cubicBezTo>
                <a:cubicBezTo>
                  <a:pt x="228" y="354"/>
                  <a:pt x="228" y="359"/>
                  <a:pt x="229" y="364"/>
                </a:cubicBezTo>
                <a:cubicBezTo>
                  <a:pt x="230" y="370"/>
                  <a:pt x="234" y="376"/>
                  <a:pt x="235" y="382"/>
                </a:cubicBezTo>
                <a:cubicBezTo>
                  <a:pt x="236" y="386"/>
                  <a:pt x="235" y="390"/>
                  <a:pt x="235" y="395"/>
                </a:cubicBezTo>
                <a:cubicBezTo>
                  <a:pt x="235" y="400"/>
                  <a:pt x="235" y="405"/>
                  <a:pt x="236" y="410"/>
                </a:cubicBezTo>
                <a:cubicBezTo>
                  <a:pt x="236" y="412"/>
                  <a:pt x="236" y="413"/>
                  <a:pt x="236" y="415"/>
                </a:cubicBezTo>
                <a:cubicBezTo>
                  <a:pt x="235" y="414"/>
                  <a:pt x="234" y="413"/>
                  <a:pt x="232" y="412"/>
                </a:cubicBezTo>
                <a:cubicBezTo>
                  <a:pt x="227" y="411"/>
                  <a:pt x="224" y="414"/>
                  <a:pt x="219" y="414"/>
                </a:cubicBezTo>
                <a:cubicBezTo>
                  <a:pt x="217" y="414"/>
                  <a:pt x="215" y="414"/>
                  <a:pt x="214" y="415"/>
                </a:cubicBezTo>
                <a:cubicBezTo>
                  <a:pt x="213" y="408"/>
                  <a:pt x="211" y="402"/>
                  <a:pt x="211" y="396"/>
                </a:cubicBezTo>
                <a:cubicBezTo>
                  <a:pt x="210" y="390"/>
                  <a:pt x="209" y="384"/>
                  <a:pt x="208" y="377"/>
                </a:cubicBezTo>
                <a:cubicBezTo>
                  <a:pt x="207" y="372"/>
                  <a:pt x="206" y="367"/>
                  <a:pt x="203" y="362"/>
                </a:cubicBezTo>
                <a:cubicBezTo>
                  <a:pt x="200" y="358"/>
                  <a:pt x="198" y="353"/>
                  <a:pt x="195" y="347"/>
                </a:cubicBezTo>
                <a:cubicBezTo>
                  <a:pt x="195" y="347"/>
                  <a:pt x="195" y="347"/>
                  <a:pt x="195" y="347"/>
                </a:cubicBezTo>
                <a:cubicBezTo>
                  <a:pt x="200" y="348"/>
                  <a:pt x="204" y="350"/>
                  <a:pt x="208" y="347"/>
                </a:cubicBezTo>
                <a:close/>
                <a:moveTo>
                  <a:pt x="233" y="367"/>
                </a:moveTo>
                <a:cubicBezTo>
                  <a:pt x="232" y="361"/>
                  <a:pt x="231" y="355"/>
                  <a:pt x="232" y="348"/>
                </a:cubicBezTo>
                <a:cubicBezTo>
                  <a:pt x="232" y="346"/>
                  <a:pt x="233" y="342"/>
                  <a:pt x="233" y="339"/>
                </a:cubicBezTo>
                <a:cubicBezTo>
                  <a:pt x="240" y="343"/>
                  <a:pt x="248" y="347"/>
                  <a:pt x="255" y="346"/>
                </a:cubicBezTo>
                <a:cubicBezTo>
                  <a:pt x="250" y="353"/>
                  <a:pt x="246" y="361"/>
                  <a:pt x="242" y="368"/>
                </a:cubicBezTo>
                <a:cubicBezTo>
                  <a:pt x="240" y="372"/>
                  <a:pt x="239" y="376"/>
                  <a:pt x="238" y="380"/>
                </a:cubicBezTo>
                <a:cubicBezTo>
                  <a:pt x="237" y="375"/>
                  <a:pt x="235" y="371"/>
                  <a:pt x="233" y="367"/>
                </a:cubicBezTo>
                <a:close/>
                <a:moveTo>
                  <a:pt x="246" y="367"/>
                </a:moveTo>
                <a:cubicBezTo>
                  <a:pt x="252" y="355"/>
                  <a:pt x="260" y="342"/>
                  <a:pt x="271" y="334"/>
                </a:cubicBezTo>
                <a:cubicBezTo>
                  <a:pt x="281" y="327"/>
                  <a:pt x="291" y="320"/>
                  <a:pt x="303" y="315"/>
                </a:cubicBezTo>
                <a:cubicBezTo>
                  <a:pt x="308" y="314"/>
                  <a:pt x="313" y="312"/>
                  <a:pt x="318" y="311"/>
                </a:cubicBezTo>
                <a:cubicBezTo>
                  <a:pt x="325" y="310"/>
                  <a:pt x="331" y="309"/>
                  <a:pt x="338" y="309"/>
                </a:cubicBezTo>
                <a:cubicBezTo>
                  <a:pt x="348" y="308"/>
                  <a:pt x="358" y="309"/>
                  <a:pt x="368" y="311"/>
                </a:cubicBezTo>
                <a:cubicBezTo>
                  <a:pt x="371" y="311"/>
                  <a:pt x="410" y="317"/>
                  <a:pt x="409" y="321"/>
                </a:cubicBezTo>
                <a:cubicBezTo>
                  <a:pt x="409" y="321"/>
                  <a:pt x="409" y="321"/>
                  <a:pt x="409" y="322"/>
                </a:cubicBezTo>
                <a:cubicBezTo>
                  <a:pt x="409" y="322"/>
                  <a:pt x="409" y="322"/>
                  <a:pt x="409" y="322"/>
                </a:cubicBezTo>
                <a:cubicBezTo>
                  <a:pt x="409" y="322"/>
                  <a:pt x="408" y="323"/>
                  <a:pt x="408" y="324"/>
                </a:cubicBezTo>
                <a:cubicBezTo>
                  <a:pt x="408" y="323"/>
                  <a:pt x="408" y="323"/>
                  <a:pt x="408" y="323"/>
                </a:cubicBezTo>
                <a:cubicBezTo>
                  <a:pt x="394" y="317"/>
                  <a:pt x="378" y="315"/>
                  <a:pt x="363" y="314"/>
                </a:cubicBezTo>
                <a:cubicBezTo>
                  <a:pt x="355" y="314"/>
                  <a:pt x="348" y="315"/>
                  <a:pt x="340" y="314"/>
                </a:cubicBezTo>
                <a:cubicBezTo>
                  <a:pt x="333" y="314"/>
                  <a:pt x="327" y="314"/>
                  <a:pt x="320" y="314"/>
                </a:cubicBezTo>
                <a:cubicBezTo>
                  <a:pt x="306" y="316"/>
                  <a:pt x="291" y="323"/>
                  <a:pt x="280" y="330"/>
                </a:cubicBezTo>
                <a:cubicBezTo>
                  <a:pt x="267" y="338"/>
                  <a:pt x="257" y="349"/>
                  <a:pt x="253" y="363"/>
                </a:cubicBezTo>
                <a:cubicBezTo>
                  <a:pt x="252" y="363"/>
                  <a:pt x="254" y="364"/>
                  <a:pt x="254" y="363"/>
                </a:cubicBezTo>
                <a:cubicBezTo>
                  <a:pt x="261" y="349"/>
                  <a:pt x="272" y="338"/>
                  <a:pt x="286" y="330"/>
                </a:cubicBezTo>
                <a:cubicBezTo>
                  <a:pt x="299" y="324"/>
                  <a:pt x="312" y="317"/>
                  <a:pt x="327" y="317"/>
                </a:cubicBezTo>
                <a:cubicBezTo>
                  <a:pt x="333" y="317"/>
                  <a:pt x="340" y="318"/>
                  <a:pt x="347" y="318"/>
                </a:cubicBezTo>
                <a:cubicBezTo>
                  <a:pt x="353" y="317"/>
                  <a:pt x="360" y="317"/>
                  <a:pt x="367" y="318"/>
                </a:cubicBezTo>
                <a:cubicBezTo>
                  <a:pt x="374" y="319"/>
                  <a:pt x="382" y="320"/>
                  <a:pt x="389" y="321"/>
                </a:cubicBezTo>
                <a:cubicBezTo>
                  <a:pt x="395" y="322"/>
                  <a:pt x="402" y="325"/>
                  <a:pt x="408" y="324"/>
                </a:cubicBezTo>
                <a:cubicBezTo>
                  <a:pt x="408" y="324"/>
                  <a:pt x="408" y="324"/>
                  <a:pt x="408" y="324"/>
                </a:cubicBezTo>
                <a:cubicBezTo>
                  <a:pt x="408" y="325"/>
                  <a:pt x="407" y="327"/>
                  <a:pt x="407" y="328"/>
                </a:cubicBezTo>
                <a:cubicBezTo>
                  <a:pt x="401" y="325"/>
                  <a:pt x="394" y="326"/>
                  <a:pt x="387" y="326"/>
                </a:cubicBezTo>
                <a:cubicBezTo>
                  <a:pt x="379" y="325"/>
                  <a:pt x="371" y="323"/>
                  <a:pt x="363" y="322"/>
                </a:cubicBezTo>
                <a:cubicBezTo>
                  <a:pt x="363" y="322"/>
                  <a:pt x="363" y="323"/>
                  <a:pt x="363" y="323"/>
                </a:cubicBezTo>
                <a:cubicBezTo>
                  <a:pt x="369" y="325"/>
                  <a:pt x="377" y="326"/>
                  <a:pt x="384" y="327"/>
                </a:cubicBezTo>
                <a:cubicBezTo>
                  <a:pt x="392" y="327"/>
                  <a:pt x="399" y="327"/>
                  <a:pt x="407" y="330"/>
                </a:cubicBezTo>
                <a:cubicBezTo>
                  <a:pt x="407" y="330"/>
                  <a:pt x="407" y="331"/>
                  <a:pt x="406" y="331"/>
                </a:cubicBezTo>
                <a:cubicBezTo>
                  <a:pt x="402" y="332"/>
                  <a:pt x="399" y="331"/>
                  <a:pt x="395" y="331"/>
                </a:cubicBezTo>
                <a:cubicBezTo>
                  <a:pt x="391" y="331"/>
                  <a:pt x="388" y="331"/>
                  <a:pt x="385" y="330"/>
                </a:cubicBezTo>
                <a:cubicBezTo>
                  <a:pt x="384" y="330"/>
                  <a:pt x="383" y="331"/>
                  <a:pt x="384" y="331"/>
                </a:cubicBezTo>
                <a:cubicBezTo>
                  <a:pt x="387" y="334"/>
                  <a:pt x="390" y="333"/>
                  <a:pt x="394" y="333"/>
                </a:cubicBezTo>
                <a:cubicBezTo>
                  <a:pt x="398" y="333"/>
                  <a:pt x="402" y="334"/>
                  <a:pt x="406" y="334"/>
                </a:cubicBezTo>
                <a:cubicBezTo>
                  <a:pt x="406" y="335"/>
                  <a:pt x="406" y="336"/>
                  <a:pt x="406" y="337"/>
                </a:cubicBezTo>
                <a:cubicBezTo>
                  <a:pt x="406" y="337"/>
                  <a:pt x="406" y="337"/>
                  <a:pt x="405" y="336"/>
                </a:cubicBezTo>
                <a:cubicBezTo>
                  <a:pt x="405" y="336"/>
                  <a:pt x="405" y="335"/>
                  <a:pt x="405" y="335"/>
                </a:cubicBezTo>
                <a:cubicBezTo>
                  <a:pt x="398" y="336"/>
                  <a:pt x="392" y="337"/>
                  <a:pt x="386" y="338"/>
                </a:cubicBezTo>
                <a:cubicBezTo>
                  <a:pt x="381" y="338"/>
                  <a:pt x="375" y="338"/>
                  <a:pt x="370" y="338"/>
                </a:cubicBezTo>
                <a:cubicBezTo>
                  <a:pt x="369" y="339"/>
                  <a:pt x="369" y="339"/>
                  <a:pt x="370" y="339"/>
                </a:cubicBezTo>
                <a:cubicBezTo>
                  <a:pt x="376" y="340"/>
                  <a:pt x="382" y="339"/>
                  <a:pt x="388" y="338"/>
                </a:cubicBezTo>
                <a:cubicBezTo>
                  <a:pt x="393" y="338"/>
                  <a:pt x="398" y="338"/>
                  <a:pt x="403" y="337"/>
                </a:cubicBezTo>
                <a:cubicBezTo>
                  <a:pt x="399" y="339"/>
                  <a:pt x="396" y="341"/>
                  <a:pt x="391" y="341"/>
                </a:cubicBezTo>
                <a:cubicBezTo>
                  <a:pt x="388" y="342"/>
                  <a:pt x="384" y="342"/>
                  <a:pt x="380" y="343"/>
                </a:cubicBezTo>
                <a:cubicBezTo>
                  <a:pt x="372" y="343"/>
                  <a:pt x="365" y="343"/>
                  <a:pt x="357" y="344"/>
                </a:cubicBezTo>
                <a:cubicBezTo>
                  <a:pt x="357" y="345"/>
                  <a:pt x="357" y="345"/>
                  <a:pt x="357" y="345"/>
                </a:cubicBezTo>
                <a:cubicBezTo>
                  <a:pt x="366" y="345"/>
                  <a:pt x="375" y="345"/>
                  <a:pt x="383" y="344"/>
                </a:cubicBezTo>
                <a:cubicBezTo>
                  <a:pt x="387" y="344"/>
                  <a:pt x="391" y="343"/>
                  <a:pt x="395" y="342"/>
                </a:cubicBezTo>
                <a:cubicBezTo>
                  <a:pt x="399" y="341"/>
                  <a:pt x="402" y="341"/>
                  <a:pt x="405" y="338"/>
                </a:cubicBezTo>
                <a:cubicBezTo>
                  <a:pt x="406" y="338"/>
                  <a:pt x="406" y="338"/>
                  <a:pt x="406" y="338"/>
                </a:cubicBezTo>
                <a:cubicBezTo>
                  <a:pt x="406" y="338"/>
                  <a:pt x="406" y="339"/>
                  <a:pt x="406" y="340"/>
                </a:cubicBezTo>
                <a:cubicBezTo>
                  <a:pt x="406" y="340"/>
                  <a:pt x="406" y="340"/>
                  <a:pt x="406" y="340"/>
                </a:cubicBezTo>
                <a:cubicBezTo>
                  <a:pt x="401" y="339"/>
                  <a:pt x="397" y="343"/>
                  <a:pt x="392" y="344"/>
                </a:cubicBezTo>
                <a:cubicBezTo>
                  <a:pt x="389" y="345"/>
                  <a:pt x="385" y="345"/>
                  <a:pt x="382" y="346"/>
                </a:cubicBezTo>
                <a:cubicBezTo>
                  <a:pt x="378" y="347"/>
                  <a:pt x="374" y="348"/>
                  <a:pt x="370" y="348"/>
                </a:cubicBezTo>
                <a:cubicBezTo>
                  <a:pt x="363" y="348"/>
                  <a:pt x="354" y="348"/>
                  <a:pt x="347" y="347"/>
                </a:cubicBezTo>
                <a:cubicBezTo>
                  <a:pt x="339" y="346"/>
                  <a:pt x="331" y="344"/>
                  <a:pt x="324" y="344"/>
                </a:cubicBezTo>
                <a:cubicBezTo>
                  <a:pt x="323" y="344"/>
                  <a:pt x="323" y="345"/>
                  <a:pt x="324" y="346"/>
                </a:cubicBezTo>
                <a:cubicBezTo>
                  <a:pt x="332" y="348"/>
                  <a:pt x="340" y="348"/>
                  <a:pt x="349" y="349"/>
                </a:cubicBezTo>
                <a:cubicBezTo>
                  <a:pt x="355" y="351"/>
                  <a:pt x="362" y="351"/>
                  <a:pt x="368" y="350"/>
                </a:cubicBezTo>
                <a:cubicBezTo>
                  <a:pt x="376" y="349"/>
                  <a:pt x="382" y="347"/>
                  <a:pt x="389" y="346"/>
                </a:cubicBezTo>
                <a:cubicBezTo>
                  <a:pt x="390" y="346"/>
                  <a:pt x="391" y="345"/>
                  <a:pt x="392" y="345"/>
                </a:cubicBezTo>
                <a:cubicBezTo>
                  <a:pt x="390" y="346"/>
                  <a:pt x="388" y="347"/>
                  <a:pt x="386" y="347"/>
                </a:cubicBezTo>
                <a:cubicBezTo>
                  <a:pt x="379" y="349"/>
                  <a:pt x="371" y="350"/>
                  <a:pt x="365" y="353"/>
                </a:cubicBezTo>
                <a:cubicBezTo>
                  <a:pt x="364" y="353"/>
                  <a:pt x="364" y="353"/>
                  <a:pt x="365" y="353"/>
                </a:cubicBezTo>
                <a:cubicBezTo>
                  <a:pt x="368" y="354"/>
                  <a:pt x="372" y="352"/>
                  <a:pt x="375" y="352"/>
                </a:cubicBezTo>
                <a:cubicBezTo>
                  <a:pt x="381" y="350"/>
                  <a:pt x="386" y="349"/>
                  <a:pt x="392" y="347"/>
                </a:cubicBezTo>
                <a:cubicBezTo>
                  <a:pt x="393" y="347"/>
                  <a:pt x="406" y="343"/>
                  <a:pt x="406" y="341"/>
                </a:cubicBezTo>
                <a:cubicBezTo>
                  <a:pt x="406" y="341"/>
                  <a:pt x="406" y="341"/>
                  <a:pt x="406" y="341"/>
                </a:cubicBezTo>
                <a:cubicBezTo>
                  <a:pt x="406" y="342"/>
                  <a:pt x="406" y="343"/>
                  <a:pt x="406" y="344"/>
                </a:cubicBezTo>
                <a:cubicBezTo>
                  <a:pt x="405" y="344"/>
                  <a:pt x="403" y="345"/>
                  <a:pt x="401" y="346"/>
                </a:cubicBezTo>
                <a:cubicBezTo>
                  <a:pt x="400" y="347"/>
                  <a:pt x="398" y="348"/>
                  <a:pt x="397" y="350"/>
                </a:cubicBezTo>
                <a:cubicBezTo>
                  <a:pt x="396" y="350"/>
                  <a:pt x="397" y="350"/>
                  <a:pt x="397" y="350"/>
                </a:cubicBezTo>
                <a:cubicBezTo>
                  <a:pt x="395" y="350"/>
                  <a:pt x="393" y="351"/>
                  <a:pt x="392" y="352"/>
                </a:cubicBezTo>
                <a:cubicBezTo>
                  <a:pt x="387" y="353"/>
                  <a:pt x="382" y="356"/>
                  <a:pt x="378" y="359"/>
                </a:cubicBezTo>
                <a:cubicBezTo>
                  <a:pt x="368" y="365"/>
                  <a:pt x="358" y="370"/>
                  <a:pt x="347" y="372"/>
                </a:cubicBezTo>
                <a:cubicBezTo>
                  <a:pt x="346" y="372"/>
                  <a:pt x="346" y="373"/>
                  <a:pt x="347" y="373"/>
                </a:cubicBezTo>
                <a:cubicBezTo>
                  <a:pt x="352" y="373"/>
                  <a:pt x="357" y="372"/>
                  <a:pt x="362" y="370"/>
                </a:cubicBezTo>
                <a:cubicBezTo>
                  <a:pt x="367" y="368"/>
                  <a:pt x="373" y="365"/>
                  <a:pt x="377" y="362"/>
                </a:cubicBezTo>
                <a:cubicBezTo>
                  <a:pt x="383" y="358"/>
                  <a:pt x="389" y="355"/>
                  <a:pt x="396" y="353"/>
                </a:cubicBezTo>
                <a:cubicBezTo>
                  <a:pt x="399" y="352"/>
                  <a:pt x="404" y="352"/>
                  <a:pt x="407" y="350"/>
                </a:cubicBezTo>
                <a:cubicBezTo>
                  <a:pt x="407" y="350"/>
                  <a:pt x="407" y="351"/>
                  <a:pt x="407" y="352"/>
                </a:cubicBezTo>
                <a:cubicBezTo>
                  <a:pt x="406" y="352"/>
                  <a:pt x="404" y="352"/>
                  <a:pt x="403" y="353"/>
                </a:cubicBezTo>
                <a:cubicBezTo>
                  <a:pt x="403" y="353"/>
                  <a:pt x="403" y="353"/>
                  <a:pt x="403" y="353"/>
                </a:cubicBezTo>
                <a:cubicBezTo>
                  <a:pt x="404" y="353"/>
                  <a:pt x="406" y="353"/>
                  <a:pt x="407" y="352"/>
                </a:cubicBezTo>
                <a:cubicBezTo>
                  <a:pt x="407" y="352"/>
                  <a:pt x="407" y="352"/>
                  <a:pt x="408" y="352"/>
                </a:cubicBezTo>
                <a:cubicBezTo>
                  <a:pt x="408" y="353"/>
                  <a:pt x="408" y="353"/>
                  <a:pt x="408" y="354"/>
                </a:cubicBezTo>
                <a:cubicBezTo>
                  <a:pt x="408" y="354"/>
                  <a:pt x="408" y="354"/>
                  <a:pt x="408" y="354"/>
                </a:cubicBezTo>
                <a:cubicBezTo>
                  <a:pt x="405" y="354"/>
                  <a:pt x="402" y="356"/>
                  <a:pt x="400" y="357"/>
                </a:cubicBezTo>
                <a:cubicBezTo>
                  <a:pt x="399" y="358"/>
                  <a:pt x="400" y="358"/>
                  <a:pt x="400" y="358"/>
                </a:cubicBezTo>
                <a:cubicBezTo>
                  <a:pt x="403" y="357"/>
                  <a:pt x="406" y="357"/>
                  <a:pt x="408" y="355"/>
                </a:cubicBezTo>
                <a:cubicBezTo>
                  <a:pt x="408" y="355"/>
                  <a:pt x="408" y="355"/>
                  <a:pt x="408" y="355"/>
                </a:cubicBezTo>
                <a:cubicBezTo>
                  <a:pt x="409" y="360"/>
                  <a:pt x="411" y="365"/>
                  <a:pt x="412" y="370"/>
                </a:cubicBezTo>
                <a:cubicBezTo>
                  <a:pt x="403" y="375"/>
                  <a:pt x="397" y="386"/>
                  <a:pt x="391" y="394"/>
                </a:cubicBezTo>
                <a:cubicBezTo>
                  <a:pt x="391" y="394"/>
                  <a:pt x="391" y="395"/>
                  <a:pt x="391" y="395"/>
                </a:cubicBezTo>
                <a:cubicBezTo>
                  <a:pt x="395" y="391"/>
                  <a:pt x="398" y="386"/>
                  <a:pt x="402" y="382"/>
                </a:cubicBezTo>
                <a:cubicBezTo>
                  <a:pt x="405" y="379"/>
                  <a:pt x="409" y="375"/>
                  <a:pt x="413" y="371"/>
                </a:cubicBezTo>
                <a:cubicBezTo>
                  <a:pt x="414" y="375"/>
                  <a:pt x="415" y="378"/>
                  <a:pt x="416" y="381"/>
                </a:cubicBezTo>
                <a:cubicBezTo>
                  <a:pt x="412" y="382"/>
                  <a:pt x="406" y="387"/>
                  <a:pt x="403" y="389"/>
                </a:cubicBezTo>
                <a:cubicBezTo>
                  <a:pt x="398" y="393"/>
                  <a:pt x="392" y="399"/>
                  <a:pt x="389" y="405"/>
                </a:cubicBezTo>
                <a:cubicBezTo>
                  <a:pt x="389" y="406"/>
                  <a:pt x="390" y="407"/>
                  <a:pt x="390" y="406"/>
                </a:cubicBezTo>
                <a:cubicBezTo>
                  <a:pt x="394" y="400"/>
                  <a:pt x="398" y="396"/>
                  <a:pt x="404" y="391"/>
                </a:cubicBezTo>
                <a:cubicBezTo>
                  <a:pt x="406" y="389"/>
                  <a:pt x="410" y="386"/>
                  <a:pt x="413" y="385"/>
                </a:cubicBezTo>
                <a:cubicBezTo>
                  <a:pt x="414" y="384"/>
                  <a:pt x="416" y="384"/>
                  <a:pt x="417" y="383"/>
                </a:cubicBezTo>
                <a:cubicBezTo>
                  <a:pt x="417" y="384"/>
                  <a:pt x="417" y="385"/>
                  <a:pt x="418" y="386"/>
                </a:cubicBezTo>
                <a:cubicBezTo>
                  <a:pt x="413" y="387"/>
                  <a:pt x="407" y="395"/>
                  <a:pt x="404" y="398"/>
                </a:cubicBezTo>
                <a:cubicBezTo>
                  <a:pt x="402" y="401"/>
                  <a:pt x="399" y="404"/>
                  <a:pt x="396" y="407"/>
                </a:cubicBezTo>
                <a:cubicBezTo>
                  <a:pt x="393" y="412"/>
                  <a:pt x="389" y="417"/>
                  <a:pt x="387" y="422"/>
                </a:cubicBezTo>
                <a:cubicBezTo>
                  <a:pt x="387" y="423"/>
                  <a:pt x="388" y="423"/>
                  <a:pt x="388" y="422"/>
                </a:cubicBezTo>
                <a:cubicBezTo>
                  <a:pt x="392" y="419"/>
                  <a:pt x="393" y="414"/>
                  <a:pt x="396" y="410"/>
                </a:cubicBezTo>
                <a:cubicBezTo>
                  <a:pt x="399" y="406"/>
                  <a:pt x="401" y="403"/>
                  <a:pt x="404" y="400"/>
                </a:cubicBezTo>
                <a:cubicBezTo>
                  <a:pt x="407" y="397"/>
                  <a:pt x="410" y="394"/>
                  <a:pt x="412" y="392"/>
                </a:cubicBezTo>
                <a:cubicBezTo>
                  <a:pt x="414" y="390"/>
                  <a:pt x="416" y="388"/>
                  <a:pt x="418" y="387"/>
                </a:cubicBezTo>
                <a:cubicBezTo>
                  <a:pt x="419" y="389"/>
                  <a:pt x="419" y="390"/>
                  <a:pt x="420" y="392"/>
                </a:cubicBezTo>
                <a:cubicBezTo>
                  <a:pt x="415" y="394"/>
                  <a:pt x="413" y="399"/>
                  <a:pt x="409" y="402"/>
                </a:cubicBezTo>
                <a:cubicBezTo>
                  <a:pt x="407" y="404"/>
                  <a:pt x="402" y="409"/>
                  <a:pt x="404" y="412"/>
                </a:cubicBezTo>
                <a:cubicBezTo>
                  <a:pt x="404" y="413"/>
                  <a:pt x="404" y="413"/>
                  <a:pt x="404" y="412"/>
                </a:cubicBezTo>
                <a:cubicBezTo>
                  <a:pt x="407" y="408"/>
                  <a:pt x="408" y="404"/>
                  <a:pt x="412" y="400"/>
                </a:cubicBezTo>
                <a:cubicBezTo>
                  <a:pt x="415" y="398"/>
                  <a:pt x="418" y="395"/>
                  <a:pt x="420" y="393"/>
                </a:cubicBezTo>
                <a:cubicBezTo>
                  <a:pt x="421" y="394"/>
                  <a:pt x="422" y="396"/>
                  <a:pt x="423" y="397"/>
                </a:cubicBezTo>
                <a:cubicBezTo>
                  <a:pt x="421" y="399"/>
                  <a:pt x="419" y="403"/>
                  <a:pt x="418" y="405"/>
                </a:cubicBezTo>
                <a:cubicBezTo>
                  <a:pt x="418" y="406"/>
                  <a:pt x="419" y="406"/>
                  <a:pt x="419" y="406"/>
                </a:cubicBezTo>
                <a:cubicBezTo>
                  <a:pt x="421" y="404"/>
                  <a:pt x="422" y="401"/>
                  <a:pt x="424" y="398"/>
                </a:cubicBezTo>
                <a:cubicBezTo>
                  <a:pt x="424" y="399"/>
                  <a:pt x="424" y="400"/>
                  <a:pt x="425" y="400"/>
                </a:cubicBezTo>
                <a:cubicBezTo>
                  <a:pt x="426" y="402"/>
                  <a:pt x="428" y="404"/>
                  <a:pt x="429" y="405"/>
                </a:cubicBezTo>
                <a:cubicBezTo>
                  <a:pt x="428" y="407"/>
                  <a:pt x="427" y="409"/>
                  <a:pt x="426" y="410"/>
                </a:cubicBezTo>
                <a:cubicBezTo>
                  <a:pt x="424" y="414"/>
                  <a:pt x="421" y="417"/>
                  <a:pt x="419" y="421"/>
                </a:cubicBezTo>
                <a:cubicBezTo>
                  <a:pt x="413" y="430"/>
                  <a:pt x="407" y="439"/>
                  <a:pt x="399" y="447"/>
                </a:cubicBezTo>
                <a:cubicBezTo>
                  <a:pt x="384" y="462"/>
                  <a:pt x="366" y="470"/>
                  <a:pt x="347" y="478"/>
                </a:cubicBezTo>
                <a:cubicBezTo>
                  <a:pt x="347" y="478"/>
                  <a:pt x="347" y="478"/>
                  <a:pt x="347" y="478"/>
                </a:cubicBezTo>
                <a:cubicBezTo>
                  <a:pt x="342" y="480"/>
                  <a:pt x="337" y="482"/>
                  <a:pt x="331" y="483"/>
                </a:cubicBezTo>
                <a:cubicBezTo>
                  <a:pt x="330" y="483"/>
                  <a:pt x="329" y="484"/>
                  <a:pt x="328" y="484"/>
                </a:cubicBezTo>
                <a:cubicBezTo>
                  <a:pt x="313" y="486"/>
                  <a:pt x="298" y="483"/>
                  <a:pt x="285" y="475"/>
                </a:cubicBezTo>
                <a:cubicBezTo>
                  <a:pt x="281" y="472"/>
                  <a:pt x="275" y="468"/>
                  <a:pt x="272" y="464"/>
                </a:cubicBezTo>
                <a:cubicBezTo>
                  <a:pt x="270" y="461"/>
                  <a:pt x="268" y="456"/>
                  <a:pt x="264" y="454"/>
                </a:cubicBezTo>
                <a:cubicBezTo>
                  <a:pt x="254" y="449"/>
                  <a:pt x="253" y="437"/>
                  <a:pt x="250" y="427"/>
                </a:cubicBezTo>
                <a:cubicBezTo>
                  <a:pt x="249" y="426"/>
                  <a:pt x="248" y="426"/>
                  <a:pt x="248" y="427"/>
                </a:cubicBezTo>
                <a:cubicBezTo>
                  <a:pt x="248" y="432"/>
                  <a:pt x="249" y="438"/>
                  <a:pt x="250" y="444"/>
                </a:cubicBezTo>
                <a:cubicBezTo>
                  <a:pt x="250" y="443"/>
                  <a:pt x="249" y="443"/>
                  <a:pt x="249" y="442"/>
                </a:cubicBezTo>
                <a:cubicBezTo>
                  <a:pt x="247" y="439"/>
                  <a:pt x="245" y="436"/>
                  <a:pt x="244" y="432"/>
                </a:cubicBezTo>
                <a:cubicBezTo>
                  <a:pt x="242" y="425"/>
                  <a:pt x="240" y="417"/>
                  <a:pt x="239" y="410"/>
                </a:cubicBezTo>
                <a:cubicBezTo>
                  <a:pt x="237" y="395"/>
                  <a:pt x="240" y="381"/>
                  <a:pt x="246" y="367"/>
                </a:cubicBezTo>
                <a:close/>
                <a:moveTo>
                  <a:pt x="407" y="347"/>
                </a:moveTo>
                <a:cubicBezTo>
                  <a:pt x="406" y="347"/>
                  <a:pt x="406" y="348"/>
                  <a:pt x="406" y="348"/>
                </a:cubicBezTo>
                <a:cubicBezTo>
                  <a:pt x="406" y="347"/>
                  <a:pt x="402" y="348"/>
                  <a:pt x="401" y="349"/>
                </a:cubicBezTo>
                <a:cubicBezTo>
                  <a:pt x="400" y="349"/>
                  <a:pt x="399" y="349"/>
                  <a:pt x="398" y="350"/>
                </a:cubicBezTo>
                <a:cubicBezTo>
                  <a:pt x="399" y="349"/>
                  <a:pt x="401" y="348"/>
                  <a:pt x="402" y="347"/>
                </a:cubicBezTo>
                <a:cubicBezTo>
                  <a:pt x="404" y="346"/>
                  <a:pt x="405" y="346"/>
                  <a:pt x="406" y="345"/>
                </a:cubicBezTo>
                <a:cubicBezTo>
                  <a:pt x="406" y="346"/>
                  <a:pt x="407" y="347"/>
                  <a:pt x="407" y="347"/>
                </a:cubicBezTo>
                <a:close/>
                <a:moveTo>
                  <a:pt x="449" y="263"/>
                </a:moveTo>
                <a:cubicBezTo>
                  <a:pt x="449" y="261"/>
                  <a:pt x="449" y="258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1" y="257"/>
                  <a:pt x="452" y="259"/>
                  <a:pt x="452" y="261"/>
                </a:cubicBezTo>
                <a:cubicBezTo>
                  <a:pt x="452" y="261"/>
                  <a:pt x="451" y="262"/>
                  <a:pt x="451" y="263"/>
                </a:cubicBezTo>
                <a:cubicBezTo>
                  <a:pt x="450" y="266"/>
                  <a:pt x="451" y="268"/>
                  <a:pt x="451" y="271"/>
                </a:cubicBezTo>
                <a:cubicBezTo>
                  <a:pt x="451" y="273"/>
                  <a:pt x="451" y="276"/>
                  <a:pt x="452" y="278"/>
                </a:cubicBezTo>
                <a:cubicBezTo>
                  <a:pt x="451" y="278"/>
                  <a:pt x="451" y="278"/>
                  <a:pt x="451" y="279"/>
                </a:cubicBezTo>
                <a:cubicBezTo>
                  <a:pt x="451" y="278"/>
                  <a:pt x="451" y="278"/>
                  <a:pt x="451" y="278"/>
                </a:cubicBezTo>
                <a:cubicBezTo>
                  <a:pt x="449" y="273"/>
                  <a:pt x="449" y="268"/>
                  <a:pt x="449" y="263"/>
                </a:cubicBezTo>
                <a:close/>
                <a:moveTo>
                  <a:pt x="448" y="255"/>
                </a:moveTo>
                <a:cubicBezTo>
                  <a:pt x="448" y="252"/>
                  <a:pt x="448" y="248"/>
                  <a:pt x="448" y="245"/>
                </a:cubicBezTo>
                <a:cubicBezTo>
                  <a:pt x="448" y="246"/>
                  <a:pt x="448" y="248"/>
                  <a:pt x="449" y="249"/>
                </a:cubicBezTo>
                <a:cubicBezTo>
                  <a:pt x="449" y="250"/>
                  <a:pt x="449" y="252"/>
                  <a:pt x="450" y="253"/>
                </a:cubicBezTo>
                <a:cubicBezTo>
                  <a:pt x="449" y="253"/>
                  <a:pt x="448" y="254"/>
                  <a:pt x="448" y="255"/>
                </a:cubicBezTo>
                <a:close/>
                <a:moveTo>
                  <a:pt x="450" y="283"/>
                </a:moveTo>
                <a:cubicBezTo>
                  <a:pt x="456" y="280"/>
                  <a:pt x="463" y="279"/>
                  <a:pt x="469" y="277"/>
                </a:cubicBezTo>
                <a:cubicBezTo>
                  <a:pt x="477" y="274"/>
                  <a:pt x="485" y="272"/>
                  <a:pt x="493" y="271"/>
                </a:cubicBezTo>
                <a:cubicBezTo>
                  <a:pt x="501" y="270"/>
                  <a:pt x="509" y="271"/>
                  <a:pt x="517" y="274"/>
                </a:cubicBezTo>
                <a:cubicBezTo>
                  <a:pt x="526" y="276"/>
                  <a:pt x="535" y="277"/>
                  <a:pt x="542" y="281"/>
                </a:cubicBezTo>
                <a:cubicBezTo>
                  <a:pt x="549" y="284"/>
                  <a:pt x="556" y="289"/>
                  <a:pt x="562" y="293"/>
                </a:cubicBezTo>
                <a:cubicBezTo>
                  <a:pt x="570" y="298"/>
                  <a:pt x="577" y="303"/>
                  <a:pt x="582" y="312"/>
                </a:cubicBezTo>
                <a:cubicBezTo>
                  <a:pt x="586" y="318"/>
                  <a:pt x="589" y="323"/>
                  <a:pt x="594" y="328"/>
                </a:cubicBezTo>
                <a:cubicBezTo>
                  <a:pt x="594" y="329"/>
                  <a:pt x="594" y="329"/>
                  <a:pt x="594" y="329"/>
                </a:cubicBezTo>
                <a:cubicBezTo>
                  <a:pt x="594" y="329"/>
                  <a:pt x="594" y="329"/>
                  <a:pt x="595" y="330"/>
                </a:cubicBezTo>
                <a:cubicBezTo>
                  <a:pt x="595" y="330"/>
                  <a:pt x="596" y="330"/>
                  <a:pt x="596" y="330"/>
                </a:cubicBezTo>
                <a:cubicBezTo>
                  <a:pt x="596" y="336"/>
                  <a:pt x="597" y="343"/>
                  <a:pt x="598" y="349"/>
                </a:cubicBezTo>
                <a:cubicBezTo>
                  <a:pt x="599" y="353"/>
                  <a:pt x="600" y="358"/>
                  <a:pt x="602" y="363"/>
                </a:cubicBezTo>
                <a:cubicBezTo>
                  <a:pt x="600" y="362"/>
                  <a:pt x="598" y="361"/>
                  <a:pt x="596" y="360"/>
                </a:cubicBezTo>
                <a:cubicBezTo>
                  <a:pt x="593" y="359"/>
                  <a:pt x="590" y="358"/>
                  <a:pt x="587" y="358"/>
                </a:cubicBezTo>
                <a:cubicBezTo>
                  <a:pt x="586" y="357"/>
                  <a:pt x="585" y="356"/>
                  <a:pt x="584" y="356"/>
                </a:cubicBezTo>
                <a:cubicBezTo>
                  <a:pt x="582" y="355"/>
                  <a:pt x="579" y="354"/>
                  <a:pt x="577" y="354"/>
                </a:cubicBezTo>
                <a:cubicBezTo>
                  <a:pt x="577" y="354"/>
                  <a:pt x="576" y="354"/>
                  <a:pt x="577" y="354"/>
                </a:cubicBezTo>
                <a:cubicBezTo>
                  <a:pt x="578" y="355"/>
                  <a:pt x="580" y="356"/>
                  <a:pt x="582" y="356"/>
                </a:cubicBezTo>
                <a:cubicBezTo>
                  <a:pt x="582" y="356"/>
                  <a:pt x="584" y="357"/>
                  <a:pt x="586" y="357"/>
                </a:cubicBezTo>
                <a:cubicBezTo>
                  <a:pt x="582" y="356"/>
                  <a:pt x="579" y="356"/>
                  <a:pt x="575" y="356"/>
                </a:cubicBezTo>
                <a:cubicBezTo>
                  <a:pt x="568" y="357"/>
                  <a:pt x="560" y="361"/>
                  <a:pt x="553" y="366"/>
                </a:cubicBezTo>
                <a:cubicBezTo>
                  <a:pt x="544" y="369"/>
                  <a:pt x="536" y="371"/>
                  <a:pt x="526" y="374"/>
                </a:cubicBezTo>
                <a:cubicBezTo>
                  <a:pt x="521" y="375"/>
                  <a:pt x="516" y="376"/>
                  <a:pt x="510" y="378"/>
                </a:cubicBezTo>
                <a:cubicBezTo>
                  <a:pt x="508" y="379"/>
                  <a:pt x="505" y="380"/>
                  <a:pt x="502" y="381"/>
                </a:cubicBezTo>
                <a:cubicBezTo>
                  <a:pt x="501" y="381"/>
                  <a:pt x="501" y="382"/>
                  <a:pt x="500" y="382"/>
                </a:cubicBezTo>
                <a:cubicBezTo>
                  <a:pt x="500" y="382"/>
                  <a:pt x="500" y="382"/>
                  <a:pt x="500" y="382"/>
                </a:cubicBezTo>
                <a:cubicBezTo>
                  <a:pt x="500" y="383"/>
                  <a:pt x="500" y="383"/>
                  <a:pt x="500" y="383"/>
                </a:cubicBezTo>
                <a:cubicBezTo>
                  <a:pt x="504" y="385"/>
                  <a:pt x="510" y="380"/>
                  <a:pt x="513" y="379"/>
                </a:cubicBezTo>
                <a:cubicBezTo>
                  <a:pt x="518" y="378"/>
                  <a:pt x="523" y="377"/>
                  <a:pt x="529" y="375"/>
                </a:cubicBezTo>
                <a:cubicBezTo>
                  <a:pt x="534" y="374"/>
                  <a:pt x="540" y="372"/>
                  <a:pt x="546" y="370"/>
                </a:cubicBezTo>
                <a:cubicBezTo>
                  <a:pt x="547" y="370"/>
                  <a:pt x="548" y="370"/>
                  <a:pt x="550" y="369"/>
                </a:cubicBezTo>
                <a:cubicBezTo>
                  <a:pt x="549" y="370"/>
                  <a:pt x="548" y="371"/>
                  <a:pt x="547" y="372"/>
                </a:cubicBezTo>
                <a:cubicBezTo>
                  <a:pt x="543" y="374"/>
                  <a:pt x="539" y="377"/>
                  <a:pt x="535" y="379"/>
                </a:cubicBezTo>
                <a:cubicBezTo>
                  <a:pt x="531" y="381"/>
                  <a:pt x="526" y="382"/>
                  <a:pt x="521" y="384"/>
                </a:cubicBezTo>
                <a:cubicBezTo>
                  <a:pt x="517" y="386"/>
                  <a:pt x="513" y="388"/>
                  <a:pt x="508" y="389"/>
                </a:cubicBezTo>
                <a:cubicBezTo>
                  <a:pt x="507" y="390"/>
                  <a:pt x="505" y="391"/>
                  <a:pt x="503" y="392"/>
                </a:cubicBezTo>
                <a:cubicBezTo>
                  <a:pt x="502" y="392"/>
                  <a:pt x="499" y="394"/>
                  <a:pt x="498" y="394"/>
                </a:cubicBezTo>
                <a:cubicBezTo>
                  <a:pt x="498" y="394"/>
                  <a:pt x="498" y="394"/>
                  <a:pt x="498" y="394"/>
                </a:cubicBezTo>
                <a:cubicBezTo>
                  <a:pt x="497" y="394"/>
                  <a:pt x="496" y="395"/>
                  <a:pt x="497" y="396"/>
                </a:cubicBezTo>
                <a:cubicBezTo>
                  <a:pt x="497" y="396"/>
                  <a:pt x="497" y="396"/>
                  <a:pt x="497" y="396"/>
                </a:cubicBezTo>
                <a:cubicBezTo>
                  <a:pt x="497" y="396"/>
                  <a:pt x="498" y="396"/>
                  <a:pt x="499" y="396"/>
                </a:cubicBezTo>
                <a:cubicBezTo>
                  <a:pt x="507" y="392"/>
                  <a:pt x="516" y="388"/>
                  <a:pt x="525" y="384"/>
                </a:cubicBezTo>
                <a:cubicBezTo>
                  <a:pt x="532" y="381"/>
                  <a:pt x="540" y="378"/>
                  <a:pt x="546" y="374"/>
                </a:cubicBezTo>
                <a:cubicBezTo>
                  <a:pt x="546" y="374"/>
                  <a:pt x="546" y="374"/>
                  <a:pt x="546" y="374"/>
                </a:cubicBezTo>
                <a:cubicBezTo>
                  <a:pt x="544" y="376"/>
                  <a:pt x="543" y="379"/>
                  <a:pt x="542" y="381"/>
                </a:cubicBezTo>
                <a:cubicBezTo>
                  <a:pt x="542" y="381"/>
                  <a:pt x="542" y="381"/>
                  <a:pt x="542" y="382"/>
                </a:cubicBezTo>
                <a:cubicBezTo>
                  <a:pt x="535" y="386"/>
                  <a:pt x="529" y="392"/>
                  <a:pt x="523" y="397"/>
                </a:cubicBezTo>
                <a:cubicBezTo>
                  <a:pt x="519" y="401"/>
                  <a:pt x="515" y="406"/>
                  <a:pt x="510" y="408"/>
                </a:cubicBezTo>
                <a:cubicBezTo>
                  <a:pt x="507" y="409"/>
                  <a:pt x="505" y="409"/>
                  <a:pt x="504" y="411"/>
                </a:cubicBezTo>
                <a:cubicBezTo>
                  <a:pt x="504" y="412"/>
                  <a:pt x="504" y="413"/>
                  <a:pt x="505" y="412"/>
                </a:cubicBezTo>
                <a:cubicBezTo>
                  <a:pt x="512" y="408"/>
                  <a:pt x="518" y="403"/>
                  <a:pt x="524" y="398"/>
                </a:cubicBezTo>
                <a:cubicBezTo>
                  <a:pt x="528" y="395"/>
                  <a:pt x="532" y="393"/>
                  <a:pt x="535" y="390"/>
                </a:cubicBezTo>
                <a:cubicBezTo>
                  <a:pt x="536" y="389"/>
                  <a:pt x="539" y="387"/>
                  <a:pt x="541" y="385"/>
                </a:cubicBezTo>
                <a:cubicBezTo>
                  <a:pt x="540" y="387"/>
                  <a:pt x="540" y="389"/>
                  <a:pt x="539" y="391"/>
                </a:cubicBezTo>
                <a:cubicBezTo>
                  <a:pt x="539" y="391"/>
                  <a:pt x="539" y="391"/>
                  <a:pt x="539" y="391"/>
                </a:cubicBezTo>
                <a:cubicBezTo>
                  <a:pt x="536" y="392"/>
                  <a:pt x="534" y="394"/>
                  <a:pt x="532" y="397"/>
                </a:cubicBezTo>
                <a:cubicBezTo>
                  <a:pt x="529" y="400"/>
                  <a:pt x="526" y="403"/>
                  <a:pt x="524" y="407"/>
                </a:cubicBezTo>
                <a:cubicBezTo>
                  <a:pt x="522" y="409"/>
                  <a:pt x="521" y="413"/>
                  <a:pt x="519" y="415"/>
                </a:cubicBezTo>
                <a:cubicBezTo>
                  <a:pt x="517" y="417"/>
                  <a:pt x="515" y="418"/>
                  <a:pt x="512" y="420"/>
                </a:cubicBezTo>
                <a:cubicBezTo>
                  <a:pt x="510" y="422"/>
                  <a:pt x="507" y="424"/>
                  <a:pt x="507" y="428"/>
                </a:cubicBezTo>
                <a:cubicBezTo>
                  <a:pt x="507" y="428"/>
                  <a:pt x="508" y="428"/>
                  <a:pt x="508" y="428"/>
                </a:cubicBezTo>
                <a:cubicBezTo>
                  <a:pt x="510" y="422"/>
                  <a:pt x="515" y="421"/>
                  <a:pt x="518" y="417"/>
                </a:cubicBezTo>
                <a:cubicBezTo>
                  <a:pt x="521" y="414"/>
                  <a:pt x="523" y="411"/>
                  <a:pt x="525" y="408"/>
                </a:cubicBezTo>
                <a:cubicBezTo>
                  <a:pt x="529" y="402"/>
                  <a:pt x="534" y="397"/>
                  <a:pt x="539" y="392"/>
                </a:cubicBezTo>
                <a:cubicBezTo>
                  <a:pt x="538" y="395"/>
                  <a:pt x="537" y="397"/>
                  <a:pt x="536" y="400"/>
                </a:cubicBezTo>
                <a:cubicBezTo>
                  <a:pt x="536" y="401"/>
                  <a:pt x="535" y="403"/>
                  <a:pt x="535" y="404"/>
                </a:cubicBezTo>
                <a:cubicBezTo>
                  <a:pt x="535" y="404"/>
                  <a:pt x="535" y="404"/>
                  <a:pt x="535" y="404"/>
                </a:cubicBezTo>
                <a:cubicBezTo>
                  <a:pt x="533" y="406"/>
                  <a:pt x="530" y="408"/>
                  <a:pt x="529" y="411"/>
                </a:cubicBezTo>
                <a:cubicBezTo>
                  <a:pt x="529" y="411"/>
                  <a:pt x="530" y="411"/>
                  <a:pt x="530" y="411"/>
                </a:cubicBezTo>
                <a:cubicBezTo>
                  <a:pt x="532" y="409"/>
                  <a:pt x="533" y="407"/>
                  <a:pt x="535" y="405"/>
                </a:cubicBezTo>
                <a:cubicBezTo>
                  <a:pt x="533" y="415"/>
                  <a:pt x="535" y="424"/>
                  <a:pt x="539" y="435"/>
                </a:cubicBezTo>
                <a:cubicBezTo>
                  <a:pt x="541" y="440"/>
                  <a:pt x="542" y="445"/>
                  <a:pt x="544" y="450"/>
                </a:cubicBezTo>
                <a:cubicBezTo>
                  <a:pt x="538" y="455"/>
                  <a:pt x="528" y="454"/>
                  <a:pt x="521" y="453"/>
                </a:cubicBezTo>
                <a:cubicBezTo>
                  <a:pt x="512" y="452"/>
                  <a:pt x="503" y="450"/>
                  <a:pt x="494" y="448"/>
                </a:cubicBezTo>
                <a:cubicBezTo>
                  <a:pt x="486" y="445"/>
                  <a:pt x="478" y="440"/>
                  <a:pt x="470" y="436"/>
                </a:cubicBezTo>
                <a:cubicBezTo>
                  <a:pt x="463" y="433"/>
                  <a:pt x="456" y="429"/>
                  <a:pt x="451" y="422"/>
                </a:cubicBezTo>
                <a:cubicBezTo>
                  <a:pt x="445" y="416"/>
                  <a:pt x="439" y="411"/>
                  <a:pt x="434" y="405"/>
                </a:cubicBezTo>
                <a:cubicBezTo>
                  <a:pt x="433" y="405"/>
                  <a:pt x="433" y="405"/>
                  <a:pt x="433" y="404"/>
                </a:cubicBezTo>
                <a:cubicBezTo>
                  <a:pt x="433" y="404"/>
                  <a:pt x="433" y="404"/>
                  <a:pt x="432" y="403"/>
                </a:cubicBezTo>
                <a:cubicBezTo>
                  <a:pt x="427" y="398"/>
                  <a:pt x="424" y="392"/>
                  <a:pt x="421" y="384"/>
                </a:cubicBezTo>
                <a:cubicBezTo>
                  <a:pt x="419" y="377"/>
                  <a:pt x="417" y="369"/>
                  <a:pt x="414" y="362"/>
                </a:cubicBezTo>
                <a:cubicBezTo>
                  <a:pt x="412" y="355"/>
                  <a:pt x="410" y="347"/>
                  <a:pt x="410" y="340"/>
                </a:cubicBezTo>
                <a:cubicBezTo>
                  <a:pt x="410" y="332"/>
                  <a:pt x="411" y="325"/>
                  <a:pt x="415" y="318"/>
                </a:cubicBezTo>
                <a:cubicBezTo>
                  <a:pt x="419" y="311"/>
                  <a:pt x="425" y="305"/>
                  <a:pt x="430" y="299"/>
                </a:cubicBezTo>
                <a:cubicBezTo>
                  <a:pt x="436" y="293"/>
                  <a:pt x="442" y="287"/>
                  <a:pt x="450" y="283"/>
                </a:cubicBezTo>
                <a:close/>
                <a:moveTo>
                  <a:pt x="455" y="277"/>
                </a:moveTo>
                <a:cubicBezTo>
                  <a:pt x="455" y="276"/>
                  <a:pt x="456" y="275"/>
                  <a:pt x="456" y="274"/>
                </a:cubicBezTo>
                <a:cubicBezTo>
                  <a:pt x="456" y="275"/>
                  <a:pt x="456" y="276"/>
                  <a:pt x="456" y="276"/>
                </a:cubicBezTo>
                <a:cubicBezTo>
                  <a:pt x="456" y="277"/>
                  <a:pt x="455" y="277"/>
                  <a:pt x="455" y="277"/>
                </a:cubicBezTo>
                <a:close/>
                <a:moveTo>
                  <a:pt x="528" y="466"/>
                </a:moveTo>
                <a:cubicBezTo>
                  <a:pt x="532" y="466"/>
                  <a:pt x="536" y="464"/>
                  <a:pt x="539" y="462"/>
                </a:cubicBezTo>
                <a:cubicBezTo>
                  <a:pt x="542" y="460"/>
                  <a:pt x="544" y="459"/>
                  <a:pt x="547" y="457"/>
                </a:cubicBezTo>
                <a:cubicBezTo>
                  <a:pt x="547" y="457"/>
                  <a:pt x="547" y="457"/>
                  <a:pt x="547" y="457"/>
                </a:cubicBezTo>
                <a:cubicBezTo>
                  <a:pt x="544" y="460"/>
                  <a:pt x="542" y="463"/>
                  <a:pt x="540" y="465"/>
                </a:cubicBezTo>
                <a:cubicBezTo>
                  <a:pt x="537" y="469"/>
                  <a:pt x="533" y="469"/>
                  <a:pt x="529" y="472"/>
                </a:cubicBezTo>
                <a:cubicBezTo>
                  <a:pt x="529" y="472"/>
                  <a:pt x="529" y="473"/>
                  <a:pt x="529" y="473"/>
                </a:cubicBezTo>
                <a:cubicBezTo>
                  <a:pt x="533" y="474"/>
                  <a:pt x="537" y="470"/>
                  <a:pt x="539" y="468"/>
                </a:cubicBezTo>
                <a:cubicBezTo>
                  <a:pt x="542" y="465"/>
                  <a:pt x="545" y="462"/>
                  <a:pt x="548" y="458"/>
                </a:cubicBezTo>
                <a:cubicBezTo>
                  <a:pt x="550" y="463"/>
                  <a:pt x="552" y="467"/>
                  <a:pt x="555" y="471"/>
                </a:cubicBezTo>
                <a:cubicBezTo>
                  <a:pt x="558" y="476"/>
                  <a:pt x="562" y="480"/>
                  <a:pt x="566" y="485"/>
                </a:cubicBezTo>
                <a:cubicBezTo>
                  <a:pt x="560" y="486"/>
                  <a:pt x="555" y="490"/>
                  <a:pt x="549" y="491"/>
                </a:cubicBezTo>
                <a:cubicBezTo>
                  <a:pt x="542" y="492"/>
                  <a:pt x="535" y="491"/>
                  <a:pt x="528" y="489"/>
                </a:cubicBezTo>
                <a:cubicBezTo>
                  <a:pt x="514" y="484"/>
                  <a:pt x="500" y="479"/>
                  <a:pt x="488" y="471"/>
                </a:cubicBezTo>
                <a:cubicBezTo>
                  <a:pt x="481" y="467"/>
                  <a:pt x="475" y="463"/>
                  <a:pt x="470" y="458"/>
                </a:cubicBezTo>
                <a:cubicBezTo>
                  <a:pt x="470" y="457"/>
                  <a:pt x="469" y="456"/>
                  <a:pt x="469" y="456"/>
                </a:cubicBezTo>
                <a:cubicBezTo>
                  <a:pt x="463" y="451"/>
                  <a:pt x="459" y="445"/>
                  <a:pt x="454" y="438"/>
                </a:cubicBezTo>
                <a:cubicBezTo>
                  <a:pt x="451" y="433"/>
                  <a:pt x="446" y="427"/>
                  <a:pt x="443" y="421"/>
                </a:cubicBezTo>
                <a:cubicBezTo>
                  <a:pt x="443" y="420"/>
                  <a:pt x="443" y="419"/>
                  <a:pt x="442" y="418"/>
                </a:cubicBezTo>
                <a:cubicBezTo>
                  <a:pt x="447" y="423"/>
                  <a:pt x="451" y="429"/>
                  <a:pt x="457" y="433"/>
                </a:cubicBezTo>
                <a:cubicBezTo>
                  <a:pt x="463" y="437"/>
                  <a:pt x="471" y="440"/>
                  <a:pt x="477" y="443"/>
                </a:cubicBezTo>
                <a:cubicBezTo>
                  <a:pt x="480" y="445"/>
                  <a:pt x="483" y="446"/>
                  <a:pt x="485" y="447"/>
                </a:cubicBezTo>
                <a:cubicBezTo>
                  <a:pt x="485" y="447"/>
                  <a:pt x="485" y="447"/>
                  <a:pt x="485" y="447"/>
                </a:cubicBezTo>
                <a:cubicBezTo>
                  <a:pt x="504" y="463"/>
                  <a:pt x="522" y="480"/>
                  <a:pt x="546" y="486"/>
                </a:cubicBezTo>
                <a:cubicBezTo>
                  <a:pt x="547" y="486"/>
                  <a:pt x="548" y="485"/>
                  <a:pt x="547" y="485"/>
                </a:cubicBezTo>
                <a:cubicBezTo>
                  <a:pt x="536" y="478"/>
                  <a:pt x="523" y="474"/>
                  <a:pt x="513" y="466"/>
                </a:cubicBezTo>
                <a:cubicBezTo>
                  <a:pt x="507" y="462"/>
                  <a:pt x="502" y="456"/>
                  <a:pt x="496" y="451"/>
                </a:cubicBezTo>
                <a:cubicBezTo>
                  <a:pt x="502" y="453"/>
                  <a:pt x="508" y="454"/>
                  <a:pt x="514" y="456"/>
                </a:cubicBezTo>
                <a:cubicBezTo>
                  <a:pt x="513" y="456"/>
                  <a:pt x="512" y="456"/>
                  <a:pt x="511" y="456"/>
                </a:cubicBezTo>
                <a:cubicBezTo>
                  <a:pt x="509" y="456"/>
                  <a:pt x="508" y="457"/>
                  <a:pt x="507" y="457"/>
                </a:cubicBezTo>
                <a:cubicBezTo>
                  <a:pt x="507" y="458"/>
                  <a:pt x="507" y="459"/>
                  <a:pt x="507" y="459"/>
                </a:cubicBezTo>
                <a:cubicBezTo>
                  <a:pt x="510" y="460"/>
                  <a:pt x="513" y="458"/>
                  <a:pt x="515" y="457"/>
                </a:cubicBezTo>
                <a:cubicBezTo>
                  <a:pt x="517" y="457"/>
                  <a:pt x="518" y="457"/>
                  <a:pt x="520" y="456"/>
                </a:cubicBezTo>
                <a:cubicBezTo>
                  <a:pt x="525" y="457"/>
                  <a:pt x="532" y="458"/>
                  <a:pt x="538" y="457"/>
                </a:cubicBezTo>
                <a:cubicBezTo>
                  <a:pt x="534" y="458"/>
                  <a:pt x="531" y="460"/>
                  <a:pt x="527" y="460"/>
                </a:cubicBezTo>
                <a:cubicBezTo>
                  <a:pt x="523" y="460"/>
                  <a:pt x="519" y="460"/>
                  <a:pt x="515" y="462"/>
                </a:cubicBezTo>
                <a:cubicBezTo>
                  <a:pt x="514" y="462"/>
                  <a:pt x="514" y="464"/>
                  <a:pt x="516" y="464"/>
                </a:cubicBezTo>
                <a:cubicBezTo>
                  <a:pt x="522" y="463"/>
                  <a:pt x="528" y="461"/>
                  <a:pt x="535" y="459"/>
                </a:cubicBezTo>
                <a:cubicBezTo>
                  <a:pt x="538" y="459"/>
                  <a:pt x="542" y="457"/>
                  <a:pt x="545" y="454"/>
                </a:cubicBezTo>
                <a:cubicBezTo>
                  <a:pt x="545" y="454"/>
                  <a:pt x="545" y="453"/>
                  <a:pt x="545" y="453"/>
                </a:cubicBezTo>
                <a:cubicBezTo>
                  <a:pt x="546" y="454"/>
                  <a:pt x="546" y="455"/>
                  <a:pt x="547" y="456"/>
                </a:cubicBezTo>
                <a:cubicBezTo>
                  <a:pt x="544" y="457"/>
                  <a:pt x="541" y="459"/>
                  <a:pt x="538" y="460"/>
                </a:cubicBezTo>
                <a:cubicBezTo>
                  <a:pt x="534" y="462"/>
                  <a:pt x="531" y="463"/>
                  <a:pt x="528" y="465"/>
                </a:cubicBezTo>
                <a:cubicBezTo>
                  <a:pt x="528" y="466"/>
                  <a:pt x="528" y="467"/>
                  <a:pt x="528" y="466"/>
                </a:cubicBezTo>
                <a:close/>
                <a:moveTo>
                  <a:pt x="527" y="554"/>
                </a:moveTo>
                <a:cubicBezTo>
                  <a:pt x="521" y="565"/>
                  <a:pt x="511" y="574"/>
                  <a:pt x="508" y="586"/>
                </a:cubicBezTo>
                <a:cubicBezTo>
                  <a:pt x="508" y="587"/>
                  <a:pt x="508" y="587"/>
                  <a:pt x="509" y="587"/>
                </a:cubicBezTo>
                <a:cubicBezTo>
                  <a:pt x="508" y="587"/>
                  <a:pt x="508" y="587"/>
                  <a:pt x="508" y="587"/>
                </a:cubicBezTo>
                <a:cubicBezTo>
                  <a:pt x="503" y="592"/>
                  <a:pt x="500" y="599"/>
                  <a:pt x="496" y="605"/>
                </a:cubicBezTo>
                <a:cubicBezTo>
                  <a:pt x="494" y="608"/>
                  <a:pt x="490" y="612"/>
                  <a:pt x="487" y="615"/>
                </a:cubicBezTo>
                <a:cubicBezTo>
                  <a:pt x="487" y="615"/>
                  <a:pt x="487" y="615"/>
                  <a:pt x="487" y="614"/>
                </a:cubicBezTo>
                <a:cubicBezTo>
                  <a:pt x="488" y="614"/>
                  <a:pt x="488" y="614"/>
                  <a:pt x="489" y="613"/>
                </a:cubicBezTo>
                <a:cubicBezTo>
                  <a:pt x="490" y="607"/>
                  <a:pt x="492" y="600"/>
                  <a:pt x="495" y="595"/>
                </a:cubicBezTo>
                <a:cubicBezTo>
                  <a:pt x="498" y="588"/>
                  <a:pt x="503" y="584"/>
                  <a:pt x="507" y="578"/>
                </a:cubicBezTo>
                <a:cubicBezTo>
                  <a:pt x="515" y="569"/>
                  <a:pt x="521" y="558"/>
                  <a:pt x="526" y="547"/>
                </a:cubicBezTo>
                <a:cubicBezTo>
                  <a:pt x="532" y="536"/>
                  <a:pt x="537" y="524"/>
                  <a:pt x="544" y="513"/>
                </a:cubicBezTo>
                <a:cubicBezTo>
                  <a:pt x="548" y="507"/>
                  <a:pt x="554" y="500"/>
                  <a:pt x="554" y="493"/>
                </a:cubicBezTo>
                <a:cubicBezTo>
                  <a:pt x="558" y="491"/>
                  <a:pt x="562" y="489"/>
                  <a:pt x="567" y="487"/>
                </a:cubicBezTo>
                <a:cubicBezTo>
                  <a:pt x="567" y="487"/>
                  <a:pt x="567" y="487"/>
                  <a:pt x="567" y="487"/>
                </a:cubicBezTo>
                <a:cubicBezTo>
                  <a:pt x="571" y="490"/>
                  <a:pt x="575" y="494"/>
                  <a:pt x="579" y="497"/>
                </a:cubicBezTo>
                <a:cubicBezTo>
                  <a:pt x="580" y="497"/>
                  <a:pt x="581" y="498"/>
                  <a:pt x="582" y="499"/>
                </a:cubicBezTo>
                <a:cubicBezTo>
                  <a:pt x="582" y="499"/>
                  <a:pt x="582" y="499"/>
                  <a:pt x="582" y="499"/>
                </a:cubicBezTo>
                <a:cubicBezTo>
                  <a:pt x="575" y="507"/>
                  <a:pt x="568" y="514"/>
                  <a:pt x="562" y="522"/>
                </a:cubicBezTo>
                <a:cubicBezTo>
                  <a:pt x="558" y="527"/>
                  <a:pt x="553" y="532"/>
                  <a:pt x="552" y="538"/>
                </a:cubicBezTo>
                <a:cubicBezTo>
                  <a:pt x="546" y="544"/>
                  <a:pt x="540" y="551"/>
                  <a:pt x="534" y="558"/>
                </a:cubicBezTo>
                <a:cubicBezTo>
                  <a:pt x="530" y="563"/>
                  <a:pt x="526" y="567"/>
                  <a:pt x="523" y="573"/>
                </a:cubicBezTo>
                <a:cubicBezTo>
                  <a:pt x="521" y="578"/>
                  <a:pt x="520" y="581"/>
                  <a:pt x="515" y="583"/>
                </a:cubicBezTo>
                <a:cubicBezTo>
                  <a:pt x="513" y="584"/>
                  <a:pt x="511" y="585"/>
                  <a:pt x="509" y="587"/>
                </a:cubicBezTo>
                <a:cubicBezTo>
                  <a:pt x="513" y="581"/>
                  <a:pt x="515" y="575"/>
                  <a:pt x="519" y="570"/>
                </a:cubicBezTo>
                <a:cubicBezTo>
                  <a:pt x="522" y="565"/>
                  <a:pt x="525" y="560"/>
                  <a:pt x="528" y="555"/>
                </a:cubicBezTo>
                <a:cubicBezTo>
                  <a:pt x="528" y="554"/>
                  <a:pt x="528" y="554"/>
                  <a:pt x="527" y="554"/>
                </a:cubicBezTo>
                <a:close/>
                <a:moveTo>
                  <a:pt x="486" y="620"/>
                </a:moveTo>
                <a:cubicBezTo>
                  <a:pt x="486" y="620"/>
                  <a:pt x="486" y="620"/>
                  <a:pt x="486" y="620"/>
                </a:cubicBezTo>
                <a:cubicBezTo>
                  <a:pt x="481" y="620"/>
                  <a:pt x="477" y="618"/>
                  <a:pt x="472" y="617"/>
                </a:cubicBezTo>
                <a:cubicBezTo>
                  <a:pt x="469" y="616"/>
                  <a:pt x="460" y="615"/>
                  <a:pt x="461" y="611"/>
                </a:cubicBezTo>
                <a:cubicBezTo>
                  <a:pt x="464" y="600"/>
                  <a:pt x="470" y="589"/>
                  <a:pt x="475" y="578"/>
                </a:cubicBezTo>
                <a:cubicBezTo>
                  <a:pt x="482" y="563"/>
                  <a:pt x="488" y="547"/>
                  <a:pt x="493" y="532"/>
                </a:cubicBezTo>
                <a:cubicBezTo>
                  <a:pt x="499" y="517"/>
                  <a:pt x="505" y="501"/>
                  <a:pt x="509" y="486"/>
                </a:cubicBezTo>
                <a:cubicBezTo>
                  <a:pt x="516" y="489"/>
                  <a:pt x="523" y="491"/>
                  <a:pt x="531" y="493"/>
                </a:cubicBezTo>
                <a:cubicBezTo>
                  <a:pt x="530" y="493"/>
                  <a:pt x="530" y="494"/>
                  <a:pt x="530" y="494"/>
                </a:cubicBezTo>
                <a:cubicBezTo>
                  <a:pt x="531" y="498"/>
                  <a:pt x="525" y="505"/>
                  <a:pt x="522" y="508"/>
                </a:cubicBezTo>
                <a:cubicBezTo>
                  <a:pt x="518" y="513"/>
                  <a:pt x="516" y="520"/>
                  <a:pt x="514" y="526"/>
                </a:cubicBezTo>
                <a:cubicBezTo>
                  <a:pt x="511" y="534"/>
                  <a:pt x="508" y="542"/>
                  <a:pt x="505" y="550"/>
                </a:cubicBezTo>
                <a:cubicBezTo>
                  <a:pt x="502" y="556"/>
                  <a:pt x="498" y="563"/>
                  <a:pt x="496" y="569"/>
                </a:cubicBezTo>
                <a:cubicBezTo>
                  <a:pt x="491" y="580"/>
                  <a:pt x="487" y="591"/>
                  <a:pt x="484" y="602"/>
                </a:cubicBezTo>
                <a:cubicBezTo>
                  <a:pt x="482" y="609"/>
                  <a:pt x="481" y="615"/>
                  <a:pt x="486" y="620"/>
                </a:cubicBezTo>
                <a:close/>
                <a:moveTo>
                  <a:pt x="466" y="585"/>
                </a:moveTo>
                <a:cubicBezTo>
                  <a:pt x="466" y="579"/>
                  <a:pt x="466" y="573"/>
                  <a:pt x="465" y="568"/>
                </a:cubicBezTo>
                <a:cubicBezTo>
                  <a:pt x="464" y="560"/>
                  <a:pt x="462" y="553"/>
                  <a:pt x="462" y="546"/>
                </a:cubicBezTo>
                <a:cubicBezTo>
                  <a:pt x="461" y="539"/>
                  <a:pt x="462" y="533"/>
                  <a:pt x="462" y="526"/>
                </a:cubicBezTo>
                <a:cubicBezTo>
                  <a:pt x="462" y="513"/>
                  <a:pt x="462" y="499"/>
                  <a:pt x="466" y="486"/>
                </a:cubicBezTo>
                <a:cubicBezTo>
                  <a:pt x="468" y="479"/>
                  <a:pt x="471" y="471"/>
                  <a:pt x="471" y="463"/>
                </a:cubicBezTo>
                <a:cubicBezTo>
                  <a:pt x="477" y="469"/>
                  <a:pt x="484" y="473"/>
                  <a:pt x="491" y="477"/>
                </a:cubicBezTo>
                <a:cubicBezTo>
                  <a:pt x="496" y="480"/>
                  <a:pt x="500" y="482"/>
                  <a:pt x="505" y="484"/>
                </a:cubicBezTo>
                <a:cubicBezTo>
                  <a:pt x="503" y="494"/>
                  <a:pt x="499" y="503"/>
                  <a:pt x="496" y="513"/>
                </a:cubicBezTo>
                <a:cubicBezTo>
                  <a:pt x="493" y="522"/>
                  <a:pt x="490" y="531"/>
                  <a:pt x="486" y="540"/>
                </a:cubicBezTo>
                <a:cubicBezTo>
                  <a:pt x="480" y="557"/>
                  <a:pt x="473" y="573"/>
                  <a:pt x="466" y="590"/>
                </a:cubicBezTo>
                <a:cubicBezTo>
                  <a:pt x="466" y="588"/>
                  <a:pt x="466" y="586"/>
                  <a:pt x="466" y="585"/>
                </a:cubicBezTo>
                <a:close/>
                <a:moveTo>
                  <a:pt x="492" y="588"/>
                </a:moveTo>
                <a:cubicBezTo>
                  <a:pt x="497" y="576"/>
                  <a:pt x="502" y="564"/>
                  <a:pt x="508" y="552"/>
                </a:cubicBezTo>
                <a:cubicBezTo>
                  <a:pt x="511" y="546"/>
                  <a:pt x="513" y="539"/>
                  <a:pt x="515" y="533"/>
                </a:cubicBezTo>
                <a:cubicBezTo>
                  <a:pt x="518" y="526"/>
                  <a:pt x="520" y="518"/>
                  <a:pt x="524" y="511"/>
                </a:cubicBezTo>
                <a:cubicBezTo>
                  <a:pt x="527" y="507"/>
                  <a:pt x="535" y="499"/>
                  <a:pt x="532" y="493"/>
                </a:cubicBezTo>
                <a:cubicBezTo>
                  <a:pt x="533" y="493"/>
                  <a:pt x="533" y="494"/>
                  <a:pt x="534" y="494"/>
                </a:cubicBezTo>
                <a:cubicBezTo>
                  <a:pt x="539" y="495"/>
                  <a:pt x="546" y="495"/>
                  <a:pt x="551" y="494"/>
                </a:cubicBezTo>
                <a:cubicBezTo>
                  <a:pt x="548" y="503"/>
                  <a:pt x="541" y="510"/>
                  <a:pt x="537" y="519"/>
                </a:cubicBezTo>
                <a:cubicBezTo>
                  <a:pt x="531" y="530"/>
                  <a:pt x="525" y="541"/>
                  <a:pt x="519" y="553"/>
                </a:cubicBezTo>
                <a:cubicBezTo>
                  <a:pt x="516" y="559"/>
                  <a:pt x="513" y="565"/>
                  <a:pt x="509" y="570"/>
                </a:cubicBezTo>
                <a:cubicBezTo>
                  <a:pt x="506" y="575"/>
                  <a:pt x="501" y="579"/>
                  <a:pt x="498" y="583"/>
                </a:cubicBezTo>
                <a:cubicBezTo>
                  <a:pt x="492" y="590"/>
                  <a:pt x="489" y="597"/>
                  <a:pt x="487" y="605"/>
                </a:cubicBezTo>
                <a:cubicBezTo>
                  <a:pt x="488" y="599"/>
                  <a:pt x="491" y="592"/>
                  <a:pt x="492" y="588"/>
                </a:cubicBezTo>
                <a:close/>
                <a:moveTo>
                  <a:pt x="244" y="441"/>
                </a:moveTo>
                <a:cubicBezTo>
                  <a:pt x="246" y="444"/>
                  <a:pt x="249" y="447"/>
                  <a:pt x="252" y="449"/>
                </a:cubicBezTo>
                <a:cubicBezTo>
                  <a:pt x="253" y="451"/>
                  <a:pt x="255" y="453"/>
                  <a:pt x="257" y="455"/>
                </a:cubicBezTo>
                <a:cubicBezTo>
                  <a:pt x="257" y="455"/>
                  <a:pt x="258" y="456"/>
                  <a:pt x="259" y="456"/>
                </a:cubicBezTo>
                <a:cubicBezTo>
                  <a:pt x="260" y="458"/>
                  <a:pt x="263" y="462"/>
                  <a:pt x="263" y="462"/>
                </a:cubicBezTo>
                <a:cubicBezTo>
                  <a:pt x="264" y="463"/>
                  <a:pt x="264" y="463"/>
                  <a:pt x="264" y="463"/>
                </a:cubicBezTo>
                <a:cubicBezTo>
                  <a:pt x="262" y="468"/>
                  <a:pt x="259" y="473"/>
                  <a:pt x="258" y="479"/>
                </a:cubicBezTo>
                <a:cubicBezTo>
                  <a:pt x="256" y="474"/>
                  <a:pt x="253" y="470"/>
                  <a:pt x="248" y="473"/>
                </a:cubicBezTo>
                <a:cubicBezTo>
                  <a:pt x="245" y="475"/>
                  <a:pt x="242" y="478"/>
                  <a:pt x="239" y="481"/>
                </a:cubicBezTo>
                <a:cubicBezTo>
                  <a:pt x="239" y="480"/>
                  <a:pt x="239" y="479"/>
                  <a:pt x="239" y="478"/>
                </a:cubicBezTo>
                <a:cubicBezTo>
                  <a:pt x="239" y="472"/>
                  <a:pt x="238" y="466"/>
                  <a:pt x="240" y="460"/>
                </a:cubicBezTo>
                <a:cubicBezTo>
                  <a:pt x="241" y="454"/>
                  <a:pt x="242" y="449"/>
                  <a:pt x="243" y="444"/>
                </a:cubicBezTo>
                <a:cubicBezTo>
                  <a:pt x="244" y="443"/>
                  <a:pt x="244" y="442"/>
                  <a:pt x="244" y="441"/>
                </a:cubicBezTo>
                <a:close/>
                <a:moveTo>
                  <a:pt x="262" y="474"/>
                </a:moveTo>
                <a:cubicBezTo>
                  <a:pt x="263" y="471"/>
                  <a:pt x="265" y="468"/>
                  <a:pt x="266" y="466"/>
                </a:cubicBezTo>
                <a:cubicBezTo>
                  <a:pt x="267" y="468"/>
                  <a:pt x="269" y="470"/>
                  <a:pt x="270" y="472"/>
                </a:cubicBezTo>
                <a:cubicBezTo>
                  <a:pt x="277" y="483"/>
                  <a:pt x="282" y="494"/>
                  <a:pt x="287" y="506"/>
                </a:cubicBezTo>
                <a:cubicBezTo>
                  <a:pt x="292" y="519"/>
                  <a:pt x="297" y="532"/>
                  <a:pt x="301" y="545"/>
                </a:cubicBezTo>
                <a:cubicBezTo>
                  <a:pt x="297" y="539"/>
                  <a:pt x="294" y="533"/>
                  <a:pt x="290" y="527"/>
                </a:cubicBezTo>
                <a:cubicBezTo>
                  <a:pt x="282" y="515"/>
                  <a:pt x="272" y="505"/>
                  <a:pt x="265" y="493"/>
                </a:cubicBezTo>
                <a:cubicBezTo>
                  <a:pt x="263" y="490"/>
                  <a:pt x="262" y="488"/>
                  <a:pt x="262" y="485"/>
                </a:cubicBezTo>
                <a:cubicBezTo>
                  <a:pt x="261" y="482"/>
                  <a:pt x="261" y="477"/>
                  <a:pt x="262" y="474"/>
                </a:cubicBezTo>
                <a:close/>
                <a:moveTo>
                  <a:pt x="319" y="530"/>
                </a:moveTo>
                <a:cubicBezTo>
                  <a:pt x="316" y="522"/>
                  <a:pt x="312" y="515"/>
                  <a:pt x="310" y="507"/>
                </a:cubicBezTo>
                <a:cubicBezTo>
                  <a:pt x="309" y="501"/>
                  <a:pt x="308" y="493"/>
                  <a:pt x="305" y="487"/>
                </a:cubicBezTo>
                <a:cubicBezTo>
                  <a:pt x="315" y="490"/>
                  <a:pt x="325" y="490"/>
                  <a:pt x="336" y="487"/>
                </a:cubicBezTo>
                <a:cubicBezTo>
                  <a:pt x="336" y="486"/>
                  <a:pt x="336" y="486"/>
                  <a:pt x="337" y="486"/>
                </a:cubicBezTo>
                <a:cubicBezTo>
                  <a:pt x="340" y="505"/>
                  <a:pt x="335" y="524"/>
                  <a:pt x="337" y="543"/>
                </a:cubicBezTo>
                <a:cubicBezTo>
                  <a:pt x="337" y="552"/>
                  <a:pt x="338" y="562"/>
                  <a:pt x="340" y="571"/>
                </a:cubicBezTo>
                <a:cubicBezTo>
                  <a:pt x="340" y="571"/>
                  <a:pt x="340" y="571"/>
                  <a:pt x="340" y="571"/>
                </a:cubicBezTo>
                <a:cubicBezTo>
                  <a:pt x="340" y="571"/>
                  <a:pt x="340" y="570"/>
                  <a:pt x="339" y="570"/>
                </a:cubicBezTo>
                <a:cubicBezTo>
                  <a:pt x="329" y="558"/>
                  <a:pt x="325" y="544"/>
                  <a:pt x="319" y="530"/>
                </a:cubicBezTo>
                <a:close/>
                <a:moveTo>
                  <a:pt x="370" y="572"/>
                </a:moveTo>
                <a:cubicBezTo>
                  <a:pt x="370" y="571"/>
                  <a:pt x="370" y="571"/>
                  <a:pt x="370" y="571"/>
                </a:cubicBezTo>
                <a:cubicBezTo>
                  <a:pt x="374" y="565"/>
                  <a:pt x="375" y="556"/>
                  <a:pt x="376" y="549"/>
                </a:cubicBezTo>
                <a:cubicBezTo>
                  <a:pt x="377" y="539"/>
                  <a:pt x="378" y="530"/>
                  <a:pt x="378" y="520"/>
                </a:cubicBezTo>
                <a:cubicBezTo>
                  <a:pt x="378" y="510"/>
                  <a:pt x="377" y="501"/>
                  <a:pt x="379" y="491"/>
                </a:cubicBezTo>
                <a:cubicBezTo>
                  <a:pt x="381" y="484"/>
                  <a:pt x="381" y="477"/>
                  <a:pt x="382" y="470"/>
                </a:cubicBezTo>
                <a:cubicBezTo>
                  <a:pt x="382" y="470"/>
                  <a:pt x="382" y="470"/>
                  <a:pt x="382" y="469"/>
                </a:cubicBezTo>
                <a:cubicBezTo>
                  <a:pt x="382" y="469"/>
                  <a:pt x="383" y="468"/>
                  <a:pt x="383" y="467"/>
                </a:cubicBezTo>
                <a:cubicBezTo>
                  <a:pt x="383" y="466"/>
                  <a:pt x="384" y="465"/>
                  <a:pt x="384" y="464"/>
                </a:cubicBezTo>
                <a:cubicBezTo>
                  <a:pt x="387" y="462"/>
                  <a:pt x="391" y="459"/>
                  <a:pt x="394" y="456"/>
                </a:cubicBezTo>
                <a:cubicBezTo>
                  <a:pt x="403" y="449"/>
                  <a:pt x="410" y="441"/>
                  <a:pt x="417" y="431"/>
                </a:cubicBezTo>
                <a:cubicBezTo>
                  <a:pt x="420" y="426"/>
                  <a:pt x="423" y="421"/>
                  <a:pt x="426" y="416"/>
                </a:cubicBezTo>
                <a:cubicBezTo>
                  <a:pt x="428" y="413"/>
                  <a:pt x="429" y="409"/>
                  <a:pt x="431" y="407"/>
                </a:cubicBezTo>
                <a:cubicBezTo>
                  <a:pt x="432" y="408"/>
                  <a:pt x="432" y="408"/>
                  <a:pt x="433" y="409"/>
                </a:cubicBezTo>
                <a:cubicBezTo>
                  <a:pt x="433" y="409"/>
                  <a:pt x="433" y="409"/>
                  <a:pt x="433" y="410"/>
                </a:cubicBezTo>
                <a:cubicBezTo>
                  <a:pt x="438" y="415"/>
                  <a:pt x="439" y="423"/>
                  <a:pt x="443" y="429"/>
                </a:cubicBezTo>
                <a:cubicBezTo>
                  <a:pt x="444" y="430"/>
                  <a:pt x="445" y="432"/>
                  <a:pt x="446" y="433"/>
                </a:cubicBezTo>
                <a:cubicBezTo>
                  <a:pt x="443" y="440"/>
                  <a:pt x="440" y="448"/>
                  <a:pt x="439" y="455"/>
                </a:cubicBezTo>
                <a:cubicBezTo>
                  <a:pt x="438" y="464"/>
                  <a:pt x="440" y="472"/>
                  <a:pt x="438" y="481"/>
                </a:cubicBezTo>
                <a:cubicBezTo>
                  <a:pt x="436" y="489"/>
                  <a:pt x="434" y="498"/>
                  <a:pt x="434" y="507"/>
                </a:cubicBezTo>
                <a:cubicBezTo>
                  <a:pt x="434" y="516"/>
                  <a:pt x="435" y="525"/>
                  <a:pt x="436" y="534"/>
                </a:cubicBezTo>
                <a:cubicBezTo>
                  <a:pt x="437" y="543"/>
                  <a:pt x="437" y="552"/>
                  <a:pt x="437" y="562"/>
                </a:cubicBezTo>
                <a:cubicBezTo>
                  <a:pt x="437" y="570"/>
                  <a:pt x="438" y="579"/>
                  <a:pt x="438" y="587"/>
                </a:cubicBezTo>
                <a:cubicBezTo>
                  <a:pt x="439" y="593"/>
                  <a:pt x="440" y="599"/>
                  <a:pt x="443" y="604"/>
                </a:cubicBezTo>
                <a:cubicBezTo>
                  <a:pt x="442" y="604"/>
                  <a:pt x="442" y="604"/>
                  <a:pt x="442" y="604"/>
                </a:cubicBezTo>
                <a:cubicBezTo>
                  <a:pt x="442" y="604"/>
                  <a:pt x="441" y="604"/>
                  <a:pt x="441" y="604"/>
                </a:cubicBezTo>
                <a:cubicBezTo>
                  <a:pt x="441" y="604"/>
                  <a:pt x="441" y="604"/>
                  <a:pt x="441" y="604"/>
                </a:cubicBezTo>
                <a:cubicBezTo>
                  <a:pt x="442" y="604"/>
                  <a:pt x="441" y="604"/>
                  <a:pt x="442" y="605"/>
                </a:cubicBezTo>
                <a:cubicBezTo>
                  <a:pt x="442" y="605"/>
                  <a:pt x="442" y="606"/>
                  <a:pt x="442" y="606"/>
                </a:cubicBezTo>
                <a:cubicBezTo>
                  <a:pt x="442" y="606"/>
                  <a:pt x="442" y="607"/>
                  <a:pt x="442" y="607"/>
                </a:cubicBezTo>
                <a:cubicBezTo>
                  <a:pt x="442" y="608"/>
                  <a:pt x="442" y="608"/>
                  <a:pt x="442" y="608"/>
                </a:cubicBezTo>
                <a:cubicBezTo>
                  <a:pt x="441" y="607"/>
                  <a:pt x="441" y="607"/>
                  <a:pt x="440" y="608"/>
                </a:cubicBezTo>
                <a:cubicBezTo>
                  <a:pt x="439" y="609"/>
                  <a:pt x="439" y="613"/>
                  <a:pt x="440" y="615"/>
                </a:cubicBezTo>
                <a:cubicBezTo>
                  <a:pt x="441" y="617"/>
                  <a:pt x="442" y="618"/>
                  <a:pt x="444" y="619"/>
                </a:cubicBezTo>
                <a:cubicBezTo>
                  <a:pt x="443" y="622"/>
                  <a:pt x="444" y="625"/>
                  <a:pt x="444" y="628"/>
                </a:cubicBezTo>
                <a:cubicBezTo>
                  <a:pt x="445" y="634"/>
                  <a:pt x="445" y="640"/>
                  <a:pt x="444" y="646"/>
                </a:cubicBezTo>
                <a:cubicBezTo>
                  <a:pt x="443" y="658"/>
                  <a:pt x="439" y="670"/>
                  <a:pt x="435" y="682"/>
                </a:cubicBezTo>
                <a:cubicBezTo>
                  <a:pt x="433" y="688"/>
                  <a:pt x="431" y="694"/>
                  <a:pt x="428" y="700"/>
                </a:cubicBezTo>
                <a:cubicBezTo>
                  <a:pt x="428" y="694"/>
                  <a:pt x="422" y="688"/>
                  <a:pt x="419" y="684"/>
                </a:cubicBezTo>
                <a:cubicBezTo>
                  <a:pt x="412" y="672"/>
                  <a:pt x="406" y="659"/>
                  <a:pt x="400" y="647"/>
                </a:cubicBezTo>
                <a:cubicBezTo>
                  <a:pt x="394" y="633"/>
                  <a:pt x="390" y="620"/>
                  <a:pt x="382" y="607"/>
                </a:cubicBezTo>
                <a:cubicBezTo>
                  <a:pt x="381" y="604"/>
                  <a:pt x="378" y="602"/>
                  <a:pt x="377" y="598"/>
                </a:cubicBezTo>
                <a:cubicBezTo>
                  <a:pt x="376" y="596"/>
                  <a:pt x="376" y="593"/>
                  <a:pt x="375" y="590"/>
                </a:cubicBezTo>
                <a:cubicBezTo>
                  <a:pt x="374" y="586"/>
                  <a:pt x="373" y="583"/>
                  <a:pt x="369" y="581"/>
                </a:cubicBezTo>
                <a:cubicBezTo>
                  <a:pt x="370" y="578"/>
                  <a:pt x="370" y="575"/>
                  <a:pt x="370" y="572"/>
                </a:cubicBezTo>
                <a:close/>
                <a:moveTo>
                  <a:pt x="444" y="615"/>
                </a:moveTo>
                <a:cubicBezTo>
                  <a:pt x="444" y="615"/>
                  <a:pt x="444" y="614"/>
                  <a:pt x="443" y="614"/>
                </a:cubicBezTo>
                <a:cubicBezTo>
                  <a:pt x="443" y="613"/>
                  <a:pt x="443" y="612"/>
                  <a:pt x="443" y="611"/>
                </a:cubicBezTo>
                <a:cubicBezTo>
                  <a:pt x="443" y="611"/>
                  <a:pt x="444" y="611"/>
                  <a:pt x="444" y="611"/>
                </a:cubicBezTo>
                <a:cubicBezTo>
                  <a:pt x="445" y="612"/>
                  <a:pt x="445" y="613"/>
                  <a:pt x="446" y="614"/>
                </a:cubicBezTo>
                <a:cubicBezTo>
                  <a:pt x="446" y="614"/>
                  <a:pt x="446" y="614"/>
                  <a:pt x="446" y="614"/>
                </a:cubicBezTo>
                <a:cubicBezTo>
                  <a:pt x="445" y="614"/>
                  <a:pt x="445" y="614"/>
                  <a:pt x="445" y="615"/>
                </a:cubicBezTo>
                <a:cubicBezTo>
                  <a:pt x="445" y="615"/>
                  <a:pt x="444" y="615"/>
                  <a:pt x="444" y="615"/>
                </a:cubicBezTo>
                <a:close/>
                <a:moveTo>
                  <a:pt x="443" y="595"/>
                </a:moveTo>
                <a:cubicBezTo>
                  <a:pt x="442" y="589"/>
                  <a:pt x="442" y="583"/>
                  <a:pt x="441" y="577"/>
                </a:cubicBezTo>
                <a:cubicBezTo>
                  <a:pt x="439" y="560"/>
                  <a:pt x="441" y="543"/>
                  <a:pt x="439" y="526"/>
                </a:cubicBezTo>
                <a:cubicBezTo>
                  <a:pt x="438" y="517"/>
                  <a:pt x="437" y="508"/>
                  <a:pt x="438" y="500"/>
                </a:cubicBezTo>
                <a:cubicBezTo>
                  <a:pt x="439" y="492"/>
                  <a:pt x="442" y="484"/>
                  <a:pt x="443" y="476"/>
                </a:cubicBezTo>
                <a:cubicBezTo>
                  <a:pt x="443" y="468"/>
                  <a:pt x="441" y="461"/>
                  <a:pt x="443" y="454"/>
                </a:cubicBezTo>
                <a:cubicBezTo>
                  <a:pt x="444" y="448"/>
                  <a:pt x="446" y="442"/>
                  <a:pt x="448" y="436"/>
                </a:cubicBezTo>
                <a:cubicBezTo>
                  <a:pt x="451" y="440"/>
                  <a:pt x="454" y="444"/>
                  <a:pt x="457" y="448"/>
                </a:cubicBezTo>
                <a:cubicBezTo>
                  <a:pt x="460" y="453"/>
                  <a:pt x="463" y="457"/>
                  <a:pt x="467" y="460"/>
                </a:cubicBezTo>
                <a:cubicBezTo>
                  <a:pt x="468" y="471"/>
                  <a:pt x="463" y="482"/>
                  <a:pt x="461" y="492"/>
                </a:cubicBezTo>
                <a:cubicBezTo>
                  <a:pt x="459" y="503"/>
                  <a:pt x="459" y="515"/>
                  <a:pt x="459" y="526"/>
                </a:cubicBezTo>
                <a:cubicBezTo>
                  <a:pt x="458" y="539"/>
                  <a:pt x="459" y="551"/>
                  <a:pt x="461" y="564"/>
                </a:cubicBezTo>
                <a:cubicBezTo>
                  <a:pt x="463" y="571"/>
                  <a:pt x="463" y="578"/>
                  <a:pt x="463" y="585"/>
                </a:cubicBezTo>
                <a:cubicBezTo>
                  <a:pt x="463" y="586"/>
                  <a:pt x="463" y="593"/>
                  <a:pt x="463" y="596"/>
                </a:cubicBezTo>
                <a:cubicBezTo>
                  <a:pt x="461" y="599"/>
                  <a:pt x="459" y="603"/>
                  <a:pt x="458" y="607"/>
                </a:cubicBezTo>
                <a:cubicBezTo>
                  <a:pt x="456" y="607"/>
                  <a:pt x="455" y="608"/>
                  <a:pt x="454" y="608"/>
                </a:cubicBezTo>
                <a:cubicBezTo>
                  <a:pt x="452" y="608"/>
                  <a:pt x="451" y="607"/>
                  <a:pt x="449" y="607"/>
                </a:cubicBezTo>
                <a:cubicBezTo>
                  <a:pt x="449" y="606"/>
                  <a:pt x="448" y="606"/>
                  <a:pt x="448" y="606"/>
                </a:cubicBezTo>
                <a:cubicBezTo>
                  <a:pt x="445" y="603"/>
                  <a:pt x="444" y="599"/>
                  <a:pt x="443" y="595"/>
                </a:cubicBezTo>
                <a:close/>
                <a:moveTo>
                  <a:pt x="908" y="527"/>
                </a:moveTo>
                <a:cubicBezTo>
                  <a:pt x="916" y="520"/>
                  <a:pt x="922" y="512"/>
                  <a:pt x="928" y="505"/>
                </a:cubicBezTo>
                <a:cubicBezTo>
                  <a:pt x="940" y="490"/>
                  <a:pt x="950" y="475"/>
                  <a:pt x="959" y="459"/>
                </a:cubicBezTo>
                <a:cubicBezTo>
                  <a:pt x="967" y="443"/>
                  <a:pt x="976" y="427"/>
                  <a:pt x="981" y="410"/>
                </a:cubicBezTo>
                <a:cubicBezTo>
                  <a:pt x="985" y="398"/>
                  <a:pt x="986" y="385"/>
                  <a:pt x="988" y="372"/>
                </a:cubicBezTo>
                <a:cubicBezTo>
                  <a:pt x="988" y="388"/>
                  <a:pt x="985" y="403"/>
                  <a:pt x="980" y="418"/>
                </a:cubicBezTo>
                <a:cubicBezTo>
                  <a:pt x="974" y="435"/>
                  <a:pt x="971" y="452"/>
                  <a:pt x="962" y="467"/>
                </a:cubicBezTo>
                <a:cubicBezTo>
                  <a:pt x="957" y="475"/>
                  <a:pt x="952" y="482"/>
                  <a:pt x="947" y="490"/>
                </a:cubicBezTo>
                <a:cubicBezTo>
                  <a:pt x="943" y="497"/>
                  <a:pt x="939" y="504"/>
                  <a:pt x="934" y="510"/>
                </a:cubicBezTo>
                <a:cubicBezTo>
                  <a:pt x="927" y="521"/>
                  <a:pt x="917" y="531"/>
                  <a:pt x="909" y="541"/>
                </a:cubicBezTo>
                <a:cubicBezTo>
                  <a:pt x="907" y="542"/>
                  <a:pt x="906" y="544"/>
                  <a:pt x="905" y="546"/>
                </a:cubicBezTo>
                <a:cubicBezTo>
                  <a:pt x="904" y="547"/>
                  <a:pt x="904" y="548"/>
                  <a:pt x="903" y="549"/>
                </a:cubicBezTo>
                <a:cubicBezTo>
                  <a:pt x="902" y="549"/>
                  <a:pt x="902" y="549"/>
                  <a:pt x="902" y="549"/>
                </a:cubicBezTo>
                <a:cubicBezTo>
                  <a:pt x="901" y="549"/>
                  <a:pt x="901" y="550"/>
                  <a:pt x="901" y="550"/>
                </a:cubicBezTo>
                <a:cubicBezTo>
                  <a:pt x="898" y="550"/>
                  <a:pt x="896" y="550"/>
                  <a:pt x="893" y="551"/>
                </a:cubicBezTo>
                <a:cubicBezTo>
                  <a:pt x="892" y="551"/>
                  <a:pt x="890" y="551"/>
                  <a:pt x="888" y="551"/>
                </a:cubicBezTo>
                <a:cubicBezTo>
                  <a:pt x="889" y="550"/>
                  <a:pt x="889" y="548"/>
                  <a:pt x="890" y="546"/>
                </a:cubicBezTo>
                <a:cubicBezTo>
                  <a:pt x="893" y="538"/>
                  <a:pt x="902" y="533"/>
                  <a:pt x="908" y="527"/>
                </a:cubicBezTo>
                <a:close/>
                <a:moveTo>
                  <a:pt x="988" y="406"/>
                </a:moveTo>
                <a:cubicBezTo>
                  <a:pt x="988" y="406"/>
                  <a:pt x="988" y="406"/>
                  <a:pt x="988" y="406"/>
                </a:cubicBezTo>
                <a:cubicBezTo>
                  <a:pt x="988" y="406"/>
                  <a:pt x="988" y="406"/>
                  <a:pt x="989" y="406"/>
                </a:cubicBezTo>
                <a:cubicBezTo>
                  <a:pt x="988" y="407"/>
                  <a:pt x="987" y="408"/>
                  <a:pt x="987" y="409"/>
                </a:cubicBezTo>
                <a:cubicBezTo>
                  <a:pt x="987" y="408"/>
                  <a:pt x="987" y="407"/>
                  <a:pt x="987" y="407"/>
                </a:cubicBezTo>
                <a:cubicBezTo>
                  <a:pt x="988" y="406"/>
                  <a:pt x="988" y="406"/>
                  <a:pt x="988" y="406"/>
                </a:cubicBezTo>
                <a:close/>
                <a:moveTo>
                  <a:pt x="949" y="508"/>
                </a:moveTo>
                <a:cubicBezTo>
                  <a:pt x="952" y="506"/>
                  <a:pt x="954" y="504"/>
                  <a:pt x="956" y="502"/>
                </a:cubicBezTo>
                <a:cubicBezTo>
                  <a:pt x="954" y="505"/>
                  <a:pt x="952" y="506"/>
                  <a:pt x="949" y="508"/>
                </a:cubicBezTo>
                <a:close/>
                <a:moveTo>
                  <a:pt x="986" y="292"/>
                </a:moveTo>
                <a:cubicBezTo>
                  <a:pt x="990" y="292"/>
                  <a:pt x="993" y="291"/>
                  <a:pt x="997" y="291"/>
                </a:cubicBezTo>
                <a:cubicBezTo>
                  <a:pt x="1007" y="292"/>
                  <a:pt x="1018" y="293"/>
                  <a:pt x="1026" y="299"/>
                </a:cubicBezTo>
                <a:cubicBezTo>
                  <a:pt x="1041" y="309"/>
                  <a:pt x="1048" y="326"/>
                  <a:pt x="1046" y="344"/>
                </a:cubicBezTo>
                <a:cubicBezTo>
                  <a:pt x="1044" y="355"/>
                  <a:pt x="1040" y="365"/>
                  <a:pt x="1033" y="373"/>
                </a:cubicBezTo>
                <a:cubicBezTo>
                  <a:pt x="1027" y="379"/>
                  <a:pt x="1020" y="384"/>
                  <a:pt x="1013" y="390"/>
                </a:cubicBezTo>
                <a:cubicBezTo>
                  <a:pt x="1012" y="390"/>
                  <a:pt x="1012" y="391"/>
                  <a:pt x="1012" y="391"/>
                </a:cubicBezTo>
                <a:cubicBezTo>
                  <a:pt x="1016" y="387"/>
                  <a:pt x="1019" y="383"/>
                  <a:pt x="1023" y="379"/>
                </a:cubicBezTo>
                <a:cubicBezTo>
                  <a:pt x="1023" y="378"/>
                  <a:pt x="1023" y="377"/>
                  <a:pt x="1022" y="378"/>
                </a:cubicBezTo>
                <a:cubicBezTo>
                  <a:pt x="1016" y="382"/>
                  <a:pt x="1013" y="387"/>
                  <a:pt x="1008" y="392"/>
                </a:cubicBezTo>
                <a:cubicBezTo>
                  <a:pt x="1004" y="397"/>
                  <a:pt x="998" y="401"/>
                  <a:pt x="994" y="407"/>
                </a:cubicBezTo>
                <a:cubicBezTo>
                  <a:pt x="990" y="411"/>
                  <a:pt x="985" y="418"/>
                  <a:pt x="983" y="424"/>
                </a:cubicBezTo>
                <a:cubicBezTo>
                  <a:pt x="985" y="416"/>
                  <a:pt x="989" y="410"/>
                  <a:pt x="994" y="403"/>
                </a:cubicBezTo>
                <a:cubicBezTo>
                  <a:pt x="998" y="397"/>
                  <a:pt x="1002" y="393"/>
                  <a:pt x="1007" y="388"/>
                </a:cubicBezTo>
                <a:cubicBezTo>
                  <a:pt x="1010" y="385"/>
                  <a:pt x="1014" y="382"/>
                  <a:pt x="1016" y="377"/>
                </a:cubicBezTo>
                <a:cubicBezTo>
                  <a:pt x="1016" y="377"/>
                  <a:pt x="1016" y="377"/>
                  <a:pt x="1015" y="377"/>
                </a:cubicBezTo>
                <a:cubicBezTo>
                  <a:pt x="1007" y="385"/>
                  <a:pt x="999" y="391"/>
                  <a:pt x="992" y="400"/>
                </a:cubicBezTo>
                <a:cubicBezTo>
                  <a:pt x="994" y="396"/>
                  <a:pt x="996" y="393"/>
                  <a:pt x="999" y="389"/>
                </a:cubicBezTo>
                <a:cubicBezTo>
                  <a:pt x="1003" y="386"/>
                  <a:pt x="1006" y="382"/>
                  <a:pt x="1010" y="378"/>
                </a:cubicBezTo>
                <a:cubicBezTo>
                  <a:pt x="1011" y="378"/>
                  <a:pt x="1010" y="377"/>
                  <a:pt x="1009" y="377"/>
                </a:cubicBezTo>
                <a:cubicBezTo>
                  <a:pt x="1005" y="381"/>
                  <a:pt x="1000" y="385"/>
                  <a:pt x="995" y="390"/>
                </a:cubicBezTo>
                <a:cubicBezTo>
                  <a:pt x="999" y="385"/>
                  <a:pt x="1002" y="381"/>
                  <a:pt x="1005" y="376"/>
                </a:cubicBezTo>
                <a:cubicBezTo>
                  <a:pt x="1009" y="372"/>
                  <a:pt x="1013" y="368"/>
                  <a:pt x="1017" y="364"/>
                </a:cubicBezTo>
                <a:cubicBezTo>
                  <a:pt x="1022" y="359"/>
                  <a:pt x="1030" y="350"/>
                  <a:pt x="1027" y="342"/>
                </a:cubicBezTo>
                <a:cubicBezTo>
                  <a:pt x="1027" y="342"/>
                  <a:pt x="1027" y="342"/>
                  <a:pt x="1027" y="342"/>
                </a:cubicBezTo>
                <a:cubicBezTo>
                  <a:pt x="1020" y="363"/>
                  <a:pt x="998" y="373"/>
                  <a:pt x="990" y="393"/>
                </a:cubicBezTo>
                <a:cubicBezTo>
                  <a:pt x="991" y="388"/>
                  <a:pt x="992" y="383"/>
                  <a:pt x="992" y="378"/>
                </a:cubicBezTo>
                <a:cubicBezTo>
                  <a:pt x="993" y="373"/>
                  <a:pt x="997" y="368"/>
                  <a:pt x="1000" y="365"/>
                </a:cubicBezTo>
                <a:cubicBezTo>
                  <a:pt x="1005" y="359"/>
                  <a:pt x="1012" y="354"/>
                  <a:pt x="1017" y="348"/>
                </a:cubicBezTo>
                <a:cubicBezTo>
                  <a:pt x="1017" y="348"/>
                  <a:pt x="1017" y="347"/>
                  <a:pt x="1017" y="347"/>
                </a:cubicBezTo>
                <a:cubicBezTo>
                  <a:pt x="1009" y="353"/>
                  <a:pt x="1003" y="360"/>
                  <a:pt x="997" y="367"/>
                </a:cubicBezTo>
                <a:cubicBezTo>
                  <a:pt x="996" y="369"/>
                  <a:pt x="994" y="371"/>
                  <a:pt x="992" y="374"/>
                </a:cubicBezTo>
                <a:cubicBezTo>
                  <a:pt x="992" y="372"/>
                  <a:pt x="992" y="371"/>
                  <a:pt x="992" y="369"/>
                </a:cubicBezTo>
                <a:cubicBezTo>
                  <a:pt x="994" y="366"/>
                  <a:pt x="995" y="363"/>
                  <a:pt x="996" y="359"/>
                </a:cubicBezTo>
                <a:cubicBezTo>
                  <a:pt x="998" y="356"/>
                  <a:pt x="1000" y="353"/>
                  <a:pt x="1002" y="349"/>
                </a:cubicBezTo>
                <a:cubicBezTo>
                  <a:pt x="1009" y="341"/>
                  <a:pt x="1017" y="334"/>
                  <a:pt x="1027" y="330"/>
                </a:cubicBezTo>
                <a:cubicBezTo>
                  <a:pt x="1027" y="330"/>
                  <a:pt x="1027" y="330"/>
                  <a:pt x="1026" y="330"/>
                </a:cubicBezTo>
                <a:cubicBezTo>
                  <a:pt x="1020" y="331"/>
                  <a:pt x="1015" y="335"/>
                  <a:pt x="1011" y="339"/>
                </a:cubicBezTo>
                <a:cubicBezTo>
                  <a:pt x="1007" y="342"/>
                  <a:pt x="1003" y="346"/>
                  <a:pt x="1000" y="350"/>
                </a:cubicBezTo>
                <a:cubicBezTo>
                  <a:pt x="999" y="352"/>
                  <a:pt x="995" y="357"/>
                  <a:pt x="992" y="362"/>
                </a:cubicBezTo>
                <a:cubicBezTo>
                  <a:pt x="992" y="361"/>
                  <a:pt x="992" y="360"/>
                  <a:pt x="992" y="359"/>
                </a:cubicBezTo>
                <a:cubicBezTo>
                  <a:pt x="992" y="359"/>
                  <a:pt x="992" y="359"/>
                  <a:pt x="992" y="359"/>
                </a:cubicBezTo>
                <a:cubicBezTo>
                  <a:pt x="993" y="356"/>
                  <a:pt x="993" y="354"/>
                  <a:pt x="994" y="351"/>
                </a:cubicBezTo>
                <a:cubicBezTo>
                  <a:pt x="996" y="349"/>
                  <a:pt x="997" y="346"/>
                  <a:pt x="998" y="344"/>
                </a:cubicBezTo>
                <a:cubicBezTo>
                  <a:pt x="999" y="343"/>
                  <a:pt x="997" y="342"/>
                  <a:pt x="997" y="343"/>
                </a:cubicBezTo>
                <a:cubicBezTo>
                  <a:pt x="995" y="346"/>
                  <a:pt x="993" y="349"/>
                  <a:pt x="992" y="352"/>
                </a:cubicBezTo>
                <a:cubicBezTo>
                  <a:pt x="992" y="352"/>
                  <a:pt x="992" y="353"/>
                  <a:pt x="991" y="353"/>
                </a:cubicBezTo>
                <a:cubicBezTo>
                  <a:pt x="991" y="352"/>
                  <a:pt x="991" y="351"/>
                  <a:pt x="991" y="350"/>
                </a:cubicBezTo>
                <a:cubicBezTo>
                  <a:pt x="991" y="346"/>
                  <a:pt x="990" y="342"/>
                  <a:pt x="990" y="338"/>
                </a:cubicBezTo>
                <a:cubicBezTo>
                  <a:pt x="990" y="336"/>
                  <a:pt x="991" y="333"/>
                  <a:pt x="992" y="331"/>
                </a:cubicBezTo>
                <a:cubicBezTo>
                  <a:pt x="993" y="328"/>
                  <a:pt x="995" y="326"/>
                  <a:pt x="996" y="324"/>
                </a:cubicBezTo>
                <a:cubicBezTo>
                  <a:pt x="997" y="323"/>
                  <a:pt x="996" y="322"/>
                  <a:pt x="995" y="323"/>
                </a:cubicBezTo>
                <a:cubicBezTo>
                  <a:pt x="993" y="326"/>
                  <a:pt x="990" y="330"/>
                  <a:pt x="989" y="334"/>
                </a:cubicBezTo>
                <a:cubicBezTo>
                  <a:pt x="987" y="325"/>
                  <a:pt x="985" y="316"/>
                  <a:pt x="982" y="308"/>
                </a:cubicBezTo>
                <a:cubicBezTo>
                  <a:pt x="980" y="303"/>
                  <a:pt x="979" y="298"/>
                  <a:pt x="977" y="294"/>
                </a:cubicBezTo>
                <a:cubicBezTo>
                  <a:pt x="979" y="293"/>
                  <a:pt x="984" y="292"/>
                  <a:pt x="986" y="292"/>
                </a:cubicBezTo>
                <a:close/>
                <a:moveTo>
                  <a:pt x="992" y="256"/>
                </a:moveTo>
                <a:cubicBezTo>
                  <a:pt x="992" y="256"/>
                  <a:pt x="992" y="256"/>
                  <a:pt x="992" y="256"/>
                </a:cubicBezTo>
                <a:cubicBezTo>
                  <a:pt x="995" y="257"/>
                  <a:pt x="998" y="256"/>
                  <a:pt x="1000" y="255"/>
                </a:cubicBezTo>
                <a:cubicBezTo>
                  <a:pt x="1003" y="263"/>
                  <a:pt x="996" y="271"/>
                  <a:pt x="992" y="276"/>
                </a:cubicBezTo>
                <a:cubicBezTo>
                  <a:pt x="987" y="281"/>
                  <a:pt x="980" y="285"/>
                  <a:pt x="975" y="290"/>
                </a:cubicBezTo>
                <a:cubicBezTo>
                  <a:pt x="973" y="285"/>
                  <a:pt x="971" y="280"/>
                  <a:pt x="968" y="276"/>
                </a:cubicBezTo>
                <a:cubicBezTo>
                  <a:pt x="972" y="275"/>
                  <a:pt x="977" y="271"/>
                  <a:pt x="980" y="269"/>
                </a:cubicBezTo>
                <a:cubicBezTo>
                  <a:pt x="985" y="266"/>
                  <a:pt x="989" y="261"/>
                  <a:pt x="992" y="256"/>
                </a:cubicBezTo>
                <a:close/>
                <a:moveTo>
                  <a:pt x="880" y="242"/>
                </a:moveTo>
                <a:cubicBezTo>
                  <a:pt x="885" y="240"/>
                  <a:pt x="891" y="239"/>
                  <a:pt x="896" y="239"/>
                </a:cubicBezTo>
                <a:cubicBezTo>
                  <a:pt x="908" y="237"/>
                  <a:pt x="920" y="234"/>
                  <a:pt x="932" y="231"/>
                </a:cubicBezTo>
                <a:cubicBezTo>
                  <a:pt x="939" y="230"/>
                  <a:pt x="946" y="229"/>
                  <a:pt x="953" y="228"/>
                </a:cubicBezTo>
                <a:cubicBezTo>
                  <a:pt x="957" y="228"/>
                  <a:pt x="965" y="226"/>
                  <a:pt x="969" y="229"/>
                </a:cubicBezTo>
                <a:cubicBezTo>
                  <a:pt x="973" y="231"/>
                  <a:pt x="975" y="235"/>
                  <a:pt x="980" y="236"/>
                </a:cubicBezTo>
                <a:cubicBezTo>
                  <a:pt x="988" y="237"/>
                  <a:pt x="992" y="241"/>
                  <a:pt x="991" y="249"/>
                </a:cubicBezTo>
                <a:cubicBezTo>
                  <a:pt x="991" y="250"/>
                  <a:pt x="991" y="250"/>
                  <a:pt x="991" y="250"/>
                </a:cubicBezTo>
                <a:cubicBezTo>
                  <a:pt x="988" y="257"/>
                  <a:pt x="984" y="263"/>
                  <a:pt x="977" y="267"/>
                </a:cubicBezTo>
                <a:cubicBezTo>
                  <a:pt x="974" y="269"/>
                  <a:pt x="969" y="270"/>
                  <a:pt x="966" y="273"/>
                </a:cubicBezTo>
                <a:cubicBezTo>
                  <a:pt x="965" y="271"/>
                  <a:pt x="964" y="270"/>
                  <a:pt x="963" y="268"/>
                </a:cubicBezTo>
                <a:cubicBezTo>
                  <a:pt x="954" y="257"/>
                  <a:pt x="943" y="250"/>
                  <a:pt x="929" y="249"/>
                </a:cubicBezTo>
                <a:cubicBezTo>
                  <a:pt x="915" y="248"/>
                  <a:pt x="902" y="250"/>
                  <a:pt x="891" y="258"/>
                </a:cubicBezTo>
                <a:cubicBezTo>
                  <a:pt x="888" y="260"/>
                  <a:pt x="885" y="263"/>
                  <a:pt x="882" y="264"/>
                </a:cubicBezTo>
                <a:cubicBezTo>
                  <a:pt x="879" y="266"/>
                  <a:pt x="877" y="267"/>
                  <a:pt x="874" y="268"/>
                </a:cubicBezTo>
                <a:cubicBezTo>
                  <a:pt x="871" y="269"/>
                  <a:pt x="869" y="271"/>
                  <a:pt x="867" y="273"/>
                </a:cubicBezTo>
                <a:cubicBezTo>
                  <a:pt x="867" y="272"/>
                  <a:pt x="867" y="272"/>
                  <a:pt x="866" y="272"/>
                </a:cubicBezTo>
                <a:cubicBezTo>
                  <a:pt x="866" y="272"/>
                  <a:pt x="865" y="272"/>
                  <a:pt x="864" y="272"/>
                </a:cubicBezTo>
                <a:cubicBezTo>
                  <a:pt x="864" y="272"/>
                  <a:pt x="863" y="272"/>
                  <a:pt x="863" y="272"/>
                </a:cubicBezTo>
                <a:cubicBezTo>
                  <a:pt x="861" y="272"/>
                  <a:pt x="860" y="273"/>
                  <a:pt x="859" y="274"/>
                </a:cubicBezTo>
                <a:cubicBezTo>
                  <a:pt x="859" y="274"/>
                  <a:pt x="859" y="275"/>
                  <a:pt x="860" y="275"/>
                </a:cubicBezTo>
                <a:cubicBezTo>
                  <a:pt x="861" y="275"/>
                  <a:pt x="862" y="274"/>
                  <a:pt x="863" y="274"/>
                </a:cubicBezTo>
                <a:cubicBezTo>
                  <a:pt x="863" y="274"/>
                  <a:pt x="864" y="274"/>
                  <a:pt x="865" y="273"/>
                </a:cubicBezTo>
                <a:cubicBezTo>
                  <a:pt x="865" y="273"/>
                  <a:pt x="866" y="273"/>
                  <a:pt x="866" y="273"/>
                </a:cubicBezTo>
                <a:cubicBezTo>
                  <a:pt x="864" y="275"/>
                  <a:pt x="861" y="278"/>
                  <a:pt x="859" y="281"/>
                </a:cubicBezTo>
                <a:cubicBezTo>
                  <a:pt x="856" y="284"/>
                  <a:pt x="853" y="288"/>
                  <a:pt x="849" y="291"/>
                </a:cubicBezTo>
                <a:cubicBezTo>
                  <a:pt x="847" y="294"/>
                  <a:pt x="845" y="297"/>
                  <a:pt x="842" y="300"/>
                </a:cubicBezTo>
                <a:cubicBezTo>
                  <a:pt x="840" y="302"/>
                  <a:pt x="836" y="304"/>
                  <a:pt x="836" y="307"/>
                </a:cubicBezTo>
                <a:cubicBezTo>
                  <a:pt x="835" y="307"/>
                  <a:pt x="835" y="307"/>
                  <a:pt x="835" y="307"/>
                </a:cubicBezTo>
                <a:cubicBezTo>
                  <a:pt x="833" y="304"/>
                  <a:pt x="830" y="302"/>
                  <a:pt x="827" y="299"/>
                </a:cubicBezTo>
                <a:cubicBezTo>
                  <a:pt x="830" y="298"/>
                  <a:pt x="833" y="296"/>
                  <a:pt x="836" y="295"/>
                </a:cubicBezTo>
                <a:cubicBezTo>
                  <a:pt x="839" y="294"/>
                  <a:pt x="843" y="294"/>
                  <a:pt x="846" y="292"/>
                </a:cubicBezTo>
                <a:cubicBezTo>
                  <a:pt x="846" y="292"/>
                  <a:pt x="846" y="292"/>
                  <a:pt x="846" y="292"/>
                </a:cubicBezTo>
                <a:cubicBezTo>
                  <a:pt x="843" y="291"/>
                  <a:pt x="839" y="292"/>
                  <a:pt x="836" y="293"/>
                </a:cubicBezTo>
                <a:cubicBezTo>
                  <a:pt x="832" y="294"/>
                  <a:pt x="828" y="295"/>
                  <a:pt x="825" y="297"/>
                </a:cubicBezTo>
                <a:cubicBezTo>
                  <a:pt x="825" y="297"/>
                  <a:pt x="825" y="297"/>
                  <a:pt x="824" y="298"/>
                </a:cubicBezTo>
                <a:cubicBezTo>
                  <a:pt x="824" y="297"/>
                  <a:pt x="823" y="297"/>
                  <a:pt x="823" y="296"/>
                </a:cubicBezTo>
                <a:cubicBezTo>
                  <a:pt x="824" y="295"/>
                  <a:pt x="826" y="294"/>
                  <a:pt x="827" y="294"/>
                </a:cubicBezTo>
                <a:cubicBezTo>
                  <a:pt x="829" y="293"/>
                  <a:pt x="832" y="292"/>
                  <a:pt x="834" y="291"/>
                </a:cubicBezTo>
                <a:cubicBezTo>
                  <a:pt x="839" y="290"/>
                  <a:pt x="843" y="286"/>
                  <a:pt x="848" y="285"/>
                </a:cubicBezTo>
                <a:cubicBezTo>
                  <a:pt x="849" y="285"/>
                  <a:pt x="849" y="285"/>
                  <a:pt x="848" y="285"/>
                </a:cubicBezTo>
                <a:cubicBezTo>
                  <a:pt x="843" y="283"/>
                  <a:pt x="837" y="287"/>
                  <a:pt x="832" y="290"/>
                </a:cubicBezTo>
                <a:cubicBezTo>
                  <a:pt x="830" y="291"/>
                  <a:pt x="823" y="292"/>
                  <a:pt x="820" y="294"/>
                </a:cubicBezTo>
                <a:cubicBezTo>
                  <a:pt x="819" y="294"/>
                  <a:pt x="818" y="293"/>
                  <a:pt x="818" y="293"/>
                </a:cubicBezTo>
                <a:cubicBezTo>
                  <a:pt x="820" y="292"/>
                  <a:pt x="823" y="290"/>
                  <a:pt x="825" y="289"/>
                </a:cubicBezTo>
                <a:cubicBezTo>
                  <a:pt x="832" y="286"/>
                  <a:pt x="838" y="284"/>
                  <a:pt x="845" y="282"/>
                </a:cubicBezTo>
                <a:cubicBezTo>
                  <a:pt x="847" y="281"/>
                  <a:pt x="846" y="278"/>
                  <a:pt x="845" y="279"/>
                </a:cubicBezTo>
                <a:cubicBezTo>
                  <a:pt x="837" y="282"/>
                  <a:pt x="830" y="285"/>
                  <a:pt x="822" y="287"/>
                </a:cubicBezTo>
                <a:cubicBezTo>
                  <a:pt x="820" y="288"/>
                  <a:pt x="816" y="289"/>
                  <a:pt x="815" y="291"/>
                </a:cubicBezTo>
                <a:cubicBezTo>
                  <a:pt x="814" y="291"/>
                  <a:pt x="814" y="290"/>
                  <a:pt x="813" y="290"/>
                </a:cubicBezTo>
                <a:cubicBezTo>
                  <a:pt x="813" y="290"/>
                  <a:pt x="813" y="290"/>
                  <a:pt x="813" y="290"/>
                </a:cubicBezTo>
                <a:cubicBezTo>
                  <a:pt x="813" y="289"/>
                  <a:pt x="813" y="289"/>
                  <a:pt x="813" y="289"/>
                </a:cubicBezTo>
                <a:cubicBezTo>
                  <a:pt x="815" y="287"/>
                  <a:pt x="817" y="285"/>
                  <a:pt x="819" y="284"/>
                </a:cubicBezTo>
                <a:cubicBezTo>
                  <a:pt x="822" y="282"/>
                  <a:pt x="825" y="281"/>
                  <a:pt x="828" y="279"/>
                </a:cubicBezTo>
                <a:cubicBezTo>
                  <a:pt x="836" y="276"/>
                  <a:pt x="843" y="273"/>
                  <a:pt x="850" y="270"/>
                </a:cubicBezTo>
                <a:cubicBezTo>
                  <a:pt x="864" y="265"/>
                  <a:pt x="877" y="262"/>
                  <a:pt x="891" y="257"/>
                </a:cubicBezTo>
                <a:cubicBezTo>
                  <a:pt x="891" y="257"/>
                  <a:pt x="891" y="256"/>
                  <a:pt x="891" y="256"/>
                </a:cubicBezTo>
                <a:cubicBezTo>
                  <a:pt x="876" y="258"/>
                  <a:pt x="862" y="264"/>
                  <a:pt x="848" y="269"/>
                </a:cubicBezTo>
                <a:cubicBezTo>
                  <a:pt x="842" y="271"/>
                  <a:pt x="835" y="274"/>
                  <a:pt x="829" y="276"/>
                </a:cubicBezTo>
                <a:cubicBezTo>
                  <a:pt x="834" y="273"/>
                  <a:pt x="838" y="270"/>
                  <a:pt x="843" y="267"/>
                </a:cubicBezTo>
                <a:cubicBezTo>
                  <a:pt x="846" y="266"/>
                  <a:pt x="849" y="264"/>
                  <a:pt x="853" y="263"/>
                </a:cubicBezTo>
                <a:cubicBezTo>
                  <a:pt x="858" y="261"/>
                  <a:pt x="863" y="260"/>
                  <a:pt x="869" y="257"/>
                </a:cubicBezTo>
                <a:cubicBezTo>
                  <a:pt x="878" y="253"/>
                  <a:pt x="888" y="248"/>
                  <a:pt x="899" y="247"/>
                </a:cubicBezTo>
                <a:cubicBezTo>
                  <a:pt x="899" y="246"/>
                  <a:pt x="899" y="245"/>
                  <a:pt x="898" y="245"/>
                </a:cubicBezTo>
                <a:cubicBezTo>
                  <a:pt x="888" y="246"/>
                  <a:pt x="879" y="251"/>
                  <a:pt x="869" y="255"/>
                </a:cubicBezTo>
                <a:cubicBezTo>
                  <a:pt x="863" y="257"/>
                  <a:pt x="856" y="259"/>
                  <a:pt x="850" y="262"/>
                </a:cubicBezTo>
                <a:cubicBezTo>
                  <a:pt x="850" y="262"/>
                  <a:pt x="849" y="262"/>
                  <a:pt x="849" y="262"/>
                </a:cubicBezTo>
                <a:cubicBezTo>
                  <a:pt x="855" y="257"/>
                  <a:pt x="861" y="252"/>
                  <a:pt x="866" y="246"/>
                </a:cubicBezTo>
                <a:cubicBezTo>
                  <a:pt x="871" y="246"/>
                  <a:pt x="875" y="244"/>
                  <a:pt x="880" y="242"/>
                </a:cubicBezTo>
                <a:close/>
                <a:moveTo>
                  <a:pt x="743" y="122"/>
                </a:moveTo>
                <a:cubicBezTo>
                  <a:pt x="745" y="119"/>
                  <a:pt x="747" y="116"/>
                  <a:pt x="750" y="113"/>
                </a:cubicBezTo>
                <a:cubicBezTo>
                  <a:pt x="760" y="102"/>
                  <a:pt x="773" y="91"/>
                  <a:pt x="788" y="86"/>
                </a:cubicBezTo>
                <a:cubicBezTo>
                  <a:pt x="793" y="84"/>
                  <a:pt x="797" y="82"/>
                  <a:pt x="802" y="83"/>
                </a:cubicBezTo>
                <a:cubicBezTo>
                  <a:pt x="806" y="83"/>
                  <a:pt x="809" y="85"/>
                  <a:pt x="812" y="85"/>
                </a:cubicBezTo>
                <a:cubicBezTo>
                  <a:pt x="816" y="86"/>
                  <a:pt x="819" y="85"/>
                  <a:pt x="822" y="83"/>
                </a:cubicBezTo>
                <a:cubicBezTo>
                  <a:pt x="828" y="78"/>
                  <a:pt x="835" y="71"/>
                  <a:pt x="843" y="74"/>
                </a:cubicBezTo>
                <a:cubicBezTo>
                  <a:pt x="850" y="77"/>
                  <a:pt x="858" y="79"/>
                  <a:pt x="864" y="83"/>
                </a:cubicBezTo>
                <a:cubicBezTo>
                  <a:pt x="879" y="92"/>
                  <a:pt x="886" y="110"/>
                  <a:pt x="891" y="126"/>
                </a:cubicBezTo>
                <a:cubicBezTo>
                  <a:pt x="895" y="141"/>
                  <a:pt x="898" y="156"/>
                  <a:pt x="897" y="171"/>
                </a:cubicBezTo>
                <a:cubicBezTo>
                  <a:pt x="895" y="188"/>
                  <a:pt x="890" y="204"/>
                  <a:pt x="881" y="218"/>
                </a:cubicBezTo>
                <a:cubicBezTo>
                  <a:pt x="876" y="227"/>
                  <a:pt x="870" y="235"/>
                  <a:pt x="864" y="243"/>
                </a:cubicBezTo>
                <a:cubicBezTo>
                  <a:pt x="863" y="244"/>
                  <a:pt x="862" y="245"/>
                  <a:pt x="860" y="246"/>
                </a:cubicBezTo>
                <a:cubicBezTo>
                  <a:pt x="854" y="251"/>
                  <a:pt x="848" y="256"/>
                  <a:pt x="842" y="260"/>
                </a:cubicBezTo>
                <a:cubicBezTo>
                  <a:pt x="835" y="265"/>
                  <a:pt x="828" y="269"/>
                  <a:pt x="821" y="274"/>
                </a:cubicBezTo>
                <a:cubicBezTo>
                  <a:pt x="816" y="278"/>
                  <a:pt x="811" y="282"/>
                  <a:pt x="805" y="286"/>
                </a:cubicBezTo>
                <a:cubicBezTo>
                  <a:pt x="803" y="285"/>
                  <a:pt x="801" y="284"/>
                  <a:pt x="798" y="283"/>
                </a:cubicBezTo>
                <a:cubicBezTo>
                  <a:pt x="801" y="282"/>
                  <a:pt x="803" y="280"/>
                  <a:pt x="805" y="278"/>
                </a:cubicBezTo>
                <a:cubicBezTo>
                  <a:pt x="811" y="274"/>
                  <a:pt x="817" y="270"/>
                  <a:pt x="823" y="265"/>
                </a:cubicBezTo>
                <a:cubicBezTo>
                  <a:pt x="836" y="255"/>
                  <a:pt x="848" y="243"/>
                  <a:pt x="859" y="230"/>
                </a:cubicBezTo>
                <a:cubicBezTo>
                  <a:pt x="868" y="218"/>
                  <a:pt x="878" y="205"/>
                  <a:pt x="884" y="191"/>
                </a:cubicBezTo>
                <a:cubicBezTo>
                  <a:pt x="888" y="182"/>
                  <a:pt x="893" y="171"/>
                  <a:pt x="890" y="161"/>
                </a:cubicBezTo>
                <a:cubicBezTo>
                  <a:pt x="890" y="161"/>
                  <a:pt x="889" y="161"/>
                  <a:pt x="889" y="162"/>
                </a:cubicBezTo>
                <a:cubicBezTo>
                  <a:pt x="890" y="172"/>
                  <a:pt x="885" y="183"/>
                  <a:pt x="880" y="193"/>
                </a:cubicBezTo>
                <a:cubicBezTo>
                  <a:pt x="873" y="206"/>
                  <a:pt x="864" y="220"/>
                  <a:pt x="854" y="231"/>
                </a:cubicBezTo>
                <a:cubicBezTo>
                  <a:pt x="844" y="242"/>
                  <a:pt x="833" y="252"/>
                  <a:pt x="822" y="261"/>
                </a:cubicBezTo>
                <a:cubicBezTo>
                  <a:pt x="816" y="265"/>
                  <a:pt x="810" y="270"/>
                  <a:pt x="804" y="274"/>
                </a:cubicBezTo>
                <a:cubicBezTo>
                  <a:pt x="801" y="277"/>
                  <a:pt x="798" y="280"/>
                  <a:pt x="793" y="282"/>
                </a:cubicBezTo>
                <a:cubicBezTo>
                  <a:pt x="789" y="280"/>
                  <a:pt x="784" y="279"/>
                  <a:pt x="779" y="278"/>
                </a:cubicBezTo>
                <a:cubicBezTo>
                  <a:pt x="773" y="276"/>
                  <a:pt x="767" y="275"/>
                  <a:pt x="761" y="274"/>
                </a:cubicBezTo>
                <a:cubicBezTo>
                  <a:pt x="763" y="273"/>
                  <a:pt x="765" y="272"/>
                  <a:pt x="766" y="271"/>
                </a:cubicBezTo>
                <a:cubicBezTo>
                  <a:pt x="772" y="267"/>
                  <a:pt x="777" y="262"/>
                  <a:pt x="781" y="257"/>
                </a:cubicBezTo>
                <a:cubicBezTo>
                  <a:pt x="786" y="252"/>
                  <a:pt x="790" y="247"/>
                  <a:pt x="794" y="241"/>
                </a:cubicBezTo>
                <a:cubicBezTo>
                  <a:pt x="797" y="236"/>
                  <a:pt x="801" y="231"/>
                  <a:pt x="804" y="226"/>
                </a:cubicBezTo>
                <a:cubicBezTo>
                  <a:pt x="807" y="221"/>
                  <a:pt x="810" y="215"/>
                  <a:pt x="814" y="210"/>
                </a:cubicBezTo>
                <a:cubicBezTo>
                  <a:pt x="814" y="209"/>
                  <a:pt x="813" y="208"/>
                  <a:pt x="812" y="209"/>
                </a:cubicBezTo>
                <a:cubicBezTo>
                  <a:pt x="809" y="213"/>
                  <a:pt x="805" y="218"/>
                  <a:pt x="802" y="222"/>
                </a:cubicBezTo>
                <a:cubicBezTo>
                  <a:pt x="800" y="227"/>
                  <a:pt x="798" y="232"/>
                  <a:pt x="795" y="237"/>
                </a:cubicBezTo>
                <a:cubicBezTo>
                  <a:pt x="791" y="243"/>
                  <a:pt x="786" y="248"/>
                  <a:pt x="782" y="253"/>
                </a:cubicBezTo>
                <a:cubicBezTo>
                  <a:pt x="776" y="259"/>
                  <a:pt x="767" y="270"/>
                  <a:pt x="758" y="272"/>
                </a:cubicBezTo>
                <a:cubicBezTo>
                  <a:pt x="760" y="270"/>
                  <a:pt x="761" y="268"/>
                  <a:pt x="762" y="267"/>
                </a:cubicBezTo>
                <a:cubicBezTo>
                  <a:pt x="767" y="261"/>
                  <a:pt x="771" y="255"/>
                  <a:pt x="774" y="249"/>
                </a:cubicBezTo>
                <a:cubicBezTo>
                  <a:pt x="777" y="245"/>
                  <a:pt x="779" y="242"/>
                  <a:pt x="782" y="238"/>
                </a:cubicBezTo>
                <a:cubicBezTo>
                  <a:pt x="785" y="235"/>
                  <a:pt x="787" y="231"/>
                  <a:pt x="789" y="227"/>
                </a:cubicBezTo>
                <a:cubicBezTo>
                  <a:pt x="790" y="224"/>
                  <a:pt x="793" y="221"/>
                  <a:pt x="794" y="217"/>
                </a:cubicBezTo>
                <a:cubicBezTo>
                  <a:pt x="797" y="213"/>
                  <a:pt x="798" y="209"/>
                  <a:pt x="801" y="205"/>
                </a:cubicBezTo>
                <a:cubicBezTo>
                  <a:pt x="802" y="205"/>
                  <a:pt x="801" y="204"/>
                  <a:pt x="800" y="204"/>
                </a:cubicBezTo>
                <a:cubicBezTo>
                  <a:pt x="798" y="207"/>
                  <a:pt x="796" y="209"/>
                  <a:pt x="795" y="212"/>
                </a:cubicBezTo>
                <a:cubicBezTo>
                  <a:pt x="793" y="216"/>
                  <a:pt x="792" y="220"/>
                  <a:pt x="790" y="223"/>
                </a:cubicBezTo>
                <a:cubicBezTo>
                  <a:pt x="787" y="227"/>
                  <a:pt x="785" y="230"/>
                  <a:pt x="783" y="233"/>
                </a:cubicBezTo>
                <a:cubicBezTo>
                  <a:pt x="781" y="236"/>
                  <a:pt x="779" y="239"/>
                  <a:pt x="778" y="242"/>
                </a:cubicBezTo>
                <a:cubicBezTo>
                  <a:pt x="773" y="248"/>
                  <a:pt x="768" y="254"/>
                  <a:pt x="763" y="260"/>
                </a:cubicBezTo>
                <a:cubicBezTo>
                  <a:pt x="760" y="264"/>
                  <a:pt x="758" y="267"/>
                  <a:pt x="754" y="270"/>
                </a:cubicBezTo>
                <a:cubicBezTo>
                  <a:pt x="753" y="270"/>
                  <a:pt x="753" y="270"/>
                  <a:pt x="753" y="270"/>
                </a:cubicBezTo>
                <a:cubicBezTo>
                  <a:pt x="756" y="266"/>
                  <a:pt x="758" y="261"/>
                  <a:pt x="761" y="256"/>
                </a:cubicBezTo>
                <a:cubicBezTo>
                  <a:pt x="761" y="256"/>
                  <a:pt x="760" y="256"/>
                  <a:pt x="760" y="256"/>
                </a:cubicBezTo>
                <a:cubicBezTo>
                  <a:pt x="758" y="258"/>
                  <a:pt x="757" y="260"/>
                  <a:pt x="756" y="262"/>
                </a:cubicBezTo>
                <a:cubicBezTo>
                  <a:pt x="756" y="260"/>
                  <a:pt x="757" y="259"/>
                  <a:pt x="757" y="258"/>
                </a:cubicBezTo>
                <a:cubicBezTo>
                  <a:pt x="758" y="257"/>
                  <a:pt x="758" y="255"/>
                  <a:pt x="759" y="253"/>
                </a:cubicBezTo>
                <a:cubicBezTo>
                  <a:pt x="759" y="253"/>
                  <a:pt x="760" y="253"/>
                  <a:pt x="760" y="253"/>
                </a:cubicBezTo>
                <a:cubicBezTo>
                  <a:pt x="765" y="242"/>
                  <a:pt x="771" y="232"/>
                  <a:pt x="777" y="223"/>
                </a:cubicBezTo>
                <a:cubicBezTo>
                  <a:pt x="782" y="217"/>
                  <a:pt x="786" y="210"/>
                  <a:pt x="789" y="203"/>
                </a:cubicBezTo>
                <a:cubicBezTo>
                  <a:pt x="791" y="199"/>
                  <a:pt x="793" y="195"/>
                  <a:pt x="795" y="192"/>
                </a:cubicBezTo>
                <a:cubicBezTo>
                  <a:pt x="797" y="188"/>
                  <a:pt x="798" y="185"/>
                  <a:pt x="800" y="182"/>
                </a:cubicBezTo>
                <a:cubicBezTo>
                  <a:pt x="800" y="180"/>
                  <a:pt x="798" y="179"/>
                  <a:pt x="798" y="181"/>
                </a:cubicBezTo>
                <a:cubicBezTo>
                  <a:pt x="794" y="188"/>
                  <a:pt x="791" y="196"/>
                  <a:pt x="786" y="204"/>
                </a:cubicBezTo>
                <a:cubicBezTo>
                  <a:pt x="782" y="211"/>
                  <a:pt x="777" y="218"/>
                  <a:pt x="773" y="225"/>
                </a:cubicBezTo>
                <a:cubicBezTo>
                  <a:pt x="770" y="229"/>
                  <a:pt x="767" y="234"/>
                  <a:pt x="764" y="238"/>
                </a:cubicBezTo>
                <a:cubicBezTo>
                  <a:pt x="766" y="234"/>
                  <a:pt x="767" y="230"/>
                  <a:pt x="768" y="226"/>
                </a:cubicBezTo>
                <a:cubicBezTo>
                  <a:pt x="769" y="222"/>
                  <a:pt x="771" y="219"/>
                  <a:pt x="773" y="215"/>
                </a:cubicBezTo>
                <a:cubicBezTo>
                  <a:pt x="775" y="211"/>
                  <a:pt x="776" y="206"/>
                  <a:pt x="779" y="201"/>
                </a:cubicBezTo>
                <a:cubicBezTo>
                  <a:pt x="779" y="201"/>
                  <a:pt x="779" y="200"/>
                  <a:pt x="779" y="201"/>
                </a:cubicBezTo>
                <a:cubicBezTo>
                  <a:pt x="775" y="205"/>
                  <a:pt x="774" y="211"/>
                  <a:pt x="771" y="216"/>
                </a:cubicBezTo>
                <a:cubicBezTo>
                  <a:pt x="770" y="218"/>
                  <a:pt x="769" y="220"/>
                  <a:pt x="769" y="221"/>
                </a:cubicBezTo>
                <a:cubicBezTo>
                  <a:pt x="769" y="220"/>
                  <a:pt x="769" y="219"/>
                  <a:pt x="769" y="219"/>
                </a:cubicBezTo>
                <a:cubicBezTo>
                  <a:pt x="769" y="217"/>
                  <a:pt x="769" y="215"/>
                  <a:pt x="770" y="213"/>
                </a:cubicBezTo>
                <a:cubicBezTo>
                  <a:pt x="772" y="209"/>
                  <a:pt x="773" y="204"/>
                  <a:pt x="775" y="200"/>
                </a:cubicBezTo>
                <a:cubicBezTo>
                  <a:pt x="777" y="194"/>
                  <a:pt x="779" y="187"/>
                  <a:pt x="782" y="182"/>
                </a:cubicBezTo>
                <a:cubicBezTo>
                  <a:pt x="785" y="177"/>
                  <a:pt x="788" y="173"/>
                  <a:pt x="790" y="167"/>
                </a:cubicBezTo>
                <a:cubicBezTo>
                  <a:pt x="791" y="162"/>
                  <a:pt x="793" y="157"/>
                  <a:pt x="796" y="151"/>
                </a:cubicBezTo>
                <a:cubicBezTo>
                  <a:pt x="796" y="151"/>
                  <a:pt x="795" y="151"/>
                  <a:pt x="795" y="151"/>
                </a:cubicBezTo>
                <a:cubicBezTo>
                  <a:pt x="792" y="156"/>
                  <a:pt x="791" y="161"/>
                  <a:pt x="788" y="166"/>
                </a:cubicBezTo>
                <a:cubicBezTo>
                  <a:pt x="786" y="169"/>
                  <a:pt x="785" y="172"/>
                  <a:pt x="783" y="175"/>
                </a:cubicBezTo>
                <a:cubicBezTo>
                  <a:pt x="782" y="178"/>
                  <a:pt x="782" y="181"/>
                  <a:pt x="780" y="183"/>
                </a:cubicBezTo>
                <a:cubicBezTo>
                  <a:pt x="777" y="188"/>
                  <a:pt x="775" y="194"/>
                  <a:pt x="772" y="199"/>
                </a:cubicBezTo>
                <a:cubicBezTo>
                  <a:pt x="772" y="201"/>
                  <a:pt x="771" y="204"/>
                  <a:pt x="770" y="206"/>
                </a:cubicBezTo>
                <a:cubicBezTo>
                  <a:pt x="770" y="203"/>
                  <a:pt x="769" y="200"/>
                  <a:pt x="769" y="198"/>
                </a:cubicBezTo>
                <a:cubicBezTo>
                  <a:pt x="770" y="192"/>
                  <a:pt x="774" y="186"/>
                  <a:pt x="775" y="181"/>
                </a:cubicBezTo>
                <a:cubicBezTo>
                  <a:pt x="777" y="172"/>
                  <a:pt x="780" y="165"/>
                  <a:pt x="785" y="157"/>
                </a:cubicBezTo>
                <a:cubicBezTo>
                  <a:pt x="785" y="157"/>
                  <a:pt x="784" y="156"/>
                  <a:pt x="784" y="157"/>
                </a:cubicBezTo>
                <a:cubicBezTo>
                  <a:pt x="777" y="162"/>
                  <a:pt x="774" y="172"/>
                  <a:pt x="773" y="180"/>
                </a:cubicBezTo>
                <a:cubicBezTo>
                  <a:pt x="772" y="184"/>
                  <a:pt x="772" y="187"/>
                  <a:pt x="770" y="191"/>
                </a:cubicBezTo>
                <a:cubicBezTo>
                  <a:pt x="769" y="192"/>
                  <a:pt x="769" y="192"/>
                  <a:pt x="769" y="193"/>
                </a:cubicBezTo>
                <a:cubicBezTo>
                  <a:pt x="768" y="191"/>
                  <a:pt x="768" y="188"/>
                  <a:pt x="768" y="186"/>
                </a:cubicBezTo>
                <a:cubicBezTo>
                  <a:pt x="768" y="186"/>
                  <a:pt x="768" y="185"/>
                  <a:pt x="768" y="185"/>
                </a:cubicBezTo>
                <a:cubicBezTo>
                  <a:pt x="769" y="183"/>
                  <a:pt x="769" y="180"/>
                  <a:pt x="770" y="178"/>
                </a:cubicBezTo>
                <a:cubicBezTo>
                  <a:pt x="772" y="172"/>
                  <a:pt x="774" y="166"/>
                  <a:pt x="776" y="160"/>
                </a:cubicBezTo>
                <a:cubicBezTo>
                  <a:pt x="777" y="159"/>
                  <a:pt x="775" y="158"/>
                  <a:pt x="775" y="159"/>
                </a:cubicBezTo>
                <a:cubicBezTo>
                  <a:pt x="772" y="166"/>
                  <a:pt x="770" y="173"/>
                  <a:pt x="767" y="180"/>
                </a:cubicBezTo>
                <a:cubicBezTo>
                  <a:pt x="767" y="180"/>
                  <a:pt x="767" y="180"/>
                  <a:pt x="766" y="181"/>
                </a:cubicBezTo>
                <a:cubicBezTo>
                  <a:pt x="766" y="178"/>
                  <a:pt x="765" y="176"/>
                  <a:pt x="764" y="173"/>
                </a:cubicBezTo>
                <a:cubicBezTo>
                  <a:pt x="764" y="173"/>
                  <a:pt x="764" y="173"/>
                  <a:pt x="764" y="173"/>
                </a:cubicBezTo>
                <a:cubicBezTo>
                  <a:pt x="764" y="171"/>
                  <a:pt x="764" y="170"/>
                  <a:pt x="764" y="169"/>
                </a:cubicBezTo>
                <a:cubicBezTo>
                  <a:pt x="765" y="166"/>
                  <a:pt x="765" y="163"/>
                  <a:pt x="765" y="160"/>
                </a:cubicBezTo>
                <a:cubicBezTo>
                  <a:pt x="766" y="153"/>
                  <a:pt x="767" y="148"/>
                  <a:pt x="769" y="142"/>
                </a:cubicBezTo>
                <a:cubicBezTo>
                  <a:pt x="770" y="141"/>
                  <a:pt x="769" y="141"/>
                  <a:pt x="768" y="141"/>
                </a:cubicBezTo>
                <a:cubicBezTo>
                  <a:pt x="764" y="148"/>
                  <a:pt x="765" y="154"/>
                  <a:pt x="763" y="161"/>
                </a:cubicBezTo>
                <a:cubicBezTo>
                  <a:pt x="763" y="162"/>
                  <a:pt x="762" y="164"/>
                  <a:pt x="762" y="165"/>
                </a:cubicBezTo>
                <a:cubicBezTo>
                  <a:pt x="759" y="158"/>
                  <a:pt x="756" y="149"/>
                  <a:pt x="749" y="145"/>
                </a:cubicBezTo>
                <a:cubicBezTo>
                  <a:pt x="747" y="143"/>
                  <a:pt x="746" y="143"/>
                  <a:pt x="743" y="143"/>
                </a:cubicBezTo>
                <a:cubicBezTo>
                  <a:pt x="741" y="142"/>
                  <a:pt x="742" y="137"/>
                  <a:pt x="741" y="136"/>
                </a:cubicBezTo>
                <a:cubicBezTo>
                  <a:pt x="739" y="133"/>
                  <a:pt x="738" y="132"/>
                  <a:pt x="736" y="132"/>
                </a:cubicBezTo>
                <a:cubicBezTo>
                  <a:pt x="736" y="128"/>
                  <a:pt x="740" y="124"/>
                  <a:pt x="743" y="122"/>
                </a:cubicBezTo>
                <a:close/>
                <a:moveTo>
                  <a:pt x="684" y="129"/>
                </a:moveTo>
                <a:cubicBezTo>
                  <a:pt x="692" y="127"/>
                  <a:pt x="700" y="126"/>
                  <a:pt x="708" y="126"/>
                </a:cubicBezTo>
                <a:cubicBezTo>
                  <a:pt x="712" y="126"/>
                  <a:pt x="716" y="126"/>
                  <a:pt x="719" y="126"/>
                </a:cubicBezTo>
                <a:cubicBezTo>
                  <a:pt x="722" y="127"/>
                  <a:pt x="725" y="128"/>
                  <a:pt x="726" y="130"/>
                </a:cubicBezTo>
                <a:cubicBezTo>
                  <a:pt x="726" y="131"/>
                  <a:pt x="727" y="132"/>
                  <a:pt x="727" y="132"/>
                </a:cubicBezTo>
                <a:cubicBezTo>
                  <a:pt x="730" y="135"/>
                  <a:pt x="737" y="133"/>
                  <a:pt x="738" y="139"/>
                </a:cubicBezTo>
                <a:cubicBezTo>
                  <a:pt x="738" y="142"/>
                  <a:pt x="739" y="146"/>
                  <a:pt x="743" y="146"/>
                </a:cubicBezTo>
                <a:cubicBezTo>
                  <a:pt x="750" y="146"/>
                  <a:pt x="753" y="155"/>
                  <a:pt x="756" y="160"/>
                </a:cubicBezTo>
                <a:cubicBezTo>
                  <a:pt x="761" y="172"/>
                  <a:pt x="765" y="186"/>
                  <a:pt x="766" y="199"/>
                </a:cubicBezTo>
                <a:cubicBezTo>
                  <a:pt x="767" y="216"/>
                  <a:pt x="763" y="230"/>
                  <a:pt x="758" y="245"/>
                </a:cubicBezTo>
                <a:cubicBezTo>
                  <a:pt x="755" y="254"/>
                  <a:pt x="752" y="266"/>
                  <a:pt x="745" y="273"/>
                </a:cubicBezTo>
                <a:cubicBezTo>
                  <a:pt x="745" y="273"/>
                  <a:pt x="745" y="273"/>
                  <a:pt x="745" y="273"/>
                </a:cubicBezTo>
                <a:cubicBezTo>
                  <a:pt x="742" y="275"/>
                  <a:pt x="740" y="278"/>
                  <a:pt x="737" y="280"/>
                </a:cubicBezTo>
                <a:cubicBezTo>
                  <a:pt x="734" y="282"/>
                  <a:pt x="732" y="284"/>
                  <a:pt x="730" y="286"/>
                </a:cubicBezTo>
                <a:cubicBezTo>
                  <a:pt x="726" y="291"/>
                  <a:pt x="722" y="296"/>
                  <a:pt x="718" y="300"/>
                </a:cubicBezTo>
                <a:cubicBezTo>
                  <a:pt x="709" y="309"/>
                  <a:pt x="699" y="316"/>
                  <a:pt x="689" y="324"/>
                </a:cubicBezTo>
                <a:cubicBezTo>
                  <a:pt x="684" y="329"/>
                  <a:pt x="679" y="334"/>
                  <a:pt x="673" y="338"/>
                </a:cubicBezTo>
                <a:cubicBezTo>
                  <a:pt x="668" y="342"/>
                  <a:pt x="663" y="345"/>
                  <a:pt x="657" y="349"/>
                </a:cubicBezTo>
                <a:cubicBezTo>
                  <a:pt x="649" y="355"/>
                  <a:pt x="642" y="363"/>
                  <a:pt x="635" y="372"/>
                </a:cubicBezTo>
                <a:cubicBezTo>
                  <a:pt x="635" y="372"/>
                  <a:pt x="635" y="372"/>
                  <a:pt x="635" y="372"/>
                </a:cubicBezTo>
                <a:cubicBezTo>
                  <a:pt x="635" y="372"/>
                  <a:pt x="634" y="371"/>
                  <a:pt x="633" y="371"/>
                </a:cubicBezTo>
                <a:cubicBezTo>
                  <a:pt x="630" y="368"/>
                  <a:pt x="627" y="365"/>
                  <a:pt x="623" y="365"/>
                </a:cubicBezTo>
                <a:cubicBezTo>
                  <a:pt x="628" y="357"/>
                  <a:pt x="634" y="350"/>
                  <a:pt x="642" y="345"/>
                </a:cubicBezTo>
                <a:cubicBezTo>
                  <a:pt x="646" y="342"/>
                  <a:pt x="650" y="339"/>
                  <a:pt x="655" y="337"/>
                </a:cubicBezTo>
                <a:cubicBezTo>
                  <a:pt x="659" y="335"/>
                  <a:pt x="664" y="334"/>
                  <a:pt x="668" y="332"/>
                </a:cubicBezTo>
                <a:cubicBezTo>
                  <a:pt x="674" y="327"/>
                  <a:pt x="679" y="319"/>
                  <a:pt x="684" y="313"/>
                </a:cubicBezTo>
                <a:cubicBezTo>
                  <a:pt x="689" y="305"/>
                  <a:pt x="695" y="296"/>
                  <a:pt x="704" y="291"/>
                </a:cubicBezTo>
                <a:cubicBezTo>
                  <a:pt x="711" y="288"/>
                  <a:pt x="719" y="286"/>
                  <a:pt x="726" y="283"/>
                </a:cubicBezTo>
                <a:cubicBezTo>
                  <a:pt x="732" y="280"/>
                  <a:pt x="737" y="274"/>
                  <a:pt x="741" y="268"/>
                </a:cubicBezTo>
                <a:cubicBezTo>
                  <a:pt x="745" y="263"/>
                  <a:pt x="748" y="258"/>
                  <a:pt x="750" y="252"/>
                </a:cubicBezTo>
                <a:cubicBezTo>
                  <a:pt x="751" y="248"/>
                  <a:pt x="754" y="243"/>
                  <a:pt x="752" y="240"/>
                </a:cubicBezTo>
                <a:cubicBezTo>
                  <a:pt x="752" y="239"/>
                  <a:pt x="751" y="240"/>
                  <a:pt x="751" y="241"/>
                </a:cubicBezTo>
                <a:cubicBezTo>
                  <a:pt x="752" y="245"/>
                  <a:pt x="747" y="253"/>
                  <a:pt x="746" y="256"/>
                </a:cubicBezTo>
                <a:cubicBezTo>
                  <a:pt x="741" y="263"/>
                  <a:pt x="737" y="270"/>
                  <a:pt x="731" y="275"/>
                </a:cubicBezTo>
                <a:cubicBezTo>
                  <a:pt x="725" y="281"/>
                  <a:pt x="717" y="282"/>
                  <a:pt x="710" y="285"/>
                </a:cubicBezTo>
                <a:cubicBezTo>
                  <a:pt x="703" y="287"/>
                  <a:pt x="697" y="291"/>
                  <a:pt x="692" y="296"/>
                </a:cubicBezTo>
                <a:cubicBezTo>
                  <a:pt x="686" y="303"/>
                  <a:pt x="681" y="310"/>
                  <a:pt x="675" y="317"/>
                </a:cubicBezTo>
                <a:cubicBezTo>
                  <a:pt x="673" y="321"/>
                  <a:pt x="670" y="326"/>
                  <a:pt x="666" y="328"/>
                </a:cubicBezTo>
                <a:cubicBezTo>
                  <a:pt x="664" y="329"/>
                  <a:pt x="662" y="330"/>
                  <a:pt x="661" y="331"/>
                </a:cubicBezTo>
                <a:cubicBezTo>
                  <a:pt x="666" y="325"/>
                  <a:pt x="669" y="319"/>
                  <a:pt x="674" y="314"/>
                </a:cubicBezTo>
                <a:cubicBezTo>
                  <a:pt x="679" y="310"/>
                  <a:pt x="682" y="304"/>
                  <a:pt x="687" y="300"/>
                </a:cubicBezTo>
                <a:cubicBezTo>
                  <a:pt x="690" y="296"/>
                  <a:pt x="694" y="291"/>
                  <a:pt x="698" y="287"/>
                </a:cubicBezTo>
                <a:cubicBezTo>
                  <a:pt x="698" y="287"/>
                  <a:pt x="697" y="286"/>
                  <a:pt x="697" y="287"/>
                </a:cubicBezTo>
                <a:cubicBezTo>
                  <a:pt x="692" y="291"/>
                  <a:pt x="689" y="296"/>
                  <a:pt x="685" y="301"/>
                </a:cubicBezTo>
                <a:cubicBezTo>
                  <a:pt x="681" y="305"/>
                  <a:pt x="677" y="309"/>
                  <a:pt x="673" y="313"/>
                </a:cubicBezTo>
                <a:cubicBezTo>
                  <a:pt x="666" y="319"/>
                  <a:pt x="662" y="328"/>
                  <a:pt x="654" y="333"/>
                </a:cubicBezTo>
                <a:cubicBezTo>
                  <a:pt x="654" y="333"/>
                  <a:pt x="654" y="333"/>
                  <a:pt x="654" y="333"/>
                </a:cubicBezTo>
                <a:cubicBezTo>
                  <a:pt x="656" y="331"/>
                  <a:pt x="657" y="329"/>
                  <a:pt x="659" y="327"/>
                </a:cubicBezTo>
                <a:cubicBezTo>
                  <a:pt x="663" y="322"/>
                  <a:pt x="667" y="317"/>
                  <a:pt x="671" y="312"/>
                </a:cubicBezTo>
                <a:cubicBezTo>
                  <a:pt x="671" y="312"/>
                  <a:pt x="670" y="311"/>
                  <a:pt x="670" y="312"/>
                </a:cubicBezTo>
                <a:cubicBezTo>
                  <a:pt x="667" y="317"/>
                  <a:pt x="662" y="321"/>
                  <a:pt x="658" y="326"/>
                </a:cubicBezTo>
                <a:cubicBezTo>
                  <a:pt x="655" y="329"/>
                  <a:pt x="653" y="333"/>
                  <a:pt x="649" y="335"/>
                </a:cubicBezTo>
                <a:cubicBezTo>
                  <a:pt x="648" y="336"/>
                  <a:pt x="648" y="336"/>
                  <a:pt x="648" y="336"/>
                </a:cubicBezTo>
                <a:cubicBezTo>
                  <a:pt x="646" y="337"/>
                  <a:pt x="643" y="339"/>
                  <a:pt x="641" y="340"/>
                </a:cubicBezTo>
                <a:cubicBezTo>
                  <a:pt x="642" y="339"/>
                  <a:pt x="644" y="337"/>
                  <a:pt x="645" y="335"/>
                </a:cubicBezTo>
                <a:cubicBezTo>
                  <a:pt x="645" y="335"/>
                  <a:pt x="645" y="335"/>
                  <a:pt x="645" y="335"/>
                </a:cubicBezTo>
                <a:cubicBezTo>
                  <a:pt x="641" y="339"/>
                  <a:pt x="637" y="342"/>
                  <a:pt x="633" y="346"/>
                </a:cubicBezTo>
                <a:cubicBezTo>
                  <a:pt x="630" y="349"/>
                  <a:pt x="626" y="352"/>
                  <a:pt x="623" y="356"/>
                </a:cubicBezTo>
                <a:cubicBezTo>
                  <a:pt x="623" y="356"/>
                  <a:pt x="623" y="355"/>
                  <a:pt x="623" y="354"/>
                </a:cubicBezTo>
                <a:cubicBezTo>
                  <a:pt x="624" y="354"/>
                  <a:pt x="624" y="353"/>
                  <a:pt x="625" y="352"/>
                </a:cubicBezTo>
                <a:cubicBezTo>
                  <a:pt x="627" y="350"/>
                  <a:pt x="629" y="347"/>
                  <a:pt x="631" y="345"/>
                </a:cubicBezTo>
                <a:cubicBezTo>
                  <a:pt x="632" y="343"/>
                  <a:pt x="633" y="341"/>
                  <a:pt x="634" y="339"/>
                </a:cubicBezTo>
                <a:cubicBezTo>
                  <a:pt x="635" y="339"/>
                  <a:pt x="635" y="339"/>
                  <a:pt x="635" y="338"/>
                </a:cubicBezTo>
                <a:cubicBezTo>
                  <a:pt x="636" y="337"/>
                  <a:pt x="636" y="336"/>
                  <a:pt x="637" y="335"/>
                </a:cubicBezTo>
                <a:cubicBezTo>
                  <a:pt x="641" y="330"/>
                  <a:pt x="644" y="325"/>
                  <a:pt x="648" y="320"/>
                </a:cubicBezTo>
                <a:cubicBezTo>
                  <a:pt x="648" y="320"/>
                  <a:pt x="648" y="320"/>
                  <a:pt x="647" y="320"/>
                </a:cubicBezTo>
                <a:cubicBezTo>
                  <a:pt x="644" y="323"/>
                  <a:pt x="642" y="326"/>
                  <a:pt x="640" y="330"/>
                </a:cubicBezTo>
                <a:cubicBezTo>
                  <a:pt x="643" y="324"/>
                  <a:pt x="646" y="319"/>
                  <a:pt x="649" y="313"/>
                </a:cubicBezTo>
                <a:cubicBezTo>
                  <a:pt x="654" y="306"/>
                  <a:pt x="659" y="299"/>
                  <a:pt x="664" y="291"/>
                </a:cubicBezTo>
                <a:cubicBezTo>
                  <a:pt x="664" y="291"/>
                  <a:pt x="663" y="290"/>
                  <a:pt x="663" y="290"/>
                </a:cubicBezTo>
                <a:cubicBezTo>
                  <a:pt x="657" y="298"/>
                  <a:pt x="652" y="306"/>
                  <a:pt x="647" y="314"/>
                </a:cubicBezTo>
                <a:cubicBezTo>
                  <a:pt x="642" y="322"/>
                  <a:pt x="637" y="329"/>
                  <a:pt x="634" y="337"/>
                </a:cubicBezTo>
                <a:cubicBezTo>
                  <a:pt x="632" y="340"/>
                  <a:pt x="630" y="342"/>
                  <a:pt x="628" y="345"/>
                </a:cubicBezTo>
                <a:cubicBezTo>
                  <a:pt x="627" y="346"/>
                  <a:pt x="626" y="348"/>
                  <a:pt x="624" y="349"/>
                </a:cubicBezTo>
                <a:cubicBezTo>
                  <a:pt x="629" y="340"/>
                  <a:pt x="633" y="331"/>
                  <a:pt x="638" y="322"/>
                </a:cubicBezTo>
                <a:cubicBezTo>
                  <a:pt x="641" y="317"/>
                  <a:pt x="643" y="312"/>
                  <a:pt x="646" y="308"/>
                </a:cubicBezTo>
                <a:cubicBezTo>
                  <a:pt x="648" y="303"/>
                  <a:pt x="651" y="299"/>
                  <a:pt x="653" y="295"/>
                </a:cubicBezTo>
                <a:cubicBezTo>
                  <a:pt x="653" y="294"/>
                  <a:pt x="653" y="294"/>
                  <a:pt x="653" y="294"/>
                </a:cubicBezTo>
                <a:cubicBezTo>
                  <a:pt x="645" y="303"/>
                  <a:pt x="642" y="315"/>
                  <a:pt x="635" y="325"/>
                </a:cubicBezTo>
                <a:cubicBezTo>
                  <a:pt x="631" y="331"/>
                  <a:pt x="626" y="337"/>
                  <a:pt x="624" y="345"/>
                </a:cubicBezTo>
                <a:cubicBezTo>
                  <a:pt x="625" y="341"/>
                  <a:pt x="626" y="337"/>
                  <a:pt x="627" y="334"/>
                </a:cubicBezTo>
                <a:cubicBezTo>
                  <a:pt x="632" y="323"/>
                  <a:pt x="638" y="314"/>
                  <a:pt x="642" y="303"/>
                </a:cubicBezTo>
                <a:cubicBezTo>
                  <a:pt x="643" y="302"/>
                  <a:pt x="641" y="302"/>
                  <a:pt x="640" y="303"/>
                </a:cubicBezTo>
                <a:cubicBezTo>
                  <a:pt x="636" y="314"/>
                  <a:pt x="628" y="324"/>
                  <a:pt x="624" y="335"/>
                </a:cubicBezTo>
                <a:cubicBezTo>
                  <a:pt x="622" y="340"/>
                  <a:pt x="621" y="346"/>
                  <a:pt x="620" y="351"/>
                </a:cubicBezTo>
                <a:cubicBezTo>
                  <a:pt x="620" y="351"/>
                  <a:pt x="619" y="350"/>
                  <a:pt x="619" y="350"/>
                </a:cubicBezTo>
                <a:cubicBezTo>
                  <a:pt x="619" y="350"/>
                  <a:pt x="619" y="349"/>
                  <a:pt x="619" y="349"/>
                </a:cubicBezTo>
                <a:cubicBezTo>
                  <a:pt x="620" y="347"/>
                  <a:pt x="620" y="344"/>
                  <a:pt x="620" y="341"/>
                </a:cubicBezTo>
                <a:cubicBezTo>
                  <a:pt x="621" y="335"/>
                  <a:pt x="624" y="329"/>
                  <a:pt x="626" y="324"/>
                </a:cubicBezTo>
                <a:cubicBezTo>
                  <a:pt x="631" y="313"/>
                  <a:pt x="637" y="302"/>
                  <a:pt x="640" y="290"/>
                </a:cubicBezTo>
                <a:cubicBezTo>
                  <a:pt x="640" y="290"/>
                  <a:pt x="640" y="290"/>
                  <a:pt x="640" y="290"/>
                </a:cubicBezTo>
                <a:cubicBezTo>
                  <a:pt x="634" y="303"/>
                  <a:pt x="628" y="315"/>
                  <a:pt x="622" y="328"/>
                </a:cubicBezTo>
                <a:cubicBezTo>
                  <a:pt x="622" y="329"/>
                  <a:pt x="622" y="330"/>
                  <a:pt x="621" y="330"/>
                </a:cubicBezTo>
                <a:cubicBezTo>
                  <a:pt x="622" y="324"/>
                  <a:pt x="625" y="319"/>
                  <a:pt x="627" y="313"/>
                </a:cubicBezTo>
                <a:cubicBezTo>
                  <a:pt x="629" y="310"/>
                  <a:pt x="629" y="307"/>
                  <a:pt x="630" y="304"/>
                </a:cubicBezTo>
                <a:cubicBezTo>
                  <a:pt x="632" y="300"/>
                  <a:pt x="634" y="296"/>
                  <a:pt x="635" y="292"/>
                </a:cubicBezTo>
                <a:cubicBezTo>
                  <a:pt x="636" y="291"/>
                  <a:pt x="635" y="291"/>
                  <a:pt x="635" y="291"/>
                </a:cubicBezTo>
                <a:cubicBezTo>
                  <a:pt x="632" y="296"/>
                  <a:pt x="631" y="301"/>
                  <a:pt x="629" y="306"/>
                </a:cubicBezTo>
                <a:cubicBezTo>
                  <a:pt x="627" y="309"/>
                  <a:pt x="625" y="312"/>
                  <a:pt x="624" y="315"/>
                </a:cubicBezTo>
                <a:cubicBezTo>
                  <a:pt x="623" y="318"/>
                  <a:pt x="622" y="320"/>
                  <a:pt x="621" y="323"/>
                </a:cubicBezTo>
                <a:cubicBezTo>
                  <a:pt x="621" y="321"/>
                  <a:pt x="621" y="319"/>
                  <a:pt x="621" y="317"/>
                </a:cubicBezTo>
                <a:cubicBezTo>
                  <a:pt x="623" y="313"/>
                  <a:pt x="624" y="309"/>
                  <a:pt x="625" y="305"/>
                </a:cubicBezTo>
                <a:cubicBezTo>
                  <a:pt x="625" y="305"/>
                  <a:pt x="625" y="305"/>
                  <a:pt x="624" y="305"/>
                </a:cubicBezTo>
                <a:cubicBezTo>
                  <a:pt x="623" y="307"/>
                  <a:pt x="622" y="310"/>
                  <a:pt x="621" y="313"/>
                </a:cubicBezTo>
                <a:cubicBezTo>
                  <a:pt x="622" y="308"/>
                  <a:pt x="622" y="303"/>
                  <a:pt x="623" y="298"/>
                </a:cubicBezTo>
                <a:cubicBezTo>
                  <a:pt x="623" y="298"/>
                  <a:pt x="623" y="298"/>
                  <a:pt x="623" y="298"/>
                </a:cubicBezTo>
                <a:cubicBezTo>
                  <a:pt x="623" y="298"/>
                  <a:pt x="623" y="298"/>
                  <a:pt x="623" y="298"/>
                </a:cubicBezTo>
                <a:cubicBezTo>
                  <a:pt x="624" y="297"/>
                  <a:pt x="624" y="295"/>
                  <a:pt x="625" y="293"/>
                </a:cubicBezTo>
                <a:cubicBezTo>
                  <a:pt x="626" y="291"/>
                  <a:pt x="627" y="289"/>
                  <a:pt x="628" y="287"/>
                </a:cubicBezTo>
                <a:cubicBezTo>
                  <a:pt x="630" y="283"/>
                  <a:pt x="631" y="280"/>
                  <a:pt x="631" y="277"/>
                </a:cubicBezTo>
                <a:cubicBezTo>
                  <a:pt x="631" y="276"/>
                  <a:pt x="631" y="276"/>
                  <a:pt x="630" y="277"/>
                </a:cubicBezTo>
                <a:cubicBezTo>
                  <a:pt x="629" y="281"/>
                  <a:pt x="627" y="285"/>
                  <a:pt x="625" y="289"/>
                </a:cubicBezTo>
                <a:cubicBezTo>
                  <a:pt x="624" y="291"/>
                  <a:pt x="623" y="292"/>
                  <a:pt x="623" y="294"/>
                </a:cubicBezTo>
                <a:cubicBezTo>
                  <a:pt x="623" y="292"/>
                  <a:pt x="623" y="289"/>
                  <a:pt x="623" y="286"/>
                </a:cubicBezTo>
                <a:cubicBezTo>
                  <a:pt x="624" y="286"/>
                  <a:pt x="624" y="286"/>
                  <a:pt x="624" y="286"/>
                </a:cubicBezTo>
                <a:cubicBezTo>
                  <a:pt x="625" y="282"/>
                  <a:pt x="627" y="279"/>
                  <a:pt x="628" y="276"/>
                </a:cubicBezTo>
                <a:cubicBezTo>
                  <a:pt x="628" y="275"/>
                  <a:pt x="628" y="275"/>
                  <a:pt x="627" y="275"/>
                </a:cubicBezTo>
                <a:cubicBezTo>
                  <a:pt x="626" y="277"/>
                  <a:pt x="625" y="280"/>
                  <a:pt x="624" y="282"/>
                </a:cubicBezTo>
                <a:cubicBezTo>
                  <a:pt x="624" y="280"/>
                  <a:pt x="624" y="278"/>
                  <a:pt x="624" y="276"/>
                </a:cubicBezTo>
                <a:cubicBezTo>
                  <a:pt x="624" y="267"/>
                  <a:pt x="624" y="257"/>
                  <a:pt x="622" y="247"/>
                </a:cubicBezTo>
                <a:cubicBezTo>
                  <a:pt x="624" y="245"/>
                  <a:pt x="622" y="243"/>
                  <a:pt x="623" y="241"/>
                </a:cubicBezTo>
                <a:cubicBezTo>
                  <a:pt x="623" y="239"/>
                  <a:pt x="623" y="238"/>
                  <a:pt x="623" y="237"/>
                </a:cubicBezTo>
                <a:cubicBezTo>
                  <a:pt x="623" y="235"/>
                  <a:pt x="623" y="234"/>
                  <a:pt x="623" y="233"/>
                </a:cubicBezTo>
                <a:cubicBezTo>
                  <a:pt x="623" y="232"/>
                  <a:pt x="622" y="232"/>
                  <a:pt x="622" y="233"/>
                </a:cubicBezTo>
                <a:cubicBezTo>
                  <a:pt x="622" y="234"/>
                  <a:pt x="621" y="236"/>
                  <a:pt x="621" y="237"/>
                </a:cubicBezTo>
                <a:cubicBezTo>
                  <a:pt x="621" y="238"/>
                  <a:pt x="622" y="239"/>
                  <a:pt x="622" y="241"/>
                </a:cubicBezTo>
                <a:cubicBezTo>
                  <a:pt x="622" y="242"/>
                  <a:pt x="622" y="243"/>
                  <a:pt x="621" y="244"/>
                </a:cubicBezTo>
                <a:cubicBezTo>
                  <a:pt x="620" y="239"/>
                  <a:pt x="619" y="234"/>
                  <a:pt x="617" y="229"/>
                </a:cubicBezTo>
                <a:cubicBezTo>
                  <a:pt x="613" y="218"/>
                  <a:pt x="607" y="206"/>
                  <a:pt x="601" y="196"/>
                </a:cubicBezTo>
                <a:cubicBezTo>
                  <a:pt x="601" y="193"/>
                  <a:pt x="605" y="190"/>
                  <a:pt x="606" y="187"/>
                </a:cubicBezTo>
                <a:cubicBezTo>
                  <a:pt x="609" y="184"/>
                  <a:pt x="611" y="180"/>
                  <a:pt x="614" y="177"/>
                </a:cubicBezTo>
                <a:cubicBezTo>
                  <a:pt x="619" y="170"/>
                  <a:pt x="624" y="163"/>
                  <a:pt x="631" y="157"/>
                </a:cubicBezTo>
                <a:cubicBezTo>
                  <a:pt x="636" y="152"/>
                  <a:pt x="641" y="147"/>
                  <a:pt x="648" y="144"/>
                </a:cubicBezTo>
                <a:cubicBezTo>
                  <a:pt x="653" y="141"/>
                  <a:pt x="657" y="139"/>
                  <a:pt x="662" y="136"/>
                </a:cubicBezTo>
                <a:cubicBezTo>
                  <a:pt x="668" y="130"/>
                  <a:pt x="676" y="130"/>
                  <a:pt x="684" y="129"/>
                </a:cubicBezTo>
                <a:close/>
                <a:moveTo>
                  <a:pt x="538" y="132"/>
                </a:moveTo>
                <a:cubicBezTo>
                  <a:pt x="540" y="130"/>
                  <a:pt x="541" y="129"/>
                  <a:pt x="542" y="128"/>
                </a:cubicBezTo>
                <a:cubicBezTo>
                  <a:pt x="547" y="123"/>
                  <a:pt x="552" y="119"/>
                  <a:pt x="558" y="116"/>
                </a:cubicBezTo>
                <a:cubicBezTo>
                  <a:pt x="570" y="111"/>
                  <a:pt x="582" y="109"/>
                  <a:pt x="595" y="110"/>
                </a:cubicBezTo>
                <a:cubicBezTo>
                  <a:pt x="596" y="110"/>
                  <a:pt x="597" y="110"/>
                  <a:pt x="598" y="110"/>
                </a:cubicBezTo>
                <a:cubicBezTo>
                  <a:pt x="598" y="110"/>
                  <a:pt x="598" y="110"/>
                  <a:pt x="598" y="110"/>
                </a:cubicBezTo>
                <a:cubicBezTo>
                  <a:pt x="585" y="110"/>
                  <a:pt x="570" y="113"/>
                  <a:pt x="560" y="121"/>
                </a:cubicBezTo>
                <a:cubicBezTo>
                  <a:pt x="559" y="122"/>
                  <a:pt x="560" y="123"/>
                  <a:pt x="561" y="122"/>
                </a:cubicBezTo>
                <a:cubicBezTo>
                  <a:pt x="574" y="118"/>
                  <a:pt x="586" y="112"/>
                  <a:pt x="601" y="113"/>
                </a:cubicBezTo>
                <a:cubicBezTo>
                  <a:pt x="608" y="113"/>
                  <a:pt x="615" y="115"/>
                  <a:pt x="622" y="117"/>
                </a:cubicBezTo>
                <a:cubicBezTo>
                  <a:pt x="628" y="119"/>
                  <a:pt x="633" y="124"/>
                  <a:pt x="639" y="124"/>
                </a:cubicBezTo>
                <a:cubicBezTo>
                  <a:pt x="639" y="124"/>
                  <a:pt x="639" y="124"/>
                  <a:pt x="639" y="124"/>
                </a:cubicBezTo>
                <a:cubicBezTo>
                  <a:pt x="635" y="122"/>
                  <a:pt x="632" y="119"/>
                  <a:pt x="628" y="117"/>
                </a:cubicBezTo>
                <a:cubicBezTo>
                  <a:pt x="625" y="115"/>
                  <a:pt x="621" y="114"/>
                  <a:pt x="618" y="113"/>
                </a:cubicBezTo>
                <a:cubicBezTo>
                  <a:pt x="613" y="112"/>
                  <a:pt x="609" y="111"/>
                  <a:pt x="604" y="110"/>
                </a:cubicBezTo>
                <a:cubicBezTo>
                  <a:pt x="614" y="111"/>
                  <a:pt x="623" y="113"/>
                  <a:pt x="633" y="116"/>
                </a:cubicBezTo>
                <a:cubicBezTo>
                  <a:pt x="640" y="119"/>
                  <a:pt x="647" y="122"/>
                  <a:pt x="653" y="125"/>
                </a:cubicBezTo>
                <a:cubicBezTo>
                  <a:pt x="656" y="127"/>
                  <a:pt x="659" y="129"/>
                  <a:pt x="662" y="130"/>
                </a:cubicBezTo>
                <a:cubicBezTo>
                  <a:pt x="661" y="131"/>
                  <a:pt x="659" y="132"/>
                  <a:pt x="658" y="134"/>
                </a:cubicBezTo>
                <a:cubicBezTo>
                  <a:pt x="653" y="138"/>
                  <a:pt x="646" y="140"/>
                  <a:pt x="640" y="144"/>
                </a:cubicBezTo>
                <a:cubicBezTo>
                  <a:pt x="635" y="148"/>
                  <a:pt x="630" y="152"/>
                  <a:pt x="625" y="157"/>
                </a:cubicBezTo>
                <a:cubicBezTo>
                  <a:pt x="622" y="160"/>
                  <a:pt x="619" y="164"/>
                  <a:pt x="616" y="168"/>
                </a:cubicBezTo>
                <a:cubicBezTo>
                  <a:pt x="616" y="166"/>
                  <a:pt x="616" y="164"/>
                  <a:pt x="616" y="163"/>
                </a:cubicBezTo>
                <a:cubicBezTo>
                  <a:pt x="616" y="160"/>
                  <a:pt x="616" y="156"/>
                  <a:pt x="617" y="153"/>
                </a:cubicBezTo>
                <a:cubicBezTo>
                  <a:pt x="617" y="153"/>
                  <a:pt x="616" y="152"/>
                  <a:pt x="616" y="153"/>
                </a:cubicBezTo>
                <a:cubicBezTo>
                  <a:pt x="615" y="156"/>
                  <a:pt x="614" y="159"/>
                  <a:pt x="613" y="163"/>
                </a:cubicBezTo>
                <a:cubicBezTo>
                  <a:pt x="613" y="165"/>
                  <a:pt x="613" y="168"/>
                  <a:pt x="614" y="170"/>
                </a:cubicBezTo>
                <a:cubicBezTo>
                  <a:pt x="612" y="172"/>
                  <a:pt x="611" y="174"/>
                  <a:pt x="609" y="177"/>
                </a:cubicBezTo>
                <a:cubicBezTo>
                  <a:pt x="609" y="178"/>
                  <a:pt x="608" y="178"/>
                  <a:pt x="607" y="179"/>
                </a:cubicBezTo>
                <a:cubicBezTo>
                  <a:pt x="607" y="178"/>
                  <a:pt x="607" y="176"/>
                  <a:pt x="607" y="175"/>
                </a:cubicBezTo>
                <a:cubicBezTo>
                  <a:pt x="607" y="171"/>
                  <a:pt x="606" y="167"/>
                  <a:pt x="607" y="163"/>
                </a:cubicBezTo>
                <a:cubicBezTo>
                  <a:pt x="607" y="162"/>
                  <a:pt x="606" y="162"/>
                  <a:pt x="605" y="163"/>
                </a:cubicBezTo>
                <a:cubicBezTo>
                  <a:pt x="605" y="166"/>
                  <a:pt x="604" y="170"/>
                  <a:pt x="604" y="173"/>
                </a:cubicBezTo>
                <a:cubicBezTo>
                  <a:pt x="604" y="175"/>
                  <a:pt x="605" y="177"/>
                  <a:pt x="604" y="179"/>
                </a:cubicBezTo>
                <a:cubicBezTo>
                  <a:pt x="604" y="181"/>
                  <a:pt x="604" y="182"/>
                  <a:pt x="604" y="184"/>
                </a:cubicBezTo>
                <a:cubicBezTo>
                  <a:pt x="604" y="184"/>
                  <a:pt x="604" y="184"/>
                  <a:pt x="604" y="184"/>
                </a:cubicBezTo>
                <a:cubicBezTo>
                  <a:pt x="603" y="185"/>
                  <a:pt x="603" y="186"/>
                  <a:pt x="602" y="186"/>
                </a:cubicBezTo>
                <a:cubicBezTo>
                  <a:pt x="602" y="182"/>
                  <a:pt x="601" y="178"/>
                  <a:pt x="600" y="174"/>
                </a:cubicBezTo>
                <a:cubicBezTo>
                  <a:pt x="600" y="170"/>
                  <a:pt x="600" y="166"/>
                  <a:pt x="600" y="162"/>
                </a:cubicBezTo>
                <a:cubicBezTo>
                  <a:pt x="600" y="157"/>
                  <a:pt x="599" y="153"/>
                  <a:pt x="600" y="148"/>
                </a:cubicBezTo>
                <a:cubicBezTo>
                  <a:pt x="600" y="144"/>
                  <a:pt x="601" y="140"/>
                  <a:pt x="602" y="136"/>
                </a:cubicBezTo>
                <a:cubicBezTo>
                  <a:pt x="602" y="135"/>
                  <a:pt x="601" y="135"/>
                  <a:pt x="601" y="135"/>
                </a:cubicBezTo>
                <a:cubicBezTo>
                  <a:pt x="599" y="139"/>
                  <a:pt x="598" y="143"/>
                  <a:pt x="598" y="148"/>
                </a:cubicBezTo>
                <a:cubicBezTo>
                  <a:pt x="599" y="153"/>
                  <a:pt x="598" y="158"/>
                  <a:pt x="598" y="164"/>
                </a:cubicBezTo>
                <a:cubicBezTo>
                  <a:pt x="599" y="170"/>
                  <a:pt x="598" y="176"/>
                  <a:pt x="599" y="182"/>
                </a:cubicBezTo>
                <a:cubicBezTo>
                  <a:pt x="599" y="180"/>
                  <a:pt x="598" y="179"/>
                  <a:pt x="598" y="177"/>
                </a:cubicBezTo>
                <a:cubicBezTo>
                  <a:pt x="597" y="171"/>
                  <a:pt x="596" y="165"/>
                  <a:pt x="595" y="159"/>
                </a:cubicBezTo>
                <a:cubicBezTo>
                  <a:pt x="595" y="154"/>
                  <a:pt x="595" y="149"/>
                  <a:pt x="595" y="143"/>
                </a:cubicBezTo>
                <a:cubicBezTo>
                  <a:pt x="595" y="138"/>
                  <a:pt x="594" y="133"/>
                  <a:pt x="596" y="128"/>
                </a:cubicBezTo>
                <a:cubicBezTo>
                  <a:pt x="596" y="127"/>
                  <a:pt x="595" y="127"/>
                  <a:pt x="594" y="128"/>
                </a:cubicBezTo>
                <a:cubicBezTo>
                  <a:pt x="593" y="132"/>
                  <a:pt x="593" y="137"/>
                  <a:pt x="593" y="142"/>
                </a:cubicBezTo>
                <a:cubicBezTo>
                  <a:pt x="594" y="148"/>
                  <a:pt x="593" y="154"/>
                  <a:pt x="593" y="161"/>
                </a:cubicBezTo>
                <a:cubicBezTo>
                  <a:pt x="594" y="167"/>
                  <a:pt x="595" y="173"/>
                  <a:pt x="596" y="180"/>
                </a:cubicBezTo>
                <a:cubicBezTo>
                  <a:pt x="597" y="182"/>
                  <a:pt x="597" y="184"/>
                  <a:pt x="597" y="187"/>
                </a:cubicBezTo>
                <a:cubicBezTo>
                  <a:pt x="597" y="185"/>
                  <a:pt x="596" y="183"/>
                  <a:pt x="596" y="182"/>
                </a:cubicBezTo>
                <a:cubicBezTo>
                  <a:pt x="595" y="181"/>
                  <a:pt x="595" y="181"/>
                  <a:pt x="595" y="182"/>
                </a:cubicBezTo>
                <a:cubicBezTo>
                  <a:pt x="595" y="184"/>
                  <a:pt x="595" y="186"/>
                  <a:pt x="595" y="187"/>
                </a:cubicBezTo>
                <a:cubicBezTo>
                  <a:pt x="595" y="187"/>
                  <a:pt x="594" y="186"/>
                  <a:pt x="594" y="186"/>
                </a:cubicBezTo>
                <a:cubicBezTo>
                  <a:pt x="594" y="186"/>
                  <a:pt x="594" y="185"/>
                  <a:pt x="593" y="185"/>
                </a:cubicBezTo>
                <a:cubicBezTo>
                  <a:pt x="592" y="183"/>
                  <a:pt x="590" y="180"/>
                  <a:pt x="589" y="177"/>
                </a:cubicBezTo>
                <a:cubicBezTo>
                  <a:pt x="586" y="168"/>
                  <a:pt x="583" y="160"/>
                  <a:pt x="580" y="152"/>
                </a:cubicBezTo>
                <a:cubicBezTo>
                  <a:pt x="578" y="144"/>
                  <a:pt x="576" y="137"/>
                  <a:pt x="578" y="129"/>
                </a:cubicBezTo>
                <a:cubicBezTo>
                  <a:pt x="578" y="129"/>
                  <a:pt x="577" y="129"/>
                  <a:pt x="577" y="129"/>
                </a:cubicBezTo>
                <a:cubicBezTo>
                  <a:pt x="572" y="134"/>
                  <a:pt x="575" y="144"/>
                  <a:pt x="577" y="150"/>
                </a:cubicBezTo>
                <a:cubicBezTo>
                  <a:pt x="579" y="155"/>
                  <a:pt x="581" y="160"/>
                  <a:pt x="583" y="165"/>
                </a:cubicBezTo>
                <a:cubicBezTo>
                  <a:pt x="584" y="167"/>
                  <a:pt x="585" y="170"/>
                  <a:pt x="586" y="172"/>
                </a:cubicBezTo>
                <a:cubicBezTo>
                  <a:pt x="585" y="172"/>
                  <a:pt x="585" y="171"/>
                  <a:pt x="585" y="171"/>
                </a:cubicBezTo>
                <a:cubicBezTo>
                  <a:pt x="582" y="168"/>
                  <a:pt x="580" y="165"/>
                  <a:pt x="578" y="162"/>
                </a:cubicBezTo>
                <a:cubicBezTo>
                  <a:pt x="578" y="162"/>
                  <a:pt x="578" y="162"/>
                  <a:pt x="578" y="162"/>
                </a:cubicBezTo>
                <a:cubicBezTo>
                  <a:pt x="577" y="161"/>
                  <a:pt x="577" y="160"/>
                  <a:pt x="577" y="159"/>
                </a:cubicBezTo>
                <a:cubicBezTo>
                  <a:pt x="576" y="158"/>
                  <a:pt x="576" y="157"/>
                  <a:pt x="576" y="156"/>
                </a:cubicBezTo>
                <a:cubicBezTo>
                  <a:pt x="575" y="155"/>
                  <a:pt x="575" y="154"/>
                  <a:pt x="574" y="152"/>
                </a:cubicBezTo>
                <a:cubicBezTo>
                  <a:pt x="573" y="152"/>
                  <a:pt x="573" y="152"/>
                  <a:pt x="573" y="153"/>
                </a:cubicBezTo>
                <a:cubicBezTo>
                  <a:pt x="573" y="155"/>
                  <a:pt x="574" y="157"/>
                  <a:pt x="574" y="158"/>
                </a:cubicBezTo>
                <a:cubicBezTo>
                  <a:pt x="574" y="158"/>
                  <a:pt x="573" y="157"/>
                  <a:pt x="572" y="156"/>
                </a:cubicBezTo>
                <a:cubicBezTo>
                  <a:pt x="563" y="147"/>
                  <a:pt x="554" y="139"/>
                  <a:pt x="541" y="135"/>
                </a:cubicBezTo>
                <a:cubicBezTo>
                  <a:pt x="540" y="134"/>
                  <a:pt x="538" y="134"/>
                  <a:pt x="537" y="133"/>
                </a:cubicBezTo>
                <a:cubicBezTo>
                  <a:pt x="537" y="133"/>
                  <a:pt x="538" y="132"/>
                  <a:pt x="538" y="132"/>
                </a:cubicBezTo>
                <a:close/>
                <a:moveTo>
                  <a:pt x="525" y="135"/>
                </a:moveTo>
                <a:cubicBezTo>
                  <a:pt x="531" y="136"/>
                  <a:pt x="538" y="137"/>
                  <a:pt x="544" y="139"/>
                </a:cubicBezTo>
                <a:cubicBezTo>
                  <a:pt x="556" y="144"/>
                  <a:pt x="566" y="154"/>
                  <a:pt x="574" y="163"/>
                </a:cubicBezTo>
                <a:cubicBezTo>
                  <a:pt x="579" y="168"/>
                  <a:pt x="583" y="173"/>
                  <a:pt x="586" y="179"/>
                </a:cubicBezTo>
                <a:cubicBezTo>
                  <a:pt x="589" y="183"/>
                  <a:pt x="591" y="187"/>
                  <a:pt x="594" y="190"/>
                </a:cubicBezTo>
                <a:cubicBezTo>
                  <a:pt x="601" y="206"/>
                  <a:pt x="611" y="220"/>
                  <a:pt x="616" y="238"/>
                </a:cubicBezTo>
                <a:cubicBezTo>
                  <a:pt x="621" y="254"/>
                  <a:pt x="621" y="270"/>
                  <a:pt x="620" y="287"/>
                </a:cubicBezTo>
                <a:cubicBezTo>
                  <a:pt x="619" y="304"/>
                  <a:pt x="617" y="321"/>
                  <a:pt x="616" y="339"/>
                </a:cubicBezTo>
                <a:cubicBezTo>
                  <a:pt x="616" y="345"/>
                  <a:pt x="616" y="351"/>
                  <a:pt x="616" y="357"/>
                </a:cubicBezTo>
                <a:cubicBezTo>
                  <a:pt x="616" y="359"/>
                  <a:pt x="616" y="363"/>
                  <a:pt x="617" y="365"/>
                </a:cubicBezTo>
                <a:cubicBezTo>
                  <a:pt x="615" y="366"/>
                  <a:pt x="613" y="367"/>
                  <a:pt x="611" y="368"/>
                </a:cubicBezTo>
                <a:cubicBezTo>
                  <a:pt x="611" y="368"/>
                  <a:pt x="611" y="368"/>
                  <a:pt x="610" y="367"/>
                </a:cubicBezTo>
                <a:cubicBezTo>
                  <a:pt x="607" y="365"/>
                  <a:pt x="605" y="362"/>
                  <a:pt x="603" y="358"/>
                </a:cubicBezTo>
                <a:cubicBezTo>
                  <a:pt x="601" y="351"/>
                  <a:pt x="600" y="344"/>
                  <a:pt x="600" y="338"/>
                </a:cubicBezTo>
                <a:cubicBezTo>
                  <a:pt x="599" y="324"/>
                  <a:pt x="601" y="311"/>
                  <a:pt x="605" y="297"/>
                </a:cubicBezTo>
                <a:cubicBezTo>
                  <a:pt x="608" y="284"/>
                  <a:pt x="610" y="270"/>
                  <a:pt x="609" y="256"/>
                </a:cubicBezTo>
                <a:cubicBezTo>
                  <a:pt x="609" y="250"/>
                  <a:pt x="609" y="243"/>
                  <a:pt x="607" y="237"/>
                </a:cubicBezTo>
                <a:cubicBezTo>
                  <a:pt x="605" y="232"/>
                  <a:pt x="603" y="227"/>
                  <a:pt x="601" y="222"/>
                </a:cubicBezTo>
                <a:cubicBezTo>
                  <a:pt x="600" y="221"/>
                  <a:pt x="599" y="222"/>
                  <a:pt x="599" y="223"/>
                </a:cubicBezTo>
                <a:cubicBezTo>
                  <a:pt x="601" y="230"/>
                  <a:pt x="604" y="236"/>
                  <a:pt x="605" y="243"/>
                </a:cubicBezTo>
                <a:cubicBezTo>
                  <a:pt x="606" y="251"/>
                  <a:pt x="606" y="258"/>
                  <a:pt x="606" y="266"/>
                </a:cubicBezTo>
                <a:cubicBezTo>
                  <a:pt x="605" y="274"/>
                  <a:pt x="605" y="281"/>
                  <a:pt x="603" y="289"/>
                </a:cubicBezTo>
                <a:cubicBezTo>
                  <a:pt x="602" y="296"/>
                  <a:pt x="599" y="303"/>
                  <a:pt x="598" y="309"/>
                </a:cubicBezTo>
                <a:cubicBezTo>
                  <a:pt x="597" y="315"/>
                  <a:pt x="597" y="321"/>
                  <a:pt x="596" y="327"/>
                </a:cubicBezTo>
                <a:cubicBezTo>
                  <a:pt x="596" y="326"/>
                  <a:pt x="596" y="326"/>
                  <a:pt x="596" y="326"/>
                </a:cubicBezTo>
                <a:cubicBezTo>
                  <a:pt x="596" y="326"/>
                  <a:pt x="597" y="325"/>
                  <a:pt x="596" y="325"/>
                </a:cubicBezTo>
                <a:cubicBezTo>
                  <a:pt x="595" y="323"/>
                  <a:pt x="595" y="320"/>
                  <a:pt x="595" y="318"/>
                </a:cubicBezTo>
                <a:cubicBezTo>
                  <a:pt x="595" y="318"/>
                  <a:pt x="595" y="318"/>
                  <a:pt x="595" y="318"/>
                </a:cubicBezTo>
                <a:cubicBezTo>
                  <a:pt x="595" y="317"/>
                  <a:pt x="595" y="317"/>
                  <a:pt x="596" y="316"/>
                </a:cubicBezTo>
                <a:cubicBezTo>
                  <a:pt x="596" y="316"/>
                  <a:pt x="596" y="315"/>
                  <a:pt x="596" y="315"/>
                </a:cubicBezTo>
                <a:cubicBezTo>
                  <a:pt x="596" y="314"/>
                  <a:pt x="595" y="313"/>
                  <a:pt x="595" y="312"/>
                </a:cubicBezTo>
                <a:cubicBezTo>
                  <a:pt x="595" y="312"/>
                  <a:pt x="594" y="312"/>
                  <a:pt x="594" y="313"/>
                </a:cubicBezTo>
                <a:cubicBezTo>
                  <a:pt x="594" y="313"/>
                  <a:pt x="594" y="314"/>
                  <a:pt x="594" y="315"/>
                </a:cubicBezTo>
                <a:cubicBezTo>
                  <a:pt x="594" y="316"/>
                  <a:pt x="594" y="316"/>
                  <a:pt x="594" y="316"/>
                </a:cubicBezTo>
                <a:cubicBezTo>
                  <a:pt x="594" y="317"/>
                  <a:pt x="594" y="317"/>
                  <a:pt x="594" y="317"/>
                </a:cubicBezTo>
                <a:cubicBezTo>
                  <a:pt x="594" y="317"/>
                  <a:pt x="594" y="316"/>
                  <a:pt x="593" y="316"/>
                </a:cubicBezTo>
                <a:cubicBezTo>
                  <a:pt x="593" y="316"/>
                  <a:pt x="593" y="316"/>
                  <a:pt x="593" y="316"/>
                </a:cubicBezTo>
                <a:cubicBezTo>
                  <a:pt x="593" y="314"/>
                  <a:pt x="593" y="313"/>
                  <a:pt x="592" y="312"/>
                </a:cubicBezTo>
                <a:cubicBezTo>
                  <a:pt x="592" y="312"/>
                  <a:pt x="592" y="312"/>
                  <a:pt x="592" y="311"/>
                </a:cubicBezTo>
                <a:cubicBezTo>
                  <a:pt x="592" y="311"/>
                  <a:pt x="592" y="311"/>
                  <a:pt x="591" y="310"/>
                </a:cubicBezTo>
                <a:cubicBezTo>
                  <a:pt x="591" y="310"/>
                  <a:pt x="591" y="310"/>
                  <a:pt x="591" y="310"/>
                </a:cubicBezTo>
                <a:cubicBezTo>
                  <a:pt x="591" y="311"/>
                  <a:pt x="591" y="311"/>
                  <a:pt x="591" y="311"/>
                </a:cubicBezTo>
                <a:cubicBezTo>
                  <a:pt x="590" y="311"/>
                  <a:pt x="590" y="312"/>
                  <a:pt x="590" y="312"/>
                </a:cubicBezTo>
                <a:cubicBezTo>
                  <a:pt x="590" y="313"/>
                  <a:pt x="590" y="315"/>
                  <a:pt x="591" y="316"/>
                </a:cubicBezTo>
                <a:cubicBezTo>
                  <a:pt x="587" y="306"/>
                  <a:pt x="584" y="295"/>
                  <a:pt x="582" y="285"/>
                </a:cubicBezTo>
                <a:cubicBezTo>
                  <a:pt x="582" y="284"/>
                  <a:pt x="581" y="284"/>
                  <a:pt x="581" y="285"/>
                </a:cubicBezTo>
                <a:cubicBezTo>
                  <a:pt x="581" y="291"/>
                  <a:pt x="583" y="297"/>
                  <a:pt x="585" y="303"/>
                </a:cubicBezTo>
                <a:cubicBezTo>
                  <a:pt x="586" y="306"/>
                  <a:pt x="587" y="310"/>
                  <a:pt x="588" y="313"/>
                </a:cubicBezTo>
                <a:cubicBezTo>
                  <a:pt x="589" y="315"/>
                  <a:pt x="589" y="316"/>
                  <a:pt x="590" y="318"/>
                </a:cubicBezTo>
                <a:cubicBezTo>
                  <a:pt x="591" y="319"/>
                  <a:pt x="592" y="318"/>
                  <a:pt x="591" y="318"/>
                </a:cubicBezTo>
                <a:cubicBezTo>
                  <a:pt x="592" y="318"/>
                  <a:pt x="592" y="319"/>
                  <a:pt x="592" y="319"/>
                </a:cubicBezTo>
                <a:cubicBezTo>
                  <a:pt x="592" y="319"/>
                  <a:pt x="592" y="319"/>
                  <a:pt x="592" y="319"/>
                </a:cubicBezTo>
                <a:cubicBezTo>
                  <a:pt x="592" y="320"/>
                  <a:pt x="592" y="321"/>
                  <a:pt x="593" y="322"/>
                </a:cubicBezTo>
                <a:cubicBezTo>
                  <a:pt x="588" y="315"/>
                  <a:pt x="584" y="306"/>
                  <a:pt x="578" y="300"/>
                </a:cubicBezTo>
                <a:cubicBezTo>
                  <a:pt x="571" y="293"/>
                  <a:pt x="561" y="288"/>
                  <a:pt x="553" y="282"/>
                </a:cubicBezTo>
                <a:cubicBezTo>
                  <a:pt x="552" y="282"/>
                  <a:pt x="551" y="281"/>
                  <a:pt x="550" y="281"/>
                </a:cubicBezTo>
                <a:cubicBezTo>
                  <a:pt x="550" y="281"/>
                  <a:pt x="550" y="281"/>
                  <a:pt x="550" y="281"/>
                </a:cubicBezTo>
                <a:cubicBezTo>
                  <a:pt x="546" y="278"/>
                  <a:pt x="543" y="276"/>
                  <a:pt x="539" y="274"/>
                </a:cubicBezTo>
                <a:cubicBezTo>
                  <a:pt x="539" y="274"/>
                  <a:pt x="539" y="274"/>
                  <a:pt x="539" y="274"/>
                </a:cubicBezTo>
                <a:cubicBezTo>
                  <a:pt x="540" y="275"/>
                  <a:pt x="542" y="276"/>
                  <a:pt x="543" y="278"/>
                </a:cubicBezTo>
                <a:cubicBezTo>
                  <a:pt x="540" y="276"/>
                  <a:pt x="537" y="275"/>
                  <a:pt x="535" y="274"/>
                </a:cubicBezTo>
                <a:cubicBezTo>
                  <a:pt x="536" y="275"/>
                  <a:pt x="536" y="275"/>
                  <a:pt x="537" y="275"/>
                </a:cubicBezTo>
                <a:cubicBezTo>
                  <a:pt x="538" y="275"/>
                  <a:pt x="538" y="275"/>
                  <a:pt x="538" y="275"/>
                </a:cubicBezTo>
                <a:cubicBezTo>
                  <a:pt x="533" y="270"/>
                  <a:pt x="525" y="267"/>
                  <a:pt x="519" y="264"/>
                </a:cubicBezTo>
                <a:cubicBezTo>
                  <a:pt x="515" y="262"/>
                  <a:pt x="512" y="260"/>
                  <a:pt x="508" y="259"/>
                </a:cubicBezTo>
                <a:cubicBezTo>
                  <a:pt x="504" y="258"/>
                  <a:pt x="500" y="256"/>
                  <a:pt x="496" y="256"/>
                </a:cubicBezTo>
                <a:cubicBezTo>
                  <a:pt x="495" y="255"/>
                  <a:pt x="493" y="255"/>
                  <a:pt x="491" y="256"/>
                </a:cubicBezTo>
                <a:cubicBezTo>
                  <a:pt x="491" y="256"/>
                  <a:pt x="491" y="257"/>
                  <a:pt x="492" y="257"/>
                </a:cubicBezTo>
                <a:cubicBezTo>
                  <a:pt x="494" y="256"/>
                  <a:pt x="499" y="258"/>
                  <a:pt x="501" y="258"/>
                </a:cubicBezTo>
                <a:cubicBezTo>
                  <a:pt x="504" y="259"/>
                  <a:pt x="507" y="260"/>
                  <a:pt x="510" y="261"/>
                </a:cubicBezTo>
                <a:cubicBezTo>
                  <a:pt x="516" y="263"/>
                  <a:pt x="520" y="266"/>
                  <a:pt x="525" y="269"/>
                </a:cubicBezTo>
                <a:cubicBezTo>
                  <a:pt x="528" y="271"/>
                  <a:pt x="531" y="273"/>
                  <a:pt x="534" y="274"/>
                </a:cubicBezTo>
                <a:cubicBezTo>
                  <a:pt x="531" y="273"/>
                  <a:pt x="527" y="272"/>
                  <a:pt x="524" y="271"/>
                </a:cubicBezTo>
                <a:cubicBezTo>
                  <a:pt x="514" y="269"/>
                  <a:pt x="504" y="266"/>
                  <a:pt x="494" y="267"/>
                </a:cubicBezTo>
                <a:cubicBezTo>
                  <a:pt x="487" y="267"/>
                  <a:pt x="479" y="270"/>
                  <a:pt x="472" y="272"/>
                </a:cubicBezTo>
                <a:cubicBezTo>
                  <a:pt x="468" y="273"/>
                  <a:pt x="464" y="274"/>
                  <a:pt x="459" y="276"/>
                </a:cubicBezTo>
                <a:cubicBezTo>
                  <a:pt x="458" y="271"/>
                  <a:pt x="458" y="266"/>
                  <a:pt x="456" y="261"/>
                </a:cubicBezTo>
                <a:cubicBezTo>
                  <a:pt x="454" y="256"/>
                  <a:pt x="452" y="251"/>
                  <a:pt x="452" y="245"/>
                </a:cubicBezTo>
                <a:cubicBezTo>
                  <a:pt x="452" y="240"/>
                  <a:pt x="452" y="235"/>
                  <a:pt x="453" y="230"/>
                </a:cubicBezTo>
                <a:cubicBezTo>
                  <a:pt x="453" y="225"/>
                  <a:pt x="453" y="219"/>
                  <a:pt x="455" y="214"/>
                </a:cubicBezTo>
                <a:cubicBezTo>
                  <a:pt x="456" y="209"/>
                  <a:pt x="459" y="204"/>
                  <a:pt x="461" y="199"/>
                </a:cubicBezTo>
                <a:cubicBezTo>
                  <a:pt x="463" y="194"/>
                  <a:pt x="464" y="188"/>
                  <a:pt x="465" y="183"/>
                </a:cubicBezTo>
                <a:cubicBezTo>
                  <a:pt x="466" y="178"/>
                  <a:pt x="467" y="172"/>
                  <a:pt x="471" y="167"/>
                </a:cubicBezTo>
                <a:cubicBezTo>
                  <a:pt x="474" y="163"/>
                  <a:pt x="478" y="158"/>
                  <a:pt x="482" y="154"/>
                </a:cubicBezTo>
                <a:cubicBezTo>
                  <a:pt x="486" y="150"/>
                  <a:pt x="490" y="146"/>
                  <a:pt x="494" y="143"/>
                </a:cubicBezTo>
                <a:cubicBezTo>
                  <a:pt x="498" y="139"/>
                  <a:pt x="502" y="135"/>
                  <a:pt x="508" y="134"/>
                </a:cubicBezTo>
                <a:cubicBezTo>
                  <a:pt x="513" y="133"/>
                  <a:pt x="519" y="134"/>
                  <a:pt x="525" y="135"/>
                </a:cubicBezTo>
                <a:close/>
                <a:moveTo>
                  <a:pt x="373" y="210"/>
                </a:moveTo>
                <a:cubicBezTo>
                  <a:pt x="375" y="203"/>
                  <a:pt x="375" y="197"/>
                  <a:pt x="376" y="190"/>
                </a:cubicBezTo>
                <a:cubicBezTo>
                  <a:pt x="378" y="176"/>
                  <a:pt x="381" y="162"/>
                  <a:pt x="384" y="148"/>
                </a:cubicBezTo>
                <a:cubicBezTo>
                  <a:pt x="385" y="140"/>
                  <a:pt x="387" y="133"/>
                  <a:pt x="391" y="126"/>
                </a:cubicBezTo>
                <a:cubicBezTo>
                  <a:pt x="394" y="120"/>
                  <a:pt x="400" y="115"/>
                  <a:pt x="404" y="109"/>
                </a:cubicBezTo>
                <a:cubicBezTo>
                  <a:pt x="412" y="98"/>
                  <a:pt x="419" y="86"/>
                  <a:pt x="429" y="77"/>
                </a:cubicBezTo>
                <a:cubicBezTo>
                  <a:pt x="435" y="72"/>
                  <a:pt x="440" y="74"/>
                  <a:pt x="445" y="78"/>
                </a:cubicBezTo>
                <a:cubicBezTo>
                  <a:pt x="448" y="80"/>
                  <a:pt x="448" y="84"/>
                  <a:pt x="452" y="82"/>
                </a:cubicBezTo>
                <a:cubicBezTo>
                  <a:pt x="455" y="80"/>
                  <a:pt x="455" y="76"/>
                  <a:pt x="459" y="80"/>
                </a:cubicBezTo>
                <a:cubicBezTo>
                  <a:pt x="460" y="81"/>
                  <a:pt x="461" y="82"/>
                  <a:pt x="463" y="83"/>
                </a:cubicBezTo>
                <a:cubicBezTo>
                  <a:pt x="466" y="85"/>
                  <a:pt x="469" y="83"/>
                  <a:pt x="472" y="82"/>
                </a:cubicBezTo>
                <a:cubicBezTo>
                  <a:pt x="477" y="77"/>
                  <a:pt x="483" y="74"/>
                  <a:pt x="490" y="78"/>
                </a:cubicBezTo>
                <a:cubicBezTo>
                  <a:pt x="496" y="81"/>
                  <a:pt x="501" y="88"/>
                  <a:pt x="504" y="94"/>
                </a:cubicBezTo>
                <a:cubicBezTo>
                  <a:pt x="512" y="105"/>
                  <a:pt x="517" y="117"/>
                  <a:pt x="522" y="130"/>
                </a:cubicBezTo>
                <a:cubicBezTo>
                  <a:pt x="516" y="129"/>
                  <a:pt x="510" y="129"/>
                  <a:pt x="505" y="131"/>
                </a:cubicBezTo>
                <a:cubicBezTo>
                  <a:pt x="496" y="134"/>
                  <a:pt x="487" y="143"/>
                  <a:pt x="481" y="150"/>
                </a:cubicBezTo>
                <a:cubicBezTo>
                  <a:pt x="472" y="159"/>
                  <a:pt x="464" y="168"/>
                  <a:pt x="462" y="180"/>
                </a:cubicBezTo>
                <a:cubicBezTo>
                  <a:pt x="460" y="187"/>
                  <a:pt x="459" y="194"/>
                  <a:pt x="456" y="201"/>
                </a:cubicBezTo>
                <a:cubicBezTo>
                  <a:pt x="456" y="202"/>
                  <a:pt x="455" y="202"/>
                  <a:pt x="455" y="203"/>
                </a:cubicBezTo>
                <a:cubicBezTo>
                  <a:pt x="456" y="198"/>
                  <a:pt x="457" y="194"/>
                  <a:pt x="458" y="189"/>
                </a:cubicBezTo>
                <a:cubicBezTo>
                  <a:pt x="459" y="183"/>
                  <a:pt x="460" y="178"/>
                  <a:pt x="462" y="172"/>
                </a:cubicBezTo>
                <a:cubicBezTo>
                  <a:pt x="462" y="172"/>
                  <a:pt x="461" y="171"/>
                  <a:pt x="461" y="172"/>
                </a:cubicBezTo>
                <a:cubicBezTo>
                  <a:pt x="458" y="177"/>
                  <a:pt x="456" y="182"/>
                  <a:pt x="456" y="187"/>
                </a:cubicBezTo>
                <a:cubicBezTo>
                  <a:pt x="455" y="195"/>
                  <a:pt x="452" y="202"/>
                  <a:pt x="450" y="209"/>
                </a:cubicBezTo>
                <a:cubicBezTo>
                  <a:pt x="447" y="220"/>
                  <a:pt x="447" y="231"/>
                  <a:pt x="447" y="242"/>
                </a:cubicBezTo>
                <a:cubicBezTo>
                  <a:pt x="447" y="246"/>
                  <a:pt x="447" y="249"/>
                  <a:pt x="446" y="253"/>
                </a:cubicBezTo>
                <a:cubicBezTo>
                  <a:pt x="445" y="258"/>
                  <a:pt x="446" y="263"/>
                  <a:pt x="445" y="267"/>
                </a:cubicBezTo>
                <a:cubicBezTo>
                  <a:pt x="445" y="270"/>
                  <a:pt x="443" y="278"/>
                  <a:pt x="446" y="280"/>
                </a:cubicBezTo>
                <a:cubicBezTo>
                  <a:pt x="447" y="280"/>
                  <a:pt x="448" y="280"/>
                  <a:pt x="447" y="279"/>
                </a:cubicBezTo>
                <a:cubicBezTo>
                  <a:pt x="447" y="278"/>
                  <a:pt x="447" y="275"/>
                  <a:pt x="447" y="273"/>
                </a:cubicBezTo>
                <a:cubicBezTo>
                  <a:pt x="447" y="276"/>
                  <a:pt x="448" y="278"/>
                  <a:pt x="448" y="279"/>
                </a:cubicBezTo>
                <a:cubicBezTo>
                  <a:pt x="448" y="279"/>
                  <a:pt x="448" y="279"/>
                  <a:pt x="449" y="279"/>
                </a:cubicBezTo>
                <a:cubicBezTo>
                  <a:pt x="447" y="280"/>
                  <a:pt x="445" y="281"/>
                  <a:pt x="443" y="283"/>
                </a:cubicBezTo>
                <a:cubicBezTo>
                  <a:pt x="443" y="283"/>
                  <a:pt x="443" y="282"/>
                  <a:pt x="443" y="282"/>
                </a:cubicBezTo>
                <a:cubicBezTo>
                  <a:pt x="442" y="277"/>
                  <a:pt x="443" y="271"/>
                  <a:pt x="443" y="266"/>
                </a:cubicBezTo>
                <a:cubicBezTo>
                  <a:pt x="443" y="258"/>
                  <a:pt x="443" y="250"/>
                  <a:pt x="444" y="242"/>
                </a:cubicBezTo>
                <a:cubicBezTo>
                  <a:pt x="445" y="224"/>
                  <a:pt x="447" y="206"/>
                  <a:pt x="453" y="189"/>
                </a:cubicBezTo>
                <a:cubicBezTo>
                  <a:pt x="453" y="189"/>
                  <a:pt x="452" y="189"/>
                  <a:pt x="452" y="189"/>
                </a:cubicBezTo>
                <a:cubicBezTo>
                  <a:pt x="446" y="206"/>
                  <a:pt x="441" y="224"/>
                  <a:pt x="440" y="241"/>
                </a:cubicBezTo>
                <a:cubicBezTo>
                  <a:pt x="440" y="251"/>
                  <a:pt x="440" y="260"/>
                  <a:pt x="440" y="269"/>
                </a:cubicBezTo>
                <a:cubicBezTo>
                  <a:pt x="440" y="273"/>
                  <a:pt x="439" y="280"/>
                  <a:pt x="440" y="284"/>
                </a:cubicBezTo>
                <a:cubicBezTo>
                  <a:pt x="440" y="284"/>
                  <a:pt x="441" y="284"/>
                  <a:pt x="441" y="284"/>
                </a:cubicBezTo>
                <a:cubicBezTo>
                  <a:pt x="439" y="286"/>
                  <a:pt x="437" y="287"/>
                  <a:pt x="435" y="289"/>
                </a:cubicBezTo>
                <a:cubicBezTo>
                  <a:pt x="436" y="287"/>
                  <a:pt x="436" y="285"/>
                  <a:pt x="436" y="283"/>
                </a:cubicBezTo>
                <a:cubicBezTo>
                  <a:pt x="436" y="281"/>
                  <a:pt x="436" y="278"/>
                  <a:pt x="436" y="276"/>
                </a:cubicBezTo>
                <a:cubicBezTo>
                  <a:pt x="436" y="275"/>
                  <a:pt x="435" y="275"/>
                  <a:pt x="435" y="275"/>
                </a:cubicBezTo>
                <a:cubicBezTo>
                  <a:pt x="433" y="280"/>
                  <a:pt x="434" y="285"/>
                  <a:pt x="433" y="289"/>
                </a:cubicBezTo>
                <a:cubicBezTo>
                  <a:pt x="433" y="290"/>
                  <a:pt x="433" y="290"/>
                  <a:pt x="433" y="290"/>
                </a:cubicBezTo>
                <a:cubicBezTo>
                  <a:pt x="433" y="291"/>
                  <a:pt x="432" y="291"/>
                  <a:pt x="432" y="292"/>
                </a:cubicBezTo>
                <a:cubicBezTo>
                  <a:pt x="432" y="284"/>
                  <a:pt x="430" y="276"/>
                  <a:pt x="430" y="268"/>
                </a:cubicBezTo>
                <a:cubicBezTo>
                  <a:pt x="430" y="264"/>
                  <a:pt x="431" y="259"/>
                  <a:pt x="431" y="255"/>
                </a:cubicBezTo>
                <a:cubicBezTo>
                  <a:pt x="431" y="252"/>
                  <a:pt x="430" y="248"/>
                  <a:pt x="430" y="245"/>
                </a:cubicBezTo>
                <a:cubicBezTo>
                  <a:pt x="430" y="244"/>
                  <a:pt x="429" y="243"/>
                  <a:pt x="429" y="244"/>
                </a:cubicBezTo>
                <a:cubicBezTo>
                  <a:pt x="428" y="252"/>
                  <a:pt x="428" y="260"/>
                  <a:pt x="427" y="268"/>
                </a:cubicBezTo>
                <a:cubicBezTo>
                  <a:pt x="427" y="276"/>
                  <a:pt x="429" y="284"/>
                  <a:pt x="429" y="292"/>
                </a:cubicBezTo>
                <a:cubicBezTo>
                  <a:pt x="429" y="293"/>
                  <a:pt x="430" y="293"/>
                  <a:pt x="430" y="293"/>
                </a:cubicBezTo>
                <a:cubicBezTo>
                  <a:pt x="428" y="295"/>
                  <a:pt x="427" y="297"/>
                  <a:pt x="425" y="299"/>
                </a:cubicBezTo>
                <a:cubicBezTo>
                  <a:pt x="425" y="298"/>
                  <a:pt x="425" y="297"/>
                  <a:pt x="426" y="296"/>
                </a:cubicBezTo>
                <a:cubicBezTo>
                  <a:pt x="426" y="294"/>
                  <a:pt x="426" y="292"/>
                  <a:pt x="426" y="290"/>
                </a:cubicBezTo>
                <a:cubicBezTo>
                  <a:pt x="426" y="290"/>
                  <a:pt x="426" y="289"/>
                  <a:pt x="426" y="290"/>
                </a:cubicBezTo>
                <a:cubicBezTo>
                  <a:pt x="425" y="291"/>
                  <a:pt x="424" y="293"/>
                  <a:pt x="424" y="295"/>
                </a:cubicBezTo>
                <a:cubicBezTo>
                  <a:pt x="423" y="293"/>
                  <a:pt x="422" y="291"/>
                  <a:pt x="422" y="289"/>
                </a:cubicBezTo>
                <a:cubicBezTo>
                  <a:pt x="422" y="289"/>
                  <a:pt x="422" y="289"/>
                  <a:pt x="423" y="289"/>
                </a:cubicBezTo>
                <a:cubicBezTo>
                  <a:pt x="423" y="289"/>
                  <a:pt x="423" y="288"/>
                  <a:pt x="423" y="288"/>
                </a:cubicBezTo>
                <a:cubicBezTo>
                  <a:pt x="423" y="288"/>
                  <a:pt x="423" y="288"/>
                  <a:pt x="423" y="288"/>
                </a:cubicBezTo>
                <a:cubicBezTo>
                  <a:pt x="423" y="288"/>
                  <a:pt x="423" y="288"/>
                  <a:pt x="423" y="288"/>
                </a:cubicBezTo>
                <a:cubicBezTo>
                  <a:pt x="423" y="288"/>
                  <a:pt x="423" y="288"/>
                  <a:pt x="423" y="288"/>
                </a:cubicBezTo>
                <a:cubicBezTo>
                  <a:pt x="423" y="288"/>
                  <a:pt x="423" y="287"/>
                  <a:pt x="423" y="287"/>
                </a:cubicBezTo>
                <a:cubicBezTo>
                  <a:pt x="424" y="286"/>
                  <a:pt x="424" y="285"/>
                  <a:pt x="424" y="284"/>
                </a:cubicBezTo>
                <a:cubicBezTo>
                  <a:pt x="423" y="282"/>
                  <a:pt x="423" y="280"/>
                  <a:pt x="423" y="278"/>
                </a:cubicBezTo>
                <a:cubicBezTo>
                  <a:pt x="422" y="277"/>
                  <a:pt x="422" y="277"/>
                  <a:pt x="422" y="278"/>
                </a:cubicBezTo>
                <a:cubicBezTo>
                  <a:pt x="421" y="279"/>
                  <a:pt x="421" y="281"/>
                  <a:pt x="421" y="283"/>
                </a:cubicBezTo>
                <a:cubicBezTo>
                  <a:pt x="421" y="285"/>
                  <a:pt x="421" y="286"/>
                  <a:pt x="421" y="288"/>
                </a:cubicBezTo>
                <a:cubicBezTo>
                  <a:pt x="421" y="287"/>
                  <a:pt x="420" y="285"/>
                  <a:pt x="420" y="284"/>
                </a:cubicBezTo>
                <a:cubicBezTo>
                  <a:pt x="418" y="279"/>
                  <a:pt x="417" y="275"/>
                  <a:pt x="416" y="271"/>
                </a:cubicBezTo>
                <a:cubicBezTo>
                  <a:pt x="414" y="262"/>
                  <a:pt x="413" y="254"/>
                  <a:pt x="413" y="245"/>
                </a:cubicBezTo>
                <a:cubicBezTo>
                  <a:pt x="413" y="244"/>
                  <a:pt x="412" y="244"/>
                  <a:pt x="412" y="245"/>
                </a:cubicBezTo>
                <a:cubicBezTo>
                  <a:pt x="411" y="254"/>
                  <a:pt x="413" y="263"/>
                  <a:pt x="414" y="271"/>
                </a:cubicBezTo>
                <a:cubicBezTo>
                  <a:pt x="415" y="278"/>
                  <a:pt x="417" y="285"/>
                  <a:pt x="419" y="292"/>
                </a:cubicBezTo>
                <a:cubicBezTo>
                  <a:pt x="417" y="287"/>
                  <a:pt x="414" y="282"/>
                  <a:pt x="410" y="277"/>
                </a:cubicBezTo>
                <a:cubicBezTo>
                  <a:pt x="410" y="277"/>
                  <a:pt x="410" y="276"/>
                  <a:pt x="410" y="276"/>
                </a:cubicBezTo>
                <a:cubicBezTo>
                  <a:pt x="410" y="276"/>
                  <a:pt x="410" y="275"/>
                  <a:pt x="410" y="274"/>
                </a:cubicBezTo>
                <a:cubicBezTo>
                  <a:pt x="410" y="274"/>
                  <a:pt x="410" y="273"/>
                  <a:pt x="409" y="273"/>
                </a:cubicBezTo>
                <a:cubicBezTo>
                  <a:pt x="409" y="273"/>
                  <a:pt x="409" y="273"/>
                  <a:pt x="409" y="273"/>
                </a:cubicBezTo>
                <a:cubicBezTo>
                  <a:pt x="408" y="273"/>
                  <a:pt x="408" y="274"/>
                  <a:pt x="408" y="274"/>
                </a:cubicBezTo>
                <a:cubicBezTo>
                  <a:pt x="407" y="272"/>
                  <a:pt x="406" y="270"/>
                  <a:pt x="405" y="268"/>
                </a:cubicBezTo>
                <a:cubicBezTo>
                  <a:pt x="401" y="262"/>
                  <a:pt x="397" y="255"/>
                  <a:pt x="393" y="249"/>
                </a:cubicBezTo>
                <a:cubicBezTo>
                  <a:pt x="389" y="244"/>
                  <a:pt x="384" y="239"/>
                  <a:pt x="379" y="234"/>
                </a:cubicBezTo>
                <a:cubicBezTo>
                  <a:pt x="377" y="232"/>
                  <a:pt x="375" y="229"/>
                  <a:pt x="373" y="227"/>
                </a:cubicBezTo>
                <a:cubicBezTo>
                  <a:pt x="372" y="221"/>
                  <a:pt x="373" y="215"/>
                  <a:pt x="373" y="210"/>
                </a:cubicBezTo>
                <a:close/>
                <a:moveTo>
                  <a:pt x="343" y="137"/>
                </a:moveTo>
                <a:cubicBezTo>
                  <a:pt x="349" y="146"/>
                  <a:pt x="355" y="156"/>
                  <a:pt x="359" y="166"/>
                </a:cubicBezTo>
                <a:cubicBezTo>
                  <a:pt x="363" y="175"/>
                  <a:pt x="368" y="185"/>
                  <a:pt x="369" y="196"/>
                </a:cubicBezTo>
                <a:cubicBezTo>
                  <a:pt x="370" y="199"/>
                  <a:pt x="370" y="203"/>
                  <a:pt x="370" y="207"/>
                </a:cubicBezTo>
                <a:cubicBezTo>
                  <a:pt x="370" y="210"/>
                  <a:pt x="369" y="213"/>
                  <a:pt x="369" y="216"/>
                </a:cubicBezTo>
                <a:cubicBezTo>
                  <a:pt x="369" y="218"/>
                  <a:pt x="369" y="221"/>
                  <a:pt x="370" y="223"/>
                </a:cubicBezTo>
                <a:cubicBezTo>
                  <a:pt x="368" y="221"/>
                  <a:pt x="365" y="219"/>
                  <a:pt x="363" y="216"/>
                </a:cubicBezTo>
                <a:cubicBezTo>
                  <a:pt x="363" y="216"/>
                  <a:pt x="363" y="216"/>
                  <a:pt x="363" y="216"/>
                </a:cubicBezTo>
                <a:cubicBezTo>
                  <a:pt x="363" y="216"/>
                  <a:pt x="363" y="216"/>
                  <a:pt x="363" y="215"/>
                </a:cubicBezTo>
                <a:cubicBezTo>
                  <a:pt x="364" y="200"/>
                  <a:pt x="357" y="185"/>
                  <a:pt x="352" y="170"/>
                </a:cubicBezTo>
                <a:cubicBezTo>
                  <a:pt x="348" y="157"/>
                  <a:pt x="346" y="144"/>
                  <a:pt x="340" y="132"/>
                </a:cubicBezTo>
                <a:cubicBezTo>
                  <a:pt x="341" y="134"/>
                  <a:pt x="342" y="136"/>
                  <a:pt x="343" y="137"/>
                </a:cubicBezTo>
                <a:close/>
                <a:moveTo>
                  <a:pt x="321" y="108"/>
                </a:moveTo>
                <a:cubicBezTo>
                  <a:pt x="322" y="110"/>
                  <a:pt x="325" y="112"/>
                  <a:pt x="326" y="114"/>
                </a:cubicBezTo>
                <a:cubicBezTo>
                  <a:pt x="326" y="115"/>
                  <a:pt x="326" y="116"/>
                  <a:pt x="326" y="116"/>
                </a:cubicBezTo>
                <a:cubicBezTo>
                  <a:pt x="328" y="118"/>
                  <a:pt x="329" y="119"/>
                  <a:pt x="330" y="121"/>
                </a:cubicBezTo>
                <a:cubicBezTo>
                  <a:pt x="330" y="121"/>
                  <a:pt x="330" y="121"/>
                  <a:pt x="330" y="121"/>
                </a:cubicBezTo>
                <a:cubicBezTo>
                  <a:pt x="331" y="124"/>
                  <a:pt x="331" y="127"/>
                  <a:pt x="334" y="129"/>
                </a:cubicBezTo>
                <a:cubicBezTo>
                  <a:pt x="334" y="130"/>
                  <a:pt x="335" y="130"/>
                  <a:pt x="336" y="129"/>
                </a:cubicBezTo>
                <a:cubicBezTo>
                  <a:pt x="343" y="143"/>
                  <a:pt x="344" y="158"/>
                  <a:pt x="349" y="172"/>
                </a:cubicBezTo>
                <a:cubicBezTo>
                  <a:pt x="354" y="186"/>
                  <a:pt x="360" y="200"/>
                  <a:pt x="361" y="215"/>
                </a:cubicBezTo>
                <a:cubicBezTo>
                  <a:pt x="356" y="211"/>
                  <a:pt x="351" y="208"/>
                  <a:pt x="345" y="205"/>
                </a:cubicBezTo>
                <a:cubicBezTo>
                  <a:pt x="339" y="201"/>
                  <a:pt x="333" y="198"/>
                  <a:pt x="327" y="195"/>
                </a:cubicBezTo>
                <a:cubicBezTo>
                  <a:pt x="328" y="184"/>
                  <a:pt x="322" y="174"/>
                  <a:pt x="317" y="164"/>
                </a:cubicBezTo>
                <a:cubicBezTo>
                  <a:pt x="314" y="157"/>
                  <a:pt x="311" y="150"/>
                  <a:pt x="310" y="143"/>
                </a:cubicBezTo>
                <a:cubicBezTo>
                  <a:pt x="308" y="135"/>
                  <a:pt x="308" y="129"/>
                  <a:pt x="309" y="121"/>
                </a:cubicBezTo>
                <a:cubicBezTo>
                  <a:pt x="309" y="121"/>
                  <a:pt x="308" y="121"/>
                  <a:pt x="308" y="121"/>
                </a:cubicBezTo>
                <a:cubicBezTo>
                  <a:pt x="305" y="126"/>
                  <a:pt x="306" y="132"/>
                  <a:pt x="307" y="137"/>
                </a:cubicBezTo>
                <a:cubicBezTo>
                  <a:pt x="308" y="145"/>
                  <a:pt x="310" y="152"/>
                  <a:pt x="313" y="159"/>
                </a:cubicBezTo>
                <a:cubicBezTo>
                  <a:pt x="318" y="171"/>
                  <a:pt x="324" y="182"/>
                  <a:pt x="325" y="194"/>
                </a:cubicBezTo>
                <a:cubicBezTo>
                  <a:pt x="319" y="191"/>
                  <a:pt x="312" y="188"/>
                  <a:pt x="305" y="187"/>
                </a:cubicBezTo>
                <a:cubicBezTo>
                  <a:pt x="304" y="187"/>
                  <a:pt x="304" y="186"/>
                  <a:pt x="303" y="186"/>
                </a:cubicBezTo>
                <a:cubicBezTo>
                  <a:pt x="303" y="186"/>
                  <a:pt x="303" y="185"/>
                  <a:pt x="303" y="185"/>
                </a:cubicBezTo>
                <a:cubicBezTo>
                  <a:pt x="300" y="180"/>
                  <a:pt x="301" y="175"/>
                  <a:pt x="300" y="170"/>
                </a:cubicBezTo>
                <a:cubicBezTo>
                  <a:pt x="300" y="164"/>
                  <a:pt x="300" y="158"/>
                  <a:pt x="300" y="153"/>
                </a:cubicBezTo>
                <a:cubicBezTo>
                  <a:pt x="300" y="142"/>
                  <a:pt x="302" y="133"/>
                  <a:pt x="306" y="123"/>
                </a:cubicBezTo>
                <a:cubicBezTo>
                  <a:pt x="308" y="118"/>
                  <a:pt x="309" y="113"/>
                  <a:pt x="312" y="108"/>
                </a:cubicBezTo>
                <a:cubicBezTo>
                  <a:pt x="312" y="108"/>
                  <a:pt x="312" y="108"/>
                  <a:pt x="312" y="107"/>
                </a:cubicBezTo>
                <a:cubicBezTo>
                  <a:pt x="312" y="107"/>
                  <a:pt x="312" y="107"/>
                  <a:pt x="312" y="107"/>
                </a:cubicBezTo>
                <a:cubicBezTo>
                  <a:pt x="313" y="106"/>
                  <a:pt x="314" y="105"/>
                  <a:pt x="314" y="104"/>
                </a:cubicBezTo>
                <a:cubicBezTo>
                  <a:pt x="315" y="103"/>
                  <a:pt x="320" y="107"/>
                  <a:pt x="321" y="108"/>
                </a:cubicBezTo>
                <a:close/>
                <a:moveTo>
                  <a:pt x="297" y="173"/>
                </a:moveTo>
                <a:cubicBezTo>
                  <a:pt x="297" y="177"/>
                  <a:pt x="297" y="181"/>
                  <a:pt x="299" y="185"/>
                </a:cubicBezTo>
                <a:cubicBezTo>
                  <a:pt x="297" y="185"/>
                  <a:pt x="295" y="184"/>
                  <a:pt x="293" y="184"/>
                </a:cubicBezTo>
                <a:cubicBezTo>
                  <a:pt x="293" y="184"/>
                  <a:pt x="293" y="183"/>
                  <a:pt x="293" y="183"/>
                </a:cubicBezTo>
                <a:cubicBezTo>
                  <a:pt x="293" y="183"/>
                  <a:pt x="293" y="182"/>
                  <a:pt x="293" y="182"/>
                </a:cubicBezTo>
                <a:cubicBezTo>
                  <a:pt x="288" y="170"/>
                  <a:pt x="292" y="155"/>
                  <a:pt x="295" y="142"/>
                </a:cubicBezTo>
                <a:cubicBezTo>
                  <a:pt x="297" y="136"/>
                  <a:pt x="298" y="129"/>
                  <a:pt x="300" y="122"/>
                </a:cubicBezTo>
                <a:cubicBezTo>
                  <a:pt x="302" y="118"/>
                  <a:pt x="303" y="114"/>
                  <a:pt x="307" y="112"/>
                </a:cubicBezTo>
                <a:cubicBezTo>
                  <a:pt x="306" y="114"/>
                  <a:pt x="305" y="116"/>
                  <a:pt x="305" y="117"/>
                </a:cubicBezTo>
                <a:cubicBezTo>
                  <a:pt x="303" y="123"/>
                  <a:pt x="300" y="129"/>
                  <a:pt x="299" y="136"/>
                </a:cubicBezTo>
                <a:cubicBezTo>
                  <a:pt x="298" y="141"/>
                  <a:pt x="297" y="147"/>
                  <a:pt x="297" y="152"/>
                </a:cubicBezTo>
                <a:cubicBezTo>
                  <a:pt x="297" y="159"/>
                  <a:pt x="297" y="166"/>
                  <a:pt x="297" y="173"/>
                </a:cubicBezTo>
                <a:close/>
                <a:moveTo>
                  <a:pt x="239" y="8"/>
                </a:moveTo>
                <a:cubicBezTo>
                  <a:pt x="238" y="6"/>
                  <a:pt x="245" y="10"/>
                  <a:pt x="246" y="10"/>
                </a:cubicBezTo>
                <a:cubicBezTo>
                  <a:pt x="249" y="12"/>
                  <a:pt x="252" y="14"/>
                  <a:pt x="256" y="16"/>
                </a:cubicBezTo>
                <a:cubicBezTo>
                  <a:pt x="264" y="22"/>
                  <a:pt x="272" y="30"/>
                  <a:pt x="279" y="38"/>
                </a:cubicBezTo>
                <a:cubicBezTo>
                  <a:pt x="288" y="49"/>
                  <a:pt x="296" y="60"/>
                  <a:pt x="302" y="73"/>
                </a:cubicBezTo>
                <a:cubicBezTo>
                  <a:pt x="305" y="80"/>
                  <a:pt x="309" y="86"/>
                  <a:pt x="311" y="93"/>
                </a:cubicBezTo>
                <a:cubicBezTo>
                  <a:pt x="312" y="96"/>
                  <a:pt x="313" y="99"/>
                  <a:pt x="315" y="102"/>
                </a:cubicBezTo>
                <a:cubicBezTo>
                  <a:pt x="312" y="102"/>
                  <a:pt x="310" y="104"/>
                  <a:pt x="309" y="107"/>
                </a:cubicBezTo>
                <a:cubicBezTo>
                  <a:pt x="306" y="108"/>
                  <a:pt x="304" y="110"/>
                  <a:pt x="302" y="112"/>
                </a:cubicBezTo>
                <a:cubicBezTo>
                  <a:pt x="302" y="108"/>
                  <a:pt x="300" y="104"/>
                  <a:pt x="299" y="101"/>
                </a:cubicBezTo>
                <a:cubicBezTo>
                  <a:pt x="298" y="99"/>
                  <a:pt x="297" y="97"/>
                  <a:pt x="297" y="96"/>
                </a:cubicBezTo>
                <a:cubicBezTo>
                  <a:pt x="297" y="96"/>
                  <a:pt x="297" y="96"/>
                  <a:pt x="297" y="95"/>
                </a:cubicBezTo>
                <a:cubicBezTo>
                  <a:pt x="298" y="93"/>
                  <a:pt x="297" y="90"/>
                  <a:pt x="297" y="88"/>
                </a:cubicBezTo>
                <a:cubicBezTo>
                  <a:pt x="297" y="85"/>
                  <a:pt x="297" y="82"/>
                  <a:pt x="298" y="79"/>
                </a:cubicBezTo>
                <a:cubicBezTo>
                  <a:pt x="298" y="79"/>
                  <a:pt x="297" y="79"/>
                  <a:pt x="297" y="79"/>
                </a:cubicBezTo>
                <a:cubicBezTo>
                  <a:pt x="296" y="82"/>
                  <a:pt x="296" y="85"/>
                  <a:pt x="296" y="88"/>
                </a:cubicBezTo>
                <a:cubicBezTo>
                  <a:pt x="296" y="89"/>
                  <a:pt x="295" y="91"/>
                  <a:pt x="295" y="93"/>
                </a:cubicBezTo>
                <a:cubicBezTo>
                  <a:pt x="294" y="91"/>
                  <a:pt x="293" y="89"/>
                  <a:pt x="292" y="87"/>
                </a:cubicBezTo>
                <a:cubicBezTo>
                  <a:pt x="293" y="86"/>
                  <a:pt x="293" y="83"/>
                  <a:pt x="293" y="82"/>
                </a:cubicBezTo>
                <a:cubicBezTo>
                  <a:pt x="293" y="80"/>
                  <a:pt x="293" y="77"/>
                  <a:pt x="293" y="75"/>
                </a:cubicBezTo>
                <a:cubicBezTo>
                  <a:pt x="293" y="74"/>
                  <a:pt x="292" y="74"/>
                  <a:pt x="292" y="75"/>
                </a:cubicBezTo>
                <a:cubicBezTo>
                  <a:pt x="291" y="77"/>
                  <a:pt x="291" y="80"/>
                  <a:pt x="291" y="82"/>
                </a:cubicBezTo>
                <a:cubicBezTo>
                  <a:pt x="291" y="83"/>
                  <a:pt x="291" y="84"/>
                  <a:pt x="291" y="84"/>
                </a:cubicBezTo>
                <a:cubicBezTo>
                  <a:pt x="290" y="83"/>
                  <a:pt x="289" y="82"/>
                  <a:pt x="289" y="81"/>
                </a:cubicBezTo>
                <a:cubicBezTo>
                  <a:pt x="289" y="80"/>
                  <a:pt x="288" y="78"/>
                  <a:pt x="288" y="77"/>
                </a:cubicBezTo>
                <a:cubicBezTo>
                  <a:pt x="288" y="75"/>
                  <a:pt x="288" y="74"/>
                  <a:pt x="288" y="72"/>
                </a:cubicBezTo>
                <a:cubicBezTo>
                  <a:pt x="288" y="71"/>
                  <a:pt x="287" y="71"/>
                  <a:pt x="287" y="72"/>
                </a:cubicBezTo>
                <a:cubicBezTo>
                  <a:pt x="287" y="74"/>
                  <a:pt x="287" y="76"/>
                  <a:pt x="287" y="78"/>
                </a:cubicBezTo>
                <a:cubicBezTo>
                  <a:pt x="287" y="78"/>
                  <a:pt x="287" y="78"/>
                  <a:pt x="287" y="78"/>
                </a:cubicBezTo>
                <a:cubicBezTo>
                  <a:pt x="287" y="78"/>
                  <a:pt x="286" y="77"/>
                  <a:pt x="286" y="76"/>
                </a:cubicBezTo>
                <a:cubicBezTo>
                  <a:pt x="285" y="76"/>
                  <a:pt x="284" y="75"/>
                  <a:pt x="284" y="73"/>
                </a:cubicBezTo>
                <a:cubicBezTo>
                  <a:pt x="284" y="71"/>
                  <a:pt x="284" y="69"/>
                  <a:pt x="284" y="67"/>
                </a:cubicBezTo>
                <a:cubicBezTo>
                  <a:pt x="284" y="64"/>
                  <a:pt x="284" y="62"/>
                  <a:pt x="284" y="59"/>
                </a:cubicBezTo>
                <a:cubicBezTo>
                  <a:pt x="284" y="58"/>
                  <a:pt x="284" y="58"/>
                  <a:pt x="284" y="59"/>
                </a:cubicBezTo>
                <a:cubicBezTo>
                  <a:pt x="283" y="61"/>
                  <a:pt x="283" y="64"/>
                  <a:pt x="283" y="67"/>
                </a:cubicBezTo>
                <a:cubicBezTo>
                  <a:pt x="283" y="68"/>
                  <a:pt x="282" y="70"/>
                  <a:pt x="282" y="71"/>
                </a:cubicBezTo>
                <a:cubicBezTo>
                  <a:pt x="281" y="69"/>
                  <a:pt x="279" y="67"/>
                  <a:pt x="277" y="65"/>
                </a:cubicBezTo>
                <a:cubicBezTo>
                  <a:pt x="278" y="63"/>
                  <a:pt x="278" y="62"/>
                  <a:pt x="278" y="60"/>
                </a:cubicBezTo>
                <a:cubicBezTo>
                  <a:pt x="278" y="58"/>
                  <a:pt x="278" y="56"/>
                  <a:pt x="278" y="55"/>
                </a:cubicBezTo>
                <a:cubicBezTo>
                  <a:pt x="278" y="54"/>
                  <a:pt x="277" y="53"/>
                  <a:pt x="277" y="54"/>
                </a:cubicBezTo>
                <a:cubicBezTo>
                  <a:pt x="277" y="57"/>
                  <a:pt x="276" y="61"/>
                  <a:pt x="276" y="64"/>
                </a:cubicBezTo>
                <a:cubicBezTo>
                  <a:pt x="275" y="63"/>
                  <a:pt x="274" y="61"/>
                  <a:pt x="273" y="60"/>
                </a:cubicBezTo>
                <a:cubicBezTo>
                  <a:pt x="273" y="59"/>
                  <a:pt x="273" y="58"/>
                  <a:pt x="273" y="56"/>
                </a:cubicBezTo>
                <a:cubicBezTo>
                  <a:pt x="273" y="55"/>
                  <a:pt x="273" y="53"/>
                  <a:pt x="273" y="51"/>
                </a:cubicBezTo>
                <a:cubicBezTo>
                  <a:pt x="273" y="50"/>
                  <a:pt x="272" y="50"/>
                  <a:pt x="272" y="51"/>
                </a:cubicBezTo>
                <a:cubicBezTo>
                  <a:pt x="272" y="53"/>
                  <a:pt x="272" y="55"/>
                  <a:pt x="272" y="56"/>
                </a:cubicBezTo>
                <a:cubicBezTo>
                  <a:pt x="272" y="57"/>
                  <a:pt x="271" y="58"/>
                  <a:pt x="271" y="59"/>
                </a:cubicBezTo>
                <a:cubicBezTo>
                  <a:pt x="270" y="58"/>
                  <a:pt x="269" y="57"/>
                  <a:pt x="268" y="56"/>
                </a:cubicBezTo>
                <a:cubicBezTo>
                  <a:pt x="268" y="56"/>
                  <a:pt x="268" y="56"/>
                  <a:pt x="268" y="56"/>
                </a:cubicBezTo>
                <a:cubicBezTo>
                  <a:pt x="270" y="55"/>
                  <a:pt x="270" y="52"/>
                  <a:pt x="270" y="50"/>
                </a:cubicBezTo>
                <a:cubicBezTo>
                  <a:pt x="271" y="48"/>
                  <a:pt x="271" y="46"/>
                  <a:pt x="271" y="44"/>
                </a:cubicBezTo>
                <a:cubicBezTo>
                  <a:pt x="271" y="43"/>
                  <a:pt x="270" y="43"/>
                  <a:pt x="270" y="44"/>
                </a:cubicBezTo>
                <a:cubicBezTo>
                  <a:pt x="269" y="46"/>
                  <a:pt x="269" y="48"/>
                  <a:pt x="269" y="50"/>
                </a:cubicBezTo>
                <a:cubicBezTo>
                  <a:pt x="268" y="52"/>
                  <a:pt x="267" y="54"/>
                  <a:pt x="267" y="56"/>
                </a:cubicBezTo>
                <a:cubicBezTo>
                  <a:pt x="267" y="56"/>
                  <a:pt x="267" y="56"/>
                  <a:pt x="267" y="56"/>
                </a:cubicBezTo>
                <a:cubicBezTo>
                  <a:pt x="266" y="55"/>
                  <a:pt x="264" y="54"/>
                  <a:pt x="262" y="54"/>
                </a:cubicBezTo>
                <a:cubicBezTo>
                  <a:pt x="263" y="52"/>
                  <a:pt x="264" y="49"/>
                  <a:pt x="264" y="47"/>
                </a:cubicBezTo>
                <a:cubicBezTo>
                  <a:pt x="265" y="45"/>
                  <a:pt x="265" y="43"/>
                  <a:pt x="265" y="40"/>
                </a:cubicBezTo>
                <a:cubicBezTo>
                  <a:pt x="265" y="40"/>
                  <a:pt x="263" y="40"/>
                  <a:pt x="263" y="40"/>
                </a:cubicBezTo>
                <a:cubicBezTo>
                  <a:pt x="264" y="43"/>
                  <a:pt x="263" y="45"/>
                  <a:pt x="262" y="47"/>
                </a:cubicBezTo>
                <a:cubicBezTo>
                  <a:pt x="262" y="49"/>
                  <a:pt x="261" y="51"/>
                  <a:pt x="261" y="53"/>
                </a:cubicBezTo>
                <a:cubicBezTo>
                  <a:pt x="261" y="53"/>
                  <a:pt x="261" y="54"/>
                  <a:pt x="261" y="54"/>
                </a:cubicBezTo>
                <a:cubicBezTo>
                  <a:pt x="260" y="54"/>
                  <a:pt x="259" y="54"/>
                  <a:pt x="257" y="54"/>
                </a:cubicBezTo>
                <a:cubicBezTo>
                  <a:pt x="257" y="54"/>
                  <a:pt x="257" y="53"/>
                  <a:pt x="257" y="53"/>
                </a:cubicBezTo>
                <a:cubicBezTo>
                  <a:pt x="257" y="53"/>
                  <a:pt x="257" y="53"/>
                  <a:pt x="257" y="53"/>
                </a:cubicBezTo>
                <a:cubicBezTo>
                  <a:pt x="257" y="51"/>
                  <a:pt x="258" y="49"/>
                  <a:pt x="258" y="48"/>
                </a:cubicBezTo>
                <a:cubicBezTo>
                  <a:pt x="258" y="47"/>
                  <a:pt x="258" y="47"/>
                  <a:pt x="257" y="47"/>
                </a:cubicBezTo>
                <a:cubicBezTo>
                  <a:pt x="257" y="49"/>
                  <a:pt x="256" y="50"/>
                  <a:pt x="256" y="51"/>
                </a:cubicBezTo>
                <a:cubicBezTo>
                  <a:pt x="255" y="49"/>
                  <a:pt x="255" y="48"/>
                  <a:pt x="254" y="46"/>
                </a:cubicBezTo>
                <a:cubicBezTo>
                  <a:pt x="254" y="46"/>
                  <a:pt x="254" y="46"/>
                  <a:pt x="254" y="46"/>
                </a:cubicBezTo>
                <a:cubicBezTo>
                  <a:pt x="255" y="44"/>
                  <a:pt x="255" y="40"/>
                  <a:pt x="256" y="38"/>
                </a:cubicBezTo>
                <a:cubicBezTo>
                  <a:pt x="256" y="35"/>
                  <a:pt x="256" y="32"/>
                  <a:pt x="256" y="28"/>
                </a:cubicBezTo>
                <a:cubicBezTo>
                  <a:pt x="256" y="28"/>
                  <a:pt x="255" y="28"/>
                  <a:pt x="255" y="28"/>
                </a:cubicBezTo>
                <a:cubicBezTo>
                  <a:pt x="255" y="32"/>
                  <a:pt x="254" y="35"/>
                  <a:pt x="254" y="38"/>
                </a:cubicBezTo>
                <a:cubicBezTo>
                  <a:pt x="253" y="40"/>
                  <a:pt x="253" y="42"/>
                  <a:pt x="253" y="43"/>
                </a:cubicBezTo>
                <a:cubicBezTo>
                  <a:pt x="248" y="32"/>
                  <a:pt x="243" y="20"/>
                  <a:pt x="238" y="9"/>
                </a:cubicBezTo>
                <a:cubicBezTo>
                  <a:pt x="238" y="9"/>
                  <a:pt x="239" y="8"/>
                  <a:pt x="239" y="8"/>
                </a:cubicBezTo>
                <a:close/>
                <a:moveTo>
                  <a:pt x="235" y="9"/>
                </a:moveTo>
                <a:cubicBezTo>
                  <a:pt x="236" y="9"/>
                  <a:pt x="236" y="9"/>
                  <a:pt x="237" y="9"/>
                </a:cubicBezTo>
                <a:cubicBezTo>
                  <a:pt x="237" y="17"/>
                  <a:pt x="242" y="24"/>
                  <a:pt x="245" y="31"/>
                </a:cubicBezTo>
                <a:cubicBezTo>
                  <a:pt x="248" y="40"/>
                  <a:pt x="251" y="48"/>
                  <a:pt x="255" y="56"/>
                </a:cubicBezTo>
                <a:cubicBezTo>
                  <a:pt x="255" y="57"/>
                  <a:pt x="255" y="57"/>
                  <a:pt x="255" y="58"/>
                </a:cubicBezTo>
                <a:cubicBezTo>
                  <a:pt x="255" y="58"/>
                  <a:pt x="255" y="58"/>
                  <a:pt x="256" y="58"/>
                </a:cubicBezTo>
                <a:cubicBezTo>
                  <a:pt x="256" y="58"/>
                  <a:pt x="256" y="58"/>
                  <a:pt x="256" y="58"/>
                </a:cubicBezTo>
                <a:cubicBezTo>
                  <a:pt x="256" y="58"/>
                  <a:pt x="257" y="58"/>
                  <a:pt x="258" y="58"/>
                </a:cubicBezTo>
                <a:cubicBezTo>
                  <a:pt x="262" y="55"/>
                  <a:pt x="267" y="60"/>
                  <a:pt x="270" y="63"/>
                </a:cubicBezTo>
                <a:cubicBezTo>
                  <a:pt x="276" y="68"/>
                  <a:pt x="280" y="75"/>
                  <a:pt x="284" y="81"/>
                </a:cubicBezTo>
                <a:cubicBezTo>
                  <a:pt x="291" y="91"/>
                  <a:pt x="300" y="105"/>
                  <a:pt x="298" y="117"/>
                </a:cubicBezTo>
                <a:cubicBezTo>
                  <a:pt x="298" y="117"/>
                  <a:pt x="298" y="118"/>
                  <a:pt x="298" y="118"/>
                </a:cubicBezTo>
                <a:cubicBezTo>
                  <a:pt x="298" y="120"/>
                  <a:pt x="297" y="122"/>
                  <a:pt x="296" y="123"/>
                </a:cubicBezTo>
                <a:cubicBezTo>
                  <a:pt x="294" y="131"/>
                  <a:pt x="293" y="138"/>
                  <a:pt x="291" y="146"/>
                </a:cubicBezTo>
                <a:cubicBezTo>
                  <a:pt x="289" y="154"/>
                  <a:pt x="286" y="164"/>
                  <a:pt x="287" y="174"/>
                </a:cubicBezTo>
                <a:cubicBezTo>
                  <a:pt x="284" y="170"/>
                  <a:pt x="281" y="166"/>
                  <a:pt x="278" y="162"/>
                </a:cubicBezTo>
                <a:cubicBezTo>
                  <a:pt x="270" y="150"/>
                  <a:pt x="262" y="137"/>
                  <a:pt x="255" y="124"/>
                </a:cubicBezTo>
                <a:cubicBezTo>
                  <a:pt x="251" y="117"/>
                  <a:pt x="248" y="110"/>
                  <a:pt x="245" y="102"/>
                </a:cubicBezTo>
                <a:cubicBezTo>
                  <a:pt x="245" y="102"/>
                  <a:pt x="245" y="102"/>
                  <a:pt x="245" y="102"/>
                </a:cubicBezTo>
                <a:cubicBezTo>
                  <a:pt x="245" y="100"/>
                  <a:pt x="245" y="97"/>
                  <a:pt x="244" y="95"/>
                </a:cubicBezTo>
                <a:cubicBezTo>
                  <a:pt x="244" y="93"/>
                  <a:pt x="244" y="91"/>
                  <a:pt x="244" y="89"/>
                </a:cubicBezTo>
                <a:cubicBezTo>
                  <a:pt x="244" y="87"/>
                  <a:pt x="242" y="87"/>
                  <a:pt x="242" y="89"/>
                </a:cubicBezTo>
                <a:cubicBezTo>
                  <a:pt x="242" y="91"/>
                  <a:pt x="242" y="93"/>
                  <a:pt x="242" y="95"/>
                </a:cubicBezTo>
                <a:cubicBezTo>
                  <a:pt x="241" y="92"/>
                  <a:pt x="241" y="88"/>
                  <a:pt x="240" y="85"/>
                </a:cubicBezTo>
                <a:cubicBezTo>
                  <a:pt x="239" y="72"/>
                  <a:pt x="239" y="60"/>
                  <a:pt x="236" y="47"/>
                </a:cubicBezTo>
                <a:cubicBezTo>
                  <a:pt x="235" y="47"/>
                  <a:pt x="235" y="46"/>
                  <a:pt x="234" y="46"/>
                </a:cubicBezTo>
                <a:cubicBezTo>
                  <a:pt x="232" y="46"/>
                  <a:pt x="233" y="34"/>
                  <a:pt x="232" y="32"/>
                </a:cubicBezTo>
                <a:cubicBezTo>
                  <a:pt x="231" y="26"/>
                  <a:pt x="229" y="21"/>
                  <a:pt x="229" y="16"/>
                </a:cubicBezTo>
                <a:cubicBezTo>
                  <a:pt x="229" y="15"/>
                  <a:pt x="229" y="15"/>
                  <a:pt x="228" y="15"/>
                </a:cubicBezTo>
                <a:cubicBezTo>
                  <a:pt x="230" y="11"/>
                  <a:pt x="232" y="5"/>
                  <a:pt x="235" y="9"/>
                </a:cubicBezTo>
                <a:close/>
                <a:moveTo>
                  <a:pt x="269" y="165"/>
                </a:moveTo>
                <a:cubicBezTo>
                  <a:pt x="262" y="157"/>
                  <a:pt x="255" y="149"/>
                  <a:pt x="250" y="140"/>
                </a:cubicBezTo>
                <a:cubicBezTo>
                  <a:pt x="240" y="123"/>
                  <a:pt x="233" y="106"/>
                  <a:pt x="228" y="87"/>
                </a:cubicBezTo>
                <a:cubicBezTo>
                  <a:pt x="223" y="68"/>
                  <a:pt x="220" y="49"/>
                  <a:pt x="224" y="29"/>
                </a:cubicBezTo>
                <a:cubicBezTo>
                  <a:pt x="225" y="27"/>
                  <a:pt x="225" y="25"/>
                  <a:pt x="226" y="23"/>
                </a:cubicBezTo>
                <a:cubicBezTo>
                  <a:pt x="226" y="28"/>
                  <a:pt x="229" y="32"/>
                  <a:pt x="229" y="37"/>
                </a:cubicBezTo>
                <a:cubicBezTo>
                  <a:pt x="229" y="41"/>
                  <a:pt x="227" y="48"/>
                  <a:pt x="232" y="50"/>
                </a:cubicBezTo>
                <a:cubicBezTo>
                  <a:pt x="235" y="61"/>
                  <a:pt x="234" y="74"/>
                  <a:pt x="236" y="86"/>
                </a:cubicBezTo>
                <a:cubicBezTo>
                  <a:pt x="238" y="98"/>
                  <a:pt x="243" y="110"/>
                  <a:pt x="249" y="121"/>
                </a:cubicBezTo>
                <a:cubicBezTo>
                  <a:pt x="255" y="134"/>
                  <a:pt x="263" y="146"/>
                  <a:pt x="271" y="158"/>
                </a:cubicBezTo>
                <a:cubicBezTo>
                  <a:pt x="274" y="163"/>
                  <a:pt x="277" y="168"/>
                  <a:pt x="281" y="172"/>
                </a:cubicBezTo>
                <a:cubicBezTo>
                  <a:pt x="282" y="174"/>
                  <a:pt x="285" y="176"/>
                  <a:pt x="288" y="178"/>
                </a:cubicBezTo>
                <a:cubicBezTo>
                  <a:pt x="288" y="179"/>
                  <a:pt x="288" y="181"/>
                  <a:pt x="289" y="182"/>
                </a:cubicBezTo>
                <a:cubicBezTo>
                  <a:pt x="281" y="178"/>
                  <a:pt x="275" y="171"/>
                  <a:pt x="269" y="165"/>
                </a:cubicBezTo>
                <a:close/>
                <a:moveTo>
                  <a:pt x="275" y="184"/>
                </a:moveTo>
                <a:cubicBezTo>
                  <a:pt x="279" y="184"/>
                  <a:pt x="284" y="185"/>
                  <a:pt x="289" y="186"/>
                </a:cubicBezTo>
                <a:cubicBezTo>
                  <a:pt x="289" y="187"/>
                  <a:pt x="290" y="187"/>
                  <a:pt x="290" y="187"/>
                </a:cubicBezTo>
                <a:cubicBezTo>
                  <a:pt x="291" y="187"/>
                  <a:pt x="291" y="187"/>
                  <a:pt x="292" y="187"/>
                </a:cubicBezTo>
                <a:cubicBezTo>
                  <a:pt x="294" y="188"/>
                  <a:pt x="296" y="188"/>
                  <a:pt x="298" y="188"/>
                </a:cubicBezTo>
                <a:cubicBezTo>
                  <a:pt x="306" y="190"/>
                  <a:pt x="314" y="192"/>
                  <a:pt x="321" y="196"/>
                </a:cubicBezTo>
                <a:cubicBezTo>
                  <a:pt x="337" y="205"/>
                  <a:pt x="354" y="211"/>
                  <a:pt x="366" y="224"/>
                </a:cubicBezTo>
                <a:cubicBezTo>
                  <a:pt x="372" y="231"/>
                  <a:pt x="378" y="237"/>
                  <a:pt x="384" y="244"/>
                </a:cubicBezTo>
                <a:cubicBezTo>
                  <a:pt x="390" y="250"/>
                  <a:pt x="394" y="257"/>
                  <a:pt x="398" y="264"/>
                </a:cubicBezTo>
                <a:cubicBezTo>
                  <a:pt x="406" y="276"/>
                  <a:pt x="416" y="289"/>
                  <a:pt x="422" y="303"/>
                </a:cubicBezTo>
                <a:cubicBezTo>
                  <a:pt x="421" y="303"/>
                  <a:pt x="421" y="304"/>
                  <a:pt x="421" y="304"/>
                </a:cubicBezTo>
                <a:cubicBezTo>
                  <a:pt x="420" y="305"/>
                  <a:pt x="419" y="307"/>
                  <a:pt x="418" y="308"/>
                </a:cubicBezTo>
                <a:cubicBezTo>
                  <a:pt x="418" y="307"/>
                  <a:pt x="418" y="307"/>
                  <a:pt x="418" y="307"/>
                </a:cubicBezTo>
                <a:cubicBezTo>
                  <a:pt x="406" y="285"/>
                  <a:pt x="397" y="261"/>
                  <a:pt x="378" y="244"/>
                </a:cubicBezTo>
                <a:cubicBezTo>
                  <a:pt x="369" y="235"/>
                  <a:pt x="359" y="228"/>
                  <a:pt x="349" y="220"/>
                </a:cubicBezTo>
                <a:cubicBezTo>
                  <a:pt x="339" y="212"/>
                  <a:pt x="330" y="203"/>
                  <a:pt x="319" y="197"/>
                </a:cubicBezTo>
                <a:cubicBezTo>
                  <a:pt x="308" y="192"/>
                  <a:pt x="295" y="189"/>
                  <a:pt x="283" y="187"/>
                </a:cubicBezTo>
                <a:cubicBezTo>
                  <a:pt x="272" y="186"/>
                  <a:pt x="261" y="184"/>
                  <a:pt x="250" y="186"/>
                </a:cubicBezTo>
                <a:cubicBezTo>
                  <a:pt x="239" y="187"/>
                  <a:pt x="229" y="191"/>
                  <a:pt x="219" y="198"/>
                </a:cubicBezTo>
                <a:cubicBezTo>
                  <a:pt x="209" y="205"/>
                  <a:pt x="206" y="214"/>
                  <a:pt x="201" y="225"/>
                </a:cubicBezTo>
                <a:cubicBezTo>
                  <a:pt x="200" y="226"/>
                  <a:pt x="202" y="227"/>
                  <a:pt x="202" y="226"/>
                </a:cubicBezTo>
                <a:cubicBezTo>
                  <a:pt x="206" y="221"/>
                  <a:pt x="208" y="216"/>
                  <a:pt x="211" y="211"/>
                </a:cubicBezTo>
                <a:cubicBezTo>
                  <a:pt x="215" y="206"/>
                  <a:pt x="220" y="202"/>
                  <a:pt x="226" y="198"/>
                </a:cubicBezTo>
                <a:cubicBezTo>
                  <a:pt x="236" y="192"/>
                  <a:pt x="246" y="189"/>
                  <a:pt x="258" y="189"/>
                </a:cubicBezTo>
                <a:cubicBezTo>
                  <a:pt x="270" y="189"/>
                  <a:pt x="282" y="190"/>
                  <a:pt x="294" y="193"/>
                </a:cubicBezTo>
                <a:cubicBezTo>
                  <a:pt x="305" y="195"/>
                  <a:pt x="316" y="198"/>
                  <a:pt x="325" y="205"/>
                </a:cubicBezTo>
                <a:cubicBezTo>
                  <a:pt x="334" y="212"/>
                  <a:pt x="343" y="219"/>
                  <a:pt x="352" y="226"/>
                </a:cubicBezTo>
                <a:cubicBezTo>
                  <a:pt x="361" y="233"/>
                  <a:pt x="371" y="240"/>
                  <a:pt x="379" y="249"/>
                </a:cubicBezTo>
                <a:cubicBezTo>
                  <a:pt x="388" y="258"/>
                  <a:pt x="394" y="269"/>
                  <a:pt x="401" y="281"/>
                </a:cubicBezTo>
                <a:cubicBezTo>
                  <a:pt x="403" y="285"/>
                  <a:pt x="405" y="289"/>
                  <a:pt x="407" y="293"/>
                </a:cubicBezTo>
                <a:cubicBezTo>
                  <a:pt x="400" y="284"/>
                  <a:pt x="391" y="275"/>
                  <a:pt x="383" y="266"/>
                </a:cubicBezTo>
                <a:cubicBezTo>
                  <a:pt x="376" y="260"/>
                  <a:pt x="370" y="253"/>
                  <a:pt x="362" y="247"/>
                </a:cubicBezTo>
                <a:cubicBezTo>
                  <a:pt x="357" y="242"/>
                  <a:pt x="351" y="238"/>
                  <a:pt x="344" y="236"/>
                </a:cubicBezTo>
                <a:cubicBezTo>
                  <a:pt x="343" y="236"/>
                  <a:pt x="343" y="237"/>
                  <a:pt x="344" y="237"/>
                </a:cubicBezTo>
                <a:cubicBezTo>
                  <a:pt x="360" y="243"/>
                  <a:pt x="372" y="258"/>
                  <a:pt x="384" y="270"/>
                </a:cubicBezTo>
                <a:cubicBezTo>
                  <a:pt x="395" y="281"/>
                  <a:pt x="406" y="293"/>
                  <a:pt x="413" y="306"/>
                </a:cubicBezTo>
                <a:cubicBezTo>
                  <a:pt x="413" y="306"/>
                  <a:pt x="413" y="306"/>
                  <a:pt x="413" y="306"/>
                </a:cubicBezTo>
                <a:cubicBezTo>
                  <a:pt x="412" y="305"/>
                  <a:pt x="411" y="304"/>
                  <a:pt x="409" y="303"/>
                </a:cubicBezTo>
                <a:cubicBezTo>
                  <a:pt x="405" y="298"/>
                  <a:pt x="402" y="294"/>
                  <a:pt x="398" y="289"/>
                </a:cubicBezTo>
                <a:cubicBezTo>
                  <a:pt x="389" y="280"/>
                  <a:pt x="378" y="273"/>
                  <a:pt x="368" y="265"/>
                </a:cubicBezTo>
                <a:cubicBezTo>
                  <a:pt x="368" y="264"/>
                  <a:pt x="367" y="265"/>
                  <a:pt x="368" y="265"/>
                </a:cubicBezTo>
                <a:cubicBezTo>
                  <a:pt x="377" y="274"/>
                  <a:pt x="388" y="281"/>
                  <a:pt x="396" y="291"/>
                </a:cubicBezTo>
                <a:cubicBezTo>
                  <a:pt x="400" y="295"/>
                  <a:pt x="404" y="300"/>
                  <a:pt x="408" y="304"/>
                </a:cubicBezTo>
                <a:cubicBezTo>
                  <a:pt x="408" y="305"/>
                  <a:pt x="408" y="305"/>
                  <a:pt x="409" y="306"/>
                </a:cubicBezTo>
                <a:cubicBezTo>
                  <a:pt x="404" y="302"/>
                  <a:pt x="398" y="299"/>
                  <a:pt x="393" y="295"/>
                </a:cubicBezTo>
                <a:cubicBezTo>
                  <a:pt x="388" y="290"/>
                  <a:pt x="383" y="285"/>
                  <a:pt x="376" y="282"/>
                </a:cubicBezTo>
                <a:cubicBezTo>
                  <a:pt x="376" y="282"/>
                  <a:pt x="376" y="282"/>
                  <a:pt x="376" y="283"/>
                </a:cubicBezTo>
                <a:cubicBezTo>
                  <a:pt x="388" y="292"/>
                  <a:pt x="401" y="301"/>
                  <a:pt x="412" y="311"/>
                </a:cubicBezTo>
                <a:cubicBezTo>
                  <a:pt x="412" y="311"/>
                  <a:pt x="412" y="311"/>
                  <a:pt x="412" y="311"/>
                </a:cubicBezTo>
                <a:cubicBezTo>
                  <a:pt x="399" y="301"/>
                  <a:pt x="384" y="291"/>
                  <a:pt x="368" y="285"/>
                </a:cubicBezTo>
                <a:cubicBezTo>
                  <a:pt x="359" y="282"/>
                  <a:pt x="349" y="280"/>
                  <a:pt x="341" y="276"/>
                </a:cubicBezTo>
                <a:cubicBezTo>
                  <a:pt x="334" y="272"/>
                  <a:pt x="327" y="268"/>
                  <a:pt x="319" y="266"/>
                </a:cubicBezTo>
                <a:cubicBezTo>
                  <a:pt x="319" y="266"/>
                  <a:pt x="319" y="266"/>
                  <a:pt x="319" y="266"/>
                </a:cubicBezTo>
                <a:cubicBezTo>
                  <a:pt x="321" y="269"/>
                  <a:pt x="324" y="270"/>
                  <a:pt x="328" y="271"/>
                </a:cubicBezTo>
                <a:cubicBezTo>
                  <a:pt x="332" y="273"/>
                  <a:pt x="337" y="276"/>
                  <a:pt x="341" y="278"/>
                </a:cubicBezTo>
                <a:cubicBezTo>
                  <a:pt x="349" y="281"/>
                  <a:pt x="357" y="284"/>
                  <a:pt x="364" y="286"/>
                </a:cubicBezTo>
                <a:cubicBezTo>
                  <a:pt x="373" y="290"/>
                  <a:pt x="383" y="293"/>
                  <a:pt x="391" y="299"/>
                </a:cubicBezTo>
                <a:cubicBezTo>
                  <a:pt x="397" y="304"/>
                  <a:pt x="403" y="308"/>
                  <a:pt x="409" y="313"/>
                </a:cubicBezTo>
                <a:cubicBezTo>
                  <a:pt x="409" y="313"/>
                  <a:pt x="408" y="313"/>
                  <a:pt x="408" y="312"/>
                </a:cubicBezTo>
                <a:cubicBezTo>
                  <a:pt x="407" y="312"/>
                  <a:pt x="407" y="311"/>
                  <a:pt x="406" y="311"/>
                </a:cubicBezTo>
                <a:cubicBezTo>
                  <a:pt x="405" y="310"/>
                  <a:pt x="404" y="310"/>
                  <a:pt x="404" y="309"/>
                </a:cubicBezTo>
                <a:cubicBezTo>
                  <a:pt x="403" y="308"/>
                  <a:pt x="402" y="307"/>
                  <a:pt x="400" y="307"/>
                </a:cubicBezTo>
                <a:cubicBezTo>
                  <a:pt x="396" y="304"/>
                  <a:pt x="392" y="301"/>
                  <a:pt x="388" y="299"/>
                </a:cubicBezTo>
                <a:cubicBezTo>
                  <a:pt x="379" y="294"/>
                  <a:pt x="369" y="292"/>
                  <a:pt x="360" y="288"/>
                </a:cubicBezTo>
                <a:cubicBezTo>
                  <a:pt x="350" y="284"/>
                  <a:pt x="340" y="281"/>
                  <a:pt x="331" y="277"/>
                </a:cubicBezTo>
                <a:cubicBezTo>
                  <a:pt x="321" y="273"/>
                  <a:pt x="311" y="271"/>
                  <a:pt x="302" y="265"/>
                </a:cubicBezTo>
                <a:cubicBezTo>
                  <a:pt x="302" y="265"/>
                  <a:pt x="301" y="266"/>
                  <a:pt x="302" y="266"/>
                </a:cubicBezTo>
                <a:cubicBezTo>
                  <a:pt x="308" y="273"/>
                  <a:pt x="318" y="274"/>
                  <a:pt x="327" y="277"/>
                </a:cubicBezTo>
                <a:cubicBezTo>
                  <a:pt x="337" y="281"/>
                  <a:pt x="347" y="285"/>
                  <a:pt x="358" y="289"/>
                </a:cubicBezTo>
                <a:cubicBezTo>
                  <a:pt x="368" y="294"/>
                  <a:pt x="379" y="295"/>
                  <a:pt x="389" y="301"/>
                </a:cubicBezTo>
                <a:cubicBezTo>
                  <a:pt x="391" y="302"/>
                  <a:pt x="394" y="303"/>
                  <a:pt x="396" y="305"/>
                </a:cubicBezTo>
                <a:cubicBezTo>
                  <a:pt x="391" y="303"/>
                  <a:pt x="385" y="301"/>
                  <a:pt x="380" y="299"/>
                </a:cubicBezTo>
                <a:cubicBezTo>
                  <a:pt x="372" y="296"/>
                  <a:pt x="365" y="293"/>
                  <a:pt x="358" y="291"/>
                </a:cubicBezTo>
                <a:cubicBezTo>
                  <a:pt x="351" y="289"/>
                  <a:pt x="344" y="287"/>
                  <a:pt x="338" y="285"/>
                </a:cubicBezTo>
                <a:cubicBezTo>
                  <a:pt x="323" y="281"/>
                  <a:pt x="310" y="276"/>
                  <a:pt x="295" y="273"/>
                </a:cubicBezTo>
                <a:cubicBezTo>
                  <a:pt x="282" y="270"/>
                  <a:pt x="268" y="268"/>
                  <a:pt x="254" y="266"/>
                </a:cubicBezTo>
                <a:cubicBezTo>
                  <a:pt x="253" y="266"/>
                  <a:pt x="252" y="267"/>
                  <a:pt x="253" y="268"/>
                </a:cubicBezTo>
                <a:cubicBezTo>
                  <a:pt x="258" y="270"/>
                  <a:pt x="264" y="270"/>
                  <a:pt x="269" y="271"/>
                </a:cubicBezTo>
                <a:cubicBezTo>
                  <a:pt x="277" y="271"/>
                  <a:pt x="285" y="273"/>
                  <a:pt x="293" y="274"/>
                </a:cubicBezTo>
                <a:cubicBezTo>
                  <a:pt x="307" y="278"/>
                  <a:pt x="321" y="281"/>
                  <a:pt x="335" y="285"/>
                </a:cubicBezTo>
                <a:cubicBezTo>
                  <a:pt x="351" y="290"/>
                  <a:pt x="366" y="296"/>
                  <a:pt x="381" y="301"/>
                </a:cubicBezTo>
                <a:cubicBezTo>
                  <a:pt x="388" y="304"/>
                  <a:pt x="395" y="307"/>
                  <a:pt x="402" y="311"/>
                </a:cubicBezTo>
                <a:cubicBezTo>
                  <a:pt x="402" y="311"/>
                  <a:pt x="403" y="311"/>
                  <a:pt x="403" y="312"/>
                </a:cubicBezTo>
                <a:cubicBezTo>
                  <a:pt x="398" y="309"/>
                  <a:pt x="392" y="308"/>
                  <a:pt x="388" y="307"/>
                </a:cubicBezTo>
                <a:cubicBezTo>
                  <a:pt x="383" y="305"/>
                  <a:pt x="379" y="302"/>
                  <a:pt x="374" y="301"/>
                </a:cubicBezTo>
                <a:cubicBezTo>
                  <a:pt x="370" y="300"/>
                  <a:pt x="365" y="299"/>
                  <a:pt x="361" y="298"/>
                </a:cubicBezTo>
                <a:cubicBezTo>
                  <a:pt x="361" y="298"/>
                  <a:pt x="360" y="299"/>
                  <a:pt x="361" y="299"/>
                </a:cubicBezTo>
                <a:cubicBezTo>
                  <a:pt x="365" y="301"/>
                  <a:pt x="369" y="302"/>
                  <a:pt x="374" y="303"/>
                </a:cubicBezTo>
                <a:cubicBezTo>
                  <a:pt x="375" y="303"/>
                  <a:pt x="377" y="304"/>
                  <a:pt x="378" y="304"/>
                </a:cubicBezTo>
                <a:cubicBezTo>
                  <a:pt x="377" y="304"/>
                  <a:pt x="376" y="304"/>
                  <a:pt x="375" y="304"/>
                </a:cubicBezTo>
                <a:cubicBezTo>
                  <a:pt x="374" y="304"/>
                  <a:pt x="374" y="304"/>
                  <a:pt x="374" y="304"/>
                </a:cubicBezTo>
                <a:cubicBezTo>
                  <a:pt x="378" y="306"/>
                  <a:pt x="383" y="306"/>
                  <a:pt x="386" y="309"/>
                </a:cubicBezTo>
                <a:cubicBezTo>
                  <a:pt x="386" y="309"/>
                  <a:pt x="386" y="309"/>
                  <a:pt x="386" y="309"/>
                </a:cubicBezTo>
                <a:cubicBezTo>
                  <a:pt x="385" y="308"/>
                  <a:pt x="384" y="307"/>
                  <a:pt x="384" y="307"/>
                </a:cubicBezTo>
                <a:cubicBezTo>
                  <a:pt x="384" y="307"/>
                  <a:pt x="385" y="307"/>
                  <a:pt x="386" y="307"/>
                </a:cubicBezTo>
                <a:cubicBezTo>
                  <a:pt x="390" y="309"/>
                  <a:pt x="394" y="310"/>
                  <a:pt x="398" y="312"/>
                </a:cubicBezTo>
                <a:cubicBezTo>
                  <a:pt x="400" y="313"/>
                  <a:pt x="401" y="313"/>
                  <a:pt x="403" y="314"/>
                </a:cubicBezTo>
                <a:cubicBezTo>
                  <a:pt x="392" y="310"/>
                  <a:pt x="374" y="308"/>
                  <a:pt x="371" y="308"/>
                </a:cubicBezTo>
                <a:cubicBezTo>
                  <a:pt x="361" y="306"/>
                  <a:pt x="351" y="305"/>
                  <a:pt x="340" y="305"/>
                </a:cubicBezTo>
                <a:cubicBezTo>
                  <a:pt x="328" y="306"/>
                  <a:pt x="314" y="307"/>
                  <a:pt x="302" y="312"/>
                </a:cubicBezTo>
                <a:cubicBezTo>
                  <a:pt x="298" y="313"/>
                  <a:pt x="293" y="316"/>
                  <a:pt x="289" y="318"/>
                </a:cubicBezTo>
                <a:cubicBezTo>
                  <a:pt x="282" y="322"/>
                  <a:pt x="275" y="326"/>
                  <a:pt x="269" y="331"/>
                </a:cubicBezTo>
                <a:cubicBezTo>
                  <a:pt x="265" y="334"/>
                  <a:pt x="262" y="338"/>
                  <a:pt x="259" y="341"/>
                </a:cubicBezTo>
                <a:cubicBezTo>
                  <a:pt x="258" y="341"/>
                  <a:pt x="258" y="341"/>
                  <a:pt x="258" y="341"/>
                </a:cubicBezTo>
                <a:cubicBezTo>
                  <a:pt x="252" y="344"/>
                  <a:pt x="242" y="339"/>
                  <a:pt x="237" y="337"/>
                </a:cubicBezTo>
                <a:cubicBezTo>
                  <a:pt x="229" y="333"/>
                  <a:pt x="221" y="329"/>
                  <a:pt x="215" y="323"/>
                </a:cubicBezTo>
                <a:cubicBezTo>
                  <a:pt x="205" y="313"/>
                  <a:pt x="194" y="302"/>
                  <a:pt x="188" y="289"/>
                </a:cubicBezTo>
                <a:cubicBezTo>
                  <a:pt x="185" y="283"/>
                  <a:pt x="181" y="273"/>
                  <a:pt x="183" y="266"/>
                </a:cubicBezTo>
                <a:cubicBezTo>
                  <a:pt x="185" y="263"/>
                  <a:pt x="187" y="260"/>
                  <a:pt x="189" y="257"/>
                </a:cubicBezTo>
                <a:cubicBezTo>
                  <a:pt x="189" y="256"/>
                  <a:pt x="190" y="255"/>
                  <a:pt x="190" y="254"/>
                </a:cubicBezTo>
                <a:cubicBezTo>
                  <a:pt x="196" y="251"/>
                  <a:pt x="199" y="241"/>
                  <a:pt x="199" y="234"/>
                </a:cubicBezTo>
                <a:cubicBezTo>
                  <a:pt x="200" y="228"/>
                  <a:pt x="197" y="220"/>
                  <a:pt x="198" y="213"/>
                </a:cubicBezTo>
                <a:cubicBezTo>
                  <a:pt x="198" y="213"/>
                  <a:pt x="198" y="212"/>
                  <a:pt x="199" y="212"/>
                </a:cubicBezTo>
                <a:cubicBezTo>
                  <a:pt x="205" y="199"/>
                  <a:pt x="219" y="191"/>
                  <a:pt x="232" y="187"/>
                </a:cubicBezTo>
                <a:cubicBezTo>
                  <a:pt x="246" y="182"/>
                  <a:pt x="260" y="182"/>
                  <a:pt x="275" y="184"/>
                </a:cubicBezTo>
                <a:close/>
                <a:moveTo>
                  <a:pt x="155" y="52"/>
                </a:moveTo>
                <a:cubicBezTo>
                  <a:pt x="155" y="52"/>
                  <a:pt x="155" y="52"/>
                  <a:pt x="155" y="52"/>
                </a:cubicBezTo>
                <a:cubicBezTo>
                  <a:pt x="155" y="52"/>
                  <a:pt x="155" y="52"/>
                  <a:pt x="156" y="53"/>
                </a:cubicBezTo>
                <a:cubicBezTo>
                  <a:pt x="157" y="53"/>
                  <a:pt x="157" y="53"/>
                  <a:pt x="158" y="52"/>
                </a:cubicBezTo>
                <a:cubicBezTo>
                  <a:pt x="165" y="43"/>
                  <a:pt x="176" y="58"/>
                  <a:pt x="181" y="63"/>
                </a:cubicBezTo>
                <a:cubicBezTo>
                  <a:pt x="182" y="64"/>
                  <a:pt x="184" y="66"/>
                  <a:pt x="186" y="67"/>
                </a:cubicBezTo>
                <a:cubicBezTo>
                  <a:pt x="188" y="70"/>
                  <a:pt x="190" y="74"/>
                  <a:pt x="192" y="78"/>
                </a:cubicBezTo>
                <a:cubicBezTo>
                  <a:pt x="193" y="79"/>
                  <a:pt x="194" y="80"/>
                  <a:pt x="195" y="80"/>
                </a:cubicBezTo>
                <a:cubicBezTo>
                  <a:pt x="195" y="80"/>
                  <a:pt x="194" y="81"/>
                  <a:pt x="194" y="81"/>
                </a:cubicBezTo>
                <a:cubicBezTo>
                  <a:pt x="194" y="84"/>
                  <a:pt x="196" y="88"/>
                  <a:pt x="196" y="91"/>
                </a:cubicBezTo>
                <a:cubicBezTo>
                  <a:pt x="197" y="95"/>
                  <a:pt x="197" y="99"/>
                  <a:pt x="200" y="101"/>
                </a:cubicBezTo>
                <a:cubicBezTo>
                  <a:pt x="200" y="101"/>
                  <a:pt x="200" y="101"/>
                  <a:pt x="200" y="101"/>
                </a:cubicBezTo>
                <a:cubicBezTo>
                  <a:pt x="201" y="98"/>
                  <a:pt x="199" y="94"/>
                  <a:pt x="199" y="91"/>
                </a:cubicBezTo>
                <a:cubicBezTo>
                  <a:pt x="198" y="88"/>
                  <a:pt x="198" y="85"/>
                  <a:pt x="197" y="83"/>
                </a:cubicBezTo>
                <a:cubicBezTo>
                  <a:pt x="201" y="87"/>
                  <a:pt x="205" y="91"/>
                  <a:pt x="208" y="96"/>
                </a:cubicBezTo>
                <a:cubicBezTo>
                  <a:pt x="212" y="103"/>
                  <a:pt x="215" y="110"/>
                  <a:pt x="220" y="117"/>
                </a:cubicBezTo>
                <a:cubicBezTo>
                  <a:pt x="225" y="123"/>
                  <a:pt x="230" y="130"/>
                  <a:pt x="233" y="139"/>
                </a:cubicBezTo>
                <a:cubicBezTo>
                  <a:pt x="235" y="146"/>
                  <a:pt x="237" y="153"/>
                  <a:pt x="238" y="161"/>
                </a:cubicBezTo>
                <a:cubicBezTo>
                  <a:pt x="239" y="165"/>
                  <a:pt x="239" y="168"/>
                  <a:pt x="240" y="172"/>
                </a:cubicBezTo>
                <a:cubicBezTo>
                  <a:pt x="240" y="175"/>
                  <a:pt x="240" y="178"/>
                  <a:pt x="241" y="180"/>
                </a:cubicBezTo>
                <a:cubicBezTo>
                  <a:pt x="238" y="181"/>
                  <a:pt x="235" y="182"/>
                  <a:pt x="232" y="183"/>
                </a:cubicBezTo>
                <a:cubicBezTo>
                  <a:pt x="233" y="179"/>
                  <a:pt x="234" y="174"/>
                  <a:pt x="235" y="170"/>
                </a:cubicBezTo>
                <a:cubicBezTo>
                  <a:pt x="236" y="168"/>
                  <a:pt x="238" y="163"/>
                  <a:pt x="237" y="161"/>
                </a:cubicBezTo>
                <a:cubicBezTo>
                  <a:pt x="236" y="160"/>
                  <a:pt x="234" y="166"/>
                  <a:pt x="234" y="166"/>
                </a:cubicBezTo>
                <a:cubicBezTo>
                  <a:pt x="232" y="172"/>
                  <a:pt x="231" y="177"/>
                  <a:pt x="229" y="183"/>
                </a:cubicBezTo>
                <a:cubicBezTo>
                  <a:pt x="229" y="183"/>
                  <a:pt x="229" y="183"/>
                  <a:pt x="229" y="184"/>
                </a:cubicBezTo>
                <a:cubicBezTo>
                  <a:pt x="228" y="184"/>
                  <a:pt x="227" y="185"/>
                  <a:pt x="225" y="185"/>
                </a:cubicBezTo>
                <a:cubicBezTo>
                  <a:pt x="225" y="185"/>
                  <a:pt x="225" y="185"/>
                  <a:pt x="225" y="185"/>
                </a:cubicBezTo>
                <a:cubicBezTo>
                  <a:pt x="226" y="184"/>
                  <a:pt x="227" y="183"/>
                  <a:pt x="227" y="181"/>
                </a:cubicBezTo>
                <a:cubicBezTo>
                  <a:pt x="232" y="170"/>
                  <a:pt x="234" y="159"/>
                  <a:pt x="234" y="147"/>
                </a:cubicBezTo>
                <a:cubicBezTo>
                  <a:pt x="234" y="147"/>
                  <a:pt x="233" y="146"/>
                  <a:pt x="233" y="147"/>
                </a:cubicBezTo>
                <a:cubicBezTo>
                  <a:pt x="232" y="155"/>
                  <a:pt x="232" y="164"/>
                  <a:pt x="229" y="171"/>
                </a:cubicBezTo>
                <a:cubicBezTo>
                  <a:pt x="227" y="174"/>
                  <a:pt x="225" y="178"/>
                  <a:pt x="224" y="182"/>
                </a:cubicBezTo>
                <a:cubicBezTo>
                  <a:pt x="224" y="183"/>
                  <a:pt x="223" y="183"/>
                  <a:pt x="223" y="184"/>
                </a:cubicBezTo>
                <a:cubicBezTo>
                  <a:pt x="222" y="185"/>
                  <a:pt x="223" y="186"/>
                  <a:pt x="224" y="186"/>
                </a:cubicBezTo>
                <a:cubicBezTo>
                  <a:pt x="223" y="187"/>
                  <a:pt x="221" y="187"/>
                  <a:pt x="220" y="188"/>
                </a:cubicBezTo>
                <a:cubicBezTo>
                  <a:pt x="224" y="182"/>
                  <a:pt x="226" y="175"/>
                  <a:pt x="228" y="168"/>
                </a:cubicBezTo>
                <a:cubicBezTo>
                  <a:pt x="229" y="159"/>
                  <a:pt x="233" y="149"/>
                  <a:pt x="232" y="140"/>
                </a:cubicBezTo>
                <a:cubicBezTo>
                  <a:pt x="232" y="139"/>
                  <a:pt x="231" y="139"/>
                  <a:pt x="231" y="139"/>
                </a:cubicBezTo>
                <a:cubicBezTo>
                  <a:pt x="230" y="145"/>
                  <a:pt x="229" y="150"/>
                  <a:pt x="228" y="155"/>
                </a:cubicBezTo>
                <a:cubicBezTo>
                  <a:pt x="227" y="159"/>
                  <a:pt x="226" y="163"/>
                  <a:pt x="225" y="167"/>
                </a:cubicBezTo>
                <a:cubicBezTo>
                  <a:pt x="224" y="173"/>
                  <a:pt x="222" y="179"/>
                  <a:pt x="219" y="184"/>
                </a:cubicBezTo>
                <a:cubicBezTo>
                  <a:pt x="220" y="181"/>
                  <a:pt x="220" y="178"/>
                  <a:pt x="221" y="175"/>
                </a:cubicBezTo>
                <a:cubicBezTo>
                  <a:pt x="222" y="169"/>
                  <a:pt x="224" y="164"/>
                  <a:pt x="226" y="159"/>
                </a:cubicBezTo>
                <a:cubicBezTo>
                  <a:pt x="227" y="151"/>
                  <a:pt x="232" y="140"/>
                  <a:pt x="228" y="133"/>
                </a:cubicBezTo>
                <a:cubicBezTo>
                  <a:pt x="228" y="133"/>
                  <a:pt x="228" y="133"/>
                  <a:pt x="228" y="133"/>
                </a:cubicBezTo>
                <a:cubicBezTo>
                  <a:pt x="227" y="138"/>
                  <a:pt x="227" y="142"/>
                  <a:pt x="226" y="147"/>
                </a:cubicBezTo>
                <a:cubicBezTo>
                  <a:pt x="226" y="152"/>
                  <a:pt x="224" y="157"/>
                  <a:pt x="222" y="162"/>
                </a:cubicBezTo>
                <a:cubicBezTo>
                  <a:pt x="221" y="166"/>
                  <a:pt x="219" y="171"/>
                  <a:pt x="218" y="176"/>
                </a:cubicBezTo>
                <a:cubicBezTo>
                  <a:pt x="217" y="180"/>
                  <a:pt x="217" y="185"/>
                  <a:pt x="216" y="190"/>
                </a:cubicBezTo>
                <a:cubicBezTo>
                  <a:pt x="216" y="190"/>
                  <a:pt x="216" y="190"/>
                  <a:pt x="216" y="190"/>
                </a:cubicBezTo>
                <a:cubicBezTo>
                  <a:pt x="216" y="190"/>
                  <a:pt x="216" y="190"/>
                  <a:pt x="215" y="190"/>
                </a:cubicBezTo>
                <a:cubicBezTo>
                  <a:pt x="216" y="185"/>
                  <a:pt x="217" y="180"/>
                  <a:pt x="217" y="175"/>
                </a:cubicBezTo>
                <a:cubicBezTo>
                  <a:pt x="219" y="171"/>
                  <a:pt x="218" y="166"/>
                  <a:pt x="220" y="161"/>
                </a:cubicBezTo>
                <a:cubicBezTo>
                  <a:pt x="221" y="156"/>
                  <a:pt x="223" y="151"/>
                  <a:pt x="225" y="146"/>
                </a:cubicBezTo>
                <a:cubicBezTo>
                  <a:pt x="225" y="144"/>
                  <a:pt x="224" y="144"/>
                  <a:pt x="223" y="145"/>
                </a:cubicBezTo>
                <a:cubicBezTo>
                  <a:pt x="222" y="150"/>
                  <a:pt x="220" y="154"/>
                  <a:pt x="218" y="158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20" y="153"/>
                  <a:pt x="222" y="148"/>
                  <a:pt x="222" y="143"/>
                </a:cubicBezTo>
                <a:cubicBezTo>
                  <a:pt x="222" y="138"/>
                  <a:pt x="222" y="133"/>
                  <a:pt x="223" y="128"/>
                </a:cubicBezTo>
                <a:cubicBezTo>
                  <a:pt x="223" y="127"/>
                  <a:pt x="223" y="127"/>
                  <a:pt x="223" y="127"/>
                </a:cubicBezTo>
                <a:cubicBezTo>
                  <a:pt x="220" y="130"/>
                  <a:pt x="220" y="135"/>
                  <a:pt x="220" y="139"/>
                </a:cubicBezTo>
                <a:cubicBezTo>
                  <a:pt x="220" y="146"/>
                  <a:pt x="218" y="152"/>
                  <a:pt x="217" y="159"/>
                </a:cubicBezTo>
                <a:cubicBezTo>
                  <a:pt x="216" y="159"/>
                  <a:pt x="216" y="159"/>
                  <a:pt x="216" y="159"/>
                </a:cubicBezTo>
                <a:cubicBezTo>
                  <a:pt x="216" y="160"/>
                  <a:pt x="216" y="160"/>
                  <a:pt x="216" y="160"/>
                </a:cubicBezTo>
                <a:cubicBezTo>
                  <a:pt x="216" y="159"/>
                  <a:pt x="216" y="157"/>
                  <a:pt x="215" y="156"/>
                </a:cubicBezTo>
                <a:cubicBezTo>
                  <a:pt x="216" y="156"/>
                  <a:pt x="216" y="156"/>
                  <a:pt x="216" y="156"/>
                </a:cubicBezTo>
                <a:cubicBezTo>
                  <a:pt x="216" y="147"/>
                  <a:pt x="215" y="139"/>
                  <a:pt x="218" y="131"/>
                </a:cubicBezTo>
                <a:cubicBezTo>
                  <a:pt x="218" y="130"/>
                  <a:pt x="217" y="130"/>
                  <a:pt x="217" y="130"/>
                </a:cubicBezTo>
                <a:cubicBezTo>
                  <a:pt x="216" y="135"/>
                  <a:pt x="214" y="139"/>
                  <a:pt x="214" y="144"/>
                </a:cubicBezTo>
                <a:cubicBezTo>
                  <a:pt x="213" y="145"/>
                  <a:pt x="213" y="147"/>
                  <a:pt x="213" y="148"/>
                </a:cubicBezTo>
                <a:cubicBezTo>
                  <a:pt x="212" y="145"/>
                  <a:pt x="210" y="142"/>
                  <a:pt x="209" y="138"/>
                </a:cubicBezTo>
                <a:cubicBezTo>
                  <a:pt x="207" y="135"/>
                  <a:pt x="205" y="129"/>
                  <a:pt x="202" y="127"/>
                </a:cubicBezTo>
                <a:cubicBezTo>
                  <a:pt x="198" y="126"/>
                  <a:pt x="195" y="125"/>
                  <a:pt x="195" y="120"/>
                </a:cubicBezTo>
                <a:cubicBezTo>
                  <a:pt x="195" y="118"/>
                  <a:pt x="195" y="115"/>
                  <a:pt x="195" y="113"/>
                </a:cubicBezTo>
                <a:cubicBezTo>
                  <a:pt x="194" y="109"/>
                  <a:pt x="193" y="104"/>
                  <a:pt x="191" y="100"/>
                </a:cubicBezTo>
                <a:cubicBezTo>
                  <a:pt x="192" y="98"/>
                  <a:pt x="192" y="97"/>
                  <a:pt x="192" y="95"/>
                </a:cubicBezTo>
                <a:cubicBezTo>
                  <a:pt x="192" y="92"/>
                  <a:pt x="192" y="89"/>
                  <a:pt x="192" y="86"/>
                </a:cubicBezTo>
                <a:cubicBezTo>
                  <a:pt x="192" y="81"/>
                  <a:pt x="190" y="76"/>
                  <a:pt x="187" y="72"/>
                </a:cubicBezTo>
                <a:cubicBezTo>
                  <a:pt x="187" y="71"/>
                  <a:pt x="185" y="72"/>
                  <a:pt x="186" y="73"/>
                </a:cubicBezTo>
                <a:cubicBezTo>
                  <a:pt x="188" y="78"/>
                  <a:pt x="189" y="83"/>
                  <a:pt x="190" y="88"/>
                </a:cubicBezTo>
                <a:cubicBezTo>
                  <a:pt x="191" y="91"/>
                  <a:pt x="191" y="93"/>
                  <a:pt x="190" y="96"/>
                </a:cubicBezTo>
                <a:cubicBezTo>
                  <a:pt x="190" y="97"/>
                  <a:pt x="190" y="97"/>
                  <a:pt x="190" y="97"/>
                </a:cubicBezTo>
                <a:cubicBezTo>
                  <a:pt x="189" y="93"/>
                  <a:pt x="187" y="90"/>
                  <a:pt x="185" y="87"/>
                </a:cubicBezTo>
                <a:cubicBezTo>
                  <a:pt x="184" y="87"/>
                  <a:pt x="184" y="86"/>
                  <a:pt x="183" y="85"/>
                </a:cubicBezTo>
                <a:cubicBezTo>
                  <a:pt x="183" y="85"/>
                  <a:pt x="183" y="84"/>
                  <a:pt x="183" y="84"/>
                </a:cubicBezTo>
                <a:cubicBezTo>
                  <a:pt x="182" y="83"/>
                  <a:pt x="181" y="82"/>
                  <a:pt x="180" y="81"/>
                </a:cubicBezTo>
                <a:cubicBezTo>
                  <a:pt x="178" y="79"/>
                  <a:pt x="175" y="77"/>
                  <a:pt x="174" y="73"/>
                </a:cubicBezTo>
                <a:cubicBezTo>
                  <a:pt x="173" y="70"/>
                  <a:pt x="172" y="67"/>
                  <a:pt x="169" y="64"/>
                </a:cubicBezTo>
                <a:cubicBezTo>
                  <a:pt x="166" y="61"/>
                  <a:pt x="162" y="63"/>
                  <a:pt x="160" y="66"/>
                </a:cubicBezTo>
                <a:cubicBezTo>
                  <a:pt x="157" y="73"/>
                  <a:pt x="158" y="80"/>
                  <a:pt x="157" y="87"/>
                </a:cubicBezTo>
                <a:cubicBezTo>
                  <a:pt x="157" y="90"/>
                  <a:pt x="157" y="93"/>
                  <a:pt x="156" y="96"/>
                </a:cubicBezTo>
                <a:cubicBezTo>
                  <a:pt x="156" y="91"/>
                  <a:pt x="155" y="85"/>
                  <a:pt x="154" y="80"/>
                </a:cubicBezTo>
                <a:cubicBezTo>
                  <a:pt x="154" y="73"/>
                  <a:pt x="153" y="67"/>
                  <a:pt x="153" y="60"/>
                </a:cubicBezTo>
                <a:cubicBezTo>
                  <a:pt x="153" y="58"/>
                  <a:pt x="152" y="55"/>
                  <a:pt x="152" y="53"/>
                </a:cubicBezTo>
                <a:cubicBezTo>
                  <a:pt x="152" y="50"/>
                  <a:pt x="154" y="51"/>
                  <a:pt x="155" y="52"/>
                </a:cubicBezTo>
                <a:close/>
                <a:moveTo>
                  <a:pt x="82" y="200"/>
                </a:moveTo>
                <a:cubicBezTo>
                  <a:pt x="80" y="194"/>
                  <a:pt x="79" y="189"/>
                  <a:pt x="75" y="185"/>
                </a:cubicBezTo>
                <a:cubicBezTo>
                  <a:pt x="77" y="179"/>
                  <a:pt x="75" y="171"/>
                  <a:pt x="75" y="165"/>
                </a:cubicBezTo>
                <a:cubicBezTo>
                  <a:pt x="75" y="157"/>
                  <a:pt x="75" y="149"/>
                  <a:pt x="77" y="141"/>
                </a:cubicBezTo>
                <a:cubicBezTo>
                  <a:pt x="80" y="126"/>
                  <a:pt x="87" y="113"/>
                  <a:pt x="93" y="99"/>
                </a:cubicBezTo>
                <a:cubicBezTo>
                  <a:pt x="97" y="91"/>
                  <a:pt x="100" y="83"/>
                  <a:pt x="104" y="77"/>
                </a:cubicBezTo>
                <a:cubicBezTo>
                  <a:pt x="108" y="70"/>
                  <a:pt x="114" y="64"/>
                  <a:pt x="118" y="58"/>
                </a:cubicBezTo>
                <a:cubicBezTo>
                  <a:pt x="123" y="52"/>
                  <a:pt x="128" y="45"/>
                  <a:pt x="137" y="45"/>
                </a:cubicBezTo>
                <a:cubicBezTo>
                  <a:pt x="142" y="45"/>
                  <a:pt x="148" y="45"/>
                  <a:pt x="151" y="48"/>
                </a:cubicBezTo>
                <a:cubicBezTo>
                  <a:pt x="151" y="48"/>
                  <a:pt x="150" y="49"/>
                  <a:pt x="150" y="50"/>
                </a:cubicBezTo>
                <a:cubicBezTo>
                  <a:pt x="148" y="56"/>
                  <a:pt x="149" y="64"/>
                  <a:pt x="150" y="70"/>
                </a:cubicBezTo>
                <a:cubicBezTo>
                  <a:pt x="151" y="84"/>
                  <a:pt x="153" y="97"/>
                  <a:pt x="156" y="111"/>
                </a:cubicBezTo>
                <a:cubicBezTo>
                  <a:pt x="156" y="111"/>
                  <a:pt x="156" y="112"/>
                  <a:pt x="155" y="113"/>
                </a:cubicBezTo>
                <a:cubicBezTo>
                  <a:pt x="152" y="121"/>
                  <a:pt x="156" y="132"/>
                  <a:pt x="157" y="140"/>
                </a:cubicBezTo>
                <a:cubicBezTo>
                  <a:pt x="158" y="153"/>
                  <a:pt x="160" y="167"/>
                  <a:pt x="163" y="180"/>
                </a:cubicBezTo>
                <a:cubicBezTo>
                  <a:pt x="163" y="182"/>
                  <a:pt x="164" y="185"/>
                  <a:pt x="165" y="187"/>
                </a:cubicBezTo>
                <a:cubicBezTo>
                  <a:pt x="163" y="184"/>
                  <a:pt x="162" y="180"/>
                  <a:pt x="159" y="177"/>
                </a:cubicBezTo>
                <a:cubicBezTo>
                  <a:pt x="155" y="173"/>
                  <a:pt x="150" y="171"/>
                  <a:pt x="146" y="169"/>
                </a:cubicBezTo>
                <a:cubicBezTo>
                  <a:pt x="145" y="169"/>
                  <a:pt x="144" y="169"/>
                  <a:pt x="143" y="168"/>
                </a:cubicBezTo>
                <a:cubicBezTo>
                  <a:pt x="144" y="162"/>
                  <a:pt x="141" y="156"/>
                  <a:pt x="141" y="150"/>
                </a:cubicBezTo>
                <a:cubicBezTo>
                  <a:pt x="140" y="142"/>
                  <a:pt x="139" y="135"/>
                  <a:pt x="139" y="128"/>
                </a:cubicBezTo>
                <a:cubicBezTo>
                  <a:pt x="140" y="127"/>
                  <a:pt x="138" y="127"/>
                  <a:pt x="138" y="128"/>
                </a:cubicBezTo>
                <a:cubicBezTo>
                  <a:pt x="137" y="135"/>
                  <a:pt x="138" y="143"/>
                  <a:pt x="139" y="150"/>
                </a:cubicBezTo>
                <a:cubicBezTo>
                  <a:pt x="139" y="156"/>
                  <a:pt x="139" y="163"/>
                  <a:pt x="141" y="168"/>
                </a:cubicBezTo>
                <a:cubicBezTo>
                  <a:pt x="140" y="168"/>
                  <a:pt x="138" y="168"/>
                  <a:pt x="137" y="169"/>
                </a:cubicBezTo>
                <a:cubicBezTo>
                  <a:pt x="137" y="169"/>
                  <a:pt x="137" y="169"/>
                  <a:pt x="136" y="169"/>
                </a:cubicBezTo>
                <a:cubicBezTo>
                  <a:pt x="134" y="171"/>
                  <a:pt x="133" y="174"/>
                  <a:pt x="132" y="177"/>
                </a:cubicBezTo>
                <a:cubicBezTo>
                  <a:pt x="132" y="176"/>
                  <a:pt x="131" y="174"/>
                  <a:pt x="131" y="173"/>
                </a:cubicBezTo>
                <a:cubicBezTo>
                  <a:pt x="130" y="170"/>
                  <a:pt x="130" y="166"/>
                  <a:pt x="130" y="163"/>
                </a:cubicBezTo>
                <a:cubicBezTo>
                  <a:pt x="130" y="156"/>
                  <a:pt x="129" y="149"/>
                  <a:pt x="129" y="142"/>
                </a:cubicBezTo>
                <a:cubicBezTo>
                  <a:pt x="128" y="137"/>
                  <a:pt x="128" y="132"/>
                  <a:pt x="128" y="127"/>
                </a:cubicBezTo>
                <a:cubicBezTo>
                  <a:pt x="128" y="124"/>
                  <a:pt x="128" y="120"/>
                  <a:pt x="128" y="117"/>
                </a:cubicBezTo>
                <a:cubicBezTo>
                  <a:pt x="127" y="113"/>
                  <a:pt x="127" y="108"/>
                  <a:pt x="126" y="104"/>
                </a:cubicBezTo>
                <a:cubicBezTo>
                  <a:pt x="126" y="100"/>
                  <a:pt x="126" y="96"/>
                  <a:pt x="126" y="93"/>
                </a:cubicBezTo>
                <a:cubicBezTo>
                  <a:pt x="126" y="92"/>
                  <a:pt x="126" y="92"/>
                  <a:pt x="126" y="93"/>
                </a:cubicBezTo>
                <a:cubicBezTo>
                  <a:pt x="123" y="101"/>
                  <a:pt x="128" y="109"/>
                  <a:pt x="126" y="117"/>
                </a:cubicBezTo>
                <a:cubicBezTo>
                  <a:pt x="124" y="122"/>
                  <a:pt x="126" y="127"/>
                  <a:pt x="126" y="131"/>
                </a:cubicBezTo>
                <a:cubicBezTo>
                  <a:pt x="126" y="136"/>
                  <a:pt x="126" y="141"/>
                  <a:pt x="127" y="146"/>
                </a:cubicBezTo>
                <a:cubicBezTo>
                  <a:pt x="127" y="153"/>
                  <a:pt x="127" y="161"/>
                  <a:pt x="128" y="169"/>
                </a:cubicBezTo>
                <a:cubicBezTo>
                  <a:pt x="128" y="172"/>
                  <a:pt x="128" y="178"/>
                  <a:pt x="132" y="180"/>
                </a:cubicBezTo>
                <a:cubicBezTo>
                  <a:pt x="130" y="187"/>
                  <a:pt x="131" y="194"/>
                  <a:pt x="132" y="200"/>
                </a:cubicBezTo>
                <a:cubicBezTo>
                  <a:pt x="132" y="202"/>
                  <a:pt x="133" y="204"/>
                  <a:pt x="133" y="206"/>
                </a:cubicBezTo>
                <a:cubicBezTo>
                  <a:pt x="127" y="204"/>
                  <a:pt x="119" y="207"/>
                  <a:pt x="114" y="210"/>
                </a:cubicBezTo>
                <a:cubicBezTo>
                  <a:pt x="107" y="213"/>
                  <a:pt x="101" y="216"/>
                  <a:pt x="95" y="219"/>
                </a:cubicBezTo>
                <a:cubicBezTo>
                  <a:pt x="91" y="220"/>
                  <a:pt x="88" y="220"/>
                  <a:pt x="85" y="220"/>
                </a:cubicBezTo>
                <a:cubicBezTo>
                  <a:pt x="84" y="213"/>
                  <a:pt x="84" y="206"/>
                  <a:pt x="82" y="200"/>
                </a:cubicBezTo>
                <a:close/>
                <a:moveTo>
                  <a:pt x="85" y="234"/>
                </a:moveTo>
                <a:cubicBezTo>
                  <a:pt x="85" y="231"/>
                  <a:pt x="85" y="227"/>
                  <a:pt x="85" y="224"/>
                </a:cubicBezTo>
                <a:cubicBezTo>
                  <a:pt x="92" y="225"/>
                  <a:pt x="99" y="221"/>
                  <a:pt x="106" y="218"/>
                </a:cubicBezTo>
                <a:cubicBezTo>
                  <a:pt x="114" y="214"/>
                  <a:pt x="125" y="206"/>
                  <a:pt x="134" y="210"/>
                </a:cubicBezTo>
                <a:cubicBezTo>
                  <a:pt x="134" y="211"/>
                  <a:pt x="135" y="212"/>
                  <a:pt x="135" y="213"/>
                </a:cubicBezTo>
                <a:cubicBezTo>
                  <a:pt x="130" y="211"/>
                  <a:pt x="121" y="217"/>
                  <a:pt x="118" y="220"/>
                </a:cubicBezTo>
                <a:cubicBezTo>
                  <a:pt x="113" y="224"/>
                  <a:pt x="108" y="230"/>
                  <a:pt x="103" y="235"/>
                </a:cubicBezTo>
                <a:cubicBezTo>
                  <a:pt x="99" y="238"/>
                  <a:pt x="96" y="241"/>
                  <a:pt x="91" y="242"/>
                </a:cubicBezTo>
                <a:cubicBezTo>
                  <a:pt x="89" y="243"/>
                  <a:pt x="88" y="243"/>
                  <a:pt x="87" y="244"/>
                </a:cubicBezTo>
                <a:cubicBezTo>
                  <a:pt x="86" y="241"/>
                  <a:pt x="86" y="237"/>
                  <a:pt x="85" y="234"/>
                </a:cubicBezTo>
                <a:close/>
                <a:moveTo>
                  <a:pt x="106" y="312"/>
                </a:moveTo>
                <a:cubicBezTo>
                  <a:pt x="106" y="311"/>
                  <a:pt x="105" y="311"/>
                  <a:pt x="105" y="310"/>
                </a:cubicBezTo>
                <a:cubicBezTo>
                  <a:pt x="105" y="310"/>
                  <a:pt x="106" y="310"/>
                  <a:pt x="106" y="310"/>
                </a:cubicBezTo>
                <a:cubicBezTo>
                  <a:pt x="107" y="311"/>
                  <a:pt x="108" y="311"/>
                  <a:pt x="108" y="311"/>
                </a:cubicBezTo>
                <a:cubicBezTo>
                  <a:pt x="108" y="311"/>
                  <a:pt x="108" y="311"/>
                  <a:pt x="107" y="311"/>
                </a:cubicBezTo>
                <a:cubicBezTo>
                  <a:pt x="107" y="311"/>
                  <a:pt x="106" y="311"/>
                  <a:pt x="106" y="312"/>
                </a:cubicBezTo>
                <a:close/>
                <a:moveTo>
                  <a:pt x="117" y="337"/>
                </a:moveTo>
                <a:cubicBezTo>
                  <a:pt x="114" y="329"/>
                  <a:pt x="111" y="322"/>
                  <a:pt x="107" y="315"/>
                </a:cubicBezTo>
                <a:cubicBezTo>
                  <a:pt x="107" y="315"/>
                  <a:pt x="107" y="315"/>
                  <a:pt x="107" y="315"/>
                </a:cubicBezTo>
                <a:cubicBezTo>
                  <a:pt x="111" y="315"/>
                  <a:pt x="114" y="317"/>
                  <a:pt x="118" y="318"/>
                </a:cubicBezTo>
                <a:cubicBezTo>
                  <a:pt x="121" y="319"/>
                  <a:pt x="124" y="320"/>
                  <a:pt x="128" y="321"/>
                </a:cubicBezTo>
                <a:cubicBezTo>
                  <a:pt x="136" y="324"/>
                  <a:pt x="144" y="328"/>
                  <a:pt x="152" y="333"/>
                </a:cubicBezTo>
                <a:cubicBezTo>
                  <a:pt x="160" y="337"/>
                  <a:pt x="168" y="343"/>
                  <a:pt x="175" y="349"/>
                </a:cubicBezTo>
                <a:cubicBezTo>
                  <a:pt x="181" y="355"/>
                  <a:pt x="187" y="362"/>
                  <a:pt x="194" y="367"/>
                </a:cubicBezTo>
                <a:cubicBezTo>
                  <a:pt x="194" y="367"/>
                  <a:pt x="195" y="367"/>
                  <a:pt x="195" y="367"/>
                </a:cubicBezTo>
                <a:cubicBezTo>
                  <a:pt x="189" y="359"/>
                  <a:pt x="182" y="353"/>
                  <a:pt x="174" y="347"/>
                </a:cubicBezTo>
                <a:cubicBezTo>
                  <a:pt x="172" y="344"/>
                  <a:pt x="169" y="342"/>
                  <a:pt x="167" y="340"/>
                </a:cubicBezTo>
                <a:cubicBezTo>
                  <a:pt x="171" y="343"/>
                  <a:pt x="176" y="347"/>
                  <a:pt x="181" y="350"/>
                </a:cubicBezTo>
                <a:cubicBezTo>
                  <a:pt x="181" y="350"/>
                  <a:pt x="181" y="349"/>
                  <a:pt x="181" y="349"/>
                </a:cubicBezTo>
                <a:cubicBezTo>
                  <a:pt x="176" y="343"/>
                  <a:pt x="169" y="339"/>
                  <a:pt x="162" y="335"/>
                </a:cubicBezTo>
                <a:cubicBezTo>
                  <a:pt x="155" y="331"/>
                  <a:pt x="148" y="326"/>
                  <a:pt x="140" y="322"/>
                </a:cubicBezTo>
                <a:cubicBezTo>
                  <a:pt x="132" y="318"/>
                  <a:pt x="123" y="317"/>
                  <a:pt x="115" y="312"/>
                </a:cubicBezTo>
                <a:cubicBezTo>
                  <a:pt x="113" y="311"/>
                  <a:pt x="106" y="306"/>
                  <a:pt x="104" y="307"/>
                </a:cubicBezTo>
                <a:cubicBezTo>
                  <a:pt x="103" y="305"/>
                  <a:pt x="102" y="303"/>
                  <a:pt x="101" y="301"/>
                </a:cubicBezTo>
                <a:cubicBezTo>
                  <a:pt x="107" y="303"/>
                  <a:pt x="114" y="306"/>
                  <a:pt x="120" y="309"/>
                </a:cubicBezTo>
                <a:cubicBezTo>
                  <a:pt x="128" y="312"/>
                  <a:pt x="136" y="315"/>
                  <a:pt x="144" y="320"/>
                </a:cubicBezTo>
                <a:cubicBezTo>
                  <a:pt x="146" y="321"/>
                  <a:pt x="147" y="318"/>
                  <a:pt x="146" y="317"/>
                </a:cubicBezTo>
                <a:cubicBezTo>
                  <a:pt x="138" y="313"/>
                  <a:pt x="131" y="310"/>
                  <a:pt x="123" y="307"/>
                </a:cubicBezTo>
                <a:cubicBezTo>
                  <a:pt x="115" y="304"/>
                  <a:pt x="107" y="300"/>
                  <a:pt x="99" y="297"/>
                </a:cubicBezTo>
                <a:cubicBezTo>
                  <a:pt x="96" y="290"/>
                  <a:pt x="93" y="283"/>
                  <a:pt x="92" y="276"/>
                </a:cubicBezTo>
                <a:cubicBezTo>
                  <a:pt x="90" y="266"/>
                  <a:pt x="88" y="257"/>
                  <a:pt x="87" y="247"/>
                </a:cubicBezTo>
                <a:cubicBezTo>
                  <a:pt x="91" y="246"/>
                  <a:pt x="98" y="244"/>
                  <a:pt x="101" y="241"/>
                </a:cubicBezTo>
                <a:cubicBezTo>
                  <a:pt x="106" y="237"/>
                  <a:pt x="111" y="231"/>
                  <a:pt x="115" y="226"/>
                </a:cubicBezTo>
                <a:cubicBezTo>
                  <a:pt x="118" y="223"/>
                  <a:pt x="122" y="219"/>
                  <a:pt x="126" y="217"/>
                </a:cubicBezTo>
                <a:cubicBezTo>
                  <a:pt x="130" y="215"/>
                  <a:pt x="133" y="216"/>
                  <a:pt x="136" y="217"/>
                </a:cubicBezTo>
                <a:cubicBezTo>
                  <a:pt x="138" y="222"/>
                  <a:pt x="139" y="227"/>
                  <a:pt x="141" y="232"/>
                </a:cubicBezTo>
                <a:cubicBezTo>
                  <a:pt x="147" y="245"/>
                  <a:pt x="152" y="258"/>
                  <a:pt x="157" y="272"/>
                </a:cubicBezTo>
                <a:cubicBezTo>
                  <a:pt x="162" y="283"/>
                  <a:pt x="169" y="294"/>
                  <a:pt x="172" y="306"/>
                </a:cubicBezTo>
                <a:cubicBezTo>
                  <a:pt x="172" y="306"/>
                  <a:pt x="172" y="306"/>
                  <a:pt x="173" y="306"/>
                </a:cubicBezTo>
                <a:cubicBezTo>
                  <a:pt x="175" y="316"/>
                  <a:pt x="178" y="326"/>
                  <a:pt x="184" y="335"/>
                </a:cubicBezTo>
                <a:cubicBezTo>
                  <a:pt x="185" y="337"/>
                  <a:pt x="188" y="344"/>
                  <a:pt x="191" y="346"/>
                </a:cubicBezTo>
                <a:cubicBezTo>
                  <a:pt x="191" y="346"/>
                  <a:pt x="191" y="346"/>
                  <a:pt x="191" y="346"/>
                </a:cubicBezTo>
                <a:cubicBezTo>
                  <a:pt x="193" y="352"/>
                  <a:pt x="195" y="357"/>
                  <a:pt x="198" y="362"/>
                </a:cubicBezTo>
                <a:cubicBezTo>
                  <a:pt x="203" y="367"/>
                  <a:pt x="204" y="373"/>
                  <a:pt x="205" y="380"/>
                </a:cubicBezTo>
                <a:cubicBezTo>
                  <a:pt x="205" y="380"/>
                  <a:pt x="205" y="380"/>
                  <a:pt x="205" y="380"/>
                </a:cubicBezTo>
                <a:cubicBezTo>
                  <a:pt x="205" y="380"/>
                  <a:pt x="205" y="379"/>
                  <a:pt x="204" y="379"/>
                </a:cubicBezTo>
                <a:cubicBezTo>
                  <a:pt x="204" y="379"/>
                  <a:pt x="204" y="379"/>
                  <a:pt x="204" y="379"/>
                </a:cubicBezTo>
                <a:cubicBezTo>
                  <a:pt x="205" y="381"/>
                  <a:pt x="205" y="380"/>
                  <a:pt x="203" y="379"/>
                </a:cubicBezTo>
                <a:cubicBezTo>
                  <a:pt x="203" y="378"/>
                  <a:pt x="202" y="377"/>
                  <a:pt x="201" y="377"/>
                </a:cubicBezTo>
                <a:cubicBezTo>
                  <a:pt x="200" y="375"/>
                  <a:pt x="198" y="373"/>
                  <a:pt x="197" y="371"/>
                </a:cubicBezTo>
                <a:cubicBezTo>
                  <a:pt x="194" y="368"/>
                  <a:pt x="191" y="367"/>
                  <a:pt x="187" y="366"/>
                </a:cubicBezTo>
                <a:cubicBezTo>
                  <a:pt x="187" y="365"/>
                  <a:pt x="187" y="366"/>
                  <a:pt x="187" y="366"/>
                </a:cubicBezTo>
                <a:cubicBezTo>
                  <a:pt x="191" y="368"/>
                  <a:pt x="194" y="371"/>
                  <a:pt x="197" y="374"/>
                </a:cubicBezTo>
                <a:cubicBezTo>
                  <a:pt x="200" y="377"/>
                  <a:pt x="202" y="380"/>
                  <a:pt x="205" y="382"/>
                </a:cubicBezTo>
                <a:cubicBezTo>
                  <a:pt x="205" y="382"/>
                  <a:pt x="205" y="382"/>
                  <a:pt x="205" y="381"/>
                </a:cubicBezTo>
                <a:cubicBezTo>
                  <a:pt x="206" y="385"/>
                  <a:pt x="207" y="388"/>
                  <a:pt x="207" y="392"/>
                </a:cubicBezTo>
                <a:cubicBezTo>
                  <a:pt x="195" y="375"/>
                  <a:pt x="179" y="363"/>
                  <a:pt x="162" y="352"/>
                </a:cubicBezTo>
                <a:cubicBezTo>
                  <a:pt x="154" y="348"/>
                  <a:pt x="145" y="343"/>
                  <a:pt x="136" y="340"/>
                </a:cubicBezTo>
                <a:cubicBezTo>
                  <a:pt x="132" y="339"/>
                  <a:pt x="128" y="337"/>
                  <a:pt x="123" y="337"/>
                </a:cubicBezTo>
                <a:cubicBezTo>
                  <a:pt x="121" y="337"/>
                  <a:pt x="119" y="336"/>
                  <a:pt x="117" y="337"/>
                </a:cubicBezTo>
                <a:close/>
                <a:moveTo>
                  <a:pt x="124" y="341"/>
                </a:moveTo>
                <a:cubicBezTo>
                  <a:pt x="129" y="342"/>
                  <a:pt x="133" y="343"/>
                  <a:pt x="137" y="344"/>
                </a:cubicBezTo>
                <a:cubicBezTo>
                  <a:pt x="146" y="348"/>
                  <a:pt x="154" y="352"/>
                  <a:pt x="161" y="356"/>
                </a:cubicBezTo>
                <a:cubicBezTo>
                  <a:pt x="170" y="361"/>
                  <a:pt x="179" y="366"/>
                  <a:pt x="186" y="373"/>
                </a:cubicBezTo>
                <a:cubicBezTo>
                  <a:pt x="194" y="380"/>
                  <a:pt x="200" y="388"/>
                  <a:pt x="207" y="395"/>
                </a:cubicBezTo>
                <a:cubicBezTo>
                  <a:pt x="207" y="397"/>
                  <a:pt x="208" y="399"/>
                  <a:pt x="208" y="400"/>
                </a:cubicBezTo>
                <a:cubicBezTo>
                  <a:pt x="209" y="405"/>
                  <a:pt x="210" y="410"/>
                  <a:pt x="210" y="416"/>
                </a:cubicBezTo>
                <a:cubicBezTo>
                  <a:pt x="208" y="416"/>
                  <a:pt x="207" y="418"/>
                  <a:pt x="206" y="421"/>
                </a:cubicBezTo>
                <a:cubicBezTo>
                  <a:pt x="201" y="434"/>
                  <a:pt x="207" y="451"/>
                  <a:pt x="211" y="463"/>
                </a:cubicBezTo>
                <a:cubicBezTo>
                  <a:pt x="213" y="469"/>
                  <a:pt x="215" y="474"/>
                  <a:pt x="217" y="480"/>
                </a:cubicBezTo>
                <a:cubicBezTo>
                  <a:pt x="218" y="485"/>
                  <a:pt x="219" y="489"/>
                  <a:pt x="221" y="493"/>
                </a:cubicBezTo>
                <a:cubicBezTo>
                  <a:pt x="225" y="502"/>
                  <a:pt x="232" y="510"/>
                  <a:pt x="236" y="519"/>
                </a:cubicBezTo>
                <a:cubicBezTo>
                  <a:pt x="241" y="528"/>
                  <a:pt x="243" y="538"/>
                  <a:pt x="248" y="547"/>
                </a:cubicBezTo>
                <a:cubicBezTo>
                  <a:pt x="249" y="549"/>
                  <a:pt x="251" y="551"/>
                  <a:pt x="252" y="553"/>
                </a:cubicBezTo>
                <a:cubicBezTo>
                  <a:pt x="251" y="552"/>
                  <a:pt x="251" y="552"/>
                  <a:pt x="250" y="551"/>
                </a:cubicBezTo>
                <a:cubicBezTo>
                  <a:pt x="244" y="545"/>
                  <a:pt x="239" y="541"/>
                  <a:pt x="233" y="535"/>
                </a:cubicBezTo>
                <a:cubicBezTo>
                  <a:pt x="223" y="525"/>
                  <a:pt x="213" y="515"/>
                  <a:pt x="206" y="502"/>
                </a:cubicBezTo>
                <a:cubicBezTo>
                  <a:pt x="200" y="489"/>
                  <a:pt x="196" y="476"/>
                  <a:pt x="192" y="462"/>
                </a:cubicBezTo>
                <a:cubicBezTo>
                  <a:pt x="189" y="450"/>
                  <a:pt x="186" y="438"/>
                  <a:pt x="178" y="429"/>
                </a:cubicBezTo>
                <a:cubicBezTo>
                  <a:pt x="178" y="428"/>
                  <a:pt x="178" y="428"/>
                  <a:pt x="178" y="428"/>
                </a:cubicBezTo>
                <a:cubicBezTo>
                  <a:pt x="177" y="425"/>
                  <a:pt x="177" y="421"/>
                  <a:pt x="176" y="417"/>
                </a:cubicBezTo>
                <a:cubicBezTo>
                  <a:pt x="174" y="413"/>
                  <a:pt x="172" y="409"/>
                  <a:pt x="170" y="405"/>
                </a:cubicBezTo>
                <a:cubicBezTo>
                  <a:pt x="164" y="397"/>
                  <a:pt x="157" y="389"/>
                  <a:pt x="151" y="381"/>
                </a:cubicBezTo>
                <a:cubicBezTo>
                  <a:pt x="148" y="377"/>
                  <a:pt x="145" y="372"/>
                  <a:pt x="142" y="368"/>
                </a:cubicBezTo>
                <a:cubicBezTo>
                  <a:pt x="139" y="363"/>
                  <a:pt x="137" y="359"/>
                  <a:pt x="134" y="355"/>
                </a:cubicBezTo>
                <a:cubicBezTo>
                  <a:pt x="129" y="350"/>
                  <a:pt x="124" y="346"/>
                  <a:pt x="119" y="341"/>
                </a:cubicBezTo>
                <a:cubicBezTo>
                  <a:pt x="121" y="341"/>
                  <a:pt x="123" y="341"/>
                  <a:pt x="124" y="341"/>
                </a:cubicBezTo>
                <a:close/>
                <a:moveTo>
                  <a:pt x="103" y="382"/>
                </a:moveTo>
                <a:cubicBezTo>
                  <a:pt x="103" y="382"/>
                  <a:pt x="104" y="383"/>
                  <a:pt x="105" y="383"/>
                </a:cubicBezTo>
                <a:cubicBezTo>
                  <a:pt x="105" y="383"/>
                  <a:pt x="106" y="384"/>
                  <a:pt x="107" y="384"/>
                </a:cubicBezTo>
                <a:cubicBezTo>
                  <a:pt x="108" y="385"/>
                  <a:pt x="109" y="385"/>
                  <a:pt x="110" y="385"/>
                </a:cubicBezTo>
                <a:cubicBezTo>
                  <a:pt x="112" y="386"/>
                  <a:pt x="116" y="386"/>
                  <a:pt x="117" y="384"/>
                </a:cubicBezTo>
                <a:cubicBezTo>
                  <a:pt x="118" y="377"/>
                  <a:pt x="110" y="372"/>
                  <a:pt x="109" y="366"/>
                </a:cubicBezTo>
                <a:cubicBezTo>
                  <a:pt x="115" y="372"/>
                  <a:pt x="118" y="380"/>
                  <a:pt x="125" y="384"/>
                </a:cubicBezTo>
                <a:cubicBezTo>
                  <a:pt x="127" y="385"/>
                  <a:pt x="128" y="384"/>
                  <a:pt x="128" y="382"/>
                </a:cubicBezTo>
                <a:cubicBezTo>
                  <a:pt x="127" y="379"/>
                  <a:pt x="126" y="377"/>
                  <a:pt x="130" y="377"/>
                </a:cubicBezTo>
                <a:cubicBezTo>
                  <a:pt x="130" y="377"/>
                  <a:pt x="132" y="377"/>
                  <a:pt x="132" y="376"/>
                </a:cubicBezTo>
                <a:cubicBezTo>
                  <a:pt x="134" y="373"/>
                  <a:pt x="133" y="370"/>
                  <a:pt x="132" y="367"/>
                </a:cubicBezTo>
                <a:cubicBezTo>
                  <a:pt x="130" y="363"/>
                  <a:pt x="128" y="357"/>
                  <a:pt x="125" y="353"/>
                </a:cubicBezTo>
                <a:cubicBezTo>
                  <a:pt x="125" y="352"/>
                  <a:pt x="123" y="350"/>
                  <a:pt x="121" y="348"/>
                </a:cubicBezTo>
                <a:cubicBezTo>
                  <a:pt x="125" y="351"/>
                  <a:pt x="128" y="354"/>
                  <a:pt x="131" y="358"/>
                </a:cubicBezTo>
                <a:cubicBezTo>
                  <a:pt x="138" y="366"/>
                  <a:pt x="143" y="376"/>
                  <a:pt x="149" y="385"/>
                </a:cubicBezTo>
                <a:cubicBezTo>
                  <a:pt x="155" y="393"/>
                  <a:pt x="162" y="400"/>
                  <a:pt x="168" y="408"/>
                </a:cubicBezTo>
                <a:cubicBezTo>
                  <a:pt x="171" y="413"/>
                  <a:pt x="172" y="417"/>
                  <a:pt x="174" y="422"/>
                </a:cubicBezTo>
                <a:cubicBezTo>
                  <a:pt x="174" y="425"/>
                  <a:pt x="175" y="427"/>
                  <a:pt x="176" y="429"/>
                </a:cubicBezTo>
                <a:cubicBezTo>
                  <a:pt x="176" y="429"/>
                  <a:pt x="176" y="429"/>
                  <a:pt x="176" y="429"/>
                </a:cubicBezTo>
                <a:cubicBezTo>
                  <a:pt x="172" y="435"/>
                  <a:pt x="176" y="442"/>
                  <a:pt x="176" y="448"/>
                </a:cubicBezTo>
                <a:cubicBezTo>
                  <a:pt x="175" y="448"/>
                  <a:pt x="174" y="447"/>
                  <a:pt x="173" y="446"/>
                </a:cubicBezTo>
                <a:cubicBezTo>
                  <a:pt x="172" y="446"/>
                  <a:pt x="171" y="446"/>
                  <a:pt x="171" y="447"/>
                </a:cubicBezTo>
                <a:cubicBezTo>
                  <a:pt x="170" y="449"/>
                  <a:pt x="170" y="451"/>
                  <a:pt x="170" y="452"/>
                </a:cubicBezTo>
                <a:cubicBezTo>
                  <a:pt x="169" y="455"/>
                  <a:pt x="168" y="456"/>
                  <a:pt x="165" y="455"/>
                </a:cubicBezTo>
                <a:cubicBezTo>
                  <a:pt x="163" y="453"/>
                  <a:pt x="160" y="451"/>
                  <a:pt x="157" y="451"/>
                </a:cubicBezTo>
                <a:cubicBezTo>
                  <a:pt x="157" y="451"/>
                  <a:pt x="157" y="451"/>
                  <a:pt x="156" y="451"/>
                </a:cubicBezTo>
                <a:cubicBezTo>
                  <a:pt x="158" y="445"/>
                  <a:pt x="156" y="438"/>
                  <a:pt x="154" y="433"/>
                </a:cubicBezTo>
                <a:cubicBezTo>
                  <a:pt x="152" y="427"/>
                  <a:pt x="148" y="420"/>
                  <a:pt x="144" y="415"/>
                </a:cubicBezTo>
                <a:cubicBezTo>
                  <a:pt x="139" y="408"/>
                  <a:pt x="131" y="403"/>
                  <a:pt x="123" y="400"/>
                </a:cubicBezTo>
                <a:cubicBezTo>
                  <a:pt x="119" y="399"/>
                  <a:pt x="116" y="398"/>
                  <a:pt x="113" y="396"/>
                </a:cubicBezTo>
                <a:cubicBezTo>
                  <a:pt x="111" y="394"/>
                  <a:pt x="110" y="392"/>
                  <a:pt x="109" y="391"/>
                </a:cubicBezTo>
                <a:cubicBezTo>
                  <a:pt x="107" y="388"/>
                  <a:pt x="104" y="386"/>
                  <a:pt x="101" y="384"/>
                </a:cubicBezTo>
                <a:cubicBezTo>
                  <a:pt x="101" y="384"/>
                  <a:pt x="101" y="384"/>
                  <a:pt x="101" y="384"/>
                </a:cubicBezTo>
                <a:cubicBezTo>
                  <a:pt x="100" y="382"/>
                  <a:pt x="101" y="381"/>
                  <a:pt x="103" y="382"/>
                </a:cubicBezTo>
                <a:close/>
                <a:moveTo>
                  <a:pt x="153" y="452"/>
                </a:moveTo>
                <a:cubicBezTo>
                  <a:pt x="152" y="453"/>
                  <a:pt x="152" y="453"/>
                  <a:pt x="151" y="454"/>
                </a:cubicBezTo>
                <a:cubicBezTo>
                  <a:pt x="150" y="449"/>
                  <a:pt x="148" y="445"/>
                  <a:pt x="146" y="441"/>
                </a:cubicBezTo>
                <a:cubicBezTo>
                  <a:pt x="144" y="436"/>
                  <a:pt x="142" y="432"/>
                  <a:pt x="140" y="428"/>
                </a:cubicBezTo>
                <a:cubicBezTo>
                  <a:pt x="138" y="424"/>
                  <a:pt x="136" y="419"/>
                  <a:pt x="134" y="415"/>
                </a:cubicBezTo>
                <a:cubicBezTo>
                  <a:pt x="134" y="413"/>
                  <a:pt x="133" y="411"/>
                  <a:pt x="132" y="409"/>
                </a:cubicBezTo>
                <a:cubicBezTo>
                  <a:pt x="135" y="411"/>
                  <a:pt x="138" y="413"/>
                  <a:pt x="140" y="416"/>
                </a:cubicBezTo>
                <a:cubicBezTo>
                  <a:pt x="148" y="425"/>
                  <a:pt x="156" y="439"/>
                  <a:pt x="153" y="452"/>
                </a:cubicBezTo>
                <a:close/>
                <a:moveTo>
                  <a:pt x="101" y="389"/>
                </a:moveTo>
                <a:cubicBezTo>
                  <a:pt x="101" y="389"/>
                  <a:pt x="101" y="389"/>
                  <a:pt x="101" y="389"/>
                </a:cubicBezTo>
                <a:cubicBezTo>
                  <a:pt x="106" y="393"/>
                  <a:pt x="110" y="400"/>
                  <a:pt x="116" y="402"/>
                </a:cubicBezTo>
                <a:cubicBezTo>
                  <a:pt x="118" y="409"/>
                  <a:pt x="119" y="414"/>
                  <a:pt x="116" y="421"/>
                </a:cubicBezTo>
                <a:cubicBezTo>
                  <a:pt x="115" y="424"/>
                  <a:pt x="114" y="427"/>
                  <a:pt x="112" y="429"/>
                </a:cubicBezTo>
                <a:cubicBezTo>
                  <a:pt x="112" y="430"/>
                  <a:pt x="111" y="430"/>
                  <a:pt x="111" y="430"/>
                </a:cubicBezTo>
                <a:cubicBezTo>
                  <a:pt x="110" y="425"/>
                  <a:pt x="103" y="419"/>
                  <a:pt x="101" y="414"/>
                </a:cubicBezTo>
                <a:cubicBezTo>
                  <a:pt x="94" y="405"/>
                  <a:pt x="96" y="393"/>
                  <a:pt x="92" y="383"/>
                </a:cubicBezTo>
                <a:cubicBezTo>
                  <a:pt x="95" y="385"/>
                  <a:pt x="98" y="387"/>
                  <a:pt x="101" y="389"/>
                </a:cubicBezTo>
                <a:close/>
                <a:moveTo>
                  <a:pt x="108" y="433"/>
                </a:moveTo>
                <a:cubicBezTo>
                  <a:pt x="108" y="433"/>
                  <a:pt x="108" y="433"/>
                  <a:pt x="108" y="434"/>
                </a:cubicBezTo>
                <a:cubicBezTo>
                  <a:pt x="107" y="433"/>
                  <a:pt x="107" y="433"/>
                  <a:pt x="107" y="433"/>
                </a:cubicBezTo>
                <a:cubicBezTo>
                  <a:pt x="102" y="428"/>
                  <a:pt x="96" y="426"/>
                  <a:pt x="92" y="421"/>
                </a:cubicBezTo>
                <a:cubicBezTo>
                  <a:pt x="82" y="411"/>
                  <a:pt x="73" y="401"/>
                  <a:pt x="67" y="388"/>
                </a:cubicBezTo>
                <a:cubicBezTo>
                  <a:pt x="63" y="379"/>
                  <a:pt x="58" y="370"/>
                  <a:pt x="53" y="362"/>
                </a:cubicBezTo>
                <a:cubicBezTo>
                  <a:pt x="54" y="362"/>
                  <a:pt x="54" y="362"/>
                  <a:pt x="55" y="363"/>
                </a:cubicBezTo>
                <a:cubicBezTo>
                  <a:pt x="59" y="364"/>
                  <a:pt x="63" y="365"/>
                  <a:pt x="66" y="367"/>
                </a:cubicBezTo>
                <a:cubicBezTo>
                  <a:pt x="69" y="368"/>
                  <a:pt x="72" y="370"/>
                  <a:pt x="75" y="372"/>
                </a:cubicBezTo>
                <a:cubicBezTo>
                  <a:pt x="80" y="375"/>
                  <a:pt x="84" y="377"/>
                  <a:pt x="88" y="380"/>
                </a:cubicBezTo>
                <a:cubicBezTo>
                  <a:pt x="87" y="381"/>
                  <a:pt x="87" y="381"/>
                  <a:pt x="88" y="382"/>
                </a:cubicBezTo>
                <a:cubicBezTo>
                  <a:pt x="92" y="391"/>
                  <a:pt x="90" y="402"/>
                  <a:pt x="95" y="411"/>
                </a:cubicBezTo>
                <a:cubicBezTo>
                  <a:pt x="97" y="415"/>
                  <a:pt x="100" y="418"/>
                  <a:pt x="102" y="421"/>
                </a:cubicBezTo>
                <a:cubicBezTo>
                  <a:pt x="103" y="422"/>
                  <a:pt x="104" y="424"/>
                  <a:pt x="105" y="425"/>
                </a:cubicBezTo>
                <a:cubicBezTo>
                  <a:pt x="105" y="425"/>
                  <a:pt x="105" y="425"/>
                  <a:pt x="105" y="425"/>
                </a:cubicBezTo>
                <a:cubicBezTo>
                  <a:pt x="105" y="426"/>
                  <a:pt x="106" y="427"/>
                  <a:pt x="106" y="428"/>
                </a:cubicBezTo>
                <a:cubicBezTo>
                  <a:pt x="106" y="429"/>
                  <a:pt x="106" y="430"/>
                  <a:pt x="107" y="431"/>
                </a:cubicBezTo>
                <a:cubicBezTo>
                  <a:pt x="107" y="431"/>
                  <a:pt x="107" y="431"/>
                  <a:pt x="107" y="431"/>
                </a:cubicBezTo>
                <a:cubicBezTo>
                  <a:pt x="108" y="430"/>
                  <a:pt x="108" y="429"/>
                  <a:pt x="107" y="428"/>
                </a:cubicBezTo>
                <a:cubicBezTo>
                  <a:pt x="108" y="430"/>
                  <a:pt x="109" y="432"/>
                  <a:pt x="108" y="433"/>
                </a:cubicBezTo>
                <a:close/>
                <a:moveTo>
                  <a:pt x="132" y="482"/>
                </a:moveTo>
                <a:cubicBezTo>
                  <a:pt x="131" y="477"/>
                  <a:pt x="129" y="472"/>
                  <a:pt x="127" y="468"/>
                </a:cubicBezTo>
                <a:cubicBezTo>
                  <a:pt x="125" y="462"/>
                  <a:pt x="123" y="456"/>
                  <a:pt x="120" y="450"/>
                </a:cubicBezTo>
                <a:cubicBezTo>
                  <a:pt x="117" y="446"/>
                  <a:pt x="114" y="440"/>
                  <a:pt x="110" y="436"/>
                </a:cubicBezTo>
                <a:cubicBezTo>
                  <a:pt x="115" y="434"/>
                  <a:pt x="118" y="425"/>
                  <a:pt x="120" y="421"/>
                </a:cubicBezTo>
                <a:cubicBezTo>
                  <a:pt x="122" y="414"/>
                  <a:pt x="121" y="408"/>
                  <a:pt x="118" y="403"/>
                </a:cubicBezTo>
                <a:cubicBezTo>
                  <a:pt x="122" y="404"/>
                  <a:pt x="125" y="405"/>
                  <a:pt x="128" y="407"/>
                </a:cubicBezTo>
                <a:cubicBezTo>
                  <a:pt x="128" y="407"/>
                  <a:pt x="128" y="407"/>
                  <a:pt x="128" y="407"/>
                </a:cubicBezTo>
                <a:cubicBezTo>
                  <a:pt x="128" y="410"/>
                  <a:pt x="130" y="414"/>
                  <a:pt x="131" y="416"/>
                </a:cubicBezTo>
                <a:cubicBezTo>
                  <a:pt x="133" y="421"/>
                  <a:pt x="136" y="426"/>
                  <a:pt x="138" y="430"/>
                </a:cubicBezTo>
                <a:cubicBezTo>
                  <a:pt x="140" y="436"/>
                  <a:pt x="143" y="441"/>
                  <a:pt x="145" y="446"/>
                </a:cubicBezTo>
                <a:cubicBezTo>
                  <a:pt x="147" y="450"/>
                  <a:pt x="148" y="454"/>
                  <a:pt x="150" y="459"/>
                </a:cubicBezTo>
                <a:cubicBezTo>
                  <a:pt x="150" y="459"/>
                  <a:pt x="150" y="459"/>
                  <a:pt x="150" y="459"/>
                </a:cubicBezTo>
                <a:cubicBezTo>
                  <a:pt x="150" y="459"/>
                  <a:pt x="150" y="459"/>
                  <a:pt x="150" y="460"/>
                </a:cubicBezTo>
                <a:cubicBezTo>
                  <a:pt x="150" y="463"/>
                  <a:pt x="151" y="466"/>
                  <a:pt x="152" y="470"/>
                </a:cubicBezTo>
                <a:cubicBezTo>
                  <a:pt x="152" y="470"/>
                  <a:pt x="152" y="470"/>
                  <a:pt x="152" y="470"/>
                </a:cubicBezTo>
                <a:cubicBezTo>
                  <a:pt x="147" y="472"/>
                  <a:pt x="142" y="474"/>
                  <a:pt x="138" y="477"/>
                </a:cubicBezTo>
                <a:cubicBezTo>
                  <a:pt x="136" y="479"/>
                  <a:pt x="134" y="480"/>
                  <a:pt x="132" y="482"/>
                </a:cubicBezTo>
                <a:close/>
                <a:moveTo>
                  <a:pt x="263" y="609"/>
                </a:moveTo>
                <a:cubicBezTo>
                  <a:pt x="258" y="606"/>
                  <a:pt x="255" y="602"/>
                  <a:pt x="250" y="599"/>
                </a:cubicBezTo>
                <a:cubicBezTo>
                  <a:pt x="246" y="597"/>
                  <a:pt x="242" y="597"/>
                  <a:pt x="238" y="596"/>
                </a:cubicBezTo>
                <a:cubicBezTo>
                  <a:pt x="228" y="593"/>
                  <a:pt x="219" y="587"/>
                  <a:pt x="210" y="581"/>
                </a:cubicBezTo>
                <a:cubicBezTo>
                  <a:pt x="200" y="575"/>
                  <a:pt x="190" y="569"/>
                  <a:pt x="181" y="561"/>
                </a:cubicBezTo>
                <a:cubicBezTo>
                  <a:pt x="173" y="554"/>
                  <a:pt x="165" y="547"/>
                  <a:pt x="157" y="539"/>
                </a:cubicBezTo>
                <a:cubicBezTo>
                  <a:pt x="154" y="535"/>
                  <a:pt x="149" y="533"/>
                  <a:pt x="146" y="529"/>
                </a:cubicBezTo>
                <a:cubicBezTo>
                  <a:pt x="143" y="526"/>
                  <a:pt x="141" y="521"/>
                  <a:pt x="140" y="516"/>
                </a:cubicBezTo>
                <a:cubicBezTo>
                  <a:pt x="139" y="508"/>
                  <a:pt x="139" y="500"/>
                  <a:pt x="136" y="493"/>
                </a:cubicBezTo>
                <a:cubicBezTo>
                  <a:pt x="132" y="486"/>
                  <a:pt x="137" y="482"/>
                  <a:pt x="143" y="479"/>
                </a:cubicBezTo>
                <a:cubicBezTo>
                  <a:pt x="146" y="477"/>
                  <a:pt x="150" y="475"/>
                  <a:pt x="154" y="473"/>
                </a:cubicBezTo>
                <a:cubicBezTo>
                  <a:pt x="154" y="475"/>
                  <a:pt x="155" y="476"/>
                  <a:pt x="155" y="477"/>
                </a:cubicBezTo>
                <a:cubicBezTo>
                  <a:pt x="159" y="484"/>
                  <a:pt x="162" y="492"/>
                  <a:pt x="165" y="499"/>
                </a:cubicBezTo>
                <a:cubicBezTo>
                  <a:pt x="170" y="509"/>
                  <a:pt x="176" y="519"/>
                  <a:pt x="183" y="527"/>
                </a:cubicBezTo>
                <a:cubicBezTo>
                  <a:pt x="190" y="536"/>
                  <a:pt x="199" y="543"/>
                  <a:pt x="208" y="551"/>
                </a:cubicBezTo>
                <a:cubicBezTo>
                  <a:pt x="216" y="560"/>
                  <a:pt x="225" y="568"/>
                  <a:pt x="233" y="577"/>
                </a:cubicBezTo>
                <a:cubicBezTo>
                  <a:pt x="238" y="584"/>
                  <a:pt x="244" y="592"/>
                  <a:pt x="253" y="594"/>
                </a:cubicBezTo>
                <a:cubicBezTo>
                  <a:pt x="255" y="594"/>
                  <a:pt x="256" y="591"/>
                  <a:pt x="254" y="590"/>
                </a:cubicBezTo>
                <a:cubicBezTo>
                  <a:pt x="244" y="587"/>
                  <a:pt x="238" y="577"/>
                  <a:pt x="231" y="570"/>
                </a:cubicBezTo>
                <a:cubicBezTo>
                  <a:pt x="224" y="562"/>
                  <a:pt x="216" y="553"/>
                  <a:pt x="207" y="546"/>
                </a:cubicBezTo>
                <a:cubicBezTo>
                  <a:pt x="199" y="538"/>
                  <a:pt x="191" y="531"/>
                  <a:pt x="184" y="523"/>
                </a:cubicBezTo>
                <a:cubicBezTo>
                  <a:pt x="184" y="522"/>
                  <a:pt x="183" y="521"/>
                  <a:pt x="183" y="520"/>
                </a:cubicBezTo>
                <a:cubicBezTo>
                  <a:pt x="185" y="523"/>
                  <a:pt x="187" y="524"/>
                  <a:pt x="189" y="527"/>
                </a:cubicBezTo>
                <a:cubicBezTo>
                  <a:pt x="193" y="530"/>
                  <a:pt x="197" y="534"/>
                  <a:pt x="201" y="536"/>
                </a:cubicBezTo>
                <a:cubicBezTo>
                  <a:pt x="202" y="537"/>
                  <a:pt x="202" y="536"/>
                  <a:pt x="202" y="536"/>
                </a:cubicBezTo>
                <a:cubicBezTo>
                  <a:pt x="194" y="530"/>
                  <a:pt x="188" y="522"/>
                  <a:pt x="181" y="515"/>
                </a:cubicBezTo>
                <a:cubicBezTo>
                  <a:pt x="180" y="515"/>
                  <a:pt x="180" y="515"/>
                  <a:pt x="180" y="516"/>
                </a:cubicBezTo>
                <a:cubicBezTo>
                  <a:pt x="180" y="517"/>
                  <a:pt x="181" y="518"/>
                  <a:pt x="181" y="518"/>
                </a:cubicBezTo>
                <a:cubicBezTo>
                  <a:pt x="176" y="512"/>
                  <a:pt x="172" y="505"/>
                  <a:pt x="169" y="497"/>
                </a:cubicBezTo>
                <a:cubicBezTo>
                  <a:pt x="165" y="490"/>
                  <a:pt x="162" y="483"/>
                  <a:pt x="159" y="476"/>
                </a:cubicBezTo>
                <a:cubicBezTo>
                  <a:pt x="157" y="471"/>
                  <a:pt x="152" y="463"/>
                  <a:pt x="154" y="457"/>
                </a:cubicBezTo>
                <a:cubicBezTo>
                  <a:pt x="155" y="452"/>
                  <a:pt x="160" y="456"/>
                  <a:pt x="163" y="458"/>
                </a:cubicBezTo>
                <a:cubicBezTo>
                  <a:pt x="165" y="459"/>
                  <a:pt x="167" y="459"/>
                  <a:pt x="170" y="459"/>
                </a:cubicBezTo>
                <a:cubicBezTo>
                  <a:pt x="173" y="459"/>
                  <a:pt x="173" y="454"/>
                  <a:pt x="174" y="451"/>
                </a:cubicBezTo>
                <a:cubicBezTo>
                  <a:pt x="174" y="451"/>
                  <a:pt x="175" y="452"/>
                  <a:pt x="176" y="452"/>
                </a:cubicBezTo>
                <a:cubicBezTo>
                  <a:pt x="177" y="453"/>
                  <a:pt x="179" y="453"/>
                  <a:pt x="179" y="451"/>
                </a:cubicBezTo>
                <a:cubicBezTo>
                  <a:pt x="181" y="446"/>
                  <a:pt x="176" y="439"/>
                  <a:pt x="177" y="433"/>
                </a:cubicBezTo>
                <a:cubicBezTo>
                  <a:pt x="185" y="445"/>
                  <a:pt x="187" y="459"/>
                  <a:pt x="191" y="471"/>
                </a:cubicBezTo>
                <a:cubicBezTo>
                  <a:pt x="194" y="484"/>
                  <a:pt x="198" y="496"/>
                  <a:pt x="204" y="507"/>
                </a:cubicBezTo>
                <a:cubicBezTo>
                  <a:pt x="212" y="520"/>
                  <a:pt x="222" y="529"/>
                  <a:pt x="232" y="539"/>
                </a:cubicBezTo>
                <a:cubicBezTo>
                  <a:pt x="238" y="544"/>
                  <a:pt x="244" y="549"/>
                  <a:pt x="249" y="554"/>
                </a:cubicBezTo>
                <a:cubicBezTo>
                  <a:pt x="254" y="560"/>
                  <a:pt x="259" y="566"/>
                  <a:pt x="265" y="571"/>
                </a:cubicBezTo>
                <a:cubicBezTo>
                  <a:pt x="265" y="571"/>
                  <a:pt x="266" y="571"/>
                  <a:pt x="266" y="571"/>
                </a:cubicBezTo>
                <a:cubicBezTo>
                  <a:pt x="266" y="572"/>
                  <a:pt x="267" y="572"/>
                  <a:pt x="267" y="573"/>
                </a:cubicBezTo>
                <a:cubicBezTo>
                  <a:pt x="268" y="574"/>
                  <a:pt x="269" y="573"/>
                  <a:pt x="269" y="572"/>
                </a:cubicBezTo>
                <a:cubicBezTo>
                  <a:pt x="267" y="568"/>
                  <a:pt x="264" y="564"/>
                  <a:pt x="262" y="561"/>
                </a:cubicBezTo>
                <a:cubicBezTo>
                  <a:pt x="262" y="560"/>
                  <a:pt x="262" y="560"/>
                  <a:pt x="262" y="560"/>
                </a:cubicBezTo>
                <a:cubicBezTo>
                  <a:pt x="258" y="547"/>
                  <a:pt x="250" y="537"/>
                  <a:pt x="244" y="525"/>
                </a:cubicBezTo>
                <a:cubicBezTo>
                  <a:pt x="244" y="525"/>
                  <a:pt x="243" y="525"/>
                  <a:pt x="243" y="526"/>
                </a:cubicBezTo>
                <a:cubicBezTo>
                  <a:pt x="246" y="532"/>
                  <a:pt x="248" y="538"/>
                  <a:pt x="252" y="543"/>
                </a:cubicBezTo>
                <a:cubicBezTo>
                  <a:pt x="255" y="548"/>
                  <a:pt x="257" y="553"/>
                  <a:pt x="260" y="558"/>
                </a:cubicBezTo>
                <a:cubicBezTo>
                  <a:pt x="257" y="555"/>
                  <a:pt x="255" y="552"/>
                  <a:pt x="252" y="548"/>
                </a:cubicBezTo>
                <a:cubicBezTo>
                  <a:pt x="247" y="541"/>
                  <a:pt x="245" y="533"/>
                  <a:pt x="242" y="525"/>
                </a:cubicBezTo>
                <a:cubicBezTo>
                  <a:pt x="240" y="519"/>
                  <a:pt x="237" y="513"/>
                  <a:pt x="233" y="508"/>
                </a:cubicBezTo>
                <a:cubicBezTo>
                  <a:pt x="234" y="509"/>
                  <a:pt x="235" y="510"/>
                  <a:pt x="236" y="511"/>
                </a:cubicBezTo>
                <a:cubicBezTo>
                  <a:pt x="236" y="511"/>
                  <a:pt x="237" y="511"/>
                  <a:pt x="236" y="510"/>
                </a:cubicBezTo>
                <a:cubicBezTo>
                  <a:pt x="235" y="509"/>
                  <a:pt x="235" y="506"/>
                  <a:pt x="234" y="504"/>
                </a:cubicBezTo>
                <a:cubicBezTo>
                  <a:pt x="233" y="503"/>
                  <a:pt x="233" y="501"/>
                  <a:pt x="231" y="501"/>
                </a:cubicBezTo>
                <a:cubicBezTo>
                  <a:pt x="231" y="501"/>
                  <a:pt x="231" y="502"/>
                  <a:pt x="231" y="502"/>
                </a:cubicBezTo>
                <a:cubicBezTo>
                  <a:pt x="230" y="503"/>
                  <a:pt x="232" y="505"/>
                  <a:pt x="232" y="507"/>
                </a:cubicBezTo>
                <a:cubicBezTo>
                  <a:pt x="233" y="507"/>
                  <a:pt x="233" y="507"/>
                  <a:pt x="233" y="508"/>
                </a:cubicBezTo>
                <a:cubicBezTo>
                  <a:pt x="232" y="506"/>
                  <a:pt x="231" y="504"/>
                  <a:pt x="230" y="502"/>
                </a:cubicBezTo>
                <a:cubicBezTo>
                  <a:pt x="228" y="499"/>
                  <a:pt x="225" y="495"/>
                  <a:pt x="224" y="491"/>
                </a:cubicBezTo>
                <a:cubicBezTo>
                  <a:pt x="222" y="487"/>
                  <a:pt x="221" y="482"/>
                  <a:pt x="220" y="477"/>
                </a:cubicBezTo>
                <a:cubicBezTo>
                  <a:pt x="216" y="463"/>
                  <a:pt x="208" y="449"/>
                  <a:pt x="208" y="433"/>
                </a:cubicBezTo>
                <a:cubicBezTo>
                  <a:pt x="208" y="427"/>
                  <a:pt x="208" y="418"/>
                  <a:pt x="216" y="418"/>
                </a:cubicBezTo>
                <a:cubicBezTo>
                  <a:pt x="220" y="418"/>
                  <a:pt x="222" y="418"/>
                  <a:pt x="226" y="416"/>
                </a:cubicBezTo>
                <a:cubicBezTo>
                  <a:pt x="231" y="415"/>
                  <a:pt x="234" y="418"/>
                  <a:pt x="237" y="420"/>
                </a:cubicBezTo>
                <a:cubicBezTo>
                  <a:pt x="237" y="420"/>
                  <a:pt x="237" y="420"/>
                  <a:pt x="237" y="420"/>
                </a:cubicBezTo>
                <a:cubicBezTo>
                  <a:pt x="238" y="426"/>
                  <a:pt x="240" y="431"/>
                  <a:pt x="242" y="437"/>
                </a:cubicBezTo>
                <a:cubicBezTo>
                  <a:pt x="240" y="438"/>
                  <a:pt x="240" y="442"/>
                  <a:pt x="240" y="444"/>
                </a:cubicBezTo>
                <a:cubicBezTo>
                  <a:pt x="239" y="450"/>
                  <a:pt x="237" y="455"/>
                  <a:pt x="236" y="461"/>
                </a:cubicBezTo>
                <a:cubicBezTo>
                  <a:pt x="235" y="466"/>
                  <a:pt x="235" y="471"/>
                  <a:pt x="236" y="477"/>
                </a:cubicBezTo>
                <a:cubicBezTo>
                  <a:pt x="236" y="480"/>
                  <a:pt x="236" y="484"/>
                  <a:pt x="236" y="487"/>
                </a:cubicBezTo>
                <a:cubicBezTo>
                  <a:pt x="235" y="490"/>
                  <a:pt x="235" y="493"/>
                  <a:pt x="235" y="495"/>
                </a:cubicBezTo>
                <a:cubicBezTo>
                  <a:pt x="238" y="509"/>
                  <a:pt x="250" y="516"/>
                  <a:pt x="258" y="526"/>
                </a:cubicBezTo>
                <a:cubicBezTo>
                  <a:pt x="268" y="538"/>
                  <a:pt x="277" y="551"/>
                  <a:pt x="284" y="564"/>
                </a:cubicBezTo>
                <a:cubicBezTo>
                  <a:pt x="287" y="570"/>
                  <a:pt x="290" y="576"/>
                  <a:pt x="295" y="580"/>
                </a:cubicBezTo>
                <a:cubicBezTo>
                  <a:pt x="296" y="581"/>
                  <a:pt x="296" y="582"/>
                  <a:pt x="297" y="583"/>
                </a:cubicBezTo>
                <a:cubicBezTo>
                  <a:pt x="297" y="583"/>
                  <a:pt x="296" y="584"/>
                  <a:pt x="296" y="585"/>
                </a:cubicBezTo>
                <a:cubicBezTo>
                  <a:pt x="298" y="593"/>
                  <a:pt x="297" y="603"/>
                  <a:pt x="290" y="609"/>
                </a:cubicBezTo>
                <a:cubicBezTo>
                  <a:pt x="287" y="612"/>
                  <a:pt x="284" y="614"/>
                  <a:pt x="281" y="616"/>
                </a:cubicBezTo>
                <a:cubicBezTo>
                  <a:pt x="279" y="618"/>
                  <a:pt x="277" y="619"/>
                  <a:pt x="275" y="621"/>
                </a:cubicBezTo>
                <a:cubicBezTo>
                  <a:pt x="272" y="616"/>
                  <a:pt x="268" y="613"/>
                  <a:pt x="263" y="609"/>
                </a:cubicBezTo>
                <a:close/>
                <a:moveTo>
                  <a:pt x="300" y="586"/>
                </a:moveTo>
                <a:cubicBezTo>
                  <a:pt x="300" y="586"/>
                  <a:pt x="300" y="587"/>
                  <a:pt x="301" y="587"/>
                </a:cubicBezTo>
                <a:cubicBezTo>
                  <a:pt x="303" y="592"/>
                  <a:pt x="304" y="598"/>
                  <a:pt x="301" y="604"/>
                </a:cubicBezTo>
                <a:cubicBezTo>
                  <a:pt x="299" y="610"/>
                  <a:pt x="295" y="614"/>
                  <a:pt x="290" y="618"/>
                </a:cubicBezTo>
                <a:cubicBezTo>
                  <a:pt x="289" y="619"/>
                  <a:pt x="290" y="620"/>
                  <a:pt x="290" y="619"/>
                </a:cubicBezTo>
                <a:cubicBezTo>
                  <a:pt x="300" y="617"/>
                  <a:pt x="306" y="602"/>
                  <a:pt x="305" y="591"/>
                </a:cubicBezTo>
                <a:cubicBezTo>
                  <a:pt x="306" y="593"/>
                  <a:pt x="308" y="595"/>
                  <a:pt x="309" y="598"/>
                </a:cubicBezTo>
                <a:cubicBezTo>
                  <a:pt x="311" y="600"/>
                  <a:pt x="313" y="602"/>
                  <a:pt x="315" y="605"/>
                </a:cubicBezTo>
                <a:cubicBezTo>
                  <a:pt x="314" y="614"/>
                  <a:pt x="307" y="621"/>
                  <a:pt x="299" y="623"/>
                </a:cubicBezTo>
                <a:cubicBezTo>
                  <a:pt x="293" y="624"/>
                  <a:pt x="284" y="624"/>
                  <a:pt x="279" y="622"/>
                </a:cubicBezTo>
                <a:cubicBezTo>
                  <a:pt x="282" y="620"/>
                  <a:pt x="285" y="619"/>
                  <a:pt x="288" y="616"/>
                </a:cubicBezTo>
                <a:cubicBezTo>
                  <a:pt x="291" y="614"/>
                  <a:pt x="295" y="610"/>
                  <a:pt x="297" y="606"/>
                </a:cubicBezTo>
                <a:cubicBezTo>
                  <a:pt x="300" y="600"/>
                  <a:pt x="301" y="593"/>
                  <a:pt x="300" y="586"/>
                </a:cubicBezTo>
                <a:close/>
                <a:moveTo>
                  <a:pt x="390" y="734"/>
                </a:moveTo>
                <a:cubicBezTo>
                  <a:pt x="390" y="743"/>
                  <a:pt x="391" y="756"/>
                  <a:pt x="383" y="761"/>
                </a:cubicBezTo>
                <a:cubicBezTo>
                  <a:pt x="380" y="764"/>
                  <a:pt x="375" y="765"/>
                  <a:pt x="371" y="767"/>
                </a:cubicBezTo>
                <a:cubicBezTo>
                  <a:pt x="368" y="768"/>
                  <a:pt x="359" y="774"/>
                  <a:pt x="357" y="769"/>
                </a:cubicBezTo>
                <a:cubicBezTo>
                  <a:pt x="355" y="765"/>
                  <a:pt x="357" y="761"/>
                  <a:pt x="357" y="757"/>
                </a:cubicBezTo>
                <a:cubicBezTo>
                  <a:pt x="357" y="753"/>
                  <a:pt x="356" y="750"/>
                  <a:pt x="355" y="746"/>
                </a:cubicBezTo>
                <a:cubicBezTo>
                  <a:pt x="352" y="739"/>
                  <a:pt x="347" y="732"/>
                  <a:pt x="343" y="725"/>
                </a:cubicBezTo>
                <a:cubicBezTo>
                  <a:pt x="338" y="716"/>
                  <a:pt x="334" y="706"/>
                  <a:pt x="328" y="698"/>
                </a:cubicBezTo>
                <a:cubicBezTo>
                  <a:pt x="321" y="689"/>
                  <a:pt x="314" y="681"/>
                  <a:pt x="307" y="672"/>
                </a:cubicBezTo>
                <a:cubicBezTo>
                  <a:pt x="301" y="663"/>
                  <a:pt x="296" y="653"/>
                  <a:pt x="288" y="644"/>
                </a:cubicBezTo>
                <a:cubicBezTo>
                  <a:pt x="284" y="639"/>
                  <a:pt x="277" y="635"/>
                  <a:pt x="277" y="628"/>
                </a:cubicBezTo>
                <a:cubicBezTo>
                  <a:pt x="277" y="628"/>
                  <a:pt x="278" y="627"/>
                  <a:pt x="278" y="627"/>
                </a:cubicBezTo>
                <a:cubicBezTo>
                  <a:pt x="277" y="626"/>
                  <a:pt x="277" y="625"/>
                  <a:pt x="277" y="624"/>
                </a:cubicBezTo>
                <a:cubicBezTo>
                  <a:pt x="280" y="626"/>
                  <a:pt x="284" y="626"/>
                  <a:pt x="288" y="626"/>
                </a:cubicBezTo>
                <a:cubicBezTo>
                  <a:pt x="293" y="626"/>
                  <a:pt x="298" y="626"/>
                  <a:pt x="302" y="625"/>
                </a:cubicBezTo>
                <a:cubicBezTo>
                  <a:pt x="308" y="622"/>
                  <a:pt x="317" y="615"/>
                  <a:pt x="317" y="608"/>
                </a:cubicBezTo>
                <a:cubicBezTo>
                  <a:pt x="318" y="610"/>
                  <a:pt x="320" y="612"/>
                  <a:pt x="321" y="612"/>
                </a:cubicBezTo>
                <a:cubicBezTo>
                  <a:pt x="320" y="614"/>
                  <a:pt x="319" y="617"/>
                  <a:pt x="318" y="619"/>
                </a:cubicBezTo>
                <a:cubicBezTo>
                  <a:pt x="318" y="619"/>
                  <a:pt x="317" y="618"/>
                  <a:pt x="317" y="618"/>
                </a:cubicBezTo>
                <a:cubicBezTo>
                  <a:pt x="317" y="618"/>
                  <a:pt x="316" y="618"/>
                  <a:pt x="316" y="619"/>
                </a:cubicBezTo>
                <a:cubicBezTo>
                  <a:pt x="316" y="619"/>
                  <a:pt x="317" y="620"/>
                  <a:pt x="317" y="621"/>
                </a:cubicBezTo>
                <a:cubicBezTo>
                  <a:pt x="315" y="625"/>
                  <a:pt x="312" y="628"/>
                  <a:pt x="308" y="629"/>
                </a:cubicBezTo>
                <a:cubicBezTo>
                  <a:pt x="303" y="631"/>
                  <a:pt x="298" y="629"/>
                  <a:pt x="292" y="630"/>
                </a:cubicBezTo>
                <a:cubicBezTo>
                  <a:pt x="292" y="630"/>
                  <a:pt x="292" y="630"/>
                  <a:pt x="292" y="630"/>
                </a:cubicBezTo>
                <a:cubicBezTo>
                  <a:pt x="297" y="633"/>
                  <a:pt x="306" y="633"/>
                  <a:pt x="311" y="630"/>
                </a:cubicBezTo>
                <a:cubicBezTo>
                  <a:pt x="314" y="628"/>
                  <a:pt x="316" y="625"/>
                  <a:pt x="318" y="622"/>
                </a:cubicBezTo>
                <a:cubicBezTo>
                  <a:pt x="319" y="624"/>
                  <a:pt x="320" y="625"/>
                  <a:pt x="321" y="625"/>
                </a:cubicBezTo>
                <a:cubicBezTo>
                  <a:pt x="322" y="626"/>
                  <a:pt x="323" y="625"/>
                  <a:pt x="323" y="625"/>
                </a:cubicBezTo>
                <a:cubicBezTo>
                  <a:pt x="322" y="623"/>
                  <a:pt x="321" y="622"/>
                  <a:pt x="320" y="621"/>
                </a:cubicBezTo>
                <a:cubicBezTo>
                  <a:pt x="320" y="621"/>
                  <a:pt x="320" y="620"/>
                  <a:pt x="319" y="620"/>
                </a:cubicBezTo>
                <a:cubicBezTo>
                  <a:pt x="320" y="618"/>
                  <a:pt x="321" y="615"/>
                  <a:pt x="322" y="613"/>
                </a:cubicBezTo>
                <a:cubicBezTo>
                  <a:pt x="322" y="613"/>
                  <a:pt x="322" y="613"/>
                  <a:pt x="322" y="613"/>
                </a:cubicBezTo>
                <a:cubicBezTo>
                  <a:pt x="325" y="626"/>
                  <a:pt x="337" y="638"/>
                  <a:pt x="344" y="649"/>
                </a:cubicBezTo>
                <a:cubicBezTo>
                  <a:pt x="347" y="653"/>
                  <a:pt x="350" y="657"/>
                  <a:pt x="352" y="660"/>
                </a:cubicBezTo>
                <a:cubicBezTo>
                  <a:pt x="353" y="662"/>
                  <a:pt x="354" y="663"/>
                  <a:pt x="354" y="664"/>
                </a:cubicBezTo>
                <a:cubicBezTo>
                  <a:pt x="357" y="669"/>
                  <a:pt x="358" y="675"/>
                  <a:pt x="360" y="680"/>
                </a:cubicBezTo>
                <a:cubicBezTo>
                  <a:pt x="362" y="685"/>
                  <a:pt x="365" y="688"/>
                  <a:pt x="367" y="693"/>
                </a:cubicBezTo>
                <a:cubicBezTo>
                  <a:pt x="370" y="697"/>
                  <a:pt x="372" y="702"/>
                  <a:pt x="375" y="707"/>
                </a:cubicBezTo>
                <a:cubicBezTo>
                  <a:pt x="377" y="710"/>
                  <a:pt x="380" y="714"/>
                  <a:pt x="383" y="718"/>
                </a:cubicBezTo>
                <a:cubicBezTo>
                  <a:pt x="385" y="722"/>
                  <a:pt x="386" y="726"/>
                  <a:pt x="388" y="731"/>
                </a:cubicBezTo>
                <a:cubicBezTo>
                  <a:pt x="389" y="732"/>
                  <a:pt x="389" y="733"/>
                  <a:pt x="390" y="734"/>
                </a:cubicBezTo>
                <a:close/>
                <a:moveTo>
                  <a:pt x="421" y="721"/>
                </a:moveTo>
                <a:cubicBezTo>
                  <a:pt x="421" y="721"/>
                  <a:pt x="421" y="721"/>
                  <a:pt x="421" y="721"/>
                </a:cubicBezTo>
                <a:cubicBezTo>
                  <a:pt x="416" y="728"/>
                  <a:pt x="406" y="731"/>
                  <a:pt x="398" y="727"/>
                </a:cubicBezTo>
                <a:cubicBezTo>
                  <a:pt x="392" y="723"/>
                  <a:pt x="388" y="718"/>
                  <a:pt x="385" y="712"/>
                </a:cubicBezTo>
                <a:cubicBezTo>
                  <a:pt x="380" y="702"/>
                  <a:pt x="376" y="693"/>
                  <a:pt x="371" y="683"/>
                </a:cubicBezTo>
                <a:cubicBezTo>
                  <a:pt x="371" y="685"/>
                  <a:pt x="372" y="686"/>
                  <a:pt x="373" y="686"/>
                </a:cubicBezTo>
                <a:cubicBezTo>
                  <a:pt x="374" y="686"/>
                  <a:pt x="374" y="686"/>
                  <a:pt x="374" y="686"/>
                </a:cubicBezTo>
                <a:cubicBezTo>
                  <a:pt x="373" y="682"/>
                  <a:pt x="372" y="678"/>
                  <a:pt x="369" y="676"/>
                </a:cubicBezTo>
                <a:cubicBezTo>
                  <a:pt x="368" y="675"/>
                  <a:pt x="368" y="676"/>
                  <a:pt x="368" y="676"/>
                </a:cubicBezTo>
                <a:cubicBezTo>
                  <a:pt x="368" y="677"/>
                  <a:pt x="368" y="679"/>
                  <a:pt x="369" y="680"/>
                </a:cubicBezTo>
                <a:cubicBezTo>
                  <a:pt x="368" y="679"/>
                  <a:pt x="367" y="678"/>
                  <a:pt x="367" y="676"/>
                </a:cubicBezTo>
                <a:cubicBezTo>
                  <a:pt x="360" y="665"/>
                  <a:pt x="353" y="653"/>
                  <a:pt x="344" y="642"/>
                </a:cubicBezTo>
                <a:cubicBezTo>
                  <a:pt x="337" y="632"/>
                  <a:pt x="330" y="621"/>
                  <a:pt x="323" y="610"/>
                </a:cubicBezTo>
                <a:cubicBezTo>
                  <a:pt x="323" y="609"/>
                  <a:pt x="323" y="609"/>
                  <a:pt x="322" y="610"/>
                </a:cubicBezTo>
                <a:cubicBezTo>
                  <a:pt x="320" y="608"/>
                  <a:pt x="317" y="603"/>
                  <a:pt x="316" y="601"/>
                </a:cubicBezTo>
                <a:cubicBezTo>
                  <a:pt x="314" y="598"/>
                  <a:pt x="312" y="594"/>
                  <a:pt x="309" y="591"/>
                </a:cubicBezTo>
                <a:cubicBezTo>
                  <a:pt x="306" y="587"/>
                  <a:pt x="302" y="583"/>
                  <a:pt x="298" y="579"/>
                </a:cubicBezTo>
                <a:cubicBezTo>
                  <a:pt x="294" y="575"/>
                  <a:pt x="291" y="570"/>
                  <a:pt x="288" y="564"/>
                </a:cubicBezTo>
                <a:cubicBezTo>
                  <a:pt x="282" y="554"/>
                  <a:pt x="275" y="544"/>
                  <a:pt x="268" y="534"/>
                </a:cubicBezTo>
                <a:cubicBezTo>
                  <a:pt x="265" y="529"/>
                  <a:pt x="262" y="525"/>
                  <a:pt x="258" y="520"/>
                </a:cubicBezTo>
                <a:cubicBezTo>
                  <a:pt x="254" y="516"/>
                  <a:pt x="249" y="513"/>
                  <a:pt x="246" y="508"/>
                </a:cubicBezTo>
                <a:cubicBezTo>
                  <a:pt x="242" y="503"/>
                  <a:pt x="237" y="496"/>
                  <a:pt x="239" y="490"/>
                </a:cubicBezTo>
                <a:cubicBezTo>
                  <a:pt x="241" y="485"/>
                  <a:pt x="244" y="479"/>
                  <a:pt x="249" y="477"/>
                </a:cubicBezTo>
                <a:cubicBezTo>
                  <a:pt x="254" y="474"/>
                  <a:pt x="256" y="485"/>
                  <a:pt x="258" y="488"/>
                </a:cubicBezTo>
                <a:cubicBezTo>
                  <a:pt x="260" y="493"/>
                  <a:pt x="264" y="499"/>
                  <a:pt x="267" y="503"/>
                </a:cubicBezTo>
                <a:cubicBezTo>
                  <a:pt x="275" y="514"/>
                  <a:pt x="283" y="523"/>
                  <a:pt x="290" y="534"/>
                </a:cubicBezTo>
                <a:cubicBezTo>
                  <a:pt x="294" y="539"/>
                  <a:pt x="298" y="544"/>
                  <a:pt x="300" y="549"/>
                </a:cubicBezTo>
                <a:cubicBezTo>
                  <a:pt x="303" y="554"/>
                  <a:pt x="304" y="560"/>
                  <a:pt x="307" y="564"/>
                </a:cubicBezTo>
                <a:cubicBezTo>
                  <a:pt x="307" y="565"/>
                  <a:pt x="308" y="565"/>
                  <a:pt x="308" y="564"/>
                </a:cubicBezTo>
                <a:cubicBezTo>
                  <a:pt x="310" y="570"/>
                  <a:pt x="313" y="575"/>
                  <a:pt x="316" y="580"/>
                </a:cubicBezTo>
                <a:cubicBezTo>
                  <a:pt x="313" y="583"/>
                  <a:pt x="318" y="586"/>
                  <a:pt x="319" y="589"/>
                </a:cubicBezTo>
                <a:cubicBezTo>
                  <a:pt x="322" y="596"/>
                  <a:pt x="324" y="603"/>
                  <a:pt x="331" y="607"/>
                </a:cubicBezTo>
                <a:cubicBezTo>
                  <a:pt x="332" y="608"/>
                  <a:pt x="333" y="606"/>
                  <a:pt x="332" y="605"/>
                </a:cubicBezTo>
                <a:cubicBezTo>
                  <a:pt x="327" y="600"/>
                  <a:pt x="325" y="595"/>
                  <a:pt x="322" y="589"/>
                </a:cubicBezTo>
                <a:cubicBezTo>
                  <a:pt x="322" y="588"/>
                  <a:pt x="321" y="586"/>
                  <a:pt x="320" y="585"/>
                </a:cubicBezTo>
                <a:cubicBezTo>
                  <a:pt x="320" y="585"/>
                  <a:pt x="318" y="582"/>
                  <a:pt x="318" y="582"/>
                </a:cubicBezTo>
                <a:cubicBezTo>
                  <a:pt x="322" y="582"/>
                  <a:pt x="325" y="578"/>
                  <a:pt x="328" y="576"/>
                </a:cubicBezTo>
                <a:cubicBezTo>
                  <a:pt x="333" y="571"/>
                  <a:pt x="338" y="577"/>
                  <a:pt x="341" y="580"/>
                </a:cubicBezTo>
                <a:cubicBezTo>
                  <a:pt x="342" y="580"/>
                  <a:pt x="342" y="580"/>
                  <a:pt x="343" y="580"/>
                </a:cubicBezTo>
                <a:cubicBezTo>
                  <a:pt x="343" y="583"/>
                  <a:pt x="344" y="585"/>
                  <a:pt x="345" y="587"/>
                </a:cubicBezTo>
                <a:cubicBezTo>
                  <a:pt x="346" y="592"/>
                  <a:pt x="346" y="598"/>
                  <a:pt x="346" y="603"/>
                </a:cubicBezTo>
                <a:cubicBezTo>
                  <a:pt x="346" y="603"/>
                  <a:pt x="346" y="603"/>
                  <a:pt x="346" y="604"/>
                </a:cubicBezTo>
                <a:cubicBezTo>
                  <a:pt x="344" y="606"/>
                  <a:pt x="343" y="608"/>
                  <a:pt x="343" y="611"/>
                </a:cubicBezTo>
                <a:cubicBezTo>
                  <a:pt x="343" y="611"/>
                  <a:pt x="343" y="611"/>
                  <a:pt x="343" y="611"/>
                </a:cubicBezTo>
                <a:cubicBezTo>
                  <a:pt x="346" y="607"/>
                  <a:pt x="350" y="604"/>
                  <a:pt x="353" y="601"/>
                </a:cubicBezTo>
                <a:cubicBezTo>
                  <a:pt x="355" y="600"/>
                  <a:pt x="357" y="598"/>
                  <a:pt x="359" y="596"/>
                </a:cubicBezTo>
                <a:cubicBezTo>
                  <a:pt x="358" y="597"/>
                  <a:pt x="357" y="599"/>
                  <a:pt x="356" y="600"/>
                </a:cubicBezTo>
                <a:cubicBezTo>
                  <a:pt x="354" y="602"/>
                  <a:pt x="351" y="604"/>
                  <a:pt x="350" y="606"/>
                </a:cubicBezTo>
                <a:cubicBezTo>
                  <a:pt x="350" y="607"/>
                  <a:pt x="351" y="607"/>
                  <a:pt x="351" y="607"/>
                </a:cubicBezTo>
                <a:cubicBezTo>
                  <a:pt x="355" y="606"/>
                  <a:pt x="358" y="602"/>
                  <a:pt x="360" y="599"/>
                </a:cubicBezTo>
                <a:cubicBezTo>
                  <a:pt x="362" y="597"/>
                  <a:pt x="363" y="594"/>
                  <a:pt x="363" y="592"/>
                </a:cubicBezTo>
                <a:cubicBezTo>
                  <a:pt x="363" y="592"/>
                  <a:pt x="363" y="591"/>
                  <a:pt x="363" y="591"/>
                </a:cubicBezTo>
                <a:cubicBezTo>
                  <a:pt x="365" y="589"/>
                  <a:pt x="367" y="587"/>
                  <a:pt x="368" y="585"/>
                </a:cubicBezTo>
                <a:cubicBezTo>
                  <a:pt x="375" y="593"/>
                  <a:pt x="370" y="602"/>
                  <a:pt x="361" y="606"/>
                </a:cubicBezTo>
                <a:cubicBezTo>
                  <a:pt x="360" y="607"/>
                  <a:pt x="359" y="607"/>
                  <a:pt x="358" y="608"/>
                </a:cubicBezTo>
                <a:cubicBezTo>
                  <a:pt x="360" y="607"/>
                  <a:pt x="361" y="605"/>
                  <a:pt x="363" y="604"/>
                </a:cubicBezTo>
                <a:cubicBezTo>
                  <a:pt x="363" y="603"/>
                  <a:pt x="362" y="602"/>
                  <a:pt x="362" y="603"/>
                </a:cubicBezTo>
                <a:cubicBezTo>
                  <a:pt x="359" y="605"/>
                  <a:pt x="355" y="606"/>
                  <a:pt x="353" y="609"/>
                </a:cubicBezTo>
                <a:cubicBezTo>
                  <a:pt x="353" y="610"/>
                  <a:pt x="353" y="610"/>
                  <a:pt x="354" y="610"/>
                </a:cubicBezTo>
                <a:cubicBezTo>
                  <a:pt x="349" y="612"/>
                  <a:pt x="345" y="613"/>
                  <a:pt x="340" y="610"/>
                </a:cubicBezTo>
                <a:cubicBezTo>
                  <a:pt x="339" y="609"/>
                  <a:pt x="337" y="611"/>
                  <a:pt x="338" y="613"/>
                </a:cubicBezTo>
                <a:cubicBezTo>
                  <a:pt x="346" y="620"/>
                  <a:pt x="360" y="612"/>
                  <a:pt x="367" y="607"/>
                </a:cubicBezTo>
                <a:cubicBezTo>
                  <a:pt x="370" y="605"/>
                  <a:pt x="372" y="603"/>
                  <a:pt x="373" y="600"/>
                </a:cubicBezTo>
                <a:cubicBezTo>
                  <a:pt x="376" y="604"/>
                  <a:pt x="379" y="608"/>
                  <a:pt x="381" y="612"/>
                </a:cubicBezTo>
                <a:cubicBezTo>
                  <a:pt x="387" y="624"/>
                  <a:pt x="391" y="635"/>
                  <a:pt x="396" y="647"/>
                </a:cubicBezTo>
                <a:cubicBezTo>
                  <a:pt x="401" y="658"/>
                  <a:pt x="406" y="670"/>
                  <a:pt x="413" y="681"/>
                </a:cubicBezTo>
                <a:cubicBezTo>
                  <a:pt x="415" y="684"/>
                  <a:pt x="417" y="687"/>
                  <a:pt x="420" y="691"/>
                </a:cubicBezTo>
                <a:cubicBezTo>
                  <a:pt x="420" y="691"/>
                  <a:pt x="420" y="691"/>
                  <a:pt x="420" y="691"/>
                </a:cubicBezTo>
                <a:cubicBezTo>
                  <a:pt x="420" y="693"/>
                  <a:pt x="421" y="695"/>
                  <a:pt x="422" y="697"/>
                </a:cubicBezTo>
                <a:cubicBezTo>
                  <a:pt x="423" y="698"/>
                  <a:pt x="424" y="701"/>
                  <a:pt x="423" y="703"/>
                </a:cubicBezTo>
                <a:cubicBezTo>
                  <a:pt x="423" y="703"/>
                  <a:pt x="423" y="703"/>
                  <a:pt x="424" y="703"/>
                </a:cubicBezTo>
                <a:cubicBezTo>
                  <a:pt x="425" y="703"/>
                  <a:pt x="426" y="701"/>
                  <a:pt x="425" y="699"/>
                </a:cubicBezTo>
                <a:cubicBezTo>
                  <a:pt x="426" y="700"/>
                  <a:pt x="426" y="701"/>
                  <a:pt x="426" y="702"/>
                </a:cubicBezTo>
                <a:cubicBezTo>
                  <a:pt x="426" y="703"/>
                  <a:pt x="426" y="704"/>
                  <a:pt x="427" y="704"/>
                </a:cubicBezTo>
                <a:cubicBezTo>
                  <a:pt x="426" y="706"/>
                  <a:pt x="425" y="707"/>
                  <a:pt x="425" y="709"/>
                </a:cubicBezTo>
                <a:cubicBezTo>
                  <a:pt x="423" y="713"/>
                  <a:pt x="422" y="717"/>
                  <a:pt x="421" y="721"/>
                </a:cubicBezTo>
                <a:close/>
                <a:moveTo>
                  <a:pt x="468" y="722"/>
                </a:moveTo>
                <a:cubicBezTo>
                  <a:pt x="467" y="726"/>
                  <a:pt x="465" y="730"/>
                  <a:pt x="464" y="734"/>
                </a:cubicBezTo>
                <a:cubicBezTo>
                  <a:pt x="459" y="741"/>
                  <a:pt x="449" y="744"/>
                  <a:pt x="441" y="742"/>
                </a:cubicBezTo>
                <a:cubicBezTo>
                  <a:pt x="435" y="742"/>
                  <a:pt x="429" y="739"/>
                  <a:pt x="426" y="734"/>
                </a:cubicBezTo>
                <a:cubicBezTo>
                  <a:pt x="423" y="728"/>
                  <a:pt x="425" y="720"/>
                  <a:pt x="427" y="713"/>
                </a:cubicBezTo>
                <a:cubicBezTo>
                  <a:pt x="430" y="706"/>
                  <a:pt x="434" y="699"/>
                  <a:pt x="436" y="691"/>
                </a:cubicBezTo>
                <a:cubicBezTo>
                  <a:pt x="439" y="683"/>
                  <a:pt x="442" y="674"/>
                  <a:pt x="444" y="666"/>
                </a:cubicBezTo>
                <a:cubicBezTo>
                  <a:pt x="446" y="657"/>
                  <a:pt x="449" y="649"/>
                  <a:pt x="449" y="640"/>
                </a:cubicBezTo>
                <a:cubicBezTo>
                  <a:pt x="449" y="634"/>
                  <a:pt x="448" y="627"/>
                  <a:pt x="447" y="621"/>
                </a:cubicBezTo>
                <a:cubicBezTo>
                  <a:pt x="448" y="621"/>
                  <a:pt x="448" y="621"/>
                  <a:pt x="448" y="621"/>
                </a:cubicBezTo>
                <a:cubicBezTo>
                  <a:pt x="455" y="622"/>
                  <a:pt x="459" y="627"/>
                  <a:pt x="465" y="631"/>
                </a:cubicBezTo>
                <a:cubicBezTo>
                  <a:pt x="470" y="633"/>
                  <a:pt x="475" y="635"/>
                  <a:pt x="480" y="637"/>
                </a:cubicBezTo>
                <a:cubicBezTo>
                  <a:pt x="485" y="639"/>
                  <a:pt x="490" y="641"/>
                  <a:pt x="496" y="642"/>
                </a:cubicBezTo>
                <a:cubicBezTo>
                  <a:pt x="493" y="644"/>
                  <a:pt x="491" y="648"/>
                  <a:pt x="490" y="650"/>
                </a:cubicBezTo>
                <a:cubicBezTo>
                  <a:pt x="486" y="657"/>
                  <a:pt x="484" y="664"/>
                  <a:pt x="482" y="672"/>
                </a:cubicBezTo>
                <a:cubicBezTo>
                  <a:pt x="479" y="684"/>
                  <a:pt x="476" y="695"/>
                  <a:pt x="472" y="707"/>
                </a:cubicBezTo>
                <a:cubicBezTo>
                  <a:pt x="470" y="712"/>
                  <a:pt x="469" y="716"/>
                  <a:pt x="468" y="722"/>
                </a:cubicBezTo>
                <a:close/>
                <a:moveTo>
                  <a:pt x="641" y="696"/>
                </a:moveTo>
                <a:cubicBezTo>
                  <a:pt x="632" y="703"/>
                  <a:pt x="622" y="708"/>
                  <a:pt x="613" y="714"/>
                </a:cubicBezTo>
                <a:cubicBezTo>
                  <a:pt x="594" y="725"/>
                  <a:pt x="577" y="737"/>
                  <a:pt x="559" y="748"/>
                </a:cubicBezTo>
                <a:cubicBezTo>
                  <a:pt x="541" y="760"/>
                  <a:pt x="523" y="773"/>
                  <a:pt x="505" y="785"/>
                </a:cubicBezTo>
                <a:cubicBezTo>
                  <a:pt x="490" y="795"/>
                  <a:pt x="474" y="803"/>
                  <a:pt x="458" y="811"/>
                </a:cubicBezTo>
                <a:cubicBezTo>
                  <a:pt x="459" y="789"/>
                  <a:pt x="468" y="767"/>
                  <a:pt x="466" y="745"/>
                </a:cubicBezTo>
                <a:cubicBezTo>
                  <a:pt x="467" y="744"/>
                  <a:pt x="469" y="742"/>
                  <a:pt x="470" y="740"/>
                </a:cubicBezTo>
                <a:cubicBezTo>
                  <a:pt x="474" y="733"/>
                  <a:pt x="475" y="722"/>
                  <a:pt x="473" y="714"/>
                </a:cubicBezTo>
                <a:cubicBezTo>
                  <a:pt x="476" y="703"/>
                  <a:pt x="481" y="691"/>
                  <a:pt x="484" y="680"/>
                </a:cubicBezTo>
                <a:cubicBezTo>
                  <a:pt x="486" y="673"/>
                  <a:pt x="487" y="666"/>
                  <a:pt x="489" y="659"/>
                </a:cubicBezTo>
                <a:cubicBezTo>
                  <a:pt x="491" y="655"/>
                  <a:pt x="492" y="651"/>
                  <a:pt x="495" y="648"/>
                </a:cubicBezTo>
                <a:cubicBezTo>
                  <a:pt x="497" y="645"/>
                  <a:pt x="498" y="644"/>
                  <a:pt x="501" y="643"/>
                </a:cubicBezTo>
                <a:cubicBezTo>
                  <a:pt x="504" y="643"/>
                  <a:pt x="508" y="642"/>
                  <a:pt x="511" y="640"/>
                </a:cubicBezTo>
                <a:cubicBezTo>
                  <a:pt x="516" y="638"/>
                  <a:pt x="521" y="631"/>
                  <a:pt x="519" y="625"/>
                </a:cubicBezTo>
                <a:cubicBezTo>
                  <a:pt x="520" y="625"/>
                  <a:pt x="521" y="625"/>
                  <a:pt x="522" y="625"/>
                </a:cubicBezTo>
                <a:cubicBezTo>
                  <a:pt x="527" y="624"/>
                  <a:pt x="529" y="615"/>
                  <a:pt x="530" y="611"/>
                </a:cubicBezTo>
                <a:cubicBezTo>
                  <a:pt x="534" y="600"/>
                  <a:pt x="541" y="593"/>
                  <a:pt x="550" y="586"/>
                </a:cubicBezTo>
                <a:cubicBezTo>
                  <a:pt x="558" y="578"/>
                  <a:pt x="566" y="569"/>
                  <a:pt x="574" y="560"/>
                </a:cubicBezTo>
                <a:cubicBezTo>
                  <a:pt x="581" y="552"/>
                  <a:pt x="590" y="545"/>
                  <a:pt x="598" y="537"/>
                </a:cubicBezTo>
                <a:cubicBezTo>
                  <a:pt x="605" y="530"/>
                  <a:pt x="612" y="523"/>
                  <a:pt x="618" y="515"/>
                </a:cubicBezTo>
                <a:cubicBezTo>
                  <a:pt x="619" y="514"/>
                  <a:pt x="623" y="508"/>
                  <a:pt x="625" y="505"/>
                </a:cubicBezTo>
                <a:cubicBezTo>
                  <a:pt x="628" y="504"/>
                  <a:pt x="630" y="504"/>
                  <a:pt x="633" y="503"/>
                </a:cubicBezTo>
                <a:cubicBezTo>
                  <a:pt x="640" y="501"/>
                  <a:pt x="646" y="498"/>
                  <a:pt x="653" y="496"/>
                </a:cubicBezTo>
                <a:cubicBezTo>
                  <a:pt x="665" y="491"/>
                  <a:pt x="678" y="486"/>
                  <a:pt x="690" y="480"/>
                </a:cubicBezTo>
                <a:cubicBezTo>
                  <a:pt x="696" y="477"/>
                  <a:pt x="703" y="473"/>
                  <a:pt x="708" y="467"/>
                </a:cubicBezTo>
                <a:cubicBezTo>
                  <a:pt x="708" y="472"/>
                  <a:pt x="709" y="476"/>
                  <a:pt x="710" y="480"/>
                </a:cubicBezTo>
                <a:cubicBezTo>
                  <a:pt x="712" y="487"/>
                  <a:pt x="713" y="493"/>
                  <a:pt x="715" y="500"/>
                </a:cubicBezTo>
                <a:cubicBezTo>
                  <a:pt x="718" y="512"/>
                  <a:pt x="722" y="524"/>
                  <a:pt x="727" y="536"/>
                </a:cubicBezTo>
                <a:cubicBezTo>
                  <a:pt x="729" y="540"/>
                  <a:pt x="731" y="544"/>
                  <a:pt x="734" y="548"/>
                </a:cubicBezTo>
                <a:cubicBezTo>
                  <a:pt x="727" y="552"/>
                  <a:pt x="723" y="566"/>
                  <a:pt x="721" y="572"/>
                </a:cubicBezTo>
                <a:cubicBezTo>
                  <a:pt x="715" y="588"/>
                  <a:pt x="708" y="604"/>
                  <a:pt x="704" y="621"/>
                </a:cubicBezTo>
                <a:cubicBezTo>
                  <a:pt x="702" y="628"/>
                  <a:pt x="701" y="635"/>
                  <a:pt x="699" y="641"/>
                </a:cubicBezTo>
                <a:cubicBezTo>
                  <a:pt x="699" y="641"/>
                  <a:pt x="698" y="641"/>
                  <a:pt x="698" y="641"/>
                </a:cubicBezTo>
                <a:cubicBezTo>
                  <a:pt x="686" y="644"/>
                  <a:pt x="678" y="657"/>
                  <a:pt x="678" y="669"/>
                </a:cubicBezTo>
                <a:cubicBezTo>
                  <a:pt x="678" y="669"/>
                  <a:pt x="677" y="669"/>
                  <a:pt x="677" y="669"/>
                </a:cubicBezTo>
                <a:cubicBezTo>
                  <a:pt x="672" y="671"/>
                  <a:pt x="666" y="675"/>
                  <a:pt x="662" y="680"/>
                </a:cubicBezTo>
                <a:cubicBezTo>
                  <a:pt x="654" y="684"/>
                  <a:pt x="648" y="691"/>
                  <a:pt x="641" y="696"/>
                </a:cubicBezTo>
                <a:close/>
                <a:moveTo>
                  <a:pt x="695" y="680"/>
                </a:moveTo>
                <a:cubicBezTo>
                  <a:pt x="690" y="676"/>
                  <a:pt x="687" y="671"/>
                  <a:pt x="688" y="664"/>
                </a:cubicBezTo>
                <a:cubicBezTo>
                  <a:pt x="688" y="657"/>
                  <a:pt x="692" y="652"/>
                  <a:pt x="697" y="648"/>
                </a:cubicBezTo>
                <a:cubicBezTo>
                  <a:pt x="695" y="652"/>
                  <a:pt x="694" y="657"/>
                  <a:pt x="693" y="662"/>
                </a:cubicBezTo>
                <a:cubicBezTo>
                  <a:pt x="692" y="668"/>
                  <a:pt x="692" y="674"/>
                  <a:pt x="695" y="680"/>
                </a:cubicBezTo>
                <a:close/>
                <a:moveTo>
                  <a:pt x="698" y="685"/>
                </a:moveTo>
                <a:cubicBezTo>
                  <a:pt x="698" y="685"/>
                  <a:pt x="698" y="685"/>
                  <a:pt x="698" y="685"/>
                </a:cubicBezTo>
                <a:cubicBezTo>
                  <a:pt x="698" y="685"/>
                  <a:pt x="698" y="685"/>
                  <a:pt x="698" y="685"/>
                </a:cubicBezTo>
                <a:cubicBezTo>
                  <a:pt x="698" y="686"/>
                  <a:pt x="698" y="686"/>
                  <a:pt x="697" y="687"/>
                </a:cubicBezTo>
                <a:cubicBezTo>
                  <a:pt x="697" y="687"/>
                  <a:pt x="697" y="687"/>
                  <a:pt x="697" y="687"/>
                </a:cubicBezTo>
                <a:cubicBezTo>
                  <a:pt x="686" y="688"/>
                  <a:pt x="681" y="677"/>
                  <a:pt x="681" y="668"/>
                </a:cubicBezTo>
                <a:cubicBezTo>
                  <a:pt x="681" y="663"/>
                  <a:pt x="683" y="658"/>
                  <a:pt x="685" y="654"/>
                </a:cubicBezTo>
                <a:cubicBezTo>
                  <a:pt x="687" y="652"/>
                  <a:pt x="689" y="649"/>
                  <a:pt x="691" y="648"/>
                </a:cubicBezTo>
                <a:cubicBezTo>
                  <a:pt x="693" y="646"/>
                  <a:pt x="696" y="644"/>
                  <a:pt x="698" y="643"/>
                </a:cubicBezTo>
                <a:cubicBezTo>
                  <a:pt x="698" y="643"/>
                  <a:pt x="698" y="644"/>
                  <a:pt x="698" y="644"/>
                </a:cubicBezTo>
                <a:cubicBezTo>
                  <a:pt x="698" y="644"/>
                  <a:pt x="698" y="644"/>
                  <a:pt x="697" y="644"/>
                </a:cubicBezTo>
                <a:cubicBezTo>
                  <a:pt x="682" y="651"/>
                  <a:pt x="679" y="679"/>
                  <a:pt x="698" y="685"/>
                </a:cubicBezTo>
                <a:close/>
                <a:moveTo>
                  <a:pt x="692" y="713"/>
                </a:moveTo>
                <a:cubicBezTo>
                  <a:pt x="685" y="716"/>
                  <a:pt x="675" y="721"/>
                  <a:pt x="668" y="716"/>
                </a:cubicBezTo>
                <a:cubicBezTo>
                  <a:pt x="650" y="704"/>
                  <a:pt x="661" y="679"/>
                  <a:pt x="678" y="673"/>
                </a:cubicBezTo>
                <a:cubicBezTo>
                  <a:pt x="679" y="683"/>
                  <a:pt x="686" y="692"/>
                  <a:pt x="697" y="690"/>
                </a:cubicBezTo>
                <a:cubicBezTo>
                  <a:pt x="697" y="695"/>
                  <a:pt x="699" y="701"/>
                  <a:pt x="701" y="704"/>
                </a:cubicBezTo>
                <a:cubicBezTo>
                  <a:pt x="703" y="706"/>
                  <a:pt x="704" y="708"/>
                  <a:pt x="706" y="709"/>
                </a:cubicBezTo>
                <a:cubicBezTo>
                  <a:pt x="701" y="709"/>
                  <a:pt x="695" y="712"/>
                  <a:pt x="692" y="713"/>
                </a:cubicBezTo>
                <a:close/>
                <a:moveTo>
                  <a:pt x="704" y="702"/>
                </a:moveTo>
                <a:cubicBezTo>
                  <a:pt x="704" y="702"/>
                  <a:pt x="704" y="702"/>
                  <a:pt x="704" y="701"/>
                </a:cubicBezTo>
                <a:cubicBezTo>
                  <a:pt x="702" y="698"/>
                  <a:pt x="701" y="695"/>
                  <a:pt x="701" y="691"/>
                </a:cubicBezTo>
                <a:cubicBezTo>
                  <a:pt x="701" y="690"/>
                  <a:pt x="701" y="689"/>
                  <a:pt x="701" y="687"/>
                </a:cubicBezTo>
                <a:cubicBezTo>
                  <a:pt x="702" y="688"/>
                  <a:pt x="702" y="688"/>
                  <a:pt x="703" y="689"/>
                </a:cubicBezTo>
                <a:cubicBezTo>
                  <a:pt x="702" y="693"/>
                  <a:pt x="702" y="699"/>
                  <a:pt x="704" y="702"/>
                </a:cubicBezTo>
                <a:close/>
                <a:moveTo>
                  <a:pt x="706" y="685"/>
                </a:moveTo>
                <a:cubicBezTo>
                  <a:pt x="700" y="687"/>
                  <a:pt x="696" y="674"/>
                  <a:pt x="696" y="669"/>
                </a:cubicBezTo>
                <a:cubicBezTo>
                  <a:pt x="696" y="664"/>
                  <a:pt x="697" y="659"/>
                  <a:pt x="698" y="654"/>
                </a:cubicBezTo>
                <a:cubicBezTo>
                  <a:pt x="702" y="642"/>
                  <a:pt x="705" y="629"/>
                  <a:pt x="708" y="616"/>
                </a:cubicBezTo>
                <a:cubicBezTo>
                  <a:pt x="712" y="602"/>
                  <a:pt x="718" y="588"/>
                  <a:pt x="723" y="574"/>
                </a:cubicBezTo>
                <a:cubicBezTo>
                  <a:pt x="725" y="569"/>
                  <a:pt x="727" y="564"/>
                  <a:pt x="729" y="559"/>
                </a:cubicBezTo>
                <a:cubicBezTo>
                  <a:pt x="731" y="556"/>
                  <a:pt x="733" y="553"/>
                  <a:pt x="735" y="551"/>
                </a:cubicBezTo>
                <a:cubicBezTo>
                  <a:pt x="736" y="551"/>
                  <a:pt x="736" y="552"/>
                  <a:pt x="737" y="553"/>
                </a:cubicBezTo>
                <a:cubicBezTo>
                  <a:pt x="731" y="556"/>
                  <a:pt x="731" y="564"/>
                  <a:pt x="728" y="569"/>
                </a:cubicBezTo>
                <a:cubicBezTo>
                  <a:pt x="726" y="574"/>
                  <a:pt x="724" y="580"/>
                  <a:pt x="724" y="586"/>
                </a:cubicBezTo>
                <a:cubicBezTo>
                  <a:pt x="724" y="586"/>
                  <a:pt x="724" y="587"/>
                  <a:pt x="724" y="586"/>
                </a:cubicBezTo>
                <a:cubicBezTo>
                  <a:pt x="726" y="581"/>
                  <a:pt x="728" y="576"/>
                  <a:pt x="729" y="570"/>
                </a:cubicBezTo>
                <a:cubicBezTo>
                  <a:pt x="730" y="566"/>
                  <a:pt x="732" y="563"/>
                  <a:pt x="734" y="559"/>
                </a:cubicBezTo>
                <a:cubicBezTo>
                  <a:pt x="735" y="558"/>
                  <a:pt x="736" y="555"/>
                  <a:pt x="737" y="554"/>
                </a:cubicBezTo>
                <a:cubicBezTo>
                  <a:pt x="741" y="559"/>
                  <a:pt x="745" y="565"/>
                  <a:pt x="750" y="570"/>
                </a:cubicBezTo>
                <a:cubicBezTo>
                  <a:pt x="748" y="571"/>
                  <a:pt x="746" y="578"/>
                  <a:pt x="746" y="579"/>
                </a:cubicBezTo>
                <a:cubicBezTo>
                  <a:pt x="743" y="585"/>
                  <a:pt x="740" y="591"/>
                  <a:pt x="736" y="598"/>
                </a:cubicBezTo>
                <a:cubicBezTo>
                  <a:pt x="733" y="605"/>
                  <a:pt x="729" y="612"/>
                  <a:pt x="726" y="619"/>
                </a:cubicBezTo>
                <a:cubicBezTo>
                  <a:pt x="722" y="627"/>
                  <a:pt x="717" y="634"/>
                  <a:pt x="712" y="642"/>
                </a:cubicBezTo>
                <a:cubicBezTo>
                  <a:pt x="711" y="642"/>
                  <a:pt x="712" y="643"/>
                  <a:pt x="712" y="643"/>
                </a:cubicBezTo>
                <a:cubicBezTo>
                  <a:pt x="708" y="648"/>
                  <a:pt x="707" y="654"/>
                  <a:pt x="708" y="660"/>
                </a:cubicBezTo>
                <a:cubicBezTo>
                  <a:pt x="709" y="663"/>
                  <a:pt x="711" y="666"/>
                  <a:pt x="714" y="668"/>
                </a:cubicBezTo>
                <a:cubicBezTo>
                  <a:pt x="716" y="670"/>
                  <a:pt x="720" y="671"/>
                  <a:pt x="722" y="671"/>
                </a:cubicBezTo>
                <a:cubicBezTo>
                  <a:pt x="723" y="671"/>
                  <a:pt x="723" y="671"/>
                  <a:pt x="723" y="670"/>
                </a:cubicBezTo>
                <a:cubicBezTo>
                  <a:pt x="720" y="673"/>
                  <a:pt x="717" y="677"/>
                  <a:pt x="714" y="680"/>
                </a:cubicBezTo>
                <a:cubicBezTo>
                  <a:pt x="713" y="681"/>
                  <a:pt x="712" y="682"/>
                  <a:pt x="711" y="683"/>
                </a:cubicBezTo>
                <a:cubicBezTo>
                  <a:pt x="711" y="683"/>
                  <a:pt x="711" y="683"/>
                  <a:pt x="710" y="683"/>
                </a:cubicBezTo>
                <a:cubicBezTo>
                  <a:pt x="705" y="682"/>
                  <a:pt x="702" y="673"/>
                  <a:pt x="702" y="668"/>
                </a:cubicBezTo>
                <a:cubicBezTo>
                  <a:pt x="702" y="667"/>
                  <a:pt x="701" y="667"/>
                  <a:pt x="701" y="668"/>
                </a:cubicBezTo>
                <a:cubicBezTo>
                  <a:pt x="700" y="674"/>
                  <a:pt x="701" y="681"/>
                  <a:pt x="706" y="685"/>
                </a:cubicBezTo>
                <a:close/>
                <a:moveTo>
                  <a:pt x="789" y="596"/>
                </a:moveTo>
                <a:cubicBezTo>
                  <a:pt x="778" y="622"/>
                  <a:pt x="756" y="644"/>
                  <a:pt x="733" y="660"/>
                </a:cubicBezTo>
                <a:cubicBezTo>
                  <a:pt x="734" y="658"/>
                  <a:pt x="734" y="655"/>
                  <a:pt x="736" y="653"/>
                </a:cubicBezTo>
                <a:cubicBezTo>
                  <a:pt x="738" y="649"/>
                  <a:pt x="741" y="646"/>
                  <a:pt x="744" y="643"/>
                </a:cubicBezTo>
                <a:cubicBezTo>
                  <a:pt x="749" y="637"/>
                  <a:pt x="753" y="631"/>
                  <a:pt x="758" y="625"/>
                </a:cubicBezTo>
                <a:cubicBezTo>
                  <a:pt x="762" y="618"/>
                  <a:pt x="767" y="610"/>
                  <a:pt x="772" y="604"/>
                </a:cubicBezTo>
                <a:cubicBezTo>
                  <a:pt x="775" y="600"/>
                  <a:pt x="779" y="596"/>
                  <a:pt x="779" y="591"/>
                </a:cubicBezTo>
                <a:cubicBezTo>
                  <a:pt x="782" y="593"/>
                  <a:pt x="786" y="595"/>
                  <a:pt x="789" y="596"/>
                </a:cubicBezTo>
                <a:cubicBezTo>
                  <a:pt x="789" y="596"/>
                  <a:pt x="789" y="596"/>
                  <a:pt x="789" y="596"/>
                </a:cubicBezTo>
                <a:close/>
                <a:moveTo>
                  <a:pt x="792" y="597"/>
                </a:moveTo>
                <a:cubicBezTo>
                  <a:pt x="794" y="598"/>
                  <a:pt x="795" y="598"/>
                  <a:pt x="797" y="599"/>
                </a:cubicBezTo>
                <a:cubicBezTo>
                  <a:pt x="794" y="610"/>
                  <a:pt x="784" y="618"/>
                  <a:pt x="776" y="625"/>
                </a:cubicBezTo>
                <a:cubicBezTo>
                  <a:pt x="775" y="626"/>
                  <a:pt x="775" y="626"/>
                  <a:pt x="774" y="627"/>
                </a:cubicBezTo>
                <a:cubicBezTo>
                  <a:pt x="781" y="618"/>
                  <a:pt x="788" y="608"/>
                  <a:pt x="792" y="597"/>
                </a:cubicBezTo>
                <a:close/>
                <a:moveTo>
                  <a:pt x="777" y="590"/>
                </a:moveTo>
                <a:cubicBezTo>
                  <a:pt x="776" y="596"/>
                  <a:pt x="769" y="603"/>
                  <a:pt x="765" y="608"/>
                </a:cubicBezTo>
                <a:cubicBezTo>
                  <a:pt x="761" y="615"/>
                  <a:pt x="756" y="621"/>
                  <a:pt x="751" y="628"/>
                </a:cubicBezTo>
                <a:cubicBezTo>
                  <a:pt x="746" y="634"/>
                  <a:pt x="741" y="640"/>
                  <a:pt x="736" y="647"/>
                </a:cubicBezTo>
                <a:cubicBezTo>
                  <a:pt x="732" y="652"/>
                  <a:pt x="730" y="658"/>
                  <a:pt x="727" y="664"/>
                </a:cubicBezTo>
                <a:cubicBezTo>
                  <a:pt x="727" y="664"/>
                  <a:pt x="727" y="664"/>
                  <a:pt x="727" y="664"/>
                </a:cubicBezTo>
                <a:cubicBezTo>
                  <a:pt x="726" y="665"/>
                  <a:pt x="724" y="667"/>
                  <a:pt x="722" y="667"/>
                </a:cubicBezTo>
                <a:cubicBezTo>
                  <a:pt x="720" y="666"/>
                  <a:pt x="717" y="666"/>
                  <a:pt x="715" y="665"/>
                </a:cubicBezTo>
                <a:cubicBezTo>
                  <a:pt x="713" y="663"/>
                  <a:pt x="712" y="660"/>
                  <a:pt x="712" y="657"/>
                </a:cubicBezTo>
                <a:cubicBezTo>
                  <a:pt x="711" y="653"/>
                  <a:pt x="713" y="648"/>
                  <a:pt x="714" y="644"/>
                </a:cubicBezTo>
                <a:cubicBezTo>
                  <a:pt x="724" y="634"/>
                  <a:pt x="732" y="623"/>
                  <a:pt x="740" y="611"/>
                </a:cubicBezTo>
                <a:cubicBezTo>
                  <a:pt x="744" y="605"/>
                  <a:pt x="748" y="599"/>
                  <a:pt x="752" y="593"/>
                </a:cubicBezTo>
                <a:cubicBezTo>
                  <a:pt x="756" y="589"/>
                  <a:pt x="760" y="585"/>
                  <a:pt x="762" y="580"/>
                </a:cubicBezTo>
                <a:cubicBezTo>
                  <a:pt x="765" y="582"/>
                  <a:pt x="768" y="584"/>
                  <a:pt x="772" y="586"/>
                </a:cubicBezTo>
                <a:cubicBezTo>
                  <a:pt x="773" y="587"/>
                  <a:pt x="775" y="588"/>
                  <a:pt x="777" y="589"/>
                </a:cubicBezTo>
                <a:cubicBezTo>
                  <a:pt x="777" y="589"/>
                  <a:pt x="777" y="589"/>
                  <a:pt x="777" y="590"/>
                </a:cubicBezTo>
                <a:close/>
                <a:moveTo>
                  <a:pt x="749" y="591"/>
                </a:moveTo>
                <a:cubicBezTo>
                  <a:pt x="745" y="597"/>
                  <a:pt x="741" y="603"/>
                  <a:pt x="737" y="610"/>
                </a:cubicBezTo>
                <a:cubicBezTo>
                  <a:pt x="734" y="614"/>
                  <a:pt x="731" y="619"/>
                  <a:pt x="728" y="623"/>
                </a:cubicBezTo>
                <a:cubicBezTo>
                  <a:pt x="728" y="622"/>
                  <a:pt x="729" y="621"/>
                  <a:pt x="729" y="621"/>
                </a:cubicBezTo>
                <a:cubicBezTo>
                  <a:pt x="732" y="614"/>
                  <a:pt x="735" y="606"/>
                  <a:pt x="739" y="600"/>
                </a:cubicBezTo>
                <a:cubicBezTo>
                  <a:pt x="742" y="593"/>
                  <a:pt x="746" y="587"/>
                  <a:pt x="749" y="580"/>
                </a:cubicBezTo>
                <a:cubicBezTo>
                  <a:pt x="750" y="579"/>
                  <a:pt x="752" y="574"/>
                  <a:pt x="752" y="571"/>
                </a:cubicBezTo>
                <a:cubicBezTo>
                  <a:pt x="754" y="574"/>
                  <a:pt x="757" y="576"/>
                  <a:pt x="760" y="578"/>
                </a:cubicBezTo>
                <a:cubicBezTo>
                  <a:pt x="756" y="582"/>
                  <a:pt x="753" y="587"/>
                  <a:pt x="749" y="591"/>
                </a:cubicBezTo>
                <a:close/>
                <a:moveTo>
                  <a:pt x="744" y="695"/>
                </a:moveTo>
                <a:cubicBezTo>
                  <a:pt x="743" y="697"/>
                  <a:pt x="741" y="699"/>
                  <a:pt x="740" y="701"/>
                </a:cubicBezTo>
                <a:cubicBezTo>
                  <a:pt x="735" y="706"/>
                  <a:pt x="729" y="709"/>
                  <a:pt x="722" y="708"/>
                </a:cubicBezTo>
                <a:cubicBezTo>
                  <a:pt x="717" y="708"/>
                  <a:pt x="713" y="707"/>
                  <a:pt x="709" y="704"/>
                </a:cubicBezTo>
                <a:cubicBezTo>
                  <a:pt x="714" y="706"/>
                  <a:pt x="720" y="705"/>
                  <a:pt x="724" y="704"/>
                </a:cubicBezTo>
                <a:cubicBezTo>
                  <a:pt x="731" y="701"/>
                  <a:pt x="738" y="697"/>
                  <a:pt x="744" y="693"/>
                </a:cubicBezTo>
                <a:cubicBezTo>
                  <a:pt x="744" y="694"/>
                  <a:pt x="744" y="694"/>
                  <a:pt x="744" y="695"/>
                </a:cubicBezTo>
                <a:close/>
                <a:moveTo>
                  <a:pt x="821" y="625"/>
                </a:moveTo>
                <a:cubicBezTo>
                  <a:pt x="821" y="625"/>
                  <a:pt x="821" y="625"/>
                  <a:pt x="820" y="625"/>
                </a:cubicBezTo>
                <a:cubicBezTo>
                  <a:pt x="811" y="635"/>
                  <a:pt x="800" y="644"/>
                  <a:pt x="789" y="653"/>
                </a:cubicBezTo>
                <a:cubicBezTo>
                  <a:pt x="779" y="662"/>
                  <a:pt x="768" y="671"/>
                  <a:pt x="757" y="679"/>
                </a:cubicBezTo>
                <a:cubicBezTo>
                  <a:pt x="748" y="686"/>
                  <a:pt x="738" y="694"/>
                  <a:pt x="727" y="699"/>
                </a:cubicBezTo>
                <a:cubicBezTo>
                  <a:pt x="722" y="701"/>
                  <a:pt x="718" y="702"/>
                  <a:pt x="713" y="702"/>
                </a:cubicBezTo>
                <a:cubicBezTo>
                  <a:pt x="709" y="701"/>
                  <a:pt x="706" y="699"/>
                  <a:pt x="708" y="694"/>
                </a:cubicBezTo>
                <a:cubicBezTo>
                  <a:pt x="710" y="688"/>
                  <a:pt x="716" y="683"/>
                  <a:pt x="720" y="678"/>
                </a:cubicBezTo>
                <a:cubicBezTo>
                  <a:pt x="725" y="673"/>
                  <a:pt x="730" y="669"/>
                  <a:pt x="735" y="664"/>
                </a:cubicBezTo>
                <a:cubicBezTo>
                  <a:pt x="745" y="656"/>
                  <a:pt x="755" y="648"/>
                  <a:pt x="765" y="640"/>
                </a:cubicBezTo>
                <a:cubicBezTo>
                  <a:pt x="772" y="633"/>
                  <a:pt x="780" y="627"/>
                  <a:pt x="787" y="620"/>
                </a:cubicBezTo>
                <a:cubicBezTo>
                  <a:pt x="792" y="614"/>
                  <a:pt x="798" y="608"/>
                  <a:pt x="800" y="599"/>
                </a:cubicBezTo>
                <a:cubicBezTo>
                  <a:pt x="801" y="599"/>
                  <a:pt x="802" y="599"/>
                  <a:pt x="803" y="599"/>
                </a:cubicBezTo>
                <a:cubicBezTo>
                  <a:pt x="807" y="600"/>
                  <a:pt x="812" y="599"/>
                  <a:pt x="817" y="599"/>
                </a:cubicBezTo>
                <a:cubicBezTo>
                  <a:pt x="820" y="599"/>
                  <a:pt x="822" y="599"/>
                  <a:pt x="824" y="598"/>
                </a:cubicBezTo>
                <a:cubicBezTo>
                  <a:pt x="822" y="607"/>
                  <a:pt x="821" y="615"/>
                  <a:pt x="821" y="625"/>
                </a:cubicBezTo>
                <a:close/>
                <a:moveTo>
                  <a:pt x="824" y="594"/>
                </a:moveTo>
                <a:cubicBezTo>
                  <a:pt x="820" y="597"/>
                  <a:pt x="814" y="595"/>
                  <a:pt x="810" y="596"/>
                </a:cubicBezTo>
                <a:cubicBezTo>
                  <a:pt x="806" y="596"/>
                  <a:pt x="802" y="596"/>
                  <a:pt x="797" y="595"/>
                </a:cubicBezTo>
                <a:cubicBezTo>
                  <a:pt x="787" y="592"/>
                  <a:pt x="776" y="586"/>
                  <a:pt x="767" y="580"/>
                </a:cubicBezTo>
                <a:cubicBezTo>
                  <a:pt x="750" y="569"/>
                  <a:pt x="737" y="550"/>
                  <a:pt x="730" y="532"/>
                </a:cubicBezTo>
                <a:cubicBezTo>
                  <a:pt x="727" y="527"/>
                  <a:pt x="725" y="522"/>
                  <a:pt x="724" y="516"/>
                </a:cubicBezTo>
                <a:cubicBezTo>
                  <a:pt x="724" y="516"/>
                  <a:pt x="724" y="516"/>
                  <a:pt x="724" y="516"/>
                </a:cubicBezTo>
                <a:cubicBezTo>
                  <a:pt x="717" y="496"/>
                  <a:pt x="713" y="474"/>
                  <a:pt x="718" y="453"/>
                </a:cubicBezTo>
                <a:cubicBezTo>
                  <a:pt x="720" y="442"/>
                  <a:pt x="724" y="430"/>
                  <a:pt x="732" y="422"/>
                </a:cubicBezTo>
                <a:cubicBezTo>
                  <a:pt x="736" y="419"/>
                  <a:pt x="740" y="418"/>
                  <a:pt x="744" y="415"/>
                </a:cubicBezTo>
                <a:cubicBezTo>
                  <a:pt x="745" y="414"/>
                  <a:pt x="746" y="414"/>
                  <a:pt x="747" y="413"/>
                </a:cubicBezTo>
                <a:cubicBezTo>
                  <a:pt x="750" y="412"/>
                  <a:pt x="753" y="412"/>
                  <a:pt x="755" y="411"/>
                </a:cubicBezTo>
                <a:cubicBezTo>
                  <a:pt x="769" y="409"/>
                  <a:pt x="782" y="405"/>
                  <a:pt x="795" y="399"/>
                </a:cubicBezTo>
                <a:cubicBezTo>
                  <a:pt x="796" y="399"/>
                  <a:pt x="796" y="399"/>
                  <a:pt x="797" y="398"/>
                </a:cubicBezTo>
                <a:cubicBezTo>
                  <a:pt x="803" y="397"/>
                  <a:pt x="808" y="394"/>
                  <a:pt x="815" y="395"/>
                </a:cubicBezTo>
                <a:cubicBezTo>
                  <a:pt x="816" y="396"/>
                  <a:pt x="817" y="396"/>
                  <a:pt x="817" y="396"/>
                </a:cubicBezTo>
                <a:cubicBezTo>
                  <a:pt x="822" y="397"/>
                  <a:pt x="827" y="398"/>
                  <a:pt x="831" y="399"/>
                </a:cubicBezTo>
                <a:cubicBezTo>
                  <a:pt x="840" y="402"/>
                  <a:pt x="848" y="406"/>
                  <a:pt x="854" y="412"/>
                </a:cubicBezTo>
                <a:cubicBezTo>
                  <a:pt x="866" y="423"/>
                  <a:pt x="879" y="437"/>
                  <a:pt x="884" y="452"/>
                </a:cubicBezTo>
                <a:cubicBezTo>
                  <a:pt x="889" y="470"/>
                  <a:pt x="892" y="490"/>
                  <a:pt x="890" y="509"/>
                </a:cubicBezTo>
                <a:cubicBezTo>
                  <a:pt x="890" y="517"/>
                  <a:pt x="888" y="525"/>
                  <a:pt x="887" y="534"/>
                </a:cubicBezTo>
                <a:cubicBezTo>
                  <a:pt x="887" y="540"/>
                  <a:pt x="887" y="547"/>
                  <a:pt x="885" y="553"/>
                </a:cubicBezTo>
                <a:cubicBezTo>
                  <a:pt x="879" y="543"/>
                  <a:pt x="866" y="539"/>
                  <a:pt x="857" y="548"/>
                </a:cubicBezTo>
                <a:cubicBezTo>
                  <a:pt x="846" y="558"/>
                  <a:pt x="834" y="567"/>
                  <a:pt x="829" y="582"/>
                </a:cubicBezTo>
                <a:cubicBezTo>
                  <a:pt x="827" y="586"/>
                  <a:pt x="826" y="590"/>
                  <a:pt x="825" y="594"/>
                </a:cubicBezTo>
                <a:cubicBezTo>
                  <a:pt x="825" y="594"/>
                  <a:pt x="824" y="594"/>
                  <a:pt x="824" y="594"/>
                </a:cubicBezTo>
                <a:close/>
                <a:moveTo>
                  <a:pt x="935" y="598"/>
                </a:moveTo>
                <a:cubicBezTo>
                  <a:pt x="940" y="605"/>
                  <a:pt x="945" y="611"/>
                  <a:pt x="949" y="618"/>
                </a:cubicBezTo>
                <a:cubicBezTo>
                  <a:pt x="957" y="632"/>
                  <a:pt x="964" y="647"/>
                  <a:pt x="970" y="661"/>
                </a:cubicBezTo>
                <a:cubicBezTo>
                  <a:pt x="973" y="668"/>
                  <a:pt x="976" y="676"/>
                  <a:pt x="976" y="684"/>
                </a:cubicBezTo>
                <a:cubicBezTo>
                  <a:pt x="976" y="692"/>
                  <a:pt x="974" y="700"/>
                  <a:pt x="970" y="707"/>
                </a:cubicBezTo>
                <a:cubicBezTo>
                  <a:pt x="965" y="715"/>
                  <a:pt x="960" y="721"/>
                  <a:pt x="950" y="724"/>
                </a:cubicBezTo>
                <a:cubicBezTo>
                  <a:pt x="943" y="727"/>
                  <a:pt x="936" y="729"/>
                  <a:pt x="929" y="730"/>
                </a:cubicBezTo>
                <a:cubicBezTo>
                  <a:pt x="920" y="731"/>
                  <a:pt x="911" y="731"/>
                  <a:pt x="903" y="732"/>
                </a:cubicBezTo>
                <a:cubicBezTo>
                  <a:pt x="896" y="732"/>
                  <a:pt x="889" y="732"/>
                  <a:pt x="883" y="732"/>
                </a:cubicBezTo>
                <a:cubicBezTo>
                  <a:pt x="866" y="729"/>
                  <a:pt x="855" y="717"/>
                  <a:pt x="848" y="702"/>
                </a:cubicBezTo>
                <a:cubicBezTo>
                  <a:pt x="841" y="687"/>
                  <a:pt x="833" y="673"/>
                  <a:pt x="829" y="657"/>
                </a:cubicBezTo>
                <a:cubicBezTo>
                  <a:pt x="826" y="642"/>
                  <a:pt x="824" y="626"/>
                  <a:pt x="826" y="610"/>
                </a:cubicBezTo>
                <a:cubicBezTo>
                  <a:pt x="827" y="595"/>
                  <a:pt x="832" y="577"/>
                  <a:pt x="844" y="565"/>
                </a:cubicBezTo>
                <a:cubicBezTo>
                  <a:pt x="849" y="560"/>
                  <a:pt x="854" y="554"/>
                  <a:pt x="860" y="549"/>
                </a:cubicBezTo>
                <a:cubicBezTo>
                  <a:pt x="864" y="547"/>
                  <a:pt x="868" y="546"/>
                  <a:pt x="871" y="547"/>
                </a:cubicBezTo>
                <a:cubicBezTo>
                  <a:pt x="868" y="549"/>
                  <a:pt x="864" y="551"/>
                  <a:pt x="862" y="555"/>
                </a:cubicBezTo>
                <a:cubicBezTo>
                  <a:pt x="856" y="565"/>
                  <a:pt x="855" y="577"/>
                  <a:pt x="848" y="587"/>
                </a:cubicBezTo>
                <a:cubicBezTo>
                  <a:pt x="842" y="597"/>
                  <a:pt x="839" y="609"/>
                  <a:pt x="838" y="621"/>
                </a:cubicBezTo>
                <a:cubicBezTo>
                  <a:pt x="836" y="632"/>
                  <a:pt x="836" y="644"/>
                  <a:pt x="839" y="655"/>
                </a:cubicBezTo>
                <a:cubicBezTo>
                  <a:pt x="840" y="656"/>
                  <a:pt x="841" y="656"/>
                  <a:pt x="841" y="655"/>
                </a:cubicBezTo>
                <a:cubicBezTo>
                  <a:pt x="839" y="636"/>
                  <a:pt x="840" y="613"/>
                  <a:pt x="848" y="595"/>
                </a:cubicBezTo>
                <a:cubicBezTo>
                  <a:pt x="850" y="590"/>
                  <a:pt x="854" y="586"/>
                  <a:pt x="856" y="580"/>
                </a:cubicBezTo>
                <a:cubicBezTo>
                  <a:pt x="858" y="576"/>
                  <a:pt x="859" y="572"/>
                  <a:pt x="861" y="567"/>
                </a:cubicBezTo>
                <a:cubicBezTo>
                  <a:pt x="862" y="562"/>
                  <a:pt x="864" y="557"/>
                  <a:pt x="868" y="553"/>
                </a:cubicBezTo>
                <a:cubicBezTo>
                  <a:pt x="871" y="551"/>
                  <a:pt x="873" y="549"/>
                  <a:pt x="876" y="550"/>
                </a:cubicBezTo>
                <a:cubicBezTo>
                  <a:pt x="877" y="550"/>
                  <a:pt x="877" y="550"/>
                  <a:pt x="877" y="550"/>
                </a:cubicBezTo>
                <a:cubicBezTo>
                  <a:pt x="879" y="552"/>
                  <a:pt x="881" y="554"/>
                  <a:pt x="882" y="556"/>
                </a:cubicBezTo>
                <a:cubicBezTo>
                  <a:pt x="882" y="556"/>
                  <a:pt x="882" y="557"/>
                  <a:pt x="882" y="557"/>
                </a:cubicBezTo>
                <a:cubicBezTo>
                  <a:pt x="880" y="556"/>
                  <a:pt x="877" y="557"/>
                  <a:pt x="875" y="557"/>
                </a:cubicBezTo>
                <a:cubicBezTo>
                  <a:pt x="871" y="558"/>
                  <a:pt x="868" y="560"/>
                  <a:pt x="866" y="564"/>
                </a:cubicBezTo>
                <a:cubicBezTo>
                  <a:pt x="866" y="564"/>
                  <a:pt x="866" y="565"/>
                  <a:pt x="866" y="564"/>
                </a:cubicBezTo>
                <a:cubicBezTo>
                  <a:pt x="869" y="562"/>
                  <a:pt x="872" y="559"/>
                  <a:pt x="875" y="558"/>
                </a:cubicBezTo>
                <a:cubicBezTo>
                  <a:pt x="878" y="558"/>
                  <a:pt x="881" y="559"/>
                  <a:pt x="884" y="559"/>
                </a:cubicBezTo>
                <a:cubicBezTo>
                  <a:pt x="883" y="560"/>
                  <a:pt x="883" y="561"/>
                  <a:pt x="882" y="562"/>
                </a:cubicBezTo>
                <a:cubicBezTo>
                  <a:pt x="880" y="560"/>
                  <a:pt x="877" y="562"/>
                  <a:pt x="875" y="564"/>
                </a:cubicBezTo>
                <a:cubicBezTo>
                  <a:pt x="875" y="564"/>
                  <a:pt x="875" y="564"/>
                  <a:pt x="874" y="564"/>
                </a:cubicBezTo>
                <a:cubicBezTo>
                  <a:pt x="872" y="565"/>
                  <a:pt x="870" y="568"/>
                  <a:pt x="868" y="571"/>
                </a:cubicBezTo>
                <a:cubicBezTo>
                  <a:pt x="866" y="574"/>
                  <a:pt x="864" y="578"/>
                  <a:pt x="862" y="582"/>
                </a:cubicBezTo>
                <a:cubicBezTo>
                  <a:pt x="858" y="589"/>
                  <a:pt x="855" y="596"/>
                  <a:pt x="853" y="604"/>
                </a:cubicBezTo>
                <a:cubicBezTo>
                  <a:pt x="851" y="611"/>
                  <a:pt x="851" y="618"/>
                  <a:pt x="851" y="626"/>
                </a:cubicBezTo>
                <a:cubicBezTo>
                  <a:pt x="850" y="631"/>
                  <a:pt x="849" y="637"/>
                  <a:pt x="852" y="642"/>
                </a:cubicBezTo>
                <a:cubicBezTo>
                  <a:pt x="852" y="643"/>
                  <a:pt x="853" y="642"/>
                  <a:pt x="853" y="642"/>
                </a:cubicBezTo>
                <a:cubicBezTo>
                  <a:pt x="850" y="629"/>
                  <a:pt x="852" y="614"/>
                  <a:pt x="856" y="601"/>
                </a:cubicBezTo>
                <a:cubicBezTo>
                  <a:pt x="858" y="595"/>
                  <a:pt x="861" y="589"/>
                  <a:pt x="864" y="583"/>
                </a:cubicBezTo>
                <a:cubicBezTo>
                  <a:pt x="861" y="592"/>
                  <a:pt x="859" y="602"/>
                  <a:pt x="859" y="610"/>
                </a:cubicBezTo>
                <a:cubicBezTo>
                  <a:pt x="858" y="614"/>
                  <a:pt x="859" y="618"/>
                  <a:pt x="859" y="622"/>
                </a:cubicBezTo>
                <a:cubicBezTo>
                  <a:pt x="859" y="625"/>
                  <a:pt x="858" y="628"/>
                  <a:pt x="859" y="631"/>
                </a:cubicBezTo>
                <a:cubicBezTo>
                  <a:pt x="860" y="638"/>
                  <a:pt x="861" y="646"/>
                  <a:pt x="865" y="652"/>
                </a:cubicBezTo>
                <a:cubicBezTo>
                  <a:pt x="865" y="652"/>
                  <a:pt x="865" y="652"/>
                  <a:pt x="865" y="651"/>
                </a:cubicBezTo>
                <a:cubicBezTo>
                  <a:pt x="863" y="645"/>
                  <a:pt x="861" y="638"/>
                  <a:pt x="860" y="631"/>
                </a:cubicBezTo>
                <a:cubicBezTo>
                  <a:pt x="860" y="627"/>
                  <a:pt x="859" y="624"/>
                  <a:pt x="859" y="620"/>
                </a:cubicBezTo>
                <a:cubicBezTo>
                  <a:pt x="860" y="617"/>
                  <a:pt x="861" y="614"/>
                  <a:pt x="861" y="611"/>
                </a:cubicBezTo>
                <a:cubicBezTo>
                  <a:pt x="861" y="604"/>
                  <a:pt x="862" y="597"/>
                  <a:pt x="864" y="591"/>
                </a:cubicBezTo>
                <a:cubicBezTo>
                  <a:pt x="866" y="584"/>
                  <a:pt x="869" y="579"/>
                  <a:pt x="873" y="573"/>
                </a:cubicBezTo>
                <a:cubicBezTo>
                  <a:pt x="873" y="574"/>
                  <a:pt x="873" y="575"/>
                  <a:pt x="873" y="576"/>
                </a:cubicBezTo>
                <a:cubicBezTo>
                  <a:pt x="871" y="582"/>
                  <a:pt x="869" y="588"/>
                  <a:pt x="867" y="595"/>
                </a:cubicBezTo>
                <a:cubicBezTo>
                  <a:pt x="867" y="599"/>
                  <a:pt x="867" y="603"/>
                  <a:pt x="866" y="607"/>
                </a:cubicBezTo>
                <a:cubicBezTo>
                  <a:pt x="866" y="611"/>
                  <a:pt x="865" y="614"/>
                  <a:pt x="865" y="618"/>
                </a:cubicBezTo>
                <a:cubicBezTo>
                  <a:pt x="866" y="627"/>
                  <a:pt x="866" y="636"/>
                  <a:pt x="868" y="644"/>
                </a:cubicBezTo>
                <a:cubicBezTo>
                  <a:pt x="869" y="652"/>
                  <a:pt x="871" y="660"/>
                  <a:pt x="872" y="668"/>
                </a:cubicBezTo>
                <a:cubicBezTo>
                  <a:pt x="872" y="668"/>
                  <a:pt x="873" y="668"/>
                  <a:pt x="873" y="668"/>
                </a:cubicBezTo>
                <a:cubicBezTo>
                  <a:pt x="873" y="659"/>
                  <a:pt x="870" y="651"/>
                  <a:pt x="869" y="642"/>
                </a:cubicBezTo>
                <a:cubicBezTo>
                  <a:pt x="868" y="634"/>
                  <a:pt x="867" y="626"/>
                  <a:pt x="867" y="618"/>
                </a:cubicBezTo>
                <a:cubicBezTo>
                  <a:pt x="867" y="613"/>
                  <a:pt x="867" y="608"/>
                  <a:pt x="868" y="603"/>
                </a:cubicBezTo>
                <a:cubicBezTo>
                  <a:pt x="869" y="600"/>
                  <a:pt x="868" y="595"/>
                  <a:pt x="869" y="592"/>
                </a:cubicBezTo>
                <a:cubicBezTo>
                  <a:pt x="870" y="588"/>
                  <a:pt x="873" y="584"/>
                  <a:pt x="874" y="579"/>
                </a:cubicBezTo>
                <a:cubicBezTo>
                  <a:pt x="875" y="580"/>
                  <a:pt x="875" y="580"/>
                  <a:pt x="875" y="581"/>
                </a:cubicBezTo>
                <a:cubicBezTo>
                  <a:pt x="875" y="581"/>
                  <a:pt x="875" y="581"/>
                  <a:pt x="875" y="581"/>
                </a:cubicBezTo>
                <a:cubicBezTo>
                  <a:pt x="874" y="584"/>
                  <a:pt x="873" y="589"/>
                  <a:pt x="872" y="592"/>
                </a:cubicBezTo>
                <a:cubicBezTo>
                  <a:pt x="871" y="596"/>
                  <a:pt x="871" y="601"/>
                  <a:pt x="870" y="606"/>
                </a:cubicBezTo>
                <a:cubicBezTo>
                  <a:pt x="870" y="607"/>
                  <a:pt x="872" y="607"/>
                  <a:pt x="872" y="606"/>
                </a:cubicBezTo>
                <a:cubicBezTo>
                  <a:pt x="873" y="601"/>
                  <a:pt x="874" y="596"/>
                  <a:pt x="875" y="591"/>
                </a:cubicBezTo>
                <a:cubicBezTo>
                  <a:pt x="875" y="588"/>
                  <a:pt x="877" y="585"/>
                  <a:pt x="878" y="583"/>
                </a:cubicBezTo>
                <a:cubicBezTo>
                  <a:pt x="879" y="584"/>
                  <a:pt x="881" y="585"/>
                  <a:pt x="883" y="586"/>
                </a:cubicBezTo>
                <a:cubicBezTo>
                  <a:pt x="882" y="587"/>
                  <a:pt x="882" y="588"/>
                  <a:pt x="882" y="589"/>
                </a:cubicBezTo>
                <a:cubicBezTo>
                  <a:pt x="882" y="591"/>
                  <a:pt x="882" y="593"/>
                  <a:pt x="883" y="594"/>
                </a:cubicBezTo>
                <a:cubicBezTo>
                  <a:pt x="883" y="595"/>
                  <a:pt x="884" y="594"/>
                  <a:pt x="884" y="594"/>
                </a:cubicBezTo>
                <a:cubicBezTo>
                  <a:pt x="884" y="592"/>
                  <a:pt x="884" y="590"/>
                  <a:pt x="884" y="589"/>
                </a:cubicBezTo>
                <a:cubicBezTo>
                  <a:pt x="884" y="588"/>
                  <a:pt x="884" y="587"/>
                  <a:pt x="884" y="586"/>
                </a:cubicBezTo>
                <a:cubicBezTo>
                  <a:pt x="886" y="587"/>
                  <a:pt x="889" y="587"/>
                  <a:pt x="891" y="586"/>
                </a:cubicBezTo>
                <a:cubicBezTo>
                  <a:pt x="891" y="591"/>
                  <a:pt x="895" y="598"/>
                  <a:pt x="898" y="602"/>
                </a:cubicBezTo>
                <a:cubicBezTo>
                  <a:pt x="904" y="609"/>
                  <a:pt x="908" y="617"/>
                  <a:pt x="916" y="624"/>
                </a:cubicBezTo>
                <a:cubicBezTo>
                  <a:pt x="916" y="624"/>
                  <a:pt x="917" y="623"/>
                  <a:pt x="916" y="623"/>
                </a:cubicBezTo>
                <a:cubicBezTo>
                  <a:pt x="910" y="617"/>
                  <a:pt x="906" y="609"/>
                  <a:pt x="901" y="601"/>
                </a:cubicBezTo>
                <a:cubicBezTo>
                  <a:pt x="900" y="599"/>
                  <a:pt x="899" y="597"/>
                  <a:pt x="898" y="595"/>
                </a:cubicBezTo>
                <a:cubicBezTo>
                  <a:pt x="900" y="598"/>
                  <a:pt x="902" y="601"/>
                  <a:pt x="904" y="603"/>
                </a:cubicBezTo>
                <a:cubicBezTo>
                  <a:pt x="908" y="608"/>
                  <a:pt x="913" y="612"/>
                  <a:pt x="918" y="616"/>
                </a:cubicBezTo>
                <a:cubicBezTo>
                  <a:pt x="923" y="620"/>
                  <a:pt x="927" y="623"/>
                  <a:pt x="931" y="628"/>
                </a:cubicBezTo>
                <a:cubicBezTo>
                  <a:pt x="931" y="629"/>
                  <a:pt x="932" y="629"/>
                  <a:pt x="932" y="628"/>
                </a:cubicBezTo>
                <a:cubicBezTo>
                  <a:pt x="931" y="624"/>
                  <a:pt x="928" y="622"/>
                  <a:pt x="925" y="619"/>
                </a:cubicBezTo>
                <a:cubicBezTo>
                  <a:pt x="920" y="615"/>
                  <a:pt x="915" y="612"/>
                  <a:pt x="911" y="607"/>
                </a:cubicBezTo>
                <a:cubicBezTo>
                  <a:pt x="904" y="600"/>
                  <a:pt x="899" y="593"/>
                  <a:pt x="896" y="584"/>
                </a:cubicBezTo>
                <a:cubicBezTo>
                  <a:pt x="897" y="584"/>
                  <a:pt x="897" y="584"/>
                  <a:pt x="898" y="584"/>
                </a:cubicBezTo>
                <a:cubicBezTo>
                  <a:pt x="898" y="586"/>
                  <a:pt x="900" y="588"/>
                  <a:pt x="901" y="590"/>
                </a:cubicBezTo>
                <a:cubicBezTo>
                  <a:pt x="903" y="593"/>
                  <a:pt x="906" y="596"/>
                  <a:pt x="908" y="599"/>
                </a:cubicBezTo>
                <a:cubicBezTo>
                  <a:pt x="911" y="602"/>
                  <a:pt x="914" y="604"/>
                  <a:pt x="918" y="607"/>
                </a:cubicBezTo>
                <a:cubicBezTo>
                  <a:pt x="923" y="612"/>
                  <a:pt x="927" y="617"/>
                  <a:pt x="932" y="622"/>
                </a:cubicBezTo>
                <a:cubicBezTo>
                  <a:pt x="932" y="622"/>
                  <a:pt x="933" y="622"/>
                  <a:pt x="933" y="621"/>
                </a:cubicBezTo>
                <a:cubicBezTo>
                  <a:pt x="929" y="612"/>
                  <a:pt x="919" y="607"/>
                  <a:pt x="912" y="599"/>
                </a:cubicBezTo>
                <a:cubicBezTo>
                  <a:pt x="908" y="594"/>
                  <a:pt x="904" y="590"/>
                  <a:pt x="901" y="584"/>
                </a:cubicBezTo>
                <a:cubicBezTo>
                  <a:pt x="902" y="584"/>
                  <a:pt x="904" y="585"/>
                  <a:pt x="905" y="585"/>
                </a:cubicBezTo>
                <a:cubicBezTo>
                  <a:pt x="905" y="585"/>
                  <a:pt x="905" y="585"/>
                  <a:pt x="905" y="585"/>
                </a:cubicBezTo>
                <a:cubicBezTo>
                  <a:pt x="904" y="591"/>
                  <a:pt x="911" y="595"/>
                  <a:pt x="914" y="598"/>
                </a:cubicBezTo>
                <a:cubicBezTo>
                  <a:pt x="921" y="605"/>
                  <a:pt x="928" y="612"/>
                  <a:pt x="936" y="617"/>
                </a:cubicBezTo>
                <a:cubicBezTo>
                  <a:pt x="937" y="617"/>
                  <a:pt x="937" y="617"/>
                  <a:pt x="937" y="616"/>
                </a:cubicBezTo>
                <a:cubicBezTo>
                  <a:pt x="931" y="610"/>
                  <a:pt x="923" y="606"/>
                  <a:pt x="918" y="599"/>
                </a:cubicBezTo>
                <a:cubicBezTo>
                  <a:pt x="914" y="595"/>
                  <a:pt x="908" y="591"/>
                  <a:pt x="907" y="585"/>
                </a:cubicBezTo>
                <a:cubicBezTo>
                  <a:pt x="909" y="586"/>
                  <a:pt x="911" y="586"/>
                  <a:pt x="913" y="587"/>
                </a:cubicBezTo>
                <a:cubicBezTo>
                  <a:pt x="912" y="587"/>
                  <a:pt x="912" y="588"/>
                  <a:pt x="913" y="588"/>
                </a:cubicBezTo>
                <a:cubicBezTo>
                  <a:pt x="915" y="593"/>
                  <a:pt x="920" y="597"/>
                  <a:pt x="924" y="601"/>
                </a:cubicBezTo>
                <a:cubicBezTo>
                  <a:pt x="928" y="605"/>
                  <a:pt x="932" y="609"/>
                  <a:pt x="936" y="613"/>
                </a:cubicBezTo>
                <a:cubicBezTo>
                  <a:pt x="936" y="613"/>
                  <a:pt x="937" y="613"/>
                  <a:pt x="937" y="612"/>
                </a:cubicBezTo>
                <a:cubicBezTo>
                  <a:pt x="937" y="610"/>
                  <a:pt x="935" y="608"/>
                  <a:pt x="933" y="607"/>
                </a:cubicBezTo>
                <a:cubicBezTo>
                  <a:pt x="930" y="604"/>
                  <a:pt x="927" y="601"/>
                  <a:pt x="924" y="598"/>
                </a:cubicBezTo>
                <a:cubicBezTo>
                  <a:pt x="921" y="595"/>
                  <a:pt x="918" y="592"/>
                  <a:pt x="916" y="589"/>
                </a:cubicBezTo>
                <a:cubicBezTo>
                  <a:pt x="916" y="588"/>
                  <a:pt x="915" y="588"/>
                  <a:pt x="915" y="587"/>
                </a:cubicBezTo>
                <a:cubicBezTo>
                  <a:pt x="918" y="588"/>
                  <a:pt x="922" y="588"/>
                  <a:pt x="925" y="588"/>
                </a:cubicBezTo>
                <a:cubicBezTo>
                  <a:pt x="929" y="591"/>
                  <a:pt x="932" y="595"/>
                  <a:pt x="935" y="598"/>
                </a:cubicBezTo>
                <a:close/>
                <a:moveTo>
                  <a:pt x="1145" y="566"/>
                </a:moveTo>
                <a:cubicBezTo>
                  <a:pt x="1133" y="572"/>
                  <a:pt x="1119" y="575"/>
                  <a:pt x="1106" y="580"/>
                </a:cubicBezTo>
                <a:cubicBezTo>
                  <a:pt x="1098" y="583"/>
                  <a:pt x="1090" y="584"/>
                  <a:pt x="1082" y="585"/>
                </a:cubicBezTo>
                <a:cubicBezTo>
                  <a:pt x="1075" y="585"/>
                  <a:pt x="1068" y="586"/>
                  <a:pt x="1061" y="587"/>
                </a:cubicBezTo>
                <a:cubicBezTo>
                  <a:pt x="1046" y="590"/>
                  <a:pt x="1030" y="592"/>
                  <a:pt x="1015" y="595"/>
                </a:cubicBezTo>
                <a:cubicBezTo>
                  <a:pt x="1007" y="596"/>
                  <a:pt x="999" y="597"/>
                  <a:pt x="991" y="596"/>
                </a:cubicBezTo>
                <a:cubicBezTo>
                  <a:pt x="983" y="596"/>
                  <a:pt x="976" y="596"/>
                  <a:pt x="968" y="593"/>
                </a:cubicBezTo>
                <a:cubicBezTo>
                  <a:pt x="963" y="591"/>
                  <a:pt x="958" y="589"/>
                  <a:pt x="953" y="588"/>
                </a:cubicBezTo>
                <a:cubicBezTo>
                  <a:pt x="950" y="587"/>
                  <a:pt x="946" y="585"/>
                  <a:pt x="943" y="586"/>
                </a:cubicBezTo>
                <a:cubicBezTo>
                  <a:pt x="943" y="586"/>
                  <a:pt x="943" y="586"/>
                  <a:pt x="943" y="586"/>
                </a:cubicBezTo>
                <a:cubicBezTo>
                  <a:pt x="939" y="584"/>
                  <a:pt x="934" y="585"/>
                  <a:pt x="931" y="585"/>
                </a:cubicBezTo>
                <a:cubicBezTo>
                  <a:pt x="929" y="585"/>
                  <a:pt x="927" y="585"/>
                  <a:pt x="924" y="584"/>
                </a:cubicBezTo>
                <a:cubicBezTo>
                  <a:pt x="923" y="584"/>
                  <a:pt x="921" y="583"/>
                  <a:pt x="919" y="584"/>
                </a:cubicBezTo>
                <a:cubicBezTo>
                  <a:pt x="919" y="584"/>
                  <a:pt x="919" y="584"/>
                  <a:pt x="919" y="584"/>
                </a:cubicBezTo>
                <a:cubicBezTo>
                  <a:pt x="916" y="583"/>
                  <a:pt x="914" y="583"/>
                  <a:pt x="911" y="582"/>
                </a:cubicBezTo>
                <a:cubicBezTo>
                  <a:pt x="907" y="581"/>
                  <a:pt x="889" y="576"/>
                  <a:pt x="887" y="584"/>
                </a:cubicBezTo>
                <a:cubicBezTo>
                  <a:pt x="885" y="583"/>
                  <a:pt x="882" y="582"/>
                  <a:pt x="880" y="580"/>
                </a:cubicBezTo>
                <a:cubicBezTo>
                  <a:pt x="880" y="579"/>
                  <a:pt x="879" y="579"/>
                  <a:pt x="879" y="579"/>
                </a:cubicBezTo>
                <a:cubicBezTo>
                  <a:pt x="880" y="578"/>
                  <a:pt x="880" y="578"/>
                  <a:pt x="880" y="577"/>
                </a:cubicBezTo>
                <a:cubicBezTo>
                  <a:pt x="880" y="574"/>
                  <a:pt x="882" y="571"/>
                  <a:pt x="883" y="569"/>
                </a:cubicBezTo>
                <a:cubicBezTo>
                  <a:pt x="883" y="569"/>
                  <a:pt x="884" y="569"/>
                  <a:pt x="884" y="568"/>
                </a:cubicBezTo>
                <a:cubicBezTo>
                  <a:pt x="885" y="565"/>
                  <a:pt x="886" y="561"/>
                  <a:pt x="888" y="558"/>
                </a:cubicBezTo>
                <a:cubicBezTo>
                  <a:pt x="889" y="558"/>
                  <a:pt x="890" y="558"/>
                  <a:pt x="891" y="558"/>
                </a:cubicBezTo>
                <a:cubicBezTo>
                  <a:pt x="891" y="559"/>
                  <a:pt x="890" y="560"/>
                  <a:pt x="889" y="561"/>
                </a:cubicBezTo>
                <a:cubicBezTo>
                  <a:pt x="888" y="563"/>
                  <a:pt x="886" y="567"/>
                  <a:pt x="888" y="569"/>
                </a:cubicBezTo>
                <a:cubicBezTo>
                  <a:pt x="888" y="569"/>
                  <a:pt x="889" y="569"/>
                  <a:pt x="889" y="569"/>
                </a:cubicBezTo>
                <a:cubicBezTo>
                  <a:pt x="891" y="567"/>
                  <a:pt x="891" y="563"/>
                  <a:pt x="893" y="561"/>
                </a:cubicBezTo>
                <a:cubicBezTo>
                  <a:pt x="893" y="560"/>
                  <a:pt x="894" y="559"/>
                  <a:pt x="895" y="557"/>
                </a:cubicBezTo>
                <a:cubicBezTo>
                  <a:pt x="897" y="557"/>
                  <a:pt x="899" y="557"/>
                  <a:pt x="901" y="557"/>
                </a:cubicBezTo>
                <a:cubicBezTo>
                  <a:pt x="899" y="558"/>
                  <a:pt x="897" y="560"/>
                  <a:pt x="896" y="562"/>
                </a:cubicBezTo>
                <a:cubicBezTo>
                  <a:pt x="895" y="564"/>
                  <a:pt x="892" y="567"/>
                  <a:pt x="894" y="569"/>
                </a:cubicBezTo>
                <a:cubicBezTo>
                  <a:pt x="894" y="570"/>
                  <a:pt x="895" y="570"/>
                  <a:pt x="895" y="569"/>
                </a:cubicBezTo>
                <a:cubicBezTo>
                  <a:pt x="897" y="568"/>
                  <a:pt x="897" y="565"/>
                  <a:pt x="899" y="563"/>
                </a:cubicBezTo>
                <a:cubicBezTo>
                  <a:pt x="900" y="561"/>
                  <a:pt x="902" y="558"/>
                  <a:pt x="905" y="557"/>
                </a:cubicBezTo>
                <a:cubicBezTo>
                  <a:pt x="905" y="557"/>
                  <a:pt x="906" y="557"/>
                  <a:pt x="907" y="557"/>
                </a:cubicBezTo>
                <a:cubicBezTo>
                  <a:pt x="907" y="557"/>
                  <a:pt x="906" y="558"/>
                  <a:pt x="906" y="559"/>
                </a:cubicBezTo>
                <a:cubicBezTo>
                  <a:pt x="905" y="560"/>
                  <a:pt x="901" y="564"/>
                  <a:pt x="903" y="566"/>
                </a:cubicBezTo>
                <a:cubicBezTo>
                  <a:pt x="903" y="566"/>
                  <a:pt x="904" y="567"/>
                  <a:pt x="904" y="566"/>
                </a:cubicBezTo>
                <a:cubicBezTo>
                  <a:pt x="905" y="566"/>
                  <a:pt x="905" y="565"/>
                  <a:pt x="906" y="564"/>
                </a:cubicBezTo>
                <a:cubicBezTo>
                  <a:pt x="907" y="562"/>
                  <a:pt x="907" y="561"/>
                  <a:pt x="908" y="560"/>
                </a:cubicBezTo>
                <a:cubicBezTo>
                  <a:pt x="909" y="559"/>
                  <a:pt x="910" y="558"/>
                  <a:pt x="911" y="557"/>
                </a:cubicBezTo>
                <a:cubicBezTo>
                  <a:pt x="912" y="557"/>
                  <a:pt x="913" y="557"/>
                  <a:pt x="913" y="557"/>
                </a:cubicBezTo>
                <a:cubicBezTo>
                  <a:pt x="910" y="560"/>
                  <a:pt x="908" y="564"/>
                  <a:pt x="910" y="566"/>
                </a:cubicBezTo>
                <a:cubicBezTo>
                  <a:pt x="911" y="567"/>
                  <a:pt x="911" y="566"/>
                  <a:pt x="911" y="566"/>
                </a:cubicBezTo>
                <a:cubicBezTo>
                  <a:pt x="913" y="564"/>
                  <a:pt x="913" y="562"/>
                  <a:pt x="915" y="560"/>
                </a:cubicBezTo>
                <a:cubicBezTo>
                  <a:pt x="916" y="559"/>
                  <a:pt x="917" y="558"/>
                  <a:pt x="918" y="557"/>
                </a:cubicBezTo>
                <a:cubicBezTo>
                  <a:pt x="918" y="557"/>
                  <a:pt x="919" y="557"/>
                  <a:pt x="920" y="557"/>
                </a:cubicBezTo>
                <a:cubicBezTo>
                  <a:pt x="920" y="557"/>
                  <a:pt x="921" y="557"/>
                  <a:pt x="921" y="557"/>
                </a:cubicBezTo>
                <a:cubicBezTo>
                  <a:pt x="920" y="557"/>
                  <a:pt x="920" y="558"/>
                  <a:pt x="919" y="558"/>
                </a:cubicBezTo>
                <a:cubicBezTo>
                  <a:pt x="918" y="560"/>
                  <a:pt x="916" y="564"/>
                  <a:pt x="917" y="566"/>
                </a:cubicBezTo>
                <a:cubicBezTo>
                  <a:pt x="918" y="567"/>
                  <a:pt x="918" y="567"/>
                  <a:pt x="918" y="566"/>
                </a:cubicBezTo>
                <a:cubicBezTo>
                  <a:pt x="920" y="564"/>
                  <a:pt x="920" y="562"/>
                  <a:pt x="921" y="560"/>
                </a:cubicBezTo>
                <a:cubicBezTo>
                  <a:pt x="922" y="559"/>
                  <a:pt x="923" y="557"/>
                  <a:pt x="924" y="557"/>
                </a:cubicBezTo>
                <a:cubicBezTo>
                  <a:pt x="925" y="557"/>
                  <a:pt x="927" y="557"/>
                  <a:pt x="928" y="557"/>
                </a:cubicBezTo>
                <a:cubicBezTo>
                  <a:pt x="926" y="559"/>
                  <a:pt x="924" y="561"/>
                  <a:pt x="924" y="564"/>
                </a:cubicBezTo>
                <a:cubicBezTo>
                  <a:pt x="924" y="564"/>
                  <a:pt x="924" y="565"/>
                  <a:pt x="924" y="564"/>
                </a:cubicBezTo>
                <a:cubicBezTo>
                  <a:pt x="926" y="563"/>
                  <a:pt x="927" y="561"/>
                  <a:pt x="929" y="559"/>
                </a:cubicBezTo>
                <a:cubicBezTo>
                  <a:pt x="930" y="558"/>
                  <a:pt x="930" y="557"/>
                  <a:pt x="931" y="557"/>
                </a:cubicBezTo>
                <a:cubicBezTo>
                  <a:pt x="932" y="557"/>
                  <a:pt x="933" y="557"/>
                  <a:pt x="933" y="557"/>
                </a:cubicBezTo>
                <a:cubicBezTo>
                  <a:pt x="931" y="559"/>
                  <a:pt x="929" y="562"/>
                  <a:pt x="930" y="565"/>
                </a:cubicBezTo>
                <a:cubicBezTo>
                  <a:pt x="930" y="565"/>
                  <a:pt x="930" y="566"/>
                  <a:pt x="930" y="565"/>
                </a:cubicBezTo>
                <a:cubicBezTo>
                  <a:pt x="931" y="563"/>
                  <a:pt x="932" y="561"/>
                  <a:pt x="934" y="559"/>
                </a:cubicBezTo>
                <a:cubicBezTo>
                  <a:pt x="934" y="559"/>
                  <a:pt x="935" y="558"/>
                  <a:pt x="936" y="557"/>
                </a:cubicBezTo>
                <a:cubicBezTo>
                  <a:pt x="936" y="557"/>
                  <a:pt x="936" y="557"/>
                  <a:pt x="936" y="557"/>
                </a:cubicBezTo>
                <a:cubicBezTo>
                  <a:pt x="936" y="557"/>
                  <a:pt x="936" y="557"/>
                  <a:pt x="937" y="557"/>
                </a:cubicBezTo>
                <a:cubicBezTo>
                  <a:pt x="936" y="557"/>
                  <a:pt x="936" y="558"/>
                  <a:pt x="936" y="558"/>
                </a:cubicBezTo>
                <a:cubicBezTo>
                  <a:pt x="936" y="559"/>
                  <a:pt x="937" y="559"/>
                  <a:pt x="937" y="559"/>
                </a:cubicBezTo>
                <a:cubicBezTo>
                  <a:pt x="937" y="560"/>
                  <a:pt x="939" y="561"/>
                  <a:pt x="940" y="560"/>
                </a:cubicBezTo>
                <a:cubicBezTo>
                  <a:pt x="940" y="560"/>
                  <a:pt x="941" y="559"/>
                  <a:pt x="941" y="559"/>
                </a:cubicBezTo>
                <a:cubicBezTo>
                  <a:pt x="941" y="558"/>
                  <a:pt x="942" y="558"/>
                  <a:pt x="942" y="558"/>
                </a:cubicBezTo>
                <a:cubicBezTo>
                  <a:pt x="942" y="558"/>
                  <a:pt x="942" y="558"/>
                  <a:pt x="943" y="558"/>
                </a:cubicBezTo>
                <a:cubicBezTo>
                  <a:pt x="943" y="557"/>
                  <a:pt x="943" y="557"/>
                  <a:pt x="943" y="557"/>
                </a:cubicBezTo>
                <a:cubicBezTo>
                  <a:pt x="943" y="557"/>
                  <a:pt x="943" y="556"/>
                  <a:pt x="943" y="556"/>
                </a:cubicBezTo>
                <a:cubicBezTo>
                  <a:pt x="945" y="555"/>
                  <a:pt x="946" y="553"/>
                  <a:pt x="947" y="551"/>
                </a:cubicBezTo>
                <a:cubicBezTo>
                  <a:pt x="948" y="550"/>
                  <a:pt x="949" y="549"/>
                  <a:pt x="950" y="548"/>
                </a:cubicBezTo>
                <a:cubicBezTo>
                  <a:pt x="955" y="546"/>
                  <a:pt x="959" y="546"/>
                  <a:pt x="965" y="546"/>
                </a:cubicBezTo>
                <a:cubicBezTo>
                  <a:pt x="974" y="548"/>
                  <a:pt x="983" y="549"/>
                  <a:pt x="993" y="549"/>
                </a:cubicBezTo>
                <a:cubicBezTo>
                  <a:pt x="1013" y="550"/>
                  <a:pt x="1033" y="549"/>
                  <a:pt x="1053" y="547"/>
                </a:cubicBezTo>
                <a:cubicBezTo>
                  <a:pt x="1068" y="546"/>
                  <a:pt x="1083" y="544"/>
                  <a:pt x="1099" y="546"/>
                </a:cubicBezTo>
                <a:cubicBezTo>
                  <a:pt x="1107" y="547"/>
                  <a:pt x="1114" y="551"/>
                  <a:pt x="1122" y="553"/>
                </a:cubicBezTo>
                <a:cubicBezTo>
                  <a:pt x="1129" y="555"/>
                  <a:pt x="1135" y="556"/>
                  <a:pt x="1142" y="555"/>
                </a:cubicBezTo>
                <a:cubicBezTo>
                  <a:pt x="1144" y="555"/>
                  <a:pt x="1158" y="553"/>
                  <a:pt x="1158" y="556"/>
                </a:cubicBezTo>
                <a:cubicBezTo>
                  <a:pt x="1157" y="561"/>
                  <a:pt x="1149" y="564"/>
                  <a:pt x="1145" y="566"/>
                </a:cubicBezTo>
                <a:close/>
                <a:moveTo>
                  <a:pt x="1156" y="551"/>
                </a:moveTo>
                <a:cubicBezTo>
                  <a:pt x="1154" y="551"/>
                  <a:pt x="1151" y="551"/>
                  <a:pt x="1150" y="551"/>
                </a:cubicBezTo>
                <a:cubicBezTo>
                  <a:pt x="1143" y="553"/>
                  <a:pt x="1136" y="553"/>
                  <a:pt x="1129" y="552"/>
                </a:cubicBezTo>
                <a:cubicBezTo>
                  <a:pt x="1126" y="551"/>
                  <a:pt x="1122" y="550"/>
                  <a:pt x="1119" y="549"/>
                </a:cubicBezTo>
                <a:cubicBezTo>
                  <a:pt x="1123" y="548"/>
                  <a:pt x="1128" y="547"/>
                  <a:pt x="1132" y="546"/>
                </a:cubicBezTo>
                <a:cubicBezTo>
                  <a:pt x="1137" y="546"/>
                  <a:pt x="1142" y="547"/>
                  <a:pt x="1147" y="547"/>
                </a:cubicBezTo>
                <a:cubicBezTo>
                  <a:pt x="1147" y="547"/>
                  <a:pt x="1147" y="546"/>
                  <a:pt x="1147" y="546"/>
                </a:cubicBezTo>
                <a:cubicBezTo>
                  <a:pt x="1144" y="542"/>
                  <a:pt x="1136" y="545"/>
                  <a:pt x="1132" y="545"/>
                </a:cubicBezTo>
                <a:cubicBezTo>
                  <a:pt x="1126" y="545"/>
                  <a:pt x="1120" y="545"/>
                  <a:pt x="1114" y="547"/>
                </a:cubicBezTo>
                <a:cubicBezTo>
                  <a:pt x="1113" y="546"/>
                  <a:pt x="1112" y="546"/>
                  <a:pt x="1111" y="546"/>
                </a:cubicBezTo>
                <a:cubicBezTo>
                  <a:pt x="1113" y="545"/>
                  <a:pt x="1114" y="544"/>
                  <a:pt x="1116" y="544"/>
                </a:cubicBezTo>
                <a:cubicBezTo>
                  <a:pt x="1119" y="544"/>
                  <a:pt x="1122" y="542"/>
                  <a:pt x="1125" y="543"/>
                </a:cubicBezTo>
                <a:cubicBezTo>
                  <a:pt x="1125" y="543"/>
                  <a:pt x="1125" y="542"/>
                  <a:pt x="1125" y="542"/>
                </a:cubicBezTo>
                <a:cubicBezTo>
                  <a:pt x="1121" y="542"/>
                  <a:pt x="1117" y="542"/>
                  <a:pt x="1113" y="543"/>
                </a:cubicBezTo>
                <a:cubicBezTo>
                  <a:pt x="1112" y="543"/>
                  <a:pt x="1109" y="543"/>
                  <a:pt x="1108" y="544"/>
                </a:cubicBezTo>
                <a:cubicBezTo>
                  <a:pt x="1105" y="544"/>
                  <a:pt x="1102" y="543"/>
                  <a:pt x="1100" y="543"/>
                </a:cubicBezTo>
                <a:cubicBezTo>
                  <a:pt x="1101" y="543"/>
                  <a:pt x="1101" y="542"/>
                  <a:pt x="1102" y="542"/>
                </a:cubicBezTo>
                <a:cubicBezTo>
                  <a:pt x="1104" y="541"/>
                  <a:pt x="1106" y="540"/>
                  <a:pt x="1107" y="539"/>
                </a:cubicBezTo>
                <a:cubicBezTo>
                  <a:pt x="1107" y="539"/>
                  <a:pt x="1107" y="538"/>
                  <a:pt x="1107" y="538"/>
                </a:cubicBezTo>
                <a:cubicBezTo>
                  <a:pt x="1105" y="538"/>
                  <a:pt x="1103" y="539"/>
                  <a:pt x="1101" y="540"/>
                </a:cubicBezTo>
                <a:cubicBezTo>
                  <a:pt x="1100" y="540"/>
                  <a:pt x="1098" y="540"/>
                  <a:pt x="1098" y="541"/>
                </a:cubicBezTo>
                <a:cubicBezTo>
                  <a:pt x="1097" y="541"/>
                  <a:pt x="1097" y="540"/>
                  <a:pt x="1097" y="540"/>
                </a:cubicBezTo>
                <a:cubicBezTo>
                  <a:pt x="1102" y="538"/>
                  <a:pt x="1107" y="534"/>
                  <a:pt x="1109" y="533"/>
                </a:cubicBezTo>
                <a:cubicBezTo>
                  <a:pt x="1110" y="532"/>
                  <a:pt x="1109" y="531"/>
                  <a:pt x="1108" y="532"/>
                </a:cubicBezTo>
                <a:cubicBezTo>
                  <a:pt x="1105" y="534"/>
                  <a:pt x="1102" y="535"/>
                  <a:pt x="1098" y="537"/>
                </a:cubicBezTo>
                <a:cubicBezTo>
                  <a:pt x="1097" y="538"/>
                  <a:pt x="1095" y="539"/>
                  <a:pt x="1093" y="540"/>
                </a:cubicBezTo>
                <a:cubicBezTo>
                  <a:pt x="1092" y="540"/>
                  <a:pt x="1092" y="540"/>
                  <a:pt x="1091" y="540"/>
                </a:cubicBezTo>
                <a:cubicBezTo>
                  <a:pt x="1093" y="539"/>
                  <a:pt x="1094" y="538"/>
                  <a:pt x="1095" y="537"/>
                </a:cubicBezTo>
                <a:cubicBezTo>
                  <a:pt x="1099" y="533"/>
                  <a:pt x="1104" y="530"/>
                  <a:pt x="1108" y="526"/>
                </a:cubicBezTo>
                <a:cubicBezTo>
                  <a:pt x="1112" y="523"/>
                  <a:pt x="1119" y="521"/>
                  <a:pt x="1121" y="515"/>
                </a:cubicBezTo>
                <a:cubicBezTo>
                  <a:pt x="1122" y="515"/>
                  <a:pt x="1121" y="514"/>
                  <a:pt x="1121" y="515"/>
                </a:cubicBezTo>
                <a:cubicBezTo>
                  <a:pt x="1116" y="518"/>
                  <a:pt x="1111" y="523"/>
                  <a:pt x="1105" y="527"/>
                </a:cubicBezTo>
                <a:cubicBezTo>
                  <a:pt x="1105" y="527"/>
                  <a:pt x="1104" y="527"/>
                  <a:pt x="1104" y="527"/>
                </a:cubicBezTo>
                <a:cubicBezTo>
                  <a:pt x="1105" y="526"/>
                  <a:pt x="1107" y="524"/>
                  <a:pt x="1108" y="523"/>
                </a:cubicBezTo>
                <a:cubicBezTo>
                  <a:pt x="1113" y="518"/>
                  <a:pt x="1117" y="512"/>
                  <a:pt x="1121" y="506"/>
                </a:cubicBezTo>
                <a:cubicBezTo>
                  <a:pt x="1126" y="506"/>
                  <a:pt x="1134" y="509"/>
                  <a:pt x="1136" y="513"/>
                </a:cubicBezTo>
                <a:cubicBezTo>
                  <a:pt x="1138" y="514"/>
                  <a:pt x="1139" y="517"/>
                  <a:pt x="1141" y="518"/>
                </a:cubicBezTo>
                <a:cubicBezTo>
                  <a:pt x="1143" y="519"/>
                  <a:pt x="1145" y="520"/>
                  <a:pt x="1147" y="521"/>
                </a:cubicBezTo>
                <a:cubicBezTo>
                  <a:pt x="1150" y="524"/>
                  <a:pt x="1150" y="527"/>
                  <a:pt x="1152" y="530"/>
                </a:cubicBezTo>
                <a:cubicBezTo>
                  <a:pt x="1152" y="531"/>
                  <a:pt x="1153" y="532"/>
                  <a:pt x="1155" y="534"/>
                </a:cubicBezTo>
                <a:cubicBezTo>
                  <a:pt x="1159" y="539"/>
                  <a:pt x="1158" y="545"/>
                  <a:pt x="1156" y="551"/>
                </a:cubicBezTo>
                <a:close/>
              </a:path>
            </a:pathLst>
          </a:custGeom>
          <a:solidFill>
            <a:srgbClr val="574f1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  <p:sp>
        <p:nvSpPr>
          <p:cNvPr id="43" name="Freeform 1224"/>
          <p:cNvSpPr/>
          <p:nvPr/>
        </p:nvSpPr>
        <p:spPr>
          <a:xfrm flipH="1">
            <a:off x="7354080" y="-187200"/>
            <a:ext cx="5288040" cy="3706560"/>
          </a:xfrm>
          <a:custGeom>
            <a:avLst/>
            <a:gdLst/>
            <a:ahLst/>
            <a:rect l="l" t="t" r="r" b="b"/>
            <a:pathLst>
              <a:path w="1162" h="815">
                <a:moveTo>
                  <a:pt x="1160" y="552"/>
                </a:moveTo>
                <a:cubicBezTo>
                  <a:pt x="1159" y="552"/>
                  <a:pt x="1159" y="552"/>
                  <a:pt x="1158" y="551"/>
                </a:cubicBezTo>
                <a:cubicBezTo>
                  <a:pt x="1161" y="547"/>
                  <a:pt x="1162" y="542"/>
                  <a:pt x="1160" y="537"/>
                </a:cubicBezTo>
                <a:cubicBezTo>
                  <a:pt x="1159" y="534"/>
                  <a:pt x="1156" y="532"/>
                  <a:pt x="1155" y="530"/>
                </a:cubicBezTo>
                <a:cubicBezTo>
                  <a:pt x="1153" y="527"/>
                  <a:pt x="1153" y="523"/>
                  <a:pt x="1151" y="521"/>
                </a:cubicBezTo>
                <a:cubicBezTo>
                  <a:pt x="1148" y="518"/>
                  <a:pt x="1144" y="517"/>
                  <a:pt x="1142" y="514"/>
                </a:cubicBezTo>
                <a:cubicBezTo>
                  <a:pt x="1139" y="512"/>
                  <a:pt x="1138" y="509"/>
                  <a:pt x="1134" y="507"/>
                </a:cubicBezTo>
                <a:cubicBezTo>
                  <a:pt x="1131" y="505"/>
                  <a:pt x="1127" y="503"/>
                  <a:pt x="1123" y="503"/>
                </a:cubicBezTo>
                <a:cubicBezTo>
                  <a:pt x="1127" y="498"/>
                  <a:pt x="1130" y="492"/>
                  <a:pt x="1132" y="486"/>
                </a:cubicBezTo>
                <a:cubicBezTo>
                  <a:pt x="1137" y="477"/>
                  <a:pt x="1140" y="466"/>
                  <a:pt x="1136" y="456"/>
                </a:cubicBezTo>
                <a:cubicBezTo>
                  <a:pt x="1135" y="452"/>
                  <a:pt x="1132" y="448"/>
                  <a:pt x="1128" y="446"/>
                </a:cubicBezTo>
                <a:cubicBezTo>
                  <a:pt x="1126" y="445"/>
                  <a:pt x="1122" y="445"/>
                  <a:pt x="1121" y="442"/>
                </a:cubicBezTo>
                <a:cubicBezTo>
                  <a:pt x="1121" y="439"/>
                  <a:pt x="1121" y="437"/>
                  <a:pt x="1120" y="434"/>
                </a:cubicBezTo>
                <a:cubicBezTo>
                  <a:pt x="1118" y="423"/>
                  <a:pt x="1109" y="413"/>
                  <a:pt x="1098" y="410"/>
                </a:cubicBezTo>
                <a:cubicBezTo>
                  <a:pt x="1086" y="406"/>
                  <a:pt x="1072" y="408"/>
                  <a:pt x="1060" y="410"/>
                </a:cubicBezTo>
                <a:cubicBezTo>
                  <a:pt x="1045" y="413"/>
                  <a:pt x="1030" y="417"/>
                  <a:pt x="1015" y="421"/>
                </a:cubicBezTo>
                <a:cubicBezTo>
                  <a:pt x="1006" y="423"/>
                  <a:pt x="996" y="426"/>
                  <a:pt x="987" y="429"/>
                </a:cubicBezTo>
                <a:cubicBezTo>
                  <a:pt x="988" y="428"/>
                  <a:pt x="989" y="425"/>
                  <a:pt x="989" y="423"/>
                </a:cubicBezTo>
                <a:cubicBezTo>
                  <a:pt x="992" y="419"/>
                  <a:pt x="995" y="414"/>
                  <a:pt x="998" y="410"/>
                </a:cubicBezTo>
                <a:cubicBezTo>
                  <a:pt x="1006" y="400"/>
                  <a:pt x="1016" y="393"/>
                  <a:pt x="1026" y="384"/>
                </a:cubicBezTo>
                <a:cubicBezTo>
                  <a:pt x="1041" y="371"/>
                  <a:pt x="1052" y="354"/>
                  <a:pt x="1050" y="332"/>
                </a:cubicBezTo>
                <a:cubicBezTo>
                  <a:pt x="1048" y="314"/>
                  <a:pt x="1035" y="295"/>
                  <a:pt x="1017" y="290"/>
                </a:cubicBezTo>
                <a:cubicBezTo>
                  <a:pt x="1007" y="288"/>
                  <a:pt x="998" y="287"/>
                  <a:pt x="988" y="289"/>
                </a:cubicBezTo>
                <a:cubicBezTo>
                  <a:pt x="987" y="289"/>
                  <a:pt x="984" y="289"/>
                  <a:pt x="982" y="290"/>
                </a:cubicBezTo>
                <a:cubicBezTo>
                  <a:pt x="988" y="286"/>
                  <a:pt x="993" y="280"/>
                  <a:pt x="997" y="275"/>
                </a:cubicBezTo>
                <a:cubicBezTo>
                  <a:pt x="1002" y="269"/>
                  <a:pt x="1006" y="261"/>
                  <a:pt x="1003" y="253"/>
                </a:cubicBezTo>
                <a:cubicBezTo>
                  <a:pt x="1003" y="252"/>
                  <a:pt x="1002" y="252"/>
                  <a:pt x="1001" y="252"/>
                </a:cubicBezTo>
                <a:cubicBezTo>
                  <a:pt x="1000" y="252"/>
                  <a:pt x="998" y="252"/>
                  <a:pt x="997" y="253"/>
                </a:cubicBezTo>
                <a:cubicBezTo>
                  <a:pt x="994" y="253"/>
                  <a:pt x="994" y="252"/>
                  <a:pt x="995" y="249"/>
                </a:cubicBezTo>
                <a:cubicBezTo>
                  <a:pt x="996" y="248"/>
                  <a:pt x="994" y="246"/>
                  <a:pt x="993" y="246"/>
                </a:cubicBezTo>
                <a:cubicBezTo>
                  <a:pt x="994" y="243"/>
                  <a:pt x="993" y="240"/>
                  <a:pt x="991" y="238"/>
                </a:cubicBezTo>
                <a:cubicBezTo>
                  <a:pt x="988" y="234"/>
                  <a:pt x="984" y="233"/>
                  <a:pt x="980" y="232"/>
                </a:cubicBezTo>
                <a:cubicBezTo>
                  <a:pt x="975" y="231"/>
                  <a:pt x="972" y="225"/>
                  <a:pt x="966" y="225"/>
                </a:cubicBezTo>
                <a:cubicBezTo>
                  <a:pt x="961" y="224"/>
                  <a:pt x="955" y="224"/>
                  <a:pt x="949" y="225"/>
                </a:cubicBezTo>
                <a:cubicBezTo>
                  <a:pt x="934" y="227"/>
                  <a:pt x="920" y="232"/>
                  <a:pt x="905" y="234"/>
                </a:cubicBezTo>
                <a:cubicBezTo>
                  <a:pt x="898" y="235"/>
                  <a:pt x="891" y="235"/>
                  <a:pt x="884" y="237"/>
                </a:cubicBezTo>
                <a:cubicBezTo>
                  <a:pt x="879" y="238"/>
                  <a:pt x="874" y="240"/>
                  <a:pt x="870" y="242"/>
                </a:cubicBezTo>
                <a:cubicBezTo>
                  <a:pt x="870" y="241"/>
                  <a:pt x="871" y="240"/>
                  <a:pt x="872" y="239"/>
                </a:cubicBezTo>
                <a:cubicBezTo>
                  <a:pt x="874" y="236"/>
                  <a:pt x="875" y="234"/>
                  <a:pt x="877" y="232"/>
                </a:cubicBezTo>
                <a:cubicBezTo>
                  <a:pt x="894" y="206"/>
                  <a:pt x="903" y="178"/>
                  <a:pt x="899" y="148"/>
                </a:cubicBezTo>
                <a:cubicBezTo>
                  <a:pt x="895" y="121"/>
                  <a:pt x="885" y="86"/>
                  <a:pt x="857" y="76"/>
                </a:cubicBezTo>
                <a:cubicBezTo>
                  <a:pt x="851" y="73"/>
                  <a:pt x="844" y="69"/>
                  <a:pt x="838" y="70"/>
                </a:cubicBezTo>
                <a:cubicBezTo>
                  <a:pt x="833" y="70"/>
                  <a:pt x="827" y="73"/>
                  <a:pt x="824" y="77"/>
                </a:cubicBezTo>
                <a:cubicBezTo>
                  <a:pt x="822" y="78"/>
                  <a:pt x="819" y="81"/>
                  <a:pt x="816" y="82"/>
                </a:cubicBezTo>
                <a:cubicBezTo>
                  <a:pt x="813" y="82"/>
                  <a:pt x="810" y="81"/>
                  <a:pt x="806" y="80"/>
                </a:cubicBezTo>
                <a:cubicBezTo>
                  <a:pt x="800" y="79"/>
                  <a:pt x="794" y="79"/>
                  <a:pt x="788" y="82"/>
                </a:cubicBezTo>
                <a:cubicBezTo>
                  <a:pt x="775" y="87"/>
                  <a:pt x="763" y="95"/>
                  <a:pt x="752" y="105"/>
                </a:cubicBezTo>
                <a:cubicBezTo>
                  <a:pt x="747" y="110"/>
                  <a:pt x="743" y="116"/>
                  <a:pt x="738" y="121"/>
                </a:cubicBezTo>
                <a:cubicBezTo>
                  <a:pt x="736" y="124"/>
                  <a:pt x="733" y="127"/>
                  <a:pt x="733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29" y="130"/>
                  <a:pt x="729" y="126"/>
                  <a:pt x="727" y="125"/>
                </a:cubicBezTo>
                <a:cubicBezTo>
                  <a:pt x="724" y="123"/>
                  <a:pt x="722" y="123"/>
                  <a:pt x="719" y="123"/>
                </a:cubicBezTo>
                <a:cubicBezTo>
                  <a:pt x="712" y="122"/>
                  <a:pt x="704" y="122"/>
                  <a:pt x="697" y="123"/>
                </a:cubicBezTo>
                <a:cubicBezTo>
                  <a:pt x="689" y="124"/>
                  <a:pt x="681" y="125"/>
                  <a:pt x="673" y="126"/>
                </a:cubicBezTo>
                <a:cubicBezTo>
                  <a:pt x="670" y="127"/>
                  <a:pt x="668" y="127"/>
                  <a:pt x="665" y="128"/>
                </a:cubicBezTo>
                <a:cubicBezTo>
                  <a:pt x="662" y="127"/>
                  <a:pt x="658" y="124"/>
                  <a:pt x="655" y="122"/>
                </a:cubicBezTo>
                <a:cubicBezTo>
                  <a:pt x="652" y="121"/>
                  <a:pt x="648" y="119"/>
                  <a:pt x="645" y="117"/>
                </a:cubicBezTo>
                <a:cubicBezTo>
                  <a:pt x="638" y="114"/>
                  <a:pt x="630" y="111"/>
                  <a:pt x="623" y="109"/>
                </a:cubicBezTo>
                <a:cubicBezTo>
                  <a:pt x="610" y="106"/>
                  <a:pt x="595" y="105"/>
                  <a:pt x="581" y="106"/>
                </a:cubicBezTo>
                <a:cubicBezTo>
                  <a:pt x="567" y="107"/>
                  <a:pt x="554" y="112"/>
                  <a:pt x="543" y="121"/>
                </a:cubicBezTo>
                <a:cubicBezTo>
                  <a:pt x="540" y="124"/>
                  <a:pt x="535" y="128"/>
                  <a:pt x="533" y="132"/>
                </a:cubicBezTo>
                <a:cubicBezTo>
                  <a:pt x="533" y="132"/>
                  <a:pt x="533" y="132"/>
                  <a:pt x="533" y="132"/>
                </a:cubicBezTo>
                <a:cubicBezTo>
                  <a:pt x="530" y="131"/>
                  <a:pt x="528" y="131"/>
                  <a:pt x="525" y="130"/>
                </a:cubicBezTo>
                <a:cubicBezTo>
                  <a:pt x="520" y="116"/>
                  <a:pt x="514" y="101"/>
                  <a:pt x="505" y="89"/>
                </a:cubicBezTo>
                <a:cubicBezTo>
                  <a:pt x="499" y="81"/>
                  <a:pt x="488" y="68"/>
                  <a:pt x="477" y="74"/>
                </a:cubicBezTo>
                <a:cubicBezTo>
                  <a:pt x="474" y="75"/>
                  <a:pt x="472" y="78"/>
                  <a:pt x="469" y="79"/>
                </a:cubicBezTo>
                <a:cubicBezTo>
                  <a:pt x="465" y="81"/>
                  <a:pt x="463" y="78"/>
                  <a:pt x="460" y="76"/>
                </a:cubicBezTo>
                <a:cubicBezTo>
                  <a:pt x="457" y="74"/>
                  <a:pt x="454" y="74"/>
                  <a:pt x="451" y="77"/>
                </a:cubicBezTo>
                <a:cubicBezTo>
                  <a:pt x="450" y="79"/>
                  <a:pt x="449" y="76"/>
                  <a:pt x="447" y="75"/>
                </a:cubicBezTo>
                <a:cubicBezTo>
                  <a:pt x="445" y="73"/>
                  <a:pt x="443" y="72"/>
                  <a:pt x="440" y="71"/>
                </a:cubicBezTo>
                <a:cubicBezTo>
                  <a:pt x="436" y="69"/>
                  <a:pt x="433" y="69"/>
                  <a:pt x="429" y="72"/>
                </a:cubicBezTo>
                <a:cubicBezTo>
                  <a:pt x="424" y="75"/>
                  <a:pt x="419" y="82"/>
                  <a:pt x="415" y="87"/>
                </a:cubicBezTo>
                <a:cubicBezTo>
                  <a:pt x="410" y="92"/>
                  <a:pt x="407" y="99"/>
                  <a:pt x="402" y="105"/>
                </a:cubicBezTo>
                <a:cubicBezTo>
                  <a:pt x="397" y="112"/>
                  <a:pt x="390" y="118"/>
                  <a:pt x="386" y="126"/>
                </a:cubicBezTo>
                <a:cubicBezTo>
                  <a:pt x="383" y="133"/>
                  <a:pt x="381" y="139"/>
                  <a:pt x="380" y="147"/>
                </a:cubicBezTo>
                <a:cubicBezTo>
                  <a:pt x="377" y="162"/>
                  <a:pt x="373" y="177"/>
                  <a:pt x="371" y="192"/>
                </a:cubicBezTo>
                <a:cubicBezTo>
                  <a:pt x="369" y="183"/>
                  <a:pt x="366" y="173"/>
                  <a:pt x="362" y="164"/>
                </a:cubicBezTo>
                <a:cubicBezTo>
                  <a:pt x="357" y="153"/>
                  <a:pt x="351" y="143"/>
                  <a:pt x="344" y="133"/>
                </a:cubicBezTo>
                <a:cubicBezTo>
                  <a:pt x="342" y="129"/>
                  <a:pt x="341" y="125"/>
                  <a:pt x="338" y="122"/>
                </a:cubicBezTo>
                <a:cubicBezTo>
                  <a:pt x="337" y="121"/>
                  <a:pt x="333" y="120"/>
                  <a:pt x="333" y="119"/>
                </a:cubicBezTo>
                <a:cubicBezTo>
                  <a:pt x="332" y="118"/>
                  <a:pt x="331" y="117"/>
                  <a:pt x="330" y="116"/>
                </a:cubicBezTo>
                <a:cubicBezTo>
                  <a:pt x="329" y="114"/>
                  <a:pt x="328" y="113"/>
                  <a:pt x="327" y="111"/>
                </a:cubicBezTo>
                <a:cubicBezTo>
                  <a:pt x="325" y="109"/>
                  <a:pt x="322" y="106"/>
                  <a:pt x="319" y="104"/>
                </a:cubicBezTo>
                <a:cubicBezTo>
                  <a:pt x="319" y="103"/>
                  <a:pt x="319" y="103"/>
                  <a:pt x="319" y="103"/>
                </a:cubicBezTo>
                <a:cubicBezTo>
                  <a:pt x="314" y="98"/>
                  <a:pt x="313" y="88"/>
                  <a:pt x="310" y="82"/>
                </a:cubicBezTo>
                <a:cubicBezTo>
                  <a:pt x="307" y="74"/>
                  <a:pt x="304" y="67"/>
                  <a:pt x="300" y="60"/>
                </a:cubicBezTo>
                <a:cubicBezTo>
                  <a:pt x="296" y="53"/>
                  <a:pt x="291" y="46"/>
                  <a:pt x="286" y="40"/>
                </a:cubicBezTo>
                <a:cubicBezTo>
                  <a:pt x="280" y="33"/>
                  <a:pt x="274" y="26"/>
                  <a:pt x="267" y="20"/>
                </a:cubicBezTo>
                <a:cubicBezTo>
                  <a:pt x="261" y="15"/>
                  <a:pt x="254" y="10"/>
                  <a:pt x="246" y="6"/>
                </a:cubicBezTo>
                <a:cubicBezTo>
                  <a:pt x="244" y="5"/>
                  <a:pt x="238" y="2"/>
                  <a:pt x="236" y="4"/>
                </a:cubicBezTo>
                <a:cubicBezTo>
                  <a:pt x="229" y="0"/>
                  <a:pt x="223" y="18"/>
                  <a:pt x="222" y="23"/>
                </a:cubicBezTo>
                <a:cubicBezTo>
                  <a:pt x="217" y="41"/>
                  <a:pt x="218" y="59"/>
                  <a:pt x="222" y="77"/>
                </a:cubicBezTo>
                <a:cubicBezTo>
                  <a:pt x="227" y="99"/>
                  <a:pt x="234" y="120"/>
                  <a:pt x="245" y="140"/>
                </a:cubicBezTo>
                <a:cubicBezTo>
                  <a:pt x="251" y="150"/>
                  <a:pt x="259" y="158"/>
                  <a:pt x="267" y="167"/>
                </a:cubicBezTo>
                <a:cubicBezTo>
                  <a:pt x="271" y="172"/>
                  <a:pt x="276" y="177"/>
                  <a:pt x="281" y="182"/>
                </a:cubicBezTo>
                <a:cubicBezTo>
                  <a:pt x="269" y="179"/>
                  <a:pt x="256" y="178"/>
                  <a:pt x="244" y="180"/>
                </a:cubicBezTo>
                <a:cubicBezTo>
                  <a:pt x="244" y="176"/>
                  <a:pt x="243" y="172"/>
                  <a:pt x="243" y="168"/>
                </a:cubicBezTo>
                <a:cubicBezTo>
                  <a:pt x="242" y="163"/>
                  <a:pt x="242" y="159"/>
                  <a:pt x="241" y="154"/>
                </a:cubicBezTo>
                <a:cubicBezTo>
                  <a:pt x="239" y="146"/>
                  <a:pt x="237" y="138"/>
                  <a:pt x="233" y="130"/>
                </a:cubicBezTo>
                <a:cubicBezTo>
                  <a:pt x="229" y="122"/>
                  <a:pt x="222" y="115"/>
                  <a:pt x="217" y="107"/>
                </a:cubicBezTo>
                <a:cubicBezTo>
                  <a:pt x="213" y="99"/>
                  <a:pt x="210" y="90"/>
                  <a:pt x="204" y="84"/>
                </a:cubicBezTo>
                <a:cubicBezTo>
                  <a:pt x="199" y="80"/>
                  <a:pt x="196" y="76"/>
                  <a:pt x="193" y="71"/>
                </a:cubicBezTo>
                <a:cubicBezTo>
                  <a:pt x="191" y="68"/>
                  <a:pt x="189" y="65"/>
                  <a:pt x="186" y="63"/>
                </a:cubicBezTo>
                <a:cubicBezTo>
                  <a:pt x="183" y="59"/>
                  <a:pt x="179" y="56"/>
                  <a:pt x="176" y="52"/>
                </a:cubicBezTo>
                <a:cubicBezTo>
                  <a:pt x="170" y="47"/>
                  <a:pt x="162" y="42"/>
                  <a:pt x="156" y="49"/>
                </a:cubicBezTo>
                <a:cubicBezTo>
                  <a:pt x="156" y="49"/>
                  <a:pt x="156" y="49"/>
                  <a:pt x="156" y="49"/>
                </a:cubicBezTo>
                <a:cubicBezTo>
                  <a:pt x="153" y="45"/>
                  <a:pt x="149" y="42"/>
                  <a:pt x="145" y="42"/>
                </a:cubicBezTo>
                <a:cubicBezTo>
                  <a:pt x="138" y="42"/>
                  <a:pt x="131" y="41"/>
                  <a:pt x="126" y="45"/>
                </a:cubicBezTo>
                <a:cubicBezTo>
                  <a:pt x="119" y="50"/>
                  <a:pt x="114" y="58"/>
                  <a:pt x="108" y="65"/>
                </a:cubicBezTo>
                <a:cubicBezTo>
                  <a:pt x="103" y="72"/>
                  <a:pt x="98" y="79"/>
                  <a:pt x="94" y="87"/>
                </a:cubicBezTo>
                <a:cubicBezTo>
                  <a:pt x="87" y="103"/>
                  <a:pt x="77" y="119"/>
                  <a:pt x="74" y="137"/>
                </a:cubicBezTo>
                <a:cubicBezTo>
                  <a:pt x="72" y="145"/>
                  <a:pt x="71" y="154"/>
                  <a:pt x="71" y="163"/>
                </a:cubicBezTo>
                <a:cubicBezTo>
                  <a:pt x="71" y="168"/>
                  <a:pt x="71" y="172"/>
                  <a:pt x="72" y="177"/>
                </a:cubicBezTo>
                <a:cubicBezTo>
                  <a:pt x="72" y="178"/>
                  <a:pt x="72" y="179"/>
                  <a:pt x="72" y="181"/>
                </a:cubicBezTo>
                <a:cubicBezTo>
                  <a:pt x="69" y="178"/>
                  <a:pt x="65" y="177"/>
                  <a:pt x="63" y="173"/>
                </a:cubicBezTo>
                <a:cubicBezTo>
                  <a:pt x="58" y="164"/>
                  <a:pt x="47" y="163"/>
                  <a:pt x="38" y="160"/>
                </a:cubicBezTo>
                <a:cubicBezTo>
                  <a:pt x="35" y="159"/>
                  <a:pt x="32" y="159"/>
                  <a:pt x="30" y="158"/>
                </a:cubicBezTo>
                <a:cubicBezTo>
                  <a:pt x="26" y="152"/>
                  <a:pt x="23" y="145"/>
                  <a:pt x="19" y="139"/>
                </a:cubicBezTo>
                <a:cubicBezTo>
                  <a:pt x="13" y="133"/>
                  <a:pt x="6" y="127"/>
                  <a:pt x="0" y="122"/>
                </a:cubicBezTo>
                <a:cubicBezTo>
                  <a:pt x="0" y="126"/>
                  <a:pt x="0" y="126"/>
                  <a:pt x="0" y="126"/>
                </a:cubicBezTo>
                <a:cubicBezTo>
                  <a:pt x="1" y="127"/>
                  <a:pt x="2" y="128"/>
                  <a:pt x="3" y="129"/>
                </a:cubicBezTo>
                <a:cubicBezTo>
                  <a:pt x="9" y="134"/>
                  <a:pt x="15" y="139"/>
                  <a:pt x="19" y="145"/>
                </a:cubicBezTo>
                <a:cubicBezTo>
                  <a:pt x="22" y="149"/>
                  <a:pt x="24" y="154"/>
                  <a:pt x="27" y="158"/>
                </a:cubicBezTo>
                <a:cubicBezTo>
                  <a:pt x="20" y="157"/>
                  <a:pt x="13" y="158"/>
                  <a:pt x="5" y="160"/>
                </a:cubicBezTo>
                <a:cubicBezTo>
                  <a:pt x="4" y="160"/>
                  <a:pt x="2" y="161"/>
                  <a:pt x="0" y="162"/>
                </a:cubicBezTo>
                <a:cubicBezTo>
                  <a:pt x="1" y="160"/>
                  <a:pt x="0" y="159"/>
                  <a:pt x="0" y="157"/>
                </a:cubicBezTo>
                <a:cubicBezTo>
                  <a:pt x="0" y="166"/>
                  <a:pt x="0" y="166"/>
                  <a:pt x="0" y="166"/>
                </a:cubicBezTo>
                <a:cubicBezTo>
                  <a:pt x="5" y="163"/>
                  <a:pt x="10" y="162"/>
                  <a:pt x="15" y="162"/>
                </a:cubicBezTo>
                <a:cubicBezTo>
                  <a:pt x="27" y="159"/>
                  <a:pt x="38" y="163"/>
                  <a:pt x="49" y="167"/>
                </a:cubicBezTo>
                <a:cubicBezTo>
                  <a:pt x="52" y="168"/>
                  <a:pt x="57" y="169"/>
                  <a:pt x="59" y="173"/>
                </a:cubicBezTo>
                <a:cubicBezTo>
                  <a:pt x="60" y="174"/>
                  <a:pt x="61" y="176"/>
                  <a:pt x="62" y="178"/>
                </a:cubicBezTo>
                <a:cubicBezTo>
                  <a:pt x="65" y="182"/>
                  <a:pt x="70" y="183"/>
                  <a:pt x="73" y="188"/>
                </a:cubicBezTo>
                <a:cubicBezTo>
                  <a:pt x="79" y="197"/>
                  <a:pt x="80" y="209"/>
                  <a:pt x="81" y="220"/>
                </a:cubicBezTo>
                <a:cubicBezTo>
                  <a:pt x="81" y="231"/>
                  <a:pt x="82" y="242"/>
                  <a:pt x="84" y="253"/>
                </a:cubicBezTo>
                <a:cubicBezTo>
                  <a:pt x="86" y="264"/>
                  <a:pt x="87" y="275"/>
                  <a:pt x="90" y="285"/>
                </a:cubicBezTo>
                <a:cubicBezTo>
                  <a:pt x="97" y="304"/>
                  <a:pt x="108" y="320"/>
                  <a:pt x="114" y="338"/>
                </a:cubicBezTo>
                <a:cubicBezTo>
                  <a:pt x="114" y="339"/>
                  <a:pt x="114" y="339"/>
                  <a:pt x="115" y="339"/>
                </a:cubicBezTo>
                <a:cubicBezTo>
                  <a:pt x="115" y="339"/>
                  <a:pt x="115" y="340"/>
                  <a:pt x="115" y="340"/>
                </a:cubicBezTo>
                <a:cubicBezTo>
                  <a:pt x="114" y="343"/>
                  <a:pt x="115" y="346"/>
                  <a:pt x="118" y="348"/>
                </a:cubicBezTo>
                <a:cubicBezTo>
                  <a:pt x="122" y="353"/>
                  <a:pt x="124" y="359"/>
                  <a:pt x="127" y="365"/>
                </a:cubicBezTo>
                <a:cubicBezTo>
                  <a:pt x="128" y="366"/>
                  <a:pt x="131" y="374"/>
                  <a:pt x="129" y="374"/>
                </a:cubicBezTo>
                <a:cubicBezTo>
                  <a:pt x="128" y="374"/>
                  <a:pt x="126" y="374"/>
                  <a:pt x="125" y="374"/>
                </a:cubicBezTo>
                <a:cubicBezTo>
                  <a:pt x="124" y="376"/>
                  <a:pt x="123" y="377"/>
                  <a:pt x="124" y="378"/>
                </a:cubicBezTo>
                <a:cubicBezTo>
                  <a:pt x="118" y="374"/>
                  <a:pt x="115" y="366"/>
                  <a:pt x="109" y="361"/>
                </a:cubicBezTo>
                <a:cubicBezTo>
                  <a:pt x="108" y="360"/>
                  <a:pt x="106" y="360"/>
                  <a:pt x="106" y="362"/>
                </a:cubicBezTo>
                <a:cubicBezTo>
                  <a:pt x="105" y="367"/>
                  <a:pt x="108" y="371"/>
                  <a:pt x="110" y="375"/>
                </a:cubicBezTo>
                <a:cubicBezTo>
                  <a:pt x="110" y="375"/>
                  <a:pt x="114" y="383"/>
                  <a:pt x="112" y="382"/>
                </a:cubicBezTo>
                <a:cubicBezTo>
                  <a:pt x="110" y="382"/>
                  <a:pt x="107" y="380"/>
                  <a:pt x="105" y="379"/>
                </a:cubicBezTo>
                <a:cubicBezTo>
                  <a:pt x="102" y="378"/>
                  <a:pt x="98" y="378"/>
                  <a:pt x="97" y="381"/>
                </a:cubicBezTo>
                <a:cubicBezTo>
                  <a:pt x="96" y="382"/>
                  <a:pt x="96" y="382"/>
                  <a:pt x="96" y="382"/>
                </a:cubicBezTo>
                <a:cubicBezTo>
                  <a:pt x="90" y="377"/>
                  <a:pt x="82" y="372"/>
                  <a:pt x="75" y="368"/>
                </a:cubicBezTo>
                <a:cubicBezTo>
                  <a:pt x="66" y="363"/>
                  <a:pt x="57" y="357"/>
                  <a:pt x="47" y="352"/>
                </a:cubicBezTo>
                <a:cubicBezTo>
                  <a:pt x="38" y="348"/>
                  <a:pt x="29" y="342"/>
                  <a:pt x="20" y="337"/>
                </a:cubicBezTo>
                <a:cubicBezTo>
                  <a:pt x="13" y="333"/>
                  <a:pt x="7" y="329"/>
                  <a:pt x="0" y="326"/>
                </a:cubicBezTo>
                <a:cubicBezTo>
                  <a:pt x="0" y="330"/>
                  <a:pt x="0" y="330"/>
                  <a:pt x="0" y="330"/>
                </a:cubicBezTo>
                <a:cubicBezTo>
                  <a:pt x="7" y="333"/>
                  <a:pt x="13" y="337"/>
                  <a:pt x="20" y="341"/>
                </a:cubicBezTo>
                <a:cubicBezTo>
                  <a:pt x="29" y="346"/>
                  <a:pt x="38" y="351"/>
                  <a:pt x="47" y="356"/>
                </a:cubicBezTo>
                <a:cubicBezTo>
                  <a:pt x="52" y="359"/>
                  <a:pt x="56" y="361"/>
                  <a:pt x="61" y="363"/>
                </a:cubicBezTo>
                <a:cubicBezTo>
                  <a:pt x="60" y="363"/>
                  <a:pt x="59" y="363"/>
                  <a:pt x="58" y="363"/>
                </a:cubicBezTo>
                <a:cubicBezTo>
                  <a:pt x="56" y="362"/>
                  <a:pt x="54" y="360"/>
                  <a:pt x="51" y="359"/>
                </a:cubicBezTo>
                <a:cubicBezTo>
                  <a:pt x="51" y="359"/>
                  <a:pt x="50" y="359"/>
                  <a:pt x="50" y="359"/>
                </a:cubicBezTo>
                <a:cubicBezTo>
                  <a:pt x="48" y="357"/>
                  <a:pt x="45" y="356"/>
                  <a:pt x="43" y="356"/>
                </a:cubicBezTo>
                <a:cubicBezTo>
                  <a:pt x="32" y="352"/>
                  <a:pt x="20" y="349"/>
                  <a:pt x="9" y="348"/>
                </a:cubicBezTo>
                <a:cubicBezTo>
                  <a:pt x="6" y="348"/>
                  <a:pt x="3" y="348"/>
                  <a:pt x="0" y="347"/>
                </a:cubicBezTo>
                <a:cubicBezTo>
                  <a:pt x="0" y="350"/>
                  <a:pt x="0" y="350"/>
                  <a:pt x="0" y="350"/>
                </a:cubicBezTo>
                <a:cubicBezTo>
                  <a:pt x="12" y="352"/>
                  <a:pt x="25" y="353"/>
                  <a:pt x="37" y="356"/>
                </a:cubicBezTo>
                <a:cubicBezTo>
                  <a:pt x="41" y="357"/>
                  <a:pt x="45" y="359"/>
                  <a:pt x="48" y="360"/>
                </a:cubicBezTo>
                <a:cubicBezTo>
                  <a:pt x="48" y="360"/>
                  <a:pt x="48" y="361"/>
                  <a:pt x="48" y="361"/>
                </a:cubicBezTo>
                <a:cubicBezTo>
                  <a:pt x="51" y="366"/>
                  <a:pt x="54" y="370"/>
                  <a:pt x="56" y="374"/>
                </a:cubicBezTo>
                <a:cubicBezTo>
                  <a:pt x="59" y="380"/>
                  <a:pt x="61" y="386"/>
                  <a:pt x="64" y="392"/>
                </a:cubicBezTo>
                <a:cubicBezTo>
                  <a:pt x="70" y="403"/>
                  <a:pt x="78" y="412"/>
                  <a:pt x="87" y="421"/>
                </a:cubicBezTo>
                <a:cubicBezTo>
                  <a:pt x="91" y="425"/>
                  <a:pt x="96" y="428"/>
                  <a:pt x="101" y="432"/>
                </a:cubicBezTo>
                <a:cubicBezTo>
                  <a:pt x="107" y="436"/>
                  <a:pt x="111" y="442"/>
                  <a:pt x="115" y="448"/>
                </a:cubicBezTo>
                <a:cubicBezTo>
                  <a:pt x="122" y="460"/>
                  <a:pt x="126" y="473"/>
                  <a:pt x="131" y="485"/>
                </a:cubicBezTo>
                <a:cubicBezTo>
                  <a:pt x="131" y="485"/>
                  <a:pt x="131" y="486"/>
                  <a:pt x="131" y="486"/>
                </a:cubicBezTo>
                <a:cubicBezTo>
                  <a:pt x="130" y="489"/>
                  <a:pt x="131" y="492"/>
                  <a:pt x="132" y="495"/>
                </a:cubicBezTo>
                <a:cubicBezTo>
                  <a:pt x="134" y="499"/>
                  <a:pt x="135" y="503"/>
                  <a:pt x="135" y="507"/>
                </a:cubicBezTo>
                <a:cubicBezTo>
                  <a:pt x="136" y="515"/>
                  <a:pt x="137" y="524"/>
                  <a:pt x="142" y="531"/>
                </a:cubicBezTo>
                <a:cubicBezTo>
                  <a:pt x="146" y="535"/>
                  <a:pt x="151" y="538"/>
                  <a:pt x="154" y="542"/>
                </a:cubicBezTo>
                <a:cubicBezTo>
                  <a:pt x="158" y="545"/>
                  <a:pt x="162" y="549"/>
                  <a:pt x="166" y="553"/>
                </a:cubicBezTo>
                <a:cubicBezTo>
                  <a:pt x="175" y="561"/>
                  <a:pt x="184" y="569"/>
                  <a:pt x="194" y="575"/>
                </a:cubicBezTo>
                <a:cubicBezTo>
                  <a:pt x="204" y="582"/>
                  <a:pt x="213" y="588"/>
                  <a:pt x="224" y="594"/>
                </a:cubicBezTo>
                <a:cubicBezTo>
                  <a:pt x="228" y="596"/>
                  <a:pt x="232" y="598"/>
                  <a:pt x="237" y="599"/>
                </a:cubicBezTo>
                <a:cubicBezTo>
                  <a:pt x="243" y="600"/>
                  <a:pt x="248" y="602"/>
                  <a:pt x="253" y="606"/>
                </a:cubicBezTo>
                <a:cubicBezTo>
                  <a:pt x="257" y="609"/>
                  <a:pt x="261" y="612"/>
                  <a:pt x="265" y="615"/>
                </a:cubicBezTo>
                <a:cubicBezTo>
                  <a:pt x="270" y="618"/>
                  <a:pt x="272" y="621"/>
                  <a:pt x="275" y="626"/>
                </a:cubicBezTo>
                <a:cubicBezTo>
                  <a:pt x="270" y="632"/>
                  <a:pt x="277" y="639"/>
                  <a:pt x="281" y="643"/>
                </a:cubicBezTo>
                <a:cubicBezTo>
                  <a:pt x="291" y="651"/>
                  <a:pt x="296" y="663"/>
                  <a:pt x="303" y="673"/>
                </a:cubicBezTo>
                <a:cubicBezTo>
                  <a:pt x="312" y="684"/>
                  <a:pt x="322" y="694"/>
                  <a:pt x="329" y="706"/>
                </a:cubicBezTo>
                <a:cubicBezTo>
                  <a:pt x="334" y="716"/>
                  <a:pt x="340" y="726"/>
                  <a:pt x="345" y="736"/>
                </a:cubicBezTo>
                <a:cubicBezTo>
                  <a:pt x="348" y="741"/>
                  <a:pt x="351" y="747"/>
                  <a:pt x="353" y="753"/>
                </a:cubicBezTo>
                <a:cubicBezTo>
                  <a:pt x="354" y="758"/>
                  <a:pt x="352" y="762"/>
                  <a:pt x="352" y="766"/>
                </a:cubicBezTo>
                <a:cubicBezTo>
                  <a:pt x="352" y="768"/>
                  <a:pt x="353" y="770"/>
                  <a:pt x="353" y="771"/>
                </a:cubicBezTo>
                <a:cubicBezTo>
                  <a:pt x="353" y="771"/>
                  <a:pt x="353" y="772"/>
                  <a:pt x="353" y="772"/>
                </a:cubicBezTo>
                <a:cubicBezTo>
                  <a:pt x="352" y="777"/>
                  <a:pt x="353" y="783"/>
                  <a:pt x="353" y="789"/>
                </a:cubicBezTo>
                <a:cubicBezTo>
                  <a:pt x="354" y="795"/>
                  <a:pt x="354" y="800"/>
                  <a:pt x="354" y="806"/>
                </a:cubicBezTo>
                <a:cubicBezTo>
                  <a:pt x="353" y="809"/>
                  <a:pt x="353" y="812"/>
                  <a:pt x="352" y="815"/>
                </a:cubicBezTo>
                <a:cubicBezTo>
                  <a:pt x="356" y="815"/>
                  <a:pt x="356" y="815"/>
                  <a:pt x="356" y="815"/>
                </a:cubicBezTo>
                <a:cubicBezTo>
                  <a:pt x="357" y="810"/>
                  <a:pt x="357" y="805"/>
                  <a:pt x="357" y="800"/>
                </a:cubicBezTo>
                <a:cubicBezTo>
                  <a:pt x="357" y="791"/>
                  <a:pt x="357" y="782"/>
                  <a:pt x="356" y="774"/>
                </a:cubicBezTo>
                <a:cubicBezTo>
                  <a:pt x="358" y="775"/>
                  <a:pt x="362" y="775"/>
                  <a:pt x="366" y="773"/>
                </a:cubicBezTo>
                <a:cubicBezTo>
                  <a:pt x="373" y="770"/>
                  <a:pt x="385" y="768"/>
                  <a:pt x="389" y="760"/>
                </a:cubicBezTo>
                <a:cubicBezTo>
                  <a:pt x="393" y="752"/>
                  <a:pt x="394" y="744"/>
                  <a:pt x="392" y="735"/>
                </a:cubicBezTo>
                <a:cubicBezTo>
                  <a:pt x="392" y="735"/>
                  <a:pt x="393" y="735"/>
                  <a:pt x="393" y="735"/>
                </a:cubicBezTo>
                <a:cubicBezTo>
                  <a:pt x="393" y="735"/>
                  <a:pt x="394" y="734"/>
                  <a:pt x="393" y="734"/>
                </a:cubicBezTo>
                <a:cubicBezTo>
                  <a:pt x="392" y="731"/>
                  <a:pt x="391" y="729"/>
                  <a:pt x="390" y="726"/>
                </a:cubicBezTo>
                <a:cubicBezTo>
                  <a:pt x="391" y="727"/>
                  <a:pt x="393" y="728"/>
                  <a:pt x="394" y="729"/>
                </a:cubicBezTo>
                <a:cubicBezTo>
                  <a:pt x="397" y="730"/>
                  <a:pt x="399" y="731"/>
                  <a:pt x="402" y="732"/>
                </a:cubicBezTo>
                <a:cubicBezTo>
                  <a:pt x="398" y="732"/>
                  <a:pt x="396" y="739"/>
                  <a:pt x="397" y="743"/>
                </a:cubicBezTo>
                <a:cubicBezTo>
                  <a:pt x="397" y="743"/>
                  <a:pt x="398" y="743"/>
                  <a:pt x="398" y="743"/>
                </a:cubicBezTo>
                <a:cubicBezTo>
                  <a:pt x="399" y="740"/>
                  <a:pt x="400" y="732"/>
                  <a:pt x="404" y="733"/>
                </a:cubicBezTo>
                <a:cubicBezTo>
                  <a:pt x="405" y="733"/>
                  <a:pt x="405" y="732"/>
                  <a:pt x="405" y="732"/>
                </a:cubicBezTo>
                <a:cubicBezTo>
                  <a:pt x="411" y="732"/>
                  <a:pt x="417" y="731"/>
                  <a:pt x="421" y="726"/>
                </a:cubicBezTo>
                <a:cubicBezTo>
                  <a:pt x="420" y="728"/>
                  <a:pt x="421" y="730"/>
                  <a:pt x="421" y="732"/>
                </a:cubicBezTo>
                <a:cubicBezTo>
                  <a:pt x="427" y="752"/>
                  <a:pt x="465" y="751"/>
                  <a:pt x="469" y="732"/>
                </a:cubicBezTo>
                <a:cubicBezTo>
                  <a:pt x="469" y="732"/>
                  <a:pt x="470" y="731"/>
                  <a:pt x="470" y="731"/>
                </a:cubicBezTo>
                <a:cubicBezTo>
                  <a:pt x="469" y="734"/>
                  <a:pt x="468" y="736"/>
                  <a:pt x="467" y="738"/>
                </a:cubicBezTo>
                <a:cubicBezTo>
                  <a:pt x="463" y="745"/>
                  <a:pt x="455" y="749"/>
                  <a:pt x="447" y="750"/>
                </a:cubicBezTo>
                <a:cubicBezTo>
                  <a:pt x="439" y="751"/>
                  <a:pt x="431" y="750"/>
                  <a:pt x="425" y="746"/>
                </a:cubicBezTo>
                <a:cubicBezTo>
                  <a:pt x="419" y="743"/>
                  <a:pt x="415" y="738"/>
                  <a:pt x="411" y="732"/>
                </a:cubicBezTo>
                <a:cubicBezTo>
                  <a:pt x="411" y="732"/>
                  <a:pt x="410" y="732"/>
                  <a:pt x="410" y="733"/>
                </a:cubicBezTo>
                <a:cubicBezTo>
                  <a:pt x="412" y="749"/>
                  <a:pt x="433" y="756"/>
                  <a:pt x="447" y="753"/>
                </a:cubicBezTo>
                <a:cubicBezTo>
                  <a:pt x="453" y="752"/>
                  <a:pt x="459" y="751"/>
                  <a:pt x="463" y="748"/>
                </a:cubicBezTo>
                <a:cubicBezTo>
                  <a:pt x="461" y="759"/>
                  <a:pt x="460" y="772"/>
                  <a:pt x="458" y="784"/>
                </a:cubicBezTo>
                <a:cubicBezTo>
                  <a:pt x="456" y="793"/>
                  <a:pt x="454" y="803"/>
                  <a:pt x="454" y="812"/>
                </a:cubicBezTo>
                <a:cubicBezTo>
                  <a:pt x="454" y="813"/>
                  <a:pt x="454" y="813"/>
                  <a:pt x="454" y="813"/>
                </a:cubicBezTo>
                <a:cubicBezTo>
                  <a:pt x="453" y="805"/>
                  <a:pt x="453" y="798"/>
                  <a:pt x="455" y="791"/>
                </a:cubicBezTo>
                <a:cubicBezTo>
                  <a:pt x="455" y="790"/>
                  <a:pt x="454" y="790"/>
                  <a:pt x="454" y="790"/>
                </a:cubicBezTo>
                <a:cubicBezTo>
                  <a:pt x="450" y="797"/>
                  <a:pt x="450" y="806"/>
                  <a:pt x="451" y="814"/>
                </a:cubicBezTo>
                <a:cubicBezTo>
                  <a:pt x="451" y="814"/>
                  <a:pt x="451" y="815"/>
                  <a:pt x="451" y="815"/>
                </a:cubicBezTo>
                <a:cubicBezTo>
                  <a:pt x="459" y="815"/>
                  <a:pt x="459" y="815"/>
                  <a:pt x="459" y="815"/>
                </a:cubicBezTo>
                <a:cubicBezTo>
                  <a:pt x="476" y="808"/>
                  <a:pt x="492" y="798"/>
                  <a:pt x="507" y="788"/>
                </a:cubicBezTo>
                <a:cubicBezTo>
                  <a:pt x="525" y="776"/>
                  <a:pt x="543" y="763"/>
                  <a:pt x="561" y="752"/>
                </a:cubicBezTo>
                <a:cubicBezTo>
                  <a:pt x="579" y="740"/>
                  <a:pt x="597" y="727"/>
                  <a:pt x="616" y="716"/>
                </a:cubicBezTo>
                <a:cubicBezTo>
                  <a:pt x="631" y="707"/>
                  <a:pt x="645" y="697"/>
                  <a:pt x="658" y="686"/>
                </a:cubicBezTo>
                <a:cubicBezTo>
                  <a:pt x="653" y="695"/>
                  <a:pt x="653" y="705"/>
                  <a:pt x="660" y="713"/>
                </a:cubicBezTo>
                <a:cubicBezTo>
                  <a:pt x="662" y="716"/>
                  <a:pt x="665" y="718"/>
                  <a:pt x="668" y="720"/>
                </a:cubicBezTo>
                <a:cubicBezTo>
                  <a:pt x="664" y="721"/>
                  <a:pt x="661" y="724"/>
                  <a:pt x="658" y="726"/>
                </a:cubicBezTo>
                <a:cubicBezTo>
                  <a:pt x="651" y="731"/>
                  <a:pt x="645" y="736"/>
                  <a:pt x="638" y="741"/>
                </a:cubicBezTo>
                <a:cubicBezTo>
                  <a:pt x="628" y="749"/>
                  <a:pt x="617" y="756"/>
                  <a:pt x="606" y="762"/>
                </a:cubicBezTo>
                <a:cubicBezTo>
                  <a:pt x="596" y="767"/>
                  <a:pt x="586" y="774"/>
                  <a:pt x="577" y="781"/>
                </a:cubicBezTo>
                <a:cubicBezTo>
                  <a:pt x="560" y="794"/>
                  <a:pt x="541" y="804"/>
                  <a:pt x="523" y="815"/>
                </a:cubicBezTo>
                <a:cubicBezTo>
                  <a:pt x="530" y="815"/>
                  <a:pt x="530" y="815"/>
                  <a:pt x="530" y="815"/>
                </a:cubicBezTo>
                <a:cubicBezTo>
                  <a:pt x="546" y="805"/>
                  <a:pt x="563" y="795"/>
                  <a:pt x="578" y="784"/>
                </a:cubicBezTo>
                <a:cubicBezTo>
                  <a:pt x="597" y="771"/>
                  <a:pt x="617" y="760"/>
                  <a:pt x="636" y="747"/>
                </a:cubicBezTo>
                <a:cubicBezTo>
                  <a:pt x="643" y="742"/>
                  <a:pt x="649" y="738"/>
                  <a:pt x="656" y="732"/>
                </a:cubicBezTo>
                <a:cubicBezTo>
                  <a:pt x="660" y="729"/>
                  <a:pt x="666" y="721"/>
                  <a:pt x="672" y="721"/>
                </a:cubicBezTo>
                <a:cubicBezTo>
                  <a:pt x="676" y="721"/>
                  <a:pt x="680" y="721"/>
                  <a:pt x="684" y="720"/>
                </a:cubicBezTo>
                <a:cubicBezTo>
                  <a:pt x="689" y="718"/>
                  <a:pt x="693" y="716"/>
                  <a:pt x="698" y="714"/>
                </a:cubicBezTo>
                <a:cubicBezTo>
                  <a:pt x="702" y="713"/>
                  <a:pt x="706" y="713"/>
                  <a:pt x="710" y="712"/>
                </a:cubicBezTo>
                <a:cubicBezTo>
                  <a:pt x="712" y="713"/>
                  <a:pt x="715" y="714"/>
                  <a:pt x="719" y="714"/>
                </a:cubicBezTo>
                <a:cubicBezTo>
                  <a:pt x="727" y="715"/>
                  <a:pt x="736" y="713"/>
                  <a:pt x="741" y="706"/>
                </a:cubicBezTo>
                <a:cubicBezTo>
                  <a:pt x="744" y="702"/>
                  <a:pt x="747" y="698"/>
                  <a:pt x="747" y="693"/>
                </a:cubicBezTo>
                <a:cubicBezTo>
                  <a:pt x="747" y="692"/>
                  <a:pt x="748" y="691"/>
                  <a:pt x="748" y="690"/>
                </a:cubicBezTo>
                <a:cubicBezTo>
                  <a:pt x="751" y="688"/>
                  <a:pt x="754" y="686"/>
                  <a:pt x="757" y="683"/>
                </a:cubicBezTo>
                <a:cubicBezTo>
                  <a:pt x="769" y="675"/>
                  <a:pt x="780" y="665"/>
                  <a:pt x="792" y="656"/>
                </a:cubicBezTo>
                <a:cubicBezTo>
                  <a:pt x="802" y="647"/>
                  <a:pt x="813" y="639"/>
                  <a:pt x="821" y="628"/>
                </a:cubicBezTo>
                <a:cubicBezTo>
                  <a:pt x="821" y="628"/>
                  <a:pt x="821" y="628"/>
                  <a:pt x="821" y="629"/>
                </a:cubicBezTo>
                <a:cubicBezTo>
                  <a:pt x="822" y="644"/>
                  <a:pt x="825" y="659"/>
                  <a:pt x="830" y="673"/>
                </a:cubicBezTo>
                <a:cubicBezTo>
                  <a:pt x="833" y="681"/>
                  <a:pt x="836" y="688"/>
                  <a:pt x="840" y="695"/>
                </a:cubicBezTo>
                <a:cubicBezTo>
                  <a:pt x="843" y="702"/>
                  <a:pt x="846" y="709"/>
                  <a:pt x="850" y="715"/>
                </a:cubicBezTo>
                <a:cubicBezTo>
                  <a:pt x="858" y="725"/>
                  <a:pt x="868" y="734"/>
                  <a:pt x="881" y="735"/>
                </a:cubicBezTo>
                <a:cubicBezTo>
                  <a:pt x="888" y="736"/>
                  <a:pt x="895" y="735"/>
                  <a:pt x="902" y="735"/>
                </a:cubicBezTo>
                <a:cubicBezTo>
                  <a:pt x="910" y="735"/>
                  <a:pt x="917" y="735"/>
                  <a:pt x="924" y="734"/>
                </a:cubicBezTo>
                <a:cubicBezTo>
                  <a:pt x="932" y="733"/>
                  <a:pt x="940" y="732"/>
                  <a:pt x="948" y="729"/>
                </a:cubicBezTo>
                <a:cubicBezTo>
                  <a:pt x="953" y="727"/>
                  <a:pt x="960" y="725"/>
                  <a:pt x="965" y="721"/>
                </a:cubicBezTo>
                <a:cubicBezTo>
                  <a:pt x="973" y="712"/>
                  <a:pt x="980" y="697"/>
                  <a:pt x="980" y="684"/>
                </a:cubicBezTo>
                <a:cubicBezTo>
                  <a:pt x="980" y="670"/>
                  <a:pt x="973" y="658"/>
                  <a:pt x="967" y="646"/>
                </a:cubicBezTo>
                <a:cubicBezTo>
                  <a:pt x="960" y="631"/>
                  <a:pt x="953" y="616"/>
                  <a:pt x="943" y="603"/>
                </a:cubicBezTo>
                <a:cubicBezTo>
                  <a:pt x="940" y="599"/>
                  <a:pt x="936" y="593"/>
                  <a:pt x="931" y="588"/>
                </a:cubicBezTo>
                <a:cubicBezTo>
                  <a:pt x="935" y="588"/>
                  <a:pt x="939" y="588"/>
                  <a:pt x="942" y="588"/>
                </a:cubicBezTo>
                <a:cubicBezTo>
                  <a:pt x="943" y="589"/>
                  <a:pt x="943" y="589"/>
                  <a:pt x="944" y="589"/>
                </a:cubicBezTo>
                <a:cubicBezTo>
                  <a:pt x="947" y="588"/>
                  <a:pt x="954" y="592"/>
                  <a:pt x="957" y="593"/>
                </a:cubicBezTo>
                <a:cubicBezTo>
                  <a:pt x="961" y="594"/>
                  <a:pt x="966" y="596"/>
                  <a:pt x="970" y="598"/>
                </a:cubicBezTo>
                <a:cubicBezTo>
                  <a:pt x="977" y="600"/>
                  <a:pt x="984" y="600"/>
                  <a:pt x="991" y="600"/>
                </a:cubicBezTo>
                <a:cubicBezTo>
                  <a:pt x="997" y="601"/>
                  <a:pt x="1003" y="601"/>
                  <a:pt x="1009" y="600"/>
                </a:cubicBezTo>
                <a:cubicBezTo>
                  <a:pt x="1023" y="598"/>
                  <a:pt x="1036" y="595"/>
                  <a:pt x="1050" y="593"/>
                </a:cubicBezTo>
                <a:cubicBezTo>
                  <a:pt x="1057" y="592"/>
                  <a:pt x="1064" y="590"/>
                  <a:pt x="1071" y="589"/>
                </a:cubicBezTo>
                <a:cubicBezTo>
                  <a:pt x="1078" y="589"/>
                  <a:pt x="1084" y="588"/>
                  <a:pt x="1091" y="588"/>
                </a:cubicBezTo>
                <a:cubicBezTo>
                  <a:pt x="1098" y="587"/>
                  <a:pt x="1105" y="585"/>
                  <a:pt x="1112" y="582"/>
                </a:cubicBezTo>
                <a:cubicBezTo>
                  <a:pt x="1119" y="579"/>
                  <a:pt x="1127" y="576"/>
                  <a:pt x="1135" y="574"/>
                </a:cubicBezTo>
                <a:cubicBezTo>
                  <a:pt x="1143" y="571"/>
                  <a:pt x="1155" y="567"/>
                  <a:pt x="1159" y="560"/>
                </a:cubicBezTo>
                <a:cubicBezTo>
                  <a:pt x="1161" y="558"/>
                  <a:pt x="1162" y="554"/>
                  <a:pt x="1160" y="552"/>
                </a:cubicBezTo>
                <a:close/>
                <a:moveTo>
                  <a:pt x="1016" y="424"/>
                </a:moveTo>
                <a:cubicBezTo>
                  <a:pt x="1028" y="421"/>
                  <a:pt x="1041" y="418"/>
                  <a:pt x="1054" y="415"/>
                </a:cubicBezTo>
                <a:cubicBezTo>
                  <a:pt x="1065" y="413"/>
                  <a:pt x="1078" y="410"/>
                  <a:pt x="1090" y="412"/>
                </a:cubicBezTo>
                <a:cubicBezTo>
                  <a:pt x="1103" y="414"/>
                  <a:pt x="1115" y="423"/>
                  <a:pt x="1117" y="436"/>
                </a:cubicBezTo>
                <a:cubicBezTo>
                  <a:pt x="1118" y="439"/>
                  <a:pt x="1117" y="445"/>
                  <a:pt x="1120" y="447"/>
                </a:cubicBezTo>
                <a:cubicBezTo>
                  <a:pt x="1125" y="449"/>
                  <a:pt x="1129" y="449"/>
                  <a:pt x="1132" y="454"/>
                </a:cubicBezTo>
                <a:cubicBezTo>
                  <a:pt x="1137" y="464"/>
                  <a:pt x="1134" y="477"/>
                  <a:pt x="1129" y="486"/>
                </a:cubicBezTo>
                <a:cubicBezTo>
                  <a:pt x="1123" y="498"/>
                  <a:pt x="1116" y="510"/>
                  <a:pt x="1108" y="519"/>
                </a:cubicBezTo>
                <a:cubicBezTo>
                  <a:pt x="1103" y="524"/>
                  <a:pt x="1099" y="528"/>
                  <a:pt x="1095" y="533"/>
                </a:cubicBezTo>
                <a:cubicBezTo>
                  <a:pt x="1092" y="536"/>
                  <a:pt x="1089" y="540"/>
                  <a:pt x="1084" y="541"/>
                </a:cubicBezTo>
                <a:cubicBezTo>
                  <a:pt x="1084" y="541"/>
                  <a:pt x="1084" y="541"/>
                  <a:pt x="1084" y="541"/>
                </a:cubicBezTo>
                <a:cubicBezTo>
                  <a:pt x="1078" y="541"/>
                  <a:pt x="1072" y="542"/>
                  <a:pt x="1066" y="542"/>
                </a:cubicBezTo>
                <a:cubicBezTo>
                  <a:pt x="1049" y="544"/>
                  <a:pt x="1033" y="545"/>
                  <a:pt x="1016" y="545"/>
                </a:cubicBezTo>
                <a:cubicBezTo>
                  <a:pt x="1007" y="545"/>
                  <a:pt x="998" y="545"/>
                  <a:pt x="989" y="545"/>
                </a:cubicBezTo>
                <a:cubicBezTo>
                  <a:pt x="991" y="544"/>
                  <a:pt x="992" y="544"/>
                  <a:pt x="994" y="544"/>
                </a:cubicBezTo>
                <a:cubicBezTo>
                  <a:pt x="996" y="544"/>
                  <a:pt x="999" y="544"/>
                  <a:pt x="1002" y="544"/>
                </a:cubicBezTo>
                <a:cubicBezTo>
                  <a:pt x="1001" y="544"/>
                  <a:pt x="1001" y="544"/>
                  <a:pt x="1001" y="544"/>
                </a:cubicBezTo>
                <a:cubicBezTo>
                  <a:pt x="1001" y="544"/>
                  <a:pt x="1001" y="545"/>
                  <a:pt x="1001" y="545"/>
                </a:cubicBezTo>
                <a:cubicBezTo>
                  <a:pt x="1005" y="545"/>
                  <a:pt x="1008" y="544"/>
                  <a:pt x="1012" y="544"/>
                </a:cubicBezTo>
                <a:cubicBezTo>
                  <a:pt x="1013" y="544"/>
                  <a:pt x="1014" y="544"/>
                  <a:pt x="1015" y="544"/>
                </a:cubicBezTo>
                <a:cubicBezTo>
                  <a:pt x="1021" y="544"/>
                  <a:pt x="1027" y="544"/>
                  <a:pt x="1033" y="543"/>
                </a:cubicBezTo>
                <a:cubicBezTo>
                  <a:pt x="1040" y="541"/>
                  <a:pt x="1045" y="539"/>
                  <a:pt x="1051" y="537"/>
                </a:cubicBezTo>
                <a:cubicBezTo>
                  <a:pt x="1052" y="537"/>
                  <a:pt x="1051" y="536"/>
                  <a:pt x="1051" y="536"/>
                </a:cubicBezTo>
                <a:cubicBezTo>
                  <a:pt x="1045" y="538"/>
                  <a:pt x="1038" y="540"/>
                  <a:pt x="1031" y="541"/>
                </a:cubicBezTo>
                <a:cubicBezTo>
                  <a:pt x="1030" y="541"/>
                  <a:pt x="1028" y="541"/>
                  <a:pt x="1026" y="541"/>
                </a:cubicBezTo>
                <a:cubicBezTo>
                  <a:pt x="1033" y="540"/>
                  <a:pt x="1038" y="537"/>
                  <a:pt x="1044" y="536"/>
                </a:cubicBezTo>
                <a:cubicBezTo>
                  <a:pt x="1045" y="535"/>
                  <a:pt x="1045" y="535"/>
                  <a:pt x="1044" y="535"/>
                </a:cubicBezTo>
                <a:cubicBezTo>
                  <a:pt x="1037" y="536"/>
                  <a:pt x="1029" y="539"/>
                  <a:pt x="1022" y="540"/>
                </a:cubicBezTo>
                <a:cubicBezTo>
                  <a:pt x="1018" y="541"/>
                  <a:pt x="1015" y="541"/>
                  <a:pt x="1011" y="541"/>
                </a:cubicBezTo>
                <a:cubicBezTo>
                  <a:pt x="1011" y="541"/>
                  <a:pt x="1010" y="541"/>
                  <a:pt x="1010" y="541"/>
                </a:cubicBezTo>
                <a:cubicBezTo>
                  <a:pt x="1007" y="541"/>
                  <a:pt x="1003" y="541"/>
                  <a:pt x="1000" y="541"/>
                </a:cubicBezTo>
                <a:cubicBezTo>
                  <a:pt x="1007" y="539"/>
                  <a:pt x="1014" y="536"/>
                  <a:pt x="1020" y="534"/>
                </a:cubicBezTo>
                <a:cubicBezTo>
                  <a:pt x="1021" y="534"/>
                  <a:pt x="1020" y="533"/>
                  <a:pt x="1020" y="533"/>
                </a:cubicBezTo>
                <a:cubicBezTo>
                  <a:pt x="1008" y="537"/>
                  <a:pt x="996" y="540"/>
                  <a:pt x="984" y="543"/>
                </a:cubicBezTo>
                <a:cubicBezTo>
                  <a:pt x="984" y="543"/>
                  <a:pt x="984" y="543"/>
                  <a:pt x="984" y="543"/>
                </a:cubicBezTo>
                <a:cubicBezTo>
                  <a:pt x="982" y="543"/>
                  <a:pt x="981" y="543"/>
                  <a:pt x="979" y="544"/>
                </a:cubicBezTo>
                <a:cubicBezTo>
                  <a:pt x="978" y="544"/>
                  <a:pt x="977" y="544"/>
                  <a:pt x="977" y="544"/>
                </a:cubicBezTo>
                <a:cubicBezTo>
                  <a:pt x="981" y="542"/>
                  <a:pt x="985" y="539"/>
                  <a:pt x="989" y="537"/>
                </a:cubicBezTo>
                <a:cubicBezTo>
                  <a:pt x="996" y="533"/>
                  <a:pt x="1004" y="529"/>
                  <a:pt x="1012" y="527"/>
                </a:cubicBezTo>
                <a:cubicBezTo>
                  <a:pt x="1012" y="527"/>
                  <a:pt x="1012" y="526"/>
                  <a:pt x="1012" y="526"/>
                </a:cubicBezTo>
                <a:cubicBezTo>
                  <a:pt x="1003" y="528"/>
                  <a:pt x="997" y="531"/>
                  <a:pt x="989" y="535"/>
                </a:cubicBezTo>
                <a:cubicBezTo>
                  <a:pt x="985" y="536"/>
                  <a:pt x="982" y="538"/>
                  <a:pt x="978" y="540"/>
                </a:cubicBezTo>
                <a:cubicBezTo>
                  <a:pt x="976" y="541"/>
                  <a:pt x="973" y="542"/>
                  <a:pt x="971" y="543"/>
                </a:cubicBezTo>
                <a:cubicBezTo>
                  <a:pt x="970" y="543"/>
                  <a:pt x="969" y="543"/>
                  <a:pt x="968" y="543"/>
                </a:cubicBezTo>
                <a:cubicBezTo>
                  <a:pt x="962" y="542"/>
                  <a:pt x="955" y="541"/>
                  <a:pt x="950" y="544"/>
                </a:cubicBezTo>
                <a:cubicBezTo>
                  <a:pt x="946" y="546"/>
                  <a:pt x="943" y="548"/>
                  <a:pt x="941" y="552"/>
                </a:cubicBezTo>
                <a:cubicBezTo>
                  <a:pt x="938" y="550"/>
                  <a:pt x="933" y="551"/>
                  <a:pt x="930" y="551"/>
                </a:cubicBezTo>
                <a:cubicBezTo>
                  <a:pt x="929" y="551"/>
                  <a:pt x="928" y="551"/>
                  <a:pt x="927" y="551"/>
                </a:cubicBezTo>
                <a:cubicBezTo>
                  <a:pt x="937" y="549"/>
                  <a:pt x="947" y="544"/>
                  <a:pt x="956" y="541"/>
                </a:cubicBezTo>
                <a:cubicBezTo>
                  <a:pt x="964" y="538"/>
                  <a:pt x="971" y="535"/>
                  <a:pt x="978" y="532"/>
                </a:cubicBezTo>
                <a:cubicBezTo>
                  <a:pt x="985" y="528"/>
                  <a:pt x="993" y="524"/>
                  <a:pt x="1001" y="521"/>
                </a:cubicBezTo>
                <a:cubicBezTo>
                  <a:pt x="1001" y="520"/>
                  <a:pt x="1001" y="519"/>
                  <a:pt x="1000" y="520"/>
                </a:cubicBezTo>
                <a:cubicBezTo>
                  <a:pt x="992" y="523"/>
                  <a:pt x="985" y="527"/>
                  <a:pt x="977" y="530"/>
                </a:cubicBezTo>
                <a:cubicBezTo>
                  <a:pt x="970" y="533"/>
                  <a:pt x="963" y="535"/>
                  <a:pt x="955" y="538"/>
                </a:cubicBezTo>
                <a:cubicBezTo>
                  <a:pt x="942" y="543"/>
                  <a:pt x="928" y="548"/>
                  <a:pt x="914" y="549"/>
                </a:cubicBezTo>
                <a:cubicBezTo>
                  <a:pt x="913" y="549"/>
                  <a:pt x="913" y="550"/>
                  <a:pt x="912" y="550"/>
                </a:cubicBezTo>
                <a:cubicBezTo>
                  <a:pt x="912" y="550"/>
                  <a:pt x="911" y="550"/>
                  <a:pt x="911" y="550"/>
                </a:cubicBezTo>
                <a:cubicBezTo>
                  <a:pt x="909" y="550"/>
                  <a:pt x="907" y="550"/>
                  <a:pt x="905" y="550"/>
                </a:cubicBezTo>
                <a:cubicBezTo>
                  <a:pt x="905" y="550"/>
                  <a:pt x="906" y="549"/>
                  <a:pt x="906" y="549"/>
                </a:cubicBezTo>
                <a:cubicBezTo>
                  <a:pt x="906" y="549"/>
                  <a:pt x="907" y="549"/>
                  <a:pt x="907" y="549"/>
                </a:cubicBezTo>
                <a:cubicBezTo>
                  <a:pt x="911" y="549"/>
                  <a:pt x="915" y="547"/>
                  <a:pt x="919" y="545"/>
                </a:cubicBezTo>
                <a:cubicBezTo>
                  <a:pt x="924" y="543"/>
                  <a:pt x="929" y="540"/>
                  <a:pt x="934" y="538"/>
                </a:cubicBezTo>
                <a:cubicBezTo>
                  <a:pt x="944" y="532"/>
                  <a:pt x="954" y="526"/>
                  <a:pt x="965" y="523"/>
                </a:cubicBezTo>
                <a:cubicBezTo>
                  <a:pt x="966" y="522"/>
                  <a:pt x="966" y="521"/>
                  <a:pt x="965" y="521"/>
                </a:cubicBezTo>
                <a:cubicBezTo>
                  <a:pt x="954" y="525"/>
                  <a:pt x="944" y="529"/>
                  <a:pt x="934" y="534"/>
                </a:cubicBezTo>
                <a:cubicBezTo>
                  <a:pt x="929" y="536"/>
                  <a:pt x="924" y="539"/>
                  <a:pt x="919" y="541"/>
                </a:cubicBezTo>
                <a:cubicBezTo>
                  <a:pt x="916" y="543"/>
                  <a:pt x="912" y="544"/>
                  <a:pt x="909" y="545"/>
                </a:cubicBezTo>
                <a:cubicBezTo>
                  <a:pt x="910" y="545"/>
                  <a:pt x="910" y="544"/>
                  <a:pt x="910" y="544"/>
                </a:cubicBezTo>
                <a:cubicBezTo>
                  <a:pt x="911" y="543"/>
                  <a:pt x="912" y="543"/>
                  <a:pt x="913" y="542"/>
                </a:cubicBezTo>
                <a:cubicBezTo>
                  <a:pt x="916" y="541"/>
                  <a:pt x="919" y="539"/>
                  <a:pt x="921" y="538"/>
                </a:cubicBezTo>
                <a:cubicBezTo>
                  <a:pt x="928" y="534"/>
                  <a:pt x="934" y="529"/>
                  <a:pt x="940" y="525"/>
                </a:cubicBezTo>
                <a:cubicBezTo>
                  <a:pt x="947" y="521"/>
                  <a:pt x="954" y="517"/>
                  <a:pt x="960" y="513"/>
                </a:cubicBezTo>
                <a:cubicBezTo>
                  <a:pt x="967" y="508"/>
                  <a:pt x="974" y="504"/>
                  <a:pt x="980" y="500"/>
                </a:cubicBezTo>
                <a:cubicBezTo>
                  <a:pt x="981" y="500"/>
                  <a:pt x="980" y="500"/>
                  <a:pt x="980" y="500"/>
                </a:cubicBezTo>
                <a:cubicBezTo>
                  <a:pt x="964" y="508"/>
                  <a:pt x="950" y="518"/>
                  <a:pt x="934" y="527"/>
                </a:cubicBezTo>
                <a:cubicBezTo>
                  <a:pt x="928" y="531"/>
                  <a:pt x="923" y="534"/>
                  <a:pt x="917" y="537"/>
                </a:cubicBezTo>
                <a:cubicBezTo>
                  <a:pt x="918" y="535"/>
                  <a:pt x="920" y="534"/>
                  <a:pt x="921" y="532"/>
                </a:cubicBezTo>
                <a:cubicBezTo>
                  <a:pt x="921" y="532"/>
                  <a:pt x="921" y="532"/>
                  <a:pt x="921" y="532"/>
                </a:cubicBezTo>
                <a:cubicBezTo>
                  <a:pt x="926" y="532"/>
                  <a:pt x="930" y="529"/>
                  <a:pt x="934" y="526"/>
                </a:cubicBezTo>
                <a:cubicBezTo>
                  <a:pt x="939" y="523"/>
                  <a:pt x="943" y="520"/>
                  <a:pt x="948" y="517"/>
                </a:cubicBezTo>
                <a:cubicBezTo>
                  <a:pt x="957" y="510"/>
                  <a:pt x="965" y="503"/>
                  <a:pt x="972" y="495"/>
                </a:cubicBezTo>
                <a:cubicBezTo>
                  <a:pt x="973" y="494"/>
                  <a:pt x="972" y="494"/>
                  <a:pt x="972" y="494"/>
                </a:cubicBezTo>
                <a:cubicBezTo>
                  <a:pt x="964" y="503"/>
                  <a:pt x="955" y="510"/>
                  <a:pt x="945" y="516"/>
                </a:cubicBezTo>
                <a:cubicBezTo>
                  <a:pt x="940" y="519"/>
                  <a:pt x="936" y="522"/>
                  <a:pt x="931" y="524"/>
                </a:cubicBezTo>
                <a:cubicBezTo>
                  <a:pt x="930" y="525"/>
                  <a:pt x="929" y="525"/>
                  <a:pt x="928" y="526"/>
                </a:cubicBezTo>
                <a:cubicBezTo>
                  <a:pt x="928" y="526"/>
                  <a:pt x="928" y="526"/>
                  <a:pt x="928" y="525"/>
                </a:cubicBezTo>
                <a:cubicBezTo>
                  <a:pt x="928" y="525"/>
                  <a:pt x="928" y="525"/>
                  <a:pt x="928" y="525"/>
                </a:cubicBezTo>
                <a:cubicBezTo>
                  <a:pt x="934" y="521"/>
                  <a:pt x="939" y="517"/>
                  <a:pt x="945" y="513"/>
                </a:cubicBezTo>
                <a:cubicBezTo>
                  <a:pt x="950" y="510"/>
                  <a:pt x="953" y="508"/>
                  <a:pt x="957" y="502"/>
                </a:cubicBezTo>
                <a:cubicBezTo>
                  <a:pt x="957" y="502"/>
                  <a:pt x="957" y="502"/>
                  <a:pt x="957" y="502"/>
                </a:cubicBezTo>
                <a:cubicBezTo>
                  <a:pt x="960" y="499"/>
                  <a:pt x="963" y="496"/>
                  <a:pt x="965" y="494"/>
                </a:cubicBezTo>
                <a:cubicBezTo>
                  <a:pt x="974" y="485"/>
                  <a:pt x="983" y="476"/>
                  <a:pt x="994" y="469"/>
                </a:cubicBezTo>
                <a:cubicBezTo>
                  <a:pt x="994" y="469"/>
                  <a:pt x="994" y="468"/>
                  <a:pt x="993" y="469"/>
                </a:cubicBezTo>
                <a:cubicBezTo>
                  <a:pt x="983" y="474"/>
                  <a:pt x="975" y="483"/>
                  <a:pt x="966" y="491"/>
                </a:cubicBezTo>
                <a:cubicBezTo>
                  <a:pt x="964" y="492"/>
                  <a:pt x="962" y="494"/>
                  <a:pt x="960" y="496"/>
                </a:cubicBezTo>
                <a:cubicBezTo>
                  <a:pt x="957" y="497"/>
                  <a:pt x="954" y="499"/>
                  <a:pt x="951" y="501"/>
                </a:cubicBezTo>
                <a:cubicBezTo>
                  <a:pt x="953" y="499"/>
                  <a:pt x="955" y="497"/>
                  <a:pt x="957" y="495"/>
                </a:cubicBezTo>
                <a:cubicBezTo>
                  <a:pt x="964" y="488"/>
                  <a:pt x="972" y="481"/>
                  <a:pt x="979" y="475"/>
                </a:cubicBezTo>
                <a:cubicBezTo>
                  <a:pt x="982" y="471"/>
                  <a:pt x="986" y="468"/>
                  <a:pt x="989" y="465"/>
                </a:cubicBezTo>
                <a:cubicBezTo>
                  <a:pt x="993" y="461"/>
                  <a:pt x="997" y="459"/>
                  <a:pt x="1001" y="457"/>
                </a:cubicBezTo>
                <a:cubicBezTo>
                  <a:pt x="1006" y="453"/>
                  <a:pt x="1012" y="448"/>
                  <a:pt x="1019" y="447"/>
                </a:cubicBezTo>
                <a:cubicBezTo>
                  <a:pt x="1019" y="447"/>
                  <a:pt x="1019" y="446"/>
                  <a:pt x="1019" y="446"/>
                </a:cubicBezTo>
                <a:cubicBezTo>
                  <a:pt x="1013" y="446"/>
                  <a:pt x="1008" y="449"/>
                  <a:pt x="1003" y="453"/>
                </a:cubicBezTo>
                <a:cubicBezTo>
                  <a:pt x="997" y="458"/>
                  <a:pt x="990" y="462"/>
                  <a:pt x="984" y="468"/>
                </a:cubicBezTo>
                <a:cubicBezTo>
                  <a:pt x="975" y="474"/>
                  <a:pt x="967" y="481"/>
                  <a:pt x="959" y="489"/>
                </a:cubicBezTo>
                <a:cubicBezTo>
                  <a:pt x="955" y="492"/>
                  <a:pt x="951" y="497"/>
                  <a:pt x="947" y="501"/>
                </a:cubicBezTo>
                <a:cubicBezTo>
                  <a:pt x="955" y="492"/>
                  <a:pt x="964" y="484"/>
                  <a:pt x="972" y="476"/>
                </a:cubicBezTo>
                <a:cubicBezTo>
                  <a:pt x="977" y="471"/>
                  <a:pt x="982" y="465"/>
                  <a:pt x="987" y="462"/>
                </a:cubicBezTo>
                <a:cubicBezTo>
                  <a:pt x="992" y="459"/>
                  <a:pt x="996" y="457"/>
                  <a:pt x="1000" y="452"/>
                </a:cubicBezTo>
                <a:cubicBezTo>
                  <a:pt x="1001" y="452"/>
                  <a:pt x="1000" y="451"/>
                  <a:pt x="999" y="451"/>
                </a:cubicBezTo>
                <a:cubicBezTo>
                  <a:pt x="990" y="461"/>
                  <a:pt x="978" y="467"/>
                  <a:pt x="969" y="476"/>
                </a:cubicBezTo>
                <a:cubicBezTo>
                  <a:pt x="962" y="483"/>
                  <a:pt x="954" y="489"/>
                  <a:pt x="948" y="496"/>
                </a:cubicBezTo>
                <a:cubicBezTo>
                  <a:pt x="949" y="494"/>
                  <a:pt x="950" y="492"/>
                  <a:pt x="951" y="490"/>
                </a:cubicBezTo>
                <a:cubicBezTo>
                  <a:pt x="952" y="491"/>
                  <a:pt x="952" y="491"/>
                  <a:pt x="953" y="491"/>
                </a:cubicBezTo>
                <a:cubicBezTo>
                  <a:pt x="958" y="487"/>
                  <a:pt x="962" y="481"/>
                  <a:pt x="966" y="476"/>
                </a:cubicBezTo>
                <a:cubicBezTo>
                  <a:pt x="970" y="471"/>
                  <a:pt x="974" y="467"/>
                  <a:pt x="979" y="463"/>
                </a:cubicBezTo>
                <a:cubicBezTo>
                  <a:pt x="988" y="454"/>
                  <a:pt x="999" y="447"/>
                  <a:pt x="1008" y="439"/>
                </a:cubicBezTo>
                <a:cubicBezTo>
                  <a:pt x="1009" y="439"/>
                  <a:pt x="1008" y="439"/>
                  <a:pt x="1008" y="439"/>
                </a:cubicBezTo>
                <a:cubicBezTo>
                  <a:pt x="996" y="444"/>
                  <a:pt x="987" y="453"/>
                  <a:pt x="977" y="461"/>
                </a:cubicBezTo>
                <a:cubicBezTo>
                  <a:pt x="972" y="466"/>
                  <a:pt x="968" y="471"/>
                  <a:pt x="963" y="475"/>
                </a:cubicBezTo>
                <a:cubicBezTo>
                  <a:pt x="961" y="478"/>
                  <a:pt x="959" y="480"/>
                  <a:pt x="957" y="482"/>
                </a:cubicBezTo>
                <a:cubicBezTo>
                  <a:pt x="965" y="470"/>
                  <a:pt x="972" y="457"/>
                  <a:pt x="976" y="443"/>
                </a:cubicBezTo>
                <a:cubicBezTo>
                  <a:pt x="977" y="441"/>
                  <a:pt x="977" y="439"/>
                  <a:pt x="978" y="438"/>
                </a:cubicBezTo>
                <a:cubicBezTo>
                  <a:pt x="978" y="438"/>
                  <a:pt x="979" y="437"/>
                  <a:pt x="979" y="437"/>
                </a:cubicBezTo>
                <a:cubicBezTo>
                  <a:pt x="990" y="431"/>
                  <a:pt x="1004" y="428"/>
                  <a:pt x="1016" y="424"/>
                </a:cubicBezTo>
                <a:close/>
                <a:moveTo>
                  <a:pt x="893" y="481"/>
                </a:moveTo>
                <a:cubicBezTo>
                  <a:pt x="893" y="481"/>
                  <a:pt x="893" y="481"/>
                  <a:pt x="893" y="481"/>
                </a:cubicBezTo>
                <a:cubicBezTo>
                  <a:pt x="893" y="481"/>
                  <a:pt x="893" y="481"/>
                  <a:pt x="894" y="481"/>
                </a:cubicBezTo>
                <a:cubicBezTo>
                  <a:pt x="895" y="480"/>
                  <a:pt x="894" y="478"/>
                  <a:pt x="894" y="477"/>
                </a:cubicBezTo>
                <a:cubicBezTo>
                  <a:pt x="895" y="474"/>
                  <a:pt x="895" y="471"/>
                  <a:pt x="896" y="469"/>
                </a:cubicBezTo>
                <a:cubicBezTo>
                  <a:pt x="896" y="466"/>
                  <a:pt x="896" y="462"/>
                  <a:pt x="895" y="459"/>
                </a:cubicBezTo>
                <a:cubicBezTo>
                  <a:pt x="895" y="456"/>
                  <a:pt x="896" y="452"/>
                  <a:pt x="895" y="448"/>
                </a:cubicBezTo>
                <a:cubicBezTo>
                  <a:pt x="895" y="448"/>
                  <a:pt x="894" y="448"/>
                  <a:pt x="894" y="448"/>
                </a:cubicBezTo>
                <a:cubicBezTo>
                  <a:pt x="893" y="452"/>
                  <a:pt x="894" y="455"/>
                  <a:pt x="894" y="459"/>
                </a:cubicBezTo>
                <a:cubicBezTo>
                  <a:pt x="894" y="462"/>
                  <a:pt x="893" y="466"/>
                  <a:pt x="894" y="469"/>
                </a:cubicBezTo>
                <a:cubicBezTo>
                  <a:pt x="894" y="471"/>
                  <a:pt x="893" y="474"/>
                  <a:pt x="892" y="477"/>
                </a:cubicBezTo>
                <a:cubicBezTo>
                  <a:pt x="892" y="476"/>
                  <a:pt x="892" y="475"/>
                  <a:pt x="892" y="475"/>
                </a:cubicBezTo>
                <a:cubicBezTo>
                  <a:pt x="890" y="465"/>
                  <a:pt x="889" y="455"/>
                  <a:pt x="885" y="446"/>
                </a:cubicBezTo>
                <a:cubicBezTo>
                  <a:pt x="883" y="441"/>
                  <a:pt x="880" y="437"/>
                  <a:pt x="877" y="432"/>
                </a:cubicBezTo>
                <a:cubicBezTo>
                  <a:pt x="877" y="428"/>
                  <a:pt x="875" y="424"/>
                  <a:pt x="874" y="420"/>
                </a:cubicBezTo>
                <a:cubicBezTo>
                  <a:pt x="873" y="414"/>
                  <a:pt x="872" y="408"/>
                  <a:pt x="873" y="403"/>
                </a:cubicBezTo>
                <a:cubicBezTo>
                  <a:pt x="873" y="402"/>
                  <a:pt x="871" y="401"/>
                  <a:pt x="871" y="402"/>
                </a:cubicBezTo>
                <a:cubicBezTo>
                  <a:pt x="871" y="408"/>
                  <a:pt x="871" y="413"/>
                  <a:pt x="872" y="419"/>
                </a:cubicBezTo>
                <a:cubicBezTo>
                  <a:pt x="872" y="422"/>
                  <a:pt x="873" y="425"/>
                  <a:pt x="874" y="427"/>
                </a:cubicBezTo>
                <a:cubicBezTo>
                  <a:pt x="870" y="422"/>
                  <a:pt x="865" y="417"/>
                  <a:pt x="859" y="412"/>
                </a:cubicBezTo>
                <a:cubicBezTo>
                  <a:pt x="859" y="408"/>
                  <a:pt x="858" y="405"/>
                  <a:pt x="857" y="402"/>
                </a:cubicBezTo>
                <a:cubicBezTo>
                  <a:pt x="856" y="397"/>
                  <a:pt x="856" y="390"/>
                  <a:pt x="857" y="385"/>
                </a:cubicBezTo>
                <a:cubicBezTo>
                  <a:pt x="857" y="384"/>
                  <a:pt x="855" y="383"/>
                  <a:pt x="855" y="385"/>
                </a:cubicBezTo>
                <a:cubicBezTo>
                  <a:pt x="855" y="391"/>
                  <a:pt x="855" y="396"/>
                  <a:pt x="856" y="402"/>
                </a:cubicBezTo>
                <a:cubicBezTo>
                  <a:pt x="856" y="404"/>
                  <a:pt x="856" y="407"/>
                  <a:pt x="857" y="410"/>
                </a:cubicBezTo>
                <a:cubicBezTo>
                  <a:pt x="855" y="408"/>
                  <a:pt x="853" y="407"/>
                  <a:pt x="851" y="405"/>
                </a:cubicBezTo>
                <a:cubicBezTo>
                  <a:pt x="851" y="404"/>
                  <a:pt x="851" y="403"/>
                  <a:pt x="851" y="402"/>
                </a:cubicBezTo>
                <a:cubicBezTo>
                  <a:pt x="851" y="401"/>
                  <a:pt x="850" y="400"/>
                  <a:pt x="850" y="399"/>
                </a:cubicBezTo>
                <a:cubicBezTo>
                  <a:pt x="850" y="398"/>
                  <a:pt x="848" y="398"/>
                  <a:pt x="848" y="399"/>
                </a:cubicBezTo>
                <a:cubicBezTo>
                  <a:pt x="848" y="400"/>
                  <a:pt x="848" y="402"/>
                  <a:pt x="849" y="403"/>
                </a:cubicBezTo>
                <a:cubicBezTo>
                  <a:pt x="849" y="403"/>
                  <a:pt x="849" y="403"/>
                  <a:pt x="849" y="404"/>
                </a:cubicBezTo>
                <a:cubicBezTo>
                  <a:pt x="841" y="399"/>
                  <a:pt x="833" y="396"/>
                  <a:pt x="824" y="394"/>
                </a:cubicBezTo>
                <a:cubicBezTo>
                  <a:pt x="821" y="394"/>
                  <a:pt x="816" y="391"/>
                  <a:pt x="812" y="391"/>
                </a:cubicBezTo>
                <a:cubicBezTo>
                  <a:pt x="813" y="390"/>
                  <a:pt x="814" y="390"/>
                  <a:pt x="815" y="389"/>
                </a:cubicBezTo>
                <a:cubicBezTo>
                  <a:pt x="820" y="385"/>
                  <a:pt x="824" y="382"/>
                  <a:pt x="828" y="378"/>
                </a:cubicBezTo>
                <a:cubicBezTo>
                  <a:pt x="836" y="372"/>
                  <a:pt x="851" y="362"/>
                  <a:pt x="854" y="350"/>
                </a:cubicBezTo>
                <a:cubicBezTo>
                  <a:pt x="854" y="350"/>
                  <a:pt x="855" y="350"/>
                  <a:pt x="855" y="349"/>
                </a:cubicBezTo>
                <a:cubicBezTo>
                  <a:pt x="855" y="335"/>
                  <a:pt x="848" y="321"/>
                  <a:pt x="838" y="310"/>
                </a:cubicBezTo>
                <a:cubicBezTo>
                  <a:pt x="838" y="310"/>
                  <a:pt x="838" y="309"/>
                  <a:pt x="838" y="309"/>
                </a:cubicBezTo>
                <a:cubicBezTo>
                  <a:pt x="839" y="309"/>
                  <a:pt x="839" y="308"/>
                  <a:pt x="839" y="308"/>
                </a:cubicBezTo>
                <a:cubicBezTo>
                  <a:pt x="840" y="305"/>
                  <a:pt x="845" y="302"/>
                  <a:pt x="847" y="300"/>
                </a:cubicBezTo>
                <a:cubicBezTo>
                  <a:pt x="851" y="295"/>
                  <a:pt x="856" y="290"/>
                  <a:pt x="860" y="285"/>
                </a:cubicBezTo>
                <a:cubicBezTo>
                  <a:pt x="864" y="280"/>
                  <a:pt x="868" y="274"/>
                  <a:pt x="874" y="272"/>
                </a:cubicBezTo>
                <a:cubicBezTo>
                  <a:pt x="879" y="270"/>
                  <a:pt x="883" y="269"/>
                  <a:pt x="886" y="266"/>
                </a:cubicBezTo>
                <a:cubicBezTo>
                  <a:pt x="899" y="257"/>
                  <a:pt x="911" y="251"/>
                  <a:pt x="927" y="252"/>
                </a:cubicBezTo>
                <a:cubicBezTo>
                  <a:pt x="945" y="254"/>
                  <a:pt x="957" y="264"/>
                  <a:pt x="966" y="280"/>
                </a:cubicBezTo>
                <a:cubicBezTo>
                  <a:pt x="980" y="306"/>
                  <a:pt x="988" y="337"/>
                  <a:pt x="988" y="367"/>
                </a:cubicBezTo>
                <a:cubicBezTo>
                  <a:pt x="986" y="382"/>
                  <a:pt x="984" y="397"/>
                  <a:pt x="978" y="411"/>
                </a:cubicBezTo>
                <a:cubicBezTo>
                  <a:pt x="972" y="429"/>
                  <a:pt x="962" y="446"/>
                  <a:pt x="953" y="463"/>
                </a:cubicBezTo>
                <a:cubicBezTo>
                  <a:pt x="945" y="478"/>
                  <a:pt x="935" y="492"/>
                  <a:pt x="924" y="505"/>
                </a:cubicBezTo>
                <a:cubicBezTo>
                  <a:pt x="926" y="501"/>
                  <a:pt x="929" y="496"/>
                  <a:pt x="931" y="492"/>
                </a:cubicBezTo>
                <a:cubicBezTo>
                  <a:pt x="933" y="487"/>
                  <a:pt x="935" y="482"/>
                  <a:pt x="938" y="478"/>
                </a:cubicBezTo>
                <a:cubicBezTo>
                  <a:pt x="939" y="478"/>
                  <a:pt x="938" y="477"/>
                  <a:pt x="938" y="477"/>
                </a:cubicBezTo>
                <a:cubicBezTo>
                  <a:pt x="933" y="480"/>
                  <a:pt x="932" y="486"/>
                  <a:pt x="929" y="491"/>
                </a:cubicBezTo>
                <a:cubicBezTo>
                  <a:pt x="926" y="497"/>
                  <a:pt x="921" y="503"/>
                  <a:pt x="920" y="510"/>
                </a:cubicBezTo>
                <a:cubicBezTo>
                  <a:pt x="920" y="510"/>
                  <a:pt x="919" y="510"/>
                  <a:pt x="919" y="511"/>
                </a:cubicBezTo>
                <a:cubicBezTo>
                  <a:pt x="913" y="517"/>
                  <a:pt x="907" y="524"/>
                  <a:pt x="901" y="530"/>
                </a:cubicBezTo>
                <a:cubicBezTo>
                  <a:pt x="901" y="529"/>
                  <a:pt x="902" y="527"/>
                  <a:pt x="902" y="526"/>
                </a:cubicBezTo>
                <a:cubicBezTo>
                  <a:pt x="904" y="522"/>
                  <a:pt x="907" y="517"/>
                  <a:pt x="909" y="513"/>
                </a:cubicBezTo>
                <a:cubicBezTo>
                  <a:pt x="910" y="513"/>
                  <a:pt x="909" y="513"/>
                  <a:pt x="909" y="513"/>
                </a:cubicBezTo>
                <a:cubicBezTo>
                  <a:pt x="908" y="514"/>
                  <a:pt x="906" y="516"/>
                  <a:pt x="905" y="517"/>
                </a:cubicBezTo>
                <a:cubicBezTo>
                  <a:pt x="906" y="517"/>
                  <a:pt x="906" y="516"/>
                  <a:pt x="906" y="516"/>
                </a:cubicBezTo>
                <a:cubicBezTo>
                  <a:pt x="909" y="507"/>
                  <a:pt x="912" y="498"/>
                  <a:pt x="913" y="488"/>
                </a:cubicBezTo>
                <a:cubicBezTo>
                  <a:pt x="913" y="488"/>
                  <a:pt x="912" y="488"/>
                  <a:pt x="912" y="488"/>
                </a:cubicBezTo>
                <a:cubicBezTo>
                  <a:pt x="909" y="497"/>
                  <a:pt x="908" y="506"/>
                  <a:pt x="904" y="515"/>
                </a:cubicBezTo>
                <a:cubicBezTo>
                  <a:pt x="901" y="522"/>
                  <a:pt x="898" y="529"/>
                  <a:pt x="894" y="535"/>
                </a:cubicBezTo>
                <a:cubicBezTo>
                  <a:pt x="894" y="535"/>
                  <a:pt x="894" y="535"/>
                  <a:pt x="894" y="535"/>
                </a:cubicBezTo>
                <a:cubicBezTo>
                  <a:pt x="893" y="537"/>
                  <a:pt x="891" y="538"/>
                  <a:pt x="890" y="540"/>
                </a:cubicBezTo>
                <a:cubicBezTo>
                  <a:pt x="890" y="538"/>
                  <a:pt x="890" y="537"/>
                  <a:pt x="890" y="535"/>
                </a:cubicBezTo>
                <a:cubicBezTo>
                  <a:pt x="891" y="526"/>
                  <a:pt x="894" y="516"/>
                  <a:pt x="894" y="507"/>
                </a:cubicBezTo>
                <a:cubicBezTo>
                  <a:pt x="894" y="498"/>
                  <a:pt x="894" y="490"/>
                  <a:pt x="893" y="481"/>
                </a:cubicBezTo>
                <a:close/>
                <a:moveTo>
                  <a:pt x="713" y="477"/>
                </a:moveTo>
                <a:cubicBezTo>
                  <a:pt x="712" y="474"/>
                  <a:pt x="712" y="471"/>
                  <a:pt x="711" y="468"/>
                </a:cubicBezTo>
                <a:cubicBezTo>
                  <a:pt x="710" y="459"/>
                  <a:pt x="714" y="450"/>
                  <a:pt x="715" y="441"/>
                </a:cubicBezTo>
                <a:cubicBezTo>
                  <a:pt x="716" y="435"/>
                  <a:pt x="717" y="429"/>
                  <a:pt x="721" y="424"/>
                </a:cubicBezTo>
                <a:cubicBezTo>
                  <a:pt x="724" y="421"/>
                  <a:pt x="728" y="418"/>
                  <a:pt x="731" y="416"/>
                </a:cubicBezTo>
                <a:cubicBezTo>
                  <a:pt x="735" y="415"/>
                  <a:pt x="739" y="414"/>
                  <a:pt x="742" y="414"/>
                </a:cubicBezTo>
                <a:cubicBezTo>
                  <a:pt x="740" y="414"/>
                  <a:pt x="738" y="415"/>
                  <a:pt x="737" y="416"/>
                </a:cubicBezTo>
                <a:cubicBezTo>
                  <a:pt x="733" y="418"/>
                  <a:pt x="729" y="421"/>
                  <a:pt x="726" y="424"/>
                </a:cubicBezTo>
                <a:cubicBezTo>
                  <a:pt x="720" y="433"/>
                  <a:pt x="716" y="443"/>
                  <a:pt x="714" y="454"/>
                </a:cubicBezTo>
                <a:cubicBezTo>
                  <a:pt x="713" y="461"/>
                  <a:pt x="712" y="469"/>
                  <a:pt x="713" y="477"/>
                </a:cubicBezTo>
                <a:close/>
                <a:moveTo>
                  <a:pt x="712" y="421"/>
                </a:moveTo>
                <a:cubicBezTo>
                  <a:pt x="712" y="420"/>
                  <a:pt x="711" y="418"/>
                  <a:pt x="709" y="416"/>
                </a:cubicBezTo>
                <a:cubicBezTo>
                  <a:pt x="712" y="417"/>
                  <a:pt x="715" y="417"/>
                  <a:pt x="717" y="417"/>
                </a:cubicBezTo>
                <a:cubicBezTo>
                  <a:pt x="720" y="417"/>
                  <a:pt x="723" y="417"/>
                  <a:pt x="726" y="416"/>
                </a:cubicBezTo>
                <a:cubicBezTo>
                  <a:pt x="721" y="419"/>
                  <a:pt x="718" y="423"/>
                  <a:pt x="715" y="428"/>
                </a:cubicBezTo>
                <a:cubicBezTo>
                  <a:pt x="714" y="425"/>
                  <a:pt x="713" y="421"/>
                  <a:pt x="712" y="421"/>
                </a:cubicBezTo>
                <a:close/>
                <a:moveTo>
                  <a:pt x="741" y="410"/>
                </a:moveTo>
                <a:cubicBezTo>
                  <a:pt x="728" y="413"/>
                  <a:pt x="715" y="413"/>
                  <a:pt x="702" y="412"/>
                </a:cubicBezTo>
                <a:cubicBezTo>
                  <a:pt x="695" y="411"/>
                  <a:pt x="689" y="411"/>
                  <a:pt x="682" y="410"/>
                </a:cubicBezTo>
                <a:cubicBezTo>
                  <a:pt x="676" y="409"/>
                  <a:pt x="670" y="409"/>
                  <a:pt x="664" y="407"/>
                </a:cubicBezTo>
                <a:cubicBezTo>
                  <a:pt x="653" y="404"/>
                  <a:pt x="644" y="398"/>
                  <a:pt x="636" y="390"/>
                </a:cubicBezTo>
                <a:cubicBezTo>
                  <a:pt x="632" y="386"/>
                  <a:pt x="626" y="379"/>
                  <a:pt x="620" y="383"/>
                </a:cubicBezTo>
                <a:cubicBezTo>
                  <a:pt x="619" y="383"/>
                  <a:pt x="619" y="384"/>
                  <a:pt x="620" y="384"/>
                </a:cubicBezTo>
                <a:cubicBezTo>
                  <a:pt x="628" y="385"/>
                  <a:pt x="633" y="393"/>
                  <a:pt x="639" y="399"/>
                </a:cubicBezTo>
                <a:cubicBezTo>
                  <a:pt x="638" y="398"/>
                  <a:pt x="637" y="398"/>
                  <a:pt x="635" y="397"/>
                </a:cubicBezTo>
                <a:cubicBezTo>
                  <a:pt x="634" y="396"/>
                  <a:pt x="633" y="396"/>
                  <a:pt x="632" y="396"/>
                </a:cubicBezTo>
                <a:cubicBezTo>
                  <a:pt x="631" y="396"/>
                  <a:pt x="631" y="396"/>
                  <a:pt x="631" y="396"/>
                </a:cubicBezTo>
                <a:cubicBezTo>
                  <a:pt x="630" y="399"/>
                  <a:pt x="636" y="399"/>
                  <a:pt x="637" y="400"/>
                </a:cubicBezTo>
                <a:cubicBezTo>
                  <a:pt x="640" y="402"/>
                  <a:pt x="643" y="404"/>
                  <a:pt x="646" y="406"/>
                </a:cubicBezTo>
                <a:cubicBezTo>
                  <a:pt x="647" y="406"/>
                  <a:pt x="647" y="405"/>
                  <a:pt x="647" y="405"/>
                </a:cubicBezTo>
                <a:cubicBezTo>
                  <a:pt x="647" y="405"/>
                  <a:pt x="647" y="404"/>
                  <a:pt x="646" y="404"/>
                </a:cubicBezTo>
                <a:cubicBezTo>
                  <a:pt x="656" y="409"/>
                  <a:pt x="665" y="412"/>
                  <a:pt x="676" y="413"/>
                </a:cubicBezTo>
                <a:cubicBezTo>
                  <a:pt x="685" y="414"/>
                  <a:pt x="695" y="415"/>
                  <a:pt x="704" y="416"/>
                </a:cubicBezTo>
                <a:cubicBezTo>
                  <a:pt x="705" y="417"/>
                  <a:pt x="706" y="417"/>
                  <a:pt x="707" y="418"/>
                </a:cubicBezTo>
                <a:cubicBezTo>
                  <a:pt x="709" y="420"/>
                  <a:pt x="710" y="422"/>
                  <a:pt x="711" y="424"/>
                </a:cubicBezTo>
                <a:cubicBezTo>
                  <a:pt x="712" y="425"/>
                  <a:pt x="713" y="429"/>
                  <a:pt x="714" y="430"/>
                </a:cubicBezTo>
                <a:cubicBezTo>
                  <a:pt x="714" y="431"/>
                  <a:pt x="713" y="432"/>
                  <a:pt x="713" y="433"/>
                </a:cubicBezTo>
                <a:cubicBezTo>
                  <a:pt x="712" y="439"/>
                  <a:pt x="712" y="444"/>
                  <a:pt x="710" y="450"/>
                </a:cubicBezTo>
                <a:cubicBezTo>
                  <a:pt x="709" y="454"/>
                  <a:pt x="708" y="459"/>
                  <a:pt x="707" y="463"/>
                </a:cubicBezTo>
                <a:cubicBezTo>
                  <a:pt x="702" y="472"/>
                  <a:pt x="691" y="476"/>
                  <a:pt x="683" y="480"/>
                </a:cubicBezTo>
                <a:cubicBezTo>
                  <a:pt x="671" y="485"/>
                  <a:pt x="660" y="489"/>
                  <a:pt x="648" y="494"/>
                </a:cubicBezTo>
                <a:cubicBezTo>
                  <a:pt x="642" y="496"/>
                  <a:pt x="636" y="499"/>
                  <a:pt x="630" y="500"/>
                </a:cubicBezTo>
                <a:cubicBezTo>
                  <a:pt x="624" y="501"/>
                  <a:pt x="619" y="501"/>
                  <a:pt x="613" y="502"/>
                </a:cubicBezTo>
                <a:cubicBezTo>
                  <a:pt x="601" y="503"/>
                  <a:pt x="590" y="500"/>
                  <a:pt x="581" y="493"/>
                </a:cubicBezTo>
                <a:cubicBezTo>
                  <a:pt x="572" y="487"/>
                  <a:pt x="563" y="477"/>
                  <a:pt x="557" y="468"/>
                </a:cubicBezTo>
                <a:cubicBezTo>
                  <a:pt x="550" y="457"/>
                  <a:pt x="547" y="445"/>
                  <a:pt x="543" y="434"/>
                </a:cubicBezTo>
                <a:cubicBezTo>
                  <a:pt x="539" y="423"/>
                  <a:pt x="536" y="412"/>
                  <a:pt x="540" y="401"/>
                </a:cubicBezTo>
                <a:cubicBezTo>
                  <a:pt x="542" y="395"/>
                  <a:pt x="543" y="389"/>
                  <a:pt x="545" y="383"/>
                </a:cubicBezTo>
                <a:cubicBezTo>
                  <a:pt x="547" y="378"/>
                  <a:pt x="550" y="375"/>
                  <a:pt x="553" y="371"/>
                </a:cubicBezTo>
                <a:cubicBezTo>
                  <a:pt x="560" y="366"/>
                  <a:pt x="567" y="360"/>
                  <a:pt x="576" y="360"/>
                </a:cubicBezTo>
                <a:cubicBezTo>
                  <a:pt x="583" y="360"/>
                  <a:pt x="589" y="361"/>
                  <a:pt x="595" y="364"/>
                </a:cubicBezTo>
                <a:cubicBezTo>
                  <a:pt x="598" y="365"/>
                  <a:pt x="601" y="367"/>
                  <a:pt x="604" y="368"/>
                </a:cubicBezTo>
                <a:cubicBezTo>
                  <a:pt x="606" y="369"/>
                  <a:pt x="607" y="370"/>
                  <a:pt x="609" y="370"/>
                </a:cubicBezTo>
                <a:cubicBezTo>
                  <a:pt x="609" y="370"/>
                  <a:pt x="609" y="370"/>
                  <a:pt x="609" y="370"/>
                </a:cubicBezTo>
                <a:cubicBezTo>
                  <a:pt x="608" y="371"/>
                  <a:pt x="607" y="372"/>
                  <a:pt x="607" y="373"/>
                </a:cubicBezTo>
                <a:cubicBezTo>
                  <a:pt x="606" y="375"/>
                  <a:pt x="605" y="378"/>
                  <a:pt x="605" y="380"/>
                </a:cubicBezTo>
                <a:cubicBezTo>
                  <a:pt x="593" y="374"/>
                  <a:pt x="579" y="385"/>
                  <a:pt x="567" y="386"/>
                </a:cubicBezTo>
                <a:cubicBezTo>
                  <a:pt x="566" y="386"/>
                  <a:pt x="566" y="388"/>
                  <a:pt x="567" y="388"/>
                </a:cubicBezTo>
                <a:cubicBezTo>
                  <a:pt x="573" y="387"/>
                  <a:pt x="579" y="384"/>
                  <a:pt x="584" y="383"/>
                </a:cubicBezTo>
                <a:cubicBezTo>
                  <a:pt x="591" y="381"/>
                  <a:pt x="598" y="380"/>
                  <a:pt x="604" y="381"/>
                </a:cubicBezTo>
                <a:cubicBezTo>
                  <a:pt x="605" y="381"/>
                  <a:pt x="605" y="381"/>
                  <a:pt x="605" y="381"/>
                </a:cubicBezTo>
                <a:cubicBezTo>
                  <a:pt x="605" y="381"/>
                  <a:pt x="605" y="382"/>
                  <a:pt x="605" y="383"/>
                </a:cubicBezTo>
                <a:cubicBezTo>
                  <a:pt x="604" y="383"/>
                  <a:pt x="604" y="383"/>
                  <a:pt x="603" y="384"/>
                </a:cubicBezTo>
                <a:cubicBezTo>
                  <a:pt x="602" y="386"/>
                  <a:pt x="601" y="389"/>
                  <a:pt x="601" y="391"/>
                </a:cubicBezTo>
                <a:cubicBezTo>
                  <a:pt x="595" y="392"/>
                  <a:pt x="592" y="397"/>
                  <a:pt x="587" y="400"/>
                </a:cubicBezTo>
                <a:cubicBezTo>
                  <a:pt x="583" y="402"/>
                  <a:pt x="581" y="404"/>
                  <a:pt x="578" y="407"/>
                </a:cubicBezTo>
                <a:cubicBezTo>
                  <a:pt x="576" y="409"/>
                  <a:pt x="574" y="410"/>
                  <a:pt x="571" y="412"/>
                </a:cubicBezTo>
                <a:cubicBezTo>
                  <a:pt x="571" y="412"/>
                  <a:pt x="571" y="412"/>
                  <a:pt x="570" y="412"/>
                </a:cubicBezTo>
                <a:cubicBezTo>
                  <a:pt x="570" y="413"/>
                  <a:pt x="569" y="414"/>
                  <a:pt x="568" y="414"/>
                </a:cubicBezTo>
                <a:cubicBezTo>
                  <a:pt x="567" y="415"/>
                  <a:pt x="569" y="418"/>
                  <a:pt x="571" y="416"/>
                </a:cubicBezTo>
                <a:cubicBezTo>
                  <a:pt x="574" y="413"/>
                  <a:pt x="577" y="410"/>
                  <a:pt x="581" y="407"/>
                </a:cubicBezTo>
                <a:cubicBezTo>
                  <a:pt x="583" y="406"/>
                  <a:pt x="585" y="404"/>
                  <a:pt x="587" y="402"/>
                </a:cubicBezTo>
                <a:cubicBezTo>
                  <a:pt x="590" y="398"/>
                  <a:pt x="596" y="393"/>
                  <a:pt x="601" y="391"/>
                </a:cubicBezTo>
                <a:cubicBezTo>
                  <a:pt x="602" y="392"/>
                  <a:pt x="602" y="392"/>
                  <a:pt x="602" y="393"/>
                </a:cubicBezTo>
                <a:cubicBezTo>
                  <a:pt x="599" y="395"/>
                  <a:pt x="597" y="398"/>
                  <a:pt x="595" y="401"/>
                </a:cubicBezTo>
                <a:cubicBezTo>
                  <a:pt x="595" y="401"/>
                  <a:pt x="595" y="401"/>
                  <a:pt x="596" y="401"/>
                </a:cubicBezTo>
                <a:cubicBezTo>
                  <a:pt x="598" y="399"/>
                  <a:pt x="600" y="396"/>
                  <a:pt x="602" y="394"/>
                </a:cubicBezTo>
                <a:cubicBezTo>
                  <a:pt x="603" y="394"/>
                  <a:pt x="603" y="395"/>
                  <a:pt x="604" y="395"/>
                </a:cubicBezTo>
                <a:cubicBezTo>
                  <a:pt x="602" y="397"/>
                  <a:pt x="601" y="400"/>
                  <a:pt x="600" y="403"/>
                </a:cubicBezTo>
                <a:cubicBezTo>
                  <a:pt x="600" y="403"/>
                  <a:pt x="600" y="403"/>
                  <a:pt x="600" y="403"/>
                </a:cubicBezTo>
                <a:cubicBezTo>
                  <a:pt x="601" y="400"/>
                  <a:pt x="603" y="398"/>
                  <a:pt x="605" y="396"/>
                </a:cubicBezTo>
                <a:cubicBezTo>
                  <a:pt x="606" y="397"/>
                  <a:pt x="608" y="397"/>
                  <a:pt x="610" y="397"/>
                </a:cubicBezTo>
                <a:cubicBezTo>
                  <a:pt x="612" y="397"/>
                  <a:pt x="614" y="397"/>
                  <a:pt x="617" y="397"/>
                </a:cubicBezTo>
                <a:cubicBezTo>
                  <a:pt x="617" y="397"/>
                  <a:pt x="617" y="397"/>
                  <a:pt x="617" y="397"/>
                </a:cubicBezTo>
                <a:cubicBezTo>
                  <a:pt x="617" y="404"/>
                  <a:pt x="621" y="410"/>
                  <a:pt x="625" y="414"/>
                </a:cubicBezTo>
                <a:cubicBezTo>
                  <a:pt x="631" y="421"/>
                  <a:pt x="637" y="428"/>
                  <a:pt x="644" y="433"/>
                </a:cubicBezTo>
                <a:cubicBezTo>
                  <a:pt x="644" y="434"/>
                  <a:pt x="645" y="433"/>
                  <a:pt x="644" y="433"/>
                </a:cubicBezTo>
                <a:cubicBezTo>
                  <a:pt x="638" y="428"/>
                  <a:pt x="633" y="421"/>
                  <a:pt x="628" y="415"/>
                </a:cubicBezTo>
                <a:cubicBezTo>
                  <a:pt x="626" y="412"/>
                  <a:pt x="623" y="410"/>
                  <a:pt x="622" y="407"/>
                </a:cubicBezTo>
                <a:cubicBezTo>
                  <a:pt x="620" y="404"/>
                  <a:pt x="620" y="401"/>
                  <a:pt x="619" y="398"/>
                </a:cubicBezTo>
                <a:cubicBezTo>
                  <a:pt x="619" y="398"/>
                  <a:pt x="619" y="398"/>
                  <a:pt x="619" y="398"/>
                </a:cubicBezTo>
                <a:cubicBezTo>
                  <a:pt x="619" y="398"/>
                  <a:pt x="619" y="397"/>
                  <a:pt x="619" y="397"/>
                </a:cubicBezTo>
                <a:cubicBezTo>
                  <a:pt x="619" y="397"/>
                  <a:pt x="618" y="397"/>
                  <a:pt x="618" y="397"/>
                </a:cubicBezTo>
                <a:cubicBezTo>
                  <a:pt x="619" y="396"/>
                  <a:pt x="620" y="396"/>
                  <a:pt x="622" y="396"/>
                </a:cubicBezTo>
                <a:cubicBezTo>
                  <a:pt x="622" y="398"/>
                  <a:pt x="623" y="400"/>
                  <a:pt x="625" y="401"/>
                </a:cubicBezTo>
                <a:cubicBezTo>
                  <a:pt x="626" y="404"/>
                  <a:pt x="629" y="405"/>
                  <a:pt x="630" y="406"/>
                </a:cubicBezTo>
                <a:cubicBezTo>
                  <a:pt x="630" y="407"/>
                  <a:pt x="631" y="406"/>
                  <a:pt x="631" y="406"/>
                </a:cubicBezTo>
                <a:cubicBezTo>
                  <a:pt x="629" y="405"/>
                  <a:pt x="628" y="403"/>
                  <a:pt x="627" y="401"/>
                </a:cubicBezTo>
                <a:cubicBezTo>
                  <a:pt x="625" y="399"/>
                  <a:pt x="624" y="398"/>
                  <a:pt x="623" y="396"/>
                </a:cubicBezTo>
                <a:cubicBezTo>
                  <a:pt x="624" y="396"/>
                  <a:pt x="625" y="395"/>
                  <a:pt x="625" y="395"/>
                </a:cubicBezTo>
                <a:cubicBezTo>
                  <a:pt x="625" y="396"/>
                  <a:pt x="625" y="396"/>
                  <a:pt x="626" y="397"/>
                </a:cubicBezTo>
                <a:cubicBezTo>
                  <a:pt x="632" y="405"/>
                  <a:pt x="641" y="409"/>
                  <a:pt x="651" y="412"/>
                </a:cubicBezTo>
                <a:cubicBezTo>
                  <a:pt x="651" y="412"/>
                  <a:pt x="651" y="412"/>
                  <a:pt x="651" y="412"/>
                </a:cubicBezTo>
                <a:cubicBezTo>
                  <a:pt x="641" y="409"/>
                  <a:pt x="634" y="402"/>
                  <a:pt x="627" y="395"/>
                </a:cubicBezTo>
                <a:cubicBezTo>
                  <a:pt x="627" y="395"/>
                  <a:pt x="627" y="395"/>
                  <a:pt x="627" y="395"/>
                </a:cubicBezTo>
                <a:cubicBezTo>
                  <a:pt x="628" y="394"/>
                  <a:pt x="629" y="394"/>
                  <a:pt x="630" y="394"/>
                </a:cubicBezTo>
                <a:cubicBezTo>
                  <a:pt x="631" y="393"/>
                  <a:pt x="631" y="392"/>
                  <a:pt x="630" y="392"/>
                </a:cubicBezTo>
                <a:cubicBezTo>
                  <a:pt x="626" y="392"/>
                  <a:pt x="622" y="392"/>
                  <a:pt x="619" y="393"/>
                </a:cubicBezTo>
                <a:cubicBezTo>
                  <a:pt x="615" y="393"/>
                  <a:pt x="612" y="393"/>
                  <a:pt x="610" y="390"/>
                </a:cubicBezTo>
                <a:cubicBezTo>
                  <a:pt x="608" y="387"/>
                  <a:pt x="607" y="383"/>
                  <a:pt x="608" y="380"/>
                </a:cubicBezTo>
                <a:cubicBezTo>
                  <a:pt x="610" y="372"/>
                  <a:pt x="619" y="365"/>
                  <a:pt x="627" y="371"/>
                </a:cubicBezTo>
                <a:cubicBezTo>
                  <a:pt x="631" y="374"/>
                  <a:pt x="634" y="378"/>
                  <a:pt x="639" y="380"/>
                </a:cubicBezTo>
                <a:cubicBezTo>
                  <a:pt x="643" y="382"/>
                  <a:pt x="648" y="382"/>
                  <a:pt x="652" y="383"/>
                </a:cubicBezTo>
                <a:cubicBezTo>
                  <a:pt x="665" y="384"/>
                  <a:pt x="677" y="388"/>
                  <a:pt x="689" y="392"/>
                </a:cubicBezTo>
                <a:cubicBezTo>
                  <a:pt x="700" y="394"/>
                  <a:pt x="711" y="398"/>
                  <a:pt x="722" y="400"/>
                </a:cubicBezTo>
                <a:cubicBezTo>
                  <a:pt x="731" y="401"/>
                  <a:pt x="741" y="399"/>
                  <a:pt x="750" y="398"/>
                </a:cubicBezTo>
                <a:cubicBezTo>
                  <a:pt x="758" y="397"/>
                  <a:pt x="766" y="395"/>
                  <a:pt x="774" y="394"/>
                </a:cubicBezTo>
                <a:cubicBezTo>
                  <a:pt x="778" y="393"/>
                  <a:pt x="785" y="392"/>
                  <a:pt x="787" y="388"/>
                </a:cubicBezTo>
                <a:cubicBezTo>
                  <a:pt x="787" y="387"/>
                  <a:pt x="786" y="386"/>
                  <a:pt x="786" y="387"/>
                </a:cubicBezTo>
                <a:cubicBezTo>
                  <a:pt x="784" y="390"/>
                  <a:pt x="778" y="390"/>
                  <a:pt x="775" y="391"/>
                </a:cubicBezTo>
                <a:cubicBezTo>
                  <a:pt x="771" y="392"/>
                  <a:pt x="767" y="392"/>
                  <a:pt x="764" y="393"/>
                </a:cubicBezTo>
                <a:cubicBezTo>
                  <a:pt x="758" y="394"/>
                  <a:pt x="752" y="395"/>
                  <a:pt x="746" y="395"/>
                </a:cubicBezTo>
                <a:cubicBezTo>
                  <a:pt x="740" y="396"/>
                  <a:pt x="733" y="397"/>
                  <a:pt x="727" y="396"/>
                </a:cubicBezTo>
                <a:cubicBezTo>
                  <a:pt x="720" y="396"/>
                  <a:pt x="712" y="394"/>
                  <a:pt x="705" y="392"/>
                </a:cubicBezTo>
                <a:cubicBezTo>
                  <a:pt x="709" y="392"/>
                  <a:pt x="712" y="391"/>
                  <a:pt x="715" y="390"/>
                </a:cubicBezTo>
                <a:cubicBezTo>
                  <a:pt x="723" y="388"/>
                  <a:pt x="731" y="387"/>
                  <a:pt x="740" y="387"/>
                </a:cubicBezTo>
                <a:cubicBezTo>
                  <a:pt x="740" y="387"/>
                  <a:pt x="740" y="386"/>
                  <a:pt x="740" y="386"/>
                </a:cubicBezTo>
                <a:cubicBezTo>
                  <a:pt x="733" y="385"/>
                  <a:pt x="727" y="386"/>
                  <a:pt x="721" y="388"/>
                </a:cubicBezTo>
                <a:cubicBezTo>
                  <a:pt x="717" y="389"/>
                  <a:pt x="712" y="390"/>
                  <a:pt x="707" y="390"/>
                </a:cubicBezTo>
                <a:cubicBezTo>
                  <a:pt x="704" y="390"/>
                  <a:pt x="700" y="389"/>
                  <a:pt x="697" y="390"/>
                </a:cubicBezTo>
                <a:cubicBezTo>
                  <a:pt x="694" y="389"/>
                  <a:pt x="691" y="388"/>
                  <a:pt x="688" y="387"/>
                </a:cubicBezTo>
                <a:cubicBezTo>
                  <a:pt x="688" y="387"/>
                  <a:pt x="688" y="387"/>
                  <a:pt x="688" y="387"/>
                </a:cubicBezTo>
                <a:cubicBezTo>
                  <a:pt x="690" y="387"/>
                  <a:pt x="693" y="386"/>
                  <a:pt x="695" y="386"/>
                </a:cubicBezTo>
                <a:cubicBezTo>
                  <a:pt x="706" y="385"/>
                  <a:pt x="716" y="383"/>
                  <a:pt x="726" y="381"/>
                </a:cubicBezTo>
                <a:cubicBezTo>
                  <a:pt x="727" y="381"/>
                  <a:pt x="727" y="380"/>
                  <a:pt x="726" y="380"/>
                </a:cubicBezTo>
                <a:cubicBezTo>
                  <a:pt x="717" y="382"/>
                  <a:pt x="708" y="384"/>
                  <a:pt x="698" y="384"/>
                </a:cubicBezTo>
                <a:cubicBezTo>
                  <a:pt x="694" y="384"/>
                  <a:pt x="690" y="385"/>
                  <a:pt x="686" y="385"/>
                </a:cubicBezTo>
                <a:cubicBezTo>
                  <a:pt x="683" y="385"/>
                  <a:pt x="680" y="384"/>
                  <a:pt x="678" y="383"/>
                </a:cubicBezTo>
                <a:cubicBezTo>
                  <a:pt x="678" y="383"/>
                  <a:pt x="679" y="383"/>
                  <a:pt x="680" y="383"/>
                </a:cubicBezTo>
                <a:cubicBezTo>
                  <a:pt x="687" y="382"/>
                  <a:pt x="694" y="380"/>
                  <a:pt x="701" y="378"/>
                </a:cubicBezTo>
                <a:cubicBezTo>
                  <a:pt x="717" y="375"/>
                  <a:pt x="732" y="370"/>
                  <a:pt x="748" y="367"/>
                </a:cubicBezTo>
                <a:cubicBezTo>
                  <a:pt x="749" y="366"/>
                  <a:pt x="748" y="366"/>
                  <a:pt x="748" y="366"/>
                </a:cubicBezTo>
                <a:cubicBezTo>
                  <a:pt x="740" y="366"/>
                  <a:pt x="734" y="369"/>
                  <a:pt x="726" y="371"/>
                </a:cubicBezTo>
                <a:cubicBezTo>
                  <a:pt x="718" y="372"/>
                  <a:pt x="711" y="375"/>
                  <a:pt x="703" y="376"/>
                </a:cubicBezTo>
                <a:cubicBezTo>
                  <a:pt x="695" y="377"/>
                  <a:pt x="688" y="379"/>
                  <a:pt x="681" y="380"/>
                </a:cubicBezTo>
                <a:cubicBezTo>
                  <a:pt x="675" y="381"/>
                  <a:pt x="669" y="380"/>
                  <a:pt x="664" y="379"/>
                </a:cubicBezTo>
                <a:cubicBezTo>
                  <a:pt x="667" y="378"/>
                  <a:pt x="670" y="378"/>
                  <a:pt x="673" y="377"/>
                </a:cubicBezTo>
                <a:cubicBezTo>
                  <a:pt x="678" y="376"/>
                  <a:pt x="684" y="377"/>
                  <a:pt x="689" y="375"/>
                </a:cubicBezTo>
                <a:cubicBezTo>
                  <a:pt x="694" y="374"/>
                  <a:pt x="699" y="372"/>
                  <a:pt x="704" y="371"/>
                </a:cubicBezTo>
                <a:cubicBezTo>
                  <a:pt x="705" y="371"/>
                  <a:pt x="704" y="370"/>
                  <a:pt x="704" y="370"/>
                </a:cubicBezTo>
                <a:cubicBezTo>
                  <a:pt x="694" y="372"/>
                  <a:pt x="684" y="374"/>
                  <a:pt x="674" y="375"/>
                </a:cubicBezTo>
                <a:cubicBezTo>
                  <a:pt x="675" y="375"/>
                  <a:pt x="676" y="374"/>
                  <a:pt x="677" y="374"/>
                </a:cubicBezTo>
                <a:cubicBezTo>
                  <a:pt x="687" y="369"/>
                  <a:pt x="698" y="363"/>
                  <a:pt x="709" y="359"/>
                </a:cubicBezTo>
                <a:cubicBezTo>
                  <a:pt x="710" y="359"/>
                  <a:pt x="710" y="359"/>
                  <a:pt x="709" y="359"/>
                </a:cubicBezTo>
                <a:cubicBezTo>
                  <a:pt x="690" y="363"/>
                  <a:pt x="674" y="378"/>
                  <a:pt x="654" y="376"/>
                </a:cubicBezTo>
                <a:cubicBezTo>
                  <a:pt x="654" y="376"/>
                  <a:pt x="654" y="377"/>
                  <a:pt x="653" y="377"/>
                </a:cubicBezTo>
                <a:cubicBezTo>
                  <a:pt x="652" y="377"/>
                  <a:pt x="651" y="377"/>
                  <a:pt x="650" y="377"/>
                </a:cubicBezTo>
                <a:cubicBezTo>
                  <a:pt x="657" y="376"/>
                  <a:pt x="664" y="374"/>
                  <a:pt x="670" y="371"/>
                </a:cubicBezTo>
                <a:cubicBezTo>
                  <a:pt x="680" y="368"/>
                  <a:pt x="689" y="364"/>
                  <a:pt x="698" y="360"/>
                </a:cubicBezTo>
                <a:cubicBezTo>
                  <a:pt x="718" y="351"/>
                  <a:pt x="738" y="342"/>
                  <a:pt x="760" y="338"/>
                </a:cubicBezTo>
                <a:cubicBezTo>
                  <a:pt x="761" y="337"/>
                  <a:pt x="760" y="336"/>
                  <a:pt x="760" y="336"/>
                </a:cubicBezTo>
                <a:cubicBezTo>
                  <a:pt x="739" y="340"/>
                  <a:pt x="720" y="349"/>
                  <a:pt x="701" y="357"/>
                </a:cubicBezTo>
                <a:cubicBezTo>
                  <a:pt x="691" y="361"/>
                  <a:pt x="681" y="365"/>
                  <a:pt x="671" y="369"/>
                </a:cubicBezTo>
                <a:cubicBezTo>
                  <a:pt x="663" y="371"/>
                  <a:pt x="655" y="373"/>
                  <a:pt x="647" y="375"/>
                </a:cubicBezTo>
                <a:cubicBezTo>
                  <a:pt x="647" y="374"/>
                  <a:pt x="647" y="374"/>
                  <a:pt x="647" y="374"/>
                </a:cubicBezTo>
                <a:cubicBezTo>
                  <a:pt x="654" y="373"/>
                  <a:pt x="661" y="370"/>
                  <a:pt x="667" y="367"/>
                </a:cubicBezTo>
                <a:cubicBezTo>
                  <a:pt x="680" y="362"/>
                  <a:pt x="691" y="352"/>
                  <a:pt x="705" y="349"/>
                </a:cubicBezTo>
                <a:cubicBezTo>
                  <a:pt x="705" y="349"/>
                  <a:pt x="705" y="349"/>
                  <a:pt x="705" y="349"/>
                </a:cubicBezTo>
                <a:cubicBezTo>
                  <a:pt x="698" y="350"/>
                  <a:pt x="693" y="352"/>
                  <a:pt x="687" y="356"/>
                </a:cubicBezTo>
                <a:cubicBezTo>
                  <a:pt x="679" y="360"/>
                  <a:pt x="671" y="364"/>
                  <a:pt x="663" y="367"/>
                </a:cubicBezTo>
                <a:cubicBezTo>
                  <a:pt x="661" y="368"/>
                  <a:pt x="658" y="369"/>
                  <a:pt x="656" y="369"/>
                </a:cubicBezTo>
                <a:cubicBezTo>
                  <a:pt x="658" y="368"/>
                  <a:pt x="661" y="366"/>
                  <a:pt x="663" y="365"/>
                </a:cubicBezTo>
                <a:cubicBezTo>
                  <a:pt x="663" y="365"/>
                  <a:pt x="663" y="365"/>
                  <a:pt x="663" y="365"/>
                </a:cubicBezTo>
                <a:cubicBezTo>
                  <a:pt x="660" y="366"/>
                  <a:pt x="657" y="366"/>
                  <a:pt x="654" y="367"/>
                </a:cubicBezTo>
                <a:cubicBezTo>
                  <a:pt x="651" y="369"/>
                  <a:pt x="648" y="370"/>
                  <a:pt x="644" y="371"/>
                </a:cubicBezTo>
                <a:cubicBezTo>
                  <a:pt x="644" y="371"/>
                  <a:pt x="644" y="371"/>
                  <a:pt x="643" y="371"/>
                </a:cubicBezTo>
                <a:cubicBezTo>
                  <a:pt x="647" y="369"/>
                  <a:pt x="650" y="367"/>
                  <a:pt x="654" y="365"/>
                </a:cubicBezTo>
                <a:cubicBezTo>
                  <a:pt x="659" y="362"/>
                  <a:pt x="664" y="359"/>
                  <a:pt x="668" y="355"/>
                </a:cubicBezTo>
                <a:cubicBezTo>
                  <a:pt x="677" y="349"/>
                  <a:pt x="687" y="343"/>
                  <a:pt x="697" y="338"/>
                </a:cubicBezTo>
                <a:cubicBezTo>
                  <a:pt x="698" y="338"/>
                  <a:pt x="697" y="337"/>
                  <a:pt x="696" y="337"/>
                </a:cubicBezTo>
                <a:cubicBezTo>
                  <a:pt x="686" y="342"/>
                  <a:pt x="675" y="347"/>
                  <a:pt x="665" y="354"/>
                </a:cubicBezTo>
                <a:cubicBezTo>
                  <a:pt x="660" y="358"/>
                  <a:pt x="655" y="361"/>
                  <a:pt x="649" y="364"/>
                </a:cubicBezTo>
                <a:cubicBezTo>
                  <a:pt x="648" y="365"/>
                  <a:pt x="647" y="366"/>
                  <a:pt x="646" y="366"/>
                </a:cubicBezTo>
                <a:cubicBezTo>
                  <a:pt x="646" y="366"/>
                  <a:pt x="646" y="366"/>
                  <a:pt x="647" y="365"/>
                </a:cubicBezTo>
                <a:cubicBezTo>
                  <a:pt x="649" y="364"/>
                  <a:pt x="651" y="362"/>
                  <a:pt x="653" y="361"/>
                </a:cubicBezTo>
                <a:cubicBezTo>
                  <a:pt x="658" y="358"/>
                  <a:pt x="663" y="355"/>
                  <a:pt x="668" y="351"/>
                </a:cubicBezTo>
                <a:cubicBezTo>
                  <a:pt x="677" y="344"/>
                  <a:pt x="685" y="335"/>
                  <a:pt x="696" y="330"/>
                </a:cubicBezTo>
                <a:cubicBezTo>
                  <a:pt x="697" y="329"/>
                  <a:pt x="696" y="328"/>
                  <a:pt x="696" y="329"/>
                </a:cubicBezTo>
                <a:cubicBezTo>
                  <a:pt x="683" y="334"/>
                  <a:pt x="674" y="344"/>
                  <a:pt x="663" y="351"/>
                </a:cubicBezTo>
                <a:cubicBezTo>
                  <a:pt x="659" y="354"/>
                  <a:pt x="654" y="356"/>
                  <a:pt x="650" y="359"/>
                </a:cubicBezTo>
                <a:cubicBezTo>
                  <a:pt x="650" y="359"/>
                  <a:pt x="650" y="359"/>
                  <a:pt x="650" y="359"/>
                </a:cubicBezTo>
                <a:cubicBezTo>
                  <a:pt x="655" y="355"/>
                  <a:pt x="660" y="351"/>
                  <a:pt x="666" y="347"/>
                </a:cubicBezTo>
                <a:cubicBezTo>
                  <a:pt x="676" y="340"/>
                  <a:pt x="685" y="332"/>
                  <a:pt x="695" y="324"/>
                </a:cubicBezTo>
                <a:cubicBezTo>
                  <a:pt x="705" y="316"/>
                  <a:pt x="716" y="308"/>
                  <a:pt x="725" y="298"/>
                </a:cubicBezTo>
                <a:cubicBezTo>
                  <a:pt x="729" y="293"/>
                  <a:pt x="733" y="287"/>
                  <a:pt x="738" y="283"/>
                </a:cubicBezTo>
                <a:cubicBezTo>
                  <a:pt x="741" y="282"/>
                  <a:pt x="743" y="280"/>
                  <a:pt x="745" y="278"/>
                </a:cubicBezTo>
                <a:cubicBezTo>
                  <a:pt x="745" y="278"/>
                  <a:pt x="746" y="278"/>
                  <a:pt x="746" y="278"/>
                </a:cubicBezTo>
                <a:cubicBezTo>
                  <a:pt x="758" y="276"/>
                  <a:pt x="768" y="279"/>
                  <a:pt x="779" y="281"/>
                </a:cubicBezTo>
                <a:cubicBezTo>
                  <a:pt x="788" y="284"/>
                  <a:pt x="796" y="285"/>
                  <a:pt x="804" y="289"/>
                </a:cubicBezTo>
                <a:cubicBezTo>
                  <a:pt x="804" y="289"/>
                  <a:pt x="805" y="289"/>
                  <a:pt x="805" y="289"/>
                </a:cubicBezTo>
                <a:cubicBezTo>
                  <a:pt x="807" y="290"/>
                  <a:pt x="808" y="291"/>
                  <a:pt x="810" y="292"/>
                </a:cubicBezTo>
                <a:cubicBezTo>
                  <a:pt x="828" y="302"/>
                  <a:pt x="847" y="320"/>
                  <a:pt x="852" y="341"/>
                </a:cubicBezTo>
                <a:cubicBezTo>
                  <a:pt x="852" y="342"/>
                  <a:pt x="852" y="342"/>
                  <a:pt x="852" y="342"/>
                </a:cubicBezTo>
                <a:cubicBezTo>
                  <a:pt x="854" y="351"/>
                  <a:pt x="846" y="359"/>
                  <a:pt x="839" y="365"/>
                </a:cubicBezTo>
                <a:cubicBezTo>
                  <a:pt x="832" y="371"/>
                  <a:pt x="825" y="377"/>
                  <a:pt x="817" y="382"/>
                </a:cubicBezTo>
                <a:cubicBezTo>
                  <a:pt x="806" y="391"/>
                  <a:pt x="792" y="397"/>
                  <a:pt x="778" y="402"/>
                </a:cubicBezTo>
                <a:cubicBezTo>
                  <a:pt x="766" y="406"/>
                  <a:pt x="754" y="407"/>
                  <a:pt x="741" y="410"/>
                </a:cubicBezTo>
                <a:close/>
                <a:moveTo>
                  <a:pt x="521" y="621"/>
                </a:moveTo>
                <a:cubicBezTo>
                  <a:pt x="520" y="621"/>
                  <a:pt x="520" y="621"/>
                  <a:pt x="519" y="621"/>
                </a:cubicBezTo>
                <a:cubicBezTo>
                  <a:pt x="521" y="620"/>
                  <a:pt x="522" y="617"/>
                  <a:pt x="522" y="615"/>
                </a:cubicBezTo>
                <a:cubicBezTo>
                  <a:pt x="523" y="613"/>
                  <a:pt x="520" y="613"/>
                  <a:pt x="520" y="614"/>
                </a:cubicBezTo>
                <a:cubicBezTo>
                  <a:pt x="520" y="616"/>
                  <a:pt x="519" y="617"/>
                  <a:pt x="519" y="618"/>
                </a:cubicBezTo>
                <a:cubicBezTo>
                  <a:pt x="518" y="618"/>
                  <a:pt x="517" y="619"/>
                  <a:pt x="516" y="619"/>
                </a:cubicBezTo>
                <a:cubicBezTo>
                  <a:pt x="515" y="619"/>
                  <a:pt x="515" y="620"/>
                  <a:pt x="516" y="621"/>
                </a:cubicBezTo>
                <a:cubicBezTo>
                  <a:pt x="514" y="621"/>
                  <a:pt x="513" y="621"/>
                  <a:pt x="512" y="621"/>
                </a:cubicBezTo>
                <a:cubicBezTo>
                  <a:pt x="509" y="622"/>
                  <a:pt x="506" y="623"/>
                  <a:pt x="504" y="624"/>
                </a:cubicBezTo>
                <a:cubicBezTo>
                  <a:pt x="501" y="625"/>
                  <a:pt x="499" y="625"/>
                  <a:pt x="497" y="624"/>
                </a:cubicBezTo>
                <a:cubicBezTo>
                  <a:pt x="497" y="623"/>
                  <a:pt x="497" y="623"/>
                  <a:pt x="496" y="622"/>
                </a:cubicBezTo>
                <a:cubicBezTo>
                  <a:pt x="495" y="621"/>
                  <a:pt x="495" y="620"/>
                  <a:pt x="493" y="619"/>
                </a:cubicBezTo>
                <a:cubicBezTo>
                  <a:pt x="493" y="619"/>
                  <a:pt x="492" y="619"/>
                  <a:pt x="492" y="619"/>
                </a:cubicBezTo>
                <a:cubicBezTo>
                  <a:pt x="492" y="619"/>
                  <a:pt x="492" y="619"/>
                  <a:pt x="491" y="619"/>
                </a:cubicBezTo>
                <a:cubicBezTo>
                  <a:pt x="491" y="619"/>
                  <a:pt x="490" y="618"/>
                  <a:pt x="490" y="618"/>
                </a:cubicBezTo>
                <a:cubicBezTo>
                  <a:pt x="491" y="616"/>
                  <a:pt x="492" y="615"/>
                  <a:pt x="494" y="613"/>
                </a:cubicBezTo>
                <a:cubicBezTo>
                  <a:pt x="495" y="611"/>
                  <a:pt x="498" y="609"/>
                  <a:pt x="499" y="606"/>
                </a:cubicBezTo>
                <a:cubicBezTo>
                  <a:pt x="503" y="600"/>
                  <a:pt x="506" y="592"/>
                  <a:pt x="513" y="588"/>
                </a:cubicBezTo>
                <a:cubicBezTo>
                  <a:pt x="518" y="585"/>
                  <a:pt x="522" y="583"/>
                  <a:pt x="525" y="578"/>
                </a:cubicBezTo>
                <a:cubicBezTo>
                  <a:pt x="528" y="571"/>
                  <a:pt x="532" y="566"/>
                  <a:pt x="536" y="560"/>
                </a:cubicBezTo>
                <a:cubicBezTo>
                  <a:pt x="547" y="548"/>
                  <a:pt x="558" y="537"/>
                  <a:pt x="570" y="526"/>
                </a:cubicBezTo>
                <a:cubicBezTo>
                  <a:pt x="573" y="523"/>
                  <a:pt x="577" y="519"/>
                  <a:pt x="580" y="515"/>
                </a:cubicBezTo>
                <a:cubicBezTo>
                  <a:pt x="582" y="512"/>
                  <a:pt x="585" y="507"/>
                  <a:pt x="589" y="505"/>
                </a:cubicBezTo>
                <a:cubicBezTo>
                  <a:pt x="590" y="504"/>
                  <a:pt x="590" y="502"/>
                  <a:pt x="588" y="503"/>
                </a:cubicBezTo>
                <a:cubicBezTo>
                  <a:pt x="585" y="504"/>
                  <a:pt x="582" y="508"/>
                  <a:pt x="579" y="511"/>
                </a:cubicBezTo>
                <a:cubicBezTo>
                  <a:pt x="576" y="515"/>
                  <a:pt x="573" y="519"/>
                  <a:pt x="569" y="523"/>
                </a:cubicBezTo>
                <a:cubicBezTo>
                  <a:pt x="565" y="526"/>
                  <a:pt x="562" y="529"/>
                  <a:pt x="559" y="532"/>
                </a:cubicBezTo>
                <a:cubicBezTo>
                  <a:pt x="559" y="531"/>
                  <a:pt x="560" y="530"/>
                  <a:pt x="561" y="529"/>
                </a:cubicBezTo>
                <a:cubicBezTo>
                  <a:pt x="563" y="526"/>
                  <a:pt x="566" y="522"/>
                  <a:pt x="569" y="519"/>
                </a:cubicBezTo>
                <a:cubicBezTo>
                  <a:pt x="574" y="513"/>
                  <a:pt x="580" y="507"/>
                  <a:pt x="584" y="500"/>
                </a:cubicBezTo>
                <a:cubicBezTo>
                  <a:pt x="584" y="500"/>
                  <a:pt x="584" y="500"/>
                  <a:pt x="584" y="500"/>
                </a:cubicBezTo>
                <a:cubicBezTo>
                  <a:pt x="592" y="504"/>
                  <a:pt x="601" y="507"/>
                  <a:pt x="610" y="506"/>
                </a:cubicBezTo>
                <a:cubicBezTo>
                  <a:pt x="614" y="505"/>
                  <a:pt x="618" y="505"/>
                  <a:pt x="623" y="505"/>
                </a:cubicBezTo>
                <a:cubicBezTo>
                  <a:pt x="617" y="510"/>
                  <a:pt x="609" y="520"/>
                  <a:pt x="608" y="521"/>
                </a:cubicBezTo>
                <a:cubicBezTo>
                  <a:pt x="594" y="537"/>
                  <a:pt x="577" y="551"/>
                  <a:pt x="563" y="567"/>
                </a:cubicBezTo>
                <a:cubicBezTo>
                  <a:pt x="555" y="575"/>
                  <a:pt x="547" y="582"/>
                  <a:pt x="540" y="590"/>
                </a:cubicBezTo>
                <a:cubicBezTo>
                  <a:pt x="533" y="596"/>
                  <a:pt x="529" y="602"/>
                  <a:pt x="527" y="610"/>
                </a:cubicBezTo>
                <a:cubicBezTo>
                  <a:pt x="526" y="611"/>
                  <a:pt x="526" y="613"/>
                  <a:pt x="525" y="616"/>
                </a:cubicBezTo>
                <a:cubicBezTo>
                  <a:pt x="525" y="616"/>
                  <a:pt x="525" y="616"/>
                  <a:pt x="524" y="616"/>
                </a:cubicBezTo>
                <a:cubicBezTo>
                  <a:pt x="524" y="616"/>
                  <a:pt x="523" y="617"/>
                  <a:pt x="523" y="617"/>
                </a:cubicBezTo>
                <a:cubicBezTo>
                  <a:pt x="522" y="618"/>
                  <a:pt x="521" y="619"/>
                  <a:pt x="521" y="621"/>
                </a:cubicBezTo>
                <a:cubicBezTo>
                  <a:pt x="521" y="621"/>
                  <a:pt x="521" y="621"/>
                  <a:pt x="521" y="621"/>
                </a:cubicBezTo>
                <a:close/>
                <a:moveTo>
                  <a:pt x="453" y="616"/>
                </a:moveTo>
                <a:cubicBezTo>
                  <a:pt x="451" y="615"/>
                  <a:pt x="449" y="613"/>
                  <a:pt x="448" y="612"/>
                </a:cubicBezTo>
                <a:cubicBezTo>
                  <a:pt x="448" y="611"/>
                  <a:pt x="448" y="610"/>
                  <a:pt x="447" y="610"/>
                </a:cubicBezTo>
                <a:cubicBezTo>
                  <a:pt x="450" y="612"/>
                  <a:pt x="453" y="613"/>
                  <a:pt x="457" y="614"/>
                </a:cubicBezTo>
                <a:cubicBezTo>
                  <a:pt x="458" y="615"/>
                  <a:pt x="459" y="616"/>
                  <a:pt x="460" y="617"/>
                </a:cubicBezTo>
                <a:cubicBezTo>
                  <a:pt x="465" y="619"/>
                  <a:pt x="471" y="620"/>
                  <a:pt x="476" y="622"/>
                </a:cubicBezTo>
                <a:cubicBezTo>
                  <a:pt x="482" y="624"/>
                  <a:pt x="486" y="624"/>
                  <a:pt x="492" y="622"/>
                </a:cubicBezTo>
                <a:cubicBezTo>
                  <a:pt x="492" y="622"/>
                  <a:pt x="492" y="622"/>
                  <a:pt x="492" y="622"/>
                </a:cubicBezTo>
                <a:cubicBezTo>
                  <a:pt x="492" y="623"/>
                  <a:pt x="493" y="623"/>
                  <a:pt x="493" y="624"/>
                </a:cubicBezTo>
                <a:cubicBezTo>
                  <a:pt x="494" y="628"/>
                  <a:pt x="498" y="630"/>
                  <a:pt x="503" y="629"/>
                </a:cubicBezTo>
                <a:cubicBezTo>
                  <a:pt x="506" y="628"/>
                  <a:pt x="508" y="627"/>
                  <a:pt x="511" y="625"/>
                </a:cubicBezTo>
                <a:cubicBezTo>
                  <a:pt x="513" y="625"/>
                  <a:pt x="515" y="625"/>
                  <a:pt x="517" y="625"/>
                </a:cubicBezTo>
                <a:cubicBezTo>
                  <a:pt x="518" y="634"/>
                  <a:pt x="509" y="640"/>
                  <a:pt x="501" y="639"/>
                </a:cubicBezTo>
                <a:cubicBezTo>
                  <a:pt x="492" y="639"/>
                  <a:pt x="484" y="635"/>
                  <a:pt x="476" y="632"/>
                </a:cubicBezTo>
                <a:cubicBezTo>
                  <a:pt x="472" y="630"/>
                  <a:pt x="468" y="628"/>
                  <a:pt x="464" y="626"/>
                </a:cubicBezTo>
                <a:cubicBezTo>
                  <a:pt x="461" y="624"/>
                  <a:pt x="458" y="621"/>
                  <a:pt x="454" y="619"/>
                </a:cubicBezTo>
                <a:cubicBezTo>
                  <a:pt x="454" y="619"/>
                  <a:pt x="453" y="619"/>
                  <a:pt x="453" y="619"/>
                </a:cubicBezTo>
                <a:cubicBezTo>
                  <a:pt x="454" y="618"/>
                  <a:pt x="454" y="617"/>
                  <a:pt x="453" y="616"/>
                </a:cubicBezTo>
                <a:close/>
                <a:moveTo>
                  <a:pt x="360" y="549"/>
                </a:moveTo>
                <a:cubicBezTo>
                  <a:pt x="361" y="525"/>
                  <a:pt x="362" y="499"/>
                  <a:pt x="367" y="475"/>
                </a:cubicBezTo>
                <a:cubicBezTo>
                  <a:pt x="367" y="474"/>
                  <a:pt x="367" y="474"/>
                  <a:pt x="366" y="473"/>
                </a:cubicBezTo>
                <a:cubicBezTo>
                  <a:pt x="366" y="473"/>
                  <a:pt x="366" y="473"/>
                  <a:pt x="367" y="473"/>
                </a:cubicBezTo>
                <a:cubicBezTo>
                  <a:pt x="368" y="472"/>
                  <a:pt x="370" y="471"/>
                  <a:pt x="372" y="471"/>
                </a:cubicBezTo>
                <a:cubicBezTo>
                  <a:pt x="372" y="471"/>
                  <a:pt x="372" y="471"/>
                  <a:pt x="372" y="471"/>
                </a:cubicBezTo>
                <a:cubicBezTo>
                  <a:pt x="372" y="471"/>
                  <a:pt x="372" y="471"/>
                  <a:pt x="372" y="472"/>
                </a:cubicBezTo>
                <a:cubicBezTo>
                  <a:pt x="371" y="472"/>
                  <a:pt x="371" y="473"/>
                  <a:pt x="371" y="474"/>
                </a:cubicBezTo>
                <a:cubicBezTo>
                  <a:pt x="371" y="476"/>
                  <a:pt x="370" y="478"/>
                  <a:pt x="370" y="479"/>
                </a:cubicBezTo>
                <a:cubicBezTo>
                  <a:pt x="370" y="480"/>
                  <a:pt x="371" y="480"/>
                  <a:pt x="371" y="480"/>
                </a:cubicBezTo>
                <a:cubicBezTo>
                  <a:pt x="372" y="478"/>
                  <a:pt x="373" y="475"/>
                  <a:pt x="373" y="473"/>
                </a:cubicBezTo>
                <a:cubicBezTo>
                  <a:pt x="373" y="472"/>
                  <a:pt x="374" y="471"/>
                  <a:pt x="373" y="470"/>
                </a:cubicBezTo>
                <a:cubicBezTo>
                  <a:pt x="376" y="469"/>
                  <a:pt x="378" y="468"/>
                  <a:pt x="380" y="466"/>
                </a:cubicBezTo>
                <a:cubicBezTo>
                  <a:pt x="380" y="467"/>
                  <a:pt x="380" y="467"/>
                  <a:pt x="380" y="468"/>
                </a:cubicBezTo>
                <a:cubicBezTo>
                  <a:pt x="380" y="468"/>
                  <a:pt x="380" y="469"/>
                  <a:pt x="380" y="469"/>
                </a:cubicBezTo>
                <a:cubicBezTo>
                  <a:pt x="377" y="475"/>
                  <a:pt x="377" y="484"/>
                  <a:pt x="376" y="490"/>
                </a:cubicBezTo>
                <a:cubicBezTo>
                  <a:pt x="374" y="499"/>
                  <a:pt x="375" y="507"/>
                  <a:pt x="375" y="516"/>
                </a:cubicBezTo>
                <a:cubicBezTo>
                  <a:pt x="375" y="526"/>
                  <a:pt x="375" y="535"/>
                  <a:pt x="374" y="545"/>
                </a:cubicBezTo>
                <a:cubicBezTo>
                  <a:pt x="373" y="550"/>
                  <a:pt x="372" y="556"/>
                  <a:pt x="371" y="561"/>
                </a:cubicBezTo>
                <a:cubicBezTo>
                  <a:pt x="370" y="565"/>
                  <a:pt x="369" y="568"/>
                  <a:pt x="369" y="571"/>
                </a:cubicBezTo>
                <a:cubicBezTo>
                  <a:pt x="369" y="571"/>
                  <a:pt x="369" y="571"/>
                  <a:pt x="368" y="571"/>
                </a:cubicBezTo>
                <a:cubicBezTo>
                  <a:pt x="366" y="575"/>
                  <a:pt x="368" y="580"/>
                  <a:pt x="365" y="584"/>
                </a:cubicBezTo>
                <a:cubicBezTo>
                  <a:pt x="364" y="585"/>
                  <a:pt x="364" y="586"/>
                  <a:pt x="363" y="587"/>
                </a:cubicBezTo>
                <a:cubicBezTo>
                  <a:pt x="363" y="586"/>
                  <a:pt x="363" y="585"/>
                  <a:pt x="363" y="584"/>
                </a:cubicBezTo>
                <a:cubicBezTo>
                  <a:pt x="363" y="572"/>
                  <a:pt x="360" y="561"/>
                  <a:pt x="360" y="549"/>
                </a:cubicBezTo>
                <a:close/>
                <a:moveTo>
                  <a:pt x="359" y="574"/>
                </a:moveTo>
                <a:cubicBezTo>
                  <a:pt x="360" y="581"/>
                  <a:pt x="361" y="587"/>
                  <a:pt x="357" y="593"/>
                </a:cubicBezTo>
                <a:cubicBezTo>
                  <a:pt x="356" y="594"/>
                  <a:pt x="355" y="595"/>
                  <a:pt x="355" y="596"/>
                </a:cubicBezTo>
                <a:cubicBezTo>
                  <a:pt x="354" y="596"/>
                  <a:pt x="353" y="597"/>
                  <a:pt x="352" y="598"/>
                </a:cubicBezTo>
                <a:cubicBezTo>
                  <a:pt x="351" y="598"/>
                  <a:pt x="351" y="599"/>
                  <a:pt x="350" y="599"/>
                </a:cubicBezTo>
                <a:cubicBezTo>
                  <a:pt x="350" y="599"/>
                  <a:pt x="349" y="599"/>
                  <a:pt x="349" y="599"/>
                </a:cubicBezTo>
                <a:cubicBezTo>
                  <a:pt x="349" y="598"/>
                  <a:pt x="349" y="596"/>
                  <a:pt x="349" y="595"/>
                </a:cubicBezTo>
                <a:cubicBezTo>
                  <a:pt x="350" y="595"/>
                  <a:pt x="350" y="596"/>
                  <a:pt x="350" y="596"/>
                </a:cubicBezTo>
                <a:cubicBezTo>
                  <a:pt x="350" y="596"/>
                  <a:pt x="351" y="596"/>
                  <a:pt x="351" y="595"/>
                </a:cubicBezTo>
                <a:cubicBezTo>
                  <a:pt x="351" y="591"/>
                  <a:pt x="352" y="587"/>
                  <a:pt x="352" y="582"/>
                </a:cubicBezTo>
                <a:cubicBezTo>
                  <a:pt x="351" y="579"/>
                  <a:pt x="351" y="576"/>
                  <a:pt x="350" y="573"/>
                </a:cubicBezTo>
                <a:cubicBezTo>
                  <a:pt x="351" y="575"/>
                  <a:pt x="352" y="577"/>
                  <a:pt x="352" y="580"/>
                </a:cubicBezTo>
                <a:cubicBezTo>
                  <a:pt x="352" y="583"/>
                  <a:pt x="352" y="587"/>
                  <a:pt x="352" y="590"/>
                </a:cubicBezTo>
                <a:cubicBezTo>
                  <a:pt x="352" y="591"/>
                  <a:pt x="353" y="591"/>
                  <a:pt x="353" y="590"/>
                </a:cubicBezTo>
                <a:cubicBezTo>
                  <a:pt x="353" y="586"/>
                  <a:pt x="353" y="582"/>
                  <a:pt x="353" y="578"/>
                </a:cubicBezTo>
                <a:cubicBezTo>
                  <a:pt x="352" y="574"/>
                  <a:pt x="352" y="571"/>
                  <a:pt x="350" y="568"/>
                </a:cubicBezTo>
                <a:cubicBezTo>
                  <a:pt x="350" y="568"/>
                  <a:pt x="349" y="568"/>
                  <a:pt x="349" y="568"/>
                </a:cubicBezTo>
                <a:cubicBezTo>
                  <a:pt x="349" y="567"/>
                  <a:pt x="349" y="566"/>
                  <a:pt x="349" y="565"/>
                </a:cubicBezTo>
                <a:cubicBezTo>
                  <a:pt x="348" y="562"/>
                  <a:pt x="348" y="558"/>
                  <a:pt x="348" y="554"/>
                </a:cubicBezTo>
                <a:cubicBezTo>
                  <a:pt x="347" y="551"/>
                  <a:pt x="348" y="548"/>
                  <a:pt x="347" y="544"/>
                </a:cubicBezTo>
                <a:cubicBezTo>
                  <a:pt x="347" y="538"/>
                  <a:pt x="347" y="532"/>
                  <a:pt x="346" y="526"/>
                </a:cubicBezTo>
                <a:cubicBezTo>
                  <a:pt x="346" y="525"/>
                  <a:pt x="345" y="525"/>
                  <a:pt x="345" y="526"/>
                </a:cubicBezTo>
                <a:cubicBezTo>
                  <a:pt x="345" y="533"/>
                  <a:pt x="344" y="540"/>
                  <a:pt x="346" y="547"/>
                </a:cubicBezTo>
                <a:cubicBezTo>
                  <a:pt x="347" y="553"/>
                  <a:pt x="346" y="561"/>
                  <a:pt x="347" y="567"/>
                </a:cubicBezTo>
                <a:cubicBezTo>
                  <a:pt x="347" y="574"/>
                  <a:pt x="350" y="580"/>
                  <a:pt x="349" y="586"/>
                </a:cubicBezTo>
                <a:cubicBezTo>
                  <a:pt x="349" y="587"/>
                  <a:pt x="349" y="588"/>
                  <a:pt x="349" y="590"/>
                </a:cubicBezTo>
                <a:cubicBezTo>
                  <a:pt x="349" y="589"/>
                  <a:pt x="349" y="589"/>
                  <a:pt x="349" y="588"/>
                </a:cubicBezTo>
                <a:cubicBezTo>
                  <a:pt x="347" y="584"/>
                  <a:pt x="345" y="579"/>
                  <a:pt x="344" y="575"/>
                </a:cubicBezTo>
                <a:cubicBezTo>
                  <a:pt x="342" y="564"/>
                  <a:pt x="340" y="552"/>
                  <a:pt x="340" y="541"/>
                </a:cubicBezTo>
                <a:cubicBezTo>
                  <a:pt x="340" y="522"/>
                  <a:pt x="344" y="504"/>
                  <a:pt x="340" y="485"/>
                </a:cubicBezTo>
                <a:cubicBezTo>
                  <a:pt x="340" y="485"/>
                  <a:pt x="341" y="485"/>
                  <a:pt x="341" y="485"/>
                </a:cubicBezTo>
                <a:cubicBezTo>
                  <a:pt x="349" y="482"/>
                  <a:pt x="356" y="478"/>
                  <a:pt x="364" y="474"/>
                </a:cubicBezTo>
                <a:cubicBezTo>
                  <a:pt x="361" y="484"/>
                  <a:pt x="360" y="496"/>
                  <a:pt x="359" y="506"/>
                </a:cubicBezTo>
                <a:cubicBezTo>
                  <a:pt x="359" y="518"/>
                  <a:pt x="358" y="530"/>
                  <a:pt x="357" y="542"/>
                </a:cubicBezTo>
                <a:cubicBezTo>
                  <a:pt x="357" y="553"/>
                  <a:pt x="358" y="563"/>
                  <a:pt x="359" y="574"/>
                </a:cubicBezTo>
                <a:close/>
                <a:moveTo>
                  <a:pt x="323" y="576"/>
                </a:moveTo>
                <a:cubicBezTo>
                  <a:pt x="323" y="576"/>
                  <a:pt x="323" y="576"/>
                  <a:pt x="323" y="576"/>
                </a:cubicBezTo>
                <a:cubicBezTo>
                  <a:pt x="322" y="577"/>
                  <a:pt x="322" y="577"/>
                  <a:pt x="321" y="578"/>
                </a:cubicBezTo>
                <a:cubicBezTo>
                  <a:pt x="320" y="578"/>
                  <a:pt x="320" y="579"/>
                  <a:pt x="319" y="579"/>
                </a:cubicBezTo>
                <a:cubicBezTo>
                  <a:pt x="319" y="579"/>
                  <a:pt x="319" y="579"/>
                  <a:pt x="319" y="579"/>
                </a:cubicBezTo>
                <a:cubicBezTo>
                  <a:pt x="311" y="566"/>
                  <a:pt x="307" y="551"/>
                  <a:pt x="302" y="537"/>
                </a:cubicBezTo>
                <a:cubicBezTo>
                  <a:pt x="297" y="523"/>
                  <a:pt x="291" y="509"/>
                  <a:pt x="286" y="495"/>
                </a:cubicBezTo>
                <a:cubicBezTo>
                  <a:pt x="282" y="486"/>
                  <a:pt x="277" y="478"/>
                  <a:pt x="272" y="469"/>
                </a:cubicBezTo>
                <a:cubicBezTo>
                  <a:pt x="274" y="471"/>
                  <a:pt x="276" y="473"/>
                  <a:pt x="279" y="475"/>
                </a:cubicBezTo>
                <a:cubicBezTo>
                  <a:pt x="286" y="480"/>
                  <a:pt x="294" y="484"/>
                  <a:pt x="303" y="487"/>
                </a:cubicBezTo>
                <a:cubicBezTo>
                  <a:pt x="303" y="487"/>
                  <a:pt x="303" y="487"/>
                  <a:pt x="303" y="487"/>
                </a:cubicBezTo>
                <a:cubicBezTo>
                  <a:pt x="303" y="491"/>
                  <a:pt x="304" y="495"/>
                  <a:pt x="305" y="499"/>
                </a:cubicBezTo>
                <a:cubicBezTo>
                  <a:pt x="305" y="503"/>
                  <a:pt x="306" y="506"/>
                  <a:pt x="307" y="510"/>
                </a:cubicBezTo>
                <a:cubicBezTo>
                  <a:pt x="309" y="517"/>
                  <a:pt x="313" y="524"/>
                  <a:pt x="316" y="531"/>
                </a:cubicBezTo>
                <a:cubicBezTo>
                  <a:pt x="321" y="545"/>
                  <a:pt x="326" y="560"/>
                  <a:pt x="336" y="571"/>
                </a:cubicBezTo>
                <a:cubicBezTo>
                  <a:pt x="335" y="571"/>
                  <a:pt x="334" y="570"/>
                  <a:pt x="333" y="570"/>
                </a:cubicBezTo>
                <a:cubicBezTo>
                  <a:pt x="330" y="570"/>
                  <a:pt x="327" y="571"/>
                  <a:pt x="325" y="573"/>
                </a:cubicBezTo>
                <a:cubicBezTo>
                  <a:pt x="325" y="574"/>
                  <a:pt x="324" y="574"/>
                  <a:pt x="324" y="575"/>
                </a:cubicBezTo>
                <a:cubicBezTo>
                  <a:pt x="323" y="574"/>
                  <a:pt x="323" y="574"/>
                  <a:pt x="322" y="574"/>
                </a:cubicBezTo>
                <a:cubicBezTo>
                  <a:pt x="322" y="574"/>
                  <a:pt x="321" y="574"/>
                  <a:pt x="322" y="574"/>
                </a:cubicBezTo>
                <a:cubicBezTo>
                  <a:pt x="322" y="575"/>
                  <a:pt x="322" y="575"/>
                  <a:pt x="323" y="576"/>
                </a:cubicBezTo>
                <a:close/>
                <a:moveTo>
                  <a:pt x="176" y="253"/>
                </a:moveTo>
                <a:cubicBezTo>
                  <a:pt x="172" y="261"/>
                  <a:pt x="166" y="272"/>
                  <a:pt x="168" y="281"/>
                </a:cubicBezTo>
                <a:cubicBezTo>
                  <a:pt x="167" y="278"/>
                  <a:pt x="166" y="274"/>
                  <a:pt x="165" y="270"/>
                </a:cubicBezTo>
                <a:cubicBezTo>
                  <a:pt x="165" y="271"/>
                  <a:pt x="166" y="271"/>
                  <a:pt x="167" y="271"/>
                </a:cubicBezTo>
                <a:cubicBezTo>
                  <a:pt x="167" y="272"/>
                  <a:pt x="167" y="271"/>
                  <a:pt x="167" y="271"/>
                </a:cubicBezTo>
                <a:cubicBezTo>
                  <a:pt x="167" y="269"/>
                  <a:pt x="165" y="267"/>
                  <a:pt x="165" y="265"/>
                </a:cubicBezTo>
                <a:cubicBezTo>
                  <a:pt x="166" y="262"/>
                  <a:pt x="166" y="259"/>
                  <a:pt x="167" y="256"/>
                </a:cubicBezTo>
                <a:cubicBezTo>
                  <a:pt x="168" y="251"/>
                  <a:pt x="170" y="245"/>
                  <a:pt x="173" y="241"/>
                </a:cubicBezTo>
                <a:cubicBezTo>
                  <a:pt x="174" y="241"/>
                  <a:pt x="173" y="241"/>
                  <a:pt x="173" y="241"/>
                </a:cubicBezTo>
                <a:cubicBezTo>
                  <a:pt x="169" y="246"/>
                  <a:pt x="167" y="252"/>
                  <a:pt x="165" y="258"/>
                </a:cubicBezTo>
                <a:cubicBezTo>
                  <a:pt x="165" y="258"/>
                  <a:pt x="165" y="258"/>
                  <a:pt x="165" y="259"/>
                </a:cubicBezTo>
                <a:cubicBezTo>
                  <a:pt x="164" y="257"/>
                  <a:pt x="164" y="256"/>
                  <a:pt x="164" y="255"/>
                </a:cubicBezTo>
                <a:cubicBezTo>
                  <a:pt x="164" y="252"/>
                  <a:pt x="164" y="249"/>
                  <a:pt x="165" y="246"/>
                </a:cubicBezTo>
                <a:cubicBezTo>
                  <a:pt x="165" y="245"/>
                  <a:pt x="165" y="245"/>
                  <a:pt x="165" y="245"/>
                </a:cubicBezTo>
                <a:cubicBezTo>
                  <a:pt x="165" y="245"/>
                  <a:pt x="165" y="245"/>
                  <a:pt x="165" y="245"/>
                </a:cubicBezTo>
                <a:cubicBezTo>
                  <a:pt x="165" y="244"/>
                  <a:pt x="165" y="244"/>
                  <a:pt x="165" y="244"/>
                </a:cubicBezTo>
                <a:cubicBezTo>
                  <a:pt x="167" y="237"/>
                  <a:pt x="170" y="232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0" y="229"/>
                  <a:pt x="167" y="234"/>
                  <a:pt x="165" y="239"/>
                </a:cubicBezTo>
                <a:cubicBezTo>
                  <a:pt x="165" y="237"/>
                  <a:pt x="165" y="236"/>
                  <a:pt x="165" y="234"/>
                </a:cubicBezTo>
                <a:cubicBezTo>
                  <a:pt x="165" y="230"/>
                  <a:pt x="166" y="226"/>
                  <a:pt x="166" y="222"/>
                </a:cubicBezTo>
                <a:cubicBezTo>
                  <a:pt x="166" y="221"/>
                  <a:pt x="164" y="221"/>
                  <a:pt x="164" y="222"/>
                </a:cubicBezTo>
                <a:cubicBezTo>
                  <a:pt x="164" y="224"/>
                  <a:pt x="164" y="227"/>
                  <a:pt x="164" y="229"/>
                </a:cubicBezTo>
                <a:cubicBezTo>
                  <a:pt x="164" y="231"/>
                  <a:pt x="163" y="233"/>
                  <a:pt x="163" y="235"/>
                </a:cubicBezTo>
                <a:cubicBezTo>
                  <a:pt x="163" y="238"/>
                  <a:pt x="163" y="241"/>
                  <a:pt x="164" y="244"/>
                </a:cubicBezTo>
                <a:cubicBezTo>
                  <a:pt x="164" y="245"/>
                  <a:pt x="163" y="247"/>
                  <a:pt x="163" y="248"/>
                </a:cubicBezTo>
                <a:cubicBezTo>
                  <a:pt x="163" y="250"/>
                  <a:pt x="162" y="253"/>
                  <a:pt x="162" y="257"/>
                </a:cubicBezTo>
                <a:cubicBezTo>
                  <a:pt x="161" y="250"/>
                  <a:pt x="160" y="244"/>
                  <a:pt x="160" y="237"/>
                </a:cubicBezTo>
                <a:cubicBezTo>
                  <a:pt x="161" y="233"/>
                  <a:pt x="161" y="229"/>
                  <a:pt x="159" y="226"/>
                </a:cubicBezTo>
                <a:cubicBezTo>
                  <a:pt x="156" y="222"/>
                  <a:pt x="152" y="218"/>
                  <a:pt x="151" y="212"/>
                </a:cubicBezTo>
                <a:cubicBezTo>
                  <a:pt x="151" y="204"/>
                  <a:pt x="151" y="198"/>
                  <a:pt x="146" y="190"/>
                </a:cubicBezTo>
                <a:cubicBezTo>
                  <a:pt x="144" y="187"/>
                  <a:pt x="141" y="183"/>
                  <a:pt x="140" y="179"/>
                </a:cubicBezTo>
                <a:cubicBezTo>
                  <a:pt x="139" y="178"/>
                  <a:pt x="138" y="170"/>
                  <a:pt x="141" y="171"/>
                </a:cubicBezTo>
                <a:cubicBezTo>
                  <a:pt x="143" y="171"/>
                  <a:pt x="144" y="172"/>
                  <a:pt x="146" y="173"/>
                </a:cubicBezTo>
                <a:cubicBezTo>
                  <a:pt x="151" y="175"/>
                  <a:pt x="158" y="178"/>
                  <a:pt x="160" y="184"/>
                </a:cubicBezTo>
                <a:cubicBezTo>
                  <a:pt x="161" y="186"/>
                  <a:pt x="162" y="189"/>
                  <a:pt x="164" y="190"/>
                </a:cubicBezTo>
                <a:cubicBezTo>
                  <a:pt x="164" y="192"/>
                  <a:pt x="166" y="194"/>
                  <a:pt x="166" y="195"/>
                </a:cubicBezTo>
                <a:cubicBezTo>
                  <a:pt x="167" y="197"/>
                  <a:pt x="168" y="199"/>
                  <a:pt x="169" y="200"/>
                </a:cubicBezTo>
                <a:cubicBezTo>
                  <a:pt x="170" y="202"/>
                  <a:pt x="170" y="203"/>
                  <a:pt x="171" y="205"/>
                </a:cubicBezTo>
                <a:cubicBezTo>
                  <a:pt x="172" y="213"/>
                  <a:pt x="178" y="221"/>
                  <a:pt x="180" y="229"/>
                </a:cubicBezTo>
                <a:cubicBezTo>
                  <a:pt x="181" y="233"/>
                  <a:pt x="182" y="238"/>
                  <a:pt x="183" y="242"/>
                </a:cubicBezTo>
                <a:cubicBezTo>
                  <a:pt x="184" y="247"/>
                  <a:pt x="184" y="251"/>
                  <a:pt x="185" y="256"/>
                </a:cubicBezTo>
                <a:cubicBezTo>
                  <a:pt x="185" y="256"/>
                  <a:pt x="185" y="256"/>
                  <a:pt x="185" y="256"/>
                </a:cubicBezTo>
                <a:cubicBezTo>
                  <a:pt x="184" y="258"/>
                  <a:pt x="182" y="260"/>
                  <a:pt x="181" y="263"/>
                </a:cubicBezTo>
                <a:cubicBezTo>
                  <a:pt x="179" y="267"/>
                  <a:pt x="179" y="271"/>
                  <a:pt x="179" y="275"/>
                </a:cubicBezTo>
                <a:cubicBezTo>
                  <a:pt x="177" y="287"/>
                  <a:pt x="178" y="301"/>
                  <a:pt x="180" y="312"/>
                </a:cubicBezTo>
                <a:cubicBezTo>
                  <a:pt x="181" y="318"/>
                  <a:pt x="182" y="325"/>
                  <a:pt x="184" y="331"/>
                </a:cubicBezTo>
                <a:cubicBezTo>
                  <a:pt x="179" y="322"/>
                  <a:pt x="178" y="312"/>
                  <a:pt x="174" y="303"/>
                </a:cubicBezTo>
                <a:cubicBezTo>
                  <a:pt x="173" y="297"/>
                  <a:pt x="171" y="291"/>
                  <a:pt x="169" y="286"/>
                </a:cubicBezTo>
                <a:cubicBezTo>
                  <a:pt x="169" y="286"/>
                  <a:pt x="170" y="286"/>
                  <a:pt x="170" y="285"/>
                </a:cubicBezTo>
                <a:cubicBezTo>
                  <a:pt x="170" y="280"/>
                  <a:pt x="170" y="275"/>
                  <a:pt x="171" y="270"/>
                </a:cubicBezTo>
                <a:cubicBezTo>
                  <a:pt x="172" y="264"/>
                  <a:pt x="174" y="258"/>
                  <a:pt x="176" y="253"/>
                </a:cubicBezTo>
                <a:cubicBezTo>
                  <a:pt x="176" y="253"/>
                  <a:pt x="176" y="253"/>
                  <a:pt x="176" y="253"/>
                </a:cubicBezTo>
                <a:close/>
                <a:moveTo>
                  <a:pt x="157" y="248"/>
                </a:moveTo>
                <a:cubicBezTo>
                  <a:pt x="158" y="254"/>
                  <a:pt x="159" y="260"/>
                  <a:pt x="160" y="266"/>
                </a:cubicBezTo>
                <a:cubicBezTo>
                  <a:pt x="162" y="271"/>
                  <a:pt x="163" y="276"/>
                  <a:pt x="165" y="281"/>
                </a:cubicBezTo>
                <a:cubicBezTo>
                  <a:pt x="163" y="278"/>
                  <a:pt x="162" y="275"/>
                  <a:pt x="161" y="273"/>
                </a:cubicBezTo>
                <a:cubicBezTo>
                  <a:pt x="157" y="261"/>
                  <a:pt x="152" y="250"/>
                  <a:pt x="148" y="238"/>
                </a:cubicBezTo>
                <a:cubicBezTo>
                  <a:pt x="140" y="219"/>
                  <a:pt x="131" y="197"/>
                  <a:pt x="136" y="176"/>
                </a:cubicBezTo>
                <a:cubicBezTo>
                  <a:pt x="136" y="177"/>
                  <a:pt x="136" y="177"/>
                  <a:pt x="136" y="177"/>
                </a:cubicBezTo>
                <a:cubicBezTo>
                  <a:pt x="137" y="186"/>
                  <a:pt x="145" y="191"/>
                  <a:pt x="147" y="200"/>
                </a:cubicBezTo>
                <a:cubicBezTo>
                  <a:pt x="148" y="205"/>
                  <a:pt x="147" y="211"/>
                  <a:pt x="149" y="216"/>
                </a:cubicBezTo>
                <a:cubicBezTo>
                  <a:pt x="150" y="221"/>
                  <a:pt x="156" y="225"/>
                  <a:pt x="157" y="230"/>
                </a:cubicBezTo>
                <a:cubicBezTo>
                  <a:pt x="158" y="236"/>
                  <a:pt x="157" y="242"/>
                  <a:pt x="157" y="248"/>
                </a:cubicBezTo>
                <a:close/>
                <a:moveTo>
                  <a:pt x="163" y="261"/>
                </a:moveTo>
                <a:cubicBezTo>
                  <a:pt x="163" y="261"/>
                  <a:pt x="163" y="262"/>
                  <a:pt x="164" y="263"/>
                </a:cubicBezTo>
                <a:cubicBezTo>
                  <a:pt x="164" y="264"/>
                  <a:pt x="164" y="265"/>
                  <a:pt x="164" y="266"/>
                </a:cubicBezTo>
                <a:cubicBezTo>
                  <a:pt x="163" y="264"/>
                  <a:pt x="163" y="262"/>
                  <a:pt x="163" y="261"/>
                </a:cubicBezTo>
                <a:close/>
                <a:moveTo>
                  <a:pt x="213" y="192"/>
                </a:moveTo>
                <a:cubicBezTo>
                  <a:pt x="206" y="196"/>
                  <a:pt x="200" y="201"/>
                  <a:pt x="196" y="208"/>
                </a:cubicBezTo>
                <a:cubicBezTo>
                  <a:pt x="194" y="213"/>
                  <a:pt x="192" y="218"/>
                  <a:pt x="192" y="223"/>
                </a:cubicBezTo>
                <a:cubicBezTo>
                  <a:pt x="190" y="220"/>
                  <a:pt x="189" y="218"/>
                  <a:pt x="187" y="215"/>
                </a:cubicBezTo>
                <a:cubicBezTo>
                  <a:pt x="184" y="210"/>
                  <a:pt x="183" y="204"/>
                  <a:pt x="182" y="197"/>
                </a:cubicBezTo>
                <a:cubicBezTo>
                  <a:pt x="179" y="184"/>
                  <a:pt x="177" y="170"/>
                  <a:pt x="174" y="157"/>
                </a:cubicBezTo>
                <a:cubicBezTo>
                  <a:pt x="172" y="143"/>
                  <a:pt x="169" y="130"/>
                  <a:pt x="164" y="117"/>
                </a:cubicBezTo>
                <a:cubicBezTo>
                  <a:pt x="164" y="115"/>
                  <a:pt x="162" y="111"/>
                  <a:pt x="160" y="110"/>
                </a:cubicBezTo>
                <a:cubicBezTo>
                  <a:pt x="160" y="102"/>
                  <a:pt x="160" y="95"/>
                  <a:pt x="161" y="87"/>
                </a:cubicBezTo>
                <a:cubicBezTo>
                  <a:pt x="161" y="81"/>
                  <a:pt x="161" y="74"/>
                  <a:pt x="164" y="68"/>
                </a:cubicBezTo>
                <a:cubicBezTo>
                  <a:pt x="167" y="63"/>
                  <a:pt x="169" y="72"/>
                  <a:pt x="170" y="74"/>
                </a:cubicBezTo>
                <a:cubicBezTo>
                  <a:pt x="171" y="78"/>
                  <a:pt x="173" y="80"/>
                  <a:pt x="176" y="82"/>
                </a:cubicBezTo>
                <a:cubicBezTo>
                  <a:pt x="183" y="89"/>
                  <a:pt x="187" y="98"/>
                  <a:pt x="189" y="107"/>
                </a:cubicBezTo>
                <a:cubicBezTo>
                  <a:pt x="191" y="112"/>
                  <a:pt x="191" y="116"/>
                  <a:pt x="191" y="121"/>
                </a:cubicBezTo>
                <a:cubicBezTo>
                  <a:pt x="191" y="123"/>
                  <a:pt x="192" y="125"/>
                  <a:pt x="193" y="127"/>
                </a:cubicBezTo>
                <a:cubicBezTo>
                  <a:pt x="194" y="128"/>
                  <a:pt x="196" y="129"/>
                  <a:pt x="197" y="129"/>
                </a:cubicBezTo>
                <a:cubicBezTo>
                  <a:pt x="200" y="131"/>
                  <a:pt x="202" y="132"/>
                  <a:pt x="203" y="135"/>
                </a:cubicBezTo>
                <a:cubicBezTo>
                  <a:pt x="205" y="139"/>
                  <a:pt x="207" y="143"/>
                  <a:pt x="208" y="146"/>
                </a:cubicBezTo>
                <a:cubicBezTo>
                  <a:pt x="212" y="155"/>
                  <a:pt x="214" y="164"/>
                  <a:pt x="213" y="174"/>
                </a:cubicBezTo>
                <a:cubicBezTo>
                  <a:pt x="213" y="180"/>
                  <a:pt x="212" y="186"/>
                  <a:pt x="213" y="192"/>
                </a:cubicBezTo>
                <a:close/>
                <a:moveTo>
                  <a:pt x="193" y="242"/>
                </a:moveTo>
                <a:cubicBezTo>
                  <a:pt x="193" y="240"/>
                  <a:pt x="192" y="239"/>
                  <a:pt x="192" y="238"/>
                </a:cubicBezTo>
                <a:cubicBezTo>
                  <a:pt x="192" y="236"/>
                  <a:pt x="191" y="234"/>
                  <a:pt x="191" y="233"/>
                </a:cubicBezTo>
                <a:cubicBezTo>
                  <a:pt x="191" y="232"/>
                  <a:pt x="191" y="232"/>
                  <a:pt x="191" y="232"/>
                </a:cubicBezTo>
                <a:cubicBezTo>
                  <a:pt x="192" y="232"/>
                  <a:pt x="192" y="233"/>
                  <a:pt x="193" y="234"/>
                </a:cubicBezTo>
                <a:cubicBezTo>
                  <a:pt x="194" y="237"/>
                  <a:pt x="194" y="239"/>
                  <a:pt x="193" y="242"/>
                </a:cubicBezTo>
                <a:close/>
                <a:moveTo>
                  <a:pt x="189" y="237"/>
                </a:moveTo>
                <a:cubicBezTo>
                  <a:pt x="189" y="239"/>
                  <a:pt x="190" y="241"/>
                  <a:pt x="190" y="243"/>
                </a:cubicBezTo>
                <a:cubicBezTo>
                  <a:pt x="190" y="244"/>
                  <a:pt x="190" y="245"/>
                  <a:pt x="191" y="246"/>
                </a:cubicBezTo>
                <a:cubicBezTo>
                  <a:pt x="189" y="248"/>
                  <a:pt x="188" y="251"/>
                  <a:pt x="186" y="254"/>
                </a:cubicBezTo>
                <a:cubicBezTo>
                  <a:pt x="186" y="246"/>
                  <a:pt x="183" y="237"/>
                  <a:pt x="181" y="228"/>
                </a:cubicBezTo>
                <a:cubicBezTo>
                  <a:pt x="180" y="224"/>
                  <a:pt x="179" y="219"/>
                  <a:pt x="177" y="214"/>
                </a:cubicBezTo>
                <a:cubicBezTo>
                  <a:pt x="177" y="214"/>
                  <a:pt x="177" y="215"/>
                  <a:pt x="177" y="215"/>
                </a:cubicBezTo>
                <a:cubicBezTo>
                  <a:pt x="181" y="220"/>
                  <a:pt x="185" y="225"/>
                  <a:pt x="190" y="230"/>
                </a:cubicBezTo>
                <a:cubicBezTo>
                  <a:pt x="188" y="231"/>
                  <a:pt x="188" y="235"/>
                  <a:pt x="189" y="237"/>
                </a:cubicBezTo>
                <a:close/>
                <a:moveTo>
                  <a:pt x="161" y="121"/>
                </a:moveTo>
                <a:cubicBezTo>
                  <a:pt x="162" y="124"/>
                  <a:pt x="163" y="128"/>
                  <a:pt x="165" y="131"/>
                </a:cubicBezTo>
                <a:cubicBezTo>
                  <a:pt x="165" y="132"/>
                  <a:pt x="166" y="134"/>
                  <a:pt x="167" y="135"/>
                </a:cubicBezTo>
                <a:cubicBezTo>
                  <a:pt x="167" y="136"/>
                  <a:pt x="167" y="137"/>
                  <a:pt x="167" y="138"/>
                </a:cubicBezTo>
                <a:cubicBezTo>
                  <a:pt x="170" y="150"/>
                  <a:pt x="172" y="162"/>
                  <a:pt x="174" y="173"/>
                </a:cubicBezTo>
                <a:cubicBezTo>
                  <a:pt x="176" y="184"/>
                  <a:pt x="177" y="196"/>
                  <a:pt x="180" y="207"/>
                </a:cubicBezTo>
                <a:cubicBezTo>
                  <a:pt x="182" y="213"/>
                  <a:pt x="185" y="218"/>
                  <a:pt x="188" y="223"/>
                </a:cubicBezTo>
                <a:cubicBezTo>
                  <a:pt x="186" y="221"/>
                  <a:pt x="184" y="218"/>
                  <a:pt x="182" y="216"/>
                </a:cubicBezTo>
                <a:cubicBezTo>
                  <a:pt x="175" y="206"/>
                  <a:pt x="169" y="195"/>
                  <a:pt x="167" y="183"/>
                </a:cubicBezTo>
                <a:cubicBezTo>
                  <a:pt x="164" y="171"/>
                  <a:pt x="162" y="159"/>
                  <a:pt x="161" y="148"/>
                </a:cubicBezTo>
                <a:cubicBezTo>
                  <a:pt x="160" y="142"/>
                  <a:pt x="160" y="137"/>
                  <a:pt x="159" y="132"/>
                </a:cubicBezTo>
                <a:cubicBezTo>
                  <a:pt x="159" y="127"/>
                  <a:pt x="158" y="123"/>
                  <a:pt x="158" y="118"/>
                </a:cubicBezTo>
                <a:cubicBezTo>
                  <a:pt x="158" y="118"/>
                  <a:pt x="158" y="118"/>
                  <a:pt x="158" y="117"/>
                </a:cubicBezTo>
                <a:cubicBezTo>
                  <a:pt x="159" y="119"/>
                  <a:pt x="160" y="120"/>
                  <a:pt x="161" y="121"/>
                </a:cubicBezTo>
                <a:close/>
                <a:moveTo>
                  <a:pt x="184" y="312"/>
                </a:moveTo>
                <a:cubicBezTo>
                  <a:pt x="182" y="304"/>
                  <a:pt x="181" y="297"/>
                  <a:pt x="181" y="290"/>
                </a:cubicBezTo>
                <a:cubicBezTo>
                  <a:pt x="181" y="288"/>
                  <a:pt x="181" y="286"/>
                  <a:pt x="182" y="284"/>
                </a:cubicBezTo>
                <a:cubicBezTo>
                  <a:pt x="185" y="294"/>
                  <a:pt x="191" y="303"/>
                  <a:pt x="198" y="311"/>
                </a:cubicBezTo>
                <a:cubicBezTo>
                  <a:pt x="202" y="315"/>
                  <a:pt x="206" y="320"/>
                  <a:pt x="211" y="324"/>
                </a:cubicBezTo>
                <a:cubicBezTo>
                  <a:pt x="210" y="328"/>
                  <a:pt x="211" y="332"/>
                  <a:pt x="209" y="336"/>
                </a:cubicBezTo>
                <a:cubicBezTo>
                  <a:pt x="208" y="338"/>
                  <a:pt x="207" y="344"/>
                  <a:pt x="204" y="345"/>
                </a:cubicBezTo>
                <a:cubicBezTo>
                  <a:pt x="202" y="347"/>
                  <a:pt x="197" y="345"/>
                  <a:pt x="194" y="344"/>
                </a:cubicBezTo>
                <a:cubicBezTo>
                  <a:pt x="192" y="339"/>
                  <a:pt x="189" y="335"/>
                  <a:pt x="188" y="329"/>
                </a:cubicBezTo>
                <a:cubicBezTo>
                  <a:pt x="186" y="324"/>
                  <a:pt x="185" y="318"/>
                  <a:pt x="184" y="312"/>
                </a:cubicBezTo>
                <a:close/>
                <a:moveTo>
                  <a:pt x="208" y="347"/>
                </a:moveTo>
                <a:cubicBezTo>
                  <a:pt x="210" y="344"/>
                  <a:pt x="211" y="340"/>
                  <a:pt x="212" y="336"/>
                </a:cubicBezTo>
                <a:cubicBezTo>
                  <a:pt x="213" y="333"/>
                  <a:pt x="213" y="330"/>
                  <a:pt x="213" y="327"/>
                </a:cubicBezTo>
                <a:cubicBezTo>
                  <a:pt x="218" y="331"/>
                  <a:pt x="223" y="335"/>
                  <a:pt x="229" y="338"/>
                </a:cubicBezTo>
                <a:cubicBezTo>
                  <a:pt x="230" y="338"/>
                  <a:pt x="230" y="338"/>
                  <a:pt x="231" y="338"/>
                </a:cubicBezTo>
                <a:cubicBezTo>
                  <a:pt x="229" y="341"/>
                  <a:pt x="229" y="345"/>
                  <a:pt x="228" y="348"/>
                </a:cubicBezTo>
                <a:cubicBezTo>
                  <a:pt x="228" y="354"/>
                  <a:pt x="228" y="359"/>
                  <a:pt x="229" y="364"/>
                </a:cubicBezTo>
                <a:cubicBezTo>
                  <a:pt x="230" y="370"/>
                  <a:pt x="234" y="376"/>
                  <a:pt x="235" y="382"/>
                </a:cubicBezTo>
                <a:cubicBezTo>
                  <a:pt x="236" y="386"/>
                  <a:pt x="235" y="390"/>
                  <a:pt x="235" y="395"/>
                </a:cubicBezTo>
                <a:cubicBezTo>
                  <a:pt x="235" y="400"/>
                  <a:pt x="235" y="405"/>
                  <a:pt x="236" y="410"/>
                </a:cubicBezTo>
                <a:cubicBezTo>
                  <a:pt x="236" y="412"/>
                  <a:pt x="236" y="413"/>
                  <a:pt x="236" y="415"/>
                </a:cubicBezTo>
                <a:cubicBezTo>
                  <a:pt x="235" y="414"/>
                  <a:pt x="234" y="413"/>
                  <a:pt x="232" y="412"/>
                </a:cubicBezTo>
                <a:cubicBezTo>
                  <a:pt x="227" y="411"/>
                  <a:pt x="224" y="414"/>
                  <a:pt x="219" y="414"/>
                </a:cubicBezTo>
                <a:cubicBezTo>
                  <a:pt x="217" y="414"/>
                  <a:pt x="215" y="414"/>
                  <a:pt x="214" y="415"/>
                </a:cubicBezTo>
                <a:cubicBezTo>
                  <a:pt x="213" y="408"/>
                  <a:pt x="211" y="402"/>
                  <a:pt x="211" y="396"/>
                </a:cubicBezTo>
                <a:cubicBezTo>
                  <a:pt x="210" y="390"/>
                  <a:pt x="209" y="384"/>
                  <a:pt x="208" y="377"/>
                </a:cubicBezTo>
                <a:cubicBezTo>
                  <a:pt x="207" y="372"/>
                  <a:pt x="206" y="367"/>
                  <a:pt x="203" y="362"/>
                </a:cubicBezTo>
                <a:cubicBezTo>
                  <a:pt x="200" y="358"/>
                  <a:pt x="198" y="353"/>
                  <a:pt x="195" y="347"/>
                </a:cubicBezTo>
                <a:cubicBezTo>
                  <a:pt x="195" y="347"/>
                  <a:pt x="195" y="347"/>
                  <a:pt x="195" y="347"/>
                </a:cubicBezTo>
                <a:cubicBezTo>
                  <a:pt x="200" y="348"/>
                  <a:pt x="204" y="350"/>
                  <a:pt x="208" y="347"/>
                </a:cubicBezTo>
                <a:close/>
                <a:moveTo>
                  <a:pt x="233" y="367"/>
                </a:moveTo>
                <a:cubicBezTo>
                  <a:pt x="232" y="361"/>
                  <a:pt x="231" y="355"/>
                  <a:pt x="232" y="348"/>
                </a:cubicBezTo>
                <a:cubicBezTo>
                  <a:pt x="232" y="346"/>
                  <a:pt x="233" y="342"/>
                  <a:pt x="233" y="339"/>
                </a:cubicBezTo>
                <a:cubicBezTo>
                  <a:pt x="240" y="343"/>
                  <a:pt x="248" y="347"/>
                  <a:pt x="255" y="346"/>
                </a:cubicBezTo>
                <a:cubicBezTo>
                  <a:pt x="250" y="353"/>
                  <a:pt x="246" y="361"/>
                  <a:pt x="242" y="368"/>
                </a:cubicBezTo>
                <a:cubicBezTo>
                  <a:pt x="240" y="372"/>
                  <a:pt x="239" y="376"/>
                  <a:pt x="238" y="380"/>
                </a:cubicBezTo>
                <a:cubicBezTo>
                  <a:pt x="237" y="375"/>
                  <a:pt x="235" y="371"/>
                  <a:pt x="233" y="367"/>
                </a:cubicBezTo>
                <a:close/>
                <a:moveTo>
                  <a:pt x="246" y="367"/>
                </a:moveTo>
                <a:cubicBezTo>
                  <a:pt x="252" y="355"/>
                  <a:pt x="260" y="342"/>
                  <a:pt x="271" y="334"/>
                </a:cubicBezTo>
                <a:cubicBezTo>
                  <a:pt x="281" y="327"/>
                  <a:pt x="291" y="320"/>
                  <a:pt x="303" y="315"/>
                </a:cubicBezTo>
                <a:cubicBezTo>
                  <a:pt x="308" y="314"/>
                  <a:pt x="313" y="312"/>
                  <a:pt x="318" y="311"/>
                </a:cubicBezTo>
                <a:cubicBezTo>
                  <a:pt x="325" y="310"/>
                  <a:pt x="331" y="309"/>
                  <a:pt x="338" y="309"/>
                </a:cubicBezTo>
                <a:cubicBezTo>
                  <a:pt x="348" y="308"/>
                  <a:pt x="358" y="309"/>
                  <a:pt x="368" y="311"/>
                </a:cubicBezTo>
                <a:cubicBezTo>
                  <a:pt x="371" y="311"/>
                  <a:pt x="410" y="317"/>
                  <a:pt x="409" y="321"/>
                </a:cubicBezTo>
                <a:cubicBezTo>
                  <a:pt x="409" y="321"/>
                  <a:pt x="409" y="321"/>
                  <a:pt x="409" y="322"/>
                </a:cubicBezTo>
                <a:cubicBezTo>
                  <a:pt x="409" y="322"/>
                  <a:pt x="409" y="322"/>
                  <a:pt x="409" y="322"/>
                </a:cubicBezTo>
                <a:cubicBezTo>
                  <a:pt x="409" y="322"/>
                  <a:pt x="408" y="323"/>
                  <a:pt x="408" y="324"/>
                </a:cubicBezTo>
                <a:cubicBezTo>
                  <a:pt x="408" y="323"/>
                  <a:pt x="408" y="323"/>
                  <a:pt x="408" y="323"/>
                </a:cubicBezTo>
                <a:cubicBezTo>
                  <a:pt x="394" y="317"/>
                  <a:pt x="378" y="315"/>
                  <a:pt x="363" y="314"/>
                </a:cubicBezTo>
                <a:cubicBezTo>
                  <a:pt x="355" y="314"/>
                  <a:pt x="348" y="315"/>
                  <a:pt x="340" y="314"/>
                </a:cubicBezTo>
                <a:cubicBezTo>
                  <a:pt x="333" y="314"/>
                  <a:pt x="327" y="314"/>
                  <a:pt x="320" y="314"/>
                </a:cubicBezTo>
                <a:cubicBezTo>
                  <a:pt x="306" y="316"/>
                  <a:pt x="291" y="323"/>
                  <a:pt x="280" y="330"/>
                </a:cubicBezTo>
                <a:cubicBezTo>
                  <a:pt x="267" y="338"/>
                  <a:pt x="257" y="349"/>
                  <a:pt x="253" y="363"/>
                </a:cubicBezTo>
                <a:cubicBezTo>
                  <a:pt x="252" y="363"/>
                  <a:pt x="254" y="364"/>
                  <a:pt x="254" y="363"/>
                </a:cubicBezTo>
                <a:cubicBezTo>
                  <a:pt x="261" y="349"/>
                  <a:pt x="272" y="338"/>
                  <a:pt x="286" y="330"/>
                </a:cubicBezTo>
                <a:cubicBezTo>
                  <a:pt x="299" y="324"/>
                  <a:pt x="312" y="317"/>
                  <a:pt x="327" y="317"/>
                </a:cubicBezTo>
                <a:cubicBezTo>
                  <a:pt x="333" y="317"/>
                  <a:pt x="340" y="318"/>
                  <a:pt x="347" y="318"/>
                </a:cubicBezTo>
                <a:cubicBezTo>
                  <a:pt x="353" y="317"/>
                  <a:pt x="360" y="317"/>
                  <a:pt x="367" y="318"/>
                </a:cubicBezTo>
                <a:cubicBezTo>
                  <a:pt x="374" y="319"/>
                  <a:pt x="382" y="320"/>
                  <a:pt x="389" y="321"/>
                </a:cubicBezTo>
                <a:cubicBezTo>
                  <a:pt x="395" y="322"/>
                  <a:pt x="402" y="325"/>
                  <a:pt x="408" y="324"/>
                </a:cubicBezTo>
                <a:cubicBezTo>
                  <a:pt x="408" y="324"/>
                  <a:pt x="408" y="324"/>
                  <a:pt x="408" y="324"/>
                </a:cubicBezTo>
                <a:cubicBezTo>
                  <a:pt x="408" y="325"/>
                  <a:pt x="407" y="327"/>
                  <a:pt x="407" y="328"/>
                </a:cubicBezTo>
                <a:cubicBezTo>
                  <a:pt x="401" y="325"/>
                  <a:pt x="394" y="326"/>
                  <a:pt x="387" y="326"/>
                </a:cubicBezTo>
                <a:cubicBezTo>
                  <a:pt x="379" y="325"/>
                  <a:pt x="371" y="323"/>
                  <a:pt x="363" y="322"/>
                </a:cubicBezTo>
                <a:cubicBezTo>
                  <a:pt x="363" y="322"/>
                  <a:pt x="363" y="323"/>
                  <a:pt x="363" y="323"/>
                </a:cubicBezTo>
                <a:cubicBezTo>
                  <a:pt x="369" y="325"/>
                  <a:pt x="377" y="326"/>
                  <a:pt x="384" y="327"/>
                </a:cubicBezTo>
                <a:cubicBezTo>
                  <a:pt x="392" y="327"/>
                  <a:pt x="399" y="327"/>
                  <a:pt x="407" y="330"/>
                </a:cubicBezTo>
                <a:cubicBezTo>
                  <a:pt x="407" y="330"/>
                  <a:pt x="407" y="331"/>
                  <a:pt x="406" y="331"/>
                </a:cubicBezTo>
                <a:cubicBezTo>
                  <a:pt x="402" y="332"/>
                  <a:pt x="399" y="331"/>
                  <a:pt x="395" y="331"/>
                </a:cubicBezTo>
                <a:cubicBezTo>
                  <a:pt x="391" y="331"/>
                  <a:pt x="388" y="331"/>
                  <a:pt x="385" y="330"/>
                </a:cubicBezTo>
                <a:cubicBezTo>
                  <a:pt x="384" y="330"/>
                  <a:pt x="383" y="331"/>
                  <a:pt x="384" y="331"/>
                </a:cubicBezTo>
                <a:cubicBezTo>
                  <a:pt x="387" y="334"/>
                  <a:pt x="390" y="333"/>
                  <a:pt x="394" y="333"/>
                </a:cubicBezTo>
                <a:cubicBezTo>
                  <a:pt x="398" y="333"/>
                  <a:pt x="402" y="334"/>
                  <a:pt x="406" y="334"/>
                </a:cubicBezTo>
                <a:cubicBezTo>
                  <a:pt x="406" y="335"/>
                  <a:pt x="406" y="336"/>
                  <a:pt x="406" y="337"/>
                </a:cubicBezTo>
                <a:cubicBezTo>
                  <a:pt x="406" y="337"/>
                  <a:pt x="406" y="337"/>
                  <a:pt x="405" y="336"/>
                </a:cubicBezTo>
                <a:cubicBezTo>
                  <a:pt x="405" y="336"/>
                  <a:pt x="405" y="335"/>
                  <a:pt x="405" y="335"/>
                </a:cubicBezTo>
                <a:cubicBezTo>
                  <a:pt x="398" y="336"/>
                  <a:pt x="392" y="337"/>
                  <a:pt x="386" y="338"/>
                </a:cubicBezTo>
                <a:cubicBezTo>
                  <a:pt x="381" y="338"/>
                  <a:pt x="375" y="338"/>
                  <a:pt x="370" y="338"/>
                </a:cubicBezTo>
                <a:cubicBezTo>
                  <a:pt x="369" y="339"/>
                  <a:pt x="369" y="339"/>
                  <a:pt x="370" y="339"/>
                </a:cubicBezTo>
                <a:cubicBezTo>
                  <a:pt x="376" y="340"/>
                  <a:pt x="382" y="339"/>
                  <a:pt x="388" y="338"/>
                </a:cubicBezTo>
                <a:cubicBezTo>
                  <a:pt x="393" y="338"/>
                  <a:pt x="398" y="338"/>
                  <a:pt x="403" y="337"/>
                </a:cubicBezTo>
                <a:cubicBezTo>
                  <a:pt x="399" y="339"/>
                  <a:pt x="396" y="341"/>
                  <a:pt x="391" y="341"/>
                </a:cubicBezTo>
                <a:cubicBezTo>
                  <a:pt x="388" y="342"/>
                  <a:pt x="384" y="342"/>
                  <a:pt x="380" y="343"/>
                </a:cubicBezTo>
                <a:cubicBezTo>
                  <a:pt x="372" y="343"/>
                  <a:pt x="365" y="343"/>
                  <a:pt x="357" y="344"/>
                </a:cubicBezTo>
                <a:cubicBezTo>
                  <a:pt x="357" y="345"/>
                  <a:pt x="357" y="345"/>
                  <a:pt x="357" y="345"/>
                </a:cubicBezTo>
                <a:cubicBezTo>
                  <a:pt x="366" y="345"/>
                  <a:pt x="375" y="345"/>
                  <a:pt x="383" y="344"/>
                </a:cubicBezTo>
                <a:cubicBezTo>
                  <a:pt x="387" y="344"/>
                  <a:pt x="391" y="343"/>
                  <a:pt x="395" y="342"/>
                </a:cubicBezTo>
                <a:cubicBezTo>
                  <a:pt x="399" y="341"/>
                  <a:pt x="402" y="341"/>
                  <a:pt x="405" y="338"/>
                </a:cubicBezTo>
                <a:cubicBezTo>
                  <a:pt x="406" y="338"/>
                  <a:pt x="406" y="338"/>
                  <a:pt x="406" y="338"/>
                </a:cubicBezTo>
                <a:cubicBezTo>
                  <a:pt x="406" y="338"/>
                  <a:pt x="406" y="339"/>
                  <a:pt x="406" y="340"/>
                </a:cubicBezTo>
                <a:cubicBezTo>
                  <a:pt x="406" y="340"/>
                  <a:pt x="406" y="340"/>
                  <a:pt x="406" y="340"/>
                </a:cubicBezTo>
                <a:cubicBezTo>
                  <a:pt x="401" y="339"/>
                  <a:pt x="397" y="343"/>
                  <a:pt x="392" y="344"/>
                </a:cubicBezTo>
                <a:cubicBezTo>
                  <a:pt x="389" y="345"/>
                  <a:pt x="385" y="345"/>
                  <a:pt x="382" y="346"/>
                </a:cubicBezTo>
                <a:cubicBezTo>
                  <a:pt x="378" y="347"/>
                  <a:pt x="374" y="348"/>
                  <a:pt x="370" y="348"/>
                </a:cubicBezTo>
                <a:cubicBezTo>
                  <a:pt x="363" y="348"/>
                  <a:pt x="354" y="348"/>
                  <a:pt x="347" y="347"/>
                </a:cubicBezTo>
                <a:cubicBezTo>
                  <a:pt x="339" y="346"/>
                  <a:pt x="331" y="344"/>
                  <a:pt x="324" y="344"/>
                </a:cubicBezTo>
                <a:cubicBezTo>
                  <a:pt x="323" y="344"/>
                  <a:pt x="323" y="345"/>
                  <a:pt x="324" y="346"/>
                </a:cubicBezTo>
                <a:cubicBezTo>
                  <a:pt x="332" y="348"/>
                  <a:pt x="340" y="348"/>
                  <a:pt x="349" y="349"/>
                </a:cubicBezTo>
                <a:cubicBezTo>
                  <a:pt x="355" y="351"/>
                  <a:pt x="362" y="351"/>
                  <a:pt x="368" y="350"/>
                </a:cubicBezTo>
                <a:cubicBezTo>
                  <a:pt x="376" y="349"/>
                  <a:pt x="382" y="347"/>
                  <a:pt x="389" y="346"/>
                </a:cubicBezTo>
                <a:cubicBezTo>
                  <a:pt x="390" y="346"/>
                  <a:pt x="391" y="345"/>
                  <a:pt x="392" y="345"/>
                </a:cubicBezTo>
                <a:cubicBezTo>
                  <a:pt x="390" y="346"/>
                  <a:pt x="388" y="347"/>
                  <a:pt x="386" y="347"/>
                </a:cubicBezTo>
                <a:cubicBezTo>
                  <a:pt x="379" y="349"/>
                  <a:pt x="371" y="350"/>
                  <a:pt x="365" y="353"/>
                </a:cubicBezTo>
                <a:cubicBezTo>
                  <a:pt x="364" y="353"/>
                  <a:pt x="364" y="353"/>
                  <a:pt x="365" y="353"/>
                </a:cubicBezTo>
                <a:cubicBezTo>
                  <a:pt x="368" y="354"/>
                  <a:pt x="372" y="352"/>
                  <a:pt x="375" y="352"/>
                </a:cubicBezTo>
                <a:cubicBezTo>
                  <a:pt x="381" y="350"/>
                  <a:pt x="386" y="349"/>
                  <a:pt x="392" y="347"/>
                </a:cubicBezTo>
                <a:cubicBezTo>
                  <a:pt x="393" y="347"/>
                  <a:pt x="406" y="343"/>
                  <a:pt x="406" y="341"/>
                </a:cubicBezTo>
                <a:cubicBezTo>
                  <a:pt x="406" y="341"/>
                  <a:pt x="406" y="341"/>
                  <a:pt x="406" y="341"/>
                </a:cubicBezTo>
                <a:cubicBezTo>
                  <a:pt x="406" y="342"/>
                  <a:pt x="406" y="343"/>
                  <a:pt x="406" y="344"/>
                </a:cubicBezTo>
                <a:cubicBezTo>
                  <a:pt x="405" y="344"/>
                  <a:pt x="403" y="345"/>
                  <a:pt x="401" y="346"/>
                </a:cubicBezTo>
                <a:cubicBezTo>
                  <a:pt x="400" y="347"/>
                  <a:pt x="398" y="348"/>
                  <a:pt x="397" y="350"/>
                </a:cubicBezTo>
                <a:cubicBezTo>
                  <a:pt x="396" y="350"/>
                  <a:pt x="397" y="350"/>
                  <a:pt x="397" y="350"/>
                </a:cubicBezTo>
                <a:cubicBezTo>
                  <a:pt x="395" y="350"/>
                  <a:pt x="393" y="351"/>
                  <a:pt x="392" y="352"/>
                </a:cubicBezTo>
                <a:cubicBezTo>
                  <a:pt x="387" y="353"/>
                  <a:pt x="382" y="356"/>
                  <a:pt x="378" y="359"/>
                </a:cubicBezTo>
                <a:cubicBezTo>
                  <a:pt x="368" y="365"/>
                  <a:pt x="358" y="370"/>
                  <a:pt x="347" y="372"/>
                </a:cubicBezTo>
                <a:cubicBezTo>
                  <a:pt x="346" y="372"/>
                  <a:pt x="346" y="373"/>
                  <a:pt x="347" y="373"/>
                </a:cubicBezTo>
                <a:cubicBezTo>
                  <a:pt x="352" y="373"/>
                  <a:pt x="357" y="372"/>
                  <a:pt x="362" y="370"/>
                </a:cubicBezTo>
                <a:cubicBezTo>
                  <a:pt x="367" y="368"/>
                  <a:pt x="373" y="365"/>
                  <a:pt x="377" y="362"/>
                </a:cubicBezTo>
                <a:cubicBezTo>
                  <a:pt x="383" y="358"/>
                  <a:pt x="389" y="355"/>
                  <a:pt x="396" y="353"/>
                </a:cubicBezTo>
                <a:cubicBezTo>
                  <a:pt x="399" y="352"/>
                  <a:pt x="404" y="352"/>
                  <a:pt x="407" y="350"/>
                </a:cubicBezTo>
                <a:cubicBezTo>
                  <a:pt x="407" y="350"/>
                  <a:pt x="407" y="351"/>
                  <a:pt x="407" y="352"/>
                </a:cubicBezTo>
                <a:cubicBezTo>
                  <a:pt x="406" y="352"/>
                  <a:pt x="404" y="352"/>
                  <a:pt x="403" y="353"/>
                </a:cubicBezTo>
                <a:cubicBezTo>
                  <a:pt x="403" y="353"/>
                  <a:pt x="403" y="353"/>
                  <a:pt x="403" y="353"/>
                </a:cubicBezTo>
                <a:cubicBezTo>
                  <a:pt x="404" y="353"/>
                  <a:pt x="406" y="353"/>
                  <a:pt x="407" y="352"/>
                </a:cubicBezTo>
                <a:cubicBezTo>
                  <a:pt x="407" y="352"/>
                  <a:pt x="407" y="352"/>
                  <a:pt x="408" y="352"/>
                </a:cubicBezTo>
                <a:cubicBezTo>
                  <a:pt x="408" y="353"/>
                  <a:pt x="408" y="353"/>
                  <a:pt x="408" y="354"/>
                </a:cubicBezTo>
                <a:cubicBezTo>
                  <a:pt x="408" y="354"/>
                  <a:pt x="408" y="354"/>
                  <a:pt x="408" y="354"/>
                </a:cubicBezTo>
                <a:cubicBezTo>
                  <a:pt x="405" y="354"/>
                  <a:pt x="402" y="356"/>
                  <a:pt x="400" y="357"/>
                </a:cubicBezTo>
                <a:cubicBezTo>
                  <a:pt x="399" y="358"/>
                  <a:pt x="400" y="358"/>
                  <a:pt x="400" y="358"/>
                </a:cubicBezTo>
                <a:cubicBezTo>
                  <a:pt x="403" y="357"/>
                  <a:pt x="406" y="357"/>
                  <a:pt x="408" y="355"/>
                </a:cubicBezTo>
                <a:cubicBezTo>
                  <a:pt x="408" y="355"/>
                  <a:pt x="408" y="355"/>
                  <a:pt x="408" y="355"/>
                </a:cubicBezTo>
                <a:cubicBezTo>
                  <a:pt x="409" y="360"/>
                  <a:pt x="411" y="365"/>
                  <a:pt x="412" y="370"/>
                </a:cubicBezTo>
                <a:cubicBezTo>
                  <a:pt x="403" y="375"/>
                  <a:pt x="397" y="386"/>
                  <a:pt x="391" y="394"/>
                </a:cubicBezTo>
                <a:cubicBezTo>
                  <a:pt x="391" y="394"/>
                  <a:pt x="391" y="395"/>
                  <a:pt x="391" y="395"/>
                </a:cubicBezTo>
                <a:cubicBezTo>
                  <a:pt x="395" y="391"/>
                  <a:pt x="398" y="386"/>
                  <a:pt x="402" y="382"/>
                </a:cubicBezTo>
                <a:cubicBezTo>
                  <a:pt x="405" y="379"/>
                  <a:pt x="409" y="375"/>
                  <a:pt x="413" y="371"/>
                </a:cubicBezTo>
                <a:cubicBezTo>
                  <a:pt x="414" y="375"/>
                  <a:pt x="415" y="378"/>
                  <a:pt x="416" y="381"/>
                </a:cubicBezTo>
                <a:cubicBezTo>
                  <a:pt x="412" y="382"/>
                  <a:pt x="406" y="387"/>
                  <a:pt x="403" y="389"/>
                </a:cubicBezTo>
                <a:cubicBezTo>
                  <a:pt x="398" y="393"/>
                  <a:pt x="392" y="399"/>
                  <a:pt x="389" y="405"/>
                </a:cubicBezTo>
                <a:cubicBezTo>
                  <a:pt x="389" y="406"/>
                  <a:pt x="390" y="407"/>
                  <a:pt x="390" y="406"/>
                </a:cubicBezTo>
                <a:cubicBezTo>
                  <a:pt x="394" y="400"/>
                  <a:pt x="398" y="396"/>
                  <a:pt x="404" y="391"/>
                </a:cubicBezTo>
                <a:cubicBezTo>
                  <a:pt x="406" y="389"/>
                  <a:pt x="410" y="386"/>
                  <a:pt x="413" y="385"/>
                </a:cubicBezTo>
                <a:cubicBezTo>
                  <a:pt x="414" y="384"/>
                  <a:pt x="416" y="384"/>
                  <a:pt x="417" y="383"/>
                </a:cubicBezTo>
                <a:cubicBezTo>
                  <a:pt x="417" y="384"/>
                  <a:pt x="417" y="385"/>
                  <a:pt x="418" y="386"/>
                </a:cubicBezTo>
                <a:cubicBezTo>
                  <a:pt x="413" y="387"/>
                  <a:pt x="407" y="395"/>
                  <a:pt x="404" y="398"/>
                </a:cubicBezTo>
                <a:cubicBezTo>
                  <a:pt x="402" y="401"/>
                  <a:pt x="399" y="404"/>
                  <a:pt x="396" y="407"/>
                </a:cubicBezTo>
                <a:cubicBezTo>
                  <a:pt x="393" y="412"/>
                  <a:pt x="389" y="417"/>
                  <a:pt x="387" y="422"/>
                </a:cubicBezTo>
                <a:cubicBezTo>
                  <a:pt x="387" y="423"/>
                  <a:pt x="388" y="423"/>
                  <a:pt x="388" y="422"/>
                </a:cubicBezTo>
                <a:cubicBezTo>
                  <a:pt x="392" y="419"/>
                  <a:pt x="393" y="414"/>
                  <a:pt x="396" y="410"/>
                </a:cubicBezTo>
                <a:cubicBezTo>
                  <a:pt x="399" y="406"/>
                  <a:pt x="401" y="403"/>
                  <a:pt x="404" y="400"/>
                </a:cubicBezTo>
                <a:cubicBezTo>
                  <a:pt x="407" y="397"/>
                  <a:pt x="410" y="394"/>
                  <a:pt x="412" y="392"/>
                </a:cubicBezTo>
                <a:cubicBezTo>
                  <a:pt x="414" y="390"/>
                  <a:pt x="416" y="388"/>
                  <a:pt x="418" y="387"/>
                </a:cubicBezTo>
                <a:cubicBezTo>
                  <a:pt x="419" y="389"/>
                  <a:pt x="419" y="390"/>
                  <a:pt x="420" y="392"/>
                </a:cubicBezTo>
                <a:cubicBezTo>
                  <a:pt x="415" y="394"/>
                  <a:pt x="413" y="399"/>
                  <a:pt x="409" y="402"/>
                </a:cubicBezTo>
                <a:cubicBezTo>
                  <a:pt x="407" y="404"/>
                  <a:pt x="402" y="409"/>
                  <a:pt x="404" y="412"/>
                </a:cubicBezTo>
                <a:cubicBezTo>
                  <a:pt x="404" y="413"/>
                  <a:pt x="404" y="413"/>
                  <a:pt x="404" y="412"/>
                </a:cubicBezTo>
                <a:cubicBezTo>
                  <a:pt x="407" y="408"/>
                  <a:pt x="408" y="404"/>
                  <a:pt x="412" y="400"/>
                </a:cubicBezTo>
                <a:cubicBezTo>
                  <a:pt x="415" y="398"/>
                  <a:pt x="418" y="395"/>
                  <a:pt x="420" y="393"/>
                </a:cubicBezTo>
                <a:cubicBezTo>
                  <a:pt x="421" y="394"/>
                  <a:pt x="422" y="396"/>
                  <a:pt x="423" y="397"/>
                </a:cubicBezTo>
                <a:cubicBezTo>
                  <a:pt x="421" y="399"/>
                  <a:pt x="419" y="403"/>
                  <a:pt x="418" y="405"/>
                </a:cubicBezTo>
                <a:cubicBezTo>
                  <a:pt x="418" y="406"/>
                  <a:pt x="419" y="406"/>
                  <a:pt x="419" y="406"/>
                </a:cubicBezTo>
                <a:cubicBezTo>
                  <a:pt x="421" y="404"/>
                  <a:pt x="422" y="401"/>
                  <a:pt x="424" y="398"/>
                </a:cubicBezTo>
                <a:cubicBezTo>
                  <a:pt x="424" y="399"/>
                  <a:pt x="424" y="400"/>
                  <a:pt x="425" y="400"/>
                </a:cubicBezTo>
                <a:cubicBezTo>
                  <a:pt x="426" y="402"/>
                  <a:pt x="428" y="404"/>
                  <a:pt x="429" y="405"/>
                </a:cubicBezTo>
                <a:cubicBezTo>
                  <a:pt x="428" y="407"/>
                  <a:pt x="427" y="409"/>
                  <a:pt x="426" y="410"/>
                </a:cubicBezTo>
                <a:cubicBezTo>
                  <a:pt x="424" y="414"/>
                  <a:pt x="421" y="417"/>
                  <a:pt x="419" y="421"/>
                </a:cubicBezTo>
                <a:cubicBezTo>
                  <a:pt x="413" y="430"/>
                  <a:pt x="407" y="439"/>
                  <a:pt x="399" y="447"/>
                </a:cubicBezTo>
                <a:cubicBezTo>
                  <a:pt x="384" y="462"/>
                  <a:pt x="366" y="470"/>
                  <a:pt x="347" y="478"/>
                </a:cubicBezTo>
                <a:cubicBezTo>
                  <a:pt x="347" y="478"/>
                  <a:pt x="347" y="478"/>
                  <a:pt x="347" y="478"/>
                </a:cubicBezTo>
                <a:cubicBezTo>
                  <a:pt x="342" y="480"/>
                  <a:pt x="337" y="482"/>
                  <a:pt x="331" y="483"/>
                </a:cubicBezTo>
                <a:cubicBezTo>
                  <a:pt x="330" y="483"/>
                  <a:pt x="329" y="484"/>
                  <a:pt x="328" y="484"/>
                </a:cubicBezTo>
                <a:cubicBezTo>
                  <a:pt x="313" y="486"/>
                  <a:pt x="298" y="483"/>
                  <a:pt x="285" y="475"/>
                </a:cubicBezTo>
                <a:cubicBezTo>
                  <a:pt x="281" y="472"/>
                  <a:pt x="275" y="468"/>
                  <a:pt x="272" y="464"/>
                </a:cubicBezTo>
                <a:cubicBezTo>
                  <a:pt x="270" y="461"/>
                  <a:pt x="268" y="456"/>
                  <a:pt x="264" y="454"/>
                </a:cubicBezTo>
                <a:cubicBezTo>
                  <a:pt x="254" y="449"/>
                  <a:pt x="253" y="437"/>
                  <a:pt x="250" y="427"/>
                </a:cubicBezTo>
                <a:cubicBezTo>
                  <a:pt x="249" y="426"/>
                  <a:pt x="248" y="426"/>
                  <a:pt x="248" y="427"/>
                </a:cubicBezTo>
                <a:cubicBezTo>
                  <a:pt x="248" y="432"/>
                  <a:pt x="249" y="438"/>
                  <a:pt x="250" y="444"/>
                </a:cubicBezTo>
                <a:cubicBezTo>
                  <a:pt x="250" y="443"/>
                  <a:pt x="249" y="443"/>
                  <a:pt x="249" y="442"/>
                </a:cubicBezTo>
                <a:cubicBezTo>
                  <a:pt x="247" y="439"/>
                  <a:pt x="245" y="436"/>
                  <a:pt x="244" y="432"/>
                </a:cubicBezTo>
                <a:cubicBezTo>
                  <a:pt x="242" y="425"/>
                  <a:pt x="240" y="417"/>
                  <a:pt x="239" y="410"/>
                </a:cubicBezTo>
                <a:cubicBezTo>
                  <a:pt x="237" y="395"/>
                  <a:pt x="240" y="381"/>
                  <a:pt x="246" y="367"/>
                </a:cubicBezTo>
                <a:close/>
                <a:moveTo>
                  <a:pt x="407" y="347"/>
                </a:moveTo>
                <a:cubicBezTo>
                  <a:pt x="406" y="347"/>
                  <a:pt x="406" y="348"/>
                  <a:pt x="406" y="348"/>
                </a:cubicBezTo>
                <a:cubicBezTo>
                  <a:pt x="406" y="347"/>
                  <a:pt x="402" y="348"/>
                  <a:pt x="401" y="349"/>
                </a:cubicBezTo>
                <a:cubicBezTo>
                  <a:pt x="400" y="349"/>
                  <a:pt x="399" y="349"/>
                  <a:pt x="398" y="350"/>
                </a:cubicBezTo>
                <a:cubicBezTo>
                  <a:pt x="399" y="349"/>
                  <a:pt x="401" y="348"/>
                  <a:pt x="402" y="347"/>
                </a:cubicBezTo>
                <a:cubicBezTo>
                  <a:pt x="404" y="346"/>
                  <a:pt x="405" y="346"/>
                  <a:pt x="406" y="345"/>
                </a:cubicBezTo>
                <a:cubicBezTo>
                  <a:pt x="406" y="346"/>
                  <a:pt x="407" y="347"/>
                  <a:pt x="407" y="347"/>
                </a:cubicBezTo>
                <a:close/>
                <a:moveTo>
                  <a:pt x="449" y="263"/>
                </a:moveTo>
                <a:cubicBezTo>
                  <a:pt x="449" y="261"/>
                  <a:pt x="449" y="258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1" y="257"/>
                  <a:pt x="452" y="259"/>
                  <a:pt x="452" y="261"/>
                </a:cubicBezTo>
                <a:cubicBezTo>
                  <a:pt x="452" y="261"/>
                  <a:pt x="451" y="262"/>
                  <a:pt x="451" y="263"/>
                </a:cubicBezTo>
                <a:cubicBezTo>
                  <a:pt x="450" y="266"/>
                  <a:pt x="451" y="268"/>
                  <a:pt x="451" y="271"/>
                </a:cubicBezTo>
                <a:cubicBezTo>
                  <a:pt x="451" y="273"/>
                  <a:pt x="451" y="276"/>
                  <a:pt x="452" y="278"/>
                </a:cubicBezTo>
                <a:cubicBezTo>
                  <a:pt x="451" y="278"/>
                  <a:pt x="451" y="278"/>
                  <a:pt x="451" y="279"/>
                </a:cubicBezTo>
                <a:cubicBezTo>
                  <a:pt x="451" y="278"/>
                  <a:pt x="451" y="278"/>
                  <a:pt x="451" y="278"/>
                </a:cubicBezTo>
                <a:cubicBezTo>
                  <a:pt x="449" y="273"/>
                  <a:pt x="449" y="268"/>
                  <a:pt x="449" y="263"/>
                </a:cubicBezTo>
                <a:close/>
                <a:moveTo>
                  <a:pt x="448" y="255"/>
                </a:moveTo>
                <a:cubicBezTo>
                  <a:pt x="448" y="252"/>
                  <a:pt x="448" y="248"/>
                  <a:pt x="448" y="245"/>
                </a:cubicBezTo>
                <a:cubicBezTo>
                  <a:pt x="448" y="246"/>
                  <a:pt x="448" y="248"/>
                  <a:pt x="449" y="249"/>
                </a:cubicBezTo>
                <a:cubicBezTo>
                  <a:pt x="449" y="250"/>
                  <a:pt x="449" y="252"/>
                  <a:pt x="450" y="253"/>
                </a:cubicBezTo>
                <a:cubicBezTo>
                  <a:pt x="449" y="253"/>
                  <a:pt x="448" y="254"/>
                  <a:pt x="448" y="255"/>
                </a:cubicBezTo>
                <a:close/>
                <a:moveTo>
                  <a:pt x="450" y="283"/>
                </a:moveTo>
                <a:cubicBezTo>
                  <a:pt x="456" y="280"/>
                  <a:pt x="463" y="279"/>
                  <a:pt x="469" y="277"/>
                </a:cubicBezTo>
                <a:cubicBezTo>
                  <a:pt x="477" y="274"/>
                  <a:pt x="485" y="272"/>
                  <a:pt x="493" y="271"/>
                </a:cubicBezTo>
                <a:cubicBezTo>
                  <a:pt x="501" y="270"/>
                  <a:pt x="509" y="271"/>
                  <a:pt x="517" y="274"/>
                </a:cubicBezTo>
                <a:cubicBezTo>
                  <a:pt x="526" y="276"/>
                  <a:pt x="535" y="277"/>
                  <a:pt x="542" y="281"/>
                </a:cubicBezTo>
                <a:cubicBezTo>
                  <a:pt x="549" y="284"/>
                  <a:pt x="556" y="289"/>
                  <a:pt x="562" y="293"/>
                </a:cubicBezTo>
                <a:cubicBezTo>
                  <a:pt x="570" y="298"/>
                  <a:pt x="577" y="303"/>
                  <a:pt x="582" y="312"/>
                </a:cubicBezTo>
                <a:cubicBezTo>
                  <a:pt x="586" y="318"/>
                  <a:pt x="589" y="323"/>
                  <a:pt x="594" y="328"/>
                </a:cubicBezTo>
                <a:cubicBezTo>
                  <a:pt x="594" y="329"/>
                  <a:pt x="594" y="329"/>
                  <a:pt x="594" y="329"/>
                </a:cubicBezTo>
                <a:cubicBezTo>
                  <a:pt x="594" y="329"/>
                  <a:pt x="594" y="329"/>
                  <a:pt x="595" y="330"/>
                </a:cubicBezTo>
                <a:cubicBezTo>
                  <a:pt x="595" y="330"/>
                  <a:pt x="596" y="330"/>
                  <a:pt x="596" y="330"/>
                </a:cubicBezTo>
                <a:cubicBezTo>
                  <a:pt x="596" y="336"/>
                  <a:pt x="597" y="343"/>
                  <a:pt x="598" y="349"/>
                </a:cubicBezTo>
                <a:cubicBezTo>
                  <a:pt x="599" y="353"/>
                  <a:pt x="600" y="358"/>
                  <a:pt x="602" y="363"/>
                </a:cubicBezTo>
                <a:cubicBezTo>
                  <a:pt x="600" y="362"/>
                  <a:pt x="598" y="361"/>
                  <a:pt x="596" y="360"/>
                </a:cubicBezTo>
                <a:cubicBezTo>
                  <a:pt x="593" y="359"/>
                  <a:pt x="590" y="358"/>
                  <a:pt x="587" y="358"/>
                </a:cubicBezTo>
                <a:cubicBezTo>
                  <a:pt x="586" y="357"/>
                  <a:pt x="585" y="356"/>
                  <a:pt x="584" y="356"/>
                </a:cubicBezTo>
                <a:cubicBezTo>
                  <a:pt x="582" y="355"/>
                  <a:pt x="579" y="354"/>
                  <a:pt x="577" y="354"/>
                </a:cubicBezTo>
                <a:cubicBezTo>
                  <a:pt x="577" y="354"/>
                  <a:pt x="576" y="354"/>
                  <a:pt x="577" y="354"/>
                </a:cubicBezTo>
                <a:cubicBezTo>
                  <a:pt x="578" y="355"/>
                  <a:pt x="580" y="356"/>
                  <a:pt x="582" y="356"/>
                </a:cubicBezTo>
                <a:cubicBezTo>
                  <a:pt x="582" y="356"/>
                  <a:pt x="584" y="357"/>
                  <a:pt x="586" y="357"/>
                </a:cubicBezTo>
                <a:cubicBezTo>
                  <a:pt x="582" y="356"/>
                  <a:pt x="579" y="356"/>
                  <a:pt x="575" y="356"/>
                </a:cubicBezTo>
                <a:cubicBezTo>
                  <a:pt x="568" y="357"/>
                  <a:pt x="560" y="361"/>
                  <a:pt x="553" y="366"/>
                </a:cubicBezTo>
                <a:cubicBezTo>
                  <a:pt x="544" y="369"/>
                  <a:pt x="536" y="371"/>
                  <a:pt x="526" y="374"/>
                </a:cubicBezTo>
                <a:cubicBezTo>
                  <a:pt x="521" y="375"/>
                  <a:pt x="516" y="376"/>
                  <a:pt x="510" y="378"/>
                </a:cubicBezTo>
                <a:cubicBezTo>
                  <a:pt x="508" y="379"/>
                  <a:pt x="505" y="380"/>
                  <a:pt x="502" y="381"/>
                </a:cubicBezTo>
                <a:cubicBezTo>
                  <a:pt x="501" y="381"/>
                  <a:pt x="501" y="382"/>
                  <a:pt x="500" y="382"/>
                </a:cubicBezTo>
                <a:cubicBezTo>
                  <a:pt x="500" y="382"/>
                  <a:pt x="500" y="382"/>
                  <a:pt x="500" y="382"/>
                </a:cubicBezTo>
                <a:cubicBezTo>
                  <a:pt x="500" y="383"/>
                  <a:pt x="500" y="383"/>
                  <a:pt x="500" y="383"/>
                </a:cubicBezTo>
                <a:cubicBezTo>
                  <a:pt x="504" y="385"/>
                  <a:pt x="510" y="380"/>
                  <a:pt x="513" y="379"/>
                </a:cubicBezTo>
                <a:cubicBezTo>
                  <a:pt x="518" y="378"/>
                  <a:pt x="523" y="377"/>
                  <a:pt x="529" y="375"/>
                </a:cubicBezTo>
                <a:cubicBezTo>
                  <a:pt x="534" y="374"/>
                  <a:pt x="540" y="372"/>
                  <a:pt x="546" y="370"/>
                </a:cubicBezTo>
                <a:cubicBezTo>
                  <a:pt x="547" y="370"/>
                  <a:pt x="548" y="370"/>
                  <a:pt x="550" y="369"/>
                </a:cubicBezTo>
                <a:cubicBezTo>
                  <a:pt x="549" y="370"/>
                  <a:pt x="548" y="371"/>
                  <a:pt x="547" y="372"/>
                </a:cubicBezTo>
                <a:cubicBezTo>
                  <a:pt x="543" y="374"/>
                  <a:pt x="539" y="377"/>
                  <a:pt x="535" y="379"/>
                </a:cubicBezTo>
                <a:cubicBezTo>
                  <a:pt x="531" y="381"/>
                  <a:pt x="526" y="382"/>
                  <a:pt x="521" y="384"/>
                </a:cubicBezTo>
                <a:cubicBezTo>
                  <a:pt x="517" y="386"/>
                  <a:pt x="513" y="388"/>
                  <a:pt x="508" y="389"/>
                </a:cubicBezTo>
                <a:cubicBezTo>
                  <a:pt x="507" y="390"/>
                  <a:pt x="505" y="391"/>
                  <a:pt x="503" y="392"/>
                </a:cubicBezTo>
                <a:cubicBezTo>
                  <a:pt x="502" y="392"/>
                  <a:pt x="499" y="394"/>
                  <a:pt x="498" y="394"/>
                </a:cubicBezTo>
                <a:cubicBezTo>
                  <a:pt x="498" y="394"/>
                  <a:pt x="498" y="394"/>
                  <a:pt x="498" y="394"/>
                </a:cubicBezTo>
                <a:cubicBezTo>
                  <a:pt x="497" y="394"/>
                  <a:pt x="496" y="395"/>
                  <a:pt x="497" y="396"/>
                </a:cubicBezTo>
                <a:cubicBezTo>
                  <a:pt x="497" y="396"/>
                  <a:pt x="497" y="396"/>
                  <a:pt x="497" y="396"/>
                </a:cubicBezTo>
                <a:cubicBezTo>
                  <a:pt x="497" y="396"/>
                  <a:pt x="498" y="396"/>
                  <a:pt x="499" y="396"/>
                </a:cubicBezTo>
                <a:cubicBezTo>
                  <a:pt x="507" y="392"/>
                  <a:pt x="516" y="388"/>
                  <a:pt x="525" y="384"/>
                </a:cubicBezTo>
                <a:cubicBezTo>
                  <a:pt x="532" y="381"/>
                  <a:pt x="540" y="378"/>
                  <a:pt x="546" y="374"/>
                </a:cubicBezTo>
                <a:cubicBezTo>
                  <a:pt x="546" y="374"/>
                  <a:pt x="546" y="374"/>
                  <a:pt x="546" y="374"/>
                </a:cubicBezTo>
                <a:cubicBezTo>
                  <a:pt x="544" y="376"/>
                  <a:pt x="543" y="379"/>
                  <a:pt x="542" y="381"/>
                </a:cubicBezTo>
                <a:cubicBezTo>
                  <a:pt x="542" y="381"/>
                  <a:pt x="542" y="381"/>
                  <a:pt x="542" y="382"/>
                </a:cubicBezTo>
                <a:cubicBezTo>
                  <a:pt x="535" y="386"/>
                  <a:pt x="529" y="392"/>
                  <a:pt x="523" y="397"/>
                </a:cubicBezTo>
                <a:cubicBezTo>
                  <a:pt x="519" y="401"/>
                  <a:pt x="515" y="406"/>
                  <a:pt x="510" y="408"/>
                </a:cubicBezTo>
                <a:cubicBezTo>
                  <a:pt x="507" y="409"/>
                  <a:pt x="505" y="409"/>
                  <a:pt x="504" y="411"/>
                </a:cubicBezTo>
                <a:cubicBezTo>
                  <a:pt x="504" y="412"/>
                  <a:pt x="504" y="413"/>
                  <a:pt x="505" y="412"/>
                </a:cubicBezTo>
                <a:cubicBezTo>
                  <a:pt x="512" y="408"/>
                  <a:pt x="518" y="403"/>
                  <a:pt x="524" y="398"/>
                </a:cubicBezTo>
                <a:cubicBezTo>
                  <a:pt x="528" y="395"/>
                  <a:pt x="532" y="393"/>
                  <a:pt x="535" y="390"/>
                </a:cubicBezTo>
                <a:cubicBezTo>
                  <a:pt x="536" y="389"/>
                  <a:pt x="539" y="387"/>
                  <a:pt x="541" y="385"/>
                </a:cubicBezTo>
                <a:cubicBezTo>
                  <a:pt x="540" y="387"/>
                  <a:pt x="540" y="389"/>
                  <a:pt x="539" y="391"/>
                </a:cubicBezTo>
                <a:cubicBezTo>
                  <a:pt x="539" y="391"/>
                  <a:pt x="539" y="391"/>
                  <a:pt x="539" y="391"/>
                </a:cubicBezTo>
                <a:cubicBezTo>
                  <a:pt x="536" y="392"/>
                  <a:pt x="534" y="394"/>
                  <a:pt x="532" y="397"/>
                </a:cubicBezTo>
                <a:cubicBezTo>
                  <a:pt x="529" y="400"/>
                  <a:pt x="526" y="403"/>
                  <a:pt x="524" y="407"/>
                </a:cubicBezTo>
                <a:cubicBezTo>
                  <a:pt x="522" y="409"/>
                  <a:pt x="521" y="413"/>
                  <a:pt x="519" y="415"/>
                </a:cubicBezTo>
                <a:cubicBezTo>
                  <a:pt x="517" y="417"/>
                  <a:pt x="515" y="418"/>
                  <a:pt x="512" y="420"/>
                </a:cubicBezTo>
                <a:cubicBezTo>
                  <a:pt x="510" y="422"/>
                  <a:pt x="507" y="424"/>
                  <a:pt x="507" y="428"/>
                </a:cubicBezTo>
                <a:cubicBezTo>
                  <a:pt x="507" y="428"/>
                  <a:pt x="508" y="428"/>
                  <a:pt x="508" y="428"/>
                </a:cubicBezTo>
                <a:cubicBezTo>
                  <a:pt x="510" y="422"/>
                  <a:pt x="515" y="421"/>
                  <a:pt x="518" y="417"/>
                </a:cubicBezTo>
                <a:cubicBezTo>
                  <a:pt x="521" y="414"/>
                  <a:pt x="523" y="411"/>
                  <a:pt x="525" y="408"/>
                </a:cubicBezTo>
                <a:cubicBezTo>
                  <a:pt x="529" y="402"/>
                  <a:pt x="534" y="397"/>
                  <a:pt x="539" y="392"/>
                </a:cubicBezTo>
                <a:cubicBezTo>
                  <a:pt x="538" y="395"/>
                  <a:pt x="537" y="397"/>
                  <a:pt x="536" y="400"/>
                </a:cubicBezTo>
                <a:cubicBezTo>
                  <a:pt x="536" y="401"/>
                  <a:pt x="535" y="403"/>
                  <a:pt x="535" y="404"/>
                </a:cubicBezTo>
                <a:cubicBezTo>
                  <a:pt x="535" y="404"/>
                  <a:pt x="535" y="404"/>
                  <a:pt x="535" y="404"/>
                </a:cubicBezTo>
                <a:cubicBezTo>
                  <a:pt x="533" y="406"/>
                  <a:pt x="530" y="408"/>
                  <a:pt x="529" y="411"/>
                </a:cubicBezTo>
                <a:cubicBezTo>
                  <a:pt x="529" y="411"/>
                  <a:pt x="530" y="411"/>
                  <a:pt x="530" y="411"/>
                </a:cubicBezTo>
                <a:cubicBezTo>
                  <a:pt x="532" y="409"/>
                  <a:pt x="533" y="407"/>
                  <a:pt x="535" y="405"/>
                </a:cubicBezTo>
                <a:cubicBezTo>
                  <a:pt x="533" y="415"/>
                  <a:pt x="535" y="424"/>
                  <a:pt x="539" y="435"/>
                </a:cubicBezTo>
                <a:cubicBezTo>
                  <a:pt x="541" y="440"/>
                  <a:pt x="542" y="445"/>
                  <a:pt x="544" y="450"/>
                </a:cubicBezTo>
                <a:cubicBezTo>
                  <a:pt x="538" y="455"/>
                  <a:pt x="528" y="454"/>
                  <a:pt x="521" y="453"/>
                </a:cubicBezTo>
                <a:cubicBezTo>
                  <a:pt x="512" y="452"/>
                  <a:pt x="503" y="450"/>
                  <a:pt x="494" y="448"/>
                </a:cubicBezTo>
                <a:cubicBezTo>
                  <a:pt x="486" y="445"/>
                  <a:pt x="478" y="440"/>
                  <a:pt x="470" y="436"/>
                </a:cubicBezTo>
                <a:cubicBezTo>
                  <a:pt x="463" y="433"/>
                  <a:pt x="456" y="429"/>
                  <a:pt x="451" y="422"/>
                </a:cubicBezTo>
                <a:cubicBezTo>
                  <a:pt x="445" y="416"/>
                  <a:pt x="439" y="411"/>
                  <a:pt x="434" y="405"/>
                </a:cubicBezTo>
                <a:cubicBezTo>
                  <a:pt x="433" y="405"/>
                  <a:pt x="433" y="405"/>
                  <a:pt x="433" y="404"/>
                </a:cubicBezTo>
                <a:cubicBezTo>
                  <a:pt x="433" y="404"/>
                  <a:pt x="433" y="404"/>
                  <a:pt x="432" y="403"/>
                </a:cubicBezTo>
                <a:cubicBezTo>
                  <a:pt x="427" y="398"/>
                  <a:pt x="424" y="392"/>
                  <a:pt x="421" y="384"/>
                </a:cubicBezTo>
                <a:cubicBezTo>
                  <a:pt x="419" y="377"/>
                  <a:pt x="417" y="369"/>
                  <a:pt x="414" y="362"/>
                </a:cubicBezTo>
                <a:cubicBezTo>
                  <a:pt x="412" y="355"/>
                  <a:pt x="410" y="347"/>
                  <a:pt x="410" y="340"/>
                </a:cubicBezTo>
                <a:cubicBezTo>
                  <a:pt x="410" y="332"/>
                  <a:pt x="411" y="325"/>
                  <a:pt x="415" y="318"/>
                </a:cubicBezTo>
                <a:cubicBezTo>
                  <a:pt x="419" y="311"/>
                  <a:pt x="425" y="305"/>
                  <a:pt x="430" y="299"/>
                </a:cubicBezTo>
                <a:cubicBezTo>
                  <a:pt x="436" y="293"/>
                  <a:pt x="442" y="287"/>
                  <a:pt x="450" y="283"/>
                </a:cubicBezTo>
                <a:close/>
                <a:moveTo>
                  <a:pt x="455" y="277"/>
                </a:moveTo>
                <a:cubicBezTo>
                  <a:pt x="455" y="276"/>
                  <a:pt x="456" y="275"/>
                  <a:pt x="456" y="274"/>
                </a:cubicBezTo>
                <a:cubicBezTo>
                  <a:pt x="456" y="275"/>
                  <a:pt x="456" y="276"/>
                  <a:pt x="456" y="276"/>
                </a:cubicBezTo>
                <a:cubicBezTo>
                  <a:pt x="456" y="277"/>
                  <a:pt x="455" y="277"/>
                  <a:pt x="455" y="277"/>
                </a:cubicBezTo>
                <a:close/>
                <a:moveTo>
                  <a:pt x="528" y="466"/>
                </a:moveTo>
                <a:cubicBezTo>
                  <a:pt x="532" y="466"/>
                  <a:pt x="536" y="464"/>
                  <a:pt x="539" y="462"/>
                </a:cubicBezTo>
                <a:cubicBezTo>
                  <a:pt x="542" y="460"/>
                  <a:pt x="544" y="459"/>
                  <a:pt x="547" y="457"/>
                </a:cubicBezTo>
                <a:cubicBezTo>
                  <a:pt x="547" y="457"/>
                  <a:pt x="547" y="457"/>
                  <a:pt x="547" y="457"/>
                </a:cubicBezTo>
                <a:cubicBezTo>
                  <a:pt x="544" y="460"/>
                  <a:pt x="542" y="463"/>
                  <a:pt x="540" y="465"/>
                </a:cubicBezTo>
                <a:cubicBezTo>
                  <a:pt x="537" y="469"/>
                  <a:pt x="533" y="469"/>
                  <a:pt x="529" y="472"/>
                </a:cubicBezTo>
                <a:cubicBezTo>
                  <a:pt x="529" y="472"/>
                  <a:pt x="529" y="473"/>
                  <a:pt x="529" y="473"/>
                </a:cubicBezTo>
                <a:cubicBezTo>
                  <a:pt x="533" y="474"/>
                  <a:pt x="537" y="470"/>
                  <a:pt x="539" y="468"/>
                </a:cubicBezTo>
                <a:cubicBezTo>
                  <a:pt x="542" y="465"/>
                  <a:pt x="545" y="462"/>
                  <a:pt x="548" y="458"/>
                </a:cubicBezTo>
                <a:cubicBezTo>
                  <a:pt x="550" y="463"/>
                  <a:pt x="552" y="467"/>
                  <a:pt x="555" y="471"/>
                </a:cubicBezTo>
                <a:cubicBezTo>
                  <a:pt x="558" y="476"/>
                  <a:pt x="562" y="480"/>
                  <a:pt x="566" y="485"/>
                </a:cubicBezTo>
                <a:cubicBezTo>
                  <a:pt x="560" y="486"/>
                  <a:pt x="555" y="490"/>
                  <a:pt x="549" y="491"/>
                </a:cubicBezTo>
                <a:cubicBezTo>
                  <a:pt x="542" y="492"/>
                  <a:pt x="535" y="491"/>
                  <a:pt x="528" y="489"/>
                </a:cubicBezTo>
                <a:cubicBezTo>
                  <a:pt x="514" y="484"/>
                  <a:pt x="500" y="479"/>
                  <a:pt x="488" y="471"/>
                </a:cubicBezTo>
                <a:cubicBezTo>
                  <a:pt x="481" y="467"/>
                  <a:pt x="475" y="463"/>
                  <a:pt x="470" y="458"/>
                </a:cubicBezTo>
                <a:cubicBezTo>
                  <a:pt x="470" y="457"/>
                  <a:pt x="469" y="456"/>
                  <a:pt x="469" y="456"/>
                </a:cubicBezTo>
                <a:cubicBezTo>
                  <a:pt x="463" y="451"/>
                  <a:pt x="459" y="445"/>
                  <a:pt x="454" y="438"/>
                </a:cubicBezTo>
                <a:cubicBezTo>
                  <a:pt x="451" y="433"/>
                  <a:pt x="446" y="427"/>
                  <a:pt x="443" y="421"/>
                </a:cubicBezTo>
                <a:cubicBezTo>
                  <a:pt x="443" y="420"/>
                  <a:pt x="443" y="419"/>
                  <a:pt x="442" y="418"/>
                </a:cubicBezTo>
                <a:cubicBezTo>
                  <a:pt x="447" y="423"/>
                  <a:pt x="451" y="429"/>
                  <a:pt x="457" y="433"/>
                </a:cubicBezTo>
                <a:cubicBezTo>
                  <a:pt x="463" y="437"/>
                  <a:pt x="471" y="440"/>
                  <a:pt x="477" y="443"/>
                </a:cubicBezTo>
                <a:cubicBezTo>
                  <a:pt x="480" y="445"/>
                  <a:pt x="483" y="446"/>
                  <a:pt x="485" y="447"/>
                </a:cubicBezTo>
                <a:cubicBezTo>
                  <a:pt x="485" y="447"/>
                  <a:pt x="485" y="447"/>
                  <a:pt x="485" y="447"/>
                </a:cubicBezTo>
                <a:cubicBezTo>
                  <a:pt x="504" y="463"/>
                  <a:pt x="522" y="480"/>
                  <a:pt x="546" y="486"/>
                </a:cubicBezTo>
                <a:cubicBezTo>
                  <a:pt x="547" y="486"/>
                  <a:pt x="548" y="485"/>
                  <a:pt x="547" y="485"/>
                </a:cubicBezTo>
                <a:cubicBezTo>
                  <a:pt x="536" y="478"/>
                  <a:pt x="523" y="474"/>
                  <a:pt x="513" y="466"/>
                </a:cubicBezTo>
                <a:cubicBezTo>
                  <a:pt x="507" y="462"/>
                  <a:pt x="502" y="456"/>
                  <a:pt x="496" y="451"/>
                </a:cubicBezTo>
                <a:cubicBezTo>
                  <a:pt x="502" y="453"/>
                  <a:pt x="508" y="454"/>
                  <a:pt x="514" y="456"/>
                </a:cubicBezTo>
                <a:cubicBezTo>
                  <a:pt x="513" y="456"/>
                  <a:pt x="512" y="456"/>
                  <a:pt x="511" y="456"/>
                </a:cubicBezTo>
                <a:cubicBezTo>
                  <a:pt x="509" y="456"/>
                  <a:pt x="508" y="457"/>
                  <a:pt x="507" y="457"/>
                </a:cubicBezTo>
                <a:cubicBezTo>
                  <a:pt x="507" y="458"/>
                  <a:pt x="507" y="459"/>
                  <a:pt x="507" y="459"/>
                </a:cubicBezTo>
                <a:cubicBezTo>
                  <a:pt x="510" y="460"/>
                  <a:pt x="513" y="458"/>
                  <a:pt x="515" y="457"/>
                </a:cubicBezTo>
                <a:cubicBezTo>
                  <a:pt x="517" y="457"/>
                  <a:pt x="518" y="457"/>
                  <a:pt x="520" y="456"/>
                </a:cubicBezTo>
                <a:cubicBezTo>
                  <a:pt x="525" y="457"/>
                  <a:pt x="532" y="458"/>
                  <a:pt x="538" y="457"/>
                </a:cubicBezTo>
                <a:cubicBezTo>
                  <a:pt x="534" y="458"/>
                  <a:pt x="531" y="460"/>
                  <a:pt x="527" y="460"/>
                </a:cubicBezTo>
                <a:cubicBezTo>
                  <a:pt x="523" y="460"/>
                  <a:pt x="519" y="460"/>
                  <a:pt x="515" y="462"/>
                </a:cubicBezTo>
                <a:cubicBezTo>
                  <a:pt x="514" y="462"/>
                  <a:pt x="514" y="464"/>
                  <a:pt x="516" y="464"/>
                </a:cubicBezTo>
                <a:cubicBezTo>
                  <a:pt x="522" y="463"/>
                  <a:pt x="528" y="461"/>
                  <a:pt x="535" y="459"/>
                </a:cubicBezTo>
                <a:cubicBezTo>
                  <a:pt x="538" y="459"/>
                  <a:pt x="542" y="457"/>
                  <a:pt x="545" y="454"/>
                </a:cubicBezTo>
                <a:cubicBezTo>
                  <a:pt x="545" y="454"/>
                  <a:pt x="545" y="453"/>
                  <a:pt x="545" y="453"/>
                </a:cubicBezTo>
                <a:cubicBezTo>
                  <a:pt x="546" y="454"/>
                  <a:pt x="546" y="455"/>
                  <a:pt x="547" y="456"/>
                </a:cubicBezTo>
                <a:cubicBezTo>
                  <a:pt x="544" y="457"/>
                  <a:pt x="541" y="459"/>
                  <a:pt x="538" y="460"/>
                </a:cubicBezTo>
                <a:cubicBezTo>
                  <a:pt x="534" y="462"/>
                  <a:pt x="531" y="463"/>
                  <a:pt x="528" y="465"/>
                </a:cubicBezTo>
                <a:cubicBezTo>
                  <a:pt x="528" y="466"/>
                  <a:pt x="528" y="467"/>
                  <a:pt x="528" y="466"/>
                </a:cubicBezTo>
                <a:close/>
                <a:moveTo>
                  <a:pt x="527" y="554"/>
                </a:moveTo>
                <a:cubicBezTo>
                  <a:pt x="521" y="565"/>
                  <a:pt x="511" y="574"/>
                  <a:pt x="508" y="586"/>
                </a:cubicBezTo>
                <a:cubicBezTo>
                  <a:pt x="508" y="587"/>
                  <a:pt x="508" y="587"/>
                  <a:pt x="509" y="587"/>
                </a:cubicBezTo>
                <a:cubicBezTo>
                  <a:pt x="508" y="587"/>
                  <a:pt x="508" y="587"/>
                  <a:pt x="508" y="587"/>
                </a:cubicBezTo>
                <a:cubicBezTo>
                  <a:pt x="503" y="592"/>
                  <a:pt x="500" y="599"/>
                  <a:pt x="496" y="605"/>
                </a:cubicBezTo>
                <a:cubicBezTo>
                  <a:pt x="494" y="608"/>
                  <a:pt x="490" y="612"/>
                  <a:pt x="487" y="615"/>
                </a:cubicBezTo>
                <a:cubicBezTo>
                  <a:pt x="487" y="615"/>
                  <a:pt x="487" y="615"/>
                  <a:pt x="487" y="614"/>
                </a:cubicBezTo>
                <a:cubicBezTo>
                  <a:pt x="488" y="614"/>
                  <a:pt x="488" y="614"/>
                  <a:pt x="489" y="613"/>
                </a:cubicBezTo>
                <a:cubicBezTo>
                  <a:pt x="490" y="607"/>
                  <a:pt x="492" y="600"/>
                  <a:pt x="495" y="595"/>
                </a:cubicBezTo>
                <a:cubicBezTo>
                  <a:pt x="498" y="588"/>
                  <a:pt x="503" y="584"/>
                  <a:pt x="507" y="578"/>
                </a:cubicBezTo>
                <a:cubicBezTo>
                  <a:pt x="515" y="569"/>
                  <a:pt x="521" y="558"/>
                  <a:pt x="526" y="547"/>
                </a:cubicBezTo>
                <a:cubicBezTo>
                  <a:pt x="532" y="536"/>
                  <a:pt x="537" y="524"/>
                  <a:pt x="544" y="513"/>
                </a:cubicBezTo>
                <a:cubicBezTo>
                  <a:pt x="548" y="507"/>
                  <a:pt x="554" y="500"/>
                  <a:pt x="554" y="493"/>
                </a:cubicBezTo>
                <a:cubicBezTo>
                  <a:pt x="558" y="491"/>
                  <a:pt x="562" y="489"/>
                  <a:pt x="567" y="487"/>
                </a:cubicBezTo>
                <a:cubicBezTo>
                  <a:pt x="567" y="487"/>
                  <a:pt x="567" y="487"/>
                  <a:pt x="567" y="487"/>
                </a:cubicBezTo>
                <a:cubicBezTo>
                  <a:pt x="571" y="490"/>
                  <a:pt x="575" y="494"/>
                  <a:pt x="579" y="497"/>
                </a:cubicBezTo>
                <a:cubicBezTo>
                  <a:pt x="580" y="497"/>
                  <a:pt x="581" y="498"/>
                  <a:pt x="582" y="499"/>
                </a:cubicBezTo>
                <a:cubicBezTo>
                  <a:pt x="582" y="499"/>
                  <a:pt x="582" y="499"/>
                  <a:pt x="582" y="499"/>
                </a:cubicBezTo>
                <a:cubicBezTo>
                  <a:pt x="575" y="507"/>
                  <a:pt x="568" y="514"/>
                  <a:pt x="562" y="522"/>
                </a:cubicBezTo>
                <a:cubicBezTo>
                  <a:pt x="558" y="527"/>
                  <a:pt x="553" y="532"/>
                  <a:pt x="552" y="538"/>
                </a:cubicBezTo>
                <a:cubicBezTo>
                  <a:pt x="546" y="544"/>
                  <a:pt x="540" y="551"/>
                  <a:pt x="534" y="558"/>
                </a:cubicBezTo>
                <a:cubicBezTo>
                  <a:pt x="530" y="563"/>
                  <a:pt x="526" y="567"/>
                  <a:pt x="523" y="573"/>
                </a:cubicBezTo>
                <a:cubicBezTo>
                  <a:pt x="521" y="578"/>
                  <a:pt x="520" y="581"/>
                  <a:pt x="515" y="583"/>
                </a:cubicBezTo>
                <a:cubicBezTo>
                  <a:pt x="513" y="584"/>
                  <a:pt x="511" y="585"/>
                  <a:pt x="509" y="587"/>
                </a:cubicBezTo>
                <a:cubicBezTo>
                  <a:pt x="513" y="581"/>
                  <a:pt x="515" y="575"/>
                  <a:pt x="519" y="570"/>
                </a:cubicBezTo>
                <a:cubicBezTo>
                  <a:pt x="522" y="565"/>
                  <a:pt x="525" y="560"/>
                  <a:pt x="528" y="555"/>
                </a:cubicBezTo>
                <a:cubicBezTo>
                  <a:pt x="528" y="554"/>
                  <a:pt x="528" y="554"/>
                  <a:pt x="527" y="554"/>
                </a:cubicBezTo>
                <a:close/>
                <a:moveTo>
                  <a:pt x="486" y="620"/>
                </a:moveTo>
                <a:cubicBezTo>
                  <a:pt x="486" y="620"/>
                  <a:pt x="486" y="620"/>
                  <a:pt x="486" y="620"/>
                </a:cubicBezTo>
                <a:cubicBezTo>
                  <a:pt x="481" y="620"/>
                  <a:pt x="477" y="618"/>
                  <a:pt x="472" y="617"/>
                </a:cubicBezTo>
                <a:cubicBezTo>
                  <a:pt x="469" y="616"/>
                  <a:pt x="460" y="615"/>
                  <a:pt x="461" y="611"/>
                </a:cubicBezTo>
                <a:cubicBezTo>
                  <a:pt x="464" y="600"/>
                  <a:pt x="470" y="589"/>
                  <a:pt x="475" y="578"/>
                </a:cubicBezTo>
                <a:cubicBezTo>
                  <a:pt x="482" y="563"/>
                  <a:pt x="488" y="547"/>
                  <a:pt x="493" y="532"/>
                </a:cubicBezTo>
                <a:cubicBezTo>
                  <a:pt x="499" y="517"/>
                  <a:pt x="505" y="501"/>
                  <a:pt x="509" y="486"/>
                </a:cubicBezTo>
                <a:cubicBezTo>
                  <a:pt x="516" y="489"/>
                  <a:pt x="523" y="491"/>
                  <a:pt x="531" y="493"/>
                </a:cubicBezTo>
                <a:cubicBezTo>
                  <a:pt x="530" y="493"/>
                  <a:pt x="530" y="494"/>
                  <a:pt x="530" y="494"/>
                </a:cubicBezTo>
                <a:cubicBezTo>
                  <a:pt x="531" y="498"/>
                  <a:pt x="525" y="505"/>
                  <a:pt x="522" y="508"/>
                </a:cubicBezTo>
                <a:cubicBezTo>
                  <a:pt x="518" y="513"/>
                  <a:pt x="516" y="520"/>
                  <a:pt x="514" y="526"/>
                </a:cubicBezTo>
                <a:cubicBezTo>
                  <a:pt x="511" y="534"/>
                  <a:pt x="508" y="542"/>
                  <a:pt x="505" y="550"/>
                </a:cubicBezTo>
                <a:cubicBezTo>
                  <a:pt x="502" y="556"/>
                  <a:pt x="498" y="563"/>
                  <a:pt x="496" y="569"/>
                </a:cubicBezTo>
                <a:cubicBezTo>
                  <a:pt x="491" y="580"/>
                  <a:pt x="487" y="591"/>
                  <a:pt x="484" y="602"/>
                </a:cubicBezTo>
                <a:cubicBezTo>
                  <a:pt x="482" y="609"/>
                  <a:pt x="481" y="615"/>
                  <a:pt x="486" y="620"/>
                </a:cubicBezTo>
                <a:close/>
                <a:moveTo>
                  <a:pt x="466" y="585"/>
                </a:moveTo>
                <a:cubicBezTo>
                  <a:pt x="466" y="579"/>
                  <a:pt x="466" y="573"/>
                  <a:pt x="465" y="568"/>
                </a:cubicBezTo>
                <a:cubicBezTo>
                  <a:pt x="464" y="560"/>
                  <a:pt x="462" y="553"/>
                  <a:pt x="462" y="546"/>
                </a:cubicBezTo>
                <a:cubicBezTo>
                  <a:pt x="461" y="539"/>
                  <a:pt x="462" y="533"/>
                  <a:pt x="462" y="526"/>
                </a:cubicBezTo>
                <a:cubicBezTo>
                  <a:pt x="462" y="513"/>
                  <a:pt x="462" y="499"/>
                  <a:pt x="466" y="486"/>
                </a:cubicBezTo>
                <a:cubicBezTo>
                  <a:pt x="468" y="479"/>
                  <a:pt x="471" y="471"/>
                  <a:pt x="471" y="463"/>
                </a:cubicBezTo>
                <a:cubicBezTo>
                  <a:pt x="477" y="469"/>
                  <a:pt x="484" y="473"/>
                  <a:pt x="491" y="477"/>
                </a:cubicBezTo>
                <a:cubicBezTo>
                  <a:pt x="496" y="480"/>
                  <a:pt x="500" y="482"/>
                  <a:pt x="505" y="484"/>
                </a:cubicBezTo>
                <a:cubicBezTo>
                  <a:pt x="503" y="494"/>
                  <a:pt x="499" y="503"/>
                  <a:pt x="496" y="513"/>
                </a:cubicBezTo>
                <a:cubicBezTo>
                  <a:pt x="493" y="522"/>
                  <a:pt x="490" y="531"/>
                  <a:pt x="486" y="540"/>
                </a:cubicBezTo>
                <a:cubicBezTo>
                  <a:pt x="480" y="557"/>
                  <a:pt x="473" y="573"/>
                  <a:pt x="466" y="590"/>
                </a:cubicBezTo>
                <a:cubicBezTo>
                  <a:pt x="466" y="588"/>
                  <a:pt x="466" y="586"/>
                  <a:pt x="466" y="585"/>
                </a:cubicBezTo>
                <a:close/>
                <a:moveTo>
                  <a:pt x="492" y="588"/>
                </a:moveTo>
                <a:cubicBezTo>
                  <a:pt x="497" y="576"/>
                  <a:pt x="502" y="564"/>
                  <a:pt x="508" y="552"/>
                </a:cubicBezTo>
                <a:cubicBezTo>
                  <a:pt x="511" y="546"/>
                  <a:pt x="513" y="539"/>
                  <a:pt x="515" y="533"/>
                </a:cubicBezTo>
                <a:cubicBezTo>
                  <a:pt x="518" y="526"/>
                  <a:pt x="520" y="518"/>
                  <a:pt x="524" y="511"/>
                </a:cubicBezTo>
                <a:cubicBezTo>
                  <a:pt x="527" y="507"/>
                  <a:pt x="535" y="499"/>
                  <a:pt x="532" y="493"/>
                </a:cubicBezTo>
                <a:cubicBezTo>
                  <a:pt x="533" y="493"/>
                  <a:pt x="533" y="494"/>
                  <a:pt x="534" y="494"/>
                </a:cubicBezTo>
                <a:cubicBezTo>
                  <a:pt x="539" y="495"/>
                  <a:pt x="546" y="495"/>
                  <a:pt x="551" y="494"/>
                </a:cubicBezTo>
                <a:cubicBezTo>
                  <a:pt x="548" y="503"/>
                  <a:pt x="541" y="510"/>
                  <a:pt x="537" y="519"/>
                </a:cubicBezTo>
                <a:cubicBezTo>
                  <a:pt x="531" y="530"/>
                  <a:pt x="525" y="541"/>
                  <a:pt x="519" y="553"/>
                </a:cubicBezTo>
                <a:cubicBezTo>
                  <a:pt x="516" y="559"/>
                  <a:pt x="513" y="565"/>
                  <a:pt x="509" y="570"/>
                </a:cubicBezTo>
                <a:cubicBezTo>
                  <a:pt x="506" y="575"/>
                  <a:pt x="501" y="579"/>
                  <a:pt x="498" y="583"/>
                </a:cubicBezTo>
                <a:cubicBezTo>
                  <a:pt x="492" y="590"/>
                  <a:pt x="489" y="597"/>
                  <a:pt x="487" y="605"/>
                </a:cubicBezTo>
                <a:cubicBezTo>
                  <a:pt x="488" y="599"/>
                  <a:pt x="491" y="592"/>
                  <a:pt x="492" y="588"/>
                </a:cubicBezTo>
                <a:close/>
                <a:moveTo>
                  <a:pt x="244" y="441"/>
                </a:moveTo>
                <a:cubicBezTo>
                  <a:pt x="246" y="444"/>
                  <a:pt x="249" y="447"/>
                  <a:pt x="252" y="449"/>
                </a:cubicBezTo>
                <a:cubicBezTo>
                  <a:pt x="253" y="451"/>
                  <a:pt x="255" y="453"/>
                  <a:pt x="257" y="455"/>
                </a:cubicBezTo>
                <a:cubicBezTo>
                  <a:pt x="257" y="455"/>
                  <a:pt x="258" y="456"/>
                  <a:pt x="259" y="456"/>
                </a:cubicBezTo>
                <a:cubicBezTo>
                  <a:pt x="260" y="458"/>
                  <a:pt x="263" y="462"/>
                  <a:pt x="263" y="462"/>
                </a:cubicBezTo>
                <a:cubicBezTo>
                  <a:pt x="264" y="463"/>
                  <a:pt x="264" y="463"/>
                  <a:pt x="264" y="463"/>
                </a:cubicBezTo>
                <a:cubicBezTo>
                  <a:pt x="262" y="468"/>
                  <a:pt x="259" y="473"/>
                  <a:pt x="258" y="479"/>
                </a:cubicBezTo>
                <a:cubicBezTo>
                  <a:pt x="256" y="474"/>
                  <a:pt x="253" y="470"/>
                  <a:pt x="248" y="473"/>
                </a:cubicBezTo>
                <a:cubicBezTo>
                  <a:pt x="245" y="475"/>
                  <a:pt x="242" y="478"/>
                  <a:pt x="239" y="481"/>
                </a:cubicBezTo>
                <a:cubicBezTo>
                  <a:pt x="239" y="480"/>
                  <a:pt x="239" y="479"/>
                  <a:pt x="239" y="478"/>
                </a:cubicBezTo>
                <a:cubicBezTo>
                  <a:pt x="239" y="472"/>
                  <a:pt x="238" y="466"/>
                  <a:pt x="240" y="460"/>
                </a:cubicBezTo>
                <a:cubicBezTo>
                  <a:pt x="241" y="454"/>
                  <a:pt x="242" y="449"/>
                  <a:pt x="243" y="444"/>
                </a:cubicBezTo>
                <a:cubicBezTo>
                  <a:pt x="244" y="443"/>
                  <a:pt x="244" y="442"/>
                  <a:pt x="244" y="441"/>
                </a:cubicBezTo>
                <a:close/>
                <a:moveTo>
                  <a:pt x="262" y="474"/>
                </a:moveTo>
                <a:cubicBezTo>
                  <a:pt x="263" y="471"/>
                  <a:pt x="265" y="468"/>
                  <a:pt x="266" y="466"/>
                </a:cubicBezTo>
                <a:cubicBezTo>
                  <a:pt x="267" y="468"/>
                  <a:pt x="269" y="470"/>
                  <a:pt x="270" y="472"/>
                </a:cubicBezTo>
                <a:cubicBezTo>
                  <a:pt x="277" y="483"/>
                  <a:pt x="282" y="494"/>
                  <a:pt x="287" y="506"/>
                </a:cubicBezTo>
                <a:cubicBezTo>
                  <a:pt x="292" y="519"/>
                  <a:pt x="297" y="532"/>
                  <a:pt x="301" y="545"/>
                </a:cubicBezTo>
                <a:cubicBezTo>
                  <a:pt x="297" y="539"/>
                  <a:pt x="294" y="533"/>
                  <a:pt x="290" y="527"/>
                </a:cubicBezTo>
                <a:cubicBezTo>
                  <a:pt x="282" y="515"/>
                  <a:pt x="272" y="505"/>
                  <a:pt x="265" y="493"/>
                </a:cubicBezTo>
                <a:cubicBezTo>
                  <a:pt x="263" y="490"/>
                  <a:pt x="262" y="488"/>
                  <a:pt x="262" y="485"/>
                </a:cubicBezTo>
                <a:cubicBezTo>
                  <a:pt x="261" y="482"/>
                  <a:pt x="261" y="477"/>
                  <a:pt x="262" y="474"/>
                </a:cubicBezTo>
                <a:close/>
                <a:moveTo>
                  <a:pt x="319" y="530"/>
                </a:moveTo>
                <a:cubicBezTo>
                  <a:pt x="316" y="522"/>
                  <a:pt x="312" y="515"/>
                  <a:pt x="310" y="507"/>
                </a:cubicBezTo>
                <a:cubicBezTo>
                  <a:pt x="309" y="501"/>
                  <a:pt x="308" y="493"/>
                  <a:pt x="305" y="487"/>
                </a:cubicBezTo>
                <a:cubicBezTo>
                  <a:pt x="315" y="490"/>
                  <a:pt x="325" y="490"/>
                  <a:pt x="336" y="487"/>
                </a:cubicBezTo>
                <a:cubicBezTo>
                  <a:pt x="336" y="486"/>
                  <a:pt x="336" y="486"/>
                  <a:pt x="337" y="486"/>
                </a:cubicBezTo>
                <a:cubicBezTo>
                  <a:pt x="340" y="505"/>
                  <a:pt x="335" y="524"/>
                  <a:pt x="337" y="543"/>
                </a:cubicBezTo>
                <a:cubicBezTo>
                  <a:pt x="337" y="552"/>
                  <a:pt x="338" y="562"/>
                  <a:pt x="340" y="571"/>
                </a:cubicBezTo>
                <a:cubicBezTo>
                  <a:pt x="340" y="571"/>
                  <a:pt x="340" y="571"/>
                  <a:pt x="340" y="571"/>
                </a:cubicBezTo>
                <a:cubicBezTo>
                  <a:pt x="340" y="571"/>
                  <a:pt x="340" y="570"/>
                  <a:pt x="339" y="570"/>
                </a:cubicBezTo>
                <a:cubicBezTo>
                  <a:pt x="329" y="558"/>
                  <a:pt x="325" y="544"/>
                  <a:pt x="319" y="530"/>
                </a:cubicBezTo>
                <a:close/>
                <a:moveTo>
                  <a:pt x="370" y="572"/>
                </a:moveTo>
                <a:cubicBezTo>
                  <a:pt x="370" y="571"/>
                  <a:pt x="370" y="571"/>
                  <a:pt x="370" y="571"/>
                </a:cubicBezTo>
                <a:cubicBezTo>
                  <a:pt x="374" y="565"/>
                  <a:pt x="375" y="556"/>
                  <a:pt x="376" y="549"/>
                </a:cubicBezTo>
                <a:cubicBezTo>
                  <a:pt x="377" y="539"/>
                  <a:pt x="378" y="530"/>
                  <a:pt x="378" y="520"/>
                </a:cubicBezTo>
                <a:cubicBezTo>
                  <a:pt x="378" y="510"/>
                  <a:pt x="377" y="501"/>
                  <a:pt x="379" y="491"/>
                </a:cubicBezTo>
                <a:cubicBezTo>
                  <a:pt x="381" y="484"/>
                  <a:pt x="381" y="477"/>
                  <a:pt x="382" y="470"/>
                </a:cubicBezTo>
                <a:cubicBezTo>
                  <a:pt x="382" y="470"/>
                  <a:pt x="382" y="470"/>
                  <a:pt x="382" y="469"/>
                </a:cubicBezTo>
                <a:cubicBezTo>
                  <a:pt x="382" y="469"/>
                  <a:pt x="383" y="468"/>
                  <a:pt x="383" y="467"/>
                </a:cubicBezTo>
                <a:cubicBezTo>
                  <a:pt x="383" y="466"/>
                  <a:pt x="384" y="465"/>
                  <a:pt x="384" y="464"/>
                </a:cubicBezTo>
                <a:cubicBezTo>
                  <a:pt x="387" y="462"/>
                  <a:pt x="391" y="459"/>
                  <a:pt x="394" y="456"/>
                </a:cubicBezTo>
                <a:cubicBezTo>
                  <a:pt x="403" y="449"/>
                  <a:pt x="410" y="441"/>
                  <a:pt x="417" y="431"/>
                </a:cubicBezTo>
                <a:cubicBezTo>
                  <a:pt x="420" y="426"/>
                  <a:pt x="423" y="421"/>
                  <a:pt x="426" y="416"/>
                </a:cubicBezTo>
                <a:cubicBezTo>
                  <a:pt x="428" y="413"/>
                  <a:pt x="429" y="409"/>
                  <a:pt x="431" y="407"/>
                </a:cubicBezTo>
                <a:cubicBezTo>
                  <a:pt x="432" y="408"/>
                  <a:pt x="432" y="408"/>
                  <a:pt x="433" y="409"/>
                </a:cubicBezTo>
                <a:cubicBezTo>
                  <a:pt x="433" y="409"/>
                  <a:pt x="433" y="409"/>
                  <a:pt x="433" y="410"/>
                </a:cubicBezTo>
                <a:cubicBezTo>
                  <a:pt x="438" y="415"/>
                  <a:pt x="439" y="423"/>
                  <a:pt x="443" y="429"/>
                </a:cubicBezTo>
                <a:cubicBezTo>
                  <a:pt x="444" y="430"/>
                  <a:pt x="445" y="432"/>
                  <a:pt x="446" y="433"/>
                </a:cubicBezTo>
                <a:cubicBezTo>
                  <a:pt x="443" y="440"/>
                  <a:pt x="440" y="448"/>
                  <a:pt x="439" y="455"/>
                </a:cubicBezTo>
                <a:cubicBezTo>
                  <a:pt x="438" y="464"/>
                  <a:pt x="440" y="472"/>
                  <a:pt x="438" y="481"/>
                </a:cubicBezTo>
                <a:cubicBezTo>
                  <a:pt x="436" y="489"/>
                  <a:pt x="434" y="498"/>
                  <a:pt x="434" y="507"/>
                </a:cubicBezTo>
                <a:cubicBezTo>
                  <a:pt x="434" y="516"/>
                  <a:pt x="435" y="525"/>
                  <a:pt x="436" y="534"/>
                </a:cubicBezTo>
                <a:cubicBezTo>
                  <a:pt x="437" y="543"/>
                  <a:pt x="437" y="552"/>
                  <a:pt x="437" y="562"/>
                </a:cubicBezTo>
                <a:cubicBezTo>
                  <a:pt x="437" y="570"/>
                  <a:pt x="438" y="579"/>
                  <a:pt x="438" y="587"/>
                </a:cubicBezTo>
                <a:cubicBezTo>
                  <a:pt x="439" y="593"/>
                  <a:pt x="440" y="599"/>
                  <a:pt x="443" y="604"/>
                </a:cubicBezTo>
                <a:cubicBezTo>
                  <a:pt x="442" y="604"/>
                  <a:pt x="442" y="604"/>
                  <a:pt x="442" y="604"/>
                </a:cubicBezTo>
                <a:cubicBezTo>
                  <a:pt x="442" y="604"/>
                  <a:pt x="441" y="604"/>
                  <a:pt x="441" y="604"/>
                </a:cubicBezTo>
                <a:cubicBezTo>
                  <a:pt x="441" y="604"/>
                  <a:pt x="441" y="604"/>
                  <a:pt x="441" y="604"/>
                </a:cubicBezTo>
                <a:cubicBezTo>
                  <a:pt x="442" y="604"/>
                  <a:pt x="441" y="604"/>
                  <a:pt x="442" y="605"/>
                </a:cubicBezTo>
                <a:cubicBezTo>
                  <a:pt x="442" y="605"/>
                  <a:pt x="442" y="606"/>
                  <a:pt x="442" y="606"/>
                </a:cubicBezTo>
                <a:cubicBezTo>
                  <a:pt x="442" y="606"/>
                  <a:pt x="442" y="607"/>
                  <a:pt x="442" y="607"/>
                </a:cubicBezTo>
                <a:cubicBezTo>
                  <a:pt x="442" y="608"/>
                  <a:pt x="442" y="608"/>
                  <a:pt x="442" y="608"/>
                </a:cubicBezTo>
                <a:cubicBezTo>
                  <a:pt x="441" y="607"/>
                  <a:pt x="441" y="607"/>
                  <a:pt x="440" y="608"/>
                </a:cubicBezTo>
                <a:cubicBezTo>
                  <a:pt x="439" y="609"/>
                  <a:pt x="439" y="613"/>
                  <a:pt x="440" y="615"/>
                </a:cubicBezTo>
                <a:cubicBezTo>
                  <a:pt x="441" y="617"/>
                  <a:pt x="442" y="618"/>
                  <a:pt x="444" y="619"/>
                </a:cubicBezTo>
                <a:cubicBezTo>
                  <a:pt x="443" y="622"/>
                  <a:pt x="444" y="625"/>
                  <a:pt x="444" y="628"/>
                </a:cubicBezTo>
                <a:cubicBezTo>
                  <a:pt x="445" y="634"/>
                  <a:pt x="445" y="640"/>
                  <a:pt x="444" y="646"/>
                </a:cubicBezTo>
                <a:cubicBezTo>
                  <a:pt x="443" y="658"/>
                  <a:pt x="439" y="670"/>
                  <a:pt x="435" y="682"/>
                </a:cubicBezTo>
                <a:cubicBezTo>
                  <a:pt x="433" y="688"/>
                  <a:pt x="431" y="694"/>
                  <a:pt x="428" y="700"/>
                </a:cubicBezTo>
                <a:cubicBezTo>
                  <a:pt x="428" y="694"/>
                  <a:pt x="422" y="688"/>
                  <a:pt x="419" y="684"/>
                </a:cubicBezTo>
                <a:cubicBezTo>
                  <a:pt x="412" y="672"/>
                  <a:pt x="406" y="659"/>
                  <a:pt x="400" y="647"/>
                </a:cubicBezTo>
                <a:cubicBezTo>
                  <a:pt x="394" y="633"/>
                  <a:pt x="390" y="620"/>
                  <a:pt x="382" y="607"/>
                </a:cubicBezTo>
                <a:cubicBezTo>
                  <a:pt x="381" y="604"/>
                  <a:pt x="378" y="602"/>
                  <a:pt x="377" y="598"/>
                </a:cubicBezTo>
                <a:cubicBezTo>
                  <a:pt x="376" y="596"/>
                  <a:pt x="376" y="593"/>
                  <a:pt x="375" y="590"/>
                </a:cubicBezTo>
                <a:cubicBezTo>
                  <a:pt x="374" y="586"/>
                  <a:pt x="373" y="583"/>
                  <a:pt x="369" y="581"/>
                </a:cubicBezTo>
                <a:cubicBezTo>
                  <a:pt x="370" y="578"/>
                  <a:pt x="370" y="575"/>
                  <a:pt x="370" y="572"/>
                </a:cubicBezTo>
                <a:close/>
                <a:moveTo>
                  <a:pt x="444" y="615"/>
                </a:moveTo>
                <a:cubicBezTo>
                  <a:pt x="444" y="615"/>
                  <a:pt x="444" y="614"/>
                  <a:pt x="443" y="614"/>
                </a:cubicBezTo>
                <a:cubicBezTo>
                  <a:pt x="443" y="613"/>
                  <a:pt x="443" y="612"/>
                  <a:pt x="443" y="611"/>
                </a:cubicBezTo>
                <a:cubicBezTo>
                  <a:pt x="443" y="611"/>
                  <a:pt x="444" y="611"/>
                  <a:pt x="444" y="611"/>
                </a:cubicBezTo>
                <a:cubicBezTo>
                  <a:pt x="445" y="612"/>
                  <a:pt x="445" y="613"/>
                  <a:pt x="446" y="614"/>
                </a:cubicBezTo>
                <a:cubicBezTo>
                  <a:pt x="446" y="614"/>
                  <a:pt x="446" y="614"/>
                  <a:pt x="446" y="614"/>
                </a:cubicBezTo>
                <a:cubicBezTo>
                  <a:pt x="445" y="614"/>
                  <a:pt x="445" y="614"/>
                  <a:pt x="445" y="615"/>
                </a:cubicBezTo>
                <a:cubicBezTo>
                  <a:pt x="445" y="615"/>
                  <a:pt x="444" y="615"/>
                  <a:pt x="444" y="615"/>
                </a:cubicBezTo>
                <a:close/>
                <a:moveTo>
                  <a:pt x="443" y="595"/>
                </a:moveTo>
                <a:cubicBezTo>
                  <a:pt x="442" y="589"/>
                  <a:pt x="442" y="583"/>
                  <a:pt x="441" y="577"/>
                </a:cubicBezTo>
                <a:cubicBezTo>
                  <a:pt x="439" y="560"/>
                  <a:pt x="441" y="543"/>
                  <a:pt x="439" y="526"/>
                </a:cubicBezTo>
                <a:cubicBezTo>
                  <a:pt x="438" y="517"/>
                  <a:pt x="437" y="508"/>
                  <a:pt x="438" y="500"/>
                </a:cubicBezTo>
                <a:cubicBezTo>
                  <a:pt x="439" y="492"/>
                  <a:pt x="442" y="484"/>
                  <a:pt x="443" y="476"/>
                </a:cubicBezTo>
                <a:cubicBezTo>
                  <a:pt x="443" y="468"/>
                  <a:pt x="441" y="461"/>
                  <a:pt x="443" y="454"/>
                </a:cubicBezTo>
                <a:cubicBezTo>
                  <a:pt x="444" y="448"/>
                  <a:pt x="446" y="442"/>
                  <a:pt x="448" y="436"/>
                </a:cubicBezTo>
                <a:cubicBezTo>
                  <a:pt x="451" y="440"/>
                  <a:pt x="454" y="444"/>
                  <a:pt x="457" y="448"/>
                </a:cubicBezTo>
                <a:cubicBezTo>
                  <a:pt x="460" y="453"/>
                  <a:pt x="463" y="457"/>
                  <a:pt x="467" y="460"/>
                </a:cubicBezTo>
                <a:cubicBezTo>
                  <a:pt x="468" y="471"/>
                  <a:pt x="463" y="482"/>
                  <a:pt x="461" y="492"/>
                </a:cubicBezTo>
                <a:cubicBezTo>
                  <a:pt x="459" y="503"/>
                  <a:pt x="459" y="515"/>
                  <a:pt x="459" y="526"/>
                </a:cubicBezTo>
                <a:cubicBezTo>
                  <a:pt x="458" y="539"/>
                  <a:pt x="459" y="551"/>
                  <a:pt x="461" y="564"/>
                </a:cubicBezTo>
                <a:cubicBezTo>
                  <a:pt x="463" y="571"/>
                  <a:pt x="463" y="578"/>
                  <a:pt x="463" y="585"/>
                </a:cubicBezTo>
                <a:cubicBezTo>
                  <a:pt x="463" y="586"/>
                  <a:pt x="463" y="593"/>
                  <a:pt x="463" y="596"/>
                </a:cubicBezTo>
                <a:cubicBezTo>
                  <a:pt x="461" y="599"/>
                  <a:pt x="459" y="603"/>
                  <a:pt x="458" y="607"/>
                </a:cubicBezTo>
                <a:cubicBezTo>
                  <a:pt x="456" y="607"/>
                  <a:pt x="455" y="608"/>
                  <a:pt x="454" y="608"/>
                </a:cubicBezTo>
                <a:cubicBezTo>
                  <a:pt x="452" y="608"/>
                  <a:pt x="451" y="607"/>
                  <a:pt x="449" y="607"/>
                </a:cubicBezTo>
                <a:cubicBezTo>
                  <a:pt x="449" y="606"/>
                  <a:pt x="448" y="606"/>
                  <a:pt x="448" y="606"/>
                </a:cubicBezTo>
                <a:cubicBezTo>
                  <a:pt x="445" y="603"/>
                  <a:pt x="444" y="599"/>
                  <a:pt x="443" y="595"/>
                </a:cubicBezTo>
                <a:close/>
                <a:moveTo>
                  <a:pt x="908" y="527"/>
                </a:moveTo>
                <a:cubicBezTo>
                  <a:pt x="916" y="520"/>
                  <a:pt x="922" y="512"/>
                  <a:pt x="928" y="505"/>
                </a:cubicBezTo>
                <a:cubicBezTo>
                  <a:pt x="940" y="490"/>
                  <a:pt x="950" y="475"/>
                  <a:pt x="959" y="459"/>
                </a:cubicBezTo>
                <a:cubicBezTo>
                  <a:pt x="967" y="443"/>
                  <a:pt x="976" y="427"/>
                  <a:pt x="981" y="410"/>
                </a:cubicBezTo>
                <a:cubicBezTo>
                  <a:pt x="985" y="398"/>
                  <a:pt x="986" y="385"/>
                  <a:pt x="988" y="372"/>
                </a:cubicBezTo>
                <a:cubicBezTo>
                  <a:pt x="988" y="388"/>
                  <a:pt x="985" y="403"/>
                  <a:pt x="980" y="418"/>
                </a:cubicBezTo>
                <a:cubicBezTo>
                  <a:pt x="974" y="435"/>
                  <a:pt x="971" y="452"/>
                  <a:pt x="962" y="467"/>
                </a:cubicBezTo>
                <a:cubicBezTo>
                  <a:pt x="957" y="475"/>
                  <a:pt x="952" y="482"/>
                  <a:pt x="947" y="490"/>
                </a:cubicBezTo>
                <a:cubicBezTo>
                  <a:pt x="943" y="497"/>
                  <a:pt x="939" y="504"/>
                  <a:pt x="934" y="510"/>
                </a:cubicBezTo>
                <a:cubicBezTo>
                  <a:pt x="927" y="521"/>
                  <a:pt x="917" y="531"/>
                  <a:pt x="909" y="541"/>
                </a:cubicBezTo>
                <a:cubicBezTo>
                  <a:pt x="907" y="542"/>
                  <a:pt x="906" y="544"/>
                  <a:pt x="905" y="546"/>
                </a:cubicBezTo>
                <a:cubicBezTo>
                  <a:pt x="904" y="547"/>
                  <a:pt x="904" y="548"/>
                  <a:pt x="903" y="549"/>
                </a:cubicBezTo>
                <a:cubicBezTo>
                  <a:pt x="902" y="549"/>
                  <a:pt x="902" y="549"/>
                  <a:pt x="902" y="549"/>
                </a:cubicBezTo>
                <a:cubicBezTo>
                  <a:pt x="901" y="549"/>
                  <a:pt x="901" y="550"/>
                  <a:pt x="901" y="550"/>
                </a:cubicBezTo>
                <a:cubicBezTo>
                  <a:pt x="898" y="550"/>
                  <a:pt x="896" y="550"/>
                  <a:pt x="893" y="551"/>
                </a:cubicBezTo>
                <a:cubicBezTo>
                  <a:pt x="892" y="551"/>
                  <a:pt x="890" y="551"/>
                  <a:pt x="888" y="551"/>
                </a:cubicBezTo>
                <a:cubicBezTo>
                  <a:pt x="889" y="550"/>
                  <a:pt x="889" y="548"/>
                  <a:pt x="890" y="546"/>
                </a:cubicBezTo>
                <a:cubicBezTo>
                  <a:pt x="893" y="538"/>
                  <a:pt x="902" y="533"/>
                  <a:pt x="908" y="527"/>
                </a:cubicBezTo>
                <a:close/>
                <a:moveTo>
                  <a:pt x="988" y="406"/>
                </a:moveTo>
                <a:cubicBezTo>
                  <a:pt x="988" y="406"/>
                  <a:pt x="988" y="406"/>
                  <a:pt x="988" y="406"/>
                </a:cubicBezTo>
                <a:cubicBezTo>
                  <a:pt x="988" y="406"/>
                  <a:pt x="988" y="406"/>
                  <a:pt x="989" y="406"/>
                </a:cubicBezTo>
                <a:cubicBezTo>
                  <a:pt x="988" y="407"/>
                  <a:pt x="987" y="408"/>
                  <a:pt x="987" y="409"/>
                </a:cubicBezTo>
                <a:cubicBezTo>
                  <a:pt x="987" y="408"/>
                  <a:pt x="987" y="407"/>
                  <a:pt x="987" y="407"/>
                </a:cubicBezTo>
                <a:cubicBezTo>
                  <a:pt x="988" y="406"/>
                  <a:pt x="988" y="406"/>
                  <a:pt x="988" y="406"/>
                </a:cubicBezTo>
                <a:close/>
                <a:moveTo>
                  <a:pt x="949" y="508"/>
                </a:moveTo>
                <a:cubicBezTo>
                  <a:pt x="952" y="506"/>
                  <a:pt x="954" y="504"/>
                  <a:pt x="956" y="502"/>
                </a:cubicBezTo>
                <a:cubicBezTo>
                  <a:pt x="954" y="505"/>
                  <a:pt x="952" y="506"/>
                  <a:pt x="949" y="508"/>
                </a:cubicBezTo>
                <a:close/>
                <a:moveTo>
                  <a:pt x="986" y="292"/>
                </a:moveTo>
                <a:cubicBezTo>
                  <a:pt x="990" y="292"/>
                  <a:pt x="993" y="291"/>
                  <a:pt x="997" y="291"/>
                </a:cubicBezTo>
                <a:cubicBezTo>
                  <a:pt x="1007" y="292"/>
                  <a:pt x="1018" y="293"/>
                  <a:pt x="1026" y="299"/>
                </a:cubicBezTo>
                <a:cubicBezTo>
                  <a:pt x="1041" y="309"/>
                  <a:pt x="1048" y="326"/>
                  <a:pt x="1046" y="344"/>
                </a:cubicBezTo>
                <a:cubicBezTo>
                  <a:pt x="1044" y="355"/>
                  <a:pt x="1040" y="365"/>
                  <a:pt x="1033" y="373"/>
                </a:cubicBezTo>
                <a:cubicBezTo>
                  <a:pt x="1027" y="379"/>
                  <a:pt x="1020" y="384"/>
                  <a:pt x="1013" y="390"/>
                </a:cubicBezTo>
                <a:cubicBezTo>
                  <a:pt x="1012" y="390"/>
                  <a:pt x="1012" y="391"/>
                  <a:pt x="1012" y="391"/>
                </a:cubicBezTo>
                <a:cubicBezTo>
                  <a:pt x="1016" y="387"/>
                  <a:pt x="1019" y="383"/>
                  <a:pt x="1023" y="379"/>
                </a:cubicBezTo>
                <a:cubicBezTo>
                  <a:pt x="1023" y="378"/>
                  <a:pt x="1023" y="377"/>
                  <a:pt x="1022" y="378"/>
                </a:cubicBezTo>
                <a:cubicBezTo>
                  <a:pt x="1016" y="382"/>
                  <a:pt x="1013" y="387"/>
                  <a:pt x="1008" y="392"/>
                </a:cubicBezTo>
                <a:cubicBezTo>
                  <a:pt x="1004" y="397"/>
                  <a:pt x="998" y="401"/>
                  <a:pt x="994" y="407"/>
                </a:cubicBezTo>
                <a:cubicBezTo>
                  <a:pt x="990" y="411"/>
                  <a:pt x="985" y="418"/>
                  <a:pt x="983" y="424"/>
                </a:cubicBezTo>
                <a:cubicBezTo>
                  <a:pt x="985" y="416"/>
                  <a:pt x="989" y="410"/>
                  <a:pt x="994" y="403"/>
                </a:cubicBezTo>
                <a:cubicBezTo>
                  <a:pt x="998" y="397"/>
                  <a:pt x="1002" y="393"/>
                  <a:pt x="1007" y="388"/>
                </a:cubicBezTo>
                <a:cubicBezTo>
                  <a:pt x="1010" y="385"/>
                  <a:pt x="1014" y="382"/>
                  <a:pt x="1016" y="377"/>
                </a:cubicBezTo>
                <a:cubicBezTo>
                  <a:pt x="1016" y="377"/>
                  <a:pt x="1016" y="377"/>
                  <a:pt x="1015" y="377"/>
                </a:cubicBezTo>
                <a:cubicBezTo>
                  <a:pt x="1007" y="385"/>
                  <a:pt x="999" y="391"/>
                  <a:pt x="992" y="400"/>
                </a:cubicBezTo>
                <a:cubicBezTo>
                  <a:pt x="994" y="396"/>
                  <a:pt x="996" y="393"/>
                  <a:pt x="999" y="389"/>
                </a:cubicBezTo>
                <a:cubicBezTo>
                  <a:pt x="1003" y="386"/>
                  <a:pt x="1006" y="382"/>
                  <a:pt x="1010" y="378"/>
                </a:cubicBezTo>
                <a:cubicBezTo>
                  <a:pt x="1011" y="378"/>
                  <a:pt x="1010" y="377"/>
                  <a:pt x="1009" y="377"/>
                </a:cubicBezTo>
                <a:cubicBezTo>
                  <a:pt x="1005" y="381"/>
                  <a:pt x="1000" y="385"/>
                  <a:pt x="995" y="390"/>
                </a:cubicBezTo>
                <a:cubicBezTo>
                  <a:pt x="999" y="385"/>
                  <a:pt x="1002" y="381"/>
                  <a:pt x="1005" y="376"/>
                </a:cubicBezTo>
                <a:cubicBezTo>
                  <a:pt x="1009" y="372"/>
                  <a:pt x="1013" y="368"/>
                  <a:pt x="1017" y="364"/>
                </a:cubicBezTo>
                <a:cubicBezTo>
                  <a:pt x="1022" y="359"/>
                  <a:pt x="1030" y="350"/>
                  <a:pt x="1027" y="342"/>
                </a:cubicBezTo>
                <a:cubicBezTo>
                  <a:pt x="1027" y="342"/>
                  <a:pt x="1027" y="342"/>
                  <a:pt x="1027" y="342"/>
                </a:cubicBezTo>
                <a:cubicBezTo>
                  <a:pt x="1020" y="363"/>
                  <a:pt x="998" y="373"/>
                  <a:pt x="990" y="393"/>
                </a:cubicBezTo>
                <a:cubicBezTo>
                  <a:pt x="991" y="388"/>
                  <a:pt x="992" y="383"/>
                  <a:pt x="992" y="378"/>
                </a:cubicBezTo>
                <a:cubicBezTo>
                  <a:pt x="993" y="373"/>
                  <a:pt x="997" y="368"/>
                  <a:pt x="1000" y="365"/>
                </a:cubicBezTo>
                <a:cubicBezTo>
                  <a:pt x="1005" y="359"/>
                  <a:pt x="1012" y="354"/>
                  <a:pt x="1017" y="348"/>
                </a:cubicBezTo>
                <a:cubicBezTo>
                  <a:pt x="1017" y="348"/>
                  <a:pt x="1017" y="347"/>
                  <a:pt x="1017" y="347"/>
                </a:cubicBezTo>
                <a:cubicBezTo>
                  <a:pt x="1009" y="353"/>
                  <a:pt x="1003" y="360"/>
                  <a:pt x="997" y="367"/>
                </a:cubicBezTo>
                <a:cubicBezTo>
                  <a:pt x="996" y="369"/>
                  <a:pt x="994" y="371"/>
                  <a:pt x="992" y="374"/>
                </a:cubicBezTo>
                <a:cubicBezTo>
                  <a:pt x="992" y="372"/>
                  <a:pt x="992" y="371"/>
                  <a:pt x="992" y="369"/>
                </a:cubicBezTo>
                <a:cubicBezTo>
                  <a:pt x="994" y="366"/>
                  <a:pt x="995" y="363"/>
                  <a:pt x="996" y="359"/>
                </a:cubicBezTo>
                <a:cubicBezTo>
                  <a:pt x="998" y="356"/>
                  <a:pt x="1000" y="353"/>
                  <a:pt x="1002" y="349"/>
                </a:cubicBezTo>
                <a:cubicBezTo>
                  <a:pt x="1009" y="341"/>
                  <a:pt x="1017" y="334"/>
                  <a:pt x="1027" y="330"/>
                </a:cubicBezTo>
                <a:cubicBezTo>
                  <a:pt x="1027" y="330"/>
                  <a:pt x="1027" y="330"/>
                  <a:pt x="1026" y="330"/>
                </a:cubicBezTo>
                <a:cubicBezTo>
                  <a:pt x="1020" y="331"/>
                  <a:pt x="1015" y="335"/>
                  <a:pt x="1011" y="339"/>
                </a:cubicBezTo>
                <a:cubicBezTo>
                  <a:pt x="1007" y="342"/>
                  <a:pt x="1003" y="346"/>
                  <a:pt x="1000" y="350"/>
                </a:cubicBezTo>
                <a:cubicBezTo>
                  <a:pt x="999" y="352"/>
                  <a:pt x="995" y="357"/>
                  <a:pt x="992" y="362"/>
                </a:cubicBezTo>
                <a:cubicBezTo>
                  <a:pt x="992" y="361"/>
                  <a:pt x="992" y="360"/>
                  <a:pt x="992" y="359"/>
                </a:cubicBezTo>
                <a:cubicBezTo>
                  <a:pt x="992" y="359"/>
                  <a:pt x="992" y="359"/>
                  <a:pt x="992" y="359"/>
                </a:cubicBezTo>
                <a:cubicBezTo>
                  <a:pt x="993" y="356"/>
                  <a:pt x="993" y="354"/>
                  <a:pt x="994" y="351"/>
                </a:cubicBezTo>
                <a:cubicBezTo>
                  <a:pt x="996" y="349"/>
                  <a:pt x="997" y="346"/>
                  <a:pt x="998" y="344"/>
                </a:cubicBezTo>
                <a:cubicBezTo>
                  <a:pt x="999" y="343"/>
                  <a:pt x="997" y="342"/>
                  <a:pt x="997" y="343"/>
                </a:cubicBezTo>
                <a:cubicBezTo>
                  <a:pt x="995" y="346"/>
                  <a:pt x="993" y="349"/>
                  <a:pt x="992" y="352"/>
                </a:cubicBezTo>
                <a:cubicBezTo>
                  <a:pt x="992" y="352"/>
                  <a:pt x="992" y="353"/>
                  <a:pt x="991" y="353"/>
                </a:cubicBezTo>
                <a:cubicBezTo>
                  <a:pt x="991" y="352"/>
                  <a:pt x="991" y="351"/>
                  <a:pt x="991" y="350"/>
                </a:cubicBezTo>
                <a:cubicBezTo>
                  <a:pt x="991" y="346"/>
                  <a:pt x="990" y="342"/>
                  <a:pt x="990" y="338"/>
                </a:cubicBezTo>
                <a:cubicBezTo>
                  <a:pt x="990" y="336"/>
                  <a:pt x="991" y="333"/>
                  <a:pt x="992" y="331"/>
                </a:cubicBezTo>
                <a:cubicBezTo>
                  <a:pt x="993" y="328"/>
                  <a:pt x="995" y="326"/>
                  <a:pt x="996" y="324"/>
                </a:cubicBezTo>
                <a:cubicBezTo>
                  <a:pt x="997" y="323"/>
                  <a:pt x="996" y="322"/>
                  <a:pt x="995" y="323"/>
                </a:cubicBezTo>
                <a:cubicBezTo>
                  <a:pt x="993" y="326"/>
                  <a:pt x="990" y="330"/>
                  <a:pt x="989" y="334"/>
                </a:cubicBezTo>
                <a:cubicBezTo>
                  <a:pt x="987" y="325"/>
                  <a:pt x="985" y="316"/>
                  <a:pt x="982" y="308"/>
                </a:cubicBezTo>
                <a:cubicBezTo>
                  <a:pt x="980" y="303"/>
                  <a:pt x="979" y="298"/>
                  <a:pt x="977" y="294"/>
                </a:cubicBezTo>
                <a:cubicBezTo>
                  <a:pt x="979" y="293"/>
                  <a:pt x="984" y="292"/>
                  <a:pt x="986" y="292"/>
                </a:cubicBezTo>
                <a:close/>
                <a:moveTo>
                  <a:pt x="992" y="256"/>
                </a:moveTo>
                <a:cubicBezTo>
                  <a:pt x="992" y="256"/>
                  <a:pt x="992" y="256"/>
                  <a:pt x="992" y="256"/>
                </a:cubicBezTo>
                <a:cubicBezTo>
                  <a:pt x="995" y="257"/>
                  <a:pt x="998" y="256"/>
                  <a:pt x="1000" y="255"/>
                </a:cubicBezTo>
                <a:cubicBezTo>
                  <a:pt x="1003" y="263"/>
                  <a:pt x="996" y="271"/>
                  <a:pt x="992" y="276"/>
                </a:cubicBezTo>
                <a:cubicBezTo>
                  <a:pt x="987" y="281"/>
                  <a:pt x="980" y="285"/>
                  <a:pt x="975" y="290"/>
                </a:cubicBezTo>
                <a:cubicBezTo>
                  <a:pt x="973" y="285"/>
                  <a:pt x="971" y="280"/>
                  <a:pt x="968" y="276"/>
                </a:cubicBezTo>
                <a:cubicBezTo>
                  <a:pt x="972" y="275"/>
                  <a:pt x="977" y="271"/>
                  <a:pt x="980" y="269"/>
                </a:cubicBezTo>
                <a:cubicBezTo>
                  <a:pt x="985" y="266"/>
                  <a:pt x="989" y="261"/>
                  <a:pt x="992" y="256"/>
                </a:cubicBezTo>
                <a:close/>
                <a:moveTo>
                  <a:pt x="880" y="242"/>
                </a:moveTo>
                <a:cubicBezTo>
                  <a:pt x="885" y="240"/>
                  <a:pt x="891" y="239"/>
                  <a:pt x="896" y="239"/>
                </a:cubicBezTo>
                <a:cubicBezTo>
                  <a:pt x="908" y="237"/>
                  <a:pt x="920" y="234"/>
                  <a:pt x="932" y="231"/>
                </a:cubicBezTo>
                <a:cubicBezTo>
                  <a:pt x="939" y="230"/>
                  <a:pt x="946" y="229"/>
                  <a:pt x="953" y="228"/>
                </a:cubicBezTo>
                <a:cubicBezTo>
                  <a:pt x="957" y="228"/>
                  <a:pt x="965" y="226"/>
                  <a:pt x="969" y="229"/>
                </a:cubicBezTo>
                <a:cubicBezTo>
                  <a:pt x="973" y="231"/>
                  <a:pt x="975" y="235"/>
                  <a:pt x="980" y="236"/>
                </a:cubicBezTo>
                <a:cubicBezTo>
                  <a:pt x="988" y="237"/>
                  <a:pt x="992" y="241"/>
                  <a:pt x="991" y="249"/>
                </a:cubicBezTo>
                <a:cubicBezTo>
                  <a:pt x="991" y="250"/>
                  <a:pt x="991" y="250"/>
                  <a:pt x="991" y="250"/>
                </a:cubicBezTo>
                <a:cubicBezTo>
                  <a:pt x="988" y="257"/>
                  <a:pt x="984" y="263"/>
                  <a:pt x="977" y="267"/>
                </a:cubicBezTo>
                <a:cubicBezTo>
                  <a:pt x="974" y="269"/>
                  <a:pt x="969" y="270"/>
                  <a:pt x="966" y="273"/>
                </a:cubicBezTo>
                <a:cubicBezTo>
                  <a:pt x="965" y="271"/>
                  <a:pt x="964" y="270"/>
                  <a:pt x="963" y="268"/>
                </a:cubicBezTo>
                <a:cubicBezTo>
                  <a:pt x="954" y="257"/>
                  <a:pt x="943" y="250"/>
                  <a:pt x="929" y="249"/>
                </a:cubicBezTo>
                <a:cubicBezTo>
                  <a:pt x="915" y="248"/>
                  <a:pt x="902" y="250"/>
                  <a:pt x="891" y="258"/>
                </a:cubicBezTo>
                <a:cubicBezTo>
                  <a:pt x="888" y="260"/>
                  <a:pt x="885" y="263"/>
                  <a:pt x="882" y="264"/>
                </a:cubicBezTo>
                <a:cubicBezTo>
                  <a:pt x="879" y="266"/>
                  <a:pt x="877" y="267"/>
                  <a:pt x="874" y="268"/>
                </a:cubicBezTo>
                <a:cubicBezTo>
                  <a:pt x="871" y="269"/>
                  <a:pt x="869" y="271"/>
                  <a:pt x="867" y="273"/>
                </a:cubicBezTo>
                <a:cubicBezTo>
                  <a:pt x="867" y="272"/>
                  <a:pt x="867" y="272"/>
                  <a:pt x="866" y="272"/>
                </a:cubicBezTo>
                <a:cubicBezTo>
                  <a:pt x="866" y="272"/>
                  <a:pt x="865" y="272"/>
                  <a:pt x="864" y="272"/>
                </a:cubicBezTo>
                <a:cubicBezTo>
                  <a:pt x="864" y="272"/>
                  <a:pt x="863" y="272"/>
                  <a:pt x="863" y="272"/>
                </a:cubicBezTo>
                <a:cubicBezTo>
                  <a:pt x="861" y="272"/>
                  <a:pt x="860" y="273"/>
                  <a:pt x="859" y="274"/>
                </a:cubicBezTo>
                <a:cubicBezTo>
                  <a:pt x="859" y="274"/>
                  <a:pt x="859" y="275"/>
                  <a:pt x="860" y="275"/>
                </a:cubicBezTo>
                <a:cubicBezTo>
                  <a:pt x="861" y="275"/>
                  <a:pt x="862" y="274"/>
                  <a:pt x="863" y="274"/>
                </a:cubicBezTo>
                <a:cubicBezTo>
                  <a:pt x="863" y="274"/>
                  <a:pt x="864" y="274"/>
                  <a:pt x="865" y="273"/>
                </a:cubicBezTo>
                <a:cubicBezTo>
                  <a:pt x="865" y="273"/>
                  <a:pt x="866" y="273"/>
                  <a:pt x="866" y="273"/>
                </a:cubicBezTo>
                <a:cubicBezTo>
                  <a:pt x="864" y="275"/>
                  <a:pt x="861" y="278"/>
                  <a:pt x="859" y="281"/>
                </a:cubicBezTo>
                <a:cubicBezTo>
                  <a:pt x="856" y="284"/>
                  <a:pt x="853" y="288"/>
                  <a:pt x="849" y="291"/>
                </a:cubicBezTo>
                <a:cubicBezTo>
                  <a:pt x="847" y="294"/>
                  <a:pt x="845" y="297"/>
                  <a:pt x="842" y="300"/>
                </a:cubicBezTo>
                <a:cubicBezTo>
                  <a:pt x="840" y="302"/>
                  <a:pt x="836" y="304"/>
                  <a:pt x="836" y="307"/>
                </a:cubicBezTo>
                <a:cubicBezTo>
                  <a:pt x="835" y="307"/>
                  <a:pt x="835" y="307"/>
                  <a:pt x="835" y="307"/>
                </a:cubicBezTo>
                <a:cubicBezTo>
                  <a:pt x="833" y="304"/>
                  <a:pt x="830" y="302"/>
                  <a:pt x="827" y="299"/>
                </a:cubicBezTo>
                <a:cubicBezTo>
                  <a:pt x="830" y="298"/>
                  <a:pt x="833" y="296"/>
                  <a:pt x="836" y="295"/>
                </a:cubicBezTo>
                <a:cubicBezTo>
                  <a:pt x="839" y="294"/>
                  <a:pt x="843" y="294"/>
                  <a:pt x="846" y="292"/>
                </a:cubicBezTo>
                <a:cubicBezTo>
                  <a:pt x="846" y="292"/>
                  <a:pt x="846" y="292"/>
                  <a:pt x="846" y="292"/>
                </a:cubicBezTo>
                <a:cubicBezTo>
                  <a:pt x="843" y="291"/>
                  <a:pt x="839" y="292"/>
                  <a:pt x="836" y="293"/>
                </a:cubicBezTo>
                <a:cubicBezTo>
                  <a:pt x="832" y="294"/>
                  <a:pt x="828" y="295"/>
                  <a:pt x="825" y="297"/>
                </a:cubicBezTo>
                <a:cubicBezTo>
                  <a:pt x="825" y="297"/>
                  <a:pt x="825" y="297"/>
                  <a:pt x="824" y="298"/>
                </a:cubicBezTo>
                <a:cubicBezTo>
                  <a:pt x="824" y="297"/>
                  <a:pt x="823" y="297"/>
                  <a:pt x="823" y="296"/>
                </a:cubicBezTo>
                <a:cubicBezTo>
                  <a:pt x="824" y="295"/>
                  <a:pt x="826" y="294"/>
                  <a:pt x="827" y="294"/>
                </a:cubicBezTo>
                <a:cubicBezTo>
                  <a:pt x="829" y="293"/>
                  <a:pt x="832" y="292"/>
                  <a:pt x="834" y="291"/>
                </a:cubicBezTo>
                <a:cubicBezTo>
                  <a:pt x="839" y="290"/>
                  <a:pt x="843" y="286"/>
                  <a:pt x="848" y="285"/>
                </a:cubicBezTo>
                <a:cubicBezTo>
                  <a:pt x="849" y="285"/>
                  <a:pt x="849" y="285"/>
                  <a:pt x="848" y="285"/>
                </a:cubicBezTo>
                <a:cubicBezTo>
                  <a:pt x="843" y="283"/>
                  <a:pt x="837" y="287"/>
                  <a:pt x="832" y="290"/>
                </a:cubicBezTo>
                <a:cubicBezTo>
                  <a:pt x="830" y="291"/>
                  <a:pt x="823" y="292"/>
                  <a:pt x="820" y="294"/>
                </a:cubicBezTo>
                <a:cubicBezTo>
                  <a:pt x="819" y="294"/>
                  <a:pt x="818" y="293"/>
                  <a:pt x="818" y="293"/>
                </a:cubicBezTo>
                <a:cubicBezTo>
                  <a:pt x="820" y="292"/>
                  <a:pt x="823" y="290"/>
                  <a:pt x="825" y="289"/>
                </a:cubicBezTo>
                <a:cubicBezTo>
                  <a:pt x="832" y="286"/>
                  <a:pt x="838" y="284"/>
                  <a:pt x="845" y="282"/>
                </a:cubicBezTo>
                <a:cubicBezTo>
                  <a:pt x="847" y="281"/>
                  <a:pt x="846" y="278"/>
                  <a:pt x="845" y="279"/>
                </a:cubicBezTo>
                <a:cubicBezTo>
                  <a:pt x="837" y="282"/>
                  <a:pt x="830" y="285"/>
                  <a:pt x="822" y="287"/>
                </a:cubicBezTo>
                <a:cubicBezTo>
                  <a:pt x="820" y="288"/>
                  <a:pt x="816" y="289"/>
                  <a:pt x="815" y="291"/>
                </a:cubicBezTo>
                <a:cubicBezTo>
                  <a:pt x="814" y="291"/>
                  <a:pt x="814" y="290"/>
                  <a:pt x="813" y="290"/>
                </a:cubicBezTo>
                <a:cubicBezTo>
                  <a:pt x="813" y="290"/>
                  <a:pt x="813" y="290"/>
                  <a:pt x="813" y="290"/>
                </a:cubicBezTo>
                <a:cubicBezTo>
                  <a:pt x="813" y="289"/>
                  <a:pt x="813" y="289"/>
                  <a:pt x="813" y="289"/>
                </a:cubicBezTo>
                <a:cubicBezTo>
                  <a:pt x="815" y="287"/>
                  <a:pt x="817" y="285"/>
                  <a:pt x="819" y="284"/>
                </a:cubicBezTo>
                <a:cubicBezTo>
                  <a:pt x="822" y="282"/>
                  <a:pt x="825" y="281"/>
                  <a:pt x="828" y="279"/>
                </a:cubicBezTo>
                <a:cubicBezTo>
                  <a:pt x="836" y="276"/>
                  <a:pt x="843" y="273"/>
                  <a:pt x="850" y="270"/>
                </a:cubicBezTo>
                <a:cubicBezTo>
                  <a:pt x="864" y="265"/>
                  <a:pt x="877" y="262"/>
                  <a:pt x="891" y="257"/>
                </a:cubicBezTo>
                <a:cubicBezTo>
                  <a:pt x="891" y="257"/>
                  <a:pt x="891" y="256"/>
                  <a:pt x="891" y="256"/>
                </a:cubicBezTo>
                <a:cubicBezTo>
                  <a:pt x="876" y="258"/>
                  <a:pt x="862" y="264"/>
                  <a:pt x="848" y="269"/>
                </a:cubicBezTo>
                <a:cubicBezTo>
                  <a:pt x="842" y="271"/>
                  <a:pt x="835" y="274"/>
                  <a:pt x="829" y="276"/>
                </a:cubicBezTo>
                <a:cubicBezTo>
                  <a:pt x="834" y="273"/>
                  <a:pt x="838" y="270"/>
                  <a:pt x="843" y="267"/>
                </a:cubicBezTo>
                <a:cubicBezTo>
                  <a:pt x="846" y="266"/>
                  <a:pt x="849" y="264"/>
                  <a:pt x="853" y="263"/>
                </a:cubicBezTo>
                <a:cubicBezTo>
                  <a:pt x="858" y="261"/>
                  <a:pt x="863" y="260"/>
                  <a:pt x="869" y="257"/>
                </a:cubicBezTo>
                <a:cubicBezTo>
                  <a:pt x="878" y="253"/>
                  <a:pt x="888" y="248"/>
                  <a:pt x="899" y="247"/>
                </a:cubicBezTo>
                <a:cubicBezTo>
                  <a:pt x="899" y="246"/>
                  <a:pt x="899" y="245"/>
                  <a:pt x="898" y="245"/>
                </a:cubicBezTo>
                <a:cubicBezTo>
                  <a:pt x="888" y="246"/>
                  <a:pt x="879" y="251"/>
                  <a:pt x="869" y="255"/>
                </a:cubicBezTo>
                <a:cubicBezTo>
                  <a:pt x="863" y="257"/>
                  <a:pt x="856" y="259"/>
                  <a:pt x="850" y="262"/>
                </a:cubicBezTo>
                <a:cubicBezTo>
                  <a:pt x="850" y="262"/>
                  <a:pt x="849" y="262"/>
                  <a:pt x="849" y="262"/>
                </a:cubicBezTo>
                <a:cubicBezTo>
                  <a:pt x="855" y="257"/>
                  <a:pt x="861" y="252"/>
                  <a:pt x="866" y="246"/>
                </a:cubicBezTo>
                <a:cubicBezTo>
                  <a:pt x="871" y="246"/>
                  <a:pt x="875" y="244"/>
                  <a:pt x="880" y="242"/>
                </a:cubicBezTo>
                <a:close/>
                <a:moveTo>
                  <a:pt x="743" y="122"/>
                </a:moveTo>
                <a:cubicBezTo>
                  <a:pt x="745" y="119"/>
                  <a:pt x="747" y="116"/>
                  <a:pt x="750" y="113"/>
                </a:cubicBezTo>
                <a:cubicBezTo>
                  <a:pt x="760" y="102"/>
                  <a:pt x="773" y="91"/>
                  <a:pt x="788" y="86"/>
                </a:cubicBezTo>
                <a:cubicBezTo>
                  <a:pt x="793" y="84"/>
                  <a:pt x="797" y="82"/>
                  <a:pt x="802" y="83"/>
                </a:cubicBezTo>
                <a:cubicBezTo>
                  <a:pt x="806" y="83"/>
                  <a:pt x="809" y="85"/>
                  <a:pt x="812" y="85"/>
                </a:cubicBezTo>
                <a:cubicBezTo>
                  <a:pt x="816" y="86"/>
                  <a:pt x="819" y="85"/>
                  <a:pt x="822" y="83"/>
                </a:cubicBezTo>
                <a:cubicBezTo>
                  <a:pt x="828" y="78"/>
                  <a:pt x="835" y="71"/>
                  <a:pt x="843" y="74"/>
                </a:cubicBezTo>
                <a:cubicBezTo>
                  <a:pt x="850" y="77"/>
                  <a:pt x="858" y="79"/>
                  <a:pt x="864" y="83"/>
                </a:cubicBezTo>
                <a:cubicBezTo>
                  <a:pt x="879" y="92"/>
                  <a:pt x="886" y="110"/>
                  <a:pt x="891" y="126"/>
                </a:cubicBezTo>
                <a:cubicBezTo>
                  <a:pt x="895" y="141"/>
                  <a:pt x="898" y="156"/>
                  <a:pt x="897" y="171"/>
                </a:cubicBezTo>
                <a:cubicBezTo>
                  <a:pt x="895" y="188"/>
                  <a:pt x="890" y="204"/>
                  <a:pt x="881" y="218"/>
                </a:cubicBezTo>
                <a:cubicBezTo>
                  <a:pt x="876" y="227"/>
                  <a:pt x="870" y="235"/>
                  <a:pt x="864" y="243"/>
                </a:cubicBezTo>
                <a:cubicBezTo>
                  <a:pt x="863" y="244"/>
                  <a:pt x="862" y="245"/>
                  <a:pt x="860" y="246"/>
                </a:cubicBezTo>
                <a:cubicBezTo>
                  <a:pt x="854" y="251"/>
                  <a:pt x="848" y="256"/>
                  <a:pt x="842" y="260"/>
                </a:cubicBezTo>
                <a:cubicBezTo>
                  <a:pt x="835" y="265"/>
                  <a:pt x="828" y="269"/>
                  <a:pt x="821" y="274"/>
                </a:cubicBezTo>
                <a:cubicBezTo>
                  <a:pt x="816" y="278"/>
                  <a:pt x="811" y="282"/>
                  <a:pt x="805" y="286"/>
                </a:cubicBezTo>
                <a:cubicBezTo>
                  <a:pt x="803" y="285"/>
                  <a:pt x="801" y="284"/>
                  <a:pt x="798" y="283"/>
                </a:cubicBezTo>
                <a:cubicBezTo>
                  <a:pt x="801" y="282"/>
                  <a:pt x="803" y="280"/>
                  <a:pt x="805" y="278"/>
                </a:cubicBezTo>
                <a:cubicBezTo>
                  <a:pt x="811" y="274"/>
                  <a:pt x="817" y="270"/>
                  <a:pt x="823" y="265"/>
                </a:cubicBezTo>
                <a:cubicBezTo>
                  <a:pt x="836" y="255"/>
                  <a:pt x="848" y="243"/>
                  <a:pt x="859" y="230"/>
                </a:cubicBezTo>
                <a:cubicBezTo>
                  <a:pt x="868" y="218"/>
                  <a:pt x="878" y="205"/>
                  <a:pt x="884" y="191"/>
                </a:cubicBezTo>
                <a:cubicBezTo>
                  <a:pt x="888" y="182"/>
                  <a:pt x="893" y="171"/>
                  <a:pt x="890" y="161"/>
                </a:cubicBezTo>
                <a:cubicBezTo>
                  <a:pt x="890" y="161"/>
                  <a:pt x="889" y="161"/>
                  <a:pt x="889" y="162"/>
                </a:cubicBezTo>
                <a:cubicBezTo>
                  <a:pt x="890" y="172"/>
                  <a:pt x="885" y="183"/>
                  <a:pt x="880" y="193"/>
                </a:cubicBezTo>
                <a:cubicBezTo>
                  <a:pt x="873" y="206"/>
                  <a:pt x="864" y="220"/>
                  <a:pt x="854" y="231"/>
                </a:cubicBezTo>
                <a:cubicBezTo>
                  <a:pt x="844" y="242"/>
                  <a:pt x="833" y="252"/>
                  <a:pt x="822" y="261"/>
                </a:cubicBezTo>
                <a:cubicBezTo>
                  <a:pt x="816" y="265"/>
                  <a:pt x="810" y="270"/>
                  <a:pt x="804" y="274"/>
                </a:cubicBezTo>
                <a:cubicBezTo>
                  <a:pt x="801" y="277"/>
                  <a:pt x="798" y="280"/>
                  <a:pt x="793" y="282"/>
                </a:cubicBezTo>
                <a:cubicBezTo>
                  <a:pt x="789" y="280"/>
                  <a:pt x="784" y="279"/>
                  <a:pt x="779" y="278"/>
                </a:cubicBezTo>
                <a:cubicBezTo>
                  <a:pt x="773" y="276"/>
                  <a:pt x="767" y="275"/>
                  <a:pt x="761" y="274"/>
                </a:cubicBezTo>
                <a:cubicBezTo>
                  <a:pt x="763" y="273"/>
                  <a:pt x="765" y="272"/>
                  <a:pt x="766" y="271"/>
                </a:cubicBezTo>
                <a:cubicBezTo>
                  <a:pt x="772" y="267"/>
                  <a:pt x="777" y="262"/>
                  <a:pt x="781" y="257"/>
                </a:cubicBezTo>
                <a:cubicBezTo>
                  <a:pt x="786" y="252"/>
                  <a:pt x="790" y="247"/>
                  <a:pt x="794" y="241"/>
                </a:cubicBezTo>
                <a:cubicBezTo>
                  <a:pt x="797" y="236"/>
                  <a:pt x="801" y="231"/>
                  <a:pt x="804" y="226"/>
                </a:cubicBezTo>
                <a:cubicBezTo>
                  <a:pt x="807" y="221"/>
                  <a:pt x="810" y="215"/>
                  <a:pt x="814" y="210"/>
                </a:cubicBezTo>
                <a:cubicBezTo>
                  <a:pt x="814" y="209"/>
                  <a:pt x="813" y="208"/>
                  <a:pt x="812" y="209"/>
                </a:cubicBezTo>
                <a:cubicBezTo>
                  <a:pt x="809" y="213"/>
                  <a:pt x="805" y="218"/>
                  <a:pt x="802" y="222"/>
                </a:cubicBezTo>
                <a:cubicBezTo>
                  <a:pt x="800" y="227"/>
                  <a:pt x="798" y="232"/>
                  <a:pt x="795" y="237"/>
                </a:cubicBezTo>
                <a:cubicBezTo>
                  <a:pt x="791" y="243"/>
                  <a:pt x="786" y="248"/>
                  <a:pt x="782" y="253"/>
                </a:cubicBezTo>
                <a:cubicBezTo>
                  <a:pt x="776" y="259"/>
                  <a:pt x="767" y="270"/>
                  <a:pt x="758" y="272"/>
                </a:cubicBezTo>
                <a:cubicBezTo>
                  <a:pt x="760" y="270"/>
                  <a:pt x="761" y="268"/>
                  <a:pt x="762" y="267"/>
                </a:cubicBezTo>
                <a:cubicBezTo>
                  <a:pt x="767" y="261"/>
                  <a:pt x="771" y="255"/>
                  <a:pt x="774" y="249"/>
                </a:cubicBezTo>
                <a:cubicBezTo>
                  <a:pt x="777" y="245"/>
                  <a:pt x="779" y="242"/>
                  <a:pt x="782" y="238"/>
                </a:cubicBezTo>
                <a:cubicBezTo>
                  <a:pt x="785" y="235"/>
                  <a:pt x="787" y="231"/>
                  <a:pt x="789" y="227"/>
                </a:cubicBezTo>
                <a:cubicBezTo>
                  <a:pt x="790" y="224"/>
                  <a:pt x="793" y="221"/>
                  <a:pt x="794" y="217"/>
                </a:cubicBezTo>
                <a:cubicBezTo>
                  <a:pt x="797" y="213"/>
                  <a:pt x="798" y="209"/>
                  <a:pt x="801" y="205"/>
                </a:cubicBezTo>
                <a:cubicBezTo>
                  <a:pt x="802" y="205"/>
                  <a:pt x="801" y="204"/>
                  <a:pt x="800" y="204"/>
                </a:cubicBezTo>
                <a:cubicBezTo>
                  <a:pt x="798" y="207"/>
                  <a:pt x="796" y="209"/>
                  <a:pt x="795" y="212"/>
                </a:cubicBezTo>
                <a:cubicBezTo>
                  <a:pt x="793" y="216"/>
                  <a:pt x="792" y="220"/>
                  <a:pt x="790" y="223"/>
                </a:cubicBezTo>
                <a:cubicBezTo>
                  <a:pt x="787" y="227"/>
                  <a:pt x="785" y="230"/>
                  <a:pt x="783" y="233"/>
                </a:cubicBezTo>
                <a:cubicBezTo>
                  <a:pt x="781" y="236"/>
                  <a:pt x="779" y="239"/>
                  <a:pt x="778" y="242"/>
                </a:cubicBezTo>
                <a:cubicBezTo>
                  <a:pt x="773" y="248"/>
                  <a:pt x="768" y="254"/>
                  <a:pt x="763" y="260"/>
                </a:cubicBezTo>
                <a:cubicBezTo>
                  <a:pt x="760" y="264"/>
                  <a:pt x="758" y="267"/>
                  <a:pt x="754" y="270"/>
                </a:cubicBezTo>
                <a:cubicBezTo>
                  <a:pt x="753" y="270"/>
                  <a:pt x="753" y="270"/>
                  <a:pt x="753" y="270"/>
                </a:cubicBezTo>
                <a:cubicBezTo>
                  <a:pt x="756" y="266"/>
                  <a:pt x="758" y="261"/>
                  <a:pt x="761" y="256"/>
                </a:cubicBezTo>
                <a:cubicBezTo>
                  <a:pt x="761" y="256"/>
                  <a:pt x="760" y="256"/>
                  <a:pt x="760" y="256"/>
                </a:cubicBezTo>
                <a:cubicBezTo>
                  <a:pt x="758" y="258"/>
                  <a:pt x="757" y="260"/>
                  <a:pt x="756" y="262"/>
                </a:cubicBezTo>
                <a:cubicBezTo>
                  <a:pt x="756" y="260"/>
                  <a:pt x="757" y="259"/>
                  <a:pt x="757" y="258"/>
                </a:cubicBezTo>
                <a:cubicBezTo>
                  <a:pt x="758" y="257"/>
                  <a:pt x="758" y="255"/>
                  <a:pt x="759" y="253"/>
                </a:cubicBezTo>
                <a:cubicBezTo>
                  <a:pt x="759" y="253"/>
                  <a:pt x="760" y="253"/>
                  <a:pt x="760" y="253"/>
                </a:cubicBezTo>
                <a:cubicBezTo>
                  <a:pt x="765" y="242"/>
                  <a:pt x="771" y="232"/>
                  <a:pt x="777" y="223"/>
                </a:cubicBezTo>
                <a:cubicBezTo>
                  <a:pt x="782" y="217"/>
                  <a:pt x="786" y="210"/>
                  <a:pt x="789" y="203"/>
                </a:cubicBezTo>
                <a:cubicBezTo>
                  <a:pt x="791" y="199"/>
                  <a:pt x="793" y="195"/>
                  <a:pt x="795" y="192"/>
                </a:cubicBezTo>
                <a:cubicBezTo>
                  <a:pt x="797" y="188"/>
                  <a:pt x="798" y="185"/>
                  <a:pt x="800" y="182"/>
                </a:cubicBezTo>
                <a:cubicBezTo>
                  <a:pt x="800" y="180"/>
                  <a:pt x="798" y="179"/>
                  <a:pt x="798" y="181"/>
                </a:cubicBezTo>
                <a:cubicBezTo>
                  <a:pt x="794" y="188"/>
                  <a:pt x="791" y="196"/>
                  <a:pt x="786" y="204"/>
                </a:cubicBezTo>
                <a:cubicBezTo>
                  <a:pt x="782" y="211"/>
                  <a:pt x="777" y="218"/>
                  <a:pt x="773" y="225"/>
                </a:cubicBezTo>
                <a:cubicBezTo>
                  <a:pt x="770" y="229"/>
                  <a:pt x="767" y="234"/>
                  <a:pt x="764" y="238"/>
                </a:cubicBezTo>
                <a:cubicBezTo>
                  <a:pt x="766" y="234"/>
                  <a:pt x="767" y="230"/>
                  <a:pt x="768" y="226"/>
                </a:cubicBezTo>
                <a:cubicBezTo>
                  <a:pt x="769" y="222"/>
                  <a:pt x="771" y="219"/>
                  <a:pt x="773" y="215"/>
                </a:cubicBezTo>
                <a:cubicBezTo>
                  <a:pt x="775" y="211"/>
                  <a:pt x="776" y="206"/>
                  <a:pt x="779" y="201"/>
                </a:cubicBezTo>
                <a:cubicBezTo>
                  <a:pt x="779" y="201"/>
                  <a:pt x="779" y="200"/>
                  <a:pt x="779" y="201"/>
                </a:cubicBezTo>
                <a:cubicBezTo>
                  <a:pt x="775" y="205"/>
                  <a:pt x="774" y="211"/>
                  <a:pt x="771" y="216"/>
                </a:cubicBezTo>
                <a:cubicBezTo>
                  <a:pt x="770" y="218"/>
                  <a:pt x="769" y="220"/>
                  <a:pt x="769" y="221"/>
                </a:cubicBezTo>
                <a:cubicBezTo>
                  <a:pt x="769" y="220"/>
                  <a:pt x="769" y="219"/>
                  <a:pt x="769" y="219"/>
                </a:cubicBezTo>
                <a:cubicBezTo>
                  <a:pt x="769" y="217"/>
                  <a:pt x="769" y="215"/>
                  <a:pt x="770" y="213"/>
                </a:cubicBezTo>
                <a:cubicBezTo>
                  <a:pt x="772" y="209"/>
                  <a:pt x="773" y="204"/>
                  <a:pt x="775" y="200"/>
                </a:cubicBezTo>
                <a:cubicBezTo>
                  <a:pt x="777" y="194"/>
                  <a:pt x="779" y="187"/>
                  <a:pt x="782" y="182"/>
                </a:cubicBezTo>
                <a:cubicBezTo>
                  <a:pt x="785" y="177"/>
                  <a:pt x="788" y="173"/>
                  <a:pt x="790" y="167"/>
                </a:cubicBezTo>
                <a:cubicBezTo>
                  <a:pt x="791" y="162"/>
                  <a:pt x="793" y="157"/>
                  <a:pt x="796" y="151"/>
                </a:cubicBezTo>
                <a:cubicBezTo>
                  <a:pt x="796" y="151"/>
                  <a:pt x="795" y="151"/>
                  <a:pt x="795" y="151"/>
                </a:cubicBezTo>
                <a:cubicBezTo>
                  <a:pt x="792" y="156"/>
                  <a:pt x="791" y="161"/>
                  <a:pt x="788" y="166"/>
                </a:cubicBezTo>
                <a:cubicBezTo>
                  <a:pt x="786" y="169"/>
                  <a:pt x="785" y="172"/>
                  <a:pt x="783" y="175"/>
                </a:cubicBezTo>
                <a:cubicBezTo>
                  <a:pt x="782" y="178"/>
                  <a:pt x="782" y="181"/>
                  <a:pt x="780" y="183"/>
                </a:cubicBezTo>
                <a:cubicBezTo>
                  <a:pt x="777" y="188"/>
                  <a:pt x="775" y="194"/>
                  <a:pt x="772" y="199"/>
                </a:cubicBezTo>
                <a:cubicBezTo>
                  <a:pt x="772" y="201"/>
                  <a:pt x="771" y="204"/>
                  <a:pt x="770" y="206"/>
                </a:cubicBezTo>
                <a:cubicBezTo>
                  <a:pt x="770" y="203"/>
                  <a:pt x="769" y="200"/>
                  <a:pt x="769" y="198"/>
                </a:cubicBezTo>
                <a:cubicBezTo>
                  <a:pt x="770" y="192"/>
                  <a:pt x="774" y="186"/>
                  <a:pt x="775" y="181"/>
                </a:cubicBezTo>
                <a:cubicBezTo>
                  <a:pt x="777" y="172"/>
                  <a:pt x="780" y="165"/>
                  <a:pt x="785" y="157"/>
                </a:cubicBezTo>
                <a:cubicBezTo>
                  <a:pt x="785" y="157"/>
                  <a:pt x="784" y="156"/>
                  <a:pt x="784" y="157"/>
                </a:cubicBezTo>
                <a:cubicBezTo>
                  <a:pt x="777" y="162"/>
                  <a:pt x="774" y="172"/>
                  <a:pt x="773" y="180"/>
                </a:cubicBezTo>
                <a:cubicBezTo>
                  <a:pt x="772" y="184"/>
                  <a:pt x="772" y="187"/>
                  <a:pt x="770" y="191"/>
                </a:cubicBezTo>
                <a:cubicBezTo>
                  <a:pt x="769" y="192"/>
                  <a:pt x="769" y="192"/>
                  <a:pt x="769" y="193"/>
                </a:cubicBezTo>
                <a:cubicBezTo>
                  <a:pt x="768" y="191"/>
                  <a:pt x="768" y="188"/>
                  <a:pt x="768" y="186"/>
                </a:cubicBezTo>
                <a:cubicBezTo>
                  <a:pt x="768" y="186"/>
                  <a:pt x="768" y="185"/>
                  <a:pt x="768" y="185"/>
                </a:cubicBezTo>
                <a:cubicBezTo>
                  <a:pt x="769" y="183"/>
                  <a:pt x="769" y="180"/>
                  <a:pt x="770" y="178"/>
                </a:cubicBezTo>
                <a:cubicBezTo>
                  <a:pt x="772" y="172"/>
                  <a:pt x="774" y="166"/>
                  <a:pt x="776" y="160"/>
                </a:cubicBezTo>
                <a:cubicBezTo>
                  <a:pt x="777" y="159"/>
                  <a:pt x="775" y="158"/>
                  <a:pt x="775" y="159"/>
                </a:cubicBezTo>
                <a:cubicBezTo>
                  <a:pt x="772" y="166"/>
                  <a:pt x="770" y="173"/>
                  <a:pt x="767" y="180"/>
                </a:cubicBezTo>
                <a:cubicBezTo>
                  <a:pt x="767" y="180"/>
                  <a:pt x="767" y="180"/>
                  <a:pt x="766" y="181"/>
                </a:cubicBezTo>
                <a:cubicBezTo>
                  <a:pt x="766" y="178"/>
                  <a:pt x="765" y="176"/>
                  <a:pt x="764" y="173"/>
                </a:cubicBezTo>
                <a:cubicBezTo>
                  <a:pt x="764" y="173"/>
                  <a:pt x="764" y="173"/>
                  <a:pt x="764" y="173"/>
                </a:cubicBezTo>
                <a:cubicBezTo>
                  <a:pt x="764" y="171"/>
                  <a:pt x="764" y="170"/>
                  <a:pt x="764" y="169"/>
                </a:cubicBezTo>
                <a:cubicBezTo>
                  <a:pt x="765" y="166"/>
                  <a:pt x="765" y="163"/>
                  <a:pt x="765" y="160"/>
                </a:cubicBezTo>
                <a:cubicBezTo>
                  <a:pt x="766" y="153"/>
                  <a:pt x="767" y="148"/>
                  <a:pt x="769" y="142"/>
                </a:cubicBezTo>
                <a:cubicBezTo>
                  <a:pt x="770" y="141"/>
                  <a:pt x="769" y="141"/>
                  <a:pt x="768" y="141"/>
                </a:cubicBezTo>
                <a:cubicBezTo>
                  <a:pt x="764" y="148"/>
                  <a:pt x="765" y="154"/>
                  <a:pt x="763" y="161"/>
                </a:cubicBezTo>
                <a:cubicBezTo>
                  <a:pt x="763" y="162"/>
                  <a:pt x="762" y="164"/>
                  <a:pt x="762" y="165"/>
                </a:cubicBezTo>
                <a:cubicBezTo>
                  <a:pt x="759" y="158"/>
                  <a:pt x="756" y="149"/>
                  <a:pt x="749" y="145"/>
                </a:cubicBezTo>
                <a:cubicBezTo>
                  <a:pt x="747" y="143"/>
                  <a:pt x="746" y="143"/>
                  <a:pt x="743" y="143"/>
                </a:cubicBezTo>
                <a:cubicBezTo>
                  <a:pt x="741" y="142"/>
                  <a:pt x="742" y="137"/>
                  <a:pt x="741" y="136"/>
                </a:cubicBezTo>
                <a:cubicBezTo>
                  <a:pt x="739" y="133"/>
                  <a:pt x="738" y="132"/>
                  <a:pt x="736" y="132"/>
                </a:cubicBezTo>
                <a:cubicBezTo>
                  <a:pt x="736" y="128"/>
                  <a:pt x="740" y="124"/>
                  <a:pt x="743" y="122"/>
                </a:cubicBezTo>
                <a:close/>
                <a:moveTo>
                  <a:pt x="684" y="129"/>
                </a:moveTo>
                <a:cubicBezTo>
                  <a:pt x="692" y="127"/>
                  <a:pt x="700" y="126"/>
                  <a:pt x="708" y="126"/>
                </a:cubicBezTo>
                <a:cubicBezTo>
                  <a:pt x="712" y="126"/>
                  <a:pt x="716" y="126"/>
                  <a:pt x="719" y="126"/>
                </a:cubicBezTo>
                <a:cubicBezTo>
                  <a:pt x="722" y="127"/>
                  <a:pt x="725" y="128"/>
                  <a:pt x="726" y="130"/>
                </a:cubicBezTo>
                <a:cubicBezTo>
                  <a:pt x="726" y="131"/>
                  <a:pt x="727" y="132"/>
                  <a:pt x="727" y="132"/>
                </a:cubicBezTo>
                <a:cubicBezTo>
                  <a:pt x="730" y="135"/>
                  <a:pt x="737" y="133"/>
                  <a:pt x="738" y="139"/>
                </a:cubicBezTo>
                <a:cubicBezTo>
                  <a:pt x="738" y="142"/>
                  <a:pt x="739" y="146"/>
                  <a:pt x="743" y="146"/>
                </a:cubicBezTo>
                <a:cubicBezTo>
                  <a:pt x="750" y="146"/>
                  <a:pt x="753" y="155"/>
                  <a:pt x="756" y="160"/>
                </a:cubicBezTo>
                <a:cubicBezTo>
                  <a:pt x="761" y="172"/>
                  <a:pt x="765" y="186"/>
                  <a:pt x="766" y="199"/>
                </a:cubicBezTo>
                <a:cubicBezTo>
                  <a:pt x="767" y="216"/>
                  <a:pt x="763" y="230"/>
                  <a:pt x="758" y="245"/>
                </a:cubicBezTo>
                <a:cubicBezTo>
                  <a:pt x="755" y="254"/>
                  <a:pt x="752" y="266"/>
                  <a:pt x="745" y="273"/>
                </a:cubicBezTo>
                <a:cubicBezTo>
                  <a:pt x="745" y="273"/>
                  <a:pt x="745" y="273"/>
                  <a:pt x="745" y="273"/>
                </a:cubicBezTo>
                <a:cubicBezTo>
                  <a:pt x="742" y="275"/>
                  <a:pt x="740" y="278"/>
                  <a:pt x="737" y="280"/>
                </a:cubicBezTo>
                <a:cubicBezTo>
                  <a:pt x="734" y="282"/>
                  <a:pt x="732" y="284"/>
                  <a:pt x="730" y="286"/>
                </a:cubicBezTo>
                <a:cubicBezTo>
                  <a:pt x="726" y="291"/>
                  <a:pt x="722" y="296"/>
                  <a:pt x="718" y="300"/>
                </a:cubicBezTo>
                <a:cubicBezTo>
                  <a:pt x="709" y="309"/>
                  <a:pt x="699" y="316"/>
                  <a:pt x="689" y="324"/>
                </a:cubicBezTo>
                <a:cubicBezTo>
                  <a:pt x="684" y="329"/>
                  <a:pt x="679" y="334"/>
                  <a:pt x="673" y="338"/>
                </a:cubicBezTo>
                <a:cubicBezTo>
                  <a:pt x="668" y="342"/>
                  <a:pt x="663" y="345"/>
                  <a:pt x="657" y="349"/>
                </a:cubicBezTo>
                <a:cubicBezTo>
                  <a:pt x="649" y="355"/>
                  <a:pt x="642" y="363"/>
                  <a:pt x="635" y="372"/>
                </a:cubicBezTo>
                <a:cubicBezTo>
                  <a:pt x="635" y="372"/>
                  <a:pt x="635" y="372"/>
                  <a:pt x="635" y="372"/>
                </a:cubicBezTo>
                <a:cubicBezTo>
                  <a:pt x="635" y="372"/>
                  <a:pt x="634" y="371"/>
                  <a:pt x="633" y="371"/>
                </a:cubicBezTo>
                <a:cubicBezTo>
                  <a:pt x="630" y="368"/>
                  <a:pt x="627" y="365"/>
                  <a:pt x="623" y="365"/>
                </a:cubicBezTo>
                <a:cubicBezTo>
                  <a:pt x="628" y="357"/>
                  <a:pt x="634" y="350"/>
                  <a:pt x="642" y="345"/>
                </a:cubicBezTo>
                <a:cubicBezTo>
                  <a:pt x="646" y="342"/>
                  <a:pt x="650" y="339"/>
                  <a:pt x="655" y="337"/>
                </a:cubicBezTo>
                <a:cubicBezTo>
                  <a:pt x="659" y="335"/>
                  <a:pt x="664" y="334"/>
                  <a:pt x="668" y="332"/>
                </a:cubicBezTo>
                <a:cubicBezTo>
                  <a:pt x="674" y="327"/>
                  <a:pt x="679" y="319"/>
                  <a:pt x="684" y="313"/>
                </a:cubicBezTo>
                <a:cubicBezTo>
                  <a:pt x="689" y="305"/>
                  <a:pt x="695" y="296"/>
                  <a:pt x="704" y="291"/>
                </a:cubicBezTo>
                <a:cubicBezTo>
                  <a:pt x="711" y="288"/>
                  <a:pt x="719" y="286"/>
                  <a:pt x="726" y="283"/>
                </a:cubicBezTo>
                <a:cubicBezTo>
                  <a:pt x="732" y="280"/>
                  <a:pt x="737" y="274"/>
                  <a:pt x="741" y="268"/>
                </a:cubicBezTo>
                <a:cubicBezTo>
                  <a:pt x="745" y="263"/>
                  <a:pt x="748" y="258"/>
                  <a:pt x="750" y="252"/>
                </a:cubicBezTo>
                <a:cubicBezTo>
                  <a:pt x="751" y="248"/>
                  <a:pt x="754" y="243"/>
                  <a:pt x="752" y="240"/>
                </a:cubicBezTo>
                <a:cubicBezTo>
                  <a:pt x="752" y="239"/>
                  <a:pt x="751" y="240"/>
                  <a:pt x="751" y="241"/>
                </a:cubicBezTo>
                <a:cubicBezTo>
                  <a:pt x="752" y="245"/>
                  <a:pt x="747" y="253"/>
                  <a:pt x="746" y="256"/>
                </a:cubicBezTo>
                <a:cubicBezTo>
                  <a:pt x="741" y="263"/>
                  <a:pt x="737" y="270"/>
                  <a:pt x="731" y="275"/>
                </a:cubicBezTo>
                <a:cubicBezTo>
                  <a:pt x="725" y="281"/>
                  <a:pt x="717" y="282"/>
                  <a:pt x="710" y="285"/>
                </a:cubicBezTo>
                <a:cubicBezTo>
                  <a:pt x="703" y="287"/>
                  <a:pt x="697" y="291"/>
                  <a:pt x="692" y="296"/>
                </a:cubicBezTo>
                <a:cubicBezTo>
                  <a:pt x="686" y="303"/>
                  <a:pt x="681" y="310"/>
                  <a:pt x="675" y="317"/>
                </a:cubicBezTo>
                <a:cubicBezTo>
                  <a:pt x="673" y="321"/>
                  <a:pt x="670" y="326"/>
                  <a:pt x="666" y="328"/>
                </a:cubicBezTo>
                <a:cubicBezTo>
                  <a:pt x="664" y="329"/>
                  <a:pt x="662" y="330"/>
                  <a:pt x="661" y="331"/>
                </a:cubicBezTo>
                <a:cubicBezTo>
                  <a:pt x="666" y="325"/>
                  <a:pt x="669" y="319"/>
                  <a:pt x="674" y="314"/>
                </a:cubicBezTo>
                <a:cubicBezTo>
                  <a:pt x="679" y="310"/>
                  <a:pt x="682" y="304"/>
                  <a:pt x="687" y="300"/>
                </a:cubicBezTo>
                <a:cubicBezTo>
                  <a:pt x="690" y="296"/>
                  <a:pt x="694" y="291"/>
                  <a:pt x="698" y="287"/>
                </a:cubicBezTo>
                <a:cubicBezTo>
                  <a:pt x="698" y="287"/>
                  <a:pt x="697" y="286"/>
                  <a:pt x="697" y="287"/>
                </a:cubicBezTo>
                <a:cubicBezTo>
                  <a:pt x="692" y="291"/>
                  <a:pt x="689" y="296"/>
                  <a:pt x="685" y="301"/>
                </a:cubicBezTo>
                <a:cubicBezTo>
                  <a:pt x="681" y="305"/>
                  <a:pt x="677" y="309"/>
                  <a:pt x="673" y="313"/>
                </a:cubicBezTo>
                <a:cubicBezTo>
                  <a:pt x="666" y="319"/>
                  <a:pt x="662" y="328"/>
                  <a:pt x="654" y="333"/>
                </a:cubicBezTo>
                <a:cubicBezTo>
                  <a:pt x="654" y="333"/>
                  <a:pt x="654" y="333"/>
                  <a:pt x="654" y="333"/>
                </a:cubicBezTo>
                <a:cubicBezTo>
                  <a:pt x="656" y="331"/>
                  <a:pt x="657" y="329"/>
                  <a:pt x="659" y="327"/>
                </a:cubicBezTo>
                <a:cubicBezTo>
                  <a:pt x="663" y="322"/>
                  <a:pt x="667" y="317"/>
                  <a:pt x="671" y="312"/>
                </a:cubicBezTo>
                <a:cubicBezTo>
                  <a:pt x="671" y="312"/>
                  <a:pt x="670" y="311"/>
                  <a:pt x="670" y="312"/>
                </a:cubicBezTo>
                <a:cubicBezTo>
                  <a:pt x="667" y="317"/>
                  <a:pt x="662" y="321"/>
                  <a:pt x="658" y="326"/>
                </a:cubicBezTo>
                <a:cubicBezTo>
                  <a:pt x="655" y="329"/>
                  <a:pt x="653" y="333"/>
                  <a:pt x="649" y="335"/>
                </a:cubicBezTo>
                <a:cubicBezTo>
                  <a:pt x="648" y="336"/>
                  <a:pt x="648" y="336"/>
                  <a:pt x="648" y="336"/>
                </a:cubicBezTo>
                <a:cubicBezTo>
                  <a:pt x="646" y="337"/>
                  <a:pt x="643" y="339"/>
                  <a:pt x="641" y="340"/>
                </a:cubicBezTo>
                <a:cubicBezTo>
                  <a:pt x="642" y="339"/>
                  <a:pt x="644" y="337"/>
                  <a:pt x="645" y="335"/>
                </a:cubicBezTo>
                <a:cubicBezTo>
                  <a:pt x="645" y="335"/>
                  <a:pt x="645" y="335"/>
                  <a:pt x="645" y="335"/>
                </a:cubicBezTo>
                <a:cubicBezTo>
                  <a:pt x="641" y="339"/>
                  <a:pt x="637" y="342"/>
                  <a:pt x="633" y="346"/>
                </a:cubicBezTo>
                <a:cubicBezTo>
                  <a:pt x="630" y="349"/>
                  <a:pt x="626" y="352"/>
                  <a:pt x="623" y="356"/>
                </a:cubicBezTo>
                <a:cubicBezTo>
                  <a:pt x="623" y="356"/>
                  <a:pt x="623" y="355"/>
                  <a:pt x="623" y="354"/>
                </a:cubicBezTo>
                <a:cubicBezTo>
                  <a:pt x="624" y="354"/>
                  <a:pt x="624" y="353"/>
                  <a:pt x="625" y="352"/>
                </a:cubicBezTo>
                <a:cubicBezTo>
                  <a:pt x="627" y="350"/>
                  <a:pt x="629" y="347"/>
                  <a:pt x="631" y="345"/>
                </a:cubicBezTo>
                <a:cubicBezTo>
                  <a:pt x="632" y="343"/>
                  <a:pt x="633" y="341"/>
                  <a:pt x="634" y="339"/>
                </a:cubicBezTo>
                <a:cubicBezTo>
                  <a:pt x="635" y="339"/>
                  <a:pt x="635" y="339"/>
                  <a:pt x="635" y="338"/>
                </a:cubicBezTo>
                <a:cubicBezTo>
                  <a:pt x="636" y="337"/>
                  <a:pt x="636" y="336"/>
                  <a:pt x="637" y="335"/>
                </a:cubicBezTo>
                <a:cubicBezTo>
                  <a:pt x="641" y="330"/>
                  <a:pt x="644" y="325"/>
                  <a:pt x="648" y="320"/>
                </a:cubicBezTo>
                <a:cubicBezTo>
                  <a:pt x="648" y="320"/>
                  <a:pt x="648" y="320"/>
                  <a:pt x="647" y="320"/>
                </a:cubicBezTo>
                <a:cubicBezTo>
                  <a:pt x="644" y="323"/>
                  <a:pt x="642" y="326"/>
                  <a:pt x="640" y="330"/>
                </a:cubicBezTo>
                <a:cubicBezTo>
                  <a:pt x="643" y="324"/>
                  <a:pt x="646" y="319"/>
                  <a:pt x="649" y="313"/>
                </a:cubicBezTo>
                <a:cubicBezTo>
                  <a:pt x="654" y="306"/>
                  <a:pt x="659" y="299"/>
                  <a:pt x="664" y="291"/>
                </a:cubicBezTo>
                <a:cubicBezTo>
                  <a:pt x="664" y="291"/>
                  <a:pt x="663" y="290"/>
                  <a:pt x="663" y="290"/>
                </a:cubicBezTo>
                <a:cubicBezTo>
                  <a:pt x="657" y="298"/>
                  <a:pt x="652" y="306"/>
                  <a:pt x="647" y="314"/>
                </a:cubicBezTo>
                <a:cubicBezTo>
                  <a:pt x="642" y="322"/>
                  <a:pt x="637" y="329"/>
                  <a:pt x="634" y="337"/>
                </a:cubicBezTo>
                <a:cubicBezTo>
                  <a:pt x="632" y="340"/>
                  <a:pt x="630" y="342"/>
                  <a:pt x="628" y="345"/>
                </a:cubicBezTo>
                <a:cubicBezTo>
                  <a:pt x="627" y="346"/>
                  <a:pt x="626" y="348"/>
                  <a:pt x="624" y="349"/>
                </a:cubicBezTo>
                <a:cubicBezTo>
                  <a:pt x="629" y="340"/>
                  <a:pt x="633" y="331"/>
                  <a:pt x="638" y="322"/>
                </a:cubicBezTo>
                <a:cubicBezTo>
                  <a:pt x="641" y="317"/>
                  <a:pt x="643" y="312"/>
                  <a:pt x="646" y="308"/>
                </a:cubicBezTo>
                <a:cubicBezTo>
                  <a:pt x="648" y="303"/>
                  <a:pt x="651" y="299"/>
                  <a:pt x="653" y="295"/>
                </a:cubicBezTo>
                <a:cubicBezTo>
                  <a:pt x="653" y="294"/>
                  <a:pt x="653" y="294"/>
                  <a:pt x="653" y="294"/>
                </a:cubicBezTo>
                <a:cubicBezTo>
                  <a:pt x="645" y="303"/>
                  <a:pt x="642" y="315"/>
                  <a:pt x="635" y="325"/>
                </a:cubicBezTo>
                <a:cubicBezTo>
                  <a:pt x="631" y="331"/>
                  <a:pt x="626" y="337"/>
                  <a:pt x="624" y="345"/>
                </a:cubicBezTo>
                <a:cubicBezTo>
                  <a:pt x="625" y="341"/>
                  <a:pt x="626" y="337"/>
                  <a:pt x="627" y="334"/>
                </a:cubicBezTo>
                <a:cubicBezTo>
                  <a:pt x="632" y="323"/>
                  <a:pt x="638" y="314"/>
                  <a:pt x="642" y="303"/>
                </a:cubicBezTo>
                <a:cubicBezTo>
                  <a:pt x="643" y="302"/>
                  <a:pt x="641" y="302"/>
                  <a:pt x="640" y="303"/>
                </a:cubicBezTo>
                <a:cubicBezTo>
                  <a:pt x="636" y="314"/>
                  <a:pt x="628" y="324"/>
                  <a:pt x="624" y="335"/>
                </a:cubicBezTo>
                <a:cubicBezTo>
                  <a:pt x="622" y="340"/>
                  <a:pt x="621" y="346"/>
                  <a:pt x="620" y="351"/>
                </a:cubicBezTo>
                <a:cubicBezTo>
                  <a:pt x="620" y="351"/>
                  <a:pt x="619" y="350"/>
                  <a:pt x="619" y="350"/>
                </a:cubicBezTo>
                <a:cubicBezTo>
                  <a:pt x="619" y="350"/>
                  <a:pt x="619" y="349"/>
                  <a:pt x="619" y="349"/>
                </a:cubicBezTo>
                <a:cubicBezTo>
                  <a:pt x="620" y="347"/>
                  <a:pt x="620" y="344"/>
                  <a:pt x="620" y="341"/>
                </a:cubicBezTo>
                <a:cubicBezTo>
                  <a:pt x="621" y="335"/>
                  <a:pt x="624" y="329"/>
                  <a:pt x="626" y="324"/>
                </a:cubicBezTo>
                <a:cubicBezTo>
                  <a:pt x="631" y="313"/>
                  <a:pt x="637" y="302"/>
                  <a:pt x="640" y="290"/>
                </a:cubicBezTo>
                <a:cubicBezTo>
                  <a:pt x="640" y="290"/>
                  <a:pt x="640" y="290"/>
                  <a:pt x="640" y="290"/>
                </a:cubicBezTo>
                <a:cubicBezTo>
                  <a:pt x="634" y="303"/>
                  <a:pt x="628" y="315"/>
                  <a:pt x="622" y="328"/>
                </a:cubicBezTo>
                <a:cubicBezTo>
                  <a:pt x="622" y="329"/>
                  <a:pt x="622" y="330"/>
                  <a:pt x="621" y="330"/>
                </a:cubicBezTo>
                <a:cubicBezTo>
                  <a:pt x="622" y="324"/>
                  <a:pt x="625" y="319"/>
                  <a:pt x="627" y="313"/>
                </a:cubicBezTo>
                <a:cubicBezTo>
                  <a:pt x="629" y="310"/>
                  <a:pt x="629" y="307"/>
                  <a:pt x="630" y="304"/>
                </a:cubicBezTo>
                <a:cubicBezTo>
                  <a:pt x="632" y="300"/>
                  <a:pt x="634" y="296"/>
                  <a:pt x="635" y="292"/>
                </a:cubicBezTo>
                <a:cubicBezTo>
                  <a:pt x="636" y="291"/>
                  <a:pt x="635" y="291"/>
                  <a:pt x="635" y="291"/>
                </a:cubicBezTo>
                <a:cubicBezTo>
                  <a:pt x="632" y="296"/>
                  <a:pt x="631" y="301"/>
                  <a:pt x="629" y="306"/>
                </a:cubicBezTo>
                <a:cubicBezTo>
                  <a:pt x="627" y="309"/>
                  <a:pt x="625" y="312"/>
                  <a:pt x="624" y="315"/>
                </a:cubicBezTo>
                <a:cubicBezTo>
                  <a:pt x="623" y="318"/>
                  <a:pt x="622" y="320"/>
                  <a:pt x="621" y="323"/>
                </a:cubicBezTo>
                <a:cubicBezTo>
                  <a:pt x="621" y="321"/>
                  <a:pt x="621" y="319"/>
                  <a:pt x="621" y="317"/>
                </a:cubicBezTo>
                <a:cubicBezTo>
                  <a:pt x="623" y="313"/>
                  <a:pt x="624" y="309"/>
                  <a:pt x="625" y="305"/>
                </a:cubicBezTo>
                <a:cubicBezTo>
                  <a:pt x="625" y="305"/>
                  <a:pt x="625" y="305"/>
                  <a:pt x="624" y="305"/>
                </a:cubicBezTo>
                <a:cubicBezTo>
                  <a:pt x="623" y="307"/>
                  <a:pt x="622" y="310"/>
                  <a:pt x="621" y="313"/>
                </a:cubicBezTo>
                <a:cubicBezTo>
                  <a:pt x="622" y="308"/>
                  <a:pt x="622" y="303"/>
                  <a:pt x="623" y="298"/>
                </a:cubicBezTo>
                <a:cubicBezTo>
                  <a:pt x="623" y="298"/>
                  <a:pt x="623" y="298"/>
                  <a:pt x="623" y="298"/>
                </a:cubicBezTo>
                <a:cubicBezTo>
                  <a:pt x="623" y="298"/>
                  <a:pt x="623" y="298"/>
                  <a:pt x="623" y="298"/>
                </a:cubicBezTo>
                <a:cubicBezTo>
                  <a:pt x="624" y="297"/>
                  <a:pt x="624" y="295"/>
                  <a:pt x="625" y="293"/>
                </a:cubicBezTo>
                <a:cubicBezTo>
                  <a:pt x="626" y="291"/>
                  <a:pt x="627" y="289"/>
                  <a:pt x="628" y="287"/>
                </a:cubicBezTo>
                <a:cubicBezTo>
                  <a:pt x="630" y="283"/>
                  <a:pt x="631" y="280"/>
                  <a:pt x="631" y="277"/>
                </a:cubicBezTo>
                <a:cubicBezTo>
                  <a:pt x="631" y="276"/>
                  <a:pt x="631" y="276"/>
                  <a:pt x="630" y="277"/>
                </a:cubicBezTo>
                <a:cubicBezTo>
                  <a:pt x="629" y="281"/>
                  <a:pt x="627" y="285"/>
                  <a:pt x="625" y="289"/>
                </a:cubicBezTo>
                <a:cubicBezTo>
                  <a:pt x="624" y="291"/>
                  <a:pt x="623" y="292"/>
                  <a:pt x="623" y="294"/>
                </a:cubicBezTo>
                <a:cubicBezTo>
                  <a:pt x="623" y="292"/>
                  <a:pt x="623" y="289"/>
                  <a:pt x="623" y="286"/>
                </a:cubicBezTo>
                <a:cubicBezTo>
                  <a:pt x="624" y="286"/>
                  <a:pt x="624" y="286"/>
                  <a:pt x="624" y="286"/>
                </a:cubicBezTo>
                <a:cubicBezTo>
                  <a:pt x="625" y="282"/>
                  <a:pt x="627" y="279"/>
                  <a:pt x="628" y="276"/>
                </a:cubicBezTo>
                <a:cubicBezTo>
                  <a:pt x="628" y="275"/>
                  <a:pt x="628" y="275"/>
                  <a:pt x="627" y="275"/>
                </a:cubicBezTo>
                <a:cubicBezTo>
                  <a:pt x="626" y="277"/>
                  <a:pt x="625" y="280"/>
                  <a:pt x="624" y="282"/>
                </a:cubicBezTo>
                <a:cubicBezTo>
                  <a:pt x="624" y="280"/>
                  <a:pt x="624" y="278"/>
                  <a:pt x="624" y="276"/>
                </a:cubicBezTo>
                <a:cubicBezTo>
                  <a:pt x="624" y="267"/>
                  <a:pt x="624" y="257"/>
                  <a:pt x="622" y="247"/>
                </a:cubicBezTo>
                <a:cubicBezTo>
                  <a:pt x="624" y="245"/>
                  <a:pt x="622" y="243"/>
                  <a:pt x="623" y="241"/>
                </a:cubicBezTo>
                <a:cubicBezTo>
                  <a:pt x="623" y="239"/>
                  <a:pt x="623" y="238"/>
                  <a:pt x="623" y="237"/>
                </a:cubicBezTo>
                <a:cubicBezTo>
                  <a:pt x="623" y="235"/>
                  <a:pt x="623" y="234"/>
                  <a:pt x="623" y="233"/>
                </a:cubicBezTo>
                <a:cubicBezTo>
                  <a:pt x="623" y="232"/>
                  <a:pt x="622" y="232"/>
                  <a:pt x="622" y="233"/>
                </a:cubicBezTo>
                <a:cubicBezTo>
                  <a:pt x="622" y="234"/>
                  <a:pt x="621" y="236"/>
                  <a:pt x="621" y="237"/>
                </a:cubicBezTo>
                <a:cubicBezTo>
                  <a:pt x="621" y="238"/>
                  <a:pt x="622" y="239"/>
                  <a:pt x="622" y="241"/>
                </a:cubicBezTo>
                <a:cubicBezTo>
                  <a:pt x="622" y="242"/>
                  <a:pt x="622" y="243"/>
                  <a:pt x="621" y="244"/>
                </a:cubicBezTo>
                <a:cubicBezTo>
                  <a:pt x="620" y="239"/>
                  <a:pt x="619" y="234"/>
                  <a:pt x="617" y="229"/>
                </a:cubicBezTo>
                <a:cubicBezTo>
                  <a:pt x="613" y="218"/>
                  <a:pt x="607" y="206"/>
                  <a:pt x="601" y="196"/>
                </a:cubicBezTo>
                <a:cubicBezTo>
                  <a:pt x="601" y="193"/>
                  <a:pt x="605" y="190"/>
                  <a:pt x="606" y="187"/>
                </a:cubicBezTo>
                <a:cubicBezTo>
                  <a:pt x="609" y="184"/>
                  <a:pt x="611" y="180"/>
                  <a:pt x="614" y="177"/>
                </a:cubicBezTo>
                <a:cubicBezTo>
                  <a:pt x="619" y="170"/>
                  <a:pt x="624" y="163"/>
                  <a:pt x="631" y="157"/>
                </a:cubicBezTo>
                <a:cubicBezTo>
                  <a:pt x="636" y="152"/>
                  <a:pt x="641" y="147"/>
                  <a:pt x="648" y="144"/>
                </a:cubicBezTo>
                <a:cubicBezTo>
                  <a:pt x="653" y="141"/>
                  <a:pt x="657" y="139"/>
                  <a:pt x="662" y="136"/>
                </a:cubicBezTo>
                <a:cubicBezTo>
                  <a:pt x="668" y="130"/>
                  <a:pt x="676" y="130"/>
                  <a:pt x="684" y="129"/>
                </a:cubicBezTo>
                <a:close/>
                <a:moveTo>
                  <a:pt x="538" y="132"/>
                </a:moveTo>
                <a:cubicBezTo>
                  <a:pt x="540" y="130"/>
                  <a:pt x="541" y="129"/>
                  <a:pt x="542" y="128"/>
                </a:cubicBezTo>
                <a:cubicBezTo>
                  <a:pt x="547" y="123"/>
                  <a:pt x="552" y="119"/>
                  <a:pt x="558" y="116"/>
                </a:cubicBezTo>
                <a:cubicBezTo>
                  <a:pt x="570" y="111"/>
                  <a:pt x="582" y="109"/>
                  <a:pt x="595" y="110"/>
                </a:cubicBezTo>
                <a:cubicBezTo>
                  <a:pt x="596" y="110"/>
                  <a:pt x="597" y="110"/>
                  <a:pt x="598" y="110"/>
                </a:cubicBezTo>
                <a:cubicBezTo>
                  <a:pt x="598" y="110"/>
                  <a:pt x="598" y="110"/>
                  <a:pt x="598" y="110"/>
                </a:cubicBezTo>
                <a:cubicBezTo>
                  <a:pt x="585" y="110"/>
                  <a:pt x="570" y="113"/>
                  <a:pt x="560" y="121"/>
                </a:cubicBezTo>
                <a:cubicBezTo>
                  <a:pt x="559" y="122"/>
                  <a:pt x="560" y="123"/>
                  <a:pt x="561" y="122"/>
                </a:cubicBezTo>
                <a:cubicBezTo>
                  <a:pt x="574" y="118"/>
                  <a:pt x="586" y="112"/>
                  <a:pt x="601" y="113"/>
                </a:cubicBezTo>
                <a:cubicBezTo>
                  <a:pt x="608" y="113"/>
                  <a:pt x="615" y="115"/>
                  <a:pt x="622" y="117"/>
                </a:cubicBezTo>
                <a:cubicBezTo>
                  <a:pt x="628" y="119"/>
                  <a:pt x="633" y="124"/>
                  <a:pt x="639" y="124"/>
                </a:cubicBezTo>
                <a:cubicBezTo>
                  <a:pt x="639" y="124"/>
                  <a:pt x="639" y="124"/>
                  <a:pt x="639" y="124"/>
                </a:cubicBezTo>
                <a:cubicBezTo>
                  <a:pt x="635" y="122"/>
                  <a:pt x="632" y="119"/>
                  <a:pt x="628" y="117"/>
                </a:cubicBezTo>
                <a:cubicBezTo>
                  <a:pt x="625" y="115"/>
                  <a:pt x="621" y="114"/>
                  <a:pt x="618" y="113"/>
                </a:cubicBezTo>
                <a:cubicBezTo>
                  <a:pt x="613" y="112"/>
                  <a:pt x="609" y="111"/>
                  <a:pt x="604" y="110"/>
                </a:cubicBezTo>
                <a:cubicBezTo>
                  <a:pt x="614" y="111"/>
                  <a:pt x="623" y="113"/>
                  <a:pt x="633" y="116"/>
                </a:cubicBezTo>
                <a:cubicBezTo>
                  <a:pt x="640" y="119"/>
                  <a:pt x="647" y="122"/>
                  <a:pt x="653" y="125"/>
                </a:cubicBezTo>
                <a:cubicBezTo>
                  <a:pt x="656" y="127"/>
                  <a:pt x="659" y="129"/>
                  <a:pt x="662" y="130"/>
                </a:cubicBezTo>
                <a:cubicBezTo>
                  <a:pt x="661" y="131"/>
                  <a:pt x="659" y="132"/>
                  <a:pt x="658" y="134"/>
                </a:cubicBezTo>
                <a:cubicBezTo>
                  <a:pt x="653" y="138"/>
                  <a:pt x="646" y="140"/>
                  <a:pt x="640" y="144"/>
                </a:cubicBezTo>
                <a:cubicBezTo>
                  <a:pt x="635" y="148"/>
                  <a:pt x="630" y="152"/>
                  <a:pt x="625" y="157"/>
                </a:cubicBezTo>
                <a:cubicBezTo>
                  <a:pt x="622" y="160"/>
                  <a:pt x="619" y="164"/>
                  <a:pt x="616" y="168"/>
                </a:cubicBezTo>
                <a:cubicBezTo>
                  <a:pt x="616" y="166"/>
                  <a:pt x="616" y="164"/>
                  <a:pt x="616" y="163"/>
                </a:cubicBezTo>
                <a:cubicBezTo>
                  <a:pt x="616" y="160"/>
                  <a:pt x="616" y="156"/>
                  <a:pt x="617" y="153"/>
                </a:cubicBezTo>
                <a:cubicBezTo>
                  <a:pt x="617" y="153"/>
                  <a:pt x="616" y="152"/>
                  <a:pt x="616" y="153"/>
                </a:cubicBezTo>
                <a:cubicBezTo>
                  <a:pt x="615" y="156"/>
                  <a:pt x="614" y="159"/>
                  <a:pt x="613" y="163"/>
                </a:cubicBezTo>
                <a:cubicBezTo>
                  <a:pt x="613" y="165"/>
                  <a:pt x="613" y="168"/>
                  <a:pt x="614" y="170"/>
                </a:cubicBezTo>
                <a:cubicBezTo>
                  <a:pt x="612" y="172"/>
                  <a:pt x="611" y="174"/>
                  <a:pt x="609" y="177"/>
                </a:cubicBezTo>
                <a:cubicBezTo>
                  <a:pt x="609" y="178"/>
                  <a:pt x="608" y="178"/>
                  <a:pt x="607" y="179"/>
                </a:cubicBezTo>
                <a:cubicBezTo>
                  <a:pt x="607" y="178"/>
                  <a:pt x="607" y="176"/>
                  <a:pt x="607" y="175"/>
                </a:cubicBezTo>
                <a:cubicBezTo>
                  <a:pt x="607" y="171"/>
                  <a:pt x="606" y="167"/>
                  <a:pt x="607" y="163"/>
                </a:cubicBezTo>
                <a:cubicBezTo>
                  <a:pt x="607" y="162"/>
                  <a:pt x="606" y="162"/>
                  <a:pt x="605" y="163"/>
                </a:cubicBezTo>
                <a:cubicBezTo>
                  <a:pt x="605" y="166"/>
                  <a:pt x="604" y="170"/>
                  <a:pt x="604" y="173"/>
                </a:cubicBezTo>
                <a:cubicBezTo>
                  <a:pt x="604" y="175"/>
                  <a:pt x="605" y="177"/>
                  <a:pt x="604" y="179"/>
                </a:cubicBezTo>
                <a:cubicBezTo>
                  <a:pt x="604" y="181"/>
                  <a:pt x="604" y="182"/>
                  <a:pt x="604" y="184"/>
                </a:cubicBezTo>
                <a:cubicBezTo>
                  <a:pt x="604" y="184"/>
                  <a:pt x="604" y="184"/>
                  <a:pt x="604" y="184"/>
                </a:cubicBezTo>
                <a:cubicBezTo>
                  <a:pt x="603" y="185"/>
                  <a:pt x="603" y="186"/>
                  <a:pt x="602" y="186"/>
                </a:cubicBezTo>
                <a:cubicBezTo>
                  <a:pt x="602" y="182"/>
                  <a:pt x="601" y="178"/>
                  <a:pt x="600" y="174"/>
                </a:cubicBezTo>
                <a:cubicBezTo>
                  <a:pt x="600" y="170"/>
                  <a:pt x="600" y="166"/>
                  <a:pt x="600" y="162"/>
                </a:cubicBezTo>
                <a:cubicBezTo>
                  <a:pt x="600" y="157"/>
                  <a:pt x="599" y="153"/>
                  <a:pt x="600" y="148"/>
                </a:cubicBezTo>
                <a:cubicBezTo>
                  <a:pt x="600" y="144"/>
                  <a:pt x="601" y="140"/>
                  <a:pt x="602" y="136"/>
                </a:cubicBezTo>
                <a:cubicBezTo>
                  <a:pt x="602" y="135"/>
                  <a:pt x="601" y="135"/>
                  <a:pt x="601" y="135"/>
                </a:cubicBezTo>
                <a:cubicBezTo>
                  <a:pt x="599" y="139"/>
                  <a:pt x="598" y="143"/>
                  <a:pt x="598" y="148"/>
                </a:cubicBezTo>
                <a:cubicBezTo>
                  <a:pt x="599" y="153"/>
                  <a:pt x="598" y="158"/>
                  <a:pt x="598" y="164"/>
                </a:cubicBezTo>
                <a:cubicBezTo>
                  <a:pt x="599" y="170"/>
                  <a:pt x="598" y="176"/>
                  <a:pt x="599" y="182"/>
                </a:cubicBezTo>
                <a:cubicBezTo>
                  <a:pt x="599" y="180"/>
                  <a:pt x="598" y="179"/>
                  <a:pt x="598" y="177"/>
                </a:cubicBezTo>
                <a:cubicBezTo>
                  <a:pt x="597" y="171"/>
                  <a:pt x="596" y="165"/>
                  <a:pt x="595" y="159"/>
                </a:cubicBezTo>
                <a:cubicBezTo>
                  <a:pt x="595" y="154"/>
                  <a:pt x="595" y="149"/>
                  <a:pt x="595" y="143"/>
                </a:cubicBezTo>
                <a:cubicBezTo>
                  <a:pt x="595" y="138"/>
                  <a:pt x="594" y="133"/>
                  <a:pt x="596" y="128"/>
                </a:cubicBezTo>
                <a:cubicBezTo>
                  <a:pt x="596" y="127"/>
                  <a:pt x="595" y="127"/>
                  <a:pt x="594" y="128"/>
                </a:cubicBezTo>
                <a:cubicBezTo>
                  <a:pt x="593" y="132"/>
                  <a:pt x="593" y="137"/>
                  <a:pt x="593" y="142"/>
                </a:cubicBezTo>
                <a:cubicBezTo>
                  <a:pt x="594" y="148"/>
                  <a:pt x="593" y="154"/>
                  <a:pt x="593" y="161"/>
                </a:cubicBezTo>
                <a:cubicBezTo>
                  <a:pt x="594" y="167"/>
                  <a:pt x="595" y="173"/>
                  <a:pt x="596" y="180"/>
                </a:cubicBezTo>
                <a:cubicBezTo>
                  <a:pt x="597" y="182"/>
                  <a:pt x="597" y="184"/>
                  <a:pt x="597" y="187"/>
                </a:cubicBezTo>
                <a:cubicBezTo>
                  <a:pt x="597" y="185"/>
                  <a:pt x="596" y="183"/>
                  <a:pt x="596" y="182"/>
                </a:cubicBezTo>
                <a:cubicBezTo>
                  <a:pt x="595" y="181"/>
                  <a:pt x="595" y="181"/>
                  <a:pt x="595" y="182"/>
                </a:cubicBezTo>
                <a:cubicBezTo>
                  <a:pt x="595" y="184"/>
                  <a:pt x="595" y="186"/>
                  <a:pt x="595" y="187"/>
                </a:cubicBezTo>
                <a:cubicBezTo>
                  <a:pt x="595" y="187"/>
                  <a:pt x="594" y="186"/>
                  <a:pt x="594" y="186"/>
                </a:cubicBezTo>
                <a:cubicBezTo>
                  <a:pt x="594" y="186"/>
                  <a:pt x="594" y="185"/>
                  <a:pt x="593" y="185"/>
                </a:cubicBezTo>
                <a:cubicBezTo>
                  <a:pt x="592" y="183"/>
                  <a:pt x="590" y="180"/>
                  <a:pt x="589" y="177"/>
                </a:cubicBezTo>
                <a:cubicBezTo>
                  <a:pt x="586" y="168"/>
                  <a:pt x="583" y="160"/>
                  <a:pt x="580" y="152"/>
                </a:cubicBezTo>
                <a:cubicBezTo>
                  <a:pt x="578" y="144"/>
                  <a:pt x="576" y="137"/>
                  <a:pt x="578" y="129"/>
                </a:cubicBezTo>
                <a:cubicBezTo>
                  <a:pt x="578" y="129"/>
                  <a:pt x="577" y="129"/>
                  <a:pt x="577" y="129"/>
                </a:cubicBezTo>
                <a:cubicBezTo>
                  <a:pt x="572" y="134"/>
                  <a:pt x="575" y="144"/>
                  <a:pt x="577" y="150"/>
                </a:cubicBezTo>
                <a:cubicBezTo>
                  <a:pt x="579" y="155"/>
                  <a:pt x="581" y="160"/>
                  <a:pt x="583" y="165"/>
                </a:cubicBezTo>
                <a:cubicBezTo>
                  <a:pt x="584" y="167"/>
                  <a:pt x="585" y="170"/>
                  <a:pt x="586" y="172"/>
                </a:cubicBezTo>
                <a:cubicBezTo>
                  <a:pt x="585" y="172"/>
                  <a:pt x="585" y="171"/>
                  <a:pt x="585" y="171"/>
                </a:cubicBezTo>
                <a:cubicBezTo>
                  <a:pt x="582" y="168"/>
                  <a:pt x="580" y="165"/>
                  <a:pt x="578" y="162"/>
                </a:cubicBezTo>
                <a:cubicBezTo>
                  <a:pt x="578" y="162"/>
                  <a:pt x="578" y="162"/>
                  <a:pt x="578" y="162"/>
                </a:cubicBezTo>
                <a:cubicBezTo>
                  <a:pt x="577" y="161"/>
                  <a:pt x="577" y="160"/>
                  <a:pt x="577" y="159"/>
                </a:cubicBezTo>
                <a:cubicBezTo>
                  <a:pt x="576" y="158"/>
                  <a:pt x="576" y="157"/>
                  <a:pt x="576" y="156"/>
                </a:cubicBezTo>
                <a:cubicBezTo>
                  <a:pt x="575" y="155"/>
                  <a:pt x="575" y="154"/>
                  <a:pt x="574" y="152"/>
                </a:cubicBezTo>
                <a:cubicBezTo>
                  <a:pt x="573" y="152"/>
                  <a:pt x="573" y="152"/>
                  <a:pt x="573" y="153"/>
                </a:cubicBezTo>
                <a:cubicBezTo>
                  <a:pt x="573" y="155"/>
                  <a:pt x="574" y="157"/>
                  <a:pt x="574" y="158"/>
                </a:cubicBezTo>
                <a:cubicBezTo>
                  <a:pt x="574" y="158"/>
                  <a:pt x="573" y="157"/>
                  <a:pt x="572" y="156"/>
                </a:cubicBezTo>
                <a:cubicBezTo>
                  <a:pt x="563" y="147"/>
                  <a:pt x="554" y="139"/>
                  <a:pt x="541" y="135"/>
                </a:cubicBezTo>
                <a:cubicBezTo>
                  <a:pt x="540" y="134"/>
                  <a:pt x="538" y="134"/>
                  <a:pt x="537" y="133"/>
                </a:cubicBezTo>
                <a:cubicBezTo>
                  <a:pt x="537" y="133"/>
                  <a:pt x="538" y="132"/>
                  <a:pt x="538" y="132"/>
                </a:cubicBezTo>
                <a:close/>
                <a:moveTo>
                  <a:pt x="525" y="135"/>
                </a:moveTo>
                <a:cubicBezTo>
                  <a:pt x="531" y="136"/>
                  <a:pt x="538" y="137"/>
                  <a:pt x="544" y="139"/>
                </a:cubicBezTo>
                <a:cubicBezTo>
                  <a:pt x="556" y="144"/>
                  <a:pt x="566" y="154"/>
                  <a:pt x="574" y="163"/>
                </a:cubicBezTo>
                <a:cubicBezTo>
                  <a:pt x="579" y="168"/>
                  <a:pt x="583" y="173"/>
                  <a:pt x="586" y="179"/>
                </a:cubicBezTo>
                <a:cubicBezTo>
                  <a:pt x="589" y="183"/>
                  <a:pt x="591" y="187"/>
                  <a:pt x="594" y="190"/>
                </a:cubicBezTo>
                <a:cubicBezTo>
                  <a:pt x="601" y="206"/>
                  <a:pt x="611" y="220"/>
                  <a:pt x="616" y="238"/>
                </a:cubicBezTo>
                <a:cubicBezTo>
                  <a:pt x="621" y="254"/>
                  <a:pt x="621" y="270"/>
                  <a:pt x="620" y="287"/>
                </a:cubicBezTo>
                <a:cubicBezTo>
                  <a:pt x="619" y="304"/>
                  <a:pt x="617" y="321"/>
                  <a:pt x="616" y="339"/>
                </a:cubicBezTo>
                <a:cubicBezTo>
                  <a:pt x="616" y="345"/>
                  <a:pt x="616" y="351"/>
                  <a:pt x="616" y="357"/>
                </a:cubicBezTo>
                <a:cubicBezTo>
                  <a:pt x="616" y="359"/>
                  <a:pt x="616" y="363"/>
                  <a:pt x="617" y="365"/>
                </a:cubicBezTo>
                <a:cubicBezTo>
                  <a:pt x="615" y="366"/>
                  <a:pt x="613" y="367"/>
                  <a:pt x="611" y="368"/>
                </a:cubicBezTo>
                <a:cubicBezTo>
                  <a:pt x="611" y="368"/>
                  <a:pt x="611" y="368"/>
                  <a:pt x="610" y="367"/>
                </a:cubicBezTo>
                <a:cubicBezTo>
                  <a:pt x="607" y="365"/>
                  <a:pt x="605" y="362"/>
                  <a:pt x="603" y="358"/>
                </a:cubicBezTo>
                <a:cubicBezTo>
                  <a:pt x="601" y="351"/>
                  <a:pt x="600" y="344"/>
                  <a:pt x="600" y="338"/>
                </a:cubicBezTo>
                <a:cubicBezTo>
                  <a:pt x="599" y="324"/>
                  <a:pt x="601" y="311"/>
                  <a:pt x="605" y="297"/>
                </a:cubicBezTo>
                <a:cubicBezTo>
                  <a:pt x="608" y="284"/>
                  <a:pt x="610" y="270"/>
                  <a:pt x="609" y="256"/>
                </a:cubicBezTo>
                <a:cubicBezTo>
                  <a:pt x="609" y="250"/>
                  <a:pt x="609" y="243"/>
                  <a:pt x="607" y="237"/>
                </a:cubicBezTo>
                <a:cubicBezTo>
                  <a:pt x="605" y="232"/>
                  <a:pt x="603" y="227"/>
                  <a:pt x="601" y="222"/>
                </a:cubicBezTo>
                <a:cubicBezTo>
                  <a:pt x="600" y="221"/>
                  <a:pt x="599" y="222"/>
                  <a:pt x="599" y="223"/>
                </a:cubicBezTo>
                <a:cubicBezTo>
                  <a:pt x="601" y="230"/>
                  <a:pt x="604" y="236"/>
                  <a:pt x="605" y="243"/>
                </a:cubicBezTo>
                <a:cubicBezTo>
                  <a:pt x="606" y="251"/>
                  <a:pt x="606" y="258"/>
                  <a:pt x="606" y="266"/>
                </a:cubicBezTo>
                <a:cubicBezTo>
                  <a:pt x="605" y="274"/>
                  <a:pt x="605" y="281"/>
                  <a:pt x="603" y="289"/>
                </a:cubicBezTo>
                <a:cubicBezTo>
                  <a:pt x="602" y="296"/>
                  <a:pt x="599" y="303"/>
                  <a:pt x="598" y="309"/>
                </a:cubicBezTo>
                <a:cubicBezTo>
                  <a:pt x="597" y="315"/>
                  <a:pt x="597" y="321"/>
                  <a:pt x="596" y="327"/>
                </a:cubicBezTo>
                <a:cubicBezTo>
                  <a:pt x="596" y="326"/>
                  <a:pt x="596" y="326"/>
                  <a:pt x="596" y="326"/>
                </a:cubicBezTo>
                <a:cubicBezTo>
                  <a:pt x="596" y="326"/>
                  <a:pt x="597" y="325"/>
                  <a:pt x="596" y="325"/>
                </a:cubicBezTo>
                <a:cubicBezTo>
                  <a:pt x="595" y="323"/>
                  <a:pt x="595" y="320"/>
                  <a:pt x="595" y="318"/>
                </a:cubicBezTo>
                <a:cubicBezTo>
                  <a:pt x="595" y="318"/>
                  <a:pt x="595" y="318"/>
                  <a:pt x="595" y="318"/>
                </a:cubicBezTo>
                <a:cubicBezTo>
                  <a:pt x="595" y="317"/>
                  <a:pt x="595" y="317"/>
                  <a:pt x="596" y="316"/>
                </a:cubicBezTo>
                <a:cubicBezTo>
                  <a:pt x="596" y="316"/>
                  <a:pt x="596" y="315"/>
                  <a:pt x="596" y="315"/>
                </a:cubicBezTo>
                <a:cubicBezTo>
                  <a:pt x="596" y="314"/>
                  <a:pt x="595" y="313"/>
                  <a:pt x="595" y="312"/>
                </a:cubicBezTo>
                <a:cubicBezTo>
                  <a:pt x="595" y="312"/>
                  <a:pt x="594" y="312"/>
                  <a:pt x="594" y="313"/>
                </a:cubicBezTo>
                <a:cubicBezTo>
                  <a:pt x="594" y="313"/>
                  <a:pt x="594" y="314"/>
                  <a:pt x="594" y="315"/>
                </a:cubicBezTo>
                <a:cubicBezTo>
                  <a:pt x="594" y="316"/>
                  <a:pt x="594" y="316"/>
                  <a:pt x="594" y="316"/>
                </a:cubicBezTo>
                <a:cubicBezTo>
                  <a:pt x="594" y="317"/>
                  <a:pt x="594" y="317"/>
                  <a:pt x="594" y="317"/>
                </a:cubicBezTo>
                <a:cubicBezTo>
                  <a:pt x="594" y="317"/>
                  <a:pt x="594" y="316"/>
                  <a:pt x="593" y="316"/>
                </a:cubicBezTo>
                <a:cubicBezTo>
                  <a:pt x="593" y="316"/>
                  <a:pt x="593" y="316"/>
                  <a:pt x="593" y="316"/>
                </a:cubicBezTo>
                <a:cubicBezTo>
                  <a:pt x="593" y="314"/>
                  <a:pt x="593" y="313"/>
                  <a:pt x="592" y="312"/>
                </a:cubicBezTo>
                <a:cubicBezTo>
                  <a:pt x="592" y="312"/>
                  <a:pt x="592" y="312"/>
                  <a:pt x="592" y="311"/>
                </a:cubicBezTo>
                <a:cubicBezTo>
                  <a:pt x="592" y="311"/>
                  <a:pt x="592" y="311"/>
                  <a:pt x="591" y="310"/>
                </a:cubicBezTo>
                <a:cubicBezTo>
                  <a:pt x="591" y="310"/>
                  <a:pt x="591" y="310"/>
                  <a:pt x="591" y="310"/>
                </a:cubicBezTo>
                <a:cubicBezTo>
                  <a:pt x="591" y="311"/>
                  <a:pt x="591" y="311"/>
                  <a:pt x="591" y="311"/>
                </a:cubicBezTo>
                <a:cubicBezTo>
                  <a:pt x="590" y="311"/>
                  <a:pt x="590" y="312"/>
                  <a:pt x="590" y="312"/>
                </a:cubicBezTo>
                <a:cubicBezTo>
                  <a:pt x="590" y="313"/>
                  <a:pt x="590" y="315"/>
                  <a:pt x="591" y="316"/>
                </a:cubicBezTo>
                <a:cubicBezTo>
                  <a:pt x="587" y="306"/>
                  <a:pt x="584" y="295"/>
                  <a:pt x="582" y="285"/>
                </a:cubicBezTo>
                <a:cubicBezTo>
                  <a:pt x="582" y="284"/>
                  <a:pt x="581" y="284"/>
                  <a:pt x="581" y="285"/>
                </a:cubicBezTo>
                <a:cubicBezTo>
                  <a:pt x="581" y="291"/>
                  <a:pt x="583" y="297"/>
                  <a:pt x="585" y="303"/>
                </a:cubicBezTo>
                <a:cubicBezTo>
                  <a:pt x="586" y="306"/>
                  <a:pt x="587" y="310"/>
                  <a:pt x="588" y="313"/>
                </a:cubicBezTo>
                <a:cubicBezTo>
                  <a:pt x="589" y="315"/>
                  <a:pt x="589" y="316"/>
                  <a:pt x="590" y="318"/>
                </a:cubicBezTo>
                <a:cubicBezTo>
                  <a:pt x="591" y="319"/>
                  <a:pt x="592" y="318"/>
                  <a:pt x="591" y="318"/>
                </a:cubicBezTo>
                <a:cubicBezTo>
                  <a:pt x="592" y="318"/>
                  <a:pt x="592" y="319"/>
                  <a:pt x="592" y="319"/>
                </a:cubicBezTo>
                <a:cubicBezTo>
                  <a:pt x="592" y="319"/>
                  <a:pt x="592" y="319"/>
                  <a:pt x="592" y="319"/>
                </a:cubicBezTo>
                <a:cubicBezTo>
                  <a:pt x="592" y="320"/>
                  <a:pt x="592" y="321"/>
                  <a:pt x="593" y="322"/>
                </a:cubicBezTo>
                <a:cubicBezTo>
                  <a:pt x="588" y="315"/>
                  <a:pt x="584" y="306"/>
                  <a:pt x="578" y="300"/>
                </a:cubicBezTo>
                <a:cubicBezTo>
                  <a:pt x="571" y="293"/>
                  <a:pt x="561" y="288"/>
                  <a:pt x="553" y="282"/>
                </a:cubicBezTo>
                <a:cubicBezTo>
                  <a:pt x="552" y="282"/>
                  <a:pt x="551" y="281"/>
                  <a:pt x="550" y="281"/>
                </a:cubicBezTo>
                <a:cubicBezTo>
                  <a:pt x="550" y="281"/>
                  <a:pt x="550" y="281"/>
                  <a:pt x="550" y="281"/>
                </a:cubicBezTo>
                <a:cubicBezTo>
                  <a:pt x="546" y="278"/>
                  <a:pt x="543" y="276"/>
                  <a:pt x="539" y="274"/>
                </a:cubicBezTo>
                <a:cubicBezTo>
                  <a:pt x="539" y="274"/>
                  <a:pt x="539" y="274"/>
                  <a:pt x="539" y="274"/>
                </a:cubicBezTo>
                <a:cubicBezTo>
                  <a:pt x="540" y="275"/>
                  <a:pt x="542" y="276"/>
                  <a:pt x="543" y="278"/>
                </a:cubicBezTo>
                <a:cubicBezTo>
                  <a:pt x="540" y="276"/>
                  <a:pt x="537" y="275"/>
                  <a:pt x="535" y="274"/>
                </a:cubicBezTo>
                <a:cubicBezTo>
                  <a:pt x="536" y="275"/>
                  <a:pt x="536" y="275"/>
                  <a:pt x="537" y="275"/>
                </a:cubicBezTo>
                <a:cubicBezTo>
                  <a:pt x="538" y="275"/>
                  <a:pt x="538" y="275"/>
                  <a:pt x="538" y="275"/>
                </a:cubicBezTo>
                <a:cubicBezTo>
                  <a:pt x="533" y="270"/>
                  <a:pt x="525" y="267"/>
                  <a:pt x="519" y="264"/>
                </a:cubicBezTo>
                <a:cubicBezTo>
                  <a:pt x="515" y="262"/>
                  <a:pt x="512" y="260"/>
                  <a:pt x="508" y="259"/>
                </a:cubicBezTo>
                <a:cubicBezTo>
                  <a:pt x="504" y="258"/>
                  <a:pt x="500" y="256"/>
                  <a:pt x="496" y="256"/>
                </a:cubicBezTo>
                <a:cubicBezTo>
                  <a:pt x="495" y="255"/>
                  <a:pt x="493" y="255"/>
                  <a:pt x="491" y="256"/>
                </a:cubicBezTo>
                <a:cubicBezTo>
                  <a:pt x="491" y="256"/>
                  <a:pt x="491" y="257"/>
                  <a:pt x="492" y="257"/>
                </a:cubicBezTo>
                <a:cubicBezTo>
                  <a:pt x="494" y="256"/>
                  <a:pt x="499" y="258"/>
                  <a:pt x="501" y="258"/>
                </a:cubicBezTo>
                <a:cubicBezTo>
                  <a:pt x="504" y="259"/>
                  <a:pt x="507" y="260"/>
                  <a:pt x="510" y="261"/>
                </a:cubicBezTo>
                <a:cubicBezTo>
                  <a:pt x="516" y="263"/>
                  <a:pt x="520" y="266"/>
                  <a:pt x="525" y="269"/>
                </a:cubicBezTo>
                <a:cubicBezTo>
                  <a:pt x="528" y="271"/>
                  <a:pt x="531" y="273"/>
                  <a:pt x="534" y="274"/>
                </a:cubicBezTo>
                <a:cubicBezTo>
                  <a:pt x="531" y="273"/>
                  <a:pt x="527" y="272"/>
                  <a:pt x="524" y="271"/>
                </a:cubicBezTo>
                <a:cubicBezTo>
                  <a:pt x="514" y="269"/>
                  <a:pt x="504" y="266"/>
                  <a:pt x="494" y="267"/>
                </a:cubicBezTo>
                <a:cubicBezTo>
                  <a:pt x="487" y="267"/>
                  <a:pt x="479" y="270"/>
                  <a:pt x="472" y="272"/>
                </a:cubicBezTo>
                <a:cubicBezTo>
                  <a:pt x="468" y="273"/>
                  <a:pt x="464" y="274"/>
                  <a:pt x="459" y="276"/>
                </a:cubicBezTo>
                <a:cubicBezTo>
                  <a:pt x="458" y="271"/>
                  <a:pt x="458" y="266"/>
                  <a:pt x="456" y="261"/>
                </a:cubicBezTo>
                <a:cubicBezTo>
                  <a:pt x="454" y="256"/>
                  <a:pt x="452" y="251"/>
                  <a:pt x="452" y="245"/>
                </a:cubicBezTo>
                <a:cubicBezTo>
                  <a:pt x="452" y="240"/>
                  <a:pt x="452" y="235"/>
                  <a:pt x="453" y="230"/>
                </a:cubicBezTo>
                <a:cubicBezTo>
                  <a:pt x="453" y="225"/>
                  <a:pt x="453" y="219"/>
                  <a:pt x="455" y="214"/>
                </a:cubicBezTo>
                <a:cubicBezTo>
                  <a:pt x="456" y="209"/>
                  <a:pt x="459" y="204"/>
                  <a:pt x="461" y="199"/>
                </a:cubicBezTo>
                <a:cubicBezTo>
                  <a:pt x="463" y="194"/>
                  <a:pt x="464" y="188"/>
                  <a:pt x="465" y="183"/>
                </a:cubicBezTo>
                <a:cubicBezTo>
                  <a:pt x="466" y="178"/>
                  <a:pt x="467" y="172"/>
                  <a:pt x="471" y="167"/>
                </a:cubicBezTo>
                <a:cubicBezTo>
                  <a:pt x="474" y="163"/>
                  <a:pt x="478" y="158"/>
                  <a:pt x="482" y="154"/>
                </a:cubicBezTo>
                <a:cubicBezTo>
                  <a:pt x="486" y="150"/>
                  <a:pt x="490" y="146"/>
                  <a:pt x="494" y="143"/>
                </a:cubicBezTo>
                <a:cubicBezTo>
                  <a:pt x="498" y="139"/>
                  <a:pt x="502" y="135"/>
                  <a:pt x="508" y="134"/>
                </a:cubicBezTo>
                <a:cubicBezTo>
                  <a:pt x="513" y="133"/>
                  <a:pt x="519" y="134"/>
                  <a:pt x="525" y="135"/>
                </a:cubicBezTo>
                <a:close/>
                <a:moveTo>
                  <a:pt x="373" y="210"/>
                </a:moveTo>
                <a:cubicBezTo>
                  <a:pt x="375" y="203"/>
                  <a:pt x="375" y="197"/>
                  <a:pt x="376" y="190"/>
                </a:cubicBezTo>
                <a:cubicBezTo>
                  <a:pt x="378" y="176"/>
                  <a:pt x="381" y="162"/>
                  <a:pt x="384" y="148"/>
                </a:cubicBezTo>
                <a:cubicBezTo>
                  <a:pt x="385" y="140"/>
                  <a:pt x="387" y="133"/>
                  <a:pt x="391" y="126"/>
                </a:cubicBezTo>
                <a:cubicBezTo>
                  <a:pt x="394" y="120"/>
                  <a:pt x="400" y="115"/>
                  <a:pt x="404" y="109"/>
                </a:cubicBezTo>
                <a:cubicBezTo>
                  <a:pt x="412" y="98"/>
                  <a:pt x="419" y="86"/>
                  <a:pt x="429" y="77"/>
                </a:cubicBezTo>
                <a:cubicBezTo>
                  <a:pt x="435" y="72"/>
                  <a:pt x="440" y="74"/>
                  <a:pt x="445" y="78"/>
                </a:cubicBezTo>
                <a:cubicBezTo>
                  <a:pt x="448" y="80"/>
                  <a:pt x="448" y="84"/>
                  <a:pt x="452" y="82"/>
                </a:cubicBezTo>
                <a:cubicBezTo>
                  <a:pt x="455" y="80"/>
                  <a:pt x="455" y="76"/>
                  <a:pt x="459" y="80"/>
                </a:cubicBezTo>
                <a:cubicBezTo>
                  <a:pt x="460" y="81"/>
                  <a:pt x="461" y="82"/>
                  <a:pt x="463" y="83"/>
                </a:cubicBezTo>
                <a:cubicBezTo>
                  <a:pt x="466" y="85"/>
                  <a:pt x="469" y="83"/>
                  <a:pt x="472" y="82"/>
                </a:cubicBezTo>
                <a:cubicBezTo>
                  <a:pt x="477" y="77"/>
                  <a:pt x="483" y="74"/>
                  <a:pt x="490" y="78"/>
                </a:cubicBezTo>
                <a:cubicBezTo>
                  <a:pt x="496" y="81"/>
                  <a:pt x="501" y="88"/>
                  <a:pt x="504" y="94"/>
                </a:cubicBezTo>
                <a:cubicBezTo>
                  <a:pt x="512" y="105"/>
                  <a:pt x="517" y="117"/>
                  <a:pt x="522" y="130"/>
                </a:cubicBezTo>
                <a:cubicBezTo>
                  <a:pt x="516" y="129"/>
                  <a:pt x="510" y="129"/>
                  <a:pt x="505" y="131"/>
                </a:cubicBezTo>
                <a:cubicBezTo>
                  <a:pt x="496" y="134"/>
                  <a:pt x="487" y="143"/>
                  <a:pt x="481" y="150"/>
                </a:cubicBezTo>
                <a:cubicBezTo>
                  <a:pt x="472" y="159"/>
                  <a:pt x="464" y="168"/>
                  <a:pt x="462" y="180"/>
                </a:cubicBezTo>
                <a:cubicBezTo>
                  <a:pt x="460" y="187"/>
                  <a:pt x="459" y="194"/>
                  <a:pt x="456" y="201"/>
                </a:cubicBezTo>
                <a:cubicBezTo>
                  <a:pt x="456" y="202"/>
                  <a:pt x="455" y="202"/>
                  <a:pt x="455" y="203"/>
                </a:cubicBezTo>
                <a:cubicBezTo>
                  <a:pt x="456" y="198"/>
                  <a:pt x="457" y="194"/>
                  <a:pt x="458" y="189"/>
                </a:cubicBezTo>
                <a:cubicBezTo>
                  <a:pt x="459" y="183"/>
                  <a:pt x="460" y="178"/>
                  <a:pt x="462" y="172"/>
                </a:cubicBezTo>
                <a:cubicBezTo>
                  <a:pt x="462" y="172"/>
                  <a:pt x="461" y="171"/>
                  <a:pt x="461" y="172"/>
                </a:cubicBezTo>
                <a:cubicBezTo>
                  <a:pt x="458" y="177"/>
                  <a:pt x="456" y="182"/>
                  <a:pt x="456" y="187"/>
                </a:cubicBezTo>
                <a:cubicBezTo>
                  <a:pt x="455" y="195"/>
                  <a:pt x="452" y="202"/>
                  <a:pt x="450" y="209"/>
                </a:cubicBezTo>
                <a:cubicBezTo>
                  <a:pt x="447" y="220"/>
                  <a:pt x="447" y="231"/>
                  <a:pt x="447" y="242"/>
                </a:cubicBezTo>
                <a:cubicBezTo>
                  <a:pt x="447" y="246"/>
                  <a:pt x="447" y="249"/>
                  <a:pt x="446" y="253"/>
                </a:cubicBezTo>
                <a:cubicBezTo>
                  <a:pt x="445" y="258"/>
                  <a:pt x="446" y="263"/>
                  <a:pt x="445" y="267"/>
                </a:cubicBezTo>
                <a:cubicBezTo>
                  <a:pt x="445" y="270"/>
                  <a:pt x="443" y="278"/>
                  <a:pt x="446" y="280"/>
                </a:cubicBezTo>
                <a:cubicBezTo>
                  <a:pt x="447" y="280"/>
                  <a:pt x="448" y="280"/>
                  <a:pt x="447" y="279"/>
                </a:cubicBezTo>
                <a:cubicBezTo>
                  <a:pt x="447" y="278"/>
                  <a:pt x="447" y="275"/>
                  <a:pt x="447" y="273"/>
                </a:cubicBezTo>
                <a:cubicBezTo>
                  <a:pt x="447" y="276"/>
                  <a:pt x="448" y="278"/>
                  <a:pt x="448" y="279"/>
                </a:cubicBezTo>
                <a:cubicBezTo>
                  <a:pt x="448" y="279"/>
                  <a:pt x="448" y="279"/>
                  <a:pt x="449" y="279"/>
                </a:cubicBezTo>
                <a:cubicBezTo>
                  <a:pt x="447" y="280"/>
                  <a:pt x="445" y="281"/>
                  <a:pt x="443" y="283"/>
                </a:cubicBezTo>
                <a:cubicBezTo>
                  <a:pt x="443" y="283"/>
                  <a:pt x="443" y="282"/>
                  <a:pt x="443" y="282"/>
                </a:cubicBezTo>
                <a:cubicBezTo>
                  <a:pt x="442" y="277"/>
                  <a:pt x="443" y="271"/>
                  <a:pt x="443" y="266"/>
                </a:cubicBezTo>
                <a:cubicBezTo>
                  <a:pt x="443" y="258"/>
                  <a:pt x="443" y="250"/>
                  <a:pt x="444" y="242"/>
                </a:cubicBezTo>
                <a:cubicBezTo>
                  <a:pt x="445" y="224"/>
                  <a:pt x="447" y="206"/>
                  <a:pt x="453" y="189"/>
                </a:cubicBezTo>
                <a:cubicBezTo>
                  <a:pt x="453" y="189"/>
                  <a:pt x="452" y="189"/>
                  <a:pt x="452" y="189"/>
                </a:cubicBezTo>
                <a:cubicBezTo>
                  <a:pt x="446" y="206"/>
                  <a:pt x="441" y="224"/>
                  <a:pt x="440" y="241"/>
                </a:cubicBezTo>
                <a:cubicBezTo>
                  <a:pt x="440" y="251"/>
                  <a:pt x="440" y="260"/>
                  <a:pt x="440" y="269"/>
                </a:cubicBezTo>
                <a:cubicBezTo>
                  <a:pt x="440" y="273"/>
                  <a:pt x="439" y="280"/>
                  <a:pt x="440" y="284"/>
                </a:cubicBezTo>
                <a:cubicBezTo>
                  <a:pt x="440" y="284"/>
                  <a:pt x="441" y="284"/>
                  <a:pt x="441" y="284"/>
                </a:cubicBezTo>
                <a:cubicBezTo>
                  <a:pt x="439" y="286"/>
                  <a:pt x="437" y="287"/>
                  <a:pt x="435" y="289"/>
                </a:cubicBezTo>
                <a:cubicBezTo>
                  <a:pt x="436" y="287"/>
                  <a:pt x="436" y="285"/>
                  <a:pt x="436" y="283"/>
                </a:cubicBezTo>
                <a:cubicBezTo>
                  <a:pt x="436" y="281"/>
                  <a:pt x="436" y="278"/>
                  <a:pt x="436" y="276"/>
                </a:cubicBezTo>
                <a:cubicBezTo>
                  <a:pt x="436" y="275"/>
                  <a:pt x="435" y="275"/>
                  <a:pt x="435" y="275"/>
                </a:cubicBezTo>
                <a:cubicBezTo>
                  <a:pt x="433" y="280"/>
                  <a:pt x="434" y="285"/>
                  <a:pt x="433" y="289"/>
                </a:cubicBezTo>
                <a:cubicBezTo>
                  <a:pt x="433" y="290"/>
                  <a:pt x="433" y="290"/>
                  <a:pt x="433" y="290"/>
                </a:cubicBezTo>
                <a:cubicBezTo>
                  <a:pt x="433" y="291"/>
                  <a:pt x="432" y="291"/>
                  <a:pt x="432" y="292"/>
                </a:cubicBezTo>
                <a:cubicBezTo>
                  <a:pt x="432" y="284"/>
                  <a:pt x="430" y="276"/>
                  <a:pt x="430" y="268"/>
                </a:cubicBezTo>
                <a:cubicBezTo>
                  <a:pt x="430" y="264"/>
                  <a:pt x="431" y="259"/>
                  <a:pt x="431" y="255"/>
                </a:cubicBezTo>
                <a:cubicBezTo>
                  <a:pt x="431" y="252"/>
                  <a:pt x="430" y="248"/>
                  <a:pt x="430" y="245"/>
                </a:cubicBezTo>
                <a:cubicBezTo>
                  <a:pt x="430" y="244"/>
                  <a:pt x="429" y="243"/>
                  <a:pt x="429" y="244"/>
                </a:cubicBezTo>
                <a:cubicBezTo>
                  <a:pt x="428" y="252"/>
                  <a:pt x="428" y="260"/>
                  <a:pt x="427" y="268"/>
                </a:cubicBezTo>
                <a:cubicBezTo>
                  <a:pt x="427" y="276"/>
                  <a:pt x="429" y="284"/>
                  <a:pt x="429" y="292"/>
                </a:cubicBezTo>
                <a:cubicBezTo>
                  <a:pt x="429" y="293"/>
                  <a:pt x="430" y="293"/>
                  <a:pt x="430" y="293"/>
                </a:cubicBezTo>
                <a:cubicBezTo>
                  <a:pt x="428" y="295"/>
                  <a:pt x="427" y="297"/>
                  <a:pt x="425" y="299"/>
                </a:cubicBezTo>
                <a:cubicBezTo>
                  <a:pt x="425" y="298"/>
                  <a:pt x="425" y="297"/>
                  <a:pt x="426" y="296"/>
                </a:cubicBezTo>
                <a:cubicBezTo>
                  <a:pt x="426" y="294"/>
                  <a:pt x="426" y="292"/>
                  <a:pt x="426" y="290"/>
                </a:cubicBezTo>
                <a:cubicBezTo>
                  <a:pt x="426" y="290"/>
                  <a:pt x="426" y="289"/>
                  <a:pt x="426" y="290"/>
                </a:cubicBezTo>
                <a:cubicBezTo>
                  <a:pt x="425" y="291"/>
                  <a:pt x="424" y="293"/>
                  <a:pt x="424" y="295"/>
                </a:cubicBezTo>
                <a:cubicBezTo>
                  <a:pt x="423" y="293"/>
                  <a:pt x="422" y="291"/>
                  <a:pt x="422" y="289"/>
                </a:cubicBezTo>
                <a:cubicBezTo>
                  <a:pt x="422" y="289"/>
                  <a:pt x="422" y="289"/>
                  <a:pt x="423" y="289"/>
                </a:cubicBezTo>
                <a:cubicBezTo>
                  <a:pt x="423" y="289"/>
                  <a:pt x="423" y="288"/>
                  <a:pt x="423" y="288"/>
                </a:cubicBezTo>
                <a:cubicBezTo>
                  <a:pt x="423" y="288"/>
                  <a:pt x="423" y="288"/>
                  <a:pt x="423" y="288"/>
                </a:cubicBezTo>
                <a:cubicBezTo>
                  <a:pt x="423" y="288"/>
                  <a:pt x="423" y="288"/>
                  <a:pt x="423" y="288"/>
                </a:cubicBezTo>
                <a:cubicBezTo>
                  <a:pt x="423" y="288"/>
                  <a:pt x="423" y="288"/>
                  <a:pt x="423" y="288"/>
                </a:cubicBezTo>
                <a:cubicBezTo>
                  <a:pt x="423" y="288"/>
                  <a:pt x="423" y="287"/>
                  <a:pt x="423" y="287"/>
                </a:cubicBezTo>
                <a:cubicBezTo>
                  <a:pt x="424" y="286"/>
                  <a:pt x="424" y="285"/>
                  <a:pt x="424" y="284"/>
                </a:cubicBezTo>
                <a:cubicBezTo>
                  <a:pt x="423" y="282"/>
                  <a:pt x="423" y="280"/>
                  <a:pt x="423" y="278"/>
                </a:cubicBezTo>
                <a:cubicBezTo>
                  <a:pt x="422" y="277"/>
                  <a:pt x="422" y="277"/>
                  <a:pt x="422" y="278"/>
                </a:cubicBezTo>
                <a:cubicBezTo>
                  <a:pt x="421" y="279"/>
                  <a:pt x="421" y="281"/>
                  <a:pt x="421" y="283"/>
                </a:cubicBezTo>
                <a:cubicBezTo>
                  <a:pt x="421" y="285"/>
                  <a:pt x="421" y="286"/>
                  <a:pt x="421" y="288"/>
                </a:cubicBezTo>
                <a:cubicBezTo>
                  <a:pt x="421" y="287"/>
                  <a:pt x="420" y="285"/>
                  <a:pt x="420" y="284"/>
                </a:cubicBezTo>
                <a:cubicBezTo>
                  <a:pt x="418" y="279"/>
                  <a:pt x="417" y="275"/>
                  <a:pt x="416" y="271"/>
                </a:cubicBezTo>
                <a:cubicBezTo>
                  <a:pt x="414" y="262"/>
                  <a:pt x="413" y="254"/>
                  <a:pt x="413" y="245"/>
                </a:cubicBezTo>
                <a:cubicBezTo>
                  <a:pt x="413" y="244"/>
                  <a:pt x="412" y="244"/>
                  <a:pt x="412" y="245"/>
                </a:cubicBezTo>
                <a:cubicBezTo>
                  <a:pt x="411" y="254"/>
                  <a:pt x="413" y="263"/>
                  <a:pt x="414" y="271"/>
                </a:cubicBezTo>
                <a:cubicBezTo>
                  <a:pt x="415" y="278"/>
                  <a:pt x="417" y="285"/>
                  <a:pt x="419" y="292"/>
                </a:cubicBezTo>
                <a:cubicBezTo>
                  <a:pt x="417" y="287"/>
                  <a:pt x="414" y="282"/>
                  <a:pt x="410" y="277"/>
                </a:cubicBezTo>
                <a:cubicBezTo>
                  <a:pt x="410" y="277"/>
                  <a:pt x="410" y="276"/>
                  <a:pt x="410" y="276"/>
                </a:cubicBezTo>
                <a:cubicBezTo>
                  <a:pt x="410" y="276"/>
                  <a:pt x="410" y="275"/>
                  <a:pt x="410" y="274"/>
                </a:cubicBezTo>
                <a:cubicBezTo>
                  <a:pt x="410" y="274"/>
                  <a:pt x="410" y="273"/>
                  <a:pt x="409" y="273"/>
                </a:cubicBezTo>
                <a:cubicBezTo>
                  <a:pt x="409" y="273"/>
                  <a:pt x="409" y="273"/>
                  <a:pt x="409" y="273"/>
                </a:cubicBezTo>
                <a:cubicBezTo>
                  <a:pt x="408" y="273"/>
                  <a:pt x="408" y="274"/>
                  <a:pt x="408" y="274"/>
                </a:cubicBezTo>
                <a:cubicBezTo>
                  <a:pt x="407" y="272"/>
                  <a:pt x="406" y="270"/>
                  <a:pt x="405" y="268"/>
                </a:cubicBezTo>
                <a:cubicBezTo>
                  <a:pt x="401" y="262"/>
                  <a:pt x="397" y="255"/>
                  <a:pt x="393" y="249"/>
                </a:cubicBezTo>
                <a:cubicBezTo>
                  <a:pt x="389" y="244"/>
                  <a:pt x="384" y="239"/>
                  <a:pt x="379" y="234"/>
                </a:cubicBezTo>
                <a:cubicBezTo>
                  <a:pt x="377" y="232"/>
                  <a:pt x="375" y="229"/>
                  <a:pt x="373" y="227"/>
                </a:cubicBezTo>
                <a:cubicBezTo>
                  <a:pt x="372" y="221"/>
                  <a:pt x="373" y="215"/>
                  <a:pt x="373" y="210"/>
                </a:cubicBezTo>
                <a:close/>
                <a:moveTo>
                  <a:pt x="343" y="137"/>
                </a:moveTo>
                <a:cubicBezTo>
                  <a:pt x="349" y="146"/>
                  <a:pt x="355" y="156"/>
                  <a:pt x="359" y="166"/>
                </a:cubicBezTo>
                <a:cubicBezTo>
                  <a:pt x="363" y="175"/>
                  <a:pt x="368" y="185"/>
                  <a:pt x="369" y="196"/>
                </a:cubicBezTo>
                <a:cubicBezTo>
                  <a:pt x="370" y="199"/>
                  <a:pt x="370" y="203"/>
                  <a:pt x="370" y="207"/>
                </a:cubicBezTo>
                <a:cubicBezTo>
                  <a:pt x="370" y="210"/>
                  <a:pt x="369" y="213"/>
                  <a:pt x="369" y="216"/>
                </a:cubicBezTo>
                <a:cubicBezTo>
                  <a:pt x="369" y="218"/>
                  <a:pt x="369" y="221"/>
                  <a:pt x="370" y="223"/>
                </a:cubicBezTo>
                <a:cubicBezTo>
                  <a:pt x="368" y="221"/>
                  <a:pt x="365" y="219"/>
                  <a:pt x="363" y="216"/>
                </a:cubicBezTo>
                <a:cubicBezTo>
                  <a:pt x="363" y="216"/>
                  <a:pt x="363" y="216"/>
                  <a:pt x="363" y="216"/>
                </a:cubicBezTo>
                <a:cubicBezTo>
                  <a:pt x="363" y="216"/>
                  <a:pt x="363" y="216"/>
                  <a:pt x="363" y="215"/>
                </a:cubicBezTo>
                <a:cubicBezTo>
                  <a:pt x="364" y="200"/>
                  <a:pt x="357" y="185"/>
                  <a:pt x="352" y="170"/>
                </a:cubicBezTo>
                <a:cubicBezTo>
                  <a:pt x="348" y="157"/>
                  <a:pt x="346" y="144"/>
                  <a:pt x="340" y="132"/>
                </a:cubicBezTo>
                <a:cubicBezTo>
                  <a:pt x="341" y="134"/>
                  <a:pt x="342" y="136"/>
                  <a:pt x="343" y="137"/>
                </a:cubicBezTo>
                <a:close/>
                <a:moveTo>
                  <a:pt x="321" y="108"/>
                </a:moveTo>
                <a:cubicBezTo>
                  <a:pt x="322" y="110"/>
                  <a:pt x="325" y="112"/>
                  <a:pt x="326" y="114"/>
                </a:cubicBezTo>
                <a:cubicBezTo>
                  <a:pt x="326" y="115"/>
                  <a:pt x="326" y="116"/>
                  <a:pt x="326" y="116"/>
                </a:cubicBezTo>
                <a:cubicBezTo>
                  <a:pt x="328" y="118"/>
                  <a:pt x="329" y="119"/>
                  <a:pt x="330" y="121"/>
                </a:cubicBezTo>
                <a:cubicBezTo>
                  <a:pt x="330" y="121"/>
                  <a:pt x="330" y="121"/>
                  <a:pt x="330" y="121"/>
                </a:cubicBezTo>
                <a:cubicBezTo>
                  <a:pt x="331" y="124"/>
                  <a:pt x="331" y="127"/>
                  <a:pt x="334" y="129"/>
                </a:cubicBezTo>
                <a:cubicBezTo>
                  <a:pt x="334" y="130"/>
                  <a:pt x="335" y="130"/>
                  <a:pt x="336" y="129"/>
                </a:cubicBezTo>
                <a:cubicBezTo>
                  <a:pt x="343" y="143"/>
                  <a:pt x="344" y="158"/>
                  <a:pt x="349" y="172"/>
                </a:cubicBezTo>
                <a:cubicBezTo>
                  <a:pt x="354" y="186"/>
                  <a:pt x="360" y="200"/>
                  <a:pt x="361" y="215"/>
                </a:cubicBezTo>
                <a:cubicBezTo>
                  <a:pt x="356" y="211"/>
                  <a:pt x="351" y="208"/>
                  <a:pt x="345" y="205"/>
                </a:cubicBezTo>
                <a:cubicBezTo>
                  <a:pt x="339" y="201"/>
                  <a:pt x="333" y="198"/>
                  <a:pt x="327" y="195"/>
                </a:cubicBezTo>
                <a:cubicBezTo>
                  <a:pt x="328" y="184"/>
                  <a:pt x="322" y="174"/>
                  <a:pt x="317" y="164"/>
                </a:cubicBezTo>
                <a:cubicBezTo>
                  <a:pt x="314" y="157"/>
                  <a:pt x="311" y="150"/>
                  <a:pt x="310" y="143"/>
                </a:cubicBezTo>
                <a:cubicBezTo>
                  <a:pt x="308" y="135"/>
                  <a:pt x="308" y="129"/>
                  <a:pt x="309" y="121"/>
                </a:cubicBezTo>
                <a:cubicBezTo>
                  <a:pt x="309" y="121"/>
                  <a:pt x="308" y="121"/>
                  <a:pt x="308" y="121"/>
                </a:cubicBezTo>
                <a:cubicBezTo>
                  <a:pt x="305" y="126"/>
                  <a:pt x="306" y="132"/>
                  <a:pt x="307" y="137"/>
                </a:cubicBezTo>
                <a:cubicBezTo>
                  <a:pt x="308" y="145"/>
                  <a:pt x="310" y="152"/>
                  <a:pt x="313" y="159"/>
                </a:cubicBezTo>
                <a:cubicBezTo>
                  <a:pt x="318" y="171"/>
                  <a:pt x="324" y="182"/>
                  <a:pt x="325" y="194"/>
                </a:cubicBezTo>
                <a:cubicBezTo>
                  <a:pt x="319" y="191"/>
                  <a:pt x="312" y="188"/>
                  <a:pt x="305" y="187"/>
                </a:cubicBezTo>
                <a:cubicBezTo>
                  <a:pt x="304" y="187"/>
                  <a:pt x="304" y="186"/>
                  <a:pt x="303" y="186"/>
                </a:cubicBezTo>
                <a:cubicBezTo>
                  <a:pt x="303" y="186"/>
                  <a:pt x="303" y="185"/>
                  <a:pt x="303" y="185"/>
                </a:cubicBezTo>
                <a:cubicBezTo>
                  <a:pt x="300" y="180"/>
                  <a:pt x="301" y="175"/>
                  <a:pt x="300" y="170"/>
                </a:cubicBezTo>
                <a:cubicBezTo>
                  <a:pt x="300" y="164"/>
                  <a:pt x="300" y="158"/>
                  <a:pt x="300" y="153"/>
                </a:cubicBezTo>
                <a:cubicBezTo>
                  <a:pt x="300" y="142"/>
                  <a:pt x="302" y="133"/>
                  <a:pt x="306" y="123"/>
                </a:cubicBezTo>
                <a:cubicBezTo>
                  <a:pt x="308" y="118"/>
                  <a:pt x="309" y="113"/>
                  <a:pt x="312" y="108"/>
                </a:cubicBezTo>
                <a:cubicBezTo>
                  <a:pt x="312" y="108"/>
                  <a:pt x="312" y="108"/>
                  <a:pt x="312" y="107"/>
                </a:cubicBezTo>
                <a:cubicBezTo>
                  <a:pt x="312" y="107"/>
                  <a:pt x="312" y="107"/>
                  <a:pt x="312" y="107"/>
                </a:cubicBezTo>
                <a:cubicBezTo>
                  <a:pt x="313" y="106"/>
                  <a:pt x="314" y="105"/>
                  <a:pt x="314" y="104"/>
                </a:cubicBezTo>
                <a:cubicBezTo>
                  <a:pt x="315" y="103"/>
                  <a:pt x="320" y="107"/>
                  <a:pt x="321" y="108"/>
                </a:cubicBezTo>
                <a:close/>
                <a:moveTo>
                  <a:pt x="297" y="173"/>
                </a:moveTo>
                <a:cubicBezTo>
                  <a:pt x="297" y="177"/>
                  <a:pt x="297" y="181"/>
                  <a:pt x="299" y="185"/>
                </a:cubicBezTo>
                <a:cubicBezTo>
                  <a:pt x="297" y="185"/>
                  <a:pt x="295" y="184"/>
                  <a:pt x="293" y="184"/>
                </a:cubicBezTo>
                <a:cubicBezTo>
                  <a:pt x="293" y="184"/>
                  <a:pt x="293" y="183"/>
                  <a:pt x="293" y="183"/>
                </a:cubicBezTo>
                <a:cubicBezTo>
                  <a:pt x="293" y="183"/>
                  <a:pt x="293" y="182"/>
                  <a:pt x="293" y="182"/>
                </a:cubicBezTo>
                <a:cubicBezTo>
                  <a:pt x="288" y="170"/>
                  <a:pt x="292" y="155"/>
                  <a:pt x="295" y="142"/>
                </a:cubicBezTo>
                <a:cubicBezTo>
                  <a:pt x="297" y="136"/>
                  <a:pt x="298" y="129"/>
                  <a:pt x="300" y="122"/>
                </a:cubicBezTo>
                <a:cubicBezTo>
                  <a:pt x="302" y="118"/>
                  <a:pt x="303" y="114"/>
                  <a:pt x="307" y="112"/>
                </a:cubicBezTo>
                <a:cubicBezTo>
                  <a:pt x="306" y="114"/>
                  <a:pt x="305" y="116"/>
                  <a:pt x="305" y="117"/>
                </a:cubicBezTo>
                <a:cubicBezTo>
                  <a:pt x="303" y="123"/>
                  <a:pt x="300" y="129"/>
                  <a:pt x="299" y="136"/>
                </a:cubicBezTo>
                <a:cubicBezTo>
                  <a:pt x="298" y="141"/>
                  <a:pt x="297" y="147"/>
                  <a:pt x="297" y="152"/>
                </a:cubicBezTo>
                <a:cubicBezTo>
                  <a:pt x="297" y="159"/>
                  <a:pt x="297" y="166"/>
                  <a:pt x="297" y="173"/>
                </a:cubicBezTo>
                <a:close/>
                <a:moveTo>
                  <a:pt x="239" y="8"/>
                </a:moveTo>
                <a:cubicBezTo>
                  <a:pt x="238" y="6"/>
                  <a:pt x="245" y="10"/>
                  <a:pt x="246" y="10"/>
                </a:cubicBezTo>
                <a:cubicBezTo>
                  <a:pt x="249" y="12"/>
                  <a:pt x="252" y="14"/>
                  <a:pt x="256" y="16"/>
                </a:cubicBezTo>
                <a:cubicBezTo>
                  <a:pt x="264" y="22"/>
                  <a:pt x="272" y="30"/>
                  <a:pt x="279" y="38"/>
                </a:cubicBezTo>
                <a:cubicBezTo>
                  <a:pt x="288" y="49"/>
                  <a:pt x="296" y="60"/>
                  <a:pt x="302" y="73"/>
                </a:cubicBezTo>
                <a:cubicBezTo>
                  <a:pt x="305" y="80"/>
                  <a:pt x="309" y="86"/>
                  <a:pt x="311" y="93"/>
                </a:cubicBezTo>
                <a:cubicBezTo>
                  <a:pt x="312" y="96"/>
                  <a:pt x="313" y="99"/>
                  <a:pt x="315" y="102"/>
                </a:cubicBezTo>
                <a:cubicBezTo>
                  <a:pt x="312" y="102"/>
                  <a:pt x="310" y="104"/>
                  <a:pt x="309" y="107"/>
                </a:cubicBezTo>
                <a:cubicBezTo>
                  <a:pt x="306" y="108"/>
                  <a:pt x="304" y="110"/>
                  <a:pt x="302" y="112"/>
                </a:cubicBezTo>
                <a:cubicBezTo>
                  <a:pt x="302" y="108"/>
                  <a:pt x="300" y="104"/>
                  <a:pt x="299" y="101"/>
                </a:cubicBezTo>
                <a:cubicBezTo>
                  <a:pt x="298" y="99"/>
                  <a:pt x="297" y="97"/>
                  <a:pt x="297" y="96"/>
                </a:cubicBezTo>
                <a:cubicBezTo>
                  <a:pt x="297" y="96"/>
                  <a:pt x="297" y="96"/>
                  <a:pt x="297" y="95"/>
                </a:cubicBezTo>
                <a:cubicBezTo>
                  <a:pt x="298" y="93"/>
                  <a:pt x="297" y="90"/>
                  <a:pt x="297" y="88"/>
                </a:cubicBezTo>
                <a:cubicBezTo>
                  <a:pt x="297" y="85"/>
                  <a:pt x="297" y="82"/>
                  <a:pt x="298" y="79"/>
                </a:cubicBezTo>
                <a:cubicBezTo>
                  <a:pt x="298" y="79"/>
                  <a:pt x="297" y="79"/>
                  <a:pt x="297" y="79"/>
                </a:cubicBezTo>
                <a:cubicBezTo>
                  <a:pt x="296" y="82"/>
                  <a:pt x="296" y="85"/>
                  <a:pt x="296" y="88"/>
                </a:cubicBezTo>
                <a:cubicBezTo>
                  <a:pt x="296" y="89"/>
                  <a:pt x="295" y="91"/>
                  <a:pt x="295" y="93"/>
                </a:cubicBezTo>
                <a:cubicBezTo>
                  <a:pt x="294" y="91"/>
                  <a:pt x="293" y="89"/>
                  <a:pt x="292" y="87"/>
                </a:cubicBezTo>
                <a:cubicBezTo>
                  <a:pt x="293" y="86"/>
                  <a:pt x="293" y="83"/>
                  <a:pt x="293" y="82"/>
                </a:cubicBezTo>
                <a:cubicBezTo>
                  <a:pt x="293" y="80"/>
                  <a:pt x="293" y="77"/>
                  <a:pt x="293" y="75"/>
                </a:cubicBezTo>
                <a:cubicBezTo>
                  <a:pt x="293" y="74"/>
                  <a:pt x="292" y="74"/>
                  <a:pt x="292" y="75"/>
                </a:cubicBezTo>
                <a:cubicBezTo>
                  <a:pt x="291" y="77"/>
                  <a:pt x="291" y="80"/>
                  <a:pt x="291" y="82"/>
                </a:cubicBezTo>
                <a:cubicBezTo>
                  <a:pt x="291" y="83"/>
                  <a:pt x="291" y="84"/>
                  <a:pt x="291" y="84"/>
                </a:cubicBezTo>
                <a:cubicBezTo>
                  <a:pt x="290" y="83"/>
                  <a:pt x="289" y="82"/>
                  <a:pt x="289" y="81"/>
                </a:cubicBezTo>
                <a:cubicBezTo>
                  <a:pt x="289" y="80"/>
                  <a:pt x="288" y="78"/>
                  <a:pt x="288" y="77"/>
                </a:cubicBezTo>
                <a:cubicBezTo>
                  <a:pt x="288" y="75"/>
                  <a:pt x="288" y="74"/>
                  <a:pt x="288" y="72"/>
                </a:cubicBezTo>
                <a:cubicBezTo>
                  <a:pt x="288" y="71"/>
                  <a:pt x="287" y="71"/>
                  <a:pt x="287" y="72"/>
                </a:cubicBezTo>
                <a:cubicBezTo>
                  <a:pt x="287" y="74"/>
                  <a:pt x="287" y="76"/>
                  <a:pt x="287" y="78"/>
                </a:cubicBezTo>
                <a:cubicBezTo>
                  <a:pt x="287" y="78"/>
                  <a:pt x="287" y="78"/>
                  <a:pt x="287" y="78"/>
                </a:cubicBezTo>
                <a:cubicBezTo>
                  <a:pt x="287" y="78"/>
                  <a:pt x="286" y="77"/>
                  <a:pt x="286" y="76"/>
                </a:cubicBezTo>
                <a:cubicBezTo>
                  <a:pt x="285" y="76"/>
                  <a:pt x="284" y="75"/>
                  <a:pt x="284" y="73"/>
                </a:cubicBezTo>
                <a:cubicBezTo>
                  <a:pt x="284" y="71"/>
                  <a:pt x="284" y="69"/>
                  <a:pt x="284" y="67"/>
                </a:cubicBezTo>
                <a:cubicBezTo>
                  <a:pt x="284" y="64"/>
                  <a:pt x="284" y="62"/>
                  <a:pt x="284" y="59"/>
                </a:cubicBezTo>
                <a:cubicBezTo>
                  <a:pt x="284" y="58"/>
                  <a:pt x="284" y="58"/>
                  <a:pt x="284" y="59"/>
                </a:cubicBezTo>
                <a:cubicBezTo>
                  <a:pt x="283" y="61"/>
                  <a:pt x="283" y="64"/>
                  <a:pt x="283" y="67"/>
                </a:cubicBezTo>
                <a:cubicBezTo>
                  <a:pt x="283" y="68"/>
                  <a:pt x="282" y="70"/>
                  <a:pt x="282" y="71"/>
                </a:cubicBezTo>
                <a:cubicBezTo>
                  <a:pt x="281" y="69"/>
                  <a:pt x="279" y="67"/>
                  <a:pt x="277" y="65"/>
                </a:cubicBezTo>
                <a:cubicBezTo>
                  <a:pt x="278" y="63"/>
                  <a:pt x="278" y="62"/>
                  <a:pt x="278" y="60"/>
                </a:cubicBezTo>
                <a:cubicBezTo>
                  <a:pt x="278" y="58"/>
                  <a:pt x="278" y="56"/>
                  <a:pt x="278" y="55"/>
                </a:cubicBezTo>
                <a:cubicBezTo>
                  <a:pt x="278" y="54"/>
                  <a:pt x="277" y="53"/>
                  <a:pt x="277" y="54"/>
                </a:cubicBezTo>
                <a:cubicBezTo>
                  <a:pt x="277" y="57"/>
                  <a:pt x="276" y="61"/>
                  <a:pt x="276" y="64"/>
                </a:cubicBezTo>
                <a:cubicBezTo>
                  <a:pt x="275" y="63"/>
                  <a:pt x="274" y="61"/>
                  <a:pt x="273" y="60"/>
                </a:cubicBezTo>
                <a:cubicBezTo>
                  <a:pt x="273" y="59"/>
                  <a:pt x="273" y="58"/>
                  <a:pt x="273" y="56"/>
                </a:cubicBezTo>
                <a:cubicBezTo>
                  <a:pt x="273" y="55"/>
                  <a:pt x="273" y="53"/>
                  <a:pt x="273" y="51"/>
                </a:cubicBezTo>
                <a:cubicBezTo>
                  <a:pt x="273" y="50"/>
                  <a:pt x="272" y="50"/>
                  <a:pt x="272" y="51"/>
                </a:cubicBezTo>
                <a:cubicBezTo>
                  <a:pt x="272" y="53"/>
                  <a:pt x="272" y="55"/>
                  <a:pt x="272" y="56"/>
                </a:cubicBezTo>
                <a:cubicBezTo>
                  <a:pt x="272" y="57"/>
                  <a:pt x="271" y="58"/>
                  <a:pt x="271" y="59"/>
                </a:cubicBezTo>
                <a:cubicBezTo>
                  <a:pt x="270" y="58"/>
                  <a:pt x="269" y="57"/>
                  <a:pt x="268" y="56"/>
                </a:cubicBezTo>
                <a:cubicBezTo>
                  <a:pt x="268" y="56"/>
                  <a:pt x="268" y="56"/>
                  <a:pt x="268" y="56"/>
                </a:cubicBezTo>
                <a:cubicBezTo>
                  <a:pt x="270" y="55"/>
                  <a:pt x="270" y="52"/>
                  <a:pt x="270" y="50"/>
                </a:cubicBezTo>
                <a:cubicBezTo>
                  <a:pt x="271" y="48"/>
                  <a:pt x="271" y="46"/>
                  <a:pt x="271" y="44"/>
                </a:cubicBezTo>
                <a:cubicBezTo>
                  <a:pt x="271" y="43"/>
                  <a:pt x="270" y="43"/>
                  <a:pt x="270" y="44"/>
                </a:cubicBezTo>
                <a:cubicBezTo>
                  <a:pt x="269" y="46"/>
                  <a:pt x="269" y="48"/>
                  <a:pt x="269" y="50"/>
                </a:cubicBezTo>
                <a:cubicBezTo>
                  <a:pt x="268" y="52"/>
                  <a:pt x="267" y="54"/>
                  <a:pt x="267" y="56"/>
                </a:cubicBezTo>
                <a:cubicBezTo>
                  <a:pt x="267" y="56"/>
                  <a:pt x="267" y="56"/>
                  <a:pt x="267" y="56"/>
                </a:cubicBezTo>
                <a:cubicBezTo>
                  <a:pt x="266" y="55"/>
                  <a:pt x="264" y="54"/>
                  <a:pt x="262" y="54"/>
                </a:cubicBezTo>
                <a:cubicBezTo>
                  <a:pt x="263" y="52"/>
                  <a:pt x="264" y="49"/>
                  <a:pt x="264" y="47"/>
                </a:cubicBezTo>
                <a:cubicBezTo>
                  <a:pt x="265" y="45"/>
                  <a:pt x="265" y="43"/>
                  <a:pt x="265" y="40"/>
                </a:cubicBezTo>
                <a:cubicBezTo>
                  <a:pt x="265" y="40"/>
                  <a:pt x="263" y="40"/>
                  <a:pt x="263" y="40"/>
                </a:cubicBezTo>
                <a:cubicBezTo>
                  <a:pt x="264" y="43"/>
                  <a:pt x="263" y="45"/>
                  <a:pt x="262" y="47"/>
                </a:cubicBezTo>
                <a:cubicBezTo>
                  <a:pt x="262" y="49"/>
                  <a:pt x="261" y="51"/>
                  <a:pt x="261" y="53"/>
                </a:cubicBezTo>
                <a:cubicBezTo>
                  <a:pt x="261" y="53"/>
                  <a:pt x="261" y="54"/>
                  <a:pt x="261" y="54"/>
                </a:cubicBezTo>
                <a:cubicBezTo>
                  <a:pt x="260" y="54"/>
                  <a:pt x="259" y="54"/>
                  <a:pt x="257" y="54"/>
                </a:cubicBezTo>
                <a:cubicBezTo>
                  <a:pt x="257" y="54"/>
                  <a:pt x="257" y="53"/>
                  <a:pt x="257" y="53"/>
                </a:cubicBezTo>
                <a:cubicBezTo>
                  <a:pt x="257" y="53"/>
                  <a:pt x="257" y="53"/>
                  <a:pt x="257" y="53"/>
                </a:cubicBezTo>
                <a:cubicBezTo>
                  <a:pt x="257" y="51"/>
                  <a:pt x="258" y="49"/>
                  <a:pt x="258" y="48"/>
                </a:cubicBezTo>
                <a:cubicBezTo>
                  <a:pt x="258" y="47"/>
                  <a:pt x="258" y="47"/>
                  <a:pt x="257" y="47"/>
                </a:cubicBezTo>
                <a:cubicBezTo>
                  <a:pt x="257" y="49"/>
                  <a:pt x="256" y="50"/>
                  <a:pt x="256" y="51"/>
                </a:cubicBezTo>
                <a:cubicBezTo>
                  <a:pt x="255" y="49"/>
                  <a:pt x="255" y="48"/>
                  <a:pt x="254" y="46"/>
                </a:cubicBezTo>
                <a:cubicBezTo>
                  <a:pt x="254" y="46"/>
                  <a:pt x="254" y="46"/>
                  <a:pt x="254" y="46"/>
                </a:cubicBezTo>
                <a:cubicBezTo>
                  <a:pt x="255" y="44"/>
                  <a:pt x="255" y="40"/>
                  <a:pt x="256" y="38"/>
                </a:cubicBezTo>
                <a:cubicBezTo>
                  <a:pt x="256" y="35"/>
                  <a:pt x="256" y="32"/>
                  <a:pt x="256" y="28"/>
                </a:cubicBezTo>
                <a:cubicBezTo>
                  <a:pt x="256" y="28"/>
                  <a:pt x="255" y="28"/>
                  <a:pt x="255" y="28"/>
                </a:cubicBezTo>
                <a:cubicBezTo>
                  <a:pt x="255" y="32"/>
                  <a:pt x="254" y="35"/>
                  <a:pt x="254" y="38"/>
                </a:cubicBezTo>
                <a:cubicBezTo>
                  <a:pt x="253" y="40"/>
                  <a:pt x="253" y="42"/>
                  <a:pt x="253" y="43"/>
                </a:cubicBezTo>
                <a:cubicBezTo>
                  <a:pt x="248" y="32"/>
                  <a:pt x="243" y="20"/>
                  <a:pt x="238" y="9"/>
                </a:cubicBezTo>
                <a:cubicBezTo>
                  <a:pt x="238" y="9"/>
                  <a:pt x="239" y="8"/>
                  <a:pt x="239" y="8"/>
                </a:cubicBezTo>
                <a:close/>
                <a:moveTo>
                  <a:pt x="235" y="9"/>
                </a:moveTo>
                <a:cubicBezTo>
                  <a:pt x="236" y="9"/>
                  <a:pt x="236" y="9"/>
                  <a:pt x="237" y="9"/>
                </a:cubicBezTo>
                <a:cubicBezTo>
                  <a:pt x="237" y="17"/>
                  <a:pt x="242" y="24"/>
                  <a:pt x="245" y="31"/>
                </a:cubicBezTo>
                <a:cubicBezTo>
                  <a:pt x="248" y="40"/>
                  <a:pt x="251" y="48"/>
                  <a:pt x="255" y="56"/>
                </a:cubicBezTo>
                <a:cubicBezTo>
                  <a:pt x="255" y="57"/>
                  <a:pt x="255" y="57"/>
                  <a:pt x="255" y="58"/>
                </a:cubicBezTo>
                <a:cubicBezTo>
                  <a:pt x="255" y="58"/>
                  <a:pt x="255" y="58"/>
                  <a:pt x="256" y="58"/>
                </a:cubicBezTo>
                <a:cubicBezTo>
                  <a:pt x="256" y="58"/>
                  <a:pt x="256" y="58"/>
                  <a:pt x="256" y="58"/>
                </a:cubicBezTo>
                <a:cubicBezTo>
                  <a:pt x="256" y="58"/>
                  <a:pt x="257" y="58"/>
                  <a:pt x="258" y="58"/>
                </a:cubicBezTo>
                <a:cubicBezTo>
                  <a:pt x="262" y="55"/>
                  <a:pt x="267" y="60"/>
                  <a:pt x="270" y="63"/>
                </a:cubicBezTo>
                <a:cubicBezTo>
                  <a:pt x="276" y="68"/>
                  <a:pt x="280" y="75"/>
                  <a:pt x="284" y="81"/>
                </a:cubicBezTo>
                <a:cubicBezTo>
                  <a:pt x="291" y="91"/>
                  <a:pt x="300" y="105"/>
                  <a:pt x="298" y="117"/>
                </a:cubicBezTo>
                <a:cubicBezTo>
                  <a:pt x="298" y="117"/>
                  <a:pt x="298" y="118"/>
                  <a:pt x="298" y="118"/>
                </a:cubicBezTo>
                <a:cubicBezTo>
                  <a:pt x="298" y="120"/>
                  <a:pt x="297" y="122"/>
                  <a:pt x="296" y="123"/>
                </a:cubicBezTo>
                <a:cubicBezTo>
                  <a:pt x="294" y="131"/>
                  <a:pt x="293" y="138"/>
                  <a:pt x="291" y="146"/>
                </a:cubicBezTo>
                <a:cubicBezTo>
                  <a:pt x="289" y="154"/>
                  <a:pt x="286" y="164"/>
                  <a:pt x="287" y="174"/>
                </a:cubicBezTo>
                <a:cubicBezTo>
                  <a:pt x="284" y="170"/>
                  <a:pt x="281" y="166"/>
                  <a:pt x="278" y="162"/>
                </a:cubicBezTo>
                <a:cubicBezTo>
                  <a:pt x="270" y="150"/>
                  <a:pt x="262" y="137"/>
                  <a:pt x="255" y="124"/>
                </a:cubicBezTo>
                <a:cubicBezTo>
                  <a:pt x="251" y="117"/>
                  <a:pt x="248" y="110"/>
                  <a:pt x="245" y="102"/>
                </a:cubicBezTo>
                <a:cubicBezTo>
                  <a:pt x="245" y="102"/>
                  <a:pt x="245" y="102"/>
                  <a:pt x="245" y="102"/>
                </a:cubicBezTo>
                <a:cubicBezTo>
                  <a:pt x="245" y="100"/>
                  <a:pt x="245" y="97"/>
                  <a:pt x="244" y="95"/>
                </a:cubicBezTo>
                <a:cubicBezTo>
                  <a:pt x="244" y="93"/>
                  <a:pt x="244" y="91"/>
                  <a:pt x="244" y="89"/>
                </a:cubicBezTo>
                <a:cubicBezTo>
                  <a:pt x="244" y="87"/>
                  <a:pt x="242" y="87"/>
                  <a:pt x="242" y="89"/>
                </a:cubicBezTo>
                <a:cubicBezTo>
                  <a:pt x="242" y="91"/>
                  <a:pt x="242" y="93"/>
                  <a:pt x="242" y="95"/>
                </a:cubicBezTo>
                <a:cubicBezTo>
                  <a:pt x="241" y="92"/>
                  <a:pt x="241" y="88"/>
                  <a:pt x="240" y="85"/>
                </a:cubicBezTo>
                <a:cubicBezTo>
                  <a:pt x="239" y="72"/>
                  <a:pt x="239" y="60"/>
                  <a:pt x="236" y="47"/>
                </a:cubicBezTo>
                <a:cubicBezTo>
                  <a:pt x="235" y="47"/>
                  <a:pt x="235" y="46"/>
                  <a:pt x="234" y="46"/>
                </a:cubicBezTo>
                <a:cubicBezTo>
                  <a:pt x="232" y="46"/>
                  <a:pt x="233" y="34"/>
                  <a:pt x="232" y="32"/>
                </a:cubicBezTo>
                <a:cubicBezTo>
                  <a:pt x="231" y="26"/>
                  <a:pt x="229" y="21"/>
                  <a:pt x="229" y="16"/>
                </a:cubicBezTo>
                <a:cubicBezTo>
                  <a:pt x="229" y="15"/>
                  <a:pt x="229" y="15"/>
                  <a:pt x="228" y="15"/>
                </a:cubicBezTo>
                <a:cubicBezTo>
                  <a:pt x="230" y="11"/>
                  <a:pt x="232" y="5"/>
                  <a:pt x="235" y="9"/>
                </a:cubicBezTo>
                <a:close/>
                <a:moveTo>
                  <a:pt x="269" y="165"/>
                </a:moveTo>
                <a:cubicBezTo>
                  <a:pt x="262" y="157"/>
                  <a:pt x="255" y="149"/>
                  <a:pt x="250" y="140"/>
                </a:cubicBezTo>
                <a:cubicBezTo>
                  <a:pt x="240" y="123"/>
                  <a:pt x="233" y="106"/>
                  <a:pt x="228" y="87"/>
                </a:cubicBezTo>
                <a:cubicBezTo>
                  <a:pt x="223" y="68"/>
                  <a:pt x="220" y="49"/>
                  <a:pt x="224" y="29"/>
                </a:cubicBezTo>
                <a:cubicBezTo>
                  <a:pt x="225" y="27"/>
                  <a:pt x="225" y="25"/>
                  <a:pt x="226" y="23"/>
                </a:cubicBezTo>
                <a:cubicBezTo>
                  <a:pt x="226" y="28"/>
                  <a:pt x="229" y="32"/>
                  <a:pt x="229" y="37"/>
                </a:cubicBezTo>
                <a:cubicBezTo>
                  <a:pt x="229" y="41"/>
                  <a:pt x="227" y="48"/>
                  <a:pt x="232" y="50"/>
                </a:cubicBezTo>
                <a:cubicBezTo>
                  <a:pt x="235" y="61"/>
                  <a:pt x="234" y="74"/>
                  <a:pt x="236" y="86"/>
                </a:cubicBezTo>
                <a:cubicBezTo>
                  <a:pt x="238" y="98"/>
                  <a:pt x="243" y="110"/>
                  <a:pt x="249" y="121"/>
                </a:cubicBezTo>
                <a:cubicBezTo>
                  <a:pt x="255" y="134"/>
                  <a:pt x="263" y="146"/>
                  <a:pt x="271" y="158"/>
                </a:cubicBezTo>
                <a:cubicBezTo>
                  <a:pt x="274" y="163"/>
                  <a:pt x="277" y="168"/>
                  <a:pt x="281" y="172"/>
                </a:cubicBezTo>
                <a:cubicBezTo>
                  <a:pt x="282" y="174"/>
                  <a:pt x="285" y="176"/>
                  <a:pt x="288" y="178"/>
                </a:cubicBezTo>
                <a:cubicBezTo>
                  <a:pt x="288" y="179"/>
                  <a:pt x="288" y="181"/>
                  <a:pt x="289" y="182"/>
                </a:cubicBezTo>
                <a:cubicBezTo>
                  <a:pt x="281" y="178"/>
                  <a:pt x="275" y="171"/>
                  <a:pt x="269" y="165"/>
                </a:cubicBezTo>
                <a:close/>
                <a:moveTo>
                  <a:pt x="275" y="184"/>
                </a:moveTo>
                <a:cubicBezTo>
                  <a:pt x="279" y="184"/>
                  <a:pt x="284" y="185"/>
                  <a:pt x="289" y="186"/>
                </a:cubicBezTo>
                <a:cubicBezTo>
                  <a:pt x="289" y="187"/>
                  <a:pt x="290" y="187"/>
                  <a:pt x="290" y="187"/>
                </a:cubicBezTo>
                <a:cubicBezTo>
                  <a:pt x="291" y="187"/>
                  <a:pt x="291" y="187"/>
                  <a:pt x="292" y="187"/>
                </a:cubicBezTo>
                <a:cubicBezTo>
                  <a:pt x="294" y="188"/>
                  <a:pt x="296" y="188"/>
                  <a:pt x="298" y="188"/>
                </a:cubicBezTo>
                <a:cubicBezTo>
                  <a:pt x="306" y="190"/>
                  <a:pt x="314" y="192"/>
                  <a:pt x="321" y="196"/>
                </a:cubicBezTo>
                <a:cubicBezTo>
                  <a:pt x="337" y="205"/>
                  <a:pt x="354" y="211"/>
                  <a:pt x="366" y="224"/>
                </a:cubicBezTo>
                <a:cubicBezTo>
                  <a:pt x="372" y="231"/>
                  <a:pt x="378" y="237"/>
                  <a:pt x="384" y="244"/>
                </a:cubicBezTo>
                <a:cubicBezTo>
                  <a:pt x="390" y="250"/>
                  <a:pt x="394" y="257"/>
                  <a:pt x="398" y="264"/>
                </a:cubicBezTo>
                <a:cubicBezTo>
                  <a:pt x="406" y="276"/>
                  <a:pt x="416" y="289"/>
                  <a:pt x="422" y="303"/>
                </a:cubicBezTo>
                <a:cubicBezTo>
                  <a:pt x="421" y="303"/>
                  <a:pt x="421" y="304"/>
                  <a:pt x="421" y="304"/>
                </a:cubicBezTo>
                <a:cubicBezTo>
                  <a:pt x="420" y="305"/>
                  <a:pt x="419" y="307"/>
                  <a:pt x="418" y="308"/>
                </a:cubicBezTo>
                <a:cubicBezTo>
                  <a:pt x="418" y="307"/>
                  <a:pt x="418" y="307"/>
                  <a:pt x="418" y="307"/>
                </a:cubicBezTo>
                <a:cubicBezTo>
                  <a:pt x="406" y="285"/>
                  <a:pt x="397" y="261"/>
                  <a:pt x="378" y="244"/>
                </a:cubicBezTo>
                <a:cubicBezTo>
                  <a:pt x="369" y="235"/>
                  <a:pt x="359" y="228"/>
                  <a:pt x="349" y="220"/>
                </a:cubicBezTo>
                <a:cubicBezTo>
                  <a:pt x="339" y="212"/>
                  <a:pt x="330" y="203"/>
                  <a:pt x="319" y="197"/>
                </a:cubicBezTo>
                <a:cubicBezTo>
                  <a:pt x="308" y="192"/>
                  <a:pt x="295" y="189"/>
                  <a:pt x="283" y="187"/>
                </a:cubicBezTo>
                <a:cubicBezTo>
                  <a:pt x="272" y="186"/>
                  <a:pt x="261" y="184"/>
                  <a:pt x="250" y="186"/>
                </a:cubicBezTo>
                <a:cubicBezTo>
                  <a:pt x="239" y="187"/>
                  <a:pt x="229" y="191"/>
                  <a:pt x="219" y="198"/>
                </a:cubicBezTo>
                <a:cubicBezTo>
                  <a:pt x="209" y="205"/>
                  <a:pt x="206" y="214"/>
                  <a:pt x="201" y="225"/>
                </a:cubicBezTo>
                <a:cubicBezTo>
                  <a:pt x="200" y="226"/>
                  <a:pt x="202" y="227"/>
                  <a:pt x="202" y="226"/>
                </a:cubicBezTo>
                <a:cubicBezTo>
                  <a:pt x="206" y="221"/>
                  <a:pt x="208" y="216"/>
                  <a:pt x="211" y="211"/>
                </a:cubicBezTo>
                <a:cubicBezTo>
                  <a:pt x="215" y="206"/>
                  <a:pt x="220" y="202"/>
                  <a:pt x="226" y="198"/>
                </a:cubicBezTo>
                <a:cubicBezTo>
                  <a:pt x="236" y="192"/>
                  <a:pt x="246" y="189"/>
                  <a:pt x="258" y="189"/>
                </a:cubicBezTo>
                <a:cubicBezTo>
                  <a:pt x="270" y="189"/>
                  <a:pt x="282" y="190"/>
                  <a:pt x="294" y="193"/>
                </a:cubicBezTo>
                <a:cubicBezTo>
                  <a:pt x="305" y="195"/>
                  <a:pt x="316" y="198"/>
                  <a:pt x="325" y="205"/>
                </a:cubicBezTo>
                <a:cubicBezTo>
                  <a:pt x="334" y="212"/>
                  <a:pt x="343" y="219"/>
                  <a:pt x="352" y="226"/>
                </a:cubicBezTo>
                <a:cubicBezTo>
                  <a:pt x="361" y="233"/>
                  <a:pt x="371" y="240"/>
                  <a:pt x="379" y="249"/>
                </a:cubicBezTo>
                <a:cubicBezTo>
                  <a:pt x="388" y="258"/>
                  <a:pt x="394" y="269"/>
                  <a:pt x="401" y="281"/>
                </a:cubicBezTo>
                <a:cubicBezTo>
                  <a:pt x="403" y="285"/>
                  <a:pt x="405" y="289"/>
                  <a:pt x="407" y="293"/>
                </a:cubicBezTo>
                <a:cubicBezTo>
                  <a:pt x="400" y="284"/>
                  <a:pt x="391" y="275"/>
                  <a:pt x="383" y="266"/>
                </a:cubicBezTo>
                <a:cubicBezTo>
                  <a:pt x="376" y="260"/>
                  <a:pt x="370" y="253"/>
                  <a:pt x="362" y="247"/>
                </a:cubicBezTo>
                <a:cubicBezTo>
                  <a:pt x="357" y="242"/>
                  <a:pt x="351" y="238"/>
                  <a:pt x="344" y="236"/>
                </a:cubicBezTo>
                <a:cubicBezTo>
                  <a:pt x="343" y="236"/>
                  <a:pt x="343" y="237"/>
                  <a:pt x="344" y="237"/>
                </a:cubicBezTo>
                <a:cubicBezTo>
                  <a:pt x="360" y="243"/>
                  <a:pt x="372" y="258"/>
                  <a:pt x="384" y="270"/>
                </a:cubicBezTo>
                <a:cubicBezTo>
                  <a:pt x="395" y="281"/>
                  <a:pt x="406" y="293"/>
                  <a:pt x="413" y="306"/>
                </a:cubicBezTo>
                <a:cubicBezTo>
                  <a:pt x="413" y="306"/>
                  <a:pt x="413" y="306"/>
                  <a:pt x="413" y="306"/>
                </a:cubicBezTo>
                <a:cubicBezTo>
                  <a:pt x="412" y="305"/>
                  <a:pt x="411" y="304"/>
                  <a:pt x="409" y="303"/>
                </a:cubicBezTo>
                <a:cubicBezTo>
                  <a:pt x="405" y="298"/>
                  <a:pt x="402" y="294"/>
                  <a:pt x="398" y="289"/>
                </a:cubicBezTo>
                <a:cubicBezTo>
                  <a:pt x="389" y="280"/>
                  <a:pt x="378" y="273"/>
                  <a:pt x="368" y="265"/>
                </a:cubicBezTo>
                <a:cubicBezTo>
                  <a:pt x="368" y="264"/>
                  <a:pt x="367" y="265"/>
                  <a:pt x="368" y="265"/>
                </a:cubicBezTo>
                <a:cubicBezTo>
                  <a:pt x="377" y="274"/>
                  <a:pt x="388" y="281"/>
                  <a:pt x="396" y="291"/>
                </a:cubicBezTo>
                <a:cubicBezTo>
                  <a:pt x="400" y="295"/>
                  <a:pt x="404" y="300"/>
                  <a:pt x="408" y="304"/>
                </a:cubicBezTo>
                <a:cubicBezTo>
                  <a:pt x="408" y="305"/>
                  <a:pt x="408" y="305"/>
                  <a:pt x="409" y="306"/>
                </a:cubicBezTo>
                <a:cubicBezTo>
                  <a:pt x="404" y="302"/>
                  <a:pt x="398" y="299"/>
                  <a:pt x="393" y="295"/>
                </a:cubicBezTo>
                <a:cubicBezTo>
                  <a:pt x="388" y="290"/>
                  <a:pt x="383" y="285"/>
                  <a:pt x="376" y="282"/>
                </a:cubicBezTo>
                <a:cubicBezTo>
                  <a:pt x="376" y="282"/>
                  <a:pt x="376" y="282"/>
                  <a:pt x="376" y="283"/>
                </a:cubicBezTo>
                <a:cubicBezTo>
                  <a:pt x="388" y="292"/>
                  <a:pt x="401" y="301"/>
                  <a:pt x="412" y="311"/>
                </a:cubicBezTo>
                <a:cubicBezTo>
                  <a:pt x="412" y="311"/>
                  <a:pt x="412" y="311"/>
                  <a:pt x="412" y="311"/>
                </a:cubicBezTo>
                <a:cubicBezTo>
                  <a:pt x="399" y="301"/>
                  <a:pt x="384" y="291"/>
                  <a:pt x="368" y="285"/>
                </a:cubicBezTo>
                <a:cubicBezTo>
                  <a:pt x="359" y="282"/>
                  <a:pt x="349" y="280"/>
                  <a:pt x="341" y="276"/>
                </a:cubicBezTo>
                <a:cubicBezTo>
                  <a:pt x="334" y="272"/>
                  <a:pt x="327" y="268"/>
                  <a:pt x="319" y="266"/>
                </a:cubicBezTo>
                <a:cubicBezTo>
                  <a:pt x="319" y="266"/>
                  <a:pt x="319" y="266"/>
                  <a:pt x="319" y="266"/>
                </a:cubicBezTo>
                <a:cubicBezTo>
                  <a:pt x="321" y="269"/>
                  <a:pt x="324" y="270"/>
                  <a:pt x="328" y="271"/>
                </a:cubicBezTo>
                <a:cubicBezTo>
                  <a:pt x="332" y="273"/>
                  <a:pt x="337" y="276"/>
                  <a:pt x="341" y="278"/>
                </a:cubicBezTo>
                <a:cubicBezTo>
                  <a:pt x="349" y="281"/>
                  <a:pt x="357" y="284"/>
                  <a:pt x="364" y="286"/>
                </a:cubicBezTo>
                <a:cubicBezTo>
                  <a:pt x="373" y="290"/>
                  <a:pt x="383" y="293"/>
                  <a:pt x="391" y="299"/>
                </a:cubicBezTo>
                <a:cubicBezTo>
                  <a:pt x="397" y="304"/>
                  <a:pt x="403" y="308"/>
                  <a:pt x="409" y="313"/>
                </a:cubicBezTo>
                <a:cubicBezTo>
                  <a:pt x="409" y="313"/>
                  <a:pt x="408" y="313"/>
                  <a:pt x="408" y="312"/>
                </a:cubicBezTo>
                <a:cubicBezTo>
                  <a:pt x="407" y="312"/>
                  <a:pt x="407" y="311"/>
                  <a:pt x="406" y="311"/>
                </a:cubicBezTo>
                <a:cubicBezTo>
                  <a:pt x="405" y="310"/>
                  <a:pt x="404" y="310"/>
                  <a:pt x="404" y="309"/>
                </a:cubicBezTo>
                <a:cubicBezTo>
                  <a:pt x="403" y="308"/>
                  <a:pt x="402" y="307"/>
                  <a:pt x="400" y="307"/>
                </a:cubicBezTo>
                <a:cubicBezTo>
                  <a:pt x="396" y="304"/>
                  <a:pt x="392" y="301"/>
                  <a:pt x="388" y="299"/>
                </a:cubicBezTo>
                <a:cubicBezTo>
                  <a:pt x="379" y="294"/>
                  <a:pt x="369" y="292"/>
                  <a:pt x="360" y="288"/>
                </a:cubicBezTo>
                <a:cubicBezTo>
                  <a:pt x="350" y="284"/>
                  <a:pt x="340" y="281"/>
                  <a:pt x="331" y="277"/>
                </a:cubicBezTo>
                <a:cubicBezTo>
                  <a:pt x="321" y="273"/>
                  <a:pt x="311" y="271"/>
                  <a:pt x="302" y="265"/>
                </a:cubicBezTo>
                <a:cubicBezTo>
                  <a:pt x="302" y="265"/>
                  <a:pt x="301" y="266"/>
                  <a:pt x="302" y="266"/>
                </a:cubicBezTo>
                <a:cubicBezTo>
                  <a:pt x="308" y="273"/>
                  <a:pt x="318" y="274"/>
                  <a:pt x="327" y="277"/>
                </a:cubicBezTo>
                <a:cubicBezTo>
                  <a:pt x="337" y="281"/>
                  <a:pt x="347" y="285"/>
                  <a:pt x="358" y="289"/>
                </a:cubicBezTo>
                <a:cubicBezTo>
                  <a:pt x="368" y="294"/>
                  <a:pt x="379" y="295"/>
                  <a:pt x="389" y="301"/>
                </a:cubicBezTo>
                <a:cubicBezTo>
                  <a:pt x="391" y="302"/>
                  <a:pt x="394" y="303"/>
                  <a:pt x="396" y="305"/>
                </a:cubicBezTo>
                <a:cubicBezTo>
                  <a:pt x="391" y="303"/>
                  <a:pt x="385" y="301"/>
                  <a:pt x="380" y="299"/>
                </a:cubicBezTo>
                <a:cubicBezTo>
                  <a:pt x="372" y="296"/>
                  <a:pt x="365" y="293"/>
                  <a:pt x="358" y="291"/>
                </a:cubicBezTo>
                <a:cubicBezTo>
                  <a:pt x="351" y="289"/>
                  <a:pt x="344" y="287"/>
                  <a:pt x="338" y="285"/>
                </a:cubicBezTo>
                <a:cubicBezTo>
                  <a:pt x="323" y="281"/>
                  <a:pt x="310" y="276"/>
                  <a:pt x="295" y="273"/>
                </a:cubicBezTo>
                <a:cubicBezTo>
                  <a:pt x="282" y="270"/>
                  <a:pt x="268" y="268"/>
                  <a:pt x="254" y="266"/>
                </a:cubicBezTo>
                <a:cubicBezTo>
                  <a:pt x="253" y="266"/>
                  <a:pt x="252" y="267"/>
                  <a:pt x="253" y="268"/>
                </a:cubicBezTo>
                <a:cubicBezTo>
                  <a:pt x="258" y="270"/>
                  <a:pt x="264" y="270"/>
                  <a:pt x="269" y="271"/>
                </a:cubicBezTo>
                <a:cubicBezTo>
                  <a:pt x="277" y="271"/>
                  <a:pt x="285" y="273"/>
                  <a:pt x="293" y="274"/>
                </a:cubicBezTo>
                <a:cubicBezTo>
                  <a:pt x="307" y="278"/>
                  <a:pt x="321" y="281"/>
                  <a:pt x="335" y="285"/>
                </a:cubicBezTo>
                <a:cubicBezTo>
                  <a:pt x="351" y="290"/>
                  <a:pt x="366" y="296"/>
                  <a:pt x="381" y="301"/>
                </a:cubicBezTo>
                <a:cubicBezTo>
                  <a:pt x="388" y="304"/>
                  <a:pt x="395" y="307"/>
                  <a:pt x="402" y="311"/>
                </a:cubicBezTo>
                <a:cubicBezTo>
                  <a:pt x="402" y="311"/>
                  <a:pt x="403" y="311"/>
                  <a:pt x="403" y="312"/>
                </a:cubicBezTo>
                <a:cubicBezTo>
                  <a:pt x="398" y="309"/>
                  <a:pt x="392" y="308"/>
                  <a:pt x="388" y="307"/>
                </a:cubicBezTo>
                <a:cubicBezTo>
                  <a:pt x="383" y="305"/>
                  <a:pt x="379" y="302"/>
                  <a:pt x="374" y="301"/>
                </a:cubicBezTo>
                <a:cubicBezTo>
                  <a:pt x="370" y="300"/>
                  <a:pt x="365" y="299"/>
                  <a:pt x="361" y="298"/>
                </a:cubicBezTo>
                <a:cubicBezTo>
                  <a:pt x="361" y="298"/>
                  <a:pt x="360" y="299"/>
                  <a:pt x="361" y="299"/>
                </a:cubicBezTo>
                <a:cubicBezTo>
                  <a:pt x="365" y="301"/>
                  <a:pt x="369" y="302"/>
                  <a:pt x="374" y="303"/>
                </a:cubicBezTo>
                <a:cubicBezTo>
                  <a:pt x="375" y="303"/>
                  <a:pt x="377" y="304"/>
                  <a:pt x="378" y="304"/>
                </a:cubicBezTo>
                <a:cubicBezTo>
                  <a:pt x="377" y="304"/>
                  <a:pt x="376" y="304"/>
                  <a:pt x="375" y="304"/>
                </a:cubicBezTo>
                <a:cubicBezTo>
                  <a:pt x="374" y="304"/>
                  <a:pt x="374" y="304"/>
                  <a:pt x="374" y="304"/>
                </a:cubicBezTo>
                <a:cubicBezTo>
                  <a:pt x="378" y="306"/>
                  <a:pt x="383" y="306"/>
                  <a:pt x="386" y="309"/>
                </a:cubicBezTo>
                <a:cubicBezTo>
                  <a:pt x="386" y="309"/>
                  <a:pt x="386" y="309"/>
                  <a:pt x="386" y="309"/>
                </a:cubicBezTo>
                <a:cubicBezTo>
                  <a:pt x="385" y="308"/>
                  <a:pt x="384" y="307"/>
                  <a:pt x="384" y="307"/>
                </a:cubicBezTo>
                <a:cubicBezTo>
                  <a:pt x="384" y="307"/>
                  <a:pt x="385" y="307"/>
                  <a:pt x="386" y="307"/>
                </a:cubicBezTo>
                <a:cubicBezTo>
                  <a:pt x="390" y="309"/>
                  <a:pt x="394" y="310"/>
                  <a:pt x="398" y="312"/>
                </a:cubicBezTo>
                <a:cubicBezTo>
                  <a:pt x="400" y="313"/>
                  <a:pt x="401" y="313"/>
                  <a:pt x="403" y="314"/>
                </a:cubicBezTo>
                <a:cubicBezTo>
                  <a:pt x="392" y="310"/>
                  <a:pt x="374" y="308"/>
                  <a:pt x="371" y="308"/>
                </a:cubicBezTo>
                <a:cubicBezTo>
                  <a:pt x="361" y="306"/>
                  <a:pt x="351" y="305"/>
                  <a:pt x="340" y="305"/>
                </a:cubicBezTo>
                <a:cubicBezTo>
                  <a:pt x="328" y="306"/>
                  <a:pt x="314" y="307"/>
                  <a:pt x="302" y="312"/>
                </a:cubicBezTo>
                <a:cubicBezTo>
                  <a:pt x="298" y="313"/>
                  <a:pt x="293" y="316"/>
                  <a:pt x="289" y="318"/>
                </a:cubicBezTo>
                <a:cubicBezTo>
                  <a:pt x="282" y="322"/>
                  <a:pt x="275" y="326"/>
                  <a:pt x="269" y="331"/>
                </a:cubicBezTo>
                <a:cubicBezTo>
                  <a:pt x="265" y="334"/>
                  <a:pt x="262" y="338"/>
                  <a:pt x="259" y="341"/>
                </a:cubicBezTo>
                <a:cubicBezTo>
                  <a:pt x="258" y="341"/>
                  <a:pt x="258" y="341"/>
                  <a:pt x="258" y="341"/>
                </a:cubicBezTo>
                <a:cubicBezTo>
                  <a:pt x="252" y="344"/>
                  <a:pt x="242" y="339"/>
                  <a:pt x="237" y="337"/>
                </a:cubicBezTo>
                <a:cubicBezTo>
                  <a:pt x="229" y="333"/>
                  <a:pt x="221" y="329"/>
                  <a:pt x="215" y="323"/>
                </a:cubicBezTo>
                <a:cubicBezTo>
                  <a:pt x="205" y="313"/>
                  <a:pt x="194" y="302"/>
                  <a:pt x="188" y="289"/>
                </a:cubicBezTo>
                <a:cubicBezTo>
                  <a:pt x="185" y="283"/>
                  <a:pt x="181" y="273"/>
                  <a:pt x="183" y="266"/>
                </a:cubicBezTo>
                <a:cubicBezTo>
                  <a:pt x="185" y="263"/>
                  <a:pt x="187" y="260"/>
                  <a:pt x="189" y="257"/>
                </a:cubicBezTo>
                <a:cubicBezTo>
                  <a:pt x="189" y="256"/>
                  <a:pt x="190" y="255"/>
                  <a:pt x="190" y="254"/>
                </a:cubicBezTo>
                <a:cubicBezTo>
                  <a:pt x="196" y="251"/>
                  <a:pt x="199" y="241"/>
                  <a:pt x="199" y="234"/>
                </a:cubicBezTo>
                <a:cubicBezTo>
                  <a:pt x="200" y="228"/>
                  <a:pt x="197" y="220"/>
                  <a:pt x="198" y="213"/>
                </a:cubicBezTo>
                <a:cubicBezTo>
                  <a:pt x="198" y="213"/>
                  <a:pt x="198" y="212"/>
                  <a:pt x="199" y="212"/>
                </a:cubicBezTo>
                <a:cubicBezTo>
                  <a:pt x="205" y="199"/>
                  <a:pt x="219" y="191"/>
                  <a:pt x="232" y="187"/>
                </a:cubicBezTo>
                <a:cubicBezTo>
                  <a:pt x="246" y="182"/>
                  <a:pt x="260" y="182"/>
                  <a:pt x="275" y="184"/>
                </a:cubicBezTo>
                <a:close/>
                <a:moveTo>
                  <a:pt x="155" y="52"/>
                </a:moveTo>
                <a:cubicBezTo>
                  <a:pt x="155" y="52"/>
                  <a:pt x="155" y="52"/>
                  <a:pt x="155" y="52"/>
                </a:cubicBezTo>
                <a:cubicBezTo>
                  <a:pt x="155" y="52"/>
                  <a:pt x="155" y="52"/>
                  <a:pt x="156" y="53"/>
                </a:cubicBezTo>
                <a:cubicBezTo>
                  <a:pt x="157" y="53"/>
                  <a:pt x="157" y="53"/>
                  <a:pt x="158" y="52"/>
                </a:cubicBezTo>
                <a:cubicBezTo>
                  <a:pt x="165" y="43"/>
                  <a:pt x="176" y="58"/>
                  <a:pt x="181" y="63"/>
                </a:cubicBezTo>
                <a:cubicBezTo>
                  <a:pt x="182" y="64"/>
                  <a:pt x="184" y="66"/>
                  <a:pt x="186" y="67"/>
                </a:cubicBezTo>
                <a:cubicBezTo>
                  <a:pt x="188" y="70"/>
                  <a:pt x="190" y="74"/>
                  <a:pt x="192" y="78"/>
                </a:cubicBezTo>
                <a:cubicBezTo>
                  <a:pt x="193" y="79"/>
                  <a:pt x="194" y="80"/>
                  <a:pt x="195" y="80"/>
                </a:cubicBezTo>
                <a:cubicBezTo>
                  <a:pt x="195" y="80"/>
                  <a:pt x="194" y="81"/>
                  <a:pt x="194" y="81"/>
                </a:cubicBezTo>
                <a:cubicBezTo>
                  <a:pt x="194" y="84"/>
                  <a:pt x="196" y="88"/>
                  <a:pt x="196" y="91"/>
                </a:cubicBezTo>
                <a:cubicBezTo>
                  <a:pt x="197" y="95"/>
                  <a:pt x="197" y="99"/>
                  <a:pt x="200" y="101"/>
                </a:cubicBezTo>
                <a:cubicBezTo>
                  <a:pt x="200" y="101"/>
                  <a:pt x="200" y="101"/>
                  <a:pt x="200" y="101"/>
                </a:cubicBezTo>
                <a:cubicBezTo>
                  <a:pt x="201" y="98"/>
                  <a:pt x="199" y="94"/>
                  <a:pt x="199" y="91"/>
                </a:cubicBezTo>
                <a:cubicBezTo>
                  <a:pt x="198" y="88"/>
                  <a:pt x="198" y="85"/>
                  <a:pt x="197" y="83"/>
                </a:cubicBezTo>
                <a:cubicBezTo>
                  <a:pt x="201" y="87"/>
                  <a:pt x="205" y="91"/>
                  <a:pt x="208" y="96"/>
                </a:cubicBezTo>
                <a:cubicBezTo>
                  <a:pt x="212" y="103"/>
                  <a:pt x="215" y="110"/>
                  <a:pt x="220" y="117"/>
                </a:cubicBezTo>
                <a:cubicBezTo>
                  <a:pt x="225" y="123"/>
                  <a:pt x="230" y="130"/>
                  <a:pt x="233" y="139"/>
                </a:cubicBezTo>
                <a:cubicBezTo>
                  <a:pt x="235" y="146"/>
                  <a:pt x="237" y="153"/>
                  <a:pt x="238" y="161"/>
                </a:cubicBezTo>
                <a:cubicBezTo>
                  <a:pt x="239" y="165"/>
                  <a:pt x="239" y="168"/>
                  <a:pt x="240" y="172"/>
                </a:cubicBezTo>
                <a:cubicBezTo>
                  <a:pt x="240" y="175"/>
                  <a:pt x="240" y="178"/>
                  <a:pt x="241" y="180"/>
                </a:cubicBezTo>
                <a:cubicBezTo>
                  <a:pt x="238" y="181"/>
                  <a:pt x="235" y="182"/>
                  <a:pt x="232" y="183"/>
                </a:cubicBezTo>
                <a:cubicBezTo>
                  <a:pt x="233" y="179"/>
                  <a:pt x="234" y="174"/>
                  <a:pt x="235" y="170"/>
                </a:cubicBezTo>
                <a:cubicBezTo>
                  <a:pt x="236" y="168"/>
                  <a:pt x="238" y="163"/>
                  <a:pt x="237" y="161"/>
                </a:cubicBezTo>
                <a:cubicBezTo>
                  <a:pt x="236" y="160"/>
                  <a:pt x="234" y="166"/>
                  <a:pt x="234" y="166"/>
                </a:cubicBezTo>
                <a:cubicBezTo>
                  <a:pt x="232" y="172"/>
                  <a:pt x="231" y="177"/>
                  <a:pt x="229" y="183"/>
                </a:cubicBezTo>
                <a:cubicBezTo>
                  <a:pt x="229" y="183"/>
                  <a:pt x="229" y="183"/>
                  <a:pt x="229" y="184"/>
                </a:cubicBezTo>
                <a:cubicBezTo>
                  <a:pt x="228" y="184"/>
                  <a:pt x="227" y="185"/>
                  <a:pt x="225" y="185"/>
                </a:cubicBezTo>
                <a:cubicBezTo>
                  <a:pt x="225" y="185"/>
                  <a:pt x="225" y="185"/>
                  <a:pt x="225" y="185"/>
                </a:cubicBezTo>
                <a:cubicBezTo>
                  <a:pt x="226" y="184"/>
                  <a:pt x="227" y="183"/>
                  <a:pt x="227" y="181"/>
                </a:cubicBezTo>
                <a:cubicBezTo>
                  <a:pt x="232" y="170"/>
                  <a:pt x="234" y="159"/>
                  <a:pt x="234" y="147"/>
                </a:cubicBezTo>
                <a:cubicBezTo>
                  <a:pt x="234" y="147"/>
                  <a:pt x="233" y="146"/>
                  <a:pt x="233" y="147"/>
                </a:cubicBezTo>
                <a:cubicBezTo>
                  <a:pt x="232" y="155"/>
                  <a:pt x="232" y="164"/>
                  <a:pt x="229" y="171"/>
                </a:cubicBezTo>
                <a:cubicBezTo>
                  <a:pt x="227" y="174"/>
                  <a:pt x="225" y="178"/>
                  <a:pt x="224" y="182"/>
                </a:cubicBezTo>
                <a:cubicBezTo>
                  <a:pt x="224" y="183"/>
                  <a:pt x="223" y="183"/>
                  <a:pt x="223" y="184"/>
                </a:cubicBezTo>
                <a:cubicBezTo>
                  <a:pt x="222" y="185"/>
                  <a:pt x="223" y="186"/>
                  <a:pt x="224" y="186"/>
                </a:cubicBezTo>
                <a:cubicBezTo>
                  <a:pt x="223" y="187"/>
                  <a:pt x="221" y="187"/>
                  <a:pt x="220" y="188"/>
                </a:cubicBezTo>
                <a:cubicBezTo>
                  <a:pt x="224" y="182"/>
                  <a:pt x="226" y="175"/>
                  <a:pt x="228" y="168"/>
                </a:cubicBezTo>
                <a:cubicBezTo>
                  <a:pt x="229" y="159"/>
                  <a:pt x="233" y="149"/>
                  <a:pt x="232" y="140"/>
                </a:cubicBezTo>
                <a:cubicBezTo>
                  <a:pt x="232" y="139"/>
                  <a:pt x="231" y="139"/>
                  <a:pt x="231" y="139"/>
                </a:cubicBezTo>
                <a:cubicBezTo>
                  <a:pt x="230" y="145"/>
                  <a:pt x="229" y="150"/>
                  <a:pt x="228" y="155"/>
                </a:cubicBezTo>
                <a:cubicBezTo>
                  <a:pt x="227" y="159"/>
                  <a:pt x="226" y="163"/>
                  <a:pt x="225" y="167"/>
                </a:cubicBezTo>
                <a:cubicBezTo>
                  <a:pt x="224" y="173"/>
                  <a:pt x="222" y="179"/>
                  <a:pt x="219" y="184"/>
                </a:cubicBezTo>
                <a:cubicBezTo>
                  <a:pt x="220" y="181"/>
                  <a:pt x="220" y="178"/>
                  <a:pt x="221" y="175"/>
                </a:cubicBezTo>
                <a:cubicBezTo>
                  <a:pt x="222" y="169"/>
                  <a:pt x="224" y="164"/>
                  <a:pt x="226" y="159"/>
                </a:cubicBezTo>
                <a:cubicBezTo>
                  <a:pt x="227" y="151"/>
                  <a:pt x="232" y="140"/>
                  <a:pt x="228" y="133"/>
                </a:cubicBezTo>
                <a:cubicBezTo>
                  <a:pt x="228" y="133"/>
                  <a:pt x="228" y="133"/>
                  <a:pt x="228" y="133"/>
                </a:cubicBezTo>
                <a:cubicBezTo>
                  <a:pt x="227" y="138"/>
                  <a:pt x="227" y="142"/>
                  <a:pt x="226" y="147"/>
                </a:cubicBezTo>
                <a:cubicBezTo>
                  <a:pt x="226" y="152"/>
                  <a:pt x="224" y="157"/>
                  <a:pt x="222" y="162"/>
                </a:cubicBezTo>
                <a:cubicBezTo>
                  <a:pt x="221" y="166"/>
                  <a:pt x="219" y="171"/>
                  <a:pt x="218" y="176"/>
                </a:cubicBezTo>
                <a:cubicBezTo>
                  <a:pt x="217" y="180"/>
                  <a:pt x="217" y="185"/>
                  <a:pt x="216" y="190"/>
                </a:cubicBezTo>
                <a:cubicBezTo>
                  <a:pt x="216" y="190"/>
                  <a:pt x="216" y="190"/>
                  <a:pt x="216" y="190"/>
                </a:cubicBezTo>
                <a:cubicBezTo>
                  <a:pt x="216" y="190"/>
                  <a:pt x="216" y="190"/>
                  <a:pt x="215" y="190"/>
                </a:cubicBezTo>
                <a:cubicBezTo>
                  <a:pt x="216" y="185"/>
                  <a:pt x="217" y="180"/>
                  <a:pt x="217" y="175"/>
                </a:cubicBezTo>
                <a:cubicBezTo>
                  <a:pt x="219" y="171"/>
                  <a:pt x="218" y="166"/>
                  <a:pt x="220" y="161"/>
                </a:cubicBezTo>
                <a:cubicBezTo>
                  <a:pt x="221" y="156"/>
                  <a:pt x="223" y="151"/>
                  <a:pt x="225" y="146"/>
                </a:cubicBezTo>
                <a:cubicBezTo>
                  <a:pt x="225" y="144"/>
                  <a:pt x="224" y="144"/>
                  <a:pt x="223" y="145"/>
                </a:cubicBezTo>
                <a:cubicBezTo>
                  <a:pt x="222" y="150"/>
                  <a:pt x="220" y="154"/>
                  <a:pt x="218" y="158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20" y="153"/>
                  <a:pt x="222" y="148"/>
                  <a:pt x="222" y="143"/>
                </a:cubicBezTo>
                <a:cubicBezTo>
                  <a:pt x="222" y="138"/>
                  <a:pt x="222" y="133"/>
                  <a:pt x="223" y="128"/>
                </a:cubicBezTo>
                <a:cubicBezTo>
                  <a:pt x="223" y="127"/>
                  <a:pt x="223" y="127"/>
                  <a:pt x="223" y="127"/>
                </a:cubicBezTo>
                <a:cubicBezTo>
                  <a:pt x="220" y="130"/>
                  <a:pt x="220" y="135"/>
                  <a:pt x="220" y="139"/>
                </a:cubicBezTo>
                <a:cubicBezTo>
                  <a:pt x="220" y="146"/>
                  <a:pt x="218" y="152"/>
                  <a:pt x="217" y="159"/>
                </a:cubicBezTo>
                <a:cubicBezTo>
                  <a:pt x="216" y="159"/>
                  <a:pt x="216" y="159"/>
                  <a:pt x="216" y="159"/>
                </a:cubicBezTo>
                <a:cubicBezTo>
                  <a:pt x="216" y="160"/>
                  <a:pt x="216" y="160"/>
                  <a:pt x="216" y="160"/>
                </a:cubicBezTo>
                <a:cubicBezTo>
                  <a:pt x="216" y="159"/>
                  <a:pt x="216" y="157"/>
                  <a:pt x="215" y="156"/>
                </a:cubicBezTo>
                <a:cubicBezTo>
                  <a:pt x="216" y="156"/>
                  <a:pt x="216" y="156"/>
                  <a:pt x="216" y="156"/>
                </a:cubicBezTo>
                <a:cubicBezTo>
                  <a:pt x="216" y="147"/>
                  <a:pt x="215" y="139"/>
                  <a:pt x="218" y="131"/>
                </a:cubicBezTo>
                <a:cubicBezTo>
                  <a:pt x="218" y="130"/>
                  <a:pt x="217" y="130"/>
                  <a:pt x="217" y="130"/>
                </a:cubicBezTo>
                <a:cubicBezTo>
                  <a:pt x="216" y="135"/>
                  <a:pt x="214" y="139"/>
                  <a:pt x="214" y="144"/>
                </a:cubicBezTo>
                <a:cubicBezTo>
                  <a:pt x="213" y="145"/>
                  <a:pt x="213" y="147"/>
                  <a:pt x="213" y="148"/>
                </a:cubicBezTo>
                <a:cubicBezTo>
                  <a:pt x="212" y="145"/>
                  <a:pt x="210" y="142"/>
                  <a:pt x="209" y="138"/>
                </a:cubicBezTo>
                <a:cubicBezTo>
                  <a:pt x="207" y="135"/>
                  <a:pt x="205" y="129"/>
                  <a:pt x="202" y="127"/>
                </a:cubicBezTo>
                <a:cubicBezTo>
                  <a:pt x="198" y="126"/>
                  <a:pt x="195" y="125"/>
                  <a:pt x="195" y="120"/>
                </a:cubicBezTo>
                <a:cubicBezTo>
                  <a:pt x="195" y="118"/>
                  <a:pt x="195" y="115"/>
                  <a:pt x="195" y="113"/>
                </a:cubicBezTo>
                <a:cubicBezTo>
                  <a:pt x="194" y="109"/>
                  <a:pt x="193" y="104"/>
                  <a:pt x="191" y="100"/>
                </a:cubicBezTo>
                <a:cubicBezTo>
                  <a:pt x="192" y="98"/>
                  <a:pt x="192" y="97"/>
                  <a:pt x="192" y="95"/>
                </a:cubicBezTo>
                <a:cubicBezTo>
                  <a:pt x="192" y="92"/>
                  <a:pt x="192" y="89"/>
                  <a:pt x="192" y="86"/>
                </a:cubicBezTo>
                <a:cubicBezTo>
                  <a:pt x="192" y="81"/>
                  <a:pt x="190" y="76"/>
                  <a:pt x="187" y="72"/>
                </a:cubicBezTo>
                <a:cubicBezTo>
                  <a:pt x="187" y="71"/>
                  <a:pt x="185" y="72"/>
                  <a:pt x="186" y="73"/>
                </a:cubicBezTo>
                <a:cubicBezTo>
                  <a:pt x="188" y="78"/>
                  <a:pt x="189" y="83"/>
                  <a:pt x="190" y="88"/>
                </a:cubicBezTo>
                <a:cubicBezTo>
                  <a:pt x="191" y="91"/>
                  <a:pt x="191" y="93"/>
                  <a:pt x="190" y="96"/>
                </a:cubicBezTo>
                <a:cubicBezTo>
                  <a:pt x="190" y="97"/>
                  <a:pt x="190" y="97"/>
                  <a:pt x="190" y="97"/>
                </a:cubicBezTo>
                <a:cubicBezTo>
                  <a:pt x="189" y="93"/>
                  <a:pt x="187" y="90"/>
                  <a:pt x="185" y="87"/>
                </a:cubicBezTo>
                <a:cubicBezTo>
                  <a:pt x="184" y="87"/>
                  <a:pt x="184" y="86"/>
                  <a:pt x="183" y="85"/>
                </a:cubicBezTo>
                <a:cubicBezTo>
                  <a:pt x="183" y="85"/>
                  <a:pt x="183" y="84"/>
                  <a:pt x="183" y="84"/>
                </a:cubicBezTo>
                <a:cubicBezTo>
                  <a:pt x="182" y="83"/>
                  <a:pt x="181" y="82"/>
                  <a:pt x="180" y="81"/>
                </a:cubicBezTo>
                <a:cubicBezTo>
                  <a:pt x="178" y="79"/>
                  <a:pt x="175" y="77"/>
                  <a:pt x="174" y="73"/>
                </a:cubicBezTo>
                <a:cubicBezTo>
                  <a:pt x="173" y="70"/>
                  <a:pt x="172" y="67"/>
                  <a:pt x="169" y="64"/>
                </a:cubicBezTo>
                <a:cubicBezTo>
                  <a:pt x="166" y="61"/>
                  <a:pt x="162" y="63"/>
                  <a:pt x="160" y="66"/>
                </a:cubicBezTo>
                <a:cubicBezTo>
                  <a:pt x="157" y="73"/>
                  <a:pt x="158" y="80"/>
                  <a:pt x="157" y="87"/>
                </a:cubicBezTo>
                <a:cubicBezTo>
                  <a:pt x="157" y="90"/>
                  <a:pt x="157" y="93"/>
                  <a:pt x="156" y="96"/>
                </a:cubicBezTo>
                <a:cubicBezTo>
                  <a:pt x="156" y="91"/>
                  <a:pt x="155" y="85"/>
                  <a:pt x="154" y="80"/>
                </a:cubicBezTo>
                <a:cubicBezTo>
                  <a:pt x="154" y="73"/>
                  <a:pt x="153" y="67"/>
                  <a:pt x="153" y="60"/>
                </a:cubicBezTo>
                <a:cubicBezTo>
                  <a:pt x="153" y="58"/>
                  <a:pt x="152" y="55"/>
                  <a:pt x="152" y="53"/>
                </a:cubicBezTo>
                <a:cubicBezTo>
                  <a:pt x="152" y="50"/>
                  <a:pt x="154" y="51"/>
                  <a:pt x="155" y="52"/>
                </a:cubicBezTo>
                <a:close/>
                <a:moveTo>
                  <a:pt x="82" y="200"/>
                </a:moveTo>
                <a:cubicBezTo>
                  <a:pt x="80" y="194"/>
                  <a:pt x="79" y="189"/>
                  <a:pt x="75" y="185"/>
                </a:cubicBezTo>
                <a:cubicBezTo>
                  <a:pt x="77" y="179"/>
                  <a:pt x="75" y="171"/>
                  <a:pt x="75" y="165"/>
                </a:cubicBezTo>
                <a:cubicBezTo>
                  <a:pt x="75" y="157"/>
                  <a:pt x="75" y="149"/>
                  <a:pt x="77" y="141"/>
                </a:cubicBezTo>
                <a:cubicBezTo>
                  <a:pt x="80" y="126"/>
                  <a:pt x="87" y="113"/>
                  <a:pt x="93" y="99"/>
                </a:cubicBezTo>
                <a:cubicBezTo>
                  <a:pt x="97" y="91"/>
                  <a:pt x="100" y="83"/>
                  <a:pt x="104" y="77"/>
                </a:cubicBezTo>
                <a:cubicBezTo>
                  <a:pt x="108" y="70"/>
                  <a:pt x="114" y="64"/>
                  <a:pt x="118" y="58"/>
                </a:cubicBezTo>
                <a:cubicBezTo>
                  <a:pt x="123" y="52"/>
                  <a:pt x="128" y="45"/>
                  <a:pt x="137" y="45"/>
                </a:cubicBezTo>
                <a:cubicBezTo>
                  <a:pt x="142" y="45"/>
                  <a:pt x="148" y="45"/>
                  <a:pt x="151" y="48"/>
                </a:cubicBezTo>
                <a:cubicBezTo>
                  <a:pt x="151" y="48"/>
                  <a:pt x="150" y="49"/>
                  <a:pt x="150" y="50"/>
                </a:cubicBezTo>
                <a:cubicBezTo>
                  <a:pt x="148" y="56"/>
                  <a:pt x="149" y="64"/>
                  <a:pt x="150" y="70"/>
                </a:cubicBezTo>
                <a:cubicBezTo>
                  <a:pt x="151" y="84"/>
                  <a:pt x="153" y="97"/>
                  <a:pt x="156" y="111"/>
                </a:cubicBezTo>
                <a:cubicBezTo>
                  <a:pt x="156" y="111"/>
                  <a:pt x="156" y="112"/>
                  <a:pt x="155" y="113"/>
                </a:cubicBezTo>
                <a:cubicBezTo>
                  <a:pt x="152" y="121"/>
                  <a:pt x="156" y="132"/>
                  <a:pt x="157" y="140"/>
                </a:cubicBezTo>
                <a:cubicBezTo>
                  <a:pt x="158" y="153"/>
                  <a:pt x="160" y="167"/>
                  <a:pt x="163" y="180"/>
                </a:cubicBezTo>
                <a:cubicBezTo>
                  <a:pt x="163" y="182"/>
                  <a:pt x="164" y="185"/>
                  <a:pt x="165" y="187"/>
                </a:cubicBezTo>
                <a:cubicBezTo>
                  <a:pt x="163" y="184"/>
                  <a:pt x="162" y="180"/>
                  <a:pt x="159" y="177"/>
                </a:cubicBezTo>
                <a:cubicBezTo>
                  <a:pt x="155" y="173"/>
                  <a:pt x="150" y="171"/>
                  <a:pt x="146" y="169"/>
                </a:cubicBezTo>
                <a:cubicBezTo>
                  <a:pt x="145" y="169"/>
                  <a:pt x="144" y="169"/>
                  <a:pt x="143" y="168"/>
                </a:cubicBezTo>
                <a:cubicBezTo>
                  <a:pt x="144" y="162"/>
                  <a:pt x="141" y="156"/>
                  <a:pt x="141" y="150"/>
                </a:cubicBezTo>
                <a:cubicBezTo>
                  <a:pt x="140" y="142"/>
                  <a:pt x="139" y="135"/>
                  <a:pt x="139" y="128"/>
                </a:cubicBezTo>
                <a:cubicBezTo>
                  <a:pt x="140" y="127"/>
                  <a:pt x="138" y="127"/>
                  <a:pt x="138" y="128"/>
                </a:cubicBezTo>
                <a:cubicBezTo>
                  <a:pt x="137" y="135"/>
                  <a:pt x="138" y="143"/>
                  <a:pt x="139" y="150"/>
                </a:cubicBezTo>
                <a:cubicBezTo>
                  <a:pt x="139" y="156"/>
                  <a:pt x="139" y="163"/>
                  <a:pt x="141" y="168"/>
                </a:cubicBezTo>
                <a:cubicBezTo>
                  <a:pt x="140" y="168"/>
                  <a:pt x="138" y="168"/>
                  <a:pt x="137" y="169"/>
                </a:cubicBezTo>
                <a:cubicBezTo>
                  <a:pt x="137" y="169"/>
                  <a:pt x="137" y="169"/>
                  <a:pt x="136" y="169"/>
                </a:cubicBezTo>
                <a:cubicBezTo>
                  <a:pt x="134" y="171"/>
                  <a:pt x="133" y="174"/>
                  <a:pt x="132" y="177"/>
                </a:cubicBezTo>
                <a:cubicBezTo>
                  <a:pt x="132" y="176"/>
                  <a:pt x="131" y="174"/>
                  <a:pt x="131" y="173"/>
                </a:cubicBezTo>
                <a:cubicBezTo>
                  <a:pt x="130" y="170"/>
                  <a:pt x="130" y="166"/>
                  <a:pt x="130" y="163"/>
                </a:cubicBezTo>
                <a:cubicBezTo>
                  <a:pt x="130" y="156"/>
                  <a:pt x="129" y="149"/>
                  <a:pt x="129" y="142"/>
                </a:cubicBezTo>
                <a:cubicBezTo>
                  <a:pt x="128" y="137"/>
                  <a:pt x="128" y="132"/>
                  <a:pt x="128" y="127"/>
                </a:cubicBezTo>
                <a:cubicBezTo>
                  <a:pt x="128" y="124"/>
                  <a:pt x="128" y="120"/>
                  <a:pt x="128" y="117"/>
                </a:cubicBezTo>
                <a:cubicBezTo>
                  <a:pt x="127" y="113"/>
                  <a:pt x="127" y="108"/>
                  <a:pt x="126" y="104"/>
                </a:cubicBezTo>
                <a:cubicBezTo>
                  <a:pt x="126" y="100"/>
                  <a:pt x="126" y="96"/>
                  <a:pt x="126" y="93"/>
                </a:cubicBezTo>
                <a:cubicBezTo>
                  <a:pt x="126" y="92"/>
                  <a:pt x="126" y="92"/>
                  <a:pt x="126" y="93"/>
                </a:cubicBezTo>
                <a:cubicBezTo>
                  <a:pt x="123" y="101"/>
                  <a:pt x="128" y="109"/>
                  <a:pt x="126" y="117"/>
                </a:cubicBezTo>
                <a:cubicBezTo>
                  <a:pt x="124" y="122"/>
                  <a:pt x="126" y="127"/>
                  <a:pt x="126" y="131"/>
                </a:cubicBezTo>
                <a:cubicBezTo>
                  <a:pt x="126" y="136"/>
                  <a:pt x="126" y="141"/>
                  <a:pt x="127" y="146"/>
                </a:cubicBezTo>
                <a:cubicBezTo>
                  <a:pt x="127" y="153"/>
                  <a:pt x="127" y="161"/>
                  <a:pt x="128" y="169"/>
                </a:cubicBezTo>
                <a:cubicBezTo>
                  <a:pt x="128" y="172"/>
                  <a:pt x="128" y="178"/>
                  <a:pt x="132" y="180"/>
                </a:cubicBezTo>
                <a:cubicBezTo>
                  <a:pt x="130" y="187"/>
                  <a:pt x="131" y="194"/>
                  <a:pt x="132" y="200"/>
                </a:cubicBezTo>
                <a:cubicBezTo>
                  <a:pt x="132" y="202"/>
                  <a:pt x="133" y="204"/>
                  <a:pt x="133" y="206"/>
                </a:cubicBezTo>
                <a:cubicBezTo>
                  <a:pt x="127" y="204"/>
                  <a:pt x="119" y="207"/>
                  <a:pt x="114" y="210"/>
                </a:cubicBezTo>
                <a:cubicBezTo>
                  <a:pt x="107" y="213"/>
                  <a:pt x="101" y="216"/>
                  <a:pt x="95" y="219"/>
                </a:cubicBezTo>
                <a:cubicBezTo>
                  <a:pt x="91" y="220"/>
                  <a:pt x="88" y="220"/>
                  <a:pt x="85" y="220"/>
                </a:cubicBezTo>
                <a:cubicBezTo>
                  <a:pt x="84" y="213"/>
                  <a:pt x="84" y="206"/>
                  <a:pt x="82" y="200"/>
                </a:cubicBezTo>
                <a:close/>
                <a:moveTo>
                  <a:pt x="85" y="234"/>
                </a:moveTo>
                <a:cubicBezTo>
                  <a:pt x="85" y="231"/>
                  <a:pt x="85" y="227"/>
                  <a:pt x="85" y="224"/>
                </a:cubicBezTo>
                <a:cubicBezTo>
                  <a:pt x="92" y="225"/>
                  <a:pt x="99" y="221"/>
                  <a:pt x="106" y="218"/>
                </a:cubicBezTo>
                <a:cubicBezTo>
                  <a:pt x="114" y="214"/>
                  <a:pt x="125" y="206"/>
                  <a:pt x="134" y="210"/>
                </a:cubicBezTo>
                <a:cubicBezTo>
                  <a:pt x="134" y="211"/>
                  <a:pt x="135" y="212"/>
                  <a:pt x="135" y="213"/>
                </a:cubicBezTo>
                <a:cubicBezTo>
                  <a:pt x="130" y="211"/>
                  <a:pt x="121" y="217"/>
                  <a:pt x="118" y="220"/>
                </a:cubicBezTo>
                <a:cubicBezTo>
                  <a:pt x="113" y="224"/>
                  <a:pt x="108" y="230"/>
                  <a:pt x="103" y="235"/>
                </a:cubicBezTo>
                <a:cubicBezTo>
                  <a:pt x="99" y="238"/>
                  <a:pt x="96" y="241"/>
                  <a:pt x="91" y="242"/>
                </a:cubicBezTo>
                <a:cubicBezTo>
                  <a:pt x="89" y="243"/>
                  <a:pt x="88" y="243"/>
                  <a:pt x="87" y="244"/>
                </a:cubicBezTo>
                <a:cubicBezTo>
                  <a:pt x="86" y="241"/>
                  <a:pt x="86" y="237"/>
                  <a:pt x="85" y="234"/>
                </a:cubicBezTo>
                <a:close/>
                <a:moveTo>
                  <a:pt x="106" y="312"/>
                </a:moveTo>
                <a:cubicBezTo>
                  <a:pt x="106" y="311"/>
                  <a:pt x="105" y="311"/>
                  <a:pt x="105" y="310"/>
                </a:cubicBezTo>
                <a:cubicBezTo>
                  <a:pt x="105" y="310"/>
                  <a:pt x="106" y="310"/>
                  <a:pt x="106" y="310"/>
                </a:cubicBezTo>
                <a:cubicBezTo>
                  <a:pt x="107" y="311"/>
                  <a:pt x="108" y="311"/>
                  <a:pt x="108" y="311"/>
                </a:cubicBezTo>
                <a:cubicBezTo>
                  <a:pt x="108" y="311"/>
                  <a:pt x="108" y="311"/>
                  <a:pt x="107" y="311"/>
                </a:cubicBezTo>
                <a:cubicBezTo>
                  <a:pt x="107" y="311"/>
                  <a:pt x="106" y="311"/>
                  <a:pt x="106" y="312"/>
                </a:cubicBezTo>
                <a:close/>
                <a:moveTo>
                  <a:pt x="117" y="337"/>
                </a:moveTo>
                <a:cubicBezTo>
                  <a:pt x="114" y="329"/>
                  <a:pt x="111" y="322"/>
                  <a:pt x="107" y="315"/>
                </a:cubicBezTo>
                <a:cubicBezTo>
                  <a:pt x="107" y="315"/>
                  <a:pt x="107" y="315"/>
                  <a:pt x="107" y="315"/>
                </a:cubicBezTo>
                <a:cubicBezTo>
                  <a:pt x="111" y="315"/>
                  <a:pt x="114" y="317"/>
                  <a:pt x="118" y="318"/>
                </a:cubicBezTo>
                <a:cubicBezTo>
                  <a:pt x="121" y="319"/>
                  <a:pt x="124" y="320"/>
                  <a:pt x="128" y="321"/>
                </a:cubicBezTo>
                <a:cubicBezTo>
                  <a:pt x="136" y="324"/>
                  <a:pt x="144" y="328"/>
                  <a:pt x="152" y="333"/>
                </a:cubicBezTo>
                <a:cubicBezTo>
                  <a:pt x="160" y="337"/>
                  <a:pt x="168" y="343"/>
                  <a:pt x="175" y="349"/>
                </a:cubicBezTo>
                <a:cubicBezTo>
                  <a:pt x="181" y="355"/>
                  <a:pt x="187" y="362"/>
                  <a:pt x="194" y="367"/>
                </a:cubicBezTo>
                <a:cubicBezTo>
                  <a:pt x="194" y="367"/>
                  <a:pt x="195" y="367"/>
                  <a:pt x="195" y="367"/>
                </a:cubicBezTo>
                <a:cubicBezTo>
                  <a:pt x="189" y="359"/>
                  <a:pt x="182" y="353"/>
                  <a:pt x="174" y="347"/>
                </a:cubicBezTo>
                <a:cubicBezTo>
                  <a:pt x="172" y="344"/>
                  <a:pt x="169" y="342"/>
                  <a:pt x="167" y="340"/>
                </a:cubicBezTo>
                <a:cubicBezTo>
                  <a:pt x="171" y="343"/>
                  <a:pt x="176" y="347"/>
                  <a:pt x="181" y="350"/>
                </a:cubicBezTo>
                <a:cubicBezTo>
                  <a:pt x="181" y="350"/>
                  <a:pt x="181" y="349"/>
                  <a:pt x="181" y="349"/>
                </a:cubicBezTo>
                <a:cubicBezTo>
                  <a:pt x="176" y="343"/>
                  <a:pt x="169" y="339"/>
                  <a:pt x="162" y="335"/>
                </a:cubicBezTo>
                <a:cubicBezTo>
                  <a:pt x="155" y="331"/>
                  <a:pt x="148" y="326"/>
                  <a:pt x="140" y="322"/>
                </a:cubicBezTo>
                <a:cubicBezTo>
                  <a:pt x="132" y="318"/>
                  <a:pt x="123" y="317"/>
                  <a:pt x="115" y="312"/>
                </a:cubicBezTo>
                <a:cubicBezTo>
                  <a:pt x="113" y="311"/>
                  <a:pt x="106" y="306"/>
                  <a:pt x="104" y="307"/>
                </a:cubicBezTo>
                <a:cubicBezTo>
                  <a:pt x="103" y="305"/>
                  <a:pt x="102" y="303"/>
                  <a:pt x="101" y="301"/>
                </a:cubicBezTo>
                <a:cubicBezTo>
                  <a:pt x="107" y="303"/>
                  <a:pt x="114" y="306"/>
                  <a:pt x="120" y="309"/>
                </a:cubicBezTo>
                <a:cubicBezTo>
                  <a:pt x="128" y="312"/>
                  <a:pt x="136" y="315"/>
                  <a:pt x="144" y="320"/>
                </a:cubicBezTo>
                <a:cubicBezTo>
                  <a:pt x="146" y="321"/>
                  <a:pt x="147" y="318"/>
                  <a:pt x="146" y="317"/>
                </a:cubicBezTo>
                <a:cubicBezTo>
                  <a:pt x="138" y="313"/>
                  <a:pt x="131" y="310"/>
                  <a:pt x="123" y="307"/>
                </a:cubicBezTo>
                <a:cubicBezTo>
                  <a:pt x="115" y="304"/>
                  <a:pt x="107" y="300"/>
                  <a:pt x="99" y="297"/>
                </a:cubicBezTo>
                <a:cubicBezTo>
                  <a:pt x="96" y="290"/>
                  <a:pt x="93" y="283"/>
                  <a:pt x="92" y="276"/>
                </a:cubicBezTo>
                <a:cubicBezTo>
                  <a:pt x="90" y="266"/>
                  <a:pt x="88" y="257"/>
                  <a:pt x="87" y="247"/>
                </a:cubicBezTo>
                <a:cubicBezTo>
                  <a:pt x="91" y="246"/>
                  <a:pt x="98" y="244"/>
                  <a:pt x="101" y="241"/>
                </a:cubicBezTo>
                <a:cubicBezTo>
                  <a:pt x="106" y="237"/>
                  <a:pt x="111" y="231"/>
                  <a:pt x="115" y="226"/>
                </a:cubicBezTo>
                <a:cubicBezTo>
                  <a:pt x="118" y="223"/>
                  <a:pt x="122" y="219"/>
                  <a:pt x="126" y="217"/>
                </a:cubicBezTo>
                <a:cubicBezTo>
                  <a:pt x="130" y="215"/>
                  <a:pt x="133" y="216"/>
                  <a:pt x="136" y="217"/>
                </a:cubicBezTo>
                <a:cubicBezTo>
                  <a:pt x="138" y="222"/>
                  <a:pt x="139" y="227"/>
                  <a:pt x="141" y="232"/>
                </a:cubicBezTo>
                <a:cubicBezTo>
                  <a:pt x="147" y="245"/>
                  <a:pt x="152" y="258"/>
                  <a:pt x="157" y="272"/>
                </a:cubicBezTo>
                <a:cubicBezTo>
                  <a:pt x="162" y="283"/>
                  <a:pt x="169" y="294"/>
                  <a:pt x="172" y="306"/>
                </a:cubicBezTo>
                <a:cubicBezTo>
                  <a:pt x="172" y="306"/>
                  <a:pt x="172" y="306"/>
                  <a:pt x="173" y="306"/>
                </a:cubicBezTo>
                <a:cubicBezTo>
                  <a:pt x="175" y="316"/>
                  <a:pt x="178" y="326"/>
                  <a:pt x="184" y="335"/>
                </a:cubicBezTo>
                <a:cubicBezTo>
                  <a:pt x="185" y="337"/>
                  <a:pt x="188" y="344"/>
                  <a:pt x="191" y="346"/>
                </a:cubicBezTo>
                <a:cubicBezTo>
                  <a:pt x="191" y="346"/>
                  <a:pt x="191" y="346"/>
                  <a:pt x="191" y="346"/>
                </a:cubicBezTo>
                <a:cubicBezTo>
                  <a:pt x="193" y="352"/>
                  <a:pt x="195" y="357"/>
                  <a:pt x="198" y="362"/>
                </a:cubicBezTo>
                <a:cubicBezTo>
                  <a:pt x="203" y="367"/>
                  <a:pt x="204" y="373"/>
                  <a:pt x="205" y="380"/>
                </a:cubicBezTo>
                <a:cubicBezTo>
                  <a:pt x="205" y="380"/>
                  <a:pt x="205" y="380"/>
                  <a:pt x="205" y="380"/>
                </a:cubicBezTo>
                <a:cubicBezTo>
                  <a:pt x="205" y="380"/>
                  <a:pt x="205" y="379"/>
                  <a:pt x="204" y="379"/>
                </a:cubicBezTo>
                <a:cubicBezTo>
                  <a:pt x="204" y="379"/>
                  <a:pt x="204" y="379"/>
                  <a:pt x="204" y="379"/>
                </a:cubicBezTo>
                <a:cubicBezTo>
                  <a:pt x="205" y="381"/>
                  <a:pt x="205" y="380"/>
                  <a:pt x="203" y="379"/>
                </a:cubicBezTo>
                <a:cubicBezTo>
                  <a:pt x="203" y="378"/>
                  <a:pt x="202" y="377"/>
                  <a:pt x="201" y="377"/>
                </a:cubicBezTo>
                <a:cubicBezTo>
                  <a:pt x="200" y="375"/>
                  <a:pt x="198" y="373"/>
                  <a:pt x="197" y="371"/>
                </a:cubicBezTo>
                <a:cubicBezTo>
                  <a:pt x="194" y="368"/>
                  <a:pt x="191" y="367"/>
                  <a:pt x="187" y="366"/>
                </a:cubicBezTo>
                <a:cubicBezTo>
                  <a:pt x="187" y="365"/>
                  <a:pt x="187" y="366"/>
                  <a:pt x="187" y="366"/>
                </a:cubicBezTo>
                <a:cubicBezTo>
                  <a:pt x="191" y="368"/>
                  <a:pt x="194" y="371"/>
                  <a:pt x="197" y="374"/>
                </a:cubicBezTo>
                <a:cubicBezTo>
                  <a:pt x="200" y="377"/>
                  <a:pt x="202" y="380"/>
                  <a:pt x="205" y="382"/>
                </a:cubicBezTo>
                <a:cubicBezTo>
                  <a:pt x="205" y="382"/>
                  <a:pt x="205" y="382"/>
                  <a:pt x="205" y="381"/>
                </a:cubicBezTo>
                <a:cubicBezTo>
                  <a:pt x="206" y="385"/>
                  <a:pt x="207" y="388"/>
                  <a:pt x="207" y="392"/>
                </a:cubicBezTo>
                <a:cubicBezTo>
                  <a:pt x="195" y="375"/>
                  <a:pt x="179" y="363"/>
                  <a:pt x="162" y="352"/>
                </a:cubicBezTo>
                <a:cubicBezTo>
                  <a:pt x="154" y="348"/>
                  <a:pt x="145" y="343"/>
                  <a:pt x="136" y="340"/>
                </a:cubicBezTo>
                <a:cubicBezTo>
                  <a:pt x="132" y="339"/>
                  <a:pt x="128" y="337"/>
                  <a:pt x="123" y="337"/>
                </a:cubicBezTo>
                <a:cubicBezTo>
                  <a:pt x="121" y="337"/>
                  <a:pt x="119" y="336"/>
                  <a:pt x="117" y="337"/>
                </a:cubicBezTo>
                <a:close/>
                <a:moveTo>
                  <a:pt x="124" y="341"/>
                </a:moveTo>
                <a:cubicBezTo>
                  <a:pt x="129" y="342"/>
                  <a:pt x="133" y="343"/>
                  <a:pt x="137" y="344"/>
                </a:cubicBezTo>
                <a:cubicBezTo>
                  <a:pt x="146" y="348"/>
                  <a:pt x="154" y="352"/>
                  <a:pt x="161" y="356"/>
                </a:cubicBezTo>
                <a:cubicBezTo>
                  <a:pt x="170" y="361"/>
                  <a:pt x="179" y="366"/>
                  <a:pt x="186" y="373"/>
                </a:cubicBezTo>
                <a:cubicBezTo>
                  <a:pt x="194" y="380"/>
                  <a:pt x="200" y="388"/>
                  <a:pt x="207" y="395"/>
                </a:cubicBezTo>
                <a:cubicBezTo>
                  <a:pt x="207" y="397"/>
                  <a:pt x="208" y="399"/>
                  <a:pt x="208" y="400"/>
                </a:cubicBezTo>
                <a:cubicBezTo>
                  <a:pt x="209" y="405"/>
                  <a:pt x="210" y="410"/>
                  <a:pt x="210" y="416"/>
                </a:cubicBezTo>
                <a:cubicBezTo>
                  <a:pt x="208" y="416"/>
                  <a:pt x="207" y="418"/>
                  <a:pt x="206" y="421"/>
                </a:cubicBezTo>
                <a:cubicBezTo>
                  <a:pt x="201" y="434"/>
                  <a:pt x="207" y="451"/>
                  <a:pt x="211" y="463"/>
                </a:cubicBezTo>
                <a:cubicBezTo>
                  <a:pt x="213" y="469"/>
                  <a:pt x="215" y="474"/>
                  <a:pt x="217" y="480"/>
                </a:cubicBezTo>
                <a:cubicBezTo>
                  <a:pt x="218" y="485"/>
                  <a:pt x="219" y="489"/>
                  <a:pt x="221" y="493"/>
                </a:cubicBezTo>
                <a:cubicBezTo>
                  <a:pt x="225" y="502"/>
                  <a:pt x="232" y="510"/>
                  <a:pt x="236" y="519"/>
                </a:cubicBezTo>
                <a:cubicBezTo>
                  <a:pt x="241" y="528"/>
                  <a:pt x="243" y="538"/>
                  <a:pt x="248" y="547"/>
                </a:cubicBezTo>
                <a:cubicBezTo>
                  <a:pt x="249" y="549"/>
                  <a:pt x="251" y="551"/>
                  <a:pt x="252" y="553"/>
                </a:cubicBezTo>
                <a:cubicBezTo>
                  <a:pt x="251" y="552"/>
                  <a:pt x="251" y="552"/>
                  <a:pt x="250" y="551"/>
                </a:cubicBezTo>
                <a:cubicBezTo>
                  <a:pt x="244" y="545"/>
                  <a:pt x="239" y="541"/>
                  <a:pt x="233" y="535"/>
                </a:cubicBezTo>
                <a:cubicBezTo>
                  <a:pt x="223" y="525"/>
                  <a:pt x="213" y="515"/>
                  <a:pt x="206" y="502"/>
                </a:cubicBezTo>
                <a:cubicBezTo>
                  <a:pt x="200" y="489"/>
                  <a:pt x="196" y="476"/>
                  <a:pt x="192" y="462"/>
                </a:cubicBezTo>
                <a:cubicBezTo>
                  <a:pt x="189" y="450"/>
                  <a:pt x="186" y="438"/>
                  <a:pt x="178" y="429"/>
                </a:cubicBezTo>
                <a:cubicBezTo>
                  <a:pt x="178" y="428"/>
                  <a:pt x="178" y="428"/>
                  <a:pt x="178" y="428"/>
                </a:cubicBezTo>
                <a:cubicBezTo>
                  <a:pt x="177" y="425"/>
                  <a:pt x="177" y="421"/>
                  <a:pt x="176" y="417"/>
                </a:cubicBezTo>
                <a:cubicBezTo>
                  <a:pt x="174" y="413"/>
                  <a:pt x="172" y="409"/>
                  <a:pt x="170" y="405"/>
                </a:cubicBezTo>
                <a:cubicBezTo>
                  <a:pt x="164" y="397"/>
                  <a:pt x="157" y="389"/>
                  <a:pt x="151" y="381"/>
                </a:cubicBezTo>
                <a:cubicBezTo>
                  <a:pt x="148" y="377"/>
                  <a:pt x="145" y="372"/>
                  <a:pt x="142" y="368"/>
                </a:cubicBezTo>
                <a:cubicBezTo>
                  <a:pt x="139" y="363"/>
                  <a:pt x="137" y="359"/>
                  <a:pt x="134" y="355"/>
                </a:cubicBezTo>
                <a:cubicBezTo>
                  <a:pt x="129" y="350"/>
                  <a:pt x="124" y="346"/>
                  <a:pt x="119" y="341"/>
                </a:cubicBezTo>
                <a:cubicBezTo>
                  <a:pt x="121" y="341"/>
                  <a:pt x="123" y="341"/>
                  <a:pt x="124" y="341"/>
                </a:cubicBezTo>
                <a:close/>
                <a:moveTo>
                  <a:pt x="103" y="382"/>
                </a:moveTo>
                <a:cubicBezTo>
                  <a:pt x="103" y="382"/>
                  <a:pt x="104" y="383"/>
                  <a:pt x="105" y="383"/>
                </a:cubicBezTo>
                <a:cubicBezTo>
                  <a:pt x="105" y="383"/>
                  <a:pt x="106" y="384"/>
                  <a:pt x="107" y="384"/>
                </a:cubicBezTo>
                <a:cubicBezTo>
                  <a:pt x="108" y="385"/>
                  <a:pt x="109" y="385"/>
                  <a:pt x="110" y="385"/>
                </a:cubicBezTo>
                <a:cubicBezTo>
                  <a:pt x="112" y="386"/>
                  <a:pt x="116" y="386"/>
                  <a:pt x="117" y="384"/>
                </a:cubicBezTo>
                <a:cubicBezTo>
                  <a:pt x="118" y="377"/>
                  <a:pt x="110" y="372"/>
                  <a:pt x="109" y="366"/>
                </a:cubicBezTo>
                <a:cubicBezTo>
                  <a:pt x="115" y="372"/>
                  <a:pt x="118" y="380"/>
                  <a:pt x="125" y="384"/>
                </a:cubicBezTo>
                <a:cubicBezTo>
                  <a:pt x="127" y="385"/>
                  <a:pt x="128" y="384"/>
                  <a:pt x="128" y="382"/>
                </a:cubicBezTo>
                <a:cubicBezTo>
                  <a:pt x="127" y="379"/>
                  <a:pt x="126" y="377"/>
                  <a:pt x="130" y="377"/>
                </a:cubicBezTo>
                <a:cubicBezTo>
                  <a:pt x="130" y="377"/>
                  <a:pt x="132" y="377"/>
                  <a:pt x="132" y="376"/>
                </a:cubicBezTo>
                <a:cubicBezTo>
                  <a:pt x="134" y="373"/>
                  <a:pt x="133" y="370"/>
                  <a:pt x="132" y="367"/>
                </a:cubicBezTo>
                <a:cubicBezTo>
                  <a:pt x="130" y="363"/>
                  <a:pt x="128" y="357"/>
                  <a:pt x="125" y="353"/>
                </a:cubicBezTo>
                <a:cubicBezTo>
                  <a:pt x="125" y="352"/>
                  <a:pt x="123" y="350"/>
                  <a:pt x="121" y="348"/>
                </a:cubicBezTo>
                <a:cubicBezTo>
                  <a:pt x="125" y="351"/>
                  <a:pt x="128" y="354"/>
                  <a:pt x="131" y="358"/>
                </a:cubicBezTo>
                <a:cubicBezTo>
                  <a:pt x="138" y="366"/>
                  <a:pt x="143" y="376"/>
                  <a:pt x="149" y="385"/>
                </a:cubicBezTo>
                <a:cubicBezTo>
                  <a:pt x="155" y="393"/>
                  <a:pt x="162" y="400"/>
                  <a:pt x="168" y="408"/>
                </a:cubicBezTo>
                <a:cubicBezTo>
                  <a:pt x="171" y="413"/>
                  <a:pt x="172" y="417"/>
                  <a:pt x="174" y="422"/>
                </a:cubicBezTo>
                <a:cubicBezTo>
                  <a:pt x="174" y="425"/>
                  <a:pt x="175" y="427"/>
                  <a:pt x="176" y="429"/>
                </a:cubicBezTo>
                <a:cubicBezTo>
                  <a:pt x="176" y="429"/>
                  <a:pt x="176" y="429"/>
                  <a:pt x="176" y="429"/>
                </a:cubicBezTo>
                <a:cubicBezTo>
                  <a:pt x="172" y="435"/>
                  <a:pt x="176" y="442"/>
                  <a:pt x="176" y="448"/>
                </a:cubicBezTo>
                <a:cubicBezTo>
                  <a:pt x="175" y="448"/>
                  <a:pt x="174" y="447"/>
                  <a:pt x="173" y="446"/>
                </a:cubicBezTo>
                <a:cubicBezTo>
                  <a:pt x="172" y="446"/>
                  <a:pt x="171" y="446"/>
                  <a:pt x="171" y="447"/>
                </a:cubicBezTo>
                <a:cubicBezTo>
                  <a:pt x="170" y="449"/>
                  <a:pt x="170" y="451"/>
                  <a:pt x="170" y="452"/>
                </a:cubicBezTo>
                <a:cubicBezTo>
                  <a:pt x="169" y="455"/>
                  <a:pt x="168" y="456"/>
                  <a:pt x="165" y="455"/>
                </a:cubicBezTo>
                <a:cubicBezTo>
                  <a:pt x="163" y="453"/>
                  <a:pt x="160" y="451"/>
                  <a:pt x="157" y="451"/>
                </a:cubicBezTo>
                <a:cubicBezTo>
                  <a:pt x="157" y="451"/>
                  <a:pt x="157" y="451"/>
                  <a:pt x="156" y="451"/>
                </a:cubicBezTo>
                <a:cubicBezTo>
                  <a:pt x="158" y="445"/>
                  <a:pt x="156" y="438"/>
                  <a:pt x="154" y="433"/>
                </a:cubicBezTo>
                <a:cubicBezTo>
                  <a:pt x="152" y="427"/>
                  <a:pt x="148" y="420"/>
                  <a:pt x="144" y="415"/>
                </a:cubicBezTo>
                <a:cubicBezTo>
                  <a:pt x="139" y="408"/>
                  <a:pt x="131" y="403"/>
                  <a:pt x="123" y="400"/>
                </a:cubicBezTo>
                <a:cubicBezTo>
                  <a:pt x="119" y="399"/>
                  <a:pt x="116" y="398"/>
                  <a:pt x="113" y="396"/>
                </a:cubicBezTo>
                <a:cubicBezTo>
                  <a:pt x="111" y="394"/>
                  <a:pt x="110" y="392"/>
                  <a:pt x="109" y="391"/>
                </a:cubicBezTo>
                <a:cubicBezTo>
                  <a:pt x="107" y="388"/>
                  <a:pt x="104" y="386"/>
                  <a:pt x="101" y="384"/>
                </a:cubicBezTo>
                <a:cubicBezTo>
                  <a:pt x="101" y="384"/>
                  <a:pt x="101" y="384"/>
                  <a:pt x="101" y="384"/>
                </a:cubicBezTo>
                <a:cubicBezTo>
                  <a:pt x="100" y="382"/>
                  <a:pt x="101" y="381"/>
                  <a:pt x="103" y="382"/>
                </a:cubicBezTo>
                <a:close/>
                <a:moveTo>
                  <a:pt x="153" y="452"/>
                </a:moveTo>
                <a:cubicBezTo>
                  <a:pt x="152" y="453"/>
                  <a:pt x="152" y="453"/>
                  <a:pt x="151" y="454"/>
                </a:cubicBezTo>
                <a:cubicBezTo>
                  <a:pt x="150" y="449"/>
                  <a:pt x="148" y="445"/>
                  <a:pt x="146" y="441"/>
                </a:cubicBezTo>
                <a:cubicBezTo>
                  <a:pt x="144" y="436"/>
                  <a:pt x="142" y="432"/>
                  <a:pt x="140" y="428"/>
                </a:cubicBezTo>
                <a:cubicBezTo>
                  <a:pt x="138" y="424"/>
                  <a:pt x="136" y="419"/>
                  <a:pt x="134" y="415"/>
                </a:cubicBezTo>
                <a:cubicBezTo>
                  <a:pt x="134" y="413"/>
                  <a:pt x="133" y="411"/>
                  <a:pt x="132" y="409"/>
                </a:cubicBezTo>
                <a:cubicBezTo>
                  <a:pt x="135" y="411"/>
                  <a:pt x="138" y="413"/>
                  <a:pt x="140" y="416"/>
                </a:cubicBezTo>
                <a:cubicBezTo>
                  <a:pt x="148" y="425"/>
                  <a:pt x="156" y="439"/>
                  <a:pt x="153" y="452"/>
                </a:cubicBezTo>
                <a:close/>
                <a:moveTo>
                  <a:pt x="101" y="389"/>
                </a:moveTo>
                <a:cubicBezTo>
                  <a:pt x="101" y="389"/>
                  <a:pt x="101" y="389"/>
                  <a:pt x="101" y="389"/>
                </a:cubicBezTo>
                <a:cubicBezTo>
                  <a:pt x="106" y="393"/>
                  <a:pt x="110" y="400"/>
                  <a:pt x="116" y="402"/>
                </a:cubicBezTo>
                <a:cubicBezTo>
                  <a:pt x="118" y="409"/>
                  <a:pt x="119" y="414"/>
                  <a:pt x="116" y="421"/>
                </a:cubicBezTo>
                <a:cubicBezTo>
                  <a:pt x="115" y="424"/>
                  <a:pt x="114" y="427"/>
                  <a:pt x="112" y="429"/>
                </a:cubicBezTo>
                <a:cubicBezTo>
                  <a:pt x="112" y="430"/>
                  <a:pt x="111" y="430"/>
                  <a:pt x="111" y="430"/>
                </a:cubicBezTo>
                <a:cubicBezTo>
                  <a:pt x="110" y="425"/>
                  <a:pt x="103" y="419"/>
                  <a:pt x="101" y="414"/>
                </a:cubicBezTo>
                <a:cubicBezTo>
                  <a:pt x="94" y="405"/>
                  <a:pt x="96" y="393"/>
                  <a:pt x="92" y="383"/>
                </a:cubicBezTo>
                <a:cubicBezTo>
                  <a:pt x="95" y="385"/>
                  <a:pt x="98" y="387"/>
                  <a:pt x="101" y="389"/>
                </a:cubicBezTo>
                <a:close/>
                <a:moveTo>
                  <a:pt x="108" y="433"/>
                </a:moveTo>
                <a:cubicBezTo>
                  <a:pt x="108" y="433"/>
                  <a:pt x="108" y="433"/>
                  <a:pt x="108" y="434"/>
                </a:cubicBezTo>
                <a:cubicBezTo>
                  <a:pt x="107" y="433"/>
                  <a:pt x="107" y="433"/>
                  <a:pt x="107" y="433"/>
                </a:cubicBezTo>
                <a:cubicBezTo>
                  <a:pt x="102" y="428"/>
                  <a:pt x="96" y="426"/>
                  <a:pt x="92" y="421"/>
                </a:cubicBezTo>
                <a:cubicBezTo>
                  <a:pt x="82" y="411"/>
                  <a:pt x="73" y="401"/>
                  <a:pt x="67" y="388"/>
                </a:cubicBezTo>
                <a:cubicBezTo>
                  <a:pt x="63" y="379"/>
                  <a:pt x="58" y="370"/>
                  <a:pt x="53" y="362"/>
                </a:cubicBezTo>
                <a:cubicBezTo>
                  <a:pt x="54" y="362"/>
                  <a:pt x="54" y="362"/>
                  <a:pt x="55" y="363"/>
                </a:cubicBezTo>
                <a:cubicBezTo>
                  <a:pt x="59" y="364"/>
                  <a:pt x="63" y="365"/>
                  <a:pt x="66" y="367"/>
                </a:cubicBezTo>
                <a:cubicBezTo>
                  <a:pt x="69" y="368"/>
                  <a:pt x="72" y="370"/>
                  <a:pt x="75" y="372"/>
                </a:cubicBezTo>
                <a:cubicBezTo>
                  <a:pt x="80" y="375"/>
                  <a:pt x="84" y="377"/>
                  <a:pt x="88" y="380"/>
                </a:cubicBezTo>
                <a:cubicBezTo>
                  <a:pt x="87" y="381"/>
                  <a:pt x="87" y="381"/>
                  <a:pt x="88" y="382"/>
                </a:cubicBezTo>
                <a:cubicBezTo>
                  <a:pt x="92" y="391"/>
                  <a:pt x="90" y="402"/>
                  <a:pt x="95" y="411"/>
                </a:cubicBezTo>
                <a:cubicBezTo>
                  <a:pt x="97" y="415"/>
                  <a:pt x="100" y="418"/>
                  <a:pt x="102" y="421"/>
                </a:cubicBezTo>
                <a:cubicBezTo>
                  <a:pt x="103" y="422"/>
                  <a:pt x="104" y="424"/>
                  <a:pt x="105" y="425"/>
                </a:cubicBezTo>
                <a:cubicBezTo>
                  <a:pt x="105" y="425"/>
                  <a:pt x="105" y="425"/>
                  <a:pt x="105" y="425"/>
                </a:cubicBezTo>
                <a:cubicBezTo>
                  <a:pt x="105" y="426"/>
                  <a:pt x="106" y="427"/>
                  <a:pt x="106" y="428"/>
                </a:cubicBezTo>
                <a:cubicBezTo>
                  <a:pt x="106" y="429"/>
                  <a:pt x="106" y="430"/>
                  <a:pt x="107" y="431"/>
                </a:cubicBezTo>
                <a:cubicBezTo>
                  <a:pt x="107" y="431"/>
                  <a:pt x="107" y="431"/>
                  <a:pt x="107" y="431"/>
                </a:cubicBezTo>
                <a:cubicBezTo>
                  <a:pt x="108" y="430"/>
                  <a:pt x="108" y="429"/>
                  <a:pt x="107" y="428"/>
                </a:cubicBezTo>
                <a:cubicBezTo>
                  <a:pt x="108" y="430"/>
                  <a:pt x="109" y="432"/>
                  <a:pt x="108" y="433"/>
                </a:cubicBezTo>
                <a:close/>
                <a:moveTo>
                  <a:pt x="132" y="482"/>
                </a:moveTo>
                <a:cubicBezTo>
                  <a:pt x="131" y="477"/>
                  <a:pt x="129" y="472"/>
                  <a:pt x="127" y="468"/>
                </a:cubicBezTo>
                <a:cubicBezTo>
                  <a:pt x="125" y="462"/>
                  <a:pt x="123" y="456"/>
                  <a:pt x="120" y="450"/>
                </a:cubicBezTo>
                <a:cubicBezTo>
                  <a:pt x="117" y="446"/>
                  <a:pt x="114" y="440"/>
                  <a:pt x="110" y="436"/>
                </a:cubicBezTo>
                <a:cubicBezTo>
                  <a:pt x="115" y="434"/>
                  <a:pt x="118" y="425"/>
                  <a:pt x="120" y="421"/>
                </a:cubicBezTo>
                <a:cubicBezTo>
                  <a:pt x="122" y="414"/>
                  <a:pt x="121" y="408"/>
                  <a:pt x="118" y="403"/>
                </a:cubicBezTo>
                <a:cubicBezTo>
                  <a:pt x="122" y="404"/>
                  <a:pt x="125" y="405"/>
                  <a:pt x="128" y="407"/>
                </a:cubicBezTo>
                <a:cubicBezTo>
                  <a:pt x="128" y="407"/>
                  <a:pt x="128" y="407"/>
                  <a:pt x="128" y="407"/>
                </a:cubicBezTo>
                <a:cubicBezTo>
                  <a:pt x="128" y="410"/>
                  <a:pt x="130" y="414"/>
                  <a:pt x="131" y="416"/>
                </a:cubicBezTo>
                <a:cubicBezTo>
                  <a:pt x="133" y="421"/>
                  <a:pt x="136" y="426"/>
                  <a:pt x="138" y="430"/>
                </a:cubicBezTo>
                <a:cubicBezTo>
                  <a:pt x="140" y="436"/>
                  <a:pt x="143" y="441"/>
                  <a:pt x="145" y="446"/>
                </a:cubicBezTo>
                <a:cubicBezTo>
                  <a:pt x="147" y="450"/>
                  <a:pt x="148" y="454"/>
                  <a:pt x="150" y="459"/>
                </a:cubicBezTo>
                <a:cubicBezTo>
                  <a:pt x="150" y="459"/>
                  <a:pt x="150" y="459"/>
                  <a:pt x="150" y="459"/>
                </a:cubicBezTo>
                <a:cubicBezTo>
                  <a:pt x="150" y="459"/>
                  <a:pt x="150" y="459"/>
                  <a:pt x="150" y="460"/>
                </a:cubicBezTo>
                <a:cubicBezTo>
                  <a:pt x="150" y="463"/>
                  <a:pt x="151" y="466"/>
                  <a:pt x="152" y="470"/>
                </a:cubicBezTo>
                <a:cubicBezTo>
                  <a:pt x="152" y="470"/>
                  <a:pt x="152" y="470"/>
                  <a:pt x="152" y="470"/>
                </a:cubicBezTo>
                <a:cubicBezTo>
                  <a:pt x="147" y="472"/>
                  <a:pt x="142" y="474"/>
                  <a:pt x="138" y="477"/>
                </a:cubicBezTo>
                <a:cubicBezTo>
                  <a:pt x="136" y="479"/>
                  <a:pt x="134" y="480"/>
                  <a:pt x="132" y="482"/>
                </a:cubicBezTo>
                <a:close/>
                <a:moveTo>
                  <a:pt x="263" y="609"/>
                </a:moveTo>
                <a:cubicBezTo>
                  <a:pt x="258" y="606"/>
                  <a:pt x="255" y="602"/>
                  <a:pt x="250" y="599"/>
                </a:cubicBezTo>
                <a:cubicBezTo>
                  <a:pt x="246" y="597"/>
                  <a:pt x="242" y="597"/>
                  <a:pt x="238" y="596"/>
                </a:cubicBezTo>
                <a:cubicBezTo>
                  <a:pt x="228" y="593"/>
                  <a:pt x="219" y="587"/>
                  <a:pt x="210" y="581"/>
                </a:cubicBezTo>
                <a:cubicBezTo>
                  <a:pt x="200" y="575"/>
                  <a:pt x="190" y="569"/>
                  <a:pt x="181" y="561"/>
                </a:cubicBezTo>
                <a:cubicBezTo>
                  <a:pt x="173" y="554"/>
                  <a:pt x="165" y="547"/>
                  <a:pt x="157" y="539"/>
                </a:cubicBezTo>
                <a:cubicBezTo>
                  <a:pt x="154" y="535"/>
                  <a:pt x="149" y="533"/>
                  <a:pt x="146" y="529"/>
                </a:cubicBezTo>
                <a:cubicBezTo>
                  <a:pt x="143" y="526"/>
                  <a:pt x="141" y="521"/>
                  <a:pt x="140" y="516"/>
                </a:cubicBezTo>
                <a:cubicBezTo>
                  <a:pt x="139" y="508"/>
                  <a:pt x="139" y="500"/>
                  <a:pt x="136" y="493"/>
                </a:cubicBezTo>
                <a:cubicBezTo>
                  <a:pt x="132" y="486"/>
                  <a:pt x="137" y="482"/>
                  <a:pt x="143" y="479"/>
                </a:cubicBezTo>
                <a:cubicBezTo>
                  <a:pt x="146" y="477"/>
                  <a:pt x="150" y="475"/>
                  <a:pt x="154" y="473"/>
                </a:cubicBezTo>
                <a:cubicBezTo>
                  <a:pt x="154" y="475"/>
                  <a:pt x="155" y="476"/>
                  <a:pt x="155" y="477"/>
                </a:cubicBezTo>
                <a:cubicBezTo>
                  <a:pt x="159" y="484"/>
                  <a:pt x="162" y="492"/>
                  <a:pt x="165" y="499"/>
                </a:cubicBezTo>
                <a:cubicBezTo>
                  <a:pt x="170" y="509"/>
                  <a:pt x="176" y="519"/>
                  <a:pt x="183" y="527"/>
                </a:cubicBezTo>
                <a:cubicBezTo>
                  <a:pt x="190" y="536"/>
                  <a:pt x="199" y="543"/>
                  <a:pt x="208" y="551"/>
                </a:cubicBezTo>
                <a:cubicBezTo>
                  <a:pt x="216" y="560"/>
                  <a:pt x="225" y="568"/>
                  <a:pt x="233" y="577"/>
                </a:cubicBezTo>
                <a:cubicBezTo>
                  <a:pt x="238" y="584"/>
                  <a:pt x="244" y="592"/>
                  <a:pt x="253" y="594"/>
                </a:cubicBezTo>
                <a:cubicBezTo>
                  <a:pt x="255" y="594"/>
                  <a:pt x="256" y="591"/>
                  <a:pt x="254" y="590"/>
                </a:cubicBezTo>
                <a:cubicBezTo>
                  <a:pt x="244" y="587"/>
                  <a:pt x="238" y="577"/>
                  <a:pt x="231" y="570"/>
                </a:cubicBezTo>
                <a:cubicBezTo>
                  <a:pt x="224" y="562"/>
                  <a:pt x="216" y="553"/>
                  <a:pt x="207" y="546"/>
                </a:cubicBezTo>
                <a:cubicBezTo>
                  <a:pt x="199" y="538"/>
                  <a:pt x="191" y="531"/>
                  <a:pt x="184" y="523"/>
                </a:cubicBezTo>
                <a:cubicBezTo>
                  <a:pt x="184" y="522"/>
                  <a:pt x="183" y="521"/>
                  <a:pt x="183" y="520"/>
                </a:cubicBezTo>
                <a:cubicBezTo>
                  <a:pt x="185" y="523"/>
                  <a:pt x="187" y="524"/>
                  <a:pt x="189" y="527"/>
                </a:cubicBezTo>
                <a:cubicBezTo>
                  <a:pt x="193" y="530"/>
                  <a:pt x="197" y="534"/>
                  <a:pt x="201" y="536"/>
                </a:cubicBezTo>
                <a:cubicBezTo>
                  <a:pt x="202" y="537"/>
                  <a:pt x="202" y="536"/>
                  <a:pt x="202" y="536"/>
                </a:cubicBezTo>
                <a:cubicBezTo>
                  <a:pt x="194" y="530"/>
                  <a:pt x="188" y="522"/>
                  <a:pt x="181" y="515"/>
                </a:cubicBezTo>
                <a:cubicBezTo>
                  <a:pt x="180" y="515"/>
                  <a:pt x="180" y="515"/>
                  <a:pt x="180" y="516"/>
                </a:cubicBezTo>
                <a:cubicBezTo>
                  <a:pt x="180" y="517"/>
                  <a:pt x="181" y="518"/>
                  <a:pt x="181" y="518"/>
                </a:cubicBezTo>
                <a:cubicBezTo>
                  <a:pt x="176" y="512"/>
                  <a:pt x="172" y="505"/>
                  <a:pt x="169" y="497"/>
                </a:cubicBezTo>
                <a:cubicBezTo>
                  <a:pt x="165" y="490"/>
                  <a:pt x="162" y="483"/>
                  <a:pt x="159" y="476"/>
                </a:cubicBezTo>
                <a:cubicBezTo>
                  <a:pt x="157" y="471"/>
                  <a:pt x="152" y="463"/>
                  <a:pt x="154" y="457"/>
                </a:cubicBezTo>
                <a:cubicBezTo>
                  <a:pt x="155" y="452"/>
                  <a:pt x="160" y="456"/>
                  <a:pt x="163" y="458"/>
                </a:cubicBezTo>
                <a:cubicBezTo>
                  <a:pt x="165" y="459"/>
                  <a:pt x="167" y="459"/>
                  <a:pt x="170" y="459"/>
                </a:cubicBezTo>
                <a:cubicBezTo>
                  <a:pt x="173" y="459"/>
                  <a:pt x="173" y="454"/>
                  <a:pt x="174" y="451"/>
                </a:cubicBezTo>
                <a:cubicBezTo>
                  <a:pt x="174" y="451"/>
                  <a:pt x="175" y="452"/>
                  <a:pt x="176" y="452"/>
                </a:cubicBezTo>
                <a:cubicBezTo>
                  <a:pt x="177" y="453"/>
                  <a:pt x="179" y="453"/>
                  <a:pt x="179" y="451"/>
                </a:cubicBezTo>
                <a:cubicBezTo>
                  <a:pt x="181" y="446"/>
                  <a:pt x="176" y="439"/>
                  <a:pt x="177" y="433"/>
                </a:cubicBezTo>
                <a:cubicBezTo>
                  <a:pt x="185" y="445"/>
                  <a:pt x="187" y="459"/>
                  <a:pt x="191" y="471"/>
                </a:cubicBezTo>
                <a:cubicBezTo>
                  <a:pt x="194" y="484"/>
                  <a:pt x="198" y="496"/>
                  <a:pt x="204" y="507"/>
                </a:cubicBezTo>
                <a:cubicBezTo>
                  <a:pt x="212" y="520"/>
                  <a:pt x="222" y="529"/>
                  <a:pt x="232" y="539"/>
                </a:cubicBezTo>
                <a:cubicBezTo>
                  <a:pt x="238" y="544"/>
                  <a:pt x="244" y="549"/>
                  <a:pt x="249" y="554"/>
                </a:cubicBezTo>
                <a:cubicBezTo>
                  <a:pt x="254" y="560"/>
                  <a:pt x="259" y="566"/>
                  <a:pt x="265" y="571"/>
                </a:cubicBezTo>
                <a:cubicBezTo>
                  <a:pt x="265" y="571"/>
                  <a:pt x="266" y="571"/>
                  <a:pt x="266" y="571"/>
                </a:cubicBezTo>
                <a:cubicBezTo>
                  <a:pt x="266" y="572"/>
                  <a:pt x="267" y="572"/>
                  <a:pt x="267" y="573"/>
                </a:cubicBezTo>
                <a:cubicBezTo>
                  <a:pt x="268" y="574"/>
                  <a:pt x="269" y="573"/>
                  <a:pt x="269" y="572"/>
                </a:cubicBezTo>
                <a:cubicBezTo>
                  <a:pt x="267" y="568"/>
                  <a:pt x="264" y="564"/>
                  <a:pt x="262" y="561"/>
                </a:cubicBezTo>
                <a:cubicBezTo>
                  <a:pt x="262" y="560"/>
                  <a:pt x="262" y="560"/>
                  <a:pt x="262" y="560"/>
                </a:cubicBezTo>
                <a:cubicBezTo>
                  <a:pt x="258" y="547"/>
                  <a:pt x="250" y="537"/>
                  <a:pt x="244" y="525"/>
                </a:cubicBezTo>
                <a:cubicBezTo>
                  <a:pt x="244" y="525"/>
                  <a:pt x="243" y="525"/>
                  <a:pt x="243" y="526"/>
                </a:cubicBezTo>
                <a:cubicBezTo>
                  <a:pt x="246" y="532"/>
                  <a:pt x="248" y="538"/>
                  <a:pt x="252" y="543"/>
                </a:cubicBezTo>
                <a:cubicBezTo>
                  <a:pt x="255" y="548"/>
                  <a:pt x="257" y="553"/>
                  <a:pt x="260" y="558"/>
                </a:cubicBezTo>
                <a:cubicBezTo>
                  <a:pt x="257" y="555"/>
                  <a:pt x="255" y="552"/>
                  <a:pt x="252" y="548"/>
                </a:cubicBezTo>
                <a:cubicBezTo>
                  <a:pt x="247" y="541"/>
                  <a:pt x="245" y="533"/>
                  <a:pt x="242" y="525"/>
                </a:cubicBezTo>
                <a:cubicBezTo>
                  <a:pt x="240" y="519"/>
                  <a:pt x="237" y="513"/>
                  <a:pt x="233" y="508"/>
                </a:cubicBezTo>
                <a:cubicBezTo>
                  <a:pt x="234" y="509"/>
                  <a:pt x="235" y="510"/>
                  <a:pt x="236" y="511"/>
                </a:cubicBezTo>
                <a:cubicBezTo>
                  <a:pt x="236" y="511"/>
                  <a:pt x="237" y="511"/>
                  <a:pt x="236" y="510"/>
                </a:cubicBezTo>
                <a:cubicBezTo>
                  <a:pt x="235" y="509"/>
                  <a:pt x="235" y="506"/>
                  <a:pt x="234" y="504"/>
                </a:cubicBezTo>
                <a:cubicBezTo>
                  <a:pt x="233" y="503"/>
                  <a:pt x="233" y="501"/>
                  <a:pt x="231" y="501"/>
                </a:cubicBezTo>
                <a:cubicBezTo>
                  <a:pt x="231" y="501"/>
                  <a:pt x="231" y="502"/>
                  <a:pt x="231" y="502"/>
                </a:cubicBezTo>
                <a:cubicBezTo>
                  <a:pt x="230" y="503"/>
                  <a:pt x="232" y="505"/>
                  <a:pt x="232" y="507"/>
                </a:cubicBezTo>
                <a:cubicBezTo>
                  <a:pt x="233" y="507"/>
                  <a:pt x="233" y="507"/>
                  <a:pt x="233" y="508"/>
                </a:cubicBezTo>
                <a:cubicBezTo>
                  <a:pt x="232" y="506"/>
                  <a:pt x="231" y="504"/>
                  <a:pt x="230" y="502"/>
                </a:cubicBezTo>
                <a:cubicBezTo>
                  <a:pt x="228" y="499"/>
                  <a:pt x="225" y="495"/>
                  <a:pt x="224" y="491"/>
                </a:cubicBezTo>
                <a:cubicBezTo>
                  <a:pt x="222" y="487"/>
                  <a:pt x="221" y="482"/>
                  <a:pt x="220" y="477"/>
                </a:cubicBezTo>
                <a:cubicBezTo>
                  <a:pt x="216" y="463"/>
                  <a:pt x="208" y="449"/>
                  <a:pt x="208" y="433"/>
                </a:cubicBezTo>
                <a:cubicBezTo>
                  <a:pt x="208" y="427"/>
                  <a:pt x="208" y="418"/>
                  <a:pt x="216" y="418"/>
                </a:cubicBezTo>
                <a:cubicBezTo>
                  <a:pt x="220" y="418"/>
                  <a:pt x="222" y="418"/>
                  <a:pt x="226" y="416"/>
                </a:cubicBezTo>
                <a:cubicBezTo>
                  <a:pt x="231" y="415"/>
                  <a:pt x="234" y="418"/>
                  <a:pt x="237" y="420"/>
                </a:cubicBezTo>
                <a:cubicBezTo>
                  <a:pt x="237" y="420"/>
                  <a:pt x="237" y="420"/>
                  <a:pt x="237" y="420"/>
                </a:cubicBezTo>
                <a:cubicBezTo>
                  <a:pt x="238" y="426"/>
                  <a:pt x="240" y="431"/>
                  <a:pt x="242" y="437"/>
                </a:cubicBezTo>
                <a:cubicBezTo>
                  <a:pt x="240" y="438"/>
                  <a:pt x="240" y="442"/>
                  <a:pt x="240" y="444"/>
                </a:cubicBezTo>
                <a:cubicBezTo>
                  <a:pt x="239" y="450"/>
                  <a:pt x="237" y="455"/>
                  <a:pt x="236" y="461"/>
                </a:cubicBezTo>
                <a:cubicBezTo>
                  <a:pt x="235" y="466"/>
                  <a:pt x="235" y="471"/>
                  <a:pt x="236" y="477"/>
                </a:cubicBezTo>
                <a:cubicBezTo>
                  <a:pt x="236" y="480"/>
                  <a:pt x="236" y="484"/>
                  <a:pt x="236" y="487"/>
                </a:cubicBezTo>
                <a:cubicBezTo>
                  <a:pt x="235" y="490"/>
                  <a:pt x="235" y="493"/>
                  <a:pt x="235" y="495"/>
                </a:cubicBezTo>
                <a:cubicBezTo>
                  <a:pt x="238" y="509"/>
                  <a:pt x="250" y="516"/>
                  <a:pt x="258" y="526"/>
                </a:cubicBezTo>
                <a:cubicBezTo>
                  <a:pt x="268" y="538"/>
                  <a:pt x="277" y="551"/>
                  <a:pt x="284" y="564"/>
                </a:cubicBezTo>
                <a:cubicBezTo>
                  <a:pt x="287" y="570"/>
                  <a:pt x="290" y="576"/>
                  <a:pt x="295" y="580"/>
                </a:cubicBezTo>
                <a:cubicBezTo>
                  <a:pt x="296" y="581"/>
                  <a:pt x="296" y="582"/>
                  <a:pt x="297" y="583"/>
                </a:cubicBezTo>
                <a:cubicBezTo>
                  <a:pt x="297" y="583"/>
                  <a:pt x="296" y="584"/>
                  <a:pt x="296" y="585"/>
                </a:cubicBezTo>
                <a:cubicBezTo>
                  <a:pt x="298" y="593"/>
                  <a:pt x="297" y="603"/>
                  <a:pt x="290" y="609"/>
                </a:cubicBezTo>
                <a:cubicBezTo>
                  <a:pt x="287" y="612"/>
                  <a:pt x="284" y="614"/>
                  <a:pt x="281" y="616"/>
                </a:cubicBezTo>
                <a:cubicBezTo>
                  <a:pt x="279" y="618"/>
                  <a:pt x="277" y="619"/>
                  <a:pt x="275" y="621"/>
                </a:cubicBezTo>
                <a:cubicBezTo>
                  <a:pt x="272" y="616"/>
                  <a:pt x="268" y="613"/>
                  <a:pt x="263" y="609"/>
                </a:cubicBezTo>
                <a:close/>
                <a:moveTo>
                  <a:pt x="300" y="586"/>
                </a:moveTo>
                <a:cubicBezTo>
                  <a:pt x="300" y="586"/>
                  <a:pt x="300" y="587"/>
                  <a:pt x="301" y="587"/>
                </a:cubicBezTo>
                <a:cubicBezTo>
                  <a:pt x="303" y="592"/>
                  <a:pt x="304" y="598"/>
                  <a:pt x="301" y="604"/>
                </a:cubicBezTo>
                <a:cubicBezTo>
                  <a:pt x="299" y="610"/>
                  <a:pt x="295" y="614"/>
                  <a:pt x="290" y="618"/>
                </a:cubicBezTo>
                <a:cubicBezTo>
                  <a:pt x="289" y="619"/>
                  <a:pt x="290" y="620"/>
                  <a:pt x="290" y="619"/>
                </a:cubicBezTo>
                <a:cubicBezTo>
                  <a:pt x="300" y="617"/>
                  <a:pt x="306" y="602"/>
                  <a:pt x="305" y="591"/>
                </a:cubicBezTo>
                <a:cubicBezTo>
                  <a:pt x="306" y="593"/>
                  <a:pt x="308" y="595"/>
                  <a:pt x="309" y="598"/>
                </a:cubicBezTo>
                <a:cubicBezTo>
                  <a:pt x="311" y="600"/>
                  <a:pt x="313" y="602"/>
                  <a:pt x="315" y="605"/>
                </a:cubicBezTo>
                <a:cubicBezTo>
                  <a:pt x="314" y="614"/>
                  <a:pt x="307" y="621"/>
                  <a:pt x="299" y="623"/>
                </a:cubicBezTo>
                <a:cubicBezTo>
                  <a:pt x="293" y="624"/>
                  <a:pt x="284" y="624"/>
                  <a:pt x="279" y="622"/>
                </a:cubicBezTo>
                <a:cubicBezTo>
                  <a:pt x="282" y="620"/>
                  <a:pt x="285" y="619"/>
                  <a:pt x="288" y="616"/>
                </a:cubicBezTo>
                <a:cubicBezTo>
                  <a:pt x="291" y="614"/>
                  <a:pt x="295" y="610"/>
                  <a:pt x="297" y="606"/>
                </a:cubicBezTo>
                <a:cubicBezTo>
                  <a:pt x="300" y="600"/>
                  <a:pt x="301" y="593"/>
                  <a:pt x="300" y="586"/>
                </a:cubicBezTo>
                <a:close/>
                <a:moveTo>
                  <a:pt x="390" y="734"/>
                </a:moveTo>
                <a:cubicBezTo>
                  <a:pt x="390" y="743"/>
                  <a:pt x="391" y="756"/>
                  <a:pt x="383" y="761"/>
                </a:cubicBezTo>
                <a:cubicBezTo>
                  <a:pt x="380" y="764"/>
                  <a:pt x="375" y="765"/>
                  <a:pt x="371" y="767"/>
                </a:cubicBezTo>
                <a:cubicBezTo>
                  <a:pt x="368" y="768"/>
                  <a:pt x="359" y="774"/>
                  <a:pt x="357" y="769"/>
                </a:cubicBezTo>
                <a:cubicBezTo>
                  <a:pt x="355" y="765"/>
                  <a:pt x="357" y="761"/>
                  <a:pt x="357" y="757"/>
                </a:cubicBezTo>
                <a:cubicBezTo>
                  <a:pt x="357" y="753"/>
                  <a:pt x="356" y="750"/>
                  <a:pt x="355" y="746"/>
                </a:cubicBezTo>
                <a:cubicBezTo>
                  <a:pt x="352" y="739"/>
                  <a:pt x="347" y="732"/>
                  <a:pt x="343" y="725"/>
                </a:cubicBezTo>
                <a:cubicBezTo>
                  <a:pt x="338" y="716"/>
                  <a:pt x="334" y="706"/>
                  <a:pt x="328" y="698"/>
                </a:cubicBezTo>
                <a:cubicBezTo>
                  <a:pt x="321" y="689"/>
                  <a:pt x="314" y="681"/>
                  <a:pt x="307" y="672"/>
                </a:cubicBezTo>
                <a:cubicBezTo>
                  <a:pt x="301" y="663"/>
                  <a:pt x="296" y="653"/>
                  <a:pt x="288" y="644"/>
                </a:cubicBezTo>
                <a:cubicBezTo>
                  <a:pt x="284" y="639"/>
                  <a:pt x="277" y="635"/>
                  <a:pt x="277" y="628"/>
                </a:cubicBezTo>
                <a:cubicBezTo>
                  <a:pt x="277" y="628"/>
                  <a:pt x="278" y="627"/>
                  <a:pt x="278" y="627"/>
                </a:cubicBezTo>
                <a:cubicBezTo>
                  <a:pt x="277" y="626"/>
                  <a:pt x="277" y="625"/>
                  <a:pt x="277" y="624"/>
                </a:cubicBezTo>
                <a:cubicBezTo>
                  <a:pt x="280" y="626"/>
                  <a:pt x="284" y="626"/>
                  <a:pt x="288" y="626"/>
                </a:cubicBezTo>
                <a:cubicBezTo>
                  <a:pt x="293" y="626"/>
                  <a:pt x="298" y="626"/>
                  <a:pt x="302" y="625"/>
                </a:cubicBezTo>
                <a:cubicBezTo>
                  <a:pt x="308" y="622"/>
                  <a:pt x="317" y="615"/>
                  <a:pt x="317" y="608"/>
                </a:cubicBezTo>
                <a:cubicBezTo>
                  <a:pt x="318" y="610"/>
                  <a:pt x="320" y="612"/>
                  <a:pt x="321" y="612"/>
                </a:cubicBezTo>
                <a:cubicBezTo>
                  <a:pt x="320" y="614"/>
                  <a:pt x="319" y="617"/>
                  <a:pt x="318" y="619"/>
                </a:cubicBezTo>
                <a:cubicBezTo>
                  <a:pt x="318" y="619"/>
                  <a:pt x="317" y="618"/>
                  <a:pt x="317" y="618"/>
                </a:cubicBezTo>
                <a:cubicBezTo>
                  <a:pt x="317" y="618"/>
                  <a:pt x="316" y="618"/>
                  <a:pt x="316" y="619"/>
                </a:cubicBezTo>
                <a:cubicBezTo>
                  <a:pt x="316" y="619"/>
                  <a:pt x="317" y="620"/>
                  <a:pt x="317" y="621"/>
                </a:cubicBezTo>
                <a:cubicBezTo>
                  <a:pt x="315" y="625"/>
                  <a:pt x="312" y="628"/>
                  <a:pt x="308" y="629"/>
                </a:cubicBezTo>
                <a:cubicBezTo>
                  <a:pt x="303" y="631"/>
                  <a:pt x="298" y="629"/>
                  <a:pt x="292" y="630"/>
                </a:cubicBezTo>
                <a:cubicBezTo>
                  <a:pt x="292" y="630"/>
                  <a:pt x="292" y="630"/>
                  <a:pt x="292" y="630"/>
                </a:cubicBezTo>
                <a:cubicBezTo>
                  <a:pt x="297" y="633"/>
                  <a:pt x="306" y="633"/>
                  <a:pt x="311" y="630"/>
                </a:cubicBezTo>
                <a:cubicBezTo>
                  <a:pt x="314" y="628"/>
                  <a:pt x="316" y="625"/>
                  <a:pt x="318" y="622"/>
                </a:cubicBezTo>
                <a:cubicBezTo>
                  <a:pt x="319" y="624"/>
                  <a:pt x="320" y="625"/>
                  <a:pt x="321" y="625"/>
                </a:cubicBezTo>
                <a:cubicBezTo>
                  <a:pt x="322" y="626"/>
                  <a:pt x="323" y="625"/>
                  <a:pt x="323" y="625"/>
                </a:cubicBezTo>
                <a:cubicBezTo>
                  <a:pt x="322" y="623"/>
                  <a:pt x="321" y="622"/>
                  <a:pt x="320" y="621"/>
                </a:cubicBezTo>
                <a:cubicBezTo>
                  <a:pt x="320" y="621"/>
                  <a:pt x="320" y="620"/>
                  <a:pt x="319" y="620"/>
                </a:cubicBezTo>
                <a:cubicBezTo>
                  <a:pt x="320" y="618"/>
                  <a:pt x="321" y="615"/>
                  <a:pt x="322" y="613"/>
                </a:cubicBezTo>
                <a:cubicBezTo>
                  <a:pt x="322" y="613"/>
                  <a:pt x="322" y="613"/>
                  <a:pt x="322" y="613"/>
                </a:cubicBezTo>
                <a:cubicBezTo>
                  <a:pt x="325" y="626"/>
                  <a:pt x="337" y="638"/>
                  <a:pt x="344" y="649"/>
                </a:cubicBezTo>
                <a:cubicBezTo>
                  <a:pt x="347" y="653"/>
                  <a:pt x="350" y="657"/>
                  <a:pt x="352" y="660"/>
                </a:cubicBezTo>
                <a:cubicBezTo>
                  <a:pt x="353" y="662"/>
                  <a:pt x="354" y="663"/>
                  <a:pt x="354" y="664"/>
                </a:cubicBezTo>
                <a:cubicBezTo>
                  <a:pt x="357" y="669"/>
                  <a:pt x="358" y="675"/>
                  <a:pt x="360" y="680"/>
                </a:cubicBezTo>
                <a:cubicBezTo>
                  <a:pt x="362" y="685"/>
                  <a:pt x="365" y="688"/>
                  <a:pt x="367" y="693"/>
                </a:cubicBezTo>
                <a:cubicBezTo>
                  <a:pt x="370" y="697"/>
                  <a:pt x="372" y="702"/>
                  <a:pt x="375" y="707"/>
                </a:cubicBezTo>
                <a:cubicBezTo>
                  <a:pt x="377" y="710"/>
                  <a:pt x="380" y="714"/>
                  <a:pt x="383" y="718"/>
                </a:cubicBezTo>
                <a:cubicBezTo>
                  <a:pt x="385" y="722"/>
                  <a:pt x="386" y="726"/>
                  <a:pt x="388" y="731"/>
                </a:cubicBezTo>
                <a:cubicBezTo>
                  <a:pt x="389" y="732"/>
                  <a:pt x="389" y="733"/>
                  <a:pt x="390" y="734"/>
                </a:cubicBezTo>
                <a:close/>
                <a:moveTo>
                  <a:pt x="421" y="721"/>
                </a:moveTo>
                <a:cubicBezTo>
                  <a:pt x="421" y="721"/>
                  <a:pt x="421" y="721"/>
                  <a:pt x="421" y="721"/>
                </a:cubicBezTo>
                <a:cubicBezTo>
                  <a:pt x="416" y="728"/>
                  <a:pt x="406" y="731"/>
                  <a:pt x="398" y="727"/>
                </a:cubicBezTo>
                <a:cubicBezTo>
                  <a:pt x="392" y="723"/>
                  <a:pt x="388" y="718"/>
                  <a:pt x="385" y="712"/>
                </a:cubicBezTo>
                <a:cubicBezTo>
                  <a:pt x="380" y="702"/>
                  <a:pt x="376" y="693"/>
                  <a:pt x="371" y="683"/>
                </a:cubicBezTo>
                <a:cubicBezTo>
                  <a:pt x="371" y="685"/>
                  <a:pt x="372" y="686"/>
                  <a:pt x="373" y="686"/>
                </a:cubicBezTo>
                <a:cubicBezTo>
                  <a:pt x="374" y="686"/>
                  <a:pt x="374" y="686"/>
                  <a:pt x="374" y="686"/>
                </a:cubicBezTo>
                <a:cubicBezTo>
                  <a:pt x="373" y="682"/>
                  <a:pt x="372" y="678"/>
                  <a:pt x="369" y="676"/>
                </a:cubicBezTo>
                <a:cubicBezTo>
                  <a:pt x="368" y="675"/>
                  <a:pt x="368" y="676"/>
                  <a:pt x="368" y="676"/>
                </a:cubicBezTo>
                <a:cubicBezTo>
                  <a:pt x="368" y="677"/>
                  <a:pt x="368" y="679"/>
                  <a:pt x="369" y="680"/>
                </a:cubicBezTo>
                <a:cubicBezTo>
                  <a:pt x="368" y="679"/>
                  <a:pt x="367" y="678"/>
                  <a:pt x="367" y="676"/>
                </a:cubicBezTo>
                <a:cubicBezTo>
                  <a:pt x="360" y="665"/>
                  <a:pt x="353" y="653"/>
                  <a:pt x="344" y="642"/>
                </a:cubicBezTo>
                <a:cubicBezTo>
                  <a:pt x="337" y="632"/>
                  <a:pt x="330" y="621"/>
                  <a:pt x="323" y="610"/>
                </a:cubicBezTo>
                <a:cubicBezTo>
                  <a:pt x="323" y="609"/>
                  <a:pt x="323" y="609"/>
                  <a:pt x="322" y="610"/>
                </a:cubicBezTo>
                <a:cubicBezTo>
                  <a:pt x="320" y="608"/>
                  <a:pt x="317" y="603"/>
                  <a:pt x="316" y="601"/>
                </a:cubicBezTo>
                <a:cubicBezTo>
                  <a:pt x="314" y="598"/>
                  <a:pt x="312" y="594"/>
                  <a:pt x="309" y="591"/>
                </a:cubicBezTo>
                <a:cubicBezTo>
                  <a:pt x="306" y="587"/>
                  <a:pt x="302" y="583"/>
                  <a:pt x="298" y="579"/>
                </a:cubicBezTo>
                <a:cubicBezTo>
                  <a:pt x="294" y="575"/>
                  <a:pt x="291" y="570"/>
                  <a:pt x="288" y="564"/>
                </a:cubicBezTo>
                <a:cubicBezTo>
                  <a:pt x="282" y="554"/>
                  <a:pt x="275" y="544"/>
                  <a:pt x="268" y="534"/>
                </a:cubicBezTo>
                <a:cubicBezTo>
                  <a:pt x="265" y="529"/>
                  <a:pt x="262" y="525"/>
                  <a:pt x="258" y="520"/>
                </a:cubicBezTo>
                <a:cubicBezTo>
                  <a:pt x="254" y="516"/>
                  <a:pt x="249" y="513"/>
                  <a:pt x="246" y="508"/>
                </a:cubicBezTo>
                <a:cubicBezTo>
                  <a:pt x="242" y="503"/>
                  <a:pt x="237" y="496"/>
                  <a:pt x="239" y="490"/>
                </a:cubicBezTo>
                <a:cubicBezTo>
                  <a:pt x="241" y="485"/>
                  <a:pt x="244" y="479"/>
                  <a:pt x="249" y="477"/>
                </a:cubicBezTo>
                <a:cubicBezTo>
                  <a:pt x="254" y="474"/>
                  <a:pt x="256" y="485"/>
                  <a:pt x="258" y="488"/>
                </a:cubicBezTo>
                <a:cubicBezTo>
                  <a:pt x="260" y="493"/>
                  <a:pt x="264" y="499"/>
                  <a:pt x="267" y="503"/>
                </a:cubicBezTo>
                <a:cubicBezTo>
                  <a:pt x="275" y="514"/>
                  <a:pt x="283" y="523"/>
                  <a:pt x="290" y="534"/>
                </a:cubicBezTo>
                <a:cubicBezTo>
                  <a:pt x="294" y="539"/>
                  <a:pt x="298" y="544"/>
                  <a:pt x="300" y="549"/>
                </a:cubicBezTo>
                <a:cubicBezTo>
                  <a:pt x="303" y="554"/>
                  <a:pt x="304" y="560"/>
                  <a:pt x="307" y="564"/>
                </a:cubicBezTo>
                <a:cubicBezTo>
                  <a:pt x="307" y="565"/>
                  <a:pt x="308" y="565"/>
                  <a:pt x="308" y="564"/>
                </a:cubicBezTo>
                <a:cubicBezTo>
                  <a:pt x="310" y="570"/>
                  <a:pt x="313" y="575"/>
                  <a:pt x="316" y="580"/>
                </a:cubicBezTo>
                <a:cubicBezTo>
                  <a:pt x="313" y="583"/>
                  <a:pt x="318" y="586"/>
                  <a:pt x="319" y="589"/>
                </a:cubicBezTo>
                <a:cubicBezTo>
                  <a:pt x="322" y="596"/>
                  <a:pt x="324" y="603"/>
                  <a:pt x="331" y="607"/>
                </a:cubicBezTo>
                <a:cubicBezTo>
                  <a:pt x="332" y="608"/>
                  <a:pt x="333" y="606"/>
                  <a:pt x="332" y="605"/>
                </a:cubicBezTo>
                <a:cubicBezTo>
                  <a:pt x="327" y="600"/>
                  <a:pt x="325" y="595"/>
                  <a:pt x="322" y="589"/>
                </a:cubicBezTo>
                <a:cubicBezTo>
                  <a:pt x="322" y="588"/>
                  <a:pt x="321" y="586"/>
                  <a:pt x="320" y="585"/>
                </a:cubicBezTo>
                <a:cubicBezTo>
                  <a:pt x="320" y="585"/>
                  <a:pt x="318" y="582"/>
                  <a:pt x="318" y="582"/>
                </a:cubicBezTo>
                <a:cubicBezTo>
                  <a:pt x="322" y="582"/>
                  <a:pt x="325" y="578"/>
                  <a:pt x="328" y="576"/>
                </a:cubicBezTo>
                <a:cubicBezTo>
                  <a:pt x="333" y="571"/>
                  <a:pt x="338" y="577"/>
                  <a:pt x="341" y="580"/>
                </a:cubicBezTo>
                <a:cubicBezTo>
                  <a:pt x="342" y="580"/>
                  <a:pt x="342" y="580"/>
                  <a:pt x="343" y="580"/>
                </a:cubicBezTo>
                <a:cubicBezTo>
                  <a:pt x="343" y="583"/>
                  <a:pt x="344" y="585"/>
                  <a:pt x="345" y="587"/>
                </a:cubicBezTo>
                <a:cubicBezTo>
                  <a:pt x="346" y="592"/>
                  <a:pt x="346" y="598"/>
                  <a:pt x="346" y="603"/>
                </a:cubicBezTo>
                <a:cubicBezTo>
                  <a:pt x="346" y="603"/>
                  <a:pt x="346" y="603"/>
                  <a:pt x="346" y="604"/>
                </a:cubicBezTo>
                <a:cubicBezTo>
                  <a:pt x="344" y="606"/>
                  <a:pt x="343" y="608"/>
                  <a:pt x="343" y="611"/>
                </a:cubicBezTo>
                <a:cubicBezTo>
                  <a:pt x="343" y="611"/>
                  <a:pt x="343" y="611"/>
                  <a:pt x="343" y="611"/>
                </a:cubicBezTo>
                <a:cubicBezTo>
                  <a:pt x="346" y="607"/>
                  <a:pt x="350" y="604"/>
                  <a:pt x="353" y="601"/>
                </a:cubicBezTo>
                <a:cubicBezTo>
                  <a:pt x="355" y="600"/>
                  <a:pt x="357" y="598"/>
                  <a:pt x="359" y="596"/>
                </a:cubicBezTo>
                <a:cubicBezTo>
                  <a:pt x="358" y="597"/>
                  <a:pt x="357" y="599"/>
                  <a:pt x="356" y="600"/>
                </a:cubicBezTo>
                <a:cubicBezTo>
                  <a:pt x="354" y="602"/>
                  <a:pt x="351" y="604"/>
                  <a:pt x="350" y="606"/>
                </a:cubicBezTo>
                <a:cubicBezTo>
                  <a:pt x="350" y="607"/>
                  <a:pt x="351" y="607"/>
                  <a:pt x="351" y="607"/>
                </a:cubicBezTo>
                <a:cubicBezTo>
                  <a:pt x="355" y="606"/>
                  <a:pt x="358" y="602"/>
                  <a:pt x="360" y="599"/>
                </a:cubicBezTo>
                <a:cubicBezTo>
                  <a:pt x="362" y="597"/>
                  <a:pt x="363" y="594"/>
                  <a:pt x="363" y="592"/>
                </a:cubicBezTo>
                <a:cubicBezTo>
                  <a:pt x="363" y="592"/>
                  <a:pt x="363" y="591"/>
                  <a:pt x="363" y="591"/>
                </a:cubicBezTo>
                <a:cubicBezTo>
                  <a:pt x="365" y="589"/>
                  <a:pt x="367" y="587"/>
                  <a:pt x="368" y="585"/>
                </a:cubicBezTo>
                <a:cubicBezTo>
                  <a:pt x="375" y="593"/>
                  <a:pt x="370" y="602"/>
                  <a:pt x="361" y="606"/>
                </a:cubicBezTo>
                <a:cubicBezTo>
                  <a:pt x="360" y="607"/>
                  <a:pt x="359" y="607"/>
                  <a:pt x="358" y="608"/>
                </a:cubicBezTo>
                <a:cubicBezTo>
                  <a:pt x="360" y="607"/>
                  <a:pt x="361" y="605"/>
                  <a:pt x="363" y="604"/>
                </a:cubicBezTo>
                <a:cubicBezTo>
                  <a:pt x="363" y="603"/>
                  <a:pt x="362" y="602"/>
                  <a:pt x="362" y="603"/>
                </a:cubicBezTo>
                <a:cubicBezTo>
                  <a:pt x="359" y="605"/>
                  <a:pt x="355" y="606"/>
                  <a:pt x="353" y="609"/>
                </a:cubicBezTo>
                <a:cubicBezTo>
                  <a:pt x="353" y="610"/>
                  <a:pt x="353" y="610"/>
                  <a:pt x="354" y="610"/>
                </a:cubicBezTo>
                <a:cubicBezTo>
                  <a:pt x="349" y="612"/>
                  <a:pt x="345" y="613"/>
                  <a:pt x="340" y="610"/>
                </a:cubicBezTo>
                <a:cubicBezTo>
                  <a:pt x="339" y="609"/>
                  <a:pt x="337" y="611"/>
                  <a:pt x="338" y="613"/>
                </a:cubicBezTo>
                <a:cubicBezTo>
                  <a:pt x="346" y="620"/>
                  <a:pt x="360" y="612"/>
                  <a:pt x="367" y="607"/>
                </a:cubicBezTo>
                <a:cubicBezTo>
                  <a:pt x="370" y="605"/>
                  <a:pt x="372" y="603"/>
                  <a:pt x="373" y="600"/>
                </a:cubicBezTo>
                <a:cubicBezTo>
                  <a:pt x="376" y="604"/>
                  <a:pt x="379" y="608"/>
                  <a:pt x="381" y="612"/>
                </a:cubicBezTo>
                <a:cubicBezTo>
                  <a:pt x="387" y="624"/>
                  <a:pt x="391" y="635"/>
                  <a:pt x="396" y="647"/>
                </a:cubicBezTo>
                <a:cubicBezTo>
                  <a:pt x="401" y="658"/>
                  <a:pt x="406" y="670"/>
                  <a:pt x="413" y="681"/>
                </a:cubicBezTo>
                <a:cubicBezTo>
                  <a:pt x="415" y="684"/>
                  <a:pt x="417" y="687"/>
                  <a:pt x="420" y="691"/>
                </a:cubicBezTo>
                <a:cubicBezTo>
                  <a:pt x="420" y="691"/>
                  <a:pt x="420" y="691"/>
                  <a:pt x="420" y="691"/>
                </a:cubicBezTo>
                <a:cubicBezTo>
                  <a:pt x="420" y="693"/>
                  <a:pt x="421" y="695"/>
                  <a:pt x="422" y="697"/>
                </a:cubicBezTo>
                <a:cubicBezTo>
                  <a:pt x="423" y="698"/>
                  <a:pt x="424" y="701"/>
                  <a:pt x="423" y="703"/>
                </a:cubicBezTo>
                <a:cubicBezTo>
                  <a:pt x="423" y="703"/>
                  <a:pt x="423" y="703"/>
                  <a:pt x="424" y="703"/>
                </a:cubicBezTo>
                <a:cubicBezTo>
                  <a:pt x="425" y="703"/>
                  <a:pt x="426" y="701"/>
                  <a:pt x="425" y="699"/>
                </a:cubicBezTo>
                <a:cubicBezTo>
                  <a:pt x="426" y="700"/>
                  <a:pt x="426" y="701"/>
                  <a:pt x="426" y="702"/>
                </a:cubicBezTo>
                <a:cubicBezTo>
                  <a:pt x="426" y="703"/>
                  <a:pt x="426" y="704"/>
                  <a:pt x="427" y="704"/>
                </a:cubicBezTo>
                <a:cubicBezTo>
                  <a:pt x="426" y="706"/>
                  <a:pt x="425" y="707"/>
                  <a:pt x="425" y="709"/>
                </a:cubicBezTo>
                <a:cubicBezTo>
                  <a:pt x="423" y="713"/>
                  <a:pt x="422" y="717"/>
                  <a:pt x="421" y="721"/>
                </a:cubicBezTo>
                <a:close/>
                <a:moveTo>
                  <a:pt x="468" y="722"/>
                </a:moveTo>
                <a:cubicBezTo>
                  <a:pt x="467" y="726"/>
                  <a:pt x="465" y="730"/>
                  <a:pt x="464" y="734"/>
                </a:cubicBezTo>
                <a:cubicBezTo>
                  <a:pt x="459" y="741"/>
                  <a:pt x="449" y="744"/>
                  <a:pt x="441" y="742"/>
                </a:cubicBezTo>
                <a:cubicBezTo>
                  <a:pt x="435" y="742"/>
                  <a:pt x="429" y="739"/>
                  <a:pt x="426" y="734"/>
                </a:cubicBezTo>
                <a:cubicBezTo>
                  <a:pt x="423" y="728"/>
                  <a:pt x="425" y="720"/>
                  <a:pt x="427" y="713"/>
                </a:cubicBezTo>
                <a:cubicBezTo>
                  <a:pt x="430" y="706"/>
                  <a:pt x="434" y="699"/>
                  <a:pt x="436" y="691"/>
                </a:cubicBezTo>
                <a:cubicBezTo>
                  <a:pt x="439" y="683"/>
                  <a:pt x="442" y="674"/>
                  <a:pt x="444" y="666"/>
                </a:cubicBezTo>
                <a:cubicBezTo>
                  <a:pt x="446" y="657"/>
                  <a:pt x="449" y="649"/>
                  <a:pt x="449" y="640"/>
                </a:cubicBezTo>
                <a:cubicBezTo>
                  <a:pt x="449" y="634"/>
                  <a:pt x="448" y="627"/>
                  <a:pt x="447" y="621"/>
                </a:cubicBezTo>
                <a:cubicBezTo>
                  <a:pt x="448" y="621"/>
                  <a:pt x="448" y="621"/>
                  <a:pt x="448" y="621"/>
                </a:cubicBezTo>
                <a:cubicBezTo>
                  <a:pt x="455" y="622"/>
                  <a:pt x="459" y="627"/>
                  <a:pt x="465" y="631"/>
                </a:cubicBezTo>
                <a:cubicBezTo>
                  <a:pt x="470" y="633"/>
                  <a:pt x="475" y="635"/>
                  <a:pt x="480" y="637"/>
                </a:cubicBezTo>
                <a:cubicBezTo>
                  <a:pt x="485" y="639"/>
                  <a:pt x="490" y="641"/>
                  <a:pt x="496" y="642"/>
                </a:cubicBezTo>
                <a:cubicBezTo>
                  <a:pt x="493" y="644"/>
                  <a:pt x="491" y="648"/>
                  <a:pt x="490" y="650"/>
                </a:cubicBezTo>
                <a:cubicBezTo>
                  <a:pt x="486" y="657"/>
                  <a:pt x="484" y="664"/>
                  <a:pt x="482" y="672"/>
                </a:cubicBezTo>
                <a:cubicBezTo>
                  <a:pt x="479" y="684"/>
                  <a:pt x="476" y="695"/>
                  <a:pt x="472" y="707"/>
                </a:cubicBezTo>
                <a:cubicBezTo>
                  <a:pt x="470" y="712"/>
                  <a:pt x="469" y="716"/>
                  <a:pt x="468" y="722"/>
                </a:cubicBezTo>
                <a:close/>
                <a:moveTo>
                  <a:pt x="641" y="696"/>
                </a:moveTo>
                <a:cubicBezTo>
                  <a:pt x="632" y="703"/>
                  <a:pt x="622" y="708"/>
                  <a:pt x="613" y="714"/>
                </a:cubicBezTo>
                <a:cubicBezTo>
                  <a:pt x="594" y="725"/>
                  <a:pt x="577" y="737"/>
                  <a:pt x="559" y="748"/>
                </a:cubicBezTo>
                <a:cubicBezTo>
                  <a:pt x="541" y="760"/>
                  <a:pt x="523" y="773"/>
                  <a:pt x="505" y="785"/>
                </a:cubicBezTo>
                <a:cubicBezTo>
                  <a:pt x="490" y="795"/>
                  <a:pt x="474" y="803"/>
                  <a:pt x="458" y="811"/>
                </a:cubicBezTo>
                <a:cubicBezTo>
                  <a:pt x="459" y="789"/>
                  <a:pt x="468" y="767"/>
                  <a:pt x="466" y="745"/>
                </a:cubicBezTo>
                <a:cubicBezTo>
                  <a:pt x="467" y="744"/>
                  <a:pt x="469" y="742"/>
                  <a:pt x="470" y="740"/>
                </a:cubicBezTo>
                <a:cubicBezTo>
                  <a:pt x="474" y="733"/>
                  <a:pt x="475" y="722"/>
                  <a:pt x="473" y="714"/>
                </a:cubicBezTo>
                <a:cubicBezTo>
                  <a:pt x="476" y="703"/>
                  <a:pt x="481" y="691"/>
                  <a:pt x="484" y="680"/>
                </a:cubicBezTo>
                <a:cubicBezTo>
                  <a:pt x="486" y="673"/>
                  <a:pt x="487" y="666"/>
                  <a:pt x="489" y="659"/>
                </a:cubicBezTo>
                <a:cubicBezTo>
                  <a:pt x="491" y="655"/>
                  <a:pt x="492" y="651"/>
                  <a:pt x="495" y="648"/>
                </a:cubicBezTo>
                <a:cubicBezTo>
                  <a:pt x="497" y="645"/>
                  <a:pt x="498" y="644"/>
                  <a:pt x="501" y="643"/>
                </a:cubicBezTo>
                <a:cubicBezTo>
                  <a:pt x="504" y="643"/>
                  <a:pt x="508" y="642"/>
                  <a:pt x="511" y="640"/>
                </a:cubicBezTo>
                <a:cubicBezTo>
                  <a:pt x="516" y="638"/>
                  <a:pt x="521" y="631"/>
                  <a:pt x="519" y="625"/>
                </a:cubicBezTo>
                <a:cubicBezTo>
                  <a:pt x="520" y="625"/>
                  <a:pt x="521" y="625"/>
                  <a:pt x="522" y="625"/>
                </a:cubicBezTo>
                <a:cubicBezTo>
                  <a:pt x="527" y="624"/>
                  <a:pt x="529" y="615"/>
                  <a:pt x="530" y="611"/>
                </a:cubicBezTo>
                <a:cubicBezTo>
                  <a:pt x="534" y="600"/>
                  <a:pt x="541" y="593"/>
                  <a:pt x="550" y="586"/>
                </a:cubicBezTo>
                <a:cubicBezTo>
                  <a:pt x="558" y="578"/>
                  <a:pt x="566" y="569"/>
                  <a:pt x="574" y="560"/>
                </a:cubicBezTo>
                <a:cubicBezTo>
                  <a:pt x="581" y="552"/>
                  <a:pt x="590" y="545"/>
                  <a:pt x="598" y="537"/>
                </a:cubicBezTo>
                <a:cubicBezTo>
                  <a:pt x="605" y="530"/>
                  <a:pt x="612" y="523"/>
                  <a:pt x="618" y="515"/>
                </a:cubicBezTo>
                <a:cubicBezTo>
                  <a:pt x="619" y="514"/>
                  <a:pt x="623" y="508"/>
                  <a:pt x="625" y="505"/>
                </a:cubicBezTo>
                <a:cubicBezTo>
                  <a:pt x="628" y="504"/>
                  <a:pt x="630" y="504"/>
                  <a:pt x="633" y="503"/>
                </a:cubicBezTo>
                <a:cubicBezTo>
                  <a:pt x="640" y="501"/>
                  <a:pt x="646" y="498"/>
                  <a:pt x="653" y="496"/>
                </a:cubicBezTo>
                <a:cubicBezTo>
                  <a:pt x="665" y="491"/>
                  <a:pt x="678" y="486"/>
                  <a:pt x="690" y="480"/>
                </a:cubicBezTo>
                <a:cubicBezTo>
                  <a:pt x="696" y="477"/>
                  <a:pt x="703" y="473"/>
                  <a:pt x="708" y="467"/>
                </a:cubicBezTo>
                <a:cubicBezTo>
                  <a:pt x="708" y="472"/>
                  <a:pt x="709" y="476"/>
                  <a:pt x="710" y="480"/>
                </a:cubicBezTo>
                <a:cubicBezTo>
                  <a:pt x="712" y="487"/>
                  <a:pt x="713" y="493"/>
                  <a:pt x="715" y="500"/>
                </a:cubicBezTo>
                <a:cubicBezTo>
                  <a:pt x="718" y="512"/>
                  <a:pt x="722" y="524"/>
                  <a:pt x="727" y="536"/>
                </a:cubicBezTo>
                <a:cubicBezTo>
                  <a:pt x="729" y="540"/>
                  <a:pt x="731" y="544"/>
                  <a:pt x="734" y="548"/>
                </a:cubicBezTo>
                <a:cubicBezTo>
                  <a:pt x="727" y="552"/>
                  <a:pt x="723" y="566"/>
                  <a:pt x="721" y="572"/>
                </a:cubicBezTo>
                <a:cubicBezTo>
                  <a:pt x="715" y="588"/>
                  <a:pt x="708" y="604"/>
                  <a:pt x="704" y="621"/>
                </a:cubicBezTo>
                <a:cubicBezTo>
                  <a:pt x="702" y="628"/>
                  <a:pt x="701" y="635"/>
                  <a:pt x="699" y="641"/>
                </a:cubicBezTo>
                <a:cubicBezTo>
                  <a:pt x="699" y="641"/>
                  <a:pt x="698" y="641"/>
                  <a:pt x="698" y="641"/>
                </a:cubicBezTo>
                <a:cubicBezTo>
                  <a:pt x="686" y="644"/>
                  <a:pt x="678" y="657"/>
                  <a:pt x="678" y="669"/>
                </a:cubicBezTo>
                <a:cubicBezTo>
                  <a:pt x="678" y="669"/>
                  <a:pt x="677" y="669"/>
                  <a:pt x="677" y="669"/>
                </a:cubicBezTo>
                <a:cubicBezTo>
                  <a:pt x="672" y="671"/>
                  <a:pt x="666" y="675"/>
                  <a:pt x="662" y="680"/>
                </a:cubicBezTo>
                <a:cubicBezTo>
                  <a:pt x="654" y="684"/>
                  <a:pt x="648" y="691"/>
                  <a:pt x="641" y="696"/>
                </a:cubicBezTo>
                <a:close/>
                <a:moveTo>
                  <a:pt x="695" y="680"/>
                </a:moveTo>
                <a:cubicBezTo>
                  <a:pt x="690" y="676"/>
                  <a:pt x="687" y="671"/>
                  <a:pt x="688" y="664"/>
                </a:cubicBezTo>
                <a:cubicBezTo>
                  <a:pt x="688" y="657"/>
                  <a:pt x="692" y="652"/>
                  <a:pt x="697" y="648"/>
                </a:cubicBezTo>
                <a:cubicBezTo>
                  <a:pt x="695" y="652"/>
                  <a:pt x="694" y="657"/>
                  <a:pt x="693" y="662"/>
                </a:cubicBezTo>
                <a:cubicBezTo>
                  <a:pt x="692" y="668"/>
                  <a:pt x="692" y="674"/>
                  <a:pt x="695" y="680"/>
                </a:cubicBezTo>
                <a:close/>
                <a:moveTo>
                  <a:pt x="698" y="685"/>
                </a:moveTo>
                <a:cubicBezTo>
                  <a:pt x="698" y="685"/>
                  <a:pt x="698" y="685"/>
                  <a:pt x="698" y="685"/>
                </a:cubicBezTo>
                <a:cubicBezTo>
                  <a:pt x="698" y="685"/>
                  <a:pt x="698" y="685"/>
                  <a:pt x="698" y="685"/>
                </a:cubicBezTo>
                <a:cubicBezTo>
                  <a:pt x="698" y="686"/>
                  <a:pt x="698" y="686"/>
                  <a:pt x="697" y="687"/>
                </a:cubicBezTo>
                <a:cubicBezTo>
                  <a:pt x="697" y="687"/>
                  <a:pt x="697" y="687"/>
                  <a:pt x="697" y="687"/>
                </a:cubicBezTo>
                <a:cubicBezTo>
                  <a:pt x="686" y="688"/>
                  <a:pt x="681" y="677"/>
                  <a:pt x="681" y="668"/>
                </a:cubicBezTo>
                <a:cubicBezTo>
                  <a:pt x="681" y="663"/>
                  <a:pt x="683" y="658"/>
                  <a:pt x="685" y="654"/>
                </a:cubicBezTo>
                <a:cubicBezTo>
                  <a:pt x="687" y="652"/>
                  <a:pt x="689" y="649"/>
                  <a:pt x="691" y="648"/>
                </a:cubicBezTo>
                <a:cubicBezTo>
                  <a:pt x="693" y="646"/>
                  <a:pt x="696" y="644"/>
                  <a:pt x="698" y="643"/>
                </a:cubicBezTo>
                <a:cubicBezTo>
                  <a:pt x="698" y="643"/>
                  <a:pt x="698" y="644"/>
                  <a:pt x="698" y="644"/>
                </a:cubicBezTo>
                <a:cubicBezTo>
                  <a:pt x="698" y="644"/>
                  <a:pt x="698" y="644"/>
                  <a:pt x="697" y="644"/>
                </a:cubicBezTo>
                <a:cubicBezTo>
                  <a:pt x="682" y="651"/>
                  <a:pt x="679" y="679"/>
                  <a:pt x="698" y="685"/>
                </a:cubicBezTo>
                <a:close/>
                <a:moveTo>
                  <a:pt x="692" y="713"/>
                </a:moveTo>
                <a:cubicBezTo>
                  <a:pt x="685" y="716"/>
                  <a:pt x="675" y="721"/>
                  <a:pt x="668" y="716"/>
                </a:cubicBezTo>
                <a:cubicBezTo>
                  <a:pt x="650" y="704"/>
                  <a:pt x="661" y="679"/>
                  <a:pt x="678" y="673"/>
                </a:cubicBezTo>
                <a:cubicBezTo>
                  <a:pt x="679" y="683"/>
                  <a:pt x="686" y="692"/>
                  <a:pt x="697" y="690"/>
                </a:cubicBezTo>
                <a:cubicBezTo>
                  <a:pt x="697" y="695"/>
                  <a:pt x="699" y="701"/>
                  <a:pt x="701" y="704"/>
                </a:cubicBezTo>
                <a:cubicBezTo>
                  <a:pt x="703" y="706"/>
                  <a:pt x="704" y="708"/>
                  <a:pt x="706" y="709"/>
                </a:cubicBezTo>
                <a:cubicBezTo>
                  <a:pt x="701" y="709"/>
                  <a:pt x="695" y="712"/>
                  <a:pt x="692" y="713"/>
                </a:cubicBezTo>
                <a:close/>
                <a:moveTo>
                  <a:pt x="704" y="702"/>
                </a:moveTo>
                <a:cubicBezTo>
                  <a:pt x="704" y="702"/>
                  <a:pt x="704" y="702"/>
                  <a:pt x="704" y="701"/>
                </a:cubicBezTo>
                <a:cubicBezTo>
                  <a:pt x="702" y="698"/>
                  <a:pt x="701" y="695"/>
                  <a:pt x="701" y="691"/>
                </a:cubicBezTo>
                <a:cubicBezTo>
                  <a:pt x="701" y="690"/>
                  <a:pt x="701" y="689"/>
                  <a:pt x="701" y="687"/>
                </a:cubicBezTo>
                <a:cubicBezTo>
                  <a:pt x="702" y="688"/>
                  <a:pt x="702" y="688"/>
                  <a:pt x="703" y="689"/>
                </a:cubicBezTo>
                <a:cubicBezTo>
                  <a:pt x="702" y="693"/>
                  <a:pt x="702" y="699"/>
                  <a:pt x="704" y="702"/>
                </a:cubicBezTo>
                <a:close/>
                <a:moveTo>
                  <a:pt x="706" y="685"/>
                </a:moveTo>
                <a:cubicBezTo>
                  <a:pt x="700" y="687"/>
                  <a:pt x="696" y="674"/>
                  <a:pt x="696" y="669"/>
                </a:cubicBezTo>
                <a:cubicBezTo>
                  <a:pt x="696" y="664"/>
                  <a:pt x="697" y="659"/>
                  <a:pt x="698" y="654"/>
                </a:cubicBezTo>
                <a:cubicBezTo>
                  <a:pt x="702" y="642"/>
                  <a:pt x="705" y="629"/>
                  <a:pt x="708" y="616"/>
                </a:cubicBezTo>
                <a:cubicBezTo>
                  <a:pt x="712" y="602"/>
                  <a:pt x="718" y="588"/>
                  <a:pt x="723" y="574"/>
                </a:cubicBezTo>
                <a:cubicBezTo>
                  <a:pt x="725" y="569"/>
                  <a:pt x="727" y="564"/>
                  <a:pt x="729" y="559"/>
                </a:cubicBezTo>
                <a:cubicBezTo>
                  <a:pt x="731" y="556"/>
                  <a:pt x="733" y="553"/>
                  <a:pt x="735" y="551"/>
                </a:cubicBezTo>
                <a:cubicBezTo>
                  <a:pt x="736" y="551"/>
                  <a:pt x="736" y="552"/>
                  <a:pt x="737" y="553"/>
                </a:cubicBezTo>
                <a:cubicBezTo>
                  <a:pt x="731" y="556"/>
                  <a:pt x="731" y="564"/>
                  <a:pt x="728" y="569"/>
                </a:cubicBezTo>
                <a:cubicBezTo>
                  <a:pt x="726" y="574"/>
                  <a:pt x="724" y="580"/>
                  <a:pt x="724" y="586"/>
                </a:cubicBezTo>
                <a:cubicBezTo>
                  <a:pt x="724" y="586"/>
                  <a:pt x="724" y="587"/>
                  <a:pt x="724" y="586"/>
                </a:cubicBezTo>
                <a:cubicBezTo>
                  <a:pt x="726" y="581"/>
                  <a:pt x="728" y="576"/>
                  <a:pt x="729" y="570"/>
                </a:cubicBezTo>
                <a:cubicBezTo>
                  <a:pt x="730" y="566"/>
                  <a:pt x="732" y="563"/>
                  <a:pt x="734" y="559"/>
                </a:cubicBezTo>
                <a:cubicBezTo>
                  <a:pt x="735" y="558"/>
                  <a:pt x="736" y="555"/>
                  <a:pt x="737" y="554"/>
                </a:cubicBezTo>
                <a:cubicBezTo>
                  <a:pt x="741" y="559"/>
                  <a:pt x="745" y="565"/>
                  <a:pt x="750" y="570"/>
                </a:cubicBezTo>
                <a:cubicBezTo>
                  <a:pt x="748" y="571"/>
                  <a:pt x="746" y="578"/>
                  <a:pt x="746" y="579"/>
                </a:cubicBezTo>
                <a:cubicBezTo>
                  <a:pt x="743" y="585"/>
                  <a:pt x="740" y="591"/>
                  <a:pt x="736" y="598"/>
                </a:cubicBezTo>
                <a:cubicBezTo>
                  <a:pt x="733" y="605"/>
                  <a:pt x="729" y="612"/>
                  <a:pt x="726" y="619"/>
                </a:cubicBezTo>
                <a:cubicBezTo>
                  <a:pt x="722" y="627"/>
                  <a:pt x="717" y="634"/>
                  <a:pt x="712" y="642"/>
                </a:cubicBezTo>
                <a:cubicBezTo>
                  <a:pt x="711" y="642"/>
                  <a:pt x="712" y="643"/>
                  <a:pt x="712" y="643"/>
                </a:cubicBezTo>
                <a:cubicBezTo>
                  <a:pt x="708" y="648"/>
                  <a:pt x="707" y="654"/>
                  <a:pt x="708" y="660"/>
                </a:cubicBezTo>
                <a:cubicBezTo>
                  <a:pt x="709" y="663"/>
                  <a:pt x="711" y="666"/>
                  <a:pt x="714" y="668"/>
                </a:cubicBezTo>
                <a:cubicBezTo>
                  <a:pt x="716" y="670"/>
                  <a:pt x="720" y="671"/>
                  <a:pt x="722" y="671"/>
                </a:cubicBezTo>
                <a:cubicBezTo>
                  <a:pt x="723" y="671"/>
                  <a:pt x="723" y="671"/>
                  <a:pt x="723" y="670"/>
                </a:cubicBezTo>
                <a:cubicBezTo>
                  <a:pt x="720" y="673"/>
                  <a:pt x="717" y="677"/>
                  <a:pt x="714" y="680"/>
                </a:cubicBezTo>
                <a:cubicBezTo>
                  <a:pt x="713" y="681"/>
                  <a:pt x="712" y="682"/>
                  <a:pt x="711" y="683"/>
                </a:cubicBezTo>
                <a:cubicBezTo>
                  <a:pt x="711" y="683"/>
                  <a:pt x="711" y="683"/>
                  <a:pt x="710" y="683"/>
                </a:cubicBezTo>
                <a:cubicBezTo>
                  <a:pt x="705" y="682"/>
                  <a:pt x="702" y="673"/>
                  <a:pt x="702" y="668"/>
                </a:cubicBezTo>
                <a:cubicBezTo>
                  <a:pt x="702" y="667"/>
                  <a:pt x="701" y="667"/>
                  <a:pt x="701" y="668"/>
                </a:cubicBezTo>
                <a:cubicBezTo>
                  <a:pt x="700" y="674"/>
                  <a:pt x="701" y="681"/>
                  <a:pt x="706" y="685"/>
                </a:cubicBezTo>
                <a:close/>
                <a:moveTo>
                  <a:pt x="789" y="596"/>
                </a:moveTo>
                <a:cubicBezTo>
                  <a:pt x="778" y="622"/>
                  <a:pt x="756" y="644"/>
                  <a:pt x="733" y="660"/>
                </a:cubicBezTo>
                <a:cubicBezTo>
                  <a:pt x="734" y="658"/>
                  <a:pt x="734" y="655"/>
                  <a:pt x="736" y="653"/>
                </a:cubicBezTo>
                <a:cubicBezTo>
                  <a:pt x="738" y="649"/>
                  <a:pt x="741" y="646"/>
                  <a:pt x="744" y="643"/>
                </a:cubicBezTo>
                <a:cubicBezTo>
                  <a:pt x="749" y="637"/>
                  <a:pt x="753" y="631"/>
                  <a:pt x="758" y="625"/>
                </a:cubicBezTo>
                <a:cubicBezTo>
                  <a:pt x="762" y="618"/>
                  <a:pt x="767" y="610"/>
                  <a:pt x="772" y="604"/>
                </a:cubicBezTo>
                <a:cubicBezTo>
                  <a:pt x="775" y="600"/>
                  <a:pt x="779" y="596"/>
                  <a:pt x="779" y="591"/>
                </a:cubicBezTo>
                <a:cubicBezTo>
                  <a:pt x="782" y="593"/>
                  <a:pt x="786" y="595"/>
                  <a:pt x="789" y="596"/>
                </a:cubicBezTo>
                <a:cubicBezTo>
                  <a:pt x="789" y="596"/>
                  <a:pt x="789" y="596"/>
                  <a:pt x="789" y="596"/>
                </a:cubicBezTo>
                <a:close/>
                <a:moveTo>
                  <a:pt x="792" y="597"/>
                </a:moveTo>
                <a:cubicBezTo>
                  <a:pt x="794" y="598"/>
                  <a:pt x="795" y="598"/>
                  <a:pt x="797" y="599"/>
                </a:cubicBezTo>
                <a:cubicBezTo>
                  <a:pt x="794" y="610"/>
                  <a:pt x="784" y="618"/>
                  <a:pt x="776" y="625"/>
                </a:cubicBezTo>
                <a:cubicBezTo>
                  <a:pt x="775" y="626"/>
                  <a:pt x="775" y="626"/>
                  <a:pt x="774" y="627"/>
                </a:cubicBezTo>
                <a:cubicBezTo>
                  <a:pt x="781" y="618"/>
                  <a:pt x="788" y="608"/>
                  <a:pt x="792" y="597"/>
                </a:cubicBezTo>
                <a:close/>
                <a:moveTo>
                  <a:pt x="777" y="590"/>
                </a:moveTo>
                <a:cubicBezTo>
                  <a:pt x="776" y="596"/>
                  <a:pt x="769" y="603"/>
                  <a:pt x="765" y="608"/>
                </a:cubicBezTo>
                <a:cubicBezTo>
                  <a:pt x="761" y="615"/>
                  <a:pt x="756" y="621"/>
                  <a:pt x="751" y="628"/>
                </a:cubicBezTo>
                <a:cubicBezTo>
                  <a:pt x="746" y="634"/>
                  <a:pt x="741" y="640"/>
                  <a:pt x="736" y="647"/>
                </a:cubicBezTo>
                <a:cubicBezTo>
                  <a:pt x="732" y="652"/>
                  <a:pt x="730" y="658"/>
                  <a:pt x="727" y="664"/>
                </a:cubicBezTo>
                <a:cubicBezTo>
                  <a:pt x="727" y="664"/>
                  <a:pt x="727" y="664"/>
                  <a:pt x="727" y="664"/>
                </a:cubicBezTo>
                <a:cubicBezTo>
                  <a:pt x="726" y="665"/>
                  <a:pt x="724" y="667"/>
                  <a:pt x="722" y="667"/>
                </a:cubicBezTo>
                <a:cubicBezTo>
                  <a:pt x="720" y="666"/>
                  <a:pt x="717" y="666"/>
                  <a:pt x="715" y="665"/>
                </a:cubicBezTo>
                <a:cubicBezTo>
                  <a:pt x="713" y="663"/>
                  <a:pt x="712" y="660"/>
                  <a:pt x="712" y="657"/>
                </a:cubicBezTo>
                <a:cubicBezTo>
                  <a:pt x="711" y="653"/>
                  <a:pt x="713" y="648"/>
                  <a:pt x="714" y="644"/>
                </a:cubicBezTo>
                <a:cubicBezTo>
                  <a:pt x="724" y="634"/>
                  <a:pt x="732" y="623"/>
                  <a:pt x="740" y="611"/>
                </a:cubicBezTo>
                <a:cubicBezTo>
                  <a:pt x="744" y="605"/>
                  <a:pt x="748" y="599"/>
                  <a:pt x="752" y="593"/>
                </a:cubicBezTo>
                <a:cubicBezTo>
                  <a:pt x="756" y="589"/>
                  <a:pt x="760" y="585"/>
                  <a:pt x="762" y="580"/>
                </a:cubicBezTo>
                <a:cubicBezTo>
                  <a:pt x="765" y="582"/>
                  <a:pt x="768" y="584"/>
                  <a:pt x="772" y="586"/>
                </a:cubicBezTo>
                <a:cubicBezTo>
                  <a:pt x="773" y="587"/>
                  <a:pt x="775" y="588"/>
                  <a:pt x="777" y="589"/>
                </a:cubicBezTo>
                <a:cubicBezTo>
                  <a:pt x="777" y="589"/>
                  <a:pt x="777" y="589"/>
                  <a:pt x="777" y="590"/>
                </a:cubicBezTo>
                <a:close/>
                <a:moveTo>
                  <a:pt x="749" y="591"/>
                </a:moveTo>
                <a:cubicBezTo>
                  <a:pt x="745" y="597"/>
                  <a:pt x="741" y="603"/>
                  <a:pt x="737" y="610"/>
                </a:cubicBezTo>
                <a:cubicBezTo>
                  <a:pt x="734" y="614"/>
                  <a:pt x="731" y="619"/>
                  <a:pt x="728" y="623"/>
                </a:cubicBezTo>
                <a:cubicBezTo>
                  <a:pt x="728" y="622"/>
                  <a:pt x="729" y="621"/>
                  <a:pt x="729" y="621"/>
                </a:cubicBezTo>
                <a:cubicBezTo>
                  <a:pt x="732" y="614"/>
                  <a:pt x="735" y="606"/>
                  <a:pt x="739" y="600"/>
                </a:cubicBezTo>
                <a:cubicBezTo>
                  <a:pt x="742" y="593"/>
                  <a:pt x="746" y="587"/>
                  <a:pt x="749" y="580"/>
                </a:cubicBezTo>
                <a:cubicBezTo>
                  <a:pt x="750" y="579"/>
                  <a:pt x="752" y="574"/>
                  <a:pt x="752" y="571"/>
                </a:cubicBezTo>
                <a:cubicBezTo>
                  <a:pt x="754" y="574"/>
                  <a:pt x="757" y="576"/>
                  <a:pt x="760" y="578"/>
                </a:cubicBezTo>
                <a:cubicBezTo>
                  <a:pt x="756" y="582"/>
                  <a:pt x="753" y="587"/>
                  <a:pt x="749" y="591"/>
                </a:cubicBezTo>
                <a:close/>
                <a:moveTo>
                  <a:pt x="744" y="695"/>
                </a:moveTo>
                <a:cubicBezTo>
                  <a:pt x="743" y="697"/>
                  <a:pt x="741" y="699"/>
                  <a:pt x="740" y="701"/>
                </a:cubicBezTo>
                <a:cubicBezTo>
                  <a:pt x="735" y="706"/>
                  <a:pt x="729" y="709"/>
                  <a:pt x="722" y="708"/>
                </a:cubicBezTo>
                <a:cubicBezTo>
                  <a:pt x="717" y="708"/>
                  <a:pt x="713" y="707"/>
                  <a:pt x="709" y="704"/>
                </a:cubicBezTo>
                <a:cubicBezTo>
                  <a:pt x="714" y="706"/>
                  <a:pt x="720" y="705"/>
                  <a:pt x="724" y="704"/>
                </a:cubicBezTo>
                <a:cubicBezTo>
                  <a:pt x="731" y="701"/>
                  <a:pt x="738" y="697"/>
                  <a:pt x="744" y="693"/>
                </a:cubicBezTo>
                <a:cubicBezTo>
                  <a:pt x="744" y="694"/>
                  <a:pt x="744" y="694"/>
                  <a:pt x="744" y="695"/>
                </a:cubicBezTo>
                <a:close/>
                <a:moveTo>
                  <a:pt x="821" y="625"/>
                </a:moveTo>
                <a:cubicBezTo>
                  <a:pt x="821" y="625"/>
                  <a:pt x="821" y="625"/>
                  <a:pt x="820" y="625"/>
                </a:cubicBezTo>
                <a:cubicBezTo>
                  <a:pt x="811" y="635"/>
                  <a:pt x="800" y="644"/>
                  <a:pt x="789" y="653"/>
                </a:cubicBezTo>
                <a:cubicBezTo>
                  <a:pt x="779" y="662"/>
                  <a:pt x="768" y="671"/>
                  <a:pt x="757" y="679"/>
                </a:cubicBezTo>
                <a:cubicBezTo>
                  <a:pt x="748" y="686"/>
                  <a:pt x="738" y="694"/>
                  <a:pt x="727" y="699"/>
                </a:cubicBezTo>
                <a:cubicBezTo>
                  <a:pt x="722" y="701"/>
                  <a:pt x="718" y="702"/>
                  <a:pt x="713" y="702"/>
                </a:cubicBezTo>
                <a:cubicBezTo>
                  <a:pt x="709" y="701"/>
                  <a:pt x="706" y="699"/>
                  <a:pt x="708" y="694"/>
                </a:cubicBezTo>
                <a:cubicBezTo>
                  <a:pt x="710" y="688"/>
                  <a:pt x="716" y="683"/>
                  <a:pt x="720" y="678"/>
                </a:cubicBezTo>
                <a:cubicBezTo>
                  <a:pt x="725" y="673"/>
                  <a:pt x="730" y="669"/>
                  <a:pt x="735" y="664"/>
                </a:cubicBezTo>
                <a:cubicBezTo>
                  <a:pt x="745" y="656"/>
                  <a:pt x="755" y="648"/>
                  <a:pt x="765" y="640"/>
                </a:cubicBezTo>
                <a:cubicBezTo>
                  <a:pt x="772" y="633"/>
                  <a:pt x="780" y="627"/>
                  <a:pt x="787" y="620"/>
                </a:cubicBezTo>
                <a:cubicBezTo>
                  <a:pt x="792" y="614"/>
                  <a:pt x="798" y="608"/>
                  <a:pt x="800" y="599"/>
                </a:cubicBezTo>
                <a:cubicBezTo>
                  <a:pt x="801" y="599"/>
                  <a:pt x="802" y="599"/>
                  <a:pt x="803" y="599"/>
                </a:cubicBezTo>
                <a:cubicBezTo>
                  <a:pt x="807" y="600"/>
                  <a:pt x="812" y="599"/>
                  <a:pt x="817" y="599"/>
                </a:cubicBezTo>
                <a:cubicBezTo>
                  <a:pt x="820" y="599"/>
                  <a:pt x="822" y="599"/>
                  <a:pt x="824" y="598"/>
                </a:cubicBezTo>
                <a:cubicBezTo>
                  <a:pt x="822" y="607"/>
                  <a:pt x="821" y="615"/>
                  <a:pt x="821" y="625"/>
                </a:cubicBezTo>
                <a:close/>
                <a:moveTo>
                  <a:pt x="824" y="594"/>
                </a:moveTo>
                <a:cubicBezTo>
                  <a:pt x="820" y="597"/>
                  <a:pt x="814" y="595"/>
                  <a:pt x="810" y="596"/>
                </a:cubicBezTo>
                <a:cubicBezTo>
                  <a:pt x="806" y="596"/>
                  <a:pt x="802" y="596"/>
                  <a:pt x="797" y="595"/>
                </a:cubicBezTo>
                <a:cubicBezTo>
                  <a:pt x="787" y="592"/>
                  <a:pt x="776" y="586"/>
                  <a:pt x="767" y="580"/>
                </a:cubicBezTo>
                <a:cubicBezTo>
                  <a:pt x="750" y="569"/>
                  <a:pt x="737" y="550"/>
                  <a:pt x="730" y="532"/>
                </a:cubicBezTo>
                <a:cubicBezTo>
                  <a:pt x="727" y="527"/>
                  <a:pt x="725" y="522"/>
                  <a:pt x="724" y="516"/>
                </a:cubicBezTo>
                <a:cubicBezTo>
                  <a:pt x="724" y="516"/>
                  <a:pt x="724" y="516"/>
                  <a:pt x="724" y="516"/>
                </a:cubicBezTo>
                <a:cubicBezTo>
                  <a:pt x="717" y="496"/>
                  <a:pt x="713" y="474"/>
                  <a:pt x="718" y="453"/>
                </a:cubicBezTo>
                <a:cubicBezTo>
                  <a:pt x="720" y="442"/>
                  <a:pt x="724" y="430"/>
                  <a:pt x="732" y="422"/>
                </a:cubicBezTo>
                <a:cubicBezTo>
                  <a:pt x="736" y="419"/>
                  <a:pt x="740" y="418"/>
                  <a:pt x="744" y="415"/>
                </a:cubicBezTo>
                <a:cubicBezTo>
                  <a:pt x="745" y="414"/>
                  <a:pt x="746" y="414"/>
                  <a:pt x="747" y="413"/>
                </a:cubicBezTo>
                <a:cubicBezTo>
                  <a:pt x="750" y="412"/>
                  <a:pt x="753" y="412"/>
                  <a:pt x="755" y="411"/>
                </a:cubicBezTo>
                <a:cubicBezTo>
                  <a:pt x="769" y="409"/>
                  <a:pt x="782" y="405"/>
                  <a:pt x="795" y="399"/>
                </a:cubicBezTo>
                <a:cubicBezTo>
                  <a:pt x="796" y="399"/>
                  <a:pt x="796" y="399"/>
                  <a:pt x="797" y="398"/>
                </a:cubicBezTo>
                <a:cubicBezTo>
                  <a:pt x="803" y="397"/>
                  <a:pt x="808" y="394"/>
                  <a:pt x="815" y="395"/>
                </a:cubicBezTo>
                <a:cubicBezTo>
                  <a:pt x="816" y="396"/>
                  <a:pt x="817" y="396"/>
                  <a:pt x="817" y="396"/>
                </a:cubicBezTo>
                <a:cubicBezTo>
                  <a:pt x="822" y="397"/>
                  <a:pt x="827" y="398"/>
                  <a:pt x="831" y="399"/>
                </a:cubicBezTo>
                <a:cubicBezTo>
                  <a:pt x="840" y="402"/>
                  <a:pt x="848" y="406"/>
                  <a:pt x="854" y="412"/>
                </a:cubicBezTo>
                <a:cubicBezTo>
                  <a:pt x="866" y="423"/>
                  <a:pt x="879" y="437"/>
                  <a:pt x="884" y="452"/>
                </a:cubicBezTo>
                <a:cubicBezTo>
                  <a:pt x="889" y="470"/>
                  <a:pt x="892" y="490"/>
                  <a:pt x="890" y="509"/>
                </a:cubicBezTo>
                <a:cubicBezTo>
                  <a:pt x="890" y="517"/>
                  <a:pt x="888" y="525"/>
                  <a:pt x="887" y="534"/>
                </a:cubicBezTo>
                <a:cubicBezTo>
                  <a:pt x="887" y="540"/>
                  <a:pt x="887" y="547"/>
                  <a:pt x="885" y="553"/>
                </a:cubicBezTo>
                <a:cubicBezTo>
                  <a:pt x="879" y="543"/>
                  <a:pt x="866" y="539"/>
                  <a:pt x="857" y="548"/>
                </a:cubicBezTo>
                <a:cubicBezTo>
                  <a:pt x="846" y="558"/>
                  <a:pt x="834" y="567"/>
                  <a:pt x="829" y="582"/>
                </a:cubicBezTo>
                <a:cubicBezTo>
                  <a:pt x="827" y="586"/>
                  <a:pt x="826" y="590"/>
                  <a:pt x="825" y="594"/>
                </a:cubicBezTo>
                <a:cubicBezTo>
                  <a:pt x="825" y="594"/>
                  <a:pt x="824" y="594"/>
                  <a:pt x="824" y="594"/>
                </a:cubicBezTo>
                <a:close/>
                <a:moveTo>
                  <a:pt x="935" y="598"/>
                </a:moveTo>
                <a:cubicBezTo>
                  <a:pt x="940" y="605"/>
                  <a:pt x="945" y="611"/>
                  <a:pt x="949" y="618"/>
                </a:cubicBezTo>
                <a:cubicBezTo>
                  <a:pt x="957" y="632"/>
                  <a:pt x="964" y="647"/>
                  <a:pt x="970" y="661"/>
                </a:cubicBezTo>
                <a:cubicBezTo>
                  <a:pt x="973" y="668"/>
                  <a:pt x="976" y="676"/>
                  <a:pt x="976" y="684"/>
                </a:cubicBezTo>
                <a:cubicBezTo>
                  <a:pt x="976" y="692"/>
                  <a:pt x="974" y="700"/>
                  <a:pt x="970" y="707"/>
                </a:cubicBezTo>
                <a:cubicBezTo>
                  <a:pt x="965" y="715"/>
                  <a:pt x="960" y="721"/>
                  <a:pt x="950" y="724"/>
                </a:cubicBezTo>
                <a:cubicBezTo>
                  <a:pt x="943" y="727"/>
                  <a:pt x="936" y="729"/>
                  <a:pt x="929" y="730"/>
                </a:cubicBezTo>
                <a:cubicBezTo>
                  <a:pt x="920" y="731"/>
                  <a:pt x="911" y="731"/>
                  <a:pt x="903" y="732"/>
                </a:cubicBezTo>
                <a:cubicBezTo>
                  <a:pt x="896" y="732"/>
                  <a:pt x="889" y="732"/>
                  <a:pt x="883" y="732"/>
                </a:cubicBezTo>
                <a:cubicBezTo>
                  <a:pt x="866" y="729"/>
                  <a:pt x="855" y="717"/>
                  <a:pt x="848" y="702"/>
                </a:cubicBezTo>
                <a:cubicBezTo>
                  <a:pt x="841" y="687"/>
                  <a:pt x="833" y="673"/>
                  <a:pt x="829" y="657"/>
                </a:cubicBezTo>
                <a:cubicBezTo>
                  <a:pt x="826" y="642"/>
                  <a:pt x="824" y="626"/>
                  <a:pt x="826" y="610"/>
                </a:cubicBezTo>
                <a:cubicBezTo>
                  <a:pt x="827" y="595"/>
                  <a:pt x="832" y="577"/>
                  <a:pt x="844" y="565"/>
                </a:cubicBezTo>
                <a:cubicBezTo>
                  <a:pt x="849" y="560"/>
                  <a:pt x="854" y="554"/>
                  <a:pt x="860" y="549"/>
                </a:cubicBezTo>
                <a:cubicBezTo>
                  <a:pt x="864" y="547"/>
                  <a:pt x="868" y="546"/>
                  <a:pt x="871" y="547"/>
                </a:cubicBezTo>
                <a:cubicBezTo>
                  <a:pt x="868" y="549"/>
                  <a:pt x="864" y="551"/>
                  <a:pt x="862" y="555"/>
                </a:cubicBezTo>
                <a:cubicBezTo>
                  <a:pt x="856" y="565"/>
                  <a:pt x="855" y="577"/>
                  <a:pt x="848" y="587"/>
                </a:cubicBezTo>
                <a:cubicBezTo>
                  <a:pt x="842" y="597"/>
                  <a:pt x="839" y="609"/>
                  <a:pt x="838" y="621"/>
                </a:cubicBezTo>
                <a:cubicBezTo>
                  <a:pt x="836" y="632"/>
                  <a:pt x="836" y="644"/>
                  <a:pt x="839" y="655"/>
                </a:cubicBezTo>
                <a:cubicBezTo>
                  <a:pt x="840" y="656"/>
                  <a:pt x="841" y="656"/>
                  <a:pt x="841" y="655"/>
                </a:cubicBezTo>
                <a:cubicBezTo>
                  <a:pt x="839" y="636"/>
                  <a:pt x="840" y="613"/>
                  <a:pt x="848" y="595"/>
                </a:cubicBezTo>
                <a:cubicBezTo>
                  <a:pt x="850" y="590"/>
                  <a:pt x="854" y="586"/>
                  <a:pt x="856" y="580"/>
                </a:cubicBezTo>
                <a:cubicBezTo>
                  <a:pt x="858" y="576"/>
                  <a:pt x="859" y="572"/>
                  <a:pt x="861" y="567"/>
                </a:cubicBezTo>
                <a:cubicBezTo>
                  <a:pt x="862" y="562"/>
                  <a:pt x="864" y="557"/>
                  <a:pt x="868" y="553"/>
                </a:cubicBezTo>
                <a:cubicBezTo>
                  <a:pt x="871" y="551"/>
                  <a:pt x="873" y="549"/>
                  <a:pt x="876" y="550"/>
                </a:cubicBezTo>
                <a:cubicBezTo>
                  <a:pt x="877" y="550"/>
                  <a:pt x="877" y="550"/>
                  <a:pt x="877" y="550"/>
                </a:cubicBezTo>
                <a:cubicBezTo>
                  <a:pt x="879" y="552"/>
                  <a:pt x="881" y="554"/>
                  <a:pt x="882" y="556"/>
                </a:cubicBezTo>
                <a:cubicBezTo>
                  <a:pt x="882" y="556"/>
                  <a:pt x="882" y="557"/>
                  <a:pt x="882" y="557"/>
                </a:cubicBezTo>
                <a:cubicBezTo>
                  <a:pt x="880" y="556"/>
                  <a:pt x="877" y="557"/>
                  <a:pt x="875" y="557"/>
                </a:cubicBezTo>
                <a:cubicBezTo>
                  <a:pt x="871" y="558"/>
                  <a:pt x="868" y="560"/>
                  <a:pt x="866" y="564"/>
                </a:cubicBezTo>
                <a:cubicBezTo>
                  <a:pt x="866" y="564"/>
                  <a:pt x="866" y="565"/>
                  <a:pt x="866" y="564"/>
                </a:cubicBezTo>
                <a:cubicBezTo>
                  <a:pt x="869" y="562"/>
                  <a:pt x="872" y="559"/>
                  <a:pt x="875" y="558"/>
                </a:cubicBezTo>
                <a:cubicBezTo>
                  <a:pt x="878" y="558"/>
                  <a:pt x="881" y="559"/>
                  <a:pt x="884" y="559"/>
                </a:cubicBezTo>
                <a:cubicBezTo>
                  <a:pt x="883" y="560"/>
                  <a:pt x="883" y="561"/>
                  <a:pt x="882" y="562"/>
                </a:cubicBezTo>
                <a:cubicBezTo>
                  <a:pt x="880" y="560"/>
                  <a:pt x="877" y="562"/>
                  <a:pt x="875" y="564"/>
                </a:cubicBezTo>
                <a:cubicBezTo>
                  <a:pt x="875" y="564"/>
                  <a:pt x="875" y="564"/>
                  <a:pt x="874" y="564"/>
                </a:cubicBezTo>
                <a:cubicBezTo>
                  <a:pt x="872" y="565"/>
                  <a:pt x="870" y="568"/>
                  <a:pt x="868" y="571"/>
                </a:cubicBezTo>
                <a:cubicBezTo>
                  <a:pt x="866" y="574"/>
                  <a:pt x="864" y="578"/>
                  <a:pt x="862" y="582"/>
                </a:cubicBezTo>
                <a:cubicBezTo>
                  <a:pt x="858" y="589"/>
                  <a:pt x="855" y="596"/>
                  <a:pt x="853" y="604"/>
                </a:cubicBezTo>
                <a:cubicBezTo>
                  <a:pt x="851" y="611"/>
                  <a:pt x="851" y="618"/>
                  <a:pt x="851" y="626"/>
                </a:cubicBezTo>
                <a:cubicBezTo>
                  <a:pt x="850" y="631"/>
                  <a:pt x="849" y="637"/>
                  <a:pt x="852" y="642"/>
                </a:cubicBezTo>
                <a:cubicBezTo>
                  <a:pt x="852" y="643"/>
                  <a:pt x="853" y="642"/>
                  <a:pt x="853" y="642"/>
                </a:cubicBezTo>
                <a:cubicBezTo>
                  <a:pt x="850" y="629"/>
                  <a:pt x="852" y="614"/>
                  <a:pt x="856" y="601"/>
                </a:cubicBezTo>
                <a:cubicBezTo>
                  <a:pt x="858" y="595"/>
                  <a:pt x="861" y="589"/>
                  <a:pt x="864" y="583"/>
                </a:cubicBezTo>
                <a:cubicBezTo>
                  <a:pt x="861" y="592"/>
                  <a:pt x="859" y="602"/>
                  <a:pt x="859" y="610"/>
                </a:cubicBezTo>
                <a:cubicBezTo>
                  <a:pt x="858" y="614"/>
                  <a:pt x="859" y="618"/>
                  <a:pt x="859" y="622"/>
                </a:cubicBezTo>
                <a:cubicBezTo>
                  <a:pt x="859" y="625"/>
                  <a:pt x="858" y="628"/>
                  <a:pt x="859" y="631"/>
                </a:cubicBezTo>
                <a:cubicBezTo>
                  <a:pt x="860" y="638"/>
                  <a:pt x="861" y="646"/>
                  <a:pt x="865" y="652"/>
                </a:cubicBezTo>
                <a:cubicBezTo>
                  <a:pt x="865" y="652"/>
                  <a:pt x="865" y="652"/>
                  <a:pt x="865" y="651"/>
                </a:cubicBezTo>
                <a:cubicBezTo>
                  <a:pt x="863" y="645"/>
                  <a:pt x="861" y="638"/>
                  <a:pt x="860" y="631"/>
                </a:cubicBezTo>
                <a:cubicBezTo>
                  <a:pt x="860" y="627"/>
                  <a:pt x="859" y="624"/>
                  <a:pt x="859" y="620"/>
                </a:cubicBezTo>
                <a:cubicBezTo>
                  <a:pt x="860" y="617"/>
                  <a:pt x="861" y="614"/>
                  <a:pt x="861" y="611"/>
                </a:cubicBezTo>
                <a:cubicBezTo>
                  <a:pt x="861" y="604"/>
                  <a:pt x="862" y="597"/>
                  <a:pt x="864" y="591"/>
                </a:cubicBezTo>
                <a:cubicBezTo>
                  <a:pt x="866" y="584"/>
                  <a:pt x="869" y="579"/>
                  <a:pt x="873" y="573"/>
                </a:cubicBezTo>
                <a:cubicBezTo>
                  <a:pt x="873" y="574"/>
                  <a:pt x="873" y="575"/>
                  <a:pt x="873" y="576"/>
                </a:cubicBezTo>
                <a:cubicBezTo>
                  <a:pt x="871" y="582"/>
                  <a:pt x="869" y="588"/>
                  <a:pt x="867" y="595"/>
                </a:cubicBezTo>
                <a:cubicBezTo>
                  <a:pt x="867" y="599"/>
                  <a:pt x="867" y="603"/>
                  <a:pt x="866" y="607"/>
                </a:cubicBezTo>
                <a:cubicBezTo>
                  <a:pt x="866" y="611"/>
                  <a:pt x="865" y="614"/>
                  <a:pt x="865" y="618"/>
                </a:cubicBezTo>
                <a:cubicBezTo>
                  <a:pt x="866" y="627"/>
                  <a:pt x="866" y="636"/>
                  <a:pt x="868" y="644"/>
                </a:cubicBezTo>
                <a:cubicBezTo>
                  <a:pt x="869" y="652"/>
                  <a:pt x="871" y="660"/>
                  <a:pt x="872" y="668"/>
                </a:cubicBezTo>
                <a:cubicBezTo>
                  <a:pt x="872" y="668"/>
                  <a:pt x="873" y="668"/>
                  <a:pt x="873" y="668"/>
                </a:cubicBezTo>
                <a:cubicBezTo>
                  <a:pt x="873" y="659"/>
                  <a:pt x="870" y="651"/>
                  <a:pt x="869" y="642"/>
                </a:cubicBezTo>
                <a:cubicBezTo>
                  <a:pt x="868" y="634"/>
                  <a:pt x="867" y="626"/>
                  <a:pt x="867" y="618"/>
                </a:cubicBezTo>
                <a:cubicBezTo>
                  <a:pt x="867" y="613"/>
                  <a:pt x="867" y="608"/>
                  <a:pt x="868" y="603"/>
                </a:cubicBezTo>
                <a:cubicBezTo>
                  <a:pt x="869" y="600"/>
                  <a:pt x="868" y="595"/>
                  <a:pt x="869" y="592"/>
                </a:cubicBezTo>
                <a:cubicBezTo>
                  <a:pt x="870" y="588"/>
                  <a:pt x="873" y="584"/>
                  <a:pt x="874" y="579"/>
                </a:cubicBezTo>
                <a:cubicBezTo>
                  <a:pt x="875" y="580"/>
                  <a:pt x="875" y="580"/>
                  <a:pt x="875" y="581"/>
                </a:cubicBezTo>
                <a:cubicBezTo>
                  <a:pt x="875" y="581"/>
                  <a:pt x="875" y="581"/>
                  <a:pt x="875" y="581"/>
                </a:cubicBezTo>
                <a:cubicBezTo>
                  <a:pt x="874" y="584"/>
                  <a:pt x="873" y="589"/>
                  <a:pt x="872" y="592"/>
                </a:cubicBezTo>
                <a:cubicBezTo>
                  <a:pt x="871" y="596"/>
                  <a:pt x="871" y="601"/>
                  <a:pt x="870" y="606"/>
                </a:cubicBezTo>
                <a:cubicBezTo>
                  <a:pt x="870" y="607"/>
                  <a:pt x="872" y="607"/>
                  <a:pt x="872" y="606"/>
                </a:cubicBezTo>
                <a:cubicBezTo>
                  <a:pt x="873" y="601"/>
                  <a:pt x="874" y="596"/>
                  <a:pt x="875" y="591"/>
                </a:cubicBezTo>
                <a:cubicBezTo>
                  <a:pt x="875" y="588"/>
                  <a:pt x="877" y="585"/>
                  <a:pt x="878" y="583"/>
                </a:cubicBezTo>
                <a:cubicBezTo>
                  <a:pt x="879" y="584"/>
                  <a:pt x="881" y="585"/>
                  <a:pt x="883" y="586"/>
                </a:cubicBezTo>
                <a:cubicBezTo>
                  <a:pt x="882" y="587"/>
                  <a:pt x="882" y="588"/>
                  <a:pt x="882" y="589"/>
                </a:cubicBezTo>
                <a:cubicBezTo>
                  <a:pt x="882" y="591"/>
                  <a:pt x="882" y="593"/>
                  <a:pt x="883" y="594"/>
                </a:cubicBezTo>
                <a:cubicBezTo>
                  <a:pt x="883" y="595"/>
                  <a:pt x="884" y="594"/>
                  <a:pt x="884" y="594"/>
                </a:cubicBezTo>
                <a:cubicBezTo>
                  <a:pt x="884" y="592"/>
                  <a:pt x="884" y="590"/>
                  <a:pt x="884" y="589"/>
                </a:cubicBezTo>
                <a:cubicBezTo>
                  <a:pt x="884" y="588"/>
                  <a:pt x="884" y="587"/>
                  <a:pt x="884" y="586"/>
                </a:cubicBezTo>
                <a:cubicBezTo>
                  <a:pt x="886" y="587"/>
                  <a:pt x="889" y="587"/>
                  <a:pt x="891" y="586"/>
                </a:cubicBezTo>
                <a:cubicBezTo>
                  <a:pt x="891" y="591"/>
                  <a:pt x="895" y="598"/>
                  <a:pt x="898" y="602"/>
                </a:cubicBezTo>
                <a:cubicBezTo>
                  <a:pt x="904" y="609"/>
                  <a:pt x="908" y="617"/>
                  <a:pt x="916" y="624"/>
                </a:cubicBezTo>
                <a:cubicBezTo>
                  <a:pt x="916" y="624"/>
                  <a:pt x="917" y="623"/>
                  <a:pt x="916" y="623"/>
                </a:cubicBezTo>
                <a:cubicBezTo>
                  <a:pt x="910" y="617"/>
                  <a:pt x="906" y="609"/>
                  <a:pt x="901" y="601"/>
                </a:cubicBezTo>
                <a:cubicBezTo>
                  <a:pt x="900" y="599"/>
                  <a:pt x="899" y="597"/>
                  <a:pt x="898" y="595"/>
                </a:cubicBezTo>
                <a:cubicBezTo>
                  <a:pt x="900" y="598"/>
                  <a:pt x="902" y="601"/>
                  <a:pt x="904" y="603"/>
                </a:cubicBezTo>
                <a:cubicBezTo>
                  <a:pt x="908" y="608"/>
                  <a:pt x="913" y="612"/>
                  <a:pt x="918" y="616"/>
                </a:cubicBezTo>
                <a:cubicBezTo>
                  <a:pt x="923" y="620"/>
                  <a:pt x="927" y="623"/>
                  <a:pt x="931" y="628"/>
                </a:cubicBezTo>
                <a:cubicBezTo>
                  <a:pt x="931" y="629"/>
                  <a:pt x="932" y="629"/>
                  <a:pt x="932" y="628"/>
                </a:cubicBezTo>
                <a:cubicBezTo>
                  <a:pt x="931" y="624"/>
                  <a:pt x="928" y="622"/>
                  <a:pt x="925" y="619"/>
                </a:cubicBezTo>
                <a:cubicBezTo>
                  <a:pt x="920" y="615"/>
                  <a:pt x="915" y="612"/>
                  <a:pt x="911" y="607"/>
                </a:cubicBezTo>
                <a:cubicBezTo>
                  <a:pt x="904" y="600"/>
                  <a:pt x="899" y="593"/>
                  <a:pt x="896" y="584"/>
                </a:cubicBezTo>
                <a:cubicBezTo>
                  <a:pt x="897" y="584"/>
                  <a:pt x="897" y="584"/>
                  <a:pt x="898" y="584"/>
                </a:cubicBezTo>
                <a:cubicBezTo>
                  <a:pt x="898" y="586"/>
                  <a:pt x="900" y="588"/>
                  <a:pt x="901" y="590"/>
                </a:cubicBezTo>
                <a:cubicBezTo>
                  <a:pt x="903" y="593"/>
                  <a:pt x="906" y="596"/>
                  <a:pt x="908" y="599"/>
                </a:cubicBezTo>
                <a:cubicBezTo>
                  <a:pt x="911" y="602"/>
                  <a:pt x="914" y="604"/>
                  <a:pt x="918" y="607"/>
                </a:cubicBezTo>
                <a:cubicBezTo>
                  <a:pt x="923" y="612"/>
                  <a:pt x="927" y="617"/>
                  <a:pt x="932" y="622"/>
                </a:cubicBezTo>
                <a:cubicBezTo>
                  <a:pt x="932" y="622"/>
                  <a:pt x="933" y="622"/>
                  <a:pt x="933" y="621"/>
                </a:cubicBezTo>
                <a:cubicBezTo>
                  <a:pt x="929" y="612"/>
                  <a:pt x="919" y="607"/>
                  <a:pt x="912" y="599"/>
                </a:cubicBezTo>
                <a:cubicBezTo>
                  <a:pt x="908" y="594"/>
                  <a:pt x="904" y="590"/>
                  <a:pt x="901" y="584"/>
                </a:cubicBezTo>
                <a:cubicBezTo>
                  <a:pt x="902" y="584"/>
                  <a:pt x="904" y="585"/>
                  <a:pt x="905" y="585"/>
                </a:cubicBezTo>
                <a:cubicBezTo>
                  <a:pt x="905" y="585"/>
                  <a:pt x="905" y="585"/>
                  <a:pt x="905" y="585"/>
                </a:cubicBezTo>
                <a:cubicBezTo>
                  <a:pt x="904" y="591"/>
                  <a:pt x="911" y="595"/>
                  <a:pt x="914" y="598"/>
                </a:cubicBezTo>
                <a:cubicBezTo>
                  <a:pt x="921" y="605"/>
                  <a:pt x="928" y="612"/>
                  <a:pt x="936" y="617"/>
                </a:cubicBezTo>
                <a:cubicBezTo>
                  <a:pt x="937" y="617"/>
                  <a:pt x="937" y="617"/>
                  <a:pt x="937" y="616"/>
                </a:cubicBezTo>
                <a:cubicBezTo>
                  <a:pt x="931" y="610"/>
                  <a:pt x="923" y="606"/>
                  <a:pt x="918" y="599"/>
                </a:cubicBezTo>
                <a:cubicBezTo>
                  <a:pt x="914" y="595"/>
                  <a:pt x="908" y="591"/>
                  <a:pt x="907" y="585"/>
                </a:cubicBezTo>
                <a:cubicBezTo>
                  <a:pt x="909" y="586"/>
                  <a:pt x="911" y="586"/>
                  <a:pt x="913" y="587"/>
                </a:cubicBezTo>
                <a:cubicBezTo>
                  <a:pt x="912" y="587"/>
                  <a:pt x="912" y="588"/>
                  <a:pt x="913" y="588"/>
                </a:cubicBezTo>
                <a:cubicBezTo>
                  <a:pt x="915" y="593"/>
                  <a:pt x="920" y="597"/>
                  <a:pt x="924" y="601"/>
                </a:cubicBezTo>
                <a:cubicBezTo>
                  <a:pt x="928" y="605"/>
                  <a:pt x="932" y="609"/>
                  <a:pt x="936" y="613"/>
                </a:cubicBezTo>
                <a:cubicBezTo>
                  <a:pt x="936" y="613"/>
                  <a:pt x="937" y="613"/>
                  <a:pt x="937" y="612"/>
                </a:cubicBezTo>
                <a:cubicBezTo>
                  <a:pt x="937" y="610"/>
                  <a:pt x="935" y="608"/>
                  <a:pt x="933" y="607"/>
                </a:cubicBezTo>
                <a:cubicBezTo>
                  <a:pt x="930" y="604"/>
                  <a:pt x="927" y="601"/>
                  <a:pt x="924" y="598"/>
                </a:cubicBezTo>
                <a:cubicBezTo>
                  <a:pt x="921" y="595"/>
                  <a:pt x="918" y="592"/>
                  <a:pt x="916" y="589"/>
                </a:cubicBezTo>
                <a:cubicBezTo>
                  <a:pt x="916" y="588"/>
                  <a:pt x="915" y="588"/>
                  <a:pt x="915" y="587"/>
                </a:cubicBezTo>
                <a:cubicBezTo>
                  <a:pt x="918" y="588"/>
                  <a:pt x="922" y="588"/>
                  <a:pt x="925" y="588"/>
                </a:cubicBezTo>
                <a:cubicBezTo>
                  <a:pt x="929" y="591"/>
                  <a:pt x="932" y="595"/>
                  <a:pt x="935" y="598"/>
                </a:cubicBezTo>
                <a:close/>
                <a:moveTo>
                  <a:pt x="1145" y="566"/>
                </a:moveTo>
                <a:cubicBezTo>
                  <a:pt x="1133" y="572"/>
                  <a:pt x="1119" y="575"/>
                  <a:pt x="1106" y="580"/>
                </a:cubicBezTo>
                <a:cubicBezTo>
                  <a:pt x="1098" y="583"/>
                  <a:pt x="1090" y="584"/>
                  <a:pt x="1082" y="585"/>
                </a:cubicBezTo>
                <a:cubicBezTo>
                  <a:pt x="1075" y="585"/>
                  <a:pt x="1068" y="586"/>
                  <a:pt x="1061" y="587"/>
                </a:cubicBezTo>
                <a:cubicBezTo>
                  <a:pt x="1046" y="590"/>
                  <a:pt x="1030" y="592"/>
                  <a:pt x="1015" y="595"/>
                </a:cubicBezTo>
                <a:cubicBezTo>
                  <a:pt x="1007" y="596"/>
                  <a:pt x="999" y="597"/>
                  <a:pt x="991" y="596"/>
                </a:cubicBezTo>
                <a:cubicBezTo>
                  <a:pt x="983" y="596"/>
                  <a:pt x="976" y="596"/>
                  <a:pt x="968" y="593"/>
                </a:cubicBezTo>
                <a:cubicBezTo>
                  <a:pt x="963" y="591"/>
                  <a:pt x="958" y="589"/>
                  <a:pt x="953" y="588"/>
                </a:cubicBezTo>
                <a:cubicBezTo>
                  <a:pt x="950" y="587"/>
                  <a:pt x="946" y="585"/>
                  <a:pt x="943" y="586"/>
                </a:cubicBezTo>
                <a:cubicBezTo>
                  <a:pt x="943" y="586"/>
                  <a:pt x="943" y="586"/>
                  <a:pt x="943" y="586"/>
                </a:cubicBezTo>
                <a:cubicBezTo>
                  <a:pt x="939" y="584"/>
                  <a:pt x="934" y="585"/>
                  <a:pt x="931" y="585"/>
                </a:cubicBezTo>
                <a:cubicBezTo>
                  <a:pt x="929" y="585"/>
                  <a:pt x="927" y="585"/>
                  <a:pt x="924" y="584"/>
                </a:cubicBezTo>
                <a:cubicBezTo>
                  <a:pt x="923" y="584"/>
                  <a:pt x="921" y="583"/>
                  <a:pt x="919" y="584"/>
                </a:cubicBezTo>
                <a:cubicBezTo>
                  <a:pt x="919" y="584"/>
                  <a:pt x="919" y="584"/>
                  <a:pt x="919" y="584"/>
                </a:cubicBezTo>
                <a:cubicBezTo>
                  <a:pt x="916" y="583"/>
                  <a:pt x="914" y="583"/>
                  <a:pt x="911" y="582"/>
                </a:cubicBezTo>
                <a:cubicBezTo>
                  <a:pt x="907" y="581"/>
                  <a:pt x="889" y="576"/>
                  <a:pt x="887" y="584"/>
                </a:cubicBezTo>
                <a:cubicBezTo>
                  <a:pt x="885" y="583"/>
                  <a:pt x="882" y="582"/>
                  <a:pt x="880" y="580"/>
                </a:cubicBezTo>
                <a:cubicBezTo>
                  <a:pt x="880" y="579"/>
                  <a:pt x="879" y="579"/>
                  <a:pt x="879" y="579"/>
                </a:cubicBezTo>
                <a:cubicBezTo>
                  <a:pt x="880" y="578"/>
                  <a:pt x="880" y="578"/>
                  <a:pt x="880" y="577"/>
                </a:cubicBezTo>
                <a:cubicBezTo>
                  <a:pt x="880" y="574"/>
                  <a:pt x="882" y="571"/>
                  <a:pt x="883" y="569"/>
                </a:cubicBezTo>
                <a:cubicBezTo>
                  <a:pt x="883" y="569"/>
                  <a:pt x="884" y="569"/>
                  <a:pt x="884" y="568"/>
                </a:cubicBezTo>
                <a:cubicBezTo>
                  <a:pt x="885" y="565"/>
                  <a:pt x="886" y="561"/>
                  <a:pt x="888" y="558"/>
                </a:cubicBezTo>
                <a:cubicBezTo>
                  <a:pt x="889" y="558"/>
                  <a:pt x="890" y="558"/>
                  <a:pt x="891" y="558"/>
                </a:cubicBezTo>
                <a:cubicBezTo>
                  <a:pt x="891" y="559"/>
                  <a:pt x="890" y="560"/>
                  <a:pt x="889" y="561"/>
                </a:cubicBezTo>
                <a:cubicBezTo>
                  <a:pt x="888" y="563"/>
                  <a:pt x="886" y="567"/>
                  <a:pt x="888" y="569"/>
                </a:cubicBezTo>
                <a:cubicBezTo>
                  <a:pt x="888" y="569"/>
                  <a:pt x="889" y="569"/>
                  <a:pt x="889" y="569"/>
                </a:cubicBezTo>
                <a:cubicBezTo>
                  <a:pt x="891" y="567"/>
                  <a:pt x="891" y="563"/>
                  <a:pt x="893" y="561"/>
                </a:cubicBezTo>
                <a:cubicBezTo>
                  <a:pt x="893" y="560"/>
                  <a:pt x="894" y="559"/>
                  <a:pt x="895" y="557"/>
                </a:cubicBezTo>
                <a:cubicBezTo>
                  <a:pt x="897" y="557"/>
                  <a:pt x="899" y="557"/>
                  <a:pt x="901" y="557"/>
                </a:cubicBezTo>
                <a:cubicBezTo>
                  <a:pt x="899" y="558"/>
                  <a:pt x="897" y="560"/>
                  <a:pt x="896" y="562"/>
                </a:cubicBezTo>
                <a:cubicBezTo>
                  <a:pt x="895" y="564"/>
                  <a:pt x="892" y="567"/>
                  <a:pt x="894" y="569"/>
                </a:cubicBezTo>
                <a:cubicBezTo>
                  <a:pt x="894" y="570"/>
                  <a:pt x="895" y="570"/>
                  <a:pt x="895" y="569"/>
                </a:cubicBezTo>
                <a:cubicBezTo>
                  <a:pt x="897" y="568"/>
                  <a:pt x="897" y="565"/>
                  <a:pt x="899" y="563"/>
                </a:cubicBezTo>
                <a:cubicBezTo>
                  <a:pt x="900" y="561"/>
                  <a:pt x="902" y="558"/>
                  <a:pt x="905" y="557"/>
                </a:cubicBezTo>
                <a:cubicBezTo>
                  <a:pt x="905" y="557"/>
                  <a:pt x="906" y="557"/>
                  <a:pt x="907" y="557"/>
                </a:cubicBezTo>
                <a:cubicBezTo>
                  <a:pt x="907" y="557"/>
                  <a:pt x="906" y="558"/>
                  <a:pt x="906" y="559"/>
                </a:cubicBezTo>
                <a:cubicBezTo>
                  <a:pt x="905" y="560"/>
                  <a:pt x="901" y="564"/>
                  <a:pt x="903" y="566"/>
                </a:cubicBezTo>
                <a:cubicBezTo>
                  <a:pt x="903" y="566"/>
                  <a:pt x="904" y="567"/>
                  <a:pt x="904" y="566"/>
                </a:cubicBezTo>
                <a:cubicBezTo>
                  <a:pt x="905" y="566"/>
                  <a:pt x="905" y="565"/>
                  <a:pt x="906" y="564"/>
                </a:cubicBezTo>
                <a:cubicBezTo>
                  <a:pt x="907" y="562"/>
                  <a:pt x="907" y="561"/>
                  <a:pt x="908" y="560"/>
                </a:cubicBezTo>
                <a:cubicBezTo>
                  <a:pt x="909" y="559"/>
                  <a:pt x="910" y="558"/>
                  <a:pt x="911" y="557"/>
                </a:cubicBezTo>
                <a:cubicBezTo>
                  <a:pt x="912" y="557"/>
                  <a:pt x="913" y="557"/>
                  <a:pt x="913" y="557"/>
                </a:cubicBezTo>
                <a:cubicBezTo>
                  <a:pt x="910" y="560"/>
                  <a:pt x="908" y="564"/>
                  <a:pt x="910" y="566"/>
                </a:cubicBezTo>
                <a:cubicBezTo>
                  <a:pt x="911" y="567"/>
                  <a:pt x="911" y="566"/>
                  <a:pt x="911" y="566"/>
                </a:cubicBezTo>
                <a:cubicBezTo>
                  <a:pt x="913" y="564"/>
                  <a:pt x="913" y="562"/>
                  <a:pt x="915" y="560"/>
                </a:cubicBezTo>
                <a:cubicBezTo>
                  <a:pt x="916" y="559"/>
                  <a:pt x="917" y="558"/>
                  <a:pt x="918" y="557"/>
                </a:cubicBezTo>
                <a:cubicBezTo>
                  <a:pt x="918" y="557"/>
                  <a:pt x="919" y="557"/>
                  <a:pt x="920" y="557"/>
                </a:cubicBezTo>
                <a:cubicBezTo>
                  <a:pt x="920" y="557"/>
                  <a:pt x="921" y="557"/>
                  <a:pt x="921" y="557"/>
                </a:cubicBezTo>
                <a:cubicBezTo>
                  <a:pt x="920" y="557"/>
                  <a:pt x="920" y="558"/>
                  <a:pt x="919" y="558"/>
                </a:cubicBezTo>
                <a:cubicBezTo>
                  <a:pt x="918" y="560"/>
                  <a:pt x="916" y="564"/>
                  <a:pt x="917" y="566"/>
                </a:cubicBezTo>
                <a:cubicBezTo>
                  <a:pt x="918" y="567"/>
                  <a:pt x="918" y="567"/>
                  <a:pt x="918" y="566"/>
                </a:cubicBezTo>
                <a:cubicBezTo>
                  <a:pt x="920" y="564"/>
                  <a:pt x="920" y="562"/>
                  <a:pt x="921" y="560"/>
                </a:cubicBezTo>
                <a:cubicBezTo>
                  <a:pt x="922" y="559"/>
                  <a:pt x="923" y="557"/>
                  <a:pt x="924" y="557"/>
                </a:cubicBezTo>
                <a:cubicBezTo>
                  <a:pt x="925" y="557"/>
                  <a:pt x="927" y="557"/>
                  <a:pt x="928" y="557"/>
                </a:cubicBezTo>
                <a:cubicBezTo>
                  <a:pt x="926" y="559"/>
                  <a:pt x="924" y="561"/>
                  <a:pt x="924" y="564"/>
                </a:cubicBezTo>
                <a:cubicBezTo>
                  <a:pt x="924" y="564"/>
                  <a:pt x="924" y="565"/>
                  <a:pt x="924" y="564"/>
                </a:cubicBezTo>
                <a:cubicBezTo>
                  <a:pt x="926" y="563"/>
                  <a:pt x="927" y="561"/>
                  <a:pt x="929" y="559"/>
                </a:cubicBezTo>
                <a:cubicBezTo>
                  <a:pt x="930" y="558"/>
                  <a:pt x="930" y="557"/>
                  <a:pt x="931" y="557"/>
                </a:cubicBezTo>
                <a:cubicBezTo>
                  <a:pt x="932" y="557"/>
                  <a:pt x="933" y="557"/>
                  <a:pt x="933" y="557"/>
                </a:cubicBezTo>
                <a:cubicBezTo>
                  <a:pt x="931" y="559"/>
                  <a:pt x="929" y="562"/>
                  <a:pt x="930" y="565"/>
                </a:cubicBezTo>
                <a:cubicBezTo>
                  <a:pt x="930" y="565"/>
                  <a:pt x="930" y="566"/>
                  <a:pt x="930" y="565"/>
                </a:cubicBezTo>
                <a:cubicBezTo>
                  <a:pt x="931" y="563"/>
                  <a:pt x="932" y="561"/>
                  <a:pt x="934" y="559"/>
                </a:cubicBezTo>
                <a:cubicBezTo>
                  <a:pt x="934" y="559"/>
                  <a:pt x="935" y="558"/>
                  <a:pt x="936" y="557"/>
                </a:cubicBezTo>
                <a:cubicBezTo>
                  <a:pt x="936" y="557"/>
                  <a:pt x="936" y="557"/>
                  <a:pt x="936" y="557"/>
                </a:cubicBezTo>
                <a:cubicBezTo>
                  <a:pt x="936" y="557"/>
                  <a:pt x="936" y="557"/>
                  <a:pt x="937" y="557"/>
                </a:cubicBezTo>
                <a:cubicBezTo>
                  <a:pt x="936" y="557"/>
                  <a:pt x="936" y="558"/>
                  <a:pt x="936" y="558"/>
                </a:cubicBezTo>
                <a:cubicBezTo>
                  <a:pt x="936" y="559"/>
                  <a:pt x="937" y="559"/>
                  <a:pt x="937" y="559"/>
                </a:cubicBezTo>
                <a:cubicBezTo>
                  <a:pt x="937" y="560"/>
                  <a:pt x="939" y="561"/>
                  <a:pt x="940" y="560"/>
                </a:cubicBezTo>
                <a:cubicBezTo>
                  <a:pt x="940" y="560"/>
                  <a:pt x="941" y="559"/>
                  <a:pt x="941" y="559"/>
                </a:cubicBezTo>
                <a:cubicBezTo>
                  <a:pt x="941" y="558"/>
                  <a:pt x="942" y="558"/>
                  <a:pt x="942" y="558"/>
                </a:cubicBezTo>
                <a:cubicBezTo>
                  <a:pt x="942" y="558"/>
                  <a:pt x="942" y="558"/>
                  <a:pt x="943" y="558"/>
                </a:cubicBezTo>
                <a:cubicBezTo>
                  <a:pt x="943" y="557"/>
                  <a:pt x="943" y="557"/>
                  <a:pt x="943" y="557"/>
                </a:cubicBezTo>
                <a:cubicBezTo>
                  <a:pt x="943" y="557"/>
                  <a:pt x="943" y="556"/>
                  <a:pt x="943" y="556"/>
                </a:cubicBezTo>
                <a:cubicBezTo>
                  <a:pt x="945" y="555"/>
                  <a:pt x="946" y="553"/>
                  <a:pt x="947" y="551"/>
                </a:cubicBezTo>
                <a:cubicBezTo>
                  <a:pt x="948" y="550"/>
                  <a:pt x="949" y="549"/>
                  <a:pt x="950" y="548"/>
                </a:cubicBezTo>
                <a:cubicBezTo>
                  <a:pt x="955" y="546"/>
                  <a:pt x="959" y="546"/>
                  <a:pt x="965" y="546"/>
                </a:cubicBezTo>
                <a:cubicBezTo>
                  <a:pt x="974" y="548"/>
                  <a:pt x="983" y="549"/>
                  <a:pt x="993" y="549"/>
                </a:cubicBezTo>
                <a:cubicBezTo>
                  <a:pt x="1013" y="550"/>
                  <a:pt x="1033" y="549"/>
                  <a:pt x="1053" y="547"/>
                </a:cubicBezTo>
                <a:cubicBezTo>
                  <a:pt x="1068" y="546"/>
                  <a:pt x="1083" y="544"/>
                  <a:pt x="1099" y="546"/>
                </a:cubicBezTo>
                <a:cubicBezTo>
                  <a:pt x="1107" y="547"/>
                  <a:pt x="1114" y="551"/>
                  <a:pt x="1122" y="553"/>
                </a:cubicBezTo>
                <a:cubicBezTo>
                  <a:pt x="1129" y="555"/>
                  <a:pt x="1135" y="556"/>
                  <a:pt x="1142" y="555"/>
                </a:cubicBezTo>
                <a:cubicBezTo>
                  <a:pt x="1144" y="555"/>
                  <a:pt x="1158" y="553"/>
                  <a:pt x="1158" y="556"/>
                </a:cubicBezTo>
                <a:cubicBezTo>
                  <a:pt x="1157" y="561"/>
                  <a:pt x="1149" y="564"/>
                  <a:pt x="1145" y="566"/>
                </a:cubicBezTo>
                <a:close/>
                <a:moveTo>
                  <a:pt x="1156" y="551"/>
                </a:moveTo>
                <a:cubicBezTo>
                  <a:pt x="1154" y="551"/>
                  <a:pt x="1151" y="551"/>
                  <a:pt x="1150" y="551"/>
                </a:cubicBezTo>
                <a:cubicBezTo>
                  <a:pt x="1143" y="553"/>
                  <a:pt x="1136" y="553"/>
                  <a:pt x="1129" y="552"/>
                </a:cubicBezTo>
                <a:cubicBezTo>
                  <a:pt x="1126" y="551"/>
                  <a:pt x="1122" y="550"/>
                  <a:pt x="1119" y="549"/>
                </a:cubicBezTo>
                <a:cubicBezTo>
                  <a:pt x="1123" y="548"/>
                  <a:pt x="1128" y="547"/>
                  <a:pt x="1132" y="546"/>
                </a:cubicBezTo>
                <a:cubicBezTo>
                  <a:pt x="1137" y="546"/>
                  <a:pt x="1142" y="547"/>
                  <a:pt x="1147" y="547"/>
                </a:cubicBezTo>
                <a:cubicBezTo>
                  <a:pt x="1147" y="547"/>
                  <a:pt x="1147" y="546"/>
                  <a:pt x="1147" y="546"/>
                </a:cubicBezTo>
                <a:cubicBezTo>
                  <a:pt x="1144" y="542"/>
                  <a:pt x="1136" y="545"/>
                  <a:pt x="1132" y="545"/>
                </a:cubicBezTo>
                <a:cubicBezTo>
                  <a:pt x="1126" y="545"/>
                  <a:pt x="1120" y="545"/>
                  <a:pt x="1114" y="547"/>
                </a:cubicBezTo>
                <a:cubicBezTo>
                  <a:pt x="1113" y="546"/>
                  <a:pt x="1112" y="546"/>
                  <a:pt x="1111" y="546"/>
                </a:cubicBezTo>
                <a:cubicBezTo>
                  <a:pt x="1113" y="545"/>
                  <a:pt x="1114" y="544"/>
                  <a:pt x="1116" y="544"/>
                </a:cubicBezTo>
                <a:cubicBezTo>
                  <a:pt x="1119" y="544"/>
                  <a:pt x="1122" y="542"/>
                  <a:pt x="1125" y="543"/>
                </a:cubicBezTo>
                <a:cubicBezTo>
                  <a:pt x="1125" y="543"/>
                  <a:pt x="1125" y="542"/>
                  <a:pt x="1125" y="542"/>
                </a:cubicBezTo>
                <a:cubicBezTo>
                  <a:pt x="1121" y="542"/>
                  <a:pt x="1117" y="542"/>
                  <a:pt x="1113" y="543"/>
                </a:cubicBezTo>
                <a:cubicBezTo>
                  <a:pt x="1112" y="543"/>
                  <a:pt x="1109" y="543"/>
                  <a:pt x="1108" y="544"/>
                </a:cubicBezTo>
                <a:cubicBezTo>
                  <a:pt x="1105" y="544"/>
                  <a:pt x="1102" y="543"/>
                  <a:pt x="1100" y="543"/>
                </a:cubicBezTo>
                <a:cubicBezTo>
                  <a:pt x="1101" y="543"/>
                  <a:pt x="1101" y="542"/>
                  <a:pt x="1102" y="542"/>
                </a:cubicBezTo>
                <a:cubicBezTo>
                  <a:pt x="1104" y="541"/>
                  <a:pt x="1106" y="540"/>
                  <a:pt x="1107" y="539"/>
                </a:cubicBezTo>
                <a:cubicBezTo>
                  <a:pt x="1107" y="539"/>
                  <a:pt x="1107" y="538"/>
                  <a:pt x="1107" y="538"/>
                </a:cubicBezTo>
                <a:cubicBezTo>
                  <a:pt x="1105" y="538"/>
                  <a:pt x="1103" y="539"/>
                  <a:pt x="1101" y="540"/>
                </a:cubicBezTo>
                <a:cubicBezTo>
                  <a:pt x="1100" y="540"/>
                  <a:pt x="1098" y="540"/>
                  <a:pt x="1098" y="541"/>
                </a:cubicBezTo>
                <a:cubicBezTo>
                  <a:pt x="1097" y="541"/>
                  <a:pt x="1097" y="540"/>
                  <a:pt x="1097" y="540"/>
                </a:cubicBezTo>
                <a:cubicBezTo>
                  <a:pt x="1102" y="538"/>
                  <a:pt x="1107" y="534"/>
                  <a:pt x="1109" y="533"/>
                </a:cubicBezTo>
                <a:cubicBezTo>
                  <a:pt x="1110" y="532"/>
                  <a:pt x="1109" y="531"/>
                  <a:pt x="1108" y="532"/>
                </a:cubicBezTo>
                <a:cubicBezTo>
                  <a:pt x="1105" y="534"/>
                  <a:pt x="1102" y="535"/>
                  <a:pt x="1098" y="537"/>
                </a:cubicBezTo>
                <a:cubicBezTo>
                  <a:pt x="1097" y="538"/>
                  <a:pt x="1095" y="539"/>
                  <a:pt x="1093" y="540"/>
                </a:cubicBezTo>
                <a:cubicBezTo>
                  <a:pt x="1092" y="540"/>
                  <a:pt x="1092" y="540"/>
                  <a:pt x="1091" y="540"/>
                </a:cubicBezTo>
                <a:cubicBezTo>
                  <a:pt x="1093" y="539"/>
                  <a:pt x="1094" y="538"/>
                  <a:pt x="1095" y="537"/>
                </a:cubicBezTo>
                <a:cubicBezTo>
                  <a:pt x="1099" y="533"/>
                  <a:pt x="1104" y="530"/>
                  <a:pt x="1108" y="526"/>
                </a:cubicBezTo>
                <a:cubicBezTo>
                  <a:pt x="1112" y="523"/>
                  <a:pt x="1119" y="521"/>
                  <a:pt x="1121" y="515"/>
                </a:cubicBezTo>
                <a:cubicBezTo>
                  <a:pt x="1122" y="515"/>
                  <a:pt x="1121" y="514"/>
                  <a:pt x="1121" y="515"/>
                </a:cubicBezTo>
                <a:cubicBezTo>
                  <a:pt x="1116" y="518"/>
                  <a:pt x="1111" y="523"/>
                  <a:pt x="1105" y="527"/>
                </a:cubicBezTo>
                <a:cubicBezTo>
                  <a:pt x="1105" y="527"/>
                  <a:pt x="1104" y="527"/>
                  <a:pt x="1104" y="527"/>
                </a:cubicBezTo>
                <a:cubicBezTo>
                  <a:pt x="1105" y="526"/>
                  <a:pt x="1107" y="524"/>
                  <a:pt x="1108" y="523"/>
                </a:cubicBezTo>
                <a:cubicBezTo>
                  <a:pt x="1113" y="518"/>
                  <a:pt x="1117" y="512"/>
                  <a:pt x="1121" y="506"/>
                </a:cubicBezTo>
                <a:cubicBezTo>
                  <a:pt x="1126" y="506"/>
                  <a:pt x="1134" y="509"/>
                  <a:pt x="1136" y="513"/>
                </a:cubicBezTo>
                <a:cubicBezTo>
                  <a:pt x="1138" y="514"/>
                  <a:pt x="1139" y="517"/>
                  <a:pt x="1141" y="518"/>
                </a:cubicBezTo>
                <a:cubicBezTo>
                  <a:pt x="1143" y="519"/>
                  <a:pt x="1145" y="520"/>
                  <a:pt x="1147" y="521"/>
                </a:cubicBezTo>
                <a:cubicBezTo>
                  <a:pt x="1150" y="524"/>
                  <a:pt x="1150" y="527"/>
                  <a:pt x="1152" y="530"/>
                </a:cubicBezTo>
                <a:cubicBezTo>
                  <a:pt x="1152" y="531"/>
                  <a:pt x="1153" y="532"/>
                  <a:pt x="1155" y="534"/>
                </a:cubicBezTo>
                <a:cubicBezTo>
                  <a:pt x="1159" y="539"/>
                  <a:pt x="1158" y="545"/>
                  <a:pt x="1156" y="551"/>
                </a:cubicBezTo>
                <a:close/>
              </a:path>
            </a:pathLst>
          </a:custGeom>
          <a:solidFill>
            <a:srgbClr val="574f1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  <p:sp>
        <p:nvSpPr>
          <p:cNvPr id="44" name="Freeform 1224"/>
          <p:cNvSpPr/>
          <p:nvPr/>
        </p:nvSpPr>
        <p:spPr>
          <a:xfrm>
            <a:off x="385920" y="4140360"/>
            <a:ext cx="3427200" cy="2408040"/>
          </a:xfrm>
          <a:custGeom>
            <a:avLst/>
            <a:gdLst/>
            <a:ahLst/>
            <a:rect l="l" t="t" r="r" b="b"/>
            <a:pathLst>
              <a:path w="1162" h="815">
                <a:moveTo>
                  <a:pt x="1160" y="552"/>
                </a:moveTo>
                <a:cubicBezTo>
                  <a:pt x="1159" y="552"/>
                  <a:pt x="1159" y="552"/>
                  <a:pt x="1158" y="551"/>
                </a:cubicBezTo>
                <a:cubicBezTo>
                  <a:pt x="1161" y="547"/>
                  <a:pt x="1162" y="542"/>
                  <a:pt x="1160" y="537"/>
                </a:cubicBezTo>
                <a:cubicBezTo>
                  <a:pt x="1159" y="534"/>
                  <a:pt x="1156" y="532"/>
                  <a:pt x="1155" y="530"/>
                </a:cubicBezTo>
                <a:cubicBezTo>
                  <a:pt x="1153" y="527"/>
                  <a:pt x="1153" y="523"/>
                  <a:pt x="1151" y="521"/>
                </a:cubicBezTo>
                <a:cubicBezTo>
                  <a:pt x="1148" y="518"/>
                  <a:pt x="1144" y="517"/>
                  <a:pt x="1142" y="514"/>
                </a:cubicBezTo>
                <a:cubicBezTo>
                  <a:pt x="1139" y="512"/>
                  <a:pt x="1138" y="509"/>
                  <a:pt x="1134" y="507"/>
                </a:cubicBezTo>
                <a:cubicBezTo>
                  <a:pt x="1131" y="505"/>
                  <a:pt x="1127" y="503"/>
                  <a:pt x="1123" y="503"/>
                </a:cubicBezTo>
                <a:cubicBezTo>
                  <a:pt x="1127" y="498"/>
                  <a:pt x="1130" y="492"/>
                  <a:pt x="1132" y="486"/>
                </a:cubicBezTo>
                <a:cubicBezTo>
                  <a:pt x="1137" y="477"/>
                  <a:pt x="1140" y="466"/>
                  <a:pt x="1136" y="456"/>
                </a:cubicBezTo>
                <a:cubicBezTo>
                  <a:pt x="1135" y="452"/>
                  <a:pt x="1132" y="448"/>
                  <a:pt x="1128" y="446"/>
                </a:cubicBezTo>
                <a:cubicBezTo>
                  <a:pt x="1126" y="445"/>
                  <a:pt x="1122" y="445"/>
                  <a:pt x="1121" y="442"/>
                </a:cubicBezTo>
                <a:cubicBezTo>
                  <a:pt x="1121" y="439"/>
                  <a:pt x="1121" y="437"/>
                  <a:pt x="1120" y="434"/>
                </a:cubicBezTo>
                <a:cubicBezTo>
                  <a:pt x="1118" y="423"/>
                  <a:pt x="1109" y="413"/>
                  <a:pt x="1098" y="410"/>
                </a:cubicBezTo>
                <a:cubicBezTo>
                  <a:pt x="1086" y="406"/>
                  <a:pt x="1072" y="408"/>
                  <a:pt x="1060" y="410"/>
                </a:cubicBezTo>
                <a:cubicBezTo>
                  <a:pt x="1045" y="413"/>
                  <a:pt x="1030" y="417"/>
                  <a:pt x="1015" y="421"/>
                </a:cubicBezTo>
                <a:cubicBezTo>
                  <a:pt x="1006" y="423"/>
                  <a:pt x="996" y="426"/>
                  <a:pt x="987" y="429"/>
                </a:cubicBezTo>
                <a:cubicBezTo>
                  <a:pt x="988" y="428"/>
                  <a:pt x="989" y="425"/>
                  <a:pt x="989" y="423"/>
                </a:cubicBezTo>
                <a:cubicBezTo>
                  <a:pt x="992" y="419"/>
                  <a:pt x="995" y="414"/>
                  <a:pt x="998" y="410"/>
                </a:cubicBezTo>
                <a:cubicBezTo>
                  <a:pt x="1006" y="400"/>
                  <a:pt x="1016" y="393"/>
                  <a:pt x="1026" y="384"/>
                </a:cubicBezTo>
                <a:cubicBezTo>
                  <a:pt x="1041" y="371"/>
                  <a:pt x="1052" y="354"/>
                  <a:pt x="1050" y="332"/>
                </a:cubicBezTo>
                <a:cubicBezTo>
                  <a:pt x="1048" y="314"/>
                  <a:pt x="1035" y="295"/>
                  <a:pt x="1017" y="290"/>
                </a:cubicBezTo>
                <a:cubicBezTo>
                  <a:pt x="1007" y="288"/>
                  <a:pt x="998" y="287"/>
                  <a:pt x="988" y="289"/>
                </a:cubicBezTo>
                <a:cubicBezTo>
                  <a:pt x="987" y="289"/>
                  <a:pt x="984" y="289"/>
                  <a:pt x="982" y="290"/>
                </a:cubicBezTo>
                <a:cubicBezTo>
                  <a:pt x="988" y="286"/>
                  <a:pt x="993" y="280"/>
                  <a:pt x="997" y="275"/>
                </a:cubicBezTo>
                <a:cubicBezTo>
                  <a:pt x="1002" y="269"/>
                  <a:pt x="1006" y="261"/>
                  <a:pt x="1003" y="253"/>
                </a:cubicBezTo>
                <a:cubicBezTo>
                  <a:pt x="1003" y="252"/>
                  <a:pt x="1002" y="252"/>
                  <a:pt x="1001" y="252"/>
                </a:cubicBezTo>
                <a:cubicBezTo>
                  <a:pt x="1000" y="252"/>
                  <a:pt x="998" y="252"/>
                  <a:pt x="997" y="253"/>
                </a:cubicBezTo>
                <a:cubicBezTo>
                  <a:pt x="994" y="253"/>
                  <a:pt x="994" y="252"/>
                  <a:pt x="995" y="249"/>
                </a:cubicBezTo>
                <a:cubicBezTo>
                  <a:pt x="996" y="248"/>
                  <a:pt x="994" y="246"/>
                  <a:pt x="993" y="246"/>
                </a:cubicBezTo>
                <a:cubicBezTo>
                  <a:pt x="994" y="243"/>
                  <a:pt x="993" y="240"/>
                  <a:pt x="991" y="238"/>
                </a:cubicBezTo>
                <a:cubicBezTo>
                  <a:pt x="988" y="234"/>
                  <a:pt x="984" y="233"/>
                  <a:pt x="980" y="232"/>
                </a:cubicBezTo>
                <a:cubicBezTo>
                  <a:pt x="975" y="231"/>
                  <a:pt x="972" y="225"/>
                  <a:pt x="966" y="225"/>
                </a:cubicBezTo>
                <a:cubicBezTo>
                  <a:pt x="961" y="224"/>
                  <a:pt x="955" y="224"/>
                  <a:pt x="949" y="225"/>
                </a:cubicBezTo>
                <a:cubicBezTo>
                  <a:pt x="934" y="227"/>
                  <a:pt x="920" y="232"/>
                  <a:pt x="905" y="234"/>
                </a:cubicBezTo>
                <a:cubicBezTo>
                  <a:pt x="898" y="235"/>
                  <a:pt x="891" y="235"/>
                  <a:pt x="884" y="237"/>
                </a:cubicBezTo>
                <a:cubicBezTo>
                  <a:pt x="879" y="238"/>
                  <a:pt x="874" y="240"/>
                  <a:pt x="870" y="242"/>
                </a:cubicBezTo>
                <a:cubicBezTo>
                  <a:pt x="870" y="241"/>
                  <a:pt x="871" y="240"/>
                  <a:pt x="872" y="239"/>
                </a:cubicBezTo>
                <a:cubicBezTo>
                  <a:pt x="874" y="236"/>
                  <a:pt x="875" y="234"/>
                  <a:pt x="877" y="232"/>
                </a:cubicBezTo>
                <a:cubicBezTo>
                  <a:pt x="894" y="206"/>
                  <a:pt x="903" y="178"/>
                  <a:pt x="899" y="148"/>
                </a:cubicBezTo>
                <a:cubicBezTo>
                  <a:pt x="895" y="121"/>
                  <a:pt x="885" y="86"/>
                  <a:pt x="857" y="76"/>
                </a:cubicBezTo>
                <a:cubicBezTo>
                  <a:pt x="851" y="73"/>
                  <a:pt x="844" y="69"/>
                  <a:pt x="838" y="70"/>
                </a:cubicBezTo>
                <a:cubicBezTo>
                  <a:pt x="833" y="70"/>
                  <a:pt x="827" y="73"/>
                  <a:pt x="824" y="77"/>
                </a:cubicBezTo>
                <a:cubicBezTo>
                  <a:pt x="822" y="78"/>
                  <a:pt x="819" y="81"/>
                  <a:pt x="816" y="82"/>
                </a:cubicBezTo>
                <a:cubicBezTo>
                  <a:pt x="813" y="82"/>
                  <a:pt x="810" y="81"/>
                  <a:pt x="806" y="80"/>
                </a:cubicBezTo>
                <a:cubicBezTo>
                  <a:pt x="800" y="79"/>
                  <a:pt x="794" y="79"/>
                  <a:pt x="788" y="82"/>
                </a:cubicBezTo>
                <a:cubicBezTo>
                  <a:pt x="775" y="87"/>
                  <a:pt x="763" y="95"/>
                  <a:pt x="752" y="105"/>
                </a:cubicBezTo>
                <a:cubicBezTo>
                  <a:pt x="747" y="110"/>
                  <a:pt x="743" y="116"/>
                  <a:pt x="738" y="121"/>
                </a:cubicBezTo>
                <a:cubicBezTo>
                  <a:pt x="736" y="124"/>
                  <a:pt x="733" y="127"/>
                  <a:pt x="733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29" y="130"/>
                  <a:pt x="729" y="126"/>
                  <a:pt x="727" y="125"/>
                </a:cubicBezTo>
                <a:cubicBezTo>
                  <a:pt x="724" y="123"/>
                  <a:pt x="722" y="123"/>
                  <a:pt x="719" y="123"/>
                </a:cubicBezTo>
                <a:cubicBezTo>
                  <a:pt x="712" y="122"/>
                  <a:pt x="704" y="122"/>
                  <a:pt x="697" y="123"/>
                </a:cubicBezTo>
                <a:cubicBezTo>
                  <a:pt x="689" y="124"/>
                  <a:pt x="681" y="125"/>
                  <a:pt x="673" y="126"/>
                </a:cubicBezTo>
                <a:cubicBezTo>
                  <a:pt x="670" y="127"/>
                  <a:pt x="668" y="127"/>
                  <a:pt x="665" y="128"/>
                </a:cubicBezTo>
                <a:cubicBezTo>
                  <a:pt x="662" y="127"/>
                  <a:pt x="658" y="124"/>
                  <a:pt x="655" y="122"/>
                </a:cubicBezTo>
                <a:cubicBezTo>
                  <a:pt x="652" y="121"/>
                  <a:pt x="648" y="119"/>
                  <a:pt x="645" y="117"/>
                </a:cubicBezTo>
                <a:cubicBezTo>
                  <a:pt x="638" y="114"/>
                  <a:pt x="630" y="111"/>
                  <a:pt x="623" y="109"/>
                </a:cubicBezTo>
                <a:cubicBezTo>
                  <a:pt x="610" y="106"/>
                  <a:pt x="595" y="105"/>
                  <a:pt x="581" y="106"/>
                </a:cubicBezTo>
                <a:cubicBezTo>
                  <a:pt x="567" y="107"/>
                  <a:pt x="554" y="112"/>
                  <a:pt x="543" y="121"/>
                </a:cubicBezTo>
                <a:cubicBezTo>
                  <a:pt x="540" y="124"/>
                  <a:pt x="535" y="128"/>
                  <a:pt x="533" y="132"/>
                </a:cubicBezTo>
                <a:cubicBezTo>
                  <a:pt x="533" y="132"/>
                  <a:pt x="533" y="132"/>
                  <a:pt x="533" y="132"/>
                </a:cubicBezTo>
                <a:cubicBezTo>
                  <a:pt x="530" y="131"/>
                  <a:pt x="528" y="131"/>
                  <a:pt x="525" y="130"/>
                </a:cubicBezTo>
                <a:cubicBezTo>
                  <a:pt x="520" y="116"/>
                  <a:pt x="514" y="101"/>
                  <a:pt x="505" y="89"/>
                </a:cubicBezTo>
                <a:cubicBezTo>
                  <a:pt x="499" y="81"/>
                  <a:pt x="488" y="68"/>
                  <a:pt x="477" y="74"/>
                </a:cubicBezTo>
                <a:cubicBezTo>
                  <a:pt x="474" y="75"/>
                  <a:pt x="472" y="78"/>
                  <a:pt x="469" y="79"/>
                </a:cubicBezTo>
                <a:cubicBezTo>
                  <a:pt x="465" y="81"/>
                  <a:pt x="463" y="78"/>
                  <a:pt x="460" y="76"/>
                </a:cubicBezTo>
                <a:cubicBezTo>
                  <a:pt x="457" y="74"/>
                  <a:pt x="454" y="74"/>
                  <a:pt x="451" y="77"/>
                </a:cubicBezTo>
                <a:cubicBezTo>
                  <a:pt x="450" y="79"/>
                  <a:pt x="449" y="76"/>
                  <a:pt x="447" y="75"/>
                </a:cubicBezTo>
                <a:cubicBezTo>
                  <a:pt x="445" y="73"/>
                  <a:pt x="443" y="72"/>
                  <a:pt x="440" y="71"/>
                </a:cubicBezTo>
                <a:cubicBezTo>
                  <a:pt x="436" y="69"/>
                  <a:pt x="433" y="69"/>
                  <a:pt x="429" y="72"/>
                </a:cubicBezTo>
                <a:cubicBezTo>
                  <a:pt x="424" y="75"/>
                  <a:pt x="419" y="82"/>
                  <a:pt x="415" y="87"/>
                </a:cubicBezTo>
                <a:cubicBezTo>
                  <a:pt x="410" y="92"/>
                  <a:pt x="407" y="99"/>
                  <a:pt x="402" y="105"/>
                </a:cubicBezTo>
                <a:cubicBezTo>
                  <a:pt x="397" y="112"/>
                  <a:pt x="390" y="118"/>
                  <a:pt x="386" y="126"/>
                </a:cubicBezTo>
                <a:cubicBezTo>
                  <a:pt x="383" y="133"/>
                  <a:pt x="381" y="139"/>
                  <a:pt x="380" y="147"/>
                </a:cubicBezTo>
                <a:cubicBezTo>
                  <a:pt x="377" y="162"/>
                  <a:pt x="373" y="177"/>
                  <a:pt x="371" y="192"/>
                </a:cubicBezTo>
                <a:cubicBezTo>
                  <a:pt x="369" y="183"/>
                  <a:pt x="366" y="173"/>
                  <a:pt x="362" y="164"/>
                </a:cubicBezTo>
                <a:cubicBezTo>
                  <a:pt x="357" y="153"/>
                  <a:pt x="351" y="143"/>
                  <a:pt x="344" y="133"/>
                </a:cubicBezTo>
                <a:cubicBezTo>
                  <a:pt x="342" y="129"/>
                  <a:pt x="341" y="125"/>
                  <a:pt x="338" y="122"/>
                </a:cubicBezTo>
                <a:cubicBezTo>
                  <a:pt x="337" y="121"/>
                  <a:pt x="333" y="120"/>
                  <a:pt x="333" y="119"/>
                </a:cubicBezTo>
                <a:cubicBezTo>
                  <a:pt x="332" y="118"/>
                  <a:pt x="331" y="117"/>
                  <a:pt x="330" y="116"/>
                </a:cubicBezTo>
                <a:cubicBezTo>
                  <a:pt x="329" y="114"/>
                  <a:pt x="328" y="113"/>
                  <a:pt x="327" y="111"/>
                </a:cubicBezTo>
                <a:cubicBezTo>
                  <a:pt x="325" y="109"/>
                  <a:pt x="322" y="106"/>
                  <a:pt x="319" y="104"/>
                </a:cubicBezTo>
                <a:cubicBezTo>
                  <a:pt x="319" y="103"/>
                  <a:pt x="319" y="103"/>
                  <a:pt x="319" y="103"/>
                </a:cubicBezTo>
                <a:cubicBezTo>
                  <a:pt x="314" y="98"/>
                  <a:pt x="313" y="88"/>
                  <a:pt x="310" y="82"/>
                </a:cubicBezTo>
                <a:cubicBezTo>
                  <a:pt x="307" y="74"/>
                  <a:pt x="304" y="67"/>
                  <a:pt x="300" y="60"/>
                </a:cubicBezTo>
                <a:cubicBezTo>
                  <a:pt x="296" y="53"/>
                  <a:pt x="291" y="46"/>
                  <a:pt x="286" y="40"/>
                </a:cubicBezTo>
                <a:cubicBezTo>
                  <a:pt x="280" y="33"/>
                  <a:pt x="274" y="26"/>
                  <a:pt x="267" y="20"/>
                </a:cubicBezTo>
                <a:cubicBezTo>
                  <a:pt x="261" y="15"/>
                  <a:pt x="254" y="10"/>
                  <a:pt x="246" y="6"/>
                </a:cubicBezTo>
                <a:cubicBezTo>
                  <a:pt x="244" y="5"/>
                  <a:pt x="238" y="2"/>
                  <a:pt x="236" y="4"/>
                </a:cubicBezTo>
                <a:cubicBezTo>
                  <a:pt x="229" y="0"/>
                  <a:pt x="223" y="18"/>
                  <a:pt x="222" y="23"/>
                </a:cubicBezTo>
                <a:cubicBezTo>
                  <a:pt x="217" y="41"/>
                  <a:pt x="218" y="59"/>
                  <a:pt x="222" y="77"/>
                </a:cubicBezTo>
                <a:cubicBezTo>
                  <a:pt x="227" y="99"/>
                  <a:pt x="234" y="120"/>
                  <a:pt x="245" y="140"/>
                </a:cubicBezTo>
                <a:cubicBezTo>
                  <a:pt x="251" y="150"/>
                  <a:pt x="259" y="158"/>
                  <a:pt x="267" y="167"/>
                </a:cubicBezTo>
                <a:cubicBezTo>
                  <a:pt x="271" y="172"/>
                  <a:pt x="276" y="177"/>
                  <a:pt x="281" y="182"/>
                </a:cubicBezTo>
                <a:cubicBezTo>
                  <a:pt x="269" y="179"/>
                  <a:pt x="256" y="178"/>
                  <a:pt x="244" y="180"/>
                </a:cubicBezTo>
                <a:cubicBezTo>
                  <a:pt x="244" y="176"/>
                  <a:pt x="243" y="172"/>
                  <a:pt x="243" y="168"/>
                </a:cubicBezTo>
                <a:cubicBezTo>
                  <a:pt x="242" y="163"/>
                  <a:pt x="242" y="159"/>
                  <a:pt x="241" y="154"/>
                </a:cubicBezTo>
                <a:cubicBezTo>
                  <a:pt x="239" y="146"/>
                  <a:pt x="237" y="138"/>
                  <a:pt x="233" y="130"/>
                </a:cubicBezTo>
                <a:cubicBezTo>
                  <a:pt x="229" y="122"/>
                  <a:pt x="222" y="115"/>
                  <a:pt x="217" y="107"/>
                </a:cubicBezTo>
                <a:cubicBezTo>
                  <a:pt x="213" y="99"/>
                  <a:pt x="210" y="90"/>
                  <a:pt x="204" y="84"/>
                </a:cubicBezTo>
                <a:cubicBezTo>
                  <a:pt x="199" y="80"/>
                  <a:pt x="196" y="76"/>
                  <a:pt x="193" y="71"/>
                </a:cubicBezTo>
                <a:cubicBezTo>
                  <a:pt x="191" y="68"/>
                  <a:pt x="189" y="65"/>
                  <a:pt x="186" y="63"/>
                </a:cubicBezTo>
                <a:cubicBezTo>
                  <a:pt x="183" y="59"/>
                  <a:pt x="179" y="56"/>
                  <a:pt x="176" y="52"/>
                </a:cubicBezTo>
                <a:cubicBezTo>
                  <a:pt x="170" y="47"/>
                  <a:pt x="162" y="42"/>
                  <a:pt x="156" y="49"/>
                </a:cubicBezTo>
                <a:cubicBezTo>
                  <a:pt x="156" y="49"/>
                  <a:pt x="156" y="49"/>
                  <a:pt x="156" y="49"/>
                </a:cubicBezTo>
                <a:cubicBezTo>
                  <a:pt x="153" y="45"/>
                  <a:pt x="149" y="42"/>
                  <a:pt x="145" y="42"/>
                </a:cubicBezTo>
                <a:cubicBezTo>
                  <a:pt x="138" y="42"/>
                  <a:pt x="131" y="41"/>
                  <a:pt x="126" y="45"/>
                </a:cubicBezTo>
                <a:cubicBezTo>
                  <a:pt x="119" y="50"/>
                  <a:pt x="114" y="58"/>
                  <a:pt x="108" y="65"/>
                </a:cubicBezTo>
                <a:cubicBezTo>
                  <a:pt x="103" y="72"/>
                  <a:pt x="98" y="79"/>
                  <a:pt x="94" y="87"/>
                </a:cubicBezTo>
                <a:cubicBezTo>
                  <a:pt x="87" y="103"/>
                  <a:pt x="77" y="119"/>
                  <a:pt x="74" y="137"/>
                </a:cubicBezTo>
                <a:cubicBezTo>
                  <a:pt x="72" y="145"/>
                  <a:pt x="71" y="154"/>
                  <a:pt x="71" y="163"/>
                </a:cubicBezTo>
                <a:cubicBezTo>
                  <a:pt x="71" y="168"/>
                  <a:pt x="71" y="172"/>
                  <a:pt x="72" y="177"/>
                </a:cubicBezTo>
                <a:cubicBezTo>
                  <a:pt x="72" y="178"/>
                  <a:pt x="72" y="179"/>
                  <a:pt x="72" y="181"/>
                </a:cubicBezTo>
                <a:cubicBezTo>
                  <a:pt x="69" y="178"/>
                  <a:pt x="65" y="177"/>
                  <a:pt x="63" y="173"/>
                </a:cubicBezTo>
                <a:cubicBezTo>
                  <a:pt x="58" y="164"/>
                  <a:pt x="47" y="163"/>
                  <a:pt x="38" y="160"/>
                </a:cubicBezTo>
                <a:cubicBezTo>
                  <a:pt x="35" y="159"/>
                  <a:pt x="32" y="159"/>
                  <a:pt x="30" y="158"/>
                </a:cubicBezTo>
                <a:cubicBezTo>
                  <a:pt x="26" y="152"/>
                  <a:pt x="23" y="145"/>
                  <a:pt x="19" y="139"/>
                </a:cubicBezTo>
                <a:cubicBezTo>
                  <a:pt x="13" y="133"/>
                  <a:pt x="6" y="127"/>
                  <a:pt x="0" y="122"/>
                </a:cubicBezTo>
                <a:cubicBezTo>
                  <a:pt x="0" y="126"/>
                  <a:pt x="0" y="126"/>
                  <a:pt x="0" y="126"/>
                </a:cubicBezTo>
                <a:cubicBezTo>
                  <a:pt x="1" y="127"/>
                  <a:pt x="2" y="128"/>
                  <a:pt x="3" y="129"/>
                </a:cubicBezTo>
                <a:cubicBezTo>
                  <a:pt x="9" y="134"/>
                  <a:pt x="15" y="139"/>
                  <a:pt x="19" y="145"/>
                </a:cubicBezTo>
                <a:cubicBezTo>
                  <a:pt x="22" y="149"/>
                  <a:pt x="24" y="154"/>
                  <a:pt x="27" y="158"/>
                </a:cubicBezTo>
                <a:cubicBezTo>
                  <a:pt x="20" y="157"/>
                  <a:pt x="13" y="158"/>
                  <a:pt x="5" y="160"/>
                </a:cubicBezTo>
                <a:cubicBezTo>
                  <a:pt x="4" y="160"/>
                  <a:pt x="2" y="161"/>
                  <a:pt x="0" y="162"/>
                </a:cubicBezTo>
                <a:cubicBezTo>
                  <a:pt x="1" y="160"/>
                  <a:pt x="0" y="159"/>
                  <a:pt x="0" y="157"/>
                </a:cubicBezTo>
                <a:cubicBezTo>
                  <a:pt x="0" y="166"/>
                  <a:pt x="0" y="166"/>
                  <a:pt x="0" y="166"/>
                </a:cubicBezTo>
                <a:cubicBezTo>
                  <a:pt x="5" y="163"/>
                  <a:pt x="10" y="162"/>
                  <a:pt x="15" y="162"/>
                </a:cubicBezTo>
                <a:cubicBezTo>
                  <a:pt x="27" y="159"/>
                  <a:pt x="38" y="163"/>
                  <a:pt x="49" y="167"/>
                </a:cubicBezTo>
                <a:cubicBezTo>
                  <a:pt x="52" y="168"/>
                  <a:pt x="57" y="169"/>
                  <a:pt x="59" y="173"/>
                </a:cubicBezTo>
                <a:cubicBezTo>
                  <a:pt x="60" y="174"/>
                  <a:pt x="61" y="176"/>
                  <a:pt x="62" y="178"/>
                </a:cubicBezTo>
                <a:cubicBezTo>
                  <a:pt x="65" y="182"/>
                  <a:pt x="70" y="183"/>
                  <a:pt x="73" y="188"/>
                </a:cubicBezTo>
                <a:cubicBezTo>
                  <a:pt x="79" y="197"/>
                  <a:pt x="80" y="209"/>
                  <a:pt x="81" y="220"/>
                </a:cubicBezTo>
                <a:cubicBezTo>
                  <a:pt x="81" y="231"/>
                  <a:pt x="82" y="242"/>
                  <a:pt x="84" y="253"/>
                </a:cubicBezTo>
                <a:cubicBezTo>
                  <a:pt x="86" y="264"/>
                  <a:pt x="87" y="275"/>
                  <a:pt x="90" y="285"/>
                </a:cubicBezTo>
                <a:cubicBezTo>
                  <a:pt x="97" y="304"/>
                  <a:pt x="108" y="320"/>
                  <a:pt x="114" y="338"/>
                </a:cubicBezTo>
                <a:cubicBezTo>
                  <a:pt x="114" y="339"/>
                  <a:pt x="114" y="339"/>
                  <a:pt x="115" y="339"/>
                </a:cubicBezTo>
                <a:cubicBezTo>
                  <a:pt x="115" y="339"/>
                  <a:pt x="115" y="340"/>
                  <a:pt x="115" y="340"/>
                </a:cubicBezTo>
                <a:cubicBezTo>
                  <a:pt x="114" y="343"/>
                  <a:pt x="115" y="346"/>
                  <a:pt x="118" y="348"/>
                </a:cubicBezTo>
                <a:cubicBezTo>
                  <a:pt x="122" y="353"/>
                  <a:pt x="124" y="359"/>
                  <a:pt x="127" y="365"/>
                </a:cubicBezTo>
                <a:cubicBezTo>
                  <a:pt x="128" y="366"/>
                  <a:pt x="131" y="374"/>
                  <a:pt x="129" y="374"/>
                </a:cubicBezTo>
                <a:cubicBezTo>
                  <a:pt x="128" y="374"/>
                  <a:pt x="126" y="374"/>
                  <a:pt x="125" y="374"/>
                </a:cubicBezTo>
                <a:cubicBezTo>
                  <a:pt x="124" y="376"/>
                  <a:pt x="123" y="377"/>
                  <a:pt x="124" y="378"/>
                </a:cubicBezTo>
                <a:cubicBezTo>
                  <a:pt x="118" y="374"/>
                  <a:pt x="115" y="366"/>
                  <a:pt x="109" y="361"/>
                </a:cubicBezTo>
                <a:cubicBezTo>
                  <a:pt x="108" y="360"/>
                  <a:pt x="106" y="360"/>
                  <a:pt x="106" y="362"/>
                </a:cubicBezTo>
                <a:cubicBezTo>
                  <a:pt x="105" y="367"/>
                  <a:pt x="108" y="371"/>
                  <a:pt x="110" y="375"/>
                </a:cubicBezTo>
                <a:cubicBezTo>
                  <a:pt x="110" y="375"/>
                  <a:pt x="114" y="383"/>
                  <a:pt x="112" y="382"/>
                </a:cubicBezTo>
                <a:cubicBezTo>
                  <a:pt x="110" y="382"/>
                  <a:pt x="107" y="380"/>
                  <a:pt x="105" y="379"/>
                </a:cubicBezTo>
                <a:cubicBezTo>
                  <a:pt x="102" y="378"/>
                  <a:pt x="98" y="378"/>
                  <a:pt x="97" y="381"/>
                </a:cubicBezTo>
                <a:cubicBezTo>
                  <a:pt x="96" y="382"/>
                  <a:pt x="96" y="382"/>
                  <a:pt x="96" y="382"/>
                </a:cubicBezTo>
                <a:cubicBezTo>
                  <a:pt x="90" y="377"/>
                  <a:pt x="82" y="372"/>
                  <a:pt x="75" y="368"/>
                </a:cubicBezTo>
                <a:cubicBezTo>
                  <a:pt x="66" y="363"/>
                  <a:pt x="57" y="357"/>
                  <a:pt x="47" y="352"/>
                </a:cubicBezTo>
                <a:cubicBezTo>
                  <a:pt x="38" y="348"/>
                  <a:pt x="29" y="342"/>
                  <a:pt x="20" y="337"/>
                </a:cubicBezTo>
                <a:cubicBezTo>
                  <a:pt x="13" y="333"/>
                  <a:pt x="7" y="329"/>
                  <a:pt x="0" y="326"/>
                </a:cubicBezTo>
                <a:cubicBezTo>
                  <a:pt x="0" y="330"/>
                  <a:pt x="0" y="330"/>
                  <a:pt x="0" y="330"/>
                </a:cubicBezTo>
                <a:cubicBezTo>
                  <a:pt x="7" y="333"/>
                  <a:pt x="13" y="337"/>
                  <a:pt x="20" y="341"/>
                </a:cubicBezTo>
                <a:cubicBezTo>
                  <a:pt x="29" y="346"/>
                  <a:pt x="38" y="351"/>
                  <a:pt x="47" y="356"/>
                </a:cubicBezTo>
                <a:cubicBezTo>
                  <a:pt x="52" y="359"/>
                  <a:pt x="56" y="361"/>
                  <a:pt x="61" y="363"/>
                </a:cubicBezTo>
                <a:cubicBezTo>
                  <a:pt x="60" y="363"/>
                  <a:pt x="59" y="363"/>
                  <a:pt x="58" y="363"/>
                </a:cubicBezTo>
                <a:cubicBezTo>
                  <a:pt x="56" y="362"/>
                  <a:pt x="54" y="360"/>
                  <a:pt x="51" y="359"/>
                </a:cubicBezTo>
                <a:cubicBezTo>
                  <a:pt x="51" y="359"/>
                  <a:pt x="50" y="359"/>
                  <a:pt x="50" y="359"/>
                </a:cubicBezTo>
                <a:cubicBezTo>
                  <a:pt x="48" y="357"/>
                  <a:pt x="45" y="356"/>
                  <a:pt x="43" y="356"/>
                </a:cubicBezTo>
                <a:cubicBezTo>
                  <a:pt x="32" y="352"/>
                  <a:pt x="20" y="349"/>
                  <a:pt x="9" y="348"/>
                </a:cubicBezTo>
                <a:cubicBezTo>
                  <a:pt x="6" y="348"/>
                  <a:pt x="3" y="348"/>
                  <a:pt x="0" y="347"/>
                </a:cubicBezTo>
                <a:cubicBezTo>
                  <a:pt x="0" y="350"/>
                  <a:pt x="0" y="350"/>
                  <a:pt x="0" y="350"/>
                </a:cubicBezTo>
                <a:cubicBezTo>
                  <a:pt x="12" y="352"/>
                  <a:pt x="25" y="353"/>
                  <a:pt x="37" y="356"/>
                </a:cubicBezTo>
                <a:cubicBezTo>
                  <a:pt x="41" y="357"/>
                  <a:pt x="45" y="359"/>
                  <a:pt x="48" y="360"/>
                </a:cubicBezTo>
                <a:cubicBezTo>
                  <a:pt x="48" y="360"/>
                  <a:pt x="48" y="361"/>
                  <a:pt x="48" y="361"/>
                </a:cubicBezTo>
                <a:cubicBezTo>
                  <a:pt x="51" y="366"/>
                  <a:pt x="54" y="370"/>
                  <a:pt x="56" y="374"/>
                </a:cubicBezTo>
                <a:cubicBezTo>
                  <a:pt x="59" y="380"/>
                  <a:pt x="61" y="386"/>
                  <a:pt x="64" y="392"/>
                </a:cubicBezTo>
                <a:cubicBezTo>
                  <a:pt x="70" y="403"/>
                  <a:pt x="78" y="412"/>
                  <a:pt x="87" y="421"/>
                </a:cubicBezTo>
                <a:cubicBezTo>
                  <a:pt x="91" y="425"/>
                  <a:pt x="96" y="428"/>
                  <a:pt x="101" y="432"/>
                </a:cubicBezTo>
                <a:cubicBezTo>
                  <a:pt x="107" y="436"/>
                  <a:pt x="111" y="442"/>
                  <a:pt x="115" y="448"/>
                </a:cubicBezTo>
                <a:cubicBezTo>
                  <a:pt x="122" y="460"/>
                  <a:pt x="126" y="473"/>
                  <a:pt x="131" y="485"/>
                </a:cubicBezTo>
                <a:cubicBezTo>
                  <a:pt x="131" y="485"/>
                  <a:pt x="131" y="486"/>
                  <a:pt x="131" y="486"/>
                </a:cubicBezTo>
                <a:cubicBezTo>
                  <a:pt x="130" y="489"/>
                  <a:pt x="131" y="492"/>
                  <a:pt x="132" y="495"/>
                </a:cubicBezTo>
                <a:cubicBezTo>
                  <a:pt x="134" y="499"/>
                  <a:pt x="135" y="503"/>
                  <a:pt x="135" y="507"/>
                </a:cubicBezTo>
                <a:cubicBezTo>
                  <a:pt x="136" y="515"/>
                  <a:pt x="137" y="524"/>
                  <a:pt x="142" y="531"/>
                </a:cubicBezTo>
                <a:cubicBezTo>
                  <a:pt x="146" y="535"/>
                  <a:pt x="151" y="538"/>
                  <a:pt x="154" y="542"/>
                </a:cubicBezTo>
                <a:cubicBezTo>
                  <a:pt x="158" y="545"/>
                  <a:pt x="162" y="549"/>
                  <a:pt x="166" y="553"/>
                </a:cubicBezTo>
                <a:cubicBezTo>
                  <a:pt x="175" y="561"/>
                  <a:pt x="184" y="569"/>
                  <a:pt x="194" y="575"/>
                </a:cubicBezTo>
                <a:cubicBezTo>
                  <a:pt x="204" y="582"/>
                  <a:pt x="213" y="588"/>
                  <a:pt x="224" y="594"/>
                </a:cubicBezTo>
                <a:cubicBezTo>
                  <a:pt x="228" y="596"/>
                  <a:pt x="232" y="598"/>
                  <a:pt x="237" y="599"/>
                </a:cubicBezTo>
                <a:cubicBezTo>
                  <a:pt x="243" y="600"/>
                  <a:pt x="248" y="602"/>
                  <a:pt x="253" y="606"/>
                </a:cubicBezTo>
                <a:cubicBezTo>
                  <a:pt x="257" y="609"/>
                  <a:pt x="261" y="612"/>
                  <a:pt x="265" y="615"/>
                </a:cubicBezTo>
                <a:cubicBezTo>
                  <a:pt x="270" y="618"/>
                  <a:pt x="272" y="621"/>
                  <a:pt x="275" y="626"/>
                </a:cubicBezTo>
                <a:cubicBezTo>
                  <a:pt x="270" y="632"/>
                  <a:pt x="277" y="639"/>
                  <a:pt x="281" y="643"/>
                </a:cubicBezTo>
                <a:cubicBezTo>
                  <a:pt x="291" y="651"/>
                  <a:pt x="296" y="663"/>
                  <a:pt x="303" y="673"/>
                </a:cubicBezTo>
                <a:cubicBezTo>
                  <a:pt x="312" y="684"/>
                  <a:pt x="322" y="694"/>
                  <a:pt x="329" y="706"/>
                </a:cubicBezTo>
                <a:cubicBezTo>
                  <a:pt x="334" y="716"/>
                  <a:pt x="340" y="726"/>
                  <a:pt x="345" y="736"/>
                </a:cubicBezTo>
                <a:cubicBezTo>
                  <a:pt x="348" y="741"/>
                  <a:pt x="351" y="747"/>
                  <a:pt x="353" y="753"/>
                </a:cubicBezTo>
                <a:cubicBezTo>
                  <a:pt x="354" y="758"/>
                  <a:pt x="352" y="762"/>
                  <a:pt x="352" y="766"/>
                </a:cubicBezTo>
                <a:cubicBezTo>
                  <a:pt x="352" y="768"/>
                  <a:pt x="353" y="770"/>
                  <a:pt x="353" y="771"/>
                </a:cubicBezTo>
                <a:cubicBezTo>
                  <a:pt x="353" y="771"/>
                  <a:pt x="353" y="772"/>
                  <a:pt x="353" y="772"/>
                </a:cubicBezTo>
                <a:cubicBezTo>
                  <a:pt x="352" y="777"/>
                  <a:pt x="353" y="783"/>
                  <a:pt x="353" y="789"/>
                </a:cubicBezTo>
                <a:cubicBezTo>
                  <a:pt x="354" y="795"/>
                  <a:pt x="354" y="800"/>
                  <a:pt x="354" y="806"/>
                </a:cubicBezTo>
                <a:cubicBezTo>
                  <a:pt x="353" y="809"/>
                  <a:pt x="353" y="812"/>
                  <a:pt x="352" y="815"/>
                </a:cubicBezTo>
                <a:cubicBezTo>
                  <a:pt x="356" y="815"/>
                  <a:pt x="356" y="815"/>
                  <a:pt x="356" y="815"/>
                </a:cubicBezTo>
                <a:cubicBezTo>
                  <a:pt x="357" y="810"/>
                  <a:pt x="357" y="805"/>
                  <a:pt x="357" y="800"/>
                </a:cubicBezTo>
                <a:cubicBezTo>
                  <a:pt x="357" y="791"/>
                  <a:pt x="357" y="782"/>
                  <a:pt x="356" y="774"/>
                </a:cubicBezTo>
                <a:cubicBezTo>
                  <a:pt x="358" y="775"/>
                  <a:pt x="362" y="775"/>
                  <a:pt x="366" y="773"/>
                </a:cubicBezTo>
                <a:cubicBezTo>
                  <a:pt x="373" y="770"/>
                  <a:pt x="385" y="768"/>
                  <a:pt x="389" y="760"/>
                </a:cubicBezTo>
                <a:cubicBezTo>
                  <a:pt x="393" y="752"/>
                  <a:pt x="394" y="744"/>
                  <a:pt x="392" y="735"/>
                </a:cubicBezTo>
                <a:cubicBezTo>
                  <a:pt x="392" y="735"/>
                  <a:pt x="393" y="735"/>
                  <a:pt x="393" y="735"/>
                </a:cubicBezTo>
                <a:cubicBezTo>
                  <a:pt x="393" y="735"/>
                  <a:pt x="394" y="734"/>
                  <a:pt x="393" y="734"/>
                </a:cubicBezTo>
                <a:cubicBezTo>
                  <a:pt x="392" y="731"/>
                  <a:pt x="391" y="729"/>
                  <a:pt x="390" y="726"/>
                </a:cubicBezTo>
                <a:cubicBezTo>
                  <a:pt x="391" y="727"/>
                  <a:pt x="393" y="728"/>
                  <a:pt x="394" y="729"/>
                </a:cubicBezTo>
                <a:cubicBezTo>
                  <a:pt x="397" y="730"/>
                  <a:pt x="399" y="731"/>
                  <a:pt x="402" y="732"/>
                </a:cubicBezTo>
                <a:cubicBezTo>
                  <a:pt x="398" y="732"/>
                  <a:pt x="396" y="739"/>
                  <a:pt x="397" y="743"/>
                </a:cubicBezTo>
                <a:cubicBezTo>
                  <a:pt x="397" y="743"/>
                  <a:pt x="398" y="743"/>
                  <a:pt x="398" y="743"/>
                </a:cubicBezTo>
                <a:cubicBezTo>
                  <a:pt x="399" y="740"/>
                  <a:pt x="400" y="732"/>
                  <a:pt x="404" y="733"/>
                </a:cubicBezTo>
                <a:cubicBezTo>
                  <a:pt x="405" y="733"/>
                  <a:pt x="405" y="732"/>
                  <a:pt x="405" y="732"/>
                </a:cubicBezTo>
                <a:cubicBezTo>
                  <a:pt x="411" y="732"/>
                  <a:pt x="417" y="731"/>
                  <a:pt x="421" y="726"/>
                </a:cubicBezTo>
                <a:cubicBezTo>
                  <a:pt x="420" y="728"/>
                  <a:pt x="421" y="730"/>
                  <a:pt x="421" y="732"/>
                </a:cubicBezTo>
                <a:cubicBezTo>
                  <a:pt x="427" y="752"/>
                  <a:pt x="465" y="751"/>
                  <a:pt x="469" y="732"/>
                </a:cubicBezTo>
                <a:cubicBezTo>
                  <a:pt x="469" y="732"/>
                  <a:pt x="470" y="731"/>
                  <a:pt x="470" y="731"/>
                </a:cubicBezTo>
                <a:cubicBezTo>
                  <a:pt x="469" y="734"/>
                  <a:pt x="468" y="736"/>
                  <a:pt x="467" y="738"/>
                </a:cubicBezTo>
                <a:cubicBezTo>
                  <a:pt x="463" y="745"/>
                  <a:pt x="455" y="749"/>
                  <a:pt x="447" y="750"/>
                </a:cubicBezTo>
                <a:cubicBezTo>
                  <a:pt x="439" y="751"/>
                  <a:pt x="431" y="750"/>
                  <a:pt x="425" y="746"/>
                </a:cubicBezTo>
                <a:cubicBezTo>
                  <a:pt x="419" y="743"/>
                  <a:pt x="415" y="738"/>
                  <a:pt x="411" y="732"/>
                </a:cubicBezTo>
                <a:cubicBezTo>
                  <a:pt x="411" y="732"/>
                  <a:pt x="410" y="732"/>
                  <a:pt x="410" y="733"/>
                </a:cubicBezTo>
                <a:cubicBezTo>
                  <a:pt x="412" y="749"/>
                  <a:pt x="433" y="756"/>
                  <a:pt x="447" y="753"/>
                </a:cubicBezTo>
                <a:cubicBezTo>
                  <a:pt x="453" y="752"/>
                  <a:pt x="459" y="751"/>
                  <a:pt x="463" y="748"/>
                </a:cubicBezTo>
                <a:cubicBezTo>
                  <a:pt x="461" y="759"/>
                  <a:pt x="460" y="772"/>
                  <a:pt x="458" y="784"/>
                </a:cubicBezTo>
                <a:cubicBezTo>
                  <a:pt x="456" y="793"/>
                  <a:pt x="454" y="803"/>
                  <a:pt x="454" y="812"/>
                </a:cubicBezTo>
                <a:cubicBezTo>
                  <a:pt x="454" y="813"/>
                  <a:pt x="454" y="813"/>
                  <a:pt x="454" y="813"/>
                </a:cubicBezTo>
                <a:cubicBezTo>
                  <a:pt x="453" y="805"/>
                  <a:pt x="453" y="798"/>
                  <a:pt x="455" y="791"/>
                </a:cubicBezTo>
                <a:cubicBezTo>
                  <a:pt x="455" y="790"/>
                  <a:pt x="454" y="790"/>
                  <a:pt x="454" y="790"/>
                </a:cubicBezTo>
                <a:cubicBezTo>
                  <a:pt x="450" y="797"/>
                  <a:pt x="450" y="806"/>
                  <a:pt x="451" y="814"/>
                </a:cubicBezTo>
                <a:cubicBezTo>
                  <a:pt x="451" y="814"/>
                  <a:pt x="451" y="815"/>
                  <a:pt x="451" y="815"/>
                </a:cubicBezTo>
                <a:cubicBezTo>
                  <a:pt x="459" y="815"/>
                  <a:pt x="459" y="815"/>
                  <a:pt x="459" y="815"/>
                </a:cubicBezTo>
                <a:cubicBezTo>
                  <a:pt x="476" y="808"/>
                  <a:pt x="492" y="798"/>
                  <a:pt x="507" y="788"/>
                </a:cubicBezTo>
                <a:cubicBezTo>
                  <a:pt x="525" y="776"/>
                  <a:pt x="543" y="763"/>
                  <a:pt x="561" y="752"/>
                </a:cubicBezTo>
                <a:cubicBezTo>
                  <a:pt x="579" y="740"/>
                  <a:pt x="597" y="727"/>
                  <a:pt x="616" y="716"/>
                </a:cubicBezTo>
                <a:cubicBezTo>
                  <a:pt x="631" y="707"/>
                  <a:pt x="645" y="697"/>
                  <a:pt x="658" y="686"/>
                </a:cubicBezTo>
                <a:cubicBezTo>
                  <a:pt x="653" y="695"/>
                  <a:pt x="653" y="705"/>
                  <a:pt x="660" y="713"/>
                </a:cubicBezTo>
                <a:cubicBezTo>
                  <a:pt x="662" y="716"/>
                  <a:pt x="665" y="718"/>
                  <a:pt x="668" y="720"/>
                </a:cubicBezTo>
                <a:cubicBezTo>
                  <a:pt x="664" y="721"/>
                  <a:pt x="661" y="724"/>
                  <a:pt x="658" y="726"/>
                </a:cubicBezTo>
                <a:cubicBezTo>
                  <a:pt x="651" y="731"/>
                  <a:pt x="645" y="736"/>
                  <a:pt x="638" y="741"/>
                </a:cubicBezTo>
                <a:cubicBezTo>
                  <a:pt x="628" y="749"/>
                  <a:pt x="617" y="756"/>
                  <a:pt x="606" y="762"/>
                </a:cubicBezTo>
                <a:cubicBezTo>
                  <a:pt x="596" y="767"/>
                  <a:pt x="586" y="774"/>
                  <a:pt x="577" y="781"/>
                </a:cubicBezTo>
                <a:cubicBezTo>
                  <a:pt x="560" y="794"/>
                  <a:pt x="541" y="804"/>
                  <a:pt x="523" y="815"/>
                </a:cubicBezTo>
                <a:cubicBezTo>
                  <a:pt x="530" y="815"/>
                  <a:pt x="530" y="815"/>
                  <a:pt x="530" y="815"/>
                </a:cubicBezTo>
                <a:cubicBezTo>
                  <a:pt x="546" y="805"/>
                  <a:pt x="563" y="795"/>
                  <a:pt x="578" y="784"/>
                </a:cubicBezTo>
                <a:cubicBezTo>
                  <a:pt x="597" y="771"/>
                  <a:pt x="617" y="760"/>
                  <a:pt x="636" y="747"/>
                </a:cubicBezTo>
                <a:cubicBezTo>
                  <a:pt x="643" y="742"/>
                  <a:pt x="649" y="738"/>
                  <a:pt x="656" y="732"/>
                </a:cubicBezTo>
                <a:cubicBezTo>
                  <a:pt x="660" y="729"/>
                  <a:pt x="666" y="721"/>
                  <a:pt x="672" y="721"/>
                </a:cubicBezTo>
                <a:cubicBezTo>
                  <a:pt x="676" y="721"/>
                  <a:pt x="680" y="721"/>
                  <a:pt x="684" y="720"/>
                </a:cubicBezTo>
                <a:cubicBezTo>
                  <a:pt x="689" y="718"/>
                  <a:pt x="693" y="716"/>
                  <a:pt x="698" y="714"/>
                </a:cubicBezTo>
                <a:cubicBezTo>
                  <a:pt x="702" y="713"/>
                  <a:pt x="706" y="713"/>
                  <a:pt x="710" y="712"/>
                </a:cubicBezTo>
                <a:cubicBezTo>
                  <a:pt x="712" y="713"/>
                  <a:pt x="715" y="714"/>
                  <a:pt x="719" y="714"/>
                </a:cubicBezTo>
                <a:cubicBezTo>
                  <a:pt x="727" y="715"/>
                  <a:pt x="736" y="713"/>
                  <a:pt x="741" y="706"/>
                </a:cubicBezTo>
                <a:cubicBezTo>
                  <a:pt x="744" y="702"/>
                  <a:pt x="747" y="698"/>
                  <a:pt x="747" y="693"/>
                </a:cubicBezTo>
                <a:cubicBezTo>
                  <a:pt x="747" y="692"/>
                  <a:pt x="748" y="691"/>
                  <a:pt x="748" y="690"/>
                </a:cubicBezTo>
                <a:cubicBezTo>
                  <a:pt x="751" y="688"/>
                  <a:pt x="754" y="686"/>
                  <a:pt x="757" y="683"/>
                </a:cubicBezTo>
                <a:cubicBezTo>
                  <a:pt x="769" y="675"/>
                  <a:pt x="780" y="665"/>
                  <a:pt x="792" y="656"/>
                </a:cubicBezTo>
                <a:cubicBezTo>
                  <a:pt x="802" y="647"/>
                  <a:pt x="813" y="639"/>
                  <a:pt x="821" y="628"/>
                </a:cubicBezTo>
                <a:cubicBezTo>
                  <a:pt x="821" y="628"/>
                  <a:pt x="821" y="628"/>
                  <a:pt x="821" y="629"/>
                </a:cubicBezTo>
                <a:cubicBezTo>
                  <a:pt x="822" y="644"/>
                  <a:pt x="825" y="659"/>
                  <a:pt x="830" y="673"/>
                </a:cubicBezTo>
                <a:cubicBezTo>
                  <a:pt x="833" y="681"/>
                  <a:pt x="836" y="688"/>
                  <a:pt x="840" y="695"/>
                </a:cubicBezTo>
                <a:cubicBezTo>
                  <a:pt x="843" y="702"/>
                  <a:pt x="846" y="709"/>
                  <a:pt x="850" y="715"/>
                </a:cubicBezTo>
                <a:cubicBezTo>
                  <a:pt x="858" y="725"/>
                  <a:pt x="868" y="734"/>
                  <a:pt x="881" y="735"/>
                </a:cubicBezTo>
                <a:cubicBezTo>
                  <a:pt x="888" y="736"/>
                  <a:pt x="895" y="735"/>
                  <a:pt x="902" y="735"/>
                </a:cubicBezTo>
                <a:cubicBezTo>
                  <a:pt x="910" y="735"/>
                  <a:pt x="917" y="735"/>
                  <a:pt x="924" y="734"/>
                </a:cubicBezTo>
                <a:cubicBezTo>
                  <a:pt x="932" y="733"/>
                  <a:pt x="940" y="732"/>
                  <a:pt x="948" y="729"/>
                </a:cubicBezTo>
                <a:cubicBezTo>
                  <a:pt x="953" y="727"/>
                  <a:pt x="960" y="725"/>
                  <a:pt x="965" y="721"/>
                </a:cubicBezTo>
                <a:cubicBezTo>
                  <a:pt x="973" y="712"/>
                  <a:pt x="980" y="697"/>
                  <a:pt x="980" y="684"/>
                </a:cubicBezTo>
                <a:cubicBezTo>
                  <a:pt x="980" y="670"/>
                  <a:pt x="973" y="658"/>
                  <a:pt x="967" y="646"/>
                </a:cubicBezTo>
                <a:cubicBezTo>
                  <a:pt x="960" y="631"/>
                  <a:pt x="953" y="616"/>
                  <a:pt x="943" y="603"/>
                </a:cubicBezTo>
                <a:cubicBezTo>
                  <a:pt x="940" y="599"/>
                  <a:pt x="936" y="593"/>
                  <a:pt x="931" y="588"/>
                </a:cubicBezTo>
                <a:cubicBezTo>
                  <a:pt x="935" y="588"/>
                  <a:pt x="939" y="588"/>
                  <a:pt x="942" y="588"/>
                </a:cubicBezTo>
                <a:cubicBezTo>
                  <a:pt x="943" y="589"/>
                  <a:pt x="943" y="589"/>
                  <a:pt x="944" y="589"/>
                </a:cubicBezTo>
                <a:cubicBezTo>
                  <a:pt x="947" y="588"/>
                  <a:pt x="954" y="592"/>
                  <a:pt x="957" y="593"/>
                </a:cubicBezTo>
                <a:cubicBezTo>
                  <a:pt x="961" y="594"/>
                  <a:pt x="966" y="596"/>
                  <a:pt x="970" y="598"/>
                </a:cubicBezTo>
                <a:cubicBezTo>
                  <a:pt x="977" y="600"/>
                  <a:pt x="984" y="600"/>
                  <a:pt x="991" y="600"/>
                </a:cubicBezTo>
                <a:cubicBezTo>
                  <a:pt x="997" y="601"/>
                  <a:pt x="1003" y="601"/>
                  <a:pt x="1009" y="600"/>
                </a:cubicBezTo>
                <a:cubicBezTo>
                  <a:pt x="1023" y="598"/>
                  <a:pt x="1036" y="595"/>
                  <a:pt x="1050" y="593"/>
                </a:cubicBezTo>
                <a:cubicBezTo>
                  <a:pt x="1057" y="592"/>
                  <a:pt x="1064" y="590"/>
                  <a:pt x="1071" y="589"/>
                </a:cubicBezTo>
                <a:cubicBezTo>
                  <a:pt x="1078" y="589"/>
                  <a:pt x="1084" y="588"/>
                  <a:pt x="1091" y="588"/>
                </a:cubicBezTo>
                <a:cubicBezTo>
                  <a:pt x="1098" y="587"/>
                  <a:pt x="1105" y="585"/>
                  <a:pt x="1112" y="582"/>
                </a:cubicBezTo>
                <a:cubicBezTo>
                  <a:pt x="1119" y="579"/>
                  <a:pt x="1127" y="576"/>
                  <a:pt x="1135" y="574"/>
                </a:cubicBezTo>
                <a:cubicBezTo>
                  <a:pt x="1143" y="571"/>
                  <a:pt x="1155" y="567"/>
                  <a:pt x="1159" y="560"/>
                </a:cubicBezTo>
                <a:cubicBezTo>
                  <a:pt x="1161" y="558"/>
                  <a:pt x="1162" y="554"/>
                  <a:pt x="1160" y="552"/>
                </a:cubicBezTo>
                <a:close/>
                <a:moveTo>
                  <a:pt x="1016" y="424"/>
                </a:moveTo>
                <a:cubicBezTo>
                  <a:pt x="1028" y="421"/>
                  <a:pt x="1041" y="418"/>
                  <a:pt x="1054" y="415"/>
                </a:cubicBezTo>
                <a:cubicBezTo>
                  <a:pt x="1065" y="413"/>
                  <a:pt x="1078" y="410"/>
                  <a:pt x="1090" y="412"/>
                </a:cubicBezTo>
                <a:cubicBezTo>
                  <a:pt x="1103" y="414"/>
                  <a:pt x="1115" y="423"/>
                  <a:pt x="1117" y="436"/>
                </a:cubicBezTo>
                <a:cubicBezTo>
                  <a:pt x="1118" y="439"/>
                  <a:pt x="1117" y="445"/>
                  <a:pt x="1120" y="447"/>
                </a:cubicBezTo>
                <a:cubicBezTo>
                  <a:pt x="1125" y="449"/>
                  <a:pt x="1129" y="449"/>
                  <a:pt x="1132" y="454"/>
                </a:cubicBezTo>
                <a:cubicBezTo>
                  <a:pt x="1137" y="464"/>
                  <a:pt x="1134" y="477"/>
                  <a:pt x="1129" y="486"/>
                </a:cubicBezTo>
                <a:cubicBezTo>
                  <a:pt x="1123" y="498"/>
                  <a:pt x="1116" y="510"/>
                  <a:pt x="1108" y="519"/>
                </a:cubicBezTo>
                <a:cubicBezTo>
                  <a:pt x="1103" y="524"/>
                  <a:pt x="1099" y="528"/>
                  <a:pt x="1095" y="533"/>
                </a:cubicBezTo>
                <a:cubicBezTo>
                  <a:pt x="1092" y="536"/>
                  <a:pt x="1089" y="540"/>
                  <a:pt x="1084" y="541"/>
                </a:cubicBezTo>
                <a:cubicBezTo>
                  <a:pt x="1084" y="541"/>
                  <a:pt x="1084" y="541"/>
                  <a:pt x="1084" y="541"/>
                </a:cubicBezTo>
                <a:cubicBezTo>
                  <a:pt x="1078" y="541"/>
                  <a:pt x="1072" y="542"/>
                  <a:pt x="1066" y="542"/>
                </a:cubicBezTo>
                <a:cubicBezTo>
                  <a:pt x="1049" y="544"/>
                  <a:pt x="1033" y="545"/>
                  <a:pt x="1016" y="545"/>
                </a:cubicBezTo>
                <a:cubicBezTo>
                  <a:pt x="1007" y="545"/>
                  <a:pt x="998" y="545"/>
                  <a:pt x="989" y="545"/>
                </a:cubicBezTo>
                <a:cubicBezTo>
                  <a:pt x="991" y="544"/>
                  <a:pt x="992" y="544"/>
                  <a:pt x="994" y="544"/>
                </a:cubicBezTo>
                <a:cubicBezTo>
                  <a:pt x="996" y="544"/>
                  <a:pt x="999" y="544"/>
                  <a:pt x="1002" y="544"/>
                </a:cubicBezTo>
                <a:cubicBezTo>
                  <a:pt x="1001" y="544"/>
                  <a:pt x="1001" y="544"/>
                  <a:pt x="1001" y="544"/>
                </a:cubicBezTo>
                <a:cubicBezTo>
                  <a:pt x="1001" y="544"/>
                  <a:pt x="1001" y="545"/>
                  <a:pt x="1001" y="545"/>
                </a:cubicBezTo>
                <a:cubicBezTo>
                  <a:pt x="1005" y="545"/>
                  <a:pt x="1008" y="544"/>
                  <a:pt x="1012" y="544"/>
                </a:cubicBezTo>
                <a:cubicBezTo>
                  <a:pt x="1013" y="544"/>
                  <a:pt x="1014" y="544"/>
                  <a:pt x="1015" y="544"/>
                </a:cubicBezTo>
                <a:cubicBezTo>
                  <a:pt x="1021" y="544"/>
                  <a:pt x="1027" y="544"/>
                  <a:pt x="1033" y="543"/>
                </a:cubicBezTo>
                <a:cubicBezTo>
                  <a:pt x="1040" y="541"/>
                  <a:pt x="1045" y="539"/>
                  <a:pt x="1051" y="537"/>
                </a:cubicBezTo>
                <a:cubicBezTo>
                  <a:pt x="1052" y="537"/>
                  <a:pt x="1051" y="536"/>
                  <a:pt x="1051" y="536"/>
                </a:cubicBezTo>
                <a:cubicBezTo>
                  <a:pt x="1045" y="538"/>
                  <a:pt x="1038" y="540"/>
                  <a:pt x="1031" y="541"/>
                </a:cubicBezTo>
                <a:cubicBezTo>
                  <a:pt x="1030" y="541"/>
                  <a:pt x="1028" y="541"/>
                  <a:pt x="1026" y="541"/>
                </a:cubicBezTo>
                <a:cubicBezTo>
                  <a:pt x="1033" y="540"/>
                  <a:pt x="1038" y="537"/>
                  <a:pt x="1044" y="536"/>
                </a:cubicBezTo>
                <a:cubicBezTo>
                  <a:pt x="1045" y="535"/>
                  <a:pt x="1045" y="535"/>
                  <a:pt x="1044" y="535"/>
                </a:cubicBezTo>
                <a:cubicBezTo>
                  <a:pt x="1037" y="536"/>
                  <a:pt x="1029" y="539"/>
                  <a:pt x="1022" y="540"/>
                </a:cubicBezTo>
                <a:cubicBezTo>
                  <a:pt x="1018" y="541"/>
                  <a:pt x="1015" y="541"/>
                  <a:pt x="1011" y="541"/>
                </a:cubicBezTo>
                <a:cubicBezTo>
                  <a:pt x="1011" y="541"/>
                  <a:pt x="1010" y="541"/>
                  <a:pt x="1010" y="541"/>
                </a:cubicBezTo>
                <a:cubicBezTo>
                  <a:pt x="1007" y="541"/>
                  <a:pt x="1003" y="541"/>
                  <a:pt x="1000" y="541"/>
                </a:cubicBezTo>
                <a:cubicBezTo>
                  <a:pt x="1007" y="539"/>
                  <a:pt x="1014" y="536"/>
                  <a:pt x="1020" y="534"/>
                </a:cubicBezTo>
                <a:cubicBezTo>
                  <a:pt x="1021" y="534"/>
                  <a:pt x="1020" y="533"/>
                  <a:pt x="1020" y="533"/>
                </a:cubicBezTo>
                <a:cubicBezTo>
                  <a:pt x="1008" y="537"/>
                  <a:pt x="996" y="540"/>
                  <a:pt x="984" y="543"/>
                </a:cubicBezTo>
                <a:cubicBezTo>
                  <a:pt x="984" y="543"/>
                  <a:pt x="984" y="543"/>
                  <a:pt x="984" y="543"/>
                </a:cubicBezTo>
                <a:cubicBezTo>
                  <a:pt x="982" y="543"/>
                  <a:pt x="981" y="543"/>
                  <a:pt x="979" y="544"/>
                </a:cubicBezTo>
                <a:cubicBezTo>
                  <a:pt x="978" y="544"/>
                  <a:pt x="977" y="544"/>
                  <a:pt x="977" y="544"/>
                </a:cubicBezTo>
                <a:cubicBezTo>
                  <a:pt x="981" y="542"/>
                  <a:pt x="985" y="539"/>
                  <a:pt x="989" y="537"/>
                </a:cubicBezTo>
                <a:cubicBezTo>
                  <a:pt x="996" y="533"/>
                  <a:pt x="1004" y="529"/>
                  <a:pt x="1012" y="527"/>
                </a:cubicBezTo>
                <a:cubicBezTo>
                  <a:pt x="1012" y="527"/>
                  <a:pt x="1012" y="526"/>
                  <a:pt x="1012" y="526"/>
                </a:cubicBezTo>
                <a:cubicBezTo>
                  <a:pt x="1003" y="528"/>
                  <a:pt x="997" y="531"/>
                  <a:pt x="989" y="535"/>
                </a:cubicBezTo>
                <a:cubicBezTo>
                  <a:pt x="985" y="536"/>
                  <a:pt x="982" y="538"/>
                  <a:pt x="978" y="540"/>
                </a:cubicBezTo>
                <a:cubicBezTo>
                  <a:pt x="976" y="541"/>
                  <a:pt x="973" y="542"/>
                  <a:pt x="971" y="543"/>
                </a:cubicBezTo>
                <a:cubicBezTo>
                  <a:pt x="970" y="543"/>
                  <a:pt x="969" y="543"/>
                  <a:pt x="968" y="543"/>
                </a:cubicBezTo>
                <a:cubicBezTo>
                  <a:pt x="962" y="542"/>
                  <a:pt x="955" y="541"/>
                  <a:pt x="950" y="544"/>
                </a:cubicBezTo>
                <a:cubicBezTo>
                  <a:pt x="946" y="546"/>
                  <a:pt x="943" y="548"/>
                  <a:pt x="941" y="552"/>
                </a:cubicBezTo>
                <a:cubicBezTo>
                  <a:pt x="938" y="550"/>
                  <a:pt x="933" y="551"/>
                  <a:pt x="930" y="551"/>
                </a:cubicBezTo>
                <a:cubicBezTo>
                  <a:pt x="929" y="551"/>
                  <a:pt x="928" y="551"/>
                  <a:pt x="927" y="551"/>
                </a:cubicBezTo>
                <a:cubicBezTo>
                  <a:pt x="937" y="549"/>
                  <a:pt x="947" y="544"/>
                  <a:pt x="956" y="541"/>
                </a:cubicBezTo>
                <a:cubicBezTo>
                  <a:pt x="964" y="538"/>
                  <a:pt x="971" y="535"/>
                  <a:pt x="978" y="532"/>
                </a:cubicBezTo>
                <a:cubicBezTo>
                  <a:pt x="985" y="528"/>
                  <a:pt x="993" y="524"/>
                  <a:pt x="1001" y="521"/>
                </a:cubicBezTo>
                <a:cubicBezTo>
                  <a:pt x="1001" y="520"/>
                  <a:pt x="1001" y="519"/>
                  <a:pt x="1000" y="520"/>
                </a:cubicBezTo>
                <a:cubicBezTo>
                  <a:pt x="992" y="523"/>
                  <a:pt x="985" y="527"/>
                  <a:pt x="977" y="530"/>
                </a:cubicBezTo>
                <a:cubicBezTo>
                  <a:pt x="970" y="533"/>
                  <a:pt x="963" y="535"/>
                  <a:pt x="955" y="538"/>
                </a:cubicBezTo>
                <a:cubicBezTo>
                  <a:pt x="942" y="543"/>
                  <a:pt x="928" y="548"/>
                  <a:pt x="914" y="549"/>
                </a:cubicBezTo>
                <a:cubicBezTo>
                  <a:pt x="913" y="549"/>
                  <a:pt x="913" y="550"/>
                  <a:pt x="912" y="550"/>
                </a:cubicBezTo>
                <a:cubicBezTo>
                  <a:pt x="912" y="550"/>
                  <a:pt x="911" y="550"/>
                  <a:pt x="911" y="550"/>
                </a:cubicBezTo>
                <a:cubicBezTo>
                  <a:pt x="909" y="550"/>
                  <a:pt x="907" y="550"/>
                  <a:pt x="905" y="550"/>
                </a:cubicBezTo>
                <a:cubicBezTo>
                  <a:pt x="905" y="550"/>
                  <a:pt x="906" y="549"/>
                  <a:pt x="906" y="549"/>
                </a:cubicBezTo>
                <a:cubicBezTo>
                  <a:pt x="906" y="549"/>
                  <a:pt x="907" y="549"/>
                  <a:pt x="907" y="549"/>
                </a:cubicBezTo>
                <a:cubicBezTo>
                  <a:pt x="911" y="549"/>
                  <a:pt x="915" y="547"/>
                  <a:pt x="919" y="545"/>
                </a:cubicBezTo>
                <a:cubicBezTo>
                  <a:pt x="924" y="543"/>
                  <a:pt x="929" y="540"/>
                  <a:pt x="934" y="538"/>
                </a:cubicBezTo>
                <a:cubicBezTo>
                  <a:pt x="944" y="532"/>
                  <a:pt x="954" y="526"/>
                  <a:pt x="965" y="523"/>
                </a:cubicBezTo>
                <a:cubicBezTo>
                  <a:pt x="966" y="522"/>
                  <a:pt x="966" y="521"/>
                  <a:pt x="965" y="521"/>
                </a:cubicBezTo>
                <a:cubicBezTo>
                  <a:pt x="954" y="525"/>
                  <a:pt x="944" y="529"/>
                  <a:pt x="934" y="534"/>
                </a:cubicBezTo>
                <a:cubicBezTo>
                  <a:pt x="929" y="536"/>
                  <a:pt x="924" y="539"/>
                  <a:pt x="919" y="541"/>
                </a:cubicBezTo>
                <a:cubicBezTo>
                  <a:pt x="916" y="543"/>
                  <a:pt x="912" y="544"/>
                  <a:pt x="909" y="545"/>
                </a:cubicBezTo>
                <a:cubicBezTo>
                  <a:pt x="910" y="545"/>
                  <a:pt x="910" y="544"/>
                  <a:pt x="910" y="544"/>
                </a:cubicBezTo>
                <a:cubicBezTo>
                  <a:pt x="911" y="543"/>
                  <a:pt x="912" y="543"/>
                  <a:pt x="913" y="542"/>
                </a:cubicBezTo>
                <a:cubicBezTo>
                  <a:pt x="916" y="541"/>
                  <a:pt x="919" y="539"/>
                  <a:pt x="921" y="538"/>
                </a:cubicBezTo>
                <a:cubicBezTo>
                  <a:pt x="928" y="534"/>
                  <a:pt x="934" y="529"/>
                  <a:pt x="940" y="525"/>
                </a:cubicBezTo>
                <a:cubicBezTo>
                  <a:pt x="947" y="521"/>
                  <a:pt x="954" y="517"/>
                  <a:pt x="960" y="513"/>
                </a:cubicBezTo>
                <a:cubicBezTo>
                  <a:pt x="967" y="508"/>
                  <a:pt x="974" y="504"/>
                  <a:pt x="980" y="500"/>
                </a:cubicBezTo>
                <a:cubicBezTo>
                  <a:pt x="981" y="500"/>
                  <a:pt x="980" y="500"/>
                  <a:pt x="980" y="500"/>
                </a:cubicBezTo>
                <a:cubicBezTo>
                  <a:pt x="964" y="508"/>
                  <a:pt x="950" y="518"/>
                  <a:pt x="934" y="527"/>
                </a:cubicBezTo>
                <a:cubicBezTo>
                  <a:pt x="928" y="531"/>
                  <a:pt x="923" y="534"/>
                  <a:pt x="917" y="537"/>
                </a:cubicBezTo>
                <a:cubicBezTo>
                  <a:pt x="918" y="535"/>
                  <a:pt x="920" y="534"/>
                  <a:pt x="921" y="532"/>
                </a:cubicBezTo>
                <a:cubicBezTo>
                  <a:pt x="921" y="532"/>
                  <a:pt x="921" y="532"/>
                  <a:pt x="921" y="532"/>
                </a:cubicBezTo>
                <a:cubicBezTo>
                  <a:pt x="926" y="532"/>
                  <a:pt x="930" y="529"/>
                  <a:pt x="934" y="526"/>
                </a:cubicBezTo>
                <a:cubicBezTo>
                  <a:pt x="939" y="523"/>
                  <a:pt x="943" y="520"/>
                  <a:pt x="948" y="517"/>
                </a:cubicBezTo>
                <a:cubicBezTo>
                  <a:pt x="957" y="510"/>
                  <a:pt x="965" y="503"/>
                  <a:pt x="972" y="495"/>
                </a:cubicBezTo>
                <a:cubicBezTo>
                  <a:pt x="973" y="494"/>
                  <a:pt x="972" y="494"/>
                  <a:pt x="972" y="494"/>
                </a:cubicBezTo>
                <a:cubicBezTo>
                  <a:pt x="964" y="503"/>
                  <a:pt x="955" y="510"/>
                  <a:pt x="945" y="516"/>
                </a:cubicBezTo>
                <a:cubicBezTo>
                  <a:pt x="940" y="519"/>
                  <a:pt x="936" y="522"/>
                  <a:pt x="931" y="524"/>
                </a:cubicBezTo>
                <a:cubicBezTo>
                  <a:pt x="930" y="525"/>
                  <a:pt x="929" y="525"/>
                  <a:pt x="928" y="526"/>
                </a:cubicBezTo>
                <a:cubicBezTo>
                  <a:pt x="928" y="526"/>
                  <a:pt x="928" y="526"/>
                  <a:pt x="928" y="525"/>
                </a:cubicBezTo>
                <a:cubicBezTo>
                  <a:pt x="928" y="525"/>
                  <a:pt x="928" y="525"/>
                  <a:pt x="928" y="525"/>
                </a:cubicBezTo>
                <a:cubicBezTo>
                  <a:pt x="934" y="521"/>
                  <a:pt x="939" y="517"/>
                  <a:pt x="945" y="513"/>
                </a:cubicBezTo>
                <a:cubicBezTo>
                  <a:pt x="950" y="510"/>
                  <a:pt x="953" y="508"/>
                  <a:pt x="957" y="502"/>
                </a:cubicBezTo>
                <a:cubicBezTo>
                  <a:pt x="957" y="502"/>
                  <a:pt x="957" y="502"/>
                  <a:pt x="957" y="502"/>
                </a:cubicBezTo>
                <a:cubicBezTo>
                  <a:pt x="960" y="499"/>
                  <a:pt x="963" y="496"/>
                  <a:pt x="965" y="494"/>
                </a:cubicBezTo>
                <a:cubicBezTo>
                  <a:pt x="974" y="485"/>
                  <a:pt x="983" y="476"/>
                  <a:pt x="994" y="469"/>
                </a:cubicBezTo>
                <a:cubicBezTo>
                  <a:pt x="994" y="469"/>
                  <a:pt x="994" y="468"/>
                  <a:pt x="993" y="469"/>
                </a:cubicBezTo>
                <a:cubicBezTo>
                  <a:pt x="983" y="474"/>
                  <a:pt x="975" y="483"/>
                  <a:pt x="966" y="491"/>
                </a:cubicBezTo>
                <a:cubicBezTo>
                  <a:pt x="964" y="492"/>
                  <a:pt x="962" y="494"/>
                  <a:pt x="960" y="496"/>
                </a:cubicBezTo>
                <a:cubicBezTo>
                  <a:pt x="957" y="497"/>
                  <a:pt x="954" y="499"/>
                  <a:pt x="951" y="501"/>
                </a:cubicBezTo>
                <a:cubicBezTo>
                  <a:pt x="953" y="499"/>
                  <a:pt x="955" y="497"/>
                  <a:pt x="957" y="495"/>
                </a:cubicBezTo>
                <a:cubicBezTo>
                  <a:pt x="964" y="488"/>
                  <a:pt x="972" y="481"/>
                  <a:pt x="979" y="475"/>
                </a:cubicBezTo>
                <a:cubicBezTo>
                  <a:pt x="982" y="471"/>
                  <a:pt x="986" y="468"/>
                  <a:pt x="989" y="465"/>
                </a:cubicBezTo>
                <a:cubicBezTo>
                  <a:pt x="993" y="461"/>
                  <a:pt x="997" y="459"/>
                  <a:pt x="1001" y="457"/>
                </a:cubicBezTo>
                <a:cubicBezTo>
                  <a:pt x="1006" y="453"/>
                  <a:pt x="1012" y="448"/>
                  <a:pt x="1019" y="447"/>
                </a:cubicBezTo>
                <a:cubicBezTo>
                  <a:pt x="1019" y="447"/>
                  <a:pt x="1019" y="446"/>
                  <a:pt x="1019" y="446"/>
                </a:cubicBezTo>
                <a:cubicBezTo>
                  <a:pt x="1013" y="446"/>
                  <a:pt x="1008" y="449"/>
                  <a:pt x="1003" y="453"/>
                </a:cubicBezTo>
                <a:cubicBezTo>
                  <a:pt x="997" y="458"/>
                  <a:pt x="990" y="462"/>
                  <a:pt x="984" y="468"/>
                </a:cubicBezTo>
                <a:cubicBezTo>
                  <a:pt x="975" y="474"/>
                  <a:pt x="967" y="481"/>
                  <a:pt x="959" y="489"/>
                </a:cubicBezTo>
                <a:cubicBezTo>
                  <a:pt x="955" y="492"/>
                  <a:pt x="951" y="497"/>
                  <a:pt x="947" y="501"/>
                </a:cubicBezTo>
                <a:cubicBezTo>
                  <a:pt x="955" y="492"/>
                  <a:pt x="964" y="484"/>
                  <a:pt x="972" y="476"/>
                </a:cubicBezTo>
                <a:cubicBezTo>
                  <a:pt x="977" y="471"/>
                  <a:pt x="982" y="465"/>
                  <a:pt x="987" y="462"/>
                </a:cubicBezTo>
                <a:cubicBezTo>
                  <a:pt x="992" y="459"/>
                  <a:pt x="996" y="457"/>
                  <a:pt x="1000" y="452"/>
                </a:cubicBezTo>
                <a:cubicBezTo>
                  <a:pt x="1001" y="452"/>
                  <a:pt x="1000" y="451"/>
                  <a:pt x="999" y="451"/>
                </a:cubicBezTo>
                <a:cubicBezTo>
                  <a:pt x="990" y="461"/>
                  <a:pt x="978" y="467"/>
                  <a:pt x="969" y="476"/>
                </a:cubicBezTo>
                <a:cubicBezTo>
                  <a:pt x="962" y="483"/>
                  <a:pt x="954" y="489"/>
                  <a:pt x="948" y="496"/>
                </a:cubicBezTo>
                <a:cubicBezTo>
                  <a:pt x="949" y="494"/>
                  <a:pt x="950" y="492"/>
                  <a:pt x="951" y="490"/>
                </a:cubicBezTo>
                <a:cubicBezTo>
                  <a:pt x="952" y="491"/>
                  <a:pt x="952" y="491"/>
                  <a:pt x="953" y="491"/>
                </a:cubicBezTo>
                <a:cubicBezTo>
                  <a:pt x="958" y="487"/>
                  <a:pt x="962" y="481"/>
                  <a:pt x="966" y="476"/>
                </a:cubicBezTo>
                <a:cubicBezTo>
                  <a:pt x="970" y="471"/>
                  <a:pt x="974" y="467"/>
                  <a:pt x="979" y="463"/>
                </a:cubicBezTo>
                <a:cubicBezTo>
                  <a:pt x="988" y="454"/>
                  <a:pt x="999" y="447"/>
                  <a:pt x="1008" y="439"/>
                </a:cubicBezTo>
                <a:cubicBezTo>
                  <a:pt x="1009" y="439"/>
                  <a:pt x="1008" y="439"/>
                  <a:pt x="1008" y="439"/>
                </a:cubicBezTo>
                <a:cubicBezTo>
                  <a:pt x="996" y="444"/>
                  <a:pt x="987" y="453"/>
                  <a:pt x="977" y="461"/>
                </a:cubicBezTo>
                <a:cubicBezTo>
                  <a:pt x="972" y="466"/>
                  <a:pt x="968" y="471"/>
                  <a:pt x="963" y="475"/>
                </a:cubicBezTo>
                <a:cubicBezTo>
                  <a:pt x="961" y="478"/>
                  <a:pt x="959" y="480"/>
                  <a:pt x="957" y="482"/>
                </a:cubicBezTo>
                <a:cubicBezTo>
                  <a:pt x="965" y="470"/>
                  <a:pt x="972" y="457"/>
                  <a:pt x="976" y="443"/>
                </a:cubicBezTo>
                <a:cubicBezTo>
                  <a:pt x="977" y="441"/>
                  <a:pt x="977" y="439"/>
                  <a:pt x="978" y="438"/>
                </a:cubicBezTo>
                <a:cubicBezTo>
                  <a:pt x="978" y="438"/>
                  <a:pt x="979" y="437"/>
                  <a:pt x="979" y="437"/>
                </a:cubicBezTo>
                <a:cubicBezTo>
                  <a:pt x="990" y="431"/>
                  <a:pt x="1004" y="428"/>
                  <a:pt x="1016" y="424"/>
                </a:cubicBezTo>
                <a:close/>
                <a:moveTo>
                  <a:pt x="893" y="481"/>
                </a:moveTo>
                <a:cubicBezTo>
                  <a:pt x="893" y="481"/>
                  <a:pt x="893" y="481"/>
                  <a:pt x="893" y="481"/>
                </a:cubicBezTo>
                <a:cubicBezTo>
                  <a:pt x="893" y="481"/>
                  <a:pt x="893" y="481"/>
                  <a:pt x="894" y="481"/>
                </a:cubicBezTo>
                <a:cubicBezTo>
                  <a:pt x="895" y="480"/>
                  <a:pt x="894" y="478"/>
                  <a:pt x="894" y="477"/>
                </a:cubicBezTo>
                <a:cubicBezTo>
                  <a:pt x="895" y="474"/>
                  <a:pt x="895" y="471"/>
                  <a:pt x="896" y="469"/>
                </a:cubicBezTo>
                <a:cubicBezTo>
                  <a:pt x="896" y="466"/>
                  <a:pt x="896" y="462"/>
                  <a:pt x="895" y="459"/>
                </a:cubicBezTo>
                <a:cubicBezTo>
                  <a:pt x="895" y="456"/>
                  <a:pt x="896" y="452"/>
                  <a:pt x="895" y="448"/>
                </a:cubicBezTo>
                <a:cubicBezTo>
                  <a:pt x="895" y="448"/>
                  <a:pt x="894" y="448"/>
                  <a:pt x="894" y="448"/>
                </a:cubicBezTo>
                <a:cubicBezTo>
                  <a:pt x="893" y="452"/>
                  <a:pt x="894" y="455"/>
                  <a:pt x="894" y="459"/>
                </a:cubicBezTo>
                <a:cubicBezTo>
                  <a:pt x="894" y="462"/>
                  <a:pt x="893" y="466"/>
                  <a:pt x="894" y="469"/>
                </a:cubicBezTo>
                <a:cubicBezTo>
                  <a:pt x="894" y="471"/>
                  <a:pt x="893" y="474"/>
                  <a:pt x="892" y="477"/>
                </a:cubicBezTo>
                <a:cubicBezTo>
                  <a:pt x="892" y="476"/>
                  <a:pt x="892" y="475"/>
                  <a:pt x="892" y="475"/>
                </a:cubicBezTo>
                <a:cubicBezTo>
                  <a:pt x="890" y="465"/>
                  <a:pt x="889" y="455"/>
                  <a:pt x="885" y="446"/>
                </a:cubicBezTo>
                <a:cubicBezTo>
                  <a:pt x="883" y="441"/>
                  <a:pt x="880" y="437"/>
                  <a:pt x="877" y="432"/>
                </a:cubicBezTo>
                <a:cubicBezTo>
                  <a:pt x="877" y="428"/>
                  <a:pt x="875" y="424"/>
                  <a:pt x="874" y="420"/>
                </a:cubicBezTo>
                <a:cubicBezTo>
                  <a:pt x="873" y="414"/>
                  <a:pt x="872" y="408"/>
                  <a:pt x="873" y="403"/>
                </a:cubicBezTo>
                <a:cubicBezTo>
                  <a:pt x="873" y="402"/>
                  <a:pt x="871" y="401"/>
                  <a:pt x="871" y="402"/>
                </a:cubicBezTo>
                <a:cubicBezTo>
                  <a:pt x="871" y="408"/>
                  <a:pt x="871" y="413"/>
                  <a:pt x="872" y="419"/>
                </a:cubicBezTo>
                <a:cubicBezTo>
                  <a:pt x="872" y="422"/>
                  <a:pt x="873" y="425"/>
                  <a:pt x="874" y="427"/>
                </a:cubicBezTo>
                <a:cubicBezTo>
                  <a:pt x="870" y="422"/>
                  <a:pt x="865" y="417"/>
                  <a:pt x="859" y="412"/>
                </a:cubicBezTo>
                <a:cubicBezTo>
                  <a:pt x="859" y="408"/>
                  <a:pt x="858" y="405"/>
                  <a:pt x="857" y="402"/>
                </a:cubicBezTo>
                <a:cubicBezTo>
                  <a:pt x="856" y="397"/>
                  <a:pt x="856" y="390"/>
                  <a:pt x="857" y="385"/>
                </a:cubicBezTo>
                <a:cubicBezTo>
                  <a:pt x="857" y="384"/>
                  <a:pt x="855" y="383"/>
                  <a:pt x="855" y="385"/>
                </a:cubicBezTo>
                <a:cubicBezTo>
                  <a:pt x="855" y="391"/>
                  <a:pt x="855" y="396"/>
                  <a:pt x="856" y="402"/>
                </a:cubicBezTo>
                <a:cubicBezTo>
                  <a:pt x="856" y="404"/>
                  <a:pt x="856" y="407"/>
                  <a:pt x="857" y="410"/>
                </a:cubicBezTo>
                <a:cubicBezTo>
                  <a:pt x="855" y="408"/>
                  <a:pt x="853" y="407"/>
                  <a:pt x="851" y="405"/>
                </a:cubicBezTo>
                <a:cubicBezTo>
                  <a:pt x="851" y="404"/>
                  <a:pt x="851" y="403"/>
                  <a:pt x="851" y="402"/>
                </a:cubicBezTo>
                <a:cubicBezTo>
                  <a:pt x="851" y="401"/>
                  <a:pt x="850" y="400"/>
                  <a:pt x="850" y="399"/>
                </a:cubicBezTo>
                <a:cubicBezTo>
                  <a:pt x="850" y="398"/>
                  <a:pt x="848" y="398"/>
                  <a:pt x="848" y="399"/>
                </a:cubicBezTo>
                <a:cubicBezTo>
                  <a:pt x="848" y="400"/>
                  <a:pt x="848" y="402"/>
                  <a:pt x="849" y="403"/>
                </a:cubicBezTo>
                <a:cubicBezTo>
                  <a:pt x="849" y="403"/>
                  <a:pt x="849" y="403"/>
                  <a:pt x="849" y="404"/>
                </a:cubicBezTo>
                <a:cubicBezTo>
                  <a:pt x="841" y="399"/>
                  <a:pt x="833" y="396"/>
                  <a:pt x="824" y="394"/>
                </a:cubicBezTo>
                <a:cubicBezTo>
                  <a:pt x="821" y="394"/>
                  <a:pt x="816" y="391"/>
                  <a:pt x="812" y="391"/>
                </a:cubicBezTo>
                <a:cubicBezTo>
                  <a:pt x="813" y="390"/>
                  <a:pt x="814" y="390"/>
                  <a:pt x="815" y="389"/>
                </a:cubicBezTo>
                <a:cubicBezTo>
                  <a:pt x="820" y="385"/>
                  <a:pt x="824" y="382"/>
                  <a:pt x="828" y="378"/>
                </a:cubicBezTo>
                <a:cubicBezTo>
                  <a:pt x="836" y="372"/>
                  <a:pt x="851" y="362"/>
                  <a:pt x="854" y="350"/>
                </a:cubicBezTo>
                <a:cubicBezTo>
                  <a:pt x="854" y="350"/>
                  <a:pt x="855" y="350"/>
                  <a:pt x="855" y="349"/>
                </a:cubicBezTo>
                <a:cubicBezTo>
                  <a:pt x="855" y="335"/>
                  <a:pt x="848" y="321"/>
                  <a:pt x="838" y="310"/>
                </a:cubicBezTo>
                <a:cubicBezTo>
                  <a:pt x="838" y="310"/>
                  <a:pt x="838" y="309"/>
                  <a:pt x="838" y="309"/>
                </a:cubicBezTo>
                <a:cubicBezTo>
                  <a:pt x="839" y="309"/>
                  <a:pt x="839" y="308"/>
                  <a:pt x="839" y="308"/>
                </a:cubicBezTo>
                <a:cubicBezTo>
                  <a:pt x="840" y="305"/>
                  <a:pt x="845" y="302"/>
                  <a:pt x="847" y="300"/>
                </a:cubicBezTo>
                <a:cubicBezTo>
                  <a:pt x="851" y="295"/>
                  <a:pt x="856" y="290"/>
                  <a:pt x="860" y="285"/>
                </a:cubicBezTo>
                <a:cubicBezTo>
                  <a:pt x="864" y="280"/>
                  <a:pt x="868" y="274"/>
                  <a:pt x="874" y="272"/>
                </a:cubicBezTo>
                <a:cubicBezTo>
                  <a:pt x="879" y="270"/>
                  <a:pt x="883" y="269"/>
                  <a:pt x="886" y="266"/>
                </a:cubicBezTo>
                <a:cubicBezTo>
                  <a:pt x="899" y="257"/>
                  <a:pt x="911" y="251"/>
                  <a:pt x="927" y="252"/>
                </a:cubicBezTo>
                <a:cubicBezTo>
                  <a:pt x="945" y="254"/>
                  <a:pt x="957" y="264"/>
                  <a:pt x="966" y="280"/>
                </a:cubicBezTo>
                <a:cubicBezTo>
                  <a:pt x="980" y="306"/>
                  <a:pt x="988" y="337"/>
                  <a:pt x="988" y="367"/>
                </a:cubicBezTo>
                <a:cubicBezTo>
                  <a:pt x="986" y="382"/>
                  <a:pt x="984" y="397"/>
                  <a:pt x="978" y="411"/>
                </a:cubicBezTo>
                <a:cubicBezTo>
                  <a:pt x="972" y="429"/>
                  <a:pt x="962" y="446"/>
                  <a:pt x="953" y="463"/>
                </a:cubicBezTo>
                <a:cubicBezTo>
                  <a:pt x="945" y="478"/>
                  <a:pt x="935" y="492"/>
                  <a:pt x="924" y="505"/>
                </a:cubicBezTo>
                <a:cubicBezTo>
                  <a:pt x="926" y="501"/>
                  <a:pt x="929" y="496"/>
                  <a:pt x="931" y="492"/>
                </a:cubicBezTo>
                <a:cubicBezTo>
                  <a:pt x="933" y="487"/>
                  <a:pt x="935" y="482"/>
                  <a:pt x="938" y="478"/>
                </a:cubicBezTo>
                <a:cubicBezTo>
                  <a:pt x="939" y="478"/>
                  <a:pt x="938" y="477"/>
                  <a:pt x="938" y="477"/>
                </a:cubicBezTo>
                <a:cubicBezTo>
                  <a:pt x="933" y="480"/>
                  <a:pt x="932" y="486"/>
                  <a:pt x="929" y="491"/>
                </a:cubicBezTo>
                <a:cubicBezTo>
                  <a:pt x="926" y="497"/>
                  <a:pt x="921" y="503"/>
                  <a:pt x="920" y="510"/>
                </a:cubicBezTo>
                <a:cubicBezTo>
                  <a:pt x="920" y="510"/>
                  <a:pt x="919" y="510"/>
                  <a:pt x="919" y="511"/>
                </a:cubicBezTo>
                <a:cubicBezTo>
                  <a:pt x="913" y="517"/>
                  <a:pt x="907" y="524"/>
                  <a:pt x="901" y="530"/>
                </a:cubicBezTo>
                <a:cubicBezTo>
                  <a:pt x="901" y="529"/>
                  <a:pt x="902" y="527"/>
                  <a:pt x="902" y="526"/>
                </a:cubicBezTo>
                <a:cubicBezTo>
                  <a:pt x="904" y="522"/>
                  <a:pt x="907" y="517"/>
                  <a:pt x="909" y="513"/>
                </a:cubicBezTo>
                <a:cubicBezTo>
                  <a:pt x="910" y="513"/>
                  <a:pt x="909" y="513"/>
                  <a:pt x="909" y="513"/>
                </a:cubicBezTo>
                <a:cubicBezTo>
                  <a:pt x="908" y="514"/>
                  <a:pt x="906" y="516"/>
                  <a:pt x="905" y="517"/>
                </a:cubicBezTo>
                <a:cubicBezTo>
                  <a:pt x="906" y="517"/>
                  <a:pt x="906" y="516"/>
                  <a:pt x="906" y="516"/>
                </a:cubicBezTo>
                <a:cubicBezTo>
                  <a:pt x="909" y="507"/>
                  <a:pt x="912" y="498"/>
                  <a:pt x="913" y="488"/>
                </a:cubicBezTo>
                <a:cubicBezTo>
                  <a:pt x="913" y="488"/>
                  <a:pt x="912" y="488"/>
                  <a:pt x="912" y="488"/>
                </a:cubicBezTo>
                <a:cubicBezTo>
                  <a:pt x="909" y="497"/>
                  <a:pt x="908" y="506"/>
                  <a:pt x="904" y="515"/>
                </a:cubicBezTo>
                <a:cubicBezTo>
                  <a:pt x="901" y="522"/>
                  <a:pt x="898" y="529"/>
                  <a:pt x="894" y="535"/>
                </a:cubicBezTo>
                <a:cubicBezTo>
                  <a:pt x="894" y="535"/>
                  <a:pt x="894" y="535"/>
                  <a:pt x="894" y="535"/>
                </a:cubicBezTo>
                <a:cubicBezTo>
                  <a:pt x="893" y="537"/>
                  <a:pt x="891" y="538"/>
                  <a:pt x="890" y="540"/>
                </a:cubicBezTo>
                <a:cubicBezTo>
                  <a:pt x="890" y="538"/>
                  <a:pt x="890" y="537"/>
                  <a:pt x="890" y="535"/>
                </a:cubicBezTo>
                <a:cubicBezTo>
                  <a:pt x="891" y="526"/>
                  <a:pt x="894" y="516"/>
                  <a:pt x="894" y="507"/>
                </a:cubicBezTo>
                <a:cubicBezTo>
                  <a:pt x="894" y="498"/>
                  <a:pt x="894" y="490"/>
                  <a:pt x="893" y="481"/>
                </a:cubicBezTo>
                <a:close/>
                <a:moveTo>
                  <a:pt x="713" y="477"/>
                </a:moveTo>
                <a:cubicBezTo>
                  <a:pt x="712" y="474"/>
                  <a:pt x="712" y="471"/>
                  <a:pt x="711" y="468"/>
                </a:cubicBezTo>
                <a:cubicBezTo>
                  <a:pt x="710" y="459"/>
                  <a:pt x="714" y="450"/>
                  <a:pt x="715" y="441"/>
                </a:cubicBezTo>
                <a:cubicBezTo>
                  <a:pt x="716" y="435"/>
                  <a:pt x="717" y="429"/>
                  <a:pt x="721" y="424"/>
                </a:cubicBezTo>
                <a:cubicBezTo>
                  <a:pt x="724" y="421"/>
                  <a:pt x="728" y="418"/>
                  <a:pt x="731" y="416"/>
                </a:cubicBezTo>
                <a:cubicBezTo>
                  <a:pt x="735" y="415"/>
                  <a:pt x="739" y="414"/>
                  <a:pt x="742" y="414"/>
                </a:cubicBezTo>
                <a:cubicBezTo>
                  <a:pt x="740" y="414"/>
                  <a:pt x="738" y="415"/>
                  <a:pt x="737" y="416"/>
                </a:cubicBezTo>
                <a:cubicBezTo>
                  <a:pt x="733" y="418"/>
                  <a:pt x="729" y="421"/>
                  <a:pt x="726" y="424"/>
                </a:cubicBezTo>
                <a:cubicBezTo>
                  <a:pt x="720" y="433"/>
                  <a:pt x="716" y="443"/>
                  <a:pt x="714" y="454"/>
                </a:cubicBezTo>
                <a:cubicBezTo>
                  <a:pt x="713" y="461"/>
                  <a:pt x="712" y="469"/>
                  <a:pt x="713" y="477"/>
                </a:cubicBezTo>
                <a:close/>
                <a:moveTo>
                  <a:pt x="712" y="421"/>
                </a:moveTo>
                <a:cubicBezTo>
                  <a:pt x="712" y="420"/>
                  <a:pt x="711" y="418"/>
                  <a:pt x="709" y="416"/>
                </a:cubicBezTo>
                <a:cubicBezTo>
                  <a:pt x="712" y="417"/>
                  <a:pt x="715" y="417"/>
                  <a:pt x="717" y="417"/>
                </a:cubicBezTo>
                <a:cubicBezTo>
                  <a:pt x="720" y="417"/>
                  <a:pt x="723" y="417"/>
                  <a:pt x="726" y="416"/>
                </a:cubicBezTo>
                <a:cubicBezTo>
                  <a:pt x="721" y="419"/>
                  <a:pt x="718" y="423"/>
                  <a:pt x="715" y="428"/>
                </a:cubicBezTo>
                <a:cubicBezTo>
                  <a:pt x="714" y="425"/>
                  <a:pt x="713" y="421"/>
                  <a:pt x="712" y="421"/>
                </a:cubicBezTo>
                <a:close/>
                <a:moveTo>
                  <a:pt x="741" y="410"/>
                </a:moveTo>
                <a:cubicBezTo>
                  <a:pt x="728" y="413"/>
                  <a:pt x="715" y="413"/>
                  <a:pt x="702" y="412"/>
                </a:cubicBezTo>
                <a:cubicBezTo>
                  <a:pt x="695" y="411"/>
                  <a:pt x="689" y="411"/>
                  <a:pt x="682" y="410"/>
                </a:cubicBezTo>
                <a:cubicBezTo>
                  <a:pt x="676" y="409"/>
                  <a:pt x="670" y="409"/>
                  <a:pt x="664" y="407"/>
                </a:cubicBezTo>
                <a:cubicBezTo>
                  <a:pt x="653" y="404"/>
                  <a:pt x="644" y="398"/>
                  <a:pt x="636" y="390"/>
                </a:cubicBezTo>
                <a:cubicBezTo>
                  <a:pt x="632" y="386"/>
                  <a:pt x="626" y="379"/>
                  <a:pt x="620" y="383"/>
                </a:cubicBezTo>
                <a:cubicBezTo>
                  <a:pt x="619" y="383"/>
                  <a:pt x="619" y="384"/>
                  <a:pt x="620" y="384"/>
                </a:cubicBezTo>
                <a:cubicBezTo>
                  <a:pt x="628" y="385"/>
                  <a:pt x="633" y="393"/>
                  <a:pt x="639" y="399"/>
                </a:cubicBezTo>
                <a:cubicBezTo>
                  <a:pt x="638" y="398"/>
                  <a:pt x="637" y="398"/>
                  <a:pt x="635" y="397"/>
                </a:cubicBezTo>
                <a:cubicBezTo>
                  <a:pt x="634" y="396"/>
                  <a:pt x="633" y="396"/>
                  <a:pt x="632" y="396"/>
                </a:cubicBezTo>
                <a:cubicBezTo>
                  <a:pt x="631" y="396"/>
                  <a:pt x="631" y="396"/>
                  <a:pt x="631" y="396"/>
                </a:cubicBezTo>
                <a:cubicBezTo>
                  <a:pt x="630" y="399"/>
                  <a:pt x="636" y="399"/>
                  <a:pt x="637" y="400"/>
                </a:cubicBezTo>
                <a:cubicBezTo>
                  <a:pt x="640" y="402"/>
                  <a:pt x="643" y="404"/>
                  <a:pt x="646" y="406"/>
                </a:cubicBezTo>
                <a:cubicBezTo>
                  <a:pt x="647" y="406"/>
                  <a:pt x="647" y="405"/>
                  <a:pt x="647" y="405"/>
                </a:cubicBezTo>
                <a:cubicBezTo>
                  <a:pt x="647" y="405"/>
                  <a:pt x="647" y="404"/>
                  <a:pt x="646" y="404"/>
                </a:cubicBezTo>
                <a:cubicBezTo>
                  <a:pt x="656" y="409"/>
                  <a:pt x="665" y="412"/>
                  <a:pt x="676" y="413"/>
                </a:cubicBezTo>
                <a:cubicBezTo>
                  <a:pt x="685" y="414"/>
                  <a:pt x="695" y="415"/>
                  <a:pt x="704" y="416"/>
                </a:cubicBezTo>
                <a:cubicBezTo>
                  <a:pt x="705" y="417"/>
                  <a:pt x="706" y="417"/>
                  <a:pt x="707" y="418"/>
                </a:cubicBezTo>
                <a:cubicBezTo>
                  <a:pt x="709" y="420"/>
                  <a:pt x="710" y="422"/>
                  <a:pt x="711" y="424"/>
                </a:cubicBezTo>
                <a:cubicBezTo>
                  <a:pt x="712" y="425"/>
                  <a:pt x="713" y="429"/>
                  <a:pt x="714" y="430"/>
                </a:cubicBezTo>
                <a:cubicBezTo>
                  <a:pt x="714" y="431"/>
                  <a:pt x="713" y="432"/>
                  <a:pt x="713" y="433"/>
                </a:cubicBezTo>
                <a:cubicBezTo>
                  <a:pt x="712" y="439"/>
                  <a:pt x="712" y="444"/>
                  <a:pt x="710" y="450"/>
                </a:cubicBezTo>
                <a:cubicBezTo>
                  <a:pt x="709" y="454"/>
                  <a:pt x="708" y="459"/>
                  <a:pt x="707" y="463"/>
                </a:cubicBezTo>
                <a:cubicBezTo>
                  <a:pt x="702" y="472"/>
                  <a:pt x="691" y="476"/>
                  <a:pt x="683" y="480"/>
                </a:cubicBezTo>
                <a:cubicBezTo>
                  <a:pt x="671" y="485"/>
                  <a:pt x="660" y="489"/>
                  <a:pt x="648" y="494"/>
                </a:cubicBezTo>
                <a:cubicBezTo>
                  <a:pt x="642" y="496"/>
                  <a:pt x="636" y="499"/>
                  <a:pt x="630" y="500"/>
                </a:cubicBezTo>
                <a:cubicBezTo>
                  <a:pt x="624" y="501"/>
                  <a:pt x="619" y="501"/>
                  <a:pt x="613" y="502"/>
                </a:cubicBezTo>
                <a:cubicBezTo>
                  <a:pt x="601" y="503"/>
                  <a:pt x="590" y="500"/>
                  <a:pt x="581" y="493"/>
                </a:cubicBezTo>
                <a:cubicBezTo>
                  <a:pt x="572" y="487"/>
                  <a:pt x="563" y="477"/>
                  <a:pt x="557" y="468"/>
                </a:cubicBezTo>
                <a:cubicBezTo>
                  <a:pt x="550" y="457"/>
                  <a:pt x="547" y="445"/>
                  <a:pt x="543" y="434"/>
                </a:cubicBezTo>
                <a:cubicBezTo>
                  <a:pt x="539" y="423"/>
                  <a:pt x="536" y="412"/>
                  <a:pt x="540" y="401"/>
                </a:cubicBezTo>
                <a:cubicBezTo>
                  <a:pt x="542" y="395"/>
                  <a:pt x="543" y="389"/>
                  <a:pt x="545" y="383"/>
                </a:cubicBezTo>
                <a:cubicBezTo>
                  <a:pt x="547" y="378"/>
                  <a:pt x="550" y="375"/>
                  <a:pt x="553" y="371"/>
                </a:cubicBezTo>
                <a:cubicBezTo>
                  <a:pt x="560" y="366"/>
                  <a:pt x="567" y="360"/>
                  <a:pt x="576" y="360"/>
                </a:cubicBezTo>
                <a:cubicBezTo>
                  <a:pt x="583" y="360"/>
                  <a:pt x="589" y="361"/>
                  <a:pt x="595" y="364"/>
                </a:cubicBezTo>
                <a:cubicBezTo>
                  <a:pt x="598" y="365"/>
                  <a:pt x="601" y="367"/>
                  <a:pt x="604" y="368"/>
                </a:cubicBezTo>
                <a:cubicBezTo>
                  <a:pt x="606" y="369"/>
                  <a:pt x="607" y="370"/>
                  <a:pt x="609" y="370"/>
                </a:cubicBezTo>
                <a:cubicBezTo>
                  <a:pt x="609" y="370"/>
                  <a:pt x="609" y="370"/>
                  <a:pt x="609" y="370"/>
                </a:cubicBezTo>
                <a:cubicBezTo>
                  <a:pt x="608" y="371"/>
                  <a:pt x="607" y="372"/>
                  <a:pt x="607" y="373"/>
                </a:cubicBezTo>
                <a:cubicBezTo>
                  <a:pt x="606" y="375"/>
                  <a:pt x="605" y="378"/>
                  <a:pt x="605" y="380"/>
                </a:cubicBezTo>
                <a:cubicBezTo>
                  <a:pt x="593" y="374"/>
                  <a:pt x="579" y="385"/>
                  <a:pt x="567" y="386"/>
                </a:cubicBezTo>
                <a:cubicBezTo>
                  <a:pt x="566" y="386"/>
                  <a:pt x="566" y="388"/>
                  <a:pt x="567" y="388"/>
                </a:cubicBezTo>
                <a:cubicBezTo>
                  <a:pt x="573" y="387"/>
                  <a:pt x="579" y="384"/>
                  <a:pt x="584" y="383"/>
                </a:cubicBezTo>
                <a:cubicBezTo>
                  <a:pt x="591" y="381"/>
                  <a:pt x="598" y="380"/>
                  <a:pt x="604" y="381"/>
                </a:cubicBezTo>
                <a:cubicBezTo>
                  <a:pt x="605" y="381"/>
                  <a:pt x="605" y="381"/>
                  <a:pt x="605" y="381"/>
                </a:cubicBezTo>
                <a:cubicBezTo>
                  <a:pt x="605" y="381"/>
                  <a:pt x="605" y="382"/>
                  <a:pt x="605" y="383"/>
                </a:cubicBezTo>
                <a:cubicBezTo>
                  <a:pt x="604" y="383"/>
                  <a:pt x="604" y="383"/>
                  <a:pt x="603" y="384"/>
                </a:cubicBezTo>
                <a:cubicBezTo>
                  <a:pt x="602" y="386"/>
                  <a:pt x="601" y="389"/>
                  <a:pt x="601" y="391"/>
                </a:cubicBezTo>
                <a:cubicBezTo>
                  <a:pt x="595" y="392"/>
                  <a:pt x="592" y="397"/>
                  <a:pt x="587" y="400"/>
                </a:cubicBezTo>
                <a:cubicBezTo>
                  <a:pt x="583" y="402"/>
                  <a:pt x="581" y="404"/>
                  <a:pt x="578" y="407"/>
                </a:cubicBezTo>
                <a:cubicBezTo>
                  <a:pt x="576" y="409"/>
                  <a:pt x="574" y="410"/>
                  <a:pt x="571" y="412"/>
                </a:cubicBezTo>
                <a:cubicBezTo>
                  <a:pt x="571" y="412"/>
                  <a:pt x="571" y="412"/>
                  <a:pt x="570" y="412"/>
                </a:cubicBezTo>
                <a:cubicBezTo>
                  <a:pt x="570" y="413"/>
                  <a:pt x="569" y="414"/>
                  <a:pt x="568" y="414"/>
                </a:cubicBezTo>
                <a:cubicBezTo>
                  <a:pt x="567" y="415"/>
                  <a:pt x="569" y="418"/>
                  <a:pt x="571" y="416"/>
                </a:cubicBezTo>
                <a:cubicBezTo>
                  <a:pt x="574" y="413"/>
                  <a:pt x="577" y="410"/>
                  <a:pt x="581" y="407"/>
                </a:cubicBezTo>
                <a:cubicBezTo>
                  <a:pt x="583" y="406"/>
                  <a:pt x="585" y="404"/>
                  <a:pt x="587" y="402"/>
                </a:cubicBezTo>
                <a:cubicBezTo>
                  <a:pt x="590" y="398"/>
                  <a:pt x="596" y="393"/>
                  <a:pt x="601" y="391"/>
                </a:cubicBezTo>
                <a:cubicBezTo>
                  <a:pt x="602" y="392"/>
                  <a:pt x="602" y="392"/>
                  <a:pt x="602" y="393"/>
                </a:cubicBezTo>
                <a:cubicBezTo>
                  <a:pt x="599" y="395"/>
                  <a:pt x="597" y="398"/>
                  <a:pt x="595" y="401"/>
                </a:cubicBezTo>
                <a:cubicBezTo>
                  <a:pt x="595" y="401"/>
                  <a:pt x="595" y="401"/>
                  <a:pt x="596" y="401"/>
                </a:cubicBezTo>
                <a:cubicBezTo>
                  <a:pt x="598" y="399"/>
                  <a:pt x="600" y="396"/>
                  <a:pt x="602" y="394"/>
                </a:cubicBezTo>
                <a:cubicBezTo>
                  <a:pt x="603" y="394"/>
                  <a:pt x="603" y="395"/>
                  <a:pt x="604" y="395"/>
                </a:cubicBezTo>
                <a:cubicBezTo>
                  <a:pt x="602" y="397"/>
                  <a:pt x="601" y="400"/>
                  <a:pt x="600" y="403"/>
                </a:cubicBezTo>
                <a:cubicBezTo>
                  <a:pt x="600" y="403"/>
                  <a:pt x="600" y="403"/>
                  <a:pt x="600" y="403"/>
                </a:cubicBezTo>
                <a:cubicBezTo>
                  <a:pt x="601" y="400"/>
                  <a:pt x="603" y="398"/>
                  <a:pt x="605" y="396"/>
                </a:cubicBezTo>
                <a:cubicBezTo>
                  <a:pt x="606" y="397"/>
                  <a:pt x="608" y="397"/>
                  <a:pt x="610" y="397"/>
                </a:cubicBezTo>
                <a:cubicBezTo>
                  <a:pt x="612" y="397"/>
                  <a:pt x="614" y="397"/>
                  <a:pt x="617" y="397"/>
                </a:cubicBezTo>
                <a:cubicBezTo>
                  <a:pt x="617" y="397"/>
                  <a:pt x="617" y="397"/>
                  <a:pt x="617" y="397"/>
                </a:cubicBezTo>
                <a:cubicBezTo>
                  <a:pt x="617" y="404"/>
                  <a:pt x="621" y="410"/>
                  <a:pt x="625" y="414"/>
                </a:cubicBezTo>
                <a:cubicBezTo>
                  <a:pt x="631" y="421"/>
                  <a:pt x="637" y="428"/>
                  <a:pt x="644" y="433"/>
                </a:cubicBezTo>
                <a:cubicBezTo>
                  <a:pt x="644" y="434"/>
                  <a:pt x="645" y="433"/>
                  <a:pt x="644" y="433"/>
                </a:cubicBezTo>
                <a:cubicBezTo>
                  <a:pt x="638" y="428"/>
                  <a:pt x="633" y="421"/>
                  <a:pt x="628" y="415"/>
                </a:cubicBezTo>
                <a:cubicBezTo>
                  <a:pt x="626" y="412"/>
                  <a:pt x="623" y="410"/>
                  <a:pt x="622" y="407"/>
                </a:cubicBezTo>
                <a:cubicBezTo>
                  <a:pt x="620" y="404"/>
                  <a:pt x="620" y="401"/>
                  <a:pt x="619" y="398"/>
                </a:cubicBezTo>
                <a:cubicBezTo>
                  <a:pt x="619" y="398"/>
                  <a:pt x="619" y="398"/>
                  <a:pt x="619" y="398"/>
                </a:cubicBezTo>
                <a:cubicBezTo>
                  <a:pt x="619" y="398"/>
                  <a:pt x="619" y="397"/>
                  <a:pt x="619" y="397"/>
                </a:cubicBezTo>
                <a:cubicBezTo>
                  <a:pt x="619" y="397"/>
                  <a:pt x="618" y="397"/>
                  <a:pt x="618" y="397"/>
                </a:cubicBezTo>
                <a:cubicBezTo>
                  <a:pt x="619" y="396"/>
                  <a:pt x="620" y="396"/>
                  <a:pt x="622" y="396"/>
                </a:cubicBezTo>
                <a:cubicBezTo>
                  <a:pt x="622" y="398"/>
                  <a:pt x="623" y="400"/>
                  <a:pt x="625" y="401"/>
                </a:cubicBezTo>
                <a:cubicBezTo>
                  <a:pt x="626" y="404"/>
                  <a:pt x="629" y="405"/>
                  <a:pt x="630" y="406"/>
                </a:cubicBezTo>
                <a:cubicBezTo>
                  <a:pt x="630" y="407"/>
                  <a:pt x="631" y="406"/>
                  <a:pt x="631" y="406"/>
                </a:cubicBezTo>
                <a:cubicBezTo>
                  <a:pt x="629" y="405"/>
                  <a:pt x="628" y="403"/>
                  <a:pt x="627" y="401"/>
                </a:cubicBezTo>
                <a:cubicBezTo>
                  <a:pt x="625" y="399"/>
                  <a:pt x="624" y="398"/>
                  <a:pt x="623" y="396"/>
                </a:cubicBezTo>
                <a:cubicBezTo>
                  <a:pt x="624" y="396"/>
                  <a:pt x="625" y="395"/>
                  <a:pt x="625" y="395"/>
                </a:cubicBezTo>
                <a:cubicBezTo>
                  <a:pt x="625" y="396"/>
                  <a:pt x="625" y="396"/>
                  <a:pt x="626" y="397"/>
                </a:cubicBezTo>
                <a:cubicBezTo>
                  <a:pt x="632" y="405"/>
                  <a:pt x="641" y="409"/>
                  <a:pt x="651" y="412"/>
                </a:cubicBezTo>
                <a:cubicBezTo>
                  <a:pt x="651" y="412"/>
                  <a:pt x="651" y="412"/>
                  <a:pt x="651" y="412"/>
                </a:cubicBezTo>
                <a:cubicBezTo>
                  <a:pt x="641" y="409"/>
                  <a:pt x="634" y="402"/>
                  <a:pt x="627" y="395"/>
                </a:cubicBezTo>
                <a:cubicBezTo>
                  <a:pt x="627" y="395"/>
                  <a:pt x="627" y="395"/>
                  <a:pt x="627" y="395"/>
                </a:cubicBezTo>
                <a:cubicBezTo>
                  <a:pt x="628" y="394"/>
                  <a:pt x="629" y="394"/>
                  <a:pt x="630" y="394"/>
                </a:cubicBezTo>
                <a:cubicBezTo>
                  <a:pt x="631" y="393"/>
                  <a:pt x="631" y="392"/>
                  <a:pt x="630" y="392"/>
                </a:cubicBezTo>
                <a:cubicBezTo>
                  <a:pt x="626" y="392"/>
                  <a:pt x="622" y="392"/>
                  <a:pt x="619" y="393"/>
                </a:cubicBezTo>
                <a:cubicBezTo>
                  <a:pt x="615" y="393"/>
                  <a:pt x="612" y="393"/>
                  <a:pt x="610" y="390"/>
                </a:cubicBezTo>
                <a:cubicBezTo>
                  <a:pt x="608" y="387"/>
                  <a:pt x="607" y="383"/>
                  <a:pt x="608" y="380"/>
                </a:cubicBezTo>
                <a:cubicBezTo>
                  <a:pt x="610" y="372"/>
                  <a:pt x="619" y="365"/>
                  <a:pt x="627" y="371"/>
                </a:cubicBezTo>
                <a:cubicBezTo>
                  <a:pt x="631" y="374"/>
                  <a:pt x="634" y="378"/>
                  <a:pt x="639" y="380"/>
                </a:cubicBezTo>
                <a:cubicBezTo>
                  <a:pt x="643" y="382"/>
                  <a:pt x="648" y="382"/>
                  <a:pt x="652" y="383"/>
                </a:cubicBezTo>
                <a:cubicBezTo>
                  <a:pt x="665" y="384"/>
                  <a:pt x="677" y="388"/>
                  <a:pt x="689" y="392"/>
                </a:cubicBezTo>
                <a:cubicBezTo>
                  <a:pt x="700" y="394"/>
                  <a:pt x="711" y="398"/>
                  <a:pt x="722" y="400"/>
                </a:cubicBezTo>
                <a:cubicBezTo>
                  <a:pt x="731" y="401"/>
                  <a:pt x="741" y="399"/>
                  <a:pt x="750" y="398"/>
                </a:cubicBezTo>
                <a:cubicBezTo>
                  <a:pt x="758" y="397"/>
                  <a:pt x="766" y="395"/>
                  <a:pt x="774" y="394"/>
                </a:cubicBezTo>
                <a:cubicBezTo>
                  <a:pt x="778" y="393"/>
                  <a:pt x="785" y="392"/>
                  <a:pt x="787" y="388"/>
                </a:cubicBezTo>
                <a:cubicBezTo>
                  <a:pt x="787" y="387"/>
                  <a:pt x="786" y="386"/>
                  <a:pt x="786" y="387"/>
                </a:cubicBezTo>
                <a:cubicBezTo>
                  <a:pt x="784" y="390"/>
                  <a:pt x="778" y="390"/>
                  <a:pt x="775" y="391"/>
                </a:cubicBezTo>
                <a:cubicBezTo>
                  <a:pt x="771" y="392"/>
                  <a:pt x="767" y="392"/>
                  <a:pt x="764" y="393"/>
                </a:cubicBezTo>
                <a:cubicBezTo>
                  <a:pt x="758" y="394"/>
                  <a:pt x="752" y="395"/>
                  <a:pt x="746" y="395"/>
                </a:cubicBezTo>
                <a:cubicBezTo>
                  <a:pt x="740" y="396"/>
                  <a:pt x="733" y="397"/>
                  <a:pt x="727" y="396"/>
                </a:cubicBezTo>
                <a:cubicBezTo>
                  <a:pt x="720" y="396"/>
                  <a:pt x="712" y="394"/>
                  <a:pt x="705" y="392"/>
                </a:cubicBezTo>
                <a:cubicBezTo>
                  <a:pt x="709" y="392"/>
                  <a:pt x="712" y="391"/>
                  <a:pt x="715" y="390"/>
                </a:cubicBezTo>
                <a:cubicBezTo>
                  <a:pt x="723" y="388"/>
                  <a:pt x="731" y="387"/>
                  <a:pt x="740" y="387"/>
                </a:cubicBezTo>
                <a:cubicBezTo>
                  <a:pt x="740" y="387"/>
                  <a:pt x="740" y="386"/>
                  <a:pt x="740" y="386"/>
                </a:cubicBezTo>
                <a:cubicBezTo>
                  <a:pt x="733" y="385"/>
                  <a:pt x="727" y="386"/>
                  <a:pt x="721" y="388"/>
                </a:cubicBezTo>
                <a:cubicBezTo>
                  <a:pt x="717" y="389"/>
                  <a:pt x="712" y="390"/>
                  <a:pt x="707" y="390"/>
                </a:cubicBezTo>
                <a:cubicBezTo>
                  <a:pt x="704" y="390"/>
                  <a:pt x="700" y="389"/>
                  <a:pt x="697" y="390"/>
                </a:cubicBezTo>
                <a:cubicBezTo>
                  <a:pt x="694" y="389"/>
                  <a:pt x="691" y="388"/>
                  <a:pt x="688" y="387"/>
                </a:cubicBezTo>
                <a:cubicBezTo>
                  <a:pt x="688" y="387"/>
                  <a:pt x="688" y="387"/>
                  <a:pt x="688" y="387"/>
                </a:cubicBezTo>
                <a:cubicBezTo>
                  <a:pt x="690" y="387"/>
                  <a:pt x="693" y="386"/>
                  <a:pt x="695" y="386"/>
                </a:cubicBezTo>
                <a:cubicBezTo>
                  <a:pt x="706" y="385"/>
                  <a:pt x="716" y="383"/>
                  <a:pt x="726" y="381"/>
                </a:cubicBezTo>
                <a:cubicBezTo>
                  <a:pt x="727" y="381"/>
                  <a:pt x="727" y="380"/>
                  <a:pt x="726" y="380"/>
                </a:cubicBezTo>
                <a:cubicBezTo>
                  <a:pt x="717" y="382"/>
                  <a:pt x="708" y="384"/>
                  <a:pt x="698" y="384"/>
                </a:cubicBezTo>
                <a:cubicBezTo>
                  <a:pt x="694" y="384"/>
                  <a:pt x="690" y="385"/>
                  <a:pt x="686" y="385"/>
                </a:cubicBezTo>
                <a:cubicBezTo>
                  <a:pt x="683" y="385"/>
                  <a:pt x="680" y="384"/>
                  <a:pt x="678" y="383"/>
                </a:cubicBezTo>
                <a:cubicBezTo>
                  <a:pt x="678" y="383"/>
                  <a:pt x="679" y="383"/>
                  <a:pt x="680" y="383"/>
                </a:cubicBezTo>
                <a:cubicBezTo>
                  <a:pt x="687" y="382"/>
                  <a:pt x="694" y="380"/>
                  <a:pt x="701" y="378"/>
                </a:cubicBezTo>
                <a:cubicBezTo>
                  <a:pt x="717" y="375"/>
                  <a:pt x="732" y="370"/>
                  <a:pt x="748" y="367"/>
                </a:cubicBezTo>
                <a:cubicBezTo>
                  <a:pt x="749" y="366"/>
                  <a:pt x="748" y="366"/>
                  <a:pt x="748" y="366"/>
                </a:cubicBezTo>
                <a:cubicBezTo>
                  <a:pt x="740" y="366"/>
                  <a:pt x="734" y="369"/>
                  <a:pt x="726" y="371"/>
                </a:cubicBezTo>
                <a:cubicBezTo>
                  <a:pt x="718" y="372"/>
                  <a:pt x="711" y="375"/>
                  <a:pt x="703" y="376"/>
                </a:cubicBezTo>
                <a:cubicBezTo>
                  <a:pt x="695" y="377"/>
                  <a:pt x="688" y="379"/>
                  <a:pt x="681" y="380"/>
                </a:cubicBezTo>
                <a:cubicBezTo>
                  <a:pt x="675" y="381"/>
                  <a:pt x="669" y="380"/>
                  <a:pt x="664" y="379"/>
                </a:cubicBezTo>
                <a:cubicBezTo>
                  <a:pt x="667" y="378"/>
                  <a:pt x="670" y="378"/>
                  <a:pt x="673" y="377"/>
                </a:cubicBezTo>
                <a:cubicBezTo>
                  <a:pt x="678" y="376"/>
                  <a:pt x="684" y="377"/>
                  <a:pt x="689" y="375"/>
                </a:cubicBezTo>
                <a:cubicBezTo>
                  <a:pt x="694" y="374"/>
                  <a:pt x="699" y="372"/>
                  <a:pt x="704" y="371"/>
                </a:cubicBezTo>
                <a:cubicBezTo>
                  <a:pt x="705" y="371"/>
                  <a:pt x="704" y="370"/>
                  <a:pt x="704" y="370"/>
                </a:cubicBezTo>
                <a:cubicBezTo>
                  <a:pt x="694" y="372"/>
                  <a:pt x="684" y="374"/>
                  <a:pt x="674" y="375"/>
                </a:cubicBezTo>
                <a:cubicBezTo>
                  <a:pt x="675" y="375"/>
                  <a:pt x="676" y="374"/>
                  <a:pt x="677" y="374"/>
                </a:cubicBezTo>
                <a:cubicBezTo>
                  <a:pt x="687" y="369"/>
                  <a:pt x="698" y="363"/>
                  <a:pt x="709" y="359"/>
                </a:cubicBezTo>
                <a:cubicBezTo>
                  <a:pt x="710" y="359"/>
                  <a:pt x="710" y="359"/>
                  <a:pt x="709" y="359"/>
                </a:cubicBezTo>
                <a:cubicBezTo>
                  <a:pt x="690" y="363"/>
                  <a:pt x="674" y="378"/>
                  <a:pt x="654" y="376"/>
                </a:cubicBezTo>
                <a:cubicBezTo>
                  <a:pt x="654" y="376"/>
                  <a:pt x="654" y="377"/>
                  <a:pt x="653" y="377"/>
                </a:cubicBezTo>
                <a:cubicBezTo>
                  <a:pt x="652" y="377"/>
                  <a:pt x="651" y="377"/>
                  <a:pt x="650" y="377"/>
                </a:cubicBezTo>
                <a:cubicBezTo>
                  <a:pt x="657" y="376"/>
                  <a:pt x="664" y="374"/>
                  <a:pt x="670" y="371"/>
                </a:cubicBezTo>
                <a:cubicBezTo>
                  <a:pt x="680" y="368"/>
                  <a:pt x="689" y="364"/>
                  <a:pt x="698" y="360"/>
                </a:cubicBezTo>
                <a:cubicBezTo>
                  <a:pt x="718" y="351"/>
                  <a:pt x="738" y="342"/>
                  <a:pt x="760" y="338"/>
                </a:cubicBezTo>
                <a:cubicBezTo>
                  <a:pt x="761" y="337"/>
                  <a:pt x="760" y="336"/>
                  <a:pt x="760" y="336"/>
                </a:cubicBezTo>
                <a:cubicBezTo>
                  <a:pt x="739" y="340"/>
                  <a:pt x="720" y="349"/>
                  <a:pt x="701" y="357"/>
                </a:cubicBezTo>
                <a:cubicBezTo>
                  <a:pt x="691" y="361"/>
                  <a:pt x="681" y="365"/>
                  <a:pt x="671" y="369"/>
                </a:cubicBezTo>
                <a:cubicBezTo>
                  <a:pt x="663" y="371"/>
                  <a:pt x="655" y="373"/>
                  <a:pt x="647" y="375"/>
                </a:cubicBezTo>
                <a:cubicBezTo>
                  <a:pt x="647" y="374"/>
                  <a:pt x="647" y="374"/>
                  <a:pt x="647" y="374"/>
                </a:cubicBezTo>
                <a:cubicBezTo>
                  <a:pt x="654" y="373"/>
                  <a:pt x="661" y="370"/>
                  <a:pt x="667" y="367"/>
                </a:cubicBezTo>
                <a:cubicBezTo>
                  <a:pt x="680" y="362"/>
                  <a:pt x="691" y="352"/>
                  <a:pt x="705" y="349"/>
                </a:cubicBezTo>
                <a:cubicBezTo>
                  <a:pt x="705" y="349"/>
                  <a:pt x="705" y="349"/>
                  <a:pt x="705" y="349"/>
                </a:cubicBezTo>
                <a:cubicBezTo>
                  <a:pt x="698" y="350"/>
                  <a:pt x="693" y="352"/>
                  <a:pt x="687" y="356"/>
                </a:cubicBezTo>
                <a:cubicBezTo>
                  <a:pt x="679" y="360"/>
                  <a:pt x="671" y="364"/>
                  <a:pt x="663" y="367"/>
                </a:cubicBezTo>
                <a:cubicBezTo>
                  <a:pt x="661" y="368"/>
                  <a:pt x="658" y="369"/>
                  <a:pt x="656" y="369"/>
                </a:cubicBezTo>
                <a:cubicBezTo>
                  <a:pt x="658" y="368"/>
                  <a:pt x="661" y="366"/>
                  <a:pt x="663" y="365"/>
                </a:cubicBezTo>
                <a:cubicBezTo>
                  <a:pt x="663" y="365"/>
                  <a:pt x="663" y="365"/>
                  <a:pt x="663" y="365"/>
                </a:cubicBezTo>
                <a:cubicBezTo>
                  <a:pt x="660" y="366"/>
                  <a:pt x="657" y="366"/>
                  <a:pt x="654" y="367"/>
                </a:cubicBezTo>
                <a:cubicBezTo>
                  <a:pt x="651" y="369"/>
                  <a:pt x="648" y="370"/>
                  <a:pt x="644" y="371"/>
                </a:cubicBezTo>
                <a:cubicBezTo>
                  <a:pt x="644" y="371"/>
                  <a:pt x="644" y="371"/>
                  <a:pt x="643" y="371"/>
                </a:cubicBezTo>
                <a:cubicBezTo>
                  <a:pt x="647" y="369"/>
                  <a:pt x="650" y="367"/>
                  <a:pt x="654" y="365"/>
                </a:cubicBezTo>
                <a:cubicBezTo>
                  <a:pt x="659" y="362"/>
                  <a:pt x="664" y="359"/>
                  <a:pt x="668" y="355"/>
                </a:cubicBezTo>
                <a:cubicBezTo>
                  <a:pt x="677" y="349"/>
                  <a:pt x="687" y="343"/>
                  <a:pt x="697" y="338"/>
                </a:cubicBezTo>
                <a:cubicBezTo>
                  <a:pt x="698" y="338"/>
                  <a:pt x="697" y="337"/>
                  <a:pt x="696" y="337"/>
                </a:cubicBezTo>
                <a:cubicBezTo>
                  <a:pt x="686" y="342"/>
                  <a:pt x="675" y="347"/>
                  <a:pt x="665" y="354"/>
                </a:cubicBezTo>
                <a:cubicBezTo>
                  <a:pt x="660" y="358"/>
                  <a:pt x="655" y="361"/>
                  <a:pt x="649" y="364"/>
                </a:cubicBezTo>
                <a:cubicBezTo>
                  <a:pt x="648" y="365"/>
                  <a:pt x="647" y="366"/>
                  <a:pt x="646" y="366"/>
                </a:cubicBezTo>
                <a:cubicBezTo>
                  <a:pt x="646" y="366"/>
                  <a:pt x="646" y="366"/>
                  <a:pt x="647" y="365"/>
                </a:cubicBezTo>
                <a:cubicBezTo>
                  <a:pt x="649" y="364"/>
                  <a:pt x="651" y="362"/>
                  <a:pt x="653" y="361"/>
                </a:cubicBezTo>
                <a:cubicBezTo>
                  <a:pt x="658" y="358"/>
                  <a:pt x="663" y="355"/>
                  <a:pt x="668" y="351"/>
                </a:cubicBezTo>
                <a:cubicBezTo>
                  <a:pt x="677" y="344"/>
                  <a:pt x="685" y="335"/>
                  <a:pt x="696" y="330"/>
                </a:cubicBezTo>
                <a:cubicBezTo>
                  <a:pt x="697" y="329"/>
                  <a:pt x="696" y="328"/>
                  <a:pt x="696" y="329"/>
                </a:cubicBezTo>
                <a:cubicBezTo>
                  <a:pt x="683" y="334"/>
                  <a:pt x="674" y="344"/>
                  <a:pt x="663" y="351"/>
                </a:cubicBezTo>
                <a:cubicBezTo>
                  <a:pt x="659" y="354"/>
                  <a:pt x="654" y="356"/>
                  <a:pt x="650" y="359"/>
                </a:cubicBezTo>
                <a:cubicBezTo>
                  <a:pt x="650" y="359"/>
                  <a:pt x="650" y="359"/>
                  <a:pt x="650" y="359"/>
                </a:cubicBezTo>
                <a:cubicBezTo>
                  <a:pt x="655" y="355"/>
                  <a:pt x="660" y="351"/>
                  <a:pt x="666" y="347"/>
                </a:cubicBezTo>
                <a:cubicBezTo>
                  <a:pt x="676" y="340"/>
                  <a:pt x="685" y="332"/>
                  <a:pt x="695" y="324"/>
                </a:cubicBezTo>
                <a:cubicBezTo>
                  <a:pt x="705" y="316"/>
                  <a:pt x="716" y="308"/>
                  <a:pt x="725" y="298"/>
                </a:cubicBezTo>
                <a:cubicBezTo>
                  <a:pt x="729" y="293"/>
                  <a:pt x="733" y="287"/>
                  <a:pt x="738" y="283"/>
                </a:cubicBezTo>
                <a:cubicBezTo>
                  <a:pt x="741" y="282"/>
                  <a:pt x="743" y="280"/>
                  <a:pt x="745" y="278"/>
                </a:cubicBezTo>
                <a:cubicBezTo>
                  <a:pt x="745" y="278"/>
                  <a:pt x="746" y="278"/>
                  <a:pt x="746" y="278"/>
                </a:cubicBezTo>
                <a:cubicBezTo>
                  <a:pt x="758" y="276"/>
                  <a:pt x="768" y="279"/>
                  <a:pt x="779" y="281"/>
                </a:cubicBezTo>
                <a:cubicBezTo>
                  <a:pt x="788" y="284"/>
                  <a:pt x="796" y="285"/>
                  <a:pt x="804" y="289"/>
                </a:cubicBezTo>
                <a:cubicBezTo>
                  <a:pt x="804" y="289"/>
                  <a:pt x="805" y="289"/>
                  <a:pt x="805" y="289"/>
                </a:cubicBezTo>
                <a:cubicBezTo>
                  <a:pt x="807" y="290"/>
                  <a:pt x="808" y="291"/>
                  <a:pt x="810" y="292"/>
                </a:cubicBezTo>
                <a:cubicBezTo>
                  <a:pt x="828" y="302"/>
                  <a:pt x="847" y="320"/>
                  <a:pt x="852" y="341"/>
                </a:cubicBezTo>
                <a:cubicBezTo>
                  <a:pt x="852" y="342"/>
                  <a:pt x="852" y="342"/>
                  <a:pt x="852" y="342"/>
                </a:cubicBezTo>
                <a:cubicBezTo>
                  <a:pt x="854" y="351"/>
                  <a:pt x="846" y="359"/>
                  <a:pt x="839" y="365"/>
                </a:cubicBezTo>
                <a:cubicBezTo>
                  <a:pt x="832" y="371"/>
                  <a:pt x="825" y="377"/>
                  <a:pt x="817" y="382"/>
                </a:cubicBezTo>
                <a:cubicBezTo>
                  <a:pt x="806" y="391"/>
                  <a:pt x="792" y="397"/>
                  <a:pt x="778" y="402"/>
                </a:cubicBezTo>
                <a:cubicBezTo>
                  <a:pt x="766" y="406"/>
                  <a:pt x="754" y="407"/>
                  <a:pt x="741" y="410"/>
                </a:cubicBezTo>
                <a:close/>
                <a:moveTo>
                  <a:pt x="521" y="621"/>
                </a:moveTo>
                <a:cubicBezTo>
                  <a:pt x="520" y="621"/>
                  <a:pt x="520" y="621"/>
                  <a:pt x="519" y="621"/>
                </a:cubicBezTo>
                <a:cubicBezTo>
                  <a:pt x="521" y="620"/>
                  <a:pt x="522" y="617"/>
                  <a:pt x="522" y="615"/>
                </a:cubicBezTo>
                <a:cubicBezTo>
                  <a:pt x="523" y="613"/>
                  <a:pt x="520" y="613"/>
                  <a:pt x="520" y="614"/>
                </a:cubicBezTo>
                <a:cubicBezTo>
                  <a:pt x="520" y="616"/>
                  <a:pt x="519" y="617"/>
                  <a:pt x="519" y="618"/>
                </a:cubicBezTo>
                <a:cubicBezTo>
                  <a:pt x="518" y="618"/>
                  <a:pt x="517" y="619"/>
                  <a:pt x="516" y="619"/>
                </a:cubicBezTo>
                <a:cubicBezTo>
                  <a:pt x="515" y="619"/>
                  <a:pt x="515" y="620"/>
                  <a:pt x="516" y="621"/>
                </a:cubicBezTo>
                <a:cubicBezTo>
                  <a:pt x="514" y="621"/>
                  <a:pt x="513" y="621"/>
                  <a:pt x="512" y="621"/>
                </a:cubicBezTo>
                <a:cubicBezTo>
                  <a:pt x="509" y="622"/>
                  <a:pt x="506" y="623"/>
                  <a:pt x="504" y="624"/>
                </a:cubicBezTo>
                <a:cubicBezTo>
                  <a:pt x="501" y="625"/>
                  <a:pt x="499" y="625"/>
                  <a:pt x="497" y="624"/>
                </a:cubicBezTo>
                <a:cubicBezTo>
                  <a:pt x="497" y="623"/>
                  <a:pt x="497" y="623"/>
                  <a:pt x="496" y="622"/>
                </a:cubicBezTo>
                <a:cubicBezTo>
                  <a:pt x="495" y="621"/>
                  <a:pt x="495" y="620"/>
                  <a:pt x="493" y="619"/>
                </a:cubicBezTo>
                <a:cubicBezTo>
                  <a:pt x="493" y="619"/>
                  <a:pt x="492" y="619"/>
                  <a:pt x="492" y="619"/>
                </a:cubicBezTo>
                <a:cubicBezTo>
                  <a:pt x="492" y="619"/>
                  <a:pt x="492" y="619"/>
                  <a:pt x="491" y="619"/>
                </a:cubicBezTo>
                <a:cubicBezTo>
                  <a:pt x="491" y="619"/>
                  <a:pt x="490" y="618"/>
                  <a:pt x="490" y="618"/>
                </a:cubicBezTo>
                <a:cubicBezTo>
                  <a:pt x="491" y="616"/>
                  <a:pt x="492" y="615"/>
                  <a:pt x="494" y="613"/>
                </a:cubicBezTo>
                <a:cubicBezTo>
                  <a:pt x="495" y="611"/>
                  <a:pt x="498" y="609"/>
                  <a:pt x="499" y="606"/>
                </a:cubicBezTo>
                <a:cubicBezTo>
                  <a:pt x="503" y="600"/>
                  <a:pt x="506" y="592"/>
                  <a:pt x="513" y="588"/>
                </a:cubicBezTo>
                <a:cubicBezTo>
                  <a:pt x="518" y="585"/>
                  <a:pt x="522" y="583"/>
                  <a:pt x="525" y="578"/>
                </a:cubicBezTo>
                <a:cubicBezTo>
                  <a:pt x="528" y="571"/>
                  <a:pt x="532" y="566"/>
                  <a:pt x="536" y="560"/>
                </a:cubicBezTo>
                <a:cubicBezTo>
                  <a:pt x="547" y="548"/>
                  <a:pt x="558" y="537"/>
                  <a:pt x="570" y="526"/>
                </a:cubicBezTo>
                <a:cubicBezTo>
                  <a:pt x="573" y="523"/>
                  <a:pt x="577" y="519"/>
                  <a:pt x="580" y="515"/>
                </a:cubicBezTo>
                <a:cubicBezTo>
                  <a:pt x="582" y="512"/>
                  <a:pt x="585" y="507"/>
                  <a:pt x="589" y="505"/>
                </a:cubicBezTo>
                <a:cubicBezTo>
                  <a:pt x="590" y="504"/>
                  <a:pt x="590" y="502"/>
                  <a:pt x="588" y="503"/>
                </a:cubicBezTo>
                <a:cubicBezTo>
                  <a:pt x="585" y="504"/>
                  <a:pt x="582" y="508"/>
                  <a:pt x="579" y="511"/>
                </a:cubicBezTo>
                <a:cubicBezTo>
                  <a:pt x="576" y="515"/>
                  <a:pt x="573" y="519"/>
                  <a:pt x="569" y="523"/>
                </a:cubicBezTo>
                <a:cubicBezTo>
                  <a:pt x="565" y="526"/>
                  <a:pt x="562" y="529"/>
                  <a:pt x="559" y="532"/>
                </a:cubicBezTo>
                <a:cubicBezTo>
                  <a:pt x="559" y="531"/>
                  <a:pt x="560" y="530"/>
                  <a:pt x="561" y="529"/>
                </a:cubicBezTo>
                <a:cubicBezTo>
                  <a:pt x="563" y="526"/>
                  <a:pt x="566" y="522"/>
                  <a:pt x="569" y="519"/>
                </a:cubicBezTo>
                <a:cubicBezTo>
                  <a:pt x="574" y="513"/>
                  <a:pt x="580" y="507"/>
                  <a:pt x="584" y="500"/>
                </a:cubicBezTo>
                <a:cubicBezTo>
                  <a:pt x="584" y="500"/>
                  <a:pt x="584" y="500"/>
                  <a:pt x="584" y="500"/>
                </a:cubicBezTo>
                <a:cubicBezTo>
                  <a:pt x="592" y="504"/>
                  <a:pt x="601" y="507"/>
                  <a:pt x="610" y="506"/>
                </a:cubicBezTo>
                <a:cubicBezTo>
                  <a:pt x="614" y="505"/>
                  <a:pt x="618" y="505"/>
                  <a:pt x="623" y="505"/>
                </a:cubicBezTo>
                <a:cubicBezTo>
                  <a:pt x="617" y="510"/>
                  <a:pt x="609" y="520"/>
                  <a:pt x="608" y="521"/>
                </a:cubicBezTo>
                <a:cubicBezTo>
                  <a:pt x="594" y="537"/>
                  <a:pt x="577" y="551"/>
                  <a:pt x="563" y="567"/>
                </a:cubicBezTo>
                <a:cubicBezTo>
                  <a:pt x="555" y="575"/>
                  <a:pt x="547" y="582"/>
                  <a:pt x="540" y="590"/>
                </a:cubicBezTo>
                <a:cubicBezTo>
                  <a:pt x="533" y="596"/>
                  <a:pt x="529" y="602"/>
                  <a:pt x="527" y="610"/>
                </a:cubicBezTo>
                <a:cubicBezTo>
                  <a:pt x="526" y="611"/>
                  <a:pt x="526" y="613"/>
                  <a:pt x="525" y="616"/>
                </a:cubicBezTo>
                <a:cubicBezTo>
                  <a:pt x="525" y="616"/>
                  <a:pt x="525" y="616"/>
                  <a:pt x="524" y="616"/>
                </a:cubicBezTo>
                <a:cubicBezTo>
                  <a:pt x="524" y="616"/>
                  <a:pt x="523" y="617"/>
                  <a:pt x="523" y="617"/>
                </a:cubicBezTo>
                <a:cubicBezTo>
                  <a:pt x="522" y="618"/>
                  <a:pt x="521" y="619"/>
                  <a:pt x="521" y="621"/>
                </a:cubicBezTo>
                <a:cubicBezTo>
                  <a:pt x="521" y="621"/>
                  <a:pt x="521" y="621"/>
                  <a:pt x="521" y="621"/>
                </a:cubicBezTo>
                <a:close/>
                <a:moveTo>
                  <a:pt x="453" y="616"/>
                </a:moveTo>
                <a:cubicBezTo>
                  <a:pt x="451" y="615"/>
                  <a:pt x="449" y="613"/>
                  <a:pt x="448" y="612"/>
                </a:cubicBezTo>
                <a:cubicBezTo>
                  <a:pt x="448" y="611"/>
                  <a:pt x="448" y="610"/>
                  <a:pt x="447" y="610"/>
                </a:cubicBezTo>
                <a:cubicBezTo>
                  <a:pt x="450" y="612"/>
                  <a:pt x="453" y="613"/>
                  <a:pt x="457" y="614"/>
                </a:cubicBezTo>
                <a:cubicBezTo>
                  <a:pt x="458" y="615"/>
                  <a:pt x="459" y="616"/>
                  <a:pt x="460" y="617"/>
                </a:cubicBezTo>
                <a:cubicBezTo>
                  <a:pt x="465" y="619"/>
                  <a:pt x="471" y="620"/>
                  <a:pt x="476" y="622"/>
                </a:cubicBezTo>
                <a:cubicBezTo>
                  <a:pt x="482" y="624"/>
                  <a:pt x="486" y="624"/>
                  <a:pt x="492" y="622"/>
                </a:cubicBezTo>
                <a:cubicBezTo>
                  <a:pt x="492" y="622"/>
                  <a:pt x="492" y="622"/>
                  <a:pt x="492" y="622"/>
                </a:cubicBezTo>
                <a:cubicBezTo>
                  <a:pt x="492" y="623"/>
                  <a:pt x="493" y="623"/>
                  <a:pt x="493" y="624"/>
                </a:cubicBezTo>
                <a:cubicBezTo>
                  <a:pt x="494" y="628"/>
                  <a:pt x="498" y="630"/>
                  <a:pt x="503" y="629"/>
                </a:cubicBezTo>
                <a:cubicBezTo>
                  <a:pt x="506" y="628"/>
                  <a:pt x="508" y="627"/>
                  <a:pt x="511" y="625"/>
                </a:cubicBezTo>
                <a:cubicBezTo>
                  <a:pt x="513" y="625"/>
                  <a:pt x="515" y="625"/>
                  <a:pt x="517" y="625"/>
                </a:cubicBezTo>
                <a:cubicBezTo>
                  <a:pt x="518" y="634"/>
                  <a:pt x="509" y="640"/>
                  <a:pt x="501" y="639"/>
                </a:cubicBezTo>
                <a:cubicBezTo>
                  <a:pt x="492" y="639"/>
                  <a:pt x="484" y="635"/>
                  <a:pt x="476" y="632"/>
                </a:cubicBezTo>
                <a:cubicBezTo>
                  <a:pt x="472" y="630"/>
                  <a:pt x="468" y="628"/>
                  <a:pt x="464" y="626"/>
                </a:cubicBezTo>
                <a:cubicBezTo>
                  <a:pt x="461" y="624"/>
                  <a:pt x="458" y="621"/>
                  <a:pt x="454" y="619"/>
                </a:cubicBezTo>
                <a:cubicBezTo>
                  <a:pt x="454" y="619"/>
                  <a:pt x="453" y="619"/>
                  <a:pt x="453" y="619"/>
                </a:cubicBezTo>
                <a:cubicBezTo>
                  <a:pt x="454" y="618"/>
                  <a:pt x="454" y="617"/>
                  <a:pt x="453" y="616"/>
                </a:cubicBezTo>
                <a:close/>
                <a:moveTo>
                  <a:pt x="360" y="549"/>
                </a:moveTo>
                <a:cubicBezTo>
                  <a:pt x="361" y="525"/>
                  <a:pt x="362" y="499"/>
                  <a:pt x="367" y="475"/>
                </a:cubicBezTo>
                <a:cubicBezTo>
                  <a:pt x="367" y="474"/>
                  <a:pt x="367" y="474"/>
                  <a:pt x="366" y="473"/>
                </a:cubicBezTo>
                <a:cubicBezTo>
                  <a:pt x="366" y="473"/>
                  <a:pt x="366" y="473"/>
                  <a:pt x="367" y="473"/>
                </a:cubicBezTo>
                <a:cubicBezTo>
                  <a:pt x="368" y="472"/>
                  <a:pt x="370" y="471"/>
                  <a:pt x="372" y="471"/>
                </a:cubicBezTo>
                <a:cubicBezTo>
                  <a:pt x="372" y="471"/>
                  <a:pt x="372" y="471"/>
                  <a:pt x="372" y="471"/>
                </a:cubicBezTo>
                <a:cubicBezTo>
                  <a:pt x="372" y="471"/>
                  <a:pt x="372" y="471"/>
                  <a:pt x="372" y="472"/>
                </a:cubicBezTo>
                <a:cubicBezTo>
                  <a:pt x="371" y="472"/>
                  <a:pt x="371" y="473"/>
                  <a:pt x="371" y="474"/>
                </a:cubicBezTo>
                <a:cubicBezTo>
                  <a:pt x="371" y="476"/>
                  <a:pt x="370" y="478"/>
                  <a:pt x="370" y="479"/>
                </a:cubicBezTo>
                <a:cubicBezTo>
                  <a:pt x="370" y="480"/>
                  <a:pt x="371" y="480"/>
                  <a:pt x="371" y="480"/>
                </a:cubicBezTo>
                <a:cubicBezTo>
                  <a:pt x="372" y="478"/>
                  <a:pt x="373" y="475"/>
                  <a:pt x="373" y="473"/>
                </a:cubicBezTo>
                <a:cubicBezTo>
                  <a:pt x="373" y="472"/>
                  <a:pt x="374" y="471"/>
                  <a:pt x="373" y="470"/>
                </a:cubicBezTo>
                <a:cubicBezTo>
                  <a:pt x="376" y="469"/>
                  <a:pt x="378" y="468"/>
                  <a:pt x="380" y="466"/>
                </a:cubicBezTo>
                <a:cubicBezTo>
                  <a:pt x="380" y="467"/>
                  <a:pt x="380" y="467"/>
                  <a:pt x="380" y="468"/>
                </a:cubicBezTo>
                <a:cubicBezTo>
                  <a:pt x="380" y="468"/>
                  <a:pt x="380" y="469"/>
                  <a:pt x="380" y="469"/>
                </a:cubicBezTo>
                <a:cubicBezTo>
                  <a:pt x="377" y="475"/>
                  <a:pt x="377" y="484"/>
                  <a:pt x="376" y="490"/>
                </a:cubicBezTo>
                <a:cubicBezTo>
                  <a:pt x="374" y="499"/>
                  <a:pt x="375" y="507"/>
                  <a:pt x="375" y="516"/>
                </a:cubicBezTo>
                <a:cubicBezTo>
                  <a:pt x="375" y="526"/>
                  <a:pt x="375" y="535"/>
                  <a:pt x="374" y="545"/>
                </a:cubicBezTo>
                <a:cubicBezTo>
                  <a:pt x="373" y="550"/>
                  <a:pt x="372" y="556"/>
                  <a:pt x="371" y="561"/>
                </a:cubicBezTo>
                <a:cubicBezTo>
                  <a:pt x="370" y="565"/>
                  <a:pt x="369" y="568"/>
                  <a:pt x="369" y="571"/>
                </a:cubicBezTo>
                <a:cubicBezTo>
                  <a:pt x="369" y="571"/>
                  <a:pt x="369" y="571"/>
                  <a:pt x="368" y="571"/>
                </a:cubicBezTo>
                <a:cubicBezTo>
                  <a:pt x="366" y="575"/>
                  <a:pt x="368" y="580"/>
                  <a:pt x="365" y="584"/>
                </a:cubicBezTo>
                <a:cubicBezTo>
                  <a:pt x="364" y="585"/>
                  <a:pt x="364" y="586"/>
                  <a:pt x="363" y="587"/>
                </a:cubicBezTo>
                <a:cubicBezTo>
                  <a:pt x="363" y="586"/>
                  <a:pt x="363" y="585"/>
                  <a:pt x="363" y="584"/>
                </a:cubicBezTo>
                <a:cubicBezTo>
                  <a:pt x="363" y="572"/>
                  <a:pt x="360" y="561"/>
                  <a:pt x="360" y="549"/>
                </a:cubicBezTo>
                <a:close/>
                <a:moveTo>
                  <a:pt x="359" y="574"/>
                </a:moveTo>
                <a:cubicBezTo>
                  <a:pt x="360" y="581"/>
                  <a:pt x="361" y="587"/>
                  <a:pt x="357" y="593"/>
                </a:cubicBezTo>
                <a:cubicBezTo>
                  <a:pt x="356" y="594"/>
                  <a:pt x="355" y="595"/>
                  <a:pt x="355" y="596"/>
                </a:cubicBezTo>
                <a:cubicBezTo>
                  <a:pt x="354" y="596"/>
                  <a:pt x="353" y="597"/>
                  <a:pt x="352" y="598"/>
                </a:cubicBezTo>
                <a:cubicBezTo>
                  <a:pt x="351" y="598"/>
                  <a:pt x="351" y="599"/>
                  <a:pt x="350" y="599"/>
                </a:cubicBezTo>
                <a:cubicBezTo>
                  <a:pt x="350" y="599"/>
                  <a:pt x="349" y="599"/>
                  <a:pt x="349" y="599"/>
                </a:cubicBezTo>
                <a:cubicBezTo>
                  <a:pt x="349" y="598"/>
                  <a:pt x="349" y="596"/>
                  <a:pt x="349" y="595"/>
                </a:cubicBezTo>
                <a:cubicBezTo>
                  <a:pt x="350" y="595"/>
                  <a:pt x="350" y="596"/>
                  <a:pt x="350" y="596"/>
                </a:cubicBezTo>
                <a:cubicBezTo>
                  <a:pt x="350" y="596"/>
                  <a:pt x="351" y="596"/>
                  <a:pt x="351" y="595"/>
                </a:cubicBezTo>
                <a:cubicBezTo>
                  <a:pt x="351" y="591"/>
                  <a:pt x="352" y="587"/>
                  <a:pt x="352" y="582"/>
                </a:cubicBezTo>
                <a:cubicBezTo>
                  <a:pt x="351" y="579"/>
                  <a:pt x="351" y="576"/>
                  <a:pt x="350" y="573"/>
                </a:cubicBezTo>
                <a:cubicBezTo>
                  <a:pt x="351" y="575"/>
                  <a:pt x="352" y="577"/>
                  <a:pt x="352" y="580"/>
                </a:cubicBezTo>
                <a:cubicBezTo>
                  <a:pt x="352" y="583"/>
                  <a:pt x="352" y="587"/>
                  <a:pt x="352" y="590"/>
                </a:cubicBezTo>
                <a:cubicBezTo>
                  <a:pt x="352" y="591"/>
                  <a:pt x="353" y="591"/>
                  <a:pt x="353" y="590"/>
                </a:cubicBezTo>
                <a:cubicBezTo>
                  <a:pt x="353" y="586"/>
                  <a:pt x="353" y="582"/>
                  <a:pt x="353" y="578"/>
                </a:cubicBezTo>
                <a:cubicBezTo>
                  <a:pt x="352" y="574"/>
                  <a:pt x="352" y="571"/>
                  <a:pt x="350" y="568"/>
                </a:cubicBezTo>
                <a:cubicBezTo>
                  <a:pt x="350" y="568"/>
                  <a:pt x="349" y="568"/>
                  <a:pt x="349" y="568"/>
                </a:cubicBezTo>
                <a:cubicBezTo>
                  <a:pt x="349" y="567"/>
                  <a:pt x="349" y="566"/>
                  <a:pt x="349" y="565"/>
                </a:cubicBezTo>
                <a:cubicBezTo>
                  <a:pt x="348" y="562"/>
                  <a:pt x="348" y="558"/>
                  <a:pt x="348" y="554"/>
                </a:cubicBezTo>
                <a:cubicBezTo>
                  <a:pt x="347" y="551"/>
                  <a:pt x="348" y="548"/>
                  <a:pt x="347" y="544"/>
                </a:cubicBezTo>
                <a:cubicBezTo>
                  <a:pt x="347" y="538"/>
                  <a:pt x="347" y="532"/>
                  <a:pt x="346" y="526"/>
                </a:cubicBezTo>
                <a:cubicBezTo>
                  <a:pt x="346" y="525"/>
                  <a:pt x="345" y="525"/>
                  <a:pt x="345" y="526"/>
                </a:cubicBezTo>
                <a:cubicBezTo>
                  <a:pt x="345" y="533"/>
                  <a:pt x="344" y="540"/>
                  <a:pt x="346" y="547"/>
                </a:cubicBezTo>
                <a:cubicBezTo>
                  <a:pt x="347" y="553"/>
                  <a:pt x="346" y="561"/>
                  <a:pt x="347" y="567"/>
                </a:cubicBezTo>
                <a:cubicBezTo>
                  <a:pt x="347" y="574"/>
                  <a:pt x="350" y="580"/>
                  <a:pt x="349" y="586"/>
                </a:cubicBezTo>
                <a:cubicBezTo>
                  <a:pt x="349" y="587"/>
                  <a:pt x="349" y="588"/>
                  <a:pt x="349" y="590"/>
                </a:cubicBezTo>
                <a:cubicBezTo>
                  <a:pt x="349" y="589"/>
                  <a:pt x="349" y="589"/>
                  <a:pt x="349" y="588"/>
                </a:cubicBezTo>
                <a:cubicBezTo>
                  <a:pt x="347" y="584"/>
                  <a:pt x="345" y="579"/>
                  <a:pt x="344" y="575"/>
                </a:cubicBezTo>
                <a:cubicBezTo>
                  <a:pt x="342" y="564"/>
                  <a:pt x="340" y="552"/>
                  <a:pt x="340" y="541"/>
                </a:cubicBezTo>
                <a:cubicBezTo>
                  <a:pt x="340" y="522"/>
                  <a:pt x="344" y="504"/>
                  <a:pt x="340" y="485"/>
                </a:cubicBezTo>
                <a:cubicBezTo>
                  <a:pt x="340" y="485"/>
                  <a:pt x="341" y="485"/>
                  <a:pt x="341" y="485"/>
                </a:cubicBezTo>
                <a:cubicBezTo>
                  <a:pt x="349" y="482"/>
                  <a:pt x="356" y="478"/>
                  <a:pt x="364" y="474"/>
                </a:cubicBezTo>
                <a:cubicBezTo>
                  <a:pt x="361" y="484"/>
                  <a:pt x="360" y="496"/>
                  <a:pt x="359" y="506"/>
                </a:cubicBezTo>
                <a:cubicBezTo>
                  <a:pt x="359" y="518"/>
                  <a:pt x="358" y="530"/>
                  <a:pt x="357" y="542"/>
                </a:cubicBezTo>
                <a:cubicBezTo>
                  <a:pt x="357" y="553"/>
                  <a:pt x="358" y="563"/>
                  <a:pt x="359" y="574"/>
                </a:cubicBezTo>
                <a:close/>
                <a:moveTo>
                  <a:pt x="323" y="576"/>
                </a:moveTo>
                <a:cubicBezTo>
                  <a:pt x="323" y="576"/>
                  <a:pt x="323" y="576"/>
                  <a:pt x="323" y="576"/>
                </a:cubicBezTo>
                <a:cubicBezTo>
                  <a:pt x="322" y="577"/>
                  <a:pt x="322" y="577"/>
                  <a:pt x="321" y="578"/>
                </a:cubicBezTo>
                <a:cubicBezTo>
                  <a:pt x="320" y="578"/>
                  <a:pt x="320" y="579"/>
                  <a:pt x="319" y="579"/>
                </a:cubicBezTo>
                <a:cubicBezTo>
                  <a:pt x="319" y="579"/>
                  <a:pt x="319" y="579"/>
                  <a:pt x="319" y="579"/>
                </a:cubicBezTo>
                <a:cubicBezTo>
                  <a:pt x="311" y="566"/>
                  <a:pt x="307" y="551"/>
                  <a:pt x="302" y="537"/>
                </a:cubicBezTo>
                <a:cubicBezTo>
                  <a:pt x="297" y="523"/>
                  <a:pt x="291" y="509"/>
                  <a:pt x="286" y="495"/>
                </a:cubicBezTo>
                <a:cubicBezTo>
                  <a:pt x="282" y="486"/>
                  <a:pt x="277" y="478"/>
                  <a:pt x="272" y="469"/>
                </a:cubicBezTo>
                <a:cubicBezTo>
                  <a:pt x="274" y="471"/>
                  <a:pt x="276" y="473"/>
                  <a:pt x="279" y="475"/>
                </a:cubicBezTo>
                <a:cubicBezTo>
                  <a:pt x="286" y="480"/>
                  <a:pt x="294" y="484"/>
                  <a:pt x="303" y="487"/>
                </a:cubicBezTo>
                <a:cubicBezTo>
                  <a:pt x="303" y="487"/>
                  <a:pt x="303" y="487"/>
                  <a:pt x="303" y="487"/>
                </a:cubicBezTo>
                <a:cubicBezTo>
                  <a:pt x="303" y="491"/>
                  <a:pt x="304" y="495"/>
                  <a:pt x="305" y="499"/>
                </a:cubicBezTo>
                <a:cubicBezTo>
                  <a:pt x="305" y="503"/>
                  <a:pt x="306" y="506"/>
                  <a:pt x="307" y="510"/>
                </a:cubicBezTo>
                <a:cubicBezTo>
                  <a:pt x="309" y="517"/>
                  <a:pt x="313" y="524"/>
                  <a:pt x="316" y="531"/>
                </a:cubicBezTo>
                <a:cubicBezTo>
                  <a:pt x="321" y="545"/>
                  <a:pt x="326" y="560"/>
                  <a:pt x="336" y="571"/>
                </a:cubicBezTo>
                <a:cubicBezTo>
                  <a:pt x="335" y="571"/>
                  <a:pt x="334" y="570"/>
                  <a:pt x="333" y="570"/>
                </a:cubicBezTo>
                <a:cubicBezTo>
                  <a:pt x="330" y="570"/>
                  <a:pt x="327" y="571"/>
                  <a:pt x="325" y="573"/>
                </a:cubicBezTo>
                <a:cubicBezTo>
                  <a:pt x="325" y="574"/>
                  <a:pt x="324" y="574"/>
                  <a:pt x="324" y="575"/>
                </a:cubicBezTo>
                <a:cubicBezTo>
                  <a:pt x="323" y="574"/>
                  <a:pt x="323" y="574"/>
                  <a:pt x="322" y="574"/>
                </a:cubicBezTo>
                <a:cubicBezTo>
                  <a:pt x="322" y="574"/>
                  <a:pt x="321" y="574"/>
                  <a:pt x="322" y="574"/>
                </a:cubicBezTo>
                <a:cubicBezTo>
                  <a:pt x="322" y="575"/>
                  <a:pt x="322" y="575"/>
                  <a:pt x="323" y="576"/>
                </a:cubicBezTo>
                <a:close/>
                <a:moveTo>
                  <a:pt x="176" y="253"/>
                </a:moveTo>
                <a:cubicBezTo>
                  <a:pt x="172" y="261"/>
                  <a:pt x="166" y="272"/>
                  <a:pt x="168" y="281"/>
                </a:cubicBezTo>
                <a:cubicBezTo>
                  <a:pt x="167" y="278"/>
                  <a:pt x="166" y="274"/>
                  <a:pt x="165" y="270"/>
                </a:cubicBezTo>
                <a:cubicBezTo>
                  <a:pt x="165" y="271"/>
                  <a:pt x="166" y="271"/>
                  <a:pt x="167" y="271"/>
                </a:cubicBezTo>
                <a:cubicBezTo>
                  <a:pt x="167" y="272"/>
                  <a:pt x="167" y="271"/>
                  <a:pt x="167" y="271"/>
                </a:cubicBezTo>
                <a:cubicBezTo>
                  <a:pt x="167" y="269"/>
                  <a:pt x="165" y="267"/>
                  <a:pt x="165" y="265"/>
                </a:cubicBezTo>
                <a:cubicBezTo>
                  <a:pt x="166" y="262"/>
                  <a:pt x="166" y="259"/>
                  <a:pt x="167" y="256"/>
                </a:cubicBezTo>
                <a:cubicBezTo>
                  <a:pt x="168" y="251"/>
                  <a:pt x="170" y="245"/>
                  <a:pt x="173" y="241"/>
                </a:cubicBezTo>
                <a:cubicBezTo>
                  <a:pt x="174" y="241"/>
                  <a:pt x="173" y="241"/>
                  <a:pt x="173" y="241"/>
                </a:cubicBezTo>
                <a:cubicBezTo>
                  <a:pt x="169" y="246"/>
                  <a:pt x="167" y="252"/>
                  <a:pt x="165" y="258"/>
                </a:cubicBezTo>
                <a:cubicBezTo>
                  <a:pt x="165" y="258"/>
                  <a:pt x="165" y="258"/>
                  <a:pt x="165" y="259"/>
                </a:cubicBezTo>
                <a:cubicBezTo>
                  <a:pt x="164" y="257"/>
                  <a:pt x="164" y="256"/>
                  <a:pt x="164" y="255"/>
                </a:cubicBezTo>
                <a:cubicBezTo>
                  <a:pt x="164" y="252"/>
                  <a:pt x="164" y="249"/>
                  <a:pt x="165" y="246"/>
                </a:cubicBezTo>
                <a:cubicBezTo>
                  <a:pt x="165" y="245"/>
                  <a:pt x="165" y="245"/>
                  <a:pt x="165" y="245"/>
                </a:cubicBezTo>
                <a:cubicBezTo>
                  <a:pt x="165" y="245"/>
                  <a:pt x="165" y="245"/>
                  <a:pt x="165" y="245"/>
                </a:cubicBezTo>
                <a:cubicBezTo>
                  <a:pt x="165" y="244"/>
                  <a:pt x="165" y="244"/>
                  <a:pt x="165" y="244"/>
                </a:cubicBezTo>
                <a:cubicBezTo>
                  <a:pt x="167" y="237"/>
                  <a:pt x="170" y="232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0" y="229"/>
                  <a:pt x="167" y="234"/>
                  <a:pt x="165" y="239"/>
                </a:cubicBezTo>
                <a:cubicBezTo>
                  <a:pt x="165" y="237"/>
                  <a:pt x="165" y="236"/>
                  <a:pt x="165" y="234"/>
                </a:cubicBezTo>
                <a:cubicBezTo>
                  <a:pt x="165" y="230"/>
                  <a:pt x="166" y="226"/>
                  <a:pt x="166" y="222"/>
                </a:cubicBezTo>
                <a:cubicBezTo>
                  <a:pt x="166" y="221"/>
                  <a:pt x="164" y="221"/>
                  <a:pt x="164" y="222"/>
                </a:cubicBezTo>
                <a:cubicBezTo>
                  <a:pt x="164" y="224"/>
                  <a:pt x="164" y="227"/>
                  <a:pt x="164" y="229"/>
                </a:cubicBezTo>
                <a:cubicBezTo>
                  <a:pt x="164" y="231"/>
                  <a:pt x="163" y="233"/>
                  <a:pt x="163" y="235"/>
                </a:cubicBezTo>
                <a:cubicBezTo>
                  <a:pt x="163" y="238"/>
                  <a:pt x="163" y="241"/>
                  <a:pt x="164" y="244"/>
                </a:cubicBezTo>
                <a:cubicBezTo>
                  <a:pt x="164" y="245"/>
                  <a:pt x="163" y="247"/>
                  <a:pt x="163" y="248"/>
                </a:cubicBezTo>
                <a:cubicBezTo>
                  <a:pt x="163" y="250"/>
                  <a:pt x="162" y="253"/>
                  <a:pt x="162" y="257"/>
                </a:cubicBezTo>
                <a:cubicBezTo>
                  <a:pt x="161" y="250"/>
                  <a:pt x="160" y="244"/>
                  <a:pt x="160" y="237"/>
                </a:cubicBezTo>
                <a:cubicBezTo>
                  <a:pt x="161" y="233"/>
                  <a:pt x="161" y="229"/>
                  <a:pt x="159" y="226"/>
                </a:cubicBezTo>
                <a:cubicBezTo>
                  <a:pt x="156" y="222"/>
                  <a:pt x="152" y="218"/>
                  <a:pt x="151" y="212"/>
                </a:cubicBezTo>
                <a:cubicBezTo>
                  <a:pt x="151" y="204"/>
                  <a:pt x="151" y="198"/>
                  <a:pt x="146" y="190"/>
                </a:cubicBezTo>
                <a:cubicBezTo>
                  <a:pt x="144" y="187"/>
                  <a:pt x="141" y="183"/>
                  <a:pt x="140" y="179"/>
                </a:cubicBezTo>
                <a:cubicBezTo>
                  <a:pt x="139" y="178"/>
                  <a:pt x="138" y="170"/>
                  <a:pt x="141" y="171"/>
                </a:cubicBezTo>
                <a:cubicBezTo>
                  <a:pt x="143" y="171"/>
                  <a:pt x="144" y="172"/>
                  <a:pt x="146" y="173"/>
                </a:cubicBezTo>
                <a:cubicBezTo>
                  <a:pt x="151" y="175"/>
                  <a:pt x="158" y="178"/>
                  <a:pt x="160" y="184"/>
                </a:cubicBezTo>
                <a:cubicBezTo>
                  <a:pt x="161" y="186"/>
                  <a:pt x="162" y="189"/>
                  <a:pt x="164" y="190"/>
                </a:cubicBezTo>
                <a:cubicBezTo>
                  <a:pt x="164" y="192"/>
                  <a:pt x="166" y="194"/>
                  <a:pt x="166" y="195"/>
                </a:cubicBezTo>
                <a:cubicBezTo>
                  <a:pt x="167" y="197"/>
                  <a:pt x="168" y="199"/>
                  <a:pt x="169" y="200"/>
                </a:cubicBezTo>
                <a:cubicBezTo>
                  <a:pt x="170" y="202"/>
                  <a:pt x="170" y="203"/>
                  <a:pt x="171" y="205"/>
                </a:cubicBezTo>
                <a:cubicBezTo>
                  <a:pt x="172" y="213"/>
                  <a:pt x="178" y="221"/>
                  <a:pt x="180" y="229"/>
                </a:cubicBezTo>
                <a:cubicBezTo>
                  <a:pt x="181" y="233"/>
                  <a:pt x="182" y="238"/>
                  <a:pt x="183" y="242"/>
                </a:cubicBezTo>
                <a:cubicBezTo>
                  <a:pt x="184" y="247"/>
                  <a:pt x="184" y="251"/>
                  <a:pt x="185" y="256"/>
                </a:cubicBezTo>
                <a:cubicBezTo>
                  <a:pt x="185" y="256"/>
                  <a:pt x="185" y="256"/>
                  <a:pt x="185" y="256"/>
                </a:cubicBezTo>
                <a:cubicBezTo>
                  <a:pt x="184" y="258"/>
                  <a:pt x="182" y="260"/>
                  <a:pt x="181" y="263"/>
                </a:cubicBezTo>
                <a:cubicBezTo>
                  <a:pt x="179" y="267"/>
                  <a:pt x="179" y="271"/>
                  <a:pt x="179" y="275"/>
                </a:cubicBezTo>
                <a:cubicBezTo>
                  <a:pt x="177" y="287"/>
                  <a:pt x="178" y="301"/>
                  <a:pt x="180" y="312"/>
                </a:cubicBezTo>
                <a:cubicBezTo>
                  <a:pt x="181" y="318"/>
                  <a:pt x="182" y="325"/>
                  <a:pt x="184" y="331"/>
                </a:cubicBezTo>
                <a:cubicBezTo>
                  <a:pt x="179" y="322"/>
                  <a:pt x="178" y="312"/>
                  <a:pt x="174" y="303"/>
                </a:cubicBezTo>
                <a:cubicBezTo>
                  <a:pt x="173" y="297"/>
                  <a:pt x="171" y="291"/>
                  <a:pt x="169" y="286"/>
                </a:cubicBezTo>
                <a:cubicBezTo>
                  <a:pt x="169" y="286"/>
                  <a:pt x="170" y="286"/>
                  <a:pt x="170" y="285"/>
                </a:cubicBezTo>
                <a:cubicBezTo>
                  <a:pt x="170" y="280"/>
                  <a:pt x="170" y="275"/>
                  <a:pt x="171" y="270"/>
                </a:cubicBezTo>
                <a:cubicBezTo>
                  <a:pt x="172" y="264"/>
                  <a:pt x="174" y="258"/>
                  <a:pt x="176" y="253"/>
                </a:cubicBezTo>
                <a:cubicBezTo>
                  <a:pt x="176" y="253"/>
                  <a:pt x="176" y="253"/>
                  <a:pt x="176" y="253"/>
                </a:cubicBezTo>
                <a:close/>
                <a:moveTo>
                  <a:pt x="157" y="248"/>
                </a:moveTo>
                <a:cubicBezTo>
                  <a:pt x="158" y="254"/>
                  <a:pt x="159" y="260"/>
                  <a:pt x="160" y="266"/>
                </a:cubicBezTo>
                <a:cubicBezTo>
                  <a:pt x="162" y="271"/>
                  <a:pt x="163" y="276"/>
                  <a:pt x="165" y="281"/>
                </a:cubicBezTo>
                <a:cubicBezTo>
                  <a:pt x="163" y="278"/>
                  <a:pt x="162" y="275"/>
                  <a:pt x="161" y="273"/>
                </a:cubicBezTo>
                <a:cubicBezTo>
                  <a:pt x="157" y="261"/>
                  <a:pt x="152" y="250"/>
                  <a:pt x="148" y="238"/>
                </a:cubicBezTo>
                <a:cubicBezTo>
                  <a:pt x="140" y="219"/>
                  <a:pt x="131" y="197"/>
                  <a:pt x="136" y="176"/>
                </a:cubicBezTo>
                <a:cubicBezTo>
                  <a:pt x="136" y="177"/>
                  <a:pt x="136" y="177"/>
                  <a:pt x="136" y="177"/>
                </a:cubicBezTo>
                <a:cubicBezTo>
                  <a:pt x="137" y="186"/>
                  <a:pt x="145" y="191"/>
                  <a:pt x="147" y="200"/>
                </a:cubicBezTo>
                <a:cubicBezTo>
                  <a:pt x="148" y="205"/>
                  <a:pt x="147" y="211"/>
                  <a:pt x="149" y="216"/>
                </a:cubicBezTo>
                <a:cubicBezTo>
                  <a:pt x="150" y="221"/>
                  <a:pt x="156" y="225"/>
                  <a:pt x="157" y="230"/>
                </a:cubicBezTo>
                <a:cubicBezTo>
                  <a:pt x="158" y="236"/>
                  <a:pt x="157" y="242"/>
                  <a:pt x="157" y="248"/>
                </a:cubicBezTo>
                <a:close/>
                <a:moveTo>
                  <a:pt x="163" y="261"/>
                </a:moveTo>
                <a:cubicBezTo>
                  <a:pt x="163" y="261"/>
                  <a:pt x="163" y="262"/>
                  <a:pt x="164" y="263"/>
                </a:cubicBezTo>
                <a:cubicBezTo>
                  <a:pt x="164" y="264"/>
                  <a:pt x="164" y="265"/>
                  <a:pt x="164" y="266"/>
                </a:cubicBezTo>
                <a:cubicBezTo>
                  <a:pt x="163" y="264"/>
                  <a:pt x="163" y="262"/>
                  <a:pt x="163" y="261"/>
                </a:cubicBezTo>
                <a:close/>
                <a:moveTo>
                  <a:pt x="213" y="192"/>
                </a:moveTo>
                <a:cubicBezTo>
                  <a:pt x="206" y="196"/>
                  <a:pt x="200" y="201"/>
                  <a:pt x="196" y="208"/>
                </a:cubicBezTo>
                <a:cubicBezTo>
                  <a:pt x="194" y="213"/>
                  <a:pt x="192" y="218"/>
                  <a:pt x="192" y="223"/>
                </a:cubicBezTo>
                <a:cubicBezTo>
                  <a:pt x="190" y="220"/>
                  <a:pt x="189" y="218"/>
                  <a:pt x="187" y="215"/>
                </a:cubicBezTo>
                <a:cubicBezTo>
                  <a:pt x="184" y="210"/>
                  <a:pt x="183" y="204"/>
                  <a:pt x="182" y="197"/>
                </a:cubicBezTo>
                <a:cubicBezTo>
                  <a:pt x="179" y="184"/>
                  <a:pt x="177" y="170"/>
                  <a:pt x="174" y="157"/>
                </a:cubicBezTo>
                <a:cubicBezTo>
                  <a:pt x="172" y="143"/>
                  <a:pt x="169" y="130"/>
                  <a:pt x="164" y="117"/>
                </a:cubicBezTo>
                <a:cubicBezTo>
                  <a:pt x="164" y="115"/>
                  <a:pt x="162" y="111"/>
                  <a:pt x="160" y="110"/>
                </a:cubicBezTo>
                <a:cubicBezTo>
                  <a:pt x="160" y="102"/>
                  <a:pt x="160" y="95"/>
                  <a:pt x="161" y="87"/>
                </a:cubicBezTo>
                <a:cubicBezTo>
                  <a:pt x="161" y="81"/>
                  <a:pt x="161" y="74"/>
                  <a:pt x="164" y="68"/>
                </a:cubicBezTo>
                <a:cubicBezTo>
                  <a:pt x="167" y="63"/>
                  <a:pt x="169" y="72"/>
                  <a:pt x="170" y="74"/>
                </a:cubicBezTo>
                <a:cubicBezTo>
                  <a:pt x="171" y="78"/>
                  <a:pt x="173" y="80"/>
                  <a:pt x="176" y="82"/>
                </a:cubicBezTo>
                <a:cubicBezTo>
                  <a:pt x="183" y="89"/>
                  <a:pt x="187" y="98"/>
                  <a:pt x="189" y="107"/>
                </a:cubicBezTo>
                <a:cubicBezTo>
                  <a:pt x="191" y="112"/>
                  <a:pt x="191" y="116"/>
                  <a:pt x="191" y="121"/>
                </a:cubicBezTo>
                <a:cubicBezTo>
                  <a:pt x="191" y="123"/>
                  <a:pt x="192" y="125"/>
                  <a:pt x="193" y="127"/>
                </a:cubicBezTo>
                <a:cubicBezTo>
                  <a:pt x="194" y="128"/>
                  <a:pt x="196" y="129"/>
                  <a:pt x="197" y="129"/>
                </a:cubicBezTo>
                <a:cubicBezTo>
                  <a:pt x="200" y="131"/>
                  <a:pt x="202" y="132"/>
                  <a:pt x="203" y="135"/>
                </a:cubicBezTo>
                <a:cubicBezTo>
                  <a:pt x="205" y="139"/>
                  <a:pt x="207" y="143"/>
                  <a:pt x="208" y="146"/>
                </a:cubicBezTo>
                <a:cubicBezTo>
                  <a:pt x="212" y="155"/>
                  <a:pt x="214" y="164"/>
                  <a:pt x="213" y="174"/>
                </a:cubicBezTo>
                <a:cubicBezTo>
                  <a:pt x="213" y="180"/>
                  <a:pt x="212" y="186"/>
                  <a:pt x="213" y="192"/>
                </a:cubicBezTo>
                <a:close/>
                <a:moveTo>
                  <a:pt x="193" y="242"/>
                </a:moveTo>
                <a:cubicBezTo>
                  <a:pt x="193" y="240"/>
                  <a:pt x="192" y="239"/>
                  <a:pt x="192" y="238"/>
                </a:cubicBezTo>
                <a:cubicBezTo>
                  <a:pt x="192" y="236"/>
                  <a:pt x="191" y="234"/>
                  <a:pt x="191" y="233"/>
                </a:cubicBezTo>
                <a:cubicBezTo>
                  <a:pt x="191" y="232"/>
                  <a:pt x="191" y="232"/>
                  <a:pt x="191" y="232"/>
                </a:cubicBezTo>
                <a:cubicBezTo>
                  <a:pt x="192" y="232"/>
                  <a:pt x="192" y="233"/>
                  <a:pt x="193" y="234"/>
                </a:cubicBezTo>
                <a:cubicBezTo>
                  <a:pt x="194" y="237"/>
                  <a:pt x="194" y="239"/>
                  <a:pt x="193" y="242"/>
                </a:cubicBezTo>
                <a:close/>
                <a:moveTo>
                  <a:pt x="189" y="237"/>
                </a:moveTo>
                <a:cubicBezTo>
                  <a:pt x="189" y="239"/>
                  <a:pt x="190" y="241"/>
                  <a:pt x="190" y="243"/>
                </a:cubicBezTo>
                <a:cubicBezTo>
                  <a:pt x="190" y="244"/>
                  <a:pt x="190" y="245"/>
                  <a:pt x="191" y="246"/>
                </a:cubicBezTo>
                <a:cubicBezTo>
                  <a:pt x="189" y="248"/>
                  <a:pt x="188" y="251"/>
                  <a:pt x="186" y="254"/>
                </a:cubicBezTo>
                <a:cubicBezTo>
                  <a:pt x="186" y="246"/>
                  <a:pt x="183" y="237"/>
                  <a:pt x="181" y="228"/>
                </a:cubicBezTo>
                <a:cubicBezTo>
                  <a:pt x="180" y="224"/>
                  <a:pt x="179" y="219"/>
                  <a:pt x="177" y="214"/>
                </a:cubicBezTo>
                <a:cubicBezTo>
                  <a:pt x="177" y="214"/>
                  <a:pt x="177" y="215"/>
                  <a:pt x="177" y="215"/>
                </a:cubicBezTo>
                <a:cubicBezTo>
                  <a:pt x="181" y="220"/>
                  <a:pt x="185" y="225"/>
                  <a:pt x="190" y="230"/>
                </a:cubicBezTo>
                <a:cubicBezTo>
                  <a:pt x="188" y="231"/>
                  <a:pt x="188" y="235"/>
                  <a:pt x="189" y="237"/>
                </a:cubicBezTo>
                <a:close/>
                <a:moveTo>
                  <a:pt x="161" y="121"/>
                </a:moveTo>
                <a:cubicBezTo>
                  <a:pt x="162" y="124"/>
                  <a:pt x="163" y="128"/>
                  <a:pt x="165" y="131"/>
                </a:cubicBezTo>
                <a:cubicBezTo>
                  <a:pt x="165" y="132"/>
                  <a:pt x="166" y="134"/>
                  <a:pt x="167" y="135"/>
                </a:cubicBezTo>
                <a:cubicBezTo>
                  <a:pt x="167" y="136"/>
                  <a:pt x="167" y="137"/>
                  <a:pt x="167" y="138"/>
                </a:cubicBezTo>
                <a:cubicBezTo>
                  <a:pt x="170" y="150"/>
                  <a:pt x="172" y="162"/>
                  <a:pt x="174" y="173"/>
                </a:cubicBezTo>
                <a:cubicBezTo>
                  <a:pt x="176" y="184"/>
                  <a:pt x="177" y="196"/>
                  <a:pt x="180" y="207"/>
                </a:cubicBezTo>
                <a:cubicBezTo>
                  <a:pt x="182" y="213"/>
                  <a:pt x="185" y="218"/>
                  <a:pt x="188" y="223"/>
                </a:cubicBezTo>
                <a:cubicBezTo>
                  <a:pt x="186" y="221"/>
                  <a:pt x="184" y="218"/>
                  <a:pt x="182" y="216"/>
                </a:cubicBezTo>
                <a:cubicBezTo>
                  <a:pt x="175" y="206"/>
                  <a:pt x="169" y="195"/>
                  <a:pt x="167" y="183"/>
                </a:cubicBezTo>
                <a:cubicBezTo>
                  <a:pt x="164" y="171"/>
                  <a:pt x="162" y="159"/>
                  <a:pt x="161" y="148"/>
                </a:cubicBezTo>
                <a:cubicBezTo>
                  <a:pt x="160" y="142"/>
                  <a:pt x="160" y="137"/>
                  <a:pt x="159" y="132"/>
                </a:cubicBezTo>
                <a:cubicBezTo>
                  <a:pt x="159" y="127"/>
                  <a:pt x="158" y="123"/>
                  <a:pt x="158" y="118"/>
                </a:cubicBezTo>
                <a:cubicBezTo>
                  <a:pt x="158" y="118"/>
                  <a:pt x="158" y="118"/>
                  <a:pt x="158" y="117"/>
                </a:cubicBezTo>
                <a:cubicBezTo>
                  <a:pt x="159" y="119"/>
                  <a:pt x="160" y="120"/>
                  <a:pt x="161" y="121"/>
                </a:cubicBezTo>
                <a:close/>
                <a:moveTo>
                  <a:pt x="184" y="312"/>
                </a:moveTo>
                <a:cubicBezTo>
                  <a:pt x="182" y="304"/>
                  <a:pt x="181" y="297"/>
                  <a:pt x="181" y="290"/>
                </a:cubicBezTo>
                <a:cubicBezTo>
                  <a:pt x="181" y="288"/>
                  <a:pt x="181" y="286"/>
                  <a:pt x="182" y="284"/>
                </a:cubicBezTo>
                <a:cubicBezTo>
                  <a:pt x="185" y="294"/>
                  <a:pt x="191" y="303"/>
                  <a:pt x="198" y="311"/>
                </a:cubicBezTo>
                <a:cubicBezTo>
                  <a:pt x="202" y="315"/>
                  <a:pt x="206" y="320"/>
                  <a:pt x="211" y="324"/>
                </a:cubicBezTo>
                <a:cubicBezTo>
                  <a:pt x="210" y="328"/>
                  <a:pt x="211" y="332"/>
                  <a:pt x="209" y="336"/>
                </a:cubicBezTo>
                <a:cubicBezTo>
                  <a:pt x="208" y="338"/>
                  <a:pt x="207" y="344"/>
                  <a:pt x="204" y="345"/>
                </a:cubicBezTo>
                <a:cubicBezTo>
                  <a:pt x="202" y="347"/>
                  <a:pt x="197" y="345"/>
                  <a:pt x="194" y="344"/>
                </a:cubicBezTo>
                <a:cubicBezTo>
                  <a:pt x="192" y="339"/>
                  <a:pt x="189" y="335"/>
                  <a:pt x="188" y="329"/>
                </a:cubicBezTo>
                <a:cubicBezTo>
                  <a:pt x="186" y="324"/>
                  <a:pt x="185" y="318"/>
                  <a:pt x="184" y="312"/>
                </a:cubicBezTo>
                <a:close/>
                <a:moveTo>
                  <a:pt x="208" y="347"/>
                </a:moveTo>
                <a:cubicBezTo>
                  <a:pt x="210" y="344"/>
                  <a:pt x="211" y="340"/>
                  <a:pt x="212" y="336"/>
                </a:cubicBezTo>
                <a:cubicBezTo>
                  <a:pt x="213" y="333"/>
                  <a:pt x="213" y="330"/>
                  <a:pt x="213" y="327"/>
                </a:cubicBezTo>
                <a:cubicBezTo>
                  <a:pt x="218" y="331"/>
                  <a:pt x="223" y="335"/>
                  <a:pt x="229" y="338"/>
                </a:cubicBezTo>
                <a:cubicBezTo>
                  <a:pt x="230" y="338"/>
                  <a:pt x="230" y="338"/>
                  <a:pt x="231" y="338"/>
                </a:cubicBezTo>
                <a:cubicBezTo>
                  <a:pt x="229" y="341"/>
                  <a:pt x="229" y="345"/>
                  <a:pt x="228" y="348"/>
                </a:cubicBezTo>
                <a:cubicBezTo>
                  <a:pt x="228" y="354"/>
                  <a:pt x="228" y="359"/>
                  <a:pt x="229" y="364"/>
                </a:cubicBezTo>
                <a:cubicBezTo>
                  <a:pt x="230" y="370"/>
                  <a:pt x="234" y="376"/>
                  <a:pt x="235" y="382"/>
                </a:cubicBezTo>
                <a:cubicBezTo>
                  <a:pt x="236" y="386"/>
                  <a:pt x="235" y="390"/>
                  <a:pt x="235" y="395"/>
                </a:cubicBezTo>
                <a:cubicBezTo>
                  <a:pt x="235" y="400"/>
                  <a:pt x="235" y="405"/>
                  <a:pt x="236" y="410"/>
                </a:cubicBezTo>
                <a:cubicBezTo>
                  <a:pt x="236" y="412"/>
                  <a:pt x="236" y="413"/>
                  <a:pt x="236" y="415"/>
                </a:cubicBezTo>
                <a:cubicBezTo>
                  <a:pt x="235" y="414"/>
                  <a:pt x="234" y="413"/>
                  <a:pt x="232" y="412"/>
                </a:cubicBezTo>
                <a:cubicBezTo>
                  <a:pt x="227" y="411"/>
                  <a:pt x="224" y="414"/>
                  <a:pt x="219" y="414"/>
                </a:cubicBezTo>
                <a:cubicBezTo>
                  <a:pt x="217" y="414"/>
                  <a:pt x="215" y="414"/>
                  <a:pt x="214" y="415"/>
                </a:cubicBezTo>
                <a:cubicBezTo>
                  <a:pt x="213" y="408"/>
                  <a:pt x="211" y="402"/>
                  <a:pt x="211" y="396"/>
                </a:cubicBezTo>
                <a:cubicBezTo>
                  <a:pt x="210" y="390"/>
                  <a:pt x="209" y="384"/>
                  <a:pt x="208" y="377"/>
                </a:cubicBezTo>
                <a:cubicBezTo>
                  <a:pt x="207" y="372"/>
                  <a:pt x="206" y="367"/>
                  <a:pt x="203" y="362"/>
                </a:cubicBezTo>
                <a:cubicBezTo>
                  <a:pt x="200" y="358"/>
                  <a:pt x="198" y="353"/>
                  <a:pt x="195" y="347"/>
                </a:cubicBezTo>
                <a:cubicBezTo>
                  <a:pt x="195" y="347"/>
                  <a:pt x="195" y="347"/>
                  <a:pt x="195" y="347"/>
                </a:cubicBezTo>
                <a:cubicBezTo>
                  <a:pt x="200" y="348"/>
                  <a:pt x="204" y="350"/>
                  <a:pt x="208" y="347"/>
                </a:cubicBezTo>
                <a:close/>
                <a:moveTo>
                  <a:pt x="233" y="367"/>
                </a:moveTo>
                <a:cubicBezTo>
                  <a:pt x="232" y="361"/>
                  <a:pt x="231" y="355"/>
                  <a:pt x="232" y="348"/>
                </a:cubicBezTo>
                <a:cubicBezTo>
                  <a:pt x="232" y="346"/>
                  <a:pt x="233" y="342"/>
                  <a:pt x="233" y="339"/>
                </a:cubicBezTo>
                <a:cubicBezTo>
                  <a:pt x="240" y="343"/>
                  <a:pt x="248" y="347"/>
                  <a:pt x="255" y="346"/>
                </a:cubicBezTo>
                <a:cubicBezTo>
                  <a:pt x="250" y="353"/>
                  <a:pt x="246" y="361"/>
                  <a:pt x="242" y="368"/>
                </a:cubicBezTo>
                <a:cubicBezTo>
                  <a:pt x="240" y="372"/>
                  <a:pt x="239" y="376"/>
                  <a:pt x="238" y="380"/>
                </a:cubicBezTo>
                <a:cubicBezTo>
                  <a:pt x="237" y="375"/>
                  <a:pt x="235" y="371"/>
                  <a:pt x="233" y="367"/>
                </a:cubicBezTo>
                <a:close/>
                <a:moveTo>
                  <a:pt x="246" y="367"/>
                </a:moveTo>
                <a:cubicBezTo>
                  <a:pt x="252" y="355"/>
                  <a:pt x="260" y="342"/>
                  <a:pt x="271" y="334"/>
                </a:cubicBezTo>
                <a:cubicBezTo>
                  <a:pt x="281" y="327"/>
                  <a:pt x="291" y="320"/>
                  <a:pt x="303" y="315"/>
                </a:cubicBezTo>
                <a:cubicBezTo>
                  <a:pt x="308" y="314"/>
                  <a:pt x="313" y="312"/>
                  <a:pt x="318" y="311"/>
                </a:cubicBezTo>
                <a:cubicBezTo>
                  <a:pt x="325" y="310"/>
                  <a:pt x="331" y="309"/>
                  <a:pt x="338" y="309"/>
                </a:cubicBezTo>
                <a:cubicBezTo>
                  <a:pt x="348" y="308"/>
                  <a:pt x="358" y="309"/>
                  <a:pt x="368" y="311"/>
                </a:cubicBezTo>
                <a:cubicBezTo>
                  <a:pt x="371" y="311"/>
                  <a:pt x="410" y="317"/>
                  <a:pt x="409" y="321"/>
                </a:cubicBezTo>
                <a:cubicBezTo>
                  <a:pt x="409" y="321"/>
                  <a:pt x="409" y="321"/>
                  <a:pt x="409" y="322"/>
                </a:cubicBezTo>
                <a:cubicBezTo>
                  <a:pt x="409" y="322"/>
                  <a:pt x="409" y="322"/>
                  <a:pt x="409" y="322"/>
                </a:cubicBezTo>
                <a:cubicBezTo>
                  <a:pt x="409" y="322"/>
                  <a:pt x="408" y="323"/>
                  <a:pt x="408" y="324"/>
                </a:cubicBezTo>
                <a:cubicBezTo>
                  <a:pt x="408" y="323"/>
                  <a:pt x="408" y="323"/>
                  <a:pt x="408" y="323"/>
                </a:cubicBezTo>
                <a:cubicBezTo>
                  <a:pt x="394" y="317"/>
                  <a:pt x="378" y="315"/>
                  <a:pt x="363" y="314"/>
                </a:cubicBezTo>
                <a:cubicBezTo>
                  <a:pt x="355" y="314"/>
                  <a:pt x="348" y="315"/>
                  <a:pt x="340" y="314"/>
                </a:cubicBezTo>
                <a:cubicBezTo>
                  <a:pt x="333" y="314"/>
                  <a:pt x="327" y="314"/>
                  <a:pt x="320" y="314"/>
                </a:cubicBezTo>
                <a:cubicBezTo>
                  <a:pt x="306" y="316"/>
                  <a:pt x="291" y="323"/>
                  <a:pt x="280" y="330"/>
                </a:cubicBezTo>
                <a:cubicBezTo>
                  <a:pt x="267" y="338"/>
                  <a:pt x="257" y="349"/>
                  <a:pt x="253" y="363"/>
                </a:cubicBezTo>
                <a:cubicBezTo>
                  <a:pt x="252" y="363"/>
                  <a:pt x="254" y="364"/>
                  <a:pt x="254" y="363"/>
                </a:cubicBezTo>
                <a:cubicBezTo>
                  <a:pt x="261" y="349"/>
                  <a:pt x="272" y="338"/>
                  <a:pt x="286" y="330"/>
                </a:cubicBezTo>
                <a:cubicBezTo>
                  <a:pt x="299" y="324"/>
                  <a:pt x="312" y="317"/>
                  <a:pt x="327" y="317"/>
                </a:cubicBezTo>
                <a:cubicBezTo>
                  <a:pt x="333" y="317"/>
                  <a:pt x="340" y="318"/>
                  <a:pt x="347" y="318"/>
                </a:cubicBezTo>
                <a:cubicBezTo>
                  <a:pt x="353" y="317"/>
                  <a:pt x="360" y="317"/>
                  <a:pt x="367" y="318"/>
                </a:cubicBezTo>
                <a:cubicBezTo>
                  <a:pt x="374" y="319"/>
                  <a:pt x="382" y="320"/>
                  <a:pt x="389" y="321"/>
                </a:cubicBezTo>
                <a:cubicBezTo>
                  <a:pt x="395" y="322"/>
                  <a:pt x="402" y="325"/>
                  <a:pt x="408" y="324"/>
                </a:cubicBezTo>
                <a:cubicBezTo>
                  <a:pt x="408" y="324"/>
                  <a:pt x="408" y="324"/>
                  <a:pt x="408" y="324"/>
                </a:cubicBezTo>
                <a:cubicBezTo>
                  <a:pt x="408" y="325"/>
                  <a:pt x="407" y="327"/>
                  <a:pt x="407" y="328"/>
                </a:cubicBezTo>
                <a:cubicBezTo>
                  <a:pt x="401" y="325"/>
                  <a:pt x="394" y="326"/>
                  <a:pt x="387" y="326"/>
                </a:cubicBezTo>
                <a:cubicBezTo>
                  <a:pt x="379" y="325"/>
                  <a:pt x="371" y="323"/>
                  <a:pt x="363" y="322"/>
                </a:cubicBezTo>
                <a:cubicBezTo>
                  <a:pt x="363" y="322"/>
                  <a:pt x="363" y="323"/>
                  <a:pt x="363" y="323"/>
                </a:cubicBezTo>
                <a:cubicBezTo>
                  <a:pt x="369" y="325"/>
                  <a:pt x="377" y="326"/>
                  <a:pt x="384" y="327"/>
                </a:cubicBezTo>
                <a:cubicBezTo>
                  <a:pt x="392" y="327"/>
                  <a:pt x="399" y="327"/>
                  <a:pt x="407" y="330"/>
                </a:cubicBezTo>
                <a:cubicBezTo>
                  <a:pt x="407" y="330"/>
                  <a:pt x="407" y="331"/>
                  <a:pt x="406" y="331"/>
                </a:cubicBezTo>
                <a:cubicBezTo>
                  <a:pt x="402" y="332"/>
                  <a:pt x="399" y="331"/>
                  <a:pt x="395" y="331"/>
                </a:cubicBezTo>
                <a:cubicBezTo>
                  <a:pt x="391" y="331"/>
                  <a:pt x="388" y="331"/>
                  <a:pt x="385" y="330"/>
                </a:cubicBezTo>
                <a:cubicBezTo>
                  <a:pt x="384" y="330"/>
                  <a:pt x="383" y="331"/>
                  <a:pt x="384" y="331"/>
                </a:cubicBezTo>
                <a:cubicBezTo>
                  <a:pt x="387" y="334"/>
                  <a:pt x="390" y="333"/>
                  <a:pt x="394" y="333"/>
                </a:cubicBezTo>
                <a:cubicBezTo>
                  <a:pt x="398" y="333"/>
                  <a:pt x="402" y="334"/>
                  <a:pt x="406" y="334"/>
                </a:cubicBezTo>
                <a:cubicBezTo>
                  <a:pt x="406" y="335"/>
                  <a:pt x="406" y="336"/>
                  <a:pt x="406" y="337"/>
                </a:cubicBezTo>
                <a:cubicBezTo>
                  <a:pt x="406" y="337"/>
                  <a:pt x="406" y="337"/>
                  <a:pt x="405" y="336"/>
                </a:cubicBezTo>
                <a:cubicBezTo>
                  <a:pt x="405" y="336"/>
                  <a:pt x="405" y="335"/>
                  <a:pt x="405" y="335"/>
                </a:cubicBezTo>
                <a:cubicBezTo>
                  <a:pt x="398" y="336"/>
                  <a:pt x="392" y="337"/>
                  <a:pt x="386" y="338"/>
                </a:cubicBezTo>
                <a:cubicBezTo>
                  <a:pt x="381" y="338"/>
                  <a:pt x="375" y="338"/>
                  <a:pt x="370" y="338"/>
                </a:cubicBezTo>
                <a:cubicBezTo>
                  <a:pt x="369" y="339"/>
                  <a:pt x="369" y="339"/>
                  <a:pt x="370" y="339"/>
                </a:cubicBezTo>
                <a:cubicBezTo>
                  <a:pt x="376" y="340"/>
                  <a:pt x="382" y="339"/>
                  <a:pt x="388" y="338"/>
                </a:cubicBezTo>
                <a:cubicBezTo>
                  <a:pt x="393" y="338"/>
                  <a:pt x="398" y="338"/>
                  <a:pt x="403" y="337"/>
                </a:cubicBezTo>
                <a:cubicBezTo>
                  <a:pt x="399" y="339"/>
                  <a:pt x="396" y="341"/>
                  <a:pt x="391" y="341"/>
                </a:cubicBezTo>
                <a:cubicBezTo>
                  <a:pt x="388" y="342"/>
                  <a:pt x="384" y="342"/>
                  <a:pt x="380" y="343"/>
                </a:cubicBezTo>
                <a:cubicBezTo>
                  <a:pt x="372" y="343"/>
                  <a:pt x="365" y="343"/>
                  <a:pt x="357" y="344"/>
                </a:cubicBezTo>
                <a:cubicBezTo>
                  <a:pt x="357" y="345"/>
                  <a:pt x="357" y="345"/>
                  <a:pt x="357" y="345"/>
                </a:cubicBezTo>
                <a:cubicBezTo>
                  <a:pt x="366" y="345"/>
                  <a:pt x="375" y="345"/>
                  <a:pt x="383" y="344"/>
                </a:cubicBezTo>
                <a:cubicBezTo>
                  <a:pt x="387" y="344"/>
                  <a:pt x="391" y="343"/>
                  <a:pt x="395" y="342"/>
                </a:cubicBezTo>
                <a:cubicBezTo>
                  <a:pt x="399" y="341"/>
                  <a:pt x="402" y="341"/>
                  <a:pt x="405" y="338"/>
                </a:cubicBezTo>
                <a:cubicBezTo>
                  <a:pt x="406" y="338"/>
                  <a:pt x="406" y="338"/>
                  <a:pt x="406" y="338"/>
                </a:cubicBezTo>
                <a:cubicBezTo>
                  <a:pt x="406" y="338"/>
                  <a:pt x="406" y="339"/>
                  <a:pt x="406" y="340"/>
                </a:cubicBezTo>
                <a:cubicBezTo>
                  <a:pt x="406" y="340"/>
                  <a:pt x="406" y="340"/>
                  <a:pt x="406" y="340"/>
                </a:cubicBezTo>
                <a:cubicBezTo>
                  <a:pt x="401" y="339"/>
                  <a:pt x="397" y="343"/>
                  <a:pt x="392" y="344"/>
                </a:cubicBezTo>
                <a:cubicBezTo>
                  <a:pt x="389" y="345"/>
                  <a:pt x="385" y="345"/>
                  <a:pt x="382" y="346"/>
                </a:cubicBezTo>
                <a:cubicBezTo>
                  <a:pt x="378" y="347"/>
                  <a:pt x="374" y="348"/>
                  <a:pt x="370" y="348"/>
                </a:cubicBezTo>
                <a:cubicBezTo>
                  <a:pt x="363" y="348"/>
                  <a:pt x="354" y="348"/>
                  <a:pt x="347" y="347"/>
                </a:cubicBezTo>
                <a:cubicBezTo>
                  <a:pt x="339" y="346"/>
                  <a:pt x="331" y="344"/>
                  <a:pt x="324" y="344"/>
                </a:cubicBezTo>
                <a:cubicBezTo>
                  <a:pt x="323" y="344"/>
                  <a:pt x="323" y="345"/>
                  <a:pt x="324" y="346"/>
                </a:cubicBezTo>
                <a:cubicBezTo>
                  <a:pt x="332" y="348"/>
                  <a:pt x="340" y="348"/>
                  <a:pt x="349" y="349"/>
                </a:cubicBezTo>
                <a:cubicBezTo>
                  <a:pt x="355" y="351"/>
                  <a:pt x="362" y="351"/>
                  <a:pt x="368" y="350"/>
                </a:cubicBezTo>
                <a:cubicBezTo>
                  <a:pt x="376" y="349"/>
                  <a:pt x="382" y="347"/>
                  <a:pt x="389" y="346"/>
                </a:cubicBezTo>
                <a:cubicBezTo>
                  <a:pt x="390" y="346"/>
                  <a:pt x="391" y="345"/>
                  <a:pt x="392" y="345"/>
                </a:cubicBezTo>
                <a:cubicBezTo>
                  <a:pt x="390" y="346"/>
                  <a:pt x="388" y="347"/>
                  <a:pt x="386" y="347"/>
                </a:cubicBezTo>
                <a:cubicBezTo>
                  <a:pt x="379" y="349"/>
                  <a:pt x="371" y="350"/>
                  <a:pt x="365" y="353"/>
                </a:cubicBezTo>
                <a:cubicBezTo>
                  <a:pt x="364" y="353"/>
                  <a:pt x="364" y="353"/>
                  <a:pt x="365" y="353"/>
                </a:cubicBezTo>
                <a:cubicBezTo>
                  <a:pt x="368" y="354"/>
                  <a:pt x="372" y="352"/>
                  <a:pt x="375" y="352"/>
                </a:cubicBezTo>
                <a:cubicBezTo>
                  <a:pt x="381" y="350"/>
                  <a:pt x="386" y="349"/>
                  <a:pt x="392" y="347"/>
                </a:cubicBezTo>
                <a:cubicBezTo>
                  <a:pt x="393" y="347"/>
                  <a:pt x="406" y="343"/>
                  <a:pt x="406" y="341"/>
                </a:cubicBezTo>
                <a:cubicBezTo>
                  <a:pt x="406" y="341"/>
                  <a:pt x="406" y="341"/>
                  <a:pt x="406" y="341"/>
                </a:cubicBezTo>
                <a:cubicBezTo>
                  <a:pt x="406" y="342"/>
                  <a:pt x="406" y="343"/>
                  <a:pt x="406" y="344"/>
                </a:cubicBezTo>
                <a:cubicBezTo>
                  <a:pt x="405" y="344"/>
                  <a:pt x="403" y="345"/>
                  <a:pt x="401" y="346"/>
                </a:cubicBezTo>
                <a:cubicBezTo>
                  <a:pt x="400" y="347"/>
                  <a:pt x="398" y="348"/>
                  <a:pt x="397" y="350"/>
                </a:cubicBezTo>
                <a:cubicBezTo>
                  <a:pt x="396" y="350"/>
                  <a:pt x="397" y="350"/>
                  <a:pt x="397" y="350"/>
                </a:cubicBezTo>
                <a:cubicBezTo>
                  <a:pt x="395" y="350"/>
                  <a:pt x="393" y="351"/>
                  <a:pt x="392" y="352"/>
                </a:cubicBezTo>
                <a:cubicBezTo>
                  <a:pt x="387" y="353"/>
                  <a:pt x="382" y="356"/>
                  <a:pt x="378" y="359"/>
                </a:cubicBezTo>
                <a:cubicBezTo>
                  <a:pt x="368" y="365"/>
                  <a:pt x="358" y="370"/>
                  <a:pt x="347" y="372"/>
                </a:cubicBezTo>
                <a:cubicBezTo>
                  <a:pt x="346" y="372"/>
                  <a:pt x="346" y="373"/>
                  <a:pt x="347" y="373"/>
                </a:cubicBezTo>
                <a:cubicBezTo>
                  <a:pt x="352" y="373"/>
                  <a:pt x="357" y="372"/>
                  <a:pt x="362" y="370"/>
                </a:cubicBezTo>
                <a:cubicBezTo>
                  <a:pt x="367" y="368"/>
                  <a:pt x="373" y="365"/>
                  <a:pt x="377" y="362"/>
                </a:cubicBezTo>
                <a:cubicBezTo>
                  <a:pt x="383" y="358"/>
                  <a:pt x="389" y="355"/>
                  <a:pt x="396" y="353"/>
                </a:cubicBezTo>
                <a:cubicBezTo>
                  <a:pt x="399" y="352"/>
                  <a:pt x="404" y="352"/>
                  <a:pt x="407" y="350"/>
                </a:cubicBezTo>
                <a:cubicBezTo>
                  <a:pt x="407" y="350"/>
                  <a:pt x="407" y="351"/>
                  <a:pt x="407" y="352"/>
                </a:cubicBezTo>
                <a:cubicBezTo>
                  <a:pt x="406" y="352"/>
                  <a:pt x="404" y="352"/>
                  <a:pt x="403" y="353"/>
                </a:cubicBezTo>
                <a:cubicBezTo>
                  <a:pt x="403" y="353"/>
                  <a:pt x="403" y="353"/>
                  <a:pt x="403" y="353"/>
                </a:cubicBezTo>
                <a:cubicBezTo>
                  <a:pt x="404" y="353"/>
                  <a:pt x="406" y="353"/>
                  <a:pt x="407" y="352"/>
                </a:cubicBezTo>
                <a:cubicBezTo>
                  <a:pt x="407" y="352"/>
                  <a:pt x="407" y="352"/>
                  <a:pt x="408" y="352"/>
                </a:cubicBezTo>
                <a:cubicBezTo>
                  <a:pt x="408" y="353"/>
                  <a:pt x="408" y="353"/>
                  <a:pt x="408" y="354"/>
                </a:cubicBezTo>
                <a:cubicBezTo>
                  <a:pt x="408" y="354"/>
                  <a:pt x="408" y="354"/>
                  <a:pt x="408" y="354"/>
                </a:cubicBezTo>
                <a:cubicBezTo>
                  <a:pt x="405" y="354"/>
                  <a:pt x="402" y="356"/>
                  <a:pt x="400" y="357"/>
                </a:cubicBezTo>
                <a:cubicBezTo>
                  <a:pt x="399" y="358"/>
                  <a:pt x="400" y="358"/>
                  <a:pt x="400" y="358"/>
                </a:cubicBezTo>
                <a:cubicBezTo>
                  <a:pt x="403" y="357"/>
                  <a:pt x="406" y="357"/>
                  <a:pt x="408" y="355"/>
                </a:cubicBezTo>
                <a:cubicBezTo>
                  <a:pt x="408" y="355"/>
                  <a:pt x="408" y="355"/>
                  <a:pt x="408" y="355"/>
                </a:cubicBezTo>
                <a:cubicBezTo>
                  <a:pt x="409" y="360"/>
                  <a:pt x="411" y="365"/>
                  <a:pt x="412" y="370"/>
                </a:cubicBezTo>
                <a:cubicBezTo>
                  <a:pt x="403" y="375"/>
                  <a:pt x="397" y="386"/>
                  <a:pt x="391" y="394"/>
                </a:cubicBezTo>
                <a:cubicBezTo>
                  <a:pt x="391" y="394"/>
                  <a:pt x="391" y="395"/>
                  <a:pt x="391" y="395"/>
                </a:cubicBezTo>
                <a:cubicBezTo>
                  <a:pt x="395" y="391"/>
                  <a:pt x="398" y="386"/>
                  <a:pt x="402" y="382"/>
                </a:cubicBezTo>
                <a:cubicBezTo>
                  <a:pt x="405" y="379"/>
                  <a:pt x="409" y="375"/>
                  <a:pt x="413" y="371"/>
                </a:cubicBezTo>
                <a:cubicBezTo>
                  <a:pt x="414" y="375"/>
                  <a:pt x="415" y="378"/>
                  <a:pt x="416" y="381"/>
                </a:cubicBezTo>
                <a:cubicBezTo>
                  <a:pt x="412" y="382"/>
                  <a:pt x="406" y="387"/>
                  <a:pt x="403" y="389"/>
                </a:cubicBezTo>
                <a:cubicBezTo>
                  <a:pt x="398" y="393"/>
                  <a:pt x="392" y="399"/>
                  <a:pt x="389" y="405"/>
                </a:cubicBezTo>
                <a:cubicBezTo>
                  <a:pt x="389" y="406"/>
                  <a:pt x="390" y="407"/>
                  <a:pt x="390" y="406"/>
                </a:cubicBezTo>
                <a:cubicBezTo>
                  <a:pt x="394" y="400"/>
                  <a:pt x="398" y="396"/>
                  <a:pt x="404" y="391"/>
                </a:cubicBezTo>
                <a:cubicBezTo>
                  <a:pt x="406" y="389"/>
                  <a:pt x="410" y="386"/>
                  <a:pt x="413" y="385"/>
                </a:cubicBezTo>
                <a:cubicBezTo>
                  <a:pt x="414" y="384"/>
                  <a:pt x="416" y="384"/>
                  <a:pt x="417" y="383"/>
                </a:cubicBezTo>
                <a:cubicBezTo>
                  <a:pt x="417" y="384"/>
                  <a:pt x="417" y="385"/>
                  <a:pt x="418" y="386"/>
                </a:cubicBezTo>
                <a:cubicBezTo>
                  <a:pt x="413" y="387"/>
                  <a:pt x="407" y="395"/>
                  <a:pt x="404" y="398"/>
                </a:cubicBezTo>
                <a:cubicBezTo>
                  <a:pt x="402" y="401"/>
                  <a:pt x="399" y="404"/>
                  <a:pt x="396" y="407"/>
                </a:cubicBezTo>
                <a:cubicBezTo>
                  <a:pt x="393" y="412"/>
                  <a:pt x="389" y="417"/>
                  <a:pt x="387" y="422"/>
                </a:cubicBezTo>
                <a:cubicBezTo>
                  <a:pt x="387" y="423"/>
                  <a:pt x="388" y="423"/>
                  <a:pt x="388" y="422"/>
                </a:cubicBezTo>
                <a:cubicBezTo>
                  <a:pt x="392" y="419"/>
                  <a:pt x="393" y="414"/>
                  <a:pt x="396" y="410"/>
                </a:cubicBezTo>
                <a:cubicBezTo>
                  <a:pt x="399" y="406"/>
                  <a:pt x="401" y="403"/>
                  <a:pt x="404" y="400"/>
                </a:cubicBezTo>
                <a:cubicBezTo>
                  <a:pt x="407" y="397"/>
                  <a:pt x="410" y="394"/>
                  <a:pt x="412" y="392"/>
                </a:cubicBezTo>
                <a:cubicBezTo>
                  <a:pt x="414" y="390"/>
                  <a:pt x="416" y="388"/>
                  <a:pt x="418" y="387"/>
                </a:cubicBezTo>
                <a:cubicBezTo>
                  <a:pt x="419" y="389"/>
                  <a:pt x="419" y="390"/>
                  <a:pt x="420" y="392"/>
                </a:cubicBezTo>
                <a:cubicBezTo>
                  <a:pt x="415" y="394"/>
                  <a:pt x="413" y="399"/>
                  <a:pt x="409" y="402"/>
                </a:cubicBezTo>
                <a:cubicBezTo>
                  <a:pt x="407" y="404"/>
                  <a:pt x="402" y="409"/>
                  <a:pt x="404" y="412"/>
                </a:cubicBezTo>
                <a:cubicBezTo>
                  <a:pt x="404" y="413"/>
                  <a:pt x="404" y="413"/>
                  <a:pt x="404" y="412"/>
                </a:cubicBezTo>
                <a:cubicBezTo>
                  <a:pt x="407" y="408"/>
                  <a:pt x="408" y="404"/>
                  <a:pt x="412" y="400"/>
                </a:cubicBezTo>
                <a:cubicBezTo>
                  <a:pt x="415" y="398"/>
                  <a:pt x="418" y="395"/>
                  <a:pt x="420" y="393"/>
                </a:cubicBezTo>
                <a:cubicBezTo>
                  <a:pt x="421" y="394"/>
                  <a:pt x="422" y="396"/>
                  <a:pt x="423" y="397"/>
                </a:cubicBezTo>
                <a:cubicBezTo>
                  <a:pt x="421" y="399"/>
                  <a:pt x="419" y="403"/>
                  <a:pt x="418" y="405"/>
                </a:cubicBezTo>
                <a:cubicBezTo>
                  <a:pt x="418" y="406"/>
                  <a:pt x="419" y="406"/>
                  <a:pt x="419" y="406"/>
                </a:cubicBezTo>
                <a:cubicBezTo>
                  <a:pt x="421" y="404"/>
                  <a:pt x="422" y="401"/>
                  <a:pt x="424" y="398"/>
                </a:cubicBezTo>
                <a:cubicBezTo>
                  <a:pt x="424" y="399"/>
                  <a:pt x="424" y="400"/>
                  <a:pt x="425" y="400"/>
                </a:cubicBezTo>
                <a:cubicBezTo>
                  <a:pt x="426" y="402"/>
                  <a:pt x="428" y="404"/>
                  <a:pt x="429" y="405"/>
                </a:cubicBezTo>
                <a:cubicBezTo>
                  <a:pt x="428" y="407"/>
                  <a:pt x="427" y="409"/>
                  <a:pt x="426" y="410"/>
                </a:cubicBezTo>
                <a:cubicBezTo>
                  <a:pt x="424" y="414"/>
                  <a:pt x="421" y="417"/>
                  <a:pt x="419" y="421"/>
                </a:cubicBezTo>
                <a:cubicBezTo>
                  <a:pt x="413" y="430"/>
                  <a:pt x="407" y="439"/>
                  <a:pt x="399" y="447"/>
                </a:cubicBezTo>
                <a:cubicBezTo>
                  <a:pt x="384" y="462"/>
                  <a:pt x="366" y="470"/>
                  <a:pt x="347" y="478"/>
                </a:cubicBezTo>
                <a:cubicBezTo>
                  <a:pt x="347" y="478"/>
                  <a:pt x="347" y="478"/>
                  <a:pt x="347" y="478"/>
                </a:cubicBezTo>
                <a:cubicBezTo>
                  <a:pt x="342" y="480"/>
                  <a:pt x="337" y="482"/>
                  <a:pt x="331" y="483"/>
                </a:cubicBezTo>
                <a:cubicBezTo>
                  <a:pt x="330" y="483"/>
                  <a:pt x="329" y="484"/>
                  <a:pt x="328" y="484"/>
                </a:cubicBezTo>
                <a:cubicBezTo>
                  <a:pt x="313" y="486"/>
                  <a:pt x="298" y="483"/>
                  <a:pt x="285" y="475"/>
                </a:cubicBezTo>
                <a:cubicBezTo>
                  <a:pt x="281" y="472"/>
                  <a:pt x="275" y="468"/>
                  <a:pt x="272" y="464"/>
                </a:cubicBezTo>
                <a:cubicBezTo>
                  <a:pt x="270" y="461"/>
                  <a:pt x="268" y="456"/>
                  <a:pt x="264" y="454"/>
                </a:cubicBezTo>
                <a:cubicBezTo>
                  <a:pt x="254" y="449"/>
                  <a:pt x="253" y="437"/>
                  <a:pt x="250" y="427"/>
                </a:cubicBezTo>
                <a:cubicBezTo>
                  <a:pt x="249" y="426"/>
                  <a:pt x="248" y="426"/>
                  <a:pt x="248" y="427"/>
                </a:cubicBezTo>
                <a:cubicBezTo>
                  <a:pt x="248" y="432"/>
                  <a:pt x="249" y="438"/>
                  <a:pt x="250" y="444"/>
                </a:cubicBezTo>
                <a:cubicBezTo>
                  <a:pt x="250" y="443"/>
                  <a:pt x="249" y="443"/>
                  <a:pt x="249" y="442"/>
                </a:cubicBezTo>
                <a:cubicBezTo>
                  <a:pt x="247" y="439"/>
                  <a:pt x="245" y="436"/>
                  <a:pt x="244" y="432"/>
                </a:cubicBezTo>
                <a:cubicBezTo>
                  <a:pt x="242" y="425"/>
                  <a:pt x="240" y="417"/>
                  <a:pt x="239" y="410"/>
                </a:cubicBezTo>
                <a:cubicBezTo>
                  <a:pt x="237" y="395"/>
                  <a:pt x="240" y="381"/>
                  <a:pt x="246" y="367"/>
                </a:cubicBezTo>
                <a:close/>
                <a:moveTo>
                  <a:pt x="407" y="347"/>
                </a:moveTo>
                <a:cubicBezTo>
                  <a:pt x="406" y="347"/>
                  <a:pt x="406" y="348"/>
                  <a:pt x="406" y="348"/>
                </a:cubicBezTo>
                <a:cubicBezTo>
                  <a:pt x="406" y="347"/>
                  <a:pt x="402" y="348"/>
                  <a:pt x="401" y="349"/>
                </a:cubicBezTo>
                <a:cubicBezTo>
                  <a:pt x="400" y="349"/>
                  <a:pt x="399" y="349"/>
                  <a:pt x="398" y="350"/>
                </a:cubicBezTo>
                <a:cubicBezTo>
                  <a:pt x="399" y="349"/>
                  <a:pt x="401" y="348"/>
                  <a:pt x="402" y="347"/>
                </a:cubicBezTo>
                <a:cubicBezTo>
                  <a:pt x="404" y="346"/>
                  <a:pt x="405" y="346"/>
                  <a:pt x="406" y="345"/>
                </a:cubicBezTo>
                <a:cubicBezTo>
                  <a:pt x="406" y="346"/>
                  <a:pt x="407" y="347"/>
                  <a:pt x="407" y="347"/>
                </a:cubicBezTo>
                <a:close/>
                <a:moveTo>
                  <a:pt x="449" y="263"/>
                </a:moveTo>
                <a:cubicBezTo>
                  <a:pt x="449" y="261"/>
                  <a:pt x="449" y="258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1" y="257"/>
                  <a:pt x="452" y="259"/>
                  <a:pt x="452" y="261"/>
                </a:cubicBezTo>
                <a:cubicBezTo>
                  <a:pt x="452" y="261"/>
                  <a:pt x="451" y="262"/>
                  <a:pt x="451" y="263"/>
                </a:cubicBezTo>
                <a:cubicBezTo>
                  <a:pt x="450" y="266"/>
                  <a:pt x="451" y="268"/>
                  <a:pt x="451" y="271"/>
                </a:cubicBezTo>
                <a:cubicBezTo>
                  <a:pt x="451" y="273"/>
                  <a:pt x="451" y="276"/>
                  <a:pt x="452" y="278"/>
                </a:cubicBezTo>
                <a:cubicBezTo>
                  <a:pt x="451" y="278"/>
                  <a:pt x="451" y="278"/>
                  <a:pt x="451" y="279"/>
                </a:cubicBezTo>
                <a:cubicBezTo>
                  <a:pt x="451" y="278"/>
                  <a:pt x="451" y="278"/>
                  <a:pt x="451" y="278"/>
                </a:cubicBezTo>
                <a:cubicBezTo>
                  <a:pt x="449" y="273"/>
                  <a:pt x="449" y="268"/>
                  <a:pt x="449" y="263"/>
                </a:cubicBezTo>
                <a:close/>
                <a:moveTo>
                  <a:pt x="448" y="255"/>
                </a:moveTo>
                <a:cubicBezTo>
                  <a:pt x="448" y="252"/>
                  <a:pt x="448" y="248"/>
                  <a:pt x="448" y="245"/>
                </a:cubicBezTo>
                <a:cubicBezTo>
                  <a:pt x="448" y="246"/>
                  <a:pt x="448" y="248"/>
                  <a:pt x="449" y="249"/>
                </a:cubicBezTo>
                <a:cubicBezTo>
                  <a:pt x="449" y="250"/>
                  <a:pt x="449" y="252"/>
                  <a:pt x="450" y="253"/>
                </a:cubicBezTo>
                <a:cubicBezTo>
                  <a:pt x="449" y="253"/>
                  <a:pt x="448" y="254"/>
                  <a:pt x="448" y="255"/>
                </a:cubicBezTo>
                <a:close/>
                <a:moveTo>
                  <a:pt x="450" y="283"/>
                </a:moveTo>
                <a:cubicBezTo>
                  <a:pt x="456" y="280"/>
                  <a:pt x="463" y="279"/>
                  <a:pt x="469" y="277"/>
                </a:cubicBezTo>
                <a:cubicBezTo>
                  <a:pt x="477" y="274"/>
                  <a:pt x="485" y="272"/>
                  <a:pt x="493" y="271"/>
                </a:cubicBezTo>
                <a:cubicBezTo>
                  <a:pt x="501" y="270"/>
                  <a:pt x="509" y="271"/>
                  <a:pt x="517" y="274"/>
                </a:cubicBezTo>
                <a:cubicBezTo>
                  <a:pt x="526" y="276"/>
                  <a:pt x="535" y="277"/>
                  <a:pt x="542" y="281"/>
                </a:cubicBezTo>
                <a:cubicBezTo>
                  <a:pt x="549" y="284"/>
                  <a:pt x="556" y="289"/>
                  <a:pt x="562" y="293"/>
                </a:cubicBezTo>
                <a:cubicBezTo>
                  <a:pt x="570" y="298"/>
                  <a:pt x="577" y="303"/>
                  <a:pt x="582" y="312"/>
                </a:cubicBezTo>
                <a:cubicBezTo>
                  <a:pt x="586" y="318"/>
                  <a:pt x="589" y="323"/>
                  <a:pt x="594" y="328"/>
                </a:cubicBezTo>
                <a:cubicBezTo>
                  <a:pt x="594" y="329"/>
                  <a:pt x="594" y="329"/>
                  <a:pt x="594" y="329"/>
                </a:cubicBezTo>
                <a:cubicBezTo>
                  <a:pt x="594" y="329"/>
                  <a:pt x="594" y="329"/>
                  <a:pt x="595" y="330"/>
                </a:cubicBezTo>
                <a:cubicBezTo>
                  <a:pt x="595" y="330"/>
                  <a:pt x="596" y="330"/>
                  <a:pt x="596" y="330"/>
                </a:cubicBezTo>
                <a:cubicBezTo>
                  <a:pt x="596" y="336"/>
                  <a:pt x="597" y="343"/>
                  <a:pt x="598" y="349"/>
                </a:cubicBezTo>
                <a:cubicBezTo>
                  <a:pt x="599" y="353"/>
                  <a:pt x="600" y="358"/>
                  <a:pt x="602" y="363"/>
                </a:cubicBezTo>
                <a:cubicBezTo>
                  <a:pt x="600" y="362"/>
                  <a:pt x="598" y="361"/>
                  <a:pt x="596" y="360"/>
                </a:cubicBezTo>
                <a:cubicBezTo>
                  <a:pt x="593" y="359"/>
                  <a:pt x="590" y="358"/>
                  <a:pt x="587" y="358"/>
                </a:cubicBezTo>
                <a:cubicBezTo>
                  <a:pt x="586" y="357"/>
                  <a:pt x="585" y="356"/>
                  <a:pt x="584" y="356"/>
                </a:cubicBezTo>
                <a:cubicBezTo>
                  <a:pt x="582" y="355"/>
                  <a:pt x="579" y="354"/>
                  <a:pt x="577" y="354"/>
                </a:cubicBezTo>
                <a:cubicBezTo>
                  <a:pt x="577" y="354"/>
                  <a:pt x="576" y="354"/>
                  <a:pt x="577" y="354"/>
                </a:cubicBezTo>
                <a:cubicBezTo>
                  <a:pt x="578" y="355"/>
                  <a:pt x="580" y="356"/>
                  <a:pt x="582" y="356"/>
                </a:cubicBezTo>
                <a:cubicBezTo>
                  <a:pt x="582" y="356"/>
                  <a:pt x="584" y="357"/>
                  <a:pt x="586" y="357"/>
                </a:cubicBezTo>
                <a:cubicBezTo>
                  <a:pt x="582" y="356"/>
                  <a:pt x="579" y="356"/>
                  <a:pt x="575" y="356"/>
                </a:cubicBezTo>
                <a:cubicBezTo>
                  <a:pt x="568" y="357"/>
                  <a:pt x="560" y="361"/>
                  <a:pt x="553" y="366"/>
                </a:cubicBezTo>
                <a:cubicBezTo>
                  <a:pt x="544" y="369"/>
                  <a:pt x="536" y="371"/>
                  <a:pt x="526" y="374"/>
                </a:cubicBezTo>
                <a:cubicBezTo>
                  <a:pt x="521" y="375"/>
                  <a:pt x="516" y="376"/>
                  <a:pt x="510" y="378"/>
                </a:cubicBezTo>
                <a:cubicBezTo>
                  <a:pt x="508" y="379"/>
                  <a:pt x="505" y="380"/>
                  <a:pt x="502" y="381"/>
                </a:cubicBezTo>
                <a:cubicBezTo>
                  <a:pt x="501" y="381"/>
                  <a:pt x="501" y="382"/>
                  <a:pt x="500" y="382"/>
                </a:cubicBezTo>
                <a:cubicBezTo>
                  <a:pt x="500" y="382"/>
                  <a:pt x="500" y="382"/>
                  <a:pt x="500" y="382"/>
                </a:cubicBezTo>
                <a:cubicBezTo>
                  <a:pt x="500" y="383"/>
                  <a:pt x="500" y="383"/>
                  <a:pt x="500" y="383"/>
                </a:cubicBezTo>
                <a:cubicBezTo>
                  <a:pt x="504" y="385"/>
                  <a:pt x="510" y="380"/>
                  <a:pt x="513" y="379"/>
                </a:cubicBezTo>
                <a:cubicBezTo>
                  <a:pt x="518" y="378"/>
                  <a:pt x="523" y="377"/>
                  <a:pt x="529" y="375"/>
                </a:cubicBezTo>
                <a:cubicBezTo>
                  <a:pt x="534" y="374"/>
                  <a:pt x="540" y="372"/>
                  <a:pt x="546" y="370"/>
                </a:cubicBezTo>
                <a:cubicBezTo>
                  <a:pt x="547" y="370"/>
                  <a:pt x="548" y="370"/>
                  <a:pt x="550" y="369"/>
                </a:cubicBezTo>
                <a:cubicBezTo>
                  <a:pt x="549" y="370"/>
                  <a:pt x="548" y="371"/>
                  <a:pt x="547" y="372"/>
                </a:cubicBezTo>
                <a:cubicBezTo>
                  <a:pt x="543" y="374"/>
                  <a:pt x="539" y="377"/>
                  <a:pt x="535" y="379"/>
                </a:cubicBezTo>
                <a:cubicBezTo>
                  <a:pt x="531" y="381"/>
                  <a:pt x="526" y="382"/>
                  <a:pt x="521" y="384"/>
                </a:cubicBezTo>
                <a:cubicBezTo>
                  <a:pt x="517" y="386"/>
                  <a:pt x="513" y="388"/>
                  <a:pt x="508" y="389"/>
                </a:cubicBezTo>
                <a:cubicBezTo>
                  <a:pt x="507" y="390"/>
                  <a:pt x="505" y="391"/>
                  <a:pt x="503" y="392"/>
                </a:cubicBezTo>
                <a:cubicBezTo>
                  <a:pt x="502" y="392"/>
                  <a:pt x="499" y="394"/>
                  <a:pt x="498" y="394"/>
                </a:cubicBezTo>
                <a:cubicBezTo>
                  <a:pt x="498" y="394"/>
                  <a:pt x="498" y="394"/>
                  <a:pt x="498" y="394"/>
                </a:cubicBezTo>
                <a:cubicBezTo>
                  <a:pt x="497" y="394"/>
                  <a:pt x="496" y="395"/>
                  <a:pt x="497" y="396"/>
                </a:cubicBezTo>
                <a:cubicBezTo>
                  <a:pt x="497" y="396"/>
                  <a:pt x="497" y="396"/>
                  <a:pt x="497" y="396"/>
                </a:cubicBezTo>
                <a:cubicBezTo>
                  <a:pt x="497" y="396"/>
                  <a:pt x="498" y="396"/>
                  <a:pt x="499" y="396"/>
                </a:cubicBezTo>
                <a:cubicBezTo>
                  <a:pt x="507" y="392"/>
                  <a:pt x="516" y="388"/>
                  <a:pt x="525" y="384"/>
                </a:cubicBezTo>
                <a:cubicBezTo>
                  <a:pt x="532" y="381"/>
                  <a:pt x="540" y="378"/>
                  <a:pt x="546" y="374"/>
                </a:cubicBezTo>
                <a:cubicBezTo>
                  <a:pt x="546" y="374"/>
                  <a:pt x="546" y="374"/>
                  <a:pt x="546" y="374"/>
                </a:cubicBezTo>
                <a:cubicBezTo>
                  <a:pt x="544" y="376"/>
                  <a:pt x="543" y="379"/>
                  <a:pt x="542" y="381"/>
                </a:cubicBezTo>
                <a:cubicBezTo>
                  <a:pt x="542" y="381"/>
                  <a:pt x="542" y="381"/>
                  <a:pt x="542" y="382"/>
                </a:cubicBezTo>
                <a:cubicBezTo>
                  <a:pt x="535" y="386"/>
                  <a:pt x="529" y="392"/>
                  <a:pt x="523" y="397"/>
                </a:cubicBezTo>
                <a:cubicBezTo>
                  <a:pt x="519" y="401"/>
                  <a:pt x="515" y="406"/>
                  <a:pt x="510" y="408"/>
                </a:cubicBezTo>
                <a:cubicBezTo>
                  <a:pt x="507" y="409"/>
                  <a:pt x="505" y="409"/>
                  <a:pt x="504" y="411"/>
                </a:cubicBezTo>
                <a:cubicBezTo>
                  <a:pt x="504" y="412"/>
                  <a:pt x="504" y="413"/>
                  <a:pt x="505" y="412"/>
                </a:cubicBezTo>
                <a:cubicBezTo>
                  <a:pt x="512" y="408"/>
                  <a:pt x="518" y="403"/>
                  <a:pt x="524" y="398"/>
                </a:cubicBezTo>
                <a:cubicBezTo>
                  <a:pt x="528" y="395"/>
                  <a:pt x="532" y="393"/>
                  <a:pt x="535" y="390"/>
                </a:cubicBezTo>
                <a:cubicBezTo>
                  <a:pt x="536" y="389"/>
                  <a:pt x="539" y="387"/>
                  <a:pt x="541" y="385"/>
                </a:cubicBezTo>
                <a:cubicBezTo>
                  <a:pt x="540" y="387"/>
                  <a:pt x="540" y="389"/>
                  <a:pt x="539" y="391"/>
                </a:cubicBezTo>
                <a:cubicBezTo>
                  <a:pt x="539" y="391"/>
                  <a:pt x="539" y="391"/>
                  <a:pt x="539" y="391"/>
                </a:cubicBezTo>
                <a:cubicBezTo>
                  <a:pt x="536" y="392"/>
                  <a:pt x="534" y="394"/>
                  <a:pt x="532" y="397"/>
                </a:cubicBezTo>
                <a:cubicBezTo>
                  <a:pt x="529" y="400"/>
                  <a:pt x="526" y="403"/>
                  <a:pt x="524" y="407"/>
                </a:cubicBezTo>
                <a:cubicBezTo>
                  <a:pt x="522" y="409"/>
                  <a:pt x="521" y="413"/>
                  <a:pt x="519" y="415"/>
                </a:cubicBezTo>
                <a:cubicBezTo>
                  <a:pt x="517" y="417"/>
                  <a:pt x="515" y="418"/>
                  <a:pt x="512" y="420"/>
                </a:cubicBezTo>
                <a:cubicBezTo>
                  <a:pt x="510" y="422"/>
                  <a:pt x="507" y="424"/>
                  <a:pt x="507" y="428"/>
                </a:cubicBezTo>
                <a:cubicBezTo>
                  <a:pt x="507" y="428"/>
                  <a:pt x="508" y="428"/>
                  <a:pt x="508" y="428"/>
                </a:cubicBezTo>
                <a:cubicBezTo>
                  <a:pt x="510" y="422"/>
                  <a:pt x="515" y="421"/>
                  <a:pt x="518" y="417"/>
                </a:cubicBezTo>
                <a:cubicBezTo>
                  <a:pt x="521" y="414"/>
                  <a:pt x="523" y="411"/>
                  <a:pt x="525" y="408"/>
                </a:cubicBezTo>
                <a:cubicBezTo>
                  <a:pt x="529" y="402"/>
                  <a:pt x="534" y="397"/>
                  <a:pt x="539" y="392"/>
                </a:cubicBezTo>
                <a:cubicBezTo>
                  <a:pt x="538" y="395"/>
                  <a:pt x="537" y="397"/>
                  <a:pt x="536" y="400"/>
                </a:cubicBezTo>
                <a:cubicBezTo>
                  <a:pt x="536" y="401"/>
                  <a:pt x="535" y="403"/>
                  <a:pt x="535" y="404"/>
                </a:cubicBezTo>
                <a:cubicBezTo>
                  <a:pt x="535" y="404"/>
                  <a:pt x="535" y="404"/>
                  <a:pt x="535" y="404"/>
                </a:cubicBezTo>
                <a:cubicBezTo>
                  <a:pt x="533" y="406"/>
                  <a:pt x="530" y="408"/>
                  <a:pt x="529" y="411"/>
                </a:cubicBezTo>
                <a:cubicBezTo>
                  <a:pt x="529" y="411"/>
                  <a:pt x="530" y="411"/>
                  <a:pt x="530" y="411"/>
                </a:cubicBezTo>
                <a:cubicBezTo>
                  <a:pt x="532" y="409"/>
                  <a:pt x="533" y="407"/>
                  <a:pt x="535" y="405"/>
                </a:cubicBezTo>
                <a:cubicBezTo>
                  <a:pt x="533" y="415"/>
                  <a:pt x="535" y="424"/>
                  <a:pt x="539" y="435"/>
                </a:cubicBezTo>
                <a:cubicBezTo>
                  <a:pt x="541" y="440"/>
                  <a:pt x="542" y="445"/>
                  <a:pt x="544" y="450"/>
                </a:cubicBezTo>
                <a:cubicBezTo>
                  <a:pt x="538" y="455"/>
                  <a:pt x="528" y="454"/>
                  <a:pt x="521" y="453"/>
                </a:cubicBezTo>
                <a:cubicBezTo>
                  <a:pt x="512" y="452"/>
                  <a:pt x="503" y="450"/>
                  <a:pt x="494" y="448"/>
                </a:cubicBezTo>
                <a:cubicBezTo>
                  <a:pt x="486" y="445"/>
                  <a:pt x="478" y="440"/>
                  <a:pt x="470" y="436"/>
                </a:cubicBezTo>
                <a:cubicBezTo>
                  <a:pt x="463" y="433"/>
                  <a:pt x="456" y="429"/>
                  <a:pt x="451" y="422"/>
                </a:cubicBezTo>
                <a:cubicBezTo>
                  <a:pt x="445" y="416"/>
                  <a:pt x="439" y="411"/>
                  <a:pt x="434" y="405"/>
                </a:cubicBezTo>
                <a:cubicBezTo>
                  <a:pt x="433" y="405"/>
                  <a:pt x="433" y="405"/>
                  <a:pt x="433" y="404"/>
                </a:cubicBezTo>
                <a:cubicBezTo>
                  <a:pt x="433" y="404"/>
                  <a:pt x="433" y="404"/>
                  <a:pt x="432" y="403"/>
                </a:cubicBezTo>
                <a:cubicBezTo>
                  <a:pt x="427" y="398"/>
                  <a:pt x="424" y="392"/>
                  <a:pt x="421" y="384"/>
                </a:cubicBezTo>
                <a:cubicBezTo>
                  <a:pt x="419" y="377"/>
                  <a:pt x="417" y="369"/>
                  <a:pt x="414" y="362"/>
                </a:cubicBezTo>
                <a:cubicBezTo>
                  <a:pt x="412" y="355"/>
                  <a:pt x="410" y="347"/>
                  <a:pt x="410" y="340"/>
                </a:cubicBezTo>
                <a:cubicBezTo>
                  <a:pt x="410" y="332"/>
                  <a:pt x="411" y="325"/>
                  <a:pt x="415" y="318"/>
                </a:cubicBezTo>
                <a:cubicBezTo>
                  <a:pt x="419" y="311"/>
                  <a:pt x="425" y="305"/>
                  <a:pt x="430" y="299"/>
                </a:cubicBezTo>
                <a:cubicBezTo>
                  <a:pt x="436" y="293"/>
                  <a:pt x="442" y="287"/>
                  <a:pt x="450" y="283"/>
                </a:cubicBezTo>
                <a:close/>
                <a:moveTo>
                  <a:pt x="455" y="277"/>
                </a:moveTo>
                <a:cubicBezTo>
                  <a:pt x="455" y="276"/>
                  <a:pt x="456" y="275"/>
                  <a:pt x="456" y="274"/>
                </a:cubicBezTo>
                <a:cubicBezTo>
                  <a:pt x="456" y="275"/>
                  <a:pt x="456" y="276"/>
                  <a:pt x="456" y="276"/>
                </a:cubicBezTo>
                <a:cubicBezTo>
                  <a:pt x="456" y="277"/>
                  <a:pt x="455" y="277"/>
                  <a:pt x="455" y="277"/>
                </a:cubicBezTo>
                <a:close/>
                <a:moveTo>
                  <a:pt x="528" y="466"/>
                </a:moveTo>
                <a:cubicBezTo>
                  <a:pt x="532" y="466"/>
                  <a:pt x="536" y="464"/>
                  <a:pt x="539" y="462"/>
                </a:cubicBezTo>
                <a:cubicBezTo>
                  <a:pt x="542" y="460"/>
                  <a:pt x="544" y="459"/>
                  <a:pt x="547" y="457"/>
                </a:cubicBezTo>
                <a:cubicBezTo>
                  <a:pt x="547" y="457"/>
                  <a:pt x="547" y="457"/>
                  <a:pt x="547" y="457"/>
                </a:cubicBezTo>
                <a:cubicBezTo>
                  <a:pt x="544" y="460"/>
                  <a:pt x="542" y="463"/>
                  <a:pt x="540" y="465"/>
                </a:cubicBezTo>
                <a:cubicBezTo>
                  <a:pt x="537" y="469"/>
                  <a:pt x="533" y="469"/>
                  <a:pt x="529" y="472"/>
                </a:cubicBezTo>
                <a:cubicBezTo>
                  <a:pt x="529" y="472"/>
                  <a:pt x="529" y="473"/>
                  <a:pt x="529" y="473"/>
                </a:cubicBezTo>
                <a:cubicBezTo>
                  <a:pt x="533" y="474"/>
                  <a:pt x="537" y="470"/>
                  <a:pt x="539" y="468"/>
                </a:cubicBezTo>
                <a:cubicBezTo>
                  <a:pt x="542" y="465"/>
                  <a:pt x="545" y="462"/>
                  <a:pt x="548" y="458"/>
                </a:cubicBezTo>
                <a:cubicBezTo>
                  <a:pt x="550" y="463"/>
                  <a:pt x="552" y="467"/>
                  <a:pt x="555" y="471"/>
                </a:cubicBezTo>
                <a:cubicBezTo>
                  <a:pt x="558" y="476"/>
                  <a:pt x="562" y="480"/>
                  <a:pt x="566" y="485"/>
                </a:cubicBezTo>
                <a:cubicBezTo>
                  <a:pt x="560" y="486"/>
                  <a:pt x="555" y="490"/>
                  <a:pt x="549" y="491"/>
                </a:cubicBezTo>
                <a:cubicBezTo>
                  <a:pt x="542" y="492"/>
                  <a:pt x="535" y="491"/>
                  <a:pt x="528" y="489"/>
                </a:cubicBezTo>
                <a:cubicBezTo>
                  <a:pt x="514" y="484"/>
                  <a:pt x="500" y="479"/>
                  <a:pt x="488" y="471"/>
                </a:cubicBezTo>
                <a:cubicBezTo>
                  <a:pt x="481" y="467"/>
                  <a:pt x="475" y="463"/>
                  <a:pt x="470" y="458"/>
                </a:cubicBezTo>
                <a:cubicBezTo>
                  <a:pt x="470" y="457"/>
                  <a:pt x="469" y="456"/>
                  <a:pt x="469" y="456"/>
                </a:cubicBezTo>
                <a:cubicBezTo>
                  <a:pt x="463" y="451"/>
                  <a:pt x="459" y="445"/>
                  <a:pt x="454" y="438"/>
                </a:cubicBezTo>
                <a:cubicBezTo>
                  <a:pt x="451" y="433"/>
                  <a:pt x="446" y="427"/>
                  <a:pt x="443" y="421"/>
                </a:cubicBezTo>
                <a:cubicBezTo>
                  <a:pt x="443" y="420"/>
                  <a:pt x="443" y="419"/>
                  <a:pt x="442" y="418"/>
                </a:cubicBezTo>
                <a:cubicBezTo>
                  <a:pt x="447" y="423"/>
                  <a:pt x="451" y="429"/>
                  <a:pt x="457" y="433"/>
                </a:cubicBezTo>
                <a:cubicBezTo>
                  <a:pt x="463" y="437"/>
                  <a:pt x="471" y="440"/>
                  <a:pt x="477" y="443"/>
                </a:cubicBezTo>
                <a:cubicBezTo>
                  <a:pt x="480" y="445"/>
                  <a:pt x="483" y="446"/>
                  <a:pt x="485" y="447"/>
                </a:cubicBezTo>
                <a:cubicBezTo>
                  <a:pt x="485" y="447"/>
                  <a:pt x="485" y="447"/>
                  <a:pt x="485" y="447"/>
                </a:cubicBezTo>
                <a:cubicBezTo>
                  <a:pt x="504" y="463"/>
                  <a:pt x="522" y="480"/>
                  <a:pt x="546" y="486"/>
                </a:cubicBezTo>
                <a:cubicBezTo>
                  <a:pt x="547" y="486"/>
                  <a:pt x="548" y="485"/>
                  <a:pt x="547" y="485"/>
                </a:cubicBezTo>
                <a:cubicBezTo>
                  <a:pt x="536" y="478"/>
                  <a:pt x="523" y="474"/>
                  <a:pt x="513" y="466"/>
                </a:cubicBezTo>
                <a:cubicBezTo>
                  <a:pt x="507" y="462"/>
                  <a:pt x="502" y="456"/>
                  <a:pt x="496" y="451"/>
                </a:cubicBezTo>
                <a:cubicBezTo>
                  <a:pt x="502" y="453"/>
                  <a:pt x="508" y="454"/>
                  <a:pt x="514" y="456"/>
                </a:cubicBezTo>
                <a:cubicBezTo>
                  <a:pt x="513" y="456"/>
                  <a:pt x="512" y="456"/>
                  <a:pt x="511" y="456"/>
                </a:cubicBezTo>
                <a:cubicBezTo>
                  <a:pt x="509" y="456"/>
                  <a:pt x="508" y="457"/>
                  <a:pt x="507" y="457"/>
                </a:cubicBezTo>
                <a:cubicBezTo>
                  <a:pt x="507" y="458"/>
                  <a:pt x="507" y="459"/>
                  <a:pt x="507" y="459"/>
                </a:cubicBezTo>
                <a:cubicBezTo>
                  <a:pt x="510" y="460"/>
                  <a:pt x="513" y="458"/>
                  <a:pt x="515" y="457"/>
                </a:cubicBezTo>
                <a:cubicBezTo>
                  <a:pt x="517" y="457"/>
                  <a:pt x="518" y="457"/>
                  <a:pt x="520" y="456"/>
                </a:cubicBezTo>
                <a:cubicBezTo>
                  <a:pt x="525" y="457"/>
                  <a:pt x="532" y="458"/>
                  <a:pt x="538" y="457"/>
                </a:cubicBezTo>
                <a:cubicBezTo>
                  <a:pt x="534" y="458"/>
                  <a:pt x="531" y="460"/>
                  <a:pt x="527" y="460"/>
                </a:cubicBezTo>
                <a:cubicBezTo>
                  <a:pt x="523" y="460"/>
                  <a:pt x="519" y="460"/>
                  <a:pt x="515" y="462"/>
                </a:cubicBezTo>
                <a:cubicBezTo>
                  <a:pt x="514" y="462"/>
                  <a:pt x="514" y="464"/>
                  <a:pt x="516" y="464"/>
                </a:cubicBezTo>
                <a:cubicBezTo>
                  <a:pt x="522" y="463"/>
                  <a:pt x="528" y="461"/>
                  <a:pt x="535" y="459"/>
                </a:cubicBezTo>
                <a:cubicBezTo>
                  <a:pt x="538" y="459"/>
                  <a:pt x="542" y="457"/>
                  <a:pt x="545" y="454"/>
                </a:cubicBezTo>
                <a:cubicBezTo>
                  <a:pt x="545" y="454"/>
                  <a:pt x="545" y="453"/>
                  <a:pt x="545" y="453"/>
                </a:cubicBezTo>
                <a:cubicBezTo>
                  <a:pt x="546" y="454"/>
                  <a:pt x="546" y="455"/>
                  <a:pt x="547" y="456"/>
                </a:cubicBezTo>
                <a:cubicBezTo>
                  <a:pt x="544" y="457"/>
                  <a:pt x="541" y="459"/>
                  <a:pt x="538" y="460"/>
                </a:cubicBezTo>
                <a:cubicBezTo>
                  <a:pt x="534" y="462"/>
                  <a:pt x="531" y="463"/>
                  <a:pt x="528" y="465"/>
                </a:cubicBezTo>
                <a:cubicBezTo>
                  <a:pt x="528" y="466"/>
                  <a:pt x="528" y="467"/>
                  <a:pt x="528" y="466"/>
                </a:cubicBezTo>
                <a:close/>
                <a:moveTo>
                  <a:pt x="527" y="554"/>
                </a:moveTo>
                <a:cubicBezTo>
                  <a:pt x="521" y="565"/>
                  <a:pt x="511" y="574"/>
                  <a:pt x="508" y="586"/>
                </a:cubicBezTo>
                <a:cubicBezTo>
                  <a:pt x="508" y="587"/>
                  <a:pt x="508" y="587"/>
                  <a:pt x="509" y="587"/>
                </a:cubicBezTo>
                <a:cubicBezTo>
                  <a:pt x="508" y="587"/>
                  <a:pt x="508" y="587"/>
                  <a:pt x="508" y="587"/>
                </a:cubicBezTo>
                <a:cubicBezTo>
                  <a:pt x="503" y="592"/>
                  <a:pt x="500" y="599"/>
                  <a:pt x="496" y="605"/>
                </a:cubicBezTo>
                <a:cubicBezTo>
                  <a:pt x="494" y="608"/>
                  <a:pt x="490" y="612"/>
                  <a:pt x="487" y="615"/>
                </a:cubicBezTo>
                <a:cubicBezTo>
                  <a:pt x="487" y="615"/>
                  <a:pt x="487" y="615"/>
                  <a:pt x="487" y="614"/>
                </a:cubicBezTo>
                <a:cubicBezTo>
                  <a:pt x="488" y="614"/>
                  <a:pt x="488" y="614"/>
                  <a:pt x="489" y="613"/>
                </a:cubicBezTo>
                <a:cubicBezTo>
                  <a:pt x="490" y="607"/>
                  <a:pt x="492" y="600"/>
                  <a:pt x="495" y="595"/>
                </a:cubicBezTo>
                <a:cubicBezTo>
                  <a:pt x="498" y="588"/>
                  <a:pt x="503" y="584"/>
                  <a:pt x="507" y="578"/>
                </a:cubicBezTo>
                <a:cubicBezTo>
                  <a:pt x="515" y="569"/>
                  <a:pt x="521" y="558"/>
                  <a:pt x="526" y="547"/>
                </a:cubicBezTo>
                <a:cubicBezTo>
                  <a:pt x="532" y="536"/>
                  <a:pt x="537" y="524"/>
                  <a:pt x="544" y="513"/>
                </a:cubicBezTo>
                <a:cubicBezTo>
                  <a:pt x="548" y="507"/>
                  <a:pt x="554" y="500"/>
                  <a:pt x="554" y="493"/>
                </a:cubicBezTo>
                <a:cubicBezTo>
                  <a:pt x="558" y="491"/>
                  <a:pt x="562" y="489"/>
                  <a:pt x="567" y="487"/>
                </a:cubicBezTo>
                <a:cubicBezTo>
                  <a:pt x="567" y="487"/>
                  <a:pt x="567" y="487"/>
                  <a:pt x="567" y="487"/>
                </a:cubicBezTo>
                <a:cubicBezTo>
                  <a:pt x="571" y="490"/>
                  <a:pt x="575" y="494"/>
                  <a:pt x="579" y="497"/>
                </a:cubicBezTo>
                <a:cubicBezTo>
                  <a:pt x="580" y="497"/>
                  <a:pt x="581" y="498"/>
                  <a:pt x="582" y="499"/>
                </a:cubicBezTo>
                <a:cubicBezTo>
                  <a:pt x="582" y="499"/>
                  <a:pt x="582" y="499"/>
                  <a:pt x="582" y="499"/>
                </a:cubicBezTo>
                <a:cubicBezTo>
                  <a:pt x="575" y="507"/>
                  <a:pt x="568" y="514"/>
                  <a:pt x="562" y="522"/>
                </a:cubicBezTo>
                <a:cubicBezTo>
                  <a:pt x="558" y="527"/>
                  <a:pt x="553" y="532"/>
                  <a:pt x="552" y="538"/>
                </a:cubicBezTo>
                <a:cubicBezTo>
                  <a:pt x="546" y="544"/>
                  <a:pt x="540" y="551"/>
                  <a:pt x="534" y="558"/>
                </a:cubicBezTo>
                <a:cubicBezTo>
                  <a:pt x="530" y="563"/>
                  <a:pt x="526" y="567"/>
                  <a:pt x="523" y="573"/>
                </a:cubicBezTo>
                <a:cubicBezTo>
                  <a:pt x="521" y="578"/>
                  <a:pt x="520" y="581"/>
                  <a:pt x="515" y="583"/>
                </a:cubicBezTo>
                <a:cubicBezTo>
                  <a:pt x="513" y="584"/>
                  <a:pt x="511" y="585"/>
                  <a:pt x="509" y="587"/>
                </a:cubicBezTo>
                <a:cubicBezTo>
                  <a:pt x="513" y="581"/>
                  <a:pt x="515" y="575"/>
                  <a:pt x="519" y="570"/>
                </a:cubicBezTo>
                <a:cubicBezTo>
                  <a:pt x="522" y="565"/>
                  <a:pt x="525" y="560"/>
                  <a:pt x="528" y="555"/>
                </a:cubicBezTo>
                <a:cubicBezTo>
                  <a:pt x="528" y="554"/>
                  <a:pt x="528" y="554"/>
                  <a:pt x="527" y="554"/>
                </a:cubicBezTo>
                <a:close/>
                <a:moveTo>
                  <a:pt x="486" y="620"/>
                </a:moveTo>
                <a:cubicBezTo>
                  <a:pt x="486" y="620"/>
                  <a:pt x="486" y="620"/>
                  <a:pt x="486" y="620"/>
                </a:cubicBezTo>
                <a:cubicBezTo>
                  <a:pt x="481" y="620"/>
                  <a:pt x="477" y="618"/>
                  <a:pt x="472" y="617"/>
                </a:cubicBezTo>
                <a:cubicBezTo>
                  <a:pt x="469" y="616"/>
                  <a:pt x="460" y="615"/>
                  <a:pt x="461" y="611"/>
                </a:cubicBezTo>
                <a:cubicBezTo>
                  <a:pt x="464" y="600"/>
                  <a:pt x="470" y="589"/>
                  <a:pt x="475" y="578"/>
                </a:cubicBezTo>
                <a:cubicBezTo>
                  <a:pt x="482" y="563"/>
                  <a:pt x="488" y="547"/>
                  <a:pt x="493" y="532"/>
                </a:cubicBezTo>
                <a:cubicBezTo>
                  <a:pt x="499" y="517"/>
                  <a:pt x="505" y="501"/>
                  <a:pt x="509" y="486"/>
                </a:cubicBezTo>
                <a:cubicBezTo>
                  <a:pt x="516" y="489"/>
                  <a:pt x="523" y="491"/>
                  <a:pt x="531" y="493"/>
                </a:cubicBezTo>
                <a:cubicBezTo>
                  <a:pt x="530" y="493"/>
                  <a:pt x="530" y="494"/>
                  <a:pt x="530" y="494"/>
                </a:cubicBezTo>
                <a:cubicBezTo>
                  <a:pt x="531" y="498"/>
                  <a:pt x="525" y="505"/>
                  <a:pt x="522" y="508"/>
                </a:cubicBezTo>
                <a:cubicBezTo>
                  <a:pt x="518" y="513"/>
                  <a:pt x="516" y="520"/>
                  <a:pt x="514" y="526"/>
                </a:cubicBezTo>
                <a:cubicBezTo>
                  <a:pt x="511" y="534"/>
                  <a:pt x="508" y="542"/>
                  <a:pt x="505" y="550"/>
                </a:cubicBezTo>
                <a:cubicBezTo>
                  <a:pt x="502" y="556"/>
                  <a:pt x="498" y="563"/>
                  <a:pt x="496" y="569"/>
                </a:cubicBezTo>
                <a:cubicBezTo>
                  <a:pt x="491" y="580"/>
                  <a:pt x="487" y="591"/>
                  <a:pt x="484" y="602"/>
                </a:cubicBezTo>
                <a:cubicBezTo>
                  <a:pt x="482" y="609"/>
                  <a:pt x="481" y="615"/>
                  <a:pt x="486" y="620"/>
                </a:cubicBezTo>
                <a:close/>
                <a:moveTo>
                  <a:pt x="466" y="585"/>
                </a:moveTo>
                <a:cubicBezTo>
                  <a:pt x="466" y="579"/>
                  <a:pt x="466" y="573"/>
                  <a:pt x="465" y="568"/>
                </a:cubicBezTo>
                <a:cubicBezTo>
                  <a:pt x="464" y="560"/>
                  <a:pt x="462" y="553"/>
                  <a:pt x="462" y="546"/>
                </a:cubicBezTo>
                <a:cubicBezTo>
                  <a:pt x="461" y="539"/>
                  <a:pt x="462" y="533"/>
                  <a:pt x="462" y="526"/>
                </a:cubicBezTo>
                <a:cubicBezTo>
                  <a:pt x="462" y="513"/>
                  <a:pt x="462" y="499"/>
                  <a:pt x="466" y="486"/>
                </a:cubicBezTo>
                <a:cubicBezTo>
                  <a:pt x="468" y="479"/>
                  <a:pt x="471" y="471"/>
                  <a:pt x="471" y="463"/>
                </a:cubicBezTo>
                <a:cubicBezTo>
                  <a:pt x="477" y="469"/>
                  <a:pt x="484" y="473"/>
                  <a:pt x="491" y="477"/>
                </a:cubicBezTo>
                <a:cubicBezTo>
                  <a:pt x="496" y="480"/>
                  <a:pt x="500" y="482"/>
                  <a:pt x="505" y="484"/>
                </a:cubicBezTo>
                <a:cubicBezTo>
                  <a:pt x="503" y="494"/>
                  <a:pt x="499" y="503"/>
                  <a:pt x="496" y="513"/>
                </a:cubicBezTo>
                <a:cubicBezTo>
                  <a:pt x="493" y="522"/>
                  <a:pt x="490" y="531"/>
                  <a:pt x="486" y="540"/>
                </a:cubicBezTo>
                <a:cubicBezTo>
                  <a:pt x="480" y="557"/>
                  <a:pt x="473" y="573"/>
                  <a:pt x="466" y="590"/>
                </a:cubicBezTo>
                <a:cubicBezTo>
                  <a:pt x="466" y="588"/>
                  <a:pt x="466" y="586"/>
                  <a:pt x="466" y="585"/>
                </a:cubicBezTo>
                <a:close/>
                <a:moveTo>
                  <a:pt x="492" y="588"/>
                </a:moveTo>
                <a:cubicBezTo>
                  <a:pt x="497" y="576"/>
                  <a:pt x="502" y="564"/>
                  <a:pt x="508" y="552"/>
                </a:cubicBezTo>
                <a:cubicBezTo>
                  <a:pt x="511" y="546"/>
                  <a:pt x="513" y="539"/>
                  <a:pt x="515" y="533"/>
                </a:cubicBezTo>
                <a:cubicBezTo>
                  <a:pt x="518" y="526"/>
                  <a:pt x="520" y="518"/>
                  <a:pt x="524" y="511"/>
                </a:cubicBezTo>
                <a:cubicBezTo>
                  <a:pt x="527" y="507"/>
                  <a:pt x="535" y="499"/>
                  <a:pt x="532" y="493"/>
                </a:cubicBezTo>
                <a:cubicBezTo>
                  <a:pt x="533" y="493"/>
                  <a:pt x="533" y="494"/>
                  <a:pt x="534" y="494"/>
                </a:cubicBezTo>
                <a:cubicBezTo>
                  <a:pt x="539" y="495"/>
                  <a:pt x="546" y="495"/>
                  <a:pt x="551" y="494"/>
                </a:cubicBezTo>
                <a:cubicBezTo>
                  <a:pt x="548" y="503"/>
                  <a:pt x="541" y="510"/>
                  <a:pt x="537" y="519"/>
                </a:cubicBezTo>
                <a:cubicBezTo>
                  <a:pt x="531" y="530"/>
                  <a:pt x="525" y="541"/>
                  <a:pt x="519" y="553"/>
                </a:cubicBezTo>
                <a:cubicBezTo>
                  <a:pt x="516" y="559"/>
                  <a:pt x="513" y="565"/>
                  <a:pt x="509" y="570"/>
                </a:cubicBezTo>
                <a:cubicBezTo>
                  <a:pt x="506" y="575"/>
                  <a:pt x="501" y="579"/>
                  <a:pt x="498" y="583"/>
                </a:cubicBezTo>
                <a:cubicBezTo>
                  <a:pt x="492" y="590"/>
                  <a:pt x="489" y="597"/>
                  <a:pt x="487" y="605"/>
                </a:cubicBezTo>
                <a:cubicBezTo>
                  <a:pt x="488" y="599"/>
                  <a:pt x="491" y="592"/>
                  <a:pt x="492" y="588"/>
                </a:cubicBezTo>
                <a:close/>
                <a:moveTo>
                  <a:pt x="244" y="441"/>
                </a:moveTo>
                <a:cubicBezTo>
                  <a:pt x="246" y="444"/>
                  <a:pt x="249" y="447"/>
                  <a:pt x="252" y="449"/>
                </a:cubicBezTo>
                <a:cubicBezTo>
                  <a:pt x="253" y="451"/>
                  <a:pt x="255" y="453"/>
                  <a:pt x="257" y="455"/>
                </a:cubicBezTo>
                <a:cubicBezTo>
                  <a:pt x="257" y="455"/>
                  <a:pt x="258" y="456"/>
                  <a:pt x="259" y="456"/>
                </a:cubicBezTo>
                <a:cubicBezTo>
                  <a:pt x="260" y="458"/>
                  <a:pt x="263" y="462"/>
                  <a:pt x="263" y="462"/>
                </a:cubicBezTo>
                <a:cubicBezTo>
                  <a:pt x="264" y="463"/>
                  <a:pt x="264" y="463"/>
                  <a:pt x="264" y="463"/>
                </a:cubicBezTo>
                <a:cubicBezTo>
                  <a:pt x="262" y="468"/>
                  <a:pt x="259" y="473"/>
                  <a:pt x="258" y="479"/>
                </a:cubicBezTo>
                <a:cubicBezTo>
                  <a:pt x="256" y="474"/>
                  <a:pt x="253" y="470"/>
                  <a:pt x="248" y="473"/>
                </a:cubicBezTo>
                <a:cubicBezTo>
                  <a:pt x="245" y="475"/>
                  <a:pt x="242" y="478"/>
                  <a:pt x="239" y="481"/>
                </a:cubicBezTo>
                <a:cubicBezTo>
                  <a:pt x="239" y="480"/>
                  <a:pt x="239" y="479"/>
                  <a:pt x="239" y="478"/>
                </a:cubicBezTo>
                <a:cubicBezTo>
                  <a:pt x="239" y="472"/>
                  <a:pt x="238" y="466"/>
                  <a:pt x="240" y="460"/>
                </a:cubicBezTo>
                <a:cubicBezTo>
                  <a:pt x="241" y="454"/>
                  <a:pt x="242" y="449"/>
                  <a:pt x="243" y="444"/>
                </a:cubicBezTo>
                <a:cubicBezTo>
                  <a:pt x="244" y="443"/>
                  <a:pt x="244" y="442"/>
                  <a:pt x="244" y="441"/>
                </a:cubicBezTo>
                <a:close/>
                <a:moveTo>
                  <a:pt x="262" y="474"/>
                </a:moveTo>
                <a:cubicBezTo>
                  <a:pt x="263" y="471"/>
                  <a:pt x="265" y="468"/>
                  <a:pt x="266" y="466"/>
                </a:cubicBezTo>
                <a:cubicBezTo>
                  <a:pt x="267" y="468"/>
                  <a:pt x="269" y="470"/>
                  <a:pt x="270" y="472"/>
                </a:cubicBezTo>
                <a:cubicBezTo>
                  <a:pt x="277" y="483"/>
                  <a:pt x="282" y="494"/>
                  <a:pt x="287" y="506"/>
                </a:cubicBezTo>
                <a:cubicBezTo>
                  <a:pt x="292" y="519"/>
                  <a:pt x="297" y="532"/>
                  <a:pt x="301" y="545"/>
                </a:cubicBezTo>
                <a:cubicBezTo>
                  <a:pt x="297" y="539"/>
                  <a:pt x="294" y="533"/>
                  <a:pt x="290" y="527"/>
                </a:cubicBezTo>
                <a:cubicBezTo>
                  <a:pt x="282" y="515"/>
                  <a:pt x="272" y="505"/>
                  <a:pt x="265" y="493"/>
                </a:cubicBezTo>
                <a:cubicBezTo>
                  <a:pt x="263" y="490"/>
                  <a:pt x="262" y="488"/>
                  <a:pt x="262" y="485"/>
                </a:cubicBezTo>
                <a:cubicBezTo>
                  <a:pt x="261" y="482"/>
                  <a:pt x="261" y="477"/>
                  <a:pt x="262" y="474"/>
                </a:cubicBezTo>
                <a:close/>
                <a:moveTo>
                  <a:pt x="319" y="530"/>
                </a:moveTo>
                <a:cubicBezTo>
                  <a:pt x="316" y="522"/>
                  <a:pt x="312" y="515"/>
                  <a:pt x="310" y="507"/>
                </a:cubicBezTo>
                <a:cubicBezTo>
                  <a:pt x="309" y="501"/>
                  <a:pt x="308" y="493"/>
                  <a:pt x="305" y="487"/>
                </a:cubicBezTo>
                <a:cubicBezTo>
                  <a:pt x="315" y="490"/>
                  <a:pt x="325" y="490"/>
                  <a:pt x="336" y="487"/>
                </a:cubicBezTo>
                <a:cubicBezTo>
                  <a:pt x="336" y="486"/>
                  <a:pt x="336" y="486"/>
                  <a:pt x="337" y="486"/>
                </a:cubicBezTo>
                <a:cubicBezTo>
                  <a:pt x="340" y="505"/>
                  <a:pt x="335" y="524"/>
                  <a:pt x="337" y="543"/>
                </a:cubicBezTo>
                <a:cubicBezTo>
                  <a:pt x="337" y="552"/>
                  <a:pt x="338" y="562"/>
                  <a:pt x="340" y="571"/>
                </a:cubicBezTo>
                <a:cubicBezTo>
                  <a:pt x="340" y="571"/>
                  <a:pt x="340" y="571"/>
                  <a:pt x="340" y="571"/>
                </a:cubicBezTo>
                <a:cubicBezTo>
                  <a:pt x="340" y="571"/>
                  <a:pt x="340" y="570"/>
                  <a:pt x="339" y="570"/>
                </a:cubicBezTo>
                <a:cubicBezTo>
                  <a:pt x="329" y="558"/>
                  <a:pt x="325" y="544"/>
                  <a:pt x="319" y="530"/>
                </a:cubicBezTo>
                <a:close/>
                <a:moveTo>
                  <a:pt x="370" y="572"/>
                </a:moveTo>
                <a:cubicBezTo>
                  <a:pt x="370" y="571"/>
                  <a:pt x="370" y="571"/>
                  <a:pt x="370" y="571"/>
                </a:cubicBezTo>
                <a:cubicBezTo>
                  <a:pt x="374" y="565"/>
                  <a:pt x="375" y="556"/>
                  <a:pt x="376" y="549"/>
                </a:cubicBezTo>
                <a:cubicBezTo>
                  <a:pt x="377" y="539"/>
                  <a:pt x="378" y="530"/>
                  <a:pt x="378" y="520"/>
                </a:cubicBezTo>
                <a:cubicBezTo>
                  <a:pt x="378" y="510"/>
                  <a:pt x="377" y="501"/>
                  <a:pt x="379" y="491"/>
                </a:cubicBezTo>
                <a:cubicBezTo>
                  <a:pt x="381" y="484"/>
                  <a:pt x="381" y="477"/>
                  <a:pt x="382" y="470"/>
                </a:cubicBezTo>
                <a:cubicBezTo>
                  <a:pt x="382" y="470"/>
                  <a:pt x="382" y="470"/>
                  <a:pt x="382" y="469"/>
                </a:cubicBezTo>
                <a:cubicBezTo>
                  <a:pt x="382" y="469"/>
                  <a:pt x="383" y="468"/>
                  <a:pt x="383" y="467"/>
                </a:cubicBezTo>
                <a:cubicBezTo>
                  <a:pt x="383" y="466"/>
                  <a:pt x="384" y="465"/>
                  <a:pt x="384" y="464"/>
                </a:cubicBezTo>
                <a:cubicBezTo>
                  <a:pt x="387" y="462"/>
                  <a:pt x="391" y="459"/>
                  <a:pt x="394" y="456"/>
                </a:cubicBezTo>
                <a:cubicBezTo>
                  <a:pt x="403" y="449"/>
                  <a:pt x="410" y="441"/>
                  <a:pt x="417" y="431"/>
                </a:cubicBezTo>
                <a:cubicBezTo>
                  <a:pt x="420" y="426"/>
                  <a:pt x="423" y="421"/>
                  <a:pt x="426" y="416"/>
                </a:cubicBezTo>
                <a:cubicBezTo>
                  <a:pt x="428" y="413"/>
                  <a:pt x="429" y="409"/>
                  <a:pt x="431" y="407"/>
                </a:cubicBezTo>
                <a:cubicBezTo>
                  <a:pt x="432" y="408"/>
                  <a:pt x="432" y="408"/>
                  <a:pt x="433" y="409"/>
                </a:cubicBezTo>
                <a:cubicBezTo>
                  <a:pt x="433" y="409"/>
                  <a:pt x="433" y="409"/>
                  <a:pt x="433" y="410"/>
                </a:cubicBezTo>
                <a:cubicBezTo>
                  <a:pt x="438" y="415"/>
                  <a:pt x="439" y="423"/>
                  <a:pt x="443" y="429"/>
                </a:cubicBezTo>
                <a:cubicBezTo>
                  <a:pt x="444" y="430"/>
                  <a:pt x="445" y="432"/>
                  <a:pt x="446" y="433"/>
                </a:cubicBezTo>
                <a:cubicBezTo>
                  <a:pt x="443" y="440"/>
                  <a:pt x="440" y="448"/>
                  <a:pt x="439" y="455"/>
                </a:cubicBezTo>
                <a:cubicBezTo>
                  <a:pt x="438" y="464"/>
                  <a:pt x="440" y="472"/>
                  <a:pt x="438" y="481"/>
                </a:cubicBezTo>
                <a:cubicBezTo>
                  <a:pt x="436" y="489"/>
                  <a:pt x="434" y="498"/>
                  <a:pt x="434" y="507"/>
                </a:cubicBezTo>
                <a:cubicBezTo>
                  <a:pt x="434" y="516"/>
                  <a:pt x="435" y="525"/>
                  <a:pt x="436" y="534"/>
                </a:cubicBezTo>
                <a:cubicBezTo>
                  <a:pt x="437" y="543"/>
                  <a:pt x="437" y="552"/>
                  <a:pt x="437" y="562"/>
                </a:cubicBezTo>
                <a:cubicBezTo>
                  <a:pt x="437" y="570"/>
                  <a:pt x="438" y="579"/>
                  <a:pt x="438" y="587"/>
                </a:cubicBezTo>
                <a:cubicBezTo>
                  <a:pt x="439" y="593"/>
                  <a:pt x="440" y="599"/>
                  <a:pt x="443" y="604"/>
                </a:cubicBezTo>
                <a:cubicBezTo>
                  <a:pt x="442" y="604"/>
                  <a:pt x="442" y="604"/>
                  <a:pt x="442" y="604"/>
                </a:cubicBezTo>
                <a:cubicBezTo>
                  <a:pt x="442" y="604"/>
                  <a:pt x="441" y="604"/>
                  <a:pt x="441" y="604"/>
                </a:cubicBezTo>
                <a:cubicBezTo>
                  <a:pt x="441" y="604"/>
                  <a:pt x="441" y="604"/>
                  <a:pt x="441" y="604"/>
                </a:cubicBezTo>
                <a:cubicBezTo>
                  <a:pt x="442" y="604"/>
                  <a:pt x="441" y="604"/>
                  <a:pt x="442" y="605"/>
                </a:cubicBezTo>
                <a:cubicBezTo>
                  <a:pt x="442" y="605"/>
                  <a:pt x="442" y="606"/>
                  <a:pt x="442" y="606"/>
                </a:cubicBezTo>
                <a:cubicBezTo>
                  <a:pt x="442" y="606"/>
                  <a:pt x="442" y="607"/>
                  <a:pt x="442" y="607"/>
                </a:cubicBezTo>
                <a:cubicBezTo>
                  <a:pt x="442" y="608"/>
                  <a:pt x="442" y="608"/>
                  <a:pt x="442" y="608"/>
                </a:cubicBezTo>
                <a:cubicBezTo>
                  <a:pt x="441" y="607"/>
                  <a:pt x="441" y="607"/>
                  <a:pt x="440" y="608"/>
                </a:cubicBezTo>
                <a:cubicBezTo>
                  <a:pt x="439" y="609"/>
                  <a:pt x="439" y="613"/>
                  <a:pt x="440" y="615"/>
                </a:cubicBezTo>
                <a:cubicBezTo>
                  <a:pt x="441" y="617"/>
                  <a:pt x="442" y="618"/>
                  <a:pt x="444" y="619"/>
                </a:cubicBezTo>
                <a:cubicBezTo>
                  <a:pt x="443" y="622"/>
                  <a:pt x="444" y="625"/>
                  <a:pt x="444" y="628"/>
                </a:cubicBezTo>
                <a:cubicBezTo>
                  <a:pt x="445" y="634"/>
                  <a:pt x="445" y="640"/>
                  <a:pt x="444" y="646"/>
                </a:cubicBezTo>
                <a:cubicBezTo>
                  <a:pt x="443" y="658"/>
                  <a:pt x="439" y="670"/>
                  <a:pt x="435" y="682"/>
                </a:cubicBezTo>
                <a:cubicBezTo>
                  <a:pt x="433" y="688"/>
                  <a:pt x="431" y="694"/>
                  <a:pt x="428" y="700"/>
                </a:cubicBezTo>
                <a:cubicBezTo>
                  <a:pt x="428" y="694"/>
                  <a:pt x="422" y="688"/>
                  <a:pt x="419" y="684"/>
                </a:cubicBezTo>
                <a:cubicBezTo>
                  <a:pt x="412" y="672"/>
                  <a:pt x="406" y="659"/>
                  <a:pt x="400" y="647"/>
                </a:cubicBezTo>
                <a:cubicBezTo>
                  <a:pt x="394" y="633"/>
                  <a:pt x="390" y="620"/>
                  <a:pt x="382" y="607"/>
                </a:cubicBezTo>
                <a:cubicBezTo>
                  <a:pt x="381" y="604"/>
                  <a:pt x="378" y="602"/>
                  <a:pt x="377" y="598"/>
                </a:cubicBezTo>
                <a:cubicBezTo>
                  <a:pt x="376" y="596"/>
                  <a:pt x="376" y="593"/>
                  <a:pt x="375" y="590"/>
                </a:cubicBezTo>
                <a:cubicBezTo>
                  <a:pt x="374" y="586"/>
                  <a:pt x="373" y="583"/>
                  <a:pt x="369" y="581"/>
                </a:cubicBezTo>
                <a:cubicBezTo>
                  <a:pt x="370" y="578"/>
                  <a:pt x="370" y="575"/>
                  <a:pt x="370" y="572"/>
                </a:cubicBezTo>
                <a:close/>
                <a:moveTo>
                  <a:pt x="444" y="615"/>
                </a:moveTo>
                <a:cubicBezTo>
                  <a:pt x="444" y="615"/>
                  <a:pt x="444" y="614"/>
                  <a:pt x="443" y="614"/>
                </a:cubicBezTo>
                <a:cubicBezTo>
                  <a:pt x="443" y="613"/>
                  <a:pt x="443" y="612"/>
                  <a:pt x="443" y="611"/>
                </a:cubicBezTo>
                <a:cubicBezTo>
                  <a:pt x="443" y="611"/>
                  <a:pt x="444" y="611"/>
                  <a:pt x="444" y="611"/>
                </a:cubicBezTo>
                <a:cubicBezTo>
                  <a:pt x="445" y="612"/>
                  <a:pt x="445" y="613"/>
                  <a:pt x="446" y="614"/>
                </a:cubicBezTo>
                <a:cubicBezTo>
                  <a:pt x="446" y="614"/>
                  <a:pt x="446" y="614"/>
                  <a:pt x="446" y="614"/>
                </a:cubicBezTo>
                <a:cubicBezTo>
                  <a:pt x="445" y="614"/>
                  <a:pt x="445" y="614"/>
                  <a:pt x="445" y="615"/>
                </a:cubicBezTo>
                <a:cubicBezTo>
                  <a:pt x="445" y="615"/>
                  <a:pt x="444" y="615"/>
                  <a:pt x="444" y="615"/>
                </a:cubicBezTo>
                <a:close/>
                <a:moveTo>
                  <a:pt x="443" y="595"/>
                </a:moveTo>
                <a:cubicBezTo>
                  <a:pt x="442" y="589"/>
                  <a:pt x="442" y="583"/>
                  <a:pt x="441" y="577"/>
                </a:cubicBezTo>
                <a:cubicBezTo>
                  <a:pt x="439" y="560"/>
                  <a:pt x="441" y="543"/>
                  <a:pt x="439" y="526"/>
                </a:cubicBezTo>
                <a:cubicBezTo>
                  <a:pt x="438" y="517"/>
                  <a:pt x="437" y="508"/>
                  <a:pt x="438" y="500"/>
                </a:cubicBezTo>
                <a:cubicBezTo>
                  <a:pt x="439" y="492"/>
                  <a:pt x="442" y="484"/>
                  <a:pt x="443" y="476"/>
                </a:cubicBezTo>
                <a:cubicBezTo>
                  <a:pt x="443" y="468"/>
                  <a:pt x="441" y="461"/>
                  <a:pt x="443" y="454"/>
                </a:cubicBezTo>
                <a:cubicBezTo>
                  <a:pt x="444" y="448"/>
                  <a:pt x="446" y="442"/>
                  <a:pt x="448" y="436"/>
                </a:cubicBezTo>
                <a:cubicBezTo>
                  <a:pt x="451" y="440"/>
                  <a:pt x="454" y="444"/>
                  <a:pt x="457" y="448"/>
                </a:cubicBezTo>
                <a:cubicBezTo>
                  <a:pt x="460" y="453"/>
                  <a:pt x="463" y="457"/>
                  <a:pt x="467" y="460"/>
                </a:cubicBezTo>
                <a:cubicBezTo>
                  <a:pt x="468" y="471"/>
                  <a:pt x="463" y="482"/>
                  <a:pt x="461" y="492"/>
                </a:cubicBezTo>
                <a:cubicBezTo>
                  <a:pt x="459" y="503"/>
                  <a:pt x="459" y="515"/>
                  <a:pt x="459" y="526"/>
                </a:cubicBezTo>
                <a:cubicBezTo>
                  <a:pt x="458" y="539"/>
                  <a:pt x="459" y="551"/>
                  <a:pt x="461" y="564"/>
                </a:cubicBezTo>
                <a:cubicBezTo>
                  <a:pt x="463" y="571"/>
                  <a:pt x="463" y="578"/>
                  <a:pt x="463" y="585"/>
                </a:cubicBezTo>
                <a:cubicBezTo>
                  <a:pt x="463" y="586"/>
                  <a:pt x="463" y="593"/>
                  <a:pt x="463" y="596"/>
                </a:cubicBezTo>
                <a:cubicBezTo>
                  <a:pt x="461" y="599"/>
                  <a:pt x="459" y="603"/>
                  <a:pt x="458" y="607"/>
                </a:cubicBezTo>
                <a:cubicBezTo>
                  <a:pt x="456" y="607"/>
                  <a:pt x="455" y="608"/>
                  <a:pt x="454" y="608"/>
                </a:cubicBezTo>
                <a:cubicBezTo>
                  <a:pt x="452" y="608"/>
                  <a:pt x="451" y="607"/>
                  <a:pt x="449" y="607"/>
                </a:cubicBezTo>
                <a:cubicBezTo>
                  <a:pt x="449" y="606"/>
                  <a:pt x="448" y="606"/>
                  <a:pt x="448" y="606"/>
                </a:cubicBezTo>
                <a:cubicBezTo>
                  <a:pt x="445" y="603"/>
                  <a:pt x="444" y="599"/>
                  <a:pt x="443" y="595"/>
                </a:cubicBezTo>
                <a:close/>
                <a:moveTo>
                  <a:pt x="908" y="527"/>
                </a:moveTo>
                <a:cubicBezTo>
                  <a:pt x="916" y="520"/>
                  <a:pt x="922" y="512"/>
                  <a:pt x="928" y="505"/>
                </a:cubicBezTo>
                <a:cubicBezTo>
                  <a:pt x="940" y="490"/>
                  <a:pt x="950" y="475"/>
                  <a:pt x="959" y="459"/>
                </a:cubicBezTo>
                <a:cubicBezTo>
                  <a:pt x="967" y="443"/>
                  <a:pt x="976" y="427"/>
                  <a:pt x="981" y="410"/>
                </a:cubicBezTo>
                <a:cubicBezTo>
                  <a:pt x="985" y="398"/>
                  <a:pt x="986" y="385"/>
                  <a:pt x="988" y="372"/>
                </a:cubicBezTo>
                <a:cubicBezTo>
                  <a:pt x="988" y="388"/>
                  <a:pt x="985" y="403"/>
                  <a:pt x="980" y="418"/>
                </a:cubicBezTo>
                <a:cubicBezTo>
                  <a:pt x="974" y="435"/>
                  <a:pt x="971" y="452"/>
                  <a:pt x="962" y="467"/>
                </a:cubicBezTo>
                <a:cubicBezTo>
                  <a:pt x="957" y="475"/>
                  <a:pt x="952" y="482"/>
                  <a:pt x="947" y="490"/>
                </a:cubicBezTo>
                <a:cubicBezTo>
                  <a:pt x="943" y="497"/>
                  <a:pt x="939" y="504"/>
                  <a:pt x="934" y="510"/>
                </a:cubicBezTo>
                <a:cubicBezTo>
                  <a:pt x="927" y="521"/>
                  <a:pt x="917" y="531"/>
                  <a:pt x="909" y="541"/>
                </a:cubicBezTo>
                <a:cubicBezTo>
                  <a:pt x="907" y="542"/>
                  <a:pt x="906" y="544"/>
                  <a:pt x="905" y="546"/>
                </a:cubicBezTo>
                <a:cubicBezTo>
                  <a:pt x="904" y="547"/>
                  <a:pt x="904" y="548"/>
                  <a:pt x="903" y="549"/>
                </a:cubicBezTo>
                <a:cubicBezTo>
                  <a:pt x="902" y="549"/>
                  <a:pt x="902" y="549"/>
                  <a:pt x="902" y="549"/>
                </a:cubicBezTo>
                <a:cubicBezTo>
                  <a:pt x="901" y="549"/>
                  <a:pt x="901" y="550"/>
                  <a:pt x="901" y="550"/>
                </a:cubicBezTo>
                <a:cubicBezTo>
                  <a:pt x="898" y="550"/>
                  <a:pt x="896" y="550"/>
                  <a:pt x="893" y="551"/>
                </a:cubicBezTo>
                <a:cubicBezTo>
                  <a:pt x="892" y="551"/>
                  <a:pt x="890" y="551"/>
                  <a:pt x="888" y="551"/>
                </a:cubicBezTo>
                <a:cubicBezTo>
                  <a:pt x="889" y="550"/>
                  <a:pt x="889" y="548"/>
                  <a:pt x="890" y="546"/>
                </a:cubicBezTo>
                <a:cubicBezTo>
                  <a:pt x="893" y="538"/>
                  <a:pt x="902" y="533"/>
                  <a:pt x="908" y="527"/>
                </a:cubicBezTo>
                <a:close/>
                <a:moveTo>
                  <a:pt x="988" y="406"/>
                </a:moveTo>
                <a:cubicBezTo>
                  <a:pt x="988" y="406"/>
                  <a:pt x="988" y="406"/>
                  <a:pt x="988" y="406"/>
                </a:cubicBezTo>
                <a:cubicBezTo>
                  <a:pt x="988" y="406"/>
                  <a:pt x="988" y="406"/>
                  <a:pt x="989" y="406"/>
                </a:cubicBezTo>
                <a:cubicBezTo>
                  <a:pt x="988" y="407"/>
                  <a:pt x="987" y="408"/>
                  <a:pt x="987" y="409"/>
                </a:cubicBezTo>
                <a:cubicBezTo>
                  <a:pt x="987" y="408"/>
                  <a:pt x="987" y="407"/>
                  <a:pt x="987" y="407"/>
                </a:cubicBezTo>
                <a:cubicBezTo>
                  <a:pt x="988" y="406"/>
                  <a:pt x="988" y="406"/>
                  <a:pt x="988" y="406"/>
                </a:cubicBezTo>
                <a:close/>
                <a:moveTo>
                  <a:pt x="949" y="508"/>
                </a:moveTo>
                <a:cubicBezTo>
                  <a:pt x="952" y="506"/>
                  <a:pt x="954" y="504"/>
                  <a:pt x="956" y="502"/>
                </a:cubicBezTo>
                <a:cubicBezTo>
                  <a:pt x="954" y="505"/>
                  <a:pt x="952" y="506"/>
                  <a:pt x="949" y="508"/>
                </a:cubicBezTo>
                <a:close/>
                <a:moveTo>
                  <a:pt x="986" y="292"/>
                </a:moveTo>
                <a:cubicBezTo>
                  <a:pt x="990" y="292"/>
                  <a:pt x="993" y="291"/>
                  <a:pt x="997" y="291"/>
                </a:cubicBezTo>
                <a:cubicBezTo>
                  <a:pt x="1007" y="292"/>
                  <a:pt x="1018" y="293"/>
                  <a:pt x="1026" y="299"/>
                </a:cubicBezTo>
                <a:cubicBezTo>
                  <a:pt x="1041" y="309"/>
                  <a:pt x="1048" y="326"/>
                  <a:pt x="1046" y="344"/>
                </a:cubicBezTo>
                <a:cubicBezTo>
                  <a:pt x="1044" y="355"/>
                  <a:pt x="1040" y="365"/>
                  <a:pt x="1033" y="373"/>
                </a:cubicBezTo>
                <a:cubicBezTo>
                  <a:pt x="1027" y="379"/>
                  <a:pt x="1020" y="384"/>
                  <a:pt x="1013" y="390"/>
                </a:cubicBezTo>
                <a:cubicBezTo>
                  <a:pt x="1012" y="390"/>
                  <a:pt x="1012" y="391"/>
                  <a:pt x="1012" y="391"/>
                </a:cubicBezTo>
                <a:cubicBezTo>
                  <a:pt x="1016" y="387"/>
                  <a:pt x="1019" y="383"/>
                  <a:pt x="1023" y="379"/>
                </a:cubicBezTo>
                <a:cubicBezTo>
                  <a:pt x="1023" y="378"/>
                  <a:pt x="1023" y="377"/>
                  <a:pt x="1022" y="378"/>
                </a:cubicBezTo>
                <a:cubicBezTo>
                  <a:pt x="1016" y="382"/>
                  <a:pt x="1013" y="387"/>
                  <a:pt x="1008" y="392"/>
                </a:cubicBezTo>
                <a:cubicBezTo>
                  <a:pt x="1004" y="397"/>
                  <a:pt x="998" y="401"/>
                  <a:pt x="994" y="407"/>
                </a:cubicBezTo>
                <a:cubicBezTo>
                  <a:pt x="990" y="411"/>
                  <a:pt x="985" y="418"/>
                  <a:pt x="983" y="424"/>
                </a:cubicBezTo>
                <a:cubicBezTo>
                  <a:pt x="985" y="416"/>
                  <a:pt x="989" y="410"/>
                  <a:pt x="994" y="403"/>
                </a:cubicBezTo>
                <a:cubicBezTo>
                  <a:pt x="998" y="397"/>
                  <a:pt x="1002" y="393"/>
                  <a:pt x="1007" y="388"/>
                </a:cubicBezTo>
                <a:cubicBezTo>
                  <a:pt x="1010" y="385"/>
                  <a:pt x="1014" y="382"/>
                  <a:pt x="1016" y="377"/>
                </a:cubicBezTo>
                <a:cubicBezTo>
                  <a:pt x="1016" y="377"/>
                  <a:pt x="1016" y="377"/>
                  <a:pt x="1015" y="377"/>
                </a:cubicBezTo>
                <a:cubicBezTo>
                  <a:pt x="1007" y="385"/>
                  <a:pt x="999" y="391"/>
                  <a:pt x="992" y="400"/>
                </a:cubicBezTo>
                <a:cubicBezTo>
                  <a:pt x="994" y="396"/>
                  <a:pt x="996" y="393"/>
                  <a:pt x="999" y="389"/>
                </a:cubicBezTo>
                <a:cubicBezTo>
                  <a:pt x="1003" y="386"/>
                  <a:pt x="1006" y="382"/>
                  <a:pt x="1010" y="378"/>
                </a:cubicBezTo>
                <a:cubicBezTo>
                  <a:pt x="1011" y="378"/>
                  <a:pt x="1010" y="377"/>
                  <a:pt x="1009" y="377"/>
                </a:cubicBezTo>
                <a:cubicBezTo>
                  <a:pt x="1005" y="381"/>
                  <a:pt x="1000" y="385"/>
                  <a:pt x="995" y="390"/>
                </a:cubicBezTo>
                <a:cubicBezTo>
                  <a:pt x="999" y="385"/>
                  <a:pt x="1002" y="381"/>
                  <a:pt x="1005" y="376"/>
                </a:cubicBezTo>
                <a:cubicBezTo>
                  <a:pt x="1009" y="372"/>
                  <a:pt x="1013" y="368"/>
                  <a:pt x="1017" y="364"/>
                </a:cubicBezTo>
                <a:cubicBezTo>
                  <a:pt x="1022" y="359"/>
                  <a:pt x="1030" y="350"/>
                  <a:pt x="1027" y="342"/>
                </a:cubicBezTo>
                <a:cubicBezTo>
                  <a:pt x="1027" y="342"/>
                  <a:pt x="1027" y="342"/>
                  <a:pt x="1027" y="342"/>
                </a:cubicBezTo>
                <a:cubicBezTo>
                  <a:pt x="1020" y="363"/>
                  <a:pt x="998" y="373"/>
                  <a:pt x="990" y="393"/>
                </a:cubicBezTo>
                <a:cubicBezTo>
                  <a:pt x="991" y="388"/>
                  <a:pt x="992" y="383"/>
                  <a:pt x="992" y="378"/>
                </a:cubicBezTo>
                <a:cubicBezTo>
                  <a:pt x="993" y="373"/>
                  <a:pt x="997" y="368"/>
                  <a:pt x="1000" y="365"/>
                </a:cubicBezTo>
                <a:cubicBezTo>
                  <a:pt x="1005" y="359"/>
                  <a:pt x="1012" y="354"/>
                  <a:pt x="1017" y="348"/>
                </a:cubicBezTo>
                <a:cubicBezTo>
                  <a:pt x="1017" y="348"/>
                  <a:pt x="1017" y="347"/>
                  <a:pt x="1017" y="347"/>
                </a:cubicBezTo>
                <a:cubicBezTo>
                  <a:pt x="1009" y="353"/>
                  <a:pt x="1003" y="360"/>
                  <a:pt x="997" y="367"/>
                </a:cubicBezTo>
                <a:cubicBezTo>
                  <a:pt x="996" y="369"/>
                  <a:pt x="994" y="371"/>
                  <a:pt x="992" y="374"/>
                </a:cubicBezTo>
                <a:cubicBezTo>
                  <a:pt x="992" y="372"/>
                  <a:pt x="992" y="371"/>
                  <a:pt x="992" y="369"/>
                </a:cubicBezTo>
                <a:cubicBezTo>
                  <a:pt x="994" y="366"/>
                  <a:pt x="995" y="363"/>
                  <a:pt x="996" y="359"/>
                </a:cubicBezTo>
                <a:cubicBezTo>
                  <a:pt x="998" y="356"/>
                  <a:pt x="1000" y="353"/>
                  <a:pt x="1002" y="349"/>
                </a:cubicBezTo>
                <a:cubicBezTo>
                  <a:pt x="1009" y="341"/>
                  <a:pt x="1017" y="334"/>
                  <a:pt x="1027" y="330"/>
                </a:cubicBezTo>
                <a:cubicBezTo>
                  <a:pt x="1027" y="330"/>
                  <a:pt x="1027" y="330"/>
                  <a:pt x="1026" y="330"/>
                </a:cubicBezTo>
                <a:cubicBezTo>
                  <a:pt x="1020" y="331"/>
                  <a:pt x="1015" y="335"/>
                  <a:pt x="1011" y="339"/>
                </a:cubicBezTo>
                <a:cubicBezTo>
                  <a:pt x="1007" y="342"/>
                  <a:pt x="1003" y="346"/>
                  <a:pt x="1000" y="350"/>
                </a:cubicBezTo>
                <a:cubicBezTo>
                  <a:pt x="999" y="352"/>
                  <a:pt x="995" y="357"/>
                  <a:pt x="992" y="362"/>
                </a:cubicBezTo>
                <a:cubicBezTo>
                  <a:pt x="992" y="361"/>
                  <a:pt x="992" y="360"/>
                  <a:pt x="992" y="359"/>
                </a:cubicBezTo>
                <a:cubicBezTo>
                  <a:pt x="992" y="359"/>
                  <a:pt x="992" y="359"/>
                  <a:pt x="992" y="359"/>
                </a:cubicBezTo>
                <a:cubicBezTo>
                  <a:pt x="993" y="356"/>
                  <a:pt x="993" y="354"/>
                  <a:pt x="994" y="351"/>
                </a:cubicBezTo>
                <a:cubicBezTo>
                  <a:pt x="996" y="349"/>
                  <a:pt x="997" y="346"/>
                  <a:pt x="998" y="344"/>
                </a:cubicBezTo>
                <a:cubicBezTo>
                  <a:pt x="999" y="343"/>
                  <a:pt x="997" y="342"/>
                  <a:pt x="997" y="343"/>
                </a:cubicBezTo>
                <a:cubicBezTo>
                  <a:pt x="995" y="346"/>
                  <a:pt x="993" y="349"/>
                  <a:pt x="992" y="352"/>
                </a:cubicBezTo>
                <a:cubicBezTo>
                  <a:pt x="992" y="352"/>
                  <a:pt x="992" y="353"/>
                  <a:pt x="991" y="353"/>
                </a:cubicBezTo>
                <a:cubicBezTo>
                  <a:pt x="991" y="352"/>
                  <a:pt x="991" y="351"/>
                  <a:pt x="991" y="350"/>
                </a:cubicBezTo>
                <a:cubicBezTo>
                  <a:pt x="991" y="346"/>
                  <a:pt x="990" y="342"/>
                  <a:pt x="990" y="338"/>
                </a:cubicBezTo>
                <a:cubicBezTo>
                  <a:pt x="990" y="336"/>
                  <a:pt x="991" y="333"/>
                  <a:pt x="992" y="331"/>
                </a:cubicBezTo>
                <a:cubicBezTo>
                  <a:pt x="993" y="328"/>
                  <a:pt x="995" y="326"/>
                  <a:pt x="996" y="324"/>
                </a:cubicBezTo>
                <a:cubicBezTo>
                  <a:pt x="997" y="323"/>
                  <a:pt x="996" y="322"/>
                  <a:pt x="995" y="323"/>
                </a:cubicBezTo>
                <a:cubicBezTo>
                  <a:pt x="993" y="326"/>
                  <a:pt x="990" y="330"/>
                  <a:pt x="989" y="334"/>
                </a:cubicBezTo>
                <a:cubicBezTo>
                  <a:pt x="987" y="325"/>
                  <a:pt x="985" y="316"/>
                  <a:pt x="982" y="308"/>
                </a:cubicBezTo>
                <a:cubicBezTo>
                  <a:pt x="980" y="303"/>
                  <a:pt x="979" y="298"/>
                  <a:pt x="977" y="294"/>
                </a:cubicBezTo>
                <a:cubicBezTo>
                  <a:pt x="979" y="293"/>
                  <a:pt x="984" y="292"/>
                  <a:pt x="986" y="292"/>
                </a:cubicBezTo>
                <a:close/>
                <a:moveTo>
                  <a:pt x="992" y="256"/>
                </a:moveTo>
                <a:cubicBezTo>
                  <a:pt x="992" y="256"/>
                  <a:pt x="992" y="256"/>
                  <a:pt x="992" y="256"/>
                </a:cubicBezTo>
                <a:cubicBezTo>
                  <a:pt x="995" y="257"/>
                  <a:pt x="998" y="256"/>
                  <a:pt x="1000" y="255"/>
                </a:cubicBezTo>
                <a:cubicBezTo>
                  <a:pt x="1003" y="263"/>
                  <a:pt x="996" y="271"/>
                  <a:pt x="992" y="276"/>
                </a:cubicBezTo>
                <a:cubicBezTo>
                  <a:pt x="987" y="281"/>
                  <a:pt x="980" y="285"/>
                  <a:pt x="975" y="290"/>
                </a:cubicBezTo>
                <a:cubicBezTo>
                  <a:pt x="973" y="285"/>
                  <a:pt x="971" y="280"/>
                  <a:pt x="968" y="276"/>
                </a:cubicBezTo>
                <a:cubicBezTo>
                  <a:pt x="972" y="275"/>
                  <a:pt x="977" y="271"/>
                  <a:pt x="980" y="269"/>
                </a:cubicBezTo>
                <a:cubicBezTo>
                  <a:pt x="985" y="266"/>
                  <a:pt x="989" y="261"/>
                  <a:pt x="992" y="256"/>
                </a:cubicBezTo>
                <a:close/>
                <a:moveTo>
                  <a:pt x="880" y="242"/>
                </a:moveTo>
                <a:cubicBezTo>
                  <a:pt x="885" y="240"/>
                  <a:pt x="891" y="239"/>
                  <a:pt x="896" y="239"/>
                </a:cubicBezTo>
                <a:cubicBezTo>
                  <a:pt x="908" y="237"/>
                  <a:pt x="920" y="234"/>
                  <a:pt x="932" y="231"/>
                </a:cubicBezTo>
                <a:cubicBezTo>
                  <a:pt x="939" y="230"/>
                  <a:pt x="946" y="229"/>
                  <a:pt x="953" y="228"/>
                </a:cubicBezTo>
                <a:cubicBezTo>
                  <a:pt x="957" y="228"/>
                  <a:pt x="965" y="226"/>
                  <a:pt x="969" y="229"/>
                </a:cubicBezTo>
                <a:cubicBezTo>
                  <a:pt x="973" y="231"/>
                  <a:pt x="975" y="235"/>
                  <a:pt x="980" y="236"/>
                </a:cubicBezTo>
                <a:cubicBezTo>
                  <a:pt x="988" y="237"/>
                  <a:pt x="992" y="241"/>
                  <a:pt x="991" y="249"/>
                </a:cubicBezTo>
                <a:cubicBezTo>
                  <a:pt x="991" y="250"/>
                  <a:pt x="991" y="250"/>
                  <a:pt x="991" y="250"/>
                </a:cubicBezTo>
                <a:cubicBezTo>
                  <a:pt x="988" y="257"/>
                  <a:pt x="984" y="263"/>
                  <a:pt x="977" y="267"/>
                </a:cubicBezTo>
                <a:cubicBezTo>
                  <a:pt x="974" y="269"/>
                  <a:pt x="969" y="270"/>
                  <a:pt x="966" y="273"/>
                </a:cubicBezTo>
                <a:cubicBezTo>
                  <a:pt x="965" y="271"/>
                  <a:pt x="964" y="270"/>
                  <a:pt x="963" y="268"/>
                </a:cubicBezTo>
                <a:cubicBezTo>
                  <a:pt x="954" y="257"/>
                  <a:pt x="943" y="250"/>
                  <a:pt x="929" y="249"/>
                </a:cubicBezTo>
                <a:cubicBezTo>
                  <a:pt x="915" y="248"/>
                  <a:pt x="902" y="250"/>
                  <a:pt x="891" y="258"/>
                </a:cubicBezTo>
                <a:cubicBezTo>
                  <a:pt x="888" y="260"/>
                  <a:pt x="885" y="263"/>
                  <a:pt x="882" y="264"/>
                </a:cubicBezTo>
                <a:cubicBezTo>
                  <a:pt x="879" y="266"/>
                  <a:pt x="877" y="267"/>
                  <a:pt x="874" y="268"/>
                </a:cubicBezTo>
                <a:cubicBezTo>
                  <a:pt x="871" y="269"/>
                  <a:pt x="869" y="271"/>
                  <a:pt x="867" y="273"/>
                </a:cubicBezTo>
                <a:cubicBezTo>
                  <a:pt x="867" y="272"/>
                  <a:pt x="867" y="272"/>
                  <a:pt x="866" y="272"/>
                </a:cubicBezTo>
                <a:cubicBezTo>
                  <a:pt x="866" y="272"/>
                  <a:pt x="865" y="272"/>
                  <a:pt x="864" y="272"/>
                </a:cubicBezTo>
                <a:cubicBezTo>
                  <a:pt x="864" y="272"/>
                  <a:pt x="863" y="272"/>
                  <a:pt x="863" y="272"/>
                </a:cubicBezTo>
                <a:cubicBezTo>
                  <a:pt x="861" y="272"/>
                  <a:pt x="860" y="273"/>
                  <a:pt x="859" y="274"/>
                </a:cubicBezTo>
                <a:cubicBezTo>
                  <a:pt x="859" y="274"/>
                  <a:pt x="859" y="275"/>
                  <a:pt x="860" y="275"/>
                </a:cubicBezTo>
                <a:cubicBezTo>
                  <a:pt x="861" y="275"/>
                  <a:pt x="862" y="274"/>
                  <a:pt x="863" y="274"/>
                </a:cubicBezTo>
                <a:cubicBezTo>
                  <a:pt x="863" y="274"/>
                  <a:pt x="864" y="274"/>
                  <a:pt x="865" y="273"/>
                </a:cubicBezTo>
                <a:cubicBezTo>
                  <a:pt x="865" y="273"/>
                  <a:pt x="866" y="273"/>
                  <a:pt x="866" y="273"/>
                </a:cubicBezTo>
                <a:cubicBezTo>
                  <a:pt x="864" y="275"/>
                  <a:pt x="861" y="278"/>
                  <a:pt x="859" y="281"/>
                </a:cubicBezTo>
                <a:cubicBezTo>
                  <a:pt x="856" y="284"/>
                  <a:pt x="853" y="288"/>
                  <a:pt x="849" y="291"/>
                </a:cubicBezTo>
                <a:cubicBezTo>
                  <a:pt x="847" y="294"/>
                  <a:pt x="845" y="297"/>
                  <a:pt x="842" y="300"/>
                </a:cubicBezTo>
                <a:cubicBezTo>
                  <a:pt x="840" y="302"/>
                  <a:pt x="836" y="304"/>
                  <a:pt x="836" y="307"/>
                </a:cubicBezTo>
                <a:cubicBezTo>
                  <a:pt x="835" y="307"/>
                  <a:pt x="835" y="307"/>
                  <a:pt x="835" y="307"/>
                </a:cubicBezTo>
                <a:cubicBezTo>
                  <a:pt x="833" y="304"/>
                  <a:pt x="830" y="302"/>
                  <a:pt x="827" y="299"/>
                </a:cubicBezTo>
                <a:cubicBezTo>
                  <a:pt x="830" y="298"/>
                  <a:pt x="833" y="296"/>
                  <a:pt x="836" y="295"/>
                </a:cubicBezTo>
                <a:cubicBezTo>
                  <a:pt x="839" y="294"/>
                  <a:pt x="843" y="294"/>
                  <a:pt x="846" y="292"/>
                </a:cubicBezTo>
                <a:cubicBezTo>
                  <a:pt x="846" y="292"/>
                  <a:pt x="846" y="292"/>
                  <a:pt x="846" y="292"/>
                </a:cubicBezTo>
                <a:cubicBezTo>
                  <a:pt x="843" y="291"/>
                  <a:pt x="839" y="292"/>
                  <a:pt x="836" y="293"/>
                </a:cubicBezTo>
                <a:cubicBezTo>
                  <a:pt x="832" y="294"/>
                  <a:pt x="828" y="295"/>
                  <a:pt x="825" y="297"/>
                </a:cubicBezTo>
                <a:cubicBezTo>
                  <a:pt x="825" y="297"/>
                  <a:pt x="825" y="297"/>
                  <a:pt x="824" y="298"/>
                </a:cubicBezTo>
                <a:cubicBezTo>
                  <a:pt x="824" y="297"/>
                  <a:pt x="823" y="297"/>
                  <a:pt x="823" y="296"/>
                </a:cubicBezTo>
                <a:cubicBezTo>
                  <a:pt x="824" y="295"/>
                  <a:pt x="826" y="294"/>
                  <a:pt x="827" y="294"/>
                </a:cubicBezTo>
                <a:cubicBezTo>
                  <a:pt x="829" y="293"/>
                  <a:pt x="832" y="292"/>
                  <a:pt x="834" y="291"/>
                </a:cubicBezTo>
                <a:cubicBezTo>
                  <a:pt x="839" y="290"/>
                  <a:pt x="843" y="286"/>
                  <a:pt x="848" y="285"/>
                </a:cubicBezTo>
                <a:cubicBezTo>
                  <a:pt x="849" y="285"/>
                  <a:pt x="849" y="285"/>
                  <a:pt x="848" y="285"/>
                </a:cubicBezTo>
                <a:cubicBezTo>
                  <a:pt x="843" y="283"/>
                  <a:pt x="837" y="287"/>
                  <a:pt x="832" y="290"/>
                </a:cubicBezTo>
                <a:cubicBezTo>
                  <a:pt x="830" y="291"/>
                  <a:pt x="823" y="292"/>
                  <a:pt x="820" y="294"/>
                </a:cubicBezTo>
                <a:cubicBezTo>
                  <a:pt x="819" y="294"/>
                  <a:pt x="818" y="293"/>
                  <a:pt x="818" y="293"/>
                </a:cubicBezTo>
                <a:cubicBezTo>
                  <a:pt x="820" y="292"/>
                  <a:pt x="823" y="290"/>
                  <a:pt x="825" y="289"/>
                </a:cubicBezTo>
                <a:cubicBezTo>
                  <a:pt x="832" y="286"/>
                  <a:pt x="838" y="284"/>
                  <a:pt x="845" y="282"/>
                </a:cubicBezTo>
                <a:cubicBezTo>
                  <a:pt x="847" y="281"/>
                  <a:pt x="846" y="278"/>
                  <a:pt x="845" y="279"/>
                </a:cubicBezTo>
                <a:cubicBezTo>
                  <a:pt x="837" y="282"/>
                  <a:pt x="830" y="285"/>
                  <a:pt x="822" y="287"/>
                </a:cubicBezTo>
                <a:cubicBezTo>
                  <a:pt x="820" y="288"/>
                  <a:pt x="816" y="289"/>
                  <a:pt x="815" y="291"/>
                </a:cubicBezTo>
                <a:cubicBezTo>
                  <a:pt x="814" y="291"/>
                  <a:pt x="814" y="290"/>
                  <a:pt x="813" y="290"/>
                </a:cubicBezTo>
                <a:cubicBezTo>
                  <a:pt x="813" y="290"/>
                  <a:pt x="813" y="290"/>
                  <a:pt x="813" y="290"/>
                </a:cubicBezTo>
                <a:cubicBezTo>
                  <a:pt x="813" y="289"/>
                  <a:pt x="813" y="289"/>
                  <a:pt x="813" y="289"/>
                </a:cubicBezTo>
                <a:cubicBezTo>
                  <a:pt x="815" y="287"/>
                  <a:pt x="817" y="285"/>
                  <a:pt x="819" y="284"/>
                </a:cubicBezTo>
                <a:cubicBezTo>
                  <a:pt x="822" y="282"/>
                  <a:pt x="825" y="281"/>
                  <a:pt x="828" y="279"/>
                </a:cubicBezTo>
                <a:cubicBezTo>
                  <a:pt x="836" y="276"/>
                  <a:pt x="843" y="273"/>
                  <a:pt x="850" y="270"/>
                </a:cubicBezTo>
                <a:cubicBezTo>
                  <a:pt x="864" y="265"/>
                  <a:pt x="877" y="262"/>
                  <a:pt x="891" y="257"/>
                </a:cubicBezTo>
                <a:cubicBezTo>
                  <a:pt x="891" y="257"/>
                  <a:pt x="891" y="256"/>
                  <a:pt x="891" y="256"/>
                </a:cubicBezTo>
                <a:cubicBezTo>
                  <a:pt x="876" y="258"/>
                  <a:pt x="862" y="264"/>
                  <a:pt x="848" y="269"/>
                </a:cubicBezTo>
                <a:cubicBezTo>
                  <a:pt x="842" y="271"/>
                  <a:pt x="835" y="274"/>
                  <a:pt x="829" y="276"/>
                </a:cubicBezTo>
                <a:cubicBezTo>
                  <a:pt x="834" y="273"/>
                  <a:pt x="838" y="270"/>
                  <a:pt x="843" y="267"/>
                </a:cubicBezTo>
                <a:cubicBezTo>
                  <a:pt x="846" y="266"/>
                  <a:pt x="849" y="264"/>
                  <a:pt x="853" y="263"/>
                </a:cubicBezTo>
                <a:cubicBezTo>
                  <a:pt x="858" y="261"/>
                  <a:pt x="863" y="260"/>
                  <a:pt x="869" y="257"/>
                </a:cubicBezTo>
                <a:cubicBezTo>
                  <a:pt x="878" y="253"/>
                  <a:pt x="888" y="248"/>
                  <a:pt x="899" y="247"/>
                </a:cubicBezTo>
                <a:cubicBezTo>
                  <a:pt x="899" y="246"/>
                  <a:pt x="899" y="245"/>
                  <a:pt x="898" y="245"/>
                </a:cubicBezTo>
                <a:cubicBezTo>
                  <a:pt x="888" y="246"/>
                  <a:pt x="879" y="251"/>
                  <a:pt x="869" y="255"/>
                </a:cubicBezTo>
                <a:cubicBezTo>
                  <a:pt x="863" y="257"/>
                  <a:pt x="856" y="259"/>
                  <a:pt x="850" y="262"/>
                </a:cubicBezTo>
                <a:cubicBezTo>
                  <a:pt x="850" y="262"/>
                  <a:pt x="849" y="262"/>
                  <a:pt x="849" y="262"/>
                </a:cubicBezTo>
                <a:cubicBezTo>
                  <a:pt x="855" y="257"/>
                  <a:pt x="861" y="252"/>
                  <a:pt x="866" y="246"/>
                </a:cubicBezTo>
                <a:cubicBezTo>
                  <a:pt x="871" y="246"/>
                  <a:pt x="875" y="244"/>
                  <a:pt x="880" y="242"/>
                </a:cubicBezTo>
                <a:close/>
                <a:moveTo>
                  <a:pt x="743" y="122"/>
                </a:moveTo>
                <a:cubicBezTo>
                  <a:pt x="745" y="119"/>
                  <a:pt x="747" y="116"/>
                  <a:pt x="750" y="113"/>
                </a:cubicBezTo>
                <a:cubicBezTo>
                  <a:pt x="760" y="102"/>
                  <a:pt x="773" y="91"/>
                  <a:pt x="788" y="86"/>
                </a:cubicBezTo>
                <a:cubicBezTo>
                  <a:pt x="793" y="84"/>
                  <a:pt x="797" y="82"/>
                  <a:pt x="802" y="83"/>
                </a:cubicBezTo>
                <a:cubicBezTo>
                  <a:pt x="806" y="83"/>
                  <a:pt x="809" y="85"/>
                  <a:pt x="812" y="85"/>
                </a:cubicBezTo>
                <a:cubicBezTo>
                  <a:pt x="816" y="86"/>
                  <a:pt x="819" y="85"/>
                  <a:pt x="822" y="83"/>
                </a:cubicBezTo>
                <a:cubicBezTo>
                  <a:pt x="828" y="78"/>
                  <a:pt x="835" y="71"/>
                  <a:pt x="843" y="74"/>
                </a:cubicBezTo>
                <a:cubicBezTo>
                  <a:pt x="850" y="77"/>
                  <a:pt x="858" y="79"/>
                  <a:pt x="864" y="83"/>
                </a:cubicBezTo>
                <a:cubicBezTo>
                  <a:pt x="879" y="92"/>
                  <a:pt x="886" y="110"/>
                  <a:pt x="891" y="126"/>
                </a:cubicBezTo>
                <a:cubicBezTo>
                  <a:pt x="895" y="141"/>
                  <a:pt x="898" y="156"/>
                  <a:pt x="897" y="171"/>
                </a:cubicBezTo>
                <a:cubicBezTo>
                  <a:pt x="895" y="188"/>
                  <a:pt x="890" y="204"/>
                  <a:pt x="881" y="218"/>
                </a:cubicBezTo>
                <a:cubicBezTo>
                  <a:pt x="876" y="227"/>
                  <a:pt x="870" y="235"/>
                  <a:pt x="864" y="243"/>
                </a:cubicBezTo>
                <a:cubicBezTo>
                  <a:pt x="863" y="244"/>
                  <a:pt x="862" y="245"/>
                  <a:pt x="860" y="246"/>
                </a:cubicBezTo>
                <a:cubicBezTo>
                  <a:pt x="854" y="251"/>
                  <a:pt x="848" y="256"/>
                  <a:pt x="842" y="260"/>
                </a:cubicBezTo>
                <a:cubicBezTo>
                  <a:pt x="835" y="265"/>
                  <a:pt x="828" y="269"/>
                  <a:pt x="821" y="274"/>
                </a:cubicBezTo>
                <a:cubicBezTo>
                  <a:pt x="816" y="278"/>
                  <a:pt x="811" y="282"/>
                  <a:pt x="805" y="286"/>
                </a:cubicBezTo>
                <a:cubicBezTo>
                  <a:pt x="803" y="285"/>
                  <a:pt x="801" y="284"/>
                  <a:pt x="798" y="283"/>
                </a:cubicBezTo>
                <a:cubicBezTo>
                  <a:pt x="801" y="282"/>
                  <a:pt x="803" y="280"/>
                  <a:pt x="805" y="278"/>
                </a:cubicBezTo>
                <a:cubicBezTo>
                  <a:pt x="811" y="274"/>
                  <a:pt x="817" y="270"/>
                  <a:pt x="823" y="265"/>
                </a:cubicBezTo>
                <a:cubicBezTo>
                  <a:pt x="836" y="255"/>
                  <a:pt x="848" y="243"/>
                  <a:pt x="859" y="230"/>
                </a:cubicBezTo>
                <a:cubicBezTo>
                  <a:pt x="868" y="218"/>
                  <a:pt x="878" y="205"/>
                  <a:pt x="884" y="191"/>
                </a:cubicBezTo>
                <a:cubicBezTo>
                  <a:pt x="888" y="182"/>
                  <a:pt x="893" y="171"/>
                  <a:pt x="890" y="161"/>
                </a:cubicBezTo>
                <a:cubicBezTo>
                  <a:pt x="890" y="161"/>
                  <a:pt x="889" y="161"/>
                  <a:pt x="889" y="162"/>
                </a:cubicBezTo>
                <a:cubicBezTo>
                  <a:pt x="890" y="172"/>
                  <a:pt x="885" y="183"/>
                  <a:pt x="880" y="193"/>
                </a:cubicBezTo>
                <a:cubicBezTo>
                  <a:pt x="873" y="206"/>
                  <a:pt x="864" y="220"/>
                  <a:pt x="854" y="231"/>
                </a:cubicBezTo>
                <a:cubicBezTo>
                  <a:pt x="844" y="242"/>
                  <a:pt x="833" y="252"/>
                  <a:pt x="822" y="261"/>
                </a:cubicBezTo>
                <a:cubicBezTo>
                  <a:pt x="816" y="265"/>
                  <a:pt x="810" y="270"/>
                  <a:pt x="804" y="274"/>
                </a:cubicBezTo>
                <a:cubicBezTo>
                  <a:pt x="801" y="277"/>
                  <a:pt x="798" y="280"/>
                  <a:pt x="793" y="282"/>
                </a:cubicBezTo>
                <a:cubicBezTo>
                  <a:pt x="789" y="280"/>
                  <a:pt x="784" y="279"/>
                  <a:pt x="779" y="278"/>
                </a:cubicBezTo>
                <a:cubicBezTo>
                  <a:pt x="773" y="276"/>
                  <a:pt x="767" y="275"/>
                  <a:pt x="761" y="274"/>
                </a:cubicBezTo>
                <a:cubicBezTo>
                  <a:pt x="763" y="273"/>
                  <a:pt x="765" y="272"/>
                  <a:pt x="766" y="271"/>
                </a:cubicBezTo>
                <a:cubicBezTo>
                  <a:pt x="772" y="267"/>
                  <a:pt x="777" y="262"/>
                  <a:pt x="781" y="257"/>
                </a:cubicBezTo>
                <a:cubicBezTo>
                  <a:pt x="786" y="252"/>
                  <a:pt x="790" y="247"/>
                  <a:pt x="794" y="241"/>
                </a:cubicBezTo>
                <a:cubicBezTo>
                  <a:pt x="797" y="236"/>
                  <a:pt x="801" y="231"/>
                  <a:pt x="804" y="226"/>
                </a:cubicBezTo>
                <a:cubicBezTo>
                  <a:pt x="807" y="221"/>
                  <a:pt x="810" y="215"/>
                  <a:pt x="814" y="210"/>
                </a:cubicBezTo>
                <a:cubicBezTo>
                  <a:pt x="814" y="209"/>
                  <a:pt x="813" y="208"/>
                  <a:pt x="812" y="209"/>
                </a:cubicBezTo>
                <a:cubicBezTo>
                  <a:pt x="809" y="213"/>
                  <a:pt x="805" y="218"/>
                  <a:pt x="802" y="222"/>
                </a:cubicBezTo>
                <a:cubicBezTo>
                  <a:pt x="800" y="227"/>
                  <a:pt x="798" y="232"/>
                  <a:pt x="795" y="237"/>
                </a:cubicBezTo>
                <a:cubicBezTo>
                  <a:pt x="791" y="243"/>
                  <a:pt x="786" y="248"/>
                  <a:pt x="782" y="253"/>
                </a:cubicBezTo>
                <a:cubicBezTo>
                  <a:pt x="776" y="259"/>
                  <a:pt x="767" y="270"/>
                  <a:pt x="758" y="272"/>
                </a:cubicBezTo>
                <a:cubicBezTo>
                  <a:pt x="760" y="270"/>
                  <a:pt x="761" y="268"/>
                  <a:pt x="762" y="267"/>
                </a:cubicBezTo>
                <a:cubicBezTo>
                  <a:pt x="767" y="261"/>
                  <a:pt x="771" y="255"/>
                  <a:pt x="774" y="249"/>
                </a:cubicBezTo>
                <a:cubicBezTo>
                  <a:pt x="777" y="245"/>
                  <a:pt x="779" y="242"/>
                  <a:pt x="782" y="238"/>
                </a:cubicBezTo>
                <a:cubicBezTo>
                  <a:pt x="785" y="235"/>
                  <a:pt x="787" y="231"/>
                  <a:pt x="789" y="227"/>
                </a:cubicBezTo>
                <a:cubicBezTo>
                  <a:pt x="790" y="224"/>
                  <a:pt x="793" y="221"/>
                  <a:pt x="794" y="217"/>
                </a:cubicBezTo>
                <a:cubicBezTo>
                  <a:pt x="797" y="213"/>
                  <a:pt x="798" y="209"/>
                  <a:pt x="801" y="205"/>
                </a:cubicBezTo>
                <a:cubicBezTo>
                  <a:pt x="802" y="205"/>
                  <a:pt x="801" y="204"/>
                  <a:pt x="800" y="204"/>
                </a:cubicBezTo>
                <a:cubicBezTo>
                  <a:pt x="798" y="207"/>
                  <a:pt x="796" y="209"/>
                  <a:pt x="795" y="212"/>
                </a:cubicBezTo>
                <a:cubicBezTo>
                  <a:pt x="793" y="216"/>
                  <a:pt x="792" y="220"/>
                  <a:pt x="790" y="223"/>
                </a:cubicBezTo>
                <a:cubicBezTo>
                  <a:pt x="787" y="227"/>
                  <a:pt x="785" y="230"/>
                  <a:pt x="783" y="233"/>
                </a:cubicBezTo>
                <a:cubicBezTo>
                  <a:pt x="781" y="236"/>
                  <a:pt x="779" y="239"/>
                  <a:pt x="778" y="242"/>
                </a:cubicBezTo>
                <a:cubicBezTo>
                  <a:pt x="773" y="248"/>
                  <a:pt x="768" y="254"/>
                  <a:pt x="763" y="260"/>
                </a:cubicBezTo>
                <a:cubicBezTo>
                  <a:pt x="760" y="264"/>
                  <a:pt x="758" y="267"/>
                  <a:pt x="754" y="270"/>
                </a:cubicBezTo>
                <a:cubicBezTo>
                  <a:pt x="753" y="270"/>
                  <a:pt x="753" y="270"/>
                  <a:pt x="753" y="270"/>
                </a:cubicBezTo>
                <a:cubicBezTo>
                  <a:pt x="756" y="266"/>
                  <a:pt x="758" y="261"/>
                  <a:pt x="761" y="256"/>
                </a:cubicBezTo>
                <a:cubicBezTo>
                  <a:pt x="761" y="256"/>
                  <a:pt x="760" y="256"/>
                  <a:pt x="760" y="256"/>
                </a:cubicBezTo>
                <a:cubicBezTo>
                  <a:pt x="758" y="258"/>
                  <a:pt x="757" y="260"/>
                  <a:pt x="756" y="262"/>
                </a:cubicBezTo>
                <a:cubicBezTo>
                  <a:pt x="756" y="260"/>
                  <a:pt x="757" y="259"/>
                  <a:pt x="757" y="258"/>
                </a:cubicBezTo>
                <a:cubicBezTo>
                  <a:pt x="758" y="257"/>
                  <a:pt x="758" y="255"/>
                  <a:pt x="759" y="253"/>
                </a:cubicBezTo>
                <a:cubicBezTo>
                  <a:pt x="759" y="253"/>
                  <a:pt x="760" y="253"/>
                  <a:pt x="760" y="253"/>
                </a:cubicBezTo>
                <a:cubicBezTo>
                  <a:pt x="765" y="242"/>
                  <a:pt x="771" y="232"/>
                  <a:pt x="777" y="223"/>
                </a:cubicBezTo>
                <a:cubicBezTo>
                  <a:pt x="782" y="217"/>
                  <a:pt x="786" y="210"/>
                  <a:pt x="789" y="203"/>
                </a:cubicBezTo>
                <a:cubicBezTo>
                  <a:pt x="791" y="199"/>
                  <a:pt x="793" y="195"/>
                  <a:pt x="795" y="192"/>
                </a:cubicBezTo>
                <a:cubicBezTo>
                  <a:pt x="797" y="188"/>
                  <a:pt x="798" y="185"/>
                  <a:pt x="800" y="182"/>
                </a:cubicBezTo>
                <a:cubicBezTo>
                  <a:pt x="800" y="180"/>
                  <a:pt x="798" y="179"/>
                  <a:pt x="798" y="181"/>
                </a:cubicBezTo>
                <a:cubicBezTo>
                  <a:pt x="794" y="188"/>
                  <a:pt x="791" y="196"/>
                  <a:pt x="786" y="204"/>
                </a:cubicBezTo>
                <a:cubicBezTo>
                  <a:pt x="782" y="211"/>
                  <a:pt x="777" y="218"/>
                  <a:pt x="773" y="225"/>
                </a:cubicBezTo>
                <a:cubicBezTo>
                  <a:pt x="770" y="229"/>
                  <a:pt x="767" y="234"/>
                  <a:pt x="764" y="238"/>
                </a:cubicBezTo>
                <a:cubicBezTo>
                  <a:pt x="766" y="234"/>
                  <a:pt x="767" y="230"/>
                  <a:pt x="768" y="226"/>
                </a:cubicBezTo>
                <a:cubicBezTo>
                  <a:pt x="769" y="222"/>
                  <a:pt x="771" y="219"/>
                  <a:pt x="773" y="215"/>
                </a:cubicBezTo>
                <a:cubicBezTo>
                  <a:pt x="775" y="211"/>
                  <a:pt x="776" y="206"/>
                  <a:pt x="779" y="201"/>
                </a:cubicBezTo>
                <a:cubicBezTo>
                  <a:pt x="779" y="201"/>
                  <a:pt x="779" y="200"/>
                  <a:pt x="779" y="201"/>
                </a:cubicBezTo>
                <a:cubicBezTo>
                  <a:pt x="775" y="205"/>
                  <a:pt x="774" y="211"/>
                  <a:pt x="771" y="216"/>
                </a:cubicBezTo>
                <a:cubicBezTo>
                  <a:pt x="770" y="218"/>
                  <a:pt x="769" y="220"/>
                  <a:pt x="769" y="221"/>
                </a:cubicBezTo>
                <a:cubicBezTo>
                  <a:pt x="769" y="220"/>
                  <a:pt x="769" y="219"/>
                  <a:pt x="769" y="219"/>
                </a:cubicBezTo>
                <a:cubicBezTo>
                  <a:pt x="769" y="217"/>
                  <a:pt x="769" y="215"/>
                  <a:pt x="770" y="213"/>
                </a:cubicBezTo>
                <a:cubicBezTo>
                  <a:pt x="772" y="209"/>
                  <a:pt x="773" y="204"/>
                  <a:pt x="775" y="200"/>
                </a:cubicBezTo>
                <a:cubicBezTo>
                  <a:pt x="777" y="194"/>
                  <a:pt x="779" y="187"/>
                  <a:pt x="782" y="182"/>
                </a:cubicBezTo>
                <a:cubicBezTo>
                  <a:pt x="785" y="177"/>
                  <a:pt x="788" y="173"/>
                  <a:pt x="790" y="167"/>
                </a:cubicBezTo>
                <a:cubicBezTo>
                  <a:pt x="791" y="162"/>
                  <a:pt x="793" y="157"/>
                  <a:pt x="796" y="151"/>
                </a:cubicBezTo>
                <a:cubicBezTo>
                  <a:pt x="796" y="151"/>
                  <a:pt x="795" y="151"/>
                  <a:pt x="795" y="151"/>
                </a:cubicBezTo>
                <a:cubicBezTo>
                  <a:pt x="792" y="156"/>
                  <a:pt x="791" y="161"/>
                  <a:pt x="788" y="166"/>
                </a:cubicBezTo>
                <a:cubicBezTo>
                  <a:pt x="786" y="169"/>
                  <a:pt x="785" y="172"/>
                  <a:pt x="783" y="175"/>
                </a:cubicBezTo>
                <a:cubicBezTo>
                  <a:pt x="782" y="178"/>
                  <a:pt x="782" y="181"/>
                  <a:pt x="780" y="183"/>
                </a:cubicBezTo>
                <a:cubicBezTo>
                  <a:pt x="777" y="188"/>
                  <a:pt x="775" y="194"/>
                  <a:pt x="772" y="199"/>
                </a:cubicBezTo>
                <a:cubicBezTo>
                  <a:pt x="772" y="201"/>
                  <a:pt x="771" y="204"/>
                  <a:pt x="770" y="206"/>
                </a:cubicBezTo>
                <a:cubicBezTo>
                  <a:pt x="770" y="203"/>
                  <a:pt x="769" y="200"/>
                  <a:pt x="769" y="198"/>
                </a:cubicBezTo>
                <a:cubicBezTo>
                  <a:pt x="770" y="192"/>
                  <a:pt x="774" y="186"/>
                  <a:pt x="775" y="181"/>
                </a:cubicBezTo>
                <a:cubicBezTo>
                  <a:pt x="777" y="172"/>
                  <a:pt x="780" y="165"/>
                  <a:pt x="785" y="157"/>
                </a:cubicBezTo>
                <a:cubicBezTo>
                  <a:pt x="785" y="157"/>
                  <a:pt x="784" y="156"/>
                  <a:pt x="784" y="157"/>
                </a:cubicBezTo>
                <a:cubicBezTo>
                  <a:pt x="777" y="162"/>
                  <a:pt x="774" y="172"/>
                  <a:pt x="773" y="180"/>
                </a:cubicBezTo>
                <a:cubicBezTo>
                  <a:pt x="772" y="184"/>
                  <a:pt x="772" y="187"/>
                  <a:pt x="770" y="191"/>
                </a:cubicBezTo>
                <a:cubicBezTo>
                  <a:pt x="769" y="192"/>
                  <a:pt x="769" y="192"/>
                  <a:pt x="769" y="193"/>
                </a:cubicBezTo>
                <a:cubicBezTo>
                  <a:pt x="768" y="191"/>
                  <a:pt x="768" y="188"/>
                  <a:pt x="768" y="186"/>
                </a:cubicBezTo>
                <a:cubicBezTo>
                  <a:pt x="768" y="186"/>
                  <a:pt x="768" y="185"/>
                  <a:pt x="768" y="185"/>
                </a:cubicBezTo>
                <a:cubicBezTo>
                  <a:pt x="769" y="183"/>
                  <a:pt x="769" y="180"/>
                  <a:pt x="770" y="178"/>
                </a:cubicBezTo>
                <a:cubicBezTo>
                  <a:pt x="772" y="172"/>
                  <a:pt x="774" y="166"/>
                  <a:pt x="776" y="160"/>
                </a:cubicBezTo>
                <a:cubicBezTo>
                  <a:pt x="777" y="159"/>
                  <a:pt x="775" y="158"/>
                  <a:pt x="775" y="159"/>
                </a:cubicBezTo>
                <a:cubicBezTo>
                  <a:pt x="772" y="166"/>
                  <a:pt x="770" y="173"/>
                  <a:pt x="767" y="180"/>
                </a:cubicBezTo>
                <a:cubicBezTo>
                  <a:pt x="767" y="180"/>
                  <a:pt x="767" y="180"/>
                  <a:pt x="766" y="181"/>
                </a:cubicBezTo>
                <a:cubicBezTo>
                  <a:pt x="766" y="178"/>
                  <a:pt x="765" y="176"/>
                  <a:pt x="764" y="173"/>
                </a:cubicBezTo>
                <a:cubicBezTo>
                  <a:pt x="764" y="173"/>
                  <a:pt x="764" y="173"/>
                  <a:pt x="764" y="173"/>
                </a:cubicBezTo>
                <a:cubicBezTo>
                  <a:pt x="764" y="171"/>
                  <a:pt x="764" y="170"/>
                  <a:pt x="764" y="169"/>
                </a:cubicBezTo>
                <a:cubicBezTo>
                  <a:pt x="765" y="166"/>
                  <a:pt x="765" y="163"/>
                  <a:pt x="765" y="160"/>
                </a:cubicBezTo>
                <a:cubicBezTo>
                  <a:pt x="766" y="153"/>
                  <a:pt x="767" y="148"/>
                  <a:pt x="769" y="142"/>
                </a:cubicBezTo>
                <a:cubicBezTo>
                  <a:pt x="770" y="141"/>
                  <a:pt x="769" y="141"/>
                  <a:pt x="768" y="141"/>
                </a:cubicBezTo>
                <a:cubicBezTo>
                  <a:pt x="764" y="148"/>
                  <a:pt x="765" y="154"/>
                  <a:pt x="763" y="161"/>
                </a:cubicBezTo>
                <a:cubicBezTo>
                  <a:pt x="763" y="162"/>
                  <a:pt x="762" y="164"/>
                  <a:pt x="762" y="165"/>
                </a:cubicBezTo>
                <a:cubicBezTo>
                  <a:pt x="759" y="158"/>
                  <a:pt x="756" y="149"/>
                  <a:pt x="749" y="145"/>
                </a:cubicBezTo>
                <a:cubicBezTo>
                  <a:pt x="747" y="143"/>
                  <a:pt x="746" y="143"/>
                  <a:pt x="743" y="143"/>
                </a:cubicBezTo>
                <a:cubicBezTo>
                  <a:pt x="741" y="142"/>
                  <a:pt x="742" y="137"/>
                  <a:pt x="741" y="136"/>
                </a:cubicBezTo>
                <a:cubicBezTo>
                  <a:pt x="739" y="133"/>
                  <a:pt x="738" y="132"/>
                  <a:pt x="736" y="132"/>
                </a:cubicBezTo>
                <a:cubicBezTo>
                  <a:pt x="736" y="128"/>
                  <a:pt x="740" y="124"/>
                  <a:pt x="743" y="122"/>
                </a:cubicBezTo>
                <a:close/>
                <a:moveTo>
                  <a:pt x="684" y="129"/>
                </a:moveTo>
                <a:cubicBezTo>
                  <a:pt x="692" y="127"/>
                  <a:pt x="700" y="126"/>
                  <a:pt x="708" y="126"/>
                </a:cubicBezTo>
                <a:cubicBezTo>
                  <a:pt x="712" y="126"/>
                  <a:pt x="716" y="126"/>
                  <a:pt x="719" y="126"/>
                </a:cubicBezTo>
                <a:cubicBezTo>
                  <a:pt x="722" y="127"/>
                  <a:pt x="725" y="128"/>
                  <a:pt x="726" y="130"/>
                </a:cubicBezTo>
                <a:cubicBezTo>
                  <a:pt x="726" y="131"/>
                  <a:pt x="727" y="132"/>
                  <a:pt x="727" y="132"/>
                </a:cubicBezTo>
                <a:cubicBezTo>
                  <a:pt x="730" y="135"/>
                  <a:pt x="737" y="133"/>
                  <a:pt x="738" y="139"/>
                </a:cubicBezTo>
                <a:cubicBezTo>
                  <a:pt x="738" y="142"/>
                  <a:pt x="739" y="146"/>
                  <a:pt x="743" y="146"/>
                </a:cubicBezTo>
                <a:cubicBezTo>
                  <a:pt x="750" y="146"/>
                  <a:pt x="753" y="155"/>
                  <a:pt x="756" y="160"/>
                </a:cubicBezTo>
                <a:cubicBezTo>
                  <a:pt x="761" y="172"/>
                  <a:pt x="765" y="186"/>
                  <a:pt x="766" y="199"/>
                </a:cubicBezTo>
                <a:cubicBezTo>
                  <a:pt x="767" y="216"/>
                  <a:pt x="763" y="230"/>
                  <a:pt x="758" y="245"/>
                </a:cubicBezTo>
                <a:cubicBezTo>
                  <a:pt x="755" y="254"/>
                  <a:pt x="752" y="266"/>
                  <a:pt x="745" y="273"/>
                </a:cubicBezTo>
                <a:cubicBezTo>
                  <a:pt x="745" y="273"/>
                  <a:pt x="745" y="273"/>
                  <a:pt x="745" y="273"/>
                </a:cubicBezTo>
                <a:cubicBezTo>
                  <a:pt x="742" y="275"/>
                  <a:pt x="740" y="278"/>
                  <a:pt x="737" y="280"/>
                </a:cubicBezTo>
                <a:cubicBezTo>
                  <a:pt x="734" y="282"/>
                  <a:pt x="732" y="284"/>
                  <a:pt x="730" y="286"/>
                </a:cubicBezTo>
                <a:cubicBezTo>
                  <a:pt x="726" y="291"/>
                  <a:pt x="722" y="296"/>
                  <a:pt x="718" y="300"/>
                </a:cubicBezTo>
                <a:cubicBezTo>
                  <a:pt x="709" y="309"/>
                  <a:pt x="699" y="316"/>
                  <a:pt x="689" y="324"/>
                </a:cubicBezTo>
                <a:cubicBezTo>
                  <a:pt x="684" y="329"/>
                  <a:pt x="679" y="334"/>
                  <a:pt x="673" y="338"/>
                </a:cubicBezTo>
                <a:cubicBezTo>
                  <a:pt x="668" y="342"/>
                  <a:pt x="663" y="345"/>
                  <a:pt x="657" y="349"/>
                </a:cubicBezTo>
                <a:cubicBezTo>
                  <a:pt x="649" y="355"/>
                  <a:pt x="642" y="363"/>
                  <a:pt x="635" y="372"/>
                </a:cubicBezTo>
                <a:cubicBezTo>
                  <a:pt x="635" y="372"/>
                  <a:pt x="635" y="372"/>
                  <a:pt x="635" y="372"/>
                </a:cubicBezTo>
                <a:cubicBezTo>
                  <a:pt x="635" y="372"/>
                  <a:pt x="634" y="371"/>
                  <a:pt x="633" y="371"/>
                </a:cubicBezTo>
                <a:cubicBezTo>
                  <a:pt x="630" y="368"/>
                  <a:pt x="627" y="365"/>
                  <a:pt x="623" y="365"/>
                </a:cubicBezTo>
                <a:cubicBezTo>
                  <a:pt x="628" y="357"/>
                  <a:pt x="634" y="350"/>
                  <a:pt x="642" y="345"/>
                </a:cubicBezTo>
                <a:cubicBezTo>
                  <a:pt x="646" y="342"/>
                  <a:pt x="650" y="339"/>
                  <a:pt x="655" y="337"/>
                </a:cubicBezTo>
                <a:cubicBezTo>
                  <a:pt x="659" y="335"/>
                  <a:pt x="664" y="334"/>
                  <a:pt x="668" y="332"/>
                </a:cubicBezTo>
                <a:cubicBezTo>
                  <a:pt x="674" y="327"/>
                  <a:pt x="679" y="319"/>
                  <a:pt x="684" y="313"/>
                </a:cubicBezTo>
                <a:cubicBezTo>
                  <a:pt x="689" y="305"/>
                  <a:pt x="695" y="296"/>
                  <a:pt x="704" y="291"/>
                </a:cubicBezTo>
                <a:cubicBezTo>
                  <a:pt x="711" y="288"/>
                  <a:pt x="719" y="286"/>
                  <a:pt x="726" y="283"/>
                </a:cubicBezTo>
                <a:cubicBezTo>
                  <a:pt x="732" y="280"/>
                  <a:pt x="737" y="274"/>
                  <a:pt x="741" y="268"/>
                </a:cubicBezTo>
                <a:cubicBezTo>
                  <a:pt x="745" y="263"/>
                  <a:pt x="748" y="258"/>
                  <a:pt x="750" y="252"/>
                </a:cubicBezTo>
                <a:cubicBezTo>
                  <a:pt x="751" y="248"/>
                  <a:pt x="754" y="243"/>
                  <a:pt x="752" y="240"/>
                </a:cubicBezTo>
                <a:cubicBezTo>
                  <a:pt x="752" y="239"/>
                  <a:pt x="751" y="240"/>
                  <a:pt x="751" y="241"/>
                </a:cubicBezTo>
                <a:cubicBezTo>
                  <a:pt x="752" y="245"/>
                  <a:pt x="747" y="253"/>
                  <a:pt x="746" y="256"/>
                </a:cubicBezTo>
                <a:cubicBezTo>
                  <a:pt x="741" y="263"/>
                  <a:pt x="737" y="270"/>
                  <a:pt x="731" y="275"/>
                </a:cubicBezTo>
                <a:cubicBezTo>
                  <a:pt x="725" y="281"/>
                  <a:pt x="717" y="282"/>
                  <a:pt x="710" y="285"/>
                </a:cubicBezTo>
                <a:cubicBezTo>
                  <a:pt x="703" y="287"/>
                  <a:pt x="697" y="291"/>
                  <a:pt x="692" y="296"/>
                </a:cubicBezTo>
                <a:cubicBezTo>
                  <a:pt x="686" y="303"/>
                  <a:pt x="681" y="310"/>
                  <a:pt x="675" y="317"/>
                </a:cubicBezTo>
                <a:cubicBezTo>
                  <a:pt x="673" y="321"/>
                  <a:pt x="670" y="326"/>
                  <a:pt x="666" y="328"/>
                </a:cubicBezTo>
                <a:cubicBezTo>
                  <a:pt x="664" y="329"/>
                  <a:pt x="662" y="330"/>
                  <a:pt x="661" y="331"/>
                </a:cubicBezTo>
                <a:cubicBezTo>
                  <a:pt x="666" y="325"/>
                  <a:pt x="669" y="319"/>
                  <a:pt x="674" y="314"/>
                </a:cubicBezTo>
                <a:cubicBezTo>
                  <a:pt x="679" y="310"/>
                  <a:pt x="682" y="304"/>
                  <a:pt x="687" y="300"/>
                </a:cubicBezTo>
                <a:cubicBezTo>
                  <a:pt x="690" y="296"/>
                  <a:pt x="694" y="291"/>
                  <a:pt x="698" y="287"/>
                </a:cubicBezTo>
                <a:cubicBezTo>
                  <a:pt x="698" y="287"/>
                  <a:pt x="697" y="286"/>
                  <a:pt x="697" y="287"/>
                </a:cubicBezTo>
                <a:cubicBezTo>
                  <a:pt x="692" y="291"/>
                  <a:pt x="689" y="296"/>
                  <a:pt x="685" y="301"/>
                </a:cubicBezTo>
                <a:cubicBezTo>
                  <a:pt x="681" y="305"/>
                  <a:pt x="677" y="309"/>
                  <a:pt x="673" y="313"/>
                </a:cubicBezTo>
                <a:cubicBezTo>
                  <a:pt x="666" y="319"/>
                  <a:pt x="662" y="328"/>
                  <a:pt x="654" y="333"/>
                </a:cubicBezTo>
                <a:cubicBezTo>
                  <a:pt x="654" y="333"/>
                  <a:pt x="654" y="333"/>
                  <a:pt x="654" y="333"/>
                </a:cubicBezTo>
                <a:cubicBezTo>
                  <a:pt x="656" y="331"/>
                  <a:pt x="657" y="329"/>
                  <a:pt x="659" y="327"/>
                </a:cubicBezTo>
                <a:cubicBezTo>
                  <a:pt x="663" y="322"/>
                  <a:pt x="667" y="317"/>
                  <a:pt x="671" y="312"/>
                </a:cubicBezTo>
                <a:cubicBezTo>
                  <a:pt x="671" y="312"/>
                  <a:pt x="670" y="311"/>
                  <a:pt x="670" y="312"/>
                </a:cubicBezTo>
                <a:cubicBezTo>
                  <a:pt x="667" y="317"/>
                  <a:pt x="662" y="321"/>
                  <a:pt x="658" y="326"/>
                </a:cubicBezTo>
                <a:cubicBezTo>
                  <a:pt x="655" y="329"/>
                  <a:pt x="653" y="333"/>
                  <a:pt x="649" y="335"/>
                </a:cubicBezTo>
                <a:cubicBezTo>
                  <a:pt x="648" y="336"/>
                  <a:pt x="648" y="336"/>
                  <a:pt x="648" y="336"/>
                </a:cubicBezTo>
                <a:cubicBezTo>
                  <a:pt x="646" y="337"/>
                  <a:pt x="643" y="339"/>
                  <a:pt x="641" y="340"/>
                </a:cubicBezTo>
                <a:cubicBezTo>
                  <a:pt x="642" y="339"/>
                  <a:pt x="644" y="337"/>
                  <a:pt x="645" y="335"/>
                </a:cubicBezTo>
                <a:cubicBezTo>
                  <a:pt x="645" y="335"/>
                  <a:pt x="645" y="335"/>
                  <a:pt x="645" y="335"/>
                </a:cubicBezTo>
                <a:cubicBezTo>
                  <a:pt x="641" y="339"/>
                  <a:pt x="637" y="342"/>
                  <a:pt x="633" y="346"/>
                </a:cubicBezTo>
                <a:cubicBezTo>
                  <a:pt x="630" y="349"/>
                  <a:pt x="626" y="352"/>
                  <a:pt x="623" y="356"/>
                </a:cubicBezTo>
                <a:cubicBezTo>
                  <a:pt x="623" y="356"/>
                  <a:pt x="623" y="355"/>
                  <a:pt x="623" y="354"/>
                </a:cubicBezTo>
                <a:cubicBezTo>
                  <a:pt x="624" y="354"/>
                  <a:pt x="624" y="353"/>
                  <a:pt x="625" y="352"/>
                </a:cubicBezTo>
                <a:cubicBezTo>
                  <a:pt x="627" y="350"/>
                  <a:pt x="629" y="347"/>
                  <a:pt x="631" y="345"/>
                </a:cubicBezTo>
                <a:cubicBezTo>
                  <a:pt x="632" y="343"/>
                  <a:pt x="633" y="341"/>
                  <a:pt x="634" y="339"/>
                </a:cubicBezTo>
                <a:cubicBezTo>
                  <a:pt x="635" y="339"/>
                  <a:pt x="635" y="339"/>
                  <a:pt x="635" y="338"/>
                </a:cubicBezTo>
                <a:cubicBezTo>
                  <a:pt x="636" y="337"/>
                  <a:pt x="636" y="336"/>
                  <a:pt x="637" y="335"/>
                </a:cubicBezTo>
                <a:cubicBezTo>
                  <a:pt x="641" y="330"/>
                  <a:pt x="644" y="325"/>
                  <a:pt x="648" y="320"/>
                </a:cubicBezTo>
                <a:cubicBezTo>
                  <a:pt x="648" y="320"/>
                  <a:pt x="648" y="320"/>
                  <a:pt x="647" y="320"/>
                </a:cubicBezTo>
                <a:cubicBezTo>
                  <a:pt x="644" y="323"/>
                  <a:pt x="642" y="326"/>
                  <a:pt x="640" y="330"/>
                </a:cubicBezTo>
                <a:cubicBezTo>
                  <a:pt x="643" y="324"/>
                  <a:pt x="646" y="319"/>
                  <a:pt x="649" y="313"/>
                </a:cubicBezTo>
                <a:cubicBezTo>
                  <a:pt x="654" y="306"/>
                  <a:pt x="659" y="299"/>
                  <a:pt x="664" y="291"/>
                </a:cubicBezTo>
                <a:cubicBezTo>
                  <a:pt x="664" y="291"/>
                  <a:pt x="663" y="290"/>
                  <a:pt x="663" y="290"/>
                </a:cubicBezTo>
                <a:cubicBezTo>
                  <a:pt x="657" y="298"/>
                  <a:pt x="652" y="306"/>
                  <a:pt x="647" y="314"/>
                </a:cubicBezTo>
                <a:cubicBezTo>
                  <a:pt x="642" y="322"/>
                  <a:pt x="637" y="329"/>
                  <a:pt x="634" y="337"/>
                </a:cubicBezTo>
                <a:cubicBezTo>
                  <a:pt x="632" y="340"/>
                  <a:pt x="630" y="342"/>
                  <a:pt x="628" y="345"/>
                </a:cubicBezTo>
                <a:cubicBezTo>
                  <a:pt x="627" y="346"/>
                  <a:pt x="626" y="348"/>
                  <a:pt x="624" y="349"/>
                </a:cubicBezTo>
                <a:cubicBezTo>
                  <a:pt x="629" y="340"/>
                  <a:pt x="633" y="331"/>
                  <a:pt x="638" y="322"/>
                </a:cubicBezTo>
                <a:cubicBezTo>
                  <a:pt x="641" y="317"/>
                  <a:pt x="643" y="312"/>
                  <a:pt x="646" y="308"/>
                </a:cubicBezTo>
                <a:cubicBezTo>
                  <a:pt x="648" y="303"/>
                  <a:pt x="651" y="299"/>
                  <a:pt x="653" y="295"/>
                </a:cubicBezTo>
                <a:cubicBezTo>
                  <a:pt x="653" y="294"/>
                  <a:pt x="653" y="294"/>
                  <a:pt x="653" y="294"/>
                </a:cubicBezTo>
                <a:cubicBezTo>
                  <a:pt x="645" y="303"/>
                  <a:pt x="642" y="315"/>
                  <a:pt x="635" y="325"/>
                </a:cubicBezTo>
                <a:cubicBezTo>
                  <a:pt x="631" y="331"/>
                  <a:pt x="626" y="337"/>
                  <a:pt x="624" y="345"/>
                </a:cubicBezTo>
                <a:cubicBezTo>
                  <a:pt x="625" y="341"/>
                  <a:pt x="626" y="337"/>
                  <a:pt x="627" y="334"/>
                </a:cubicBezTo>
                <a:cubicBezTo>
                  <a:pt x="632" y="323"/>
                  <a:pt x="638" y="314"/>
                  <a:pt x="642" y="303"/>
                </a:cubicBezTo>
                <a:cubicBezTo>
                  <a:pt x="643" y="302"/>
                  <a:pt x="641" y="302"/>
                  <a:pt x="640" y="303"/>
                </a:cubicBezTo>
                <a:cubicBezTo>
                  <a:pt x="636" y="314"/>
                  <a:pt x="628" y="324"/>
                  <a:pt x="624" y="335"/>
                </a:cubicBezTo>
                <a:cubicBezTo>
                  <a:pt x="622" y="340"/>
                  <a:pt x="621" y="346"/>
                  <a:pt x="620" y="351"/>
                </a:cubicBezTo>
                <a:cubicBezTo>
                  <a:pt x="620" y="351"/>
                  <a:pt x="619" y="350"/>
                  <a:pt x="619" y="350"/>
                </a:cubicBezTo>
                <a:cubicBezTo>
                  <a:pt x="619" y="350"/>
                  <a:pt x="619" y="349"/>
                  <a:pt x="619" y="349"/>
                </a:cubicBezTo>
                <a:cubicBezTo>
                  <a:pt x="620" y="347"/>
                  <a:pt x="620" y="344"/>
                  <a:pt x="620" y="341"/>
                </a:cubicBezTo>
                <a:cubicBezTo>
                  <a:pt x="621" y="335"/>
                  <a:pt x="624" y="329"/>
                  <a:pt x="626" y="324"/>
                </a:cubicBezTo>
                <a:cubicBezTo>
                  <a:pt x="631" y="313"/>
                  <a:pt x="637" y="302"/>
                  <a:pt x="640" y="290"/>
                </a:cubicBezTo>
                <a:cubicBezTo>
                  <a:pt x="640" y="290"/>
                  <a:pt x="640" y="290"/>
                  <a:pt x="640" y="290"/>
                </a:cubicBezTo>
                <a:cubicBezTo>
                  <a:pt x="634" y="303"/>
                  <a:pt x="628" y="315"/>
                  <a:pt x="622" y="328"/>
                </a:cubicBezTo>
                <a:cubicBezTo>
                  <a:pt x="622" y="329"/>
                  <a:pt x="622" y="330"/>
                  <a:pt x="621" y="330"/>
                </a:cubicBezTo>
                <a:cubicBezTo>
                  <a:pt x="622" y="324"/>
                  <a:pt x="625" y="319"/>
                  <a:pt x="627" y="313"/>
                </a:cubicBezTo>
                <a:cubicBezTo>
                  <a:pt x="629" y="310"/>
                  <a:pt x="629" y="307"/>
                  <a:pt x="630" y="304"/>
                </a:cubicBezTo>
                <a:cubicBezTo>
                  <a:pt x="632" y="300"/>
                  <a:pt x="634" y="296"/>
                  <a:pt x="635" y="292"/>
                </a:cubicBezTo>
                <a:cubicBezTo>
                  <a:pt x="636" y="291"/>
                  <a:pt x="635" y="291"/>
                  <a:pt x="635" y="291"/>
                </a:cubicBezTo>
                <a:cubicBezTo>
                  <a:pt x="632" y="296"/>
                  <a:pt x="631" y="301"/>
                  <a:pt x="629" y="306"/>
                </a:cubicBezTo>
                <a:cubicBezTo>
                  <a:pt x="627" y="309"/>
                  <a:pt x="625" y="312"/>
                  <a:pt x="624" y="315"/>
                </a:cubicBezTo>
                <a:cubicBezTo>
                  <a:pt x="623" y="318"/>
                  <a:pt x="622" y="320"/>
                  <a:pt x="621" y="323"/>
                </a:cubicBezTo>
                <a:cubicBezTo>
                  <a:pt x="621" y="321"/>
                  <a:pt x="621" y="319"/>
                  <a:pt x="621" y="317"/>
                </a:cubicBezTo>
                <a:cubicBezTo>
                  <a:pt x="623" y="313"/>
                  <a:pt x="624" y="309"/>
                  <a:pt x="625" y="305"/>
                </a:cubicBezTo>
                <a:cubicBezTo>
                  <a:pt x="625" y="305"/>
                  <a:pt x="625" y="305"/>
                  <a:pt x="624" y="305"/>
                </a:cubicBezTo>
                <a:cubicBezTo>
                  <a:pt x="623" y="307"/>
                  <a:pt x="622" y="310"/>
                  <a:pt x="621" y="313"/>
                </a:cubicBezTo>
                <a:cubicBezTo>
                  <a:pt x="622" y="308"/>
                  <a:pt x="622" y="303"/>
                  <a:pt x="623" y="298"/>
                </a:cubicBezTo>
                <a:cubicBezTo>
                  <a:pt x="623" y="298"/>
                  <a:pt x="623" y="298"/>
                  <a:pt x="623" y="298"/>
                </a:cubicBezTo>
                <a:cubicBezTo>
                  <a:pt x="623" y="298"/>
                  <a:pt x="623" y="298"/>
                  <a:pt x="623" y="298"/>
                </a:cubicBezTo>
                <a:cubicBezTo>
                  <a:pt x="624" y="297"/>
                  <a:pt x="624" y="295"/>
                  <a:pt x="625" y="293"/>
                </a:cubicBezTo>
                <a:cubicBezTo>
                  <a:pt x="626" y="291"/>
                  <a:pt x="627" y="289"/>
                  <a:pt x="628" y="287"/>
                </a:cubicBezTo>
                <a:cubicBezTo>
                  <a:pt x="630" y="283"/>
                  <a:pt x="631" y="280"/>
                  <a:pt x="631" y="277"/>
                </a:cubicBezTo>
                <a:cubicBezTo>
                  <a:pt x="631" y="276"/>
                  <a:pt x="631" y="276"/>
                  <a:pt x="630" y="277"/>
                </a:cubicBezTo>
                <a:cubicBezTo>
                  <a:pt x="629" y="281"/>
                  <a:pt x="627" y="285"/>
                  <a:pt x="625" y="289"/>
                </a:cubicBezTo>
                <a:cubicBezTo>
                  <a:pt x="624" y="291"/>
                  <a:pt x="623" y="292"/>
                  <a:pt x="623" y="294"/>
                </a:cubicBezTo>
                <a:cubicBezTo>
                  <a:pt x="623" y="292"/>
                  <a:pt x="623" y="289"/>
                  <a:pt x="623" y="286"/>
                </a:cubicBezTo>
                <a:cubicBezTo>
                  <a:pt x="624" y="286"/>
                  <a:pt x="624" y="286"/>
                  <a:pt x="624" y="286"/>
                </a:cubicBezTo>
                <a:cubicBezTo>
                  <a:pt x="625" y="282"/>
                  <a:pt x="627" y="279"/>
                  <a:pt x="628" y="276"/>
                </a:cubicBezTo>
                <a:cubicBezTo>
                  <a:pt x="628" y="275"/>
                  <a:pt x="628" y="275"/>
                  <a:pt x="627" y="275"/>
                </a:cubicBezTo>
                <a:cubicBezTo>
                  <a:pt x="626" y="277"/>
                  <a:pt x="625" y="280"/>
                  <a:pt x="624" y="282"/>
                </a:cubicBezTo>
                <a:cubicBezTo>
                  <a:pt x="624" y="280"/>
                  <a:pt x="624" y="278"/>
                  <a:pt x="624" y="276"/>
                </a:cubicBezTo>
                <a:cubicBezTo>
                  <a:pt x="624" y="267"/>
                  <a:pt x="624" y="257"/>
                  <a:pt x="622" y="247"/>
                </a:cubicBezTo>
                <a:cubicBezTo>
                  <a:pt x="624" y="245"/>
                  <a:pt x="622" y="243"/>
                  <a:pt x="623" y="241"/>
                </a:cubicBezTo>
                <a:cubicBezTo>
                  <a:pt x="623" y="239"/>
                  <a:pt x="623" y="238"/>
                  <a:pt x="623" y="237"/>
                </a:cubicBezTo>
                <a:cubicBezTo>
                  <a:pt x="623" y="235"/>
                  <a:pt x="623" y="234"/>
                  <a:pt x="623" y="233"/>
                </a:cubicBezTo>
                <a:cubicBezTo>
                  <a:pt x="623" y="232"/>
                  <a:pt x="622" y="232"/>
                  <a:pt x="622" y="233"/>
                </a:cubicBezTo>
                <a:cubicBezTo>
                  <a:pt x="622" y="234"/>
                  <a:pt x="621" y="236"/>
                  <a:pt x="621" y="237"/>
                </a:cubicBezTo>
                <a:cubicBezTo>
                  <a:pt x="621" y="238"/>
                  <a:pt x="622" y="239"/>
                  <a:pt x="622" y="241"/>
                </a:cubicBezTo>
                <a:cubicBezTo>
                  <a:pt x="622" y="242"/>
                  <a:pt x="622" y="243"/>
                  <a:pt x="621" y="244"/>
                </a:cubicBezTo>
                <a:cubicBezTo>
                  <a:pt x="620" y="239"/>
                  <a:pt x="619" y="234"/>
                  <a:pt x="617" y="229"/>
                </a:cubicBezTo>
                <a:cubicBezTo>
                  <a:pt x="613" y="218"/>
                  <a:pt x="607" y="206"/>
                  <a:pt x="601" y="196"/>
                </a:cubicBezTo>
                <a:cubicBezTo>
                  <a:pt x="601" y="193"/>
                  <a:pt x="605" y="190"/>
                  <a:pt x="606" y="187"/>
                </a:cubicBezTo>
                <a:cubicBezTo>
                  <a:pt x="609" y="184"/>
                  <a:pt x="611" y="180"/>
                  <a:pt x="614" y="177"/>
                </a:cubicBezTo>
                <a:cubicBezTo>
                  <a:pt x="619" y="170"/>
                  <a:pt x="624" y="163"/>
                  <a:pt x="631" y="157"/>
                </a:cubicBezTo>
                <a:cubicBezTo>
                  <a:pt x="636" y="152"/>
                  <a:pt x="641" y="147"/>
                  <a:pt x="648" y="144"/>
                </a:cubicBezTo>
                <a:cubicBezTo>
                  <a:pt x="653" y="141"/>
                  <a:pt x="657" y="139"/>
                  <a:pt x="662" y="136"/>
                </a:cubicBezTo>
                <a:cubicBezTo>
                  <a:pt x="668" y="130"/>
                  <a:pt x="676" y="130"/>
                  <a:pt x="684" y="129"/>
                </a:cubicBezTo>
                <a:close/>
                <a:moveTo>
                  <a:pt x="538" y="132"/>
                </a:moveTo>
                <a:cubicBezTo>
                  <a:pt x="540" y="130"/>
                  <a:pt x="541" y="129"/>
                  <a:pt x="542" y="128"/>
                </a:cubicBezTo>
                <a:cubicBezTo>
                  <a:pt x="547" y="123"/>
                  <a:pt x="552" y="119"/>
                  <a:pt x="558" y="116"/>
                </a:cubicBezTo>
                <a:cubicBezTo>
                  <a:pt x="570" y="111"/>
                  <a:pt x="582" y="109"/>
                  <a:pt x="595" y="110"/>
                </a:cubicBezTo>
                <a:cubicBezTo>
                  <a:pt x="596" y="110"/>
                  <a:pt x="597" y="110"/>
                  <a:pt x="598" y="110"/>
                </a:cubicBezTo>
                <a:cubicBezTo>
                  <a:pt x="598" y="110"/>
                  <a:pt x="598" y="110"/>
                  <a:pt x="598" y="110"/>
                </a:cubicBezTo>
                <a:cubicBezTo>
                  <a:pt x="585" y="110"/>
                  <a:pt x="570" y="113"/>
                  <a:pt x="560" y="121"/>
                </a:cubicBezTo>
                <a:cubicBezTo>
                  <a:pt x="559" y="122"/>
                  <a:pt x="560" y="123"/>
                  <a:pt x="561" y="122"/>
                </a:cubicBezTo>
                <a:cubicBezTo>
                  <a:pt x="574" y="118"/>
                  <a:pt x="586" y="112"/>
                  <a:pt x="601" y="113"/>
                </a:cubicBezTo>
                <a:cubicBezTo>
                  <a:pt x="608" y="113"/>
                  <a:pt x="615" y="115"/>
                  <a:pt x="622" y="117"/>
                </a:cubicBezTo>
                <a:cubicBezTo>
                  <a:pt x="628" y="119"/>
                  <a:pt x="633" y="124"/>
                  <a:pt x="639" y="124"/>
                </a:cubicBezTo>
                <a:cubicBezTo>
                  <a:pt x="639" y="124"/>
                  <a:pt x="639" y="124"/>
                  <a:pt x="639" y="124"/>
                </a:cubicBezTo>
                <a:cubicBezTo>
                  <a:pt x="635" y="122"/>
                  <a:pt x="632" y="119"/>
                  <a:pt x="628" y="117"/>
                </a:cubicBezTo>
                <a:cubicBezTo>
                  <a:pt x="625" y="115"/>
                  <a:pt x="621" y="114"/>
                  <a:pt x="618" y="113"/>
                </a:cubicBezTo>
                <a:cubicBezTo>
                  <a:pt x="613" y="112"/>
                  <a:pt x="609" y="111"/>
                  <a:pt x="604" y="110"/>
                </a:cubicBezTo>
                <a:cubicBezTo>
                  <a:pt x="614" y="111"/>
                  <a:pt x="623" y="113"/>
                  <a:pt x="633" y="116"/>
                </a:cubicBezTo>
                <a:cubicBezTo>
                  <a:pt x="640" y="119"/>
                  <a:pt x="647" y="122"/>
                  <a:pt x="653" y="125"/>
                </a:cubicBezTo>
                <a:cubicBezTo>
                  <a:pt x="656" y="127"/>
                  <a:pt x="659" y="129"/>
                  <a:pt x="662" y="130"/>
                </a:cubicBezTo>
                <a:cubicBezTo>
                  <a:pt x="661" y="131"/>
                  <a:pt x="659" y="132"/>
                  <a:pt x="658" y="134"/>
                </a:cubicBezTo>
                <a:cubicBezTo>
                  <a:pt x="653" y="138"/>
                  <a:pt x="646" y="140"/>
                  <a:pt x="640" y="144"/>
                </a:cubicBezTo>
                <a:cubicBezTo>
                  <a:pt x="635" y="148"/>
                  <a:pt x="630" y="152"/>
                  <a:pt x="625" y="157"/>
                </a:cubicBezTo>
                <a:cubicBezTo>
                  <a:pt x="622" y="160"/>
                  <a:pt x="619" y="164"/>
                  <a:pt x="616" y="168"/>
                </a:cubicBezTo>
                <a:cubicBezTo>
                  <a:pt x="616" y="166"/>
                  <a:pt x="616" y="164"/>
                  <a:pt x="616" y="163"/>
                </a:cubicBezTo>
                <a:cubicBezTo>
                  <a:pt x="616" y="160"/>
                  <a:pt x="616" y="156"/>
                  <a:pt x="617" y="153"/>
                </a:cubicBezTo>
                <a:cubicBezTo>
                  <a:pt x="617" y="153"/>
                  <a:pt x="616" y="152"/>
                  <a:pt x="616" y="153"/>
                </a:cubicBezTo>
                <a:cubicBezTo>
                  <a:pt x="615" y="156"/>
                  <a:pt x="614" y="159"/>
                  <a:pt x="613" y="163"/>
                </a:cubicBezTo>
                <a:cubicBezTo>
                  <a:pt x="613" y="165"/>
                  <a:pt x="613" y="168"/>
                  <a:pt x="614" y="170"/>
                </a:cubicBezTo>
                <a:cubicBezTo>
                  <a:pt x="612" y="172"/>
                  <a:pt x="611" y="174"/>
                  <a:pt x="609" y="177"/>
                </a:cubicBezTo>
                <a:cubicBezTo>
                  <a:pt x="609" y="178"/>
                  <a:pt x="608" y="178"/>
                  <a:pt x="607" y="179"/>
                </a:cubicBezTo>
                <a:cubicBezTo>
                  <a:pt x="607" y="178"/>
                  <a:pt x="607" y="176"/>
                  <a:pt x="607" y="175"/>
                </a:cubicBezTo>
                <a:cubicBezTo>
                  <a:pt x="607" y="171"/>
                  <a:pt x="606" y="167"/>
                  <a:pt x="607" y="163"/>
                </a:cubicBezTo>
                <a:cubicBezTo>
                  <a:pt x="607" y="162"/>
                  <a:pt x="606" y="162"/>
                  <a:pt x="605" y="163"/>
                </a:cubicBezTo>
                <a:cubicBezTo>
                  <a:pt x="605" y="166"/>
                  <a:pt x="604" y="170"/>
                  <a:pt x="604" y="173"/>
                </a:cubicBezTo>
                <a:cubicBezTo>
                  <a:pt x="604" y="175"/>
                  <a:pt x="605" y="177"/>
                  <a:pt x="604" y="179"/>
                </a:cubicBezTo>
                <a:cubicBezTo>
                  <a:pt x="604" y="181"/>
                  <a:pt x="604" y="182"/>
                  <a:pt x="604" y="184"/>
                </a:cubicBezTo>
                <a:cubicBezTo>
                  <a:pt x="604" y="184"/>
                  <a:pt x="604" y="184"/>
                  <a:pt x="604" y="184"/>
                </a:cubicBezTo>
                <a:cubicBezTo>
                  <a:pt x="603" y="185"/>
                  <a:pt x="603" y="186"/>
                  <a:pt x="602" y="186"/>
                </a:cubicBezTo>
                <a:cubicBezTo>
                  <a:pt x="602" y="182"/>
                  <a:pt x="601" y="178"/>
                  <a:pt x="600" y="174"/>
                </a:cubicBezTo>
                <a:cubicBezTo>
                  <a:pt x="600" y="170"/>
                  <a:pt x="600" y="166"/>
                  <a:pt x="600" y="162"/>
                </a:cubicBezTo>
                <a:cubicBezTo>
                  <a:pt x="600" y="157"/>
                  <a:pt x="599" y="153"/>
                  <a:pt x="600" y="148"/>
                </a:cubicBezTo>
                <a:cubicBezTo>
                  <a:pt x="600" y="144"/>
                  <a:pt x="601" y="140"/>
                  <a:pt x="602" y="136"/>
                </a:cubicBezTo>
                <a:cubicBezTo>
                  <a:pt x="602" y="135"/>
                  <a:pt x="601" y="135"/>
                  <a:pt x="601" y="135"/>
                </a:cubicBezTo>
                <a:cubicBezTo>
                  <a:pt x="599" y="139"/>
                  <a:pt x="598" y="143"/>
                  <a:pt x="598" y="148"/>
                </a:cubicBezTo>
                <a:cubicBezTo>
                  <a:pt x="599" y="153"/>
                  <a:pt x="598" y="158"/>
                  <a:pt x="598" y="164"/>
                </a:cubicBezTo>
                <a:cubicBezTo>
                  <a:pt x="599" y="170"/>
                  <a:pt x="598" y="176"/>
                  <a:pt x="599" y="182"/>
                </a:cubicBezTo>
                <a:cubicBezTo>
                  <a:pt x="599" y="180"/>
                  <a:pt x="598" y="179"/>
                  <a:pt x="598" y="177"/>
                </a:cubicBezTo>
                <a:cubicBezTo>
                  <a:pt x="597" y="171"/>
                  <a:pt x="596" y="165"/>
                  <a:pt x="595" y="159"/>
                </a:cubicBezTo>
                <a:cubicBezTo>
                  <a:pt x="595" y="154"/>
                  <a:pt x="595" y="149"/>
                  <a:pt x="595" y="143"/>
                </a:cubicBezTo>
                <a:cubicBezTo>
                  <a:pt x="595" y="138"/>
                  <a:pt x="594" y="133"/>
                  <a:pt x="596" y="128"/>
                </a:cubicBezTo>
                <a:cubicBezTo>
                  <a:pt x="596" y="127"/>
                  <a:pt x="595" y="127"/>
                  <a:pt x="594" y="128"/>
                </a:cubicBezTo>
                <a:cubicBezTo>
                  <a:pt x="593" y="132"/>
                  <a:pt x="593" y="137"/>
                  <a:pt x="593" y="142"/>
                </a:cubicBezTo>
                <a:cubicBezTo>
                  <a:pt x="594" y="148"/>
                  <a:pt x="593" y="154"/>
                  <a:pt x="593" y="161"/>
                </a:cubicBezTo>
                <a:cubicBezTo>
                  <a:pt x="594" y="167"/>
                  <a:pt x="595" y="173"/>
                  <a:pt x="596" y="180"/>
                </a:cubicBezTo>
                <a:cubicBezTo>
                  <a:pt x="597" y="182"/>
                  <a:pt x="597" y="184"/>
                  <a:pt x="597" y="187"/>
                </a:cubicBezTo>
                <a:cubicBezTo>
                  <a:pt x="597" y="185"/>
                  <a:pt x="596" y="183"/>
                  <a:pt x="596" y="182"/>
                </a:cubicBezTo>
                <a:cubicBezTo>
                  <a:pt x="595" y="181"/>
                  <a:pt x="595" y="181"/>
                  <a:pt x="595" y="182"/>
                </a:cubicBezTo>
                <a:cubicBezTo>
                  <a:pt x="595" y="184"/>
                  <a:pt x="595" y="186"/>
                  <a:pt x="595" y="187"/>
                </a:cubicBezTo>
                <a:cubicBezTo>
                  <a:pt x="595" y="187"/>
                  <a:pt x="594" y="186"/>
                  <a:pt x="594" y="186"/>
                </a:cubicBezTo>
                <a:cubicBezTo>
                  <a:pt x="594" y="186"/>
                  <a:pt x="594" y="185"/>
                  <a:pt x="593" y="185"/>
                </a:cubicBezTo>
                <a:cubicBezTo>
                  <a:pt x="592" y="183"/>
                  <a:pt x="590" y="180"/>
                  <a:pt x="589" y="177"/>
                </a:cubicBezTo>
                <a:cubicBezTo>
                  <a:pt x="586" y="168"/>
                  <a:pt x="583" y="160"/>
                  <a:pt x="580" y="152"/>
                </a:cubicBezTo>
                <a:cubicBezTo>
                  <a:pt x="578" y="144"/>
                  <a:pt x="576" y="137"/>
                  <a:pt x="578" y="129"/>
                </a:cubicBezTo>
                <a:cubicBezTo>
                  <a:pt x="578" y="129"/>
                  <a:pt x="577" y="129"/>
                  <a:pt x="577" y="129"/>
                </a:cubicBezTo>
                <a:cubicBezTo>
                  <a:pt x="572" y="134"/>
                  <a:pt x="575" y="144"/>
                  <a:pt x="577" y="150"/>
                </a:cubicBezTo>
                <a:cubicBezTo>
                  <a:pt x="579" y="155"/>
                  <a:pt x="581" y="160"/>
                  <a:pt x="583" y="165"/>
                </a:cubicBezTo>
                <a:cubicBezTo>
                  <a:pt x="584" y="167"/>
                  <a:pt x="585" y="170"/>
                  <a:pt x="586" y="172"/>
                </a:cubicBezTo>
                <a:cubicBezTo>
                  <a:pt x="585" y="172"/>
                  <a:pt x="585" y="171"/>
                  <a:pt x="585" y="171"/>
                </a:cubicBezTo>
                <a:cubicBezTo>
                  <a:pt x="582" y="168"/>
                  <a:pt x="580" y="165"/>
                  <a:pt x="578" y="162"/>
                </a:cubicBezTo>
                <a:cubicBezTo>
                  <a:pt x="578" y="162"/>
                  <a:pt x="578" y="162"/>
                  <a:pt x="578" y="162"/>
                </a:cubicBezTo>
                <a:cubicBezTo>
                  <a:pt x="577" y="161"/>
                  <a:pt x="577" y="160"/>
                  <a:pt x="577" y="159"/>
                </a:cubicBezTo>
                <a:cubicBezTo>
                  <a:pt x="576" y="158"/>
                  <a:pt x="576" y="157"/>
                  <a:pt x="576" y="156"/>
                </a:cubicBezTo>
                <a:cubicBezTo>
                  <a:pt x="575" y="155"/>
                  <a:pt x="575" y="154"/>
                  <a:pt x="574" y="152"/>
                </a:cubicBezTo>
                <a:cubicBezTo>
                  <a:pt x="573" y="152"/>
                  <a:pt x="573" y="152"/>
                  <a:pt x="573" y="153"/>
                </a:cubicBezTo>
                <a:cubicBezTo>
                  <a:pt x="573" y="155"/>
                  <a:pt x="574" y="157"/>
                  <a:pt x="574" y="158"/>
                </a:cubicBezTo>
                <a:cubicBezTo>
                  <a:pt x="574" y="158"/>
                  <a:pt x="573" y="157"/>
                  <a:pt x="572" y="156"/>
                </a:cubicBezTo>
                <a:cubicBezTo>
                  <a:pt x="563" y="147"/>
                  <a:pt x="554" y="139"/>
                  <a:pt x="541" y="135"/>
                </a:cubicBezTo>
                <a:cubicBezTo>
                  <a:pt x="540" y="134"/>
                  <a:pt x="538" y="134"/>
                  <a:pt x="537" y="133"/>
                </a:cubicBezTo>
                <a:cubicBezTo>
                  <a:pt x="537" y="133"/>
                  <a:pt x="538" y="132"/>
                  <a:pt x="538" y="132"/>
                </a:cubicBezTo>
                <a:close/>
                <a:moveTo>
                  <a:pt x="525" y="135"/>
                </a:moveTo>
                <a:cubicBezTo>
                  <a:pt x="531" y="136"/>
                  <a:pt x="538" y="137"/>
                  <a:pt x="544" y="139"/>
                </a:cubicBezTo>
                <a:cubicBezTo>
                  <a:pt x="556" y="144"/>
                  <a:pt x="566" y="154"/>
                  <a:pt x="574" y="163"/>
                </a:cubicBezTo>
                <a:cubicBezTo>
                  <a:pt x="579" y="168"/>
                  <a:pt x="583" y="173"/>
                  <a:pt x="586" y="179"/>
                </a:cubicBezTo>
                <a:cubicBezTo>
                  <a:pt x="589" y="183"/>
                  <a:pt x="591" y="187"/>
                  <a:pt x="594" y="190"/>
                </a:cubicBezTo>
                <a:cubicBezTo>
                  <a:pt x="601" y="206"/>
                  <a:pt x="611" y="220"/>
                  <a:pt x="616" y="238"/>
                </a:cubicBezTo>
                <a:cubicBezTo>
                  <a:pt x="621" y="254"/>
                  <a:pt x="621" y="270"/>
                  <a:pt x="620" y="287"/>
                </a:cubicBezTo>
                <a:cubicBezTo>
                  <a:pt x="619" y="304"/>
                  <a:pt x="617" y="321"/>
                  <a:pt x="616" y="339"/>
                </a:cubicBezTo>
                <a:cubicBezTo>
                  <a:pt x="616" y="345"/>
                  <a:pt x="616" y="351"/>
                  <a:pt x="616" y="357"/>
                </a:cubicBezTo>
                <a:cubicBezTo>
                  <a:pt x="616" y="359"/>
                  <a:pt x="616" y="363"/>
                  <a:pt x="617" y="365"/>
                </a:cubicBezTo>
                <a:cubicBezTo>
                  <a:pt x="615" y="366"/>
                  <a:pt x="613" y="367"/>
                  <a:pt x="611" y="368"/>
                </a:cubicBezTo>
                <a:cubicBezTo>
                  <a:pt x="611" y="368"/>
                  <a:pt x="611" y="368"/>
                  <a:pt x="610" y="367"/>
                </a:cubicBezTo>
                <a:cubicBezTo>
                  <a:pt x="607" y="365"/>
                  <a:pt x="605" y="362"/>
                  <a:pt x="603" y="358"/>
                </a:cubicBezTo>
                <a:cubicBezTo>
                  <a:pt x="601" y="351"/>
                  <a:pt x="600" y="344"/>
                  <a:pt x="600" y="338"/>
                </a:cubicBezTo>
                <a:cubicBezTo>
                  <a:pt x="599" y="324"/>
                  <a:pt x="601" y="311"/>
                  <a:pt x="605" y="297"/>
                </a:cubicBezTo>
                <a:cubicBezTo>
                  <a:pt x="608" y="284"/>
                  <a:pt x="610" y="270"/>
                  <a:pt x="609" y="256"/>
                </a:cubicBezTo>
                <a:cubicBezTo>
                  <a:pt x="609" y="250"/>
                  <a:pt x="609" y="243"/>
                  <a:pt x="607" y="237"/>
                </a:cubicBezTo>
                <a:cubicBezTo>
                  <a:pt x="605" y="232"/>
                  <a:pt x="603" y="227"/>
                  <a:pt x="601" y="222"/>
                </a:cubicBezTo>
                <a:cubicBezTo>
                  <a:pt x="600" y="221"/>
                  <a:pt x="599" y="222"/>
                  <a:pt x="599" y="223"/>
                </a:cubicBezTo>
                <a:cubicBezTo>
                  <a:pt x="601" y="230"/>
                  <a:pt x="604" y="236"/>
                  <a:pt x="605" y="243"/>
                </a:cubicBezTo>
                <a:cubicBezTo>
                  <a:pt x="606" y="251"/>
                  <a:pt x="606" y="258"/>
                  <a:pt x="606" y="266"/>
                </a:cubicBezTo>
                <a:cubicBezTo>
                  <a:pt x="605" y="274"/>
                  <a:pt x="605" y="281"/>
                  <a:pt x="603" y="289"/>
                </a:cubicBezTo>
                <a:cubicBezTo>
                  <a:pt x="602" y="296"/>
                  <a:pt x="599" y="303"/>
                  <a:pt x="598" y="309"/>
                </a:cubicBezTo>
                <a:cubicBezTo>
                  <a:pt x="597" y="315"/>
                  <a:pt x="597" y="321"/>
                  <a:pt x="596" y="327"/>
                </a:cubicBezTo>
                <a:cubicBezTo>
                  <a:pt x="596" y="326"/>
                  <a:pt x="596" y="326"/>
                  <a:pt x="596" y="326"/>
                </a:cubicBezTo>
                <a:cubicBezTo>
                  <a:pt x="596" y="326"/>
                  <a:pt x="597" y="325"/>
                  <a:pt x="596" y="325"/>
                </a:cubicBezTo>
                <a:cubicBezTo>
                  <a:pt x="595" y="323"/>
                  <a:pt x="595" y="320"/>
                  <a:pt x="595" y="318"/>
                </a:cubicBezTo>
                <a:cubicBezTo>
                  <a:pt x="595" y="318"/>
                  <a:pt x="595" y="318"/>
                  <a:pt x="595" y="318"/>
                </a:cubicBezTo>
                <a:cubicBezTo>
                  <a:pt x="595" y="317"/>
                  <a:pt x="595" y="317"/>
                  <a:pt x="596" y="316"/>
                </a:cubicBezTo>
                <a:cubicBezTo>
                  <a:pt x="596" y="316"/>
                  <a:pt x="596" y="315"/>
                  <a:pt x="596" y="315"/>
                </a:cubicBezTo>
                <a:cubicBezTo>
                  <a:pt x="596" y="314"/>
                  <a:pt x="595" y="313"/>
                  <a:pt x="595" y="312"/>
                </a:cubicBezTo>
                <a:cubicBezTo>
                  <a:pt x="595" y="312"/>
                  <a:pt x="594" y="312"/>
                  <a:pt x="594" y="313"/>
                </a:cubicBezTo>
                <a:cubicBezTo>
                  <a:pt x="594" y="313"/>
                  <a:pt x="594" y="314"/>
                  <a:pt x="594" y="315"/>
                </a:cubicBezTo>
                <a:cubicBezTo>
                  <a:pt x="594" y="316"/>
                  <a:pt x="594" y="316"/>
                  <a:pt x="594" y="316"/>
                </a:cubicBezTo>
                <a:cubicBezTo>
                  <a:pt x="594" y="317"/>
                  <a:pt x="594" y="317"/>
                  <a:pt x="594" y="317"/>
                </a:cubicBezTo>
                <a:cubicBezTo>
                  <a:pt x="594" y="317"/>
                  <a:pt x="594" y="316"/>
                  <a:pt x="593" y="316"/>
                </a:cubicBezTo>
                <a:cubicBezTo>
                  <a:pt x="593" y="316"/>
                  <a:pt x="593" y="316"/>
                  <a:pt x="593" y="316"/>
                </a:cubicBezTo>
                <a:cubicBezTo>
                  <a:pt x="593" y="314"/>
                  <a:pt x="593" y="313"/>
                  <a:pt x="592" y="312"/>
                </a:cubicBezTo>
                <a:cubicBezTo>
                  <a:pt x="592" y="312"/>
                  <a:pt x="592" y="312"/>
                  <a:pt x="592" y="311"/>
                </a:cubicBezTo>
                <a:cubicBezTo>
                  <a:pt x="592" y="311"/>
                  <a:pt x="592" y="311"/>
                  <a:pt x="591" y="310"/>
                </a:cubicBezTo>
                <a:cubicBezTo>
                  <a:pt x="591" y="310"/>
                  <a:pt x="591" y="310"/>
                  <a:pt x="591" y="310"/>
                </a:cubicBezTo>
                <a:cubicBezTo>
                  <a:pt x="591" y="311"/>
                  <a:pt x="591" y="311"/>
                  <a:pt x="591" y="311"/>
                </a:cubicBezTo>
                <a:cubicBezTo>
                  <a:pt x="590" y="311"/>
                  <a:pt x="590" y="312"/>
                  <a:pt x="590" y="312"/>
                </a:cubicBezTo>
                <a:cubicBezTo>
                  <a:pt x="590" y="313"/>
                  <a:pt x="590" y="315"/>
                  <a:pt x="591" y="316"/>
                </a:cubicBezTo>
                <a:cubicBezTo>
                  <a:pt x="587" y="306"/>
                  <a:pt x="584" y="295"/>
                  <a:pt x="582" y="285"/>
                </a:cubicBezTo>
                <a:cubicBezTo>
                  <a:pt x="582" y="284"/>
                  <a:pt x="581" y="284"/>
                  <a:pt x="581" y="285"/>
                </a:cubicBezTo>
                <a:cubicBezTo>
                  <a:pt x="581" y="291"/>
                  <a:pt x="583" y="297"/>
                  <a:pt x="585" y="303"/>
                </a:cubicBezTo>
                <a:cubicBezTo>
                  <a:pt x="586" y="306"/>
                  <a:pt x="587" y="310"/>
                  <a:pt x="588" y="313"/>
                </a:cubicBezTo>
                <a:cubicBezTo>
                  <a:pt x="589" y="315"/>
                  <a:pt x="589" y="316"/>
                  <a:pt x="590" y="318"/>
                </a:cubicBezTo>
                <a:cubicBezTo>
                  <a:pt x="591" y="319"/>
                  <a:pt x="592" y="318"/>
                  <a:pt x="591" y="318"/>
                </a:cubicBezTo>
                <a:cubicBezTo>
                  <a:pt x="592" y="318"/>
                  <a:pt x="592" y="319"/>
                  <a:pt x="592" y="319"/>
                </a:cubicBezTo>
                <a:cubicBezTo>
                  <a:pt x="592" y="319"/>
                  <a:pt x="592" y="319"/>
                  <a:pt x="592" y="319"/>
                </a:cubicBezTo>
                <a:cubicBezTo>
                  <a:pt x="592" y="320"/>
                  <a:pt x="592" y="321"/>
                  <a:pt x="593" y="322"/>
                </a:cubicBezTo>
                <a:cubicBezTo>
                  <a:pt x="588" y="315"/>
                  <a:pt x="584" y="306"/>
                  <a:pt x="578" y="300"/>
                </a:cubicBezTo>
                <a:cubicBezTo>
                  <a:pt x="571" y="293"/>
                  <a:pt x="561" y="288"/>
                  <a:pt x="553" y="282"/>
                </a:cubicBezTo>
                <a:cubicBezTo>
                  <a:pt x="552" y="282"/>
                  <a:pt x="551" y="281"/>
                  <a:pt x="550" y="281"/>
                </a:cubicBezTo>
                <a:cubicBezTo>
                  <a:pt x="550" y="281"/>
                  <a:pt x="550" y="281"/>
                  <a:pt x="550" y="281"/>
                </a:cubicBezTo>
                <a:cubicBezTo>
                  <a:pt x="546" y="278"/>
                  <a:pt x="543" y="276"/>
                  <a:pt x="539" y="274"/>
                </a:cubicBezTo>
                <a:cubicBezTo>
                  <a:pt x="539" y="274"/>
                  <a:pt x="539" y="274"/>
                  <a:pt x="539" y="274"/>
                </a:cubicBezTo>
                <a:cubicBezTo>
                  <a:pt x="540" y="275"/>
                  <a:pt x="542" y="276"/>
                  <a:pt x="543" y="278"/>
                </a:cubicBezTo>
                <a:cubicBezTo>
                  <a:pt x="540" y="276"/>
                  <a:pt x="537" y="275"/>
                  <a:pt x="535" y="274"/>
                </a:cubicBezTo>
                <a:cubicBezTo>
                  <a:pt x="536" y="275"/>
                  <a:pt x="536" y="275"/>
                  <a:pt x="537" y="275"/>
                </a:cubicBezTo>
                <a:cubicBezTo>
                  <a:pt x="538" y="275"/>
                  <a:pt x="538" y="275"/>
                  <a:pt x="538" y="275"/>
                </a:cubicBezTo>
                <a:cubicBezTo>
                  <a:pt x="533" y="270"/>
                  <a:pt x="525" y="267"/>
                  <a:pt x="519" y="264"/>
                </a:cubicBezTo>
                <a:cubicBezTo>
                  <a:pt x="515" y="262"/>
                  <a:pt x="512" y="260"/>
                  <a:pt x="508" y="259"/>
                </a:cubicBezTo>
                <a:cubicBezTo>
                  <a:pt x="504" y="258"/>
                  <a:pt x="500" y="256"/>
                  <a:pt x="496" y="256"/>
                </a:cubicBezTo>
                <a:cubicBezTo>
                  <a:pt x="495" y="255"/>
                  <a:pt x="493" y="255"/>
                  <a:pt x="491" y="256"/>
                </a:cubicBezTo>
                <a:cubicBezTo>
                  <a:pt x="491" y="256"/>
                  <a:pt x="491" y="257"/>
                  <a:pt x="492" y="257"/>
                </a:cubicBezTo>
                <a:cubicBezTo>
                  <a:pt x="494" y="256"/>
                  <a:pt x="499" y="258"/>
                  <a:pt x="501" y="258"/>
                </a:cubicBezTo>
                <a:cubicBezTo>
                  <a:pt x="504" y="259"/>
                  <a:pt x="507" y="260"/>
                  <a:pt x="510" y="261"/>
                </a:cubicBezTo>
                <a:cubicBezTo>
                  <a:pt x="516" y="263"/>
                  <a:pt x="520" y="266"/>
                  <a:pt x="525" y="269"/>
                </a:cubicBezTo>
                <a:cubicBezTo>
                  <a:pt x="528" y="271"/>
                  <a:pt x="531" y="273"/>
                  <a:pt x="534" y="274"/>
                </a:cubicBezTo>
                <a:cubicBezTo>
                  <a:pt x="531" y="273"/>
                  <a:pt x="527" y="272"/>
                  <a:pt x="524" y="271"/>
                </a:cubicBezTo>
                <a:cubicBezTo>
                  <a:pt x="514" y="269"/>
                  <a:pt x="504" y="266"/>
                  <a:pt x="494" y="267"/>
                </a:cubicBezTo>
                <a:cubicBezTo>
                  <a:pt x="487" y="267"/>
                  <a:pt x="479" y="270"/>
                  <a:pt x="472" y="272"/>
                </a:cubicBezTo>
                <a:cubicBezTo>
                  <a:pt x="468" y="273"/>
                  <a:pt x="464" y="274"/>
                  <a:pt x="459" y="276"/>
                </a:cubicBezTo>
                <a:cubicBezTo>
                  <a:pt x="458" y="271"/>
                  <a:pt x="458" y="266"/>
                  <a:pt x="456" y="261"/>
                </a:cubicBezTo>
                <a:cubicBezTo>
                  <a:pt x="454" y="256"/>
                  <a:pt x="452" y="251"/>
                  <a:pt x="452" y="245"/>
                </a:cubicBezTo>
                <a:cubicBezTo>
                  <a:pt x="452" y="240"/>
                  <a:pt x="452" y="235"/>
                  <a:pt x="453" y="230"/>
                </a:cubicBezTo>
                <a:cubicBezTo>
                  <a:pt x="453" y="225"/>
                  <a:pt x="453" y="219"/>
                  <a:pt x="455" y="214"/>
                </a:cubicBezTo>
                <a:cubicBezTo>
                  <a:pt x="456" y="209"/>
                  <a:pt x="459" y="204"/>
                  <a:pt x="461" y="199"/>
                </a:cubicBezTo>
                <a:cubicBezTo>
                  <a:pt x="463" y="194"/>
                  <a:pt x="464" y="188"/>
                  <a:pt x="465" y="183"/>
                </a:cubicBezTo>
                <a:cubicBezTo>
                  <a:pt x="466" y="178"/>
                  <a:pt x="467" y="172"/>
                  <a:pt x="471" y="167"/>
                </a:cubicBezTo>
                <a:cubicBezTo>
                  <a:pt x="474" y="163"/>
                  <a:pt x="478" y="158"/>
                  <a:pt x="482" y="154"/>
                </a:cubicBezTo>
                <a:cubicBezTo>
                  <a:pt x="486" y="150"/>
                  <a:pt x="490" y="146"/>
                  <a:pt x="494" y="143"/>
                </a:cubicBezTo>
                <a:cubicBezTo>
                  <a:pt x="498" y="139"/>
                  <a:pt x="502" y="135"/>
                  <a:pt x="508" y="134"/>
                </a:cubicBezTo>
                <a:cubicBezTo>
                  <a:pt x="513" y="133"/>
                  <a:pt x="519" y="134"/>
                  <a:pt x="525" y="135"/>
                </a:cubicBezTo>
                <a:close/>
                <a:moveTo>
                  <a:pt x="373" y="210"/>
                </a:moveTo>
                <a:cubicBezTo>
                  <a:pt x="375" y="203"/>
                  <a:pt x="375" y="197"/>
                  <a:pt x="376" y="190"/>
                </a:cubicBezTo>
                <a:cubicBezTo>
                  <a:pt x="378" y="176"/>
                  <a:pt x="381" y="162"/>
                  <a:pt x="384" y="148"/>
                </a:cubicBezTo>
                <a:cubicBezTo>
                  <a:pt x="385" y="140"/>
                  <a:pt x="387" y="133"/>
                  <a:pt x="391" y="126"/>
                </a:cubicBezTo>
                <a:cubicBezTo>
                  <a:pt x="394" y="120"/>
                  <a:pt x="400" y="115"/>
                  <a:pt x="404" y="109"/>
                </a:cubicBezTo>
                <a:cubicBezTo>
                  <a:pt x="412" y="98"/>
                  <a:pt x="419" y="86"/>
                  <a:pt x="429" y="77"/>
                </a:cubicBezTo>
                <a:cubicBezTo>
                  <a:pt x="435" y="72"/>
                  <a:pt x="440" y="74"/>
                  <a:pt x="445" y="78"/>
                </a:cubicBezTo>
                <a:cubicBezTo>
                  <a:pt x="448" y="80"/>
                  <a:pt x="448" y="84"/>
                  <a:pt x="452" y="82"/>
                </a:cubicBezTo>
                <a:cubicBezTo>
                  <a:pt x="455" y="80"/>
                  <a:pt x="455" y="76"/>
                  <a:pt x="459" y="80"/>
                </a:cubicBezTo>
                <a:cubicBezTo>
                  <a:pt x="460" y="81"/>
                  <a:pt x="461" y="82"/>
                  <a:pt x="463" y="83"/>
                </a:cubicBezTo>
                <a:cubicBezTo>
                  <a:pt x="466" y="85"/>
                  <a:pt x="469" y="83"/>
                  <a:pt x="472" y="82"/>
                </a:cubicBezTo>
                <a:cubicBezTo>
                  <a:pt x="477" y="77"/>
                  <a:pt x="483" y="74"/>
                  <a:pt x="490" y="78"/>
                </a:cubicBezTo>
                <a:cubicBezTo>
                  <a:pt x="496" y="81"/>
                  <a:pt x="501" y="88"/>
                  <a:pt x="504" y="94"/>
                </a:cubicBezTo>
                <a:cubicBezTo>
                  <a:pt x="512" y="105"/>
                  <a:pt x="517" y="117"/>
                  <a:pt x="522" y="130"/>
                </a:cubicBezTo>
                <a:cubicBezTo>
                  <a:pt x="516" y="129"/>
                  <a:pt x="510" y="129"/>
                  <a:pt x="505" y="131"/>
                </a:cubicBezTo>
                <a:cubicBezTo>
                  <a:pt x="496" y="134"/>
                  <a:pt x="487" y="143"/>
                  <a:pt x="481" y="150"/>
                </a:cubicBezTo>
                <a:cubicBezTo>
                  <a:pt x="472" y="159"/>
                  <a:pt x="464" y="168"/>
                  <a:pt x="462" y="180"/>
                </a:cubicBezTo>
                <a:cubicBezTo>
                  <a:pt x="460" y="187"/>
                  <a:pt x="459" y="194"/>
                  <a:pt x="456" y="201"/>
                </a:cubicBezTo>
                <a:cubicBezTo>
                  <a:pt x="456" y="202"/>
                  <a:pt x="455" y="202"/>
                  <a:pt x="455" y="203"/>
                </a:cubicBezTo>
                <a:cubicBezTo>
                  <a:pt x="456" y="198"/>
                  <a:pt x="457" y="194"/>
                  <a:pt x="458" y="189"/>
                </a:cubicBezTo>
                <a:cubicBezTo>
                  <a:pt x="459" y="183"/>
                  <a:pt x="460" y="178"/>
                  <a:pt x="462" y="172"/>
                </a:cubicBezTo>
                <a:cubicBezTo>
                  <a:pt x="462" y="172"/>
                  <a:pt x="461" y="171"/>
                  <a:pt x="461" y="172"/>
                </a:cubicBezTo>
                <a:cubicBezTo>
                  <a:pt x="458" y="177"/>
                  <a:pt x="456" y="182"/>
                  <a:pt x="456" y="187"/>
                </a:cubicBezTo>
                <a:cubicBezTo>
                  <a:pt x="455" y="195"/>
                  <a:pt x="452" y="202"/>
                  <a:pt x="450" y="209"/>
                </a:cubicBezTo>
                <a:cubicBezTo>
                  <a:pt x="447" y="220"/>
                  <a:pt x="447" y="231"/>
                  <a:pt x="447" y="242"/>
                </a:cubicBezTo>
                <a:cubicBezTo>
                  <a:pt x="447" y="246"/>
                  <a:pt x="447" y="249"/>
                  <a:pt x="446" y="253"/>
                </a:cubicBezTo>
                <a:cubicBezTo>
                  <a:pt x="445" y="258"/>
                  <a:pt x="446" y="263"/>
                  <a:pt x="445" y="267"/>
                </a:cubicBezTo>
                <a:cubicBezTo>
                  <a:pt x="445" y="270"/>
                  <a:pt x="443" y="278"/>
                  <a:pt x="446" y="280"/>
                </a:cubicBezTo>
                <a:cubicBezTo>
                  <a:pt x="447" y="280"/>
                  <a:pt x="448" y="280"/>
                  <a:pt x="447" y="279"/>
                </a:cubicBezTo>
                <a:cubicBezTo>
                  <a:pt x="447" y="278"/>
                  <a:pt x="447" y="275"/>
                  <a:pt x="447" y="273"/>
                </a:cubicBezTo>
                <a:cubicBezTo>
                  <a:pt x="447" y="276"/>
                  <a:pt x="448" y="278"/>
                  <a:pt x="448" y="279"/>
                </a:cubicBezTo>
                <a:cubicBezTo>
                  <a:pt x="448" y="279"/>
                  <a:pt x="448" y="279"/>
                  <a:pt x="449" y="279"/>
                </a:cubicBezTo>
                <a:cubicBezTo>
                  <a:pt x="447" y="280"/>
                  <a:pt x="445" y="281"/>
                  <a:pt x="443" y="283"/>
                </a:cubicBezTo>
                <a:cubicBezTo>
                  <a:pt x="443" y="283"/>
                  <a:pt x="443" y="282"/>
                  <a:pt x="443" y="282"/>
                </a:cubicBezTo>
                <a:cubicBezTo>
                  <a:pt x="442" y="277"/>
                  <a:pt x="443" y="271"/>
                  <a:pt x="443" y="266"/>
                </a:cubicBezTo>
                <a:cubicBezTo>
                  <a:pt x="443" y="258"/>
                  <a:pt x="443" y="250"/>
                  <a:pt x="444" y="242"/>
                </a:cubicBezTo>
                <a:cubicBezTo>
                  <a:pt x="445" y="224"/>
                  <a:pt x="447" y="206"/>
                  <a:pt x="453" y="189"/>
                </a:cubicBezTo>
                <a:cubicBezTo>
                  <a:pt x="453" y="189"/>
                  <a:pt x="452" y="189"/>
                  <a:pt x="452" y="189"/>
                </a:cubicBezTo>
                <a:cubicBezTo>
                  <a:pt x="446" y="206"/>
                  <a:pt x="441" y="224"/>
                  <a:pt x="440" y="241"/>
                </a:cubicBezTo>
                <a:cubicBezTo>
                  <a:pt x="440" y="251"/>
                  <a:pt x="440" y="260"/>
                  <a:pt x="440" y="269"/>
                </a:cubicBezTo>
                <a:cubicBezTo>
                  <a:pt x="440" y="273"/>
                  <a:pt x="439" y="280"/>
                  <a:pt x="440" y="284"/>
                </a:cubicBezTo>
                <a:cubicBezTo>
                  <a:pt x="440" y="284"/>
                  <a:pt x="441" y="284"/>
                  <a:pt x="441" y="284"/>
                </a:cubicBezTo>
                <a:cubicBezTo>
                  <a:pt x="439" y="286"/>
                  <a:pt x="437" y="287"/>
                  <a:pt x="435" y="289"/>
                </a:cubicBezTo>
                <a:cubicBezTo>
                  <a:pt x="436" y="287"/>
                  <a:pt x="436" y="285"/>
                  <a:pt x="436" y="283"/>
                </a:cubicBezTo>
                <a:cubicBezTo>
                  <a:pt x="436" y="281"/>
                  <a:pt x="436" y="278"/>
                  <a:pt x="436" y="276"/>
                </a:cubicBezTo>
                <a:cubicBezTo>
                  <a:pt x="436" y="275"/>
                  <a:pt x="435" y="275"/>
                  <a:pt x="435" y="275"/>
                </a:cubicBezTo>
                <a:cubicBezTo>
                  <a:pt x="433" y="280"/>
                  <a:pt x="434" y="285"/>
                  <a:pt x="433" y="289"/>
                </a:cubicBezTo>
                <a:cubicBezTo>
                  <a:pt x="433" y="290"/>
                  <a:pt x="433" y="290"/>
                  <a:pt x="433" y="290"/>
                </a:cubicBezTo>
                <a:cubicBezTo>
                  <a:pt x="433" y="291"/>
                  <a:pt x="432" y="291"/>
                  <a:pt x="432" y="292"/>
                </a:cubicBezTo>
                <a:cubicBezTo>
                  <a:pt x="432" y="284"/>
                  <a:pt x="430" y="276"/>
                  <a:pt x="430" y="268"/>
                </a:cubicBezTo>
                <a:cubicBezTo>
                  <a:pt x="430" y="264"/>
                  <a:pt x="431" y="259"/>
                  <a:pt x="431" y="255"/>
                </a:cubicBezTo>
                <a:cubicBezTo>
                  <a:pt x="431" y="252"/>
                  <a:pt x="430" y="248"/>
                  <a:pt x="430" y="245"/>
                </a:cubicBezTo>
                <a:cubicBezTo>
                  <a:pt x="430" y="244"/>
                  <a:pt x="429" y="243"/>
                  <a:pt x="429" y="244"/>
                </a:cubicBezTo>
                <a:cubicBezTo>
                  <a:pt x="428" y="252"/>
                  <a:pt x="428" y="260"/>
                  <a:pt x="427" y="268"/>
                </a:cubicBezTo>
                <a:cubicBezTo>
                  <a:pt x="427" y="276"/>
                  <a:pt x="429" y="284"/>
                  <a:pt x="429" y="292"/>
                </a:cubicBezTo>
                <a:cubicBezTo>
                  <a:pt x="429" y="293"/>
                  <a:pt x="430" y="293"/>
                  <a:pt x="430" y="293"/>
                </a:cubicBezTo>
                <a:cubicBezTo>
                  <a:pt x="428" y="295"/>
                  <a:pt x="427" y="297"/>
                  <a:pt x="425" y="299"/>
                </a:cubicBezTo>
                <a:cubicBezTo>
                  <a:pt x="425" y="298"/>
                  <a:pt x="425" y="297"/>
                  <a:pt x="426" y="296"/>
                </a:cubicBezTo>
                <a:cubicBezTo>
                  <a:pt x="426" y="294"/>
                  <a:pt x="426" y="292"/>
                  <a:pt x="426" y="290"/>
                </a:cubicBezTo>
                <a:cubicBezTo>
                  <a:pt x="426" y="290"/>
                  <a:pt x="426" y="289"/>
                  <a:pt x="426" y="290"/>
                </a:cubicBezTo>
                <a:cubicBezTo>
                  <a:pt x="425" y="291"/>
                  <a:pt x="424" y="293"/>
                  <a:pt x="424" y="295"/>
                </a:cubicBezTo>
                <a:cubicBezTo>
                  <a:pt x="423" y="293"/>
                  <a:pt x="422" y="291"/>
                  <a:pt x="422" y="289"/>
                </a:cubicBezTo>
                <a:cubicBezTo>
                  <a:pt x="422" y="289"/>
                  <a:pt x="422" y="289"/>
                  <a:pt x="423" y="289"/>
                </a:cubicBezTo>
                <a:cubicBezTo>
                  <a:pt x="423" y="289"/>
                  <a:pt x="423" y="288"/>
                  <a:pt x="423" y="288"/>
                </a:cubicBezTo>
                <a:cubicBezTo>
                  <a:pt x="423" y="288"/>
                  <a:pt x="423" y="288"/>
                  <a:pt x="423" y="288"/>
                </a:cubicBezTo>
                <a:cubicBezTo>
                  <a:pt x="423" y="288"/>
                  <a:pt x="423" y="288"/>
                  <a:pt x="423" y="288"/>
                </a:cubicBezTo>
                <a:cubicBezTo>
                  <a:pt x="423" y="288"/>
                  <a:pt x="423" y="288"/>
                  <a:pt x="423" y="288"/>
                </a:cubicBezTo>
                <a:cubicBezTo>
                  <a:pt x="423" y="288"/>
                  <a:pt x="423" y="287"/>
                  <a:pt x="423" y="287"/>
                </a:cubicBezTo>
                <a:cubicBezTo>
                  <a:pt x="424" y="286"/>
                  <a:pt x="424" y="285"/>
                  <a:pt x="424" y="284"/>
                </a:cubicBezTo>
                <a:cubicBezTo>
                  <a:pt x="423" y="282"/>
                  <a:pt x="423" y="280"/>
                  <a:pt x="423" y="278"/>
                </a:cubicBezTo>
                <a:cubicBezTo>
                  <a:pt x="422" y="277"/>
                  <a:pt x="422" y="277"/>
                  <a:pt x="422" y="278"/>
                </a:cubicBezTo>
                <a:cubicBezTo>
                  <a:pt x="421" y="279"/>
                  <a:pt x="421" y="281"/>
                  <a:pt x="421" y="283"/>
                </a:cubicBezTo>
                <a:cubicBezTo>
                  <a:pt x="421" y="285"/>
                  <a:pt x="421" y="286"/>
                  <a:pt x="421" y="288"/>
                </a:cubicBezTo>
                <a:cubicBezTo>
                  <a:pt x="421" y="287"/>
                  <a:pt x="420" y="285"/>
                  <a:pt x="420" y="284"/>
                </a:cubicBezTo>
                <a:cubicBezTo>
                  <a:pt x="418" y="279"/>
                  <a:pt x="417" y="275"/>
                  <a:pt x="416" y="271"/>
                </a:cubicBezTo>
                <a:cubicBezTo>
                  <a:pt x="414" y="262"/>
                  <a:pt x="413" y="254"/>
                  <a:pt x="413" y="245"/>
                </a:cubicBezTo>
                <a:cubicBezTo>
                  <a:pt x="413" y="244"/>
                  <a:pt x="412" y="244"/>
                  <a:pt x="412" y="245"/>
                </a:cubicBezTo>
                <a:cubicBezTo>
                  <a:pt x="411" y="254"/>
                  <a:pt x="413" y="263"/>
                  <a:pt x="414" y="271"/>
                </a:cubicBezTo>
                <a:cubicBezTo>
                  <a:pt x="415" y="278"/>
                  <a:pt x="417" y="285"/>
                  <a:pt x="419" y="292"/>
                </a:cubicBezTo>
                <a:cubicBezTo>
                  <a:pt x="417" y="287"/>
                  <a:pt x="414" y="282"/>
                  <a:pt x="410" y="277"/>
                </a:cubicBezTo>
                <a:cubicBezTo>
                  <a:pt x="410" y="277"/>
                  <a:pt x="410" y="276"/>
                  <a:pt x="410" y="276"/>
                </a:cubicBezTo>
                <a:cubicBezTo>
                  <a:pt x="410" y="276"/>
                  <a:pt x="410" y="275"/>
                  <a:pt x="410" y="274"/>
                </a:cubicBezTo>
                <a:cubicBezTo>
                  <a:pt x="410" y="274"/>
                  <a:pt x="410" y="273"/>
                  <a:pt x="409" y="273"/>
                </a:cubicBezTo>
                <a:cubicBezTo>
                  <a:pt x="409" y="273"/>
                  <a:pt x="409" y="273"/>
                  <a:pt x="409" y="273"/>
                </a:cubicBezTo>
                <a:cubicBezTo>
                  <a:pt x="408" y="273"/>
                  <a:pt x="408" y="274"/>
                  <a:pt x="408" y="274"/>
                </a:cubicBezTo>
                <a:cubicBezTo>
                  <a:pt x="407" y="272"/>
                  <a:pt x="406" y="270"/>
                  <a:pt x="405" y="268"/>
                </a:cubicBezTo>
                <a:cubicBezTo>
                  <a:pt x="401" y="262"/>
                  <a:pt x="397" y="255"/>
                  <a:pt x="393" y="249"/>
                </a:cubicBezTo>
                <a:cubicBezTo>
                  <a:pt x="389" y="244"/>
                  <a:pt x="384" y="239"/>
                  <a:pt x="379" y="234"/>
                </a:cubicBezTo>
                <a:cubicBezTo>
                  <a:pt x="377" y="232"/>
                  <a:pt x="375" y="229"/>
                  <a:pt x="373" y="227"/>
                </a:cubicBezTo>
                <a:cubicBezTo>
                  <a:pt x="372" y="221"/>
                  <a:pt x="373" y="215"/>
                  <a:pt x="373" y="210"/>
                </a:cubicBezTo>
                <a:close/>
                <a:moveTo>
                  <a:pt x="343" y="137"/>
                </a:moveTo>
                <a:cubicBezTo>
                  <a:pt x="349" y="146"/>
                  <a:pt x="355" y="156"/>
                  <a:pt x="359" y="166"/>
                </a:cubicBezTo>
                <a:cubicBezTo>
                  <a:pt x="363" y="175"/>
                  <a:pt x="368" y="185"/>
                  <a:pt x="369" y="196"/>
                </a:cubicBezTo>
                <a:cubicBezTo>
                  <a:pt x="370" y="199"/>
                  <a:pt x="370" y="203"/>
                  <a:pt x="370" y="207"/>
                </a:cubicBezTo>
                <a:cubicBezTo>
                  <a:pt x="370" y="210"/>
                  <a:pt x="369" y="213"/>
                  <a:pt x="369" y="216"/>
                </a:cubicBezTo>
                <a:cubicBezTo>
                  <a:pt x="369" y="218"/>
                  <a:pt x="369" y="221"/>
                  <a:pt x="370" y="223"/>
                </a:cubicBezTo>
                <a:cubicBezTo>
                  <a:pt x="368" y="221"/>
                  <a:pt x="365" y="219"/>
                  <a:pt x="363" y="216"/>
                </a:cubicBezTo>
                <a:cubicBezTo>
                  <a:pt x="363" y="216"/>
                  <a:pt x="363" y="216"/>
                  <a:pt x="363" y="216"/>
                </a:cubicBezTo>
                <a:cubicBezTo>
                  <a:pt x="363" y="216"/>
                  <a:pt x="363" y="216"/>
                  <a:pt x="363" y="215"/>
                </a:cubicBezTo>
                <a:cubicBezTo>
                  <a:pt x="364" y="200"/>
                  <a:pt x="357" y="185"/>
                  <a:pt x="352" y="170"/>
                </a:cubicBezTo>
                <a:cubicBezTo>
                  <a:pt x="348" y="157"/>
                  <a:pt x="346" y="144"/>
                  <a:pt x="340" y="132"/>
                </a:cubicBezTo>
                <a:cubicBezTo>
                  <a:pt x="341" y="134"/>
                  <a:pt x="342" y="136"/>
                  <a:pt x="343" y="137"/>
                </a:cubicBezTo>
                <a:close/>
                <a:moveTo>
                  <a:pt x="321" y="108"/>
                </a:moveTo>
                <a:cubicBezTo>
                  <a:pt x="322" y="110"/>
                  <a:pt x="325" y="112"/>
                  <a:pt x="326" y="114"/>
                </a:cubicBezTo>
                <a:cubicBezTo>
                  <a:pt x="326" y="115"/>
                  <a:pt x="326" y="116"/>
                  <a:pt x="326" y="116"/>
                </a:cubicBezTo>
                <a:cubicBezTo>
                  <a:pt x="328" y="118"/>
                  <a:pt x="329" y="119"/>
                  <a:pt x="330" y="121"/>
                </a:cubicBezTo>
                <a:cubicBezTo>
                  <a:pt x="330" y="121"/>
                  <a:pt x="330" y="121"/>
                  <a:pt x="330" y="121"/>
                </a:cubicBezTo>
                <a:cubicBezTo>
                  <a:pt x="331" y="124"/>
                  <a:pt x="331" y="127"/>
                  <a:pt x="334" y="129"/>
                </a:cubicBezTo>
                <a:cubicBezTo>
                  <a:pt x="334" y="130"/>
                  <a:pt x="335" y="130"/>
                  <a:pt x="336" y="129"/>
                </a:cubicBezTo>
                <a:cubicBezTo>
                  <a:pt x="343" y="143"/>
                  <a:pt x="344" y="158"/>
                  <a:pt x="349" y="172"/>
                </a:cubicBezTo>
                <a:cubicBezTo>
                  <a:pt x="354" y="186"/>
                  <a:pt x="360" y="200"/>
                  <a:pt x="361" y="215"/>
                </a:cubicBezTo>
                <a:cubicBezTo>
                  <a:pt x="356" y="211"/>
                  <a:pt x="351" y="208"/>
                  <a:pt x="345" y="205"/>
                </a:cubicBezTo>
                <a:cubicBezTo>
                  <a:pt x="339" y="201"/>
                  <a:pt x="333" y="198"/>
                  <a:pt x="327" y="195"/>
                </a:cubicBezTo>
                <a:cubicBezTo>
                  <a:pt x="328" y="184"/>
                  <a:pt x="322" y="174"/>
                  <a:pt x="317" y="164"/>
                </a:cubicBezTo>
                <a:cubicBezTo>
                  <a:pt x="314" y="157"/>
                  <a:pt x="311" y="150"/>
                  <a:pt x="310" y="143"/>
                </a:cubicBezTo>
                <a:cubicBezTo>
                  <a:pt x="308" y="135"/>
                  <a:pt x="308" y="129"/>
                  <a:pt x="309" y="121"/>
                </a:cubicBezTo>
                <a:cubicBezTo>
                  <a:pt x="309" y="121"/>
                  <a:pt x="308" y="121"/>
                  <a:pt x="308" y="121"/>
                </a:cubicBezTo>
                <a:cubicBezTo>
                  <a:pt x="305" y="126"/>
                  <a:pt x="306" y="132"/>
                  <a:pt x="307" y="137"/>
                </a:cubicBezTo>
                <a:cubicBezTo>
                  <a:pt x="308" y="145"/>
                  <a:pt x="310" y="152"/>
                  <a:pt x="313" y="159"/>
                </a:cubicBezTo>
                <a:cubicBezTo>
                  <a:pt x="318" y="171"/>
                  <a:pt x="324" y="182"/>
                  <a:pt x="325" y="194"/>
                </a:cubicBezTo>
                <a:cubicBezTo>
                  <a:pt x="319" y="191"/>
                  <a:pt x="312" y="188"/>
                  <a:pt x="305" y="187"/>
                </a:cubicBezTo>
                <a:cubicBezTo>
                  <a:pt x="304" y="187"/>
                  <a:pt x="304" y="186"/>
                  <a:pt x="303" y="186"/>
                </a:cubicBezTo>
                <a:cubicBezTo>
                  <a:pt x="303" y="186"/>
                  <a:pt x="303" y="185"/>
                  <a:pt x="303" y="185"/>
                </a:cubicBezTo>
                <a:cubicBezTo>
                  <a:pt x="300" y="180"/>
                  <a:pt x="301" y="175"/>
                  <a:pt x="300" y="170"/>
                </a:cubicBezTo>
                <a:cubicBezTo>
                  <a:pt x="300" y="164"/>
                  <a:pt x="300" y="158"/>
                  <a:pt x="300" y="153"/>
                </a:cubicBezTo>
                <a:cubicBezTo>
                  <a:pt x="300" y="142"/>
                  <a:pt x="302" y="133"/>
                  <a:pt x="306" y="123"/>
                </a:cubicBezTo>
                <a:cubicBezTo>
                  <a:pt x="308" y="118"/>
                  <a:pt x="309" y="113"/>
                  <a:pt x="312" y="108"/>
                </a:cubicBezTo>
                <a:cubicBezTo>
                  <a:pt x="312" y="108"/>
                  <a:pt x="312" y="108"/>
                  <a:pt x="312" y="107"/>
                </a:cubicBezTo>
                <a:cubicBezTo>
                  <a:pt x="312" y="107"/>
                  <a:pt x="312" y="107"/>
                  <a:pt x="312" y="107"/>
                </a:cubicBezTo>
                <a:cubicBezTo>
                  <a:pt x="313" y="106"/>
                  <a:pt x="314" y="105"/>
                  <a:pt x="314" y="104"/>
                </a:cubicBezTo>
                <a:cubicBezTo>
                  <a:pt x="315" y="103"/>
                  <a:pt x="320" y="107"/>
                  <a:pt x="321" y="108"/>
                </a:cubicBezTo>
                <a:close/>
                <a:moveTo>
                  <a:pt x="297" y="173"/>
                </a:moveTo>
                <a:cubicBezTo>
                  <a:pt x="297" y="177"/>
                  <a:pt x="297" y="181"/>
                  <a:pt x="299" y="185"/>
                </a:cubicBezTo>
                <a:cubicBezTo>
                  <a:pt x="297" y="185"/>
                  <a:pt x="295" y="184"/>
                  <a:pt x="293" y="184"/>
                </a:cubicBezTo>
                <a:cubicBezTo>
                  <a:pt x="293" y="184"/>
                  <a:pt x="293" y="183"/>
                  <a:pt x="293" y="183"/>
                </a:cubicBezTo>
                <a:cubicBezTo>
                  <a:pt x="293" y="183"/>
                  <a:pt x="293" y="182"/>
                  <a:pt x="293" y="182"/>
                </a:cubicBezTo>
                <a:cubicBezTo>
                  <a:pt x="288" y="170"/>
                  <a:pt x="292" y="155"/>
                  <a:pt x="295" y="142"/>
                </a:cubicBezTo>
                <a:cubicBezTo>
                  <a:pt x="297" y="136"/>
                  <a:pt x="298" y="129"/>
                  <a:pt x="300" y="122"/>
                </a:cubicBezTo>
                <a:cubicBezTo>
                  <a:pt x="302" y="118"/>
                  <a:pt x="303" y="114"/>
                  <a:pt x="307" y="112"/>
                </a:cubicBezTo>
                <a:cubicBezTo>
                  <a:pt x="306" y="114"/>
                  <a:pt x="305" y="116"/>
                  <a:pt x="305" y="117"/>
                </a:cubicBezTo>
                <a:cubicBezTo>
                  <a:pt x="303" y="123"/>
                  <a:pt x="300" y="129"/>
                  <a:pt x="299" y="136"/>
                </a:cubicBezTo>
                <a:cubicBezTo>
                  <a:pt x="298" y="141"/>
                  <a:pt x="297" y="147"/>
                  <a:pt x="297" y="152"/>
                </a:cubicBezTo>
                <a:cubicBezTo>
                  <a:pt x="297" y="159"/>
                  <a:pt x="297" y="166"/>
                  <a:pt x="297" y="173"/>
                </a:cubicBezTo>
                <a:close/>
                <a:moveTo>
                  <a:pt x="239" y="8"/>
                </a:moveTo>
                <a:cubicBezTo>
                  <a:pt x="238" y="6"/>
                  <a:pt x="245" y="10"/>
                  <a:pt x="246" y="10"/>
                </a:cubicBezTo>
                <a:cubicBezTo>
                  <a:pt x="249" y="12"/>
                  <a:pt x="252" y="14"/>
                  <a:pt x="256" y="16"/>
                </a:cubicBezTo>
                <a:cubicBezTo>
                  <a:pt x="264" y="22"/>
                  <a:pt x="272" y="30"/>
                  <a:pt x="279" y="38"/>
                </a:cubicBezTo>
                <a:cubicBezTo>
                  <a:pt x="288" y="49"/>
                  <a:pt x="296" y="60"/>
                  <a:pt x="302" y="73"/>
                </a:cubicBezTo>
                <a:cubicBezTo>
                  <a:pt x="305" y="80"/>
                  <a:pt x="309" y="86"/>
                  <a:pt x="311" y="93"/>
                </a:cubicBezTo>
                <a:cubicBezTo>
                  <a:pt x="312" y="96"/>
                  <a:pt x="313" y="99"/>
                  <a:pt x="315" y="102"/>
                </a:cubicBezTo>
                <a:cubicBezTo>
                  <a:pt x="312" y="102"/>
                  <a:pt x="310" y="104"/>
                  <a:pt x="309" y="107"/>
                </a:cubicBezTo>
                <a:cubicBezTo>
                  <a:pt x="306" y="108"/>
                  <a:pt x="304" y="110"/>
                  <a:pt x="302" y="112"/>
                </a:cubicBezTo>
                <a:cubicBezTo>
                  <a:pt x="302" y="108"/>
                  <a:pt x="300" y="104"/>
                  <a:pt x="299" y="101"/>
                </a:cubicBezTo>
                <a:cubicBezTo>
                  <a:pt x="298" y="99"/>
                  <a:pt x="297" y="97"/>
                  <a:pt x="297" y="96"/>
                </a:cubicBezTo>
                <a:cubicBezTo>
                  <a:pt x="297" y="96"/>
                  <a:pt x="297" y="96"/>
                  <a:pt x="297" y="95"/>
                </a:cubicBezTo>
                <a:cubicBezTo>
                  <a:pt x="298" y="93"/>
                  <a:pt x="297" y="90"/>
                  <a:pt x="297" y="88"/>
                </a:cubicBezTo>
                <a:cubicBezTo>
                  <a:pt x="297" y="85"/>
                  <a:pt x="297" y="82"/>
                  <a:pt x="298" y="79"/>
                </a:cubicBezTo>
                <a:cubicBezTo>
                  <a:pt x="298" y="79"/>
                  <a:pt x="297" y="79"/>
                  <a:pt x="297" y="79"/>
                </a:cubicBezTo>
                <a:cubicBezTo>
                  <a:pt x="296" y="82"/>
                  <a:pt x="296" y="85"/>
                  <a:pt x="296" y="88"/>
                </a:cubicBezTo>
                <a:cubicBezTo>
                  <a:pt x="296" y="89"/>
                  <a:pt x="295" y="91"/>
                  <a:pt x="295" y="93"/>
                </a:cubicBezTo>
                <a:cubicBezTo>
                  <a:pt x="294" y="91"/>
                  <a:pt x="293" y="89"/>
                  <a:pt x="292" y="87"/>
                </a:cubicBezTo>
                <a:cubicBezTo>
                  <a:pt x="293" y="86"/>
                  <a:pt x="293" y="83"/>
                  <a:pt x="293" y="82"/>
                </a:cubicBezTo>
                <a:cubicBezTo>
                  <a:pt x="293" y="80"/>
                  <a:pt x="293" y="77"/>
                  <a:pt x="293" y="75"/>
                </a:cubicBezTo>
                <a:cubicBezTo>
                  <a:pt x="293" y="74"/>
                  <a:pt x="292" y="74"/>
                  <a:pt x="292" y="75"/>
                </a:cubicBezTo>
                <a:cubicBezTo>
                  <a:pt x="291" y="77"/>
                  <a:pt x="291" y="80"/>
                  <a:pt x="291" y="82"/>
                </a:cubicBezTo>
                <a:cubicBezTo>
                  <a:pt x="291" y="83"/>
                  <a:pt x="291" y="84"/>
                  <a:pt x="291" y="84"/>
                </a:cubicBezTo>
                <a:cubicBezTo>
                  <a:pt x="290" y="83"/>
                  <a:pt x="289" y="82"/>
                  <a:pt x="289" y="81"/>
                </a:cubicBezTo>
                <a:cubicBezTo>
                  <a:pt x="289" y="80"/>
                  <a:pt x="288" y="78"/>
                  <a:pt x="288" y="77"/>
                </a:cubicBezTo>
                <a:cubicBezTo>
                  <a:pt x="288" y="75"/>
                  <a:pt x="288" y="74"/>
                  <a:pt x="288" y="72"/>
                </a:cubicBezTo>
                <a:cubicBezTo>
                  <a:pt x="288" y="71"/>
                  <a:pt x="287" y="71"/>
                  <a:pt x="287" y="72"/>
                </a:cubicBezTo>
                <a:cubicBezTo>
                  <a:pt x="287" y="74"/>
                  <a:pt x="287" y="76"/>
                  <a:pt x="287" y="78"/>
                </a:cubicBezTo>
                <a:cubicBezTo>
                  <a:pt x="287" y="78"/>
                  <a:pt x="287" y="78"/>
                  <a:pt x="287" y="78"/>
                </a:cubicBezTo>
                <a:cubicBezTo>
                  <a:pt x="287" y="78"/>
                  <a:pt x="286" y="77"/>
                  <a:pt x="286" y="76"/>
                </a:cubicBezTo>
                <a:cubicBezTo>
                  <a:pt x="285" y="76"/>
                  <a:pt x="284" y="75"/>
                  <a:pt x="284" y="73"/>
                </a:cubicBezTo>
                <a:cubicBezTo>
                  <a:pt x="284" y="71"/>
                  <a:pt x="284" y="69"/>
                  <a:pt x="284" y="67"/>
                </a:cubicBezTo>
                <a:cubicBezTo>
                  <a:pt x="284" y="64"/>
                  <a:pt x="284" y="62"/>
                  <a:pt x="284" y="59"/>
                </a:cubicBezTo>
                <a:cubicBezTo>
                  <a:pt x="284" y="58"/>
                  <a:pt x="284" y="58"/>
                  <a:pt x="284" y="59"/>
                </a:cubicBezTo>
                <a:cubicBezTo>
                  <a:pt x="283" y="61"/>
                  <a:pt x="283" y="64"/>
                  <a:pt x="283" y="67"/>
                </a:cubicBezTo>
                <a:cubicBezTo>
                  <a:pt x="283" y="68"/>
                  <a:pt x="282" y="70"/>
                  <a:pt x="282" y="71"/>
                </a:cubicBezTo>
                <a:cubicBezTo>
                  <a:pt x="281" y="69"/>
                  <a:pt x="279" y="67"/>
                  <a:pt x="277" y="65"/>
                </a:cubicBezTo>
                <a:cubicBezTo>
                  <a:pt x="278" y="63"/>
                  <a:pt x="278" y="62"/>
                  <a:pt x="278" y="60"/>
                </a:cubicBezTo>
                <a:cubicBezTo>
                  <a:pt x="278" y="58"/>
                  <a:pt x="278" y="56"/>
                  <a:pt x="278" y="55"/>
                </a:cubicBezTo>
                <a:cubicBezTo>
                  <a:pt x="278" y="54"/>
                  <a:pt x="277" y="53"/>
                  <a:pt x="277" y="54"/>
                </a:cubicBezTo>
                <a:cubicBezTo>
                  <a:pt x="277" y="57"/>
                  <a:pt x="276" y="61"/>
                  <a:pt x="276" y="64"/>
                </a:cubicBezTo>
                <a:cubicBezTo>
                  <a:pt x="275" y="63"/>
                  <a:pt x="274" y="61"/>
                  <a:pt x="273" y="60"/>
                </a:cubicBezTo>
                <a:cubicBezTo>
                  <a:pt x="273" y="59"/>
                  <a:pt x="273" y="58"/>
                  <a:pt x="273" y="56"/>
                </a:cubicBezTo>
                <a:cubicBezTo>
                  <a:pt x="273" y="55"/>
                  <a:pt x="273" y="53"/>
                  <a:pt x="273" y="51"/>
                </a:cubicBezTo>
                <a:cubicBezTo>
                  <a:pt x="273" y="50"/>
                  <a:pt x="272" y="50"/>
                  <a:pt x="272" y="51"/>
                </a:cubicBezTo>
                <a:cubicBezTo>
                  <a:pt x="272" y="53"/>
                  <a:pt x="272" y="55"/>
                  <a:pt x="272" y="56"/>
                </a:cubicBezTo>
                <a:cubicBezTo>
                  <a:pt x="272" y="57"/>
                  <a:pt x="271" y="58"/>
                  <a:pt x="271" y="59"/>
                </a:cubicBezTo>
                <a:cubicBezTo>
                  <a:pt x="270" y="58"/>
                  <a:pt x="269" y="57"/>
                  <a:pt x="268" y="56"/>
                </a:cubicBezTo>
                <a:cubicBezTo>
                  <a:pt x="268" y="56"/>
                  <a:pt x="268" y="56"/>
                  <a:pt x="268" y="56"/>
                </a:cubicBezTo>
                <a:cubicBezTo>
                  <a:pt x="270" y="55"/>
                  <a:pt x="270" y="52"/>
                  <a:pt x="270" y="50"/>
                </a:cubicBezTo>
                <a:cubicBezTo>
                  <a:pt x="271" y="48"/>
                  <a:pt x="271" y="46"/>
                  <a:pt x="271" y="44"/>
                </a:cubicBezTo>
                <a:cubicBezTo>
                  <a:pt x="271" y="43"/>
                  <a:pt x="270" y="43"/>
                  <a:pt x="270" y="44"/>
                </a:cubicBezTo>
                <a:cubicBezTo>
                  <a:pt x="269" y="46"/>
                  <a:pt x="269" y="48"/>
                  <a:pt x="269" y="50"/>
                </a:cubicBezTo>
                <a:cubicBezTo>
                  <a:pt x="268" y="52"/>
                  <a:pt x="267" y="54"/>
                  <a:pt x="267" y="56"/>
                </a:cubicBezTo>
                <a:cubicBezTo>
                  <a:pt x="267" y="56"/>
                  <a:pt x="267" y="56"/>
                  <a:pt x="267" y="56"/>
                </a:cubicBezTo>
                <a:cubicBezTo>
                  <a:pt x="266" y="55"/>
                  <a:pt x="264" y="54"/>
                  <a:pt x="262" y="54"/>
                </a:cubicBezTo>
                <a:cubicBezTo>
                  <a:pt x="263" y="52"/>
                  <a:pt x="264" y="49"/>
                  <a:pt x="264" y="47"/>
                </a:cubicBezTo>
                <a:cubicBezTo>
                  <a:pt x="265" y="45"/>
                  <a:pt x="265" y="43"/>
                  <a:pt x="265" y="40"/>
                </a:cubicBezTo>
                <a:cubicBezTo>
                  <a:pt x="265" y="40"/>
                  <a:pt x="263" y="40"/>
                  <a:pt x="263" y="40"/>
                </a:cubicBezTo>
                <a:cubicBezTo>
                  <a:pt x="264" y="43"/>
                  <a:pt x="263" y="45"/>
                  <a:pt x="262" y="47"/>
                </a:cubicBezTo>
                <a:cubicBezTo>
                  <a:pt x="262" y="49"/>
                  <a:pt x="261" y="51"/>
                  <a:pt x="261" y="53"/>
                </a:cubicBezTo>
                <a:cubicBezTo>
                  <a:pt x="261" y="53"/>
                  <a:pt x="261" y="54"/>
                  <a:pt x="261" y="54"/>
                </a:cubicBezTo>
                <a:cubicBezTo>
                  <a:pt x="260" y="54"/>
                  <a:pt x="259" y="54"/>
                  <a:pt x="257" y="54"/>
                </a:cubicBezTo>
                <a:cubicBezTo>
                  <a:pt x="257" y="54"/>
                  <a:pt x="257" y="53"/>
                  <a:pt x="257" y="53"/>
                </a:cubicBezTo>
                <a:cubicBezTo>
                  <a:pt x="257" y="53"/>
                  <a:pt x="257" y="53"/>
                  <a:pt x="257" y="53"/>
                </a:cubicBezTo>
                <a:cubicBezTo>
                  <a:pt x="257" y="51"/>
                  <a:pt x="258" y="49"/>
                  <a:pt x="258" y="48"/>
                </a:cubicBezTo>
                <a:cubicBezTo>
                  <a:pt x="258" y="47"/>
                  <a:pt x="258" y="47"/>
                  <a:pt x="257" y="47"/>
                </a:cubicBezTo>
                <a:cubicBezTo>
                  <a:pt x="257" y="49"/>
                  <a:pt x="256" y="50"/>
                  <a:pt x="256" y="51"/>
                </a:cubicBezTo>
                <a:cubicBezTo>
                  <a:pt x="255" y="49"/>
                  <a:pt x="255" y="48"/>
                  <a:pt x="254" y="46"/>
                </a:cubicBezTo>
                <a:cubicBezTo>
                  <a:pt x="254" y="46"/>
                  <a:pt x="254" y="46"/>
                  <a:pt x="254" y="46"/>
                </a:cubicBezTo>
                <a:cubicBezTo>
                  <a:pt x="255" y="44"/>
                  <a:pt x="255" y="40"/>
                  <a:pt x="256" y="38"/>
                </a:cubicBezTo>
                <a:cubicBezTo>
                  <a:pt x="256" y="35"/>
                  <a:pt x="256" y="32"/>
                  <a:pt x="256" y="28"/>
                </a:cubicBezTo>
                <a:cubicBezTo>
                  <a:pt x="256" y="28"/>
                  <a:pt x="255" y="28"/>
                  <a:pt x="255" y="28"/>
                </a:cubicBezTo>
                <a:cubicBezTo>
                  <a:pt x="255" y="32"/>
                  <a:pt x="254" y="35"/>
                  <a:pt x="254" y="38"/>
                </a:cubicBezTo>
                <a:cubicBezTo>
                  <a:pt x="253" y="40"/>
                  <a:pt x="253" y="42"/>
                  <a:pt x="253" y="43"/>
                </a:cubicBezTo>
                <a:cubicBezTo>
                  <a:pt x="248" y="32"/>
                  <a:pt x="243" y="20"/>
                  <a:pt x="238" y="9"/>
                </a:cubicBezTo>
                <a:cubicBezTo>
                  <a:pt x="238" y="9"/>
                  <a:pt x="239" y="8"/>
                  <a:pt x="239" y="8"/>
                </a:cubicBezTo>
                <a:close/>
                <a:moveTo>
                  <a:pt x="235" y="9"/>
                </a:moveTo>
                <a:cubicBezTo>
                  <a:pt x="236" y="9"/>
                  <a:pt x="236" y="9"/>
                  <a:pt x="237" y="9"/>
                </a:cubicBezTo>
                <a:cubicBezTo>
                  <a:pt x="237" y="17"/>
                  <a:pt x="242" y="24"/>
                  <a:pt x="245" y="31"/>
                </a:cubicBezTo>
                <a:cubicBezTo>
                  <a:pt x="248" y="40"/>
                  <a:pt x="251" y="48"/>
                  <a:pt x="255" y="56"/>
                </a:cubicBezTo>
                <a:cubicBezTo>
                  <a:pt x="255" y="57"/>
                  <a:pt x="255" y="57"/>
                  <a:pt x="255" y="58"/>
                </a:cubicBezTo>
                <a:cubicBezTo>
                  <a:pt x="255" y="58"/>
                  <a:pt x="255" y="58"/>
                  <a:pt x="256" y="58"/>
                </a:cubicBezTo>
                <a:cubicBezTo>
                  <a:pt x="256" y="58"/>
                  <a:pt x="256" y="58"/>
                  <a:pt x="256" y="58"/>
                </a:cubicBezTo>
                <a:cubicBezTo>
                  <a:pt x="256" y="58"/>
                  <a:pt x="257" y="58"/>
                  <a:pt x="258" y="58"/>
                </a:cubicBezTo>
                <a:cubicBezTo>
                  <a:pt x="262" y="55"/>
                  <a:pt x="267" y="60"/>
                  <a:pt x="270" y="63"/>
                </a:cubicBezTo>
                <a:cubicBezTo>
                  <a:pt x="276" y="68"/>
                  <a:pt x="280" y="75"/>
                  <a:pt x="284" y="81"/>
                </a:cubicBezTo>
                <a:cubicBezTo>
                  <a:pt x="291" y="91"/>
                  <a:pt x="300" y="105"/>
                  <a:pt x="298" y="117"/>
                </a:cubicBezTo>
                <a:cubicBezTo>
                  <a:pt x="298" y="117"/>
                  <a:pt x="298" y="118"/>
                  <a:pt x="298" y="118"/>
                </a:cubicBezTo>
                <a:cubicBezTo>
                  <a:pt x="298" y="120"/>
                  <a:pt x="297" y="122"/>
                  <a:pt x="296" y="123"/>
                </a:cubicBezTo>
                <a:cubicBezTo>
                  <a:pt x="294" y="131"/>
                  <a:pt x="293" y="138"/>
                  <a:pt x="291" y="146"/>
                </a:cubicBezTo>
                <a:cubicBezTo>
                  <a:pt x="289" y="154"/>
                  <a:pt x="286" y="164"/>
                  <a:pt x="287" y="174"/>
                </a:cubicBezTo>
                <a:cubicBezTo>
                  <a:pt x="284" y="170"/>
                  <a:pt x="281" y="166"/>
                  <a:pt x="278" y="162"/>
                </a:cubicBezTo>
                <a:cubicBezTo>
                  <a:pt x="270" y="150"/>
                  <a:pt x="262" y="137"/>
                  <a:pt x="255" y="124"/>
                </a:cubicBezTo>
                <a:cubicBezTo>
                  <a:pt x="251" y="117"/>
                  <a:pt x="248" y="110"/>
                  <a:pt x="245" y="102"/>
                </a:cubicBezTo>
                <a:cubicBezTo>
                  <a:pt x="245" y="102"/>
                  <a:pt x="245" y="102"/>
                  <a:pt x="245" y="102"/>
                </a:cubicBezTo>
                <a:cubicBezTo>
                  <a:pt x="245" y="100"/>
                  <a:pt x="245" y="97"/>
                  <a:pt x="244" y="95"/>
                </a:cubicBezTo>
                <a:cubicBezTo>
                  <a:pt x="244" y="93"/>
                  <a:pt x="244" y="91"/>
                  <a:pt x="244" y="89"/>
                </a:cubicBezTo>
                <a:cubicBezTo>
                  <a:pt x="244" y="87"/>
                  <a:pt x="242" y="87"/>
                  <a:pt x="242" y="89"/>
                </a:cubicBezTo>
                <a:cubicBezTo>
                  <a:pt x="242" y="91"/>
                  <a:pt x="242" y="93"/>
                  <a:pt x="242" y="95"/>
                </a:cubicBezTo>
                <a:cubicBezTo>
                  <a:pt x="241" y="92"/>
                  <a:pt x="241" y="88"/>
                  <a:pt x="240" y="85"/>
                </a:cubicBezTo>
                <a:cubicBezTo>
                  <a:pt x="239" y="72"/>
                  <a:pt x="239" y="60"/>
                  <a:pt x="236" y="47"/>
                </a:cubicBezTo>
                <a:cubicBezTo>
                  <a:pt x="235" y="47"/>
                  <a:pt x="235" y="46"/>
                  <a:pt x="234" y="46"/>
                </a:cubicBezTo>
                <a:cubicBezTo>
                  <a:pt x="232" y="46"/>
                  <a:pt x="233" y="34"/>
                  <a:pt x="232" y="32"/>
                </a:cubicBezTo>
                <a:cubicBezTo>
                  <a:pt x="231" y="26"/>
                  <a:pt x="229" y="21"/>
                  <a:pt x="229" y="16"/>
                </a:cubicBezTo>
                <a:cubicBezTo>
                  <a:pt x="229" y="15"/>
                  <a:pt x="229" y="15"/>
                  <a:pt x="228" y="15"/>
                </a:cubicBezTo>
                <a:cubicBezTo>
                  <a:pt x="230" y="11"/>
                  <a:pt x="232" y="5"/>
                  <a:pt x="235" y="9"/>
                </a:cubicBezTo>
                <a:close/>
                <a:moveTo>
                  <a:pt x="269" y="165"/>
                </a:moveTo>
                <a:cubicBezTo>
                  <a:pt x="262" y="157"/>
                  <a:pt x="255" y="149"/>
                  <a:pt x="250" y="140"/>
                </a:cubicBezTo>
                <a:cubicBezTo>
                  <a:pt x="240" y="123"/>
                  <a:pt x="233" y="106"/>
                  <a:pt x="228" y="87"/>
                </a:cubicBezTo>
                <a:cubicBezTo>
                  <a:pt x="223" y="68"/>
                  <a:pt x="220" y="49"/>
                  <a:pt x="224" y="29"/>
                </a:cubicBezTo>
                <a:cubicBezTo>
                  <a:pt x="225" y="27"/>
                  <a:pt x="225" y="25"/>
                  <a:pt x="226" y="23"/>
                </a:cubicBezTo>
                <a:cubicBezTo>
                  <a:pt x="226" y="28"/>
                  <a:pt x="229" y="32"/>
                  <a:pt x="229" y="37"/>
                </a:cubicBezTo>
                <a:cubicBezTo>
                  <a:pt x="229" y="41"/>
                  <a:pt x="227" y="48"/>
                  <a:pt x="232" y="50"/>
                </a:cubicBezTo>
                <a:cubicBezTo>
                  <a:pt x="235" y="61"/>
                  <a:pt x="234" y="74"/>
                  <a:pt x="236" y="86"/>
                </a:cubicBezTo>
                <a:cubicBezTo>
                  <a:pt x="238" y="98"/>
                  <a:pt x="243" y="110"/>
                  <a:pt x="249" y="121"/>
                </a:cubicBezTo>
                <a:cubicBezTo>
                  <a:pt x="255" y="134"/>
                  <a:pt x="263" y="146"/>
                  <a:pt x="271" y="158"/>
                </a:cubicBezTo>
                <a:cubicBezTo>
                  <a:pt x="274" y="163"/>
                  <a:pt x="277" y="168"/>
                  <a:pt x="281" y="172"/>
                </a:cubicBezTo>
                <a:cubicBezTo>
                  <a:pt x="282" y="174"/>
                  <a:pt x="285" y="176"/>
                  <a:pt x="288" y="178"/>
                </a:cubicBezTo>
                <a:cubicBezTo>
                  <a:pt x="288" y="179"/>
                  <a:pt x="288" y="181"/>
                  <a:pt x="289" y="182"/>
                </a:cubicBezTo>
                <a:cubicBezTo>
                  <a:pt x="281" y="178"/>
                  <a:pt x="275" y="171"/>
                  <a:pt x="269" y="165"/>
                </a:cubicBezTo>
                <a:close/>
                <a:moveTo>
                  <a:pt x="275" y="184"/>
                </a:moveTo>
                <a:cubicBezTo>
                  <a:pt x="279" y="184"/>
                  <a:pt x="284" y="185"/>
                  <a:pt x="289" y="186"/>
                </a:cubicBezTo>
                <a:cubicBezTo>
                  <a:pt x="289" y="187"/>
                  <a:pt x="290" y="187"/>
                  <a:pt x="290" y="187"/>
                </a:cubicBezTo>
                <a:cubicBezTo>
                  <a:pt x="291" y="187"/>
                  <a:pt x="291" y="187"/>
                  <a:pt x="292" y="187"/>
                </a:cubicBezTo>
                <a:cubicBezTo>
                  <a:pt x="294" y="188"/>
                  <a:pt x="296" y="188"/>
                  <a:pt x="298" y="188"/>
                </a:cubicBezTo>
                <a:cubicBezTo>
                  <a:pt x="306" y="190"/>
                  <a:pt x="314" y="192"/>
                  <a:pt x="321" y="196"/>
                </a:cubicBezTo>
                <a:cubicBezTo>
                  <a:pt x="337" y="205"/>
                  <a:pt x="354" y="211"/>
                  <a:pt x="366" y="224"/>
                </a:cubicBezTo>
                <a:cubicBezTo>
                  <a:pt x="372" y="231"/>
                  <a:pt x="378" y="237"/>
                  <a:pt x="384" y="244"/>
                </a:cubicBezTo>
                <a:cubicBezTo>
                  <a:pt x="390" y="250"/>
                  <a:pt x="394" y="257"/>
                  <a:pt x="398" y="264"/>
                </a:cubicBezTo>
                <a:cubicBezTo>
                  <a:pt x="406" y="276"/>
                  <a:pt x="416" y="289"/>
                  <a:pt x="422" y="303"/>
                </a:cubicBezTo>
                <a:cubicBezTo>
                  <a:pt x="421" y="303"/>
                  <a:pt x="421" y="304"/>
                  <a:pt x="421" y="304"/>
                </a:cubicBezTo>
                <a:cubicBezTo>
                  <a:pt x="420" y="305"/>
                  <a:pt x="419" y="307"/>
                  <a:pt x="418" y="308"/>
                </a:cubicBezTo>
                <a:cubicBezTo>
                  <a:pt x="418" y="307"/>
                  <a:pt x="418" y="307"/>
                  <a:pt x="418" y="307"/>
                </a:cubicBezTo>
                <a:cubicBezTo>
                  <a:pt x="406" y="285"/>
                  <a:pt x="397" y="261"/>
                  <a:pt x="378" y="244"/>
                </a:cubicBezTo>
                <a:cubicBezTo>
                  <a:pt x="369" y="235"/>
                  <a:pt x="359" y="228"/>
                  <a:pt x="349" y="220"/>
                </a:cubicBezTo>
                <a:cubicBezTo>
                  <a:pt x="339" y="212"/>
                  <a:pt x="330" y="203"/>
                  <a:pt x="319" y="197"/>
                </a:cubicBezTo>
                <a:cubicBezTo>
                  <a:pt x="308" y="192"/>
                  <a:pt x="295" y="189"/>
                  <a:pt x="283" y="187"/>
                </a:cubicBezTo>
                <a:cubicBezTo>
                  <a:pt x="272" y="186"/>
                  <a:pt x="261" y="184"/>
                  <a:pt x="250" y="186"/>
                </a:cubicBezTo>
                <a:cubicBezTo>
                  <a:pt x="239" y="187"/>
                  <a:pt x="229" y="191"/>
                  <a:pt x="219" y="198"/>
                </a:cubicBezTo>
                <a:cubicBezTo>
                  <a:pt x="209" y="205"/>
                  <a:pt x="206" y="214"/>
                  <a:pt x="201" y="225"/>
                </a:cubicBezTo>
                <a:cubicBezTo>
                  <a:pt x="200" y="226"/>
                  <a:pt x="202" y="227"/>
                  <a:pt x="202" y="226"/>
                </a:cubicBezTo>
                <a:cubicBezTo>
                  <a:pt x="206" y="221"/>
                  <a:pt x="208" y="216"/>
                  <a:pt x="211" y="211"/>
                </a:cubicBezTo>
                <a:cubicBezTo>
                  <a:pt x="215" y="206"/>
                  <a:pt x="220" y="202"/>
                  <a:pt x="226" y="198"/>
                </a:cubicBezTo>
                <a:cubicBezTo>
                  <a:pt x="236" y="192"/>
                  <a:pt x="246" y="189"/>
                  <a:pt x="258" y="189"/>
                </a:cubicBezTo>
                <a:cubicBezTo>
                  <a:pt x="270" y="189"/>
                  <a:pt x="282" y="190"/>
                  <a:pt x="294" y="193"/>
                </a:cubicBezTo>
                <a:cubicBezTo>
                  <a:pt x="305" y="195"/>
                  <a:pt x="316" y="198"/>
                  <a:pt x="325" y="205"/>
                </a:cubicBezTo>
                <a:cubicBezTo>
                  <a:pt x="334" y="212"/>
                  <a:pt x="343" y="219"/>
                  <a:pt x="352" y="226"/>
                </a:cubicBezTo>
                <a:cubicBezTo>
                  <a:pt x="361" y="233"/>
                  <a:pt x="371" y="240"/>
                  <a:pt x="379" y="249"/>
                </a:cubicBezTo>
                <a:cubicBezTo>
                  <a:pt x="388" y="258"/>
                  <a:pt x="394" y="269"/>
                  <a:pt x="401" y="281"/>
                </a:cubicBezTo>
                <a:cubicBezTo>
                  <a:pt x="403" y="285"/>
                  <a:pt x="405" y="289"/>
                  <a:pt x="407" y="293"/>
                </a:cubicBezTo>
                <a:cubicBezTo>
                  <a:pt x="400" y="284"/>
                  <a:pt x="391" y="275"/>
                  <a:pt x="383" y="266"/>
                </a:cubicBezTo>
                <a:cubicBezTo>
                  <a:pt x="376" y="260"/>
                  <a:pt x="370" y="253"/>
                  <a:pt x="362" y="247"/>
                </a:cubicBezTo>
                <a:cubicBezTo>
                  <a:pt x="357" y="242"/>
                  <a:pt x="351" y="238"/>
                  <a:pt x="344" y="236"/>
                </a:cubicBezTo>
                <a:cubicBezTo>
                  <a:pt x="343" y="236"/>
                  <a:pt x="343" y="237"/>
                  <a:pt x="344" y="237"/>
                </a:cubicBezTo>
                <a:cubicBezTo>
                  <a:pt x="360" y="243"/>
                  <a:pt x="372" y="258"/>
                  <a:pt x="384" y="270"/>
                </a:cubicBezTo>
                <a:cubicBezTo>
                  <a:pt x="395" y="281"/>
                  <a:pt x="406" y="293"/>
                  <a:pt x="413" y="306"/>
                </a:cubicBezTo>
                <a:cubicBezTo>
                  <a:pt x="413" y="306"/>
                  <a:pt x="413" y="306"/>
                  <a:pt x="413" y="306"/>
                </a:cubicBezTo>
                <a:cubicBezTo>
                  <a:pt x="412" y="305"/>
                  <a:pt x="411" y="304"/>
                  <a:pt x="409" y="303"/>
                </a:cubicBezTo>
                <a:cubicBezTo>
                  <a:pt x="405" y="298"/>
                  <a:pt x="402" y="294"/>
                  <a:pt x="398" y="289"/>
                </a:cubicBezTo>
                <a:cubicBezTo>
                  <a:pt x="389" y="280"/>
                  <a:pt x="378" y="273"/>
                  <a:pt x="368" y="265"/>
                </a:cubicBezTo>
                <a:cubicBezTo>
                  <a:pt x="368" y="264"/>
                  <a:pt x="367" y="265"/>
                  <a:pt x="368" y="265"/>
                </a:cubicBezTo>
                <a:cubicBezTo>
                  <a:pt x="377" y="274"/>
                  <a:pt x="388" y="281"/>
                  <a:pt x="396" y="291"/>
                </a:cubicBezTo>
                <a:cubicBezTo>
                  <a:pt x="400" y="295"/>
                  <a:pt x="404" y="300"/>
                  <a:pt x="408" y="304"/>
                </a:cubicBezTo>
                <a:cubicBezTo>
                  <a:pt x="408" y="305"/>
                  <a:pt x="408" y="305"/>
                  <a:pt x="409" y="306"/>
                </a:cubicBezTo>
                <a:cubicBezTo>
                  <a:pt x="404" y="302"/>
                  <a:pt x="398" y="299"/>
                  <a:pt x="393" y="295"/>
                </a:cubicBezTo>
                <a:cubicBezTo>
                  <a:pt x="388" y="290"/>
                  <a:pt x="383" y="285"/>
                  <a:pt x="376" y="282"/>
                </a:cubicBezTo>
                <a:cubicBezTo>
                  <a:pt x="376" y="282"/>
                  <a:pt x="376" y="282"/>
                  <a:pt x="376" y="283"/>
                </a:cubicBezTo>
                <a:cubicBezTo>
                  <a:pt x="388" y="292"/>
                  <a:pt x="401" y="301"/>
                  <a:pt x="412" y="311"/>
                </a:cubicBezTo>
                <a:cubicBezTo>
                  <a:pt x="412" y="311"/>
                  <a:pt x="412" y="311"/>
                  <a:pt x="412" y="311"/>
                </a:cubicBezTo>
                <a:cubicBezTo>
                  <a:pt x="399" y="301"/>
                  <a:pt x="384" y="291"/>
                  <a:pt x="368" y="285"/>
                </a:cubicBezTo>
                <a:cubicBezTo>
                  <a:pt x="359" y="282"/>
                  <a:pt x="349" y="280"/>
                  <a:pt x="341" y="276"/>
                </a:cubicBezTo>
                <a:cubicBezTo>
                  <a:pt x="334" y="272"/>
                  <a:pt x="327" y="268"/>
                  <a:pt x="319" y="266"/>
                </a:cubicBezTo>
                <a:cubicBezTo>
                  <a:pt x="319" y="266"/>
                  <a:pt x="319" y="266"/>
                  <a:pt x="319" y="266"/>
                </a:cubicBezTo>
                <a:cubicBezTo>
                  <a:pt x="321" y="269"/>
                  <a:pt x="324" y="270"/>
                  <a:pt x="328" y="271"/>
                </a:cubicBezTo>
                <a:cubicBezTo>
                  <a:pt x="332" y="273"/>
                  <a:pt x="337" y="276"/>
                  <a:pt x="341" y="278"/>
                </a:cubicBezTo>
                <a:cubicBezTo>
                  <a:pt x="349" y="281"/>
                  <a:pt x="357" y="284"/>
                  <a:pt x="364" y="286"/>
                </a:cubicBezTo>
                <a:cubicBezTo>
                  <a:pt x="373" y="290"/>
                  <a:pt x="383" y="293"/>
                  <a:pt x="391" y="299"/>
                </a:cubicBezTo>
                <a:cubicBezTo>
                  <a:pt x="397" y="304"/>
                  <a:pt x="403" y="308"/>
                  <a:pt x="409" y="313"/>
                </a:cubicBezTo>
                <a:cubicBezTo>
                  <a:pt x="409" y="313"/>
                  <a:pt x="408" y="313"/>
                  <a:pt x="408" y="312"/>
                </a:cubicBezTo>
                <a:cubicBezTo>
                  <a:pt x="407" y="312"/>
                  <a:pt x="407" y="311"/>
                  <a:pt x="406" y="311"/>
                </a:cubicBezTo>
                <a:cubicBezTo>
                  <a:pt x="405" y="310"/>
                  <a:pt x="404" y="310"/>
                  <a:pt x="404" y="309"/>
                </a:cubicBezTo>
                <a:cubicBezTo>
                  <a:pt x="403" y="308"/>
                  <a:pt x="402" y="307"/>
                  <a:pt x="400" y="307"/>
                </a:cubicBezTo>
                <a:cubicBezTo>
                  <a:pt x="396" y="304"/>
                  <a:pt x="392" y="301"/>
                  <a:pt x="388" y="299"/>
                </a:cubicBezTo>
                <a:cubicBezTo>
                  <a:pt x="379" y="294"/>
                  <a:pt x="369" y="292"/>
                  <a:pt x="360" y="288"/>
                </a:cubicBezTo>
                <a:cubicBezTo>
                  <a:pt x="350" y="284"/>
                  <a:pt x="340" y="281"/>
                  <a:pt x="331" y="277"/>
                </a:cubicBezTo>
                <a:cubicBezTo>
                  <a:pt x="321" y="273"/>
                  <a:pt x="311" y="271"/>
                  <a:pt x="302" y="265"/>
                </a:cubicBezTo>
                <a:cubicBezTo>
                  <a:pt x="302" y="265"/>
                  <a:pt x="301" y="266"/>
                  <a:pt x="302" y="266"/>
                </a:cubicBezTo>
                <a:cubicBezTo>
                  <a:pt x="308" y="273"/>
                  <a:pt x="318" y="274"/>
                  <a:pt x="327" y="277"/>
                </a:cubicBezTo>
                <a:cubicBezTo>
                  <a:pt x="337" y="281"/>
                  <a:pt x="347" y="285"/>
                  <a:pt x="358" y="289"/>
                </a:cubicBezTo>
                <a:cubicBezTo>
                  <a:pt x="368" y="294"/>
                  <a:pt x="379" y="295"/>
                  <a:pt x="389" y="301"/>
                </a:cubicBezTo>
                <a:cubicBezTo>
                  <a:pt x="391" y="302"/>
                  <a:pt x="394" y="303"/>
                  <a:pt x="396" y="305"/>
                </a:cubicBezTo>
                <a:cubicBezTo>
                  <a:pt x="391" y="303"/>
                  <a:pt x="385" y="301"/>
                  <a:pt x="380" y="299"/>
                </a:cubicBezTo>
                <a:cubicBezTo>
                  <a:pt x="372" y="296"/>
                  <a:pt x="365" y="293"/>
                  <a:pt x="358" y="291"/>
                </a:cubicBezTo>
                <a:cubicBezTo>
                  <a:pt x="351" y="289"/>
                  <a:pt x="344" y="287"/>
                  <a:pt x="338" y="285"/>
                </a:cubicBezTo>
                <a:cubicBezTo>
                  <a:pt x="323" y="281"/>
                  <a:pt x="310" y="276"/>
                  <a:pt x="295" y="273"/>
                </a:cubicBezTo>
                <a:cubicBezTo>
                  <a:pt x="282" y="270"/>
                  <a:pt x="268" y="268"/>
                  <a:pt x="254" y="266"/>
                </a:cubicBezTo>
                <a:cubicBezTo>
                  <a:pt x="253" y="266"/>
                  <a:pt x="252" y="267"/>
                  <a:pt x="253" y="268"/>
                </a:cubicBezTo>
                <a:cubicBezTo>
                  <a:pt x="258" y="270"/>
                  <a:pt x="264" y="270"/>
                  <a:pt x="269" y="271"/>
                </a:cubicBezTo>
                <a:cubicBezTo>
                  <a:pt x="277" y="271"/>
                  <a:pt x="285" y="273"/>
                  <a:pt x="293" y="274"/>
                </a:cubicBezTo>
                <a:cubicBezTo>
                  <a:pt x="307" y="278"/>
                  <a:pt x="321" y="281"/>
                  <a:pt x="335" y="285"/>
                </a:cubicBezTo>
                <a:cubicBezTo>
                  <a:pt x="351" y="290"/>
                  <a:pt x="366" y="296"/>
                  <a:pt x="381" y="301"/>
                </a:cubicBezTo>
                <a:cubicBezTo>
                  <a:pt x="388" y="304"/>
                  <a:pt x="395" y="307"/>
                  <a:pt x="402" y="311"/>
                </a:cubicBezTo>
                <a:cubicBezTo>
                  <a:pt x="402" y="311"/>
                  <a:pt x="403" y="311"/>
                  <a:pt x="403" y="312"/>
                </a:cubicBezTo>
                <a:cubicBezTo>
                  <a:pt x="398" y="309"/>
                  <a:pt x="392" y="308"/>
                  <a:pt x="388" y="307"/>
                </a:cubicBezTo>
                <a:cubicBezTo>
                  <a:pt x="383" y="305"/>
                  <a:pt x="379" y="302"/>
                  <a:pt x="374" y="301"/>
                </a:cubicBezTo>
                <a:cubicBezTo>
                  <a:pt x="370" y="300"/>
                  <a:pt x="365" y="299"/>
                  <a:pt x="361" y="298"/>
                </a:cubicBezTo>
                <a:cubicBezTo>
                  <a:pt x="361" y="298"/>
                  <a:pt x="360" y="299"/>
                  <a:pt x="361" y="299"/>
                </a:cubicBezTo>
                <a:cubicBezTo>
                  <a:pt x="365" y="301"/>
                  <a:pt x="369" y="302"/>
                  <a:pt x="374" y="303"/>
                </a:cubicBezTo>
                <a:cubicBezTo>
                  <a:pt x="375" y="303"/>
                  <a:pt x="377" y="304"/>
                  <a:pt x="378" y="304"/>
                </a:cubicBezTo>
                <a:cubicBezTo>
                  <a:pt x="377" y="304"/>
                  <a:pt x="376" y="304"/>
                  <a:pt x="375" y="304"/>
                </a:cubicBezTo>
                <a:cubicBezTo>
                  <a:pt x="374" y="304"/>
                  <a:pt x="374" y="304"/>
                  <a:pt x="374" y="304"/>
                </a:cubicBezTo>
                <a:cubicBezTo>
                  <a:pt x="378" y="306"/>
                  <a:pt x="383" y="306"/>
                  <a:pt x="386" y="309"/>
                </a:cubicBezTo>
                <a:cubicBezTo>
                  <a:pt x="386" y="309"/>
                  <a:pt x="386" y="309"/>
                  <a:pt x="386" y="309"/>
                </a:cubicBezTo>
                <a:cubicBezTo>
                  <a:pt x="385" y="308"/>
                  <a:pt x="384" y="307"/>
                  <a:pt x="384" y="307"/>
                </a:cubicBezTo>
                <a:cubicBezTo>
                  <a:pt x="384" y="307"/>
                  <a:pt x="385" y="307"/>
                  <a:pt x="386" y="307"/>
                </a:cubicBezTo>
                <a:cubicBezTo>
                  <a:pt x="390" y="309"/>
                  <a:pt x="394" y="310"/>
                  <a:pt x="398" y="312"/>
                </a:cubicBezTo>
                <a:cubicBezTo>
                  <a:pt x="400" y="313"/>
                  <a:pt x="401" y="313"/>
                  <a:pt x="403" y="314"/>
                </a:cubicBezTo>
                <a:cubicBezTo>
                  <a:pt x="392" y="310"/>
                  <a:pt x="374" y="308"/>
                  <a:pt x="371" y="308"/>
                </a:cubicBezTo>
                <a:cubicBezTo>
                  <a:pt x="361" y="306"/>
                  <a:pt x="351" y="305"/>
                  <a:pt x="340" y="305"/>
                </a:cubicBezTo>
                <a:cubicBezTo>
                  <a:pt x="328" y="306"/>
                  <a:pt x="314" y="307"/>
                  <a:pt x="302" y="312"/>
                </a:cubicBezTo>
                <a:cubicBezTo>
                  <a:pt x="298" y="313"/>
                  <a:pt x="293" y="316"/>
                  <a:pt x="289" y="318"/>
                </a:cubicBezTo>
                <a:cubicBezTo>
                  <a:pt x="282" y="322"/>
                  <a:pt x="275" y="326"/>
                  <a:pt x="269" y="331"/>
                </a:cubicBezTo>
                <a:cubicBezTo>
                  <a:pt x="265" y="334"/>
                  <a:pt x="262" y="338"/>
                  <a:pt x="259" y="341"/>
                </a:cubicBezTo>
                <a:cubicBezTo>
                  <a:pt x="258" y="341"/>
                  <a:pt x="258" y="341"/>
                  <a:pt x="258" y="341"/>
                </a:cubicBezTo>
                <a:cubicBezTo>
                  <a:pt x="252" y="344"/>
                  <a:pt x="242" y="339"/>
                  <a:pt x="237" y="337"/>
                </a:cubicBezTo>
                <a:cubicBezTo>
                  <a:pt x="229" y="333"/>
                  <a:pt x="221" y="329"/>
                  <a:pt x="215" y="323"/>
                </a:cubicBezTo>
                <a:cubicBezTo>
                  <a:pt x="205" y="313"/>
                  <a:pt x="194" y="302"/>
                  <a:pt x="188" y="289"/>
                </a:cubicBezTo>
                <a:cubicBezTo>
                  <a:pt x="185" y="283"/>
                  <a:pt x="181" y="273"/>
                  <a:pt x="183" y="266"/>
                </a:cubicBezTo>
                <a:cubicBezTo>
                  <a:pt x="185" y="263"/>
                  <a:pt x="187" y="260"/>
                  <a:pt x="189" y="257"/>
                </a:cubicBezTo>
                <a:cubicBezTo>
                  <a:pt x="189" y="256"/>
                  <a:pt x="190" y="255"/>
                  <a:pt x="190" y="254"/>
                </a:cubicBezTo>
                <a:cubicBezTo>
                  <a:pt x="196" y="251"/>
                  <a:pt x="199" y="241"/>
                  <a:pt x="199" y="234"/>
                </a:cubicBezTo>
                <a:cubicBezTo>
                  <a:pt x="200" y="228"/>
                  <a:pt x="197" y="220"/>
                  <a:pt x="198" y="213"/>
                </a:cubicBezTo>
                <a:cubicBezTo>
                  <a:pt x="198" y="213"/>
                  <a:pt x="198" y="212"/>
                  <a:pt x="199" y="212"/>
                </a:cubicBezTo>
                <a:cubicBezTo>
                  <a:pt x="205" y="199"/>
                  <a:pt x="219" y="191"/>
                  <a:pt x="232" y="187"/>
                </a:cubicBezTo>
                <a:cubicBezTo>
                  <a:pt x="246" y="182"/>
                  <a:pt x="260" y="182"/>
                  <a:pt x="275" y="184"/>
                </a:cubicBezTo>
                <a:close/>
                <a:moveTo>
                  <a:pt x="155" y="52"/>
                </a:moveTo>
                <a:cubicBezTo>
                  <a:pt x="155" y="52"/>
                  <a:pt x="155" y="52"/>
                  <a:pt x="155" y="52"/>
                </a:cubicBezTo>
                <a:cubicBezTo>
                  <a:pt x="155" y="52"/>
                  <a:pt x="155" y="52"/>
                  <a:pt x="156" y="53"/>
                </a:cubicBezTo>
                <a:cubicBezTo>
                  <a:pt x="157" y="53"/>
                  <a:pt x="157" y="53"/>
                  <a:pt x="158" y="52"/>
                </a:cubicBezTo>
                <a:cubicBezTo>
                  <a:pt x="165" y="43"/>
                  <a:pt x="176" y="58"/>
                  <a:pt x="181" y="63"/>
                </a:cubicBezTo>
                <a:cubicBezTo>
                  <a:pt x="182" y="64"/>
                  <a:pt x="184" y="66"/>
                  <a:pt x="186" y="67"/>
                </a:cubicBezTo>
                <a:cubicBezTo>
                  <a:pt x="188" y="70"/>
                  <a:pt x="190" y="74"/>
                  <a:pt x="192" y="78"/>
                </a:cubicBezTo>
                <a:cubicBezTo>
                  <a:pt x="193" y="79"/>
                  <a:pt x="194" y="80"/>
                  <a:pt x="195" y="80"/>
                </a:cubicBezTo>
                <a:cubicBezTo>
                  <a:pt x="195" y="80"/>
                  <a:pt x="194" y="81"/>
                  <a:pt x="194" y="81"/>
                </a:cubicBezTo>
                <a:cubicBezTo>
                  <a:pt x="194" y="84"/>
                  <a:pt x="196" y="88"/>
                  <a:pt x="196" y="91"/>
                </a:cubicBezTo>
                <a:cubicBezTo>
                  <a:pt x="197" y="95"/>
                  <a:pt x="197" y="99"/>
                  <a:pt x="200" y="101"/>
                </a:cubicBezTo>
                <a:cubicBezTo>
                  <a:pt x="200" y="101"/>
                  <a:pt x="200" y="101"/>
                  <a:pt x="200" y="101"/>
                </a:cubicBezTo>
                <a:cubicBezTo>
                  <a:pt x="201" y="98"/>
                  <a:pt x="199" y="94"/>
                  <a:pt x="199" y="91"/>
                </a:cubicBezTo>
                <a:cubicBezTo>
                  <a:pt x="198" y="88"/>
                  <a:pt x="198" y="85"/>
                  <a:pt x="197" y="83"/>
                </a:cubicBezTo>
                <a:cubicBezTo>
                  <a:pt x="201" y="87"/>
                  <a:pt x="205" y="91"/>
                  <a:pt x="208" y="96"/>
                </a:cubicBezTo>
                <a:cubicBezTo>
                  <a:pt x="212" y="103"/>
                  <a:pt x="215" y="110"/>
                  <a:pt x="220" y="117"/>
                </a:cubicBezTo>
                <a:cubicBezTo>
                  <a:pt x="225" y="123"/>
                  <a:pt x="230" y="130"/>
                  <a:pt x="233" y="139"/>
                </a:cubicBezTo>
                <a:cubicBezTo>
                  <a:pt x="235" y="146"/>
                  <a:pt x="237" y="153"/>
                  <a:pt x="238" y="161"/>
                </a:cubicBezTo>
                <a:cubicBezTo>
                  <a:pt x="239" y="165"/>
                  <a:pt x="239" y="168"/>
                  <a:pt x="240" y="172"/>
                </a:cubicBezTo>
                <a:cubicBezTo>
                  <a:pt x="240" y="175"/>
                  <a:pt x="240" y="178"/>
                  <a:pt x="241" y="180"/>
                </a:cubicBezTo>
                <a:cubicBezTo>
                  <a:pt x="238" y="181"/>
                  <a:pt x="235" y="182"/>
                  <a:pt x="232" y="183"/>
                </a:cubicBezTo>
                <a:cubicBezTo>
                  <a:pt x="233" y="179"/>
                  <a:pt x="234" y="174"/>
                  <a:pt x="235" y="170"/>
                </a:cubicBezTo>
                <a:cubicBezTo>
                  <a:pt x="236" y="168"/>
                  <a:pt x="238" y="163"/>
                  <a:pt x="237" y="161"/>
                </a:cubicBezTo>
                <a:cubicBezTo>
                  <a:pt x="236" y="160"/>
                  <a:pt x="234" y="166"/>
                  <a:pt x="234" y="166"/>
                </a:cubicBezTo>
                <a:cubicBezTo>
                  <a:pt x="232" y="172"/>
                  <a:pt x="231" y="177"/>
                  <a:pt x="229" y="183"/>
                </a:cubicBezTo>
                <a:cubicBezTo>
                  <a:pt x="229" y="183"/>
                  <a:pt x="229" y="183"/>
                  <a:pt x="229" y="184"/>
                </a:cubicBezTo>
                <a:cubicBezTo>
                  <a:pt x="228" y="184"/>
                  <a:pt x="227" y="185"/>
                  <a:pt x="225" y="185"/>
                </a:cubicBezTo>
                <a:cubicBezTo>
                  <a:pt x="225" y="185"/>
                  <a:pt x="225" y="185"/>
                  <a:pt x="225" y="185"/>
                </a:cubicBezTo>
                <a:cubicBezTo>
                  <a:pt x="226" y="184"/>
                  <a:pt x="227" y="183"/>
                  <a:pt x="227" y="181"/>
                </a:cubicBezTo>
                <a:cubicBezTo>
                  <a:pt x="232" y="170"/>
                  <a:pt x="234" y="159"/>
                  <a:pt x="234" y="147"/>
                </a:cubicBezTo>
                <a:cubicBezTo>
                  <a:pt x="234" y="147"/>
                  <a:pt x="233" y="146"/>
                  <a:pt x="233" y="147"/>
                </a:cubicBezTo>
                <a:cubicBezTo>
                  <a:pt x="232" y="155"/>
                  <a:pt x="232" y="164"/>
                  <a:pt x="229" y="171"/>
                </a:cubicBezTo>
                <a:cubicBezTo>
                  <a:pt x="227" y="174"/>
                  <a:pt x="225" y="178"/>
                  <a:pt x="224" y="182"/>
                </a:cubicBezTo>
                <a:cubicBezTo>
                  <a:pt x="224" y="183"/>
                  <a:pt x="223" y="183"/>
                  <a:pt x="223" y="184"/>
                </a:cubicBezTo>
                <a:cubicBezTo>
                  <a:pt x="222" y="185"/>
                  <a:pt x="223" y="186"/>
                  <a:pt x="224" y="186"/>
                </a:cubicBezTo>
                <a:cubicBezTo>
                  <a:pt x="223" y="187"/>
                  <a:pt x="221" y="187"/>
                  <a:pt x="220" y="188"/>
                </a:cubicBezTo>
                <a:cubicBezTo>
                  <a:pt x="224" y="182"/>
                  <a:pt x="226" y="175"/>
                  <a:pt x="228" y="168"/>
                </a:cubicBezTo>
                <a:cubicBezTo>
                  <a:pt x="229" y="159"/>
                  <a:pt x="233" y="149"/>
                  <a:pt x="232" y="140"/>
                </a:cubicBezTo>
                <a:cubicBezTo>
                  <a:pt x="232" y="139"/>
                  <a:pt x="231" y="139"/>
                  <a:pt x="231" y="139"/>
                </a:cubicBezTo>
                <a:cubicBezTo>
                  <a:pt x="230" y="145"/>
                  <a:pt x="229" y="150"/>
                  <a:pt x="228" y="155"/>
                </a:cubicBezTo>
                <a:cubicBezTo>
                  <a:pt x="227" y="159"/>
                  <a:pt x="226" y="163"/>
                  <a:pt x="225" y="167"/>
                </a:cubicBezTo>
                <a:cubicBezTo>
                  <a:pt x="224" y="173"/>
                  <a:pt x="222" y="179"/>
                  <a:pt x="219" y="184"/>
                </a:cubicBezTo>
                <a:cubicBezTo>
                  <a:pt x="220" y="181"/>
                  <a:pt x="220" y="178"/>
                  <a:pt x="221" y="175"/>
                </a:cubicBezTo>
                <a:cubicBezTo>
                  <a:pt x="222" y="169"/>
                  <a:pt x="224" y="164"/>
                  <a:pt x="226" y="159"/>
                </a:cubicBezTo>
                <a:cubicBezTo>
                  <a:pt x="227" y="151"/>
                  <a:pt x="232" y="140"/>
                  <a:pt x="228" y="133"/>
                </a:cubicBezTo>
                <a:cubicBezTo>
                  <a:pt x="228" y="133"/>
                  <a:pt x="228" y="133"/>
                  <a:pt x="228" y="133"/>
                </a:cubicBezTo>
                <a:cubicBezTo>
                  <a:pt x="227" y="138"/>
                  <a:pt x="227" y="142"/>
                  <a:pt x="226" y="147"/>
                </a:cubicBezTo>
                <a:cubicBezTo>
                  <a:pt x="226" y="152"/>
                  <a:pt x="224" y="157"/>
                  <a:pt x="222" y="162"/>
                </a:cubicBezTo>
                <a:cubicBezTo>
                  <a:pt x="221" y="166"/>
                  <a:pt x="219" y="171"/>
                  <a:pt x="218" y="176"/>
                </a:cubicBezTo>
                <a:cubicBezTo>
                  <a:pt x="217" y="180"/>
                  <a:pt x="217" y="185"/>
                  <a:pt x="216" y="190"/>
                </a:cubicBezTo>
                <a:cubicBezTo>
                  <a:pt x="216" y="190"/>
                  <a:pt x="216" y="190"/>
                  <a:pt x="216" y="190"/>
                </a:cubicBezTo>
                <a:cubicBezTo>
                  <a:pt x="216" y="190"/>
                  <a:pt x="216" y="190"/>
                  <a:pt x="215" y="190"/>
                </a:cubicBezTo>
                <a:cubicBezTo>
                  <a:pt x="216" y="185"/>
                  <a:pt x="217" y="180"/>
                  <a:pt x="217" y="175"/>
                </a:cubicBezTo>
                <a:cubicBezTo>
                  <a:pt x="219" y="171"/>
                  <a:pt x="218" y="166"/>
                  <a:pt x="220" y="161"/>
                </a:cubicBezTo>
                <a:cubicBezTo>
                  <a:pt x="221" y="156"/>
                  <a:pt x="223" y="151"/>
                  <a:pt x="225" y="146"/>
                </a:cubicBezTo>
                <a:cubicBezTo>
                  <a:pt x="225" y="144"/>
                  <a:pt x="224" y="144"/>
                  <a:pt x="223" y="145"/>
                </a:cubicBezTo>
                <a:cubicBezTo>
                  <a:pt x="222" y="150"/>
                  <a:pt x="220" y="154"/>
                  <a:pt x="218" y="158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20" y="153"/>
                  <a:pt x="222" y="148"/>
                  <a:pt x="222" y="143"/>
                </a:cubicBezTo>
                <a:cubicBezTo>
                  <a:pt x="222" y="138"/>
                  <a:pt x="222" y="133"/>
                  <a:pt x="223" y="128"/>
                </a:cubicBezTo>
                <a:cubicBezTo>
                  <a:pt x="223" y="127"/>
                  <a:pt x="223" y="127"/>
                  <a:pt x="223" y="127"/>
                </a:cubicBezTo>
                <a:cubicBezTo>
                  <a:pt x="220" y="130"/>
                  <a:pt x="220" y="135"/>
                  <a:pt x="220" y="139"/>
                </a:cubicBezTo>
                <a:cubicBezTo>
                  <a:pt x="220" y="146"/>
                  <a:pt x="218" y="152"/>
                  <a:pt x="217" y="159"/>
                </a:cubicBezTo>
                <a:cubicBezTo>
                  <a:pt x="216" y="159"/>
                  <a:pt x="216" y="159"/>
                  <a:pt x="216" y="159"/>
                </a:cubicBezTo>
                <a:cubicBezTo>
                  <a:pt x="216" y="160"/>
                  <a:pt x="216" y="160"/>
                  <a:pt x="216" y="160"/>
                </a:cubicBezTo>
                <a:cubicBezTo>
                  <a:pt x="216" y="159"/>
                  <a:pt x="216" y="157"/>
                  <a:pt x="215" y="156"/>
                </a:cubicBezTo>
                <a:cubicBezTo>
                  <a:pt x="216" y="156"/>
                  <a:pt x="216" y="156"/>
                  <a:pt x="216" y="156"/>
                </a:cubicBezTo>
                <a:cubicBezTo>
                  <a:pt x="216" y="147"/>
                  <a:pt x="215" y="139"/>
                  <a:pt x="218" y="131"/>
                </a:cubicBezTo>
                <a:cubicBezTo>
                  <a:pt x="218" y="130"/>
                  <a:pt x="217" y="130"/>
                  <a:pt x="217" y="130"/>
                </a:cubicBezTo>
                <a:cubicBezTo>
                  <a:pt x="216" y="135"/>
                  <a:pt x="214" y="139"/>
                  <a:pt x="214" y="144"/>
                </a:cubicBezTo>
                <a:cubicBezTo>
                  <a:pt x="213" y="145"/>
                  <a:pt x="213" y="147"/>
                  <a:pt x="213" y="148"/>
                </a:cubicBezTo>
                <a:cubicBezTo>
                  <a:pt x="212" y="145"/>
                  <a:pt x="210" y="142"/>
                  <a:pt x="209" y="138"/>
                </a:cubicBezTo>
                <a:cubicBezTo>
                  <a:pt x="207" y="135"/>
                  <a:pt x="205" y="129"/>
                  <a:pt x="202" y="127"/>
                </a:cubicBezTo>
                <a:cubicBezTo>
                  <a:pt x="198" y="126"/>
                  <a:pt x="195" y="125"/>
                  <a:pt x="195" y="120"/>
                </a:cubicBezTo>
                <a:cubicBezTo>
                  <a:pt x="195" y="118"/>
                  <a:pt x="195" y="115"/>
                  <a:pt x="195" y="113"/>
                </a:cubicBezTo>
                <a:cubicBezTo>
                  <a:pt x="194" y="109"/>
                  <a:pt x="193" y="104"/>
                  <a:pt x="191" y="100"/>
                </a:cubicBezTo>
                <a:cubicBezTo>
                  <a:pt x="192" y="98"/>
                  <a:pt x="192" y="97"/>
                  <a:pt x="192" y="95"/>
                </a:cubicBezTo>
                <a:cubicBezTo>
                  <a:pt x="192" y="92"/>
                  <a:pt x="192" y="89"/>
                  <a:pt x="192" y="86"/>
                </a:cubicBezTo>
                <a:cubicBezTo>
                  <a:pt x="192" y="81"/>
                  <a:pt x="190" y="76"/>
                  <a:pt x="187" y="72"/>
                </a:cubicBezTo>
                <a:cubicBezTo>
                  <a:pt x="187" y="71"/>
                  <a:pt x="185" y="72"/>
                  <a:pt x="186" y="73"/>
                </a:cubicBezTo>
                <a:cubicBezTo>
                  <a:pt x="188" y="78"/>
                  <a:pt x="189" y="83"/>
                  <a:pt x="190" y="88"/>
                </a:cubicBezTo>
                <a:cubicBezTo>
                  <a:pt x="191" y="91"/>
                  <a:pt x="191" y="93"/>
                  <a:pt x="190" y="96"/>
                </a:cubicBezTo>
                <a:cubicBezTo>
                  <a:pt x="190" y="97"/>
                  <a:pt x="190" y="97"/>
                  <a:pt x="190" y="97"/>
                </a:cubicBezTo>
                <a:cubicBezTo>
                  <a:pt x="189" y="93"/>
                  <a:pt x="187" y="90"/>
                  <a:pt x="185" y="87"/>
                </a:cubicBezTo>
                <a:cubicBezTo>
                  <a:pt x="184" y="87"/>
                  <a:pt x="184" y="86"/>
                  <a:pt x="183" y="85"/>
                </a:cubicBezTo>
                <a:cubicBezTo>
                  <a:pt x="183" y="85"/>
                  <a:pt x="183" y="84"/>
                  <a:pt x="183" y="84"/>
                </a:cubicBezTo>
                <a:cubicBezTo>
                  <a:pt x="182" y="83"/>
                  <a:pt x="181" y="82"/>
                  <a:pt x="180" y="81"/>
                </a:cubicBezTo>
                <a:cubicBezTo>
                  <a:pt x="178" y="79"/>
                  <a:pt x="175" y="77"/>
                  <a:pt x="174" y="73"/>
                </a:cubicBezTo>
                <a:cubicBezTo>
                  <a:pt x="173" y="70"/>
                  <a:pt x="172" y="67"/>
                  <a:pt x="169" y="64"/>
                </a:cubicBezTo>
                <a:cubicBezTo>
                  <a:pt x="166" y="61"/>
                  <a:pt x="162" y="63"/>
                  <a:pt x="160" y="66"/>
                </a:cubicBezTo>
                <a:cubicBezTo>
                  <a:pt x="157" y="73"/>
                  <a:pt x="158" y="80"/>
                  <a:pt x="157" y="87"/>
                </a:cubicBezTo>
                <a:cubicBezTo>
                  <a:pt x="157" y="90"/>
                  <a:pt x="157" y="93"/>
                  <a:pt x="156" y="96"/>
                </a:cubicBezTo>
                <a:cubicBezTo>
                  <a:pt x="156" y="91"/>
                  <a:pt x="155" y="85"/>
                  <a:pt x="154" y="80"/>
                </a:cubicBezTo>
                <a:cubicBezTo>
                  <a:pt x="154" y="73"/>
                  <a:pt x="153" y="67"/>
                  <a:pt x="153" y="60"/>
                </a:cubicBezTo>
                <a:cubicBezTo>
                  <a:pt x="153" y="58"/>
                  <a:pt x="152" y="55"/>
                  <a:pt x="152" y="53"/>
                </a:cubicBezTo>
                <a:cubicBezTo>
                  <a:pt x="152" y="50"/>
                  <a:pt x="154" y="51"/>
                  <a:pt x="155" y="52"/>
                </a:cubicBezTo>
                <a:close/>
                <a:moveTo>
                  <a:pt x="82" y="200"/>
                </a:moveTo>
                <a:cubicBezTo>
                  <a:pt x="80" y="194"/>
                  <a:pt x="79" y="189"/>
                  <a:pt x="75" y="185"/>
                </a:cubicBezTo>
                <a:cubicBezTo>
                  <a:pt x="77" y="179"/>
                  <a:pt x="75" y="171"/>
                  <a:pt x="75" y="165"/>
                </a:cubicBezTo>
                <a:cubicBezTo>
                  <a:pt x="75" y="157"/>
                  <a:pt x="75" y="149"/>
                  <a:pt x="77" y="141"/>
                </a:cubicBezTo>
                <a:cubicBezTo>
                  <a:pt x="80" y="126"/>
                  <a:pt x="87" y="113"/>
                  <a:pt x="93" y="99"/>
                </a:cubicBezTo>
                <a:cubicBezTo>
                  <a:pt x="97" y="91"/>
                  <a:pt x="100" y="83"/>
                  <a:pt x="104" y="77"/>
                </a:cubicBezTo>
                <a:cubicBezTo>
                  <a:pt x="108" y="70"/>
                  <a:pt x="114" y="64"/>
                  <a:pt x="118" y="58"/>
                </a:cubicBezTo>
                <a:cubicBezTo>
                  <a:pt x="123" y="52"/>
                  <a:pt x="128" y="45"/>
                  <a:pt x="137" y="45"/>
                </a:cubicBezTo>
                <a:cubicBezTo>
                  <a:pt x="142" y="45"/>
                  <a:pt x="148" y="45"/>
                  <a:pt x="151" y="48"/>
                </a:cubicBezTo>
                <a:cubicBezTo>
                  <a:pt x="151" y="48"/>
                  <a:pt x="150" y="49"/>
                  <a:pt x="150" y="50"/>
                </a:cubicBezTo>
                <a:cubicBezTo>
                  <a:pt x="148" y="56"/>
                  <a:pt x="149" y="64"/>
                  <a:pt x="150" y="70"/>
                </a:cubicBezTo>
                <a:cubicBezTo>
                  <a:pt x="151" y="84"/>
                  <a:pt x="153" y="97"/>
                  <a:pt x="156" y="111"/>
                </a:cubicBezTo>
                <a:cubicBezTo>
                  <a:pt x="156" y="111"/>
                  <a:pt x="156" y="112"/>
                  <a:pt x="155" y="113"/>
                </a:cubicBezTo>
                <a:cubicBezTo>
                  <a:pt x="152" y="121"/>
                  <a:pt x="156" y="132"/>
                  <a:pt x="157" y="140"/>
                </a:cubicBezTo>
                <a:cubicBezTo>
                  <a:pt x="158" y="153"/>
                  <a:pt x="160" y="167"/>
                  <a:pt x="163" y="180"/>
                </a:cubicBezTo>
                <a:cubicBezTo>
                  <a:pt x="163" y="182"/>
                  <a:pt x="164" y="185"/>
                  <a:pt x="165" y="187"/>
                </a:cubicBezTo>
                <a:cubicBezTo>
                  <a:pt x="163" y="184"/>
                  <a:pt x="162" y="180"/>
                  <a:pt x="159" y="177"/>
                </a:cubicBezTo>
                <a:cubicBezTo>
                  <a:pt x="155" y="173"/>
                  <a:pt x="150" y="171"/>
                  <a:pt x="146" y="169"/>
                </a:cubicBezTo>
                <a:cubicBezTo>
                  <a:pt x="145" y="169"/>
                  <a:pt x="144" y="169"/>
                  <a:pt x="143" y="168"/>
                </a:cubicBezTo>
                <a:cubicBezTo>
                  <a:pt x="144" y="162"/>
                  <a:pt x="141" y="156"/>
                  <a:pt x="141" y="150"/>
                </a:cubicBezTo>
                <a:cubicBezTo>
                  <a:pt x="140" y="142"/>
                  <a:pt x="139" y="135"/>
                  <a:pt x="139" y="128"/>
                </a:cubicBezTo>
                <a:cubicBezTo>
                  <a:pt x="140" y="127"/>
                  <a:pt x="138" y="127"/>
                  <a:pt x="138" y="128"/>
                </a:cubicBezTo>
                <a:cubicBezTo>
                  <a:pt x="137" y="135"/>
                  <a:pt x="138" y="143"/>
                  <a:pt x="139" y="150"/>
                </a:cubicBezTo>
                <a:cubicBezTo>
                  <a:pt x="139" y="156"/>
                  <a:pt x="139" y="163"/>
                  <a:pt x="141" y="168"/>
                </a:cubicBezTo>
                <a:cubicBezTo>
                  <a:pt x="140" y="168"/>
                  <a:pt x="138" y="168"/>
                  <a:pt x="137" y="169"/>
                </a:cubicBezTo>
                <a:cubicBezTo>
                  <a:pt x="137" y="169"/>
                  <a:pt x="137" y="169"/>
                  <a:pt x="136" y="169"/>
                </a:cubicBezTo>
                <a:cubicBezTo>
                  <a:pt x="134" y="171"/>
                  <a:pt x="133" y="174"/>
                  <a:pt x="132" y="177"/>
                </a:cubicBezTo>
                <a:cubicBezTo>
                  <a:pt x="132" y="176"/>
                  <a:pt x="131" y="174"/>
                  <a:pt x="131" y="173"/>
                </a:cubicBezTo>
                <a:cubicBezTo>
                  <a:pt x="130" y="170"/>
                  <a:pt x="130" y="166"/>
                  <a:pt x="130" y="163"/>
                </a:cubicBezTo>
                <a:cubicBezTo>
                  <a:pt x="130" y="156"/>
                  <a:pt x="129" y="149"/>
                  <a:pt x="129" y="142"/>
                </a:cubicBezTo>
                <a:cubicBezTo>
                  <a:pt x="128" y="137"/>
                  <a:pt x="128" y="132"/>
                  <a:pt x="128" y="127"/>
                </a:cubicBezTo>
                <a:cubicBezTo>
                  <a:pt x="128" y="124"/>
                  <a:pt x="128" y="120"/>
                  <a:pt x="128" y="117"/>
                </a:cubicBezTo>
                <a:cubicBezTo>
                  <a:pt x="127" y="113"/>
                  <a:pt x="127" y="108"/>
                  <a:pt x="126" y="104"/>
                </a:cubicBezTo>
                <a:cubicBezTo>
                  <a:pt x="126" y="100"/>
                  <a:pt x="126" y="96"/>
                  <a:pt x="126" y="93"/>
                </a:cubicBezTo>
                <a:cubicBezTo>
                  <a:pt x="126" y="92"/>
                  <a:pt x="126" y="92"/>
                  <a:pt x="126" y="93"/>
                </a:cubicBezTo>
                <a:cubicBezTo>
                  <a:pt x="123" y="101"/>
                  <a:pt x="128" y="109"/>
                  <a:pt x="126" y="117"/>
                </a:cubicBezTo>
                <a:cubicBezTo>
                  <a:pt x="124" y="122"/>
                  <a:pt x="126" y="127"/>
                  <a:pt x="126" y="131"/>
                </a:cubicBezTo>
                <a:cubicBezTo>
                  <a:pt x="126" y="136"/>
                  <a:pt x="126" y="141"/>
                  <a:pt x="127" y="146"/>
                </a:cubicBezTo>
                <a:cubicBezTo>
                  <a:pt x="127" y="153"/>
                  <a:pt x="127" y="161"/>
                  <a:pt x="128" y="169"/>
                </a:cubicBezTo>
                <a:cubicBezTo>
                  <a:pt x="128" y="172"/>
                  <a:pt x="128" y="178"/>
                  <a:pt x="132" y="180"/>
                </a:cubicBezTo>
                <a:cubicBezTo>
                  <a:pt x="130" y="187"/>
                  <a:pt x="131" y="194"/>
                  <a:pt x="132" y="200"/>
                </a:cubicBezTo>
                <a:cubicBezTo>
                  <a:pt x="132" y="202"/>
                  <a:pt x="133" y="204"/>
                  <a:pt x="133" y="206"/>
                </a:cubicBezTo>
                <a:cubicBezTo>
                  <a:pt x="127" y="204"/>
                  <a:pt x="119" y="207"/>
                  <a:pt x="114" y="210"/>
                </a:cubicBezTo>
                <a:cubicBezTo>
                  <a:pt x="107" y="213"/>
                  <a:pt x="101" y="216"/>
                  <a:pt x="95" y="219"/>
                </a:cubicBezTo>
                <a:cubicBezTo>
                  <a:pt x="91" y="220"/>
                  <a:pt x="88" y="220"/>
                  <a:pt x="85" y="220"/>
                </a:cubicBezTo>
                <a:cubicBezTo>
                  <a:pt x="84" y="213"/>
                  <a:pt x="84" y="206"/>
                  <a:pt x="82" y="200"/>
                </a:cubicBezTo>
                <a:close/>
                <a:moveTo>
                  <a:pt x="85" y="234"/>
                </a:moveTo>
                <a:cubicBezTo>
                  <a:pt x="85" y="231"/>
                  <a:pt x="85" y="227"/>
                  <a:pt x="85" y="224"/>
                </a:cubicBezTo>
                <a:cubicBezTo>
                  <a:pt x="92" y="225"/>
                  <a:pt x="99" y="221"/>
                  <a:pt x="106" y="218"/>
                </a:cubicBezTo>
                <a:cubicBezTo>
                  <a:pt x="114" y="214"/>
                  <a:pt x="125" y="206"/>
                  <a:pt x="134" y="210"/>
                </a:cubicBezTo>
                <a:cubicBezTo>
                  <a:pt x="134" y="211"/>
                  <a:pt x="135" y="212"/>
                  <a:pt x="135" y="213"/>
                </a:cubicBezTo>
                <a:cubicBezTo>
                  <a:pt x="130" y="211"/>
                  <a:pt x="121" y="217"/>
                  <a:pt x="118" y="220"/>
                </a:cubicBezTo>
                <a:cubicBezTo>
                  <a:pt x="113" y="224"/>
                  <a:pt x="108" y="230"/>
                  <a:pt x="103" y="235"/>
                </a:cubicBezTo>
                <a:cubicBezTo>
                  <a:pt x="99" y="238"/>
                  <a:pt x="96" y="241"/>
                  <a:pt x="91" y="242"/>
                </a:cubicBezTo>
                <a:cubicBezTo>
                  <a:pt x="89" y="243"/>
                  <a:pt x="88" y="243"/>
                  <a:pt x="87" y="244"/>
                </a:cubicBezTo>
                <a:cubicBezTo>
                  <a:pt x="86" y="241"/>
                  <a:pt x="86" y="237"/>
                  <a:pt x="85" y="234"/>
                </a:cubicBezTo>
                <a:close/>
                <a:moveTo>
                  <a:pt x="106" y="312"/>
                </a:moveTo>
                <a:cubicBezTo>
                  <a:pt x="106" y="311"/>
                  <a:pt x="105" y="311"/>
                  <a:pt x="105" y="310"/>
                </a:cubicBezTo>
                <a:cubicBezTo>
                  <a:pt x="105" y="310"/>
                  <a:pt x="106" y="310"/>
                  <a:pt x="106" y="310"/>
                </a:cubicBezTo>
                <a:cubicBezTo>
                  <a:pt x="107" y="311"/>
                  <a:pt x="108" y="311"/>
                  <a:pt x="108" y="311"/>
                </a:cubicBezTo>
                <a:cubicBezTo>
                  <a:pt x="108" y="311"/>
                  <a:pt x="108" y="311"/>
                  <a:pt x="107" y="311"/>
                </a:cubicBezTo>
                <a:cubicBezTo>
                  <a:pt x="107" y="311"/>
                  <a:pt x="106" y="311"/>
                  <a:pt x="106" y="312"/>
                </a:cubicBezTo>
                <a:close/>
                <a:moveTo>
                  <a:pt x="117" y="337"/>
                </a:moveTo>
                <a:cubicBezTo>
                  <a:pt x="114" y="329"/>
                  <a:pt x="111" y="322"/>
                  <a:pt x="107" y="315"/>
                </a:cubicBezTo>
                <a:cubicBezTo>
                  <a:pt x="107" y="315"/>
                  <a:pt x="107" y="315"/>
                  <a:pt x="107" y="315"/>
                </a:cubicBezTo>
                <a:cubicBezTo>
                  <a:pt x="111" y="315"/>
                  <a:pt x="114" y="317"/>
                  <a:pt x="118" y="318"/>
                </a:cubicBezTo>
                <a:cubicBezTo>
                  <a:pt x="121" y="319"/>
                  <a:pt x="124" y="320"/>
                  <a:pt x="128" y="321"/>
                </a:cubicBezTo>
                <a:cubicBezTo>
                  <a:pt x="136" y="324"/>
                  <a:pt x="144" y="328"/>
                  <a:pt x="152" y="333"/>
                </a:cubicBezTo>
                <a:cubicBezTo>
                  <a:pt x="160" y="337"/>
                  <a:pt x="168" y="343"/>
                  <a:pt x="175" y="349"/>
                </a:cubicBezTo>
                <a:cubicBezTo>
                  <a:pt x="181" y="355"/>
                  <a:pt x="187" y="362"/>
                  <a:pt x="194" y="367"/>
                </a:cubicBezTo>
                <a:cubicBezTo>
                  <a:pt x="194" y="367"/>
                  <a:pt x="195" y="367"/>
                  <a:pt x="195" y="367"/>
                </a:cubicBezTo>
                <a:cubicBezTo>
                  <a:pt x="189" y="359"/>
                  <a:pt x="182" y="353"/>
                  <a:pt x="174" y="347"/>
                </a:cubicBezTo>
                <a:cubicBezTo>
                  <a:pt x="172" y="344"/>
                  <a:pt x="169" y="342"/>
                  <a:pt x="167" y="340"/>
                </a:cubicBezTo>
                <a:cubicBezTo>
                  <a:pt x="171" y="343"/>
                  <a:pt x="176" y="347"/>
                  <a:pt x="181" y="350"/>
                </a:cubicBezTo>
                <a:cubicBezTo>
                  <a:pt x="181" y="350"/>
                  <a:pt x="181" y="349"/>
                  <a:pt x="181" y="349"/>
                </a:cubicBezTo>
                <a:cubicBezTo>
                  <a:pt x="176" y="343"/>
                  <a:pt x="169" y="339"/>
                  <a:pt x="162" y="335"/>
                </a:cubicBezTo>
                <a:cubicBezTo>
                  <a:pt x="155" y="331"/>
                  <a:pt x="148" y="326"/>
                  <a:pt x="140" y="322"/>
                </a:cubicBezTo>
                <a:cubicBezTo>
                  <a:pt x="132" y="318"/>
                  <a:pt x="123" y="317"/>
                  <a:pt x="115" y="312"/>
                </a:cubicBezTo>
                <a:cubicBezTo>
                  <a:pt x="113" y="311"/>
                  <a:pt x="106" y="306"/>
                  <a:pt x="104" y="307"/>
                </a:cubicBezTo>
                <a:cubicBezTo>
                  <a:pt x="103" y="305"/>
                  <a:pt x="102" y="303"/>
                  <a:pt x="101" y="301"/>
                </a:cubicBezTo>
                <a:cubicBezTo>
                  <a:pt x="107" y="303"/>
                  <a:pt x="114" y="306"/>
                  <a:pt x="120" y="309"/>
                </a:cubicBezTo>
                <a:cubicBezTo>
                  <a:pt x="128" y="312"/>
                  <a:pt x="136" y="315"/>
                  <a:pt x="144" y="320"/>
                </a:cubicBezTo>
                <a:cubicBezTo>
                  <a:pt x="146" y="321"/>
                  <a:pt x="147" y="318"/>
                  <a:pt x="146" y="317"/>
                </a:cubicBezTo>
                <a:cubicBezTo>
                  <a:pt x="138" y="313"/>
                  <a:pt x="131" y="310"/>
                  <a:pt x="123" y="307"/>
                </a:cubicBezTo>
                <a:cubicBezTo>
                  <a:pt x="115" y="304"/>
                  <a:pt x="107" y="300"/>
                  <a:pt x="99" y="297"/>
                </a:cubicBezTo>
                <a:cubicBezTo>
                  <a:pt x="96" y="290"/>
                  <a:pt x="93" y="283"/>
                  <a:pt x="92" y="276"/>
                </a:cubicBezTo>
                <a:cubicBezTo>
                  <a:pt x="90" y="266"/>
                  <a:pt x="88" y="257"/>
                  <a:pt x="87" y="247"/>
                </a:cubicBezTo>
                <a:cubicBezTo>
                  <a:pt x="91" y="246"/>
                  <a:pt x="98" y="244"/>
                  <a:pt x="101" y="241"/>
                </a:cubicBezTo>
                <a:cubicBezTo>
                  <a:pt x="106" y="237"/>
                  <a:pt x="111" y="231"/>
                  <a:pt x="115" y="226"/>
                </a:cubicBezTo>
                <a:cubicBezTo>
                  <a:pt x="118" y="223"/>
                  <a:pt x="122" y="219"/>
                  <a:pt x="126" y="217"/>
                </a:cubicBezTo>
                <a:cubicBezTo>
                  <a:pt x="130" y="215"/>
                  <a:pt x="133" y="216"/>
                  <a:pt x="136" y="217"/>
                </a:cubicBezTo>
                <a:cubicBezTo>
                  <a:pt x="138" y="222"/>
                  <a:pt x="139" y="227"/>
                  <a:pt x="141" y="232"/>
                </a:cubicBezTo>
                <a:cubicBezTo>
                  <a:pt x="147" y="245"/>
                  <a:pt x="152" y="258"/>
                  <a:pt x="157" y="272"/>
                </a:cubicBezTo>
                <a:cubicBezTo>
                  <a:pt x="162" y="283"/>
                  <a:pt x="169" y="294"/>
                  <a:pt x="172" y="306"/>
                </a:cubicBezTo>
                <a:cubicBezTo>
                  <a:pt x="172" y="306"/>
                  <a:pt x="172" y="306"/>
                  <a:pt x="173" y="306"/>
                </a:cubicBezTo>
                <a:cubicBezTo>
                  <a:pt x="175" y="316"/>
                  <a:pt x="178" y="326"/>
                  <a:pt x="184" y="335"/>
                </a:cubicBezTo>
                <a:cubicBezTo>
                  <a:pt x="185" y="337"/>
                  <a:pt x="188" y="344"/>
                  <a:pt x="191" y="346"/>
                </a:cubicBezTo>
                <a:cubicBezTo>
                  <a:pt x="191" y="346"/>
                  <a:pt x="191" y="346"/>
                  <a:pt x="191" y="346"/>
                </a:cubicBezTo>
                <a:cubicBezTo>
                  <a:pt x="193" y="352"/>
                  <a:pt x="195" y="357"/>
                  <a:pt x="198" y="362"/>
                </a:cubicBezTo>
                <a:cubicBezTo>
                  <a:pt x="203" y="367"/>
                  <a:pt x="204" y="373"/>
                  <a:pt x="205" y="380"/>
                </a:cubicBezTo>
                <a:cubicBezTo>
                  <a:pt x="205" y="380"/>
                  <a:pt x="205" y="380"/>
                  <a:pt x="205" y="380"/>
                </a:cubicBezTo>
                <a:cubicBezTo>
                  <a:pt x="205" y="380"/>
                  <a:pt x="205" y="379"/>
                  <a:pt x="204" y="379"/>
                </a:cubicBezTo>
                <a:cubicBezTo>
                  <a:pt x="204" y="379"/>
                  <a:pt x="204" y="379"/>
                  <a:pt x="204" y="379"/>
                </a:cubicBezTo>
                <a:cubicBezTo>
                  <a:pt x="205" y="381"/>
                  <a:pt x="205" y="380"/>
                  <a:pt x="203" y="379"/>
                </a:cubicBezTo>
                <a:cubicBezTo>
                  <a:pt x="203" y="378"/>
                  <a:pt x="202" y="377"/>
                  <a:pt x="201" y="377"/>
                </a:cubicBezTo>
                <a:cubicBezTo>
                  <a:pt x="200" y="375"/>
                  <a:pt x="198" y="373"/>
                  <a:pt x="197" y="371"/>
                </a:cubicBezTo>
                <a:cubicBezTo>
                  <a:pt x="194" y="368"/>
                  <a:pt x="191" y="367"/>
                  <a:pt x="187" y="366"/>
                </a:cubicBezTo>
                <a:cubicBezTo>
                  <a:pt x="187" y="365"/>
                  <a:pt x="187" y="366"/>
                  <a:pt x="187" y="366"/>
                </a:cubicBezTo>
                <a:cubicBezTo>
                  <a:pt x="191" y="368"/>
                  <a:pt x="194" y="371"/>
                  <a:pt x="197" y="374"/>
                </a:cubicBezTo>
                <a:cubicBezTo>
                  <a:pt x="200" y="377"/>
                  <a:pt x="202" y="380"/>
                  <a:pt x="205" y="382"/>
                </a:cubicBezTo>
                <a:cubicBezTo>
                  <a:pt x="205" y="382"/>
                  <a:pt x="205" y="382"/>
                  <a:pt x="205" y="381"/>
                </a:cubicBezTo>
                <a:cubicBezTo>
                  <a:pt x="206" y="385"/>
                  <a:pt x="207" y="388"/>
                  <a:pt x="207" y="392"/>
                </a:cubicBezTo>
                <a:cubicBezTo>
                  <a:pt x="195" y="375"/>
                  <a:pt x="179" y="363"/>
                  <a:pt x="162" y="352"/>
                </a:cubicBezTo>
                <a:cubicBezTo>
                  <a:pt x="154" y="348"/>
                  <a:pt x="145" y="343"/>
                  <a:pt x="136" y="340"/>
                </a:cubicBezTo>
                <a:cubicBezTo>
                  <a:pt x="132" y="339"/>
                  <a:pt x="128" y="337"/>
                  <a:pt x="123" y="337"/>
                </a:cubicBezTo>
                <a:cubicBezTo>
                  <a:pt x="121" y="337"/>
                  <a:pt x="119" y="336"/>
                  <a:pt x="117" y="337"/>
                </a:cubicBezTo>
                <a:close/>
                <a:moveTo>
                  <a:pt x="124" y="341"/>
                </a:moveTo>
                <a:cubicBezTo>
                  <a:pt x="129" y="342"/>
                  <a:pt x="133" y="343"/>
                  <a:pt x="137" y="344"/>
                </a:cubicBezTo>
                <a:cubicBezTo>
                  <a:pt x="146" y="348"/>
                  <a:pt x="154" y="352"/>
                  <a:pt x="161" y="356"/>
                </a:cubicBezTo>
                <a:cubicBezTo>
                  <a:pt x="170" y="361"/>
                  <a:pt x="179" y="366"/>
                  <a:pt x="186" y="373"/>
                </a:cubicBezTo>
                <a:cubicBezTo>
                  <a:pt x="194" y="380"/>
                  <a:pt x="200" y="388"/>
                  <a:pt x="207" y="395"/>
                </a:cubicBezTo>
                <a:cubicBezTo>
                  <a:pt x="207" y="397"/>
                  <a:pt x="208" y="399"/>
                  <a:pt x="208" y="400"/>
                </a:cubicBezTo>
                <a:cubicBezTo>
                  <a:pt x="209" y="405"/>
                  <a:pt x="210" y="410"/>
                  <a:pt x="210" y="416"/>
                </a:cubicBezTo>
                <a:cubicBezTo>
                  <a:pt x="208" y="416"/>
                  <a:pt x="207" y="418"/>
                  <a:pt x="206" y="421"/>
                </a:cubicBezTo>
                <a:cubicBezTo>
                  <a:pt x="201" y="434"/>
                  <a:pt x="207" y="451"/>
                  <a:pt x="211" y="463"/>
                </a:cubicBezTo>
                <a:cubicBezTo>
                  <a:pt x="213" y="469"/>
                  <a:pt x="215" y="474"/>
                  <a:pt x="217" y="480"/>
                </a:cubicBezTo>
                <a:cubicBezTo>
                  <a:pt x="218" y="485"/>
                  <a:pt x="219" y="489"/>
                  <a:pt x="221" y="493"/>
                </a:cubicBezTo>
                <a:cubicBezTo>
                  <a:pt x="225" y="502"/>
                  <a:pt x="232" y="510"/>
                  <a:pt x="236" y="519"/>
                </a:cubicBezTo>
                <a:cubicBezTo>
                  <a:pt x="241" y="528"/>
                  <a:pt x="243" y="538"/>
                  <a:pt x="248" y="547"/>
                </a:cubicBezTo>
                <a:cubicBezTo>
                  <a:pt x="249" y="549"/>
                  <a:pt x="251" y="551"/>
                  <a:pt x="252" y="553"/>
                </a:cubicBezTo>
                <a:cubicBezTo>
                  <a:pt x="251" y="552"/>
                  <a:pt x="251" y="552"/>
                  <a:pt x="250" y="551"/>
                </a:cubicBezTo>
                <a:cubicBezTo>
                  <a:pt x="244" y="545"/>
                  <a:pt x="239" y="541"/>
                  <a:pt x="233" y="535"/>
                </a:cubicBezTo>
                <a:cubicBezTo>
                  <a:pt x="223" y="525"/>
                  <a:pt x="213" y="515"/>
                  <a:pt x="206" y="502"/>
                </a:cubicBezTo>
                <a:cubicBezTo>
                  <a:pt x="200" y="489"/>
                  <a:pt x="196" y="476"/>
                  <a:pt x="192" y="462"/>
                </a:cubicBezTo>
                <a:cubicBezTo>
                  <a:pt x="189" y="450"/>
                  <a:pt x="186" y="438"/>
                  <a:pt x="178" y="429"/>
                </a:cubicBezTo>
                <a:cubicBezTo>
                  <a:pt x="178" y="428"/>
                  <a:pt x="178" y="428"/>
                  <a:pt x="178" y="428"/>
                </a:cubicBezTo>
                <a:cubicBezTo>
                  <a:pt x="177" y="425"/>
                  <a:pt x="177" y="421"/>
                  <a:pt x="176" y="417"/>
                </a:cubicBezTo>
                <a:cubicBezTo>
                  <a:pt x="174" y="413"/>
                  <a:pt x="172" y="409"/>
                  <a:pt x="170" y="405"/>
                </a:cubicBezTo>
                <a:cubicBezTo>
                  <a:pt x="164" y="397"/>
                  <a:pt x="157" y="389"/>
                  <a:pt x="151" y="381"/>
                </a:cubicBezTo>
                <a:cubicBezTo>
                  <a:pt x="148" y="377"/>
                  <a:pt x="145" y="372"/>
                  <a:pt x="142" y="368"/>
                </a:cubicBezTo>
                <a:cubicBezTo>
                  <a:pt x="139" y="363"/>
                  <a:pt x="137" y="359"/>
                  <a:pt x="134" y="355"/>
                </a:cubicBezTo>
                <a:cubicBezTo>
                  <a:pt x="129" y="350"/>
                  <a:pt x="124" y="346"/>
                  <a:pt x="119" y="341"/>
                </a:cubicBezTo>
                <a:cubicBezTo>
                  <a:pt x="121" y="341"/>
                  <a:pt x="123" y="341"/>
                  <a:pt x="124" y="341"/>
                </a:cubicBezTo>
                <a:close/>
                <a:moveTo>
                  <a:pt x="103" y="382"/>
                </a:moveTo>
                <a:cubicBezTo>
                  <a:pt x="103" y="382"/>
                  <a:pt x="104" y="383"/>
                  <a:pt x="105" y="383"/>
                </a:cubicBezTo>
                <a:cubicBezTo>
                  <a:pt x="105" y="383"/>
                  <a:pt x="106" y="384"/>
                  <a:pt x="107" y="384"/>
                </a:cubicBezTo>
                <a:cubicBezTo>
                  <a:pt x="108" y="385"/>
                  <a:pt x="109" y="385"/>
                  <a:pt x="110" y="385"/>
                </a:cubicBezTo>
                <a:cubicBezTo>
                  <a:pt x="112" y="386"/>
                  <a:pt x="116" y="386"/>
                  <a:pt x="117" y="384"/>
                </a:cubicBezTo>
                <a:cubicBezTo>
                  <a:pt x="118" y="377"/>
                  <a:pt x="110" y="372"/>
                  <a:pt x="109" y="366"/>
                </a:cubicBezTo>
                <a:cubicBezTo>
                  <a:pt x="115" y="372"/>
                  <a:pt x="118" y="380"/>
                  <a:pt x="125" y="384"/>
                </a:cubicBezTo>
                <a:cubicBezTo>
                  <a:pt x="127" y="385"/>
                  <a:pt x="128" y="384"/>
                  <a:pt x="128" y="382"/>
                </a:cubicBezTo>
                <a:cubicBezTo>
                  <a:pt x="127" y="379"/>
                  <a:pt x="126" y="377"/>
                  <a:pt x="130" y="377"/>
                </a:cubicBezTo>
                <a:cubicBezTo>
                  <a:pt x="130" y="377"/>
                  <a:pt x="132" y="377"/>
                  <a:pt x="132" y="376"/>
                </a:cubicBezTo>
                <a:cubicBezTo>
                  <a:pt x="134" y="373"/>
                  <a:pt x="133" y="370"/>
                  <a:pt x="132" y="367"/>
                </a:cubicBezTo>
                <a:cubicBezTo>
                  <a:pt x="130" y="363"/>
                  <a:pt x="128" y="357"/>
                  <a:pt x="125" y="353"/>
                </a:cubicBezTo>
                <a:cubicBezTo>
                  <a:pt x="125" y="352"/>
                  <a:pt x="123" y="350"/>
                  <a:pt x="121" y="348"/>
                </a:cubicBezTo>
                <a:cubicBezTo>
                  <a:pt x="125" y="351"/>
                  <a:pt x="128" y="354"/>
                  <a:pt x="131" y="358"/>
                </a:cubicBezTo>
                <a:cubicBezTo>
                  <a:pt x="138" y="366"/>
                  <a:pt x="143" y="376"/>
                  <a:pt x="149" y="385"/>
                </a:cubicBezTo>
                <a:cubicBezTo>
                  <a:pt x="155" y="393"/>
                  <a:pt x="162" y="400"/>
                  <a:pt x="168" y="408"/>
                </a:cubicBezTo>
                <a:cubicBezTo>
                  <a:pt x="171" y="413"/>
                  <a:pt x="172" y="417"/>
                  <a:pt x="174" y="422"/>
                </a:cubicBezTo>
                <a:cubicBezTo>
                  <a:pt x="174" y="425"/>
                  <a:pt x="175" y="427"/>
                  <a:pt x="176" y="429"/>
                </a:cubicBezTo>
                <a:cubicBezTo>
                  <a:pt x="176" y="429"/>
                  <a:pt x="176" y="429"/>
                  <a:pt x="176" y="429"/>
                </a:cubicBezTo>
                <a:cubicBezTo>
                  <a:pt x="172" y="435"/>
                  <a:pt x="176" y="442"/>
                  <a:pt x="176" y="448"/>
                </a:cubicBezTo>
                <a:cubicBezTo>
                  <a:pt x="175" y="448"/>
                  <a:pt x="174" y="447"/>
                  <a:pt x="173" y="446"/>
                </a:cubicBezTo>
                <a:cubicBezTo>
                  <a:pt x="172" y="446"/>
                  <a:pt x="171" y="446"/>
                  <a:pt x="171" y="447"/>
                </a:cubicBezTo>
                <a:cubicBezTo>
                  <a:pt x="170" y="449"/>
                  <a:pt x="170" y="451"/>
                  <a:pt x="170" y="452"/>
                </a:cubicBezTo>
                <a:cubicBezTo>
                  <a:pt x="169" y="455"/>
                  <a:pt x="168" y="456"/>
                  <a:pt x="165" y="455"/>
                </a:cubicBezTo>
                <a:cubicBezTo>
                  <a:pt x="163" y="453"/>
                  <a:pt x="160" y="451"/>
                  <a:pt x="157" y="451"/>
                </a:cubicBezTo>
                <a:cubicBezTo>
                  <a:pt x="157" y="451"/>
                  <a:pt x="157" y="451"/>
                  <a:pt x="156" y="451"/>
                </a:cubicBezTo>
                <a:cubicBezTo>
                  <a:pt x="158" y="445"/>
                  <a:pt x="156" y="438"/>
                  <a:pt x="154" y="433"/>
                </a:cubicBezTo>
                <a:cubicBezTo>
                  <a:pt x="152" y="427"/>
                  <a:pt x="148" y="420"/>
                  <a:pt x="144" y="415"/>
                </a:cubicBezTo>
                <a:cubicBezTo>
                  <a:pt x="139" y="408"/>
                  <a:pt x="131" y="403"/>
                  <a:pt x="123" y="400"/>
                </a:cubicBezTo>
                <a:cubicBezTo>
                  <a:pt x="119" y="399"/>
                  <a:pt x="116" y="398"/>
                  <a:pt x="113" y="396"/>
                </a:cubicBezTo>
                <a:cubicBezTo>
                  <a:pt x="111" y="394"/>
                  <a:pt x="110" y="392"/>
                  <a:pt x="109" y="391"/>
                </a:cubicBezTo>
                <a:cubicBezTo>
                  <a:pt x="107" y="388"/>
                  <a:pt x="104" y="386"/>
                  <a:pt x="101" y="384"/>
                </a:cubicBezTo>
                <a:cubicBezTo>
                  <a:pt x="101" y="384"/>
                  <a:pt x="101" y="384"/>
                  <a:pt x="101" y="384"/>
                </a:cubicBezTo>
                <a:cubicBezTo>
                  <a:pt x="100" y="382"/>
                  <a:pt x="101" y="381"/>
                  <a:pt x="103" y="382"/>
                </a:cubicBezTo>
                <a:close/>
                <a:moveTo>
                  <a:pt x="153" y="452"/>
                </a:moveTo>
                <a:cubicBezTo>
                  <a:pt x="152" y="453"/>
                  <a:pt x="152" y="453"/>
                  <a:pt x="151" y="454"/>
                </a:cubicBezTo>
                <a:cubicBezTo>
                  <a:pt x="150" y="449"/>
                  <a:pt x="148" y="445"/>
                  <a:pt x="146" y="441"/>
                </a:cubicBezTo>
                <a:cubicBezTo>
                  <a:pt x="144" y="436"/>
                  <a:pt x="142" y="432"/>
                  <a:pt x="140" y="428"/>
                </a:cubicBezTo>
                <a:cubicBezTo>
                  <a:pt x="138" y="424"/>
                  <a:pt x="136" y="419"/>
                  <a:pt x="134" y="415"/>
                </a:cubicBezTo>
                <a:cubicBezTo>
                  <a:pt x="134" y="413"/>
                  <a:pt x="133" y="411"/>
                  <a:pt x="132" y="409"/>
                </a:cubicBezTo>
                <a:cubicBezTo>
                  <a:pt x="135" y="411"/>
                  <a:pt x="138" y="413"/>
                  <a:pt x="140" y="416"/>
                </a:cubicBezTo>
                <a:cubicBezTo>
                  <a:pt x="148" y="425"/>
                  <a:pt x="156" y="439"/>
                  <a:pt x="153" y="452"/>
                </a:cubicBezTo>
                <a:close/>
                <a:moveTo>
                  <a:pt x="101" y="389"/>
                </a:moveTo>
                <a:cubicBezTo>
                  <a:pt x="101" y="389"/>
                  <a:pt x="101" y="389"/>
                  <a:pt x="101" y="389"/>
                </a:cubicBezTo>
                <a:cubicBezTo>
                  <a:pt x="106" y="393"/>
                  <a:pt x="110" y="400"/>
                  <a:pt x="116" y="402"/>
                </a:cubicBezTo>
                <a:cubicBezTo>
                  <a:pt x="118" y="409"/>
                  <a:pt x="119" y="414"/>
                  <a:pt x="116" y="421"/>
                </a:cubicBezTo>
                <a:cubicBezTo>
                  <a:pt x="115" y="424"/>
                  <a:pt x="114" y="427"/>
                  <a:pt x="112" y="429"/>
                </a:cubicBezTo>
                <a:cubicBezTo>
                  <a:pt x="112" y="430"/>
                  <a:pt x="111" y="430"/>
                  <a:pt x="111" y="430"/>
                </a:cubicBezTo>
                <a:cubicBezTo>
                  <a:pt x="110" y="425"/>
                  <a:pt x="103" y="419"/>
                  <a:pt x="101" y="414"/>
                </a:cubicBezTo>
                <a:cubicBezTo>
                  <a:pt x="94" y="405"/>
                  <a:pt x="96" y="393"/>
                  <a:pt x="92" y="383"/>
                </a:cubicBezTo>
                <a:cubicBezTo>
                  <a:pt x="95" y="385"/>
                  <a:pt x="98" y="387"/>
                  <a:pt x="101" y="389"/>
                </a:cubicBezTo>
                <a:close/>
                <a:moveTo>
                  <a:pt x="108" y="433"/>
                </a:moveTo>
                <a:cubicBezTo>
                  <a:pt x="108" y="433"/>
                  <a:pt x="108" y="433"/>
                  <a:pt x="108" y="434"/>
                </a:cubicBezTo>
                <a:cubicBezTo>
                  <a:pt x="107" y="433"/>
                  <a:pt x="107" y="433"/>
                  <a:pt x="107" y="433"/>
                </a:cubicBezTo>
                <a:cubicBezTo>
                  <a:pt x="102" y="428"/>
                  <a:pt x="96" y="426"/>
                  <a:pt x="92" y="421"/>
                </a:cubicBezTo>
                <a:cubicBezTo>
                  <a:pt x="82" y="411"/>
                  <a:pt x="73" y="401"/>
                  <a:pt x="67" y="388"/>
                </a:cubicBezTo>
                <a:cubicBezTo>
                  <a:pt x="63" y="379"/>
                  <a:pt x="58" y="370"/>
                  <a:pt x="53" y="362"/>
                </a:cubicBezTo>
                <a:cubicBezTo>
                  <a:pt x="54" y="362"/>
                  <a:pt x="54" y="362"/>
                  <a:pt x="55" y="363"/>
                </a:cubicBezTo>
                <a:cubicBezTo>
                  <a:pt x="59" y="364"/>
                  <a:pt x="63" y="365"/>
                  <a:pt x="66" y="367"/>
                </a:cubicBezTo>
                <a:cubicBezTo>
                  <a:pt x="69" y="368"/>
                  <a:pt x="72" y="370"/>
                  <a:pt x="75" y="372"/>
                </a:cubicBezTo>
                <a:cubicBezTo>
                  <a:pt x="80" y="375"/>
                  <a:pt x="84" y="377"/>
                  <a:pt x="88" y="380"/>
                </a:cubicBezTo>
                <a:cubicBezTo>
                  <a:pt x="87" y="381"/>
                  <a:pt x="87" y="381"/>
                  <a:pt x="88" y="382"/>
                </a:cubicBezTo>
                <a:cubicBezTo>
                  <a:pt x="92" y="391"/>
                  <a:pt x="90" y="402"/>
                  <a:pt x="95" y="411"/>
                </a:cubicBezTo>
                <a:cubicBezTo>
                  <a:pt x="97" y="415"/>
                  <a:pt x="100" y="418"/>
                  <a:pt x="102" y="421"/>
                </a:cubicBezTo>
                <a:cubicBezTo>
                  <a:pt x="103" y="422"/>
                  <a:pt x="104" y="424"/>
                  <a:pt x="105" y="425"/>
                </a:cubicBezTo>
                <a:cubicBezTo>
                  <a:pt x="105" y="425"/>
                  <a:pt x="105" y="425"/>
                  <a:pt x="105" y="425"/>
                </a:cubicBezTo>
                <a:cubicBezTo>
                  <a:pt x="105" y="426"/>
                  <a:pt x="106" y="427"/>
                  <a:pt x="106" y="428"/>
                </a:cubicBezTo>
                <a:cubicBezTo>
                  <a:pt x="106" y="429"/>
                  <a:pt x="106" y="430"/>
                  <a:pt x="107" y="431"/>
                </a:cubicBezTo>
                <a:cubicBezTo>
                  <a:pt x="107" y="431"/>
                  <a:pt x="107" y="431"/>
                  <a:pt x="107" y="431"/>
                </a:cubicBezTo>
                <a:cubicBezTo>
                  <a:pt x="108" y="430"/>
                  <a:pt x="108" y="429"/>
                  <a:pt x="107" y="428"/>
                </a:cubicBezTo>
                <a:cubicBezTo>
                  <a:pt x="108" y="430"/>
                  <a:pt x="109" y="432"/>
                  <a:pt x="108" y="433"/>
                </a:cubicBezTo>
                <a:close/>
                <a:moveTo>
                  <a:pt x="132" y="482"/>
                </a:moveTo>
                <a:cubicBezTo>
                  <a:pt x="131" y="477"/>
                  <a:pt x="129" y="472"/>
                  <a:pt x="127" y="468"/>
                </a:cubicBezTo>
                <a:cubicBezTo>
                  <a:pt x="125" y="462"/>
                  <a:pt x="123" y="456"/>
                  <a:pt x="120" y="450"/>
                </a:cubicBezTo>
                <a:cubicBezTo>
                  <a:pt x="117" y="446"/>
                  <a:pt x="114" y="440"/>
                  <a:pt x="110" y="436"/>
                </a:cubicBezTo>
                <a:cubicBezTo>
                  <a:pt x="115" y="434"/>
                  <a:pt x="118" y="425"/>
                  <a:pt x="120" y="421"/>
                </a:cubicBezTo>
                <a:cubicBezTo>
                  <a:pt x="122" y="414"/>
                  <a:pt x="121" y="408"/>
                  <a:pt x="118" y="403"/>
                </a:cubicBezTo>
                <a:cubicBezTo>
                  <a:pt x="122" y="404"/>
                  <a:pt x="125" y="405"/>
                  <a:pt x="128" y="407"/>
                </a:cubicBezTo>
                <a:cubicBezTo>
                  <a:pt x="128" y="407"/>
                  <a:pt x="128" y="407"/>
                  <a:pt x="128" y="407"/>
                </a:cubicBezTo>
                <a:cubicBezTo>
                  <a:pt x="128" y="410"/>
                  <a:pt x="130" y="414"/>
                  <a:pt x="131" y="416"/>
                </a:cubicBezTo>
                <a:cubicBezTo>
                  <a:pt x="133" y="421"/>
                  <a:pt x="136" y="426"/>
                  <a:pt x="138" y="430"/>
                </a:cubicBezTo>
                <a:cubicBezTo>
                  <a:pt x="140" y="436"/>
                  <a:pt x="143" y="441"/>
                  <a:pt x="145" y="446"/>
                </a:cubicBezTo>
                <a:cubicBezTo>
                  <a:pt x="147" y="450"/>
                  <a:pt x="148" y="454"/>
                  <a:pt x="150" y="459"/>
                </a:cubicBezTo>
                <a:cubicBezTo>
                  <a:pt x="150" y="459"/>
                  <a:pt x="150" y="459"/>
                  <a:pt x="150" y="459"/>
                </a:cubicBezTo>
                <a:cubicBezTo>
                  <a:pt x="150" y="459"/>
                  <a:pt x="150" y="459"/>
                  <a:pt x="150" y="460"/>
                </a:cubicBezTo>
                <a:cubicBezTo>
                  <a:pt x="150" y="463"/>
                  <a:pt x="151" y="466"/>
                  <a:pt x="152" y="470"/>
                </a:cubicBezTo>
                <a:cubicBezTo>
                  <a:pt x="152" y="470"/>
                  <a:pt x="152" y="470"/>
                  <a:pt x="152" y="470"/>
                </a:cubicBezTo>
                <a:cubicBezTo>
                  <a:pt x="147" y="472"/>
                  <a:pt x="142" y="474"/>
                  <a:pt x="138" y="477"/>
                </a:cubicBezTo>
                <a:cubicBezTo>
                  <a:pt x="136" y="479"/>
                  <a:pt x="134" y="480"/>
                  <a:pt x="132" y="482"/>
                </a:cubicBezTo>
                <a:close/>
                <a:moveTo>
                  <a:pt x="263" y="609"/>
                </a:moveTo>
                <a:cubicBezTo>
                  <a:pt x="258" y="606"/>
                  <a:pt x="255" y="602"/>
                  <a:pt x="250" y="599"/>
                </a:cubicBezTo>
                <a:cubicBezTo>
                  <a:pt x="246" y="597"/>
                  <a:pt x="242" y="597"/>
                  <a:pt x="238" y="596"/>
                </a:cubicBezTo>
                <a:cubicBezTo>
                  <a:pt x="228" y="593"/>
                  <a:pt x="219" y="587"/>
                  <a:pt x="210" y="581"/>
                </a:cubicBezTo>
                <a:cubicBezTo>
                  <a:pt x="200" y="575"/>
                  <a:pt x="190" y="569"/>
                  <a:pt x="181" y="561"/>
                </a:cubicBezTo>
                <a:cubicBezTo>
                  <a:pt x="173" y="554"/>
                  <a:pt x="165" y="547"/>
                  <a:pt x="157" y="539"/>
                </a:cubicBezTo>
                <a:cubicBezTo>
                  <a:pt x="154" y="535"/>
                  <a:pt x="149" y="533"/>
                  <a:pt x="146" y="529"/>
                </a:cubicBezTo>
                <a:cubicBezTo>
                  <a:pt x="143" y="526"/>
                  <a:pt x="141" y="521"/>
                  <a:pt x="140" y="516"/>
                </a:cubicBezTo>
                <a:cubicBezTo>
                  <a:pt x="139" y="508"/>
                  <a:pt x="139" y="500"/>
                  <a:pt x="136" y="493"/>
                </a:cubicBezTo>
                <a:cubicBezTo>
                  <a:pt x="132" y="486"/>
                  <a:pt x="137" y="482"/>
                  <a:pt x="143" y="479"/>
                </a:cubicBezTo>
                <a:cubicBezTo>
                  <a:pt x="146" y="477"/>
                  <a:pt x="150" y="475"/>
                  <a:pt x="154" y="473"/>
                </a:cubicBezTo>
                <a:cubicBezTo>
                  <a:pt x="154" y="475"/>
                  <a:pt x="155" y="476"/>
                  <a:pt x="155" y="477"/>
                </a:cubicBezTo>
                <a:cubicBezTo>
                  <a:pt x="159" y="484"/>
                  <a:pt x="162" y="492"/>
                  <a:pt x="165" y="499"/>
                </a:cubicBezTo>
                <a:cubicBezTo>
                  <a:pt x="170" y="509"/>
                  <a:pt x="176" y="519"/>
                  <a:pt x="183" y="527"/>
                </a:cubicBezTo>
                <a:cubicBezTo>
                  <a:pt x="190" y="536"/>
                  <a:pt x="199" y="543"/>
                  <a:pt x="208" y="551"/>
                </a:cubicBezTo>
                <a:cubicBezTo>
                  <a:pt x="216" y="560"/>
                  <a:pt x="225" y="568"/>
                  <a:pt x="233" y="577"/>
                </a:cubicBezTo>
                <a:cubicBezTo>
                  <a:pt x="238" y="584"/>
                  <a:pt x="244" y="592"/>
                  <a:pt x="253" y="594"/>
                </a:cubicBezTo>
                <a:cubicBezTo>
                  <a:pt x="255" y="594"/>
                  <a:pt x="256" y="591"/>
                  <a:pt x="254" y="590"/>
                </a:cubicBezTo>
                <a:cubicBezTo>
                  <a:pt x="244" y="587"/>
                  <a:pt x="238" y="577"/>
                  <a:pt x="231" y="570"/>
                </a:cubicBezTo>
                <a:cubicBezTo>
                  <a:pt x="224" y="562"/>
                  <a:pt x="216" y="553"/>
                  <a:pt x="207" y="546"/>
                </a:cubicBezTo>
                <a:cubicBezTo>
                  <a:pt x="199" y="538"/>
                  <a:pt x="191" y="531"/>
                  <a:pt x="184" y="523"/>
                </a:cubicBezTo>
                <a:cubicBezTo>
                  <a:pt x="184" y="522"/>
                  <a:pt x="183" y="521"/>
                  <a:pt x="183" y="520"/>
                </a:cubicBezTo>
                <a:cubicBezTo>
                  <a:pt x="185" y="523"/>
                  <a:pt x="187" y="524"/>
                  <a:pt x="189" y="527"/>
                </a:cubicBezTo>
                <a:cubicBezTo>
                  <a:pt x="193" y="530"/>
                  <a:pt x="197" y="534"/>
                  <a:pt x="201" y="536"/>
                </a:cubicBezTo>
                <a:cubicBezTo>
                  <a:pt x="202" y="537"/>
                  <a:pt x="202" y="536"/>
                  <a:pt x="202" y="536"/>
                </a:cubicBezTo>
                <a:cubicBezTo>
                  <a:pt x="194" y="530"/>
                  <a:pt x="188" y="522"/>
                  <a:pt x="181" y="515"/>
                </a:cubicBezTo>
                <a:cubicBezTo>
                  <a:pt x="180" y="515"/>
                  <a:pt x="180" y="515"/>
                  <a:pt x="180" y="516"/>
                </a:cubicBezTo>
                <a:cubicBezTo>
                  <a:pt x="180" y="517"/>
                  <a:pt x="181" y="518"/>
                  <a:pt x="181" y="518"/>
                </a:cubicBezTo>
                <a:cubicBezTo>
                  <a:pt x="176" y="512"/>
                  <a:pt x="172" y="505"/>
                  <a:pt x="169" y="497"/>
                </a:cubicBezTo>
                <a:cubicBezTo>
                  <a:pt x="165" y="490"/>
                  <a:pt x="162" y="483"/>
                  <a:pt x="159" y="476"/>
                </a:cubicBezTo>
                <a:cubicBezTo>
                  <a:pt x="157" y="471"/>
                  <a:pt x="152" y="463"/>
                  <a:pt x="154" y="457"/>
                </a:cubicBezTo>
                <a:cubicBezTo>
                  <a:pt x="155" y="452"/>
                  <a:pt x="160" y="456"/>
                  <a:pt x="163" y="458"/>
                </a:cubicBezTo>
                <a:cubicBezTo>
                  <a:pt x="165" y="459"/>
                  <a:pt x="167" y="459"/>
                  <a:pt x="170" y="459"/>
                </a:cubicBezTo>
                <a:cubicBezTo>
                  <a:pt x="173" y="459"/>
                  <a:pt x="173" y="454"/>
                  <a:pt x="174" y="451"/>
                </a:cubicBezTo>
                <a:cubicBezTo>
                  <a:pt x="174" y="451"/>
                  <a:pt x="175" y="452"/>
                  <a:pt x="176" y="452"/>
                </a:cubicBezTo>
                <a:cubicBezTo>
                  <a:pt x="177" y="453"/>
                  <a:pt x="179" y="453"/>
                  <a:pt x="179" y="451"/>
                </a:cubicBezTo>
                <a:cubicBezTo>
                  <a:pt x="181" y="446"/>
                  <a:pt x="176" y="439"/>
                  <a:pt x="177" y="433"/>
                </a:cubicBezTo>
                <a:cubicBezTo>
                  <a:pt x="185" y="445"/>
                  <a:pt x="187" y="459"/>
                  <a:pt x="191" y="471"/>
                </a:cubicBezTo>
                <a:cubicBezTo>
                  <a:pt x="194" y="484"/>
                  <a:pt x="198" y="496"/>
                  <a:pt x="204" y="507"/>
                </a:cubicBezTo>
                <a:cubicBezTo>
                  <a:pt x="212" y="520"/>
                  <a:pt x="222" y="529"/>
                  <a:pt x="232" y="539"/>
                </a:cubicBezTo>
                <a:cubicBezTo>
                  <a:pt x="238" y="544"/>
                  <a:pt x="244" y="549"/>
                  <a:pt x="249" y="554"/>
                </a:cubicBezTo>
                <a:cubicBezTo>
                  <a:pt x="254" y="560"/>
                  <a:pt x="259" y="566"/>
                  <a:pt x="265" y="571"/>
                </a:cubicBezTo>
                <a:cubicBezTo>
                  <a:pt x="265" y="571"/>
                  <a:pt x="266" y="571"/>
                  <a:pt x="266" y="571"/>
                </a:cubicBezTo>
                <a:cubicBezTo>
                  <a:pt x="266" y="572"/>
                  <a:pt x="267" y="572"/>
                  <a:pt x="267" y="573"/>
                </a:cubicBezTo>
                <a:cubicBezTo>
                  <a:pt x="268" y="574"/>
                  <a:pt x="269" y="573"/>
                  <a:pt x="269" y="572"/>
                </a:cubicBezTo>
                <a:cubicBezTo>
                  <a:pt x="267" y="568"/>
                  <a:pt x="264" y="564"/>
                  <a:pt x="262" y="561"/>
                </a:cubicBezTo>
                <a:cubicBezTo>
                  <a:pt x="262" y="560"/>
                  <a:pt x="262" y="560"/>
                  <a:pt x="262" y="560"/>
                </a:cubicBezTo>
                <a:cubicBezTo>
                  <a:pt x="258" y="547"/>
                  <a:pt x="250" y="537"/>
                  <a:pt x="244" y="525"/>
                </a:cubicBezTo>
                <a:cubicBezTo>
                  <a:pt x="244" y="525"/>
                  <a:pt x="243" y="525"/>
                  <a:pt x="243" y="526"/>
                </a:cubicBezTo>
                <a:cubicBezTo>
                  <a:pt x="246" y="532"/>
                  <a:pt x="248" y="538"/>
                  <a:pt x="252" y="543"/>
                </a:cubicBezTo>
                <a:cubicBezTo>
                  <a:pt x="255" y="548"/>
                  <a:pt x="257" y="553"/>
                  <a:pt x="260" y="558"/>
                </a:cubicBezTo>
                <a:cubicBezTo>
                  <a:pt x="257" y="555"/>
                  <a:pt x="255" y="552"/>
                  <a:pt x="252" y="548"/>
                </a:cubicBezTo>
                <a:cubicBezTo>
                  <a:pt x="247" y="541"/>
                  <a:pt x="245" y="533"/>
                  <a:pt x="242" y="525"/>
                </a:cubicBezTo>
                <a:cubicBezTo>
                  <a:pt x="240" y="519"/>
                  <a:pt x="237" y="513"/>
                  <a:pt x="233" y="508"/>
                </a:cubicBezTo>
                <a:cubicBezTo>
                  <a:pt x="234" y="509"/>
                  <a:pt x="235" y="510"/>
                  <a:pt x="236" y="511"/>
                </a:cubicBezTo>
                <a:cubicBezTo>
                  <a:pt x="236" y="511"/>
                  <a:pt x="237" y="511"/>
                  <a:pt x="236" y="510"/>
                </a:cubicBezTo>
                <a:cubicBezTo>
                  <a:pt x="235" y="509"/>
                  <a:pt x="235" y="506"/>
                  <a:pt x="234" y="504"/>
                </a:cubicBezTo>
                <a:cubicBezTo>
                  <a:pt x="233" y="503"/>
                  <a:pt x="233" y="501"/>
                  <a:pt x="231" y="501"/>
                </a:cubicBezTo>
                <a:cubicBezTo>
                  <a:pt x="231" y="501"/>
                  <a:pt x="231" y="502"/>
                  <a:pt x="231" y="502"/>
                </a:cubicBezTo>
                <a:cubicBezTo>
                  <a:pt x="230" y="503"/>
                  <a:pt x="232" y="505"/>
                  <a:pt x="232" y="507"/>
                </a:cubicBezTo>
                <a:cubicBezTo>
                  <a:pt x="233" y="507"/>
                  <a:pt x="233" y="507"/>
                  <a:pt x="233" y="508"/>
                </a:cubicBezTo>
                <a:cubicBezTo>
                  <a:pt x="232" y="506"/>
                  <a:pt x="231" y="504"/>
                  <a:pt x="230" y="502"/>
                </a:cubicBezTo>
                <a:cubicBezTo>
                  <a:pt x="228" y="499"/>
                  <a:pt x="225" y="495"/>
                  <a:pt x="224" y="491"/>
                </a:cubicBezTo>
                <a:cubicBezTo>
                  <a:pt x="222" y="487"/>
                  <a:pt x="221" y="482"/>
                  <a:pt x="220" y="477"/>
                </a:cubicBezTo>
                <a:cubicBezTo>
                  <a:pt x="216" y="463"/>
                  <a:pt x="208" y="449"/>
                  <a:pt x="208" y="433"/>
                </a:cubicBezTo>
                <a:cubicBezTo>
                  <a:pt x="208" y="427"/>
                  <a:pt x="208" y="418"/>
                  <a:pt x="216" y="418"/>
                </a:cubicBezTo>
                <a:cubicBezTo>
                  <a:pt x="220" y="418"/>
                  <a:pt x="222" y="418"/>
                  <a:pt x="226" y="416"/>
                </a:cubicBezTo>
                <a:cubicBezTo>
                  <a:pt x="231" y="415"/>
                  <a:pt x="234" y="418"/>
                  <a:pt x="237" y="420"/>
                </a:cubicBezTo>
                <a:cubicBezTo>
                  <a:pt x="237" y="420"/>
                  <a:pt x="237" y="420"/>
                  <a:pt x="237" y="420"/>
                </a:cubicBezTo>
                <a:cubicBezTo>
                  <a:pt x="238" y="426"/>
                  <a:pt x="240" y="431"/>
                  <a:pt x="242" y="437"/>
                </a:cubicBezTo>
                <a:cubicBezTo>
                  <a:pt x="240" y="438"/>
                  <a:pt x="240" y="442"/>
                  <a:pt x="240" y="444"/>
                </a:cubicBezTo>
                <a:cubicBezTo>
                  <a:pt x="239" y="450"/>
                  <a:pt x="237" y="455"/>
                  <a:pt x="236" y="461"/>
                </a:cubicBezTo>
                <a:cubicBezTo>
                  <a:pt x="235" y="466"/>
                  <a:pt x="235" y="471"/>
                  <a:pt x="236" y="477"/>
                </a:cubicBezTo>
                <a:cubicBezTo>
                  <a:pt x="236" y="480"/>
                  <a:pt x="236" y="484"/>
                  <a:pt x="236" y="487"/>
                </a:cubicBezTo>
                <a:cubicBezTo>
                  <a:pt x="235" y="490"/>
                  <a:pt x="235" y="493"/>
                  <a:pt x="235" y="495"/>
                </a:cubicBezTo>
                <a:cubicBezTo>
                  <a:pt x="238" y="509"/>
                  <a:pt x="250" y="516"/>
                  <a:pt x="258" y="526"/>
                </a:cubicBezTo>
                <a:cubicBezTo>
                  <a:pt x="268" y="538"/>
                  <a:pt x="277" y="551"/>
                  <a:pt x="284" y="564"/>
                </a:cubicBezTo>
                <a:cubicBezTo>
                  <a:pt x="287" y="570"/>
                  <a:pt x="290" y="576"/>
                  <a:pt x="295" y="580"/>
                </a:cubicBezTo>
                <a:cubicBezTo>
                  <a:pt x="296" y="581"/>
                  <a:pt x="296" y="582"/>
                  <a:pt x="297" y="583"/>
                </a:cubicBezTo>
                <a:cubicBezTo>
                  <a:pt x="297" y="583"/>
                  <a:pt x="296" y="584"/>
                  <a:pt x="296" y="585"/>
                </a:cubicBezTo>
                <a:cubicBezTo>
                  <a:pt x="298" y="593"/>
                  <a:pt x="297" y="603"/>
                  <a:pt x="290" y="609"/>
                </a:cubicBezTo>
                <a:cubicBezTo>
                  <a:pt x="287" y="612"/>
                  <a:pt x="284" y="614"/>
                  <a:pt x="281" y="616"/>
                </a:cubicBezTo>
                <a:cubicBezTo>
                  <a:pt x="279" y="618"/>
                  <a:pt x="277" y="619"/>
                  <a:pt x="275" y="621"/>
                </a:cubicBezTo>
                <a:cubicBezTo>
                  <a:pt x="272" y="616"/>
                  <a:pt x="268" y="613"/>
                  <a:pt x="263" y="609"/>
                </a:cubicBezTo>
                <a:close/>
                <a:moveTo>
                  <a:pt x="300" y="586"/>
                </a:moveTo>
                <a:cubicBezTo>
                  <a:pt x="300" y="586"/>
                  <a:pt x="300" y="587"/>
                  <a:pt x="301" y="587"/>
                </a:cubicBezTo>
                <a:cubicBezTo>
                  <a:pt x="303" y="592"/>
                  <a:pt x="304" y="598"/>
                  <a:pt x="301" y="604"/>
                </a:cubicBezTo>
                <a:cubicBezTo>
                  <a:pt x="299" y="610"/>
                  <a:pt x="295" y="614"/>
                  <a:pt x="290" y="618"/>
                </a:cubicBezTo>
                <a:cubicBezTo>
                  <a:pt x="289" y="619"/>
                  <a:pt x="290" y="620"/>
                  <a:pt x="290" y="619"/>
                </a:cubicBezTo>
                <a:cubicBezTo>
                  <a:pt x="300" y="617"/>
                  <a:pt x="306" y="602"/>
                  <a:pt x="305" y="591"/>
                </a:cubicBezTo>
                <a:cubicBezTo>
                  <a:pt x="306" y="593"/>
                  <a:pt x="308" y="595"/>
                  <a:pt x="309" y="598"/>
                </a:cubicBezTo>
                <a:cubicBezTo>
                  <a:pt x="311" y="600"/>
                  <a:pt x="313" y="602"/>
                  <a:pt x="315" y="605"/>
                </a:cubicBezTo>
                <a:cubicBezTo>
                  <a:pt x="314" y="614"/>
                  <a:pt x="307" y="621"/>
                  <a:pt x="299" y="623"/>
                </a:cubicBezTo>
                <a:cubicBezTo>
                  <a:pt x="293" y="624"/>
                  <a:pt x="284" y="624"/>
                  <a:pt x="279" y="622"/>
                </a:cubicBezTo>
                <a:cubicBezTo>
                  <a:pt x="282" y="620"/>
                  <a:pt x="285" y="619"/>
                  <a:pt x="288" y="616"/>
                </a:cubicBezTo>
                <a:cubicBezTo>
                  <a:pt x="291" y="614"/>
                  <a:pt x="295" y="610"/>
                  <a:pt x="297" y="606"/>
                </a:cubicBezTo>
                <a:cubicBezTo>
                  <a:pt x="300" y="600"/>
                  <a:pt x="301" y="593"/>
                  <a:pt x="300" y="586"/>
                </a:cubicBezTo>
                <a:close/>
                <a:moveTo>
                  <a:pt x="390" y="734"/>
                </a:moveTo>
                <a:cubicBezTo>
                  <a:pt x="390" y="743"/>
                  <a:pt x="391" y="756"/>
                  <a:pt x="383" y="761"/>
                </a:cubicBezTo>
                <a:cubicBezTo>
                  <a:pt x="380" y="764"/>
                  <a:pt x="375" y="765"/>
                  <a:pt x="371" y="767"/>
                </a:cubicBezTo>
                <a:cubicBezTo>
                  <a:pt x="368" y="768"/>
                  <a:pt x="359" y="774"/>
                  <a:pt x="357" y="769"/>
                </a:cubicBezTo>
                <a:cubicBezTo>
                  <a:pt x="355" y="765"/>
                  <a:pt x="357" y="761"/>
                  <a:pt x="357" y="757"/>
                </a:cubicBezTo>
                <a:cubicBezTo>
                  <a:pt x="357" y="753"/>
                  <a:pt x="356" y="750"/>
                  <a:pt x="355" y="746"/>
                </a:cubicBezTo>
                <a:cubicBezTo>
                  <a:pt x="352" y="739"/>
                  <a:pt x="347" y="732"/>
                  <a:pt x="343" y="725"/>
                </a:cubicBezTo>
                <a:cubicBezTo>
                  <a:pt x="338" y="716"/>
                  <a:pt x="334" y="706"/>
                  <a:pt x="328" y="698"/>
                </a:cubicBezTo>
                <a:cubicBezTo>
                  <a:pt x="321" y="689"/>
                  <a:pt x="314" y="681"/>
                  <a:pt x="307" y="672"/>
                </a:cubicBezTo>
                <a:cubicBezTo>
                  <a:pt x="301" y="663"/>
                  <a:pt x="296" y="653"/>
                  <a:pt x="288" y="644"/>
                </a:cubicBezTo>
                <a:cubicBezTo>
                  <a:pt x="284" y="639"/>
                  <a:pt x="277" y="635"/>
                  <a:pt x="277" y="628"/>
                </a:cubicBezTo>
                <a:cubicBezTo>
                  <a:pt x="277" y="628"/>
                  <a:pt x="278" y="627"/>
                  <a:pt x="278" y="627"/>
                </a:cubicBezTo>
                <a:cubicBezTo>
                  <a:pt x="277" y="626"/>
                  <a:pt x="277" y="625"/>
                  <a:pt x="277" y="624"/>
                </a:cubicBezTo>
                <a:cubicBezTo>
                  <a:pt x="280" y="626"/>
                  <a:pt x="284" y="626"/>
                  <a:pt x="288" y="626"/>
                </a:cubicBezTo>
                <a:cubicBezTo>
                  <a:pt x="293" y="626"/>
                  <a:pt x="298" y="626"/>
                  <a:pt x="302" y="625"/>
                </a:cubicBezTo>
                <a:cubicBezTo>
                  <a:pt x="308" y="622"/>
                  <a:pt x="317" y="615"/>
                  <a:pt x="317" y="608"/>
                </a:cubicBezTo>
                <a:cubicBezTo>
                  <a:pt x="318" y="610"/>
                  <a:pt x="320" y="612"/>
                  <a:pt x="321" y="612"/>
                </a:cubicBezTo>
                <a:cubicBezTo>
                  <a:pt x="320" y="614"/>
                  <a:pt x="319" y="617"/>
                  <a:pt x="318" y="619"/>
                </a:cubicBezTo>
                <a:cubicBezTo>
                  <a:pt x="318" y="619"/>
                  <a:pt x="317" y="618"/>
                  <a:pt x="317" y="618"/>
                </a:cubicBezTo>
                <a:cubicBezTo>
                  <a:pt x="317" y="618"/>
                  <a:pt x="316" y="618"/>
                  <a:pt x="316" y="619"/>
                </a:cubicBezTo>
                <a:cubicBezTo>
                  <a:pt x="316" y="619"/>
                  <a:pt x="317" y="620"/>
                  <a:pt x="317" y="621"/>
                </a:cubicBezTo>
                <a:cubicBezTo>
                  <a:pt x="315" y="625"/>
                  <a:pt x="312" y="628"/>
                  <a:pt x="308" y="629"/>
                </a:cubicBezTo>
                <a:cubicBezTo>
                  <a:pt x="303" y="631"/>
                  <a:pt x="298" y="629"/>
                  <a:pt x="292" y="630"/>
                </a:cubicBezTo>
                <a:cubicBezTo>
                  <a:pt x="292" y="630"/>
                  <a:pt x="292" y="630"/>
                  <a:pt x="292" y="630"/>
                </a:cubicBezTo>
                <a:cubicBezTo>
                  <a:pt x="297" y="633"/>
                  <a:pt x="306" y="633"/>
                  <a:pt x="311" y="630"/>
                </a:cubicBezTo>
                <a:cubicBezTo>
                  <a:pt x="314" y="628"/>
                  <a:pt x="316" y="625"/>
                  <a:pt x="318" y="622"/>
                </a:cubicBezTo>
                <a:cubicBezTo>
                  <a:pt x="319" y="624"/>
                  <a:pt x="320" y="625"/>
                  <a:pt x="321" y="625"/>
                </a:cubicBezTo>
                <a:cubicBezTo>
                  <a:pt x="322" y="626"/>
                  <a:pt x="323" y="625"/>
                  <a:pt x="323" y="625"/>
                </a:cubicBezTo>
                <a:cubicBezTo>
                  <a:pt x="322" y="623"/>
                  <a:pt x="321" y="622"/>
                  <a:pt x="320" y="621"/>
                </a:cubicBezTo>
                <a:cubicBezTo>
                  <a:pt x="320" y="621"/>
                  <a:pt x="320" y="620"/>
                  <a:pt x="319" y="620"/>
                </a:cubicBezTo>
                <a:cubicBezTo>
                  <a:pt x="320" y="618"/>
                  <a:pt x="321" y="615"/>
                  <a:pt x="322" y="613"/>
                </a:cubicBezTo>
                <a:cubicBezTo>
                  <a:pt x="322" y="613"/>
                  <a:pt x="322" y="613"/>
                  <a:pt x="322" y="613"/>
                </a:cubicBezTo>
                <a:cubicBezTo>
                  <a:pt x="325" y="626"/>
                  <a:pt x="337" y="638"/>
                  <a:pt x="344" y="649"/>
                </a:cubicBezTo>
                <a:cubicBezTo>
                  <a:pt x="347" y="653"/>
                  <a:pt x="350" y="657"/>
                  <a:pt x="352" y="660"/>
                </a:cubicBezTo>
                <a:cubicBezTo>
                  <a:pt x="353" y="662"/>
                  <a:pt x="354" y="663"/>
                  <a:pt x="354" y="664"/>
                </a:cubicBezTo>
                <a:cubicBezTo>
                  <a:pt x="357" y="669"/>
                  <a:pt x="358" y="675"/>
                  <a:pt x="360" y="680"/>
                </a:cubicBezTo>
                <a:cubicBezTo>
                  <a:pt x="362" y="685"/>
                  <a:pt x="365" y="688"/>
                  <a:pt x="367" y="693"/>
                </a:cubicBezTo>
                <a:cubicBezTo>
                  <a:pt x="370" y="697"/>
                  <a:pt x="372" y="702"/>
                  <a:pt x="375" y="707"/>
                </a:cubicBezTo>
                <a:cubicBezTo>
                  <a:pt x="377" y="710"/>
                  <a:pt x="380" y="714"/>
                  <a:pt x="383" y="718"/>
                </a:cubicBezTo>
                <a:cubicBezTo>
                  <a:pt x="385" y="722"/>
                  <a:pt x="386" y="726"/>
                  <a:pt x="388" y="731"/>
                </a:cubicBezTo>
                <a:cubicBezTo>
                  <a:pt x="389" y="732"/>
                  <a:pt x="389" y="733"/>
                  <a:pt x="390" y="734"/>
                </a:cubicBezTo>
                <a:close/>
                <a:moveTo>
                  <a:pt x="421" y="721"/>
                </a:moveTo>
                <a:cubicBezTo>
                  <a:pt x="421" y="721"/>
                  <a:pt x="421" y="721"/>
                  <a:pt x="421" y="721"/>
                </a:cubicBezTo>
                <a:cubicBezTo>
                  <a:pt x="416" y="728"/>
                  <a:pt x="406" y="731"/>
                  <a:pt x="398" y="727"/>
                </a:cubicBezTo>
                <a:cubicBezTo>
                  <a:pt x="392" y="723"/>
                  <a:pt x="388" y="718"/>
                  <a:pt x="385" y="712"/>
                </a:cubicBezTo>
                <a:cubicBezTo>
                  <a:pt x="380" y="702"/>
                  <a:pt x="376" y="693"/>
                  <a:pt x="371" y="683"/>
                </a:cubicBezTo>
                <a:cubicBezTo>
                  <a:pt x="371" y="685"/>
                  <a:pt x="372" y="686"/>
                  <a:pt x="373" y="686"/>
                </a:cubicBezTo>
                <a:cubicBezTo>
                  <a:pt x="374" y="686"/>
                  <a:pt x="374" y="686"/>
                  <a:pt x="374" y="686"/>
                </a:cubicBezTo>
                <a:cubicBezTo>
                  <a:pt x="373" y="682"/>
                  <a:pt x="372" y="678"/>
                  <a:pt x="369" y="676"/>
                </a:cubicBezTo>
                <a:cubicBezTo>
                  <a:pt x="368" y="675"/>
                  <a:pt x="368" y="676"/>
                  <a:pt x="368" y="676"/>
                </a:cubicBezTo>
                <a:cubicBezTo>
                  <a:pt x="368" y="677"/>
                  <a:pt x="368" y="679"/>
                  <a:pt x="369" y="680"/>
                </a:cubicBezTo>
                <a:cubicBezTo>
                  <a:pt x="368" y="679"/>
                  <a:pt x="367" y="678"/>
                  <a:pt x="367" y="676"/>
                </a:cubicBezTo>
                <a:cubicBezTo>
                  <a:pt x="360" y="665"/>
                  <a:pt x="353" y="653"/>
                  <a:pt x="344" y="642"/>
                </a:cubicBezTo>
                <a:cubicBezTo>
                  <a:pt x="337" y="632"/>
                  <a:pt x="330" y="621"/>
                  <a:pt x="323" y="610"/>
                </a:cubicBezTo>
                <a:cubicBezTo>
                  <a:pt x="323" y="609"/>
                  <a:pt x="323" y="609"/>
                  <a:pt x="322" y="610"/>
                </a:cubicBezTo>
                <a:cubicBezTo>
                  <a:pt x="320" y="608"/>
                  <a:pt x="317" y="603"/>
                  <a:pt x="316" y="601"/>
                </a:cubicBezTo>
                <a:cubicBezTo>
                  <a:pt x="314" y="598"/>
                  <a:pt x="312" y="594"/>
                  <a:pt x="309" y="591"/>
                </a:cubicBezTo>
                <a:cubicBezTo>
                  <a:pt x="306" y="587"/>
                  <a:pt x="302" y="583"/>
                  <a:pt x="298" y="579"/>
                </a:cubicBezTo>
                <a:cubicBezTo>
                  <a:pt x="294" y="575"/>
                  <a:pt x="291" y="570"/>
                  <a:pt x="288" y="564"/>
                </a:cubicBezTo>
                <a:cubicBezTo>
                  <a:pt x="282" y="554"/>
                  <a:pt x="275" y="544"/>
                  <a:pt x="268" y="534"/>
                </a:cubicBezTo>
                <a:cubicBezTo>
                  <a:pt x="265" y="529"/>
                  <a:pt x="262" y="525"/>
                  <a:pt x="258" y="520"/>
                </a:cubicBezTo>
                <a:cubicBezTo>
                  <a:pt x="254" y="516"/>
                  <a:pt x="249" y="513"/>
                  <a:pt x="246" y="508"/>
                </a:cubicBezTo>
                <a:cubicBezTo>
                  <a:pt x="242" y="503"/>
                  <a:pt x="237" y="496"/>
                  <a:pt x="239" y="490"/>
                </a:cubicBezTo>
                <a:cubicBezTo>
                  <a:pt x="241" y="485"/>
                  <a:pt x="244" y="479"/>
                  <a:pt x="249" y="477"/>
                </a:cubicBezTo>
                <a:cubicBezTo>
                  <a:pt x="254" y="474"/>
                  <a:pt x="256" y="485"/>
                  <a:pt x="258" y="488"/>
                </a:cubicBezTo>
                <a:cubicBezTo>
                  <a:pt x="260" y="493"/>
                  <a:pt x="264" y="499"/>
                  <a:pt x="267" y="503"/>
                </a:cubicBezTo>
                <a:cubicBezTo>
                  <a:pt x="275" y="514"/>
                  <a:pt x="283" y="523"/>
                  <a:pt x="290" y="534"/>
                </a:cubicBezTo>
                <a:cubicBezTo>
                  <a:pt x="294" y="539"/>
                  <a:pt x="298" y="544"/>
                  <a:pt x="300" y="549"/>
                </a:cubicBezTo>
                <a:cubicBezTo>
                  <a:pt x="303" y="554"/>
                  <a:pt x="304" y="560"/>
                  <a:pt x="307" y="564"/>
                </a:cubicBezTo>
                <a:cubicBezTo>
                  <a:pt x="307" y="565"/>
                  <a:pt x="308" y="565"/>
                  <a:pt x="308" y="564"/>
                </a:cubicBezTo>
                <a:cubicBezTo>
                  <a:pt x="310" y="570"/>
                  <a:pt x="313" y="575"/>
                  <a:pt x="316" y="580"/>
                </a:cubicBezTo>
                <a:cubicBezTo>
                  <a:pt x="313" y="583"/>
                  <a:pt x="318" y="586"/>
                  <a:pt x="319" y="589"/>
                </a:cubicBezTo>
                <a:cubicBezTo>
                  <a:pt x="322" y="596"/>
                  <a:pt x="324" y="603"/>
                  <a:pt x="331" y="607"/>
                </a:cubicBezTo>
                <a:cubicBezTo>
                  <a:pt x="332" y="608"/>
                  <a:pt x="333" y="606"/>
                  <a:pt x="332" y="605"/>
                </a:cubicBezTo>
                <a:cubicBezTo>
                  <a:pt x="327" y="600"/>
                  <a:pt x="325" y="595"/>
                  <a:pt x="322" y="589"/>
                </a:cubicBezTo>
                <a:cubicBezTo>
                  <a:pt x="322" y="588"/>
                  <a:pt x="321" y="586"/>
                  <a:pt x="320" y="585"/>
                </a:cubicBezTo>
                <a:cubicBezTo>
                  <a:pt x="320" y="585"/>
                  <a:pt x="318" y="582"/>
                  <a:pt x="318" y="582"/>
                </a:cubicBezTo>
                <a:cubicBezTo>
                  <a:pt x="322" y="582"/>
                  <a:pt x="325" y="578"/>
                  <a:pt x="328" y="576"/>
                </a:cubicBezTo>
                <a:cubicBezTo>
                  <a:pt x="333" y="571"/>
                  <a:pt x="338" y="577"/>
                  <a:pt x="341" y="580"/>
                </a:cubicBezTo>
                <a:cubicBezTo>
                  <a:pt x="342" y="580"/>
                  <a:pt x="342" y="580"/>
                  <a:pt x="343" y="580"/>
                </a:cubicBezTo>
                <a:cubicBezTo>
                  <a:pt x="343" y="583"/>
                  <a:pt x="344" y="585"/>
                  <a:pt x="345" y="587"/>
                </a:cubicBezTo>
                <a:cubicBezTo>
                  <a:pt x="346" y="592"/>
                  <a:pt x="346" y="598"/>
                  <a:pt x="346" y="603"/>
                </a:cubicBezTo>
                <a:cubicBezTo>
                  <a:pt x="346" y="603"/>
                  <a:pt x="346" y="603"/>
                  <a:pt x="346" y="604"/>
                </a:cubicBezTo>
                <a:cubicBezTo>
                  <a:pt x="344" y="606"/>
                  <a:pt x="343" y="608"/>
                  <a:pt x="343" y="611"/>
                </a:cubicBezTo>
                <a:cubicBezTo>
                  <a:pt x="343" y="611"/>
                  <a:pt x="343" y="611"/>
                  <a:pt x="343" y="611"/>
                </a:cubicBezTo>
                <a:cubicBezTo>
                  <a:pt x="346" y="607"/>
                  <a:pt x="350" y="604"/>
                  <a:pt x="353" y="601"/>
                </a:cubicBezTo>
                <a:cubicBezTo>
                  <a:pt x="355" y="600"/>
                  <a:pt x="357" y="598"/>
                  <a:pt x="359" y="596"/>
                </a:cubicBezTo>
                <a:cubicBezTo>
                  <a:pt x="358" y="597"/>
                  <a:pt x="357" y="599"/>
                  <a:pt x="356" y="600"/>
                </a:cubicBezTo>
                <a:cubicBezTo>
                  <a:pt x="354" y="602"/>
                  <a:pt x="351" y="604"/>
                  <a:pt x="350" y="606"/>
                </a:cubicBezTo>
                <a:cubicBezTo>
                  <a:pt x="350" y="607"/>
                  <a:pt x="351" y="607"/>
                  <a:pt x="351" y="607"/>
                </a:cubicBezTo>
                <a:cubicBezTo>
                  <a:pt x="355" y="606"/>
                  <a:pt x="358" y="602"/>
                  <a:pt x="360" y="599"/>
                </a:cubicBezTo>
                <a:cubicBezTo>
                  <a:pt x="362" y="597"/>
                  <a:pt x="363" y="594"/>
                  <a:pt x="363" y="592"/>
                </a:cubicBezTo>
                <a:cubicBezTo>
                  <a:pt x="363" y="592"/>
                  <a:pt x="363" y="591"/>
                  <a:pt x="363" y="591"/>
                </a:cubicBezTo>
                <a:cubicBezTo>
                  <a:pt x="365" y="589"/>
                  <a:pt x="367" y="587"/>
                  <a:pt x="368" y="585"/>
                </a:cubicBezTo>
                <a:cubicBezTo>
                  <a:pt x="375" y="593"/>
                  <a:pt x="370" y="602"/>
                  <a:pt x="361" y="606"/>
                </a:cubicBezTo>
                <a:cubicBezTo>
                  <a:pt x="360" y="607"/>
                  <a:pt x="359" y="607"/>
                  <a:pt x="358" y="608"/>
                </a:cubicBezTo>
                <a:cubicBezTo>
                  <a:pt x="360" y="607"/>
                  <a:pt x="361" y="605"/>
                  <a:pt x="363" y="604"/>
                </a:cubicBezTo>
                <a:cubicBezTo>
                  <a:pt x="363" y="603"/>
                  <a:pt x="362" y="602"/>
                  <a:pt x="362" y="603"/>
                </a:cubicBezTo>
                <a:cubicBezTo>
                  <a:pt x="359" y="605"/>
                  <a:pt x="355" y="606"/>
                  <a:pt x="353" y="609"/>
                </a:cubicBezTo>
                <a:cubicBezTo>
                  <a:pt x="353" y="610"/>
                  <a:pt x="353" y="610"/>
                  <a:pt x="354" y="610"/>
                </a:cubicBezTo>
                <a:cubicBezTo>
                  <a:pt x="349" y="612"/>
                  <a:pt x="345" y="613"/>
                  <a:pt x="340" y="610"/>
                </a:cubicBezTo>
                <a:cubicBezTo>
                  <a:pt x="339" y="609"/>
                  <a:pt x="337" y="611"/>
                  <a:pt x="338" y="613"/>
                </a:cubicBezTo>
                <a:cubicBezTo>
                  <a:pt x="346" y="620"/>
                  <a:pt x="360" y="612"/>
                  <a:pt x="367" y="607"/>
                </a:cubicBezTo>
                <a:cubicBezTo>
                  <a:pt x="370" y="605"/>
                  <a:pt x="372" y="603"/>
                  <a:pt x="373" y="600"/>
                </a:cubicBezTo>
                <a:cubicBezTo>
                  <a:pt x="376" y="604"/>
                  <a:pt x="379" y="608"/>
                  <a:pt x="381" y="612"/>
                </a:cubicBezTo>
                <a:cubicBezTo>
                  <a:pt x="387" y="624"/>
                  <a:pt x="391" y="635"/>
                  <a:pt x="396" y="647"/>
                </a:cubicBezTo>
                <a:cubicBezTo>
                  <a:pt x="401" y="658"/>
                  <a:pt x="406" y="670"/>
                  <a:pt x="413" y="681"/>
                </a:cubicBezTo>
                <a:cubicBezTo>
                  <a:pt x="415" y="684"/>
                  <a:pt x="417" y="687"/>
                  <a:pt x="420" y="691"/>
                </a:cubicBezTo>
                <a:cubicBezTo>
                  <a:pt x="420" y="691"/>
                  <a:pt x="420" y="691"/>
                  <a:pt x="420" y="691"/>
                </a:cubicBezTo>
                <a:cubicBezTo>
                  <a:pt x="420" y="693"/>
                  <a:pt x="421" y="695"/>
                  <a:pt x="422" y="697"/>
                </a:cubicBezTo>
                <a:cubicBezTo>
                  <a:pt x="423" y="698"/>
                  <a:pt x="424" y="701"/>
                  <a:pt x="423" y="703"/>
                </a:cubicBezTo>
                <a:cubicBezTo>
                  <a:pt x="423" y="703"/>
                  <a:pt x="423" y="703"/>
                  <a:pt x="424" y="703"/>
                </a:cubicBezTo>
                <a:cubicBezTo>
                  <a:pt x="425" y="703"/>
                  <a:pt x="426" y="701"/>
                  <a:pt x="425" y="699"/>
                </a:cubicBezTo>
                <a:cubicBezTo>
                  <a:pt x="426" y="700"/>
                  <a:pt x="426" y="701"/>
                  <a:pt x="426" y="702"/>
                </a:cubicBezTo>
                <a:cubicBezTo>
                  <a:pt x="426" y="703"/>
                  <a:pt x="426" y="704"/>
                  <a:pt x="427" y="704"/>
                </a:cubicBezTo>
                <a:cubicBezTo>
                  <a:pt x="426" y="706"/>
                  <a:pt x="425" y="707"/>
                  <a:pt x="425" y="709"/>
                </a:cubicBezTo>
                <a:cubicBezTo>
                  <a:pt x="423" y="713"/>
                  <a:pt x="422" y="717"/>
                  <a:pt x="421" y="721"/>
                </a:cubicBezTo>
                <a:close/>
                <a:moveTo>
                  <a:pt x="468" y="722"/>
                </a:moveTo>
                <a:cubicBezTo>
                  <a:pt x="467" y="726"/>
                  <a:pt x="465" y="730"/>
                  <a:pt x="464" y="734"/>
                </a:cubicBezTo>
                <a:cubicBezTo>
                  <a:pt x="459" y="741"/>
                  <a:pt x="449" y="744"/>
                  <a:pt x="441" y="742"/>
                </a:cubicBezTo>
                <a:cubicBezTo>
                  <a:pt x="435" y="742"/>
                  <a:pt x="429" y="739"/>
                  <a:pt x="426" y="734"/>
                </a:cubicBezTo>
                <a:cubicBezTo>
                  <a:pt x="423" y="728"/>
                  <a:pt x="425" y="720"/>
                  <a:pt x="427" y="713"/>
                </a:cubicBezTo>
                <a:cubicBezTo>
                  <a:pt x="430" y="706"/>
                  <a:pt x="434" y="699"/>
                  <a:pt x="436" y="691"/>
                </a:cubicBezTo>
                <a:cubicBezTo>
                  <a:pt x="439" y="683"/>
                  <a:pt x="442" y="674"/>
                  <a:pt x="444" y="666"/>
                </a:cubicBezTo>
                <a:cubicBezTo>
                  <a:pt x="446" y="657"/>
                  <a:pt x="449" y="649"/>
                  <a:pt x="449" y="640"/>
                </a:cubicBezTo>
                <a:cubicBezTo>
                  <a:pt x="449" y="634"/>
                  <a:pt x="448" y="627"/>
                  <a:pt x="447" y="621"/>
                </a:cubicBezTo>
                <a:cubicBezTo>
                  <a:pt x="448" y="621"/>
                  <a:pt x="448" y="621"/>
                  <a:pt x="448" y="621"/>
                </a:cubicBezTo>
                <a:cubicBezTo>
                  <a:pt x="455" y="622"/>
                  <a:pt x="459" y="627"/>
                  <a:pt x="465" y="631"/>
                </a:cubicBezTo>
                <a:cubicBezTo>
                  <a:pt x="470" y="633"/>
                  <a:pt x="475" y="635"/>
                  <a:pt x="480" y="637"/>
                </a:cubicBezTo>
                <a:cubicBezTo>
                  <a:pt x="485" y="639"/>
                  <a:pt x="490" y="641"/>
                  <a:pt x="496" y="642"/>
                </a:cubicBezTo>
                <a:cubicBezTo>
                  <a:pt x="493" y="644"/>
                  <a:pt x="491" y="648"/>
                  <a:pt x="490" y="650"/>
                </a:cubicBezTo>
                <a:cubicBezTo>
                  <a:pt x="486" y="657"/>
                  <a:pt x="484" y="664"/>
                  <a:pt x="482" y="672"/>
                </a:cubicBezTo>
                <a:cubicBezTo>
                  <a:pt x="479" y="684"/>
                  <a:pt x="476" y="695"/>
                  <a:pt x="472" y="707"/>
                </a:cubicBezTo>
                <a:cubicBezTo>
                  <a:pt x="470" y="712"/>
                  <a:pt x="469" y="716"/>
                  <a:pt x="468" y="722"/>
                </a:cubicBezTo>
                <a:close/>
                <a:moveTo>
                  <a:pt x="641" y="696"/>
                </a:moveTo>
                <a:cubicBezTo>
                  <a:pt x="632" y="703"/>
                  <a:pt x="622" y="708"/>
                  <a:pt x="613" y="714"/>
                </a:cubicBezTo>
                <a:cubicBezTo>
                  <a:pt x="594" y="725"/>
                  <a:pt x="577" y="737"/>
                  <a:pt x="559" y="748"/>
                </a:cubicBezTo>
                <a:cubicBezTo>
                  <a:pt x="541" y="760"/>
                  <a:pt x="523" y="773"/>
                  <a:pt x="505" y="785"/>
                </a:cubicBezTo>
                <a:cubicBezTo>
                  <a:pt x="490" y="795"/>
                  <a:pt x="474" y="803"/>
                  <a:pt x="458" y="811"/>
                </a:cubicBezTo>
                <a:cubicBezTo>
                  <a:pt x="459" y="789"/>
                  <a:pt x="468" y="767"/>
                  <a:pt x="466" y="745"/>
                </a:cubicBezTo>
                <a:cubicBezTo>
                  <a:pt x="467" y="744"/>
                  <a:pt x="469" y="742"/>
                  <a:pt x="470" y="740"/>
                </a:cubicBezTo>
                <a:cubicBezTo>
                  <a:pt x="474" y="733"/>
                  <a:pt x="475" y="722"/>
                  <a:pt x="473" y="714"/>
                </a:cubicBezTo>
                <a:cubicBezTo>
                  <a:pt x="476" y="703"/>
                  <a:pt x="481" y="691"/>
                  <a:pt x="484" y="680"/>
                </a:cubicBezTo>
                <a:cubicBezTo>
                  <a:pt x="486" y="673"/>
                  <a:pt x="487" y="666"/>
                  <a:pt x="489" y="659"/>
                </a:cubicBezTo>
                <a:cubicBezTo>
                  <a:pt x="491" y="655"/>
                  <a:pt x="492" y="651"/>
                  <a:pt x="495" y="648"/>
                </a:cubicBezTo>
                <a:cubicBezTo>
                  <a:pt x="497" y="645"/>
                  <a:pt x="498" y="644"/>
                  <a:pt x="501" y="643"/>
                </a:cubicBezTo>
                <a:cubicBezTo>
                  <a:pt x="504" y="643"/>
                  <a:pt x="508" y="642"/>
                  <a:pt x="511" y="640"/>
                </a:cubicBezTo>
                <a:cubicBezTo>
                  <a:pt x="516" y="638"/>
                  <a:pt x="521" y="631"/>
                  <a:pt x="519" y="625"/>
                </a:cubicBezTo>
                <a:cubicBezTo>
                  <a:pt x="520" y="625"/>
                  <a:pt x="521" y="625"/>
                  <a:pt x="522" y="625"/>
                </a:cubicBezTo>
                <a:cubicBezTo>
                  <a:pt x="527" y="624"/>
                  <a:pt x="529" y="615"/>
                  <a:pt x="530" y="611"/>
                </a:cubicBezTo>
                <a:cubicBezTo>
                  <a:pt x="534" y="600"/>
                  <a:pt x="541" y="593"/>
                  <a:pt x="550" y="586"/>
                </a:cubicBezTo>
                <a:cubicBezTo>
                  <a:pt x="558" y="578"/>
                  <a:pt x="566" y="569"/>
                  <a:pt x="574" y="560"/>
                </a:cubicBezTo>
                <a:cubicBezTo>
                  <a:pt x="581" y="552"/>
                  <a:pt x="590" y="545"/>
                  <a:pt x="598" y="537"/>
                </a:cubicBezTo>
                <a:cubicBezTo>
                  <a:pt x="605" y="530"/>
                  <a:pt x="612" y="523"/>
                  <a:pt x="618" y="515"/>
                </a:cubicBezTo>
                <a:cubicBezTo>
                  <a:pt x="619" y="514"/>
                  <a:pt x="623" y="508"/>
                  <a:pt x="625" y="505"/>
                </a:cubicBezTo>
                <a:cubicBezTo>
                  <a:pt x="628" y="504"/>
                  <a:pt x="630" y="504"/>
                  <a:pt x="633" y="503"/>
                </a:cubicBezTo>
                <a:cubicBezTo>
                  <a:pt x="640" y="501"/>
                  <a:pt x="646" y="498"/>
                  <a:pt x="653" y="496"/>
                </a:cubicBezTo>
                <a:cubicBezTo>
                  <a:pt x="665" y="491"/>
                  <a:pt x="678" y="486"/>
                  <a:pt x="690" y="480"/>
                </a:cubicBezTo>
                <a:cubicBezTo>
                  <a:pt x="696" y="477"/>
                  <a:pt x="703" y="473"/>
                  <a:pt x="708" y="467"/>
                </a:cubicBezTo>
                <a:cubicBezTo>
                  <a:pt x="708" y="472"/>
                  <a:pt x="709" y="476"/>
                  <a:pt x="710" y="480"/>
                </a:cubicBezTo>
                <a:cubicBezTo>
                  <a:pt x="712" y="487"/>
                  <a:pt x="713" y="493"/>
                  <a:pt x="715" y="500"/>
                </a:cubicBezTo>
                <a:cubicBezTo>
                  <a:pt x="718" y="512"/>
                  <a:pt x="722" y="524"/>
                  <a:pt x="727" y="536"/>
                </a:cubicBezTo>
                <a:cubicBezTo>
                  <a:pt x="729" y="540"/>
                  <a:pt x="731" y="544"/>
                  <a:pt x="734" y="548"/>
                </a:cubicBezTo>
                <a:cubicBezTo>
                  <a:pt x="727" y="552"/>
                  <a:pt x="723" y="566"/>
                  <a:pt x="721" y="572"/>
                </a:cubicBezTo>
                <a:cubicBezTo>
                  <a:pt x="715" y="588"/>
                  <a:pt x="708" y="604"/>
                  <a:pt x="704" y="621"/>
                </a:cubicBezTo>
                <a:cubicBezTo>
                  <a:pt x="702" y="628"/>
                  <a:pt x="701" y="635"/>
                  <a:pt x="699" y="641"/>
                </a:cubicBezTo>
                <a:cubicBezTo>
                  <a:pt x="699" y="641"/>
                  <a:pt x="698" y="641"/>
                  <a:pt x="698" y="641"/>
                </a:cubicBezTo>
                <a:cubicBezTo>
                  <a:pt x="686" y="644"/>
                  <a:pt x="678" y="657"/>
                  <a:pt x="678" y="669"/>
                </a:cubicBezTo>
                <a:cubicBezTo>
                  <a:pt x="678" y="669"/>
                  <a:pt x="677" y="669"/>
                  <a:pt x="677" y="669"/>
                </a:cubicBezTo>
                <a:cubicBezTo>
                  <a:pt x="672" y="671"/>
                  <a:pt x="666" y="675"/>
                  <a:pt x="662" y="680"/>
                </a:cubicBezTo>
                <a:cubicBezTo>
                  <a:pt x="654" y="684"/>
                  <a:pt x="648" y="691"/>
                  <a:pt x="641" y="696"/>
                </a:cubicBezTo>
                <a:close/>
                <a:moveTo>
                  <a:pt x="695" y="680"/>
                </a:moveTo>
                <a:cubicBezTo>
                  <a:pt x="690" y="676"/>
                  <a:pt x="687" y="671"/>
                  <a:pt x="688" y="664"/>
                </a:cubicBezTo>
                <a:cubicBezTo>
                  <a:pt x="688" y="657"/>
                  <a:pt x="692" y="652"/>
                  <a:pt x="697" y="648"/>
                </a:cubicBezTo>
                <a:cubicBezTo>
                  <a:pt x="695" y="652"/>
                  <a:pt x="694" y="657"/>
                  <a:pt x="693" y="662"/>
                </a:cubicBezTo>
                <a:cubicBezTo>
                  <a:pt x="692" y="668"/>
                  <a:pt x="692" y="674"/>
                  <a:pt x="695" y="680"/>
                </a:cubicBezTo>
                <a:close/>
                <a:moveTo>
                  <a:pt x="698" y="685"/>
                </a:moveTo>
                <a:cubicBezTo>
                  <a:pt x="698" y="685"/>
                  <a:pt x="698" y="685"/>
                  <a:pt x="698" y="685"/>
                </a:cubicBezTo>
                <a:cubicBezTo>
                  <a:pt x="698" y="685"/>
                  <a:pt x="698" y="685"/>
                  <a:pt x="698" y="685"/>
                </a:cubicBezTo>
                <a:cubicBezTo>
                  <a:pt x="698" y="686"/>
                  <a:pt x="698" y="686"/>
                  <a:pt x="697" y="687"/>
                </a:cubicBezTo>
                <a:cubicBezTo>
                  <a:pt x="697" y="687"/>
                  <a:pt x="697" y="687"/>
                  <a:pt x="697" y="687"/>
                </a:cubicBezTo>
                <a:cubicBezTo>
                  <a:pt x="686" y="688"/>
                  <a:pt x="681" y="677"/>
                  <a:pt x="681" y="668"/>
                </a:cubicBezTo>
                <a:cubicBezTo>
                  <a:pt x="681" y="663"/>
                  <a:pt x="683" y="658"/>
                  <a:pt x="685" y="654"/>
                </a:cubicBezTo>
                <a:cubicBezTo>
                  <a:pt x="687" y="652"/>
                  <a:pt x="689" y="649"/>
                  <a:pt x="691" y="648"/>
                </a:cubicBezTo>
                <a:cubicBezTo>
                  <a:pt x="693" y="646"/>
                  <a:pt x="696" y="644"/>
                  <a:pt x="698" y="643"/>
                </a:cubicBezTo>
                <a:cubicBezTo>
                  <a:pt x="698" y="643"/>
                  <a:pt x="698" y="644"/>
                  <a:pt x="698" y="644"/>
                </a:cubicBezTo>
                <a:cubicBezTo>
                  <a:pt x="698" y="644"/>
                  <a:pt x="698" y="644"/>
                  <a:pt x="697" y="644"/>
                </a:cubicBezTo>
                <a:cubicBezTo>
                  <a:pt x="682" y="651"/>
                  <a:pt x="679" y="679"/>
                  <a:pt x="698" y="685"/>
                </a:cubicBezTo>
                <a:close/>
                <a:moveTo>
                  <a:pt x="692" y="713"/>
                </a:moveTo>
                <a:cubicBezTo>
                  <a:pt x="685" y="716"/>
                  <a:pt x="675" y="721"/>
                  <a:pt x="668" y="716"/>
                </a:cubicBezTo>
                <a:cubicBezTo>
                  <a:pt x="650" y="704"/>
                  <a:pt x="661" y="679"/>
                  <a:pt x="678" y="673"/>
                </a:cubicBezTo>
                <a:cubicBezTo>
                  <a:pt x="679" y="683"/>
                  <a:pt x="686" y="692"/>
                  <a:pt x="697" y="690"/>
                </a:cubicBezTo>
                <a:cubicBezTo>
                  <a:pt x="697" y="695"/>
                  <a:pt x="699" y="701"/>
                  <a:pt x="701" y="704"/>
                </a:cubicBezTo>
                <a:cubicBezTo>
                  <a:pt x="703" y="706"/>
                  <a:pt x="704" y="708"/>
                  <a:pt x="706" y="709"/>
                </a:cubicBezTo>
                <a:cubicBezTo>
                  <a:pt x="701" y="709"/>
                  <a:pt x="695" y="712"/>
                  <a:pt x="692" y="713"/>
                </a:cubicBezTo>
                <a:close/>
                <a:moveTo>
                  <a:pt x="704" y="702"/>
                </a:moveTo>
                <a:cubicBezTo>
                  <a:pt x="704" y="702"/>
                  <a:pt x="704" y="702"/>
                  <a:pt x="704" y="701"/>
                </a:cubicBezTo>
                <a:cubicBezTo>
                  <a:pt x="702" y="698"/>
                  <a:pt x="701" y="695"/>
                  <a:pt x="701" y="691"/>
                </a:cubicBezTo>
                <a:cubicBezTo>
                  <a:pt x="701" y="690"/>
                  <a:pt x="701" y="689"/>
                  <a:pt x="701" y="687"/>
                </a:cubicBezTo>
                <a:cubicBezTo>
                  <a:pt x="702" y="688"/>
                  <a:pt x="702" y="688"/>
                  <a:pt x="703" y="689"/>
                </a:cubicBezTo>
                <a:cubicBezTo>
                  <a:pt x="702" y="693"/>
                  <a:pt x="702" y="699"/>
                  <a:pt x="704" y="702"/>
                </a:cubicBezTo>
                <a:close/>
                <a:moveTo>
                  <a:pt x="706" y="685"/>
                </a:moveTo>
                <a:cubicBezTo>
                  <a:pt x="700" y="687"/>
                  <a:pt x="696" y="674"/>
                  <a:pt x="696" y="669"/>
                </a:cubicBezTo>
                <a:cubicBezTo>
                  <a:pt x="696" y="664"/>
                  <a:pt x="697" y="659"/>
                  <a:pt x="698" y="654"/>
                </a:cubicBezTo>
                <a:cubicBezTo>
                  <a:pt x="702" y="642"/>
                  <a:pt x="705" y="629"/>
                  <a:pt x="708" y="616"/>
                </a:cubicBezTo>
                <a:cubicBezTo>
                  <a:pt x="712" y="602"/>
                  <a:pt x="718" y="588"/>
                  <a:pt x="723" y="574"/>
                </a:cubicBezTo>
                <a:cubicBezTo>
                  <a:pt x="725" y="569"/>
                  <a:pt x="727" y="564"/>
                  <a:pt x="729" y="559"/>
                </a:cubicBezTo>
                <a:cubicBezTo>
                  <a:pt x="731" y="556"/>
                  <a:pt x="733" y="553"/>
                  <a:pt x="735" y="551"/>
                </a:cubicBezTo>
                <a:cubicBezTo>
                  <a:pt x="736" y="551"/>
                  <a:pt x="736" y="552"/>
                  <a:pt x="737" y="553"/>
                </a:cubicBezTo>
                <a:cubicBezTo>
                  <a:pt x="731" y="556"/>
                  <a:pt x="731" y="564"/>
                  <a:pt x="728" y="569"/>
                </a:cubicBezTo>
                <a:cubicBezTo>
                  <a:pt x="726" y="574"/>
                  <a:pt x="724" y="580"/>
                  <a:pt x="724" y="586"/>
                </a:cubicBezTo>
                <a:cubicBezTo>
                  <a:pt x="724" y="586"/>
                  <a:pt x="724" y="587"/>
                  <a:pt x="724" y="586"/>
                </a:cubicBezTo>
                <a:cubicBezTo>
                  <a:pt x="726" y="581"/>
                  <a:pt x="728" y="576"/>
                  <a:pt x="729" y="570"/>
                </a:cubicBezTo>
                <a:cubicBezTo>
                  <a:pt x="730" y="566"/>
                  <a:pt x="732" y="563"/>
                  <a:pt x="734" y="559"/>
                </a:cubicBezTo>
                <a:cubicBezTo>
                  <a:pt x="735" y="558"/>
                  <a:pt x="736" y="555"/>
                  <a:pt x="737" y="554"/>
                </a:cubicBezTo>
                <a:cubicBezTo>
                  <a:pt x="741" y="559"/>
                  <a:pt x="745" y="565"/>
                  <a:pt x="750" y="570"/>
                </a:cubicBezTo>
                <a:cubicBezTo>
                  <a:pt x="748" y="571"/>
                  <a:pt x="746" y="578"/>
                  <a:pt x="746" y="579"/>
                </a:cubicBezTo>
                <a:cubicBezTo>
                  <a:pt x="743" y="585"/>
                  <a:pt x="740" y="591"/>
                  <a:pt x="736" y="598"/>
                </a:cubicBezTo>
                <a:cubicBezTo>
                  <a:pt x="733" y="605"/>
                  <a:pt x="729" y="612"/>
                  <a:pt x="726" y="619"/>
                </a:cubicBezTo>
                <a:cubicBezTo>
                  <a:pt x="722" y="627"/>
                  <a:pt x="717" y="634"/>
                  <a:pt x="712" y="642"/>
                </a:cubicBezTo>
                <a:cubicBezTo>
                  <a:pt x="711" y="642"/>
                  <a:pt x="712" y="643"/>
                  <a:pt x="712" y="643"/>
                </a:cubicBezTo>
                <a:cubicBezTo>
                  <a:pt x="708" y="648"/>
                  <a:pt x="707" y="654"/>
                  <a:pt x="708" y="660"/>
                </a:cubicBezTo>
                <a:cubicBezTo>
                  <a:pt x="709" y="663"/>
                  <a:pt x="711" y="666"/>
                  <a:pt x="714" y="668"/>
                </a:cubicBezTo>
                <a:cubicBezTo>
                  <a:pt x="716" y="670"/>
                  <a:pt x="720" y="671"/>
                  <a:pt x="722" y="671"/>
                </a:cubicBezTo>
                <a:cubicBezTo>
                  <a:pt x="723" y="671"/>
                  <a:pt x="723" y="671"/>
                  <a:pt x="723" y="670"/>
                </a:cubicBezTo>
                <a:cubicBezTo>
                  <a:pt x="720" y="673"/>
                  <a:pt x="717" y="677"/>
                  <a:pt x="714" y="680"/>
                </a:cubicBezTo>
                <a:cubicBezTo>
                  <a:pt x="713" y="681"/>
                  <a:pt x="712" y="682"/>
                  <a:pt x="711" y="683"/>
                </a:cubicBezTo>
                <a:cubicBezTo>
                  <a:pt x="711" y="683"/>
                  <a:pt x="711" y="683"/>
                  <a:pt x="710" y="683"/>
                </a:cubicBezTo>
                <a:cubicBezTo>
                  <a:pt x="705" y="682"/>
                  <a:pt x="702" y="673"/>
                  <a:pt x="702" y="668"/>
                </a:cubicBezTo>
                <a:cubicBezTo>
                  <a:pt x="702" y="667"/>
                  <a:pt x="701" y="667"/>
                  <a:pt x="701" y="668"/>
                </a:cubicBezTo>
                <a:cubicBezTo>
                  <a:pt x="700" y="674"/>
                  <a:pt x="701" y="681"/>
                  <a:pt x="706" y="685"/>
                </a:cubicBezTo>
                <a:close/>
                <a:moveTo>
                  <a:pt x="789" y="596"/>
                </a:moveTo>
                <a:cubicBezTo>
                  <a:pt x="778" y="622"/>
                  <a:pt x="756" y="644"/>
                  <a:pt x="733" y="660"/>
                </a:cubicBezTo>
                <a:cubicBezTo>
                  <a:pt x="734" y="658"/>
                  <a:pt x="734" y="655"/>
                  <a:pt x="736" y="653"/>
                </a:cubicBezTo>
                <a:cubicBezTo>
                  <a:pt x="738" y="649"/>
                  <a:pt x="741" y="646"/>
                  <a:pt x="744" y="643"/>
                </a:cubicBezTo>
                <a:cubicBezTo>
                  <a:pt x="749" y="637"/>
                  <a:pt x="753" y="631"/>
                  <a:pt x="758" y="625"/>
                </a:cubicBezTo>
                <a:cubicBezTo>
                  <a:pt x="762" y="618"/>
                  <a:pt x="767" y="610"/>
                  <a:pt x="772" y="604"/>
                </a:cubicBezTo>
                <a:cubicBezTo>
                  <a:pt x="775" y="600"/>
                  <a:pt x="779" y="596"/>
                  <a:pt x="779" y="591"/>
                </a:cubicBezTo>
                <a:cubicBezTo>
                  <a:pt x="782" y="593"/>
                  <a:pt x="786" y="595"/>
                  <a:pt x="789" y="596"/>
                </a:cubicBezTo>
                <a:cubicBezTo>
                  <a:pt x="789" y="596"/>
                  <a:pt x="789" y="596"/>
                  <a:pt x="789" y="596"/>
                </a:cubicBezTo>
                <a:close/>
                <a:moveTo>
                  <a:pt x="792" y="597"/>
                </a:moveTo>
                <a:cubicBezTo>
                  <a:pt x="794" y="598"/>
                  <a:pt x="795" y="598"/>
                  <a:pt x="797" y="599"/>
                </a:cubicBezTo>
                <a:cubicBezTo>
                  <a:pt x="794" y="610"/>
                  <a:pt x="784" y="618"/>
                  <a:pt x="776" y="625"/>
                </a:cubicBezTo>
                <a:cubicBezTo>
                  <a:pt x="775" y="626"/>
                  <a:pt x="775" y="626"/>
                  <a:pt x="774" y="627"/>
                </a:cubicBezTo>
                <a:cubicBezTo>
                  <a:pt x="781" y="618"/>
                  <a:pt x="788" y="608"/>
                  <a:pt x="792" y="597"/>
                </a:cubicBezTo>
                <a:close/>
                <a:moveTo>
                  <a:pt x="777" y="590"/>
                </a:moveTo>
                <a:cubicBezTo>
                  <a:pt x="776" y="596"/>
                  <a:pt x="769" y="603"/>
                  <a:pt x="765" y="608"/>
                </a:cubicBezTo>
                <a:cubicBezTo>
                  <a:pt x="761" y="615"/>
                  <a:pt x="756" y="621"/>
                  <a:pt x="751" y="628"/>
                </a:cubicBezTo>
                <a:cubicBezTo>
                  <a:pt x="746" y="634"/>
                  <a:pt x="741" y="640"/>
                  <a:pt x="736" y="647"/>
                </a:cubicBezTo>
                <a:cubicBezTo>
                  <a:pt x="732" y="652"/>
                  <a:pt x="730" y="658"/>
                  <a:pt x="727" y="664"/>
                </a:cubicBezTo>
                <a:cubicBezTo>
                  <a:pt x="727" y="664"/>
                  <a:pt x="727" y="664"/>
                  <a:pt x="727" y="664"/>
                </a:cubicBezTo>
                <a:cubicBezTo>
                  <a:pt x="726" y="665"/>
                  <a:pt x="724" y="667"/>
                  <a:pt x="722" y="667"/>
                </a:cubicBezTo>
                <a:cubicBezTo>
                  <a:pt x="720" y="666"/>
                  <a:pt x="717" y="666"/>
                  <a:pt x="715" y="665"/>
                </a:cubicBezTo>
                <a:cubicBezTo>
                  <a:pt x="713" y="663"/>
                  <a:pt x="712" y="660"/>
                  <a:pt x="712" y="657"/>
                </a:cubicBezTo>
                <a:cubicBezTo>
                  <a:pt x="711" y="653"/>
                  <a:pt x="713" y="648"/>
                  <a:pt x="714" y="644"/>
                </a:cubicBezTo>
                <a:cubicBezTo>
                  <a:pt x="724" y="634"/>
                  <a:pt x="732" y="623"/>
                  <a:pt x="740" y="611"/>
                </a:cubicBezTo>
                <a:cubicBezTo>
                  <a:pt x="744" y="605"/>
                  <a:pt x="748" y="599"/>
                  <a:pt x="752" y="593"/>
                </a:cubicBezTo>
                <a:cubicBezTo>
                  <a:pt x="756" y="589"/>
                  <a:pt x="760" y="585"/>
                  <a:pt x="762" y="580"/>
                </a:cubicBezTo>
                <a:cubicBezTo>
                  <a:pt x="765" y="582"/>
                  <a:pt x="768" y="584"/>
                  <a:pt x="772" y="586"/>
                </a:cubicBezTo>
                <a:cubicBezTo>
                  <a:pt x="773" y="587"/>
                  <a:pt x="775" y="588"/>
                  <a:pt x="777" y="589"/>
                </a:cubicBezTo>
                <a:cubicBezTo>
                  <a:pt x="777" y="589"/>
                  <a:pt x="777" y="589"/>
                  <a:pt x="777" y="590"/>
                </a:cubicBezTo>
                <a:close/>
                <a:moveTo>
                  <a:pt x="749" y="591"/>
                </a:moveTo>
                <a:cubicBezTo>
                  <a:pt x="745" y="597"/>
                  <a:pt x="741" y="603"/>
                  <a:pt x="737" y="610"/>
                </a:cubicBezTo>
                <a:cubicBezTo>
                  <a:pt x="734" y="614"/>
                  <a:pt x="731" y="619"/>
                  <a:pt x="728" y="623"/>
                </a:cubicBezTo>
                <a:cubicBezTo>
                  <a:pt x="728" y="622"/>
                  <a:pt x="729" y="621"/>
                  <a:pt x="729" y="621"/>
                </a:cubicBezTo>
                <a:cubicBezTo>
                  <a:pt x="732" y="614"/>
                  <a:pt x="735" y="606"/>
                  <a:pt x="739" y="600"/>
                </a:cubicBezTo>
                <a:cubicBezTo>
                  <a:pt x="742" y="593"/>
                  <a:pt x="746" y="587"/>
                  <a:pt x="749" y="580"/>
                </a:cubicBezTo>
                <a:cubicBezTo>
                  <a:pt x="750" y="579"/>
                  <a:pt x="752" y="574"/>
                  <a:pt x="752" y="571"/>
                </a:cubicBezTo>
                <a:cubicBezTo>
                  <a:pt x="754" y="574"/>
                  <a:pt x="757" y="576"/>
                  <a:pt x="760" y="578"/>
                </a:cubicBezTo>
                <a:cubicBezTo>
                  <a:pt x="756" y="582"/>
                  <a:pt x="753" y="587"/>
                  <a:pt x="749" y="591"/>
                </a:cubicBezTo>
                <a:close/>
                <a:moveTo>
                  <a:pt x="744" y="695"/>
                </a:moveTo>
                <a:cubicBezTo>
                  <a:pt x="743" y="697"/>
                  <a:pt x="741" y="699"/>
                  <a:pt x="740" y="701"/>
                </a:cubicBezTo>
                <a:cubicBezTo>
                  <a:pt x="735" y="706"/>
                  <a:pt x="729" y="709"/>
                  <a:pt x="722" y="708"/>
                </a:cubicBezTo>
                <a:cubicBezTo>
                  <a:pt x="717" y="708"/>
                  <a:pt x="713" y="707"/>
                  <a:pt x="709" y="704"/>
                </a:cubicBezTo>
                <a:cubicBezTo>
                  <a:pt x="714" y="706"/>
                  <a:pt x="720" y="705"/>
                  <a:pt x="724" y="704"/>
                </a:cubicBezTo>
                <a:cubicBezTo>
                  <a:pt x="731" y="701"/>
                  <a:pt x="738" y="697"/>
                  <a:pt x="744" y="693"/>
                </a:cubicBezTo>
                <a:cubicBezTo>
                  <a:pt x="744" y="694"/>
                  <a:pt x="744" y="694"/>
                  <a:pt x="744" y="695"/>
                </a:cubicBezTo>
                <a:close/>
                <a:moveTo>
                  <a:pt x="821" y="625"/>
                </a:moveTo>
                <a:cubicBezTo>
                  <a:pt x="821" y="625"/>
                  <a:pt x="821" y="625"/>
                  <a:pt x="820" y="625"/>
                </a:cubicBezTo>
                <a:cubicBezTo>
                  <a:pt x="811" y="635"/>
                  <a:pt x="800" y="644"/>
                  <a:pt x="789" y="653"/>
                </a:cubicBezTo>
                <a:cubicBezTo>
                  <a:pt x="779" y="662"/>
                  <a:pt x="768" y="671"/>
                  <a:pt x="757" y="679"/>
                </a:cubicBezTo>
                <a:cubicBezTo>
                  <a:pt x="748" y="686"/>
                  <a:pt x="738" y="694"/>
                  <a:pt x="727" y="699"/>
                </a:cubicBezTo>
                <a:cubicBezTo>
                  <a:pt x="722" y="701"/>
                  <a:pt x="718" y="702"/>
                  <a:pt x="713" y="702"/>
                </a:cubicBezTo>
                <a:cubicBezTo>
                  <a:pt x="709" y="701"/>
                  <a:pt x="706" y="699"/>
                  <a:pt x="708" y="694"/>
                </a:cubicBezTo>
                <a:cubicBezTo>
                  <a:pt x="710" y="688"/>
                  <a:pt x="716" y="683"/>
                  <a:pt x="720" y="678"/>
                </a:cubicBezTo>
                <a:cubicBezTo>
                  <a:pt x="725" y="673"/>
                  <a:pt x="730" y="669"/>
                  <a:pt x="735" y="664"/>
                </a:cubicBezTo>
                <a:cubicBezTo>
                  <a:pt x="745" y="656"/>
                  <a:pt x="755" y="648"/>
                  <a:pt x="765" y="640"/>
                </a:cubicBezTo>
                <a:cubicBezTo>
                  <a:pt x="772" y="633"/>
                  <a:pt x="780" y="627"/>
                  <a:pt x="787" y="620"/>
                </a:cubicBezTo>
                <a:cubicBezTo>
                  <a:pt x="792" y="614"/>
                  <a:pt x="798" y="608"/>
                  <a:pt x="800" y="599"/>
                </a:cubicBezTo>
                <a:cubicBezTo>
                  <a:pt x="801" y="599"/>
                  <a:pt x="802" y="599"/>
                  <a:pt x="803" y="599"/>
                </a:cubicBezTo>
                <a:cubicBezTo>
                  <a:pt x="807" y="600"/>
                  <a:pt x="812" y="599"/>
                  <a:pt x="817" y="599"/>
                </a:cubicBezTo>
                <a:cubicBezTo>
                  <a:pt x="820" y="599"/>
                  <a:pt x="822" y="599"/>
                  <a:pt x="824" y="598"/>
                </a:cubicBezTo>
                <a:cubicBezTo>
                  <a:pt x="822" y="607"/>
                  <a:pt x="821" y="615"/>
                  <a:pt x="821" y="625"/>
                </a:cubicBezTo>
                <a:close/>
                <a:moveTo>
                  <a:pt x="824" y="594"/>
                </a:moveTo>
                <a:cubicBezTo>
                  <a:pt x="820" y="597"/>
                  <a:pt x="814" y="595"/>
                  <a:pt x="810" y="596"/>
                </a:cubicBezTo>
                <a:cubicBezTo>
                  <a:pt x="806" y="596"/>
                  <a:pt x="802" y="596"/>
                  <a:pt x="797" y="595"/>
                </a:cubicBezTo>
                <a:cubicBezTo>
                  <a:pt x="787" y="592"/>
                  <a:pt x="776" y="586"/>
                  <a:pt x="767" y="580"/>
                </a:cubicBezTo>
                <a:cubicBezTo>
                  <a:pt x="750" y="569"/>
                  <a:pt x="737" y="550"/>
                  <a:pt x="730" y="532"/>
                </a:cubicBezTo>
                <a:cubicBezTo>
                  <a:pt x="727" y="527"/>
                  <a:pt x="725" y="522"/>
                  <a:pt x="724" y="516"/>
                </a:cubicBezTo>
                <a:cubicBezTo>
                  <a:pt x="724" y="516"/>
                  <a:pt x="724" y="516"/>
                  <a:pt x="724" y="516"/>
                </a:cubicBezTo>
                <a:cubicBezTo>
                  <a:pt x="717" y="496"/>
                  <a:pt x="713" y="474"/>
                  <a:pt x="718" y="453"/>
                </a:cubicBezTo>
                <a:cubicBezTo>
                  <a:pt x="720" y="442"/>
                  <a:pt x="724" y="430"/>
                  <a:pt x="732" y="422"/>
                </a:cubicBezTo>
                <a:cubicBezTo>
                  <a:pt x="736" y="419"/>
                  <a:pt x="740" y="418"/>
                  <a:pt x="744" y="415"/>
                </a:cubicBezTo>
                <a:cubicBezTo>
                  <a:pt x="745" y="414"/>
                  <a:pt x="746" y="414"/>
                  <a:pt x="747" y="413"/>
                </a:cubicBezTo>
                <a:cubicBezTo>
                  <a:pt x="750" y="412"/>
                  <a:pt x="753" y="412"/>
                  <a:pt x="755" y="411"/>
                </a:cubicBezTo>
                <a:cubicBezTo>
                  <a:pt x="769" y="409"/>
                  <a:pt x="782" y="405"/>
                  <a:pt x="795" y="399"/>
                </a:cubicBezTo>
                <a:cubicBezTo>
                  <a:pt x="796" y="399"/>
                  <a:pt x="796" y="399"/>
                  <a:pt x="797" y="398"/>
                </a:cubicBezTo>
                <a:cubicBezTo>
                  <a:pt x="803" y="397"/>
                  <a:pt x="808" y="394"/>
                  <a:pt x="815" y="395"/>
                </a:cubicBezTo>
                <a:cubicBezTo>
                  <a:pt x="816" y="396"/>
                  <a:pt x="817" y="396"/>
                  <a:pt x="817" y="396"/>
                </a:cubicBezTo>
                <a:cubicBezTo>
                  <a:pt x="822" y="397"/>
                  <a:pt x="827" y="398"/>
                  <a:pt x="831" y="399"/>
                </a:cubicBezTo>
                <a:cubicBezTo>
                  <a:pt x="840" y="402"/>
                  <a:pt x="848" y="406"/>
                  <a:pt x="854" y="412"/>
                </a:cubicBezTo>
                <a:cubicBezTo>
                  <a:pt x="866" y="423"/>
                  <a:pt x="879" y="437"/>
                  <a:pt x="884" y="452"/>
                </a:cubicBezTo>
                <a:cubicBezTo>
                  <a:pt x="889" y="470"/>
                  <a:pt x="892" y="490"/>
                  <a:pt x="890" y="509"/>
                </a:cubicBezTo>
                <a:cubicBezTo>
                  <a:pt x="890" y="517"/>
                  <a:pt x="888" y="525"/>
                  <a:pt x="887" y="534"/>
                </a:cubicBezTo>
                <a:cubicBezTo>
                  <a:pt x="887" y="540"/>
                  <a:pt x="887" y="547"/>
                  <a:pt x="885" y="553"/>
                </a:cubicBezTo>
                <a:cubicBezTo>
                  <a:pt x="879" y="543"/>
                  <a:pt x="866" y="539"/>
                  <a:pt x="857" y="548"/>
                </a:cubicBezTo>
                <a:cubicBezTo>
                  <a:pt x="846" y="558"/>
                  <a:pt x="834" y="567"/>
                  <a:pt x="829" y="582"/>
                </a:cubicBezTo>
                <a:cubicBezTo>
                  <a:pt x="827" y="586"/>
                  <a:pt x="826" y="590"/>
                  <a:pt x="825" y="594"/>
                </a:cubicBezTo>
                <a:cubicBezTo>
                  <a:pt x="825" y="594"/>
                  <a:pt x="824" y="594"/>
                  <a:pt x="824" y="594"/>
                </a:cubicBezTo>
                <a:close/>
                <a:moveTo>
                  <a:pt x="935" y="598"/>
                </a:moveTo>
                <a:cubicBezTo>
                  <a:pt x="940" y="605"/>
                  <a:pt x="945" y="611"/>
                  <a:pt x="949" y="618"/>
                </a:cubicBezTo>
                <a:cubicBezTo>
                  <a:pt x="957" y="632"/>
                  <a:pt x="964" y="647"/>
                  <a:pt x="970" y="661"/>
                </a:cubicBezTo>
                <a:cubicBezTo>
                  <a:pt x="973" y="668"/>
                  <a:pt x="976" y="676"/>
                  <a:pt x="976" y="684"/>
                </a:cubicBezTo>
                <a:cubicBezTo>
                  <a:pt x="976" y="692"/>
                  <a:pt x="974" y="700"/>
                  <a:pt x="970" y="707"/>
                </a:cubicBezTo>
                <a:cubicBezTo>
                  <a:pt x="965" y="715"/>
                  <a:pt x="960" y="721"/>
                  <a:pt x="950" y="724"/>
                </a:cubicBezTo>
                <a:cubicBezTo>
                  <a:pt x="943" y="727"/>
                  <a:pt x="936" y="729"/>
                  <a:pt x="929" y="730"/>
                </a:cubicBezTo>
                <a:cubicBezTo>
                  <a:pt x="920" y="731"/>
                  <a:pt x="911" y="731"/>
                  <a:pt x="903" y="732"/>
                </a:cubicBezTo>
                <a:cubicBezTo>
                  <a:pt x="896" y="732"/>
                  <a:pt x="889" y="732"/>
                  <a:pt x="883" y="732"/>
                </a:cubicBezTo>
                <a:cubicBezTo>
                  <a:pt x="866" y="729"/>
                  <a:pt x="855" y="717"/>
                  <a:pt x="848" y="702"/>
                </a:cubicBezTo>
                <a:cubicBezTo>
                  <a:pt x="841" y="687"/>
                  <a:pt x="833" y="673"/>
                  <a:pt x="829" y="657"/>
                </a:cubicBezTo>
                <a:cubicBezTo>
                  <a:pt x="826" y="642"/>
                  <a:pt x="824" y="626"/>
                  <a:pt x="826" y="610"/>
                </a:cubicBezTo>
                <a:cubicBezTo>
                  <a:pt x="827" y="595"/>
                  <a:pt x="832" y="577"/>
                  <a:pt x="844" y="565"/>
                </a:cubicBezTo>
                <a:cubicBezTo>
                  <a:pt x="849" y="560"/>
                  <a:pt x="854" y="554"/>
                  <a:pt x="860" y="549"/>
                </a:cubicBezTo>
                <a:cubicBezTo>
                  <a:pt x="864" y="547"/>
                  <a:pt x="868" y="546"/>
                  <a:pt x="871" y="547"/>
                </a:cubicBezTo>
                <a:cubicBezTo>
                  <a:pt x="868" y="549"/>
                  <a:pt x="864" y="551"/>
                  <a:pt x="862" y="555"/>
                </a:cubicBezTo>
                <a:cubicBezTo>
                  <a:pt x="856" y="565"/>
                  <a:pt x="855" y="577"/>
                  <a:pt x="848" y="587"/>
                </a:cubicBezTo>
                <a:cubicBezTo>
                  <a:pt x="842" y="597"/>
                  <a:pt x="839" y="609"/>
                  <a:pt x="838" y="621"/>
                </a:cubicBezTo>
                <a:cubicBezTo>
                  <a:pt x="836" y="632"/>
                  <a:pt x="836" y="644"/>
                  <a:pt x="839" y="655"/>
                </a:cubicBezTo>
                <a:cubicBezTo>
                  <a:pt x="840" y="656"/>
                  <a:pt x="841" y="656"/>
                  <a:pt x="841" y="655"/>
                </a:cubicBezTo>
                <a:cubicBezTo>
                  <a:pt x="839" y="636"/>
                  <a:pt x="840" y="613"/>
                  <a:pt x="848" y="595"/>
                </a:cubicBezTo>
                <a:cubicBezTo>
                  <a:pt x="850" y="590"/>
                  <a:pt x="854" y="586"/>
                  <a:pt x="856" y="580"/>
                </a:cubicBezTo>
                <a:cubicBezTo>
                  <a:pt x="858" y="576"/>
                  <a:pt x="859" y="572"/>
                  <a:pt x="861" y="567"/>
                </a:cubicBezTo>
                <a:cubicBezTo>
                  <a:pt x="862" y="562"/>
                  <a:pt x="864" y="557"/>
                  <a:pt x="868" y="553"/>
                </a:cubicBezTo>
                <a:cubicBezTo>
                  <a:pt x="871" y="551"/>
                  <a:pt x="873" y="549"/>
                  <a:pt x="876" y="550"/>
                </a:cubicBezTo>
                <a:cubicBezTo>
                  <a:pt x="877" y="550"/>
                  <a:pt x="877" y="550"/>
                  <a:pt x="877" y="550"/>
                </a:cubicBezTo>
                <a:cubicBezTo>
                  <a:pt x="879" y="552"/>
                  <a:pt x="881" y="554"/>
                  <a:pt x="882" y="556"/>
                </a:cubicBezTo>
                <a:cubicBezTo>
                  <a:pt x="882" y="556"/>
                  <a:pt x="882" y="557"/>
                  <a:pt x="882" y="557"/>
                </a:cubicBezTo>
                <a:cubicBezTo>
                  <a:pt x="880" y="556"/>
                  <a:pt x="877" y="557"/>
                  <a:pt x="875" y="557"/>
                </a:cubicBezTo>
                <a:cubicBezTo>
                  <a:pt x="871" y="558"/>
                  <a:pt x="868" y="560"/>
                  <a:pt x="866" y="564"/>
                </a:cubicBezTo>
                <a:cubicBezTo>
                  <a:pt x="866" y="564"/>
                  <a:pt x="866" y="565"/>
                  <a:pt x="866" y="564"/>
                </a:cubicBezTo>
                <a:cubicBezTo>
                  <a:pt x="869" y="562"/>
                  <a:pt x="872" y="559"/>
                  <a:pt x="875" y="558"/>
                </a:cubicBezTo>
                <a:cubicBezTo>
                  <a:pt x="878" y="558"/>
                  <a:pt x="881" y="559"/>
                  <a:pt x="884" y="559"/>
                </a:cubicBezTo>
                <a:cubicBezTo>
                  <a:pt x="883" y="560"/>
                  <a:pt x="883" y="561"/>
                  <a:pt x="882" y="562"/>
                </a:cubicBezTo>
                <a:cubicBezTo>
                  <a:pt x="880" y="560"/>
                  <a:pt x="877" y="562"/>
                  <a:pt x="875" y="564"/>
                </a:cubicBezTo>
                <a:cubicBezTo>
                  <a:pt x="875" y="564"/>
                  <a:pt x="875" y="564"/>
                  <a:pt x="874" y="564"/>
                </a:cubicBezTo>
                <a:cubicBezTo>
                  <a:pt x="872" y="565"/>
                  <a:pt x="870" y="568"/>
                  <a:pt x="868" y="571"/>
                </a:cubicBezTo>
                <a:cubicBezTo>
                  <a:pt x="866" y="574"/>
                  <a:pt x="864" y="578"/>
                  <a:pt x="862" y="582"/>
                </a:cubicBezTo>
                <a:cubicBezTo>
                  <a:pt x="858" y="589"/>
                  <a:pt x="855" y="596"/>
                  <a:pt x="853" y="604"/>
                </a:cubicBezTo>
                <a:cubicBezTo>
                  <a:pt x="851" y="611"/>
                  <a:pt x="851" y="618"/>
                  <a:pt x="851" y="626"/>
                </a:cubicBezTo>
                <a:cubicBezTo>
                  <a:pt x="850" y="631"/>
                  <a:pt x="849" y="637"/>
                  <a:pt x="852" y="642"/>
                </a:cubicBezTo>
                <a:cubicBezTo>
                  <a:pt x="852" y="643"/>
                  <a:pt x="853" y="642"/>
                  <a:pt x="853" y="642"/>
                </a:cubicBezTo>
                <a:cubicBezTo>
                  <a:pt x="850" y="629"/>
                  <a:pt x="852" y="614"/>
                  <a:pt x="856" y="601"/>
                </a:cubicBezTo>
                <a:cubicBezTo>
                  <a:pt x="858" y="595"/>
                  <a:pt x="861" y="589"/>
                  <a:pt x="864" y="583"/>
                </a:cubicBezTo>
                <a:cubicBezTo>
                  <a:pt x="861" y="592"/>
                  <a:pt x="859" y="602"/>
                  <a:pt x="859" y="610"/>
                </a:cubicBezTo>
                <a:cubicBezTo>
                  <a:pt x="858" y="614"/>
                  <a:pt x="859" y="618"/>
                  <a:pt x="859" y="622"/>
                </a:cubicBezTo>
                <a:cubicBezTo>
                  <a:pt x="859" y="625"/>
                  <a:pt x="858" y="628"/>
                  <a:pt x="859" y="631"/>
                </a:cubicBezTo>
                <a:cubicBezTo>
                  <a:pt x="860" y="638"/>
                  <a:pt x="861" y="646"/>
                  <a:pt x="865" y="652"/>
                </a:cubicBezTo>
                <a:cubicBezTo>
                  <a:pt x="865" y="652"/>
                  <a:pt x="865" y="652"/>
                  <a:pt x="865" y="651"/>
                </a:cubicBezTo>
                <a:cubicBezTo>
                  <a:pt x="863" y="645"/>
                  <a:pt x="861" y="638"/>
                  <a:pt x="860" y="631"/>
                </a:cubicBezTo>
                <a:cubicBezTo>
                  <a:pt x="860" y="627"/>
                  <a:pt x="859" y="624"/>
                  <a:pt x="859" y="620"/>
                </a:cubicBezTo>
                <a:cubicBezTo>
                  <a:pt x="860" y="617"/>
                  <a:pt x="861" y="614"/>
                  <a:pt x="861" y="611"/>
                </a:cubicBezTo>
                <a:cubicBezTo>
                  <a:pt x="861" y="604"/>
                  <a:pt x="862" y="597"/>
                  <a:pt x="864" y="591"/>
                </a:cubicBezTo>
                <a:cubicBezTo>
                  <a:pt x="866" y="584"/>
                  <a:pt x="869" y="579"/>
                  <a:pt x="873" y="573"/>
                </a:cubicBezTo>
                <a:cubicBezTo>
                  <a:pt x="873" y="574"/>
                  <a:pt x="873" y="575"/>
                  <a:pt x="873" y="576"/>
                </a:cubicBezTo>
                <a:cubicBezTo>
                  <a:pt x="871" y="582"/>
                  <a:pt x="869" y="588"/>
                  <a:pt x="867" y="595"/>
                </a:cubicBezTo>
                <a:cubicBezTo>
                  <a:pt x="867" y="599"/>
                  <a:pt x="867" y="603"/>
                  <a:pt x="866" y="607"/>
                </a:cubicBezTo>
                <a:cubicBezTo>
                  <a:pt x="866" y="611"/>
                  <a:pt x="865" y="614"/>
                  <a:pt x="865" y="618"/>
                </a:cubicBezTo>
                <a:cubicBezTo>
                  <a:pt x="866" y="627"/>
                  <a:pt x="866" y="636"/>
                  <a:pt x="868" y="644"/>
                </a:cubicBezTo>
                <a:cubicBezTo>
                  <a:pt x="869" y="652"/>
                  <a:pt x="871" y="660"/>
                  <a:pt x="872" y="668"/>
                </a:cubicBezTo>
                <a:cubicBezTo>
                  <a:pt x="872" y="668"/>
                  <a:pt x="873" y="668"/>
                  <a:pt x="873" y="668"/>
                </a:cubicBezTo>
                <a:cubicBezTo>
                  <a:pt x="873" y="659"/>
                  <a:pt x="870" y="651"/>
                  <a:pt x="869" y="642"/>
                </a:cubicBezTo>
                <a:cubicBezTo>
                  <a:pt x="868" y="634"/>
                  <a:pt x="867" y="626"/>
                  <a:pt x="867" y="618"/>
                </a:cubicBezTo>
                <a:cubicBezTo>
                  <a:pt x="867" y="613"/>
                  <a:pt x="867" y="608"/>
                  <a:pt x="868" y="603"/>
                </a:cubicBezTo>
                <a:cubicBezTo>
                  <a:pt x="869" y="600"/>
                  <a:pt x="868" y="595"/>
                  <a:pt x="869" y="592"/>
                </a:cubicBezTo>
                <a:cubicBezTo>
                  <a:pt x="870" y="588"/>
                  <a:pt x="873" y="584"/>
                  <a:pt x="874" y="579"/>
                </a:cubicBezTo>
                <a:cubicBezTo>
                  <a:pt x="875" y="580"/>
                  <a:pt x="875" y="580"/>
                  <a:pt x="875" y="581"/>
                </a:cubicBezTo>
                <a:cubicBezTo>
                  <a:pt x="875" y="581"/>
                  <a:pt x="875" y="581"/>
                  <a:pt x="875" y="581"/>
                </a:cubicBezTo>
                <a:cubicBezTo>
                  <a:pt x="874" y="584"/>
                  <a:pt x="873" y="589"/>
                  <a:pt x="872" y="592"/>
                </a:cubicBezTo>
                <a:cubicBezTo>
                  <a:pt x="871" y="596"/>
                  <a:pt x="871" y="601"/>
                  <a:pt x="870" y="606"/>
                </a:cubicBezTo>
                <a:cubicBezTo>
                  <a:pt x="870" y="607"/>
                  <a:pt x="872" y="607"/>
                  <a:pt x="872" y="606"/>
                </a:cubicBezTo>
                <a:cubicBezTo>
                  <a:pt x="873" y="601"/>
                  <a:pt x="874" y="596"/>
                  <a:pt x="875" y="591"/>
                </a:cubicBezTo>
                <a:cubicBezTo>
                  <a:pt x="875" y="588"/>
                  <a:pt x="877" y="585"/>
                  <a:pt x="878" y="583"/>
                </a:cubicBezTo>
                <a:cubicBezTo>
                  <a:pt x="879" y="584"/>
                  <a:pt x="881" y="585"/>
                  <a:pt x="883" y="586"/>
                </a:cubicBezTo>
                <a:cubicBezTo>
                  <a:pt x="882" y="587"/>
                  <a:pt x="882" y="588"/>
                  <a:pt x="882" y="589"/>
                </a:cubicBezTo>
                <a:cubicBezTo>
                  <a:pt x="882" y="591"/>
                  <a:pt x="882" y="593"/>
                  <a:pt x="883" y="594"/>
                </a:cubicBezTo>
                <a:cubicBezTo>
                  <a:pt x="883" y="595"/>
                  <a:pt x="884" y="594"/>
                  <a:pt x="884" y="594"/>
                </a:cubicBezTo>
                <a:cubicBezTo>
                  <a:pt x="884" y="592"/>
                  <a:pt x="884" y="590"/>
                  <a:pt x="884" y="589"/>
                </a:cubicBezTo>
                <a:cubicBezTo>
                  <a:pt x="884" y="588"/>
                  <a:pt x="884" y="587"/>
                  <a:pt x="884" y="586"/>
                </a:cubicBezTo>
                <a:cubicBezTo>
                  <a:pt x="886" y="587"/>
                  <a:pt x="889" y="587"/>
                  <a:pt x="891" y="586"/>
                </a:cubicBezTo>
                <a:cubicBezTo>
                  <a:pt x="891" y="591"/>
                  <a:pt x="895" y="598"/>
                  <a:pt x="898" y="602"/>
                </a:cubicBezTo>
                <a:cubicBezTo>
                  <a:pt x="904" y="609"/>
                  <a:pt x="908" y="617"/>
                  <a:pt x="916" y="624"/>
                </a:cubicBezTo>
                <a:cubicBezTo>
                  <a:pt x="916" y="624"/>
                  <a:pt x="917" y="623"/>
                  <a:pt x="916" y="623"/>
                </a:cubicBezTo>
                <a:cubicBezTo>
                  <a:pt x="910" y="617"/>
                  <a:pt x="906" y="609"/>
                  <a:pt x="901" y="601"/>
                </a:cubicBezTo>
                <a:cubicBezTo>
                  <a:pt x="900" y="599"/>
                  <a:pt x="899" y="597"/>
                  <a:pt x="898" y="595"/>
                </a:cubicBezTo>
                <a:cubicBezTo>
                  <a:pt x="900" y="598"/>
                  <a:pt x="902" y="601"/>
                  <a:pt x="904" y="603"/>
                </a:cubicBezTo>
                <a:cubicBezTo>
                  <a:pt x="908" y="608"/>
                  <a:pt x="913" y="612"/>
                  <a:pt x="918" y="616"/>
                </a:cubicBezTo>
                <a:cubicBezTo>
                  <a:pt x="923" y="620"/>
                  <a:pt x="927" y="623"/>
                  <a:pt x="931" y="628"/>
                </a:cubicBezTo>
                <a:cubicBezTo>
                  <a:pt x="931" y="629"/>
                  <a:pt x="932" y="629"/>
                  <a:pt x="932" y="628"/>
                </a:cubicBezTo>
                <a:cubicBezTo>
                  <a:pt x="931" y="624"/>
                  <a:pt x="928" y="622"/>
                  <a:pt x="925" y="619"/>
                </a:cubicBezTo>
                <a:cubicBezTo>
                  <a:pt x="920" y="615"/>
                  <a:pt x="915" y="612"/>
                  <a:pt x="911" y="607"/>
                </a:cubicBezTo>
                <a:cubicBezTo>
                  <a:pt x="904" y="600"/>
                  <a:pt x="899" y="593"/>
                  <a:pt x="896" y="584"/>
                </a:cubicBezTo>
                <a:cubicBezTo>
                  <a:pt x="897" y="584"/>
                  <a:pt x="897" y="584"/>
                  <a:pt x="898" y="584"/>
                </a:cubicBezTo>
                <a:cubicBezTo>
                  <a:pt x="898" y="586"/>
                  <a:pt x="900" y="588"/>
                  <a:pt x="901" y="590"/>
                </a:cubicBezTo>
                <a:cubicBezTo>
                  <a:pt x="903" y="593"/>
                  <a:pt x="906" y="596"/>
                  <a:pt x="908" y="599"/>
                </a:cubicBezTo>
                <a:cubicBezTo>
                  <a:pt x="911" y="602"/>
                  <a:pt x="914" y="604"/>
                  <a:pt x="918" y="607"/>
                </a:cubicBezTo>
                <a:cubicBezTo>
                  <a:pt x="923" y="612"/>
                  <a:pt x="927" y="617"/>
                  <a:pt x="932" y="622"/>
                </a:cubicBezTo>
                <a:cubicBezTo>
                  <a:pt x="932" y="622"/>
                  <a:pt x="933" y="622"/>
                  <a:pt x="933" y="621"/>
                </a:cubicBezTo>
                <a:cubicBezTo>
                  <a:pt x="929" y="612"/>
                  <a:pt x="919" y="607"/>
                  <a:pt x="912" y="599"/>
                </a:cubicBezTo>
                <a:cubicBezTo>
                  <a:pt x="908" y="594"/>
                  <a:pt x="904" y="590"/>
                  <a:pt x="901" y="584"/>
                </a:cubicBezTo>
                <a:cubicBezTo>
                  <a:pt x="902" y="584"/>
                  <a:pt x="904" y="585"/>
                  <a:pt x="905" y="585"/>
                </a:cubicBezTo>
                <a:cubicBezTo>
                  <a:pt x="905" y="585"/>
                  <a:pt x="905" y="585"/>
                  <a:pt x="905" y="585"/>
                </a:cubicBezTo>
                <a:cubicBezTo>
                  <a:pt x="904" y="591"/>
                  <a:pt x="911" y="595"/>
                  <a:pt x="914" y="598"/>
                </a:cubicBezTo>
                <a:cubicBezTo>
                  <a:pt x="921" y="605"/>
                  <a:pt x="928" y="612"/>
                  <a:pt x="936" y="617"/>
                </a:cubicBezTo>
                <a:cubicBezTo>
                  <a:pt x="937" y="617"/>
                  <a:pt x="937" y="617"/>
                  <a:pt x="937" y="616"/>
                </a:cubicBezTo>
                <a:cubicBezTo>
                  <a:pt x="931" y="610"/>
                  <a:pt x="923" y="606"/>
                  <a:pt x="918" y="599"/>
                </a:cubicBezTo>
                <a:cubicBezTo>
                  <a:pt x="914" y="595"/>
                  <a:pt x="908" y="591"/>
                  <a:pt x="907" y="585"/>
                </a:cubicBezTo>
                <a:cubicBezTo>
                  <a:pt x="909" y="586"/>
                  <a:pt x="911" y="586"/>
                  <a:pt x="913" y="587"/>
                </a:cubicBezTo>
                <a:cubicBezTo>
                  <a:pt x="912" y="587"/>
                  <a:pt x="912" y="588"/>
                  <a:pt x="913" y="588"/>
                </a:cubicBezTo>
                <a:cubicBezTo>
                  <a:pt x="915" y="593"/>
                  <a:pt x="920" y="597"/>
                  <a:pt x="924" y="601"/>
                </a:cubicBezTo>
                <a:cubicBezTo>
                  <a:pt x="928" y="605"/>
                  <a:pt x="932" y="609"/>
                  <a:pt x="936" y="613"/>
                </a:cubicBezTo>
                <a:cubicBezTo>
                  <a:pt x="936" y="613"/>
                  <a:pt x="937" y="613"/>
                  <a:pt x="937" y="612"/>
                </a:cubicBezTo>
                <a:cubicBezTo>
                  <a:pt x="937" y="610"/>
                  <a:pt x="935" y="608"/>
                  <a:pt x="933" y="607"/>
                </a:cubicBezTo>
                <a:cubicBezTo>
                  <a:pt x="930" y="604"/>
                  <a:pt x="927" y="601"/>
                  <a:pt x="924" y="598"/>
                </a:cubicBezTo>
                <a:cubicBezTo>
                  <a:pt x="921" y="595"/>
                  <a:pt x="918" y="592"/>
                  <a:pt x="916" y="589"/>
                </a:cubicBezTo>
                <a:cubicBezTo>
                  <a:pt x="916" y="588"/>
                  <a:pt x="915" y="588"/>
                  <a:pt x="915" y="587"/>
                </a:cubicBezTo>
                <a:cubicBezTo>
                  <a:pt x="918" y="588"/>
                  <a:pt x="922" y="588"/>
                  <a:pt x="925" y="588"/>
                </a:cubicBezTo>
                <a:cubicBezTo>
                  <a:pt x="929" y="591"/>
                  <a:pt x="932" y="595"/>
                  <a:pt x="935" y="598"/>
                </a:cubicBezTo>
                <a:close/>
                <a:moveTo>
                  <a:pt x="1145" y="566"/>
                </a:moveTo>
                <a:cubicBezTo>
                  <a:pt x="1133" y="572"/>
                  <a:pt x="1119" y="575"/>
                  <a:pt x="1106" y="580"/>
                </a:cubicBezTo>
                <a:cubicBezTo>
                  <a:pt x="1098" y="583"/>
                  <a:pt x="1090" y="584"/>
                  <a:pt x="1082" y="585"/>
                </a:cubicBezTo>
                <a:cubicBezTo>
                  <a:pt x="1075" y="585"/>
                  <a:pt x="1068" y="586"/>
                  <a:pt x="1061" y="587"/>
                </a:cubicBezTo>
                <a:cubicBezTo>
                  <a:pt x="1046" y="590"/>
                  <a:pt x="1030" y="592"/>
                  <a:pt x="1015" y="595"/>
                </a:cubicBezTo>
                <a:cubicBezTo>
                  <a:pt x="1007" y="596"/>
                  <a:pt x="999" y="597"/>
                  <a:pt x="991" y="596"/>
                </a:cubicBezTo>
                <a:cubicBezTo>
                  <a:pt x="983" y="596"/>
                  <a:pt x="976" y="596"/>
                  <a:pt x="968" y="593"/>
                </a:cubicBezTo>
                <a:cubicBezTo>
                  <a:pt x="963" y="591"/>
                  <a:pt x="958" y="589"/>
                  <a:pt x="953" y="588"/>
                </a:cubicBezTo>
                <a:cubicBezTo>
                  <a:pt x="950" y="587"/>
                  <a:pt x="946" y="585"/>
                  <a:pt x="943" y="586"/>
                </a:cubicBezTo>
                <a:cubicBezTo>
                  <a:pt x="943" y="586"/>
                  <a:pt x="943" y="586"/>
                  <a:pt x="943" y="586"/>
                </a:cubicBezTo>
                <a:cubicBezTo>
                  <a:pt x="939" y="584"/>
                  <a:pt x="934" y="585"/>
                  <a:pt x="931" y="585"/>
                </a:cubicBezTo>
                <a:cubicBezTo>
                  <a:pt x="929" y="585"/>
                  <a:pt x="927" y="585"/>
                  <a:pt x="924" y="584"/>
                </a:cubicBezTo>
                <a:cubicBezTo>
                  <a:pt x="923" y="584"/>
                  <a:pt x="921" y="583"/>
                  <a:pt x="919" y="584"/>
                </a:cubicBezTo>
                <a:cubicBezTo>
                  <a:pt x="919" y="584"/>
                  <a:pt x="919" y="584"/>
                  <a:pt x="919" y="584"/>
                </a:cubicBezTo>
                <a:cubicBezTo>
                  <a:pt x="916" y="583"/>
                  <a:pt x="914" y="583"/>
                  <a:pt x="911" y="582"/>
                </a:cubicBezTo>
                <a:cubicBezTo>
                  <a:pt x="907" y="581"/>
                  <a:pt x="889" y="576"/>
                  <a:pt x="887" y="584"/>
                </a:cubicBezTo>
                <a:cubicBezTo>
                  <a:pt x="885" y="583"/>
                  <a:pt x="882" y="582"/>
                  <a:pt x="880" y="580"/>
                </a:cubicBezTo>
                <a:cubicBezTo>
                  <a:pt x="880" y="579"/>
                  <a:pt x="879" y="579"/>
                  <a:pt x="879" y="579"/>
                </a:cubicBezTo>
                <a:cubicBezTo>
                  <a:pt x="880" y="578"/>
                  <a:pt x="880" y="578"/>
                  <a:pt x="880" y="577"/>
                </a:cubicBezTo>
                <a:cubicBezTo>
                  <a:pt x="880" y="574"/>
                  <a:pt x="882" y="571"/>
                  <a:pt x="883" y="569"/>
                </a:cubicBezTo>
                <a:cubicBezTo>
                  <a:pt x="883" y="569"/>
                  <a:pt x="884" y="569"/>
                  <a:pt x="884" y="568"/>
                </a:cubicBezTo>
                <a:cubicBezTo>
                  <a:pt x="885" y="565"/>
                  <a:pt x="886" y="561"/>
                  <a:pt x="888" y="558"/>
                </a:cubicBezTo>
                <a:cubicBezTo>
                  <a:pt x="889" y="558"/>
                  <a:pt x="890" y="558"/>
                  <a:pt x="891" y="558"/>
                </a:cubicBezTo>
                <a:cubicBezTo>
                  <a:pt x="891" y="559"/>
                  <a:pt x="890" y="560"/>
                  <a:pt x="889" y="561"/>
                </a:cubicBezTo>
                <a:cubicBezTo>
                  <a:pt x="888" y="563"/>
                  <a:pt x="886" y="567"/>
                  <a:pt x="888" y="569"/>
                </a:cubicBezTo>
                <a:cubicBezTo>
                  <a:pt x="888" y="569"/>
                  <a:pt x="889" y="569"/>
                  <a:pt x="889" y="569"/>
                </a:cubicBezTo>
                <a:cubicBezTo>
                  <a:pt x="891" y="567"/>
                  <a:pt x="891" y="563"/>
                  <a:pt x="893" y="561"/>
                </a:cubicBezTo>
                <a:cubicBezTo>
                  <a:pt x="893" y="560"/>
                  <a:pt x="894" y="559"/>
                  <a:pt x="895" y="557"/>
                </a:cubicBezTo>
                <a:cubicBezTo>
                  <a:pt x="897" y="557"/>
                  <a:pt x="899" y="557"/>
                  <a:pt x="901" y="557"/>
                </a:cubicBezTo>
                <a:cubicBezTo>
                  <a:pt x="899" y="558"/>
                  <a:pt x="897" y="560"/>
                  <a:pt x="896" y="562"/>
                </a:cubicBezTo>
                <a:cubicBezTo>
                  <a:pt x="895" y="564"/>
                  <a:pt x="892" y="567"/>
                  <a:pt x="894" y="569"/>
                </a:cubicBezTo>
                <a:cubicBezTo>
                  <a:pt x="894" y="570"/>
                  <a:pt x="895" y="570"/>
                  <a:pt x="895" y="569"/>
                </a:cubicBezTo>
                <a:cubicBezTo>
                  <a:pt x="897" y="568"/>
                  <a:pt x="897" y="565"/>
                  <a:pt x="899" y="563"/>
                </a:cubicBezTo>
                <a:cubicBezTo>
                  <a:pt x="900" y="561"/>
                  <a:pt x="902" y="558"/>
                  <a:pt x="905" y="557"/>
                </a:cubicBezTo>
                <a:cubicBezTo>
                  <a:pt x="905" y="557"/>
                  <a:pt x="906" y="557"/>
                  <a:pt x="907" y="557"/>
                </a:cubicBezTo>
                <a:cubicBezTo>
                  <a:pt x="907" y="557"/>
                  <a:pt x="906" y="558"/>
                  <a:pt x="906" y="559"/>
                </a:cubicBezTo>
                <a:cubicBezTo>
                  <a:pt x="905" y="560"/>
                  <a:pt x="901" y="564"/>
                  <a:pt x="903" y="566"/>
                </a:cubicBezTo>
                <a:cubicBezTo>
                  <a:pt x="903" y="566"/>
                  <a:pt x="904" y="567"/>
                  <a:pt x="904" y="566"/>
                </a:cubicBezTo>
                <a:cubicBezTo>
                  <a:pt x="905" y="566"/>
                  <a:pt x="905" y="565"/>
                  <a:pt x="906" y="564"/>
                </a:cubicBezTo>
                <a:cubicBezTo>
                  <a:pt x="907" y="562"/>
                  <a:pt x="907" y="561"/>
                  <a:pt x="908" y="560"/>
                </a:cubicBezTo>
                <a:cubicBezTo>
                  <a:pt x="909" y="559"/>
                  <a:pt x="910" y="558"/>
                  <a:pt x="911" y="557"/>
                </a:cubicBezTo>
                <a:cubicBezTo>
                  <a:pt x="912" y="557"/>
                  <a:pt x="913" y="557"/>
                  <a:pt x="913" y="557"/>
                </a:cubicBezTo>
                <a:cubicBezTo>
                  <a:pt x="910" y="560"/>
                  <a:pt x="908" y="564"/>
                  <a:pt x="910" y="566"/>
                </a:cubicBezTo>
                <a:cubicBezTo>
                  <a:pt x="911" y="567"/>
                  <a:pt x="911" y="566"/>
                  <a:pt x="911" y="566"/>
                </a:cubicBezTo>
                <a:cubicBezTo>
                  <a:pt x="913" y="564"/>
                  <a:pt x="913" y="562"/>
                  <a:pt x="915" y="560"/>
                </a:cubicBezTo>
                <a:cubicBezTo>
                  <a:pt x="916" y="559"/>
                  <a:pt x="917" y="558"/>
                  <a:pt x="918" y="557"/>
                </a:cubicBezTo>
                <a:cubicBezTo>
                  <a:pt x="918" y="557"/>
                  <a:pt x="919" y="557"/>
                  <a:pt x="920" y="557"/>
                </a:cubicBezTo>
                <a:cubicBezTo>
                  <a:pt x="920" y="557"/>
                  <a:pt x="921" y="557"/>
                  <a:pt x="921" y="557"/>
                </a:cubicBezTo>
                <a:cubicBezTo>
                  <a:pt x="920" y="557"/>
                  <a:pt x="920" y="558"/>
                  <a:pt x="919" y="558"/>
                </a:cubicBezTo>
                <a:cubicBezTo>
                  <a:pt x="918" y="560"/>
                  <a:pt x="916" y="564"/>
                  <a:pt x="917" y="566"/>
                </a:cubicBezTo>
                <a:cubicBezTo>
                  <a:pt x="918" y="567"/>
                  <a:pt x="918" y="567"/>
                  <a:pt x="918" y="566"/>
                </a:cubicBezTo>
                <a:cubicBezTo>
                  <a:pt x="920" y="564"/>
                  <a:pt x="920" y="562"/>
                  <a:pt x="921" y="560"/>
                </a:cubicBezTo>
                <a:cubicBezTo>
                  <a:pt x="922" y="559"/>
                  <a:pt x="923" y="557"/>
                  <a:pt x="924" y="557"/>
                </a:cubicBezTo>
                <a:cubicBezTo>
                  <a:pt x="925" y="557"/>
                  <a:pt x="927" y="557"/>
                  <a:pt x="928" y="557"/>
                </a:cubicBezTo>
                <a:cubicBezTo>
                  <a:pt x="926" y="559"/>
                  <a:pt x="924" y="561"/>
                  <a:pt x="924" y="564"/>
                </a:cubicBezTo>
                <a:cubicBezTo>
                  <a:pt x="924" y="564"/>
                  <a:pt x="924" y="565"/>
                  <a:pt x="924" y="564"/>
                </a:cubicBezTo>
                <a:cubicBezTo>
                  <a:pt x="926" y="563"/>
                  <a:pt x="927" y="561"/>
                  <a:pt x="929" y="559"/>
                </a:cubicBezTo>
                <a:cubicBezTo>
                  <a:pt x="930" y="558"/>
                  <a:pt x="930" y="557"/>
                  <a:pt x="931" y="557"/>
                </a:cubicBezTo>
                <a:cubicBezTo>
                  <a:pt x="932" y="557"/>
                  <a:pt x="933" y="557"/>
                  <a:pt x="933" y="557"/>
                </a:cubicBezTo>
                <a:cubicBezTo>
                  <a:pt x="931" y="559"/>
                  <a:pt x="929" y="562"/>
                  <a:pt x="930" y="565"/>
                </a:cubicBezTo>
                <a:cubicBezTo>
                  <a:pt x="930" y="565"/>
                  <a:pt x="930" y="566"/>
                  <a:pt x="930" y="565"/>
                </a:cubicBezTo>
                <a:cubicBezTo>
                  <a:pt x="931" y="563"/>
                  <a:pt x="932" y="561"/>
                  <a:pt x="934" y="559"/>
                </a:cubicBezTo>
                <a:cubicBezTo>
                  <a:pt x="934" y="559"/>
                  <a:pt x="935" y="558"/>
                  <a:pt x="936" y="557"/>
                </a:cubicBezTo>
                <a:cubicBezTo>
                  <a:pt x="936" y="557"/>
                  <a:pt x="936" y="557"/>
                  <a:pt x="936" y="557"/>
                </a:cubicBezTo>
                <a:cubicBezTo>
                  <a:pt x="936" y="557"/>
                  <a:pt x="936" y="557"/>
                  <a:pt x="937" y="557"/>
                </a:cubicBezTo>
                <a:cubicBezTo>
                  <a:pt x="936" y="557"/>
                  <a:pt x="936" y="558"/>
                  <a:pt x="936" y="558"/>
                </a:cubicBezTo>
                <a:cubicBezTo>
                  <a:pt x="936" y="559"/>
                  <a:pt x="937" y="559"/>
                  <a:pt x="937" y="559"/>
                </a:cubicBezTo>
                <a:cubicBezTo>
                  <a:pt x="937" y="560"/>
                  <a:pt x="939" y="561"/>
                  <a:pt x="940" y="560"/>
                </a:cubicBezTo>
                <a:cubicBezTo>
                  <a:pt x="940" y="560"/>
                  <a:pt x="941" y="559"/>
                  <a:pt x="941" y="559"/>
                </a:cubicBezTo>
                <a:cubicBezTo>
                  <a:pt x="941" y="558"/>
                  <a:pt x="942" y="558"/>
                  <a:pt x="942" y="558"/>
                </a:cubicBezTo>
                <a:cubicBezTo>
                  <a:pt x="942" y="558"/>
                  <a:pt x="942" y="558"/>
                  <a:pt x="943" y="558"/>
                </a:cubicBezTo>
                <a:cubicBezTo>
                  <a:pt x="943" y="557"/>
                  <a:pt x="943" y="557"/>
                  <a:pt x="943" y="557"/>
                </a:cubicBezTo>
                <a:cubicBezTo>
                  <a:pt x="943" y="557"/>
                  <a:pt x="943" y="556"/>
                  <a:pt x="943" y="556"/>
                </a:cubicBezTo>
                <a:cubicBezTo>
                  <a:pt x="945" y="555"/>
                  <a:pt x="946" y="553"/>
                  <a:pt x="947" y="551"/>
                </a:cubicBezTo>
                <a:cubicBezTo>
                  <a:pt x="948" y="550"/>
                  <a:pt x="949" y="549"/>
                  <a:pt x="950" y="548"/>
                </a:cubicBezTo>
                <a:cubicBezTo>
                  <a:pt x="955" y="546"/>
                  <a:pt x="959" y="546"/>
                  <a:pt x="965" y="546"/>
                </a:cubicBezTo>
                <a:cubicBezTo>
                  <a:pt x="974" y="548"/>
                  <a:pt x="983" y="549"/>
                  <a:pt x="993" y="549"/>
                </a:cubicBezTo>
                <a:cubicBezTo>
                  <a:pt x="1013" y="550"/>
                  <a:pt x="1033" y="549"/>
                  <a:pt x="1053" y="547"/>
                </a:cubicBezTo>
                <a:cubicBezTo>
                  <a:pt x="1068" y="546"/>
                  <a:pt x="1083" y="544"/>
                  <a:pt x="1099" y="546"/>
                </a:cubicBezTo>
                <a:cubicBezTo>
                  <a:pt x="1107" y="547"/>
                  <a:pt x="1114" y="551"/>
                  <a:pt x="1122" y="553"/>
                </a:cubicBezTo>
                <a:cubicBezTo>
                  <a:pt x="1129" y="555"/>
                  <a:pt x="1135" y="556"/>
                  <a:pt x="1142" y="555"/>
                </a:cubicBezTo>
                <a:cubicBezTo>
                  <a:pt x="1144" y="555"/>
                  <a:pt x="1158" y="553"/>
                  <a:pt x="1158" y="556"/>
                </a:cubicBezTo>
                <a:cubicBezTo>
                  <a:pt x="1157" y="561"/>
                  <a:pt x="1149" y="564"/>
                  <a:pt x="1145" y="566"/>
                </a:cubicBezTo>
                <a:close/>
                <a:moveTo>
                  <a:pt x="1156" y="551"/>
                </a:moveTo>
                <a:cubicBezTo>
                  <a:pt x="1154" y="551"/>
                  <a:pt x="1151" y="551"/>
                  <a:pt x="1150" y="551"/>
                </a:cubicBezTo>
                <a:cubicBezTo>
                  <a:pt x="1143" y="553"/>
                  <a:pt x="1136" y="553"/>
                  <a:pt x="1129" y="552"/>
                </a:cubicBezTo>
                <a:cubicBezTo>
                  <a:pt x="1126" y="551"/>
                  <a:pt x="1122" y="550"/>
                  <a:pt x="1119" y="549"/>
                </a:cubicBezTo>
                <a:cubicBezTo>
                  <a:pt x="1123" y="548"/>
                  <a:pt x="1128" y="547"/>
                  <a:pt x="1132" y="546"/>
                </a:cubicBezTo>
                <a:cubicBezTo>
                  <a:pt x="1137" y="546"/>
                  <a:pt x="1142" y="547"/>
                  <a:pt x="1147" y="547"/>
                </a:cubicBezTo>
                <a:cubicBezTo>
                  <a:pt x="1147" y="547"/>
                  <a:pt x="1147" y="546"/>
                  <a:pt x="1147" y="546"/>
                </a:cubicBezTo>
                <a:cubicBezTo>
                  <a:pt x="1144" y="542"/>
                  <a:pt x="1136" y="545"/>
                  <a:pt x="1132" y="545"/>
                </a:cubicBezTo>
                <a:cubicBezTo>
                  <a:pt x="1126" y="545"/>
                  <a:pt x="1120" y="545"/>
                  <a:pt x="1114" y="547"/>
                </a:cubicBezTo>
                <a:cubicBezTo>
                  <a:pt x="1113" y="546"/>
                  <a:pt x="1112" y="546"/>
                  <a:pt x="1111" y="546"/>
                </a:cubicBezTo>
                <a:cubicBezTo>
                  <a:pt x="1113" y="545"/>
                  <a:pt x="1114" y="544"/>
                  <a:pt x="1116" y="544"/>
                </a:cubicBezTo>
                <a:cubicBezTo>
                  <a:pt x="1119" y="544"/>
                  <a:pt x="1122" y="542"/>
                  <a:pt x="1125" y="543"/>
                </a:cubicBezTo>
                <a:cubicBezTo>
                  <a:pt x="1125" y="543"/>
                  <a:pt x="1125" y="542"/>
                  <a:pt x="1125" y="542"/>
                </a:cubicBezTo>
                <a:cubicBezTo>
                  <a:pt x="1121" y="542"/>
                  <a:pt x="1117" y="542"/>
                  <a:pt x="1113" y="543"/>
                </a:cubicBezTo>
                <a:cubicBezTo>
                  <a:pt x="1112" y="543"/>
                  <a:pt x="1109" y="543"/>
                  <a:pt x="1108" y="544"/>
                </a:cubicBezTo>
                <a:cubicBezTo>
                  <a:pt x="1105" y="544"/>
                  <a:pt x="1102" y="543"/>
                  <a:pt x="1100" y="543"/>
                </a:cubicBezTo>
                <a:cubicBezTo>
                  <a:pt x="1101" y="543"/>
                  <a:pt x="1101" y="542"/>
                  <a:pt x="1102" y="542"/>
                </a:cubicBezTo>
                <a:cubicBezTo>
                  <a:pt x="1104" y="541"/>
                  <a:pt x="1106" y="540"/>
                  <a:pt x="1107" y="539"/>
                </a:cubicBezTo>
                <a:cubicBezTo>
                  <a:pt x="1107" y="539"/>
                  <a:pt x="1107" y="538"/>
                  <a:pt x="1107" y="538"/>
                </a:cubicBezTo>
                <a:cubicBezTo>
                  <a:pt x="1105" y="538"/>
                  <a:pt x="1103" y="539"/>
                  <a:pt x="1101" y="540"/>
                </a:cubicBezTo>
                <a:cubicBezTo>
                  <a:pt x="1100" y="540"/>
                  <a:pt x="1098" y="540"/>
                  <a:pt x="1098" y="541"/>
                </a:cubicBezTo>
                <a:cubicBezTo>
                  <a:pt x="1097" y="541"/>
                  <a:pt x="1097" y="540"/>
                  <a:pt x="1097" y="540"/>
                </a:cubicBezTo>
                <a:cubicBezTo>
                  <a:pt x="1102" y="538"/>
                  <a:pt x="1107" y="534"/>
                  <a:pt x="1109" y="533"/>
                </a:cubicBezTo>
                <a:cubicBezTo>
                  <a:pt x="1110" y="532"/>
                  <a:pt x="1109" y="531"/>
                  <a:pt x="1108" y="532"/>
                </a:cubicBezTo>
                <a:cubicBezTo>
                  <a:pt x="1105" y="534"/>
                  <a:pt x="1102" y="535"/>
                  <a:pt x="1098" y="537"/>
                </a:cubicBezTo>
                <a:cubicBezTo>
                  <a:pt x="1097" y="538"/>
                  <a:pt x="1095" y="539"/>
                  <a:pt x="1093" y="540"/>
                </a:cubicBezTo>
                <a:cubicBezTo>
                  <a:pt x="1092" y="540"/>
                  <a:pt x="1092" y="540"/>
                  <a:pt x="1091" y="540"/>
                </a:cubicBezTo>
                <a:cubicBezTo>
                  <a:pt x="1093" y="539"/>
                  <a:pt x="1094" y="538"/>
                  <a:pt x="1095" y="537"/>
                </a:cubicBezTo>
                <a:cubicBezTo>
                  <a:pt x="1099" y="533"/>
                  <a:pt x="1104" y="530"/>
                  <a:pt x="1108" y="526"/>
                </a:cubicBezTo>
                <a:cubicBezTo>
                  <a:pt x="1112" y="523"/>
                  <a:pt x="1119" y="521"/>
                  <a:pt x="1121" y="515"/>
                </a:cubicBezTo>
                <a:cubicBezTo>
                  <a:pt x="1122" y="515"/>
                  <a:pt x="1121" y="514"/>
                  <a:pt x="1121" y="515"/>
                </a:cubicBezTo>
                <a:cubicBezTo>
                  <a:pt x="1116" y="518"/>
                  <a:pt x="1111" y="523"/>
                  <a:pt x="1105" y="527"/>
                </a:cubicBezTo>
                <a:cubicBezTo>
                  <a:pt x="1105" y="527"/>
                  <a:pt x="1104" y="527"/>
                  <a:pt x="1104" y="527"/>
                </a:cubicBezTo>
                <a:cubicBezTo>
                  <a:pt x="1105" y="526"/>
                  <a:pt x="1107" y="524"/>
                  <a:pt x="1108" y="523"/>
                </a:cubicBezTo>
                <a:cubicBezTo>
                  <a:pt x="1113" y="518"/>
                  <a:pt x="1117" y="512"/>
                  <a:pt x="1121" y="506"/>
                </a:cubicBezTo>
                <a:cubicBezTo>
                  <a:pt x="1126" y="506"/>
                  <a:pt x="1134" y="509"/>
                  <a:pt x="1136" y="513"/>
                </a:cubicBezTo>
                <a:cubicBezTo>
                  <a:pt x="1138" y="514"/>
                  <a:pt x="1139" y="517"/>
                  <a:pt x="1141" y="518"/>
                </a:cubicBezTo>
                <a:cubicBezTo>
                  <a:pt x="1143" y="519"/>
                  <a:pt x="1145" y="520"/>
                  <a:pt x="1147" y="521"/>
                </a:cubicBezTo>
                <a:cubicBezTo>
                  <a:pt x="1150" y="524"/>
                  <a:pt x="1150" y="527"/>
                  <a:pt x="1152" y="530"/>
                </a:cubicBezTo>
                <a:cubicBezTo>
                  <a:pt x="1152" y="531"/>
                  <a:pt x="1153" y="532"/>
                  <a:pt x="1155" y="534"/>
                </a:cubicBezTo>
                <a:cubicBezTo>
                  <a:pt x="1159" y="539"/>
                  <a:pt x="1158" y="545"/>
                  <a:pt x="1156" y="551"/>
                </a:cubicBezTo>
                <a:close/>
              </a:path>
            </a:pathLst>
          </a:custGeom>
          <a:solidFill>
            <a:srgbClr val="574f1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  <p:pic>
        <p:nvPicPr>
          <p:cNvPr id="45" name="组合 313" descr=""/>
          <p:cNvPicPr/>
          <p:nvPr/>
        </p:nvPicPr>
        <p:blipFill>
          <a:blip r:embed="rId4"/>
          <a:stretch/>
        </p:blipFill>
        <p:spPr>
          <a:xfrm>
            <a:off x="-203040" y="2432160"/>
            <a:ext cx="2842920" cy="2305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4f1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74f1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574f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4f1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74f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6.wmf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29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18.pn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40.png"/><Relationship Id="rId5" Type="http://schemas.openxmlformats.org/officeDocument/2006/relationships/image" Target="../media/image8.wmf"/><Relationship Id="rId6" Type="http://schemas.openxmlformats.org/officeDocument/2006/relationships/image" Target="../media/image6.wmf"/><Relationship Id="rId7" Type="http://schemas.openxmlformats.org/officeDocument/2006/relationships/image" Target="../media/image8.wmf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hyperlink" Target="259,6,&#24187;&#28783;&#29255; 6" TargetMode="External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hyperlink" Target="265,10,&#24187;&#28783;&#29255; 10" TargetMode="External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hyperlink" Target="266,13,&#24187;&#28783;&#29255; 13" TargetMode="External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hyperlink" Target="264,3,&#24187;&#28783;&#29255; 3" TargetMode="External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8.wmf"/><Relationship Id="rId7" Type="http://schemas.openxmlformats.org/officeDocument/2006/relationships/image" Target="../media/image18.png"/><Relationship Id="rId8" Type="http://schemas.openxmlformats.org/officeDocument/2006/relationships/image" Target="../media/image6.wmf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image" Target="../media/image6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0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6.wmf"/><Relationship Id="rId6" Type="http://schemas.openxmlformats.org/officeDocument/2006/relationships/image" Target="../media/image26.png"/><Relationship Id="rId7" Type="http://schemas.openxmlformats.org/officeDocument/2006/relationships/image" Target="../media/image6.wmf"/><Relationship Id="rId8" Type="http://schemas.openxmlformats.org/officeDocument/2006/relationships/image" Target="../media/image20.jpeg"/><Relationship Id="rId9" Type="http://schemas.openxmlformats.org/officeDocument/2006/relationships/image" Target="../media/image6.wmf"/><Relationship Id="rId10" Type="http://schemas.openxmlformats.org/officeDocument/2006/relationships/image" Target="../media/image21.jpeg"/><Relationship Id="rId11" Type="http://schemas.openxmlformats.org/officeDocument/2006/relationships/image" Target="../media/image6.wmf"/><Relationship Id="rId12" Type="http://schemas.openxmlformats.org/officeDocument/2006/relationships/image" Target="../media/image27.jpe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5"/>
          <p:cNvGrpSpPr/>
          <p:nvPr/>
        </p:nvGrpSpPr>
        <p:grpSpPr>
          <a:xfrm>
            <a:off x="95400" y="-123840"/>
            <a:ext cx="11152080" cy="6973920"/>
            <a:chOff x="95400" y="-123840"/>
            <a:chExt cx="11152080" cy="6973920"/>
          </a:xfrm>
        </p:grpSpPr>
        <p:sp>
          <p:nvSpPr>
            <p:cNvPr id="85" name="Freeform 1224"/>
            <p:cNvSpPr/>
            <p:nvPr/>
          </p:nvSpPr>
          <p:spPr>
            <a:xfrm>
              <a:off x="6380280" y="-123840"/>
              <a:ext cx="4867200" cy="3413160"/>
            </a:xfrm>
            <a:custGeom>
              <a:avLst/>
              <a:gdLst/>
              <a:ahLst/>
              <a:rect l="l" t="t" r="r" b="b"/>
              <a:pathLst>
                <a:path w="1162" h="815">
                  <a:moveTo>
                    <a:pt x="1160" y="552"/>
                  </a:moveTo>
                  <a:cubicBezTo>
                    <a:pt x="1159" y="552"/>
                    <a:pt x="1159" y="552"/>
                    <a:pt x="1158" y="551"/>
                  </a:cubicBezTo>
                  <a:cubicBezTo>
                    <a:pt x="1161" y="547"/>
                    <a:pt x="1162" y="542"/>
                    <a:pt x="1160" y="537"/>
                  </a:cubicBezTo>
                  <a:cubicBezTo>
                    <a:pt x="1159" y="534"/>
                    <a:pt x="1156" y="532"/>
                    <a:pt x="1155" y="530"/>
                  </a:cubicBezTo>
                  <a:cubicBezTo>
                    <a:pt x="1153" y="527"/>
                    <a:pt x="1153" y="523"/>
                    <a:pt x="1151" y="521"/>
                  </a:cubicBezTo>
                  <a:cubicBezTo>
                    <a:pt x="1148" y="518"/>
                    <a:pt x="1144" y="517"/>
                    <a:pt x="1142" y="514"/>
                  </a:cubicBezTo>
                  <a:cubicBezTo>
                    <a:pt x="1139" y="512"/>
                    <a:pt x="1138" y="509"/>
                    <a:pt x="1134" y="507"/>
                  </a:cubicBezTo>
                  <a:cubicBezTo>
                    <a:pt x="1131" y="505"/>
                    <a:pt x="1127" y="503"/>
                    <a:pt x="1123" y="503"/>
                  </a:cubicBezTo>
                  <a:cubicBezTo>
                    <a:pt x="1127" y="498"/>
                    <a:pt x="1130" y="492"/>
                    <a:pt x="1132" y="486"/>
                  </a:cubicBezTo>
                  <a:cubicBezTo>
                    <a:pt x="1137" y="477"/>
                    <a:pt x="1140" y="466"/>
                    <a:pt x="1136" y="456"/>
                  </a:cubicBezTo>
                  <a:cubicBezTo>
                    <a:pt x="1135" y="452"/>
                    <a:pt x="1132" y="448"/>
                    <a:pt x="1128" y="446"/>
                  </a:cubicBezTo>
                  <a:cubicBezTo>
                    <a:pt x="1126" y="445"/>
                    <a:pt x="1122" y="445"/>
                    <a:pt x="1121" y="442"/>
                  </a:cubicBezTo>
                  <a:cubicBezTo>
                    <a:pt x="1121" y="439"/>
                    <a:pt x="1121" y="437"/>
                    <a:pt x="1120" y="434"/>
                  </a:cubicBezTo>
                  <a:cubicBezTo>
                    <a:pt x="1118" y="423"/>
                    <a:pt x="1109" y="413"/>
                    <a:pt x="1098" y="410"/>
                  </a:cubicBezTo>
                  <a:cubicBezTo>
                    <a:pt x="1086" y="406"/>
                    <a:pt x="1072" y="408"/>
                    <a:pt x="1060" y="410"/>
                  </a:cubicBezTo>
                  <a:cubicBezTo>
                    <a:pt x="1045" y="413"/>
                    <a:pt x="1030" y="417"/>
                    <a:pt x="1015" y="421"/>
                  </a:cubicBezTo>
                  <a:cubicBezTo>
                    <a:pt x="1006" y="423"/>
                    <a:pt x="996" y="426"/>
                    <a:pt x="987" y="429"/>
                  </a:cubicBezTo>
                  <a:cubicBezTo>
                    <a:pt x="988" y="428"/>
                    <a:pt x="989" y="425"/>
                    <a:pt x="989" y="423"/>
                  </a:cubicBezTo>
                  <a:cubicBezTo>
                    <a:pt x="992" y="419"/>
                    <a:pt x="995" y="414"/>
                    <a:pt x="998" y="410"/>
                  </a:cubicBezTo>
                  <a:cubicBezTo>
                    <a:pt x="1006" y="400"/>
                    <a:pt x="1016" y="393"/>
                    <a:pt x="1026" y="384"/>
                  </a:cubicBezTo>
                  <a:cubicBezTo>
                    <a:pt x="1041" y="371"/>
                    <a:pt x="1052" y="354"/>
                    <a:pt x="1050" y="332"/>
                  </a:cubicBezTo>
                  <a:cubicBezTo>
                    <a:pt x="1048" y="314"/>
                    <a:pt x="1035" y="295"/>
                    <a:pt x="1017" y="290"/>
                  </a:cubicBezTo>
                  <a:cubicBezTo>
                    <a:pt x="1007" y="288"/>
                    <a:pt x="998" y="287"/>
                    <a:pt x="988" y="289"/>
                  </a:cubicBezTo>
                  <a:cubicBezTo>
                    <a:pt x="987" y="289"/>
                    <a:pt x="984" y="289"/>
                    <a:pt x="982" y="290"/>
                  </a:cubicBezTo>
                  <a:cubicBezTo>
                    <a:pt x="988" y="286"/>
                    <a:pt x="993" y="280"/>
                    <a:pt x="997" y="275"/>
                  </a:cubicBezTo>
                  <a:cubicBezTo>
                    <a:pt x="1002" y="269"/>
                    <a:pt x="1006" y="261"/>
                    <a:pt x="1003" y="253"/>
                  </a:cubicBezTo>
                  <a:cubicBezTo>
                    <a:pt x="1003" y="252"/>
                    <a:pt x="1002" y="252"/>
                    <a:pt x="1001" y="252"/>
                  </a:cubicBezTo>
                  <a:cubicBezTo>
                    <a:pt x="1000" y="252"/>
                    <a:pt x="998" y="252"/>
                    <a:pt x="997" y="253"/>
                  </a:cubicBezTo>
                  <a:cubicBezTo>
                    <a:pt x="994" y="253"/>
                    <a:pt x="994" y="252"/>
                    <a:pt x="995" y="249"/>
                  </a:cubicBezTo>
                  <a:cubicBezTo>
                    <a:pt x="996" y="248"/>
                    <a:pt x="994" y="246"/>
                    <a:pt x="993" y="246"/>
                  </a:cubicBezTo>
                  <a:cubicBezTo>
                    <a:pt x="994" y="243"/>
                    <a:pt x="993" y="240"/>
                    <a:pt x="991" y="238"/>
                  </a:cubicBezTo>
                  <a:cubicBezTo>
                    <a:pt x="988" y="234"/>
                    <a:pt x="984" y="233"/>
                    <a:pt x="980" y="232"/>
                  </a:cubicBezTo>
                  <a:cubicBezTo>
                    <a:pt x="975" y="231"/>
                    <a:pt x="972" y="225"/>
                    <a:pt x="966" y="225"/>
                  </a:cubicBezTo>
                  <a:cubicBezTo>
                    <a:pt x="961" y="224"/>
                    <a:pt x="955" y="224"/>
                    <a:pt x="949" y="225"/>
                  </a:cubicBezTo>
                  <a:cubicBezTo>
                    <a:pt x="934" y="227"/>
                    <a:pt x="920" y="232"/>
                    <a:pt x="905" y="234"/>
                  </a:cubicBezTo>
                  <a:cubicBezTo>
                    <a:pt x="898" y="235"/>
                    <a:pt x="891" y="235"/>
                    <a:pt x="884" y="237"/>
                  </a:cubicBezTo>
                  <a:cubicBezTo>
                    <a:pt x="879" y="238"/>
                    <a:pt x="874" y="240"/>
                    <a:pt x="870" y="242"/>
                  </a:cubicBezTo>
                  <a:cubicBezTo>
                    <a:pt x="870" y="241"/>
                    <a:pt x="871" y="240"/>
                    <a:pt x="872" y="239"/>
                  </a:cubicBezTo>
                  <a:cubicBezTo>
                    <a:pt x="874" y="236"/>
                    <a:pt x="875" y="234"/>
                    <a:pt x="877" y="232"/>
                  </a:cubicBezTo>
                  <a:cubicBezTo>
                    <a:pt x="894" y="206"/>
                    <a:pt x="903" y="178"/>
                    <a:pt x="899" y="148"/>
                  </a:cubicBezTo>
                  <a:cubicBezTo>
                    <a:pt x="895" y="121"/>
                    <a:pt x="885" y="86"/>
                    <a:pt x="857" y="76"/>
                  </a:cubicBezTo>
                  <a:cubicBezTo>
                    <a:pt x="851" y="73"/>
                    <a:pt x="844" y="69"/>
                    <a:pt x="838" y="70"/>
                  </a:cubicBezTo>
                  <a:cubicBezTo>
                    <a:pt x="833" y="70"/>
                    <a:pt x="827" y="73"/>
                    <a:pt x="824" y="77"/>
                  </a:cubicBezTo>
                  <a:cubicBezTo>
                    <a:pt x="822" y="78"/>
                    <a:pt x="819" y="81"/>
                    <a:pt x="816" y="82"/>
                  </a:cubicBezTo>
                  <a:cubicBezTo>
                    <a:pt x="813" y="82"/>
                    <a:pt x="810" y="81"/>
                    <a:pt x="806" y="80"/>
                  </a:cubicBezTo>
                  <a:cubicBezTo>
                    <a:pt x="800" y="79"/>
                    <a:pt x="794" y="79"/>
                    <a:pt x="788" y="82"/>
                  </a:cubicBezTo>
                  <a:cubicBezTo>
                    <a:pt x="775" y="87"/>
                    <a:pt x="763" y="95"/>
                    <a:pt x="752" y="105"/>
                  </a:cubicBezTo>
                  <a:cubicBezTo>
                    <a:pt x="747" y="110"/>
                    <a:pt x="743" y="116"/>
                    <a:pt x="738" y="121"/>
                  </a:cubicBezTo>
                  <a:cubicBezTo>
                    <a:pt x="736" y="124"/>
                    <a:pt x="733" y="127"/>
                    <a:pt x="733" y="131"/>
                  </a:cubicBezTo>
                  <a:cubicBezTo>
                    <a:pt x="732" y="131"/>
                    <a:pt x="732" y="131"/>
                    <a:pt x="732" y="131"/>
                  </a:cubicBezTo>
                  <a:cubicBezTo>
                    <a:pt x="729" y="130"/>
                    <a:pt x="729" y="126"/>
                    <a:pt x="727" y="125"/>
                  </a:cubicBezTo>
                  <a:cubicBezTo>
                    <a:pt x="724" y="123"/>
                    <a:pt x="722" y="123"/>
                    <a:pt x="719" y="123"/>
                  </a:cubicBezTo>
                  <a:cubicBezTo>
                    <a:pt x="712" y="122"/>
                    <a:pt x="704" y="122"/>
                    <a:pt x="697" y="123"/>
                  </a:cubicBezTo>
                  <a:cubicBezTo>
                    <a:pt x="689" y="124"/>
                    <a:pt x="681" y="125"/>
                    <a:pt x="673" y="126"/>
                  </a:cubicBezTo>
                  <a:cubicBezTo>
                    <a:pt x="670" y="127"/>
                    <a:pt x="668" y="127"/>
                    <a:pt x="665" y="128"/>
                  </a:cubicBezTo>
                  <a:cubicBezTo>
                    <a:pt x="662" y="127"/>
                    <a:pt x="658" y="124"/>
                    <a:pt x="655" y="122"/>
                  </a:cubicBezTo>
                  <a:cubicBezTo>
                    <a:pt x="652" y="121"/>
                    <a:pt x="648" y="119"/>
                    <a:pt x="645" y="117"/>
                  </a:cubicBezTo>
                  <a:cubicBezTo>
                    <a:pt x="638" y="114"/>
                    <a:pt x="630" y="111"/>
                    <a:pt x="623" y="109"/>
                  </a:cubicBezTo>
                  <a:cubicBezTo>
                    <a:pt x="610" y="106"/>
                    <a:pt x="595" y="105"/>
                    <a:pt x="581" y="106"/>
                  </a:cubicBezTo>
                  <a:cubicBezTo>
                    <a:pt x="567" y="107"/>
                    <a:pt x="554" y="112"/>
                    <a:pt x="543" y="121"/>
                  </a:cubicBezTo>
                  <a:cubicBezTo>
                    <a:pt x="540" y="124"/>
                    <a:pt x="535" y="128"/>
                    <a:pt x="533" y="132"/>
                  </a:cubicBezTo>
                  <a:cubicBezTo>
                    <a:pt x="533" y="132"/>
                    <a:pt x="533" y="132"/>
                    <a:pt x="533" y="132"/>
                  </a:cubicBezTo>
                  <a:cubicBezTo>
                    <a:pt x="530" y="131"/>
                    <a:pt x="528" y="131"/>
                    <a:pt x="525" y="130"/>
                  </a:cubicBezTo>
                  <a:cubicBezTo>
                    <a:pt x="520" y="116"/>
                    <a:pt x="514" y="101"/>
                    <a:pt x="505" y="89"/>
                  </a:cubicBezTo>
                  <a:cubicBezTo>
                    <a:pt x="499" y="81"/>
                    <a:pt x="488" y="68"/>
                    <a:pt x="477" y="74"/>
                  </a:cubicBezTo>
                  <a:cubicBezTo>
                    <a:pt x="474" y="75"/>
                    <a:pt x="472" y="78"/>
                    <a:pt x="469" y="79"/>
                  </a:cubicBezTo>
                  <a:cubicBezTo>
                    <a:pt x="465" y="81"/>
                    <a:pt x="463" y="78"/>
                    <a:pt x="460" y="76"/>
                  </a:cubicBezTo>
                  <a:cubicBezTo>
                    <a:pt x="457" y="74"/>
                    <a:pt x="454" y="74"/>
                    <a:pt x="451" y="77"/>
                  </a:cubicBezTo>
                  <a:cubicBezTo>
                    <a:pt x="450" y="79"/>
                    <a:pt x="449" y="76"/>
                    <a:pt x="447" y="75"/>
                  </a:cubicBezTo>
                  <a:cubicBezTo>
                    <a:pt x="445" y="73"/>
                    <a:pt x="443" y="72"/>
                    <a:pt x="440" y="71"/>
                  </a:cubicBezTo>
                  <a:cubicBezTo>
                    <a:pt x="436" y="69"/>
                    <a:pt x="433" y="69"/>
                    <a:pt x="429" y="72"/>
                  </a:cubicBezTo>
                  <a:cubicBezTo>
                    <a:pt x="424" y="75"/>
                    <a:pt x="419" y="82"/>
                    <a:pt x="415" y="87"/>
                  </a:cubicBezTo>
                  <a:cubicBezTo>
                    <a:pt x="410" y="92"/>
                    <a:pt x="407" y="99"/>
                    <a:pt x="402" y="105"/>
                  </a:cubicBezTo>
                  <a:cubicBezTo>
                    <a:pt x="397" y="112"/>
                    <a:pt x="390" y="118"/>
                    <a:pt x="386" y="126"/>
                  </a:cubicBezTo>
                  <a:cubicBezTo>
                    <a:pt x="383" y="133"/>
                    <a:pt x="381" y="139"/>
                    <a:pt x="380" y="147"/>
                  </a:cubicBezTo>
                  <a:cubicBezTo>
                    <a:pt x="377" y="162"/>
                    <a:pt x="373" y="177"/>
                    <a:pt x="371" y="192"/>
                  </a:cubicBezTo>
                  <a:cubicBezTo>
                    <a:pt x="369" y="183"/>
                    <a:pt x="366" y="173"/>
                    <a:pt x="362" y="164"/>
                  </a:cubicBezTo>
                  <a:cubicBezTo>
                    <a:pt x="357" y="153"/>
                    <a:pt x="351" y="143"/>
                    <a:pt x="344" y="133"/>
                  </a:cubicBezTo>
                  <a:cubicBezTo>
                    <a:pt x="342" y="129"/>
                    <a:pt x="341" y="125"/>
                    <a:pt x="338" y="122"/>
                  </a:cubicBezTo>
                  <a:cubicBezTo>
                    <a:pt x="337" y="121"/>
                    <a:pt x="333" y="120"/>
                    <a:pt x="333" y="119"/>
                  </a:cubicBezTo>
                  <a:cubicBezTo>
                    <a:pt x="332" y="118"/>
                    <a:pt x="331" y="117"/>
                    <a:pt x="330" y="116"/>
                  </a:cubicBezTo>
                  <a:cubicBezTo>
                    <a:pt x="329" y="114"/>
                    <a:pt x="328" y="113"/>
                    <a:pt x="327" y="111"/>
                  </a:cubicBezTo>
                  <a:cubicBezTo>
                    <a:pt x="325" y="109"/>
                    <a:pt x="322" y="106"/>
                    <a:pt x="319" y="104"/>
                  </a:cubicBezTo>
                  <a:cubicBezTo>
                    <a:pt x="319" y="103"/>
                    <a:pt x="319" y="103"/>
                    <a:pt x="319" y="103"/>
                  </a:cubicBezTo>
                  <a:cubicBezTo>
                    <a:pt x="314" y="98"/>
                    <a:pt x="313" y="88"/>
                    <a:pt x="310" y="82"/>
                  </a:cubicBezTo>
                  <a:cubicBezTo>
                    <a:pt x="307" y="74"/>
                    <a:pt x="304" y="67"/>
                    <a:pt x="300" y="60"/>
                  </a:cubicBezTo>
                  <a:cubicBezTo>
                    <a:pt x="296" y="53"/>
                    <a:pt x="291" y="46"/>
                    <a:pt x="286" y="40"/>
                  </a:cubicBezTo>
                  <a:cubicBezTo>
                    <a:pt x="280" y="33"/>
                    <a:pt x="274" y="26"/>
                    <a:pt x="267" y="20"/>
                  </a:cubicBezTo>
                  <a:cubicBezTo>
                    <a:pt x="261" y="15"/>
                    <a:pt x="254" y="10"/>
                    <a:pt x="246" y="6"/>
                  </a:cubicBezTo>
                  <a:cubicBezTo>
                    <a:pt x="244" y="5"/>
                    <a:pt x="238" y="2"/>
                    <a:pt x="236" y="4"/>
                  </a:cubicBezTo>
                  <a:cubicBezTo>
                    <a:pt x="229" y="0"/>
                    <a:pt x="223" y="18"/>
                    <a:pt x="222" y="23"/>
                  </a:cubicBezTo>
                  <a:cubicBezTo>
                    <a:pt x="217" y="41"/>
                    <a:pt x="218" y="59"/>
                    <a:pt x="222" y="77"/>
                  </a:cubicBezTo>
                  <a:cubicBezTo>
                    <a:pt x="227" y="99"/>
                    <a:pt x="234" y="120"/>
                    <a:pt x="245" y="140"/>
                  </a:cubicBezTo>
                  <a:cubicBezTo>
                    <a:pt x="251" y="150"/>
                    <a:pt x="259" y="158"/>
                    <a:pt x="267" y="167"/>
                  </a:cubicBezTo>
                  <a:cubicBezTo>
                    <a:pt x="271" y="172"/>
                    <a:pt x="276" y="177"/>
                    <a:pt x="281" y="182"/>
                  </a:cubicBezTo>
                  <a:cubicBezTo>
                    <a:pt x="269" y="179"/>
                    <a:pt x="256" y="178"/>
                    <a:pt x="244" y="180"/>
                  </a:cubicBezTo>
                  <a:cubicBezTo>
                    <a:pt x="244" y="176"/>
                    <a:pt x="243" y="172"/>
                    <a:pt x="243" y="168"/>
                  </a:cubicBezTo>
                  <a:cubicBezTo>
                    <a:pt x="242" y="163"/>
                    <a:pt x="242" y="159"/>
                    <a:pt x="241" y="154"/>
                  </a:cubicBezTo>
                  <a:cubicBezTo>
                    <a:pt x="239" y="146"/>
                    <a:pt x="237" y="138"/>
                    <a:pt x="233" y="130"/>
                  </a:cubicBezTo>
                  <a:cubicBezTo>
                    <a:pt x="229" y="122"/>
                    <a:pt x="222" y="115"/>
                    <a:pt x="217" y="107"/>
                  </a:cubicBezTo>
                  <a:cubicBezTo>
                    <a:pt x="213" y="99"/>
                    <a:pt x="210" y="90"/>
                    <a:pt x="204" y="84"/>
                  </a:cubicBezTo>
                  <a:cubicBezTo>
                    <a:pt x="199" y="80"/>
                    <a:pt x="196" y="76"/>
                    <a:pt x="193" y="71"/>
                  </a:cubicBezTo>
                  <a:cubicBezTo>
                    <a:pt x="191" y="68"/>
                    <a:pt x="189" y="65"/>
                    <a:pt x="186" y="63"/>
                  </a:cubicBezTo>
                  <a:cubicBezTo>
                    <a:pt x="183" y="59"/>
                    <a:pt x="179" y="56"/>
                    <a:pt x="176" y="52"/>
                  </a:cubicBezTo>
                  <a:cubicBezTo>
                    <a:pt x="170" y="47"/>
                    <a:pt x="162" y="42"/>
                    <a:pt x="156" y="49"/>
                  </a:cubicBezTo>
                  <a:cubicBezTo>
                    <a:pt x="156" y="49"/>
                    <a:pt x="156" y="49"/>
                    <a:pt x="156" y="49"/>
                  </a:cubicBezTo>
                  <a:cubicBezTo>
                    <a:pt x="153" y="45"/>
                    <a:pt x="149" y="42"/>
                    <a:pt x="145" y="42"/>
                  </a:cubicBezTo>
                  <a:cubicBezTo>
                    <a:pt x="138" y="42"/>
                    <a:pt x="131" y="41"/>
                    <a:pt x="126" y="45"/>
                  </a:cubicBezTo>
                  <a:cubicBezTo>
                    <a:pt x="119" y="50"/>
                    <a:pt x="114" y="58"/>
                    <a:pt x="108" y="65"/>
                  </a:cubicBezTo>
                  <a:cubicBezTo>
                    <a:pt x="103" y="72"/>
                    <a:pt x="98" y="79"/>
                    <a:pt x="94" y="87"/>
                  </a:cubicBezTo>
                  <a:cubicBezTo>
                    <a:pt x="87" y="103"/>
                    <a:pt x="77" y="119"/>
                    <a:pt x="74" y="137"/>
                  </a:cubicBezTo>
                  <a:cubicBezTo>
                    <a:pt x="72" y="145"/>
                    <a:pt x="71" y="154"/>
                    <a:pt x="71" y="163"/>
                  </a:cubicBezTo>
                  <a:cubicBezTo>
                    <a:pt x="71" y="168"/>
                    <a:pt x="71" y="172"/>
                    <a:pt x="72" y="177"/>
                  </a:cubicBezTo>
                  <a:cubicBezTo>
                    <a:pt x="72" y="178"/>
                    <a:pt x="72" y="179"/>
                    <a:pt x="72" y="181"/>
                  </a:cubicBezTo>
                  <a:cubicBezTo>
                    <a:pt x="69" y="178"/>
                    <a:pt x="65" y="177"/>
                    <a:pt x="63" y="173"/>
                  </a:cubicBezTo>
                  <a:cubicBezTo>
                    <a:pt x="58" y="164"/>
                    <a:pt x="47" y="163"/>
                    <a:pt x="38" y="160"/>
                  </a:cubicBezTo>
                  <a:cubicBezTo>
                    <a:pt x="35" y="159"/>
                    <a:pt x="32" y="159"/>
                    <a:pt x="30" y="158"/>
                  </a:cubicBezTo>
                  <a:cubicBezTo>
                    <a:pt x="26" y="152"/>
                    <a:pt x="23" y="145"/>
                    <a:pt x="19" y="139"/>
                  </a:cubicBezTo>
                  <a:cubicBezTo>
                    <a:pt x="13" y="133"/>
                    <a:pt x="6" y="127"/>
                    <a:pt x="0" y="122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1" y="127"/>
                    <a:pt x="2" y="128"/>
                    <a:pt x="3" y="129"/>
                  </a:cubicBezTo>
                  <a:cubicBezTo>
                    <a:pt x="9" y="134"/>
                    <a:pt x="15" y="139"/>
                    <a:pt x="19" y="145"/>
                  </a:cubicBezTo>
                  <a:cubicBezTo>
                    <a:pt x="22" y="149"/>
                    <a:pt x="24" y="154"/>
                    <a:pt x="27" y="158"/>
                  </a:cubicBezTo>
                  <a:cubicBezTo>
                    <a:pt x="20" y="157"/>
                    <a:pt x="13" y="158"/>
                    <a:pt x="5" y="160"/>
                  </a:cubicBezTo>
                  <a:cubicBezTo>
                    <a:pt x="4" y="160"/>
                    <a:pt x="2" y="161"/>
                    <a:pt x="0" y="162"/>
                  </a:cubicBezTo>
                  <a:cubicBezTo>
                    <a:pt x="1" y="160"/>
                    <a:pt x="0" y="159"/>
                    <a:pt x="0" y="157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5" y="163"/>
                    <a:pt x="10" y="162"/>
                    <a:pt x="15" y="162"/>
                  </a:cubicBezTo>
                  <a:cubicBezTo>
                    <a:pt x="27" y="159"/>
                    <a:pt x="38" y="163"/>
                    <a:pt x="49" y="167"/>
                  </a:cubicBezTo>
                  <a:cubicBezTo>
                    <a:pt x="52" y="168"/>
                    <a:pt x="57" y="169"/>
                    <a:pt x="59" y="173"/>
                  </a:cubicBezTo>
                  <a:cubicBezTo>
                    <a:pt x="60" y="174"/>
                    <a:pt x="61" y="176"/>
                    <a:pt x="62" y="178"/>
                  </a:cubicBezTo>
                  <a:cubicBezTo>
                    <a:pt x="65" y="182"/>
                    <a:pt x="70" y="183"/>
                    <a:pt x="73" y="188"/>
                  </a:cubicBezTo>
                  <a:cubicBezTo>
                    <a:pt x="79" y="197"/>
                    <a:pt x="80" y="209"/>
                    <a:pt x="81" y="220"/>
                  </a:cubicBezTo>
                  <a:cubicBezTo>
                    <a:pt x="81" y="231"/>
                    <a:pt x="82" y="242"/>
                    <a:pt x="84" y="253"/>
                  </a:cubicBezTo>
                  <a:cubicBezTo>
                    <a:pt x="86" y="264"/>
                    <a:pt x="87" y="275"/>
                    <a:pt x="90" y="285"/>
                  </a:cubicBezTo>
                  <a:cubicBezTo>
                    <a:pt x="97" y="304"/>
                    <a:pt x="108" y="320"/>
                    <a:pt x="114" y="338"/>
                  </a:cubicBezTo>
                  <a:cubicBezTo>
                    <a:pt x="114" y="339"/>
                    <a:pt x="114" y="339"/>
                    <a:pt x="115" y="339"/>
                  </a:cubicBezTo>
                  <a:cubicBezTo>
                    <a:pt x="115" y="339"/>
                    <a:pt x="115" y="340"/>
                    <a:pt x="115" y="340"/>
                  </a:cubicBezTo>
                  <a:cubicBezTo>
                    <a:pt x="114" y="343"/>
                    <a:pt x="115" y="346"/>
                    <a:pt x="118" y="348"/>
                  </a:cubicBezTo>
                  <a:cubicBezTo>
                    <a:pt x="122" y="353"/>
                    <a:pt x="124" y="359"/>
                    <a:pt x="127" y="365"/>
                  </a:cubicBezTo>
                  <a:cubicBezTo>
                    <a:pt x="128" y="366"/>
                    <a:pt x="131" y="374"/>
                    <a:pt x="129" y="374"/>
                  </a:cubicBezTo>
                  <a:cubicBezTo>
                    <a:pt x="128" y="374"/>
                    <a:pt x="126" y="374"/>
                    <a:pt x="125" y="374"/>
                  </a:cubicBezTo>
                  <a:cubicBezTo>
                    <a:pt x="124" y="376"/>
                    <a:pt x="123" y="377"/>
                    <a:pt x="124" y="378"/>
                  </a:cubicBezTo>
                  <a:cubicBezTo>
                    <a:pt x="118" y="374"/>
                    <a:pt x="115" y="366"/>
                    <a:pt x="109" y="361"/>
                  </a:cubicBezTo>
                  <a:cubicBezTo>
                    <a:pt x="108" y="360"/>
                    <a:pt x="106" y="360"/>
                    <a:pt x="106" y="362"/>
                  </a:cubicBezTo>
                  <a:cubicBezTo>
                    <a:pt x="105" y="367"/>
                    <a:pt x="108" y="371"/>
                    <a:pt x="110" y="375"/>
                  </a:cubicBezTo>
                  <a:cubicBezTo>
                    <a:pt x="110" y="375"/>
                    <a:pt x="114" y="383"/>
                    <a:pt x="112" y="382"/>
                  </a:cubicBezTo>
                  <a:cubicBezTo>
                    <a:pt x="110" y="382"/>
                    <a:pt x="107" y="380"/>
                    <a:pt x="105" y="379"/>
                  </a:cubicBezTo>
                  <a:cubicBezTo>
                    <a:pt x="102" y="378"/>
                    <a:pt x="98" y="378"/>
                    <a:pt x="97" y="381"/>
                  </a:cubicBezTo>
                  <a:cubicBezTo>
                    <a:pt x="96" y="382"/>
                    <a:pt x="96" y="382"/>
                    <a:pt x="96" y="382"/>
                  </a:cubicBezTo>
                  <a:cubicBezTo>
                    <a:pt x="90" y="377"/>
                    <a:pt x="82" y="372"/>
                    <a:pt x="75" y="368"/>
                  </a:cubicBezTo>
                  <a:cubicBezTo>
                    <a:pt x="66" y="363"/>
                    <a:pt x="57" y="357"/>
                    <a:pt x="47" y="352"/>
                  </a:cubicBezTo>
                  <a:cubicBezTo>
                    <a:pt x="38" y="348"/>
                    <a:pt x="29" y="342"/>
                    <a:pt x="20" y="337"/>
                  </a:cubicBezTo>
                  <a:cubicBezTo>
                    <a:pt x="13" y="333"/>
                    <a:pt x="7" y="329"/>
                    <a:pt x="0" y="326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7" y="333"/>
                    <a:pt x="13" y="337"/>
                    <a:pt x="20" y="341"/>
                  </a:cubicBezTo>
                  <a:cubicBezTo>
                    <a:pt x="29" y="346"/>
                    <a:pt x="38" y="351"/>
                    <a:pt x="47" y="356"/>
                  </a:cubicBezTo>
                  <a:cubicBezTo>
                    <a:pt x="52" y="359"/>
                    <a:pt x="56" y="361"/>
                    <a:pt x="61" y="363"/>
                  </a:cubicBezTo>
                  <a:cubicBezTo>
                    <a:pt x="60" y="363"/>
                    <a:pt x="59" y="363"/>
                    <a:pt x="58" y="363"/>
                  </a:cubicBezTo>
                  <a:cubicBezTo>
                    <a:pt x="56" y="362"/>
                    <a:pt x="54" y="360"/>
                    <a:pt x="51" y="359"/>
                  </a:cubicBezTo>
                  <a:cubicBezTo>
                    <a:pt x="51" y="359"/>
                    <a:pt x="50" y="359"/>
                    <a:pt x="50" y="359"/>
                  </a:cubicBezTo>
                  <a:cubicBezTo>
                    <a:pt x="48" y="357"/>
                    <a:pt x="45" y="356"/>
                    <a:pt x="43" y="356"/>
                  </a:cubicBezTo>
                  <a:cubicBezTo>
                    <a:pt x="32" y="352"/>
                    <a:pt x="20" y="349"/>
                    <a:pt x="9" y="348"/>
                  </a:cubicBezTo>
                  <a:cubicBezTo>
                    <a:pt x="6" y="348"/>
                    <a:pt x="3" y="348"/>
                    <a:pt x="0" y="347"/>
                  </a:cubicBezTo>
                  <a:cubicBezTo>
                    <a:pt x="0" y="350"/>
                    <a:pt x="0" y="350"/>
                    <a:pt x="0" y="350"/>
                  </a:cubicBezTo>
                  <a:cubicBezTo>
                    <a:pt x="12" y="352"/>
                    <a:pt x="25" y="353"/>
                    <a:pt x="37" y="356"/>
                  </a:cubicBezTo>
                  <a:cubicBezTo>
                    <a:pt x="41" y="357"/>
                    <a:pt x="45" y="359"/>
                    <a:pt x="48" y="360"/>
                  </a:cubicBezTo>
                  <a:cubicBezTo>
                    <a:pt x="48" y="360"/>
                    <a:pt x="48" y="361"/>
                    <a:pt x="48" y="361"/>
                  </a:cubicBezTo>
                  <a:cubicBezTo>
                    <a:pt x="51" y="366"/>
                    <a:pt x="54" y="370"/>
                    <a:pt x="56" y="374"/>
                  </a:cubicBezTo>
                  <a:cubicBezTo>
                    <a:pt x="59" y="380"/>
                    <a:pt x="61" y="386"/>
                    <a:pt x="64" y="392"/>
                  </a:cubicBezTo>
                  <a:cubicBezTo>
                    <a:pt x="70" y="403"/>
                    <a:pt x="78" y="412"/>
                    <a:pt x="87" y="421"/>
                  </a:cubicBezTo>
                  <a:cubicBezTo>
                    <a:pt x="91" y="425"/>
                    <a:pt x="96" y="428"/>
                    <a:pt x="101" y="432"/>
                  </a:cubicBezTo>
                  <a:cubicBezTo>
                    <a:pt x="107" y="436"/>
                    <a:pt x="111" y="442"/>
                    <a:pt x="115" y="448"/>
                  </a:cubicBezTo>
                  <a:cubicBezTo>
                    <a:pt x="122" y="460"/>
                    <a:pt x="126" y="473"/>
                    <a:pt x="131" y="485"/>
                  </a:cubicBezTo>
                  <a:cubicBezTo>
                    <a:pt x="131" y="485"/>
                    <a:pt x="131" y="486"/>
                    <a:pt x="131" y="486"/>
                  </a:cubicBezTo>
                  <a:cubicBezTo>
                    <a:pt x="130" y="489"/>
                    <a:pt x="131" y="492"/>
                    <a:pt x="132" y="495"/>
                  </a:cubicBezTo>
                  <a:cubicBezTo>
                    <a:pt x="134" y="499"/>
                    <a:pt x="135" y="503"/>
                    <a:pt x="135" y="507"/>
                  </a:cubicBezTo>
                  <a:cubicBezTo>
                    <a:pt x="136" y="515"/>
                    <a:pt x="137" y="524"/>
                    <a:pt x="142" y="531"/>
                  </a:cubicBezTo>
                  <a:cubicBezTo>
                    <a:pt x="146" y="535"/>
                    <a:pt x="151" y="538"/>
                    <a:pt x="154" y="542"/>
                  </a:cubicBezTo>
                  <a:cubicBezTo>
                    <a:pt x="158" y="545"/>
                    <a:pt x="162" y="549"/>
                    <a:pt x="166" y="553"/>
                  </a:cubicBezTo>
                  <a:cubicBezTo>
                    <a:pt x="175" y="561"/>
                    <a:pt x="184" y="569"/>
                    <a:pt x="194" y="575"/>
                  </a:cubicBezTo>
                  <a:cubicBezTo>
                    <a:pt x="204" y="582"/>
                    <a:pt x="213" y="588"/>
                    <a:pt x="224" y="594"/>
                  </a:cubicBezTo>
                  <a:cubicBezTo>
                    <a:pt x="228" y="596"/>
                    <a:pt x="232" y="598"/>
                    <a:pt x="237" y="599"/>
                  </a:cubicBezTo>
                  <a:cubicBezTo>
                    <a:pt x="243" y="600"/>
                    <a:pt x="248" y="602"/>
                    <a:pt x="253" y="606"/>
                  </a:cubicBezTo>
                  <a:cubicBezTo>
                    <a:pt x="257" y="609"/>
                    <a:pt x="261" y="612"/>
                    <a:pt x="265" y="615"/>
                  </a:cubicBezTo>
                  <a:cubicBezTo>
                    <a:pt x="270" y="618"/>
                    <a:pt x="272" y="621"/>
                    <a:pt x="275" y="626"/>
                  </a:cubicBezTo>
                  <a:cubicBezTo>
                    <a:pt x="270" y="632"/>
                    <a:pt x="277" y="639"/>
                    <a:pt x="281" y="643"/>
                  </a:cubicBezTo>
                  <a:cubicBezTo>
                    <a:pt x="291" y="651"/>
                    <a:pt x="296" y="663"/>
                    <a:pt x="303" y="673"/>
                  </a:cubicBezTo>
                  <a:cubicBezTo>
                    <a:pt x="312" y="684"/>
                    <a:pt x="322" y="694"/>
                    <a:pt x="329" y="706"/>
                  </a:cubicBezTo>
                  <a:cubicBezTo>
                    <a:pt x="334" y="716"/>
                    <a:pt x="340" y="726"/>
                    <a:pt x="345" y="736"/>
                  </a:cubicBezTo>
                  <a:cubicBezTo>
                    <a:pt x="348" y="741"/>
                    <a:pt x="351" y="747"/>
                    <a:pt x="353" y="753"/>
                  </a:cubicBezTo>
                  <a:cubicBezTo>
                    <a:pt x="354" y="758"/>
                    <a:pt x="352" y="762"/>
                    <a:pt x="352" y="766"/>
                  </a:cubicBezTo>
                  <a:cubicBezTo>
                    <a:pt x="352" y="768"/>
                    <a:pt x="353" y="770"/>
                    <a:pt x="353" y="771"/>
                  </a:cubicBezTo>
                  <a:cubicBezTo>
                    <a:pt x="353" y="771"/>
                    <a:pt x="353" y="772"/>
                    <a:pt x="353" y="772"/>
                  </a:cubicBezTo>
                  <a:cubicBezTo>
                    <a:pt x="352" y="777"/>
                    <a:pt x="353" y="783"/>
                    <a:pt x="353" y="789"/>
                  </a:cubicBezTo>
                  <a:cubicBezTo>
                    <a:pt x="354" y="795"/>
                    <a:pt x="354" y="800"/>
                    <a:pt x="354" y="806"/>
                  </a:cubicBezTo>
                  <a:cubicBezTo>
                    <a:pt x="353" y="809"/>
                    <a:pt x="353" y="812"/>
                    <a:pt x="352" y="815"/>
                  </a:cubicBezTo>
                  <a:cubicBezTo>
                    <a:pt x="356" y="815"/>
                    <a:pt x="356" y="815"/>
                    <a:pt x="356" y="815"/>
                  </a:cubicBezTo>
                  <a:cubicBezTo>
                    <a:pt x="357" y="810"/>
                    <a:pt x="357" y="805"/>
                    <a:pt x="357" y="800"/>
                  </a:cubicBezTo>
                  <a:cubicBezTo>
                    <a:pt x="357" y="791"/>
                    <a:pt x="357" y="782"/>
                    <a:pt x="356" y="774"/>
                  </a:cubicBezTo>
                  <a:cubicBezTo>
                    <a:pt x="358" y="775"/>
                    <a:pt x="362" y="775"/>
                    <a:pt x="366" y="773"/>
                  </a:cubicBezTo>
                  <a:cubicBezTo>
                    <a:pt x="373" y="770"/>
                    <a:pt x="385" y="768"/>
                    <a:pt x="389" y="760"/>
                  </a:cubicBezTo>
                  <a:cubicBezTo>
                    <a:pt x="393" y="752"/>
                    <a:pt x="394" y="744"/>
                    <a:pt x="392" y="735"/>
                  </a:cubicBezTo>
                  <a:cubicBezTo>
                    <a:pt x="392" y="735"/>
                    <a:pt x="393" y="735"/>
                    <a:pt x="393" y="735"/>
                  </a:cubicBezTo>
                  <a:cubicBezTo>
                    <a:pt x="393" y="735"/>
                    <a:pt x="394" y="734"/>
                    <a:pt x="393" y="734"/>
                  </a:cubicBezTo>
                  <a:cubicBezTo>
                    <a:pt x="392" y="731"/>
                    <a:pt x="391" y="729"/>
                    <a:pt x="390" y="726"/>
                  </a:cubicBezTo>
                  <a:cubicBezTo>
                    <a:pt x="391" y="727"/>
                    <a:pt x="393" y="728"/>
                    <a:pt x="394" y="729"/>
                  </a:cubicBezTo>
                  <a:cubicBezTo>
                    <a:pt x="397" y="730"/>
                    <a:pt x="399" y="731"/>
                    <a:pt x="402" y="732"/>
                  </a:cubicBezTo>
                  <a:cubicBezTo>
                    <a:pt x="398" y="732"/>
                    <a:pt x="396" y="739"/>
                    <a:pt x="397" y="743"/>
                  </a:cubicBezTo>
                  <a:cubicBezTo>
                    <a:pt x="397" y="743"/>
                    <a:pt x="398" y="743"/>
                    <a:pt x="398" y="743"/>
                  </a:cubicBezTo>
                  <a:cubicBezTo>
                    <a:pt x="399" y="740"/>
                    <a:pt x="400" y="732"/>
                    <a:pt x="404" y="733"/>
                  </a:cubicBezTo>
                  <a:cubicBezTo>
                    <a:pt x="405" y="733"/>
                    <a:pt x="405" y="732"/>
                    <a:pt x="405" y="732"/>
                  </a:cubicBezTo>
                  <a:cubicBezTo>
                    <a:pt x="411" y="732"/>
                    <a:pt x="417" y="731"/>
                    <a:pt x="421" y="726"/>
                  </a:cubicBezTo>
                  <a:cubicBezTo>
                    <a:pt x="420" y="728"/>
                    <a:pt x="421" y="730"/>
                    <a:pt x="421" y="732"/>
                  </a:cubicBezTo>
                  <a:cubicBezTo>
                    <a:pt x="427" y="752"/>
                    <a:pt x="465" y="751"/>
                    <a:pt x="469" y="732"/>
                  </a:cubicBezTo>
                  <a:cubicBezTo>
                    <a:pt x="469" y="732"/>
                    <a:pt x="470" y="731"/>
                    <a:pt x="470" y="731"/>
                  </a:cubicBezTo>
                  <a:cubicBezTo>
                    <a:pt x="469" y="734"/>
                    <a:pt x="468" y="736"/>
                    <a:pt x="467" y="738"/>
                  </a:cubicBezTo>
                  <a:cubicBezTo>
                    <a:pt x="463" y="745"/>
                    <a:pt x="455" y="749"/>
                    <a:pt x="447" y="750"/>
                  </a:cubicBezTo>
                  <a:cubicBezTo>
                    <a:pt x="439" y="751"/>
                    <a:pt x="431" y="750"/>
                    <a:pt x="425" y="746"/>
                  </a:cubicBezTo>
                  <a:cubicBezTo>
                    <a:pt x="419" y="743"/>
                    <a:pt x="415" y="738"/>
                    <a:pt x="411" y="732"/>
                  </a:cubicBezTo>
                  <a:cubicBezTo>
                    <a:pt x="411" y="732"/>
                    <a:pt x="410" y="732"/>
                    <a:pt x="410" y="733"/>
                  </a:cubicBezTo>
                  <a:cubicBezTo>
                    <a:pt x="412" y="749"/>
                    <a:pt x="433" y="756"/>
                    <a:pt x="447" y="753"/>
                  </a:cubicBezTo>
                  <a:cubicBezTo>
                    <a:pt x="453" y="752"/>
                    <a:pt x="459" y="751"/>
                    <a:pt x="463" y="748"/>
                  </a:cubicBezTo>
                  <a:cubicBezTo>
                    <a:pt x="461" y="759"/>
                    <a:pt x="460" y="772"/>
                    <a:pt x="458" y="784"/>
                  </a:cubicBezTo>
                  <a:cubicBezTo>
                    <a:pt x="456" y="793"/>
                    <a:pt x="454" y="803"/>
                    <a:pt x="454" y="812"/>
                  </a:cubicBezTo>
                  <a:cubicBezTo>
                    <a:pt x="454" y="813"/>
                    <a:pt x="454" y="813"/>
                    <a:pt x="454" y="813"/>
                  </a:cubicBezTo>
                  <a:cubicBezTo>
                    <a:pt x="453" y="805"/>
                    <a:pt x="453" y="798"/>
                    <a:pt x="455" y="791"/>
                  </a:cubicBezTo>
                  <a:cubicBezTo>
                    <a:pt x="455" y="790"/>
                    <a:pt x="454" y="790"/>
                    <a:pt x="454" y="790"/>
                  </a:cubicBezTo>
                  <a:cubicBezTo>
                    <a:pt x="450" y="797"/>
                    <a:pt x="450" y="806"/>
                    <a:pt x="451" y="814"/>
                  </a:cubicBezTo>
                  <a:cubicBezTo>
                    <a:pt x="451" y="814"/>
                    <a:pt x="451" y="815"/>
                    <a:pt x="451" y="815"/>
                  </a:cubicBezTo>
                  <a:cubicBezTo>
                    <a:pt x="459" y="815"/>
                    <a:pt x="459" y="815"/>
                    <a:pt x="459" y="815"/>
                  </a:cubicBezTo>
                  <a:cubicBezTo>
                    <a:pt x="476" y="808"/>
                    <a:pt x="492" y="798"/>
                    <a:pt x="507" y="788"/>
                  </a:cubicBezTo>
                  <a:cubicBezTo>
                    <a:pt x="525" y="776"/>
                    <a:pt x="543" y="763"/>
                    <a:pt x="561" y="752"/>
                  </a:cubicBezTo>
                  <a:cubicBezTo>
                    <a:pt x="579" y="740"/>
                    <a:pt x="597" y="727"/>
                    <a:pt x="616" y="716"/>
                  </a:cubicBezTo>
                  <a:cubicBezTo>
                    <a:pt x="631" y="707"/>
                    <a:pt x="645" y="697"/>
                    <a:pt x="658" y="686"/>
                  </a:cubicBezTo>
                  <a:cubicBezTo>
                    <a:pt x="653" y="695"/>
                    <a:pt x="653" y="705"/>
                    <a:pt x="660" y="713"/>
                  </a:cubicBezTo>
                  <a:cubicBezTo>
                    <a:pt x="662" y="716"/>
                    <a:pt x="665" y="718"/>
                    <a:pt x="668" y="720"/>
                  </a:cubicBezTo>
                  <a:cubicBezTo>
                    <a:pt x="664" y="721"/>
                    <a:pt x="661" y="724"/>
                    <a:pt x="658" y="726"/>
                  </a:cubicBezTo>
                  <a:cubicBezTo>
                    <a:pt x="651" y="731"/>
                    <a:pt x="645" y="736"/>
                    <a:pt x="638" y="741"/>
                  </a:cubicBezTo>
                  <a:cubicBezTo>
                    <a:pt x="628" y="749"/>
                    <a:pt x="617" y="756"/>
                    <a:pt x="606" y="762"/>
                  </a:cubicBezTo>
                  <a:cubicBezTo>
                    <a:pt x="596" y="767"/>
                    <a:pt x="586" y="774"/>
                    <a:pt x="577" y="781"/>
                  </a:cubicBezTo>
                  <a:cubicBezTo>
                    <a:pt x="560" y="794"/>
                    <a:pt x="541" y="804"/>
                    <a:pt x="523" y="815"/>
                  </a:cubicBezTo>
                  <a:cubicBezTo>
                    <a:pt x="530" y="815"/>
                    <a:pt x="530" y="815"/>
                    <a:pt x="530" y="815"/>
                  </a:cubicBezTo>
                  <a:cubicBezTo>
                    <a:pt x="546" y="805"/>
                    <a:pt x="563" y="795"/>
                    <a:pt x="578" y="784"/>
                  </a:cubicBezTo>
                  <a:cubicBezTo>
                    <a:pt x="597" y="771"/>
                    <a:pt x="617" y="760"/>
                    <a:pt x="636" y="747"/>
                  </a:cubicBezTo>
                  <a:cubicBezTo>
                    <a:pt x="643" y="742"/>
                    <a:pt x="649" y="738"/>
                    <a:pt x="656" y="732"/>
                  </a:cubicBezTo>
                  <a:cubicBezTo>
                    <a:pt x="660" y="729"/>
                    <a:pt x="666" y="721"/>
                    <a:pt x="672" y="721"/>
                  </a:cubicBezTo>
                  <a:cubicBezTo>
                    <a:pt x="676" y="721"/>
                    <a:pt x="680" y="721"/>
                    <a:pt x="684" y="720"/>
                  </a:cubicBezTo>
                  <a:cubicBezTo>
                    <a:pt x="689" y="718"/>
                    <a:pt x="693" y="716"/>
                    <a:pt x="698" y="714"/>
                  </a:cubicBezTo>
                  <a:cubicBezTo>
                    <a:pt x="702" y="713"/>
                    <a:pt x="706" y="713"/>
                    <a:pt x="710" y="712"/>
                  </a:cubicBezTo>
                  <a:cubicBezTo>
                    <a:pt x="712" y="713"/>
                    <a:pt x="715" y="714"/>
                    <a:pt x="719" y="714"/>
                  </a:cubicBezTo>
                  <a:cubicBezTo>
                    <a:pt x="727" y="715"/>
                    <a:pt x="736" y="713"/>
                    <a:pt x="741" y="706"/>
                  </a:cubicBezTo>
                  <a:cubicBezTo>
                    <a:pt x="744" y="702"/>
                    <a:pt x="747" y="698"/>
                    <a:pt x="747" y="693"/>
                  </a:cubicBezTo>
                  <a:cubicBezTo>
                    <a:pt x="747" y="692"/>
                    <a:pt x="748" y="691"/>
                    <a:pt x="748" y="690"/>
                  </a:cubicBezTo>
                  <a:cubicBezTo>
                    <a:pt x="751" y="688"/>
                    <a:pt x="754" y="686"/>
                    <a:pt x="757" y="683"/>
                  </a:cubicBezTo>
                  <a:cubicBezTo>
                    <a:pt x="769" y="675"/>
                    <a:pt x="780" y="665"/>
                    <a:pt x="792" y="656"/>
                  </a:cubicBezTo>
                  <a:cubicBezTo>
                    <a:pt x="802" y="647"/>
                    <a:pt x="813" y="639"/>
                    <a:pt x="821" y="628"/>
                  </a:cubicBezTo>
                  <a:cubicBezTo>
                    <a:pt x="821" y="628"/>
                    <a:pt x="821" y="628"/>
                    <a:pt x="821" y="629"/>
                  </a:cubicBezTo>
                  <a:cubicBezTo>
                    <a:pt x="822" y="644"/>
                    <a:pt x="825" y="659"/>
                    <a:pt x="830" y="673"/>
                  </a:cubicBezTo>
                  <a:cubicBezTo>
                    <a:pt x="833" y="681"/>
                    <a:pt x="836" y="688"/>
                    <a:pt x="840" y="695"/>
                  </a:cubicBezTo>
                  <a:cubicBezTo>
                    <a:pt x="843" y="702"/>
                    <a:pt x="846" y="709"/>
                    <a:pt x="850" y="715"/>
                  </a:cubicBezTo>
                  <a:cubicBezTo>
                    <a:pt x="858" y="725"/>
                    <a:pt x="868" y="734"/>
                    <a:pt x="881" y="735"/>
                  </a:cubicBezTo>
                  <a:cubicBezTo>
                    <a:pt x="888" y="736"/>
                    <a:pt x="895" y="735"/>
                    <a:pt x="902" y="735"/>
                  </a:cubicBezTo>
                  <a:cubicBezTo>
                    <a:pt x="910" y="735"/>
                    <a:pt x="917" y="735"/>
                    <a:pt x="924" y="734"/>
                  </a:cubicBezTo>
                  <a:cubicBezTo>
                    <a:pt x="932" y="733"/>
                    <a:pt x="940" y="732"/>
                    <a:pt x="948" y="729"/>
                  </a:cubicBezTo>
                  <a:cubicBezTo>
                    <a:pt x="953" y="727"/>
                    <a:pt x="960" y="725"/>
                    <a:pt x="965" y="721"/>
                  </a:cubicBezTo>
                  <a:cubicBezTo>
                    <a:pt x="973" y="712"/>
                    <a:pt x="980" y="697"/>
                    <a:pt x="980" y="684"/>
                  </a:cubicBezTo>
                  <a:cubicBezTo>
                    <a:pt x="980" y="670"/>
                    <a:pt x="973" y="658"/>
                    <a:pt x="967" y="646"/>
                  </a:cubicBezTo>
                  <a:cubicBezTo>
                    <a:pt x="960" y="631"/>
                    <a:pt x="953" y="616"/>
                    <a:pt x="943" y="603"/>
                  </a:cubicBezTo>
                  <a:cubicBezTo>
                    <a:pt x="940" y="599"/>
                    <a:pt x="936" y="593"/>
                    <a:pt x="931" y="588"/>
                  </a:cubicBezTo>
                  <a:cubicBezTo>
                    <a:pt x="935" y="588"/>
                    <a:pt x="939" y="588"/>
                    <a:pt x="942" y="588"/>
                  </a:cubicBezTo>
                  <a:cubicBezTo>
                    <a:pt x="943" y="589"/>
                    <a:pt x="943" y="589"/>
                    <a:pt x="944" y="589"/>
                  </a:cubicBezTo>
                  <a:cubicBezTo>
                    <a:pt x="947" y="588"/>
                    <a:pt x="954" y="592"/>
                    <a:pt x="957" y="593"/>
                  </a:cubicBezTo>
                  <a:cubicBezTo>
                    <a:pt x="961" y="594"/>
                    <a:pt x="966" y="596"/>
                    <a:pt x="970" y="598"/>
                  </a:cubicBezTo>
                  <a:cubicBezTo>
                    <a:pt x="977" y="600"/>
                    <a:pt x="984" y="600"/>
                    <a:pt x="991" y="600"/>
                  </a:cubicBezTo>
                  <a:cubicBezTo>
                    <a:pt x="997" y="601"/>
                    <a:pt x="1003" y="601"/>
                    <a:pt x="1009" y="600"/>
                  </a:cubicBezTo>
                  <a:cubicBezTo>
                    <a:pt x="1023" y="598"/>
                    <a:pt x="1036" y="595"/>
                    <a:pt x="1050" y="593"/>
                  </a:cubicBezTo>
                  <a:cubicBezTo>
                    <a:pt x="1057" y="592"/>
                    <a:pt x="1064" y="590"/>
                    <a:pt x="1071" y="589"/>
                  </a:cubicBezTo>
                  <a:cubicBezTo>
                    <a:pt x="1078" y="589"/>
                    <a:pt x="1084" y="588"/>
                    <a:pt x="1091" y="588"/>
                  </a:cubicBezTo>
                  <a:cubicBezTo>
                    <a:pt x="1098" y="587"/>
                    <a:pt x="1105" y="585"/>
                    <a:pt x="1112" y="582"/>
                  </a:cubicBezTo>
                  <a:cubicBezTo>
                    <a:pt x="1119" y="579"/>
                    <a:pt x="1127" y="576"/>
                    <a:pt x="1135" y="574"/>
                  </a:cubicBezTo>
                  <a:cubicBezTo>
                    <a:pt x="1143" y="571"/>
                    <a:pt x="1155" y="567"/>
                    <a:pt x="1159" y="560"/>
                  </a:cubicBezTo>
                  <a:cubicBezTo>
                    <a:pt x="1161" y="558"/>
                    <a:pt x="1162" y="554"/>
                    <a:pt x="1160" y="552"/>
                  </a:cubicBezTo>
                  <a:close/>
                  <a:moveTo>
                    <a:pt x="1016" y="424"/>
                  </a:moveTo>
                  <a:cubicBezTo>
                    <a:pt x="1028" y="421"/>
                    <a:pt x="1041" y="418"/>
                    <a:pt x="1054" y="415"/>
                  </a:cubicBezTo>
                  <a:cubicBezTo>
                    <a:pt x="1065" y="413"/>
                    <a:pt x="1078" y="410"/>
                    <a:pt x="1090" y="412"/>
                  </a:cubicBezTo>
                  <a:cubicBezTo>
                    <a:pt x="1103" y="414"/>
                    <a:pt x="1115" y="423"/>
                    <a:pt x="1117" y="436"/>
                  </a:cubicBezTo>
                  <a:cubicBezTo>
                    <a:pt x="1118" y="439"/>
                    <a:pt x="1117" y="445"/>
                    <a:pt x="1120" y="447"/>
                  </a:cubicBezTo>
                  <a:cubicBezTo>
                    <a:pt x="1125" y="449"/>
                    <a:pt x="1129" y="449"/>
                    <a:pt x="1132" y="454"/>
                  </a:cubicBezTo>
                  <a:cubicBezTo>
                    <a:pt x="1137" y="464"/>
                    <a:pt x="1134" y="477"/>
                    <a:pt x="1129" y="486"/>
                  </a:cubicBezTo>
                  <a:cubicBezTo>
                    <a:pt x="1123" y="498"/>
                    <a:pt x="1116" y="510"/>
                    <a:pt x="1108" y="519"/>
                  </a:cubicBezTo>
                  <a:cubicBezTo>
                    <a:pt x="1103" y="524"/>
                    <a:pt x="1099" y="528"/>
                    <a:pt x="1095" y="533"/>
                  </a:cubicBezTo>
                  <a:cubicBezTo>
                    <a:pt x="1092" y="536"/>
                    <a:pt x="1089" y="540"/>
                    <a:pt x="1084" y="541"/>
                  </a:cubicBezTo>
                  <a:cubicBezTo>
                    <a:pt x="1084" y="541"/>
                    <a:pt x="1084" y="541"/>
                    <a:pt x="1084" y="541"/>
                  </a:cubicBezTo>
                  <a:cubicBezTo>
                    <a:pt x="1078" y="541"/>
                    <a:pt x="1072" y="542"/>
                    <a:pt x="1066" y="542"/>
                  </a:cubicBezTo>
                  <a:cubicBezTo>
                    <a:pt x="1049" y="544"/>
                    <a:pt x="1033" y="545"/>
                    <a:pt x="1016" y="545"/>
                  </a:cubicBezTo>
                  <a:cubicBezTo>
                    <a:pt x="1007" y="545"/>
                    <a:pt x="998" y="545"/>
                    <a:pt x="989" y="545"/>
                  </a:cubicBezTo>
                  <a:cubicBezTo>
                    <a:pt x="991" y="544"/>
                    <a:pt x="992" y="544"/>
                    <a:pt x="994" y="544"/>
                  </a:cubicBezTo>
                  <a:cubicBezTo>
                    <a:pt x="996" y="544"/>
                    <a:pt x="999" y="544"/>
                    <a:pt x="1002" y="544"/>
                  </a:cubicBezTo>
                  <a:cubicBezTo>
                    <a:pt x="1001" y="544"/>
                    <a:pt x="1001" y="544"/>
                    <a:pt x="1001" y="544"/>
                  </a:cubicBezTo>
                  <a:cubicBezTo>
                    <a:pt x="1001" y="544"/>
                    <a:pt x="1001" y="545"/>
                    <a:pt x="1001" y="545"/>
                  </a:cubicBezTo>
                  <a:cubicBezTo>
                    <a:pt x="1005" y="545"/>
                    <a:pt x="1008" y="544"/>
                    <a:pt x="1012" y="544"/>
                  </a:cubicBezTo>
                  <a:cubicBezTo>
                    <a:pt x="1013" y="544"/>
                    <a:pt x="1014" y="544"/>
                    <a:pt x="1015" y="544"/>
                  </a:cubicBezTo>
                  <a:cubicBezTo>
                    <a:pt x="1021" y="544"/>
                    <a:pt x="1027" y="544"/>
                    <a:pt x="1033" y="543"/>
                  </a:cubicBezTo>
                  <a:cubicBezTo>
                    <a:pt x="1040" y="541"/>
                    <a:pt x="1045" y="539"/>
                    <a:pt x="1051" y="537"/>
                  </a:cubicBezTo>
                  <a:cubicBezTo>
                    <a:pt x="1052" y="537"/>
                    <a:pt x="1051" y="536"/>
                    <a:pt x="1051" y="536"/>
                  </a:cubicBezTo>
                  <a:cubicBezTo>
                    <a:pt x="1045" y="538"/>
                    <a:pt x="1038" y="540"/>
                    <a:pt x="1031" y="541"/>
                  </a:cubicBezTo>
                  <a:cubicBezTo>
                    <a:pt x="1030" y="541"/>
                    <a:pt x="1028" y="541"/>
                    <a:pt x="1026" y="541"/>
                  </a:cubicBezTo>
                  <a:cubicBezTo>
                    <a:pt x="1033" y="540"/>
                    <a:pt x="1038" y="537"/>
                    <a:pt x="1044" y="536"/>
                  </a:cubicBezTo>
                  <a:cubicBezTo>
                    <a:pt x="1045" y="535"/>
                    <a:pt x="1045" y="535"/>
                    <a:pt x="1044" y="535"/>
                  </a:cubicBezTo>
                  <a:cubicBezTo>
                    <a:pt x="1037" y="536"/>
                    <a:pt x="1029" y="539"/>
                    <a:pt x="1022" y="540"/>
                  </a:cubicBezTo>
                  <a:cubicBezTo>
                    <a:pt x="1018" y="541"/>
                    <a:pt x="1015" y="541"/>
                    <a:pt x="1011" y="541"/>
                  </a:cubicBezTo>
                  <a:cubicBezTo>
                    <a:pt x="1011" y="541"/>
                    <a:pt x="1010" y="541"/>
                    <a:pt x="1010" y="541"/>
                  </a:cubicBezTo>
                  <a:cubicBezTo>
                    <a:pt x="1007" y="541"/>
                    <a:pt x="1003" y="541"/>
                    <a:pt x="1000" y="541"/>
                  </a:cubicBezTo>
                  <a:cubicBezTo>
                    <a:pt x="1007" y="539"/>
                    <a:pt x="1014" y="536"/>
                    <a:pt x="1020" y="534"/>
                  </a:cubicBezTo>
                  <a:cubicBezTo>
                    <a:pt x="1021" y="534"/>
                    <a:pt x="1020" y="533"/>
                    <a:pt x="1020" y="533"/>
                  </a:cubicBezTo>
                  <a:cubicBezTo>
                    <a:pt x="1008" y="537"/>
                    <a:pt x="996" y="540"/>
                    <a:pt x="984" y="543"/>
                  </a:cubicBezTo>
                  <a:cubicBezTo>
                    <a:pt x="984" y="543"/>
                    <a:pt x="984" y="543"/>
                    <a:pt x="984" y="543"/>
                  </a:cubicBezTo>
                  <a:cubicBezTo>
                    <a:pt x="982" y="543"/>
                    <a:pt x="981" y="543"/>
                    <a:pt x="979" y="544"/>
                  </a:cubicBezTo>
                  <a:cubicBezTo>
                    <a:pt x="978" y="544"/>
                    <a:pt x="977" y="544"/>
                    <a:pt x="977" y="544"/>
                  </a:cubicBezTo>
                  <a:cubicBezTo>
                    <a:pt x="981" y="542"/>
                    <a:pt x="985" y="539"/>
                    <a:pt x="989" y="537"/>
                  </a:cubicBezTo>
                  <a:cubicBezTo>
                    <a:pt x="996" y="533"/>
                    <a:pt x="1004" y="529"/>
                    <a:pt x="1012" y="527"/>
                  </a:cubicBezTo>
                  <a:cubicBezTo>
                    <a:pt x="1012" y="527"/>
                    <a:pt x="1012" y="526"/>
                    <a:pt x="1012" y="526"/>
                  </a:cubicBezTo>
                  <a:cubicBezTo>
                    <a:pt x="1003" y="528"/>
                    <a:pt x="997" y="531"/>
                    <a:pt x="989" y="535"/>
                  </a:cubicBezTo>
                  <a:cubicBezTo>
                    <a:pt x="985" y="536"/>
                    <a:pt x="982" y="538"/>
                    <a:pt x="978" y="540"/>
                  </a:cubicBezTo>
                  <a:cubicBezTo>
                    <a:pt x="976" y="541"/>
                    <a:pt x="973" y="542"/>
                    <a:pt x="971" y="543"/>
                  </a:cubicBezTo>
                  <a:cubicBezTo>
                    <a:pt x="970" y="543"/>
                    <a:pt x="969" y="543"/>
                    <a:pt x="968" y="543"/>
                  </a:cubicBezTo>
                  <a:cubicBezTo>
                    <a:pt x="962" y="542"/>
                    <a:pt x="955" y="541"/>
                    <a:pt x="950" y="544"/>
                  </a:cubicBezTo>
                  <a:cubicBezTo>
                    <a:pt x="946" y="546"/>
                    <a:pt x="943" y="548"/>
                    <a:pt x="941" y="552"/>
                  </a:cubicBezTo>
                  <a:cubicBezTo>
                    <a:pt x="938" y="550"/>
                    <a:pt x="933" y="551"/>
                    <a:pt x="930" y="551"/>
                  </a:cubicBezTo>
                  <a:cubicBezTo>
                    <a:pt x="929" y="551"/>
                    <a:pt x="928" y="551"/>
                    <a:pt x="927" y="551"/>
                  </a:cubicBezTo>
                  <a:cubicBezTo>
                    <a:pt x="937" y="549"/>
                    <a:pt x="947" y="544"/>
                    <a:pt x="956" y="541"/>
                  </a:cubicBezTo>
                  <a:cubicBezTo>
                    <a:pt x="964" y="538"/>
                    <a:pt x="971" y="535"/>
                    <a:pt x="978" y="532"/>
                  </a:cubicBezTo>
                  <a:cubicBezTo>
                    <a:pt x="985" y="528"/>
                    <a:pt x="993" y="524"/>
                    <a:pt x="1001" y="521"/>
                  </a:cubicBezTo>
                  <a:cubicBezTo>
                    <a:pt x="1001" y="520"/>
                    <a:pt x="1001" y="519"/>
                    <a:pt x="1000" y="520"/>
                  </a:cubicBezTo>
                  <a:cubicBezTo>
                    <a:pt x="992" y="523"/>
                    <a:pt x="985" y="527"/>
                    <a:pt x="977" y="530"/>
                  </a:cubicBezTo>
                  <a:cubicBezTo>
                    <a:pt x="970" y="533"/>
                    <a:pt x="963" y="535"/>
                    <a:pt x="955" y="538"/>
                  </a:cubicBezTo>
                  <a:cubicBezTo>
                    <a:pt x="942" y="543"/>
                    <a:pt x="928" y="548"/>
                    <a:pt x="914" y="549"/>
                  </a:cubicBezTo>
                  <a:cubicBezTo>
                    <a:pt x="913" y="549"/>
                    <a:pt x="913" y="550"/>
                    <a:pt x="912" y="550"/>
                  </a:cubicBezTo>
                  <a:cubicBezTo>
                    <a:pt x="912" y="550"/>
                    <a:pt x="911" y="550"/>
                    <a:pt x="911" y="550"/>
                  </a:cubicBezTo>
                  <a:cubicBezTo>
                    <a:pt x="909" y="550"/>
                    <a:pt x="907" y="550"/>
                    <a:pt x="905" y="550"/>
                  </a:cubicBezTo>
                  <a:cubicBezTo>
                    <a:pt x="905" y="550"/>
                    <a:pt x="906" y="549"/>
                    <a:pt x="906" y="549"/>
                  </a:cubicBezTo>
                  <a:cubicBezTo>
                    <a:pt x="906" y="549"/>
                    <a:pt x="907" y="549"/>
                    <a:pt x="907" y="549"/>
                  </a:cubicBezTo>
                  <a:cubicBezTo>
                    <a:pt x="911" y="549"/>
                    <a:pt x="915" y="547"/>
                    <a:pt x="919" y="545"/>
                  </a:cubicBezTo>
                  <a:cubicBezTo>
                    <a:pt x="924" y="543"/>
                    <a:pt x="929" y="540"/>
                    <a:pt x="934" y="538"/>
                  </a:cubicBezTo>
                  <a:cubicBezTo>
                    <a:pt x="944" y="532"/>
                    <a:pt x="954" y="526"/>
                    <a:pt x="965" y="523"/>
                  </a:cubicBezTo>
                  <a:cubicBezTo>
                    <a:pt x="966" y="522"/>
                    <a:pt x="966" y="521"/>
                    <a:pt x="965" y="521"/>
                  </a:cubicBezTo>
                  <a:cubicBezTo>
                    <a:pt x="954" y="525"/>
                    <a:pt x="944" y="529"/>
                    <a:pt x="934" y="534"/>
                  </a:cubicBezTo>
                  <a:cubicBezTo>
                    <a:pt x="929" y="536"/>
                    <a:pt x="924" y="539"/>
                    <a:pt x="919" y="541"/>
                  </a:cubicBezTo>
                  <a:cubicBezTo>
                    <a:pt x="916" y="543"/>
                    <a:pt x="912" y="544"/>
                    <a:pt x="909" y="545"/>
                  </a:cubicBezTo>
                  <a:cubicBezTo>
                    <a:pt x="910" y="545"/>
                    <a:pt x="910" y="544"/>
                    <a:pt x="910" y="544"/>
                  </a:cubicBezTo>
                  <a:cubicBezTo>
                    <a:pt x="911" y="543"/>
                    <a:pt x="912" y="543"/>
                    <a:pt x="913" y="542"/>
                  </a:cubicBezTo>
                  <a:cubicBezTo>
                    <a:pt x="916" y="541"/>
                    <a:pt x="919" y="539"/>
                    <a:pt x="921" y="538"/>
                  </a:cubicBezTo>
                  <a:cubicBezTo>
                    <a:pt x="928" y="534"/>
                    <a:pt x="934" y="529"/>
                    <a:pt x="940" y="525"/>
                  </a:cubicBezTo>
                  <a:cubicBezTo>
                    <a:pt x="947" y="521"/>
                    <a:pt x="954" y="517"/>
                    <a:pt x="960" y="513"/>
                  </a:cubicBezTo>
                  <a:cubicBezTo>
                    <a:pt x="967" y="508"/>
                    <a:pt x="974" y="504"/>
                    <a:pt x="980" y="500"/>
                  </a:cubicBezTo>
                  <a:cubicBezTo>
                    <a:pt x="981" y="500"/>
                    <a:pt x="980" y="500"/>
                    <a:pt x="980" y="500"/>
                  </a:cubicBezTo>
                  <a:cubicBezTo>
                    <a:pt x="964" y="508"/>
                    <a:pt x="950" y="518"/>
                    <a:pt x="934" y="527"/>
                  </a:cubicBezTo>
                  <a:cubicBezTo>
                    <a:pt x="928" y="531"/>
                    <a:pt x="923" y="534"/>
                    <a:pt x="917" y="537"/>
                  </a:cubicBezTo>
                  <a:cubicBezTo>
                    <a:pt x="918" y="535"/>
                    <a:pt x="920" y="534"/>
                    <a:pt x="921" y="532"/>
                  </a:cubicBezTo>
                  <a:cubicBezTo>
                    <a:pt x="921" y="532"/>
                    <a:pt x="921" y="532"/>
                    <a:pt x="921" y="532"/>
                  </a:cubicBezTo>
                  <a:cubicBezTo>
                    <a:pt x="926" y="532"/>
                    <a:pt x="930" y="529"/>
                    <a:pt x="934" y="526"/>
                  </a:cubicBezTo>
                  <a:cubicBezTo>
                    <a:pt x="939" y="523"/>
                    <a:pt x="943" y="520"/>
                    <a:pt x="948" y="517"/>
                  </a:cubicBezTo>
                  <a:cubicBezTo>
                    <a:pt x="957" y="510"/>
                    <a:pt x="965" y="503"/>
                    <a:pt x="972" y="495"/>
                  </a:cubicBezTo>
                  <a:cubicBezTo>
                    <a:pt x="973" y="494"/>
                    <a:pt x="972" y="494"/>
                    <a:pt x="972" y="494"/>
                  </a:cubicBezTo>
                  <a:cubicBezTo>
                    <a:pt x="964" y="503"/>
                    <a:pt x="955" y="510"/>
                    <a:pt x="945" y="516"/>
                  </a:cubicBezTo>
                  <a:cubicBezTo>
                    <a:pt x="940" y="519"/>
                    <a:pt x="936" y="522"/>
                    <a:pt x="931" y="524"/>
                  </a:cubicBezTo>
                  <a:cubicBezTo>
                    <a:pt x="930" y="525"/>
                    <a:pt x="929" y="525"/>
                    <a:pt x="928" y="526"/>
                  </a:cubicBezTo>
                  <a:cubicBezTo>
                    <a:pt x="928" y="526"/>
                    <a:pt x="928" y="526"/>
                    <a:pt x="928" y="525"/>
                  </a:cubicBezTo>
                  <a:cubicBezTo>
                    <a:pt x="928" y="525"/>
                    <a:pt x="928" y="525"/>
                    <a:pt x="928" y="525"/>
                  </a:cubicBezTo>
                  <a:cubicBezTo>
                    <a:pt x="934" y="521"/>
                    <a:pt x="939" y="517"/>
                    <a:pt x="945" y="513"/>
                  </a:cubicBezTo>
                  <a:cubicBezTo>
                    <a:pt x="950" y="510"/>
                    <a:pt x="953" y="508"/>
                    <a:pt x="957" y="502"/>
                  </a:cubicBezTo>
                  <a:cubicBezTo>
                    <a:pt x="957" y="502"/>
                    <a:pt x="957" y="502"/>
                    <a:pt x="957" y="502"/>
                  </a:cubicBezTo>
                  <a:cubicBezTo>
                    <a:pt x="960" y="499"/>
                    <a:pt x="963" y="496"/>
                    <a:pt x="965" y="494"/>
                  </a:cubicBezTo>
                  <a:cubicBezTo>
                    <a:pt x="974" y="485"/>
                    <a:pt x="983" y="476"/>
                    <a:pt x="994" y="469"/>
                  </a:cubicBezTo>
                  <a:cubicBezTo>
                    <a:pt x="994" y="469"/>
                    <a:pt x="994" y="468"/>
                    <a:pt x="993" y="469"/>
                  </a:cubicBezTo>
                  <a:cubicBezTo>
                    <a:pt x="983" y="474"/>
                    <a:pt x="975" y="483"/>
                    <a:pt x="966" y="491"/>
                  </a:cubicBezTo>
                  <a:cubicBezTo>
                    <a:pt x="964" y="492"/>
                    <a:pt x="962" y="494"/>
                    <a:pt x="960" y="496"/>
                  </a:cubicBezTo>
                  <a:cubicBezTo>
                    <a:pt x="957" y="497"/>
                    <a:pt x="954" y="499"/>
                    <a:pt x="951" y="501"/>
                  </a:cubicBezTo>
                  <a:cubicBezTo>
                    <a:pt x="953" y="499"/>
                    <a:pt x="955" y="497"/>
                    <a:pt x="957" y="495"/>
                  </a:cubicBezTo>
                  <a:cubicBezTo>
                    <a:pt x="964" y="488"/>
                    <a:pt x="972" y="481"/>
                    <a:pt x="979" y="475"/>
                  </a:cubicBezTo>
                  <a:cubicBezTo>
                    <a:pt x="982" y="471"/>
                    <a:pt x="986" y="468"/>
                    <a:pt x="989" y="465"/>
                  </a:cubicBezTo>
                  <a:cubicBezTo>
                    <a:pt x="993" y="461"/>
                    <a:pt x="997" y="459"/>
                    <a:pt x="1001" y="457"/>
                  </a:cubicBezTo>
                  <a:cubicBezTo>
                    <a:pt x="1006" y="453"/>
                    <a:pt x="1012" y="448"/>
                    <a:pt x="1019" y="447"/>
                  </a:cubicBezTo>
                  <a:cubicBezTo>
                    <a:pt x="1019" y="447"/>
                    <a:pt x="1019" y="446"/>
                    <a:pt x="1019" y="446"/>
                  </a:cubicBezTo>
                  <a:cubicBezTo>
                    <a:pt x="1013" y="446"/>
                    <a:pt x="1008" y="449"/>
                    <a:pt x="1003" y="453"/>
                  </a:cubicBezTo>
                  <a:cubicBezTo>
                    <a:pt x="997" y="458"/>
                    <a:pt x="990" y="462"/>
                    <a:pt x="984" y="468"/>
                  </a:cubicBezTo>
                  <a:cubicBezTo>
                    <a:pt x="975" y="474"/>
                    <a:pt x="967" y="481"/>
                    <a:pt x="959" y="489"/>
                  </a:cubicBezTo>
                  <a:cubicBezTo>
                    <a:pt x="955" y="492"/>
                    <a:pt x="951" y="497"/>
                    <a:pt x="947" y="501"/>
                  </a:cubicBezTo>
                  <a:cubicBezTo>
                    <a:pt x="955" y="492"/>
                    <a:pt x="964" y="484"/>
                    <a:pt x="972" y="476"/>
                  </a:cubicBezTo>
                  <a:cubicBezTo>
                    <a:pt x="977" y="471"/>
                    <a:pt x="982" y="465"/>
                    <a:pt x="987" y="462"/>
                  </a:cubicBezTo>
                  <a:cubicBezTo>
                    <a:pt x="992" y="459"/>
                    <a:pt x="996" y="457"/>
                    <a:pt x="1000" y="452"/>
                  </a:cubicBezTo>
                  <a:cubicBezTo>
                    <a:pt x="1001" y="452"/>
                    <a:pt x="1000" y="451"/>
                    <a:pt x="999" y="451"/>
                  </a:cubicBezTo>
                  <a:cubicBezTo>
                    <a:pt x="990" y="461"/>
                    <a:pt x="978" y="467"/>
                    <a:pt x="969" y="476"/>
                  </a:cubicBezTo>
                  <a:cubicBezTo>
                    <a:pt x="962" y="483"/>
                    <a:pt x="954" y="489"/>
                    <a:pt x="948" y="496"/>
                  </a:cubicBezTo>
                  <a:cubicBezTo>
                    <a:pt x="949" y="494"/>
                    <a:pt x="950" y="492"/>
                    <a:pt x="951" y="490"/>
                  </a:cubicBezTo>
                  <a:cubicBezTo>
                    <a:pt x="952" y="491"/>
                    <a:pt x="952" y="491"/>
                    <a:pt x="953" y="491"/>
                  </a:cubicBezTo>
                  <a:cubicBezTo>
                    <a:pt x="958" y="487"/>
                    <a:pt x="962" y="481"/>
                    <a:pt x="966" y="476"/>
                  </a:cubicBezTo>
                  <a:cubicBezTo>
                    <a:pt x="970" y="471"/>
                    <a:pt x="974" y="467"/>
                    <a:pt x="979" y="463"/>
                  </a:cubicBezTo>
                  <a:cubicBezTo>
                    <a:pt x="988" y="454"/>
                    <a:pt x="999" y="447"/>
                    <a:pt x="1008" y="439"/>
                  </a:cubicBezTo>
                  <a:cubicBezTo>
                    <a:pt x="1009" y="439"/>
                    <a:pt x="1008" y="439"/>
                    <a:pt x="1008" y="439"/>
                  </a:cubicBezTo>
                  <a:cubicBezTo>
                    <a:pt x="996" y="444"/>
                    <a:pt x="987" y="453"/>
                    <a:pt x="977" y="461"/>
                  </a:cubicBezTo>
                  <a:cubicBezTo>
                    <a:pt x="972" y="466"/>
                    <a:pt x="968" y="471"/>
                    <a:pt x="963" y="475"/>
                  </a:cubicBezTo>
                  <a:cubicBezTo>
                    <a:pt x="961" y="478"/>
                    <a:pt x="959" y="480"/>
                    <a:pt x="957" y="482"/>
                  </a:cubicBezTo>
                  <a:cubicBezTo>
                    <a:pt x="965" y="470"/>
                    <a:pt x="972" y="457"/>
                    <a:pt x="976" y="443"/>
                  </a:cubicBezTo>
                  <a:cubicBezTo>
                    <a:pt x="977" y="441"/>
                    <a:pt x="977" y="439"/>
                    <a:pt x="978" y="438"/>
                  </a:cubicBezTo>
                  <a:cubicBezTo>
                    <a:pt x="978" y="438"/>
                    <a:pt x="979" y="437"/>
                    <a:pt x="979" y="437"/>
                  </a:cubicBezTo>
                  <a:cubicBezTo>
                    <a:pt x="990" y="431"/>
                    <a:pt x="1004" y="428"/>
                    <a:pt x="1016" y="424"/>
                  </a:cubicBezTo>
                  <a:close/>
                  <a:moveTo>
                    <a:pt x="893" y="481"/>
                  </a:moveTo>
                  <a:cubicBezTo>
                    <a:pt x="893" y="481"/>
                    <a:pt x="893" y="481"/>
                    <a:pt x="893" y="481"/>
                  </a:cubicBezTo>
                  <a:cubicBezTo>
                    <a:pt x="893" y="481"/>
                    <a:pt x="893" y="481"/>
                    <a:pt x="894" y="481"/>
                  </a:cubicBezTo>
                  <a:cubicBezTo>
                    <a:pt x="895" y="480"/>
                    <a:pt x="894" y="478"/>
                    <a:pt x="894" y="477"/>
                  </a:cubicBezTo>
                  <a:cubicBezTo>
                    <a:pt x="895" y="474"/>
                    <a:pt x="895" y="471"/>
                    <a:pt x="896" y="469"/>
                  </a:cubicBezTo>
                  <a:cubicBezTo>
                    <a:pt x="896" y="466"/>
                    <a:pt x="896" y="462"/>
                    <a:pt x="895" y="459"/>
                  </a:cubicBezTo>
                  <a:cubicBezTo>
                    <a:pt x="895" y="456"/>
                    <a:pt x="896" y="452"/>
                    <a:pt x="895" y="448"/>
                  </a:cubicBezTo>
                  <a:cubicBezTo>
                    <a:pt x="895" y="448"/>
                    <a:pt x="894" y="448"/>
                    <a:pt x="894" y="448"/>
                  </a:cubicBezTo>
                  <a:cubicBezTo>
                    <a:pt x="893" y="452"/>
                    <a:pt x="894" y="455"/>
                    <a:pt x="894" y="459"/>
                  </a:cubicBezTo>
                  <a:cubicBezTo>
                    <a:pt x="894" y="462"/>
                    <a:pt x="893" y="466"/>
                    <a:pt x="894" y="469"/>
                  </a:cubicBezTo>
                  <a:cubicBezTo>
                    <a:pt x="894" y="471"/>
                    <a:pt x="893" y="474"/>
                    <a:pt x="892" y="477"/>
                  </a:cubicBezTo>
                  <a:cubicBezTo>
                    <a:pt x="892" y="476"/>
                    <a:pt x="892" y="475"/>
                    <a:pt x="892" y="475"/>
                  </a:cubicBezTo>
                  <a:cubicBezTo>
                    <a:pt x="890" y="465"/>
                    <a:pt x="889" y="455"/>
                    <a:pt x="885" y="446"/>
                  </a:cubicBezTo>
                  <a:cubicBezTo>
                    <a:pt x="883" y="441"/>
                    <a:pt x="880" y="437"/>
                    <a:pt x="877" y="432"/>
                  </a:cubicBezTo>
                  <a:cubicBezTo>
                    <a:pt x="877" y="428"/>
                    <a:pt x="875" y="424"/>
                    <a:pt x="874" y="420"/>
                  </a:cubicBezTo>
                  <a:cubicBezTo>
                    <a:pt x="873" y="414"/>
                    <a:pt x="872" y="408"/>
                    <a:pt x="873" y="403"/>
                  </a:cubicBezTo>
                  <a:cubicBezTo>
                    <a:pt x="873" y="402"/>
                    <a:pt x="871" y="401"/>
                    <a:pt x="871" y="402"/>
                  </a:cubicBezTo>
                  <a:cubicBezTo>
                    <a:pt x="871" y="408"/>
                    <a:pt x="871" y="413"/>
                    <a:pt x="872" y="419"/>
                  </a:cubicBezTo>
                  <a:cubicBezTo>
                    <a:pt x="872" y="422"/>
                    <a:pt x="873" y="425"/>
                    <a:pt x="874" y="427"/>
                  </a:cubicBezTo>
                  <a:cubicBezTo>
                    <a:pt x="870" y="422"/>
                    <a:pt x="865" y="417"/>
                    <a:pt x="859" y="412"/>
                  </a:cubicBezTo>
                  <a:cubicBezTo>
                    <a:pt x="859" y="408"/>
                    <a:pt x="858" y="405"/>
                    <a:pt x="857" y="402"/>
                  </a:cubicBezTo>
                  <a:cubicBezTo>
                    <a:pt x="856" y="397"/>
                    <a:pt x="856" y="390"/>
                    <a:pt x="857" y="385"/>
                  </a:cubicBezTo>
                  <a:cubicBezTo>
                    <a:pt x="857" y="384"/>
                    <a:pt x="855" y="383"/>
                    <a:pt x="855" y="385"/>
                  </a:cubicBezTo>
                  <a:cubicBezTo>
                    <a:pt x="855" y="391"/>
                    <a:pt x="855" y="396"/>
                    <a:pt x="856" y="402"/>
                  </a:cubicBezTo>
                  <a:cubicBezTo>
                    <a:pt x="856" y="404"/>
                    <a:pt x="856" y="407"/>
                    <a:pt x="857" y="410"/>
                  </a:cubicBezTo>
                  <a:cubicBezTo>
                    <a:pt x="855" y="408"/>
                    <a:pt x="853" y="407"/>
                    <a:pt x="851" y="405"/>
                  </a:cubicBezTo>
                  <a:cubicBezTo>
                    <a:pt x="851" y="404"/>
                    <a:pt x="851" y="403"/>
                    <a:pt x="851" y="402"/>
                  </a:cubicBezTo>
                  <a:cubicBezTo>
                    <a:pt x="851" y="401"/>
                    <a:pt x="850" y="400"/>
                    <a:pt x="850" y="399"/>
                  </a:cubicBezTo>
                  <a:cubicBezTo>
                    <a:pt x="850" y="398"/>
                    <a:pt x="848" y="398"/>
                    <a:pt x="848" y="399"/>
                  </a:cubicBezTo>
                  <a:cubicBezTo>
                    <a:pt x="848" y="400"/>
                    <a:pt x="848" y="402"/>
                    <a:pt x="849" y="403"/>
                  </a:cubicBezTo>
                  <a:cubicBezTo>
                    <a:pt x="849" y="403"/>
                    <a:pt x="849" y="403"/>
                    <a:pt x="849" y="404"/>
                  </a:cubicBezTo>
                  <a:cubicBezTo>
                    <a:pt x="841" y="399"/>
                    <a:pt x="833" y="396"/>
                    <a:pt x="824" y="394"/>
                  </a:cubicBezTo>
                  <a:cubicBezTo>
                    <a:pt x="821" y="394"/>
                    <a:pt x="816" y="391"/>
                    <a:pt x="812" y="391"/>
                  </a:cubicBezTo>
                  <a:cubicBezTo>
                    <a:pt x="813" y="390"/>
                    <a:pt x="814" y="390"/>
                    <a:pt x="815" y="389"/>
                  </a:cubicBezTo>
                  <a:cubicBezTo>
                    <a:pt x="820" y="385"/>
                    <a:pt x="824" y="382"/>
                    <a:pt x="828" y="378"/>
                  </a:cubicBezTo>
                  <a:cubicBezTo>
                    <a:pt x="836" y="372"/>
                    <a:pt x="851" y="362"/>
                    <a:pt x="854" y="350"/>
                  </a:cubicBezTo>
                  <a:cubicBezTo>
                    <a:pt x="854" y="350"/>
                    <a:pt x="855" y="350"/>
                    <a:pt x="855" y="349"/>
                  </a:cubicBezTo>
                  <a:cubicBezTo>
                    <a:pt x="855" y="335"/>
                    <a:pt x="848" y="321"/>
                    <a:pt x="838" y="310"/>
                  </a:cubicBezTo>
                  <a:cubicBezTo>
                    <a:pt x="838" y="310"/>
                    <a:pt x="838" y="309"/>
                    <a:pt x="838" y="309"/>
                  </a:cubicBezTo>
                  <a:cubicBezTo>
                    <a:pt x="839" y="309"/>
                    <a:pt x="839" y="308"/>
                    <a:pt x="839" y="308"/>
                  </a:cubicBezTo>
                  <a:cubicBezTo>
                    <a:pt x="840" y="305"/>
                    <a:pt x="845" y="302"/>
                    <a:pt x="847" y="300"/>
                  </a:cubicBezTo>
                  <a:cubicBezTo>
                    <a:pt x="851" y="295"/>
                    <a:pt x="856" y="290"/>
                    <a:pt x="860" y="285"/>
                  </a:cubicBezTo>
                  <a:cubicBezTo>
                    <a:pt x="864" y="280"/>
                    <a:pt x="868" y="274"/>
                    <a:pt x="874" y="272"/>
                  </a:cubicBezTo>
                  <a:cubicBezTo>
                    <a:pt x="879" y="270"/>
                    <a:pt x="883" y="269"/>
                    <a:pt x="886" y="266"/>
                  </a:cubicBezTo>
                  <a:cubicBezTo>
                    <a:pt x="899" y="257"/>
                    <a:pt x="911" y="251"/>
                    <a:pt x="927" y="252"/>
                  </a:cubicBezTo>
                  <a:cubicBezTo>
                    <a:pt x="945" y="254"/>
                    <a:pt x="957" y="264"/>
                    <a:pt x="966" y="280"/>
                  </a:cubicBezTo>
                  <a:cubicBezTo>
                    <a:pt x="980" y="306"/>
                    <a:pt x="988" y="337"/>
                    <a:pt x="988" y="367"/>
                  </a:cubicBezTo>
                  <a:cubicBezTo>
                    <a:pt x="986" y="382"/>
                    <a:pt x="984" y="397"/>
                    <a:pt x="978" y="411"/>
                  </a:cubicBezTo>
                  <a:cubicBezTo>
                    <a:pt x="972" y="429"/>
                    <a:pt x="962" y="446"/>
                    <a:pt x="953" y="463"/>
                  </a:cubicBezTo>
                  <a:cubicBezTo>
                    <a:pt x="945" y="478"/>
                    <a:pt x="935" y="492"/>
                    <a:pt x="924" y="505"/>
                  </a:cubicBezTo>
                  <a:cubicBezTo>
                    <a:pt x="926" y="501"/>
                    <a:pt x="929" y="496"/>
                    <a:pt x="931" y="492"/>
                  </a:cubicBezTo>
                  <a:cubicBezTo>
                    <a:pt x="933" y="487"/>
                    <a:pt x="935" y="482"/>
                    <a:pt x="938" y="478"/>
                  </a:cubicBezTo>
                  <a:cubicBezTo>
                    <a:pt x="939" y="478"/>
                    <a:pt x="938" y="477"/>
                    <a:pt x="938" y="477"/>
                  </a:cubicBezTo>
                  <a:cubicBezTo>
                    <a:pt x="933" y="480"/>
                    <a:pt x="932" y="486"/>
                    <a:pt x="929" y="491"/>
                  </a:cubicBezTo>
                  <a:cubicBezTo>
                    <a:pt x="926" y="497"/>
                    <a:pt x="921" y="503"/>
                    <a:pt x="920" y="510"/>
                  </a:cubicBezTo>
                  <a:cubicBezTo>
                    <a:pt x="920" y="510"/>
                    <a:pt x="919" y="510"/>
                    <a:pt x="919" y="511"/>
                  </a:cubicBezTo>
                  <a:cubicBezTo>
                    <a:pt x="913" y="517"/>
                    <a:pt x="907" y="524"/>
                    <a:pt x="901" y="530"/>
                  </a:cubicBezTo>
                  <a:cubicBezTo>
                    <a:pt x="901" y="529"/>
                    <a:pt x="902" y="527"/>
                    <a:pt x="902" y="526"/>
                  </a:cubicBezTo>
                  <a:cubicBezTo>
                    <a:pt x="904" y="522"/>
                    <a:pt x="907" y="517"/>
                    <a:pt x="909" y="513"/>
                  </a:cubicBezTo>
                  <a:cubicBezTo>
                    <a:pt x="910" y="513"/>
                    <a:pt x="909" y="513"/>
                    <a:pt x="909" y="513"/>
                  </a:cubicBezTo>
                  <a:cubicBezTo>
                    <a:pt x="908" y="514"/>
                    <a:pt x="906" y="516"/>
                    <a:pt x="905" y="517"/>
                  </a:cubicBezTo>
                  <a:cubicBezTo>
                    <a:pt x="906" y="517"/>
                    <a:pt x="906" y="516"/>
                    <a:pt x="906" y="516"/>
                  </a:cubicBezTo>
                  <a:cubicBezTo>
                    <a:pt x="909" y="507"/>
                    <a:pt x="912" y="498"/>
                    <a:pt x="913" y="488"/>
                  </a:cubicBezTo>
                  <a:cubicBezTo>
                    <a:pt x="913" y="488"/>
                    <a:pt x="912" y="488"/>
                    <a:pt x="912" y="488"/>
                  </a:cubicBezTo>
                  <a:cubicBezTo>
                    <a:pt x="909" y="497"/>
                    <a:pt x="908" y="506"/>
                    <a:pt x="904" y="515"/>
                  </a:cubicBezTo>
                  <a:cubicBezTo>
                    <a:pt x="901" y="522"/>
                    <a:pt x="898" y="529"/>
                    <a:pt x="894" y="535"/>
                  </a:cubicBezTo>
                  <a:cubicBezTo>
                    <a:pt x="894" y="535"/>
                    <a:pt x="894" y="535"/>
                    <a:pt x="894" y="535"/>
                  </a:cubicBezTo>
                  <a:cubicBezTo>
                    <a:pt x="893" y="537"/>
                    <a:pt x="891" y="538"/>
                    <a:pt x="890" y="540"/>
                  </a:cubicBezTo>
                  <a:cubicBezTo>
                    <a:pt x="890" y="538"/>
                    <a:pt x="890" y="537"/>
                    <a:pt x="890" y="535"/>
                  </a:cubicBezTo>
                  <a:cubicBezTo>
                    <a:pt x="891" y="526"/>
                    <a:pt x="894" y="516"/>
                    <a:pt x="894" y="507"/>
                  </a:cubicBezTo>
                  <a:cubicBezTo>
                    <a:pt x="894" y="498"/>
                    <a:pt x="894" y="490"/>
                    <a:pt x="893" y="481"/>
                  </a:cubicBezTo>
                  <a:close/>
                  <a:moveTo>
                    <a:pt x="713" y="477"/>
                  </a:moveTo>
                  <a:cubicBezTo>
                    <a:pt x="712" y="474"/>
                    <a:pt x="712" y="471"/>
                    <a:pt x="711" y="468"/>
                  </a:cubicBezTo>
                  <a:cubicBezTo>
                    <a:pt x="710" y="459"/>
                    <a:pt x="714" y="450"/>
                    <a:pt x="715" y="441"/>
                  </a:cubicBezTo>
                  <a:cubicBezTo>
                    <a:pt x="716" y="435"/>
                    <a:pt x="717" y="429"/>
                    <a:pt x="721" y="424"/>
                  </a:cubicBezTo>
                  <a:cubicBezTo>
                    <a:pt x="724" y="421"/>
                    <a:pt x="728" y="418"/>
                    <a:pt x="731" y="416"/>
                  </a:cubicBezTo>
                  <a:cubicBezTo>
                    <a:pt x="735" y="415"/>
                    <a:pt x="739" y="414"/>
                    <a:pt x="742" y="414"/>
                  </a:cubicBezTo>
                  <a:cubicBezTo>
                    <a:pt x="740" y="414"/>
                    <a:pt x="738" y="415"/>
                    <a:pt x="737" y="416"/>
                  </a:cubicBezTo>
                  <a:cubicBezTo>
                    <a:pt x="733" y="418"/>
                    <a:pt x="729" y="421"/>
                    <a:pt x="726" y="424"/>
                  </a:cubicBezTo>
                  <a:cubicBezTo>
                    <a:pt x="720" y="433"/>
                    <a:pt x="716" y="443"/>
                    <a:pt x="714" y="454"/>
                  </a:cubicBezTo>
                  <a:cubicBezTo>
                    <a:pt x="713" y="461"/>
                    <a:pt x="712" y="469"/>
                    <a:pt x="713" y="477"/>
                  </a:cubicBezTo>
                  <a:close/>
                  <a:moveTo>
                    <a:pt x="712" y="421"/>
                  </a:moveTo>
                  <a:cubicBezTo>
                    <a:pt x="712" y="420"/>
                    <a:pt x="711" y="418"/>
                    <a:pt x="709" y="416"/>
                  </a:cubicBezTo>
                  <a:cubicBezTo>
                    <a:pt x="712" y="417"/>
                    <a:pt x="715" y="417"/>
                    <a:pt x="717" y="417"/>
                  </a:cubicBezTo>
                  <a:cubicBezTo>
                    <a:pt x="720" y="417"/>
                    <a:pt x="723" y="417"/>
                    <a:pt x="726" y="416"/>
                  </a:cubicBezTo>
                  <a:cubicBezTo>
                    <a:pt x="721" y="419"/>
                    <a:pt x="718" y="423"/>
                    <a:pt x="715" y="428"/>
                  </a:cubicBezTo>
                  <a:cubicBezTo>
                    <a:pt x="714" y="425"/>
                    <a:pt x="713" y="421"/>
                    <a:pt x="712" y="421"/>
                  </a:cubicBezTo>
                  <a:close/>
                  <a:moveTo>
                    <a:pt x="741" y="410"/>
                  </a:moveTo>
                  <a:cubicBezTo>
                    <a:pt x="728" y="413"/>
                    <a:pt x="715" y="413"/>
                    <a:pt x="702" y="412"/>
                  </a:cubicBezTo>
                  <a:cubicBezTo>
                    <a:pt x="695" y="411"/>
                    <a:pt x="689" y="411"/>
                    <a:pt x="682" y="410"/>
                  </a:cubicBezTo>
                  <a:cubicBezTo>
                    <a:pt x="676" y="409"/>
                    <a:pt x="670" y="409"/>
                    <a:pt x="664" y="407"/>
                  </a:cubicBezTo>
                  <a:cubicBezTo>
                    <a:pt x="653" y="404"/>
                    <a:pt x="644" y="398"/>
                    <a:pt x="636" y="390"/>
                  </a:cubicBezTo>
                  <a:cubicBezTo>
                    <a:pt x="632" y="386"/>
                    <a:pt x="626" y="379"/>
                    <a:pt x="620" y="383"/>
                  </a:cubicBezTo>
                  <a:cubicBezTo>
                    <a:pt x="619" y="383"/>
                    <a:pt x="619" y="384"/>
                    <a:pt x="620" y="384"/>
                  </a:cubicBezTo>
                  <a:cubicBezTo>
                    <a:pt x="628" y="385"/>
                    <a:pt x="633" y="393"/>
                    <a:pt x="639" y="399"/>
                  </a:cubicBezTo>
                  <a:cubicBezTo>
                    <a:pt x="638" y="398"/>
                    <a:pt x="637" y="398"/>
                    <a:pt x="635" y="397"/>
                  </a:cubicBezTo>
                  <a:cubicBezTo>
                    <a:pt x="634" y="396"/>
                    <a:pt x="633" y="396"/>
                    <a:pt x="632" y="396"/>
                  </a:cubicBezTo>
                  <a:cubicBezTo>
                    <a:pt x="631" y="396"/>
                    <a:pt x="631" y="396"/>
                    <a:pt x="631" y="396"/>
                  </a:cubicBezTo>
                  <a:cubicBezTo>
                    <a:pt x="630" y="399"/>
                    <a:pt x="636" y="399"/>
                    <a:pt x="637" y="400"/>
                  </a:cubicBezTo>
                  <a:cubicBezTo>
                    <a:pt x="640" y="402"/>
                    <a:pt x="643" y="404"/>
                    <a:pt x="646" y="406"/>
                  </a:cubicBezTo>
                  <a:cubicBezTo>
                    <a:pt x="647" y="406"/>
                    <a:pt x="647" y="405"/>
                    <a:pt x="647" y="405"/>
                  </a:cubicBezTo>
                  <a:cubicBezTo>
                    <a:pt x="647" y="405"/>
                    <a:pt x="647" y="404"/>
                    <a:pt x="646" y="404"/>
                  </a:cubicBezTo>
                  <a:cubicBezTo>
                    <a:pt x="656" y="409"/>
                    <a:pt x="665" y="412"/>
                    <a:pt x="676" y="413"/>
                  </a:cubicBezTo>
                  <a:cubicBezTo>
                    <a:pt x="685" y="414"/>
                    <a:pt x="695" y="415"/>
                    <a:pt x="704" y="416"/>
                  </a:cubicBezTo>
                  <a:cubicBezTo>
                    <a:pt x="705" y="417"/>
                    <a:pt x="706" y="417"/>
                    <a:pt x="707" y="418"/>
                  </a:cubicBezTo>
                  <a:cubicBezTo>
                    <a:pt x="709" y="420"/>
                    <a:pt x="710" y="422"/>
                    <a:pt x="711" y="424"/>
                  </a:cubicBezTo>
                  <a:cubicBezTo>
                    <a:pt x="712" y="425"/>
                    <a:pt x="713" y="429"/>
                    <a:pt x="714" y="430"/>
                  </a:cubicBezTo>
                  <a:cubicBezTo>
                    <a:pt x="714" y="431"/>
                    <a:pt x="713" y="432"/>
                    <a:pt x="713" y="433"/>
                  </a:cubicBezTo>
                  <a:cubicBezTo>
                    <a:pt x="712" y="439"/>
                    <a:pt x="712" y="444"/>
                    <a:pt x="710" y="450"/>
                  </a:cubicBezTo>
                  <a:cubicBezTo>
                    <a:pt x="709" y="454"/>
                    <a:pt x="708" y="459"/>
                    <a:pt x="707" y="463"/>
                  </a:cubicBezTo>
                  <a:cubicBezTo>
                    <a:pt x="702" y="472"/>
                    <a:pt x="691" y="476"/>
                    <a:pt x="683" y="480"/>
                  </a:cubicBezTo>
                  <a:cubicBezTo>
                    <a:pt x="671" y="485"/>
                    <a:pt x="660" y="489"/>
                    <a:pt x="648" y="494"/>
                  </a:cubicBezTo>
                  <a:cubicBezTo>
                    <a:pt x="642" y="496"/>
                    <a:pt x="636" y="499"/>
                    <a:pt x="630" y="500"/>
                  </a:cubicBezTo>
                  <a:cubicBezTo>
                    <a:pt x="624" y="501"/>
                    <a:pt x="619" y="501"/>
                    <a:pt x="613" y="502"/>
                  </a:cubicBezTo>
                  <a:cubicBezTo>
                    <a:pt x="601" y="503"/>
                    <a:pt x="590" y="500"/>
                    <a:pt x="581" y="493"/>
                  </a:cubicBezTo>
                  <a:cubicBezTo>
                    <a:pt x="572" y="487"/>
                    <a:pt x="563" y="477"/>
                    <a:pt x="557" y="468"/>
                  </a:cubicBezTo>
                  <a:cubicBezTo>
                    <a:pt x="550" y="457"/>
                    <a:pt x="547" y="445"/>
                    <a:pt x="543" y="434"/>
                  </a:cubicBezTo>
                  <a:cubicBezTo>
                    <a:pt x="539" y="423"/>
                    <a:pt x="536" y="412"/>
                    <a:pt x="540" y="401"/>
                  </a:cubicBezTo>
                  <a:cubicBezTo>
                    <a:pt x="542" y="395"/>
                    <a:pt x="543" y="389"/>
                    <a:pt x="545" y="383"/>
                  </a:cubicBezTo>
                  <a:cubicBezTo>
                    <a:pt x="547" y="378"/>
                    <a:pt x="550" y="375"/>
                    <a:pt x="553" y="371"/>
                  </a:cubicBezTo>
                  <a:cubicBezTo>
                    <a:pt x="560" y="366"/>
                    <a:pt x="567" y="360"/>
                    <a:pt x="576" y="360"/>
                  </a:cubicBezTo>
                  <a:cubicBezTo>
                    <a:pt x="583" y="360"/>
                    <a:pt x="589" y="361"/>
                    <a:pt x="595" y="364"/>
                  </a:cubicBezTo>
                  <a:cubicBezTo>
                    <a:pt x="598" y="365"/>
                    <a:pt x="601" y="367"/>
                    <a:pt x="604" y="368"/>
                  </a:cubicBezTo>
                  <a:cubicBezTo>
                    <a:pt x="606" y="369"/>
                    <a:pt x="607" y="370"/>
                    <a:pt x="609" y="370"/>
                  </a:cubicBezTo>
                  <a:cubicBezTo>
                    <a:pt x="609" y="370"/>
                    <a:pt x="609" y="370"/>
                    <a:pt x="609" y="370"/>
                  </a:cubicBezTo>
                  <a:cubicBezTo>
                    <a:pt x="608" y="371"/>
                    <a:pt x="607" y="372"/>
                    <a:pt x="607" y="373"/>
                  </a:cubicBezTo>
                  <a:cubicBezTo>
                    <a:pt x="606" y="375"/>
                    <a:pt x="605" y="378"/>
                    <a:pt x="605" y="380"/>
                  </a:cubicBezTo>
                  <a:cubicBezTo>
                    <a:pt x="593" y="374"/>
                    <a:pt x="579" y="385"/>
                    <a:pt x="567" y="386"/>
                  </a:cubicBezTo>
                  <a:cubicBezTo>
                    <a:pt x="566" y="386"/>
                    <a:pt x="566" y="388"/>
                    <a:pt x="567" y="388"/>
                  </a:cubicBezTo>
                  <a:cubicBezTo>
                    <a:pt x="573" y="387"/>
                    <a:pt x="579" y="384"/>
                    <a:pt x="584" y="383"/>
                  </a:cubicBezTo>
                  <a:cubicBezTo>
                    <a:pt x="591" y="381"/>
                    <a:pt x="598" y="380"/>
                    <a:pt x="604" y="381"/>
                  </a:cubicBezTo>
                  <a:cubicBezTo>
                    <a:pt x="605" y="381"/>
                    <a:pt x="605" y="381"/>
                    <a:pt x="605" y="381"/>
                  </a:cubicBezTo>
                  <a:cubicBezTo>
                    <a:pt x="605" y="381"/>
                    <a:pt x="605" y="382"/>
                    <a:pt x="605" y="383"/>
                  </a:cubicBezTo>
                  <a:cubicBezTo>
                    <a:pt x="604" y="383"/>
                    <a:pt x="604" y="383"/>
                    <a:pt x="603" y="384"/>
                  </a:cubicBezTo>
                  <a:cubicBezTo>
                    <a:pt x="602" y="386"/>
                    <a:pt x="601" y="389"/>
                    <a:pt x="601" y="391"/>
                  </a:cubicBezTo>
                  <a:cubicBezTo>
                    <a:pt x="595" y="392"/>
                    <a:pt x="592" y="397"/>
                    <a:pt x="587" y="400"/>
                  </a:cubicBezTo>
                  <a:cubicBezTo>
                    <a:pt x="583" y="402"/>
                    <a:pt x="581" y="404"/>
                    <a:pt x="578" y="407"/>
                  </a:cubicBezTo>
                  <a:cubicBezTo>
                    <a:pt x="576" y="409"/>
                    <a:pt x="574" y="410"/>
                    <a:pt x="571" y="412"/>
                  </a:cubicBezTo>
                  <a:cubicBezTo>
                    <a:pt x="571" y="412"/>
                    <a:pt x="571" y="412"/>
                    <a:pt x="570" y="412"/>
                  </a:cubicBezTo>
                  <a:cubicBezTo>
                    <a:pt x="570" y="413"/>
                    <a:pt x="569" y="414"/>
                    <a:pt x="568" y="414"/>
                  </a:cubicBezTo>
                  <a:cubicBezTo>
                    <a:pt x="567" y="415"/>
                    <a:pt x="569" y="418"/>
                    <a:pt x="571" y="416"/>
                  </a:cubicBezTo>
                  <a:cubicBezTo>
                    <a:pt x="574" y="413"/>
                    <a:pt x="577" y="410"/>
                    <a:pt x="581" y="407"/>
                  </a:cubicBezTo>
                  <a:cubicBezTo>
                    <a:pt x="583" y="406"/>
                    <a:pt x="585" y="404"/>
                    <a:pt x="587" y="402"/>
                  </a:cubicBezTo>
                  <a:cubicBezTo>
                    <a:pt x="590" y="398"/>
                    <a:pt x="596" y="393"/>
                    <a:pt x="601" y="391"/>
                  </a:cubicBezTo>
                  <a:cubicBezTo>
                    <a:pt x="602" y="392"/>
                    <a:pt x="602" y="392"/>
                    <a:pt x="602" y="393"/>
                  </a:cubicBezTo>
                  <a:cubicBezTo>
                    <a:pt x="599" y="395"/>
                    <a:pt x="597" y="398"/>
                    <a:pt x="595" y="401"/>
                  </a:cubicBezTo>
                  <a:cubicBezTo>
                    <a:pt x="595" y="401"/>
                    <a:pt x="595" y="401"/>
                    <a:pt x="596" y="401"/>
                  </a:cubicBezTo>
                  <a:cubicBezTo>
                    <a:pt x="598" y="399"/>
                    <a:pt x="600" y="396"/>
                    <a:pt x="602" y="394"/>
                  </a:cubicBezTo>
                  <a:cubicBezTo>
                    <a:pt x="603" y="394"/>
                    <a:pt x="603" y="395"/>
                    <a:pt x="604" y="395"/>
                  </a:cubicBezTo>
                  <a:cubicBezTo>
                    <a:pt x="602" y="397"/>
                    <a:pt x="601" y="400"/>
                    <a:pt x="600" y="403"/>
                  </a:cubicBezTo>
                  <a:cubicBezTo>
                    <a:pt x="600" y="403"/>
                    <a:pt x="600" y="403"/>
                    <a:pt x="600" y="403"/>
                  </a:cubicBezTo>
                  <a:cubicBezTo>
                    <a:pt x="601" y="400"/>
                    <a:pt x="603" y="398"/>
                    <a:pt x="605" y="396"/>
                  </a:cubicBezTo>
                  <a:cubicBezTo>
                    <a:pt x="606" y="397"/>
                    <a:pt x="608" y="397"/>
                    <a:pt x="610" y="397"/>
                  </a:cubicBezTo>
                  <a:cubicBezTo>
                    <a:pt x="612" y="397"/>
                    <a:pt x="614" y="397"/>
                    <a:pt x="617" y="397"/>
                  </a:cubicBezTo>
                  <a:cubicBezTo>
                    <a:pt x="617" y="397"/>
                    <a:pt x="617" y="397"/>
                    <a:pt x="617" y="397"/>
                  </a:cubicBezTo>
                  <a:cubicBezTo>
                    <a:pt x="617" y="404"/>
                    <a:pt x="621" y="410"/>
                    <a:pt x="625" y="414"/>
                  </a:cubicBezTo>
                  <a:cubicBezTo>
                    <a:pt x="631" y="421"/>
                    <a:pt x="637" y="428"/>
                    <a:pt x="644" y="433"/>
                  </a:cubicBezTo>
                  <a:cubicBezTo>
                    <a:pt x="644" y="434"/>
                    <a:pt x="645" y="433"/>
                    <a:pt x="644" y="433"/>
                  </a:cubicBezTo>
                  <a:cubicBezTo>
                    <a:pt x="638" y="428"/>
                    <a:pt x="633" y="421"/>
                    <a:pt x="628" y="415"/>
                  </a:cubicBezTo>
                  <a:cubicBezTo>
                    <a:pt x="626" y="412"/>
                    <a:pt x="623" y="410"/>
                    <a:pt x="622" y="407"/>
                  </a:cubicBezTo>
                  <a:cubicBezTo>
                    <a:pt x="620" y="404"/>
                    <a:pt x="620" y="401"/>
                    <a:pt x="619" y="398"/>
                  </a:cubicBezTo>
                  <a:cubicBezTo>
                    <a:pt x="619" y="398"/>
                    <a:pt x="619" y="398"/>
                    <a:pt x="619" y="398"/>
                  </a:cubicBezTo>
                  <a:cubicBezTo>
                    <a:pt x="619" y="398"/>
                    <a:pt x="619" y="397"/>
                    <a:pt x="619" y="397"/>
                  </a:cubicBezTo>
                  <a:cubicBezTo>
                    <a:pt x="619" y="397"/>
                    <a:pt x="618" y="397"/>
                    <a:pt x="618" y="397"/>
                  </a:cubicBezTo>
                  <a:cubicBezTo>
                    <a:pt x="619" y="396"/>
                    <a:pt x="620" y="396"/>
                    <a:pt x="622" y="396"/>
                  </a:cubicBezTo>
                  <a:cubicBezTo>
                    <a:pt x="622" y="398"/>
                    <a:pt x="623" y="400"/>
                    <a:pt x="625" y="401"/>
                  </a:cubicBezTo>
                  <a:cubicBezTo>
                    <a:pt x="626" y="404"/>
                    <a:pt x="629" y="405"/>
                    <a:pt x="630" y="406"/>
                  </a:cubicBezTo>
                  <a:cubicBezTo>
                    <a:pt x="630" y="407"/>
                    <a:pt x="631" y="406"/>
                    <a:pt x="631" y="406"/>
                  </a:cubicBezTo>
                  <a:cubicBezTo>
                    <a:pt x="629" y="405"/>
                    <a:pt x="628" y="403"/>
                    <a:pt x="627" y="401"/>
                  </a:cubicBezTo>
                  <a:cubicBezTo>
                    <a:pt x="625" y="399"/>
                    <a:pt x="624" y="398"/>
                    <a:pt x="623" y="396"/>
                  </a:cubicBezTo>
                  <a:cubicBezTo>
                    <a:pt x="624" y="396"/>
                    <a:pt x="625" y="395"/>
                    <a:pt x="625" y="395"/>
                  </a:cubicBezTo>
                  <a:cubicBezTo>
                    <a:pt x="625" y="396"/>
                    <a:pt x="625" y="396"/>
                    <a:pt x="626" y="397"/>
                  </a:cubicBezTo>
                  <a:cubicBezTo>
                    <a:pt x="632" y="405"/>
                    <a:pt x="641" y="409"/>
                    <a:pt x="651" y="412"/>
                  </a:cubicBezTo>
                  <a:cubicBezTo>
                    <a:pt x="651" y="412"/>
                    <a:pt x="651" y="412"/>
                    <a:pt x="651" y="412"/>
                  </a:cubicBezTo>
                  <a:cubicBezTo>
                    <a:pt x="641" y="409"/>
                    <a:pt x="634" y="402"/>
                    <a:pt x="627" y="395"/>
                  </a:cubicBezTo>
                  <a:cubicBezTo>
                    <a:pt x="627" y="395"/>
                    <a:pt x="627" y="395"/>
                    <a:pt x="627" y="395"/>
                  </a:cubicBezTo>
                  <a:cubicBezTo>
                    <a:pt x="628" y="394"/>
                    <a:pt x="629" y="394"/>
                    <a:pt x="630" y="394"/>
                  </a:cubicBezTo>
                  <a:cubicBezTo>
                    <a:pt x="631" y="393"/>
                    <a:pt x="631" y="392"/>
                    <a:pt x="630" y="392"/>
                  </a:cubicBezTo>
                  <a:cubicBezTo>
                    <a:pt x="626" y="392"/>
                    <a:pt x="622" y="392"/>
                    <a:pt x="619" y="393"/>
                  </a:cubicBezTo>
                  <a:cubicBezTo>
                    <a:pt x="615" y="393"/>
                    <a:pt x="612" y="393"/>
                    <a:pt x="610" y="390"/>
                  </a:cubicBezTo>
                  <a:cubicBezTo>
                    <a:pt x="608" y="387"/>
                    <a:pt x="607" y="383"/>
                    <a:pt x="608" y="380"/>
                  </a:cubicBezTo>
                  <a:cubicBezTo>
                    <a:pt x="610" y="372"/>
                    <a:pt x="619" y="365"/>
                    <a:pt x="627" y="371"/>
                  </a:cubicBezTo>
                  <a:cubicBezTo>
                    <a:pt x="631" y="374"/>
                    <a:pt x="634" y="378"/>
                    <a:pt x="639" y="380"/>
                  </a:cubicBezTo>
                  <a:cubicBezTo>
                    <a:pt x="643" y="382"/>
                    <a:pt x="648" y="382"/>
                    <a:pt x="652" y="383"/>
                  </a:cubicBezTo>
                  <a:cubicBezTo>
                    <a:pt x="665" y="384"/>
                    <a:pt x="677" y="388"/>
                    <a:pt x="689" y="392"/>
                  </a:cubicBezTo>
                  <a:cubicBezTo>
                    <a:pt x="700" y="394"/>
                    <a:pt x="711" y="398"/>
                    <a:pt x="722" y="400"/>
                  </a:cubicBezTo>
                  <a:cubicBezTo>
                    <a:pt x="731" y="401"/>
                    <a:pt x="741" y="399"/>
                    <a:pt x="750" y="398"/>
                  </a:cubicBezTo>
                  <a:cubicBezTo>
                    <a:pt x="758" y="397"/>
                    <a:pt x="766" y="395"/>
                    <a:pt x="774" y="394"/>
                  </a:cubicBezTo>
                  <a:cubicBezTo>
                    <a:pt x="778" y="393"/>
                    <a:pt x="785" y="392"/>
                    <a:pt x="787" y="388"/>
                  </a:cubicBezTo>
                  <a:cubicBezTo>
                    <a:pt x="787" y="387"/>
                    <a:pt x="786" y="386"/>
                    <a:pt x="786" y="387"/>
                  </a:cubicBezTo>
                  <a:cubicBezTo>
                    <a:pt x="784" y="390"/>
                    <a:pt x="778" y="390"/>
                    <a:pt x="775" y="391"/>
                  </a:cubicBezTo>
                  <a:cubicBezTo>
                    <a:pt x="771" y="392"/>
                    <a:pt x="767" y="392"/>
                    <a:pt x="764" y="393"/>
                  </a:cubicBezTo>
                  <a:cubicBezTo>
                    <a:pt x="758" y="394"/>
                    <a:pt x="752" y="395"/>
                    <a:pt x="746" y="395"/>
                  </a:cubicBezTo>
                  <a:cubicBezTo>
                    <a:pt x="740" y="396"/>
                    <a:pt x="733" y="397"/>
                    <a:pt x="727" y="396"/>
                  </a:cubicBezTo>
                  <a:cubicBezTo>
                    <a:pt x="720" y="396"/>
                    <a:pt x="712" y="394"/>
                    <a:pt x="705" y="392"/>
                  </a:cubicBezTo>
                  <a:cubicBezTo>
                    <a:pt x="709" y="392"/>
                    <a:pt x="712" y="391"/>
                    <a:pt x="715" y="390"/>
                  </a:cubicBezTo>
                  <a:cubicBezTo>
                    <a:pt x="723" y="388"/>
                    <a:pt x="731" y="387"/>
                    <a:pt x="740" y="387"/>
                  </a:cubicBezTo>
                  <a:cubicBezTo>
                    <a:pt x="740" y="387"/>
                    <a:pt x="740" y="386"/>
                    <a:pt x="740" y="386"/>
                  </a:cubicBezTo>
                  <a:cubicBezTo>
                    <a:pt x="733" y="385"/>
                    <a:pt x="727" y="386"/>
                    <a:pt x="721" y="388"/>
                  </a:cubicBezTo>
                  <a:cubicBezTo>
                    <a:pt x="717" y="389"/>
                    <a:pt x="712" y="390"/>
                    <a:pt x="707" y="390"/>
                  </a:cubicBezTo>
                  <a:cubicBezTo>
                    <a:pt x="704" y="390"/>
                    <a:pt x="700" y="389"/>
                    <a:pt x="697" y="390"/>
                  </a:cubicBezTo>
                  <a:cubicBezTo>
                    <a:pt x="694" y="389"/>
                    <a:pt x="691" y="388"/>
                    <a:pt x="688" y="387"/>
                  </a:cubicBezTo>
                  <a:cubicBezTo>
                    <a:pt x="688" y="387"/>
                    <a:pt x="688" y="387"/>
                    <a:pt x="688" y="387"/>
                  </a:cubicBezTo>
                  <a:cubicBezTo>
                    <a:pt x="690" y="387"/>
                    <a:pt x="693" y="386"/>
                    <a:pt x="695" y="386"/>
                  </a:cubicBezTo>
                  <a:cubicBezTo>
                    <a:pt x="706" y="385"/>
                    <a:pt x="716" y="383"/>
                    <a:pt x="726" y="381"/>
                  </a:cubicBezTo>
                  <a:cubicBezTo>
                    <a:pt x="727" y="381"/>
                    <a:pt x="727" y="380"/>
                    <a:pt x="726" y="380"/>
                  </a:cubicBezTo>
                  <a:cubicBezTo>
                    <a:pt x="717" y="382"/>
                    <a:pt x="708" y="384"/>
                    <a:pt x="698" y="384"/>
                  </a:cubicBezTo>
                  <a:cubicBezTo>
                    <a:pt x="694" y="384"/>
                    <a:pt x="690" y="385"/>
                    <a:pt x="686" y="385"/>
                  </a:cubicBezTo>
                  <a:cubicBezTo>
                    <a:pt x="683" y="385"/>
                    <a:pt x="680" y="384"/>
                    <a:pt x="678" y="383"/>
                  </a:cubicBezTo>
                  <a:cubicBezTo>
                    <a:pt x="678" y="383"/>
                    <a:pt x="679" y="383"/>
                    <a:pt x="680" y="383"/>
                  </a:cubicBezTo>
                  <a:cubicBezTo>
                    <a:pt x="687" y="382"/>
                    <a:pt x="694" y="380"/>
                    <a:pt x="701" y="378"/>
                  </a:cubicBezTo>
                  <a:cubicBezTo>
                    <a:pt x="717" y="375"/>
                    <a:pt x="732" y="370"/>
                    <a:pt x="748" y="367"/>
                  </a:cubicBezTo>
                  <a:cubicBezTo>
                    <a:pt x="749" y="366"/>
                    <a:pt x="748" y="366"/>
                    <a:pt x="748" y="366"/>
                  </a:cubicBezTo>
                  <a:cubicBezTo>
                    <a:pt x="740" y="366"/>
                    <a:pt x="734" y="369"/>
                    <a:pt x="726" y="371"/>
                  </a:cubicBezTo>
                  <a:cubicBezTo>
                    <a:pt x="718" y="372"/>
                    <a:pt x="711" y="375"/>
                    <a:pt x="703" y="376"/>
                  </a:cubicBezTo>
                  <a:cubicBezTo>
                    <a:pt x="695" y="377"/>
                    <a:pt x="688" y="379"/>
                    <a:pt x="681" y="380"/>
                  </a:cubicBezTo>
                  <a:cubicBezTo>
                    <a:pt x="675" y="381"/>
                    <a:pt x="669" y="380"/>
                    <a:pt x="664" y="379"/>
                  </a:cubicBezTo>
                  <a:cubicBezTo>
                    <a:pt x="667" y="378"/>
                    <a:pt x="670" y="378"/>
                    <a:pt x="673" y="377"/>
                  </a:cubicBezTo>
                  <a:cubicBezTo>
                    <a:pt x="678" y="376"/>
                    <a:pt x="684" y="377"/>
                    <a:pt x="689" y="375"/>
                  </a:cubicBezTo>
                  <a:cubicBezTo>
                    <a:pt x="694" y="374"/>
                    <a:pt x="699" y="372"/>
                    <a:pt x="704" y="371"/>
                  </a:cubicBezTo>
                  <a:cubicBezTo>
                    <a:pt x="705" y="371"/>
                    <a:pt x="704" y="370"/>
                    <a:pt x="704" y="370"/>
                  </a:cubicBezTo>
                  <a:cubicBezTo>
                    <a:pt x="694" y="372"/>
                    <a:pt x="684" y="374"/>
                    <a:pt x="674" y="375"/>
                  </a:cubicBezTo>
                  <a:cubicBezTo>
                    <a:pt x="675" y="375"/>
                    <a:pt x="676" y="374"/>
                    <a:pt x="677" y="374"/>
                  </a:cubicBezTo>
                  <a:cubicBezTo>
                    <a:pt x="687" y="369"/>
                    <a:pt x="698" y="363"/>
                    <a:pt x="709" y="359"/>
                  </a:cubicBezTo>
                  <a:cubicBezTo>
                    <a:pt x="710" y="359"/>
                    <a:pt x="710" y="359"/>
                    <a:pt x="709" y="359"/>
                  </a:cubicBezTo>
                  <a:cubicBezTo>
                    <a:pt x="690" y="363"/>
                    <a:pt x="674" y="378"/>
                    <a:pt x="654" y="376"/>
                  </a:cubicBezTo>
                  <a:cubicBezTo>
                    <a:pt x="654" y="376"/>
                    <a:pt x="654" y="377"/>
                    <a:pt x="653" y="377"/>
                  </a:cubicBezTo>
                  <a:cubicBezTo>
                    <a:pt x="652" y="377"/>
                    <a:pt x="651" y="377"/>
                    <a:pt x="650" y="377"/>
                  </a:cubicBezTo>
                  <a:cubicBezTo>
                    <a:pt x="657" y="376"/>
                    <a:pt x="664" y="374"/>
                    <a:pt x="670" y="371"/>
                  </a:cubicBezTo>
                  <a:cubicBezTo>
                    <a:pt x="680" y="368"/>
                    <a:pt x="689" y="364"/>
                    <a:pt x="698" y="360"/>
                  </a:cubicBezTo>
                  <a:cubicBezTo>
                    <a:pt x="718" y="351"/>
                    <a:pt x="738" y="342"/>
                    <a:pt x="760" y="338"/>
                  </a:cubicBezTo>
                  <a:cubicBezTo>
                    <a:pt x="761" y="337"/>
                    <a:pt x="760" y="336"/>
                    <a:pt x="760" y="336"/>
                  </a:cubicBezTo>
                  <a:cubicBezTo>
                    <a:pt x="739" y="340"/>
                    <a:pt x="720" y="349"/>
                    <a:pt x="701" y="357"/>
                  </a:cubicBezTo>
                  <a:cubicBezTo>
                    <a:pt x="691" y="361"/>
                    <a:pt x="681" y="365"/>
                    <a:pt x="671" y="369"/>
                  </a:cubicBezTo>
                  <a:cubicBezTo>
                    <a:pt x="663" y="371"/>
                    <a:pt x="655" y="373"/>
                    <a:pt x="647" y="375"/>
                  </a:cubicBezTo>
                  <a:cubicBezTo>
                    <a:pt x="647" y="374"/>
                    <a:pt x="647" y="374"/>
                    <a:pt x="647" y="374"/>
                  </a:cubicBezTo>
                  <a:cubicBezTo>
                    <a:pt x="654" y="373"/>
                    <a:pt x="661" y="370"/>
                    <a:pt x="667" y="367"/>
                  </a:cubicBezTo>
                  <a:cubicBezTo>
                    <a:pt x="680" y="362"/>
                    <a:pt x="691" y="352"/>
                    <a:pt x="705" y="349"/>
                  </a:cubicBezTo>
                  <a:cubicBezTo>
                    <a:pt x="705" y="349"/>
                    <a:pt x="705" y="349"/>
                    <a:pt x="705" y="349"/>
                  </a:cubicBezTo>
                  <a:cubicBezTo>
                    <a:pt x="698" y="350"/>
                    <a:pt x="693" y="352"/>
                    <a:pt x="687" y="356"/>
                  </a:cubicBezTo>
                  <a:cubicBezTo>
                    <a:pt x="679" y="360"/>
                    <a:pt x="671" y="364"/>
                    <a:pt x="663" y="367"/>
                  </a:cubicBezTo>
                  <a:cubicBezTo>
                    <a:pt x="661" y="368"/>
                    <a:pt x="658" y="369"/>
                    <a:pt x="656" y="369"/>
                  </a:cubicBezTo>
                  <a:cubicBezTo>
                    <a:pt x="658" y="368"/>
                    <a:pt x="661" y="366"/>
                    <a:pt x="663" y="365"/>
                  </a:cubicBezTo>
                  <a:cubicBezTo>
                    <a:pt x="663" y="365"/>
                    <a:pt x="663" y="365"/>
                    <a:pt x="663" y="365"/>
                  </a:cubicBezTo>
                  <a:cubicBezTo>
                    <a:pt x="660" y="366"/>
                    <a:pt x="657" y="366"/>
                    <a:pt x="654" y="367"/>
                  </a:cubicBezTo>
                  <a:cubicBezTo>
                    <a:pt x="651" y="369"/>
                    <a:pt x="648" y="370"/>
                    <a:pt x="644" y="371"/>
                  </a:cubicBezTo>
                  <a:cubicBezTo>
                    <a:pt x="644" y="371"/>
                    <a:pt x="644" y="371"/>
                    <a:pt x="643" y="371"/>
                  </a:cubicBezTo>
                  <a:cubicBezTo>
                    <a:pt x="647" y="369"/>
                    <a:pt x="650" y="367"/>
                    <a:pt x="654" y="365"/>
                  </a:cubicBezTo>
                  <a:cubicBezTo>
                    <a:pt x="659" y="362"/>
                    <a:pt x="664" y="359"/>
                    <a:pt x="668" y="355"/>
                  </a:cubicBezTo>
                  <a:cubicBezTo>
                    <a:pt x="677" y="349"/>
                    <a:pt x="687" y="343"/>
                    <a:pt x="697" y="338"/>
                  </a:cubicBezTo>
                  <a:cubicBezTo>
                    <a:pt x="698" y="338"/>
                    <a:pt x="697" y="337"/>
                    <a:pt x="696" y="337"/>
                  </a:cubicBezTo>
                  <a:cubicBezTo>
                    <a:pt x="686" y="342"/>
                    <a:pt x="675" y="347"/>
                    <a:pt x="665" y="354"/>
                  </a:cubicBezTo>
                  <a:cubicBezTo>
                    <a:pt x="660" y="358"/>
                    <a:pt x="655" y="361"/>
                    <a:pt x="649" y="364"/>
                  </a:cubicBezTo>
                  <a:cubicBezTo>
                    <a:pt x="648" y="365"/>
                    <a:pt x="647" y="366"/>
                    <a:pt x="646" y="366"/>
                  </a:cubicBezTo>
                  <a:cubicBezTo>
                    <a:pt x="646" y="366"/>
                    <a:pt x="646" y="366"/>
                    <a:pt x="647" y="365"/>
                  </a:cubicBezTo>
                  <a:cubicBezTo>
                    <a:pt x="649" y="364"/>
                    <a:pt x="651" y="362"/>
                    <a:pt x="653" y="361"/>
                  </a:cubicBezTo>
                  <a:cubicBezTo>
                    <a:pt x="658" y="358"/>
                    <a:pt x="663" y="355"/>
                    <a:pt x="668" y="351"/>
                  </a:cubicBezTo>
                  <a:cubicBezTo>
                    <a:pt x="677" y="344"/>
                    <a:pt x="685" y="335"/>
                    <a:pt x="696" y="330"/>
                  </a:cubicBezTo>
                  <a:cubicBezTo>
                    <a:pt x="697" y="329"/>
                    <a:pt x="696" y="328"/>
                    <a:pt x="696" y="329"/>
                  </a:cubicBezTo>
                  <a:cubicBezTo>
                    <a:pt x="683" y="334"/>
                    <a:pt x="674" y="344"/>
                    <a:pt x="663" y="351"/>
                  </a:cubicBezTo>
                  <a:cubicBezTo>
                    <a:pt x="659" y="354"/>
                    <a:pt x="654" y="356"/>
                    <a:pt x="650" y="359"/>
                  </a:cubicBezTo>
                  <a:cubicBezTo>
                    <a:pt x="650" y="359"/>
                    <a:pt x="650" y="359"/>
                    <a:pt x="650" y="359"/>
                  </a:cubicBezTo>
                  <a:cubicBezTo>
                    <a:pt x="655" y="355"/>
                    <a:pt x="660" y="351"/>
                    <a:pt x="666" y="347"/>
                  </a:cubicBezTo>
                  <a:cubicBezTo>
                    <a:pt x="676" y="340"/>
                    <a:pt x="685" y="332"/>
                    <a:pt x="695" y="324"/>
                  </a:cubicBezTo>
                  <a:cubicBezTo>
                    <a:pt x="705" y="316"/>
                    <a:pt x="716" y="308"/>
                    <a:pt x="725" y="298"/>
                  </a:cubicBezTo>
                  <a:cubicBezTo>
                    <a:pt x="729" y="293"/>
                    <a:pt x="733" y="287"/>
                    <a:pt x="738" y="283"/>
                  </a:cubicBezTo>
                  <a:cubicBezTo>
                    <a:pt x="741" y="282"/>
                    <a:pt x="743" y="280"/>
                    <a:pt x="745" y="278"/>
                  </a:cubicBezTo>
                  <a:cubicBezTo>
                    <a:pt x="745" y="278"/>
                    <a:pt x="746" y="278"/>
                    <a:pt x="746" y="278"/>
                  </a:cubicBezTo>
                  <a:cubicBezTo>
                    <a:pt x="758" y="276"/>
                    <a:pt x="768" y="279"/>
                    <a:pt x="779" y="281"/>
                  </a:cubicBezTo>
                  <a:cubicBezTo>
                    <a:pt x="788" y="284"/>
                    <a:pt x="796" y="285"/>
                    <a:pt x="804" y="289"/>
                  </a:cubicBezTo>
                  <a:cubicBezTo>
                    <a:pt x="804" y="289"/>
                    <a:pt x="805" y="289"/>
                    <a:pt x="805" y="289"/>
                  </a:cubicBezTo>
                  <a:cubicBezTo>
                    <a:pt x="807" y="290"/>
                    <a:pt x="808" y="291"/>
                    <a:pt x="810" y="292"/>
                  </a:cubicBezTo>
                  <a:cubicBezTo>
                    <a:pt x="828" y="302"/>
                    <a:pt x="847" y="320"/>
                    <a:pt x="852" y="341"/>
                  </a:cubicBezTo>
                  <a:cubicBezTo>
                    <a:pt x="852" y="342"/>
                    <a:pt x="852" y="342"/>
                    <a:pt x="852" y="342"/>
                  </a:cubicBezTo>
                  <a:cubicBezTo>
                    <a:pt x="854" y="351"/>
                    <a:pt x="846" y="359"/>
                    <a:pt x="839" y="365"/>
                  </a:cubicBezTo>
                  <a:cubicBezTo>
                    <a:pt x="832" y="371"/>
                    <a:pt x="825" y="377"/>
                    <a:pt x="817" y="382"/>
                  </a:cubicBezTo>
                  <a:cubicBezTo>
                    <a:pt x="806" y="391"/>
                    <a:pt x="792" y="397"/>
                    <a:pt x="778" y="402"/>
                  </a:cubicBezTo>
                  <a:cubicBezTo>
                    <a:pt x="766" y="406"/>
                    <a:pt x="754" y="407"/>
                    <a:pt x="741" y="410"/>
                  </a:cubicBezTo>
                  <a:close/>
                  <a:moveTo>
                    <a:pt x="521" y="621"/>
                  </a:moveTo>
                  <a:cubicBezTo>
                    <a:pt x="520" y="621"/>
                    <a:pt x="520" y="621"/>
                    <a:pt x="519" y="621"/>
                  </a:cubicBezTo>
                  <a:cubicBezTo>
                    <a:pt x="521" y="620"/>
                    <a:pt x="522" y="617"/>
                    <a:pt x="522" y="615"/>
                  </a:cubicBezTo>
                  <a:cubicBezTo>
                    <a:pt x="523" y="613"/>
                    <a:pt x="520" y="613"/>
                    <a:pt x="520" y="614"/>
                  </a:cubicBezTo>
                  <a:cubicBezTo>
                    <a:pt x="520" y="616"/>
                    <a:pt x="519" y="617"/>
                    <a:pt x="519" y="618"/>
                  </a:cubicBezTo>
                  <a:cubicBezTo>
                    <a:pt x="518" y="618"/>
                    <a:pt x="517" y="619"/>
                    <a:pt x="516" y="619"/>
                  </a:cubicBezTo>
                  <a:cubicBezTo>
                    <a:pt x="515" y="619"/>
                    <a:pt x="515" y="620"/>
                    <a:pt x="516" y="621"/>
                  </a:cubicBezTo>
                  <a:cubicBezTo>
                    <a:pt x="514" y="621"/>
                    <a:pt x="513" y="621"/>
                    <a:pt x="512" y="621"/>
                  </a:cubicBezTo>
                  <a:cubicBezTo>
                    <a:pt x="509" y="622"/>
                    <a:pt x="506" y="623"/>
                    <a:pt x="504" y="624"/>
                  </a:cubicBezTo>
                  <a:cubicBezTo>
                    <a:pt x="501" y="625"/>
                    <a:pt x="499" y="625"/>
                    <a:pt x="497" y="624"/>
                  </a:cubicBezTo>
                  <a:cubicBezTo>
                    <a:pt x="497" y="623"/>
                    <a:pt x="497" y="623"/>
                    <a:pt x="496" y="622"/>
                  </a:cubicBezTo>
                  <a:cubicBezTo>
                    <a:pt x="495" y="621"/>
                    <a:pt x="495" y="620"/>
                    <a:pt x="493" y="619"/>
                  </a:cubicBezTo>
                  <a:cubicBezTo>
                    <a:pt x="493" y="619"/>
                    <a:pt x="492" y="619"/>
                    <a:pt x="492" y="619"/>
                  </a:cubicBezTo>
                  <a:cubicBezTo>
                    <a:pt x="492" y="619"/>
                    <a:pt x="492" y="619"/>
                    <a:pt x="491" y="619"/>
                  </a:cubicBezTo>
                  <a:cubicBezTo>
                    <a:pt x="491" y="619"/>
                    <a:pt x="490" y="618"/>
                    <a:pt x="490" y="618"/>
                  </a:cubicBezTo>
                  <a:cubicBezTo>
                    <a:pt x="491" y="616"/>
                    <a:pt x="492" y="615"/>
                    <a:pt x="494" y="613"/>
                  </a:cubicBezTo>
                  <a:cubicBezTo>
                    <a:pt x="495" y="611"/>
                    <a:pt x="498" y="609"/>
                    <a:pt x="499" y="606"/>
                  </a:cubicBezTo>
                  <a:cubicBezTo>
                    <a:pt x="503" y="600"/>
                    <a:pt x="506" y="592"/>
                    <a:pt x="513" y="588"/>
                  </a:cubicBezTo>
                  <a:cubicBezTo>
                    <a:pt x="518" y="585"/>
                    <a:pt x="522" y="583"/>
                    <a:pt x="525" y="578"/>
                  </a:cubicBezTo>
                  <a:cubicBezTo>
                    <a:pt x="528" y="571"/>
                    <a:pt x="532" y="566"/>
                    <a:pt x="536" y="560"/>
                  </a:cubicBezTo>
                  <a:cubicBezTo>
                    <a:pt x="547" y="548"/>
                    <a:pt x="558" y="537"/>
                    <a:pt x="570" y="526"/>
                  </a:cubicBezTo>
                  <a:cubicBezTo>
                    <a:pt x="573" y="523"/>
                    <a:pt x="577" y="519"/>
                    <a:pt x="580" y="515"/>
                  </a:cubicBezTo>
                  <a:cubicBezTo>
                    <a:pt x="582" y="512"/>
                    <a:pt x="585" y="507"/>
                    <a:pt x="589" y="505"/>
                  </a:cubicBezTo>
                  <a:cubicBezTo>
                    <a:pt x="590" y="504"/>
                    <a:pt x="590" y="502"/>
                    <a:pt x="588" y="503"/>
                  </a:cubicBezTo>
                  <a:cubicBezTo>
                    <a:pt x="585" y="504"/>
                    <a:pt x="582" y="508"/>
                    <a:pt x="579" y="511"/>
                  </a:cubicBezTo>
                  <a:cubicBezTo>
                    <a:pt x="576" y="515"/>
                    <a:pt x="573" y="519"/>
                    <a:pt x="569" y="523"/>
                  </a:cubicBezTo>
                  <a:cubicBezTo>
                    <a:pt x="565" y="526"/>
                    <a:pt x="562" y="529"/>
                    <a:pt x="559" y="532"/>
                  </a:cubicBezTo>
                  <a:cubicBezTo>
                    <a:pt x="559" y="531"/>
                    <a:pt x="560" y="530"/>
                    <a:pt x="561" y="529"/>
                  </a:cubicBezTo>
                  <a:cubicBezTo>
                    <a:pt x="563" y="526"/>
                    <a:pt x="566" y="522"/>
                    <a:pt x="569" y="519"/>
                  </a:cubicBezTo>
                  <a:cubicBezTo>
                    <a:pt x="574" y="513"/>
                    <a:pt x="580" y="507"/>
                    <a:pt x="584" y="500"/>
                  </a:cubicBezTo>
                  <a:cubicBezTo>
                    <a:pt x="584" y="500"/>
                    <a:pt x="584" y="500"/>
                    <a:pt x="584" y="500"/>
                  </a:cubicBezTo>
                  <a:cubicBezTo>
                    <a:pt x="592" y="504"/>
                    <a:pt x="601" y="507"/>
                    <a:pt x="610" y="506"/>
                  </a:cubicBezTo>
                  <a:cubicBezTo>
                    <a:pt x="614" y="505"/>
                    <a:pt x="618" y="505"/>
                    <a:pt x="623" y="505"/>
                  </a:cubicBezTo>
                  <a:cubicBezTo>
                    <a:pt x="617" y="510"/>
                    <a:pt x="609" y="520"/>
                    <a:pt x="608" y="521"/>
                  </a:cubicBezTo>
                  <a:cubicBezTo>
                    <a:pt x="594" y="537"/>
                    <a:pt x="577" y="551"/>
                    <a:pt x="563" y="567"/>
                  </a:cubicBezTo>
                  <a:cubicBezTo>
                    <a:pt x="555" y="575"/>
                    <a:pt x="547" y="582"/>
                    <a:pt x="540" y="590"/>
                  </a:cubicBezTo>
                  <a:cubicBezTo>
                    <a:pt x="533" y="596"/>
                    <a:pt x="529" y="602"/>
                    <a:pt x="527" y="610"/>
                  </a:cubicBezTo>
                  <a:cubicBezTo>
                    <a:pt x="526" y="611"/>
                    <a:pt x="526" y="613"/>
                    <a:pt x="525" y="616"/>
                  </a:cubicBezTo>
                  <a:cubicBezTo>
                    <a:pt x="525" y="616"/>
                    <a:pt x="525" y="616"/>
                    <a:pt x="524" y="616"/>
                  </a:cubicBezTo>
                  <a:cubicBezTo>
                    <a:pt x="524" y="616"/>
                    <a:pt x="523" y="617"/>
                    <a:pt x="523" y="617"/>
                  </a:cubicBezTo>
                  <a:cubicBezTo>
                    <a:pt x="522" y="618"/>
                    <a:pt x="521" y="619"/>
                    <a:pt x="521" y="621"/>
                  </a:cubicBezTo>
                  <a:cubicBezTo>
                    <a:pt x="521" y="621"/>
                    <a:pt x="521" y="621"/>
                    <a:pt x="521" y="621"/>
                  </a:cubicBezTo>
                  <a:close/>
                  <a:moveTo>
                    <a:pt x="453" y="616"/>
                  </a:moveTo>
                  <a:cubicBezTo>
                    <a:pt x="451" y="615"/>
                    <a:pt x="449" y="613"/>
                    <a:pt x="448" y="612"/>
                  </a:cubicBezTo>
                  <a:cubicBezTo>
                    <a:pt x="448" y="611"/>
                    <a:pt x="448" y="610"/>
                    <a:pt x="447" y="610"/>
                  </a:cubicBezTo>
                  <a:cubicBezTo>
                    <a:pt x="450" y="612"/>
                    <a:pt x="453" y="613"/>
                    <a:pt x="457" y="614"/>
                  </a:cubicBezTo>
                  <a:cubicBezTo>
                    <a:pt x="458" y="615"/>
                    <a:pt x="459" y="616"/>
                    <a:pt x="460" y="617"/>
                  </a:cubicBezTo>
                  <a:cubicBezTo>
                    <a:pt x="465" y="619"/>
                    <a:pt x="471" y="620"/>
                    <a:pt x="476" y="622"/>
                  </a:cubicBezTo>
                  <a:cubicBezTo>
                    <a:pt x="482" y="624"/>
                    <a:pt x="486" y="624"/>
                    <a:pt x="492" y="622"/>
                  </a:cubicBezTo>
                  <a:cubicBezTo>
                    <a:pt x="492" y="622"/>
                    <a:pt x="492" y="622"/>
                    <a:pt x="492" y="622"/>
                  </a:cubicBezTo>
                  <a:cubicBezTo>
                    <a:pt x="492" y="623"/>
                    <a:pt x="493" y="623"/>
                    <a:pt x="493" y="624"/>
                  </a:cubicBezTo>
                  <a:cubicBezTo>
                    <a:pt x="494" y="628"/>
                    <a:pt x="498" y="630"/>
                    <a:pt x="503" y="629"/>
                  </a:cubicBezTo>
                  <a:cubicBezTo>
                    <a:pt x="506" y="628"/>
                    <a:pt x="508" y="627"/>
                    <a:pt x="511" y="625"/>
                  </a:cubicBezTo>
                  <a:cubicBezTo>
                    <a:pt x="513" y="625"/>
                    <a:pt x="515" y="625"/>
                    <a:pt x="517" y="625"/>
                  </a:cubicBezTo>
                  <a:cubicBezTo>
                    <a:pt x="518" y="634"/>
                    <a:pt x="509" y="640"/>
                    <a:pt x="501" y="639"/>
                  </a:cubicBezTo>
                  <a:cubicBezTo>
                    <a:pt x="492" y="639"/>
                    <a:pt x="484" y="635"/>
                    <a:pt x="476" y="632"/>
                  </a:cubicBezTo>
                  <a:cubicBezTo>
                    <a:pt x="472" y="630"/>
                    <a:pt x="468" y="628"/>
                    <a:pt x="464" y="626"/>
                  </a:cubicBezTo>
                  <a:cubicBezTo>
                    <a:pt x="461" y="624"/>
                    <a:pt x="458" y="621"/>
                    <a:pt x="454" y="619"/>
                  </a:cubicBezTo>
                  <a:cubicBezTo>
                    <a:pt x="454" y="619"/>
                    <a:pt x="453" y="619"/>
                    <a:pt x="453" y="619"/>
                  </a:cubicBezTo>
                  <a:cubicBezTo>
                    <a:pt x="454" y="618"/>
                    <a:pt x="454" y="617"/>
                    <a:pt x="453" y="616"/>
                  </a:cubicBezTo>
                  <a:close/>
                  <a:moveTo>
                    <a:pt x="360" y="549"/>
                  </a:moveTo>
                  <a:cubicBezTo>
                    <a:pt x="361" y="525"/>
                    <a:pt x="362" y="499"/>
                    <a:pt x="367" y="475"/>
                  </a:cubicBezTo>
                  <a:cubicBezTo>
                    <a:pt x="367" y="474"/>
                    <a:pt x="367" y="474"/>
                    <a:pt x="366" y="473"/>
                  </a:cubicBezTo>
                  <a:cubicBezTo>
                    <a:pt x="366" y="473"/>
                    <a:pt x="366" y="473"/>
                    <a:pt x="367" y="473"/>
                  </a:cubicBezTo>
                  <a:cubicBezTo>
                    <a:pt x="368" y="472"/>
                    <a:pt x="370" y="471"/>
                    <a:pt x="372" y="471"/>
                  </a:cubicBezTo>
                  <a:cubicBezTo>
                    <a:pt x="372" y="471"/>
                    <a:pt x="372" y="471"/>
                    <a:pt x="372" y="471"/>
                  </a:cubicBezTo>
                  <a:cubicBezTo>
                    <a:pt x="372" y="471"/>
                    <a:pt x="372" y="471"/>
                    <a:pt x="372" y="472"/>
                  </a:cubicBezTo>
                  <a:cubicBezTo>
                    <a:pt x="371" y="472"/>
                    <a:pt x="371" y="473"/>
                    <a:pt x="371" y="474"/>
                  </a:cubicBezTo>
                  <a:cubicBezTo>
                    <a:pt x="371" y="476"/>
                    <a:pt x="370" y="478"/>
                    <a:pt x="370" y="479"/>
                  </a:cubicBezTo>
                  <a:cubicBezTo>
                    <a:pt x="370" y="480"/>
                    <a:pt x="371" y="480"/>
                    <a:pt x="371" y="480"/>
                  </a:cubicBezTo>
                  <a:cubicBezTo>
                    <a:pt x="372" y="478"/>
                    <a:pt x="373" y="475"/>
                    <a:pt x="373" y="473"/>
                  </a:cubicBezTo>
                  <a:cubicBezTo>
                    <a:pt x="373" y="472"/>
                    <a:pt x="374" y="471"/>
                    <a:pt x="373" y="470"/>
                  </a:cubicBezTo>
                  <a:cubicBezTo>
                    <a:pt x="376" y="469"/>
                    <a:pt x="378" y="468"/>
                    <a:pt x="380" y="466"/>
                  </a:cubicBezTo>
                  <a:cubicBezTo>
                    <a:pt x="380" y="467"/>
                    <a:pt x="380" y="467"/>
                    <a:pt x="380" y="468"/>
                  </a:cubicBezTo>
                  <a:cubicBezTo>
                    <a:pt x="380" y="468"/>
                    <a:pt x="380" y="469"/>
                    <a:pt x="380" y="469"/>
                  </a:cubicBezTo>
                  <a:cubicBezTo>
                    <a:pt x="377" y="475"/>
                    <a:pt x="377" y="484"/>
                    <a:pt x="376" y="490"/>
                  </a:cubicBezTo>
                  <a:cubicBezTo>
                    <a:pt x="374" y="499"/>
                    <a:pt x="375" y="507"/>
                    <a:pt x="375" y="516"/>
                  </a:cubicBezTo>
                  <a:cubicBezTo>
                    <a:pt x="375" y="526"/>
                    <a:pt x="375" y="535"/>
                    <a:pt x="374" y="545"/>
                  </a:cubicBezTo>
                  <a:cubicBezTo>
                    <a:pt x="373" y="550"/>
                    <a:pt x="372" y="556"/>
                    <a:pt x="371" y="561"/>
                  </a:cubicBezTo>
                  <a:cubicBezTo>
                    <a:pt x="370" y="565"/>
                    <a:pt x="369" y="568"/>
                    <a:pt x="369" y="571"/>
                  </a:cubicBezTo>
                  <a:cubicBezTo>
                    <a:pt x="369" y="571"/>
                    <a:pt x="369" y="571"/>
                    <a:pt x="368" y="571"/>
                  </a:cubicBezTo>
                  <a:cubicBezTo>
                    <a:pt x="366" y="575"/>
                    <a:pt x="368" y="580"/>
                    <a:pt x="365" y="584"/>
                  </a:cubicBezTo>
                  <a:cubicBezTo>
                    <a:pt x="364" y="585"/>
                    <a:pt x="364" y="586"/>
                    <a:pt x="363" y="587"/>
                  </a:cubicBezTo>
                  <a:cubicBezTo>
                    <a:pt x="363" y="586"/>
                    <a:pt x="363" y="585"/>
                    <a:pt x="363" y="584"/>
                  </a:cubicBezTo>
                  <a:cubicBezTo>
                    <a:pt x="363" y="572"/>
                    <a:pt x="360" y="561"/>
                    <a:pt x="360" y="549"/>
                  </a:cubicBezTo>
                  <a:close/>
                  <a:moveTo>
                    <a:pt x="359" y="574"/>
                  </a:moveTo>
                  <a:cubicBezTo>
                    <a:pt x="360" y="581"/>
                    <a:pt x="361" y="587"/>
                    <a:pt x="357" y="593"/>
                  </a:cubicBezTo>
                  <a:cubicBezTo>
                    <a:pt x="356" y="594"/>
                    <a:pt x="355" y="595"/>
                    <a:pt x="355" y="596"/>
                  </a:cubicBezTo>
                  <a:cubicBezTo>
                    <a:pt x="354" y="596"/>
                    <a:pt x="353" y="597"/>
                    <a:pt x="352" y="598"/>
                  </a:cubicBezTo>
                  <a:cubicBezTo>
                    <a:pt x="351" y="598"/>
                    <a:pt x="351" y="599"/>
                    <a:pt x="350" y="599"/>
                  </a:cubicBezTo>
                  <a:cubicBezTo>
                    <a:pt x="350" y="599"/>
                    <a:pt x="349" y="599"/>
                    <a:pt x="349" y="599"/>
                  </a:cubicBezTo>
                  <a:cubicBezTo>
                    <a:pt x="349" y="598"/>
                    <a:pt x="349" y="596"/>
                    <a:pt x="349" y="595"/>
                  </a:cubicBezTo>
                  <a:cubicBezTo>
                    <a:pt x="350" y="595"/>
                    <a:pt x="350" y="596"/>
                    <a:pt x="350" y="596"/>
                  </a:cubicBezTo>
                  <a:cubicBezTo>
                    <a:pt x="350" y="596"/>
                    <a:pt x="351" y="596"/>
                    <a:pt x="351" y="595"/>
                  </a:cubicBezTo>
                  <a:cubicBezTo>
                    <a:pt x="351" y="591"/>
                    <a:pt x="352" y="587"/>
                    <a:pt x="352" y="582"/>
                  </a:cubicBezTo>
                  <a:cubicBezTo>
                    <a:pt x="351" y="579"/>
                    <a:pt x="351" y="576"/>
                    <a:pt x="350" y="573"/>
                  </a:cubicBezTo>
                  <a:cubicBezTo>
                    <a:pt x="351" y="575"/>
                    <a:pt x="352" y="577"/>
                    <a:pt x="352" y="580"/>
                  </a:cubicBezTo>
                  <a:cubicBezTo>
                    <a:pt x="352" y="583"/>
                    <a:pt x="352" y="587"/>
                    <a:pt x="352" y="590"/>
                  </a:cubicBezTo>
                  <a:cubicBezTo>
                    <a:pt x="352" y="591"/>
                    <a:pt x="353" y="591"/>
                    <a:pt x="353" y="590"/>
                  </a:cubicBezTo>
                  <a:cubicBezTo>
                    <a:pt x="353" y="586"/>
                    <a:pt x="353" y="582"/>
                    <a:pt x="353" y="578"/>
                  </a:cubicBezTo>
                  <a:cubicBezTo>
                    <a:pt x="352" y="574"/>
                    <a:pt x="352" y="571"/>
                    <a:pt x="350" y="568"/>
                  </a:cubicBezTo>
                  <a:cubicBezTo>
                    <a:pt x="350" y="568"/>
                    <a:pt x="349" y="568"/>
                    <a:pt x="349" y="568"/>
                  </a:cubicBezTo>
                  <a:cubicBezTo>
                    <a:pt x="349" y="567"/>
                    <a:pt x="349" y="566"/>
                    <a:pt x="349" y="565"/>
                  </a:cubicBezTo>
                  <a:cubicBezTo>
                    <a:pt x="348" y="562"/>
                    <a:pt x="348" y="558"/>
                    <a:pt x="348" y="554"/>
                  </a:cubicBezTo>
                  <a:cubicBezTo>
                    <a:pt x="347" y="551"/>
                    <a:pt x="348" y="548"/>
                    <a:pt x="347" y="544"/>
                  </a:cubicBezTo>
                  <a:cubicBezTo>
                    <a:pt x="347" y="538"/>
                    <a:pt x="347" y="532"/>
                    <a:pt x="346" y="526"/>
                  </a:cubicBezTo>
                  <a:cubicBezTo>
                    <a:pt x="346" y="525"/>
                    <a:pt x="345" y="525"/>
                    <a:pt x="345" y="526"/>
                  </a:cubicBezTo>
                  <a:cubicBezTo>
                    <a:pt x="345" y="533"/>
                    <a:pt x="344" y="540"/>
                    <a:pt x="346" y="547"/>
                  </a:cubicBezTo>
                  <a:cubicBezTo>
                    <a:pt x="347" y="553"/>
                    <a:pt x="346" y="561"/>
                    <a:pt x="347" y="567"/>
                  </a:cubicBezTo>
                  <a:cubicBezTo>
                    <a:pt x="347" y="574"/>
                    <a:pt x="350" y="580"/>
                    <a:pt x="349" y="586"/>
                  </a:cubicBezTo>
                  <a:cubicBezTo>
                    <a:pt x="349" y="587"/>
                    <a:pt x="349" y="588"/>
                    <a:pt x="349" y="590"/>
                  </a:cubicBezTo>
                  <a:cubicBezTo>
                    <a:pt x="349" y="589"/>
                    <a:pt x="349" y="589"/>
                    <a:pt x="349" y="588"/>
                  </a:cubicBezTo>
                  <a:cubicBezTo>
                    <a:pt x="347" y="584"/>
                    <a:pt x="345" y="579"/>
                    <a:pt x="344" y="575"/>
                  </a:cubicBezTo>
                  <a:cubicBezTo>
                    <a:pt x="342" y="564"/>
                    <a:pt x="340" y="552"/>
                    <a:pt x="340" y="541"/>
                  </a:cubicBezTo>
                  <a:cubicBezTo>
                    <a:pt x="340" y="522"/>
                    <a:pt x="344" y="504"/>
                    <a:pt x="340" y="485"/>
                  </a:cubicBezTo>
                  <a:cubicBezTo>
                    <a:pt x="340" y="485"/>
                    <a:pt x="341" y="485"/>
                    <a:pt x="341" y="485"/>
                  </a:cubicBezTo>
                  <a:cubicBezTo>
                    <a:pt x="349" y="482"/>
                    <a:pt x="356" y="478"/>
                    <a:pt x="364" y="474"/>
                  </a:cubicBezTo>
                  <a:cubicBezTo>
                    <a:pt x="361" y="484"/>
                    <a:pt x="360" y="496"/>
                    <a:pt x="359" y="506"/>
                  </a:cubicBezTo>
                  <a:cubicBezTo>
                    <a:pt x="359" y="518"/>
                    <a:pt x="358" y="530"/>
                    <a:pt x="357" y="542"/>
                  </a:cubicBezTo>
                  <a:cubicBezTo>
                    <a:pt x="357" y="553"/>
                    <a:pt x="358" y="563"/>
                    <a:pt x="359" y="574"/>
                  </a:cubicBezTo>
                  <a:close/>
                  <a:moveTo>
                    <a:pt x="323" y="576"/>
                  </a:moveTo>
                  <a:cubicBezTo>
                    <a:pt x="323" y="576"/>
                    <a:pt x="323" y="576"/>
                    <a:pt x="323" y="576"/>
                  </a:cubicBezTo>
                  <a:cubicBezTo>
                    <a:pt x="322" y="577"/>
                    <a:pt x="322" y="577"/>
                    <a:pt x="321" y="578"/>
                  </a:cubicBezTo>
                  <a:cubicBezTo>
                    <a:pt x="320" y="578"/>
                    <a:pt x="320" y="579"/>
                    <a:pt x="319" y="579"/>
                  </a:cubicBezTo>
                  <a:cubicBezTo>
                    <a:pt x="319" y="579"/>
                    <a:pt x="319" y="579"/>
                    <a:pt x="319" y="579"/>
                  </a:cubicBezTo>
                  <a:cubicBezTo>
                    <a:pt x="311" y="566"/>
                    <a:pt x="307" y="551"/>
                    <a:pt x="302" y="537"/>
                  </a:cubicBezTo>
                  <a:cubicBezTo>
                    <a:pt x="297" y="523"/>
                    <a:pt x="291" y="509"/>
                    <a:pt x="286" y="495"/>
                  </a:cubicBezTo>
                  <a:cubicBezTo>
                    <a:pt x="282" y="486"/>
                    <a:pt x="277" y="478"/>
                    <a:pt x="272" y="469"/>
                  </a:cubicBezTo>
                  <a:cubicBezTo>
                    <a:pt x="274" y="471"/>
                    <a:pt x="276" y="473"/>
                    <a:pt x="279" y="475"/>
                  </a:cubicBezTo>
                  <a:cubicBezTo>
                    <a:pt x="286" y="480"/>
                    <a:pt x="294" y="484"/>
                    <a:pt x="303" y="487"/>
                  </a:cubicBezTo>
                  <a:cubicBezTo>
                    <a:pt x="303" y="487"/>
                    <a:pt x="303" y="487"/>
                    <a:pt x="303" y="487"/>
                  </a:cubicBezTo>
                  <a:cubicBezTo>
                    <a:pt x="303" y="491"/>
                    <a:pt x="304" y="495"/>
                    <a:pt x="305" y="499"/>
                  </a:cubicBezTo>
                  <a:cubicBezTo>
                    <a:pt x="305" y="503"/>
                    <a:pt x="306" y="506"/>
                    <a:pt x="307" y="510"/>
                  </a:cubicBezTo>
                  <a:cubicBezTo>
                    <a:pt x="309" y="517"/>
                    <a:pt x="313" y="524"/>
                    <a:pt x="316" y="531"/>
                  </a:cubicBezTo>
                  <a:cubicBezTo>
                    <a:pt x="321" y="545"/>
                    <a:pt x="326" y="560"/>
                    <a:pt x="336" y="571"/>
                  </a:cubicBezTo>
                  <a:cubicBezTo>
                    <a:pt x="335" y="571"/>
                    <a:pt x="334" y="570"/>
                    <a:pt x="333" y="570"/>
                  </a:cubicBezTo>
                  <a:cubicBezTo>
                    <a:pt x="330" y="570"/>
                    <a:pt x="327" y="571"/>
                    <a:pt x="325" y="573"/>
                  </a:cubicBezTo>
                  <a:cubicBezTo>
                    <a:pt x="325" y="574"/>
                    <a:pt x="324" y="574"/>
                    <a:pt x="324" y="575"/>
                  </a:cubicBezTo>
                  <a:cubicBezTo>
                    <a:pt x="323" y="574"/>
                    <a:pt x="323" y="574"/>
                    <a:pt x="322" y="574"/>
                  </a:cubicBezTo>
                  <a:cubicBezTo>
                    <a:pt x="322" y="574"/>
                    <a:pt x="321" y="574"/>
                    <a:pt x="322" y="574"/>
                  </a:cubicBezTo>
                  <a:cubicBezTo>
                    <a:pt x="322" y="575"/>
                    <a:pt x="322" y="575"/>
                    <a:pt x="323" y="576"/>
                  </a:cubicBezTo>
                  <a:close/>
                  <a:moveTo>
                    <a:pt x="176" y="253"/>
                  </a:moveTo>
                  <a:cubicBezTo>
                    <a:pt x="172" y="261"/>
                    <a:pt x="166" y="272"/>
                    <a:pt x="168" y="281"/>
                  </a:cubicBezTo>
                  <a:cubicBezTo>
                    <a:pt x="167" y="278"/>
                    <a:pt x="166" y="274"/>
                    <a:pt x="165" y="270"/>
                  </a:cubicBezTo>
                  <a:cubicBezTo>
                    <a:pt x="165" y="271"/>
                    <a:pt x="166" y="271"/>
                    <a:pt x="167" y="271"/>
                  </a:cubicBezTo>
                  <a:cubicBezTo>
                    <a:pt x="167" y="272"/>
                    <a:pt x="167" y="271"/>
                    <a:pt x="167" y="271"/>
                  </a:cubicBezTo>
                  <a:cubicBezTo>
                    <a:pt x="167" y="269"/>
                    <a:pt x="165" y="267"/>
                    <a:pt x="165" y="265"/>
                  </a:cubicBezTo>
                  <a:cubicBezTo>
                    <a:pt x="166" y="262"/>
                    <a:pt x="166" y="259"/>
                    <a:pt x="167" y="256"/>
                  </a:cubicBezTo>
                  <a:cubicBezTo>
                    <a:pt x="168" y="251"/>
                    <a:pt x="170" y="245"/>
                    <a:pt x="173" y="241"/>
                  </a:cubicBezTo>
                  <a:cubicBezTo>
                    <a:pt x="174" y="241"/>
                    <a:pt x="173" y="241"/>
                    <a:pt x="173" y="241"/>
                  </a:cubicBezTo>
                  <a:cubicBezTo>
                    <a:pt x="169" y="246"/>
                    <a:pt x="167" y="252"/>
                    <a:pt x="165" y="258"/>
                  </a:cubicBezTo>
                  <a:cubicBezTo>
                    <a:pt x="165" y="258"/>
                    <a:pt x="165" y="258"/>
                    <a:pt x="165" y="259"/>
                  </a:cubicBezTo>
                  <a:cubicBezTo>
                    <a:pt x="164" y="257"/>
                    <a:pt x="164" y="256"/>
                    <a:pt x="164" y="255"/>
                  </a:cubicBezTo>
                  <a:cubicBezTo>
                    <a:pt x="164" y="252"/>
                    <a:pt x="164" y="249"/>
                    <a:pt x="165" y="246"/>
                  </a:cubicBezTo>
                  <a:cubicBezTo>
                    <a:pt x="165" y="245"/>
                    <a:pt x="165" y="245"/>
                    <a:pt x="165" y="245"/>
                  </a:cubicBezTo>
                  <a:cubicBezTo>
                    <a:pt x="165" y="245"/>
                    <a:pt x="165" y="245"/>
                    <a:pt x="165" y="245"/>
                  </a:cubicBezTo>
                  <a:cubicBezTo>
                    <a:pt x="165" y="244"/>
                    <a:pt x="165" y="244"/>
                    <a:pt x="165" y="244"/>
                  </a:cubicBezTo>
                  <a:cubicBezTo>
                    <a:pt x="167" y="237"/>
                    <a:pt x="170" y="232"/>
                    <a:pt x="174" y="226"/>
                  </a:cubicBezTo>
                  <a:cubicBezTo>
                    <a:pt x="174" y="226"/>
                    <a:pt x="173" y="226"/>
                    <a:pt x="173" y="226"/>
                  </a:cubicBezTo>
                  <a:cubicBezTo>
                    <a:pt x="170" y="229"/>
                    <a:pt x="167" y="234"/>
                    <a:pt x="165" y="239"/>
                  </a:cubicBezTo>
                  <a:cubicBezTo>
                    <a:pt x="165" y="237"/>
                    <a:pt x="165" y="236"/>
                    <a:pt x="165" y="234"/>
                  </a:cubicBezTo>
                  <a:cubicBezTo>
                    <a:pt x="165" y="230"/>
                    <a:pt x="166" y="226"/>
                    <a:pt x="166" y="222"/>
                  </a:cubicBezTo>
                  <a:cubicBezTo>
                    <a:pt x="166" y="221"/>
                    <a:pt x="164" y="221"/>
                    <a:pt x="164" y="222"/>
                  </a:cubicBezTo>
                  <a:cubicBezTo>
                    <a:pt x="164" y="224"/>
                    <a:pt x="164" y="227"/>
                    <a:pt x="164" y="229"/>
                  </a:cubicBezTo>
                  <a:cubicBezTo>
                    <a:pt x="164" y="231"/>
                    <a:pt x="163" y="233"/>
                    <a:pt x="163" y="235"/>
                  </a:cubicBezTo>
                  <a:cubicBezTo>
                    <a:pt x="163" y="238"/>
                    <a:pt x="163" y="241"/>
                    <a:pt x="164" y="244"/>
                  </a:cubicBezTo>
                  <a:cubicBezTo>
                    <a:pt x="164" y="245"/>
                    <a:pt x="163" y="247"/>
                    <a:pt x="163" y="248"/>
                  </a:cubicBezTo>
                  <a:cubicBezTo>
                    <a:pt x="163" y="250"/>
                    <a:pt x="162" y="253"/>
                    <a:pt x="162" y="257"/>
                  </a:cubicBezTo>
                  <a:cubicBezTo>
                    <a:pt x="161" y="250"/>
                    <a:pt x="160" y="244"/>
                    <a:pt x="160" y="237"/>
                  </a:cubicBezTo>
                  <a:cubicBezTo>
                    <a:pt x="161" y="233"/>
                    <a:pt x="161" y="229"/>
                    <a:pt x="159" y="226"/>
                  </a:cubicBezTo>
                  <a:cubicBezTo>
                    <a:pt x="156" y="222"/>
                    <a:pt x="152" y="218"/>
                    <a:pt x="151" y="212"/>
                  </a:cubicBezTo>
                  <a:cubicBezTo>
                    <a:pt x="151" y="204"/>
                    <a:pt x="151" y="198"/>
                    <a:pt x="146" y="190"/>
                  </a:cubicBezTo>
                  <a:cubicBezTo>
                    <a:pt x="144" y="187"/>
                    <a:pt x="141" y="183"/>
                    <a:pt x="140" y="179"/>
                  </a:cubicBezTo>
                  <a:cubicBezTo>
                    <a:pt x="139" y="178"/>
                    <a:pt x="138" y="170"/>
                    <a:pt x="141" y="171"/>
                  </a:cubicBezTo>
                  <a:cubicBezTo>
                    <a:pt x="143" y="171"/>
                    <a:pt x="144" y="172"/>
                    <a:pt x="146" y="173"/>
                  </a:cubicBezTo>
                  <a:cubicBezTo>
                    <a:pt x="151" y="175"/>
                    <a:pt x="158" y="178"/>
                    <a:pt x="160" y="184"/>
                  </a:cubicBezTo>
                  <a:cubicBezTo>
                    <a:pt x="161" y="186"/>
                    <a:pt x="162" y="189"/>
                    <a:pt x="164" y="190"/>
                  </a:cubicBezTo>
                  <a:cubicBezTo>
                    <a:pt x="164" y="192"/>
                    <a:pt x="166" y="194"/>
                    <a:pt x="166" y="195"/>
                  </a:cubicBezTo>
                  <a:cubicBezTo>
                    <a:pt x="167" y="197"/>
                    <a:pt x="168" y="199"/>
                    <a:pt x="169" y="200"/>
                  </a:cubicBezTo>
                  <a:cubicBezTo>
                    <a:pt x="170" y="202"/>
                    <a:pt x="170" y="203"/>
                    <a:pt x="171" y="205"/>
                  </a:cubicBezTo>
                  <a:cubicBezTo>
                    <a:pt x="172" y="213"/>
                    <a:pt x="178" y="221"/>
                    <a:pt x="180" y="229"/>
                  </a:cubicBezTo>
                  <a:cubicBezTo>
                    <a:pt x="181" y="233"/>
                    <a:pt x="182" y="238"/>
                    <a:pt x="183" y="242"/>
                  </a:cubicBezTo>
                  <a:cubicBezTo>
                    <a:pt x="184" y="247"/>
                    <a:pt x="184" y="251"/>
                    <a:pt x="185" y="256"/>
                  </a:cubicBezTo>
                  <a:cubicBezTo>
                    <a:pt x="185" y="256"/>
                    <a:pt x="185" y="256"/>
                    <a:pt x="185" y="256"/>
                  </a:cubicBezTo>
                  <a:cubicBezTo>
                    <a:pt x="184" y="258"/>
                    <a:pt x="182" y="260"/>
                    <a:pt x="181" y="263"/>
                  </a:cubicBezTo>
                  <a:cubicBezTo>
                    <a:pt x="179" y="267"/>
                    <a:pt x="179" y="271"/>
                    <a:pt x="179" y="275"/>
                  </a:cubicBezTo>
                  <a:cubicBezTo>
                    <a:pt x="177" y="287"/>
                    <a:pt x="178" y="301"/>
                    <a:pt x="180" y="312"/>
                  </a:cubicBezTo>
                  <a:cubicBezTo>
                    <a:pt x="181" y="318"/>
                    <a:pt x="182" y="325"/>
                    <a:pt x="184" y="331"/>
                  </a:cubicBezTo>
                  <a:cubicBezTo>
                    <a:pt x="179" y="322"/>
                    <a:pt x="178" y="312"/>
                    <a:pt x="174" y="303"/>
                  </a:cubicBezTo>
                  <a:cubicBezTo>
                    <a:pt x="173" y="297"/>
                    <a:pt x="171" y="291"/>
                    <a:pt x="169" y="286"/>
                  </a:cubicBezTo>
                  <a:cubicBezTo>
                    <a:pt x="169" y="286"/>
                    <a:pt x="170" y="286"/>
                    <a:pt x="170" y="285"/>
                  </a:cubicBezTo>
                  <a:cubicBezTo>
                    <a:pt x="170" y="280"/>
                    <a:pt x="170" y="275"/>
                    <a:pt x="171" y="270"/>
                  </a:cubicBezTo>
                  <a:cubicBezTo>
                    <a:pt x="172" y="264"/>
                    <a:pt x="174" y="258"/>
                    <a:pt x="176" y="253"/>
                  </a:cubicBezTo>
                  <a:cubicBezTo>
                    <a:pt x="176" y="253"/>
                    <a:pt x="176" y="253"/>
                    <a:pt x="176" y="253"/>
                  </a:cubicBezTo>
                  <a:close/>
                  <a:moveTo>
                    <a:pt x="157" y="248"/>
                  </a:moveTo>
                  <a:cubicBezTo>
                    <a:pt x="158" y="254"/>
                    <a:pt x="159" y="260"/>
                    <a:pt x="160" y="266"/>
                  </a:cubicBezTo>
                  <a:cubicBezTo>
                    <a:pt x="162" y="271"/>
                    <a:pt x="163" y="276"/>
                    <a:pt x="165" y="281"/>
                  </a:cubicBezTo>
                  <a:cubicBezTo>
                    <a:pt x="163" y="278"/>
                    <a:pt x="162" y="275"/>
                    <a:pt x="161" y="273"/>
                  </a:cubicBezTo>
                  <a:cubicBezTo>
                    <a:pt x="157" y="261"/>
                    <a:pt x="152" y="250"/>
                    <a:pt x="148" y="238"/>
                  </a:cubicBezTo>
                  <a:cubicBezTo>
                    <a:pt x="140" y="219"/>
                    <a:pt x="131" y="197"/>
                    <a:pt x="136" y="176"/>
                  </a:cubicBezTo>
                  <a:cubicBezTo>
                    <a:pt x="136" y="177"/>
                    <a:pt x="136" y="177"/>
                    <a:pt x="136" y="177"/>
                  </a:cubicBezTo>
                  <a:cubicBezTo>
                    <a:pt x="137" y="186"/>
                    <a:pt x="145" y="191"/>
                    <a:pt x="147" y="200"/>
                  </a:cubicBezTo>
                  <a:cubicBezTo>
                    <a:pt x="148" y="205"/>
                    <a:pt x="147" y="211"/>
                    <a:pt x="149" y="216"/>
                  </a:cubicBezTo>
                  <a:cubicBezTo>
                    <a:pt x="150" y="221"/>
                    <a:pt x="156" y="225"/>
                    <a:pt x="157" y="230"/>
                  </a:cubicBezTo>
                  <a:cubicBezTo>
                    <a:pt x="158" y="236"/>
                    <a:pt x="157" y="242"/>
                    <a:pt x="157" y="248"/>
                  </a:cubicBezTo>
                  <a:close/>
                  <a:moveTo>
                    <a:pt x="163" y="261"/>
                  </a:moveTo>
                  <a:cubicBezTo>
                    <a:pt x="163" y="261"/>
                    <a:pt x="163" y="262"/>
                    <a:pt x="164" y="263"/>
                  </a:cubicBezTo>
                  <a:cubicBezTo>
                    <a:pt x="164" y="264"/>
                    <a:pt x="164" y="265"/>
                    <a:pt x="164" y="266"/>
                  </a:cubicBezTo>
                  <a:cubicBezTo>
                    <a:pt x="163" y="264"/>
                    <a:pt x="163" y="262"/>
                    <a:pt x="163" y="261"/>
                  </a:cubicBezTo>
                  <a:close/>
                  <a:moveTo>
                    <a:pt x="213" y="192"/>
                  </a:moveTo>
                  <a:cubicBezTo>
                    <a:pt x="206" y="196"/>
                    <a:pt x="200" y="201"/>
                    <a:pt x="196" y="208"/>
                  </a:cubicBezTo>
                  <a:cubicBezTo>
                    <a:pt x="194" y="213"/>
                    <a:pt x="192" y="218"/>
                    <a:pt x="192" y="223"/>
                  </a:cubicBezTo>
                  <a:cubicBezTo>
                    <a:pt x="190" y="220"/>
                    <a:pt x="189" y="218"/>
                    <a:pt x="187" y="215"/>
                  </a:cubicBezTo>
                  <a:cubicBezTo>
                    <a:pt x="184" y="210"/>
                    <a:pt x="183" y="204"/>
                    <a:pt x="182" y="197"/>
                  </a:cubicBezTo>
                  <a:cubicBezTo>
                    <a:pt x="179" y="184"/>
                    <a:pt x="177" y="170"/>
                    <a:pt x="174" y="157"/>
                  </a:cubicBezTo>
                  <a:cubicBezTo>
                    <a:pt x="172" y="143"/>
                    <a:pt x="169" y="130"/>
                    <a:pt x="164" y="117"/>
                  </a:cubicBezTo>
                  <a:cubicBezTo>
                    <a:pt x="164" y="115"/>
                    <a:pt x="162" y="111"/>
                    <a:pt x="160" y="110"/>
                  </a:cubicBezTo>
                  <a:cubicBezTo>
                    <a:pt x="160" y="102"/>
                    <a:pt x="160" y="95"/>
                    <a:pt x="161" y="87"/>
                  </a:cubicBezTo>
                  <a:cubicBezTo>
                    <a:pt x="161" y="81"/>
                    <a:pt x="161" y="74"/>
                    <a:pt x="164" y="68"/>
                  </a:cubicBezTo>
                  <a:cubicBezTo>
                    <a:pt x="167" y="63"/>
                    <a:pt x="169" y="72"/>
                    <a:pt x="170" y="74"/>
                  </a:cubicBezTo>
                  <a:cubicBezTo>
                    <a:pt x="171" y="78"/>
                    <a:pt x="173" y="80"/>
                    <a:pt x="176" y="82"/>
                  </a:cubicBezTo>
                  <a:cubicBezTo>
                    <a:pt x="183" y="89"/>
                    <a:pt x="187" y="98"/>
                    <a:pt x="189" y="107"/>
                  </a:cubicBezTo>
                  <a:cubicBezTo>
                    <a:pt x="191" y="112"/>
                    <a:pt x="191" y="116"/>
                    <a:pt x="191" y="121"/>
                  </a:cubicBezTo>
                  <a:cubicBezTo>
                    <a:pt x="191" y="123"/>
                    <a:pt x="192" y="125"/>
                    <a:pt x="193" y="127"/>
                  </a:cubicBezTo>
                  <a:cubicBezTo>
                    <a:pt x="194" y="128"/>
                    <a:pt x="196" y="129"/>
                    <a:pt x="197" y="129"/>
                  </a:cubicBezTo>
                  <a:cubicBezTo>
                    <a:pt x="200" y="131"/>
                    <a:pt x="202" y="132"/>
                    <a:pt x="203" y="135"/>
                  </a:cubicBezTo>
                  <a:cubicBezTo>
                    <a:pt x="205" y="139"/>
                    <a:pt x="207" y="143"/>
                    <a:pt x="208" y="146"/>
                  </a:cubicBezTo>
                  <a:cubicBezTo>
                    <a:pt x="212" y="155"/>
                    <a:pt x="214" y="164"/>
                    <a:pt x="213" y="174"/>
                  </a:cubicBezTo>
                  <a:cubicBezTo>
                    <a:pt x="213" y="180"/>
                    <a:pt x="212" y="186"/>
                    <a:pt x="213" y="192"/>
                  </a:cubicBezTo>
                  <a:close/>
                  <a:moveTo>
                    <a:pt x="193" y="242"/>
                  </a:moveTo>
                  <a:cubicBezTo>
                    <a:pt x="193" y="240"/>
                    <a:pt x="192" y="239"/>
                    <a:pt x="192" y="238"/>
                  </a:cubicBezTo>
                  <a:cubicBezTo>
                    <a:pt x="192" y="236"/>
                    <a:pt x="191" y="234"/>
                    <a:pt x="191" y="233"/>
                  </a:cubicBezTo>
                  <a:cubicBezTo>
                    <a:pt x="191" y="232"/>
                    <a:pt x="191" y="232"/>
                    <a:pt x="191" y="232"/>
                  </a:cubicBezTo>
                  <a:cubicBezTo>
                    <a:pt x="192" y="232"/>
                    <a:pt x="192" y="233"/>
                    <a:pt x="193" y="234"/>
                  </a:cubicBezTo>
                  <a:cubicBezTo>
                    <a:pt x="194" y="237"/>
                    <a:pt x="194" y="239"/>
                    <a:pt x="193" y="242"/>
                  </a:cubicBezTo>
                  <a:close/>
                  <a:moveTo>
                    <a:pt x="189" y="237"/>
                  </a:moveTo>
                  <a:cubicBezTo>
                    <a:pt x="189" y="239"/>
                    <a:pt x="190" y="241"/>
                    <a:pt x="190" y="243"/>
                  </a:cubicBezTo>
                  <a:cubicBezTo>
                    <a:pt x="190" y="244"/>
                    <a:pt x="190" y="245"/>
                    <a:pt x="191" y="246"/>
                  </a:cubicBezTo>
                  <a:cubicBezTo>
                    <a:pt x="189" y="248"/>
                    <a:pt x="188" y="251"/>
                    <a:pt x="186" y="254"/>
                  </a:cubicBezTo>
                  <a:cubicBezTo>
                    <a:pt x="186" y="246"/>
                    <a:pt x="183" y="237"/>
                    <a:pt x="181" y="228"/>
                  </a:cubicBezTo>
                  <a:cubicBezTo>
                    <a:pt x="180" y="224"/>
                    <a:pt x="179" y="219"/>
                    <a:pt x="177" y="214"/>
                  </a:cubicBezTo>
                  <a:cubicBezTo>
                    <a:pt x="177" y="214"/>
                    <a:pt x="177" y="215"/>
                    <a:pt x="177" y="215"/>
                  </a:cubicBezTo>
                  <a:cubicBezTo>
                    <a:pt x="181" y="220"/>
                    <a:pt x="185" y="225"/>
                    <a:pt x="190" y="230"/>
                  </a:cubicBezTo>
                  <a:cubicBezTo>
                    <a:pt x="188" y="231"/>
                    <a:pt x="188" y="235"/>
                    <a:pt x="189" y="237"/>
                  </a:cubicBezTo>
                  <a:close/>
                  <a:moveTo>
                    <a:pt x="161" y="121"/>
                  </a:moveTo>
                  <a:cubicBezTo>
                    <a:pt x="162" y="124"/>
                    <a:pt x="163" y="128"/>
                    <a:pt x="165" y="131"/>
                  </a:cubicBezTo>
                  <a:cubicBezTo>
                    <a:pt x="165" y="132"/>
                    <a:pt x="166" y="134"/>
                    <a:pt x="167" y="135"/>
                  </a:cubicBezTo>
                  <a:cubicBezTo>
                    <a:pt x="167" y="136"/>
                    <a:pt x="167" y="137"/>
                    <a:pt x="167" y="138"/>
                  </a:cubicBezTo>
                  <a:cubicBezTo>
                    <a:pt x="170" y="150"/>
                    <a:pt x="172" y="162"/>
                    <a:pt x="174" y="173"/>
                  </a:cubicBezTo>
                  <a:cubicBezTo>
                    <a:pt x="176" y="184"/>
                    <a:pt x="177" y="196"/>
                    <a:pt x="180" y="207"/>
                  </a:cubicBezTo>
                  <a:cubicBezTo>
                    <a:pt x="182" y="213"/>
                    <a:pt x="185" y="218"/>
                    <a:pt x="188" y="223"/>
                  </a:cubicBezTo>
                  <a:cubicBezTo>
                    <a:pt x="186" y="221"/>
                    <a:pt x="184" y="218"/>
                    <a:pt x="182" y="216"/>
                  </a:cubicBezTo>
                  <a:cubicBezTo>
                    <a:pt x="175" y="206"/>
                    <a:pt x="169" y="195"/>
                    <a:pt x="167" y="183"/>
                  </a:cubicBezTo>
                  <a:cubicBezTo>
                    <a:pt x="164" y="171"/>
                    <a:pt x="162" y="159"/>
                    <a:pt x="161" y="148"/>
                  </a:cubicBezTo>
                  <a:cubicBezTo>
                    <a:pt x="160" y="142"/>
                    <a:pt x="160" y="137"/>
                    <a:pt x="159" y="132"/>
                  </a:cubicBezTo>
                  <a:cubicBezTo>
                    <a:pt x="159" y="127"/>
                    <a:pt x="158" y="123"/>
                    <a:pt x="158" y="118"/>
                  </a:cubicBezTo>
                  <a:cubicBezTo>
                    <a:pt x="158" y="118"/>
                    <a:pt x="158" y="118"/>
                    <a:pt x="158" y="117"/>
                  </a:cubicBezTo>
                  <a:cubicBezTo>
                    <a:pt x="159" y="119"/>
                    <a:pt x="160" y="120"/>
                    <a:pt x="161" y="121"/>
                  </a:cubicBezTo>
                  <a:close/>
                  <a:moveTo>
                    <a:pt x="184" y="312"/>
                  </a:moveTo>
                  <a:cubicBezTo>
                    <a:pt x="182" y="304"/>
                    <a:pt x="181" y="297"/>
                    <a:pt x="181" y="290"/>
                  </a:cubicBezTo>
                  <a:cubicBezTo>
                    <a:pt x="181" y="288"/>
                    <a:pt x="181" y="286"/>
                    <a:pt x="182" y="284"/>
                  </a:cubicBezTo>
                  <a:cubicBezTo>
                    <a:pt x="185" y="294"/>
                    <a:pt x="191" y="303"/>
                    <a:pt x="198" y="311"/>
                  </a:cubicBezTo>
                  <a:cubicBezTo>
                    <a:pt x="202" y="315"/>
                    <a:pt x="206" y="320"/>
                    <a:pt x="211" y="324"/>
                  </a:cubicBezTo>
                  <a:cubicBezTo>
                    <a:pt x="210" y="328"/>
                    <a:pt x="211" y="332"/>
                    <a:pt x="209" y="336"/>
                  </a:cubicBezTo>
                  <a:cubicBezTo>
                    <a:pt x="208" y="338"/>
                    <a:pt x="207" y="344"/>
                    <a:pt x="204" y="345"/>
                  </a:cubicBezTo>
                  <a:cubicBezTo>
                    <a:pt x="202" y="347"/>
                    <a:pt x="197" y="345"/>
                    <a:pt x="194" y="344"/>
                  </a:cubicBezTo>
                  <a:cubicBezTo>
                    <a:pt x="192" y="339"/>
                    <a:pt x="189" y="335"/>
                    <a:pt x="188" y="329"/>
                  </a:cubicBezTo>
                  <a:cubicBezTo>
                    <a:pt x="186" y="324"/>
                    <a:pt x="185" y="318"/>
                    <a:pt x="184" y="312"/>
                  </a:cubicBezTo>
                  <a:close/>
                  <a:moveTo>
                    <a:pt x="208" y="347"/>
                  </a:moveTo>
                  <a:cubicBezTo>
                    <a:pt x="210" y="344"/>
                    <a:pt x="211" y="340"/>
                    <a:pt x="212" y="336"/>
                  </a:cubicBezTo>
                  <a:cubicBezTo>
                    <a:pt x="213" y="333"/>
                    <a:pt x="213" y="330"/>
                    <a:pt x="213" y="327"/>
                  </a:cubicBezTo>
                  <a:cubicBezTo>
                    <a:pt x="218" y="331"/>
                    <a:pt x="223" y="335"/>
                    <a:pt x="229" y="338"/>
                  </a:cubicBezTo>
                  <a:cubicBezTo>
                    <a:pt x="230" y="338"/>
                    <a:pt x="230" y="338"/>
                    <a:pt x="231" y="338"/>
                  </a:cubicBezTo>
                  <a:cubicBezTo>
                    <a:pt x="229" y="341"/>
                    <a:pt x="229" y="345"/>
                    <a:pt x="228" y="348"/>
                  </a:cubicBezTo>
                  <a:cubicBezTo>
                    <a:pt x="228" y="354"/>
                    <a:pt x="228" y="359"/>
                    <a:pt x="229" y="364"/>
                  </a:cubicBezTo>
                  <a:cubicBezTo>
                    <a:pt x="230" y="370"/>
                    <a:pt x="234" y="376"/>
                    <a:pt x="235" y="382"/>
                  </a:cubicBezTo>
                  <a:cubicBezTo>
                    <a:pt x="236" y="386"/>
                    <a:pt x="235" y="390"/>
                    <a:pt x="235" y="395"/>
                  </a:cubicBezTo>
                  <a:cubicBezTo>
                    <a:pt x="235" y="400"/>
                    <a:pt x="235" y="405"/>
                    <a:pt x="236" y="410"/>
                  </a:cubicBezTo>
                  <a:cubicBezTo>
                    <a:pt x="236" y="412"/>
                    <a:pt x="236" y="413"/>
                    <a:pt x="236" y="415"/>
                  </a:cubicBezTo>
                  <a:cubicBezTo>
                    <a:pt x="235" y="414"/>
                    <a:pt x="234" y="413"/>
                    <a:pt x="232" y="412"/>
                  </a:cubicBezTo>
                  <a:cubicBezTo>
                    <a:pt x="227" y="411"/>
                    <a:pt x="224" y="414"/>
                    <a:pt x="219" y="414"/>
                  </a:cubicBezTo>
                  <a:cubicBezTo>
                    <a:pt x="217" y="414"/>
                    <a:pt x="215" y="414"/>
                    <a:pt x="214" y="415"/>
                  </a:cubicBezTo>
                  <a:cubicBezTo>
                    <a:pt x="213" y="408"/>
                    <a:pt x="211" y="402"/>
                    <a:pt x="211" y="396"/>
                  </a:cubicBezTo>
                  <a:cubicBezTo>
                    <a:pt x="210" y="390"/>
                    <a:pt x="209" y="384"/>
                    <a:pt x="208" y="377"/>
                  </a:cubicBezTo>
                  <a:cubicBezTo>
                    <a:pt x="207" y="372"/>
                    <a:pt x="206" y="367"/>
                    <a:pt x="203" y="362"/>
                  </a:cubicBezTo>
                  <a:cubicBezTo>
                    <a:pt x="200" y="358"/>
                    <a:pt x="198" y="353"/>
                    <a:pt x="195" y="347"/>
                  </a:cubicBezTo>
                  <a:cubicBezTo>
                    <a:pt x="195" y="347"/>
                    <a:pt x="195" y="347"/>
                    <a:pt x="195" y="347"/>
                  </a:cubicBezTo>
                  <a:cubicBezTo>
                    <a:pt x="200" y="348"/>
                    <a:pt x="204" y="350"/>
                    <a:pt x="208" y="347"/>
                  </a:cubicBezTo>
                  <a:close/>
                  <a:moveTo>
                    <a:pt x="233" y="367"/>
                  </a:moveTo>
                  <a:cubicBezTo>
                    <a:pt x="232" y="361"/>
                    <a:pt x="231" y="355"/>
                    <a:pt x="232" y="348"/>
                  </a:cubicBezTo>
                  <a:cubicBezTo>
                    <a:pt x="232" y="346"/>
                    <a:pt x="233" y="342"/>
                    <a:pt x="233" y="339"/>
                  </a:cubicBezTo>
                  <a:cubicBezTo>
                    <a:pt x="240" y="343"/>
                    <a:pt x="248" y="347"/>
                    <a:pt x="255" y="346"/>
                  </a:cubicBezTo>
                  <a:cubicBezTo>
                    <a:pt x="250" y="353"/>
                    <a:pt x="246" y="361"/>
                    <a:pt x="242" y="368"/>
                  </a:cubicBezTo>
                  <a:cubicBezTo>
                    <a:pt x="240" y="372"/>
                    <a:pt x="239" y="376"/>
                    <a:pt x="238" y="380"/>
                  </a:cubicBezTo>
                  <a:cubicBezTo>
                    <a:pt x="237" y="375"/>
                    <a:pt x="235" y="371"/>
                    <a:pt x="233" y="367"/>
                  </a:cubicBezTo>
                  <a:close/>
                  <a:moveTo>
                    <a:pt x="246" y="367"/>
                  </a:moveTo>
                  <a:cubicBezTo>
                    <a:pt x="252" y="355"/>
                    <a:pt x="260" y="342"/>
                    <a:pt x="271" y="334"/>
                  </a:cubicBezTo>
                  <a:cubicBezTo>
                    <a:pt x="281" y="327"/>
                    <a:pt x="291" y="320"/>
                    <a:pt x="303" y="315"/>
                  </a:cubicBezTo>
                  <a:cubicBezTo>
                    <a:pt x="308" y="314"/>
                    <a:pt x="313" y="312"/>
                    <a:pt x="318" y="311"/>
                  </a:cubicBezTo>
                  <a:cubicBezTo>
                    <a:pt x="325" y="310"/>
                    <a:pt x="331" y="309"/>
                    <a:pt x="338" y="309"/>
                  </a:cubicBezTo>
                  <a:cubicBezTo>
                    <a:pt x="348" y="308"/>
                    <a:pt x="358" y="309"/>
                    <a:pt x="368" y="311"/>
                  </a:cubicBezTo>
                  <a:cubicBezTo>
                    <a:pt x="371" y="311"/>
                    <a:pt x="410" y="317"/>
                    <a:pt x="409" y="321"/>
                  </a:cubicBezTo>
                  <a:cubicBezTo>
                    <a:pt x="409" y="321"/>
                    <a:pt x="409" y="321"/>
                    <a:pt x="409" y="322"/>
                  </a:cubicBezTo>
                  <a:cubicBezTo>
                    <a:pt x="409" y="322"/>
                    <a:pt x="409" y="322"/>
                    <a:pt x="409" y="322"/>
                  </a:cubicBezTo>
                  <a:cubicBezTo>
                    <a:pt x="409" y="322"/>
                    <a:pt x="408" y="323"/>
                    <a:pt x="408" y="324"/>
                  </a:cubicBezTo>
                  <a:cubicBezTo>
                    <a:pt x="408" y="323"/>
                    <a:pt x="408" y="323"/>
                    <a:pt x="408" y="323"/>
                  </a:cubicBezTo>
                  <a:cubicBezTo>
                    <a:pt x="394" y="317"/>
                    <a:pt x="378" y="315"/>
                    <a:pt x="363" y="314"/>
                  </a:cubicBezTo>
                  <a:cubicBezTo>
                    <a:pt x="355" y="314"/>
                    <a:pt x="348" y="315"/>
                    <a:pt x="340" y="314"/>
                  </a:cubicBezTo>
                  <a:cubicBezTo>
                    <a:pt x="333" y="314"/>
                    <a:pt x="327" y="314"/>
                    <a:pt x="320" y="314"/>
                  </a:cubicBezTo>
                  <a:cubicBezTo>
                    <a:pt x="306" y="316"/>
                    <a:pt x="291" y="323"/>
                    <a:pt x="280" y="330"/>
                  </a:cubicBezTo>
                  <a:cubicBezTo>
                    <a:pt x="267" y="338"/>
                    <a:pt x="257" y="349"/>
                    <a:pt x="253" y="363"/>
                  </a:cubicBezTo>
                  <a:cubicBezTo>
                    <a:pt x="252" y="363"/>
                    <a:pt x="254" y="364"/>
                    <a:pt x="254" y="363"/>
                  </a:cubicBezTo>
                  <a:cubicBezTo>
                    <a:pt x="261" y="349"/>
                    <a:pt x="272" y="338"/>
                    <a:pt x="286" y="330"/>
                  </a:cubicBezTo>
                  <a:cubicBezTo>
                    <a:pt x="299" y="324"/>
                    <a:pt x="312" y="317"/>
                    <a:pt x="327" y="317"/>
                  </a:cubicBezTo>
                  <a:cubicBezTo>
                    <a:pt x="333" y="317"/>
                    <a:pt x="340" y="318"/>
                    <a:pt x="347" y="318"/>
                  </a:cubicBezTo>
                  <a:cubicBezTo>
                    <a:pt x="353" y="317"/>
                    <a:pt x="360" y="317"/>
                    <a:pt x="367" y="318"/>
                  </a:cubicBezTo>
                  <a:cubicBezTo>
                    <a:pt x="374" y="319"/>
                    <a:pt x="382" y="320"/>
                    <a:pt x="389" y="321"/>
                  </a:cubicBezTo>
                  <a:cubicBezTo>
                    <a:pt x="395" y="322"/>
                    <a:pt x="402" y="325"/>
                    <a:pt x="408" y="324"/>
                  </a:cubicBezTo>
                  <a:cubicBezTo>
                    <a:pt x="408" y="324"/>
                    <a:pt x="408" y="324"/>
                    <a:pt x="408" y="324"/>
                  </a:cubicBezTo>
                  <a:cubicBezTo>
                    <a:pt x="408" y="325"/>
                    <a:pt x="407" y="327"/>
                    <a:pt x="407" y="328"/>
                  </a:cubicBezTo>
                  <a:cubicBezTo>
                    <a:pt x="401" y="325"/>
                    <a:pt x="394" y="326"/>
                    <a:pt x="387" y="326"/>
                  </a:cubicBezTo>
                  <a:cubicBezTo>
                    <a:pt x="379" y="325"/>
                    <a:pt x="371" y="323"/>
                    <a:pt x="363" y="322"/>
                  </a:cubicBezTo>
                  <a:cubicBezTo>
                    <a:pt x="363" y="322"/>
                    <a:pt x="363" y="323"/>
                    <a:pt x="363" y="323"/>
                  </a:cubicBezTo>
                  <a:cubicBezTo>
                    <a:pt x="369" y="325"/>
                    <a:pt x="377" y="326"/>
                    <a:pt x="384" y="327"/>
                  </a:cubicBezTo>
                  <a:cubicBezTo>
                    <a:pt x="392" y="327"/>
                    <a:pt x="399" y="327"/>
                    <a:pt x="407" y="330"/>
                  </a:cubicBezTo>
                  <a:cubicBezTo>
                    <a:pt x="407" y="330"/>
                    <a:pt x="407" y="331"/>
                    <a:pt x="406" y="331"/>
                  </a:cubicBezTo>
                  <a:cubicBezTo>
                    <a:pt x="402" y="332"/>
                    <a:pt x="399" y="331"/>
                    <a:pt x="395" y="331"/>
                  </a:cubicBezTo>
                  <a:cubicBezTo>
                    <a:pt x="391" y="331"/>
                    <a:pt x="388" y="331"/>
                    <a:pt x="385" y="330"/>
                  </a:cubicBezTo>
                  <a:cubicBezTo>
                    <a:pt x="384" y="330"/>
                    <a:pt x="383" y="331"/>
                    <a:pt x="384" y="331"/>
                  </a:cubicBezTo>
                  <a:cubicBezTo>
                    <a:pt x="387" y="334"/>
                    <a:pt x="390" y="333"/>
                    <a:pt x="394" y="333"/>
                  </a:cubicBezTo>
                  <a:cubicBezTo>
                    <a:pt x="398" y="333"/>
                    <a:pt x="402" y="334"/>
                    <a:pt x="406" y="334"/>
                  </a:cubicBezTo>
                  <a:cubicBezTo>
                    <a:pt x="406" y="335"/>
                    <a:pt x="406" y="336"/>
                    <a:pt x="406" y="337"/>
                  </a:cubicBezTo>
                  <a:cubicBezTo>
                    <a:pt x="406" y="337"/>
                    <a:pt x="406" y="337"/>
                    <a:pt x="405" y="336"/>
                  </a:cubicBezTo>
                  <a:cubicBezTo>
                    <a:pt x="405" y="336"/>
                    <a:pt x="405" y="335"/>
                    <a:pt x="405" y="335"/>
                  </a:cubicBezTo>
                  <a:cubicBezTo>
                    <a:pt x="398" y="336"/>
                    <a:pt x="392" y="337"/>
                    <a:pt x="386" y="338"/>
                  </a:cubicBezTo>
                  <a:cubicBezTo>
                    <a:pt x="381" y="338"/>
                    <a:pt x="375" y="338"/>
                    <a:pt x="370" y="338"/>
                  </a:cubicBezTo>
                  <a:cubicBezTo>
                    <a:pt x="369" y="339"/>
                    <a:pt x="369" y="339"/>
                    <a:pt x="370" y="339"/>
                  </a:cubicBezTo>
                  <a:cubicBezTo>
                    <a:pt x="376" y="340"/>
                    <a:pt x="382" y="339"/>
                    <a:pt x="388" y="338"/>
                  </a:cubicBezTo>
                  <a:cubicBezTo>
                    <a:pt x="393" y="338"/>
                    <a:pt x="398" y="338"/>
                    <a:pt x="403" y="337"/>
                  </a:cubicBezTo>
                  <a:cubicBezTo>
                    <a:pt x="399" y="339"/>
                    <a:pt x="396" y="341"/>
                    <a:pt x="391" y="341"/>
                  </a:cubicBezTo>
                  <a:cubicBezTo>
                    <a:pt x="388" y="342"/>
                    <a:pt x="384" y="342"/>
                    <a:pt x="380" y="343"/>
                  </a:cubicBezTo>
                  <a:cubicBezTo>
                    <a:pt x="372" y="343"/>
                    <a:pt x="365" y="343"/>
                    <a:pt x="357" y="344"/>
                  </a:cubicBezTo>
                  <a:cubicBezTo>
                    <a:pt x="357" y="345"/>
                    <a:pt x="357" y="345"/>
                    <a:pt x="357" y="345"/>
                  </a:cubicBezTo>
                  <a:cubicBezTo>
                    <a:pt x="366" y="345"/>
                    <a:pt x="375" y="345"/>
                    <a:pt x="383" y="344"/>
                  </a:cubicBezTo>
                  <a:cubicBezTo>
                    <a:pt x="387" y="344"/>
                    <a:pt x="391" y="343"/>
                    <a:pt x="395" y="342"/>
                  </a:cubicBezTo>
                  <a:cubicBezTo>
                    <a:pt x="399" y="341"/>
                    <a:pt x="402" y="341"/>
                    <a:pt x="405" y="338"/>
                  </a:cubicBezTo>
                  <a:cubicBezTo>
                    <a:pt x="406" y="338"/>
                    <a:pt x="406" y="338"/>
                    <a:pt x="406" y="338"/>
                  </a:cubicBezTo>
                  <a:cubicBezTo>
                    <a:pt x="406" y="338"/>
                    <a:pt x="406" y="339"/>
                    <a:pt x="406" y="340"/>
                  </a:cubicBezTo>
                  <a:cubicBezTo>
                    <a:pt x="406" y="340"/>
                    <a:pt x="406" y="340"/>
                    <a:pt x="406" y="340"/>
                  </a:cubicBezTo>
                  <a:cubicBezTo>
                    <a:pt x="401" y="339"/>
                    <a:pt x="397" y="343"/>
                    <a:pt x="392" y="344"/>
                  </a:cubicBezTo>
                  <a:cubicBezTo>
                    <a:pt x="389" y="345"/>
                    <a:pt x="385" y="345"/>
                    <a:pt x="382" y="346"/>
                  </a:cubicBezTo>
                  <a:cubicBezTo>
                    <a:pt x="378" y="347"/>
                    <a:pt x="374" y="348"/>
                    <a:pt x="370" y="348"/>
                  </a:cubicBezTo>
                  <a:cubicBezTo>
                    <a:pt x="363" y="348"/>
                    <a:pt x="354" y="348"/>
                    <a:pt x="347" y="347"/>
                  </a:cubicBezTo>
                  <a:cubicBezTo>
                    <a:pt x="339" y="346"/>
                    <a:pt x="331" y="344"/>
                    <a:pt x="324" y="344"/>
                  </a:cubicBezTo>
                  <a:cubicBezTo>
                    <a:pt x="323" y="344"/>
                    <a:pt x="323" y="345"/>
                    <a:pt x="324" y="346"/>
                  </a:cubicBezTo>
                  <a:cubicBezTo>
                    <a:pt x="332" y="348"/>
                    <a:pt x="340" y="348"/>
                    <a:pt x="349" y="349"/>
                  </a:cubicBezTo>
                  <a:cubicBezTo>
                    <a:pt x="355" y="351"/>
                    <a:pt x="362" y="351"/>
                    <a:pt x="368" y="350"/>
                  </a:cubicBezTo>
                  <a:cubicBezTo>
                    <a:pt x="376" y="349"/>
                    <a:pt x="382" y="347"/>
                    <a:pt x="389" y="346"/>
                  </a:cubicBezTo>
                  <a:cubicBezTo>
                    <a:pt x="390" y="346"/>
                    <a:pt x="391" y="345"/>
                    <a:pt x="392" y="345"/>
                  </a:cubicBezTo>
                  <a:cubicBezTo>
                    <a:pt x="390" y="346"/>
                    <a:pt x="388" y="347"/>
                    <a:pt x="386" y="347"/>
                  </a:cubicBezTo>
                  <a:cubicBezTo>
                    <a:pt x="379" y="349"/>
                    <a:pt x="371" y="350"/>
                    <a:pt x="365" y="353"/>
                  </a:cubicBezTo>
                  <a:cubicBezTo>
                    <a:pt x="364" y="353"/>
                    <a:pt x="364" y="353"/>
                    <a:pt x="365" y="353"/>
                  </a:cubicBezTo>
                  <a:cubicBezTo>
                    <a:pt x="368" y="354"/>
                    <a:pt x="372" y="352"/>
                    <a:pt x="375" y="352"/>
                  </a:cubicBezTo>
                  <a:cubicBezTo>
                    <a:pt x="381" y="350"/>
                    <a:pt x="386" y="349"/>
                    <a:pt x="392" y="347"/>
                  </a:cubicBezTo>
                  <a:cubicBezTo>
                    <a:pt x="393" y="347"/>
                    <a:pt x="406" y="343"/>
                    <a:pt x="406" y="341"/>
                  </a:cubicBezTo>
                  <a:cubicBezTo>
                    <a:pt x="406" y="341"/>
                    <a:pt x="406" y="341"/>
                    <a:pt x="406" y="341"/>
                  </a:cubicBezTo>
                  <a:cubicBezTo>
                    <a:pt x="406" y="342"/>
                    <a:pt x="406" y="343"/>
                    <a:pt x="406" y="344"/>
                  </a:cubicBezTo>
                  <a:cubicBezTo>
                    <a:pt x="405" y="344"/>
                    <a:pt x="403" y="345"/>
                    <a:pt x="401" y="346"/>
                  </a:cubicBezTo>
                  <a:cubicBezTo>
                    <a:pt x="400" y="347"/>
                    <a:pt x="398" y="348"/>
                    <a:pt x="397" y="350"/>
                  </a:cubicBezTo>
                  <a:cubicBezTo>
                    <a:pt x="396" y="350"/>
                    <a:pt x="397" y="350"/>
                    <a:pt x="397" y="350"/>
                  </a:cubicBezTo>
                  <a:cubicBezTo>
                    <a:pt x="395" y="350"/>
                    <a:pt x="393" y="351"/>
                    <a:pt x="392" y="352"/>
                  </a:cubicBezTo>
                  <a:cubicBezTo>
                    <a:pt x="387" y="353"/>
                    <a:pt x="382" y="356"/>
                    <a:pt x="378" y="359"/>
                  </a:cubicBezTo>
                  <a:cubicBezTo>
                    <a:pt x="368" y="365"/>
                    <a:pt x="358" y="370"/>
                    <a:pt x="347" y="372"/>
                  </a:cubicBezTo>
                  <a:cubicBezTo>
                    <a:pt x="346" y="372"/>
                    <a:pt x="346" y="373"/>
                    <a:pt x="347" y="373"/>
                  </a:cubicBezTo>
                  <a:cubicBezTo>
                    <a:pt x="352" y="373"/>
                    <a:pt x="357" y="372"/>
                    <a:pt x="362" y="370"/>
                  </a:cubicBezTo>
                  <a:cubicBezTo>
                    <a:pt x="367" y="368"/>
                    <a:pt x="373" y="365"/>
                    <a:pt x="377" y="362"/>
                  </a:cubicBezTo>
                  <a:cubicBezTo>
                    <a:pt x="383" y="358"/>
                    <a:pt x="389" y="355"/>
                    <a:pt x="396" y="353"/>
                  </a:cubicBezTo>
                  <a:cubicBezTo>
                    <a:pt x="399" y="352"/>
                    <a:pt x="404" y="352"/>
                    <a:pt x="407" y="350"/>
                  </a:cubicBezTo>
                  <a:cubicBezTo>
                    <a:pt x="407" y="350"/>
                    <a:pt x="407" y="351"/>
                    <a:pt x="407" y="352"/>
                  </a:cubicBezTo>
                  <a:cubicBezTo>
                    <a:pt x="406" y="352"/>
                    <a:pt x="404" y="352"/>
                    <a:pt x="403" y="353"/>
                  </a:cubicBezTo>
                  <a:cubicBezTo>
                    <a:pt x="403" y="353"/>
                    <a:pt x="403" y="353"/>
                    <a:pt x="403" y="353"/>
                  </a:cubicBezTo>
                  <a:cubicBezTo>
                    <a:pt x="404" y="353"/>
                    <a:pt x="406" y="353"/>
                    <a:pt x="407" y="352"/>
                  </a:cubicBezTo>
                  <a:cubicBezTo>
                    <a:pt x="407" y="352"/>
                    <a:pt x="407" y="352"/>
                    <a:pt x="408" y="352"/>
                  </a:cubicBezTo>
                  <a:cubicBezTo>
                    <a:pt x="408" y="353"/>
                    <a:pt x="408" y="353"/>
                    <a:pt x="408" y="354"/>
                  </a:cubicBezTo>
                  <a:cubicBezTo>
                    <a:pt x="408" y="354"/>
                    <a:pt x="408" y="354"/>
                    <a:pt x="408" y="354"/>
                  </a:cubicBezTo>
                  <a:cubicBezTo>
                    <a:pt x="405" y="354"/>
                    <a:pt x="402" y="356"/>
                    <a:pt x="400" y="357"/>
                  </a:cubicBezTo>
                  <a:cubicBezTo>
                    <a:pt x="399" y="358"/>
                    <a:pt x="400" y="358"/>
                    <a:pt x="400" y="358"/>
                  </a:cubicBezTo>
                  <a:cubicBezTo>
                    <a:pt x="403" y="357"/>
                    <a:pt x="406" y="357"/>
                    <a:pt x="408" y="355"/>
                  </a:cubicBezTo>
                  <a:cubicBezTo>
                    <a:pt x="408" y="355"/>
                    <a:pt x="408" y="355"/>
                    <a:pt x="408" y="355"/>
                  </a:cubicBezTo>
                  <a:cubicBezTo>
                    <a:pt x="409" y="360"/>
                    <a:pt x="411" y="365"/>
                    <a:pt x="412" y="370"/>
                  </a:cubicBezTo>
                  <a:cubicBezTo>
                    <a:pt x="403" y="375"/>
                    <a:pt x="397" y="386"/>
                    <a:pt x="391" y="394"/>
                  </a:cubicBezTo>
                  <a:cubicBezTo>
                    <a:pt x="391" y="394"/>
                    <a:pt x="391" y="395"/>
                    <a:pt x="391" y="395"/>
                  </a:cubicBezTo>
                  <a:cubicBezTo>
                    <a:pt x="395" y="391"/>
                    <a:pt x="398" y="386"/>
                    <a:pt x="402" y="382"/>
                  </a:cubicBezTo>
                  <a:cubicBezTo>
                    <a:pt x="405" y="379"/>
                    <a:pt x="409" y="375"/>
                    <a:pt x="413" y="371"/>
                  </a:cubicBezTo>
                  <a:cubicBezTo>
                    <a:pt x="414" y="375"/>
                    <a:pt x="415" y="378"/>
                    <a:pt x="416" y="381"/>
                  </a:cubicBezTo>
                  <a:cubicBezTo>
                    <a:pt x="412" y="382"/>
                    <a:pt x="406" y="387"/>
                    <a:pt x="403" y="389"/>
                  </a:cubicBezTo>
                  <a:cubicBezTo>
                    <a:pt x="398" y="393"/>
                    <a:pt x="392" y="399"/>
                    <a:pt x="389" y="405"/>
                  </a:cubicBezTo>
                  <a:cubicBezTo>
                    <a:pt x="389" y="406"/>
                    <a:pt x="390" y="407"/>
                    <a:pt x="390" y="406"/>
                  </a:cubicBezTo>
                  <a:cubicBezTo>
                    <a:pt x="394" y="400"/>
                    <a:pt x="398" y="396"/>
                    <a:pt x="404" y="391"/>
                  </a:cubicBezTo>
                  <a:cubicBezTo>
                    <a:pt x="406" y="389"/>
                    <a:pt x="410" y="386"/>
                    <a:pt x="413" y="385"/>
                  </a:cubicBezTo>
                  <a:cubicBezTo>
                    <a:pt x="414" y="384"/>
                    <a:pt x="416" y="384"/>
                    <a:pt x="417" y="383"/>
                  </a:cubicBezTo>
                  <a:cubicBezTo>
                    <a:pt x="417" y="384"/>
                    <a:pt x="417" y="385"/>
                    <a:pt x="418" y="386"/>
                  </a:cubicBezTo>
                  <a:cubicBezTo>
                    <a:pt x="413" y="387"/>
                    <a:pt x="407" y="395"/>
                    <a:pt x="404" y="398"/>
                  </a:cubicBezTo>
                  <a:cubicBezTo>
                    <a:pt x="402" y="401"/>
                    <a:pt x="399" y="404"/>
                    <a:pt x="396" y="407"/>
                  </a:cubicBezTo>
                  <a:cubicBezTo>
                    <a:pt x="393" y="412"/>
                    <a:pt x="389" y="417"/>
                    <a:pt x="387" y="422"/>
                  </a:cubicBezTo>
                  <a:cubicBezTo>
                    <a:pt x="387" y="423"/>
                    <a:pt x="388" y="423"/>
                    <a:pt x="388" y="422"/>
                  </a:cubicBezTo>
                  <a:cubicBezTo>
                    <a:pt x="392" y="419"/>
                    <a:pt x="393" y="414"/>
                    <a:pt x="396" y="410"/>
                  </a:cubicBezTo>
                  <a:cubicBezTo>
                    <a:pt x="399" y="406"/>
                    <a:pt x="401" y="403"/>
                    <a:pt x="404" y="400"/>
                  </a:cubicBezTo>
                  <a:cubicBezTo>
                    <a:pt x="407" y="397"/>
                    <a:pt x="410" y="394"/>
                    <a:pt x="412" y="392"/>
                  </a:cubicBezTo>
                  <a:cubicBezTo>
                    <a:pt x="414" y="390"/>
                    <a:pt x="416" y="388"/>
                    <a:pt x="418" y="387"/>
                  </a:cubicBezTo>
                  <a:cubicBezTo>
                    <a:pt x="419" y="389"/>
                    <a:pt x="419" y="390"/>
                    <a:pt x="420" y="392"/>
                  </a:cubicBezTo>
                  <a:cubicBezTo>
                    <a:pt x="415" y="394"/>
                    <a:pt x="413" y="399"/>
                    <a:pt x="409" y="402"/>
                  </a:cubicBezTo>
                  <a:cubicBezTo>
                    <a:pt x="407" y="404"/>
                    <a:pt x="402" y="409"/>
                    <a:pt x="404" y="412"/>
                  </a:cubicBezTo>
                  <a:cubicBezTo>
                    <a:pt x="404" y="413"/>
                    <a:pt x="404" y="413"/>
                    <a:pt x="404" y="412"/>
                  </a:cubicBezTo>
                  <a:cubicBezTo>
                    <a:pt x="407" y="408"/>
                    <a:pt x="408" y="404"/>
                    <a:pt x="412" y="400"/>
                  </a:cubicBezTo>
                  <a:cubicBezTo>
                    <a:pt x="415" y="398"/>
                    <a:pt x="418" y="395"/>
                    <a:pt x="420" y="393"/>
                  </a:cubicBezTo>
                  <a:cubicBezTo>
                    <a:pt x="421" y="394"/>
                    <a:pt x="422" y="396"/>
                    <a:pt x="423" y="397"/>
                  </a:cubicBezTo>
                  <a:cubicBezTo>
                    <a:pt x="421" y="399"/>
                    <a:pt x="419" y="403"/>
                    <a:pt x="418" y="405"/>
                  </a:cubicBezTo>
                  <a:cubicBezTo>
                    <a:pt x="418" y="406"/>
                    <a:pt x="419" y="406"/>
                    <a:pt x="419" y="406"/>
                  </a:cubicBezTo>
                  <a:cubicBezTo>
                    <a:pt x="421" y="404"/>
                    <a:pt x="422" y="401"/>
                    <a:pt x="424" y="398"/>
                  </a:cubicBezTo>
                  <a:cubicBezTo>
                    <a:pt x="424" y="399"/>
                    <a:pt x="424" y="400"/>
                    <a:pt x="425" y="400"/>
                  </a:cubicBezTo>
                  <a:cubicBezTo>
                    <a:pt x="426" y="402"/>
                    <a:pt x="428" y="404"/>
                    <a:pt x="429" y="405"/>
                  </a:cubicBezTo>
                  <a:cubicBezTo>
                    <a:pt x="428" y="407"/>
                    <a:pt x="427" y="409"/>
                    <a:pt x="426" y="410"/>
                  </a:cubicBezTo>
                  <a:cubicBezTo>
                    <a:pt x="424" y="414"/>
                    <a:pt x="421" y="417"/>
                    <a:pt x="419" y="421"/>
                  </a:cubicBezTo>
                  <a:cubicBezTo>
                    <a:pt x="413" y="430"/>
                    <a:pt x="407" y="439"/>
                    <a:pt x="399" y="447"/>
                  </a:cubicBezTo>
                  <a:cubicBezTo>
                    <a:pt x="384" y="462"/>
                    <a:pt x="366" y="470"/>
                    <a:pt x="347" y="478"/>
                  </a:cubicBezTo>
                  <a:cubicBezTo>
                    <a:pt x="347" y="478"/>
                    <a:pt x="347" y="478"/>
                    <a:pt x="347" y="478"/>
                  </a:cubicBezTo>
                  <a:cubicBezTo>
                    <a:pt x="342" y="480"/>
                    <a:pt x="337" y="482"/>
                    <a:pt x="331" y="483"/>
                  </a:cubicBezTo>
                  <a:cubicBezTo>
                    <a:pt x="330" y="483"/>
                    <a:pt x="329" y="484"/>
                    <a:pt x="328" y="484"/>
                  </a:cubicBezTo>
                  <a:cubicBezTo>
                    <a:pt x="313" y="486"/>
                    <a:pt x="298" y="483"/>
                    <a:pt x="285" y="475"/>
                  </a:cubicBezTo>
                  <a:cubicBezTo>
                    <a:pt x="281" y="472"/>
                    <a:pt x="275" y="468"/>
                    <a:pt x="272" y="464"/>
                  </a:cubicBezTo>
                  <a:cubicBezTo>
                    <a:pt x="270" y="461"/>
                    <a:pt x="268" y="456"/>
                    <a:pt x="264" y="454"/>
                  </a:cubicBezTo>
                  <a:cubicBezTo>
                    <a:pt x="254" y="449"/>
                    <a:pt x="253" y="437"/>
                    <a:pt x="250" y="427"/>
                  </a:cubicBezTo>
                  <a:cubicBezTo>
                    <a:pt x="249" y="426"/>
                    <a:pt x="248" y="426"/>
                    <a:pt x="248" y="427"/>
                  </a:cubicBezTo>
                  <a:cubicBezTo>
                    <a:pt x="248" y="432"/>
                    <a:pt x="249" y="438"/>
                    <a:pt x="250" y="444"/>
                  </a:cubicBezTo>
                  <a:cubicBezTo>
                    <a:pt x="250" y="443"/>
                    <a:pt x="249" y="443"/>
                    <a:pt x="249" y="442"/>
                  </a:cubicBezTo>
                  <a:cubicBezTo>
                    <a:pt x="247" y="439"/>
                    <a:pt x="245" y="436"/>
                    <a:pt x="244" y="432"/>
                  </a:cubicBezTo>
                  <a:cubicBezTo>
                    <a:pt x="242" y="425"/>
                    <a:pt x="240" y="417"/>
                    <a:pt x="239" y="410"/>
                  </a:cubicBezTo>
                  <a:cubicBezTo>
                    <a:pt x="237" y="395"/>
                    <a:pt x="240" y="381"/>
                    <a:pt x="246" y="367"/>
                  </a:cubicBezTo>
                  <a:close/>
                  <a:moveTo>
                    <a:pt x="407" y="347"/>
                  </a:moveTo>
                  <a:cubicBezTo>
                    <a:pt x="406" y="347"/>
                    <a:pt x="406" y="348"/>
                    <a:pt x="406" y="348"/>
                  </a:cubicBezTo>
                  <a:cubicBezTo>
                    <a:pt x="406" y="347"/>
                    <a:pt x="402" y="348"/>
                    <a:pt x="401" y="349"/>
                  </a:cubicBezTo>
                  <a:cubicBezTo>
                    <a:pt x="400" y="349"/>
                    <a:pt x="399" y="349"/>
                    <a:pt x="398" y="350"/>
                  </a:cubicBezTo>
                  <a:cubicBezTo>
                    <a:pt x="399" y="349"/>
                    <a:pt x="401" y="348"/>
                    <a:pt x="402" y="347"/>
                  </a:cubicBezTo>
                  <a:cubicBezTo>
                    <a:pt x="404" y="346"/>
                    <a:pt x="405" y="346"/>
                    <a:pt x="406" y="345"/>
                  </a:cubicBezTo>
                  <a:cubicBezTo>
                    <a:pt x="406" y="346"/>
                    <a:pt x="407" y="347"/>
                    <a:pt x="407" y="347"/>
                  </a:cubicBezTo>
                  <a:close/>
                  <a:moveTo>
                    <a:pt x="449" y="263"/>
                  </a:moveTo>
                  <a:cubicBezTo>
                    <a:pt x="449" y="261"/>
                    <a:pt x="449" y="258"/>
                    <a:pt x="450" y="256"/>
                  </a:cubicBezTo>
                  <a:cubicBezTo>
                    <a:pt x="450" y="256"/>
                    <a:pt x="450" y="256"/>
                    <a:pt x="450" y="256"/>
                  </a:cubicBezTo>
                  <a:cubicBezTo>
                    <a:pt x="451" y="257"/>
                    <a:pt x="452" y="259"/>
                    <a:pt x="452" y="261"/>
                  </a:cubicBezTo>
                  <a:cubicBezTo>
                    <a:pt x="452" y="261"/>
                    <a:pt x="451" y="262"/>
                    <a:pt x="451" y="263"/>
                  </a:cubicBezTo>
                  <a:cubicBezTo>
                    <a:pt x="450" y="266"/>
                    <a:pt x="451" y="268"/>
                    <a:pt x="451" y="271"/>
                  </a:cubicBezTo>
                  <a:cubicBezTo>
                    <a:pt x="451" y="273"/>
                    <a:pt x="451" y="276"/>
                    <a:pt x="452" y="278"/>
                  </a:cubicBezTo>
                  <a:cubicBezTo>
                    <a:pt x="451" y="278"/>
                    <a:pt x="451" y="278"/>
                    <a:pt x="451" y="279"/>
                  </a:cubicBezTo>
                  <a:cubicBezTo>
                    <a:pt x="451" y="278"/>
                    <a:pt x="451" y="278"/>
                    <a:pt x="451" y="278"/>
                  </a:cubicBezTo>
                  <a:cubicBezTo>
                    <a:pt x="449" y="273"/>
                    <a:pt x="449" y="268"/>
                    <a:pt x="449" y="263"/>
                  </a:cubicBezTo>
                  <a:close/>
                  <a:moveTo>
                    <a:pt x="448" y="255"/>
                  </a:moveTo>
                  <a:cubicBezTo>
                    <a:pt x="448" y="252"/>
                    <a:pt x="448" y="248"/>
                    <a:pt x="448" y="245"/>
                  </a:cubicBezTo>
                  <a:cubicBezTo>
                    <a:pt x="448" y="246"/>
                    <a:pt x="448" y="248"/>
                    <a:pt x="449" y="249"/>
                  </a:cubicBezTo>
                  <a:cubicBezTo>
                    <a:pt x="449" y="250"/>
                    <a:pt x="449" y="252"/>
                    <a:pt x="450" y="253"/>
                  </a:cubicBezTo>
                  <a:cubicBezTo>
                    <a:pt x="449" y="253"/>
                    <a:pt x="448" y="254"/>
                    <a:pt x="448" y="255"/>
                  </a:cubicBezTo>
                  <a:close/>
                  <a:moveTo>
                    <a:pt x="450" y="283"/>
                  </a:moveTo>
                  <a:cubicBezTo>
                    <a:pt x="456" y="280"/>
                    <a:pt x="463" y="279"/>
                    <a:pt x="469" y="277"/>
                  </a:cubicBezTo>
                  <a:cubicBezTo>
                    <a:pt x="477" y="274"/>
                    <a:pt x="485" y="272"/>
                    <a:pt x="493" y="271"/>
                  </a:cubicBezTo>
                  <a:cubicBezTo>
                    <a:pt x="501" y="270"/>
                    <a:pt x="509" y="271"/>
                    <a:pt x="517" y="274"/>
                  </a:cubicBezTo>
                  <a:cubicBezTo>
                    <a:pt x="526" y="276"/>
                    <a:pt x="535" y="277"/>
                    <a:pt x="542" y="281"/>
                  </a:cubicBezTo>
                  <a:cubicBezTo>
                    <a:pt x="549" y="284"/>
                    <a:pt x="556" y="289"/>
                    <a:pt x="562" y="293"/>
                  </a:cubicBezTo>
                  <a:cubicBezTo>
                    <a:pt x="570" y="298"/>
                    <a:pt x="577" y="303"/>
                    <a:pt x="582" y="312"/>
                  </a:cubicBezTo>
                  <a:cubicBezTo>
                    <a:pt x="586" y="318"/>
                    <a:pt x="589" y="323"/>
                    <a:pt x="594" y="328"/>
                  </a:cubicBezTo>
                  <a:cubicBezTo>
                    <a:pt x="594" y="329"/>
                    <a:pt x="594" y="329"/>
                    <a:pt x="594" y="329"/>
                  </a:cubicBezTo>
                  <a:cubicBezTo>
                    <a:pt x="594" y="329"/>
                    <a:pt x="594" y="329"/>
                    <a:pt x="595" y="330"/>
                  </a:cubicBezTo>
                  <a:cubicBezTo>
                    <a:pt x="595" y="330"/>
                    <a:pt x="596" y="330"/>
                    <a:pt x="596" y="330"/>
                  </a:cubicBezTo>
                  <a:cubicBezTo>
                    <a:pt x="596" y="336"/>
                    <a:pt x="597" y="343"/>
                    <a:pt x="598" y="349"/>
                  </a:cubicBezTo>
                  <a:cubicBezTo>
                    <a:pt x="599" y="353"/>
                    <a:pt x="600" y="358"/>
                    <a:pt x="602" y="363"/>
                  </a:cubicBezTo>
                  <a:cubicBezTo>
                    <a:pt x="600" y="362"/>
                    <a:pt x="598" y="361"/>
                    <a:pt x="596" y="360"/>
                  </a:cubicBezTo>
                  <a:cubicBezTo>
                    <a:pt x="593" y="359"/>
                    <a:pt x="590" y="358"/>
                    <a:pt x="587" y="358"/>
                  </a:cubicBezTo>
                  <a:cubicBezTo>
                    <a:pt x="586" y="357"/>
                    <a:pt x="585" y="356"/>
                    <a:pt x="584" y="356"/>
                  </a:cubicBezTo>
                  <a:cubicBezTo>
                    <a:pt x="582" y="355"/>
                    <a:pt x="579" y="354"/>
                    <a:pt x="577" y="354"/>
                  </a:cubicBezTo>
                  <a:cubicBezTo>
                    <a:pt x="577" y="354"/>
                    <a:pt x="576" y="354"/>
                    <a:pt x="577" y="354"/>
                  </a:cubicBezTo>
                  <a:cubicBezTo>
                    <a:pt x="578" y="355"/>
                    <a:pt x="580" y="356"/>
                    <a:pt x="582" y="356"/>
                  </a:cubicBezTo>
                  <a:cubicBezTo>
                    <a:pt x="582" y="356"/>
                    <a:pt x="584" y="357"/>
                    <a:pt x="586" y="357"/>
                  </a:cubicBezTo>
                  <a:cubicBezTo>
                    <a:pt x="582" y="356"/>
                    <a:pt x="579" y="356"/>
                    <a:pt x="575" y="356"/>
                  </a:cubicBezTo>
                  <a:cubicBezTo>
                    <a:pt x="568" y="357"/>
                    <a:pt x="560" y="361"/>
                    <a:pt x="553" y="366"/>
                  </a:cubicBezTo>
                  <a:cubicBezTo>
                    <a:pt x="544" y="369"/>
                    <a:pt x="536" y="371"/>
                    <a:pt x="526" y="374"/>
                  </a:cubicBezTo>
                  <a:cubicBezTo>
                    <a:pt x="521" y="375"/>
                    <a:pt x="516" y="376"/>
                    <a:pt x="510" y="378"/>
                  </a:cubicBezTo>
                  <a:cubicBezTo>
                    <a:pt x="508" y="379"/>
                    <a:pt x="505" y="380"/>
                    <a:pt x="502" y="381"/>
                  </a:cubicBezTo>
                  <a:cubicBezTo>
                    <a:pt x="501" y="381"/>
                    <a:pt x="501" y="382"/>
                    <a:pt x="500" y="382"/>
                  </a:cubicBezTo>
                  <a:cubicBezTo>
                    <a:pt x="500" y="382"/>
                    <a:pt x="500" y="382"/>
                    <a:pt x="500" y="382"/>
                  </a:cubicBezTo>
                  <a:cubicBezTo>
                    <a:pt x="500" y="383"/>
                    <a:pt x="500" y="383"/>
                    <a:pt x="500" y="383"/>
                  </a:cubicBezTo>
                  <a:cubicBezTo>
                    <a:pt x="504" y="385"/>
                    <a:pt x="510" y="380"/>
                    <a:pt x="513" y="379"/>
                  </a:cubicBezTo>
                  <a:cubicBezTo>
                    <a:pt x="518" y="378"/>
                    <a:pt x="523" y="377"/>
                    <a:pt x="529" y="375"/>
                  </a:cubicBezTo>
                  <a:cubicBezTo>
                    <a:pt x="534" y="374"/>
                    <a:pt x="540" y="372"/>
                    <a:pt x="546" y="370"/>
                  </a:cubicBezTo>
                  <a:cubicBezTo>
                    <a:pt x="547" y="370"/>
                    <a:pt x="548" y="370"/>
                    <a:pt x="550" y="369"/>
                  </a:cubicBezTo>
                  <a:cubicBezTo>
                    <a:pt x="549" y="370"/>
                    <a:pt x="548" y="371"/>
                    <a:pt x="547" y="372"/>
                  </a:cubicBezTo>
                  <a:cubicBezTo>
                    <a:pt x="543" y="374"/>
                    <a:pt x="539" y="377"/>
                    <a:pt x="535" y="379"/>
                  </a:cubicBezTo>
                  <a:cubicBezTo>
                    <a:pt x="531" y="381"/>
                    <a:pt x="526" y="382"/>
                    <a:pt x="521" y="384"/>
                  </a:cubicBezTo>
                  <a:cubicBezTo>
                    <a:pt x="517" y="386"/>
                    <a:pt x="513" y="388"/>
                    <a:pt x="508" y="389"/>
                  </a:cubicBezTo>
                  <a:cubicBezTo>
                    <a:pt x="507" y="390"/>
                    <a:pt x="505" y="391"/>
                    <a:pt x="503" y="392"/>
                  </a:cubicBezTo>
                  <a:cubicBezTo>
                    <a:pt x="502" y="392"/>
                    <a:pt x="499" y="394"/>
                    <a:pt x="498" y="394"/>
                  </a:cubicBezTo>
                  <a:cubicBezTo>
                    <a:pt x="498" y="394"/>
                    <a:pt x="498" y="394"/>
                    <a:pt x="498" y="394"/>
                  </a:cubicBezTo>
                  <a:cubicBezTo>
                    <a:pt x="497" y="394"/>
                    <a:pt x="496" y="395"/>
                    <a:pt x="497" y="396"/>
                  </a:cubicBezTo>
                  <a:cubicBezTo>
                    <a:pt x="497" y="396"/>
                    <a:pt x="497" y="396"/>
                    <a:pt x="497" y="396"/>
                  </a:cubicBezTo>
                  <a:cubicBezTo>
                    <a:pt x="497" y="396"/>
                    <a:pt x="498" y="396"/>
                    <a:pt x="499" y="396"/>
                  </a:cubicBezTo>
                  <a:cubicBezTo>
                    <a:pt x="507" y="392"/>
                    <a:pt x="516" y="388"/>
                    <a:pt x="525" y="384"/>
                  </a:cubicBezTo>
                  <a:cubicBezTo>
                    <a:pt x="532" y="381"/>
                    <a:pt x="540" y="378"/>
                    <a:pt x="546" y="374"/>
                  </a:cubicBezTo>
                  <a:cubicBezTo>
                    <a:pt x="546" y="374"/>
                    <a:pt x="546" y="374"/>
                    <a:pt x="546" y="374"/>
                  </a:cubicBezTo>
                  <a:cubicBezTo>
                    <a:pt x="544" y="376"/>
                    <a:pt x="543" y="379"/>
                    <a:pt x="542" y="381"/>
                  </a:cubicBezTo>
                  <a:cubicBezTo>
                    <a:pt x="542" y="381"/>
                    <a:pt x="542" y="381"/>
                    <a:pt x="542" y="382"/>
                  </a:cubicBezTo>
                  <a:cubicBezTo>
                    <a:pt x="535" y="386"/>
                    <a:pt x="529" y="392"/>
                    <a:pt x="523" y="397"/>
                  </a:cubicBezTo>
                  <a:cubicBezTo>
                    <a:pt x="519" y="401"/>
                    <a:pt x="515" y="406"/>
                    <a:pt x="510" y="408"/>
                  </a:cubicBezTo>
                  <a:cubicBezTo>
                    <a:pt x="507" y="409"/>
                    <a:pt x="505" y="409"/>
                    <a:pt x="504" y="411"/>
                  </a:cubicBezTo>
                  <a:cubicBezTo>
                    <a:pt x="504" y="412"/>
                    <a:pt x="504" y="413"/>
                    <a:pt x="505" y="412"/>
                  </a:cubicBezTo>
                  <a:cubicBezTo>
                    <a:pt x="512" y="408"/>
                    <a:pt x="518" y="403"/>
                    <a:pt x="524" y="398"/>
                  </a:cubicBezTo>
                  <a:cubicBezTo>
                    <a:pt x="528" y="395"/>
                    <a:pt x="532" y="393"/>
                    <a:pt x="535" y="390"/>
                  </a:cubicBezTo>
                  <a:cubicBezTo>
                    <a:pt x="536" y="389"/>
                    <a:pt x="539" y="387"/>
                    <a:pt x="541" y="385"/>
                  </a:cubicBezTo>
                  <a:cubicBezTo>
                    <a:pt x="540" y="387"/>
                    <a:pt x="540" y="389"/>
                    <a:pt x="539" y="391"/>
                  </a:cubicBezTo>
                  <a:cubicBezTo>
                    <a:pt x="539" y="391"/>
                    <a:pt x="539" y="391"/>
                    <a:pt x="539" y="391"/>
                  </a:cubicBezTo>
                  <a:cubicBezTo>
                    <a:pt x="536" y="392"/>
                    <a:pt x="534" y="394"/>
                    <a:pt x="532" y="397"/>
                  </a:cubicBezTo>
                  <a:cubicBezTo>
                    <a:pt x="529" y="400"/>
                    <a:pt x="526" y="403"/>
                    <a:pt x="524" y="407"/>
                  </a:cubicBezTo>
                  <a:cubicBezTo>
                    <a:pt x="522" y="409"/>
                    <a:pt x="521" y="413"/>
                    <a:pt x="519" y="415"/>
                  </a:cubicBezTo>
                  <a:cubicBezTo>
                    <a:pt x="517" y="417"/>
                    <a:pt x="515" y="418"/>
                    <a:pt x="512" y="420"/>
                  </a:cubicBezTo>
                  <a:cubicBezTo>
                    <a:pt x="510" y="422"/>
                    <a:pt x="507" y="424"/>
                    <a:pt x="507" y="428"/>
                  </a:cubicBezTo>
                  <a:cubicBezTo>
                    <a:pt x="507" y="428"/>
                    <a:pt x="508" y="428"/>
                    <a:pt x="508" y="428"/>
                  </a:cubicBezTo>
                  <a:cubicBezTo>
                    <a:pt x="510" y="422"/>
                    <a:pt x="515" y="421"/>
                    <a:pt x="518" y="417"/>
                  </a:cubicBezTo>
                  <a:cubicBezTo>
                    <a:pt x="521" y="414"/>
                    <a:pt x="523" y="411"/>
                    <a:pt x="525" y="408"/>
                  </a:cubicBezTo>
                  <a:cubicBezTo>
                    <a:pt x="529" y="402"/>
                    <a:pt x="534" y="397"/>
                    <a:pt x="539" y="392"/>
                  </a:cubicBezTo>
                  <a:cubicBezTo>
                    <a:pt x="538" y="395"/>
                    <a:pt x="537" y="397"/>
                    <a:pt x="536" y="400"/>
                  </a:cubicBezTo>
                  <a:cubicBezTo>
                    <a:pt x="536" y="401"/>
                    <a:pt x="535" y="403"/>
                    <a:pt x="535" y="404"/>
                  </a:cubicBezTo>
                  <a:cubicBezTo>
                    <a:pt x="535" y="404"/>
                    <a:pt x="535" y="404"/>
                    <a:pt x="535" y="404"/>
                  </a:cubicBezTo>
                  <a:cubicBezTo>
                    <a:pt x="533" y="406"/>
                    <a:pt x="530" y="408"/>
                    <a:pt x="529" y="411"/>
                  </a:cubicBezTo>
                  <a:cubicBezTo>
                    <a:pt x="529" y="411"/>
                    <a:pt x="530" y="411"/>
                    <a:pt x="530" y="411"/>
                  </a:cubicBezTo>
                  <a:cubicBezTo>
                    <a:pt x="532" y="409"/>
                    <a:pt x="533" y="407"/>
                    <a:pt x="535" y="405"/>
                  </a:cubicBezTo>
                  <a:cubicBezTo>
                    <a:pt x="533" y="415"/>
                    <a:pt x="535" y="424"/>
                    <a:pt x="539" y="435"/>
                  </a:cubicBezTo>
                  <a:cubicBezTo>
                    <a:pt x="541" y="440"/>
                    <a:pt x="542" y="445"/>
                    <a:pt x="544" y="450"/>
                  </a:cubicBezTo>
                  <a:cubicBezTo>
                    <a:pt x="538" y="455"/>
                    <a:pt x="528" y="454"/>
                    <a:pt x="521" y="453"/>
                  </a:cubicBezTo>
                  <a:cubicBezTo>
                    <a:pt x="512" y="452"/>
                    <a:pt x="503" y="450"/>
                    <a:pt x="494" y="448"/>
                  </a:cubicBezTo>
                  <a:cubicBezTo>
                    <a:pt x="486" y="445"/>
                    <a:pt x="478" y="440"/>
                    <a:pt x="470" y="436"/>
                  </a:cubicBezTo>
                  <a:cubicBezTo>
                    <a:pt x="463" y="433"/>
                    <a:pt x="456" y="429"/>
                    <a:pt x="451" y="422"/>
                  </a:cubicBezTo>
                  <a:cubicBezTo>
                    <a:pt x="445" y="416"/>
                    <a:pt x="439" y="411"/>
                    <a:pt x="434" y="405"/>
                  </a:cubicBezTo>
                  <a:cubicBezTo>
                    <a:pt x="433" y="405"/>
                    <a:pt x="433" y="405"/>
                    <a:pt x="433" y="404"/>
                  </a:cubicBezTo>
                  <a:cubicBezTo>
                    <a:pt x="433" y="404"/>
                    <a:pt x="433" y="404"/>
                    <a:pt x="432" y="403"/>
                  </a:cubicBezTo>
                  <a:cubicBezTo>
                    <a:pt x="427" y="398"/>
                    <a:pt x="424" y="392"/>
                    <a:pt x="421" y="384"/>
                  </a:cubicBezTo>
                  <a:cubicBezTo>
                    <a:pt x="419" y="377"/>
                    <a:pt x="417" y="369"/>
                    <a:pt x="414" y="362"/>
                  </a:cubicBezTo>
                  <a:cubicBezTo>
                    <a:pt x="412" y="355"/>
                    <a:pt x="410" y="347"/>
                    <a:pt x="410" y="340"/>
                  </a:cubicBezTo>
                  <a:cubicBezTo>
                    <a:pt x="410" y="332"/>
                    <a:pt x="411" y="325"/>
                    <a:pt x="415" y="318"/>
                  </a:cubicBezTo>
                  <a:cubicBezTo>
                    <a:pt x="419" y="311"/>
                    <a:pt x="425" y="305"/>
                    <a:pt x="430" y="299"/>
                  </a:cubicBezTo>
                  <a:cubicBezTo>
                    <a:pt x="436" y="293"/>
                    <a:pt x="442" y="287"/>
                    <a:pt x="450" y="283"/>
                  </a:cubicBezTo>
                  <a:close/>
                  <a:moveTo>
                    <a:pt x="455" y="277"/>
                  </a:moveTo>
                  <a:cubicBezTo>
                    <a:pt x="455" y="276"/>
                    <a:pt x="456" y="275"/>
                    <a:pt x="456" y="274"/>
                  </a:cubicBezTo>
                  <a:cubicBezTo>
                    <a:pt x="456" y="275"/>
                    <a:pt x="456" y="276"/>
                    <a:pt x="456" y="276"/>
                  </a:cubicBezTo>
                  <a:cubicBezTo>
                    <a:pt x="456" y="277"/>
                    <a:pt x="455" y="277"/>
                    <a:pt x="455" y="277"/>
                  </a:cubicBezTo>
                  <a:close/>
                  <a:moveTo>
                    <a:pt x="528" y="466"/>
                  </a:moveTo>
                  <a:cubicBezTo>
                    <a:pt x="532" y="466"/>
                    <a:pt x="536" y="464"/>
                    <a:pt x="539" y="462"/>
                  </a:cubicBezTo>
                  <a:cubicBezTo>
                    <a:pt x="542" y="460"/>
                    <a:pt x="544" y="459"/>
                    <a:pt x="547" y="457"/>
                  </a:cubicBezTo>
                  <a:cubicBezTo>
                    <a:pt x="547" y="457"/>
                    <a:pt x="547" y="457"/>
                    <a:pt x="547" y="457"/>
                  </a:cubicBezTo>
                  <a:cubicBezTo>
                    <a:pt x="544" y="460"/>
                    <a:pt x="542" y="463"/>
                    <a:pt x="540" y="465"/>
                  </a:cubicBezTo>
                  <a:cubicBezTo>
                    <a:pt x="537" y="469"/>
                    <a:pt x="533" y="469"/>
                    <a:pt x="529" y="472"/>
                  </a:cubicBezTo>
                  <a:cubicBezTo>
                    <a:pt x="529" y="472"/>
                    <a:pt x="529" y="473"/>
                    <a:pt x="529" y="473"/>
                  </a:cubicBezTo>
                  <a:cubicBezTo>
                    <a:pt x="533" y="474"/>
                    <a:pt x="537" y="470"/>
                    <a:pt x="539" y="468"/>
                  </a:cubicBezTo>
                  <a:cubicBezTo>
                    <a:pt x="542" y="465"/>
                    <a:pt x="545" y="462"/>
                    <a:pt x="548" y="458"/>
                  </a:cubicBezTo>
                  <a:cubicBezTo>
                    <a:pt x="550" y="463"/>
                    <a:pt x="552" y="467"/>
                    <a:pt x="555" y="471"/>
                  </a:cubicBezTo>
                  <a:cubicBezTo>
                    <a:pt x="558" y="476"/>
                    <a:pt x="562" y="480"/>
                    <a:pt x="566" y="485"/>
                  </a:cubicBezTo>
                  <a:cubicBezTo>
                    <a:pt x="560" y="486"/>
                    <a:pt x="555" y="490"/>
                    <a:pt x="549" y="491"/>
                  </a:cubicBezTo>
                  <a:cubicBezTo>
                    <a:pt x="542" y="492"/>
                    <a:pt x="535" y="491"/>
                    <a:pt x="528" y="489"/>
                  </a:cubicBezTo>
                  <a:cubicBezTo>
                    <a:pt x="514" y="484"/>
                    <a:pt x="500" y="479"/>
                    <a:pt x="488" y="471"/>
                  </a:cubicBezTo>
                  <a:cubicBezTo>
                    <a:pt x="481" y="467"/>
                    <a:pt x="475" y="463"/>
                    <a:pt x="470" y="458"/>
                  </a:cubicBezTo>
                  <a:cubicBezTo>
                    <a:pt x="470" y="457"/>
                    <a:pt x="469" y="456"/>
                    <a:pt x="469" y="456"/>
                  </a:cubicBezTo>
                  <a:cubicBezTo>
                    <a:pt x="463" y="451"/>
                    <a:pt x="459" y="445"/>
                    <a:pt x="454" y="438"/>
                  </a:cubicBezTo>
                  <a:cubicBezTo>
                    <a:pt x="451" y="433"/>
                    <a:pt x="446" y="427"/>
                    <a:pt x="443" y="421"/>
                  </a:cubicBezTo>
                  <a:cubicBezTo>
                    <a:pt x="443" y="420"/>
                    <a:pt x="443" y="419"/>
                    <a:pt x="442" y="418"/>
                  </a:cubicBezTo>
                  <a:cubicBezTo>
                    <a:pt x="447" y="423"/>
                    <a:pt x="451" y="429"/>
                    <a:pt x="457" y="433"/>
                  </a:cubicBezTo>
                  <a:cubicBezTo>
                    <a:pt x="463" y="437"/>
                    <a:pt x="471" y="440"/>
                    <a:pt x="477" y="443"/>
                  </a:cubicBezTo>
                  <a:cubicBezTo>
                    <a:pt x="480" y="445"/>
                    <a:pt x="483" y="446"/>
                    <a:pt x="485" y="447"/>
                  </a:cubicBezTo>
                  <a:cubicBezTo>
                    <a:pt x="485" y="447"/>
                    <a:pt x="485" y="447"/>
                    <a:pt x="485" y="447"/>
                  </a:cubicBezTo>
                  <a:cubicBezTo>
                    <a:pt x="504" y="463"/>
                    <a:pt x="522" y="480"/>
                    <a:pt x="546" y="486"/>
                  </a:cubicBezTo>
                  <a:cubicBezTo>
                    <a:pt x="547" y="486"/>
                    <a:pt x="548" y="485"/>
                    <a:pt x="547" y="485"/>
                  </a:cubicBezTo>
                  <a:cubicBezTo>
                    <a:pt x="536" y="478"/>
                    <a:pt x="523" y="474"/>
                    <a:pt x="513" y="466"/>
                  </a:cubicBezTo>
                  <a:cubicBezTo>
                    <a:pt x="507" y="462"/>
                    <a:pt x="502" y="456"/>
                    <a:pt x="496" y="451"/>
                  </a:cubicBezTo>
                  <a:cubicBezTo>
                    <a:pt x="502" y="453"/>
                    <a:pt x="508" y="454"/>
                    <a:pt x="514" y="456"/>
                  </a:cubicBezTo>
                  <a:cubicBezTo>
                    <a:pt x="513" y="456"/>
                    <a:pt x="512" y="456"/>
                    <a:pt x="511" y="456"/>
                  </a:cubicBezTo>
                  <a:cubicBezTo>
                    <a:pt x="509" y="456"/>
                    <a:pt x="508" y="457"/>
                    <a:pt x="507" y="457"/>
                  </a:cubicBezTo>
                  <a:cubicBezTo>
                    <a:pt x="507" y="458"/>
                    <a:pt x="507" y="459"/>
                    <a:pt x="507" y="459"/>
                  </a:cubicBezTo>
                  <a:cubicBezTo>
                    <a:pt x="510" y="460"/>
                    <a:pt x="513" y="458"/>
                    <a:pt x="515" y="457"/>
                  </a:cubicBezTo>
                  <a:cubicBezTo>
                    <a:pt x="517" y="457"/>
                    <a:pt x="518" y="457"/>
                    <a:pt x="520" y="456"/>
                  </a:cubicBezTo>
                  <a:cubicBezTo>
                    <a:pt x="525" y="457"/>
                    <a:pt x="532" y="458"/>
                    <a:pt x="538" y="457"/>
                  </a:cubicBezTo>
                  <a:cubicBezTo>
                    <a:pt x="534" y="458"/>
                    <a:pt x="531" y="460"/>
                    <a:pt x="527" y="460"/>
                  </a:cubicBezTo>
                  <a:cubicBezTo>
                    <a:pt x="523" y="460"/>
                    <a:pt x="519" y="460"/>
                    <a:pt x="515" y="462"/>
                  </a:cubicBezTo>
                  <a:cubicBezTo>
                    <a:pt x="514" y="462"/>
                    <a:pt x="514" y="464"/>
                    <a:pt x="516" y="464"/>
                  </a:cubicBezTo>
                  <a:cubicBezTo>
                    <a:pt x="522" y="463"/>
                    <a:pt x="528" y="461"/>
                    <a:pt x="535" y="459"/>
                  </a:cubicBezTo>
                  <a:cubicBezTo>
                    <a:pt x="538" y="459"/>
                    <a:pt x="542" y="457"/>
                    <a:pt x="545" y="454"/>
                  </a:cubicBezTo>
                  <a:cubicBezTo>
                    <a:pt x="545" y="454"/>
                    <a:pt x="545" y="453"/>
                    <a:pt x="545" y="453"/>
                  </a:cubicBezTo>
                  <a:cubicBezTo>
                    <a:pt x="546" y="454"/>
                    <a:pt x="546" y="455"/>
                    <a:pt x="547" y="456"/>
                  </a:cubicBezTo>
                  <a:cubicBezTo>
                    <a:pt x="544" y="457"/>
                    <a:pt x="541" y="459"/>
                    <a:pt x="538" y="460"/>
                  </a:cubicBezTo>
                  <a:cubicBezTo>
                    <a:pt x="534" y="462"/>
                    <a:pt x="531" y="463"/>
                    <a:pt x="528" y="465"/>
                  </a:cubicBezTo>
                  <a:cubicBezTo>
                    <a:pt x="528" y="466"/>
                    <a:pt x="528" y="467"/>
                    <a:pt x="528" y="466"/>
                  </a:cubicBezTo>
                  <a:close/>
                  <a:moveTo>
                    <a:pt x="527" y="554"/>
                  </a:moveTo>
                  <a:cubicBezTo>
                    <a:pt x="521" y="565"/>
                    <a:pt x="511" y="574"/>
                    <a:pt x="508" y="586"/>
                  </a:cubicBezTo>
                  <a:cubicBezTo>
                    <a:pt x="508" y="587"/>
                    <a:pt x="508" y="587"/>
                    <a:pt x="509" y="587"/>
                  </a:cubicBezTo>
                  <a:cubicBezTo>
                    <a:pt x="508" y="587"/>
                    <a:pt x="508" y="587"/>
                    <a:pt x="508" y="587"/>
                  </a:cubicBezTo>
                  <a:cubicBezTo>
                    <a:pt x="503" y="592"/>
                    <a:pt x="500" y="599"/>
                    <a:pt x="496" y="605"/>
                  </a:cubicBezTo>
                  <a:cubicBezTo>
                    <a:pt x="494" y="608"/>
                    <a:pt x="490" y="612"/>
                    <a:pt x="487" y="615"/>
                  </a:cubicBezTo>
                  <a:cubicBezTo>
                    <a:pt x="487" y="615"/>
                    <a:pt x="487" y="615"/>
                    <a:pt x="487" y="614"/>
                  </a:cubicBezTo>
                  <a:cubicBezTo>
                    <a:pt x="488" y="614"/>
                    <a:pt x="488" y="614"/>
                    <a:pt x="489" y="613"/>
                  </a:cubicBezTo>
                  <a:cubicBezTo>
                    <a:pt x="490" y="607"/>
                    <a:pt x="492" y="600"/>
                    <a:pt x="495" y="595"/>
                  </a:cubicBezTo>
                  <a:cubicBezTo>
                    <a:pt x="498" y="588"/>
                    <a:pt x="503" y="584"/>
                    <a:pt x="507" y="578"/>
                  </a:cubicBezTo>
                  <a:cubicBezTo>
                    <a:pt x="515" y="569"/>
                    <a:pt x="521" y="558"/>
                    <a:pt x="526" y="547"/>
                  </a:cubicBezTo>
                  <a:cubicBezTo>
                    <a:pt x="532" y="536"/>
                    <a:pt x="537" y="524"/>
                    <a:pt x="544" y="513"/>
                  </a:cubicBezTo>
                  <a:cubicBezTo>
                    <a:pt x="548" y="507"/>
                    <a:pt x="554" y="500"/>
                    <a:pt x="554" y="493"/>
                  </a:cubicBezTo>
                  <a:cubicBezTo>
                    <a:pt x="558" y="491"/>
                    <a:pt x="562" y="489"/>
                    <a:pt x="567" y="487"/>
                  </a:cubicBezTo>
                  <a:cubicBezTo>
                    <a:pt x="567" y="487"/>
                    <a:pt x="567" y="487"/>
                    <a:pt x="567" y="487"/>
                  </a:cubicBezTo>
                  <a:cubicBezTo>
                    <a:pt x="571" y="490"/>
                    <a:pt x="575" y="494"/>
                    <a:pt x="579" y="497"/>
                  </a:cubicBezTo>
                  <a:cubicBezTo>
                    <a:pt x="580" y="497"/>
                    <a:pt x="581" y="498"/>
                    <a:pt x="582" y="499"/>
                  </a:cubicBezTo>
                  <a:cubicBezTo>
                    <a:pt x="582" y="499"/>
                    <a:pt x="582" y="499"/>
                    <a:pt x="582" y="499"/>
                  </a:cubicBezTo>
                  <a:cubicBezTo>
                    <a:pt x="575" y="507"/>
                    <a:pt x="568" y="514"/>
                    <a:pt x="562" y="522"/>
                  </a:cubicBezTo>
                  <a:cubicBezTo>
                    <a:pt x="558" y="527"/>
                    <a:pt x="553" y="532"/>
                    <a:pt x="552" y="538"/>
                  </a:cubicBezTo>
                  <a:cubicBezTo>
                    <a:pt x="546" y="544"/>
                    <a:pt x="540" y="551"/>
                    <a:pt x="534" y="558"/>
                  </a:cubicBezTo>
                  <a:cubicBezTo>
                    <a:pt x="530" y="563"/>
                    <a:pt x="526" y="567"/>
                    <a:pt x="523" y="573"/>
                  </a:cubicBezTo>
                  <a:cubicBezTo>
                    <a:pt x="521" y="578"/>
                    <a:pt x="520" y="581"/>
                    <a:pt x="515" y="583"/>
                  </a:cubicBezTo>
                  <a:cubicBezTo>
                    <a:pt x="513" y="584"/>
                    <a:pt x="511" y="585"/>
                    <a:pt x="509" y="587"/>
                  </a:cubicBezTo>
                  <a:cubicBezTo>
                    <a:pt x="513" y="581"/>
                    <a:pt x="515" y="575"/>
                    <a:pt x="519" y="570"/>
                  </a:cubicBezTo>
                  <a:cubicBezTo>
                    <a:pt x="522" y="565"/>
                    <a:pt x="525" y="560"/>
                    <a:pt x="528" y="555"/>
                  </a:cubicBezTo>
                  <a:cubicBezTo>
                    <a:pt x="528" y="554"/>
                    <a:pt x="528" y="554"/>
                    <a:pt x="527" y="554"/>
                  </a:cubicBezTo>
                  <a:close/>
                  <a:moveTo>
                    <a:pt x="486" y="620"/>
                  </a:moveTo>
                  <a:cubicBezTo>
                    <a:pt x="486" y="620"/>
                    <a:pt x="486" y="620"/>
                    <a:pt x="486" y="620"/>
                  </a:cubicBezTo>
                  <a:cubicBezTo>
                    <a:pt x="481" y="620"/>
                    <a:pt x="477" y="618"/>
                    <a:pt x="472" y="617"/>
                  </a:cubicBezTo>
                  <a:cubicBezTo>
                    <a:pt x="469" y="616"/>
                    <a:pt x="460" y="615"/>
                    <a:pt x="461" y="611"/>
                  </a:cubicBezTo>
                  <a:cubicBezTo>
                    <a:pt x="464" y="600"/>
                    <a:pt x="470" y="589"/>
                    <a:pt x="475" y="578"/>
                  </a:cubicBezTo>
                  <a:cubicBezTo>
                    <a:pt x="482" y="563"/>
                    <a:pt x="488" y="547"/>
                    <a:pt x="493" y="532"/>
                  </a:cubicBezTo>
                  <a:cubicBezTo>
                    <a:pt x="499" y="517"/>
                    <a:pt x="505" y="501"/>
                    <a:pt x="509" y="486"/>
                  </a:cubicBezTo>
                  <a:cubicBezTo>
                    <a:pt x="516" y="489"/>
                    <a:pt x="523" y="491"/>
                    <a:pt x="531" y="493"/>
                  </a:cubicBezTo>
                  <a:cubicBezTo>
                    <a:pt x="530" y="493"/>
                    <a:pt x="530" y="494"/>
                    <a:pt x="530" y="494"/>
                  </a:cubicBezTo>
                  <a:cubicBezTo>
                    <a:pt x="531" y="498"/>
                    <a:pt x="525" y="505"/>
                    <a:pt x="522" y="508"/>
                  </a:cubicBezTo>
                  <a:cubicBezTo>
                    <a:pt x="518" y="513"/>
                    <a:pt x="516" y="520"/>
                    <a:pt x="514" y="526"/>
                  </a:cubicBezTo>
                  <a:cubicBezTo>
                    <a:pt x="511" y="534"/>
                    <a:pt x="508" y="542"/>
                    <a:pt x="505" y="550"/>
                  </a:cubicBezTo>
                  <a:cubicBezTo>
                    <a:pt x="502" y="556"/>
                    <a:pt x="498" y="563"/>
                    <a:pt x="496" y="569"/>
                  </a:cubicBezTo>
                  <a:cubicBezTo>
                    <a:pt x="491" y="580"/>
                    <a:pt x="487" y="591"/>
                    <a:pt x="484" y="602"/>
                  </a:cubicBezTo>
                  <a:cubicBezTo>
                    <a:pt x="482" y="609"/>
                    <a:pt x="481" y="615"/>
                    <a:pt x="486" y="620"/>
                  </a:cubicBezTo>
                  <a:close/>
                  <a:moveTo>
                    <a:pt x="466" y="585"/>
                  </a:moveTo>
                  <a:cubicBezTo>
                    <a:pt x="466" y="579"/>
                    <a:pt x="466" y="573"/>
                    <a:pt x="465" y="568"/>
                  </a:cubicBezTo>
                  <a:cubicBezTo>
                    <a:pt x="464" y="560"/>
                    <a:pt x="462" y="553"/>
                    <a:pt x="462" y="546"/>
                  </a:cubicBezTo>
                  <a:cubicBezTo>
                    <a:pt x="461" y="539"/>
                    <a:pt x="462" y="533"/>
                    <a:pt x="462" y="526"/>
                  </a:cubicBezTo>
                  <a:cubicBezTo>
                    <a:pt x="462" y="513"/>
                    <a:pt x="462" y="499"/>
                    <a:pt x="466" y="486"/>
                  </a:cubicBezTo>
                  <a:cubicBezTo>
                    <a:pt x="468" y="479"/>
                    <a:pt x="471" y="471"/>
                    <a:pt x="471" y="463"/>
                  </a:cubicBezTo>
                  <a:cubicBezTo>
                    <a:pt x="477" y="469"/>
                    <a:pt x="484" y="473"/>
                    <a:pt x="491" y="477"/>
                  </a:cubicBezTo>
                  <a:cubicBezTo>
                    <a:pt x="496" y="480"/>
                    <a:pt x="500" y="482"/>
                    <a:pt x="505" y="484"/>
                  </a:cubicBezTo>
                  <a:cubicBezTo>
                    <a:pt x="503" y="494"/>
                    <a:pt x="499" y="503"/>
                    <a:pt x="496" y="513"/>
                  </a:cubicBezTo>
                  <a:cubicBezTo>
                    <a:pt x="493" y="522"/>
                    <a:pt x="490" y="531"/>
                    <a:pt x="486" y="540"/>
                  </a:cubicBezTo>
                  <a:cubicBezTo>
                    <a:pt x="480" y="557"/>
                    <a:pt x="473" y="573"/>
                    <a:pt x="466" y="590"/>
                  </a:cubicBezTo>
                  <a:cubicBezTo>
                    <a:pt x="466" y="588"/>
                    <a:pt x="466" y="586"/>
                    <a:pt x="466" y="585"/>
                  </a:cubicBezTo>
                  <a:close/>
                  <a:moveTo>
                    <a:pt x="492" y="588"/>
                  </a:moveTo>
                  <a:cubicBezTo>
                    <a:pt x="497" y="576"/>
                    <a:pt x="502" y="564"/>
                    <a:pt x="508" y="552"/>
                  </a:cubicBezTo>
                  <a:cubicBezTo>
                    <a:pt x="511" y="546"/>
                    <a:pt x="513" y="539"/>
                    <a:pt x="515" y="533"/>
                  </a:cubicBezTo>
                  <a:cubicBezTo>
                    <a:pt x="518" y="526"/>
                    <a:pt x="520" y="518"/>
                    <a:pt x="524" y="511"/>
                  </a:cubicBezTo>
                  <a:cubicBezTo>
                    <a:pt x="527" y="507"/>
                    <a:pt x="535" y="499"/>
                    <a:pt x="532" y="493"/>
                  </a:cubicBezTo>
                  <a:cubicBezTo>
                    <a:pt x="533" y="493"/>
                    <a:pt x="533" y="494"/>
                    <a:pt x="534" y="494"/>
                  </a:cubicBezTo>
                  <a:cubicBezTo>
                    <a:pt x="539" y="495"/>
                    <a:pt x="546" y="495"/>
                    <a:pt x="551" y="494"/>
                  </a:cubicBezTo>
                  <a:cubicBezTo>
                    <a:pt x="548" y="503"/>
                    <a:pt x="541" y="510"/>
                    <a:pt x="537" y="519"/>
                  </a:cubicBezTo>
                  <a:cubicBezTo>
                    <a:pt x="531" y="530"/>
                    <a:pt x="525" y="541"/>
                    <a:pt x="519" y="553"/>
                  </a:cubicBezTo>
                  <a:cubicBezTo>
                    <a:pt x="516" y="559"/>
                    <a:pt x="513" y="565"/>
                    <a:pt x="509" y="570"/>
                  </a:cubicBezTo>
                  <a:cubicBezTo>
                    <a:pt x="506" y="575"/>
                    <a:pt x="501" y="579"/>
                    <a:pt x="498" y="583"/>
                  </a:cubicBezTo>
                  <a:cubicBezTo>
                    <a:pt x="492" y="590"/>
                    <a:pt x="489" y="597"/>
                    <a:pt x="487" y="605"/>
                  </a:cubicBezTo>
                  <a:cubicBezTo>
                    <a:pt x="488" y="599"/>
                    <a:pt x="491" y="592"/>
                    <a:pt x="492" y="588"/>
                  </a:cubicBezTo>
                  <a:close/>
                  <a:moveTo>
                    <a:pt x="244" y="441"/>
                  </a:moveTo>
                  <a:cubicBezTo>
                    <a:pt x="246" y="444"/>
                    <a:pt x="249" y="447"/>
                    <a:pt x="252" y="449"/>
                  </a:cubicBezTo>
                  <a:cubicBezTo>
                    <a:pt x="253" y="451"/>
                    <a:pt x="255" y="453"/>
                    <a:pt x="257" y="455"/>
                  </a:cubicBezTo>
                  <a:cubicBezTo>
                    <a:pt x="257" y="455"/>
                    <a:pt x="258" y="456"/>
                    <a:pt x="259" y="456"/>
                  </a:cubicBezTo>
                  <a:cubicBezTo>
                    <a:pt x="260" y="458"/>
                    <a:pt x="263" y="462"/>
                    <a:pt x="263" y="462"/>
                  </a:cubicBezTo>
                  <a:cubicBezTo>
                    <a:pt x="264" y="463"/>
                    <a:pt x="264" y="463"/>
                    <a:pt x="264" y="463"/>
                  </a:cubicBezTo>
                  <a:cubicBezTo>
                    <a:pt x="262" y="468"/>
                    <a:pt x="259" y="473"/>
                    <a:pt x="258" y="479"/>
                  </a:cubicBezTo>
                  <a:cubicBezTo>
                    <a:pt x="256" y="474"/>
                    <a:pt x="253" y="470"/>
                    <a:pt x="248" y="473"/>
                  </a:cubicBezTo>
                  <a:cubicBezTo>
                    <a:pt x="245" y="475"/>
                    <a:pt x="242" y="478"/>
                    <a:pt x="239" y="481"/>
                  </a:cubicBezTo>
                  <a:cubicBezTo>
                    <a:pt x="239" y="480"/>
                    <a:pt x="239" y="479"/>
                    <a:pt x="239" y="478"/>
                  </a:cubicBezTo>
                  <a:cubicBezTo>
                    <a:pt x="239" y="472"/>
                    <a:pt x="238" y="466"/>
                    <a:pt x="240" y="460"/>
                  </a:cubicBezTo>
                  <a:cubicBezTo>
                    <a:pt x="241" y="454"/>
                    <a:pt x="242" y="449"/>
                    <a:pt x="243" y="444"/>
                  </a:cubicBezTo>
                  <a:cubicBezTo>
                    <a:pt x="244" y="443"/>
                    <a:pt x="244" y="442"/>
                    <a:pt x="244" y="441"/>
                  </a:cubicBezTo>
                  <a:close/>
                  <a:moveTo>
                    <a:pt x="262" y="474"/>
                  </a:moveTo>
                  <a:cubicBezTo>
                    <a:pt x="263" y="471"/>
                    <a:pt x="265" y="468"/>
                    <a:pt x="266" y="466"/>
                  </a:cubicBezTo>
                  <a:cubicBezTo>
                    <a:pt x="267" y="468"/>
                    <a:pt x="269" y="470"/>
                    <a:pt x="270" y="472"/>
                  </a:cubicBezTo>
                  <a:cubicBezTo>
                    <a:pt x="277" y="483"/>
                    <a:pt x="282" y="494"/>
                    <a:pt x="287" y="506"/>
                  </a:cubicBezTo>
                  <a:cubicBezTo>
                    <a:pt x="292" y="519"/>
                    <a:pt x="297" y="532"/>
                    <a:pt x="301" y="545"/>
                  </a:cubicBezTo>
                  <a:cubicBezTo>
                    <a:pt x="297" y="539"/>
                    <a:pt x="294" y="533"/>
                    <a:pt x="290" y="527"/>
                  </a:cubicBezTo>
                  <a:cubicBezTo>
                    <a:pt x="282" y="515"/>
                    <a:pt x="272" y="505"/>
                    <a:pt x="265" y="493"/>
                  </a:cubicBezTo>
                  <a:cubicBezTo>
                    <a:pt x="263" y="490"/>
                    <a:pt x="262" y="488"/>
                    <a:pt x="262" y="485"/>
                  </a:cubicBezTo>
                  <a:cubicBezTo>
                    <a:pt x="261" y="482"/>
                    <a:pt x="261" y="477"/>
                    <a:pt x="262" y="474"/>
                  </a:cubicBezTo>
                  <a:close/>
                  <a:moveTo>
                    <a:pt x="319" y="530"/>
                  </a:moveTo>
                  <a:cubicBezTo>
                    <a:pt x="316" y="522"/>
                    <a:pt x="312" y="515"/>
                    <a:pt x="310" y="507"/>
                  </a:cubicBezTo>
                  <a:cubicBezTo>
                    <a:pt x="309" y="501"/>
                    <a:pt x="308" y="493"/>
                    <a:pt x="305" y="487"/>
                  </a:cubicBezTo>
                  <a:cubicBezTo>
                    <a:pt x="315" y="490"/>
                    <a:pt x="325" y="490"/>
                    <a:pt x="336" y="487"/>
                  </a:cubicBezTo>
                  <a:cubicBezTo>
                    <a:pt x="336" y="486"/>
                    <a:pt x="336" y="486"/>
                    <a:pt x="337" y="486"/>
                  </a:cubicBezTo>
                  <a:cubicBezTo>
                    <a:pt x="340" y="505"/>
                    <a:pt x="335" y="524"/>
                    <a:pt x="337" y="543"/>
                  </a:cubicBezTo>
                  <a:cubicBezTo>
                    <a:pt x="337" y="552"/>
                    <a:pt x="338" y="562"/>
                    <a:pt x="340" y="571"/>
                  </a:cubicBezTo>
                  <a:cubicBezTo>
                    <a:pt x="340" y="571"/>
                    <a:pt x="340" y="571"/>
                    <a:pt x="340" y="571"/>
                  </a:cubicBezTo>
                  <a:cubicBezTo>
                    <a:pt x="340" y="571"/>
                    <a:pt x="340" y="570"/>
                    <a:pt x="339" y="570"/>
                  </a:cubicBezTo>
                  <a:cubicBezTo>
                    <a:pt x="329" y="558"/>
                    <a:pt x="325" y="544"/>
                    <a:pt x="319" y="530"/>
                  </a:cubicBezTo>
                  <a:close/>
                  <a:moveTo>
                    <a:pt x="370" y="572"/>
                  </a:moveTo>
                  <a:cubicBezTo>
                    <a:pt x="370" y="571"/>
                    <a:pt x="370" y="571"/>
                    <a:pt x="370" y="571"/>
                  </a:cubicBezTo>
                  <a:cubicBezTo>
                    <a:pt x="374" y="565"/>
                    <a:pt x="375" y="556"/>
                    <a:pt x="376" y="549"/>
                  </a:cubicBezTo>
                  <a:cubicBezTo>
                    <a:pt x="377" y="539"/>
                    <a:pt x="378" y="530"/>
                    <a:pt x="378" y="520"/>
                  </a:cubicBezTo>
                  <a:cubicBezTo>
                    <a:pt x="378" y="510"/>
                    <a:pt x="377" y="501"/>
                    <a:pt x="379" y="491"/>
                  </a:cubicBezTo>
                  <a:cubicBezTo>
                    <a:pt x="381" y="484"/>
                    <a:pt x="381" y="477"/>
                    <a:pt x="382" y="470"/>
                  </a:cubicBezTo>
                  <a:cubicBezTo>
                    <a:pt x="382" y="470"/>
                    <a:pt x="382" y="470"/>
                    <a:pt x="382" y="469"/>
                  </a:cubicBezTo>
                  <a:cubicBezTo>
                    <a:pt x="382" y="469"/>
                    <a:pt x="383" y="468"/>
                    <a:pt x="383" y="467"/>
                  </a:cubicBezTo>
                  <a:cubicBezTo>
                    <a:pt x="383" y="466"/>
                    <a:pt x="384" y="465"/>
                    <a:pt x="384" y="464"/>
                  </a:cubicBezTo>
                  <a:cubicBezTo>
                    <a:pt x="387" y="462"/>
                    <a:pt x="391" y="459"/>
                    <a:pt x="394" y="456"/>
                  </a:cubicBezTo>
                  <a:cubicBezTo>
                    <a:pt x="403" y="449"/>
                    <a:pt x="410" y="441"/>
                    <a:pt x="417" y="431"/>
                  </a:cubicBezTo>
                  <a:cubicBezTo>
                    <a:pt x="420" y="426"/>
                    <a:pt x="423" y="421"/>
                    <a:pt x="426" y="416"/>
                  </a:cubicBezTo>
                  <a:cubicBezTo>
                    <a:pt x="428" y="413"/>
                    <a:pt x="429" y="409"/>
                    <a:pt x="431" y="407"/>
                  </a:cubicBezTo>
                  <a:cubicBezTo>
                    <a:pt x="432" y="408"/>
                    <a:pt x="432" y="408"/>
                    <a:pt x="433" y="409"/>
                  </a:cubicBezTo>
                  <a:cubicBezTo>
                    <a:pt x="433" y="409"/>
                    <a:pt x="433" y="409"/>
                    <a:pt x="433" y="410"/>
                  </a:cubicBezTo>
                  <a:cubicBezTo>
                    <a:pt x="438" y="415"/>
                    <a:pt x="439" y="423"/>
                    <a:pt x="443" y="429"/>
                  </a:cubicBezTo>
                  <a:cubicBezTo>
                    <a:pt x="444" y="430"/>
                    <a:pt x="445" y="432"/>
                    <a:pt x="446" y="433"/>
                  </a:cubicBezTo>
                  <a:cubicBezTo>
                    <a:pt x="443" y="440"/>
                    <a:pt x="440" y="448"/>
                    <a:pt x="439" y="455"/>
                  </a:cubicBezTo>
                  <a:cubicBezTo>
                    <a:pt x="438" y="464"/>
                    <a:pt x="440" y="472"/>
                    <a:pt x="438" y="481"/>
                  </a:cubicBezTo>
                  <a:cubicBezTo>
                    <a:pt x="436" y="489"/>
                    <a:pt x="434" y="498"/>
                    <a:pt x="434" y="507"/>
                  </a:cubicBezTo>
                  <a:cubicBezTo>
                    <a:pt x="434" y="516"/>
                    <a:pt x="435" y="525"/>
                    <a:pt x="436" y="534"/>
                  </a:cubicBezTo>
                  <a:cubicBezTo>
                    <a:pt x="437" y="543"/>
                    <a:pt x="437" y="552"/>
                    <a:pt x="437" y="562"/>
                  </a:cubicBezTo>
                  <a:cubicBezTo>
                    <a:pt x="437" y="570"/>
                    <a:pt x="438" y="579"/>
                    <a:pt x="438" y="587"/>
                  </a:cubicBezTo>
                  <a:cubicBezTo>
                    <a:pt x="439" y="593"/>
                    <a:pt x="440" y="599"/>
                    <a:pt x="443" y="604"/>
                  </a:cubicBezTo>
                  <a:cubicBezTo>
                    <a:pt x="442" y="604"/>
                    <a:pt x="442" y="604"/>
                    <a:pt x="442" y="604"/>
                  </a:cubicBezTo>
                  <a:cubicBezTo>
                    <a:pt x="442" y="604"/>
                    <a:pt x="441" y="604"/>
                    <a:pt x="441" y="604"/>
                  </a:cubicBezTo>
                  <a:cubicBezTo>
                    <a:pt x="441" y="604"/>
                    <a:pt x="441" y="604"/>
                    <a:pt x="441" y="604"/>
                  </a:cubicBezTo>
                  <a:cubicBezTo>
                    <a:pt x="442" y="604"/>
                    <a:pt x="441" y="604"/>
                    <a:pt x="442" y="605"/>
                  </a:cubicBezTo>
                  <a:cubicBezTo>
                    <a:pt x="442" y="605"/>
                    <a:pt x="442" y="606"/>
                    <a:pt x="442" y="606"/>
                  </a:cubicBezTo>
                  <a:cubicBezTo>
                    <a:pt x="442" y="606"/>
                    <a:pt x="442" y="607"/>
                    <a:pt x="442" y="607"/>
                  </a:cubicBezTo>
                  <a:cubicBezTo>
                    <a:pt x="442" y="608"/>
                    <a:pt x="442" y="608"/>
                    <a:pt x="442" y="608"/>
                  </a:cubicBezTo>
                  <a:cubicBezTo>
                    <a:pt x="441" y="607"/>
                    <a:pt x="441" y="607"/>
                    <a:pt x="440" y="608"/>
                  </a:cubicBezTo>
                  <a:cubicBezTo>
                    <a:pt x="439" y="609"/>
                    <a:pt x="439" y="613"/>
                    <a:pt x="440" y="615"/>
                  </a:cubicBezTo>
                  <a:cubicBezTo>
                    <a:pt x="441" y="617"/>
                    <a:pt x="442" y="618"/>
                    <a:pt x="444" y="619"/>
                  </a:cubicBezTo>
                  <a:cubicBezTo>
                    <a:pt x="443" y="622"/>
                    <a:pt x="444" y="625"/>
                    <a:pt x="444" y="628"/>
                  </a:cubicBezTo>
                  <a:cubicBezTo>
                    <a:pt x="445" y="634"/>
                    <a:pt x="445" y="640"/>
                    <a:pt x="444" y="646"/>
                  </a:cubicBezTo>
                  <a:cubicBezTo>
                    <a:pt x="443" y="658"/>
                    <a:pt x="439" y="670"/>
                    <a:pt x="435" y="682"/>
                  </a:cubicBezTo>
                  <a:cubicBezTo>
                    <a:pt x="433" y="688"/>
                    <a:pt x="431" y="694"/>
                    <a:pt x="428" y="700"/>
                  </a:cubicBezTo>
                  <a:cubicBezTo>
                    <a:pt x="428" y="694"/>
                    <a:pt x="422" y="688"/>
                    <a:pt x="419" y="684"/>
                  </a:cubicBezTo>
                  <a:cubicBezTo>
                    <a:pt x="412" y="672"/>
                    <a:pt x="406" y="659"/>
                    <a:pt x="400" y="647"/>
                  </a:cubicBezTo>
                  <a:cubicBezTo>
                    <a:pt x="394" y="633"/>
                    <a:pt x="390" y="620"/>
                    <a:pt x="382" y="607"/>
                  </a:cubicBezTo>
                  <a:cubicBezTo>
                    <a:pt x="381" y="604"/>
                    <a:pt x="378" y="602"/>
                    <a:pt x="377" y="598"/>
                  </a:cubicBezTo>
                  <a:cubicBezTo>
                    <a:pt x="376" y="596"/>
                    <a:pt x="376" y="593"/>
                    <a:pt x="375" y="590"/>
                  </a:cubicBezTo>
                  <a:cubicBezTo>
                    <a:pt x="374" y="586"/>
                    <a:pt x="373" y="583"/>
                    <a:pt x="369" y="581"/>
                  </a:cubicBezTo>
                  <a:cubicBezTo>
                    <a:pt x="370" y="578"/>
                    <a:pt x="370" y="575"/>
                    <a:pt x="370" y="572"/>
                  </a:cubicBezTo>
                  <a:close/>
                  <a:moveTo>
                    <a:pt x="444" y="615"/>
                  </a:moveTo>
                  <a:cubicBezTo>
                    <a:pt x="444" y="615"/>
                    <a:pt x="444" y="614"/>
                    <a:pt x="443" y="614"/>
                  </a:cubicBezTo>
                  <a:cubicBezTo>
                    <a:pt x="443" y="613"/>
                    <a:pt x="443" y="612"/>
                    <a:pt x="443" y="611"/>
                  </a:cubicBezTo>
                  <a:cubicBezTo>
                    <a:pt x="443" y="611"/>
                    <a:pt x="444" y="611"/>
                    <a:pt x="444" y="611"/>
                  </a:cubicBezTo>
                  <a:cubicBezTo>
                    <a:pt x="445" y="612"/>
                    <a:pt x="445" y="613"/>
                    <a:pt x="446" y="614"/>
                  </a:cubicBezTo>
                  <a:cubicBezTo>
                    <a:pt x="446" y="614"/>
                    <a:pt x="446" y="614"/>
                    <a:pt x="446" y="614"/>
                  </a:cubicBezTo>
                  <a:cubicBezTo>
                    <a:pt x="445" y="614"/>
                    <a:pt x="445" y="614"/>
                    <a:pt x="445" y="615"/>
                  </a:cubicBezTo>
                  <a:cubicBezTo>
                    <a:pt x="445" y="615"/>
                    <a:pt x="444" y="615"/>
                    <a:pt x="444" y="615"/>
                  </a:cubicBezTo>
                  <a:close/>
                  <a:moveTo>
                    <a:pt x="443" y="595"/>
                  </a:moveTo>
                  <a:cubicBezTo>
                    <a:pt x="442" y="589"/>
                    <a:pt x="442" y="583"/>
                    <a:pt x="441" y="577"/>
                  </a:cubicBezTo>
                  <a:cubicBezTo>
                    <a:pt x="439" y="560"/>
                    <a:pt x="441" y="543"/>
                    <a:pt x="439" y="526"/>
                  </a:cubicBezTo>
                  <a:cubicBezTo>
                    <a:pt x="438" y="517"/>
                    <a:pt x="437" y="508"/>
                    <a:pt x="438" y="500"/>
                  </a:cubicBezTo>
                  <a:cubicBezTo>
                    <a:pt x="439" y="492"/>
                    <a:pt x="442" y="484"/>
                    <a:pt x="443" y="476"/>
                  </a:cubicBezTo>
                  <a:cubicBezTo>
                    <a:pt x="443" y="468"/>
                    <a:pt x="441" y="461"/>
                    <a:pt x="443" y="454"/>
                  </a:cubicBezTo>
                  <a:cubicBezTo>
                    <a:pt x="444" y="448"/>
                    <a:pt x="446" y="442"/>
                    <a:pt x="448" y="436"/>
                  </a:cubicBezTo>
                  <a:cubicBezTo>
                    <a:pt x="451" y="440"/>
                    <a:pt x="454" y="444"/>
                    <a:pt x="457" y="448"/>
                  </a:cubicBezTo>
                  <a:cubicBezTo>
                    <a:pt x="460" y="453"/>
                    <a:pt x="463" y="457"/>
                    <a:pt x="467" y="460"/>
                  </a:cubicBezTo>
                  <a:cubicBezTo>
                    <a:pt x="468" y="471"/>
                    <a:pt x="463" y="482"/>
                    <a:pt x="461" y="492"/>
                  </a:cubicBezTo>
                  <a:cubicBezTo>
                    <a:pt x="459" y="503"/>
                    <a:pt x="459" y="515"/>
                    <a:pt x="459" y="526"/>
                  </a:cubicBezTo>
                  <a:cubicBezTo>
                    <a:pt x="458" y="539"/>
                    <a:pt x="459" y="551"/>
                    <a:pt x="461" y="564"/>
                  </a:cubicBezTo>
                  <a:cubicBezTo>
                    <a:pt x="463" y="571"/>
                    <a:pt x="463" y="578"/>
                    <a:pt x="463" y="585"/>
                  </a:cubicBezTo>
                  <a:cubicBezTo>
                    <a:pt x="463" y="586"/>
                    <a:pt x="463" y="593"/>
                    <a:pt x="463" y="596"/>
                  </a:cubicBezTo>
                  <a:cubicBezTo>
                    <a:pt x="461" y="599"/>
                    <a:pt x="459" y="603"/>
                    <a:pt x="458" y="607"/>
                  </a:cubicBezTo>
                  <a:cubicBezTo>
                    <a:pt x="456" y="607"/>
                    <a:pt x="455" y="608"/>
                    <a:pt x="454" y="608"/>
                  </a:cubicBezTo>
                  <a:cubicBezTo>
                    <a:pt x="452" y="608"/>
                    <a:pt x="451" y="607"/>
                    <a:pt x="449" y="607"/>
                  </a:cubicBezTo>
                  <a:cubicBezTo>
                    <a:pt x="449" y="606"/>
                    <a:pt x="448" y="606"/>
                    <a:pt x="448" y="606"/>
                  </a:cubicBezTo>
                  <a:cubicBezTo>
                    <a:pt x="445" y="603"/>
                    <a:pt x="444" y="599"/>
                    <a:pt x="443" y="595"/>
                  </a:cubicBezTo>
                  <a:close/>
                  <a:moveTo>
                    <a:pt x="908" y="527"/>
                  </a:moveTo>
                  <a:cubicBezTo>
                    <a:pt x="916" y="520"/>
                    <a:pt x="922" y="512"/>
                    <a:pt x="928" y="505"/>
                  </a:cubicBezTo>
                  <a:cubicBezTo>
                    <a:pt x="940" y="490"/>
                    <a:pt x="950" y="475"/>
                    <a:pt x="959" y="459"/>
                  </a:cubicBezTo>
                  <a:cubicBezTo>
                    <a:pt x="967" y="443"/>
                    <a:pt x="976" y="427"/>
                    <a:pt x="981" y="410"/>
                  </a:cubicBezTo>
                  <a:cubicBezTo>
                    <a:pt x="985" y="398"/>
                    <a:pt x="986" y="385"/>
                    <a:pt x="988" y="372"/>
                  </a:cubicBezTo>
                  <a:cubicBezTo>
                    <a:pt x="988" y="388"/>
                    <a:pt x="985" y="403"/>
                    <a:pt x="980" y="418"/>
                  </a:cubicBezTo>
                  <a:cubicBezTo>
                    <a:pt x="974" y="435"/>
                    <a:pt x="971" y="452"/>
                    <a:pt x="962" y="467"/>
                  </a:cubicBezTo>
                  <a:cubicBezTo>
                    <a:pt x="957" y="475"/>
                    <a:pt x="952" y="482"/>
                    <a:pt x="947" y="490"/>
                  </a:cubicBezTo>
                  <a:cubicBezTo>
                    <a:pt x="943" y="497"/>
                    <a:pt x="939" y="504"/>
                    <a:pt x="934" y="510"/>
                  </a:cubicBezTo>
                  <a:cubicBezTo>
                    <a:pt x="927" y="521"/>
                    <a:pt x="917" y="531"/>
                    <a:pt x="909" y="541"/>
                  </a:cubicBezTo>
                  <a:cubicBezTo>
                    <a:pt x="907" y="542"/>
                    <a:pt x="906" y="544"/>
                    <a:pt x="905" y="546"/>
                  </a:cubicBezTo>
                  <a:cubicBezTo>
                    <a:pt x="904" y="547"/>
                    <a:pt x="904" y="548"/>
                    <a:pt x="903" y="549"/>
                  </a:cubicBezTo>
                  <a:cubicBezTo>
                    <a:pt x="902" y="549"/>
                    <a:pt x="902" y="549"/>
                    <a:pt x="902" y="549"/>
                  </a:cubicBezTo>
                  <a:cubicBezTo>
                    <a:pt x="901" y="549"/>
                    <a:pt x="901" y="550"/>
                    <a:pt x="901" y="550"/>
                  </a:cubicBezTo>
                  <a:cubicBezTo>
                    <a:pt x="898" y="550"/>
                    <a:pt x="896" y="550"/>
                    <a:pt x="893" y="551"/>
                  </a:cubicBezTo>
                  <a:cubicBezTo>
                    <a:pt x="892" y="551"/>
                    <a:pt x="890" y="551"/>
                    <a:pt x="888" y="551"/>
                  </a:cubicBezTo>
                  <a:cubicBezTo>
                    <a:pt x="889" y="550"/>
                    <a:pt x="889" y="548"/>
                    <a:pt x="890" y="546"/>
                  </a:cubicBezTo>
                  <a:cubicBezTo>
                    <a:pt x="893" y="538"/>
                    <a:pt x="902" y="533"/>
                    <a:pt x="908" y="527"/>
                  </a:cubicBezTo>
                  <a:close/>
                  <a:moveTo>
                    <a:pt x="988" y="406"/>
                  </a:moveTo>
                  <a:cubicBezTo>
                    <a:pt x="988" y="406"/>
                    <a:pt x="988" y="406"/>
                    <a:pt x="988" y="406"/>
                  </a:cubicBezTo>
                  <a:cubicBezTo>
                    <a:pt x="988" y="406"/>
                    <a:pt x="988" y="406"/>
                    <a:pt x="989" y="406"/>
                  </a:cubicBezTo>
                  <a:cubicBezTo>
                    <a:pt x="988" y="407"/>
                    <a:pt x="987" y="408"/>
                    <a:pt x="987" y="409"/>
                  </a:cubicBezTo>
                  <a:cubicBezTo>
                    <a:pt x="987" y="408"/>
                    <a:pt x="987" y="407"/>
                    <a:pt x="987" y="407"/>
                  </a:cubicBezTo>
                  <a:cubicBezTo>
                    <a:pt x="988" y="406"/>
                    <a:pt x="988" y="406"/>
                    <a:pt x="988" y="406"/>
                  </a:cubicBezTo>
                  <a:close/>
                  <a:moveTo>
                    <a:pt x="949" y="508"/>
                  </a:moveTo>
                  <a:cubicBezTo>
                    <a:pt x="952" y="506"/>
                    <a:pt x="954" y="504"/>
                    <a:pt x="956" y="502"/>
                  </a:cubicBezTo>
                  <a:cubicBezTo>
                    <a:pt x="954" y="505"/>
                    <a:pt x="952" y="506"/>
                    <a:pt x="949" y="508"/>
                  </a:cubicBezTo>
                  <a:close/>
                  <a:moveTo>
                    <a:pt x="986" y="292"/>
                  </a:moveTo>
                  <a:cubicBezTo>
                    <a:pt x="990" y="292"/>
                    <a:pt x="993" y="291"/>
                    <a:pt x="997" y="291"/>
                  </a:cubicBezTo>
                  <a:cubicBezTo>
                    <a:pt x="1007" y="292"/>
                    <a:pt x="1018" y="293"/>
                    <a:pt x="1026" y="299"/>
                  </a:cubicBezTo>
                  <a:cubicBezTo>
                    <a:pt x="1041" y="309"/>
                    <a:pt x="1048" y="326"/>
                    <a:pt x="1046" y="344"/>
                  </a:cubicBezTo>
                  <a:cubicBezTo>
                    <a:pt x="1044" y="355"/>
                    <a:pt x="1040" y="365"/>
                    <a:pt x="1033" y="373"/>
                  </a:cubicBezTo>
                  <a:cubicBezTo>
                    <a:pt x="1027" y="379"/>
                    <a:pt x="1020" y="384"/>
                    <a:pt x="1013" y="390"/>
                  </a:cubicBezTo>
                  <a:cubicBezTo>
                    <a:pt x="1012" y="390"/>
                    <a:pt x="1012" y="391"/>
                    <a:pt x="1012" y="391"/>
                  </a:cubicBezTo>
                  <a:cubicBezTo>
                    <a:pt x="1016" y="387"/>
                    <a:pt x="1019" y="383"/>
                    <a:pt x="1023" y="379"/>
                  </a:cubicBezTo>
                  <a:cubicBezTo>
                    <a:pt x="1023" y="378"/>
                    <a:pt x="1023" y="377"/>
                    <a:pt x="1022" y="378"/>
                  </a:cubicBezTo>
                  <a:cubicBezTo>
                    <a:pt x="1016" y="382"/>
                    <a:pt x="1013" y="387"/>
                    <a:pt x="1008" y="392"/>
                  </a:cubicBezTo>
                  <a:cubicBezTo>
                    <a:pt x="1004" y="397"/>
                    <a:pt x="998" y="401"/>
                    <a:pt x="994" y="407"/>
                  </a:cubicBezTo>
                  <a:cubicBezTo>
                    <a:pt x="990" y="411"/>
                    <a:pt x="985" y="418"/>
                    <a:pt x="983" y="424"/>
                  </a:cubicBezTo>
                  <a:cubicBezTo>
                    <a:pt x="985" y="416"/>
                    <a:pt x="989" y="410"/>
                    <a:pt x="994" y="403"/>
                  </a:cubicBezTo>
                  <a:cubicBezTo>
                    <a:pt x="998" y="397"/>
                    <a:pt x="1002" y="393"/>
                    <a:pt x="1007" y="388"/>
                  </a:cubicBezTo>
                  <a:cubicBezTo>
                    <a:pt x="1010" y="385"/>
                    <a:pt x="1014" y="382"/>
                    <a:pt x="1016" y="377"/>
                  </a:cubicBezTo>
                  <a:cubicBezTo>
                    <a:pt x="1016" y="377"/>
                    <a:pt x="1016" y="377"/>
                    <a:pt x="1015" y="377"/>
                  </a:cubicBezTo>
                  <a:cubicBezTo>
                    <a:pt x="1007" y="385"/>
                    <a:pt x="999" y="391"/>
                    <a:pt x="992" y="400"/>
                  </a:cubicBezTo>
                  <a:cubicBezTo>
                    <a:pt x="994" y="396"/>
                    <a:pt x="996" y="393"/>
                    <a:pt x="999" y="389"/>
                  </a:cubicBezTo>
                  <a:cubicBezTo>
                    <a:pt x="1003" y="386"/>
                    <a:pt x="1006" y="382"/>
                    <a:pt x="1010" y="378"/>
                  </a:cubicBezTo>
                  <a:cubicBezTo>
                    <a:pt x="1011" y="378"/>
                    <a:pt x="1010" y="377"/>
                    <a:pt x="1009" y="377"/>
                  </a:cubicBezTo>
                  <a:cubicBezTo>
                    <a:pt x="1005" y="381"/>
                    <a:pt x="1000" y="385"/>
                    <a:pt x="995" y="390"/>
                  </a:cubicBezTo>
                  <a:cubicBezTo>
                    <a:pt x="999" y="385"/>
                    <a:pt x="1002" y="381"/>
                    <a:pt x="1005" y="376"/>
                  </a:cubicBezTo>
                  <a:cubicBezTo>
                    <a:pt x="1009" y="372"/>
                    <a:pt x="1013" y="368"/>
                    <a:pt x="1017" y="364"/>
                  </a:cubicBezTo>
                  <a:cubicBezTo>
                    <a:pt x="1022" y="359"/>
                    <a:pt x="1030" y="350"/>
                    <a:pt x="1027" y="342"/>
                  </a:cubicBezTo>
                  <a:cubicBezTo>
                    <a:pt x="1027" y="342"/>
                    <a:pt x="1027" y="342"/>
                    <a:pt x="1027" y="342"/>
                  </a:cubicBezTo>
                  <a:cubicBezTo>
                    <a:pt x="1020" y="363"/>
                    <a:pt x="998" y="373"/>
                    <a:pt x="990" y="393"/>
                  </a:cubicBezTo>
                  <a:cubicBezTo>
                    <a:pt x="991" y="388"/>
                    <a:pt x="992" y="383"/>
                    <a:pt x="992" y="378"/>
                  </a:cubicBezTo>
                  <a:cubicBezTo>
                    <a:pt x="993" y="373"/>
                    <a:pt x="997" y="368"/>
                    <a:pt x="1000" y="365"/>
                  </a:cubicBezTo>
                  <a:cubicBezTo>
                    <a:pt x="1005" y="359"/>
                    <a:pt x="1012" y="354"/>
                    <a:pt x="1017" y="348"/>
                  </a:cubicBezTo>
                  <a:cubicBezTo>
                    <a:pt x="1017" y="348"/>
                    <a:pt x="1017" y="347"/>
                    <a:pt x="1017" y="347"/>
                  </a:cubicBezTo>
                  <a:cubicBezTo>
                    <a:pt x="1009" y="353"/>
                    <a:pt x="1003" y="360"/>
                    <a:pt x="997" y="367"/>
                  </a:cubicBezTo>
                  <a:cubicBezTo>
                    <a:pt x="996" y="369"/>
                    <a:pt x="994" y="371"/>
                    <a:pt x="992" y="374"/>
                  </a:cubicBezTo>
                  <a:cubicBezTo>
                    <a:pt x="992" y="372"/>
                    <a:pt x="992" y="371"/>
                    <a:pt x="992" y="369"/>
                  </a:cubicBezTo>
                  <a:cubicBezTo>
                    <a:pt x="994" y="366"/>
                    <a:pt x="995" y="363"/>
                    <a:pt x="996" y="359"/>
                  </a:cubicBezTo>
                  <a:cubicBezTo>
                    <a:pt x="998" y="356"/>
                    <a:pt x="1000" y="353"/>
                    <a:pt x="1002" y="349"/>
                  </a:cubicBezTo>
                  <a:cubicBezTo>
                    <a:pt x="1009" y="341"/>
                    <a:pt x="1017" y="334"/>
                    <a:pt x="1027" y="330"/>
                  </a:cubicBezTo>
                  <a:cubicBezTo>
                    <a:pt x="1027" y="330"/>
                    <a:pt x="1027" y="330"/>
                    <a:pt x="1026" y="330"/>
                  </a:cubicBezTo>
                  <a:cubicBezTo>
                    <a:pt x="1020" y="331"/>
                    <a:pt x="1015" y="335"/>
                    <a:pt x="1011" y="339"/>
                  </a:cubicBezTo>
                  <a:cubicBezTo>
                    <a:pt x="1007" y="342"/>
                    <a:pt x="1003" y="346"/>
                    <a:pt x="1000" y="350"/>
                  </a:cubicBezTo>
                  <a:cubicBezTo>
                    <a:pt x="999" y="352"/>
                    <a:pt x="995" y="357"/>
                    <a:pt x="992" y="362"/>
                  </a:cubicBezTo>
                  <a:cubicBezTo>
                    <a:pt x="992" y="361"/>
                    <a:pt x="992" y="360"/>
                    <a:pt x="992" y="359"/>
                  </a:cubicBezTo>
                  <a:cubicBezTo>
                    <a:pt x="992" y="359"/>
                    <a:pt x="992" y="359"/>
                    <a:pt x="992" y="359"/>
                  </a:cubicBezTo>
                  <a:cubicBezTo>
                    <a:pt x="993" y="356"/>
                    <a:pt x="993" y="354"/>
                    <a:pt x="994" y="351"/>
                  </a:cubicBezTo>
                  <a:cubicBezTo>
                    <a:pt x="996" y="349"/>
                    <a:pt x="997" y="346"/>
                    <a:pt x="998" y="344"/>
                  </a:cubicBezTo>
                  <a:cubicBezTo>
                    <a:pt x="999" y="343"/>
                    <a:pt x="997" y="342"/>
                    <a:pt x="997" y="343"/>
                  </a:cubicBezTo>
                  <a:cubicBezTo>
                    <a:pt x="995" y="346"/>
                    <a:pt x="993" y="349"/>
                    <a:pt x="992" y="352"/>
                  </a:cubicBezTo>
                  <a:cubicBezTo>
                    <a:pt x="992" y="352"/>
                    <a:pt x="992" y="353"/>
                    <a:pt x="991" y="353"/>
                  </a:cubicBezTo>
                  <a:cubicBezTo>
                    <a:pt x="991" y="352"/>
                    <a:pt x="991" y="351"/>
                    <a:pt x="991" y="350"/>
                  </a:cubicBezTo>
                  <a:cubicBezTo>
                    <a:pt x="991" y="346"/>
                    <a:pt x="990" y="342"/>
                    <a:pt x="990" y="338"/>
                  </a:cubicBezTo>
                  <a:cubicBezTo>
                    <a:pt x="990" y="336"/>
                    <a:pt x="991" y="333"/>
                    <a:pt x="992" y="331"/>
                  </a:cubicBezTo>
                  <a:cubicBezTo>
                    <a:pt x="993" y="328"/>
                    <a:pt x="995" y="326"/>
                    <a:pt x="996" y="324"/>
                  </a:cubicBezTo>
                  <a:cubicBezTo>
                    <a:pt x="997" y="323"/>
                    <a:pt x="996" y="322"/>
                    <a:pt x="995" y="323"/>
                  </a:cubicBezTo>
                  <a:cubicBezTo>
                    <a:pt x="993" y="326"/>
                    <a:pt x="990" y="330"/>
                    <a:pt x="989" y="334"/>
                  </a:cubicBezTo>
                  <a:cubicBezTo>
                    <a:pt x="987" y="325"/>
                    <a:pt x="985" y="316"/>
                    <a:pt x="982" y="308"/>
                  </a:cubicBezTo>
                  <a:cubicBezTo>
                    <a:pt x="980" y="303"/>
                    <a:pt x="979" y="298"/>
                    <a:pt x="977" y="294"/>
                  </a:cubicBezTo>
                  <a:cubicBezTo>
                    <a:pt x="979" y="293"/>
                    <a:pt x="984" y="292"/>
                    <a:pt x="986" y="292"/>
                  </a:cubicBezTo>
                  <a:close/>
                  <a:moveTo>
                    <a:pt x="992" y="256"/>
                  </a:moveTo>
                  <a:cubicBezTo>
                    <a:pt x="992" y="256"/>
                    <a:pt x="992" y="256"/>
                    <a:pt x="992" y="256"/>
                  </a:cubicBezTo>
                  <a:cubicBezTo>
                    <a:pt x="995" y="257"/>
                    <a:pt x="998" y="256"/>
                    <a:pt x="1000" y="255"/>
                  </a:cubicBezTo>
                  <a:cubicBezTo>
                    <a:pt x="1003" y="263"/>
                    <a:pt x="996" y="271"/>
                    <a:pt x="992" y="276"/>
                  </a:cubicBezTo>
                  <a:cubicBezTo>
                    <a:pt x="987" y="281"/>
                    <a:pt x="980" y="285"/>
                    <a:pt x="975" y="290"/>
                  </a:cubicBezTo>
                  <a:cubicBezTo>
                    <a:pt x="973" y="285"/>
                    <a:pt x="971" y="280"/>
                    <a:pt x="968" y="276"/>
                  </a:cubicBezTo>
                  <a:cubicBezTo>
                    <a:pt x="972" y="275"/>
                    <a:pt x="977" y="271"/>
                    <a:pt x="980" y="269"/>
                  </a:cubicBezTo>
                  <a:cubicBezTo>
                    <a:pt x="985" y="266"/>
                    <a:pt x="989" y="261"/>
                    <a:pt x="992" y="256"/>
                  </a:cubicBezTo>
                  <a:close/>
                  <a:moveTo>
                    <a:pt x="880" y="242"/>
                  </a:moveTo>
                  <a:cubicBezTo>
                    <a:pt x="885" y="240"/>
                    <a:pt x="891" y="239"/>
                    <a:pt x="896" y="239"/>
                  </a:cubicBezTo>
                  <a:cubicBezTo>
                    <a:pt x="908" y="237"/>
                    <a:pt x="920" y="234"/>
                    <a:pt x="932" y="231"/>
                  </a:cubicBezTo>
                  <a:cubicBezTo>
                    <a:pt x="939" y="230"/>
                    <a:pt x="946" y="229"/>
                    <a:pt x="953" y="228"/>
                  </a:cubicBezTo>
                  <a:cubicBezTo>
                    <a:pt x="957" y="228"/>
                    <a:pt x="965" y="226"/>
                    <a:pt x="969" y="229"/>
                  </a:cubicBezTo>
                  <a:cubicBezTo>
                    <a:pt x="973" y="231"/>
                    <a:pt x="975" y="235"/>
                    <a:pt x="980" y="236"/>
                  </a:cubicBezTo>
                  <a:cubicBezTo>
                    <a:pt x="988" y="237"/>
                    <a:pt x="992" y="241"/>
                    <a:pt x="991" y="249"/>
                  </a:cubicBezTo>
                  <a:cubicBezTo>
                    <a:pt x="991" y="250"/>
                    <a:pt x="991" y="250"/>
                    <a:pt x="991" y="250"/>
                  </a:cubicBezTo>
                  <a:cubicBezTo>
                    <a:pt x="988" y="257"/>
                    <a:pt x="984" y="263"/>
                    <a:pt x="977" y="267"/>
                  </a:cubicBezTo>
                  <a:cubicBezTo>
                    <a:pt x="974" y="269"/>
                    <a:pt x="969" y="270"/>
                    <a:pt x="966" y="273"/>
                  </a:cubicBezTo>
                  <a:cubicBezTo>
                    <a:pt x="965" y="271"/>
                    <a:pt x="964" y="270"/>
                    <a:pt x="963" y="268"/>
                  </a:cubicBezTo>
                  <a:cubicBezTo>
                    <a:pt x="954" y="257"/>
                    <a:pt x="943" y="250"/>
                    <a:pt x="929" y="249"/>
                  </a:cubicBezTo>
                  <a:cubicBezTo>
                    <a:pt x="915" y="248"/>
                    <a:pt x="902" y="250"/>
                    <a:pt x="891" y="258"/>
                  </a:cubicBezTo>
                  <a:cubicBezTo>
                    <a:pt x="888" y="260"/>
                    <a:pt x="885" y="263"/>
                    <a:pt x="882" y="264"/>
                  </a:cubicBezTo>
                  <a:cubicBezTo>
                    <a:pt x="879" y="266"/>
                    <a:pt x="877" y="267"/>
                    <a:pt x="874" y="268"/>
                  </a:cubicBezTo>
                  <a:cubicBezTo>
                    <a:pt x="871" y="269"/>
                    <a:pt x="869" y="271"/>
                    <a:pt x="867" y="273"/>
                  </a:cubicBezTo>
                  <a:cubicBezTo>
                    <a:pt x="867" y="272"/>
                    <a:pt x="867" y="272"/>
                    <a:pt x="866" y="272"/>
                  </a:cubicBezTo>
                  <a:cubicBezTo>
                    <a:pt x="866" y="272"/>
                    <a:pt x="865" y="272"/>
                    <a:pt x="864" y="272"/>
                  </a:cubicBezTo>
                  <a:cubicBezTo>
                    <a:pt x="864" y="272"/>
                    <a:pt x="863" y="272"/>
                    <a:pt x="863" y="272"/>
                  </a:cubicBezTo>
                  <a:cubicBezTo>
                    <a:pt x="861" y="272"/>
                    <a:pt x="860" y="273"/>
                    <a:pt x="859" y="274"/>
                  </a:cubicBezTo>
                  <a:cubicBezTo>
                    <a:pt x="859" y="274"/>
                    <a:pt x="859" y="275"/>
                    <a:pt x="860" y="275"/>
                  </a:cubicBezTo>
                  <a:cubicBezTo>
                    <a:pt x="861" y="275"/>
                    <a:pt x="862" y="274"/>
                    <a:pt x="863" y="274"/>
                  </a:cubicBezTo>
                  <a:cubicBezTo>
                    <a:pt x="863" y="274"/>
                    <a:pt x="864" y="274"/>
                    <a:pt x="865" y="273"/>
                  </a:cubicBezTo>
                  <a:cubicBezTo>
                    <a:pt x="865" y="273"/>
                    <a:pt x="866" y="273"/>
                    <a:pt x="866" y="273"/>
                  </a:cubicBezTo>
                  <a:cubicBezTo>
                    <a:pt x="864" y="275"/>
                    <a:pt x="861" y="278"/>
                    <a:pt x="859" y="281"/>
                  </a:cubicBezTo>
                  <a:cubicBezTo>
                    <a:pt x="856" y="284"/>
                    <a:pt x="853" y="288"/>
                    <a:pt x="849" y="291"/>
                  </a:cubicBezTo>
                  <a:cubicBezTo>
                    <a:pt x="847" y="294"/>
                    <a:pt x="845" y="297"/>
                    <a:pt x="842" y="300"/>
                  </a:cubicBezTo>
                  <a:cubicBezTo>
                    <a:pt x="840" y="302"/>
                    <a:pt x="836" y="304"/>
                    <a:pt x="836" y="307"/>
                  </a:cubicBezTo>
                  <a:cubicBezTo>
                    <a:pt x="835" y="307"/>
                    <a:pt x="835" y="307"/>
                    <a:pt x="835" y="307"/>
                  </a:cubicBezTo>
                  <a:cubicBezTo>
                    <a:pt x="833" y="304"/>
                    <a:pt x="830" y="302"/>
                    <a:pt x="827" y="299"/>
                  </a:cubicBezTo>
                  <a:cubicBezTo>
                    <a:pt x="830" y="298"/>
                    <a:pt x="833" y="296"/>
                    <a:pt x="836" y="295"/>
                  </a:cubicBezTo>
                  <a:cubicBezTo>
                    <a:pt x="839" y="294"/>
                    <a:pt x="843" y="294"/>
                    <a:pt x="846" y="292"/>
                  </a:cubicBezTo>
                  <a:cubicBezTo>
                    <a:pt x="846" y="292"/>
                    <a:pt x="846" y="292"/>
                    <a:pt x="846" y="292"/>
                  </a:cubicBezTo>
                  <a:cubicBezTo>
                    <a:pt x="843" y="291"/>
                    <a:pt x="839" y="292"/>
                    <a:pt x="836" y="293"/>
                  </a:cubicBezTo>
                  <a:cubicBezTo>
                    <a:pt x="832" y="294"/>
                    <a:pt x="828" y="295"/>
                    <a:pt x="825" y="297"/>
                  </a:cubicBezTo>
                  <a:cubicBezTo>
                    <a:pt x="825" y="297"/>
                    <a:pt x="825" y="297"/>
                    <a:pt x="824" y="298"/>
                  </a:cubicBezTo>
                  <a:cubicBezTo>
                    <a:pt x="824" y="297"/>
                    <a:pt x="823" y="297"/>
                    <a:pt x="823" y="296"/>
                  </a:cubicBezTo>
                  <a:cubicBezTo>
                    <a:pt x="824" y="295"/>
                    <a:pt x="826" y="294"/>
                    <a:pt x="827" y="294"/>
                  </a:cubicBezTo>
                  <a:cubicBezTo>
                    <a:pt x="829" y="293"/>
                    <a:pt x="832" y="292"/>
                    <a:pt x="834" y="291"/>
                  </a:cubicBezTo>
                  <a:cubicBezTo>
                    <a:pt x="839" y="290"/>
                    <a:pt x="843" y="286"/>
                    <a:pt x="848" y="285"/>
                  </a:cubicBezTo>
                  <a:cubicBezTo>
                    <a:pt x="849" y="285"/>
                    <a:pt x="849" y="285"/>
                    <a:pt x="848" y="285"/>
                  </a:cubicBezTo>
                  <a:cubicBezTo>
                    <a:pt x="843" y="283"/>
                    <a:pt x="837" y="287"/>
                    <a:pt x="832" y="290"/>
                  </a:cubicBezTo>
                  <a:cubicBezTo>
                    <a:pt x="830" y="291"/>
                    <a:pt x="823" y="292"/>
                    <a:pt x="820" y="294"/>
                  </a:cubicBezTo>
                  <a:cubicBezTo>
                    <a:pt x="819" y="294"/>
                    <a:pt x="818" y="293"/>
                    <a:pt x="818" y="293"/>
                  </a:cubicBezTo>
                  <a:cubicBezTo>
                    <a:pt x="820" y="292"/>
                    <a:pt x="823" y="290"/>
                    <a:pt x="825" y="289"/>
                  </a:cubicBezTo>
                  <a:cubicBezTo>
                    <a:pt x="832" y="286"/>
                    <a:pt x="838" y="284"/>
                    <a:pt x="845" y="282"/>
                  </a:cubicBezTo>
                  <a:cubicBezTo>
                    <a:pt x="847" y="281"/>
                    <a:pt x="846" y="278"/>
                    <a:pt x="845" y="279"/>
                  </a:cubicBezTo>
                  <a:cubicBezTo>
                    <a:pt x="837" y="282"/>
                    <a:pt x="830" y="285"/>
                    <a:pt x="822" y="287"/>
                  </a:cubicBezTo>
                  <a:cubicBezTo>
                    <a:pt x="820" y="288"/>
                    <a:pt x="816" y="289"/>
                    <a:pt x="815" y="291"/>
                  </a:cubicBezTo>
                  <a:cubicBezTo>
                    <a:pt x="814" y="291"/>
                    <a:pt x="814" y="290"/>
                    <a:pt x="813" y="290"/>
                  </a:cubicBezTo>
                  <a:cubicBezTo>
                    <a:pt x="813" y="290"/>
                    <a:pt x="813" y="290"/>
                    <a:pt x="813" y="290"/>
                  </a:cubicBezTo>
                  <a:cubicBezTo>
                    <a:pt x="813" y="289"/>
                    <a:pt x="813" y="289"/>
                    <a:pt x="813" y="289"/>
                  </a:cubicBezTo>
                  <a:cubicBezTo>
                    <a:pt x="815" y="287"/>
                    <a:pt x="817" y="285"/>
                    <a:pt x="819" y="284"/>
                  </a:cubicBezTo>
                  <a:cubicBezTo>
                    <a:pt x="822" y="282"/>
                    <a:pt x="825" y="281"/>
                    <a:pt x="828" y="279"/>
                  </a:cubicBezTo>
                  <a:cubicBezTo>
                    <a:pt x="836" y="276"/>
                    <a:pt x="843" y="273"/>
                    <a:pt x="850" y="270"/>
                  </a:cubicBezTo>
                  <a:cubicBezTo>
                    <a:pt x="864" y="265"/>
                    <a:pt x="877" y="262"/>
                    <a:pt x="891" y="257"/>
                  </a:cubicBezTo>
                  <a:cubicBezTo>
                    <a:pt x="891" y="257"/>
                    <a:pt x="891" y="256"/>
                    <a:pt x="891" y="256"/>
                  </a:cubicBezTo>
                  <a:cubicBezTo>
                    <a:pt x="876" y="258"/>
                    <a:pt x="862" y="264"/>
                    <a:pt x="848" y="269"/>
                  </a:cubicBezTo>
                  <a:cubicBezTo>
                    <a:pt x="842" y="271"/>
                    <a:pt x="835" y="274"/>
                    <a:pt x="829" y="276"/>
                  </a:cubicBezTo>
                  <a:cubicBezTo>
                    <a:pt x="834" y="273"/>
                    <a:pt x="838" y="270"/>
                    <a:pt x="843" y="267"/>
                  </a:cubicBezTo>
                  <a:cubicBezTo>
                    <a:pt x="846" y="266"/>
                    <a:pt x="849" y="264"/>
                    <a:pt x="853" y="263"/>
                  </a:cubicBezTo>
                  <a:cubicBezTo>
                    <a:pt x="858" y="261"/>
                    <a:pt x="863" y="260"/>
                    <a:pt x="869" y="257"/>
                  </a:cubicBezTo>
                  <a:cubicBezTo>
                    <a:pt x="878" y="253"/>
                    <a:pt x="888" y="248"/>
                    <a:pt x="899" y="247"/>
                  </a:cubicBezTo>
                  <a:cubicBezTo>
                    <a:pt x="899" y="246"/>
                    <a:pt x="899" y="245"/>
                    <a:pt x="898" y="245"/>
                  </a:cubicBezTo>
                  <a:cubicBezTo>
                    <a:pt x="888" y="246"/>
                    <a:pt x="879" y="251"/>
                    <a:pt x="869" y="255"/>
                  </a:cubicBezTo>
                  <a:cubicBezTo>
                    <a:pt x="863" y="257"/>
                    <a:pt x="856" y="259"/>
                    <a:pt x="850" y="262"/>
                  </a:cubicBezTo>
                  <a:cubicBezTo>
                    <a:pt x="850" y="262"/>
                    <a:pt x="849" y="262"/>
                    <a:pt x="849" y="262"/>
                  </a:cubicBezTo>
                  <a:cubicBezTo>
                    <a:pt x="855" y="257"/>
                    <a:pt x="861" y="252"/>
                    <a:pt x="866" y="246"/>
                  </a:cubicBezTo>
                  <a:cubicBezTo>
                    <a:pt x="871" y="246"/>
                    <a:pt x="875" y="244"/>
                    <a:pt x="880" y="242"/>
                  </a:cubicBezTo>
                  <a:close/>
                  <a:moveTo>
                    <a:pt x="743" y="122"/>
                  </a:moveTo>
                  <a:cubicBezTo>
                    <a:pt x="745" y="119"/>
                    <a:pt x="747" y="116"/>
                    <a:pt x="750" y="113"/>
                  </a:cubicBezTo>
                  <a:cubicBezTo>
                    <a:pt x="760" y="102"/>
                    <a:pt x="773" y="91"/>
                    <a:pt x="788" y="86"/>
                  </a:cubicBezTo>
                  <a:cubicBezTo>
                    <a:pt x="793" y="84"/>
                    <a:pt x="797" y="82"/>
                    <a:pt x="802" y="83"/>
                  </a:cubicBezTo>
                  <a:cubicBezTo>
                    <a:pt x="806" y="83"/>
                    <a:pt x="809" y="85"/>
                    <a:pt x="812" y="85"/>
                  </a:cubicBezTo>
                  <a:cubicBezTo>
                    <a:pt x="816" y="86"/>
                    <a:pt x="819" y="85"/>
                    <a:pt x="822" y="83"/>
                  </a:cubicBezTo>
                  <a:cubicBezTo>
                    <a:pt x="828" y="78"/>
                    <a:pt x="835" y="71"/>
                    <a:pt x="843" y="74"/>
                  </a:cubicBezTo>
                  <a:cubicBezTo>
                    <a:pt x="850" y="77"/>
                    <a:pt x="858" y="79"/>
                    <a:pt x="864" y="83"/>
                  </a:cubicBezTo>
                  <a:cubicBezTo>
                    <a:pt x="879" y="92"/>
                    <a:pt x="886" y="110"/>
                    <a:pt x="891" y="126"/>
                  </a:cubicBezTo>
                  <a:cubicBezTo>
                    <a:pt x="895" y="141"/>
                    <a:pt x="898" y="156"/>
                    <a:pt x="897" y="171"/>
                  </a:cubicBezTo>
                  <a:cubicBezTo>
                    <a:pt x="895" y="188"/>
                    <a:pt x="890" y="204"/>
                    <a:pt x="881" y="218"/>
                  </a:cubicBezTo>
                  <a:cubicBezTo>
                    <a:pt x="876" y="227"/>
                    <a:pt x="870" y="235"/>
                    <a:pt x="864" y="243"/>
                  </a:cubicBezTo>
                  <a:cubicBezTo>
                    <a:pt x="863" y="244"/>
                    <a:pt x="862" y="245"/>
                    <a:pt x="860" y="246"/>
                  </a:cubicBezTo>
                  <a:cubicBezTo>
                    <a:pt x="854" y="251"/>
                    <a:pt x="848" y="256"/>
                    <a:pt x="842" y="260"/>
                  </a:cubicBezTo>
                  <a:cubicBezTo>
                    <a:pt x="835" y="265"/>
                    <a:pt x="828" y="269"/>
                    <a:pt x="821" y="274"/>
                  </a:cubicBezTo>
                  <a:cubicBezTo>
                    <a:pt x="816" y="278"/>
                    <a:pt x="811" y="282"/>
                    <a:pt x="805" y="286"/>
                  </a:cubicBezTo>
                  <a:cubicBezTo>
                    <a:pt x="803" y="285"/>
                    <a:pt x="801" y="284"/>
                    <a:pt x="798" y="283"/>
                  </a:cubicBezTo>
                  <a:cubicBezTo>
                    <a:pt x="801" y="282"/>
                    <a:pt x="803" y="280"/>
                    <a:pt x="805" y="278"/>
                  </a:cubicBezTo>
                  <a:cubicBezTo>
                    <a:pt x="811" y="274"/>
                    <a:pt x="817" y="270"/>
                    <a:pt x="823" y="265"/>
                  </a:cubicBezTo>
                  <a:cubicBezTo>
                    <a:pt x="836" y="255"/>
                    <a:pt x="848" y="243"/>
                    <a:pt x="859" y="230"/>
                  </a:cubicBezTo>
                  <a:cubicBezTo>
                    <a:pt x="868" y="218"/>
                    <a:pt x="878" y="205"/>
                    <a:pt x="884" y="191"/>
                  </a:cubicBezTo>
                  <a:cubicBezTo>
                    <a:pt x="888" y="182"/>
                    <a:pt x="893" y="171"/>
                    <a:pt x="890" y="161"/>
                  </a:cubicBezTo>
                  <a:cubicBezTo>
                    <a:pt x="890" y="161"/>
                    <a:pt x="889" y="161"/>
                    <a:pt x="889" y="162"/>
                  </a:cubicBezTo>
                  <a:cubicBezTo>
                    <a:pt x="890" y="172"/>
                    <a:pt x="885" y="183"/>
                    <a:pt x="880" y="193"/>
                  </a:cubicBezTo>
                  <a:cubicBezTo>
                    <a:pt x="873" y="206"/>
                    <a:pt x="864" y="220"/>
                    <a:pt x="854" y="231"/>
                  </a:cubicBezTo>
                  <a:cubicBezTo>
                    <a:pt x="844" y="242"/>
                    <a:pt x="833" y="252"/>
                    <a:pt x="822" y="261"/>
                  </a:cubicBezTo>
                  <a:cubicBezTo>
                    <a:pt x="816" y="265"/>
                    <a:pt x="810" y="270"/>
                    <a:pt x="804" y="274"/>
                  </a:cubicBezTo>
                  <a:cubicBezTo>
                    <a:pt x="801" y="277"/>
                    <a:pt x="798" y="280"/>
                    <a:pt x="793" y="282"/>
                  </a:cubicBezTo>
                  <a:cubicBezTo>
                    <a:pt x="789" y="280"/>
                    <a:pt x="784" y="279"/>
                    <a:pt x="779" y="278"/>
                  </a:cubicBezTo>
                  <a:cubicBezTo>
                    <a:pt x="773" y="276"/>
                    <a:pt x="767" y="275"/>
                    <a:pt x="761" y="274"/>
                  </a:cubicBezTo>
                  <a:cubicBezTo>
                    <a:pt x="763" y="273"/>
                    <a:pt x="765" y="272"/>
                    <a:pt x="766" y="271"/>
                  </a:cubicBezTo>
                  <a:cubicBezTo>
                    <a:pt x="772" y="267"/>
                    <a:pt x="777" y="262"/>
                    <a:pt x="781" y="257"/>
                  </a:cubicBezTo>
                  <a:cubicBezTo>
                    <a:pt x="786" y="252"/>
                    <a:pt x="790" y="247"/>
                    <a:pt x="794" y="241"/>
                  </a:cubicBezTo>
                  <a:cubicBezTo>
                    <a:pt x="797" y="236"/>
                    <a:pt x="801" y="231"/>
                    <a:pt x="804" y="226"/>
                  </a:cubicBezTo>
                  <a:cubicBezTo>
                    <a:pt x="807" y="221"/>
                    <a:pt x="810" y="215"/>
                    <a:pt x="814" y="210"/>
                  </a:cubicBezTo>
                  <a:cubicBezTo>
                    <a:pt x="814" y="209"/>
                    <a:pt x="813" y="208"/>
                    <a:pt x="812" y="209"/>
                  </a:cubicBezTo>
                  <a:cubicBezTo>
                    <a:pt x="809" y="213"/>
                    <a:pt x="805" y="218"/>
                    <a:pt x="802" y="222"/>
                  </a:cubicBezTo>
                  <a:cubicBezTo>
                    <a:pt x="800" y="227"/>
                    <a:pt x="798" y="232"/>
                    <a:pt x="795" y="237"/>
                  </a:cubicBezTo>
                  <a:cubicBezTo>
                    <a:pt x="791" y="243"/>
                    <a:pt x="786" y="248"/>
                    <a:pt x="782" y="253"/>
                  </a:cubicBezTo>
                  <a:cubicBezTo>
                    <a:pt x="776" y="259"/>
                    <a:pt x="767" y="270"/>
                    <a:pt x="758" y="272"/>
                  </a:cubicBezTo>
                  <a:cubicBezTo>
                    <a:pt x="760" y="270"/>
                    <a:pt x="761" y="268"/>
                    <a:pt x="762" y="267"/>
                  </a:cubicBezTo>
                  <a:cubicBezTo>
                    <a:pt x="767" y="261"/>
                    <a:pt x="771" y="255"/>
                    <a:pt x="774" y="249"/>
                  </a:cubicBezTo>
                  <a:cubicBezTo>
                    <a:pt x="777" y="245"/>
                    <a:pt x="779" y="242"/>
                    <a:pt x="782" y="238"/>
                  </a:cubicBezTo>
                  <a:cubicBezTo>
                    <a:pt x="785" y="235"/>
                    <a:pt x="787" y="231"/>
                    <a:pt x="789" y="227"/>
                  </a:cubicBezTo>
                  <a:cubicBezTo>
                    <a:pt x="790" y="224"/>
                    <a:pt x="793" y="221"/>
                    <a:pt x="794" y="217"/>
                  </a:cubicBezTo>
                  <a:cubicBezTo>
                    <a:pt x="797" y="213"/>
                    <a:pt x="798" y="209"/>
                    <a:pt x="801" y="205"/>
                  </a:cubicBezTo>
                  <a:cubicBezTo>
                    <a:pt x="802" y="205"/>
                    <a:pt x="801" y="204"/>
                    <a:pt x="800" y="204"/>
                  </a:cubicBezTo>
                  <a:cubicBezTo>
                    <a:pt x="798" y="207"/>
                    <a:pt x="796" y="209"/>
                    <a:pt x="795" y="212"/>
                  </a:cubicBezTo>
                  <a:cubicBezTo>
                    <a:pt x="793" y="216"/>
                    <a:pt x="792" y="220"/>
                    <a:pt x="790" y="223"/>
                  </a:cubicBezTo>
                  <a:cubicBezTo>
                    <a:pt x="787" y="227"/>
                    <a:pt x="785" y="230"/>
                    <a:pt x="783" y="233"/>
                  </a:cubicBezTo>
                  <a:cubicBezTo>
                    <a:pt x="781" y="236"/>
                    <a:pt x="779" y="239"/>
                    <a:pt x="778" y="242"/>
                  </a:cubicBezTo>
                  <a:cubicBezTo>
                    <a:pt x="773" y="248"/>
                    <a:pt x="768" y="254"/>
                    <a:pt x="763" y="260"/>
                  </a:cubicBezTo>
                  <a:cubicBezTo>
                    <a:pt x="760" y="264"/>
                    <a:pt x="758" y="267"/>
                    <a:pt x="754" y="270"/>
                  </a:cubicBezTo>
                  <a:cubicBezTo>
                    <a:pt x="753" y="270"/>
                    <a:pt x="753" y="270"/>
                    <a:pt x="753" y="270"/>
                  </a:cubicBezTo>
                  <a:cubicBezTo>
                    <a:pt x="756" y="266"/>
                    <a:pt x="758" y="261"/>
                    <a:pt x="761" y="256"/>
                  </a:cubicBezTo>
                  <a:cubicBezTo>
                    <a:pt x="761" y="256"/>
                    <a:pt x="760" y="256"/>
                    <a:pt x="760" y="256"/>
                  </a:cubicBezTo>
                  <a:cubicBezTo>
                    <a:pt x="758" y="258"/>
                    <a:pt x="757" y="260"/>
                    <a:pt x="756" y="262"/>
                  </a:cubicBezTo>
                  <a:cubicBezTo>
                    <a:pt x="756" y="260"/>
                    <a:pt x="757" y="259"/>
                    <a:pt x="757" y="258"/>
                  </a:cubicBezTo>
                  <a:cubicBezTo>
                    <a:pt x="758" y="257"/>
                    <a:pt x="758" y="255"/>
                    <a:pt x="759" y="253"/>
                  </a:cubicBezTo>
                  <a:cubicBezTo>
                    <a:pt x="759" y="253"/>
                    <a:pt x="760" y="253"/>
                    <a:pt x="760" y="253"/>
                  </a:cubicBezTo>
                  <a:cubicBezTo>
                    <a:pt x="765" y="242"/>
                    <a:pt x="771" y="232"/>
                    <a:pt x="777" y="223"/>
                  </a:cubicBezTo>
                  <a:cubicBezTo>
                    <a:pt x="782" y="217"/>
                    <a:pt x="786" y="210"/>
                    <a:pt x="789" y="203"/>
                  </a:cubicBezTo>
                  <a:cubicBezTo>
                    <a:pt x="791" y="199"/>
                    <a:pt x="793" y="195"/>
                    <a:pt x="795" y="192"/>
                  </a:cubicBezTo>
                  <a:cubicBezTo>
                    <a:pt x="797" y="188"/>
                    <a:pt x="798" y="185"/>
                    <a:pt x="800" y="182"/>
                  </a:cubicBezTo>
                  <a:cubicBezTo>
                    <a:pt x="800" y="180"/>
                    <a:pt x="798" y="179"/>
                    <a:pt x="798" y="181"/>
                  </a:cubicBezTo>
                  <a:cubicBezTo>
                    <a:pt x="794" y="188"/>
                    <a:pt x="791" y="196"/>
                    <a:pt x="786" y="204"/>
                  </a:cubicBezTo>
                  <a:cubicBezTo>
                    <a:pt x="782" y="211"/>
                    <a:pt x="777" y="218"/>
                    <a:pt x="773" y="225"/>
                  </a:cubicBezTo>
                  <a:cubicBezTo>
                    <a:pt x="770" y="229"/>
                    <a:pt x="767" y="234"/>
                    <a:pt x="764" y="238"/>
                  </a:cubicBezTo>
                  <a:cubicBezTo>
                    <a:pt x="766" y="234"/>
                    <a:pt x="767" y="230"/>
                    <a:pt x="768" y="226"/>
                  </a:cubicBezTo>
                  <a:cubicBezTo>
                    <a:pt x="769" y="222"/>
                    <a:pt x="771" y="219"/>
                    <a:pt x="773" y="215"/>
                  </a:cubicBezTo>
                  <a:cubicBezTo>
                    <a:pt x="775" y="211"/>
                    <a:pt x="776" y="206"/>
                    <a:pt x="779" y="201"/>
                  </a:cubicBezTo>
                  <a:cubicBezTo>
                    <a:pt x="779" y="201"/>
                    <a:pt x="779" y="200"/>
                    <a:pt x="779" y="201"/>
                  </a:cubicBezTo>
                  <a:cubicBezTo>
                    <a:pt x="775" y="205"/>
                    <a:pt x="774" y="211"/>
                    <a:pt x="771" y="216"/>
                  </a:cubicBezTo>
                  <a:cubicBezTo>
                    <a:pt x="770" y="218"/>
                    <a:pt x="769" y="220"/>
                    <a:pt x="769" y="221"/>
                  </a:cubicBezTo>
                  <a:cubicBezTo>
                    <a:pt x="769" y="220"/>
                    <a:pt x="769" y="219"/>
                    <a:pt x="769" y="219"/>
                  </a:cubicBezTo>
                  <a:cubicBezTo>
                    <a:pt x="769" y="217"/>
                    <a:pt x="769" y="215"/>
                    <a:pt x="770" y="213"/>
                  </a:cubicBezTo>
                  <a:cubicBezTo>
                    <a:pt x="772" y="209"/>
                    <a:pt x="773" y="204"/>
                    <a:pt x="775" y="200"/>
                  </a:cubicBezTo>
                  <a:cubicBezTo>
                    <a:pt x="777" y="194"/>
                    <a:pt x="779" y="187"/>
                    <a:pt x="782" y="182"/>
                  </a:cubicBezTo>
                  <a:cubicBezTo>
                    <a:pt x="785" y="177"/>
                    <a:pt x="788" y="173"/>
                    <a:pt x="790" y="167"/>
                  </a:cubicBezTo>
                  <a:cubicBezTo>
                    <a:pt x="791" y="162"/>
                    <a:pt x="793" y="157"/>
                    <a:pt x="796" y="151"/>
                  </a:cubicBezTo>
                  <a:cubicBezTo>
                    <a:pt x="796" y="151"/>
                    <a:pt x="795" y="151"/>
                    <a:pt x="795" y="151"/>
                  </a:cubicBezTo>
                  <a:cubicBezTo>
                    <a:pt x="792" y="156"/>
                    <a:pt x="791" y="161"/>
                    <a:pt x="788" y="166"/>
                  </a:cubicBezTo>
                  <a:cubicBezTo>
                    <a:pt x="786" y="169"/>
                    <a:pt x="785" y="172"/>
                    <a:pt x="783" y="175"/>
                  </a:cubicBezTo>
                  <a:cubicBezTo>
                    <a:pt x="782" y="178"/>
                    <a:pt x="782" y="181"/>
                    <a:pt x="780" y="183"/>
                  </a:cubicBezTo>
                  <a:cubicBezTo>
                    <a:pt x="777" y="188"/>
                    <a:pt x="775" y="194"/>
                    <a:pt x="772" y="199"/>
                  </a:cubicBezTo>
                  <a:cubicBezTo>
                    <a:pt x="772" y="201"/>
                    <a:pt x="771" y="204"/>
                    <a:pt x="770" y="206"/>
                  </a:cubicBezTo>
                  <a:cubicBezTo>
                    <a:pt x="770" y="203"/>
                    <a:pt x="769" y="200"/>
                    <a:pt x="769" y="198"/>
                  </a:cubicBezTo>
                  <a:cubicBezTo>
                    <a:pt x="770" y="192"/>
                    <a:pt x="774" y="186"/>
                    <a:pt x="775" y="181"/>
                  </a:cubicBezTo>
                  <a:cubicBezTo>
                    <a:pt x="777" y="172"/>
                    <a:pt x="780" y="165"/>
                    <a:pt x="785" y="157"/>
                  </a:cubicBezTo>
                  <a:cubicBezTo>
                    <a:pt x="785" y="157"/>
                    <a:pt x="784" y="156"/>
                    <a:pt x="784" y="157"/>
                  </a:cubicBezTo>
                  <a:cubicBezTo>
                    <a:pt x="777" y="162"/>
                    <a:pt x="774" y="172"/>
                    <a:pt x="773" y="180"/>
                  </a:cubicBezTo>
                  <a:cubicBezTo>
                    <a:pt x="772" y="184"/>
                    <a:pt x="772" y="187"/>
                    <a:pt x="770" y="191"/>
                  </a:cubicBezTo>
                  <a:cubicBezTo>
                    <a:pt x="769" y="192"/>
                    <a:pt x="769" y="192"/>
                    <a:pt x="769" y="193"/>
                  </a:cubicBezTo>
                  <a:cubicBezTo>
                    <a:pt x="768" y="191"/>
                    <a:pt x="768" y="188"/>
                    <a:pt x="768" y="186"/>
                  </a:cubicBezTo>
                  <a:cubicBezTo>
                    <a:pt x="768" y="186"/>
                    <a:pt x="768" y="185"/>
                    <a:pt x="768" y="185"/>
                  </a:cubicBezTo>
                  <a:cubicBezTo>
                    <a:pt x="769" y="183"/>
                    <a:pt x="769" y="180"/>
                    <a:pt x="770" y="178"/>
                  </a:cubicBezTo>
                  <a:cubicBezTo>
                    <a:pt x="772" y="172"/>
                    <a:pt x="774" y="166"/>
                    <a:pt x="776" y="160"/>
                  </a:cubicBezTo>
                  <a:cubicBezTo>
                    <a:pt x="777" y="159"/>
                    <a:pt x="775" y="158"/>
                    <a:pt x="775" y="159"/>
                  </a:cubicBezTo>
                  <a:cubicBezTo>
                    <a:pt x="772" y="166"/>
                    <a:pt x="770" y="173"/>
                    <a:pt x="767" y="180"/>
                  </a:cubicBezTo>
                  <a:cubicBezTo>
                    <a:pt x="767" y="180"/>
                    <a:pt x="767" y="180"/>
                    <a:pt x="766" y="181"/>
                  </a:cubicBezTo>
                  <a:cubicBezTo>
                    <a:pt x="766" y="178"/>
                    <a:pt x="765" y="176"/>
                    <a:pt x="764" y="173"/>
                  </a:cubicBezTo>
                  <a:cubicBezTo>
                    <a:pt x="764" y="173"/>
                    <a:pt x="764" y="173"/>
                    <a:pt x="764" y="173"/>
                  </a:cubicBezTo>
                  <a:cubicBezTo>
                    <a:pt x="764" y="171"/>
                    <a:pt x="764" y="170"/>
                    <a:pt x="764" y="169"/>
                  </a:cubicBezTo>
                  <a:cubicBezTo>
                    <a:pt x="765" y="166"/>
                    <a:pt x="765" y="163"/>
                    <a:pt x="765" y="160"/>
                  </a:cubicBezTo>
                  <a:cubicBezTo>
                    <a:pt x="766" y="153"/>
                    <a:pt x="767" y="148"/>
                    <a:pt x="769" y="142"/>
                  </a:cubicBezTo>
                  <a:cubicBezTo>
                    <a:pt x="770" y="141"/>
                    <a:pt x="769" y="141"/>
                    <a:pt x="768" y="141"/>
                  </a:cubicBezTo>
                  <a:cubicBezTo>
                    <a:pt x="764" y="148"/>
                    <a:pt x="765" y="154"/>
                    <a:pt x="763" y="161"/>
                  </a:cubicBezTo>
                  <a:cubicBezTo>
                    <a:pt x="763" y="162"/>
                    <a:pt x="762" y="164"/>
                    <a:pt x="762" y="165"/>
                  </a:cubicBezTo>
                  <a:cubicBezTo>
                    <a:pt x="759" y="158"/>
                    <a:pt x="756" y="149"/>
                    <a:pt x="749" y="145"/>
                  </a:cubicBezTo>
                  <a:cubicBezTo>
                    <a:pt x="747" y="143"/>
                    <a:pt x="746" y="143"/>
                    <a:pt x="743" y="143"/>
                  </a:cubicBezTo>
                  <a:cubicBezTo>
                    <a:pt x="741" y="142"/>
                    <a:pt x="742" y="137"/>
                    <a:pt x="741" y="136"/>
                  </a:cubicBezTo>
                  <a:cubicBezTo>
                    <a:pt x="739" y="133"/>
                    <a:pt x="738" y="132"/>
                    <a:pt x="736" y="132"/>
                  </a:cubicBezTo>
                  <a:cubicBezTo>
                    <a:pt x="736" y="128"/>
                    <a:pt x="740" y="124"/>
                    <a:pt x="743" y="122"/>
                  </a:cubicBezTo>
                  <a:close/>
                  <a:moveTo>
                    <a:pt x="684" y="129"/>
                  </a:moveTo>
                  <a:cubicBezTo>
                    <a:pt x="692" y="127"/>
                    <a:pt x="700" y="126"/>
                    <a:pt x="708" y="126"/>
                  </a:cubicBezTo>
                  <a:cubicBezTo>
                    <a:pt x="712" y="126"/>
                    <a:pt x="716" y="126"/>
                    <a:pt x="719" y="126"/>
                  </a:cubicBezTo>
                  <a:cubicBezTo>
                    <a:pt x="722" y="127"/>
                    <a:pt x="725" y="128"/>
                    <a:pt x="726" y="130"/>
                  </a:cubicBezTo>
                  <a:cubicBezTo>
                    <a:pt x="726" y="131"/>
                    <a:pt x="727" y="132"/>
                    <a:pt x="727" y="132"/>
                  </a:cubicBezTo>
                  <a:cubicBezTo>
                    <a:pt x="730" y="135"/>
                    <a:pt x="737" y="133"/>
                    <a:pt x="738" y="139"/>
                  </a:cubicBezTo>
                  <a:cubicBezTo>
                    <a:pt x="738" y="142"/>
                    <a:pt x="739" y="146"/>
                    <a:pt x="743" y="146"/>
                  </a:cubicBezTo>
                  <a:cubicBezTo>
                    <a:pt x="750" y="146"/>
                    <a:pt x="753" y="155"/>
                    <a:pt x="756" y="160"/>
                  </a:cubicBezTo>
                  <a:cubicBezTo>
                    <a:pt x="761" y="172"/>
                    <a:pt x="765" y="186"/>
                    <a:pt x="766" y="199"/>
                  </a:cubicBezTo>
                  <a:cubicBezTo>
                    <a:pt x="767" y="216"/>
                    <a:pt x="763" y="230"/>
                    <a:pt x="758" y="245"/>
                  </a:cubicBezTo>
                  <a:cubicBezTo>
                    <a:pt x="755" y="254"/>
                    <a:pt x="752" y="266"/>
                    <a:pt x="745" y="273"/>
                  </a:cubicBezTo>
                  <a:cubicBezTo>
                    <a:pt x="745" y="273"/>
                    <a:pt x="745" y="273"/>
                    <a:pt x="745" y="273"/>
                  </a:cubicBezTo>
                  <a:cubicBezTo>
                    <a:pt x="742" y="275"/>
                    <a:pt x="740" y="278"/>
                    <a:pt x="737" y="280"/>
                  </a:cubicBezTo>
                  <a:cubicBezTo>
                    <a:pt x="734" y="282"/>
                    <a:pt x="732" y="284"/>
                    <a:pt x="730" y="286"/>
                  </a:cubicBezTo>
                  <a:cubicBezTo>
                    <a:pt x="726" y="291"/>
                    <a:pt x="722" y="296"/>
                    <a:pt x="718" y="300"/>
                  </a:cubicBezTo>
                  <a:cubicBezTo>
                    <a:pt x="709" y="309"/>
                    <a:pt x="699" y="316"/>
                    <a:pt x="689" y="324"/>
                  </a:cubicBezTo>
                  <a:cubicBezTo>
                    <a:pt x="684" y="329"/>
                    <a:pt x="679" y="334"/>
                    <a:pt x="673" y="338"/>
                  </a:cubicBezTo>
                  <a:cubicBezTo>
                    <a:pt x="668" y="342"/>
                    <a:pt x="663" y="345"/>
                    <a:pt x="657" y="349"/>
                  </a:cubicBezTo>
                  <a:cubicBezTo>
                    <a:pt x="649" y="355"/>
                    <a:pt x="642" y="363"/>
                    <a:pt x="635" y="372"/>
                  </a:cubicBezTo>
                  <a:cubicBezTo>
                    <a:pt x="635" y="372"/>
                    <a:pt x="635" y="372"/>
                    <a:pt x="635" y="372"/>
                  </a:cubicBezTo>
                  <a:cubicBezTo>
                    <a:pt x="635" y="372"/>
                    <a:pt x="634" y="371"/>
                    <a:pt x="633" y="371"/>
                  </a:cubicBezTo>
                  <a:cubicBezTo>
                    <a:pt x="630" y="368"/>
                    <a:pt x="627" y="365"/>
                    <a:pt x="623" y="365"/>
                  </a:cubicBezTo>
                  <a:cubicBezTo>
                    <a:pt x="628" y="357"/>
                    <a:pt x="634" y="350"/>
                    <a:pt x="642" y="345"/>
                  </a:cubicBezTo>
                  <a:cubicBezTo>
                    <a:pt x="646" y="342"/>
                    <a:pt x="650" y="339"/>
                    <a:pt x="655" y="337"/>
                  </a:cubicBezTo>
                  <a:cubicBezTo>
                    <a:pt x="659" y="335"/>
                    <a:pt x="664" y="334"/>
                    <a:pt x="668" y="332"/>
                  </a:cubicBezTo>
                  <a:cubicBezTo>
                    <a:pt x="674" y="327"/>
                    <a:pt x="679" y="319"/>
                    <a:pt x="684" y="313"/>
                  </a:cubicBezTo>
                  <a:cubicBezTo>
                    <a:pt x="689" y="305"/>
                    <a:pt x="695" y="296"/>
                    <a:pt x="704" y="291"/>
                  </a:cubicBezTo>
                  <a:cubicBezTo>
                    <a:pt x="711" y="288"/>
                    <a:pt x="719" y="286"/>
                    <a:pt x="726" y="283"/>
                  </a:cubicBezTo>
                  <a:cubicBezTo>
                    <a:pt x="732" y="280"/>
                    <a:pt x="737" y="274"/>
                    <a:pt x="741" y="268"/>
                  </a:cubicBezTo>
                  <a:cubicBezTo>
                    <a:pt x="745" y="263"/>
                    <a:pt x="748" y="258"/>
                    <a:pt x="750" y="252"/>
                  </a:cubicBezTo>
                  <a:cubicBezTo>
                    <a:pt x="751" y="248"/>
                    <a:pt x="754" y="243"/>
                    <a:pt x="752" y="240"/>
                  </a:cubicBezTo>
                  <a:cubicBezTo>
                    <a:pt x="752" y="239"/>
                    <a:pt x="751" y="240"/>
                    <a:pt x="751" y="241"/>
                  </a:cubicBezTo>
                  <a:cubicBezTo>
                    <a:pt x="752" y="245"/>
                    <a:pt x="747" y="253"/>
                    <a:pt x="746" y="256"/>
                  </a:cubicBezTo>
                  <a:cubicBezTo>
                    <a:pt x="741" y="263"/>
                    <a:pt x="737" y="270"/>
                    <a:pt x="731" y="275"/>
                  </a:cubicBezTo>
                  <a:cubicBezTo>
                    <a:pt x="725" y="281"/>
                    <a:pt x="717" y="282"/>
                    <a:pt x="710" y="285"/>
                  </a:cubicBezTo>
                  <a:cubicBezTo>
                    <a:pt x="703" y="287"/>
                    <a:pt x="697" y="291"/>
                    <a:pt x="692" y="296"/>
                  </a:cubicBezTo>
                  <a:cubicBezTo>
                    <a:pt x="686" y="303"/>
                    <a:pt x="681" y="310"/>
                    <a:pt x="675" y="317"/>
                  </a:cubicBezTo>
                  <a:cubicBezTo>
                    <a:pt x="673" y="321"/>
                    <a:pt x="670" y="326"/>
                    <a:pt x="666" y="328"/>
                  </a:cubicBezTo>
                  <a:cubicBezTo>
                    <a:pt x="664" y="329"/>
                    <a:pt x="662" y="330"/>
                    <a:pt x="661" y="331"/>
                  </a:cubicBezTo>
                  <a:cubicBezTo>
                    <a:pt x="666" y="325"/>
                    <a:pt x="669" y="319"/>
                    <a:pt x="674" y="314"/>
                  </a:cubicBezTo>
                  <a:cubicBezTo>
                    <a:pt x="679" y="310"/>
                    <a:pt x="682" y="304"/>
                    <a:pt x="687" y="300"/>
                  </a:cubicBezTo>
                  <a:cubicBezTo>
                    <a:pt x="690" y="296"/>
                    <a:pt x="694" y="291"/>
                    <a:pt x="698" y="287"/>
                  </a:cubicBezTo>
                  <a:cubicBezTo>
                    <a:pt x="698" y="287"/>
                    <a:pt x="697" y="286"/>
                    <a:pt x="697" y="287"/>
                  </a:cubicBezTo>
                  <a:cubicBezTo>
                    <a:pt x="692" y="291"/>
                    <a:pt x="689" y="296"/>
                    <a:pt x="685" y="301"/>
                  </a:cubicBezTo>
                  <a:cubicBezTo>
                    <a:pt x="681" y="305"/>
                    <a:pt x="677" y="309"/>
                    <a:pt x="673" y="313"/>
                  </a:cubicBezTo>
                  <a:cubicBezTo>
                    <a:pt x="666" y="319"/>
                    <a:pt x="662" y="328"/>
                    <a:pt x="654" y="333"/>
                  </a:cubicBezTo>
                  <a:cubicBezTo>
                    <a:pt x="654" y="333"/>
                    <a:pt x="654" y="333"/>
                    <a:pt x="654" y="333"/>
                  </a:cubicBezTo>
                  <a:cubicBezTo>
                    <a:pt x="656" y="331"/>
                    <a:pt x="657" y="329"/>
                    <a:pt x="659" y="327"/>
                  </a:cubicBezTo>
                  <a:cubicBezTo>
                    <a:pt x="663" y="322"/>
                    <a:pt x="667" y="317"/>
                    <a:pt x="671" y="312"/>
                  </a:cubicBezTo>
                  <a:cubicBezTo>
                    <a:pt x="671" y="312"/>
                    <a:pt x="670" y="311"/>
                    <a:pt x="670" y="312"/>
                  </a:cubicBezTo>
                  <a:cubicBezTo>
                    <a:pt x="667" y="317"/>
                    <a:pt x="662" y="321"/>
                    <a:pt x="658" y="326"/>
                  </a:cubicBezTo>
                  <a:cubicBezTo>
                    <a:pt x="655" y="329"/>
                    <a:pt x="653" y="333"/>
                    <a:pt x="649" y="335"/>
                  </a:cubicBezTo>
                  <a:cubicBezTo>
                    <a:pt x="648" y="336"/>
                    <a:pt x="648" y="336"/>
                    <a:pt x="648" y="336"/>
                  </a:cubicBezTo>
                  <a:cubicBezTo>
                    <a:pt x="646" y="337"/>
                    <a:pt x="643" y="339"/>
                    <a:pt x="641" y="340"/>
                  </a:cubicBezTo>
                  <a:cubicBezTo>
                    <a:pt x="642" y="339"/>
                    <a:pt x="644" y="337"/>
                    <a:pt x="645" y="335"/>
                  </a:cubicBezTo>
                  <a:cubicBezTo>
                    <a:pt x="645" y="335"/>
                    <a:pt x="645" y="335"/>
                    <a:pt x="645" y="335"/>
                  </a:cubicBezTo>
                  <a:cubicBezTo>
                    <a:pt x="641" y="339"/>
                    <a:pt x="637" y="342"/>
                    <a:pt x="633" y="346"/>
                  </a:cubicBezTo>
                  <a:cubicBezTo>
                    <a:pt x="630" y="349"/>
                    <a:pt x="626" y="352"/>
                    <a:pt x="623" y="356"/>
                  </a:cubicBezTo>
                  <a:cubicBezTo>
                    <a:pt x="623" y="356"/>
                    <a:pt x="623" y="355"/>
                    <a:pt x="623" y="354"/>
                  </a:cubicBezTo>
                  <a:cubicBezTo>
                    <a:pt x="624" y="354"/>
                    <a:pt x="624" y="353"/>
                    <a:pt x="625" y="352"/>
                  </a:cubicBezTo>
                  <a:cubicBezTo>
                    <a:pt x="627" y="350"/>
                    <a:pt x="629" y="347"/>
                    <a:pt x="631" y="345"/>
                  </a:cubicBezTo>
                  <a:cubicBezTo>
                    <a:pt x="632" y="343"/>
                    <a:pt x="633" y="341"/>
                    <a:pt x="634" y="339"/>
                  </a:cubicBezTo>
                  <a:cubicBezTo>
                    <a:pt x="635" y="339"/>
                    <a:pt x="635" y="339"/>
                    <a:pt x="635" y="338"/>
                  </a:cubicBezTo>
                  <a:cubicBezTo>
                    <a:pt x="636" y="337"/>
                    <a:pt x="636" y="336"/>
                    <a:pt x="637" y="335"/>
                  </a:cubicBezTo>
                  <a:cubicBezTo>
                    <a:pt x="641" y="330"/>
                    <a:pt x="644" y="325"/>
                    <a:pt x="648" y="320"/>
                  </a:cubicBezTo>
                  <a:cubicBezTo>
                    <a:pt x="648" y="320"/>
                    <a:pt x="648" y="320"/>
                    <a:pt x="647" y="320"/>
                  </a:cubicBezTo>
                  <a:cubicBezTo>
                    <a:pt x="644" y="323"/>
                    <a:pt x="642" y="326"/>
                    <a:pt x="640" y="330"/>
                  </a:cubicBezTo>
                  <a:cubicBezTo>
                    <a:pt x="643" y="324"/>
                    <a:pt x="646" y="319"/>
                    <a:pt x="649" y="313"/>
                  </a:cubicBezTo>
                  <a:cubicBezTo>
                    <a:pt x="654" y="306"/>
                    <a:pt x="659" y="299"/>
                    <a:pt x="664" y="291"/>
                  </a:cubicBezTo>
                  <a:cubicBezTo>
                    <a:pt x="664" y="291"/>
                    <a:pt x="663" y="290"/>
                    <a:pt x="663" y="290"/>
                  </a:cubicBezTo>
                  <a:cubicBezTo>
                    <a:pt x="657" y="298"/>
                    <a:pt x="652" y="306"/>
                    <a:pt x="647" y="314"/>
                  </a:cubicBezTo>
                  <a:cubicBezTo>
                    <a:pt x="642" y="322"/>
                    <a:pt x="637" y="329"/>
                    <a:pt x="634" y="337"/>
                  </a:cubicBezTo>
                  <a:cubicBezTo>
                    <a:pt x="632" y="340"/>
                    <a:pt x="630" y="342"/>
                    <a:pt x="628" y="345"/>
                  </a:cubicBezTo>
                  <a:cubicBezTo>
                    <a:pt x="627" y="346"/>
                    <a:pt x="626" y="348"/>
                    <a:pt x="624" y="349"/>
                  </a:cubicBezTo>
                  <a:cubicBezTo>
                    <a:pt x="629" y="340"/>
                    <a:pt x="633" y="331"/>
                    <a:pt x="638" y="322"/>
                  </a:cubicBezTo>
                  <a:cubicBezTo>
                    <a:pt x="641" y="317"/>
                    <a:pt x="643" y="312"/>
                    <a:pt x="646" y="308"/>
                  </a:cubicBezTo>
                  <a:cubicBezTo>
                    <a:pt x="648" y="303"/>
                    <a:pt x="651" y="299"/>
                    <a:pt x="653" y="295"/>
                  </a:cubicBezTo>
                  <a:cubicBezTo>
                    <a:pt x="653" y="294"/>
                    <a:pt x="653" y="294"/>
                    <a:pt x="653" y="294"/>
                  </a:cubicBezTo>
                  <a:cubicBezTo>
                    <a:pt x="645" y="303"/>
                    <a:pt x="642" y="315"/>
                    <a:pt x="635" y="325"/>
                  </a:cubicBezTo>
                  <a:cubicBezTo>
                    <a:pt x="631" y="331"/>
                    <a:pt x="626" y="337"/>
                    <a:pt x="624" y="345"/>
                  </a:cubicBezTo>
                  <a:cubicBezTo>
                    <a:pt x="625" y="341"/>
                    <a:pt x="626" y="337"/>
                    <a:pt x="627" y="334"/>
                  </a:cubicBezTo>
                  <a:cubicBezTo>
                    <a:pt x="632" y="323"/>
                    <a:pt x="638" y="314"/>
                    <a:pt x="642" y="303"/>
                  </a:cubicBezTo>
                  <a:cubicBezTo>
                    <a:pt x="643" y="302"/>
                    <a:pt x="641" y="302"/>
                    <a:pt x="640" y="303"/>
                  </a:cubicBezTo>
                  <a:cubicBezTo>
                    <a:pt x="636" y="314"/>
                    <a:pt x="628" y="324"/>
                    <a:pt x="624" y="335"/>
                  </a:cubicBezTo>
                  <a:cubicBezTo>
                    <a:pt x="622" y="340"/>
                    <a:pt x="621" y="346"/>
                    <a:pt x="620" y="351"/>
                  </a:cubicBezTo>
                  <a:cubicBezTo>
                    <a:pt x="620" y="351"/>
                    <a:pt x="619" y="350"/>
                    <a:pt x="619" y="350"/>
                  </a:cubicBezTo>
                  <a:cubicBezTo>
                    <a:pt x="619" y="350"/>
                    <a:pt x="619" y="349"/>
                    <a:pt x="619" y="349"/>
                  </a:cubicBezTo>
                  <a:cubicBezTo>
                    <a:pt x="620" y="347"/>
                    <a:pt x="620" y="344"/>
                    <a:pt x="620" y="341"/>
                  </a:cubicBezTo>
                  <a:cubicBezTo>
                    <a:pt x="621" y="335"/>
                    <a:pt x="624" y="329"/>
                    <a:pt x="626" y="324"/>
                  </a:cubicBezTo>
                  <a:cubicBezTo>
                    <a:pt x="631" y="313"/>
                    <a:pt x="637" y="302"/>
                    <a:pt x="640" y="290"/>
                  </a:cubicBezTo>
                  <a:cubicBezTo>
                    <a:pt x="640" y="290"/>
                    <a:pt x="640" y="290"/>
                    <a:pt x="640" y="290"/>
                  </a:cubicBezTo>
                  <a:cubicBezTo>
                    <a:pt x="634" y="303"/>
                    <a:pt x="628" y="315"/>
                    <a:pt x="622" y="328"/>
                  </a:cubicBezTo>
                  <a:cubicBezTo>
                    <a:pt x="622" y="329"/>
                    <a:pt x="622" y="330"/>
                    <a:pt x="621" y="330"/>
                  </a:cubicBezTo>
                  <a:cubicBezTo>
                    <a:pt x="622" y="324"/>
                    <a:pt x="625" y="319"/>
                    <a:pt x="627" y="313"/>
                  </a:cubicBezTo>
                  <a:cubicBezTo>
                    <a:pt x="629" y="310"/>
                    <a:pt x="629" y="307"/>
                    <a:pt x="630" y="304"/>
                  </a:cubicBezTo>
                  <a:cubicBezTo>
                    <a:pt x="632" y="300"/>
                    <a:pt x="634" y="296"/>
                    <a:pt x="635" y="292"/>
                  </a:cubicBezTo>
                  <a:cubicBezTo>
                    <a:pt x="636" y="291"/>
                    <a:pt x="635" y="291"/>
                    <a:pt x="635" y="291"/>
                  </a:cubicBezTo>
                  <a:cubicBezTo>
                    <a:pt x="632" y="296"/>
                    <a:pt x="631" y="301"/>
                    <a:pt x="629" y="306"/>
                  </a:cubicBezTo>
                  <a:cubicBezTo>
                    <a:pt x="627" y="309"/>
                    <a:pt x="625" y="312"/>
                    <a:pt x="624" y="315"/>
                  </a:cubicBezTo>
                  <a:cubicBezTo>
                    <a:pt x="623" y="318"/>
                    <a:pt x="622" y="320"/>
                    <a:pt x="621" y="323"/>
                  </a:cubicBezTo>
                  <a:cubicBezTo>
                    <a:pt x="621" y="321"/>
                    <a:pt x="621" y="319"/>
                    <a:pt x="621" y="317"/>
                  </a:cubicBezTo>
                  <a:cubicBezTo>
                    <a:pt x="623" y="313"/>
                    <a:pt x="624" y="309"/>
                    <a:pt x="625" y="305"/>
                  </a:cubicBezTo>
                  <a:cubicBezTo>
                    <a:pt x="625" y="305"/>
                    <a:pt x="625" y="305"/>
                    <a:pt x="624" y="305"/>
                  </a:cubicBezTo>
                  <a:cubicBezTo>
                    <a:pt x="623" y="307"/>
                    <a:pt x="622" y="310"/>
                    <a:pt x="621" y="313"/>
                  </a:cubicBezTo>
                  <a:cubicBezTo>
                    <a:pt x="622" y="308"/>
                    <a:pt x="622" y="303"/>
                    <a:pt x="623" y="298"/>
                  </a:cubicBezTo>
                  <a:cubicBezTo>
                    <a:pt x="623" y="298"/>
                    <a:pt x="623" y="298"/>
                    <a:pt x="623" y="298"/>
                  </a:cubicBezTo>
                  <a:cubicBezTo>
                    <a:pt x="623" y="298"/>
                    <a:pt x="623" y="298"/>
                    <a:pt x="623" y="298"/>
                  </a:cubicBezTo>
                  <a:cubicBezTo>
                    <a:pt x="624" y="297"/>
                    <a:pt x="624" y="295"/>
                    <a:pt x="625" y="293"/>
                  </a:cubicBezTo>
                  <a:cubicBezTo>
                    <a:pt x="626" y="291"/>
                    <a:pt x="627" y="289"/>
                    <a:pt x="628" y="287"/>
                  </a:cubicBezTo>
                  <a:cubicBezTo>
                    <a:pt x="630" y="283"/>
                    <a:pt x="631" y="280"/>
                    <a:pt x="631" y="277"/>
                  </a:cubicBezTo>
                  <a:cubicBezTo>
                    <a:pt x="631" y="276"/>
                    <a:pt x="631" y="276"/>
                    <a:pt x="630" y="277"/>
                  </a:cubicBezTo>
                  <a:cubicBezTo>
                    <a:pt x="629" y="281"/>
                    <a:pt x="627" y="285"/>
                    <a:pt x="625" y="289"/>
                  </a:cubicBezTo>
                  <a:cubicBezTo>
                    <a:pt x="624" y="291"/>
                    <a:pt x="623" y="292"/>
                    <a:pt x="623" y="294"/>
                  </a:cubicBezTo>
                  <a:cubicBezTo>
                    <a:pt x="623" y="292"/>
                    <a:pt x="623" y="289"/>
                    <a:pt x="623" y="286"/>
                  </a:cubicBezTo>
                  <a:cubicBezTo>
                    <a:pt x="624" y="286"/>
                    <a:pt x="624" y="286"/>
                    <a:pt x="624" y="286"/>
                  </a:cubicBezTo>
                  <a:cubicBezTo>
                    <a:pt x="625" y="282"/>
                    <a:pt x="627" y="279"/>
                    <a:pt x="628" y="276"/>
                  </a:cubicBezTo>
                  <a:cubicBezTo>
                    <a:pt x="628" y="275"/>
                    <a:pt x="628" y="275"/>
                    <a:pt x="627" y="275"/>
                  </a:cubicBezTo>
                  <a:cubicBezTo>
                    <a:pt x="626" y="277"/>
                    <a:pt x="625" y="280"/>
                    <a:pt x="624" y="282"/>
                  </a:cubicBezTo>
                  <a:cubicBezTo>
                    <a:pt x="624" y="280"/>
                    <a:pt x="624" y="278"/>
                    <a:pt x="624" y="276"/>
                  </a:cubicBezTo>
                  <a:cubicBezTo>
                    <a:pt x="624" y="267"/>
                    <a:pt x="624" y="257"/>
                    <a:pt x="622" y="247"/>
                  </a:cubicBezTo>
                  <a:cubicBezTo>
                    <a:pt x="624" y="245"/>
                    <a:pt x="622" y="243"/>
                    <a:pt x="623" y="241"/>
                  </a:cubicBezTo>
                  <a:cubicBezTo>
                    <a:pt x="623" y="239"/>
                    <a:pt x="623" y="238"/>
                    <a:pt x="623" y="237"/>
                  </a:cubicBezTo>
                  <a:cubicBezTo>
                    <a:pt x="623" y="235"/>
                    <a:pt x="623" y="234"/>
                    <a:pt x="623" y="233"/>
                  </a:cubicBezTo>
                  <a:cubicBezTo>
                    <a:pt x="623" y="232"/>
                    <a:pt x="622" y="232"/>
                    <a:pt x="622" y="233"/>
                  </a:cubicBezTo>
                  <a:cubicBezTo>
                    <a:pt x="622" y="234"/>
                    <a:pt x="621" y="236"/>
                    <a:pt x="621" y="237"/>
                  </a:cubicBezTo>
                  <a:cubicBezTo>
                    <a:pt x="621" y="238"/>
                    <a:pt x="622" y="239"/>
                    <a:pt x="622" y="241"/>
                  </a:cubicBezTo>
                  <a:cubicBezTo>
                    <a:pt x="622" y="242"/>
                    <a:pt x="622" y="243"/>
                    <a:pt x="621" y="244"/>
                  </a:cubicBezTo>
                  <a:cubicBezTo>
                    <a:pt x="620" y="239"/>
                    <a:pt x="619" y="234"/>
                    <a:pt x="617" y="229"/>
                  </a:cubicBezTo>
                  <a:cubicBezTo>
                    <a:pt x="613" y="218"/>
                    <a:pt x="607" y="206"/>
                    <a:pt x="601" y="196"/>
                  </a:cubicBezTo>
                  <a:cubicBezTo>
                    <a:pt x="601" y="193"/>
                    <a:pt x="605" y="190"/>
                    <a:pt x="606" y="187"/>
                  </a:cubicBezTo>
                  <a:cubicBezTo>
                    <a:pt x="609" y="184"/>
                    <a:pt x="611" y="180"/>
                    <a:pt x="614" y="177"/>
                  </a:cubicBezTo>
                  <a:cubicBezTo>
                    <a:pt x="619" y="170"/>
                    <a:pt x="624" y="163"/>
                    <a:pt x="631" y="157"/>
                  </a:cubicBezTo>
                  <a:cubicBezTo>
                    <a:pt x="636" y="152"/>
                    <a:pt x="641" y="147"/>
                    <a:pt x="648" y="144"/>
                  </a:cubicBezTo>
                  <a:cubicBezTo>
                    <a:pt x="653" y="141"/>
                    <a:pt x="657" y="139"/>
                    <a:pt x="662" y="136"/>
                  </a:cubicBezTo>
                  <a:cubicBezTo>
                    <a:pt x="668" y="130"/>
                    <a:pt x="676" y="130"/>
                    <a:pt x="684" y="129"/>
                  </a:cubicBezTo>
                  <a:close/>
                  <a:moveTo>
                    <a:pt x="538" y="132"/>
                  </a:moveTo>
                  <a:cubicBezTo>
                    <a:pt x="540" y="130"/>
                    <a:pt x="541" y="129"/>
                    <a:pt x="542" y="128"/>
                  </a:cubicBezTo>
                  <a:cubicBezTo>
                    <a:pt x="547" y="123"/>
                    <a:pt x="552" y="119"/>
                    <a:pt x="558" y="116"/>
                  </a:cubicBezTo>
                  <a:cubicBezTo>
                    <a:pt x="570" y="111"/>
                    <a:pt x="582" y="109"/>
                    <a:pt x="595" y="110"/>
                  </a:cubicBezTo>
                  <a:cubicBezTo>
                    <a:pt x="596" y="110"/>
                    <a:pt x="597" y="110"/>
                    <a:pt x="598" y="110"/>
                  </a:cubicBezTo>
                  <a:cubicBezTo>
                    <a:pt x="598" y="110"/>
                    <a:pt x="598" y="110"/>
                    <a:pt x="598" y="110"/>
                  </a:cubicBezTo>
                  <a:cubicBezTo>
                    <a:pt x="585" y="110"/>
                    <a:pt x="570" y="113"/>
                    <a:pt x="560" y="121"/>
                  </a:cubicBezTo>
                  <a:cubicBezTo>
                    <a:pt x="559" y="122"/>
                    <a:pt x="560" y="123"/>
                    <a:pt x="561" y="122"/>
                  </a:cubicBezTo>
                  <a:cubicBezTo>
                    <a:pt x="574" y="118"/>
                    <a:pt x="586" y="112"/>
                    <a:pt x="601" y="113"/>
                  </a:cubicBezTo>
                  <a:cubicBezTo>
                    <a:pt x="608" y="113"/>
                    <a:pt x="615" y="115"/>
                    <a:pt x="622" y="117"/>
                  </a:cubicBezTo>
                  <a:cubicBezTo>
                    <a:pt x="628" y="119"/>
                    <a:pt x="633" y="124"/>
                    <a:pt x="639" y="124"/>
                  </a:cubicBezTo>
                  <a:cubicBezTo>
                    <a:pt x="639" y="124"/>
                    <a:pt x="639" y="124"/>
                    <a:pt x="639" y="124"/>
                  </a:cubicBezTo>
                  <a:cubicBezTo>
                    <a:pt x="635" y="122"/>
                    <a:pt x="632" y="119"/>
                    <a:pt x="628" y="117"/>
                  </a:cubicBezTo>
                  <a:cubicBezTo>
                    <a:pt x="625" y="115"/>
                    <a:pt x="621" y="114"/>
                    <a:pt x="618" y="113"/>
                  </a:cubicBezTo>
                  <a:cubicBezTo>
                    <a:pt x="613" y="112"/>
                    <a:pt x="609" y="111"/>
                    <a:pt x="604" y="110"/>
                  </a:cubicBezTo>
                  <a:cubicBezTo>
                    <a:pt x="614" y="111"/>
                    <a:pt x="623" y="113"/>
                    <a:pt x="633" y="116"/>
                  </a:cubicBezTo>
                  <a:cubicBezTo>
                    <a:pt x="640" y="119"/>
                    <a:pt x="647" y="122"/>
                    <a:pt x="653" y="125"/>
                  </a:cubicBezTo>
                  <a:cubicBezTo>
                    <a:pt x="656" y="127"/>
                    <a:pt x="659" y="129"/>
                    <a:pt x="662" y="130"/>
                  </a:cubicBezTo>
                  <a:cubicBezTo>
                    <a:pt x="661" y="131"/>
                    <a:pt x="659" y="132"/>
                    <a:pt x="658" y="134"/>
                  </a:cubicBezTo>
                  <a:cubicBezTo>
                    <a:pt x="653" y="138"/>
                    <a:pt x="646" y="140"/>
                    <a:pt x="640" y="144"/>
                  </a:cubicBezTo>
                  <a:cubicBezTo>
                    <a:pt x="635" y="148"/>
                    <a:pt x="630" y="152"/>
                    <a:pt x="625" y="157"/>
                  </a:cubicBezTo>
                  <a:cubicBezTo>
                    <a:pt x="622" y="160"/>
                    <a:pt x="619" y="164"/>
                    <a:pt x="616" y="168"/>
                  </a:cubicBezTo>
                  <a:cubicBezTo>
                    <a:pt x="616" y="166"/>
                    <a:pt x="616" y="164"/>
                    <a:pt x="616" y="163"/>
                  </a:cubicBezTo>
                  <a:cubicBezTo>
                    <a:pt x="616" y="160"/>
                    <a:pt x="616" y="156"/>
                    <a:pt x="617" y="153"/>
                  </a:cubicBezTo>
                  <a:cubicBezTo>
                    <a:pt x="617" y="153"/>
                    <a:pt x="616" y="152"/>
                    <a:pt x="616" y="153"/>
                  </a:cubicBezTo>
                  <a:cubicBezTo>
                    <a:pt x="615" y="156"/>
                    <a:pt x="614" y="159"/>
                    <a:pt x="613" y="163"/>
                  </a:cubicBezTo>
                  <a:cubicBezTo>
                    <a:pt x="613" y="165"/>
                    <a:pt x="613" y="168"/>
                    <a:pt x="614" y="170"/>
                  </a:cubicBezTo>
                  <a:cubicBezTo>
                    <a:pt x="612" y="172"/>
                    <a:pt x="611" y="174"/>
                    <a:pt x="609" y="177"/>
                  </a:cubicBezTo>
                  <a:cubicBezTo>
                    <a:pt x="609" y="178"/>
                    <a:pt x="608" y="178"/>
                    <a:pt x="607" y="179"/>
                  </a:cubicBezTo>
                  <a:cubicBezTo>
                    <a:pt x="607" y="178"/>
                    <a:pt x="607" y="176"/>
                    <a:pt x="607" y="175"/>
                  </a:cubicBezTo>
                  <a:cubicBezTo>
                    <a:pt x="607" y="171"/>
                    <a:pt x="606" y="167"/>
                    <a:pt x="607" y="163"/>
                  </a:cubicBezTo>
                  <a:cubicBezTo>
                    <a:pt x="607" y="162"/>
                    <a:pt x="606" y="162"/>
                    <a:pt x="605" y="163"/>
                  </a:cubicBezTo>
                  <a:cubicBezTo>
                    <a:pt x="605" y="166"/>
                    <a:pt x="604" y="170"/>
                    <a:pt x="604" y="173"/>
                  </a:cubicBezTo>
                  <a:cubicBezTo>
                    <a:pt x="604" y="175"/>
                    <a:pt x="605" y="177"/>
                    <a:pt x="604" y="179"/>
                  </a:cubicBezTo>
                  <a:cubicBezTo>
                    <a:pt x="604" y="181"/>
                    <a:pt x="604" y="182"/>
                    <a:pt x="604" y="184"/>
                  </a:cubicBezTo>
                  <a:cubicBezTo>
                    <a:pt x="604" y="184"/>
                    <a:pt x="604" y="184"/>
                    <a:pt x="604" y="184"/>
                  </a:cubicBezTo>
                  <a:cubicBezTo>
                    <a:pt x="603" y="185"/>
                    <a:pt x="603" y="186"/>
                    <a:pt x="602" y="186"/>
                  </a:cubicBezTo>
                  <a:cubicBezTo>
                    <a:pt x="602" y="182"/>
                    <a:pt x="601" y="178"/>
                    <a:pt x="600" y="174"/>
                  </a:cubicBezTo>
                  <a:cubicBezTo>
                    <a:pt x="600" y="170"/>
                    <a:pt x="600" y="166"/>
                    <a:pt x="600" y="162"/>
                  </a:cubicBezTo>
                  <a:cubicBezTo>
                    <a:pt x="600" y="157"/>
                    <a:pt x="599" y="153"/>
                    <a:pt x="600" y="148"/>
                  </a:cubicBezTo>
                  <a:cubicBezTo>
                    <a:pt x="600" y="144"/>
                    <a:pt x="601" y="140"/>
                    <a:pt x="602" y="136"/>
                  </a:cubicBezTo>
                  <a:cubicBezTo>
                    <a:pt x="602" y="135"/>
                    <a:pt x="601" y="135"/>
                    <a:pt x="601" y="135"/>
                  </a:cubicBezTo>
                  <a:cubicBezTo>
                    <a:pt x="599" y="139"/>
                    <a:pt x="598" y="143"/>
                    <a:pt x="598" y="148"/>
                  </a:cubicBezTo>
                  <a:cubicBezTo>
                    <a:pt x="599" y="153"/>
                    <a:pt x="598" y="158"/>
                    <a:pt x="598" y="164"/>
                  </a:cubicBezTo>
                  <a:cubicBezTo>
                    <a:pt x="599" y="170"/>
                    <a:pt x="598" y="176"/>
                    <a:pt x="599" y="182"/>
                  </a:cubicBezTo>
                  <a:cubicBezTo>
                    <a:pt x="599" y="180"/>
                    <a:pt x="598" y="179"/>
                    <a:pt x="598" y="177"/>
                  </a:cubicBezTo>
                  <a:cubicBezTo>
                    <a:pt x="597" y="171"/>
                    <a:pt x="596" y="165"/>
                    <a:pt x="595" y="159"/>
                  </a:cubicBezTo>
                  <a:cubicBezTo>
                    <a:pt x="595" y="154"/>
                    <a:pt x="595" y="149"/>
                    <a:pt x="595" y="143"/>
                  </a:cubicBezTo>
                  <a:cubicBezTo>
                    <a:pt x="595" y="138"/>
                    <a:pt x="594" y="133"/>
                    <a:pt x="596" y="128"/>
                  </a:cubicBezTo>
                  <a:cubicBezTo>
                    <a:pt x="596" y="127"/>
                    <a:pt x="595" y="127"/>
                    <a:pt x="594" y="128"/>
                  </a:cubicBezTo>
                  <a:cubicBezTo>
                    <a:pt x="593" y="132"/>
                    <a:pt x="593" y="137"/>
                    <a:pt x="593" y="142"/>
                  </a:cubicBezTo>
                  <a:cubicBezTo>
                    <a:pt x="594" y="148"/>
                    <a:pt x="593" y="154"/>
                    <a:pt x="593" y="161"/>
                  </a:cubicBezTo>
                  <a:cubicBezTo>
                    <a:pt x="594" y="167"/>
                    <a:pt x="595" y="173"/>
                    <a:pt x="596" y="180"/>
                  </a:cubicBezTo>
                  <a:cubicBezTo>
                    <a:pt x="597" y="182"/>
                    <a:pt x="597" y="184"/>
                    <a:pt x="597" y="187"/>
                  </a:cubicBezTo>
                  <a:cubicBezTo>
                    <a:pt x="597" y="185"/>
                    <a:pt x="596" y="183"/>
                    <a:pt x="596" y="182"/>
                  </a:cubicBezTo>
                  <a:cubicBezTo>
                    <a:pt x="595" y="181"/>
                    <a:pt x="595" y="181"/>
                    <a:pt x="595" y="182"/>
                  </a:cubicBezTo>
                  <a:cubicBezTo>
                    <a:pt x="595" y="184"/>
                    <a:pt x="595" y="186"/>
                    <a:pt x="595" y="187"/>
                  </a:cubicBezTo>
                  <a:cubicBezTo>
                    <a:pt x="595" y="187"/>
                    <a:pt x="594" y="186"/>
                    <a:pt x="594" y="186"/>
                  </a:cubicBezTo>
                  <a:cubicBezTo>
                    <a:pt x="594" y="186"/>
                    <a:pt x="594" y="185"/>
                    <a:pt x="593" y="185"/>
                  </a:cubicBezTo>
                  <a:cubicBezTo>
                    <a:pt x="592" y="183"/>
                    <a:pt x="590" y="180"/>
                    <a:pt x="589" y="177"/>
                  </a:cubicBezTo>
                  <a:cubicBezTo>
                    <a:pt x="586" y="168"/>
                    <a:pt x="583" y="160"/>
                    <a:pt x="580" y="152"/>
                  </a:cubicBezTo>
                  <a:cubicBezTo>
                    <a:pt x="578" y="144"/>
                    <a:pt x="576" y="137"/>
                    <a:pt x="578" y="129"/>
                  </a:cubicBezTo>
                  <a:cubicBezTo>
                    <a:pt x="578" y="129"/>
                    <a:pt x="577" y="129"/>
                    <a:pt x="577" y="129"/>
                  </a:cubicBezTo>
                  <a:cubicBezTo>
                    <a:pt x="572" y="134"/>
                    <a:pt x="575" y="144"/>
                    <a:pt x="577" y="150"/>
                  </a:cubicBezTo>
                  <a:cubicBezTo>
                    <a:pt x="579" y="155"/>
                    <a:pt x="581" y="160"/>
                    <a:pt x="583" y="165"/>
                  </a:cubicBezTo>
                  <a:cubicBezTo>
                    <a:pt x="584" y="167"/>
                    <a:pt x="585" y="170"/>
                    <a:pt x="586" y="172"/>
                  </a:cubicBezTo>
                  <a:cubicBezTo>
                    <a:pt x="585" y="172"/>
                    <a:pt x="585" y="171"/>
                    <a:pt x="585" y="171"/>
                  </a:cubicBezTo>
                  <a:cubicBezTo>
                    <a:pt x="582" y="168"/>
                    <a:pt x="580" y="165"/>
                    <a:pt x="578" y="162"/>
                  </a:cubicBezTo>
                  <a:cubicBezTo>
                    <a:pt x="578" y="162"/>
                    <a:pt x="578" y="162"/>
                    <a:pt x="578" y="162"/>
                  </a:cubicBezTo>
                  <a:cubicBezTo>
                    <a:pt x="577" y="161"/>
                    <a:pt x="577" y="160"/>
                    <a:pt x="577" y="159"/>
                  </a:cubicBezTo>
                  <a:cubicBezTo>
                    <a:pt x="576" y="158"/>
                    <a:pt x="576" y="157"/>
                    <a:pt x="576" y="156"/>
                  </a:cubicBezTo>
                  <a:cubicBezTo>
                    <a:pt x="575" y="155"/>
                    <a:pt x="575" y="154"/>
                    <a:pt x="574" y="152"/>
                  </a:cubicBezTo>
                  <a:cubicBezTo>
                    <a:pt x="573" y="152"/>
                    <a:pt x="573" y="152"/>
                    <a:pt x="573" y="153"/>
                  </a:cubicBezTo>
                  <a:cubicBezTo>
                    <a:pt x="573" y="155"/>
                    <a:pt x="574" y="157"/>
                    <a:pt x="574" y="158"/>
                  </a:cubicBezTo>
                  <a:cubicBezTo>
                    <a:pt x="574" y="158"/>
                    <a:pt x="573" y="157"/>
                    <a:pt x="572" y="156"/>
                  </a:cubicBezTo>
                  <a:cubicBezTo>
                    <a:pt x="563" y="147"/>
                    <a:pt x="554" y="139"/>
                    <a:pt x="541" y="135"/>
                  </a:cubicBezTo>
                  <a:cubicBezTo>
                    <a:pt x="540" y="134"/>
                    <a:pt x="538" y="134"/>
                    <a:pt x="537" y="133"/>
                  </a:cubicBezTo>
                  <a:cubicBezTo>
                    <a:pt x="537" y="133"/>
                    <a:pt x="538" y="132"/>
                    <a:pt x="538" y="132"/>
                  </a:cubicBezTo>
                  <a:close/>
                  <a:moveTo>
                    <a:pt x="525" y="135"/>
                  </a:moveTo>
                  <a:cubicBezTo>
                    <a:pt x="531" y="136"/>
                    <a:pt x="538" y="137"/>
                    <a:pt x="544" y="139"/>
                  </a:cubicBezTo>
                  <a:cubicBezTo>
                    <a:pt x="556" y="144"/>
                    <a:pt x="566" y="154"/>
                    <a:pt x="574" y="163"/>
                  </a:cubicBezTo>
                  <a:cubicBezTo>
                    <a:pt x="579" y="168"/>
                    <a:pt x="583" y="173"/>
                    <a:pt x="586" y="179"/>
                  </a:cubicBezTo>
                  <a:cubicBezTo>
                    <a:pt x="589" y="183"/>
                    <a:pt x="591" y="187"/>
                    <a:pt x="594" y="190"/>
                  </a:cubicBezTo>
                  <a:cubicBezTo>
                    <a:pt x="601" y="206"/>
                    <a:pt x="611" y="220"/>
                    <a:pt x="616" y="238"/>
                  </a:cubicBezTo>
                  <a:cubicBezTo>
                    <a:pt x="621" y="254"/>
                    <a:pt x="621" y="270"/>
                    <a:pt x="620" y="287"/>
                  </a:cubicBezTo>
                  <a:cubicBezTo>
                    <a:pt x="619" y="304"/>
                    <a:pt x="617" y="321"/>
                    <a:pt x="616" y="339"/>
                  </a:cubicBezTo>
                  <a:cubicBezTo>
                    <a:pt x="616" y="345"/>
                    <a:pt x="616" y="351"/>
                    <a:pt x="616" y="357"/>
                  </a:cubicBezTo>
                  <a:cubicBezTo>
                    <a:pt x="616" y="359"/>
                    <a:pt x="616" y="363"/>
                    <a:pt x="617" y="365"/>
                  </a:cubicBezTo>
                  <a:cubicBezTo>
                    <a:pt x="615" y="366"/>
                    <a:pt x="613" y="367"/>
                    <a:pt x="611" y="368"/>
                  </a:cubicBezTo>
                  <a:cubicBezTo>
                    <a:pt x="611" y="368"/>
                    <a:pt x="611" y="368"/>
                    <a:pt x="610" y="367"/>
                  </a:cubicBezTo>
                  <a:cubicBezTo>
                    <a:pt x="607" y="365"/>
                    <a:pt x="605" y="362"/>
                    <a:pt x="603" y="358"/>
                  </a:cubicBezTo>
                  <a:cubicBezTo>
                    <a:pt x="601" y="351"/>
                    <a:pt x="600" y="344"/>
                    <a:pt x="600" y="338"/>
                  </a:cubicBezTo>
                  <a:cubicBezTo>
                    <a:pt x="599" y="324"/>
                    <a:pt x="601" y="311"/>
                    <a:pt x="605" y="297"/>
                  </a:cubicBezTo>
                  <a:cubicBezTo>
                    <a:pt x="608" y="284"/>
                    <a:pt x="610" y="270"/>
                    <a:pt x="609" y="256"/>
                  </a:cubicBezTo>
                  <a:cubicBezTo>
                    <a:pt x="609" y="250"/>
                    <a:pt x="609" y="243"/>
                    <a:pt x="607" y="237"/>
                  </a:cubicBezTo>
                  <a:cubicBezTo>
                    <a:pt x="605" y="232"/>
                    <a:pt x="603" y="227"/>
                    <a:pt x="601" y="222"/>
                  </a:cubicBezTo>
                  <a:cubicBezTo>
                    <a:pt x="600" y="221"/>
                    <a:pt x="599" y="222"/>
                    <a:pt x="599" y="223"/>
                  </a:cubicBezTo>
                  <a:cubicBezTo>
                    <a:pt x="601" y="230"/>
                    <a:pt x="604" y="236"/>
                    <a:pt x="605" y="243"/>
                  </a:cubicBezTo>
                  <a:cubicBezTo>
                    <a:pt x="606" y="251"/>
                    <a:pt x="606" y="258"/>
                    <a:pt x="606" y="266"/>
                  </a:cubicBezTo>
                  <a:cubicBezTo>
                    <a:pt x="605" y="274"/>
                    <a:pt x="605" y="281"/>
                    <a:pt x="603" y="289"/>
                  </a:cubicBezTo>
                  <a:cubicBezTo>
                    <a:pt x="602" y="296"/>
                    <a:pt x="599" y="303"/>
                    <a:pt x="598" y="309"/>
                  </a:cubicBezTo>
                  <a:cubicBezTo>
                    <a:pt x="597" y="315"/>
                    <a:pt x="597" y="321"/>
                    <a:pt x="596" y="327"/>
                  </a:cubicBezTo>
                  <a:cubicBezTo>
                    <a:pt x="596" y="326"/>
                    <a:pt x="596" y="326"/>
                    <a:pt x="596" y="326"/>
                  </a:cubicBezTo>
                  <a:cubicBezTo>
                    <a:pt x="596" y="326"/>
                    <a:pt x="597" y="325"/>
                    <a:pt x="596" y="325"/>
                  </a:cubicBezTo>
                  <a:cubicBezTo>
                    <a:pt x="595" y="323"/>
                    <a:pt x="595" y="320"/>
                    <a:pt x="595" y="318"/>
                  </a:cubicBezTo>
                  <a:cubicBezTo>
                    <a:pt x="595" y="318"/>
                    <a:pt x="595" y="318"/>
                    <a:pt x="595" y="318"/>
                  </a:cubicBezTo>
                  <a:cubicBezTo>
                    <a:pt x="595" y="317"/>
                    <a:pt x="595" y="317"/>
                    <a:pt x="596" y="316"/>
                  </a:cubicBezTo>
                  <a:cubicBezTo>
                    <a:pt x="596" y="316"/>
                    <a:pt x="596" y="315"/>
                    <a:pt x="596" y="315"/>
                  </a:cubicBezTo>
                  <a:cubicBezTo>
                    <a:pt x="596" y="314"/>
                    <a:pt x="595" y="313"/>
                    <a:pt x="595" y="312"/>
                  </a:cubicBezTo>
                  <a:cubicBezTo>
                    <a:pt x="595" y="312"/>
                    <a:pt x="594" y="312"/>
                    <a:pt x="594" y="313"/>
                  </a:cubicBezTo>
                  <a:cubicBezTo>
                    <a:pt x="594" y="313"/>
                    <a:pt x="594" y="314"/>
                    <a:pt x="594" y="315"/>
                  </a:cubicBezTo>
                  <a:cubicBezTo>
                    <a:pt x="594" y="316"/>
                    <a:pt x="594" y="316"/>
                    <a:pt x="594" y="316"/>
                  </a:cubicBezTo>
                  <a:cubicBezTo>
                    <a:pt x="594" y="317"/>
                    <a:pt x="594" y="317"/>
                    <a:pt x="594" y="317"/>
                  </a:cubicBezTo>
                  <a:cubicBezTo>
                    <a:pt x="594" y="317"/>
                    <a:pt x="594" y="316"/>
                    <a:pt x="593" y="316"/>
                  </a:cubicBezTo>
                  <a:cubicBezTo>
                    <a:pt x="593" y="316"/>
                    <a:pt x="593" y="316"/>
                    <a:pt x="593" y="316"/>
                  </a:cubicBezTo>
                  <a:cubicBezTo>
                    <a:pt x="593" y="314"/>
                    <a:pt x="593" y="313"/>
                    <a:pt x="592" y="312"/>
                  </a:cubicBezTo>
                  <a:cubicBezTo>
                    <a:pt x="592" y="312"/>
                    <a:pt x="592" y="312"/>
                    <a:pt x="592" y="311"/>
                  </a:cubicBezTo>
                  <a:cubicBezTo>
                    <a:pt x="592" y="311"/>
                    <a:pt x="592" y="311"/>
                    <a:pt x="591" y="310"/>
                  </a:cubicBezTo>
                  <a:cubicBezTo>
                    <a:pt x="591" y="310"/>
                    <a:pt x="591" y="310"/>
                    <a:pt x="591" y="310"/>
                  </a:cubicBezTo>
                  <a:cubicBezTo>
                    <a:pt x="591" y="311"/>
                    <a:pt x="591" y="311"/>
                    <a:pt x="591" y="311"/>
                  </a:cubicBezTo>
                  <a:cubicBezTo>
                    <a:pt x="590" y="311"/>
                    <a:pt x="590" y="312"/>
                    <a:pt x="590" y="312"/>
                  </a:cubicBezTo>
                  <a:cubicBezTo>
                    <a:pt x="590" y="313"/>
                    <a:pt x="590" y="315"/>
                    <a:pt x="591" y="316"/>
                  </a:cubicBezTo>
                  <a:cubicBezTo>
                    <a:pt x="587" y="306"/>
                    <a:pt x="584" y="295"/>
                    <a:pt x="582" y="285"/>
                  </a:cubicBezTo>
                  <a:cubicBezTo>
                    <a:pt x="582" y="284"/>
                    <a:pt x="581" y="284"/>
                    <a:pt x="581" y="285"/>
                  </a:cubicBezTo>
                  <a:cubicBezTo>
                    <a:pt x="581" y="291"/>
                    <a:pt x="583" y="297"/>
                    <a:pt x="585" y="303"/>
                  </a:cubicBezTo>
                  <a:cubicBezTo>
                    <a:pt x="586" y="306"/>
                    <a:pt x="587" y="310"/>
                    <a:pt x="588" y="313"/>
                  </a:cubicBezTo>
                  <a:cubicBezTo>
                    <a:pt x="589" y="315"/>
                    <a:pt x="589" y="316"/>
                    <a:pt x="590" y="318"/>
                  </a:cubicBezTo>
                  <a:cubicBezTo>
                    <a:pt x="591" y="319"/>
                    <a:pt x="592" y="318"/>
                    <a:pt x="591" y="318"/>
                  </a:cubicBezTo>
                  <a:cubicBezTo>
                    <a:pt x="592" y="318"/>
                    <a:pt x="592" y="319"/>
                    <a:pt x="592" y="319"/>
                  </a:cubicBezTo>
                  <a:cubicBezTo>
                    <a:pt x="592" y="319"/>
                    <a:pt x="592" y="319"/>
                    <a:pt x="592" y="319"/>
                  </a:cubicBezTo>
                  <a:cubicBezTo>
                    <a:pt x="592" y="320"/>
                    <a:pt x="592" y="321"/>
                    <a:pt x="593" y="322"/>
                  </a:cubicBezTo>
                  <a:cubicBezTo>
                    <a:pt x="588" y="315"/>
                    <a:pt x="584" y="306"/>
                    <a:pt x="578" y="300"/>
                  </a:cubicBezTo>
                  <a:cubicBezTo>
                    <a:pt x="571" y="293"/>
                    <a:pt x="561" y="288"/>
                    <a:pt x="553" y="282"/>
                  </a:cubicBezTo>
                  <a:cubicBezTo>
                    <a:pt x="552" y="282"/>
                    <a:pt x="551" y="281"/>
                    <a:pt x="550" y="281"/>
                  </a:cubicBezTo>
                  <a:cubicBezTo>
                    <a:pt x="550" y="281"/>
                    <a:pt x="550" y="281"/>
                    <a:pt x="550" y="281"/>
                  </a:cubicBezTo>
                  <a:cubicBezTo>
                    <a:pt x="546" y="278"/>
                    <a:pt x="543" y="276"/>
                    <a:pt x="539" y="274"/>
                  </a:cubicBezTo>
                  <a:cubicBezTo>
                    <a:pt x="539" y="274"/>
                    <a:pt x="539" y="274"/>
                    <a:pt x="539" y="274"/>
                  </a:cubicBezTo>
                  <a:cubicBezTo>
                    <a:pt x="540" y="275"/>
                    <a:pt x="542" y="276"/>
                    <a:pt x="543" y="278"/>
                  </a:cubicBezTo>
                  <a:cubicBezTo>
                    <a:pt x="540" y="276"/>
                    <a:pt x="537" y="275"/>
                    <a:pt x="535" y="274"/>
                  </a:cubicBezTo>
                  <a:cubicBezTo>
                    <a:pt x="536" y="275"/>
                    <a:pt x="536" y="275"/>
                    <a:pt x="537" y="275"/>
                  </a:cubicBezTo>
                  <a:cubicBezTo>
                    <a:pt x="538" y="275"/>
                    <a:pt x="538" y="275"/>
                    <a:pt x="538" y="275"/>
                  </a:cubicBezTo>
                  <a:cubicBezTo>
                    <a:pt x="533" y="270"/>
                    <a:pt x="525" y="267"/>
                    <a:pt x="519" y="264"/>
                  </a:cubicBezTo>
                  <a:cubicBezTo>
                    <a:pt x="515" y="262"/>
                    <a:pt x="512" y="260"/>
                    <a:pt x="508" y="259"/>
                  </a:cubicBezTo>
                  <a:cubicBezTo>
                    <a:pt x="504" y="258"/>
                    <a:pt x="500" y="256"/>
                    <a:pt x="496" y="256"/>
                  </a:cubicBezTo>
                  <a:cubicBezTo>
                    <a:pt x="495" y="255"/>
                    <a:pt x="493" y="255"/>
                    <a:pt x="491" y="256"/>
                  </a:cubicBezTo>
                  <a:cubicBezTo>
                    <a:pt x="491" y="256"/>
                    <a:pt x="491" y="257"/>
                    <a:pt x="492" y="257"/>
                  </a:cubicBezTo>
                  <a:cubicBezTo>
                    <a:pt x="494" y="256"/>
                    <a:pt x="499" y="258"/>
                    <a:pt x="501" y="258"/>
                  </a:cubicBezTo>
                  <a:cubicBezTo>
                    <a:pt x="504" y="259"/>
                    <a:pt x="507" y="260"/>
                    <a:pt x="510" y="261"/>
                  </a:cubicBezTo>
                  <a:cubicBezTo>
                    <a:pt x="516" y="263"/>
                    <a:pt x="520" y="266"/>
                    <a:pt x="525" y="269"/>
                  </a:cubicBezTo>
                  <a:cubicBezTo>
                    <a:pt x="528" y="271"/>
                    <a:pt x="531" y="273"/>
                    <a:pt x="534" y="274"/>
                  </a:cubicBezTo>
                  <a:cubicBezTo>
                    <a:pt x="531" y="273"/>
                    <a:pt x="527" y="272"/>
                    <a:pt x="524" y="271"/>
                  </a:cubicBezTo>
                  <a:cubicBezTo>
                    <a:pt x="514" y="269"/>
                    <a:pt x="504" y="266"/>
                    <a:pt x="494" y="267"/>
                  </a:cubicBezTo>
                  <a:cubicBezTo>
                    <a:pt x="487" y="267"/>
                    <a:pt x="479" y="270"/>
                    <a:pt x="472" y="272"/>
                  </a:cubicBezTo>
                  <a:cubicBezTo>
                    <a:pt x="468" y="273"/>
                    <a:pt x="464" y="274"/>
                    <a:pt x="459" y="276"/>
                  </a:cubicBezTo>
                  <a:cubicBezTo>
                    <a:pt x="458" y="271"/>
                    <a:pt x="458" y="266"/>
                    <a:pt x="456" y="261"/>
                  </a:cubicBezTo>
                  <a:cubicBezTo>
                    <a:pt x="454" y="256"/>
                    <a:pt x="452" y="251"/>
                    <a:pt x="452" y="245"/>
                  </a:cubicBezTo>
                  <a:cubicBezTo>
                    <a:pt x="452" y="240"/>
                    <a:pt x="452" y="235"/>
                    <a:pt x="453" y="230"/>
                  </a:cubicBezTo>
                  <a:cubicBezTo>
                    <a:pt x="453" y="225"/>
                    <a:pt x="453" y="219"/>
                    <a:pt x="455" y="214"/>
                  </a:cubicBezTo>
                  <a:cubicBezTo>
                    <a:pt x="456" y="209"/>
                    <a:pt x="459" y="204"/>
                    <a:pt x="461" y="199"/>
                  </a:cubicBezTo>
                  <a:cubicBezTo>
                    <a:pt x="463" y="194"/>
                    <a:pt x="464" y="188"/>
                    <a:pt x="465" y="183"/>
                  </a:cubicBezTo>
                  <a:cubicBezTo>
                    <a:pt x="466" y="178"/>
                    <a:pt x="467" y="172"/>
                    <a:pt x="471" y="167"/>
                  </a:cubicBezTo>
                  <a:cubicBezTo>
                    <a:pt x="474" y="163"/>
                    <a:pt x="478" y="158"/>
                    <a:pt x="482" y="154"/>
                  </a:cubicBezTo>
                  <a:cubicBezTo>
                    <a:pt x="486" y="150"/>
                    <a:pt x="490" y="146"/>
                    <a:pt x="494" y="143"/>
                  </a:cubicBezTo>
                  <a:cubicBezTo>
                    <a:pt x="498" y="139"/>
                    <a:pt x="502" y="135"/>
                    <a:pt x="508" y="134"/>
                  </a:cubicBezTo>
                  <a:cubicBezTo>
                    <a:pt x="513" y="133"/>
                    <a:pt x="519" y="134"/>
                    <a:pt x="525" y="135"/>
                  </a:cubicBezTo>
                  <a:close/>
                  <a:moveTo>
                    <a:pt x="373" y="210"/>
                  </a:moveTo>
                  <a:cubicBezTo>
                    <a:pt x="375" y="203"/>
                    <a:pt x="375" y="197"/>
                    <a:pt x="376" y="190"/>
                  </a:cubicBezTo>
                  <a:cubicBezTo>
                    <a:pt x="378" y="176"/>
                    <a:pt x="381" y="162"/>
                    <a:pt x="384" y="148"/>
                  </a:cubicBezTo>
                  <a:cubicBezTo>
                    <a:pt x="385" y="140"/>
                    <a:pt x="387" y="133"/>
                    <a:pt x="391" y="126"/>
                  </a:cubicBezTo>
                  <a:cubicBezTo>
                    <a:pt x="394" y="120"/>
                    <a:pt x="400" y="115"/>
                    <a:pt x="404" y="109"/>
                  </a:cubicBezTo>
                  <a:cubicBezTo>
                    <a:pt x="412" y="98"/>
                    <a:pt x="419" y="86"/>
                    <a:pt x="429" y="77"/>
                  </a:cubicBezTo>
                  <a:cubicBezTo>
                    <a:pt x="435" y="72"/>
                    <a:pt x="440" y="74"/>
                    <a:pt x="445" y="78"/>
                  </a:cubicBezTo>
                  <a:cubicBezTo>
                    <a:pt x="448" y="80"/>
                    <a:pt x="448" y="84"/>
                    <a:pt x="452" y="82"/>
                  </a:cubicBezTo>
                  <a:cubicBezTo>
                    <a:pt x="455" y="80"/>
                    <a:pt x="455" y="76"/>
                    <a:pt x="459" y="80"/>
                  </a:cubicBezTo>
                  <a:cubicBezTo>
                    <a:pt x="460" y="81"/>
                    <a:pt x="461" y="82"/>
                    <a:pt x="463" y="83"/>
                  </a:cubicBezTo>
                  <a:cubicBezTo>
                    <a:pt x="466" y="85"/>
                    <a:pt x="469" y="83"/>
                    <a:pt x="472" y="82"/>
                  </a:cubicBezTo>
                  <a:cubicBezTo>
                    <a:pt x="477" y="77"/>
                    <a:pt x="483" y="74"/>
                    <a:pt x="490" y="78"/>
                  </a:cubicBezTo>
                  <a:cubicBezTo>
                    <a:pt x="496" y="81"/>
                    <a:pt x="501" y="88"/>
                    <a:pt x="504" y="94"/>
                  </a:cubicBezTo>
                  <a:cubicBezTo>
                    <a:pt x="512" y="105"/>
                    <a:pt x="517" y="117"/>
                    <a:pt x="522" y="130"/>
                  </a:cubicBezTo>
                  <a:cubicBezTo>
                    <a:pt x="516" y="129"/>
                    <a:pt x="510" y="129"/>
                    <a:pt x="505" y="131"/>
                  </a:cubicBezTo>
                  <a:cubicBezTo>
                    <a:pt x="496" y="134"/>
                    <a:pt x="487" y="143"/>
                    <a:pt x="481" y="150"/>
                  </a:cubicBezTo>
                  <a:cubicBezTo>
                    <a:pt x="472" y="159"/>
                    <a:pt x="464" y="168"/>
                    <a:pt x="462" y="180"/>
                  </a:cubicBezTo>
                  <a:cubicBezTo>
                    <a:pt x="460" y="187"/>
                    <a:pt x="459" y="194"/>
                    <a:pt x="456" y="201"/>
                  </a:cubicBezTo>
                  <a:cubicBezTo>
                    <a:pt x="456" y="202"/>
                    <a:pt x="455" y="202"/>
                    <a:pt x="455" y="203"/>
                  </a:cubicBezTo>
                  <a:cubicBezTo>
                    <a:pt x="456" y="198"/>
                    <a:pt x="457" y="194"/>
                    <a:pt x="458" y="189"/>
                  </a:cubicBezTo>
                  <a:cubicBezTo>
                    <a:pt x="459" y="183"/>
                    <a:pt x="460" y="178"/>
                    <a:pt x="462" y="172"/>
                  </a:cubicBezTo>
                  <a:cubicBezTo>
                    <a:pt x="462" y="172"/>
                    <a:pt x="461" y="171"/>
                    <a:pt x="461" y="172"/>
                  </a:cubicBezTo>
                  <a:cubicBezTo>
                    <a:pt x="458" y="177"/>
                    <a:pt x="456" y="182"/>
                    <a:pt x="456" y="187"/>
                  </a:cubicBezTo>
                  <a:cubicBezTo>
                    <a:pt x="455" y="195"/>
                    <a:pt x="452" y="202"/>
                    <a:pt x="450" y="209"/>
                  </a:cubicBezTo>
                  <a:cubicBezTo>
                    <a:pt x="447" y="220"/>
                    <a:pt x="447" y="231"/>
                    <a:pt x="447" y="242"/>
                  </a:cubicBezTo>
                  <a:cubicBezTo>
                    <a:pt x="447" y="246"/>
                    <a:pt x="447" y="249"/>
                    <a:pt x="446" y="253"/>
                  </a:cubicBezTo>
                  <a:cubicBezTo>
                    <a:pt x="445" y="258"/>
                    <a:pt x="446" y="263"/>
                    <a:pt x="445" y="267"/>
                  </a:cubicBezTo>
                  <a:cubicBezTo>
                    <a:pt x="445" y="270"/>
                    <a:pt x="443" y="278"/>
                    <a:pt x="446" y="280"/>
                  </a:cubicBezTo>
                  <a:cubicBezTo>
                    <a:pt x="447" y="280"/>
                    <a:pt x="448" y="280"/>
                    <a:pt x="447" y="279"/>
                  </a:cubicBezTo>
                  <a:cubicBezTo>
                    <a:pt x="447" y="278"/>
                    <a:pt x="447" y="275"/>
                    <a:pt x="447" y="273"/>
                  </a:cubicBezTo>
                  <a:cubicBezTo>
                    <a:pt x="447" y="276"/>
                    <a:pt x="448" y="278"/>
                    <a:pt x="448" y="279"/>
                  </a:cubicBezTo>
                  <a:cubicBezTo>
                    <a:pt x="448" y="279"/>
                    <a:pt x="448" y="279"/>
                    <a:pt x="449" y="279"/>
                  </a:cubicBezTo>
                  <a:cubicBezTo>
                    <a:pt x="447" y="280"/>
                    <a:pt x="445" y="281"/>
                    <a:pt x="443" y="283"/>
                  </a:cubicBezTo>
                  <a:cubicBezTo>
                    <a:pt x="443" y="283"/>
                    <a:pt x="443" y="282"/>
                    <a:pt x="443" y="282"/>
                  </a:cubicBezTo>
                  <a:cubicBezTo>
                    <a:pt x="442" y="277"/>
                    <a:pt x="443" y="271"/>
                    <a:pt x="443" y="266"/>
                  </a:cubicBezTo>
                  <a:cubicBezTo>
                    <a:pt x="443" y="258"/>
                    <a:pt x="443" y="250"/>
                    <a:pt x="444" y="242"/>
                  </a:cubicBezTo>
                  <a:cubicBezTo>
                    <a:pt x="445" y="224"/>
                    <a:pt x="447" y="206"/>
                    <a:pt x="453" y="189"/>
                  </a:cubicBezTo>
                  <a:cubicBezTo>
                    <a:pt x="453" y="189"/>
                    <a:pt x="452" y="189"/>
                    <a:pt x="452" y="189"/>
                  </a:cubicBezTo>
                  <a:cubicBezTo>
                    <a:pt x="446" y="206"/>
                    <a:pt x="441" y="224"/>
                    <a:pt x="440" y="241"/>
                  </a:cubicBezTo>
                  <a:cubicBezTo>
                    <a:pt x="440" y="251"/>
                    <a:pt x="440" y="260"/>
                    <a:pt x="440" y="269"/>
                  </a:cubicBezTo>
                  <a:cubicBezTo>
                    <a:pt x="440" y="273"/>
                    <a:pt x="439" y="280"/>
                    <a:pt x="440" y="284"/>
                  </a:cubicBezTo>
                  <a:cubicBezTo>
                    <a:pt x="440" y="284"/>
                    <a:pt x="441" y="284"/>
                    <a:pt x="441" y="284"/>
                  </a:cubicBezTo>
                  <a:cubicBezTo>
                    <a:pt x="439" y="286"/>
                    <a:pt x="437" y="287"/>
                    <a:pt x="435" y="289"/>
                  </a:cubicBezTo>
                  <a:cubicBezTo>
                    <a:pt x="436" y="287"/>
                    <a:pt x="436" y="285"/>
                    <a:pt x="436" y="283"/>
                  </a:cubicBezTo>
                  <a:cubicBezTo>
                    <a:pt x="436" y="281"/>
                    <a:pt x="436" y="278"/>
                    <a:pt x="436" y="276"/>
                  </a:cubicBezTo>
                  <a:cubicBezTo>
                    <a:pt x="436" y="275"/>
                    <a:pt x="435" y="275"/>
                    <a:pt x="435" y="275"/>
                  </a:cubicBezTo>
                  <a:cubicBezTo>
                    <a:pt x="433" y="280"/>
                    <a:pt x="434" y="285"/>
                    <a:pt x="433" y="289"/>
                  </a:cubicBezTo>
                  <a:cubicBezTo>
                    <a:pt x="433" y="290"/>
                    <a:pt x="433" y="290"/>
                    <a:pt x="433" y="290"/>
                  </a:cubicBezTo>
                  <a:cubicBezTo>
                    <a:pt x="433" y="291"/>
                    <a:pt x="432" y="291"/>
                    <a:pt x="432" y="292"/>
                  </a:cubicBezTo>
                  <a:cubicBezTo>
                    <a:pt x="432" y="284"/>
                    <a:pt x="430" y="276"/>
                    <a:pt x="430" y="268"/>
                  </a:cubicBezTo>
                  <a:cubicBezTo>
                    <a:pt x="430" y="264"/>
                    <a:pt x="431" y="259"/>
                    <a:pt x="431" y="255"/>
                  </a:cubicBezTo>
                  <a:cubicBezTo>
                    <a:pt x="431" y="252"/>
                    <a:pt x="430" y="248"/>
                    <a:pt x="430" y="245"/>
                  </a:cubicBezTo>
                  <a:cubicBezTo>
                    <a:pt x="430" y="244"/>
                    <a:pt x="429" y="243"/>
                    <a:pt x="429" y="244"/>
                  </a:cubicBezTo>
                  <a:cubicBezTo>
                    <a:pt x="428" y="252"/>
                    <a:pt x="428" y="260"/>
                    <a:pt x="427" y="268"/>
                  </a:cubicBezTo>
                  <a:cubicBezTo>
                    <a:pt x="427" y="276"/>
                    <a:pt x="429" y="284"/>
                    <a:pt x="429" y="292"/>
                  </a:cubicBezTo>
                  <a:cubicBezTo>
                    <a:pt x="429" y="293"/>
                    <a:pt x="430" y="293"/>
                    <a:pt x="430" y="293"/>
                  </a:cubicBezTo>
                  <a:cubicBezTo>
                    <a:pt x="428" y="295"/>
                    <a:pt x="427" y="297"/>
                    <a:pt x="425" y="299"/>
                  </a:cubicBezTo>
                  <a:cubicBezTo>
                    <a:pt x="425" y="298"/>
                    <a:pt x="425" y="297"/>
                    <a:pt x="426" y="296"/>
                  </a:cubicBezTo>
                  <a:cubicBezTo>
                    <a:pt x="426" y="294"/>
                    <a:pt x="426" y="292"/>
                    <a:pt x="426" y="290"/>
                  </a:cubicBezTo>
                  <a:cubicBezTo>
                    <a:pt x="426" y="290"/>
                    <a:pt x="426" y="289"/>
                    <a:pt x="426" y="290"/>
                  </a:cubicBezTo>
                  <a:cubicBezTo>
                    <a:pt x="425" y="291"/>
                    <a:pt x="424" y="293"/>
                    <a:pt x="424" y="295"/>
                  </a:cubicBezTo>
                  <a:cubicBezTo>
                    <a:pt x="423" y="293"/>
                    <a:pt x="422" y="291"/>
                    <a:pt x="422" y="289"/>
                  </a:cubicBezTo>
                  <a:cubicBezTo>
                    <a:pt x="422" y="289"/>
                    <a:pt x="422" y="289"/>
                    <a:pt x="423" y="289"/>
                  </a:cubicBezTo>
                  <a:cubicBezTo>
                    <a:pt x="423" y="289"/>
                    <a:pt x="423" y="288"/>
                    <a:pt x="423" y="288"/>
                  </a:cubicBezTo>
                  <a:cubicBezTo>
                    <a:pt x="423" y="288"/>
                    <a:pt x="423" y="288"/>
                    <a:pt x="423" y="288"/>
                  </a:cubicBezTo>
                  <a:cubicBezTo>
                    <a:pt x="423" y="288"/>
                    <a:pt x="423" y="288"/>
                    <a:pt x="423" y="288"/>
                  </a:cubicBezTo>
                  <a:cubicBezTo>
                    <a:pt x="423" y="288"/>
                    <a:pt x="423" y="288"/>
                    <a:pt x="423" y="288"/>
                  </a:cubicBezTo>
                  <a:cubicBezTo>
                    <a:pt x="423" y="288"/>
                    <a:pt x="423" y="287"/>
                    <a:pt x="423" y="287"/>
                  </a:cubicBezTo>
                  <a:cubicBezTo>
                    <a:pt x="424" y="286"/>
                    <a:pt x="424" y="285"/>
                    <a:pt x="424" y="284"/>
                  </a:cubicBezTo>
                  <a:cubicBezTo>
                    <a:pt x="423" y="282"/>
                    <a:pt x="423" y="280"/>
                    <a:pt x="423" y="278"/>
                  </a:cubicBezTo>
                  <a:cubicBezTo>
                    <a:pt x="422" y="277"/>
                    <a:pt x="422" y="277"/>
                    <a:pt x="422" y="278"/>
                  </a:cubicBezTo>
                  <a:cubicBezTo>
                    <a:pt x="421" y="279"/>
                    <a:pt x="421" y="281"/>
                    <a:pt x="421" y="283"/>
                  </a:cubicBezTo>
                  <a:cubicBezTo>
                    <a:pt x="421" y="285"/>
                    <a:pt x="421" y="286"/>
                    <a:pt x="421" y="288"/>
                  </a:cubicBezTo>
                  <a:cubicBezTo>
                    <a:pt x="421" y="287"/>
                    <a:pt x="420" y="285"/>
                    <a:pt x="420" y="284"/>
                  </a:cubicBezTo>
                  <a:cubicBezTo>
                    <a:pt x="418" y="279"/>
                    <a:pt x="417" y="275"/>
                    <a:pt x="416" y="271"/>
                  </a:cubicBezTo>
                  <a:cubicBezTo>
                    <a:pt x="414" y="262"/>
                    <a:pt x="413" y="254"/>
                    <a:pt x="413" y="245"/>
                  </a:cubicBezTo>
                  <a:cubicBezTo>
                    <a:pt x="413" y="244"/>
                    <a:pt x="412" y="244"/>
                    <a:pt x="412" y="245"/>
                  </a:cubicBezTo>
                  <a:cubicBezTo>
                    <a:pt x="411" y="254"/>
                    <a:pt x="413" y="263"/>
                    <a:pt x="414" y="271"/>
                  </a:cubicBezTo>
                  <a:cubicBezTo>
                    <a:pt x="415" y="278"/>
                    <a:pt x="417" y="285"/>
                    <a:pt x="419" y="292"/>
                  </a:cubicBezTo>
                  <a:cubicBezTo>
                    <a:pt x="417" y="287"/>
                    <a:pt x="414" y="282"/>
                    <a:pt x="410" y="277"/>
                  </a:cubicBezTo>
                  <a:cubicBezTo>
                    <a:pt x="410" y="277"/>
                    <a:pt x="410" y="276"/>
                    <a:pt x="410" y="276"/>
                  </a:cubicBezTo>
                  <a:cubicBezTo>
                    <a:pt x="410" y="276"/>
                    <a:pt x="410" y="275"/>
                    <a:pt x="410" y="274"/>
                  </a:cubicBezTo>
                  <a:cubicBezTo>
                    <a:pt x="410" y="274"/>
                    <a:pt x="410" y="273"/>
                    <a:pt x="409" y="273"/>
                  </a:cubicBezTo>
                  <a:cubicBezTo>
                    <a:pt x="409" y="273"/>
                    <a:pt x="409" y="273"/>
                    <a:pt x="409" y="273"/>
                  </a:cubicBezTo>
                  <a:cubicBezTo>
                    <a:pt x="408" y="273"/>
                    <a:pt x="408" y="274"/>
                    <a:pt x="408" y="274"/>
                  </a:cubicBezTo>
                  <a:cubicBezTo>
                    <a:pt x="407" y="272"/>
                    <a:pt x="406" y="270"/>
                    <a:pt x="405" y="268"/>
                  </a:cubicBezTo>
                  <a:cubicBezTo>
                    <a:pt x="401" y="262"/>
                    <a:pt x="397" y="255"/>
                    <a:pt x="393" y="249"/>
                  </a:cubicBezTo>
                  <a:cubicBezTo>
                    <a:pt x="389" y="244"/>
                    <a:pt x="384" y="239"/>
                    <a:pt x="379" y="234"/>
                  </a:cubicBezTo>
                  <a:cubicBezTo>
                    <a:pt x="377" y="232"/>
                    <a:pt x="375" y="229"/>
                    <a:pt x="373" y="227"/>
                  </a:cubicBezTo>
                  <a:cubicBezTo>
                    <a:pt x="372" y="221"/>
                    <a:pt x="373" y="215"/>
                    <a:pt x="373" y="210"/>
                  </a:cubicBezTo>
                  <a:close/>
                  <a:moveTo>
                    <a:pt x="343" y="137"/>
                  </a:moveTo>
                  <a:cubicBezTo>
                    <a:pt x="349" y="146"/>
                    <a:pt x="355" y="156"/>
                    <a:pt x="359" y="166"/>
                  </a:cubicBezTo>
                  <a:cubicBezTo>
                    <a:pt x="363" y="175"/>
                    <a:pt x="368" y="185"/>
                    <a:pt x="369" y="196"/>
                  </a:cubicBezTo>
                  <a:cubicBezTo>
                    <a:pt x="370" y="199"/>
                    <a:pt x="370" y="203"/>
                    <a:pt x="370" y="207"/>
                  </a:cubicBezTo>
                  <a:cubicBezTo>
                    <a:pt x="370" y="210"/>
                    <a:pt x="369" y="213"/>
                    <a:pt x="369" y="216"/>
                  </a:cubicBezTo>
                  <a:cubicBezTo>
                    <a:pt x="369" y="218"/>
                    <a:pt x="369" y="221"/>
                    <a:pt x="370" y="223"/>
                  </a:cubicBezTo>
                  <a:cubicBezTo>
                    <a:pt x="368" y="221"/>
                    <a:pt x="365" y="219"/>
                    <a:pt x="363" y="216"/>
                  </a:cubicBezTo>
                  <a:cubicBezTo>
                    <a:pt x="363" y="216"/>
                    <a:pt x="363" y="216"/>
                    <a:pt x="363" y="216"/>
                  </a:cubicBezTo>
                  <a:cubicBezTo>
                    <a:pt x="363" y="216"/>
                    <a:pt x="363" y="216"/>
                    <a:pt x="363" y="215"/>
                  </a:cubicBezTo>
                  <a:cubicBezTo>
                    <a:pt x="364" y="200"/>
                    <a:pt x="357" y="185"/>
                    <a:pt x="352" y="170"/>
                  </a:cubicBezTo>
                  <a:cubicBezTo>
                    <a:pt x="348" y="157"/>
                    <a:pt x="346" y="144"/>
                    <a:pt x="340" y="132"/>
                  </a:cubicBezTo>
                  <a:cubicBezTo>
                    <a:pt x="341" y="134"/>
                    <a:pt x="342" y="136"/>
                    <a:pt x="343" y="137"/>
                  </a:cubicBezTo>
                  <a:close/>
                  <a:moveTo>
                    <a:pt x="321" y="108"/>
                  </a:moveTo>
                  <a:cubicBezTo>
                    <a:pt x="322" y="110"/>
                    <a:pt x="325" y="112"/>
                    <a:pt x="326" y="114"/>
                  </a:cubicBezTo>
                  <a:cubicBezTo>
                    <a:pt x="326" y="115"/>
                    <a:pt x="326" y="116"/>
                    <a:pt x="326" y="116"/>
                  </a:cubicBezTo>
                  <a:cubicBezTo>
                    <a:pt x="328" y="118"/>
                    <a:pt x="329" y="119"/>
                    <a:pt x="330" y="121"/>
                  </a:cubicBezTo>
                  <a:cubicBezTo>
                    <a:pt x="330" y="121"/>
                    <a:pt x="330" y="121"/>
                    <a:pt x="330" y="121"/>
                  </a:cubicBezTo>
                  <a:cubicBezTo>
                    <a:pt x="331" y="124"/>
                    <a:pt x="331" y="127"/>
                    <a:pt x="334" y="129"/>
                  </a:cubicBezTo>
                  <a:cubicBezTo>
                    <a:pt x="334" y="130"/>
                    <a:pt x="335" y="130"/>
                    <a:pt x="336" y="129"/>
                  </a:cubicBezTo>
                  <a:cubicBezTo>
                    <a:pt x="343" y="143"/>
                    <a:pt x="344" y="158"/>
                    <a:pt x="349" y="172"/>
                  </a:cubicBezTo>
                  <a:cubicBezTo>
                    <a:pt x="354" y="186"/>
                    <a:pt x="360" y="200"/>
                    <a:pt x="361" y="215"/>
                  </a:cubicBezTo>
                  <a:cubicBezTo>
                    <a:pt x="356" y="211"/>
                    <a:pt x="351" y="208"/>
                    <a:pt x="345" y="205"/>
                  </a:cubicBezTo>
                  <a:cubicBezTo>
                    <a:pt x="339" y="201"/>
                    <a:pt x="333" y="198"/>
                    <a:pt x="327" y="195"/>
                  </a:cubicBezTo>
                  <a:cubicBezTo>
                    <a:pt x="328" y="184"/>
                    <a:pt x="322" y="174"/>
                    <a:pt x="317" y="164"/>
                  </a:cubicBezTo>
                  <a:cubicBezTo>
                    <a:pt x="314" y="157"/>
                    <a:pt x="311" y="150"/>
                    <a:pt x="310" y="143"/>
                  </a:cubicBezTo>
                  <a:cubicBezTo>
                    <a:pt x="308" y="135"/>
                    <a:pt x="308" y="129"/>
                    <a:pt x="309" y="121"/>
                  </a:cubicBezTo>
                  <a:cubicBezTo>
                    <a:pt x="309" y="121"/>
                    <a:pt x="308" y="121"/>
                    <a:pt x="308" y="121"/>
                  </a:cubicBezTo>
                  <a:cubicBezTo>
                    <a:pt x="305" y="126"/>
                    <a:pt x="306" y="132"/>
                    <a:pt x="307" y="137"/>
                  </a:cubicBezTo>
                  <a:cubicBezTo>
                    <a:pt x="308" y="145"/>
                    <a:pt x="310" y="152"/>
                    <a:pt x="313" y="159"/>
                  </a:cubicBezTo>
                  <a:cubicBezTo>
                    <a:pt x="318" y="171"/>
                    <a:pt x="324" y="182"/>
                    <a:pt x="325" y="194"/>
                  </a:cubicBezTo>
                  <a:cubicBezTo>
                    <a:pt x="319" y="191"/>
                    <a:pt x="312" y="188"/>
                    <a:pt x="305" y="187"/>
                  </a:cubicBezTo>
                  <a:cubicBezTo>
                    <a:pt x="304" y="187"/>
                    <a:pt x="304" y="186"/>
                    <a:pt x="303" y="186"/>
                  </a:cubicBezTo>
                  <a:cubicBezTo>
                    <a:pt x="303" y="186"/>
                    <a:pt x="303" y="185"/>
                    <a:pt x="303" y="185"/>
                  </a:cubicBezTo>
                  <a:cubicBezTo>
                    <a:pt x="300" y="180"/>
                    <a:pt x="301" y="175"/>
                    <a:pt x="300" y="170"/>
                  </a:cubicBezTo>
                  <a:cubicBezTo>
                    <a:pt x="300" y="164"/>
                    <a:pt x="300" y="158"/>
                    <a:pt x="300" y="153"/>
                  </a:cubicBezTo>
                  <a:cubicBezTo>
                    <a:pt x="300" y="142"/>
                    <a:pt x="302" y="133"/>
                    <a:pt x="306" y="123"/>
                  </a:cubicBezTo>
                  <a:cubicBezTo>
                    <a:pt x="308" y="118"/>
                    <a:pt x="309" y="113"/>
                    <a:pt x="312" y="108"/>
                  </a:cubicBezTo>
                  <a:cubicBezTo>
                    <a:pt x="312" y="108"/>
                    <a:pt x="312" y="108"/>
                    <a:pt x="312" y="107"/>
                  </a:cubicBezTo>
                  <a:cubicBezTo>
                    <a:pt x="312" y="107"/>
                    <a:pt x="312" y="107"/>
                    <a:pt x="312" y="107"/>
                  </a:cubicBezTo>
                  <a:cubicBezTo>
                    <a:pt x="313" y="106"/>
                    <a:pt x="314" y="105"/>
                    <a:pt x="314" y="104"/>
                  </a:cubicBezTo>
                  <a:cubicBezTo>
                    <a:pt x="315" y="103"/>
                    <a:pt x="320" y="107"/>
                    <a:pt x="321" y="108"/>
                  </a:cubicBezTo>
                  <a:close/>
                  <a:moveTo>
                    <a:pt x="297" y="173"/>
                  </a:moveTo>
                  <a:cubicBezTo>
                    <a:pt x="297" y="177"/>
                    <a:pt x="297" y="181"/>
                    <a:pt x="299" y="185"/>
                  </a:cubicBezTo>
                  <a:cubicBezTo>
                    <a:pt x="297" y="185"/>
                    <a:pt x="295" y="184"/>
                    <a:pt x="293" y="184"/>
                  </a:cubicBezTo>
                  <a:cubicBezTo>
                    <a:pt x="293" y="184"/>
                    <a:pt x="293" y="183"/>
                    <a:pt x="293" y="183"/>
                  </a:cubicBezTo>
                  <a:cubicBezTo>
                    <a:pt x="293" y="183"/>
                    <a:pt x="293" y="182"/>
                    <a:pt x="293" y="182"/>
                  </a:cubicBezTo>
                  <a:cubicBezTo>
                    <a:pt x="288" y="170"/>
                    <a:pt x="292" y="155"/>
                    <a:pt x="295" y="142"/>
                  </a:cubicBezTo>
                  <a:cubicBezTo>
                    <a:pt x="297" y="136"/>
                    <a:pt x="298" y="129"/>
                    <a:pt x="300" y="122"/>
                  </a:cubicBezTo>
                  <a:cubicBezTo>
                    <a:pt x="302" y="118"/>
                    <a:pt x="303" y="114"/>
                    <a:pt x="307" y="112"/>
                  </a:cubicBezTo>
                  <a:cubicBezTo>
                    <a:pt x="306" y="114"/>
                    <a:pt x="305" y="116"/>
                    <a:pt x="305" y="117"/>
                  </a:cubicBezTo>
                  <a:cubicBezTo>
                    <a:pt x="303" y="123"/>
                    <a:pt x="300" y="129"/>
                    <a:pt x="299" y="136"/>
                  </a:cubicBezTo>
                  <a:cubicBezTo>
                    <a:pt x="298" y="141"/>
                    <a:pt x="297" y="147"/>
                    <a:pt x="297" y="152"/>
                  </a:cubicBezTo>
                  <a:cubicBezTo>
                    <a:pt x="297" y="159"/>
                    <a:pt x="297" y="166"/>
                    <a:pt x="297" y="173"/>
                  </a:cubicBezTo>
                  <a:close/>
                  <a:moveTo>
                    <a:pt x="239" y="8"/>
                  </a:moveTo>
                  <a:cubicBezTo>
                    <a:pt x="238" y="6"/>
                    <a:pt x="245" y="10"/>
                    <a:pt x="246" y="10"/>
                  </a:cubicBezTo>
                  <a:cubicBezTo>
                    <a:pt x="249" y="12"/>
                    <a:pt x="252" y="14"/>
                    <a:pt x="256" y="16"/>
                  </a:cubicBezTo>
                  <a:cubicBezTo>
                    <a:pt x="264" y="22"/>
                    <a:pt x="272" y="30"/>
                    <a:pt x="279" y="38"/>
                  </a:cubicBezTo>
                  <a:cubicBezTo>
                    <a:pt x="288" y="49"/>
                    <a:pt x="296" y="60"/>
                    <a:pt x="302" y="73"/>
                  </a:cubicBezTo>
                  <a:cubicBezTo>
                    <a:pt x="305" y="80"/>
                    <a:pt x="309" y="86"/>
                    <a:pt x="311" y="93"/>
                  </a:cubicBezTo>
                  <a:cubicBezTo>
                    <a:pt x="312" y="96"/>
                    <a:pt x="313" y="99"/>
                    <a:pt x="315" y="102"/>
                  </a:cubicBezTo>
                  <a:cubicBezTo>
                    <a:pt x="312" y="102"/>
                    <a:pt x="310" y="104"/>
                    <a:pt x="309" y="107"/>
                  </a:cubicBezTo>
                  <a:cubicBezTo>
                    <a:pt x="306" y="108"/>
                    <a:pt x="304" y="110"/>
                    <a:pt x="302" y="112"/>
                  </a:cubicBezTo>
                  <a:cubicBezTo>
                    <a:pt x="302" y="108"/>
                    <a:pt x="300" y="104"/>
                    <a:pt x="299" y="101"/>
                  </a:cubicBezTo>
                  <a:cubicBezTo>
                    <a:pt x="298" y="99"/>
                    <a:pt x="297" y="97"/>
                    <a:pt x="297" y="96"/>
                  </a:cubicBezTo>
                  <a:cubicBezTo>
                    <a:pt x="297" y="96"/>
                    <a:pt x="297" y="96"/>
                    <a:pt x="297" y="95"/>
                  </a:cubicBezTo>
                  <a:cubicBezTo>
                    <a:pt x="298" y="93"/>
                    <a:pt x="297" y="90"/>
                    <a:pt x="297" y="88"/>
                  </a:cubicBezTo>
                  <a:cubicBezTo>
                    <a:pt x="297" y="85"/>
                    <a:pt x="297" y="82"/>
                    <a:pt x="298" y="79"/>
                  </a:cubicBezTo>
                  <a:cubicBezTo>
                    <a:pt x="298" y="79"/>
                    <a:pt x="297" y="79"/>
                    <a:pt x="297" y="79"/>
                  </a:cubicBezTo>
                  <a:cubicBezTo>
                    <a:pt x="296" y="82"/>
                    <a:pt x="296" y="85"/>
                    <a:pt x="296" y="88"/>
                  </a:cubicBezTo>
                  <a:cubicBezTo>
                    <a:pt x="296" y="89"/>
                    <a:pt x="295" y="91"/>
                    <a:pt x="295" y="93"/>
                  </a:cubicBezTo>
                  <a:cubicBezTo>
                    <a:pt x="294" y="91"/>
                    <a:pt x="293" y="89"/>
                    <a:pt x="292" y="87"/>
                  </a:cubicBezTo>
                  <a:cubicBezTo>
                    <a:pt x="293" y="86"/>
                    <a:pt x="293" y="83"/>
                    <a:pt x="293" y="82"/>
                  </a:cubicBezTo>
                  <a:cubicBezTo>
                    <a:pt x="293" y="80"/>
                    <a:pt x="293" y="77"/>
                    <a:pt x="293" y="75"/>
                  </a:cubicBezTo>
                  <a:cubicBezTo>
                    <a:pt x="293" y="74"/>
                    <a:pt x="292" y="74"/>
                    <a:pt x="292" y="75"/>
                  </a:cubicBezTo>
                  <a:cubicBezTo>
                    <a:pt x="291" y="77"/>
                    <a:pt x="291" y="80"/>
                    <a:pt x="291" y="82"/>
                  </a:cubicBezTo>
                  <a:cubicBezTo>
                    <a:pt x="291" y="83"/>
                    <a:pt x="291" y="84"/>
                    <a:pt x="291" y="84"/>
                  </a:cubicBezTo>
                  <a:cubicBezTo>
                    <a:pt x="290" y="83"/>
                    <a:pt x="289" y="82"/>
                    <a:pt x="289" y="81"/>
                  </a:cubicBezTo>
                  <a:cubicBezTo>
                    <a:pt x="289" y="80"/>
                    <a:pt x="288" y="78"/>
                    <a:pt x="288" y="77"/>
                  </a:cubicBezTo>
                  <a:cubicBezTo>
                    <a:pt x="288" y="75"/>
                    <a:pt x="288" y="74"/>
                    <a:pt x="288" y="72"/>
                  </a:cubicBezTo>
                  <a:cubicBezTo>
                    <a:pt x="288" y="71"/>
                    <a:pt x="287" y="71"/>
                    <a:pt x="287" y="72"/>
                  </a:cubicBezTo>
                  <a:cubicBezTo>
                    <a:pt x="287" y="74"/>
                    <a:pt x="287" y="76"/>
                    <a:pt x="287" y="78"/>
                  </a:cubicBezTo>
                  <a:cubicBezTo>
                    <a:pt x="287" y="78"/>
                    <a:pt x="287" y="78"/>
                    <a:pt x="287" y="78"/>
                  </a:cubicBezTo>
                  <a:cubicBezTo>
                    <a:pt x="287" y="78"/>
                    <a:pt x="286" y="77"/>
                    <a:pt x="286" y="76"/>
                  </a:cubicBezTo>
                  <a:cubicBezTo>
                    <a:pt x="285" y="76"/>
                    <a:pt x="284" y="75"/>
                    <a:pt x="284" y="73"/>
                  </a:cubicBezTo>
                  <a:cubicBezTo>
                    <a:pt x="284" y="71"/>
                    <a:pt x="284" y="69"/>
                    <a:pt x="284" y="67"/>
                  </a:cubicBezTo>
                  <a:cubicBezTo>
                    <a:pt x="284" y="64"/>
                    <a:pt x="284" y="62"/>
                    <a:pt x="284" y="59"/>
                  </a:cubicBezTo>
                  <a:cubicBezTo>
                    <a:pt x="284" y="58"/>
                    <a:pt x="284" y="58"/>
                    <a:pt x="284" y="59"/>
                  </a:cubicBezTo>
                  <a:cubicBezTo>
                    <a:pt x="283" y="61"/>
                    <a:pt x="283" y="64"/>
                    <a:pt x="283" y="67"/>
                  </a:cubicBezTo>
                  <a:cubicBezTo>
                    <a:pt x="283" y="68"/>
                    <a:pt x="282" y="70"/>
                    <a:pt x="282" y="71"/>
                  </a:cubicBezTo>
                  <a:cubicBezTo>
                    <a:pt x="281" y="69"/>
                    <a:pt x="279" y="67"/>
                    <a:pt x="277" y="65"/>
                  </a:cubicBezTo>
                  <a:cubicBezTo>
                    <a:pt x="278" y="63"/>
                    <a:pt x="278" y="62"/>
                    <a:pt x="278" y="60"/>
                  </a:cubicBezTo>
                  <a:cubicBezTo>
                    <a:pt x="278" y="58"/>
                    <a:pt x="278" y="56"/>
                    <a:pt x="278" y="55"/>
                  </a:cubicBezTo>
                  <a:cubicBezTo>
                    <a:pt x="278" y="54"/>
                    <a:pt x="277" y="53"/>
                    <a:pt x="277" y="54"/>
                  </a:cubicBezTo>
                  <a:cubicBezTo>
                    <a:pt x="277" y="57"/>
                    <a:pt x="276" y="61"/>
                    <a:pt x="276" y="64"/>
                  </a:cubicBezTo>
                  <a:cubicBezTo>
                    <a:pt x="275" y="63"/>
                    <a:pt x="274" y="61"/>
                    <a:pt x="273" y="60"/>
                  </a:cubicBezTo>
                  <a:cubicBezTo>
                    <a:pt x="273" y="59"/>
                    <a:pt x="273" y="58"/>
                    <a:pt x="273" y="56"/>
                  </a:cubicBezTo>
                  <a:cubicBezTo>
                    <a:pt x="273" y="55"/>
                    <a:pt x="273" y="53"/>
                    <a:pt x="273" y="51"/>
                  </a:cubicBezTo>
                  <a:cubicBezTo>
                    <a:pt x="273" y="50"/>
                    <a:pt x="272" y="50"/>
                    <a:pt x="272" y="51"/>
                  </a:cubicBezTo>
                  <a:cubicBezTo>
                    <a:pt x="272" y="53"/>
                    <a:pt x="272" y="55"/>
                    <a:pt x="272" y="56"/>
                  </a:cubicBezTo>
                  <a:cubicBezTo>
                    <a:pt x="272" y="57"/>
                    <a:pt x="271" y="58"/>
                    <a:pt x="271" y="59"/>
                  </a:cubicBezTo>
                  <a:cubicBezTo>
                    <a:pt x="270" y="58"/>
                    <a:pt x="269" y="57"/>
                    <a:pt x="268" y="56"/>
                  </a:cubicBezTo>
                  <a:cubicBezTo>
                    <a:pt x="268" y="56"/>
                    <a:pt x="268" y="56"/>
                    <a:pt x="268" y="56"/>
                  </a:cubicBezTo>
                  <a:cubicBezTo>
                    <a:pt x="270" y="55"/>
                    <a:pt x="270" y="52"/>
                    <a:pt x="270" y="50"/>
                  </a:cubicBezTo>
                  <a:cubicBezTo>
                    <a:pt x="271" y="48"/>
                    <a:pt x="271" y="46"/>
                    <a:pt x="271" y="44"/>
                  </a:cubicBezTo>
                  <a:cubicBezTo>
                    <a:pt x="271" y="43"/>
                    <a:pt x="270" y="43"/>
                    <a:pt x="270" y="44"/>
                  </a:cubicBezTo>
                  <a:cubicBezTo>
                    <a:pt x="269" y="46"/>
                    <a:pt x="269" y="48"/>
                    <a:pt x="269" y="50"/>
                  </a:cubicBezTo>
                  <a:cubicBezTo>
                    <a:pt x="268" y="52"/>
                    <a:pt x="267" y="54"/>
                    <a:pt x="267" y="56"/>
                  </a:cubicBezTo>
                  <a:cubicBezTo>
                    <a:pt x="267" y="56"/>
                    <a:pt x="267" y="56"/>
                    <a:pt x="267" y="56"/>
                  </a:cubicBezTo>
                  <a:cubicBezTo>
                    <a:pt x="266" y="55"/>
                    <a:pt x="264" y="54"/>
                    <a:pt x="262" y="54"/>
                  </a:cubicBezTo>
                  <a:cubicBezTo>
                    <a:pt x="263" y="52"/>
                    <a:pt x="264" y="49"/>
                    <a:pt x="264" y="47"/>
                  </a:cubicBezTo>
                  <a:cubicBezTo>
                    <a:pt x="265" y="45"/>
                    <a:pt x="265" y="43"/>
                    <a:pt x="265" y="40"/>
                  </a:cubicBezTo>
                  <a:cubicBezTo>
                    <a:pt x="265" y="40"/>
                    <a:pt x="263" y="40"/>
                    <a:pt x="263" y="40"/>
                  </a:cubicBezTo>
                  <a:cubicBezTo>
                    <a:pt x="264" y="43"/>
                    <a:pt x="263" y="45"/>
                    <a:pt x="262" y="47"/>
                  </a:cubicBezTo>
                  <a:cubicBezTo>
                    <a:pt x="262" y="49"/>
                    <a:pt x="261" y="51"/>
                    <a:pt x="261" y="53"/>
                  </a:cubicBezTo>
                  <a:cubicBezTo>
                    <a:pt x="261" y="53"/>
                    <a:pt x="261" y="54"/>
                    <a:pt x="261" y="54"/>
                  </a:cubicBezTo>
                  <a:cubicBezTo>
                    <a:pt x="260" y="54"/>
                    <a:pt x="259" y="54"/>
                    <a:pt x="257" y="54"/>
                  </a:cubicBezTo>
                  <a:cubicBezTo>
                    <a:pt x="257" y="54"/>
                    <a:pt x="257" y="53"/>
                    <a:pt x="257" y="53"/>
                  </a:cubicBezTo>
                  <a:cubicBezTo>
                    <a:pt x="257" y="53"/>
                    <a:pt x="257" y="53"/>
                    <a:pt x="257" y="53"/>
                  </a:cubicBezTo>
                  <a:cubicBezTo>
                    <a:pt x="257" y="51"/>
                    <a:pt x="258" y="49"/>
                    <a:pt x="258" y="48"/>
                  </a:cubicBezTo>
                  <a:cubicBezTo>
                    <a:pt x="258" y="47"/>
                    <a:pt x="258" y="47"/>
                    <a:pt x="257" y="47"/>
                  </a:cubicBezTo>
                  <a:cubicBezTo>
                    <a:pt x="257" y="49"/>
                    <a:pt x="256" y="50"/>
                    <a:pt x="256" y="51"/>
                  </a:cubicBezTo>
                  <a:cubicBezTo>
                    <a:pt x="255" y="49"/>
                    <a:pt x="255" y="48"/>
                    <a:pt x="254" y="46"/>
                  </a:cubicBezTo>
                  <a:cubicBezTo>
                    <a:pt x="254" y="46"/>
                    <a:pt x="254" y="46"/>
                    <a:pt x="254" y="46"/>
                  </a:cubicBezTo>
                  <a:cubicBezTo>
                    <a:pt x="255" y="44"/>
                    <a:pt x="255" y="40"/>
                    <a:pt x="256" y="38"/>
                  </a:cubicBezTo>
                  <a:cubicBezTo>
                    <a:pt x="256" y="35"/>
                    <a:pt x="256" y="32"/>
                    <a:pt x="256" y="28"/>
                  </a:cubicBezTo>
                  <a:cubicBezTo>
                    <a:pt x="256" y="28"/>
                    <a:pt x="255" y="28"/>
                    <a:pt x="255" y="28"/>
                  </a:cubicBezTo>
                  <a:cubicBezTo>
                    <a:pt x="255" y="32"/>
                    <a:pt x="254" y="35"/>
                    <a:pt x="254" y="38"/>
                  </a:cubicBezTo>
                  <a:cubicBezTo>
                    <a:pt x="253" y="40"/>
                    <a:pt x="253" y="42"/>
                    <a:pt x="253" y="43"/>
                  </a:cubicBezTo>
                  <a:cubicBezTo>
                    <a:pt x="248" y="32"/>
                    <a:pt x="243" y="20"/>
                    <a:pt x="238" y="9"/>
                  </a:cubicBezTo>
                  <a:cubicBezTo>
                    <a:pt x="238" y="9"/>
                    <a:pt x="239" y="8"/>
                    <a:pt x="239" y="8"/>
                  </a:cubicBezTo>
                  <a:close/>
                  <a:moveTo>
                    <a:pt x="235" y="9"/>
                  </a:moveTo>
                  <a:cubicBezTo>
                    <a:pt x="236" y="9"/>
                    <a:pt x="236" y="9"/>
                    <a:pt x="237" y="9"/>
                  </a:cubicBezTo>
                  <a:cubicBezTo>
                    <a:pt x="237" y="17"/>
                    <a:pt x="242" y="24"/>
                    <a:pt x="245" y="31"/>
                  </a:cubicBezTo>
                  <a:cubicBezTo>
                    <a:pt x="248" y="40"/>
                    <a:pt x="251" y="48"/>
                    <a:pt x="255" y="56"/>
                  </a:cubicBezTo>
                  <a:cubicBezTo>
                    <a:pt x="255" y="57"/>
                    <a:pt x="255" y="57"/>
                    <a:pt x="255" y="58"/>
                  </a:cubicBezTo>
                  <a:cubicBezTo>
                    <a:pt x="255" y="58"/>
                    <a:pt x="255" y="58"/>
                    <a:pt x="256" y="58"/>
                  </a:cubicBezTo>
                  <a:cubicBezTo>
                    <a:pt x="256" y="58"/>
                    <a:pt x="256" y="58"/>
                    <a:pt x="256" y="58"/>
                  </a:cubicBezTo>
                  <a:cubicBezTo>
                    <a:pt x="256" y="58"/>
                    <a:pt x="257" y="58"/>
                    <a:pt x="258" y="58"/>
                  </a:cubicBezTo>
                  <a:cubicBezTo>
                    <a:pt x="262" y="55"/>
                    <a:pt x="267" y="60"/>
                    <a:pt x="270" y="63"/>
                  </a:cubicBezTo>
                  <a:cubicBezTo>
                    <a:pt x="276" y="68"/>
                    <a:pt x="280" y="75"/>
                    <a:pt x="284" y="81"/>
                  </a:cubicBezTo>
                  <a:cubicBezTo>
                    <a:pt x="291" y="91"/>
                    <a:pt x="300" y="105"/>
                    <a:pt x="298" y="117"/>
                  </a:cubicBezTo>
                  <a:cubicBezTo>
                    <a:pt x="298" y="117"/>
                    <a:pt x="298" y="118"/>
                    <a:pt x="298" y="118"/>
                  </a:cubicBezTo>
                  <a:cubicBezTo>
                    <a:pt x="298" y="120"/>
                    <a:pt x="297" y="122"/>
                    <a:pt x="296" y="123"/>
                  </a:cubicBezTo>
                  <a:cubicBezTo>
                    <a:pt x="294" y="131"/>
                    <a:pt x="293" y="138"/>
                    <a:pt x="291" y="146"/>
                  </a:cubicBezTo>
                  <a:cubicBezTo>
                    <a:pt x="289" y="154"/>
                    <a:pt x="286" y="164"/>
                    <a:pt x="287" y="174"/>
                  </a:cubicBezTo>
                  <a:cubicBezTo>
                    <a:pt x="284" y="170"/>
                    <a:pt x="281" y="166"/>
                    <a:pt x="278" y="162"/>
                  </a:cubicBezTo>
                  <a:cubicBezTo>
                    <a:pt x="270" y="150"/>
                    <a:pt x="262" y="137"/>
                    <a:pt x="255" y="124"/>
                  </a:cubicBezTo>
                  <a:cubicBezTo>
                    <a:pt x="251" y="117"/>
                    <a:pt x="248" y="110"/>
                    <a:pt x="245" y="102"/>
                  </a:cubicBezTo>
                  <a:cubicBezTo>
                    <a:pt x="245" y="102"/>
                    <a:pt x="245" y="102"/>
                    <a:pt x="245" y="102"/>
                  </a:cubicBezTo>
                  <a:cubicBezTo>
                    <a:pt x="245" y="100"/>
                    <a:pt x="245" y="97"/>
                    <a:pt x="244" y="95"/>
                  </a:cubicBezTo>
                  <a:cubicBezTo>
                    <a:pt x="244" y="93"/>
                    <a:pt x="244" y="91"/>
                    <a:pt x="244" y="89"/>
                  </a:cubicBezTo>
                  <a:cubicBezTo>
                    <a:pt x="244" y="87"/>
                    <a:pt x="242" y="87"/>
                    <a:pt x="242" y="89"/>
                  </a:cubicBezTo>
                  <a:cubicBezTo>
                    <a:pt x="242" y="91"/>
                    <a:pt x="242" y="93"/>
                    <a:pt x="242" y="95"/>
                  </a:cubicBezTo>
                  <a:cubicBezTo>
                    <a:pt x="241" y="92"/>
                    <a:pt x="241" y="88"/>
                    <a:pt x="240" y="85"/>
                  </a:cubicBezTo>
                  <a:cubicBezTo>
                    <a:pt x="239" y="72"/>
                    <a:pt x="239" y="60"/>
                    <a:pt x="236" y="47"/>
                  </a:cubicBezTo>
                  <a:cubicBezTo>
                    <a:pt x="235" y="47"/>
                    <a:pt x="235" y="46"/>
                    <a:pt x="234" y="46"/>
                  </a:cubicBezTo>
                  <a:cubicBezTo>
                    <a:pt x="232" y="46"/>
                    <a:pt x="233" y="34"/>
                    <a:pt x="232" y="32"/>
                  </a:cubicBezTo>
                  <a:cubicBezTo>
                    <a:pt x="231" y="26"/>
                    <a:pt x="229" y="21"/>
                    <a:pt x="229" y="16"/>
                  </a:cubicBezTo>
                  <a:cubicBezTo>
                    <a:pt x="229" y="15"/>
                    <a:pt x="229" y="15"/>
                    <a:pt x="228" y="15"/>
                  </a:cubicBezTo>
                  <a:cubicBezTo>
                    <a:pt x="230" y="11"/>
                    <a:pt x="232" y="5"/>
                    <a:pt x="235" y="9"/>
                  </a:cubicBezTo>
                  <a:close/>
                  <a:moveTo>
                    <a:pt x="269" y="165"/>
                  </a:moveTo>
                  <a:cubicBezTo>
                    <a:pt x="262" y="157"/>
                    <a:pt x="255" y="149"/>
                    <a:pt x="250" y="140"/>
                  </a:cubicBezTo>
                  <a:cubicBezTo>
                    <a:pt x="240" y="123"/>
                    <a:pt x="233" y="106"/>
                    <a:pt x="228" y="87"/>
                  </a:cubicBezTo>
                  <a:cubicBezTo>
                    <a:pt x="223" y="68"/>
                    <a:pt x="220" y="49"/>
                    <a:pt x="224" y="29"/>
                  </a:cubicBezTo>
                  <a:cubicBezTo>
                    <a:pt x="225" y="27"/>
                    <a:pt x="225" y="25"/>
                    <a:pt x="226" y="23"/>
                  </a:cubicBezTo>
                  <a:cubicBezTo>
                    <a:pt x="226" y="28"/>
                    <a:pt x="229" y="32"/>
                    <a:pt x="229" y="37"/>
                  </a:cubicBezTo>
                  <a:cubicBezTo>
                    <a:pt x="229" y="41"/>
                    <a:pt x="227" y="48"/>
                    <a:pt x="232" y="50"/>
                  </a:cubicBezTo>
                  <a:cubicBezTo>
                    <a:pt x="235" y="61"/>
                    <a:pt x="234" y="74"/>
                    <a:pt x="236" y="86"/>
                  </a:cubicBezTo>
                  <a:cubicBezTo>
                    <a:pt x="238" y="98"/>
                    <a:pt x="243" y="110"/>
                    <a:pt x="249" y="121"/>
                  </a:cubicBezTo>
                  <a:cubicBezTo>
                    <a:pt x="255" y="134"/>
                    <a:pt x="263" y="146"/>
                    <a:pt x="271" y="158"/>
                  </a:cubicBezTo>
                  <a:cubicBezTo>
                    <a:pt x="274" y="163"/>
                    <a:pt x="277" y="168"/>
                    <a:pt x="281" y="172"/>
                  </a:cubicBezTo>
                  <a:cubicBezTo>
                    <a:pt x="282" y="174"/>
                    <a:pt x="285" y="176"/>
                    <a:pt x="288" y="178"/>
                  </a:cubicBezTo>
                  <a:cubicBezTo>
                    <a:pt x="288" y="179"/>
                    <a:pt x="288" y="181"/>
                    <a:pt x="289" y="182"/>
                  </a:cubicBezTo>
                  <a:cubicBezTo>
                    <a:pt x="281" y="178"/>
                    <a:pt x="275" y="171"/>
                    <a:pt x="269" y="165"/>
                  </a:cubicBezTo>
                  <a:close/>
                  <a:moveTo>
                    <a:pt x="275" y="184"/>
                  </a:moveTo>
                  <a:cubicBezTo>
                    <a:pt x="279" y="184"/>
                    <a:pt x="284" y="185"/>
                    <a:pt x="289" y="186"/>
                  </a:cubicBezTo>
                  <a:cubicBezTo>
                    <a:pt x="289" y="187"/>
                    <a:pt x="290" y="187"/>
                    <a:pt x="290" y="187"/>
                  </a:cubicBezTo>
                  <a:cubicBezTo>
                    <a:pt x="291" y="187"/>
                    <a:pt x="291" y="187"/>
                    <a:pt x="292" y="187"/>
                  </a:cubicBezTo>
                  <a:cubicBezTo>
                    <a:pt x="294" y="188"/>
                    <a:pt x="296" y="188"/>
                    <a:pt x="298" y="188"/>
                  </a:cubicBezTo>
                  <a:cubicBezTo>
                    <a:pt x="306" y="190"/>
                    <a:pt x="314" y="192"/>
                    <a:pt x="321" y="196"/>
                  </a:cubicBezTo>
                  <a:cubicBezTo>
                    <a:pt x="337" y="205"/>
                    <a:pt x="354" y="211"/>
                    <a:pt x="366" y="224"/>
                  </a:cubicBezTo>
                  <a:cubicBezTo>
                    <a:pt x="372" y="231"/>
                    <a:pt x="378" y="237"/>
                    <a:pt x="384" y="244"/>
                  </a:cubicBezTo>
                  <a:cubicBezTo>
                    <a:pt x="390" y="250"/>
                    <a:pt x="394" y="257"/>
                    <a:pt x="398" y="264"/>
                  </a:cubicBezTo>
                  <a:cubicBezTo>
                    <a:pt x="406" y="276"/>
                    <a:pt x="416" y="289"/>
                    <a:pt x="422" y="303"/>
                  </a:cubicBezTo>
                  <a:cubicBezTo>
                    <a:pt x="421" y="303"/>
                    <a:pt x="421" y="304"/>
                    <a:pt x="421" y="304"/>
                  </a:cubicBezTo>
                  <a:cubicBezTo>
                    <a:pt x="420" y="305"/>
                    <a:pt x="419" y="307"/>
                    <a:pt x="418" y="308"/>
                  </a:cubicBezTo>
                  <a:cubicBezTo>
                    <a:pt x="418" y="307"/>
                    <a:pt x="418" y="307"/>
                    <a:pt x="418" y="307"/>
                  </a:cubicBezTo>
                  <a:cubicBezTo>
                    <a:pt x="406" y="285"/>
                    <a:pt x="397" y="261"/>
                    <a:pt x="378" y="244"/>
                  </a:cubicBezTo>
                  <a:cubicBezTo>
                    <a:pt x="369" y="235"/>
                    <a:pt x="359" y="228"/>
                    <a:pt x="349" y="220"/>
                  </a:cubicBezTo>
                  <a:cubicBezTo>
                    <a:pt x="339" y="212"/>
                    <a:pt x="330" y="203"/>
                    <a:pt x="319" y="197"/>
                  </a:cubicBezTo>
                  <a:cubicBezTo>
                    <a:pt x="308" y="192"/>
                    <a:pt x="295" y="189"/>
                    <a:pt x="283" y="187"/>
                  </a:cubicBezTo>
                  <a:cubicBezTo>
                    <a:pt x="272" y="186"/>
                    <a:pt x="261" y="184"/>
                    <a:pt x="250" y="186"/>
                  </a:cubicBezTo>
                  <a:cubicBezTo>
                    <a:pt x="239" y="187"/>
                    <a:pt x="229" y="191"/>
                    <a:pt x="219" y="198"/>
                  </a:cubicBezTo>
                  <a:cubicBezTo>
                    <a:pt x="209" y="205"/>
                    <a:pt x="206" y="214"/>
                    <a:pt x="201" y="225"/>
                  </a:cubicBezTo>
                  <a:cubicBezTo>
                    <a:pt x="200" y="226"/>
                    <a:pt x="202" y="227"/>
                    <a:pt x="202" y="226"/>
                  </a:cubicBezTo>
                  <a:cubicBezTo>
                    <a:pt x="206" y="221"/>
                    <a:pt x="208" y="216"/>
                    <a:pt x="211" y="211"/>
                  </a:cubicBezTo>
                  <a:cubicBezTo>
                    <a:pt x="215" y="206"/>
                    <a:pt x="220" y="202"/>
                    <a:pt x="226" y="198"/>
                  </a:cubicBezTo>
                  <a:cubicBezTo>
                    <a:pt x="236" y="192"/>
                    <a:pt x="246" y="189"/>
                    <a:pt x="258" y="189"/>
                  </a:cubicBezTo>
                  <a:cubicBezTo>
                    <a:pt x="270" y="189"/>
                    <a:pt x="282" y="190"/>
                    <a:pt x="294" y="193"/>
                  </a:cubicBezTo>
                  <a:cubicBezTo>
                    <a:pt x="305" y="195"/>
                    <a:pt x="316" y="198"/>
                    <a:pt x="325" y="205"/>
                  </a:cubicBezTo>
                  <a:cubicBezTo>
                    <a:pt x="334" y="212"/>
                    <a:pt x="343" y="219"/>
                    <a:pt x="352" y="226"/>
                  </a:cubicBezTo>
                  <a:cubicBezTo>
                    <a:pt x="361" y="233"/>
                    <a:pt x="371" y="240"/>
                    <a:pt x="379" y="249"/>
                  </a:cubicBezTo>
                  <a:cubicBezTo>
                    <a:pt x="388" y="258"/>
                    <a:pt x="394" y="269"/>
                    <a:pt x="401" y="281"/>
                  </a:cubicBezTo>
                  <a:cubicBezTo>
                    <a:pt x="403" y="285"/>
                    <a:pt x="405" y="289"/>
                    <a:pt x="407" y="293"/>
                  </a:cubicBezTo>
                  <a:cubicBezTo>
                    <a:pt x="400" y="284"/>
                    <a:pt x="391" y="275"/>
                    <a:pt x="383" y="266"/>
                  </a:cubicBezTo>
                  <a:cubicBezTo>
                    <a:pt x="376" y="260"/>
                    <a:pt x="370" y="253"/>
                    <a:pt x="362" y="247"/>
                  </a:cubicBezTo>
                  <a:cubicBezTo>
                    <a:pt x="357" y="242"/>
                    <a:pt x="351" y="238"/>
                    <a:pt x="344" y="236"/>
                  </a:cubicBezTo>
                  <a:cubicBezTo>
                    <a:pt x="343" y="236"/>
                    <a:pt x="343" y="237"/>
                    <a:pt x="344" y="237"/>
                  </a:cubicBezTo>
                  <a:cubicBezTo>
                    <a:pt x="360" y="243"/>
                    <a:pt x="372" y="258"/>
                    <a:pt x="384" y="270"/>
                  </a:cubicBezTo>
                  <a:cubicBezTo>
                    <a:pt x="395" y="281"/>
                    <a:pt x="406" y="293"/>
                    <a:pt x="413" y="306"/>
                  </a:cubicBezTo>
                  <a:cubicBezTo>
                    <a:pt x="413" y="306"/>
                    <a:pt x="413" y="306"/>
                    <a:pt x="413" y="306"/>
                  </a:cubicBezTo>
                  <a:cubicBezTo>
                    <a:pt x="412" y="305"/>
                    <a:pt x="411" y="304"/>
                    <a:pt x="409" y="303"/>
                  </a:cubicBezTo>
                  <a:cubicBezTo>
                    <a:pt x="405" y="298"/>
                    <a:pt x="402" y="294"/>
                    <a:pt x="398" y="289"/>
                  </a:cubicBezTo>
                  <a:cubicBezTo>
                    <a:pt x="389" y="280"/>
                    <a:pt x="378" y="273"/>
                    <a:pt x="368" y="265"/>
                  </a:cubicBezTo>
                  <a:cubicBezTo>
                    <a:pt x="368" y="264"/>
                    <a:pt x="367" y="265"/>
                    <a:pt x="368" y="265"/>
                  </a:cubicBezTo>
                  <a:cubicBezTo>
                    <a:pt x="377" y="274"/>
                    <a:pt x="388" y="281"/>
                    <a:pt x="396" y="291"/>
                  </a:cubicBezTo>
                  <a:cubicBezTo>
                    <a:pt x="400" y="295"/>
                    <a:pt x="404" y="300"/>
                    <a:pt x="408" y="304"/>
                  </a:cubicBezTo>
                  <a:cubicBezTo>
                    <a:pt x="408" y="305"/>
                    <a:pt x="408" y="305"/>
                    <a:pt x="409" y="306"/>
                  </a:cubicBezTo>
                  <a:cubicBezTo>
                    <a:pt x="404" y="302"/>
                    <a:pt x="398" y="299"/>
                    <a:pt x="393" y="295"/>
                  </a:cubicBezTo>
                  <a:cubicBezTo>
                    <a:pt x="388" y="290"/>
                    <a:pt x="383" y="285"/>
                    <a:pt x="376" y="282"/>
                  </a:cubicBezTo>
                  <a:cubicBezTo>
                    <a:pt x="376" y="282"/>
                    <a:pt x="376" y="282"/>
                    <a:pt x="376" y="283"/>
                  </a:cubicBezTo>
                  <a:cubicBezTo>
                    <a:pt x="388" y="292"/>
                    <a:pt x="401" y="301"/>
                    <a:pt x="412" y="311"/>
                  </a:cubicBezTo>
                  <a:cubicBezTo>
                    <a:pt x="412" y="311"/>
                    <a:pt x="412" y="311"/>
                    <a:pt x="412" y="311"/>
                  </a:cubicBezTo>
                  <a:cubicBezTo>
                    <a:pt x="399" y="301"/>
                    <a:pt x="384" y="291"/>
                    <a:pt x="368" y="285"/>
                  </a:cubicBezTo>
                  <a:cubicBezTo>
                    <a:pt x="359" y="282"/>
                    <a:pt x="349" y="280"/>
                    <a:pt x="341" y="276"/>
                  </a:cubicBezTo>
                  <a:cubicBezTo>
                    <a:pt x="334" y="272"/>
                    <a:pt x="327" y="268"/>
                    <a:pt x="319" y="266"/>
                  </a:cubicBezTo>
                  <a:cubicBezTo>
                    <a:pt x="319" y="266"/>
                    <a:pt x="319" y="266"/>
                    <a:pt x="319" y="266"/>
                  </a:cubicBezTo>
                  <a:cubicBezTo>
                    <a:pt x="321" y="269"/>
                    <a:pt x="324" y="270"/>
                    <a:pt x="328" y="271"/>
                  </a:cubicBezTo>
                  <a:cubicBezTo>
                    <a:pt x="332" y="273"/>
                    <a:pt x="337" y="276"/>
                    <a:pt x="341" y="278"/>
                  </a:cubicBezTo>
                  <a:cubicBezTo>
                    <a:pt x="349" y="281"/>
                    <a:pt x="357" y="284"/>
                    <a:pt x="364" y="286"/>
                  </a:cubicBezTo>
                  <a:cubicBezTo>
                    <a:pt x="373" y="290"/>
                    <a:pt x="383" y="293"/>
                    <a:pt x="391" y="299"/>
                  </a:cubicBezTo>
                  <a:cubicBezTo>
                    <a:pt x="397" y="304"/>
                    <a:pt x="403" y="308"/>
                    <a:pt x="409" y="313"/>
                  </a:cubicBezTo>
                  <a:cubicBezTo>
                    <a:pt x="409" y="313"/>
                    <a:pt x="408" y="313"/>
                    <a:pt x="408" y="312"/>
                  </a:cubicBezTo>
                  <a:cubicBezTo>
                    <a:pt x="407" y="312"/>
                    <a:pt x="407" y="311"/>
                    <a:pt x="406" y="311"/>
                  </a:cubicBezTo>
                  <a:cubicBezTo>
                    <a:pt x="405" y="310"/>
                    <a:pt x="404" y="310"/>
                    <a:pt x="404" y="309"/>
                  </a:cubicBezTo>
                  <a:cubicBezTo>
                    <a:pt x="403" y="308"/>
                    <a:pt x="402" y="307"/>
                    <a:pt x="400" y="307"/>
                  </a:cubicBezTo>
                  <a:cubicBezTo>
                    <a:pt x="396" y="304"/>
                    <a:pt x="392" y="301"/>
                    <a:pt x="388" y="299"/>
                  </a:cubicBezTo>
                  <a:cubicBezTo>
                    <a:pt x="379" y="294"/>
                    <a:pt x="369" y="292"/>
                    <a:pt x="360" y="288"/>
                  </a:cubicBezTo>
                  <a:cubicBezTo>
                    <a:pt x="350" y="284"/>
                    <a:pt x="340" y="281"/>
                    <a:pt x="331" y="277"/>
                  </a:cubicBezTo>
                  <a:cubicBezTo>
                    <a:pt x="321" y="273"/>
                    <a:pt x="311" y="271"/>
                    <a:pt x="302" y="265"/>
                  </a:cubicBezTo>
                  <a:cubicBezTo>
                    <a:pt x="302" y="265"/>
                    <a:pt x="301" y="266"/>
                    <a:pt x="302" y="266"/>
                  </a:cubicBezTo>
                  <a:cubicBezTo>
                    <a:pt x="308" y="273"/>
                    <a:pt x="318" y="274"/>
                    <a:pt x="327" y="277"/>
                  </a:cubicBezTo>
                  <a:cubicBezTo>
                    <a:pt x="337" y="281"/>
                    <a:pt x="347" y="285"/>
                    <a:pt x="358" y="289"/>
                  </a:cubicBezTo>
                  <a:cubicBezTo>
                    <a:pt x="368" y="294"/>
                    <a:pt x="379" y="295"/>
                    <a:pt x="389" y="301"/>
                  </a:cubicBezTo>
                  <a:cubicBezTo>
                    <a:pt x="391" y="302"/>
                    <a:pt x="394" y="303"/>
                    <a:pt x="396" y="305"/>
                  </a:cubicBezTo>
                  <a:cubicBezTo>
                    <a:pt x="391" y="303"/>
                    <a:pt x="385" y="301"/>
                    <a:pt x="380" y="299"/>
                  </a:cubicBezTo>
                  <a:cubicBezTo>
                    <a:pt x="372" y="296"/>
                    <a:pt x="365" y="293"/>
                    <a:pt x="358" y="291"/>
                  </a:cubicBezTo>
                  <a:cubicBezTo>
                    <a:pt x="351" y="289"/>
                    <a:pt x="344" y="287"/>
                    <a:pt x="338" y="285"/>
                  </a:cubicBezTo>
                  <a:cubicBezTo>
                    <a:pt x="323" y="281"/>
                    <a:pt x="310" y="276"/>
                    <a:pt x="295" y="273"/>
                  </a:cubicBezTo>
                  <a:cubicBezTo>
                    <a:pt x="282" y="270"/>
                    <a:pt x="268" y="268"/>
                    <a:pt x="254" y="266"/>
                  </a:cubicBezTo>
                  <a:cubicBezTo>
                    <a:pt x="253" y="266"/>
                    <a:pt x="252" y="267"/>
                    <a:pt x="253" y="268"/>
                  </a:cubicBezTo>
                  <a:cubicBezTo>
                    <a:pt x="258" y="270"/>
                    <a:pt x="264" y="270"/>
                    <a:pt x="269" y="271"/>
                  </a:cubicBezTo>
                  <a:cubicBezTo>
                    <a:pt x="277" y="271"/>
                    <a:pt x="285" y="273"/>
                    <a:pt x="293" y="274"/>
                  </a:cubicBezTo>
                  <a:cubicBezTo>
                    <a:pt x="307" y="278"/>
                    <a:pt x="321" y="281"/>
                    <a:pt x="335" y="285"/>
                  </a:cubicBezTo>
                  <a:cubicBezTo>
                    <a:pt x="351" y="290"/>
                    <a:pt x="366" y="296"/>
                    <a:pt x="381" y="301"/>
                  </a:cubicBezTo>
                  <a:cubicBezTo>
                    <a:pt x="388" y="304"/>
                    <a:pt x="395" y="307"/>
                    <a:pt x="402" y="311"/>
                  </a:cubicBezTo>
                  <a:cubicBezTo>
                    <a:pt x="402" y="311"/>
                    <a:pt x="403" y="311"/>
                    <a:pt x="403" y="312"/>
                  </a:cubicBezTo>
                  <a:cubicBezTo>
                    <a:pt x="398" y="309"/>
                    <a:pt x="392" y="308"/>
                    <a:pt x="388" y="307"/>
                  </a:cubicBezTo>
                  <a:cubicBezTo>
                    <a:pt x="383" y="305"/>
                    <a:pt x="379" y="302"/>
                    <a:pt x="374" y="301"/>
                  </a:cubicBezTo>
                  <a:cubicBezTo>
                    <a:pt x="370" y="300"/>
                    <a:pt x="365" y="299"/>
                    <a:pt x="361" y="298"/>
                  </a:cubicBezTo>
                  <a:cubicBezTo>
                    <a:pt x="361" y="298"/>
                    <a:pt x="360" y="299"/>
                    <a:pt x="361" y="299"/>
                  </a:cubicBezTo>
                  <a:cubicBezTo>
                    <a:pt x="365" y="301"/>
                    <a:pt x="369" y="302"/>
                    <a:pt x="374" y="303"/>
                  </a:cubicBezTo>
                  <a:cubicBezTo>
                    <a:pt x="375" y="303"/>
                    <a:pt x="377" y="304"/>
                    <a:pt x="378" y="304"/>
                  </a:cubicBezTo>
                  <a:cubicBezTo>
                    <a:pt x="377" y="304"/>
                    <a:pt x="376" y="304"/>
                    <a:pt x="375" y="304"/>
                  </a:cubicBezTo>
                  <a:cubicBezTo>
                    <a:pt x="374" y="304"/>
                    <a:pt x="374" y="304"/>
                    <a:pt x="374" y="304"/>
                  </a:cubicBezTo>
                  <a:cubicBezTo>
                    <a:pt x="378" y="306"/>
                    <a:pt x="383" y="306"/>
                    <a:pt x="386" y="309"/>
                  </a:cubicBezTo>
                  <a:cubicBezTo>
                    <a:pt x="386" y="309"/>
                    <a:pt x="386" y="309"/>
                    <a:pt x="386" y="309"/>
                  </a:cubicBezTo>
                  <a:cubicBezTo>
                    <a:pt x="385" y="308"/>
                    <a:pt x="384" y="307"/>
                    <a:pt x="384" y="307"/>
                  </a:cubicBezTo>
                  <a:cubicBezTo>
                    <a:pt x="384" y="307"/>
                    <a:pt x="385" y="307"/>
                    <a:pt x="386" y="307"/>
                  </a:cubicBezTo>
                  <a:cubicBezTo>
                    <a:pt x="390" y="309"/>
                    <a:pt x="394" y="310"/>
                    <a:pt x="398" y="312"/>
                  </a:cubicBezTo>
                  <a:cubicBezTo>
                    <a:pt x="400" y="313"/>
                    <a:pt x="401" y="313"/>
                    <a:pt x="403" y="314"/>
                  </a:cubicBezTo>
                  <a:cubicBezTo>
                    <a:pt x="392" y="310"/>
                    <a:pt x="374" y="308"/>
                    <a:pt x="371" y="308"/>
                  </a:cubicBezTo>
                  <a:cubicBezTo>
                    <a:pt x="361" y="306"/>
                    <a:pt x="351" y="305"/>
                    <a:pt x="340" y="305"/>
                  </a:cubicBezTo>
                  <a:cubicBezTo>
                    <a:pt x="328" y="306"/>
                    <a:pt x="314" y="307"/>
                    <a:pt x="302" y="312"/>
                  </a:cubicBezTo>
                  <a:cubicBezTo>
                    <a:pt x="298" y="313"/>
                    <a:pt x="293" y="316"/>
                    <a:pt x="289" y="318"/>
                  </a:cubicBezTo>
                  <a:cubicBezTo>
                    <a:pt x="282" y="322"/>
                    <a:pt x="275" y="326"/>
                    <a:pt x="269" y="331"/>
                  </a:cubicBezTo>
                  <a:cubicBezTo>
                    <a:pt x="265" y="334"/>
                    <a:pt x="262" y="338"/>
                    <a:pt x="259" y="341"/>
                  </a:cubicBezTo>
                  <a:cubicBezTo>
                    <a:pt x="258" y="341"/>
                    <a:pt x="258" y="341"/>
                    <a:pt x="258" y="341"/>
                  </a:cubicBezTo>
                  <a:cubicBezTo>
                    <a:pt x="252" y="344"/>
                    <a:pt x="242" y="339"/>
                    <a:pt x="237" y="337"/>
                  </a:cubicBezTo>
                  <a:cubicBezTo>
                    <a:pt x="229" y="333"/>
                    <a:pt x="221" y="329"/>
                    <a:pt x="215" y="323"/>
                  </a:cubicBezTo>
                  <a:cubicBezTo>
                    <a:pt x="205" y="313"/>
                    <a:pt x="194" y="302"/>
                    <a:pt x="188" y="289"/>
                  </a:cubicBezTo>
                  <a:cubicBezTo>
                    <a:pt x="185" y="283"/>
                    <a:pt x="181" y="273"/>
                    <a:pt x="183" y="266"/>
                  </a:cubicBezTo>
                  <a:cubicBezTo>
                    <a:pt x="185" y="263"/>
                    <a:pt x="187" y="260"/>
                    <a:pt x="189" y="257"/>
                  </a:cubicBezTo>
                  <a:cubicBezTo>
                    <a:pt x="189" y="256"/>
                    <a:pt x="190" y="255"/>
                    <a:pt x="190" y="254"/>
                  </a:cubicBezTo>
                  <a:cubicBezTo>
                    <a:pt x="196" y="251"/>
                    <a:pt x="199" y="241"/>
                    <a:pt x="199" y="234"/>
                  </a:cubicBezTo>
                  <a:cubicBezTo>
                    <a:pt x="200" y="228"/>
                    <a:pt x="197" y="220"/>
                    <a:pt x="198" y="213"/>
                  </a:cubicBezTo>
                  <a:cubicBezTo>
                    <a:pt x="198" y="213"/>
                    <a:pt x="198" y="212"/>
                    <a:pt x="199" y="212"/>
                  </a:cubicBezTo>
                  <a:cubicBezTo>
                    <a:pt x="205" y="199"/>
                    <a:pt x="219" y="191"/>
                    <a:pt x="232" y="187"/>
                  </a:cubicBezTo>
                  <a:cubicBezTo>
                    <a:pt x="246" y="182"/>
                    <a:pt x="260" y="182"/>
                    <a:pt x="275" y="184"/>
                  </a:cubicBezTo>
                  <a:close/>
                  <a:moveTo>
                    <a:pt x="155" y="52"/>
                  </a:moveTo>
                  <a:cubicBezTo>
                    <a:pt x="155" y="52"/>
                    <a:pt x="155" y="52"/>
                    <a:pt x="155" y="52"/>
                  </a:cubicBezTo>
                  <a:cubicBezTo>
                    <a:pt x="155" y="52"/>
                    <a:pt x="155" y="52"/>
                    <a:pt x="156" y="53"/>
                  </a:cubicBezTo>
                  <a:cubicBezTo>
                    <a:pt x="157" y="53"/>
                    <a:pt x="157" y="53"/>
                    <a:pt x="158" y="52"/>
                  </a:cubicBezTo>
                  <a:cubicBezTo>
                    <a:pt x="165" y="43"/>
                    <a:pt x="176" y="58"/>
                    <a:pt x="181" y="63"/>
                  </a:cubicBezTo>
                  <a:cubicBezTo>
                    <a:pt x="182" y="64"/>
                    <a:pt x="184" y="66"/>
                    <a:pt x="186" y="67"/>
                  </a:cubicBezTo>
                  <a:cubicBezTo>
                    <a:pt x="188" y="70"/>
                    <a:pt x="190" y="74"/>
                    <a:pt x="192" y="78"/>
                  </a:cubicBezTo>
                  <a:cubicBezTo>
                    <a:pt x="193" y="79"/>
                    <a:pt x="194" y="80"/>
                    <a:pt x="195" y="80"/>
                  </a:cubicBezTo>
                  <a:cubicBezTo>
                    <a:pt x="195" y="80"/>
                    <a:pt x="194" y="81"/>
                    <a:pt x="194" y="81"/>
                  </a:cubicBezTo>
                  <a:cubicBezTo>
                    <a:pt x="194" y="84"/>
                    <a:pt x="196" y="88"/>
                    <a:pt x="196" y="91"/>
                  </a:cubicBezTo>
                  <a:cubicBezTo>
                    <a:pt x="197" y="95"/>
                    <a:pt x="197" y="99"/>
                    <a:pt x="200" y="101"/>
                  </a:cubicBezTo>
                  <a:cubicBezTo>
                    <a:pt x="200" y="101"/>
                    <a:pt x="200" y="101"/>
                    <a:pt x="200" y="101"/>
                  </a:cubicBezTo>
                  <a:cubicBezTo>
                    <a:pt x="201" y="98"/>
                    <a:pt x="199" y="94"/>
                    <a:pt x="199" y="91"/>
                  </a:cubicBezTo>
                  <a:cubicBezTo>
                    <a:pt x="198" y="88"/>
                    <a:pt x="198" y="85"/>
                    <a:pt x="197" y="83"/>
                  </a:cubicBezTo>
                  <a:cubicBezTo>
                    <a:pt x="201" y="87"/>
                    <a:pt x="205" y="91"/>
                    <a:pt x="208" y="96"/>
                  </a:cubicBezTo>
                  <a:cubicBezTo>
                    <a:pt x="212" y="103"/>
                    <a:pt x="215" y="110"/>
                    <a:pt x="220" y="117"/>
                  </a:cubicBezTo>
                  <a:cubicBezTo>
                    <a:pt x="225" y="123"/>
                    <a:pt x="230" y="130"/>
                    <a:pt x="233" y="139"/>
                  </a:cubicBezTo>
                  <a:cubicBezTo>
                    <a:pt x="235" y="146"/>
                    <a:pt x="237" y="153"/>
                    <a:pt x="238" y="161"/>
                  </a:cubicBezTo>
                  <a:cubicBezTo>
                    <a:pt x="239" y="165"/>
                    <a:pt x="239" y="168"/>
                    <a:pt x="240" y="172"/>
                  </a:cubicBezTo>
                  <a:cubicBezTo>
                    <a:pt x="240" y="175"/>
                    <a:pt x="240" y="178"/>
                    <a:pt x="241" y="180"/>
                  </a:cubicBezTo>
                  <a:cubicBezTo>
                    <a:pt x="238" y="181"/>
                    <a:pt x="235" y="182"/>
                    <a:pt x="232" y="183"/>
                  </a:cubicBezTo>
                  <a:cubicBezTo>
                    <a:pt x="233" y="179"/>
                    <a:pt x="234" y="174"/>
                    <a:pt x="235" y="170"/>
                  </a:cubicBezTo>
                  <a:cubicBezTo>
                    <a:pt x="236" y="168"/>
                    <a:pt x="238" y="163"/>
                    <a:pt x="237" y="161"/>
                  </a:cubicBezTo>
                  <a:cubicBezTo>
                    <a:pt x="236" y="160"/>
                    <a:pt x="234" y="166"/>
                    <a:pt x="234" y="166"/>
                  </a:cubicBezTo>
                  <a:cubicBezTo>
                    <a:pt x="232" y="172"/>
                    <a:pt x="231" y="177"/>
                    <a:pt x="229" y="183"/>
                  </a:cubicBezTo>
                  <a:cubicBezTo>
                    <a:pt x="229" y="183"/>
                    <a:pt x="229" y="183"/>
                    <a:pt x="229" y="184"/>
                  </a:cubicBezTo>
                  <a:cubicBezTo>
                    <a:pt x="228" y="184"/>
                    <a:pt x="227" y="185"/>
                    <a:pt x="225" y="185"/>
                  </a:cubicBezTo>
                  <a:cubicBezTo>
                    <a:pt x="225" y="185"/>
                    <a:pt x="225" y="185"/>
                    <a:pt x="225" y="185"/>
                  </a:cubicBezTo>
                  <a:cubicBezTo>
                    <a:pt x="226" y="184"/>
                    <a:pt x="227" y="183"/>
                    <a:pt x="227" y="181"/>
                  </a:cubicBezTo>
                  <a:cubicBezTo>
                    <a:pt x="232" y="170"/>
                    <a:pt x="234" y="159"/>
                    <a:pt x="234" y="147"/>
                  </a:cubicBezTo>
                  <a:cubicBezTo>
                    <a:pt x="234" y="147"/>
                    <a:pt x="233" y="146"/>
                    <a:pt x="233" y="147"/>
                  </a:cubicBezTo>
                  <a:cubicBezTo>
                    <a:pt x="232" y="155"/>
                    <a:pt x="232" y="164"/>
                    <a:pt x="229" y="171"/>
                  </a:cubicBezTo>
                  <a:cubicBezTo>
                    <a:pt x="227" y="174"/>
                    <a:pt x="225" y="178"/>
                    <a:pt x="224" y="182"/>
                  </a:cubicBezTo>
                  <a:cubicBezTo>
                    <a:pt x="224" y="183"/>
                    <a:pt x="223" y="183"/>
                    <a:pt x="223" y="184"/>
                  </a:cubicBezTo>
                  <a:cubicBezTo>
                    <a:pt x="222" y="185"/>
                    <a:pt x="223" y="186"/>
                    <a:pt x="224" y="186"/>
                  </a:cubicBezTo>
                  <a:cubicBezTo>
                    <a:pt x="223" y="187"/>
                    <a:pt x="221" y="187"/>
                    <a:pt x="220" y="188"/>
                  </a:cubicBezTo>
                  <a:cubicBezTo>
                    <a:pt x="224" y="182"/>
                    <a:pt x="226" y="175"/>
                    <a:pt x="228" y="168"/>
                  </a:cubicBezTo>
                  <a:cubicBezTo>
                    <a:pt x="229" y="159"/>
                    <a:pt x="233" y="149"/>
                    <a:pt x="232" y="140"/>
                  </a:cubicBezTo>
                  <a:cubicBezTo>
                    <a:pt x="232" y="139"/>
                    <a:pt x="231" y="139"/>
                    <a:pt x="231" y="139"/>
                  </a:cubicBezTo>
                  <a:cubicBezTo>
                    <a:pt x="230" y="145"/>
                    <a:pt x="229" y="150"/>
                    <a:pt x="228" y="155"/>
                  </a:cubicBezTo>
                  <a:cubicBezTo>
                    <a:pt x="227" y="159"/>
                    <a:pt x="226" y="163"/>
                    <a:pt x="225" y="167"/>
                  </a:cubicBezTo>
                  <a:cubicBezTo>
                    <a:pt x="224" y="173"/>
                    <a:pt x="222" y="179"/>
                    <a:pt x="219" y="184"/>
                  </a:cubicBezTo>
                  <a:cubicBezTo>
                    <a:pt x="220" y="181"/>
                    <a:pt x="220" y="178"/>
                    <a:pt x="221" y="175"/>
                  </a:cubicBezTo>
                  <a:cubicBezTo>
                    <a:pt x="222" y="169"/>
                    <a:pt x="224" y="164"/>
                    <a:pt x="226" y="159"/>
                  </a:cubicBezTo>
                  <a:cubicBezTo>
                    <a:pt x="227" y="151"/>
                    <a:pt x="232" y="140"/>
                    <a:pt x="228" y="133"/>
                  </a:cubicBezTo>
                  <a:cubicBezTo>
                    <a:pt x="228" y="133"/>
                    <a:pt x="228" y="133"/>
                    <a:pt x="228" y="133"/>
                  </a:cubicBezTo>
                  <a:cubicBezTo>
                    <a:pt x="227" y="138"/>
                    <a:pt x="227" y="142"/>
                    <a:pt x="226" y="147"/>
                  </a:cubicBezTo>
                  <a:cubicBezTo>
                    <a:pt x="226" y="152"/>
                    <a:pt x="224" y="157"/>
                    <a:pt x="222" y="162"/>
                  </a:cubicBezTo>
                  <a:cubicBezTo>
                    <a:pt x="221" y="166"/>
                    <a:pt x="219" y="171"/>
                    <a:pt x="218" y="176"/>
                  </a:cubicBezTo>
                  <a:cubicBezTo>
                    <a:pt x="217" y="180"/>
                    <a:pt x="217" y="185"/>
                    <a:pt x="216" y="190"/>
                  </a:cubicBezTo>
                  <a:cubicBezTo>
                    <a:pt x="216" y="190"/>
                    <a:pt x="216" y="190"/>
                    <a:pt x="216" y="190"/>
                  </a:cubicBezTo>
                  <a:cubicBezTo>
                    <a:pt x="216" y="190"/>
                    <a:pt x="216" y="190"/>
                    <a:pt x="215" y="190"/>
                  </a:cubicBezTo>
                  <a:cubicBezTo>
                    <a:pt x="216" y="185"/>
                    <a:pt x="217" y="180"/>
                    <a:pt x="217" y="175"/>
                  </a:cubicBezTo>
                  <a:cubicBezTo>
                    <a:pt x="219" y="171"/>
                    <a:pt x="218" y="166"/>
                    <a:pt x="220" y="161"/>
                  </a:cubicBezTo>
                  <a:cubicBezTo>
                    <a:pt x="221" y="156"/>
                    <a:pt x="223" y="151"/>
                    <a:pt x="225" y="146"/>
                  </a:cubicBezTo>
                  <a:cubicBezTo>
                    <a:pt x="225" y="144"/>
                    <a:pt x="224" y="144"/>
                    <a:pt x="223" y="145"/>
                  </a:cubicBezTo>
                  <a:cubicBezTo>
                    <a:pt x="222" y="150"/>
                    <a:pt x="220" y="154"/>
                    <a:pt x="218" y="158"/>
                  </a:cubicBezTo>
                  <a:cubicBezTo>
                    <a:pt x="218" y="158"/>
                    <a:pt x="218" y="158"/>
                    <a:pt x="218" y="158"/>
                  </a:cubicBezTo>
                  <a:cubicBezTo>
                    <a:pt x="220" y="153"/>
                    <a:pt x="222" y="148"/>
                    <a:pt x="222" y="143"/>
                  </a:cubicBezTo>
                  <a:cubicBezTo>
                    <a:pt x="222" y="138"/>
                    <a:pt x="222" y="133"/>
                    <a:pt x="223" y="128"/>
                  </a:cubicBezTo>
                  <a:cubicBezTo>
                    <a:pt x="223" y="127"/>
                    <a:pt x="223" y="127"/>
                    <a:pt x="223" y="127"/>
                  </a:cubicBezTo>
                  <a:cubicBezTo>
                    <a:pt x="220" y="130"/>
                    <a:pt x="220" y="135"/>
                    <a:pt x="220" y="139"/>
                  </a:cubicBezTo>
                  <a:cubicBezTo>
                    <a:pt x="220" y="146"/>
                    <a:pt x="218" y="152"/>
                    <a:pt x="217" y="159"/>
                  </a:cubicBezTo>
                  <a:cubicBezTo>
                    <a:pt x="216" y="159"/>
                    <a:pt x="216" y="159"/>
                    <a:pt x="216" y="159"/>
                  </a:cubicBezTo>
                  <a:cubicBezTo>
                    <a:pt x="216" y="160"/>
                    <a:pt x="216" y="160"/>
                    <a:pt x="216" y="160"/>
                  </a:cubicBezTo>
                  <a:cubicBezTo>
                    <a:pt x="216" y="159"/>
                    <a:pt x="216" y="157"/>
                    <a:pt x="215" y="156"/>
                  </a:cubicBezTo>
                  <a:cubicBezTo>
                    <a:pt x="216" y="156"/>
                    <a:pt x="216" y="156"/>
                    <a:pt x="216" y="156"/>
                  </a:cubicBezTo>
                  <a:cubicBezTo>
                    <a:pt x="216" y="147"/>
                    <a:pt x="215" y="139"/>
                    <a:pt x="218" y="131"/>
                  </a:cubicBezTo>
                  <a:cubicBezTo>
                    <a:pt x="218" y="130"/>
                    <a:pt x="217" y="130"/>
                    <a:pt x="217" y="130"/>
                  </a:cubicBezTo>
                  <a:cubicBezTo>
                    <a:pt x="216" y="135"/>
                    <a:pt x="214" y="139"/>
                    <a:pt x="214" y="144"/>
                  </a:cubicBezTo>
                  <a:cubicBezTo>
                    <a:pt x="213" y="145"/>
                    <a:pt x="213" y="147"/>
                    <a:pt x="213" y="148"/>
                  </a:cubicBezTo>
                  <a:cubicBezTo>
                    <a:pt x="212" y="145"/>
                    <a:pt x="210" y="142"/>
                    <a:pt x="209" y="138"/>
                  </a:cubicBezTo>
                  <a:cubicBezTo>
                    <a:pt x="207" y="135"/>
                    <a:pt x="205" y="129"/>
                    <a:pt x="202" y="127"/>
                  </a:cubicBezTo>
                  <a:cubicBezTo>
                    <a:pt x="198" y="126"/>
                    <a:pt x="195" y="125"/>
                    <a:pt x="195" y="120"/>
                  </a:cubicBezTo>
                  <a:cubicBezTo>
                    <a:pt x="195" y="118"/>
                    <a:pt x="195" y="115"/>
                    <a:pt x="195" y="113"/>
                  </a:cubicBezTo>
                  <a:cubicBezTo>
                    <a:pt x="194" y="109"/>
                    <a:pt x="193" y="104"/>
                    <a:pt x="191" y="100"/>
                  </a:cubicBezTo>
                  <a:cubicBezTo>
                    <a:pt x="192" y="98"/>
                    <a:pt x="192" y="97"/>
                    <a:pt x="192" y="95"/>
                  </a:cubicBezTo>
                  <a:cubicBezTo>
                    <a:pt x="192" y="92"/>
                    <a:pt x="192" y="89"/>
                    <a:pt x="192" y="86"/>
                  </a:cubicBezTo>
                  <a:cubicBezTo>
                    <a:pt x="192" y="81"/>
                    <a:pt x="190" y="76"/>
                    <a:pt x="187" y="72"/>
                  </a:cubicBezTo>
                  <a:cubicBezTo>
                    <a:pt x="187" y="71"/>
                    <a:pt x="185" y="72"/>
                    <a:pt x="186" y="73"/>
                  </a:cubicBezTo>
                  <a:cubicBezTo>
                    <a:pt x="188" y="78"/>
                    <a:pt x="189" y="83"/>
                    <a:pt x="190" y="88"/>
                  </a:cubicBezTo>
                  <a:cubicBezTo>
                    <a:pt x="191" y="91"/>
                    <a:pt x="191" y="93"/>
                    <a:pt x="190" y="96"/>
                  </a:cubicBezTo>
                  <a:cubicBezTo>
                    <a:pt x="190" y="97"/>
                    <a:pt x="190" y="97"/>
                    <a:pt x="190" y="97"/>
                  </a:cubicBezTo>
                  <a:cubicBezTo>
                    <a:pt x="189" y="93"/>
                    <a:pt x="187" y="90"/>
                    <a:pt x="185" y="87"/>
                  </a:cubicBezTo>
                  <a:cubicBezTo>
                    <a:pt x="184" y="87"/>
                    <a:pt x="184" y="86"/>
                    <a:pt x="183" y="85"/>
                  </a:cubicBezTo>
                  <a:cubicBezTo>
                    <a:pt x="183" y="85"/>
                    <a:pt x="183" y="84"/>
                    <a:pt x="183" y="84"/>
                  </a:cubicBezTo>
                  <a:cubicBezTo>
                    <a:pt x="182" y="83"/>
                    <a:pt x="181" y="82"/>
                    <a:pt x="180" y="81"/>
                  </a:cubicBezTo>
                  <a:cubicBezTo>
                    <a:pt x="178" y="79"/>
                    <a:pt x="175" y="77"/>
                    <a:pt x="174" y="73"/>
                  </a:cubicBezTo>
                  <a:cubicBezTo>
                    <a:pt x="173" y="70"/>
                    <a:pt x="172" y="67"/>
                    <a:pt x="169" y="64"/>
                  </a:cubicBezTo>
                  <a:cubicBezTo>
                    <a:pt x="166" y="61"/>
                    <a:pt x="162" y="63"/>
                    <a:pt x="160" y="66"/>
                  </a:cubicBezTo>
                  <a:cubicBezTo>
                    <a:pt x="157" y="73"/>
                    <a:pt x="158" y="80"/>
                    <a:pt x="157" y="87"/>
                  </a:cubicBezTo>
                  <a:cubicBezTo>
                    <a:pt x="157" y="90"/>
                    <a:pt x="157" y="93"/>
                    <a:pt x="156" y="96"/>
                  </a:cubicBezTo>
                  <a:cubicBezTo>
                    <a:pt x="156" y="91"/>
                    <a:pt x="155" y="85"/>
                    <a:pt x="154" y="80"/>
                  </a:cubicBezTo>
                  <a:cubicBezTo>
                    <a:pt x="154" y="73"/>
                    <a:pt x="153" y="67"/>
                    <a:pt x="153" y="60"/>
                  </a:cubicBezTo>
                  <a:cubicBezTo>
                    <a:pt x="153" y="58"/>
                    <a:pt x="152" y="55"/>
                    <a:pt x="152" y="53"/>
                  </a:cubicBezTo>
                  <a:cubicBezTo>
                    <a:pt x="152" y="50"/>
                    <a:pt x="154" y="51"/>
                    <a:pt x="155" y="52"/>
                  </a:cubicBezTo>
                  <a:close/>
                  <a:moveTo>
                    <a:pt x="82" y="200"/>
                  </a:moveTo>
                  <a:cubicBezTo>
                    <a:pt x="80" y="194"/>
                    <a:pt x="79" y="189"/>
                    <a:pt x="75" y="185"/>
                  </a:cubicBezTo>
                  <a:cubicBezTo>
                    <a:pt x="77" y="179"/>
                    <a:pt x="75" y="171"/>
                    <a:pt x="75" y="165"/>
                  </a:cubicBezTo>
                  <a:cubicBezTo>
                    <a:pt x="75" y="157"/>
                    <a:pt x="75" y="149"/>
                    <a:pt x="77" y="141"/>
                  </a:cubicBezTo>
                  <a:cubicBezTo>
                    <a:pt x="80" y="126"/>
                    <a:pt x="87" y="113"/>
                    <a:pt x="93" y="99"/>
                  </a:cubicBezTo>
                  <a:cubicBezTo>
                    <a:pt x="97" y="91"/>
                    <a:pt x="100" y="83"/>
                    <a:pt x="104" y="77"/>
                  </a:cubicBezTo>
                  <a:cubicBezTo>
                    <a:pt x="108" y="70"/>
                    <a:pt x="114" y="64"/>
                    <a:pt x="118" y="58"/>
                  </a:cubicBezTo>
                  <a:cubicBezTo>
                    <a:pt x="123" y="52"/>
                    <a:pt x="128" y="45"/>
                    <a:pt x="137" y="45"/>
                  </a:cubicBezTo>
                  <a:cubicBezTo>
                    <a:pt x="142" y="45"/>
                    <a:pt x="148" y="45"/>
                    <a:pt x="151" y="48"/>
                  </a:cubicBezTo>
                  <a:cubicBezTo>
                    <a:pt x="151" y="48"/>
                    <a:pt x="150" y="49"/>
                    <a:pt x="150" y="50"/>
                  </a:cubicBezTo>
                  <a:cubicBezTo>
                    <a:pt x="148" y="56"/>
                    <a:pt x="149" y="64"/>
                    <a:pt x="150" y="70"/>
                  </a:cubicBezTo>
                  <a:cubicBezTo>
                    <a:pt x="151" y="84"/>
                    <a:pt x="153" y="97"/>
                    <a:pt x="156" y="111"/>
                  </a:cubicBezTo>
                  <a:cubicBezTo>
                    <a:pt x="156" y="111"/>
                    <a:pt x="156" y="112"/>
                    <a:pt x="155" y="113"/>
                  </a:cubicBezTo>
                  <a:cubicBezTo>
                    <a:pt x="152" y="121"/>
                    <a:pt x="156" y="132"/>
                    <a:pt x="157" y="140"/>
                  </a:cubicBezTo>
                  <a:cubicBezTo>
                    <a:pt x="158" y="153"/>
                    <a:pt x="160" y="167"/>
                    <a:pt x="163" y="180"/>
                  </a:cubicBezTo>
                  <a:cubicBezTo>
                    <a:pt x="163" y="182"/>
                    <a:pt x="164" y="185"/>
                    <a:pt x="165" y="187"/>
                  </a:cubicBezTo>
                  <a:cubicBezTo>
                    <a:pt x="163" y="184"/>
                    <a:pt x="162" y="180"/>
                    <a:pt x="159" y="177"/>
                  </a:cubicBezTo>
                  <a:cubicBezTo>
                    <a:pt x="155" y="173"/>
                    <a:pt x="150" y="171"/>
                    <a:pt x="146" y="169"/>
                  </a:cubicBezTo>
                  <a:cubicBezTo>
                    <a:pt x="145" y="169"/>
                    <a:pt x="144" y="169"/>
                    <a:pt x="143" y="168"/>
                  </a:cubicBezTo>
                  <a:cubicBezTo>
                    <a:pt x="144" y="162"/>
                    <a:pt x="141" y="156"/>
                    <a:pt x="141" y="150"/>
                  </a:cubicBezTo>
                  <a:cubicBezTo>
                    <a:pt x="140" y="142"/>
                    <a:pt x="139" y="135"/>
                    <a:pt x="139" y="128"/>
                  </a:cubicBezTo>
                  <a:cubicBezTo>
                    <a:pt x="140" y="127"/>
                    <a:pt x="138" y="127"/>
                    <a:pt x="138" y="128"/>
                  </a:cubicBezTo>
                  <a:cubicBezTo>
                    <a:pt x="137" y="135"/>
                    <a:pt x="138" y="143"/>
                    <a:pt x="139" y="150"/>
                  </a:cubicBezTo>
                  <a:cubicBezTo>
                    <a:pt x="139" y="156"/>
                    <a:pt x="139" y="163"/>
                    <a:pt x="141" y="168"/>
                  </a:cubicBezTo>
                  <a:cubicBezTo>
                    <a:pt x="140" y="168"/>
                    <a:pt x="138" y="168"/>
                    <a:pt x="137" y="169"/>
                  </a:cubicBezTo>
                  <a:cubicBezTo>
                    <a:pt x="137" y="169"/>
                    <a:pt x="137" y="169"/>
                    <a:pt x="136" y="169"/>
                  </a:cubicBezTo>
                  <a:cubicBezTo>
                    <a:pt x="134" y="171"/>
                    <a:pt x="133" y="174"/>
                    <a:pt x="132" y="177"/>
                  </a:cubicBezTo>
                  <a:cubicBezTo>
                    <a:pt x="132" y="176"/>
                    <a:pt x="131" y="174"/>
                    <a:pt x="131" y="173"/>
                  </a:cubicBezTo>
                  <a:cubicBezTo>
                    <a:pt x="130" y="170"/>
                    <a:pt x="130" y="166"/>
                    <a:pt x="130" y="163"/>
                  </a:cubicBezTo>
                  <a:cubicBezTo>
                    <a:pt x="130" y="156"/>
                    <a:pt x="129" y="149"/>
                    <a:pt x="129" y="142"/>
                  </a:cubicBezTo>
                  <a:cubicBezTo>
                    <a:pt x="128" y="137"/>
                    <a:pt x="128" y="132"/>
                    <a:pt x="128" y="127"/>
                  </a:cubicBezTo>
                  <a:cubicBezTo>
                    <a:pt x="128" y="124"/>
                    <a:pt x="128" y="120"/>
                    <a:pt x="128" y="117"/>
                  </a:cubicBezTo>
                  <a:cubicBezTo>
                    <a:pt x="127" y="113"/>
                    <a:pt x="127" y="108"/>
                    <a:pt x="126" y="104"/>
                  </a:cubicBezTo>
                  <a:cubicBezTo>
                    <a:pt x="126" y="100"/>
                    <a:pt x="126" y="96"/>
                    <a:pt x="126" y="93"/>
                  </a:cubicBezTo>
                  <a:cubicBezTo>
                    <a:pt x="126" y="92"/>
                    <a:pt x="126" y="92"/>
                    <a:pt x="126" y="93"/>
                  </a:cubicBezTo>
                  <a:cubicBezTo>
                    <a:pt x="123" y="101"/>
                    <a:pt x="128" y="109"/>
                    <a:pt x="126" y="117"/>
                  </a:cubicBezTo>
                  <a:cubicBezTo>
                    <a:pt x="124" y="122"/>
                    <a:pt x="126" y="127"/>
                    <a:pt x="126" y="131"/>
                  </a:cubicBezTo>
                  <a:cubicBezTo>
                    <a:pt x="126" y="136"/>
                    <a:pt x="126" y="141"/>
                    <a:pt x="127" y="146"/>
                  </a:cubicBezTo>
                  <a:cubicBezTo>
                    <a:pt x="127" y="153"/>
                    <a:pt x="127" y="161"/>
                    <a:pt x="128" y="169"/>
                  </a:cubicBezTo>
                  <a:cubicBezTo>
                    <a:pt x="128" y="172"/>
                    <a:pt x="128" y="178"/>
                    <a:pt x="132" y="180"/>
                  </a:cubicBezTo>
                  <a:cubicBezTo>
                    <a:pt x="130" y="187"/>
                    <a:pt x="131" y="194"/>
                    <a:pt x="132" y="200"/>
                  </a:cubicBezTo>
                  <a:cubicBezTo>
                    <a:pt x="132" y="202"/>
                    <a:pt x="133" y="204"/>
                    <a:pt x="133" y="206"/>
                  </a:cubicBezTo>
                  <a:cubicBezTo>
                    <a:pt x="127" y="204"/>
                    <a:pt x="119" y="207"/>
                    <a:pt x="114" y="210"/>
                  </a:cubicBezTo>
                  <a:cubicBezTo>
                    <a:pt x="107" y="213"/>
                    <a:pt x="101" y="216"/>
                    <a:pt x="95" y="219"/>
                  </a:cubicBezTo>
                  <a:cubicBezTo>
                    <a:pt x="91" y="220"/>
                    <a:pt x="88" y="220"/>
                    <a:pt x="85" y="220"/>
                  </a:cubicBezTo>
                  <a:cubicBezTo>
                    <a:pt x="84" y="213"/>
                    <a:pt x="84" y="206"/>
                    <a:pt x="82" y="200"/>
                  </a:cubicBezTo>
                  <a:close/>
                  <a:moveTo>
                    <a:pt x="85" y="234"/>
                  </a:moveTo>
                  <a:cubicBezTo>
                    <a:pt x="85" y="231"/>
                    <a:pt x="85" y="227"/>
                    <a:pt x="85" y="224"/>
                  </a:cubicBezTo>
                  <a:cubicBezTo>
                    <a:pt x="92" y="225"/>
                    <a:pt x="99" y="221"/>
                    <a:pt x="106" y="218"/>
                  </a:cubicBezTo>
                  <a:cubicBezTo>
                    <a:pt x="114" y="214"/>
                    <a:pt x="125" y="206"/>
                    <a:pt x="134" y="210"/>
                  </a:cubicBezTo>
                  <a:cubicBezTo>
                    <a:pt x="134" y="211"/>
                    <a:pt x="135" y="212"/>
                    <a:pt x="135" y="213"/>
                  </a:cubicBezTo>
                  <a:cubicBezTo>
                    <a:pt x="130" y="211"/>
                    <a:pt x="121" y="217"/>
                    <a:pt x="118" y="220"/>
                  </a:cubicBezTo>
                  <a:cubicBezTo>
                    <a:pt x="113" y="224"/>
                    <a:pt x="108" y="230"/>
                    <a:pt x="103" y="235"/>
                  </a:cubicBezTo>
                  <a:cubicBezTo>
                    <a:pt x="99" y="238"/>
                    <a:pt x="96" y="241"/>
                    <a:pt x="91" y="242"/>
                  </a:cubicBezTo>
                  <a:cubicBezTo>
                    <a:pt x="89" y="243"/>
                    <a:pt x="88" y="243"/>
                    <a:pt x="87" y="244"/>
                  </a:cubicBezTo>
                  <a:cubicBezTo>
                    <a:pt x="86" y="241"/>
                    <a:pt x="86" y="237"/>
                    <a:pt x="85" y="234"/>
                  </a:cubicBezTo>
                  <a:close/>
                  <a:moveTo>
                    <a:pt x="106" y="312"/>
                  </a:moveTo>
                  <a:cubicBezTo>
                    <a:pt x="106" y="311"/>
                    <a:pt x="105" y="311"/>
                    <a:pt x="105" y="310"/>
                  </a:cubicBezTo>
                  <a:cubicBezTo>
                    <a:pt x="105" y="310"/>
                    <a:pt x="106" y="310"/>
                    <a:pt x="106" y="310"/>
                  </a:cubicBezTo>
                  <a:cubicBezTo>
                    <a:pt x="107" y="311"/>
                    <a:pt x="108" y="311"/>
                    <a:pt x="108" y="311"/>
                  </a:cubicBezTo>
                  <a:cubicBezTo>
                    <a:pt x="108" y="311"/>
                    <a:pt x="108" y="311"/>
                    <a:pt x="107" y="311"/>
                  </a:cubicBezTo>
                  <a:cubicBezTo>
                    <a:pt x="107" y="311"/>
                    <a:pt x="106" y="311"/>
                    <a:pt x="106" y="312"/>
                  </a:cubicBezTo>
                  <a:close/>
                  <a:moveTo>
                    <a:pt x="117" y="337"/>
                  </a:moveTo>
                  <a:cubicBezTo>
                    <a:pt x="114" y="329"/>
                    <a:pt x="111" y="322"/>
                    <a:pt x="107" y="315"/>
                  </a:cubicBezTo>
                  <a:cubicBezTo>
                    <a:pt x="107" y="315"/>
                    <a:pt x="107" y="315"/>
                    <a:pt x="107" y="315"/>
                  </a:cubicBezTo>
                  <a:cubicBezTo>
                    <a:pt x="111" y="315"/>
                    <a:pt x="114" y="317"/>
                    <a:pt x="118" y="318"/>
                  </a:cubicBezTo>
                  <a:cubicBezTo>
                    <a:pt x="121" y="319"/>
                    <a:pt x="124" y="320"/>
                    <a:pt x="128" y="321"/>
                  </a:cubicBezTo>
                  <a:cubicBezTo>
                    <a:pt x="136" y="324"/>
                    <a:pt x="144" y="328"/>
                    <a:pt x="152" y="333"/>
                  </a:cubicBezTo>
                  <a:cubicBezTo>
                    <a:pt x="160" y="337"/>
                    <a:pt x="168" y="343"/>
                    <a:pt x="175" y="349"/>
                  </a:cubicBezTo>
                  <a:cubicBezTo>
                    <a:pt x="181" y="355"/>
                    <a:pt x="187" y="362"/>
                    <a:pt x="194" y="367"/>
                  </a:cubicBezTo>
                  <a:cubicBezTo>
                    <a:pt x="194" y="367"/>
                    <a:pt x="195" y="367"/>
                    <a:pt x="195" y="367"/>
                  </a:cubicBezTo>
                  <a:cubicBezTo>
                    <a:pt x="189" y="359"/>
                    <a:pt x="182" y="353"/>
                    <a:pt x="174" y="347"/>
                  </a:cubicBezTo>
                  <a:cubicBezTo>
                    <a:pt x="172" y="344"/>
                    <a:pt x="169" y="342"/>
                    <a:pt x="167" y="340"/>
                  </a:cubicBezTo>
                  <a:cubicBezTo>
                    <a:pt x="171" y="343"/>
                    <a:pt x="176" y="347"/>
                    <a:pt x="181" y="350"/>
                  </a:cubicBezTo>
                  <a:cubicBezTo>
                    <a:pt x="181" y="350"/>
                    <a:pt x="181" y="349"/>
                    <a:pt x="181" y="349"/>
                  </a:cubicBezTo>
                  <a:cubicBezTo>
                    <a:pt x="176" y="343"/>
                    <a:pt x="169" y="339"/>
                    <a:pt x="162" y="335"/>
                  </a:cubicBezTo>
                  <a:cubicBezTo>
                    <a:pt x="155" y="331"/>
                    <a:pt x="148" y="326"/>
                    <a:pt x="140" y="322"/>
                  </a:cubicBezTo>
                  <a:cubicBezTo>
                    <a:pt x="132" y="318"/>
                    <a:pt x="123" y="317"/>
                    <a:pt x="115" y="312"/>
                  </a:cubicBezTo>
                  <a:cubicBezTo>
                    <a:pt x="113" y="311"/>
                    <a:pt x="106" y="306"/>
                    <a:pt x="104" y="307"/>
                  </a:cubicBezTo>
                  <a:cubicBezTo>
                    <a:pt x="103" y="305"/>
                    <a:pt x="102" y="303"/>
                    <a:pt x="101" y="301"/>
                  </a:cubicBezTo>
                  <a:cubicBezTo>
                    <a:pt x="107" y="303"/>
                    <a:pt x="114" y="306"/>
                    <a:pt x="120" y="309"/>
                  </a:cubicBezTo>
                  <a:cubicBezTo>
                    <a:pt x="128" y="312"/>
                    <a:pt x="136" y="315"/>
                    <a:pt x="144" y="320"/>
                  </a:cubicBezTo>
                  <a:cubicBezTo>
                    <a:pt x="146" y="321"/>
                    <a:pt x="147" y="318"/>
                    <a:pt x="146" y="317"/>
                  </a:cubicBezTo>
                  <a:cubicBezTo>
                    <a:pt x="138" y="313"/>
                    <a:pt x="131" y="310"/>
                    <a:pt x="123" y="307"/>
                  </a:cubicBezTo>
                  <a:cubicBezTo>
                    <a:pt x="115" y="304"/>
                    <a:pt x="107" y="300"/>
                    <a:pt x="99" y="297"/>
                  </a:cubicBezTo>
                  <a:cubicBezTo>
                    <a:pt x="96" y="290"/>
                    <a:pt x="93" y="283"/>
                    <a:pt x="92" y="276"/>
                  </a:cubicBezTo>
                  <a:cubicBezTo>
                    <a:pt x="90" y="266"/>
                    <a:pt x="88" y="257"/>
                    <a:pt x="87" y="247"/>
                  </a:cubicBezTo>
                  <a:cubicBezTo>
                    <a:pt x="91" y="246"/>
                    <a:pt x="98" y="244"/>
                    <a:pt x="101" y="241"/>
                  </a:cubicBezTo>
                  <a:cubicBezTo>
                    <a:pt x="106" y="237"/>
                    <a:pt x="111" y="231"/>
                    <a:pt x="115" y="226"/>
                  </a:cubicBezTo>
                  <a:cubicBezTo>
                    <a:pt x="118" y="223"/>
                    <a:pt x="122" y="219"/>
                    <a:pt x="126" y="217"/>
                  </a:cubicBezTo>
                  <a:cubicBezTo>
                    <a:pt x="130" y="215"/>
                    <a:pt x="133" y="216"/>
                    <a:pt x="136" y="217"/>
                  </a:cubicBezTo>
                  <a:cubicBezTo>
                    <a:pt x="138" y="222"/>
                    <a:pt x="139" y="227"/>
                    <a:pt x="141" y="232"/>
                  </a:cubicBezTo>
                  <a:cubicBezTo>
                    <a:pt x="147" y="245"/>
                    <a:pt x="152" y="258"/>
                    <a:pt x="157" y="272"/>
                  </a:cubicBezTo>
                  <a:cubicBezTo>
                    <a:pt x="162" y="283"/>
                    <a:pt x="169" y="294"/>
                    <a:pt x="172" y="306"/>
                  </a:cubicBezTo>
                  <a:cubicBezTo>
                    <a:pt x="172" y="306"/>
                    <a:pt x="172" y="306"/>
                    <a:pt x="173" y="306"/>
                  </a:cubicBezTo>
                  <a:cubicBezTo>
                    <a:pt x="175" y="316"/>
                    <a:pt x="178" y="326"/>
                    <a:pt x="184" y="335"/>
                  </a:cubicBezTo>
                  <a:cubicBezTo>
                    <a:pt x="185" y="337"/>
                    <a:pt x="188" y="344"/>
                    <a:pt x="191" y="346"/>
                  </a:cubicBezTo>
                  <a:cubicBezTo>
                    <a:pt x="191" y="346"/>
                    <a:pt x="191" y="346"/>
                    <a:pt x="191" y="346"/>
                  </a:cubicBezTo>
                  <a:cubicBezTo>
                    <a:pt x="193" y="352"/>
                    <a:pt x="195" y="357"/>
                    <a:pt x="198" y="362"/>
                  </a:cubicBezTo>
                  <a:cubicBezTo>
                    <a:pt x="203" y="367"/>
                    <a:pt x="204" y="373"/>
                    <a:pt x="205" y="380"/>
                  </a:cubicBezTo>
                  <a:cubicBezTo>
                    <a:pt x="205" y="380"/>
                    <a:pt x="205" y="380"/>
                    <a:pt x="205" y="380"/>
                  </a:cubicBezTo>
                  <a:cubicBezTo>
                    <a:pt x="205" y="380"/>
                    <a:pt x="205" y="379"/>
                    <a:pt x="204" y="379"/>
                  </a:cubicBezTo>
                  <a:cubicBezTo>
                    <a:pt x="204" y="379"/>
                    <a:pt x="204" y="379"/>
                    <a:pt x="204" y="379"/>
                  </a:cubicBezTo>
                  <a:cubicBezTo>
                    <a:pt x="205" y="381"/>
                    <a:pt x="205" y="380"/>
                    <a:pt x="203" y="379"/>
                  </a:cubicBezTo>
                  <a:cubicBezTo>
                    <a:pt x="203" y="378"/>
                    <a:pt x="202" y="377"/>
                    <a:pt x="201" y="377"/>
                  </a:cubicBezTo>
                  <a:cubicBezTo>
                    <a:pt x="200" y="375"/>
                    <a:pt x="198" y="373"/>
                    <a:pt x="197" y="371"/>
                  </a:cubicBezTo>
                  <a:cubicBezTo>
                    <a:pt x="194" y="368"/>
                    <a:pt x="191" y="367"/>
                    <a:pt x="187" y="366"/>
                  </a:cubicBezTo>
                  <a:cubicBezTo>
                    <a:pt x="187" y="365"/>
                    <a:pt x="187" y="366"/>
                    <a:pt x="187" y="366"/>
                  </a:cubicBezTo>
                  <a:cubicBezTo>
                    <a:pt x="191" y="368"/>
                    <a:pt x="194" y="371"/>
                    <a:pt x="197" y="374"/>
                  </a:cubicBezTo>
                  <a:cubicBezTo>
                    <a:pt x="200" y="377"/>
                    <a:pt x="202" y="380"/>
                    <a:pt x="205" y="382"/>
                  </a:cubicBezTo>
                  <a:cubicBezTo>
                    <a:pt x="205" y="382"/>
                    <a:pt x="205" y="382"/>
                    <a:pt x="205" y="381"/>
                  </a:cubicBezTo>
                  <a:cubicBezTo>
                    <a:pt x="206" y="385"/>
                    <a:pt x="207" y="388"/>
                    <a:pt x="207" y="392"/>
                  </a:cubicBezTo>
                  <a:cubicBezTo>
                    <a:pt x="195" y="375"/>
                    <a:pt x="179" y="363"/>
                    <a:pt x="162" y="352"/>
                  </a:cubicBezTo>
                  <a:cubicBezTo>
                    <a:pt x="154" y="348"/>
                    <a:pt x="145" y="343"/>
                    <a:pt x="136" y="340"/>
                  </a:cubicBezTo>
                  <a:cubicBezTo>
                    <a:pt x="132" y="339"/>
                    <a:pt x="128" y="337"/>
                    <a:pt x="123" y="337"/>
                  </a:cubicBezTo>
                  <a:cubicBezTo>
                    <a:pt x="121" y="337"/>
                    <a:pt x="119" y="336"/>
                    <a:pt x="117" y="337"/>
                  </a:cubicBezTo>
                  <a:close/>
                  <a:moveTo>
                    <a:pt x="124" y="341"/>
                  </a:moveTo>
                  <a:cubicBezTo>
                    <a:pt x="129" y="342"/>
                    <a:pt x="133" y="343"/>
                    <a:pt x="137" y="344"/>
                  </a:cubicBezTo>
                  <a:cubicBezTo>
                    <a:pt x="146" y="348"/>
                    <a:pt x="154" y="352"/>
                    <a:pt x="161" y="356"/>
                  </a:cubicBezTo>
                  <a:cubicBezTo>
                    <a:pt x="170" y="361"/>
                    <a:pt x="179" y="366"/>
                    <a:pt x="186" y="373"/>
                  </a:cubicBezTo>
                  <a:cubicBezTo>
                    <a:pt x="194" y="380"/>
                    <a:pt x="200" y="388"/>
                    <a:pt x="207" y="395"/>
                  </a:cubicBezTo>
                  <a:cubicBezTo>
                    <a:pt x="207" y="397"/>
                    <a:pt x="208" y="399"/>
                    <a:pt x="208" y="400"/>
                  </a:cubicBezTo>
                  <a:cubicBezTo>
                    <a:pt x="209" y="405"/>
                    <a:pt x="210" y="410"/>
                    <a:pt x="210" y="416"/>
                  </a:cubicBezTo>
                  <a:cubicBezTo>
                    <a:pt x="208" y="416"/>
                    <a:pt x="207" y="418"/>
                    <a:pt x="206" y="421"/>
                  </a:cubicBezTo>
                  <a:cubicBezTo>
                    <a:pt x="201" y="434"/>
                    <a:pt x="207" y="451"/>
                    <a:pt x="211" y="463"/>
                  </a:cubicBezTo>
                  <a:cubicBezTo>
                    <a:pt x="213" y="469"/>
                    <a:pt x="215" y="474"/>
                    <a:pt x="217" y="480"/>
                  </a:cubicBezTo>
                  <a:cubicBezTo>
                    <a:pt x="218" y="485"/>
                    <a:pt x="219" y="489"/>
                    <a:pt x="221" y="493"/>
                  </a:cubicBezTo>
                  <a:cubicBezTo>
                    <a:pt x="225" y="502"/>
                    <a:pt x="232" y="510"/>
                    <a:pt x="236" y="519"/>
                  </a:cubicBezTo>
                  <a:cubicBezTo>
                    <a:pt x="241" y="528"/>
                    <a:pt x="243" y="538"/>
                    <a:pt x="248" y="547"/>
                  </a:cubicBezTo>
                  <a:cubicBezTo>
                    <a:pt x="249" y="549"/>
                    <a:pt x="251" y="551"/>
                    <a:pt x="252" y="553"/>
                  </a:cubicBezTo>
                  <a:cubicBezTo>
                    <a:pt x="251" y="552"/>
                    <a:pt x="251" y="552"/>
                    <a:pt x="250" y="551"/>
                  </a:cubicBezTo>
                  <a:cubicBezTo>
                    <a:pt x="244" y="545"/>
                    <a:pt x="239" y="541"/>
                    <a:pt x="233" y="535"/>
                  </a:cubicBezTo>
                  <a:cubicBezTo>
                    <a:pt x="223" y="525"/>
                    <a:pt x="213" y="515"/>
                    <a:pt x="206" y="502"/>
                  </a:cubicBezTo>
                  <a:cubicBezTo>
                    <a:pt x="200" y="489"/>
                    <a:pt x="196" y="476"/>
                    <a:pt x="192" y="462"/>
                  </a:cubicBezTo>
                  <a:cubicBezTo>
                    <a:pt x="189" y="450"/>
                    <a:pt x="186" y="438"/>
                    <a:pt x="178" y="429"/>
                  </a:cubicBezTo>
                  <a:cubicBezTo>
                    <a:pt x="178" y="428"/>
                    <a:pt x="178" y="428"/>
                    <a:pt x="178" y="428"/>
                  </a:cubicBezTo>
                  <a:cubicBezTo>
                    <a:pt x="177" y="425"/>
                    <a:pt x="177" y="421"/>
                    <a:pt x="176" y="417"/>
                  </a:cubicBezTo>
                  <a:cubicBezTo>
                    <a:pt x="174" y="413"/>
                    <a:pt x="172" y="409"/>
                    <a:pt x="170" y="405"/>
                  </a:cubicBezTo>
                  <a:cubicBezTo>
                    <a:pt x="164" y="397"/>
                    <a:pt x="157" y="389"/>
                    <a:pt x="151" y="381"/>
                  </a:cubicBezTo>
                  <a:cubicBezTo>
                    <a:pt x="148" y="377"/>
                    <a:pt x="145" y="372"/>
                    <a:pt x="142" y="368"/>
                  </a:cubicBezTo>
                  <a:cubicBezTo>
                    <a:pt x="139" y="363"/>
                    <a:pt x="137" y="359"/>
                    <a:pt x="134" y="355"/>
                  </a:cubicBezTo>
                  <a:cubicBezTo>
                    <a:pt x="129" y="350"/>
                    <a:pt x="124" y="346"/>
                    <a:pt x="119" y="341"/>
                  </a:cubicBezTo>
                  <a:cubicBezTo>
                    <a:pt x="121" y="341"/>
                    <a:pt x="123" y="341"/>
                    <a:pt x="124" y="341"/>
                  </a:cubicBezTo>
                  <a:close/>
                  <a:moveTo>
                    <a:pt x="103" y="382"/>
                  </a:moveTo>
                  <a:cubicBezTo>
                    <a:pt x="103" y="382"/>
                    <a:pt x="104" y="383"/>
                    <a:pt x="105" y="383"/>
                  </a:cubicBezTo>
                  <a:cubicBezTo>
                    <a:pt x="105" y="383"/>
                    <a:pt x="106" y="384"/>
                    <a:pt x="107" y="384"/>
                  </a:cubicBezTo>
                  <a:cubicBezTo>
                    <a:pt x="108" y="385"/>
                    <a:pt x="109" y="385"/>
                    <a:pt x="110" y="385"/>
                  </a:cubicBezTo>
                  <a:cubicBezTo>
                    <a:pt x="112" y="386"/>
                    <a:pt x="116" y="386"/>
                    <a:pt x="117" y="384"/>
                  </a:cubicBezTo>
                  <a:cubicBezTo>
                    <a:pt x="118" y="377"/>
                    <a:pt x="110" y="372"/>
                    <a:pt x="109" y="366"/>
                  </a:cubicBezTo>
                  <a:cubicBezTo>
                    <a:pt x="115" y="372"/>
                    <a:pt x="118" y="380"/>
                    <a:pt x="125" y="384"/>
                  </a:cubicBezTo>
                  <a:cubicBezTo>
                    <a:pt x="127" y="385"/>
                    <a:pt x="128" y="384"/>
                    <a:pt x="128" y="382"/>
                  </a:cubicBezTo>
                  <a:cubicBezTo>
                    <a:pt x="127" y="379"/>
                    <a:pt x="126" y="377"/>
                    <a:pt x="130" y="377"/>
                  </a:cubicBezTo>
                  <a:cubicBezTo>
                    <a:pt x="130" y="377"/>
                    <a:pt x="132" y="377"/>
                    <a:pt x="132" y="376"/>
                  </a:cubicBezTo>
                  <a:cubicBezTo>
                    <a:pt x="134" y="373"/>
                    <a:pt x="133" y="370"/>
                    <a:pt x="132" y="367"/>
                  </a:cubicBezTo>
                  <a:cubicBezTo>
                    <a:pt x="130" y="363"/>
                    <a:pt x="128" y="357"/>
                    <a:pt x="125" y="353"/>
                  </a:cubicBezTo>
                  <a:cubicBezTo>
                    <a:pt x="125" y="352"/>
                    <a:pt x="123" y="350"/>
                    <a:pt x="121" y="348"/>
                  </a:cubicBezTo>
                  <a:cubicBezTo>
                    <a:pt x="125" y="351"/>
                    <a:pt x="128" y="354"/>
                    <a:pt x="131" y="358"/>
                  </a:cubicBezTo>
                  <a:cubicBezTo>
                    <a:pt x="138" y="366"/>
                    <a:pt x="143" y="376"/>
                    <a:pt x="149" y="385"/>
                  </a:cubicBezTo>
                  <a:cubicBezTo>
                    <a:pt x="155" y="393"/>
                    <a:pt x="162" y="400"/>
                    <a:pt x="168" y="408"/>
                  </a:cubicBezTo>
                  <a:cubicBezTo>
                    <a:pt x="171" y="413"/>
                    <a:pt x="172" y="417"/>
                    <a:pt x="174" y="422"/>
                  </a:cubicBezTo>
                  <a:cubicBezTo>
                    <a:pt x="174" y="425"/>
                    <a:pt x="175" y="427"/>
                    <a:pt x="176" y="429"/>
                  </a:cubicBezTo>
                  <a:cubicBezTo>
                    <a:pt x="176" y="429"/>
                    <a:pt x="176" y="429"/>
                    <a:pt x="176" y="429"/>
                  </a:cubicBezTo>
                  <a:cubicBezTo>
                    <a:pt x="172" y="435"/>
                    <a:pt x="176" y="442"/>
                    <a:pt x="176" y="448"/>
                  </a:cubicBezTo>
                  <a:cubicBezTo>
                    <a:pt x="175" y="448"/>
                    <a:pt x="174" y="447"/>
                    <a:pt x="173" y="446"/>
                  </a:cubicBezTo>
                  <a:cubicBezTo>
                    <a:pt x="172" y="446"/>
                    <a:pt x="171" y="446"/>
                    <a:pt x="171" y="447"/>
                  </a:cubicBezTo>
                  <a:cubicBezTo>
                    <a:pt x="170" y="449"/>
                    <a:pt x="170" y="451"/>
                    <a:pt x="170" y="452"/>
                  </a:cubicBezTo>
                  <a:cubicBezTo>
                    <a:pt x="169" y="455"/>
                    <a:pt x="168" y="456"/>
                    <a:pt x="165" y="455"/>
                  </a:cubicBezTo>
                  <a:cubicBezTo>
                    <a:pt x="163" y="453"/>
                    <a:pt x="160" y="451"/>
                    <a:pt x="157" y="451"/>
                  </a:cubicBezTo>
                  <a:cubicBezTo>
                    <a:pt x="157" y="451"/>
                    <a:pt x="157" y="451"/>
                    <a:pt x="156" y="451"/>
                  </a:cubicBezTo>
                  <a:cubicBezTo>
                    <a:pt x="158" y="445"/>
                    <a:pt x="156" y="438"/>
                    <a:pt x="154" y="433"/>
                  </a:cubicBezTo>
                  <a:cubicBezTo>
                    <a:pt x="152" y="427"/>
                    <a:pt x="148" y="420"/>
                    <a:pt x="144" y="415"/>
                  </a:cubicBezTo>
                  <a:cubicBezTo>
                    <a:pt x="139" y="408"/>
                    <a:pt x="131" y="403"/>
                    <a:pt x="123" y="400"/>
                  </a:cubicBezTo>
                  <a:cubicBezTo>
                    <a:pt x="119" y="399"/>
                    <a:pt x="116" y="398"/>
                    <a:pt x="113" y="396"/>
                  </a:cubicBezTo>
                  <a:cubicBezTo>
                    <a:pt x="111" y="394"/>
                    <a:pt x="110" y="392"/>
                    <a:pt x="109" y="391"/>
                  </a:cubicBezTo>
                  <a:cubicBezTo>
                    <a:pt x="107" y="388"/>
                    <a:pt x="104" y="386"/>
                    <a:pt x="101" y="384"/>
                  </a:cubicBezTo>
                  <a:cubicBezTo>
                    <a:pt x="101" y="384"/>
                    <a:pt x="101" y="384"/>
                    <a:pt x="101" y="384"/>
                  </a:cubicBezTo>
                  <a:cubicBezTo>
                    <a:pt x="100" y="382"/>
                    <a:pt x="101" y="381"/>
                    <a:pt x="103" y="382"/>
                  </a:cubicBezTo>
                  <a:close/>
                  <a:moveTo>
                    <a:pt x="153" y="452"/>
                  </a:moveTo>
                  <a:cubicBezTo>
                    <a:pt x="152" y="453"/>
                    <a:pt x="152" y="453"/>
                    <a:pt x="151" y="454"/>
                  </a:cubicBezTo>
                  <a:cubicBezTo>
                    <a:pt x="150" y="449"/>
                    <a:pt x="148" y="445"/>
                    <a:pt x="146" y="441"/>
                  </a:cubicBezTo>
                  <a:cubicBezTo>
                    <a:pt x="144" y="436"/>
                    <a:pt x="142" y="432"/>
                    <a:pt x="140" y="428"/>
                  </a:cubicBezTo>
                  <a:cubicBezTo>
                    <a:pt x="138" y="424"/>
                    <a:pt x="136" y="419"/>
                    <a:pt x="134" y="415"/>
                  </a:cubicBezTo>
                  <a:cubicBezTo>
                    <a:pt x="134" y="413"/>
                    <a:pt x="133" y="411"/>
                    <a:pt x="132" y="409"/>
                  </a:cubicBezTo>
                  <a:cubicBezTo>
                    <a:pt x="135" y="411"/>
                    <a:pt x="138" y="413"/>
                    <a:pt x="140" y="416"/>
                  </a:cubicBezTo>
                  <a:cubicBezTo>
                    <a:pt x="148" y="425"/>
                    <a:pt x="156" y="439"/>
                    <a:pt x="153" y="452"/>
                  </a:cubicBezTo>
                  <a:close/>
                  <a:moveTo>
                    <a:pt x="101" y="389"/>
                  </a:moveTo>
                  <a:cubicBezTo>
                    <a:pt x="101" y="389"/>
                    <a:pt x="101" y="389"/>
                    <a:pt x="101" y="389"/>
                  </a:cubicBezTo>
                  <a:cubicBezTo>
                    <a:pt x="106" y="393"/>
                    <a:pt x="110" y="400"/>
                    <a:pt x="116" y="402"/>
                  </a:cubicBezTo>
                  <a:cubicBezTo>
                    <a:pt x="118" y="409"/>
                    <a:pt x="119" y="414"/>
                    <a:pt x="116" y="421"/>
                  </a:cubicBezTo>
                  <a:cubicBezTo>
                    <a:pt x="115" y="424"/>
                    <a:pt x="114" y="427"/>
                    <a:pt x="112" y="429"/>
                  </a:cubicBezTo>
                  <a:cubicBezTo>
                    <a:pt x="112" y="430"/>
                    <a:pt x="111" y="430"/>
                    <a:pt x="111" y="430"/>
                  </a:cubicBezTo>
                  <a:cubicBezTo>
                    <a:pt x="110" y="425"/>
                    <a:pt x="103" y="419"/>
                    <a:pt x="101" y="414"/>
                  </a:cubicBezTo>
                  <a:cubicBezTo>
                    <a:pt x="94" y="405"/>
                    <a:pt x="96" y="393"/>
                    <a:pt x="92" y="383"/>
                  </a:cubicBezTo>
                  <a:cubicBezTo>
                    <a:pt x="95" y="385"/>
                    <a:pt x="98" y="387"/>
                    <a:pt x="101" y="389"/>
                  </a:cubicBezTo>
                  <a:close/>
                  <a:moveTo>
                    <a:pt x="108" y="433"/>
                  </a:moveTo>
                  <a:cubicBezTo>
                    <a:pt x="108" y="433"/>
                    <a:pt x="108" y="433"/>
                    <a:pt x="108" y="434"/>
                  </a:cubicBezTo>
                  <a:cubicBezTo>
                    <a:pt x="107" y="433"/>
                    <a:pt x="107" y="433"/>
                    <a:pt x="107" y="433"/>
                  </a:cubicBezTo>
                  <a:cubicBezTo>
                    <a:pt x="102" y="428"/>
                    <a:pt x="96" y="426"/>
                    <a:pt x="92" y="421"/>
                  </a:cubicBezTo>
                  <a:cubicBezTo>
                    <a:pt x="82" y="411"/>
                    <a:pt x="73" y="401"/>
                    <a:pt x="67" y="388"/>
                  </a:cubicBezTo>
                  <a:cubicBezTo>
                    <a:pt x="63" y="379"/>
                    <a:pt x="58" y="370"/>
                    <a:pt x="53" y="362"/>
                  </a:cubicBezTo>
                  <a:cubicBezTo>
                    <a:pt x="54" y="362"/>
                    <a:pt x="54" y="362"/>
                    <a:pt x="55" y="363"/>
                  </a:cubicBezTo>
                  <a:cubicBezTo>
                    <a:pt x="59" y="364"/>
                    <a:pt x="63" y="365"/>
                    <a:pt x="66" y="367"/>
                  </a:cubicBezTo>
                  <a:cubicBezTo>
                    <a:pt x="69" y="368"/>
                    <a:pt x="72" y="370"/>
                    <a:pt x="75" y="372"/>
                  </a:cubicBezTo>
                  <a:cubicBezTo>
                    <a:pt x="80" y="375"/>
                    <a:pt x="84" y="377"/>
                    <a:pt x="88" y="380"/>
                  </a:cubicBezTo>
                  <a:cubicBezTo>
                    <a:pt x="87" y="381"/>
                    <a:pt x="87" y="381"/>
                    <a:pt x="88" y="382"/>
                  </a:cubicBezTo>
                  <a:cubicBezTo>
                    <a:pt x="92" y="391"/>
                    <a:pt x="90" y="402"/>
                    <a:pt x="95" y="411"/>
                  </a:cubicBezTo>
                  <a:cubicBezTo>
                    <a:pt x="97" y="415"/>
                    <a:pt x="100" y="418"/>
                    <a:pt x="102" y="421"/>
                  </a:cubicBezTo>
                  <a:cubicBezTo>
                    <a:pt x="103" y="422"/>
                    <a:pt x="104" y="424"/>
                    <a:pt x="105" y="425"/>
                  </a:cubicBezTo>
                  <a:cubicBezTo>
                    <a:pt x="105" y="425"/>
                    <a:pt x="105" y="425"/>
                    <a:pt x="105" y="425"/>
                  </a:cubicBezTo>
                  <a:cubicBezTo>
                    <a:pt x="105" y="426"/>
                    <a:pt x="106" y="427"/>
                    <a:pt x="106" y="428"/>
                  </a:cubicBezTo>
                  <a:cubicBezTo>
                    <a:pt x="106" y="429"/>
                    <a:pt x="106" y="430"/>
                    <a:pt x="107" y="431"/>
                  </a:cubicBezTo>
                  <a:cubicBezTo>
                    <a:pt x="107" y="431"/>
                    <a:pt x="107" y="431"/>
                    <a:pt x="107" y="431"/>
                  </a:cubicBezTo>
                  <a:cubicBezTo>
                    <a:pt x="108" y="430"/>
                    <a:pt x="108" y="429"/>
                    <a:pt x="107" y="428"/>
                  </a:cubicBezTo>
                  <a:cubicBezTo>
                    <a:pt x="108" y="430"/>
                    <a:pt x="109" y="432"/>
                    <a:pt x="108" y="433"/>
                  </a:cubicBezTo>
                  <a:close/>
                  <a:moveTo>
                    <a:pt x="132" y="482"/>
                  </a:moveTo>
                  <a:cubicBezTo>
                    <a:pt x="131" y="477"/>
                    <a:pt x="129" y="472"/>
                    <a:pt x="127" y="468"/>
                  </a:cubicBezTo>
                  <a:cubicBezTo>
                    <a:pt x="125" y="462"/>
                    <a:pt x="123" y="456"/>
                    <a:pt x="120" y="450"/>
                  </a:cubicBezTo>
                  <a:cubicBezTo>
                    <a:pt x="117" y="446"/>
                    <a:pt x="114" y="440"/>
                    <a:pt x="110" y="436"/>
                  </a:cubicBezTo>
                  <a:cubicBezTo>
                    <a:pt x="115" y="434"/>
                    <a:pt x="118" y="425"/>
                    <a:pt x="120" y="421"/>
                  </a:cubicBezTo>
                  <a:cubicBezTo>
                    <a:pt x="122" y="414"/>
                    <a:pt x="121" y="408"/>
                    <a:pt x="118" y="403"/>
                  </a:cubicBezTo>
                  <a:cubicBezTo>
                    <a:pt x="122" y="404"/>
                    <a:pt x="125" y="405"/>
                    <a:pt x="128" y="407"/>
                  </a:cubicBezTo>
                  <a:cubicBezTo>
                    <a:pt x="128" y="407"/>
                    <a:pt x="128" y="407"/>
                    <a:pt x="128" y="407"/>
                  </a:cubicBezTo>
                  <a:cubicBezTo>
                    <a:pt x="128" y="410"/>
                    <a:pt x="130" y="414"/>
                    <a:pt x="131" y="416"/>
                  </a:cubicBezTo>
                  <a:cubicBezTo>
                    <a:pt x="133" y="421"/>
                    <a:pt x="136" y="426"/>
                    <a:pt x="138" y="430"/>
                  </a:cubicBezTo>
                  <a:cubicBezTo>
                    <a:pt x="140" y="436"/>
                    <a:pt x="143" y="441"/>
                    <a:pt x="145" y="446"/>
                  </a:cubicBezTo>
                  <a:cubicBezTo>
                    <a:pt x="147" y="450"/>
                    <a:pt x="148" y="454"/>
                    <a:pt x="150" y="459"/>
                  </a:cubicBezTo>
                  <a:cubicBezTo>
                    <a:pt x="150" y="459"/>
                    <a:pt x="150" y="459"/>
                    <a:pt x="150" y="459"/>
                  </a:cubicBezTo>
                  <a:cubicBezTo>
                    <a:pt x="150" y="459"/>
                    <a:pt x="150" y="459"/>
                    <a:pt x="150" y="460"/>
                  </a:cubicBezTo>
                  <a:cubicBezTo>
                    <a:pt x="150" y="463"/>
                    <a:pt x="151" y="466"/>
                    <a:pt x="152" y="470"/>
                  </a:cubicBezTo>
                  <a:cubicBezTo>
                    <a:pt x="152" y="470"/>
                    <a:pt x="152" y="470"/>
                    <a:pt x="152" y="470"/>
                  </a:cubicBezTo>
                  <a:cubicBezTo>
                    <a:pt x="147" y="472"/>
                    <a:pt x="142" y="474"/>
                    <a:pt x="138" y="477"/>
                  </a:cubicBezTo>
                  <a:cubicBezTo>
                    <a:pt x="136" y="479"/>
                    <a:pt x="134" y="480"/>
                    <a:pt x="132" y="482"/>
                  </a:cubicBezTo>
                  <a:close/>
                  <a:moveTo>
                    <a:pt x="263" y="609"/>
                  </a:moveTo>
                  <a:cubicBezTo>
                    <a:pt x="258" y="606"/>
                    <a:pt x="255" y="602"/>
                    <a:pt x="250" y="599"/>
                  </a:cubicBezTo>
                  <a:cubicBezTo>
                    <a:pt x="246" y="597"/>
                    <a:pt x="242" y="597"/>
                    <a:pt x="238" y="596"/>
                  </a:cubicBezTo>
                  <a:cubicBezTo>
                    <a:pt x="228" y="593"/>
                    <a:pt x="219" y="587"/>
                    <a:pt x="210" y="581"/>
                  </a:cubicBezTo>
                  <a:cubicBezTo>
                    <a:pt x="200" y="575"/>
                    <a:pt x="190" y="569"/>
                    <a:pt x="181" y="561"/>
                  </a:cubicBezTo>
                  <a:cubicBezTo>
                    <a:pt x="173" y="554"/>
                    <a:pt x="165" y="547"/>
                    <a:pt x="157" y="539"/>
                  </a:cubicBezTo>
                  <a:cubicBezTo>
                    <a:pt x="154" y="535"/>
                    <a:pt x="149" y="533"/>
                    <a:pt x="146" y="529"/>
                  </a:cubicBezTo>
                  <a:cubicBezTo>
                    <a:pt x="143" y="526"/>
                    <a:pt x="141" y="521"/>
                    <a:pt x="140" y="516"/>
                  </a:cubicBezTo>
                  <a:cubicBezTo>
                    <a:pt x="139" y="508"/>
                    <a:pt x="139" y="500"/>
                    <a:pt x="136" y="493"/>
                  </a:cubicBezTo>
                  <a:cubicBezTo>
                    <a:pt x="132" y="486"/>
                    <a:pt x="137" y="482"/>
                    <a:pt x="143" y="479"/>
                  </a:cubicBezTo>
                  <a:cubicBezTo>
                    <a:pt x="146" y="477"/>
                    <a:pt x="150" y="475"/>
                    <a:pt x="154" y="473"/>
                  </a:cubicBezTo>
                  <a:cubicBezTo>
                    <a:pt x="154" y="475"/>
                    <a:pt x="155" y="476"/>
                    <a:pt x="155" y="477"/>
                  </a:cubicBezTo>
                  <a:cubicBezTo>
                    <a:pt x="159" y="484"/>
                    <a:pt x="162" y="492"/>
                    <a:pt x="165" y="499"/>
                  </a:cubicBezTo>
                  <a:cubicBezTo>
                    <a:pt x="170" y="509"/>
                    <a:pt x="176" y="519"/>
                    <a:pt x="183" y="527"/>
                  </a:cubicBezTo>
                  <a:cubicBezTo>
                    <a:pt x="190" y="536"/>
                    <a:pt x="199" y="543"/>
                    <a:pt x="208" y="551"/>
                  </a:cubicBezTo>
                  <a:cubicBezTo>
                    <a:pt x="216" y="560"/>
                    <a:pt x="225" y="568"/>
                    <a:pt x="233" y="577"/>
                  </a:cubicBezTo>
                  <a:cubicBezTo>
                    <a:pt x="238" y="584"/>
                    <a:pt x="244" y="592"/>
                    <a:pt x="253" y="594"/>
                  </a:cubicBezTo>
                  <a:cubicBezTo>
                    <a:pt x="255" y="594"/>
                    <a:pt x="256" y="591"/>
                    <a:pt x="254" y="590"/>
                  </a:cubicBezTo>
                  <a:cubicBezTo>
                    <a:pt x="244" y="587"/>
                    <a:pt x="238" y="577"/>
                    <a:pt x="231" y="570"/>
                  </a:cubicBezTo>
                  <a:cubicBezTo>
                    <a:pt x="224" y="562"/>
                    <a:pt x="216" y="553"/>
                    <a:pt x="207" y="546"/>
                  </a:cubicBezTo>
                  <a:cubicBezTo>
                    <a:pt x="199" y="538"/>
                    <a:pt x="191" y="531"/>
                    <a:pt x="184" y="523"/>
                  </a:cubicBezTo>
                  <a:cubicBezTo>
                    <a:pt x="184" y="522"/>
                    <a:pt x="183" y="521"/>
                    <a:pt x="183" y="520"/>
                  </a:cubicBezTo>
                  <a:cubicBezTo>
                    <a:pt x="185" y="523"/>
                    <a:pt x="187" y="524"/>
                    <a:pt x="189" y="527"/>
                  </a:cubicBezTo>
                  <a:cubicBezTo>
                    <a:pt x="193" y="530"/>
                    <a:pt x="197" y="534"/>
                    <a:pt x="201" y="536"/>
                  </a:cubicBezTo>
                  <a:cubicBezTo>
                    <a:pt x="202" y="537"/>
                    <a:pt x="202" y="536"/>
                    <a:pt x="202" y="536"/>
                  </a:cubicBezTo>
                  <a:cubicBezTo>
                    <a:pt x="194" y="530"/>
                    <a:pt x="188" y="522"/>
                    <a:pt x="181" y="515"/>
                  </a:cubicBezTo>
                  <a:cubicBezTo>
                    <a:pt x="180" y="515"/>
                    <a:pt x="180" y="515"/>
                    <a:pt x="180" y="516"/>
                  </a:cubicBezTo>
                  <a:cubicBezTo>
                    <a:pt x="180" y="517"/>
                    <a:pt x="181" y="518"/>
                    <a:pt x="181" y="518"/>
                  </a:cubicBezTo>
                  <a:cubicBezTo>
                    <a:pt x="176" y="512"/>
                    <a:pt x="172" y="505"/>
                    <a:pt x="169" y="497"/>
                  </a:cubicBezTo>
                  <a:cubicBezTo>
                    <a:pt x="165" y="490"/>
                    <a:pt x="162" y="483"/>
                    <a:pt x="159" y="476"/>
                  </a:cubicBezTo>
                  <a:cubicBezTo>
                    <a:pt x="157" y="471"/>
                    <a:pt x="152" y="463"/>
                    <a:pt x="154" y="457"/>
                  </a:cubicBezTo>
                  <a:cubicBezTo>
                    <a:pt x="155" y="452"/>
                    <a:pt x="160" y="456"/>
                    <a:pt x="163" y="458"/>
                  </a:cubicBezTo>
                  <a:cubicBezTo>
                    <a:pt x="165" y="459"/>
                    <a:pt x="167" y="459"/>
                    <a:pt x="170" y="459"/>
                  </a:cubicBezTo>
                  <a:cubicBezTo>
                    <a:pt x="173" y="459"/>
                    <a:pt x="173" y="454"/>
                    <a:pt x="174" y="451"/>
                  </a:cubicBezTo>
                  <a:cubicBezTo>
                    <a:pt x="174" y="451"/>
                    <a:pt x="175" y="452"/>
                    <a:pt x="176" y="452"/>
                  </a:cubicBezTo>
                  <a:cubicBezTo>
                    <a:pt x="177" y="453"/>
                    <a:pt x="179" y="453"/>
                    <a:pt x="179" y="451"/>
                  </a:cubicBezTo>
                  <a:cubicBezTo>
                    <a:pt x="181" y="446"/>
                    <a:pt x="176" y="439"/>
                    <a:pt x="177" y="433"/>
                  </a:cubicBezTo>
                  <a:cubicBezTo>
                    <a:pt x="185" y="445"/>
                    <a:pt x="187" y="459"/>
                    <a:pt x="191" y="471"/>
                  </a:cubicBezTo>
                  <a:cubicBezTo>
                    <a:pt x="194" y="484"/>
                    <a:pt x="198" y="496"/>
                    <a:pt x="204" y="507"/>
                  </a:cubicBezTo>
                  <a:cubicBezTo>
                    <a:pt x="212" y="520"/>
                    <a:pt x="222" y="529"/>
                    <a:pt x="232" y="539"/>
                  </a:cubicBezTo>
                  <a:cubicBezTo>
                    <a:pt x="238" y="544"/>
                    <a:pt x="244" y="549"/>
                    <a:pt x="249" y="554"/>
                  </a:cubicBezTo>
                  <a:cubicBezTo>
                    <a:pt x="254" y="560"/>
                    <a:pt x="259" y="566"/>
                    <a:pt x="265" y="571"/>
                  </a:cubicBezTo>
                  <a:cubicBezTo>
                    <a:pt x="265" y="571"/>
                    <a:pt x="266" y="571"/>
                    <a:pt x="266" y="571"/>
                  </a:cubicBezTo>
                  <a:cubicBezTo>
                    <a:pt x="266" y="572"/>
                    <a:pt x="267" y="572"/>
                    <a:pt x="267" y="573"/>
                  </a:cubicBezTo>
                  <a:cubicBezTo>
                    <a:pt x="268" y="574"/>
                    <a:pt x="269" y="573"/>
                    <a:pt x="269" y="572"/>
                  </a:cubicBezTo>
                  <a:cubicBezTo>
                    <a:pt x="267" y="568"/>
                    <a:pt x="264" y="564"/>
                    <a:pt x="262" y="561"/>
                  </a:cubicBezTo>
                  <a:cubicBezTo>
                    <a:pt x="262" y="560"/>
                    <a:pt x="262" y="560"/>
                    <a:pt x="262" y="560"/>
                  </a:cubicBezTo>
                  <a:cubicBezTo>
                    <a:pt x="258" y="547"/>
                    <a:pt x="250" y="537"/>
                    <a:pt x="244" y="525"/>
                  </a:cubicBezTo>
                  <a:cubicBezTo>
                    <a:pt x="244" y="525"/>
                    <a:pt x="243" y="525"/>
                    <a:pt x="243" y="526"/>
                  </a:cubicBezTo>
                  <a:cubicBezTo>
                    <a:pt x="246" y="532"/>
                    <a:pt x="248" y="538"/>
                    <a:pt x="252" y="543"/>
                  </a:cubicBezTo>
                  <a:cubicBezTo>
                    <a:pt x="255" y="548"/>
                    <a:pt x="257" y="553"/>
                    <a:pt x="260" y="558"/>
                  </a:cubicBezTo>
                  <a:cubicBezTo>
                    <a:pt x="257" y="555"/>
                    <a:pt x="255" y="552"/>
                    <a:pt x="252" y="548"/>
                  </a:cubicBezTo>
                  <a:cubicBezTo>
                    <a:pt x="247" y="541"/>
                    <a:pt x="245" y="533"/>
                    <a:pt x="242" y="525"/>
                  </a:cubicBezTo>
                  <a:cubicBezTo>
                    <a:pt x="240" y="519"/>
                    <a:pt x="237" y="513"/>
                    <a:pt x="233" y="508"/>
                  </a:cubicBezTo>
                  <a:cubicBezTo>
                    <a:pt x="234" y="509"/>
                    <a:pt x="235" y="510"/>
                    <a:pt x="236" y="511"/>
                  </a:cubicBezTo>
                  <a:cubicBezTo>
                    <a:pt x="236" y="511"/>
                    <a:pt x="237" y="511"/>
                    <a:pt x="236" y="510"/>
                  </a:cubicBezTo>
                  <a:cubicBezTo>
                    <a:pt x="235" y="509"/>
                    <a:pt x="235" y="506"/>
                    <a:pt x="234" y="504"/>
                  </a:cubicBezTo>
                  <a:cubicBezTo>
                    <a:pt x="233" y="503"/>
                    <a:pt x="233" y="501"/>
                    <a:pt x="231" y="501"/>
                  </a:cubicBezTo>
                  <a:cubicBezTo>
                    <a:pt x="231" y="501"/>
                    <a:pt x="231" y="502"/>
                    <a:pt x="231" y="502"/>
                  </a:cubicBezTo>
                  <a:cubicBezTo>
                    <a:pt x="230" y="503"/>
                    <a:pt x="232" y="505"/>
                    <a:pt x="232" y="507"/>
                  </a:cubicBezTo>
                  <a:cubicBezTo>
                    <a:pt x="233" y="507"/>
                    <a:pt x="233" y="507"/>
                    <a:pt x="233" y="508"/>
                  </a:cubicBezTo>
                  <a:cubicBezTo>
                    <a:pt x="232" y="506"/>
                    <a:pt x="231" y="504"/>
                    <a:pt x="230" y="502"/>
                  </a:cubicBezTo>
                  <a:cubicBezTo>
                    <a:pt x="228" y="499"/>
                    <a:pt x="225" y="495"/>
                    <a:pt x="224" y="491"/>
                  </a:cubicBezTo>
                  <a:cubicBezTo>
                    <a:pt x="222" y="487"/>
                    <a:pt x="221" y="482"/>
                    <a:pt x="220" y="477"/>
                  </a:cubicBezTo>
                  <a:cubicBezTo>
                    <a:pt x="216" y="463"/>
                    <a:pt x="208" y="449"/>
                    <a:pt x="208" y="433"/>
                  </a:cubicBezTo>
                  <a:cubicBezTo>
                    <a:pt x="208" y="427"/>
                    <a:pt x="208" y="418"/>
                    <a:pt x="216" y="418"/>
                  </a:cubicBezTo>
                  <a:cubicBezTo>
                    <a:pt x="220" y="418"/>
                    <a:pt x="222" y="418"/>
                    <a:pt x="226" y="416"/>
                  </a:cubicBezTo>
                  <a:cubicBezTo>
                    <a:pt x="231" y="415"/>
                    <a:pt x="234" y="418"/>
                    <a:pt x="237" y="420"/>
                  </a:cubicBezTo>
                  <a:cubicBezTo>
                    <a:pt x="237" y="420"/>
                    <a:pt x="237" y="420"/>
                    <a:pt x="237" y="420"/>
                  </a:cubicBezTo>
                  <a:cubicBezTo>
                    <a:pt x="238" y="426"/>
                    <a:pt x="240" y="431"/>
                    <a:pt x="242" y="437"/>
                  </a:cubicBezTo>
                  <a:cubicBezTo>
                    <a:pt x="240" y="438"/>
                    <a:pt x="240" y="442"/>
                    <a:pt x="240" y="444"/>
                  </a:cubicBezTo>
                  <a:cubicBezTo>
                    <a:pt x="239" y="450"/>
                    <a:pt x="237" y="455"/>
                    <a:pt x="236" y="461"/>
                  </a:cubicBezTo>
                  <a:cubicBezTo>
                    <a:pt x="235" y="466"/>
                    <a:pt x="235" y="471"/>
                    <a:pt x="236" y="477"/>
                  </a:cubicBezTo>
                  <a:cubicBezTo>
                    <a:pt x="236" y="480"/>
                    <a:pt x="236" y="484"/>
                    <a:pt x="236" y="487"/>
                  </a:cubicBezTo>
                  <a:cubicBezTo>
                    <a:pt x="235" y="490"/>
                    <a:pt x="235" y="493"/>
                    <a:pt x="235" y="495"/>
                  </a:cubicBezTo>
                  <a:cubicBezTo>
                    <a:pt x="238" y="509"/>
                    <a:pt x="250" y="516"/>
                    <a:pt x="258" y="526"/>
                  </a:cubicBezTo>
                  <a:cubicBezTo>
                    <a:pt x="268" y="538"/>
                    <a:pt x="277" y="551"/>
                    <a:pt x="284" y="564"/>
                  </a:cubicBezTo>
                  <a:cubicBezTo>
                    <a:pt x="287" y="570"/>
                    <a:pt x="290" y="576"/>
                    <a:pt x="295" y="580"/>
                  </a:cubicBezTo>
                  <a:cubicBezTo>
                    <a:pt x="296" y="581"/>
                    <a:pt x="296" y="582"/>
                    <a:pt x="297" y="583"/>
                  </a:cubicBezTo>
                  <a:cubicBezTo>
                    <a:pt x="297" y="583"/>
                    <a:pt x="296" y="584"/>
                    <a:pt x="296" y="585"/>
                  </a:cubicBezTo>
                  <a:cubicBezTo>
                    <a:pt x="298" y="593"/>
                    <a:pt x="297" y="603"/>
                    <a:pt x="290" y="609"/>
                  </a:cubicBezTo>
                  <a:cubicBezTo>
                    <a:pt x="287" y="612"/>
                    <a:pt x="284" y="614"/>
                    <a:pt x="281" y="616"/>
                  </a:cubicBezTo>
                  <a:cubicBezTo>
                    <a:pt x="279" y="618"/>
                    <a:pt x="277" y="619"/>
                    <a:pt x="275" y="621"/>
                  </a:cubicBezTo>
                  <a:cubicBezTo>
                    <a:pt x="272" y="616"/>
                    <a:pt x="268" y="613"/>
                    <a:pt x="263" y="609"/>
                  </a:cubicBezTo>
                  <a:close/>
                  <a:moveTo>
                    <a:pt x="300" y="586"/>
                  </a:moveTo>
                  <a:cubicBezTo>
                    <a:pt x="300" y="586"/>
                    <a:pt x="300" y="587"/>
                    <a:pt x="301" y="587"/>
                  </a:cubicBezTo>
                  <a:cubicBezTo>
                    <a:pt x="303" y="592"/>
                    <a:pt x="304" y="598"/>
                    <a:pt x="301" y="604"/>
                  </a:cubicBezTo>
                  <a:cubicBezTo>
                    <a:pt x="299" y="610"/>
                    <a:pt x="295" y="614"/>
                    <a:pt x="290" y="618"/>
                  </a:cubicBezTo>
                  <a:cubicBezTo>
                    <a:pt x="289" y="619"/>
                    <a:pt x="290" y="620"/>
                    <a:pt x="290" y="619"/>
                  </a:cubicBezTo>
                  <a:cubicBezTo>
                    <a:pt x="300" y="617"/>
                    <a:pt x="306" y="602"/>
                    <a:pt x="305" y="591"/>
                  </a:cubicBezTo>
                  <a:cubicBezTo>
                    <a:pt x="306" y="593"/>
                    <a:pt x="308" y="595"/>
                    <a:pt x="309" y="598"/>
                  </a:cubicBezTo>
                  <a:cubicBezTo>
                    <a:pt x="311" y="600"/>
                    <a:pt x="313" y="602"/>
                    <a:pt x="315" y="605"/>
                  </a:cubicBezTo>
                  <a:cubicBezTo>
                    <a:pt x="314" y="614"/>
                    <a:pt x="307" y="621"/>
                    <a:pt x="299" y="623"/>
                  </a:cubicBezTo>
                  <a:cubicBezTo>
                    <a:pt x="293" y="624"/>
                    <a:pt x="284" y="624"/>
                    <a:pt x="279" y="622"/>
                  </a:cubicBezTo>
                  <a:cubicBezTo>
                    <a:pt x="282" y="620"/>
                    <a:pt x="285" y="619"/>
                    <a:pt x="288" y="616"/>
                  </a:cubicBezTo>
                  <a:cubicBezTo>
                    <a:pt x="291" y="614"/>
                    <a:pt x="295" y="610"/>
                    <a:pt x="297" y="606"/>
                  </a:cubicBezTo>
                  <a:cubicBezTo>
                    <a:pt x="300" y="600"/>
                    <a:pt x="301" y="593"/>
                    <a:pt x="300" y="586"/>
                  </a:cubicBezTo>
                  <a:close/>
                  <a:moveTo>
                    <a:pt x="390" y="734"/>
                  </a:moveTo>
                  <a:cubicBezTo>
                    <a:pt x="390" y="743"/>
                    <a:pt x="391" y="756"/>
                    <a:pt x="383" y="761"/>
                  </a:cubicBezTo>
                  <a:cubicBezTo>
                    <a:pt x="380" y="764"/>
                    <a:pt x="375" y="765"/>
                    <a:pt x="371" y="767"/>
                  </a:cubicBezTo>
                  <a:cubicBezTo>
                    <a:pt x="368" y="768"/>
                    <a:pt x="359" y="774"/>
                    <a:pt x="357" y="769"/>
                  </a:cubicBezTo>
                  <a:cubicBezTo>
                    <a:pt x="355" y="765"/>
                    <a:pt x="357" y="761"/>
                    <a:pt x="357" y="757"/>
                  </a:cubicBezTo>
                  <a:cubicBezTo>
                    <a:pt x="357" y="753"/>
                    <a:pt x="356" y="750"/>
                    <a:pt x="355" y="746"/>
                  </a:cubicBezTo>
                  <a:cubicBezTo>
                    <a:pt x="352" y="739"/>
                    <a:pt x="347" y="732"/>
                    <a:pt x="343" y="725"/>
                  </a:cubicBezTo>
                  <a:cubicBezTo>
                    <a:pt x="338" y="716"/>
                    <a:pt x="334" y="706"/>
                    <a:pt x="328" y="698"/>
                  </a:cubicBezTo>
                  <a:cubicBezTo>
                    <a:pt x="321" y="689"/>
                    <a:pt x="314" y="681"/>
                    <a:pt x="307" y="672"/>
                  </a:cubicBezTo>
                  <a:cubicBezTo>
                    <a:pt x="301" y="663"/>
                    <a:pt x="296" y="653"/>
                    <a:pt x="288" y="644"/>
                  </a:cubicBezTo>
                  <a:cubicBezTo>
                    <a:pt x="284" y="639"/>
                    <a:pt x="277" y="635"/>
                    <a:pt x="277" y="628"/>
                  </a:cubicBezTo>
                  <a:cubicBezTo>
                    <a:pt x="277" y="628"/>
                    <a:pt x="278" y="627"/>
                    <a:pt x="278" y="627"/>
                  </a:cubicBezTo>
                  <a:cubicBezTo>
                    <a:pt x="277" y="626"/>
                    <a:pt x="277" y="625"/>
                    <a:pt x="277" y="624"/>
                  </a:cubicBezTo>
                  <a:cubicBezTo>
                    <a:pt x="280" y="626"/>
                    <a:pt x="284" y="626"/>
                    <a:pt x="288" y="626"/>
                  </a:cubicBezTo>
                  <a:cubicBezTo>
                    <a:pt x="293" y="626"/>
                    <a:pt x="298" y="626"/>
                    <a:pt x="302" y="625"/>
                  </a:cubicBezTo>
                  <a:cubicBezTo>
                    <a:pt x="308" y="622"/>
                    <a:pt x="317" y="615"/>
                    <a:pt x="317" y="608"/>
                  </a:cubicBezTo>
                  <a:cubicBezTo>
                    <a:pt x="318" y="610"/>
                    <a:pt x="320" y="612"/>
                    <a:pt x="321" y="612"/>
                  </a:cubicBezTo>
                  <a:cubicBezTo>
                    <a:pt x="320" y="614"/>
                    <a:pt x="319" y="617"/>
                    <a:pt x="318" y="619"/>
                  </a:cubicBezTo>
                  <a:cubicBezTo>
                    <a:pt x="318" y="619"/>
                    <a:pt x="317" y="618"/>
                    <a:pt x="317" y="618"/>
                  </a:cubicBezTo>
                  <a:cubicBezTo>
                    <a:pt x="317" y="618"/>
                    <a:pt x="316" y="618"/>
                    <a:pt x="316" y="619"/>
                  </a:cubicBezTo>
                  <a:cubicBezTo>
                    <a:pt x="316" y="619"/>
                    <a:pt x="317" y="620"/>
                    <a:pt x="317" y="621"/>
                  </a:cubicBezTo>
                  <a:cubicBezTo>
                    <a:pt x="315" y="625"/>
                    <a:pt x="312" y="628"/>
                    <a:pt x="308" y="629"/>
                  </a:cubicBezTo>
                  <a:cubicBezTo>
                    <a:pt x="303" y="631"/>
                    <a:pt x="298" y="629"/>
                    <a:pt x="292" y="630"/>
                  </a:cubicBezTo>
                  <a:cubicBezTo>
                    <a:pt x="292" y="630"/>
                    <a:pt x="292" y="630"/>
                    <a:pt x="292" y="630"/>
                  </a:cubicBezTo>
                  <a:cubicBezTo>
                    <a:pt x="297" y="633"/>
                    <a:pt x="306" y="633"/>
                    <a:pt x="311" y="630"/>
                  </a:cubicBezTo>
                  <a:cubicBezTo>
                    <a:pt x="314" y="628"/>
                    <a:pt x="316" y="625"/>
                    <a:pt x="318" y="622"/>
                  </a:cubicBezTo>
                  <a:cubicBezTo>
                    <a:pt x="319" y="624"/>
                    <a:pt x="320" y="625"/>
                    <a:pt x="321" y="625"/>
                  </a:cubicBezTo>
                  <a:cubicBezTo>
                    <a:pt x="322" y="626"/>
                    <a:pt x="323" y="625"/>
                    <a:pt x="323" y="625"/>
                  </a:cubicBezTo>
                  <a:cubicBezTo>
                    <a:pt x="322" y="623"/>
                    <a:pt x="321" y="622"/>
                    <a:pt x="320" y="621"/>
                  </a:cubicBezTo>
                  <a:cubicBezTo>
                    <a:pt x="320" y="621"/>
                    <a:pt x="320" y="620"/>
                    <a:pt x="319" y="620"/>
                  </a:cubicBezTo>
                  <a:cubicBezTo>
                    <a:pt x="320" y="618"/>
                    <a:pt x="321" y="615"/>
                    <a:pt x="322" y="613"/>
                  </a:cubicBezTo>
                  <a:cubicBezTo>
                    <a:pt x="322" y="613"/>
                    <a:pt x="322" y="613"/>
                    <a:pt x="322" y="613"/>
                  </a:cubicBezTo>
                  <a:cubicBezTo>
                    <a:pt x="325" y="626"/>
                    <a:pt x="337" y="638"/>
                    <a:pt x="344" y="649"/>
                  </a:cubicBezTo>
                  <a:cubicBezTo>
                    <a:pt x="347" y="653"/>
                    <a:pt x="350" y="657"/>
                    <a:pt x="352" y="660"/>
                  </a:cubicBezTo>
                  <a:cubicBezTo>
                    <a:pt x="353" y="662"/>
                    <a:pt x="354" y="663"/>
                    <a:pt x="354" y="664"/>
                  </a:cubicBezTo>
                  <a:cubicBezTo>
                    <a:pt x="357" y="669"/>
                    <a:pt x="358" y="675"/>
                    <a:pt x="360" y="680"/>
                  </a:cubicBezTo>
                  <a:cubicBezTo>
                    <a:pt x="362" y="685"/>
                    <a:pt x="365" y="688"/>
                    <a:pt x="367" y="693"/>
                  </a:cubicBezTo>
                  <a:cubicBezTo>
                    <a:pt x="370" y="697"/>
                    <a:pt x="372" y="702"/>
                    <a:pt x="375" y="707"/>
                  </a:cubicBezTo>
                  <a:cubicBezTo>
                    <a:pt x="377" y="710"/>
                    <a:pt x="380" y="714"/>
                    <a:pt x="383" y="718"/>
                  </a:cubicBezTo>
                  <a:cubicBezTo>
                    <a:pt x="385" y="722"/>
                    <a:pt x="386" y="726"/>
                    <a:pt x="388" y="731"/>
                  </a:cubicBezTo>
                  <a:cubicBezTo>
                    <a:pt x="389" y="732"/>
                    <a:pt x="389" y="733"/>
                    <a:pt x="390" y="734"/>
                  </a:cubicBezTo>
                  <a:close/>
                  <a:moveTo>
                    <a:pt x="421" y="721"/>
                  </a:moveTo>
                  <a:cubicBezTo>
                    <a:pt x="421" y="721"/>
                    <a:pt x="421" y="721"/>
                    <a:pt x="421" y="721"/>
                  </a:cubicBezTo>
                  <a:cubicBezTo>
                    <a:pt x="416" y="728"/>
                    <a:pt x="406" y="731"/>
                    <a:pt x="398" y="727"/>
                  </a:cubicBezTo>
                  <a:cubicBezTo>
                    <a:pt x="392" y="723"/>
                    <a:pt x="388" y="718"/>
                    <a:pt x="385" y="712"/>
                  </a:cubicBezTo>
                  <a:cubicBezTo>
                    <a:pt x="380" y="702"/>
                    <a:pt x="376" y="693"/>
                    <a:pt x="371" y="683"/>
                  </a:cubicBezTo>
                  <a:cubicBezTo>
                    <a:pt x="371" y="685"/>
                    <a:pt x="372" y="686"/>
                    <a:pt x="373" y="686"/>
                  </a:cubicBezTo>
                  <a:cubicBezTo>
                    <a:pt x="374" y="686"/>
                    <a:pt x="374" y="686"/>
                    <a:pt x="374" y="686"/>
                  </a:cubicBezTo>
                  <a:cubicBezTo>
                    <a:pt x="373" y="682"/>
                    <a:pt x="372" y="678"/>
                    <a:pt x="369" y="676"/>
                  </a:cubicBezTo>
                  <a:cubicBezTo>
                    <a:pt x="368" y="675"/>
                    <a:pt x="368" y="676"/>
                    <a:pt x="368" y="676"/>
                  </a:cubicBezTo>
                  <a:cubicBezTo>
                    <a:pt x="368" y="677"/>
                    <a:pt x="368" y="679"/>
                    <a:pt x="369" y="680"/>
                  </a:cubicBezTo>
                  <a:cubicBezTo>
                    <a:pt x="368" y="679"/>
                    <a:pt x="367" y="678"/>
                    <a:pt x="367" y="676"/>
                  </a:cubicBezTo>
                  <a:cubicBezTo>
                    <a:pt x="360" y="665"/>
                    <a:pt x="353" y="653"/>
                    <a:pt x="344" y="642"/>
                  </a:cubicBezTo>
                  <a:cubicBezTo>
                    <a:pt x="337" y="632"/>
                    <a:pt x="330" y="621"/>
                    <a:pt x="323" y="610"/>
                  </a:cubicBezTo>
                  <a:cubicBezTo>
                    <a:pt x="323" y="609"/>
                    <a:pt x="323" y="609"/>
                    <a:pt x="322" y="610"/>
                  </a:cubicBezTo>
                  <a:cubicBezTo>
                    <a:pt x="320" y="608"/>
                    <a:pt x="317" y="603"/>
                    <a:pt x="316" y="601"/>
                  </a:cubicBezTo>
                  <a:cubicBezTo>
                    <a:pt x="314" y="598"/>
                    <a:pt x="312" y="594"/>
                    <a:pt x="309" y="591"/>
                  </a:cubicBezTo>
                  <a:cubicBezTo>
                    <a:pt x="306" y="587"/>
                    <a:pt x="302" y="583"/>
                    <a:pt x="298" y="579"/>
                  </a:cubicBezTo>
                  <a:cubicBezTo>
                    <a:pt x="294" y="575"/>
                    <a:pt x="291" y="570"/>
                    <a:pt x="288" y="564"/>
                  </a:cubicBezTo>
                  <a:cubicBezTo>
                    <a:pt x="282" y="554"/>
                    <a:pt x="275" y="544"/>
                    <a:pt x="268" y="534"/>
                  </a:cubicBezTo>
                  <a:cubicBezTo>
                    <a:pt x="265" y="529"/>
                    <a:pt x="262" y="525"/>
                    <a:pt x="258" y="520"/>
                  </a:cubicBezTo>
                  <a:cubicBezTo>
                    <a:pt x="254" y="516"/>
                    <a:pt x="249" y="513"/>
                    <a:pt x="246" y="508"/>
                  </a:cubicBezTo>
                  <a:cubicBezTo>
                    <a:pt x="242" y="503"/>
                    <a:pt x="237" y="496"/>
                    <a:pt x="239" y="490"/>
                  </a:cubicBezTo>
                  <a:cubicBezTo>
                    <a:pt x="241" y="485"/>
                    <a:pt x="244" y="479"/>
                    <a:pt x="249" y="477"/>
                  </a:cubicBezTo>
                  <a:cubicBezTo>
                    <a:pt x="254" y="474"/>
                    <a:pt x="256" y="485"/>
                    <a:pt x="258" y="488"/>
                  </a:cubicBezTo>
                  <a:cubicBezTo>
                    <a:pt x="260" y="493"/>
                    <a:pt x="264" y="499"/>
                    <a:pt x="267" y="503"/>
                  </a:cubicBezTo>
                  <a:cubicBezTo>
                    <a:pt x="275" y="514"/>
                    <a:pt x="283" y="523"/>
                    <a:pt x="290" y="534"/>
                  </a:cubicBezTo>
                  <a:cubicBezTo>
                    <a:pt x="294" y="539"/>
                    <a:pt x="298" y="544"/>
                    <a:pt x="300" y="549"/>
                  </a:cubicBezTo>
                  <a:cubicBezTo>
                    <a:pt x="303" y="554"/>
                    <a:pt x="304" y="560"/>
                    <a:pt x="307" y="564"/>
                  </a:cubicBezTo>
                  <a:cubicBezTo>
                    <a:pt x="307" y="565"/>
                    <a:pt x="308" y="565"/>
                    <a:pt x="308" y="564"/>
                  </a:cubicBezTo>
                  <a:cubicBezTo>
                    <a:pt x="310" y="570"/>
                    <a:pt x="313" y="575"/>
                    <a:pt x="316" y="580"/>
                  </a:cubicBezTo>
                  <a:cubicBezTo>
                    <a:pt x="313" y="583"/>
                    <a:pt x="318" y="586"/>
                    <a:pt x="319" y="589"/>
                  </a:cubicBezTo>
                  <a:cubicBezTo>
                    <a:pt x="322" y="596"/>
                    <a:pt x="324" y="603"/>
                    <a:pt x="331" y="607"/>
                  </a:cubicBezTo>
                  <a:cubicBezTo>
                    <a:pt x="332" y="608"/>
                    <a:pt x="333" y="606"/>
                    <a:pt x="332" y="605"/>
                  </a:cubicBezTo>
                  <a:cubicBezTo>
                    <a:pt x="327" y="600"/>
                    <a:pt x="325" y="595"/>
                    <a:pt x="322" y="589"/>
                  </a:cubicBezTo>
                  <a:cubicBezTo>
                    <a:pt x="322" y="588"/>
                    <a:pt x="321" y="586"/>
                    <a:pt x="320" y="585"/>
                  </a:cubicBezTo>
                  <a:cubicBezTo>
                    <a:pt x="320" y="585"/>
                    <a:pt x="318" y="582"/>
                    <a:pt x="318" y="582"/>
                  </a:cubicBezTo>
                  <a:cubicBezTo>
                    <a:pt x="322" y="582"/>
                    <a:pt x="325" y="578"/>
                    <a:pt x="328" y="576"/>
                  </a:cubicBezTo>
                  <a:cubicBezTo>
                    <a:pt x="333" y="571"/>
                    <a:pt x="338" y="577"/>
                    <a:pt x="341" y="580"/>
                  </a:cubicBezTo>
                  <a:cubicBezTo>
                    <a:pt x="342" y="580"/>
                    <a:pt x="342" y="580"/>
                    <a:pt x="343" y="580"/>
                  </a:cubicBezTo>
                  <a:cubicBezTo>
                    <a:pt x="343" y="583"/>
                    <a:pt x="344" y="585"/>
                    <a:pt x="345" y="587"/>
                  </a:cubicBezTo>
                  <a:cubicBezTo>
                    <a:pt x="346" y="592"/>
                    <a:pt x="346" y="598"/>
                    <a:pt x="346" y="603"/>
                  </a:cubicBezTo>
                  <a:cubicBezTo>
                    <a:pt x="346" y="603"/>
                    <a:pt x="346" y="603"/>
                    <a:pt x="346" y="604"/>
                  </a:cubicBezTo>
                  <a:cubicBezTo>
                    <a:pt x="344" y="606"/>
                    <a:pt x="343" y="608"/>
                    <a:pt x="343" y="611"/>
                  </a:cubicBezTo>
                  <a:cubicBezTo>
                    <a:pt x="343" y="611"/>
                    <a:pt x="343" y="611"/>
                    <a:pt x="343" y="611"/>
                  </a:cubicBezTo>
                  <a:cubicBezTo>
                    <a:pt x="346" y="607"/>
                    <a:pt x="350" y="604"/>
                    <a:pt x="353" y="601"/>
                  </a:cubicBezTo>
                  <a:cubicBezTo>
                    <a:pt x="355" y="600"/>
                    <a:pt x="357" y="598"/>
                    <a:pt x="359" y="596"/>
                  </a:cubicBezTo>
                  <a:cubicBezTo>
                    <a:pt x="358" y="597"/>
                    <a:pt x="357" y="599"/>
                    <a:pt x="356" y="600"/>
                  </a:cubicBezTo>
                  <a:cubicBezTo>
                    <a:pt x="354" y="602"/>
                    <a:pt x="351" y="604"/>
                    <a:pt x="350" y="606"/>
                  </a:cubicBezTo>
                  <a:cubicBezTo>
                    <a:pt x="350" y="607"/>
                    <a:pt x="351" y="607"/>
                    <a:pt x="351" y="607"/>
                  </a:cubicBezTo>
                  <a:cubicBezTo>
                    <a:pt x="355" y="606"/>
                    <a:pt x="358" y="602"/>
                    <a:pt x="360" y="599"/>
                  </a:cubicBezTo>
                  <a:cubicBezTo>
                    <a:pt x="362" y="597"/>
                    <a:pt x="363" y="594"/>
                    <a:pt x="363" y="592"/>
                  </a:cubicBezTo>
                  <a:cubicBezTo>
                    <a:pt x="363" y="592"/>
                    <a:pt x="363" y="591"/>
                    <a:pt x="363" y="591"/>
                  </a:cubicBezTo>
                  <a:cubicBezTo>
                    <a:pt x="365" y="589"/>
                    <a:pt x="367" y="587"/>
                    <a:pt x="368" y="585"/>
                  </a:cubicBezTo>
                  <a:cubicBezTo>
                    <a:pt x="375" y="593"/>
                    <a:pt x="370" y="602"/>
                    <a:pt x="361" y="606"/>
                  </a:cubicBezTo>
                  <a:cubicBezTo>
                    <a:pt x="360" y="607"/>
                    <a:pt x="359" y="607"/>
                    <a:pt x="358" y="608"/>
                  </a:cubicBezTo>
                  <a:cubicBezTo>
                    <a:pt x="360" y="607"/>
                    <a:pt x="361" y="605"/>
                    <a:pt x="363" y="604"/>
                  </a:cubicBezTo>
                  <a:cubicBezTo>
                    <a:pt x="363" y="603"/>
                    <a:pt x="362" y="602"/>
                    <a:pt x="362" y="603"/>
                  </a:cubicBezTo>
                  <a:cubicBezTo>
                    <a:pt x="359" y="605"/>
                    <a:pt x="355" y="606"/>
                    <a:pt x="353" y="609"/>
                  </a:cubicBezTo>
                  <a:cubicBezTo>
                    <a:pt x="353" y="610"/>
                    <a:pt x="353" y="610"/>
                    <a:pt x="354" y="610"/>
                  </a:cubicBezTo>
                  <a:cubicBezTo>
                    <a:pt x="349" y="612"/>
                    <a:pt x="345" y="613"/>
                    <a:pt x="340" y="610"/>
                  </a:cubicBezTo>
                  <a:cubicBezTo>
                    <a:pt x="339" y="609"/>
                    <a:pt x="337" y="611"/>
                    <a:pt x="338" y="613"/>
                  </a:cubicBezTo>
                  <a:cubicBezTo>
                    <a:pt x="346" y="620"/>
                    <a:pt x="360" y="612"/>
                    <a:pt x="367" y="607"/>
                  </a:cubicBezTo>
                  <a:cubicBezTo>
                    <a:pt x="370" y="605"/>
                    <a:pt x="372" y="603"/>
                    <a:pt x="373" y="600"/>
                  </a:cubicBezTo>
                  <a:cubicBezTo>
                    <a:pt x="376" y="604"/>
                    <a:pt x="379" y="608"/>
                    <a:pt x="381" y="612"/>
                  </a:cubicBezTo>
                  <a:cubicBezTo>
                    <a:pt x="387" y="624"/>
                    <a:pt x="391" y="635"/>
                    <a:pt x="396" y="647"/>
                  </a:cubicBezTo>
                  <a:cubicBezTo>
                    <a:pt x="401" y="658"/>
                    <a:pt x="406" y="670"/>
                    <a:pt x="413" y="681"/>
                  </a:cubicBezTo>
                  <a:cubicBezTo>
                    <a:pt x="415" y="684"/>
                    <a:pt x="417" y="687"/>
                    <a:pt x="420" y="691"/>
                  </a:cubicBezTo>
                  <a:cubicBezTo>
                    <a:pt x="420" y="691"/>
                    <a:pt x="420" y="691"/>
                    <a:pt x="420" y="691"/>
                  </a:cubicBezTo>
                  <a:cubicBezTo>
                    <a:pt x="420" y="693"/>
                    <a:pt x="421" y="695"/>
                    <a:pt x="422" y="697"/>
                  </a:cubicBezTo>
                  <a:cubicBezTo>
                    <a:pt x="423" y="698"/>
                    <a:pt x="424" y="701"/>
                    <a:pt x="423" y="703"/>
                  </a:cubicBezTo>
                  <a:cubicBezTo>
                    <a:pt x="423" y="703"/>
                    <a:pt x="423" y="703"/>
                    <a:pt x="424" y="703"/>
                  </a:cubicBezTo>
                  <a:cubicBezTo>
                    <a:pt x="425" y="703"/>
                    <a:pt x="426" y="701"/>
                    <a:pt x="425" y="699"/>
                  </a:cubicBezTo>
                  <a:cubicBezTo>
                    <a:pt x="426" y="700"/>
                    <a:pt x="426" y="701"/>
                    <a:pt x="426" y="702"/>
                  </a:cubicBezTo>
                  <a:cubicBezTo>
                    <a:pt x="426" y="703"/>
                    <a:pt x="426" y="704"/>
                    <a:pt x="427" y="704"/>
                  </a:cubicBezTo>
                  <a:cubicBezTo>
                    <a:pt x="426" y="706"/>
                    <a:pt x="425" y="707"/>
                    <a:pt x="425" y="709"/>
                  </a:cubicBezTo>
                  <a:cubicBezTo>
                    <a:pt x="423" y="713"/>
                    <a:pt x="422" y="717"/>
                    <a:pt x="421" y="721"/>
                  </a:cubicBezTo>
                  <a:close/>
                  <a:moveTo>
                    <a:pt x="468" y="722"/>
                  </a:moveTo>
                  <a:cubicBezTo>
                    <a:pt x="467" y="726"/>
                    <a:pt x="465" y="730"/>
                    <a:pt x="464" y="734"/>
                  </a:cubicBezTo>
                  <a:cubicBezTo>
                    <a:pt x="459" y="741"/>
                    <a:pt x="449" y="744"/>
                    <a:pt x="441" y="742"/>
                  </a:cubicBezTo>
                  <a:cubicBezTo>
                    <a:pt x="435" y="742"/>
                    <a:pt x="429" y="739"/>
                    <a:pt x="426" y="734"/>
                  </a:cubicBezTo>
                  <a:cubicBezTo>
                    <a:pt x="423" y="728"/>
                    <a:pt x="425" y="720"/>
                    <a:pt x="427" y="713"/>
                  </a:cubicBezTo>
                  <a:cubicBezTo>
                    <a:pt x="430" y="706"/>
                    <a:pt x="434" y="699"/>
                    <a:pt x="436" y="691"/>
                  </a:cubicBezTo>
                  <a:cubicBezTo>
                    <a:pt x="439" y="683"/>
                    <a:pt x="442" y="674"/>
                    <a:pt x="444" y="666"/>
                  </a:cubicBezTo>
                  <a:cubicBezTo>
                    <a:pt x="446" y="657"/>
                    <a:pt x="449" y="649"/>
                    <a:pt x="449" y="640"/>
                  </a:cubicBezTo>
                  <a:cubicBezTo>
                    <a:pt x="449" y="634"/>
                    <a:pt x="448" y="627"/>
                    <a:pt x="447" y="621"/>
                  </a:cubicBezTo>
                  <a:cubicBezTo>
                    <a:pt x="448" y="621"/>
                    <a:pt x="448" y="621"/>
                    <a:pt x="448" y="621"/>
                  </a:cubicBezTo>
                  <a:cubicBezTo>
                    <a:pt x="455" y="622"/>
                    <a:pt x="459" y="627"/>
                    <a:pt x="465" y="631"/>
                  </a:cubicBezTo>
                  <a:cubicBezTo>
                    <a:pt x="470" y="633"/>
                    <a:pt x="475" y="635"/>
                    <a:pt x="480" y="637"/>
                  </a:cubicBezTo>
                  <a:cubicBezTo>
                    <a:pt x="485" y="639"/>
                    <a:pt x="490" y="641"/>
                    <a:pt x="496" y="642"/>
                  </a:cubicBezTo>
                  <a:cubicBezTo>
                    <a:pt x="493" y="644"/>
                    <a:pt x="491" y="648"/>
                    <a:pt x="490" y="650"/>
                  </a:cubicBezTo>
                  <a:cubicBezTo>
                    <a:pt x="486" y="657"/>
                    <a:pt x="484" y="664"/>
                    <a:pt x="482" y="672"/>
                  </a:cubicBezTo>
                  <a:cubicBezTo>
                    <a:pt x="479" y="684"/>
                    <a:pt x="476" y="695"/>
                    <a:pt x="472" y="707"/>
                  </a:cubicBezTo>
                  <a:cubicBezTo>
                    <a:pt x="470" y="712"/>
                    <a:pt x="469" y="716"/>
                    <a:pt x="468" y="722"/>
                  </a:cubicBezTo>
                  <a:close/>
                  <a:moveTo>
                    <a:pt x="641" y="696"/>
                  </a:moveTo>
                  <a:cubicBezTo>
                    <a:pt x="632" y="703"/>
                    <a:pt x="622" y="708"/>
                    <a:pt x="613" y="714"/>
                  </a:cubicBezTo>
                  <a:cubicBezTo>
                    <a:pt x="594" y="725"/>
                    <a:pt x="577" y="737"/>
                    <a:pt x="559" y="748"/>
                  </a:cubicBezTo>
                  <a:cubicBezTo>
                    <a:pt x="541" y="760"/>
                    <a:pt x="523" y="773"/>
                    <a:pt x="505" y="785"/>
                  </a:cubicBezTo>
                  <a:cubicBezTo>
                    <a:pt x="490" y="795"/>
                    <a:pt x="474" y="803"/>
                    <a:pt x="458" y="811"/>
                  </a:cubicBezTo>
                  <a:cubicBezTo>
                    <a:pt x="459" y="789"/>
                    <a:pt x="468" y="767"/>
                    <a:pt x="466" y="745"/>
                  </a:cubicBezTo>
                  <a:cubicBezTo>
                    <a:pt x="467" y="744"/>
                    <a:pt x="469" y="742"/>
                    <a:pt x="470" y="740"/>
                  </a:cubicBezTo>
                  <a:cubicBezTo>
                    <a:pt x="474" y="733"/>
                    <a:pt x="475" y="722"/>
                    <a:pt x="473" y="714"/>
                  </a:cubicBezTo>
                  <a:cubicBezTo>
                    <a:pt x="476" y="703"/>
                    <a:pt x="481" y="691"/>
                    <a:pt x="484" y="680"/>
                  </a:cubicBezTo>
                  <a:cubicBezTo>
                    <a:pt x="486" y="673"/>
                    <a:pt x="487" y="666"/>
                    <a:pt x="489" y="659"/>
                  </a:cubicBezTo>
                  <a:cubicBezTo>
                    <a:pt x="491" y="655"/>
                    <a:pt x="492" y="651"/>
                    <a:pt x="495" y="648"/>
                  </a:cubicBezTo>
                  <a:cubicBezTo>
                    <a:pt x="497" y="645"/>
                    <a:pt x="498" y="644"/>
                    <a:pt x="501" y="643"/>
                  </a:cubicBezTo>
                  <a:cubicBezTo>
                    <a:pt x="504" y="643"/>
                    <a:pt x="508" y="642"/>
                    <a:pt x="511" y="640"/>
                  </a:cubicBezTo>
                  <a:cubicBezTo>
                    <a:pt x="516" y="638"/>
                    <a:pt x="521" y="631"/>
                    <a:pt x="519" y="625"/>
                  </a:cubicBezTo>
                  <a:cubicBezTo>
                    <a:pt x="520" y="625"/>
                    <a:pt x="521" y="625"/>
                    <a:pt x="522" y="625"/>
                  </a:cubicBezTo>
                  <a:cubicBezTo>
                    <a:pt x="527" y="624"/>
                    <a:pt x="529" y="615"/>
                    <a:pt x="530" y="611"/>
                  </a:cubicBezTo>
                  <a:cubicBezTo>
                    <a:pt x="534" y="600"/>
                    <a:pt x="541" y="593"/>
                    <a:pt x="550" y="586"/>
                  </a:cubicBezTo>
                  <a:cubicBezTo>
                    <a:pt x="558" y="578"/>
                    <a:pt x="566" y="569"/>
                    <a:pt x="574" y="560"/>
                  </a:cubicBezTo>
                  <a:cubicBezTo>
                    <a:pt x="581" y="552"/>
                    <a:pt x="590" y="545"/>
                    <a:pt x="598" y="537"/>
                  </a:cubicBezTo>
                  <a:cubicBezTo>
                    <a:pt x="605" y="530"/>
                    <a:pt x="612" y="523"/>
                    <a:pt x="618" y="515"/>
                  </a:cubicBezTo>
                  <a:cubicBezTo>
                    <a:pt x="619" y="514"/>
                    <a:pt x="623" y="508"/>
                    <a:pt x="625" y="505"/>
                  </a:cubicBezTo>
                  <a:cubicBezTo>
                    <a:pt x="628" y="504"/>
                    <a:pt x="630" y="504"/>
                    <a:pt x="633" y="503"/>
                  </a:cubicBezTo>
                  <a:cubicBezTo>
                    <a:pt x="640" y="501"/>
                    <a:pt x="646" y="498"/>
                    <a:pt x="653" y="496"/>
                  </a:cubicBezTo>
                  <a:cubicBezTo>
                    <a:pt x="665" y="491"/>
                    <a:pt x="678" y="486"/>
                    <a:pt x="690" y="480"/>
                  </a:cubicBezTo>
                  <a:cubicBezTo>
                    <a:pt x="696" y="477"/>
                    <a:pt x="703" y="473"/>
                    <a:pt x="708" y="467"/>
                  </a:cubicBezTo>
                  <a:cubicBezTo>
                    <a:pt x="708" y="472"/>
                    <a:pt x="709" y="476"/>
                    <a:pt x="710" y="480"/>
                  </a:cubicBezTo>
                  <a:cubicBezTo>
                    <a:pt x="712" y="487"/>
                    <a:pt x="713" y="493"/>
                    <a:pt x="715" y="500"/>
                  </a:cubicBezTo>
                  <a:cubicBezTo>
                    <a:pt x="718" y="512"/>
                    <a:pt x="722" y="524"/>
                    <a:pt x="727" y="536"/>
                  </a:cubicBezTo>
                  <a:cubicBezTo>
                    <a:pt x="729" y="540"/>
                    <a:pt x="731" y="544"/>
                    <a:pt x="734" y="548"/>
                  </a:cubicBezTo>
                  <a:cubicBezTo>
                    <a:pt x="727" y="552"/>
                    <a:pt x="723" y="566"/>
                    <a:pt x="721" y="572"/>
                  </a:cubicBezTo>
                  <a:cubicBezTo>
                    <a:pt x="715" y="588"/>
                    <a:pt x="708" y="604"/>
                    <a:pt x="704" y="621"/>
                  </a:cubicBezTo>
                  <a:cubicBezTo>
                    <a:pt x="702" y="628"/>
                    <a:pt x="701" y="635"/>
                    <a:pt x="699" y="641"/>
                  </a:cubicBezTo>
                  <a:cubicBezTo>
                    <a:pt x="699" y="641"/>
                    <a:pt x="698" y="641"/>
                    <a:pt x="698" y="641"/>
                  </a:cubicBezTo>
                  <a:cubicBezTo>
                    <a:pt x="686" y="644"/>
                    <a:pt x="678" y="657"/>
                    <a:pt x="678" y="669"/>
                  </a:cubicBezTo>
                  <a:cubicBezTo>
                    <a:pt x="678" y="669"/>
                    <a:pt x="677" y="669"/>
                    <a:pt x="677" y="669"/>
                  </a:cubicBezTo>
                  <a:cubicBezTo>
                    <a:pt x="672" y="671"/>
                    <a:pt x="666" y="675"/>
                    <a:pt x="662" y="680"/>
                  </a:cubicBezTo>
                  <a:cubicBezTo>
                    <a:pt x="654" y="684"/>
                    <a:pt x="648" y="691"/>
                    <a:pt x="641" y="696"/>
                  </a:cubicBezTo>
                  <a:close/>
                  <a:moveTo>
                    <a:pt x="695" y="680"/>
                  </a:moveTo>
                  <a:cubicBezTo>
                    <a:pt x="690" y="676"/>
                    <a:pt x="687" y="671"/>
                    <a:pt x="688" y="664"/>
                  </a:cubicBezTo>
                  <a:cubicBezTo>
                    <a:pt x="688" y="657"/>
                    <a:pt x="692" y="652"/>
                    <a:pt x="697" y="648"/>
                  </a:cubicBezTo>
                  <a:cubicBezTo>
                    <a:pt x="695" y="652"/>
                    <a:pt x="694" y="657"/>
                    <a:pt x="693" y="662"/>
                  </a:cubicBezTo>
                  <a:cubicBezTo>
                    <a:pt x="692" y="668"/>
                    <a:pt x="692" y="674"/>
                    <a:pt x="695" y="680"/>
                  </a:cubicBezTo>
                  <a:close/>
                  <a:moveTo>
                    <a:pt x="698" y="685"/>
                  </a:moveTo>
                  <a:cubicBezTo>
                    <a:pt x="698" y="685"/>
                    <a:pt x="698" y="685"/>
                    <a:pt x="698" y="685"/>
                  </a:cubicBezTo>
                  <a:cubicBezTo>
                    <a:pt x="698" y="685"/>
                    <a:pt x="698" y="685"/>
                    <a:pt x="698" y="685"/>
                  </a:cubicBezTo>
                  <a:cubicBezTo>
                    <a:pt x="698" y="686"/>
                    <a:pt x="698" y="686"/>
                    <a:pt x="697" y="687"/>
                  </a:cubicBezTo>
                  <a:cubicBezTo>
                    <a:pt x="697" y="687"/>
                    <a:pt x="697" y="687"/>
                    <a:pt x="697" y="687"/>
                  </a:cubicBezTo>
                  <a:cubicBezTo>
                    <a:pt x="686" y="688"/>
                    <a:pt x="681" y="677"/>
                    <a:pt x="681" y="668"/>
                  </a:cubicBezTo>
                  <a:cubicBezTo>
                    <a:pt x="681" y="663"/>
                    <a:pt x="683" y="658"/>
                    <a:pt x="685" y="654"/>
                  </a:cubicBezTo>
                  <a:cubicBezTo>
                    <a:pt x="687" y="652"/>
                    <a:pt x="689" y="649"/>
                    <a:pt x="691" y="648"/>
                  </a:cubicBezTo>
                  <a:cubicBezTo>
                    <a:pt x="693" y="646"/>
                    <a:pt x="696" y="644"/>
                    <a:pt x="698" y="643"/>
                  </a:cubicBezTo>
                  <a:cubicBezTo>
                    <a:pt x="698" y="643"/>
                    <a:pt x="698" y="644"/>
                    <a:pt x="698" y="644"/>
                  </a:cubicBezTo>
                  <a:cubicBezTo>
                    <a:pt x="698" y="644"/>
                    <a:pt x="698" y="644"/>
                    <a:pt x="697" y="644"/>
                  </a:cubicBezTo>
                  <a:cubicBezTo>
                    <a:pt x="682" y="651"/>
                    <a:pt x="679" y="679"/>
                    <a:pt x="698" y="685"/>
                  </a:cubicBezTo>
                  <a:close/>
                  <a:moveTo>
                    <a:pt x="692" y="713"/>
                  </a:moveTo>
                  <a:cubicBezTo>
                    <a:pt x="685" y="716"/>
                    <a:pt x="675" y="721"/>
                    <a:pt x="668" y="716"/>
                  </a:cubicBezTo>
                  <a:cubicBezTo>
                    <a:pt x="650" y="704"/>
                    <a:pt x="661" y="679"/>
                    <a:pt x="678" y="673"/>
                  </a:cubicBezTo>
                  <a:cubicBezTo>
                    <a:pt x="679" y="683"/>
                    <a:pt x="686" y="692"/>
                    <a:pt x="697" y="690"/>
                  </a:cubicBezTo>
                  <a:cubicBezTo>
                    <a:pt x="697" y="695"/>
                    <a:pt x="699" y="701"/>
                    <a:pt x="701" y="704"/>
                  </a:cubicBezTo>
                  <a:cubicBezTo>
                    <a:pt x="703" y="706"/>
                    <a:pt x="704" y="708"/>
                    <a:pt x="706" y="709"/>
                  </a:cubicBezTo>
                  <a:cubicBezTo>
                    <a:pt x="701" y="709"/>
                    <a:pt x="695" y="712"/>
                    <a:pt x="692" y="713"/>
                  </a:cubicBezTo>
                  <a:close/>
                  <a:moveTo>
                    <a:pt x="704" y="702"/>
                  </a:moveTo>
                  <a:cubicBezTo>
                    <a:pt x="704" y="702"/>
                    <a:pt x="704" y="702"/>
                    <a:pt x="704" y="701"/>
                  </a:cubicBezTo>
                  <a:cubicBezTo>
                    <a:pt x="702" y="698"/>
                    <a:pt x="701" y="695"/>
                    <a:pt x="701" y="691"/>
                  </a:cubicBezTo>
                  <a:cubicBezTo>
                    <a:pt x="701" y="690"/>
                    <a:pt x="701" y="689"/>
                    <a:pt x="701" y="687"/>
                  </a:cubicBezTo>
                  <a:cubicBezTo>
                    <a:pt x="702" y="688"/>
                    <a:pt x="702" y="688"/>
                    <a:pt x="703" y="689"/>
                  </a:cubicBezTo>
                  <a:cubicBezTo>
                    <a:pt x="702" y="693"/>
                    <a:pt x="702" y="699"/>
                    <a:pt x="704" y="702"/>
                  </a:cubicBezTo>
                  <a:close/>
                  <a:moveTo>
                    <a:pt x="706" y="685"/>
                  </a:moveTo>
                  <a:cubicBezTo>
                    <a:pt x="700" y="687"/>
                    <a:pt x="696" y="674"/>
                    <a:pt x="696" y="669"/>
                  </a:cubicBezTo>
                  <a:cubicBezTo>
                    <a:pt x="696" y="664"/>
                    <a:pt x="697" y="659"/>
                    <a:pt x="698" y="654"/>
                  </a:cubicBezTo>
                  <a:cubicBezTo>
                    <a:pt x="702" y="642"/>
                    <a:pt x="705" y="629"/>
                    <a:pt x="708" y="616"/>
                  </a:cubicBezTo>
                  <a:cubicBezTo>
                    <a:pt x="712" y="602"/>
                    <a:pt x="718" y="588"/>
                    <a:pt x="723" y="574"/>
                  </a:cubicBezTo>
                  <a:cubicBezTo>
                    <a:pt x="725" y="569"/>
                    <a:pt x="727" y="564"/>
                    <a:pt x="729" y="559"/>
                  </a:cubicBezTo>
                  <a:cubicBezTo>
                    <a:pt x="731" y="556"/>
                    <a:pt x="733" y="553"/>
                    <a:pt x="735" y="551"/>
                  </a:cubicBezTo>
                  <a:cubicBezTo>
                    <a:pt x="736" y="551"/>
                    <a:pt x="736" y="552"/>
                    <a:pt x="737" y="553"/>
                  </a:cubicBezTo>
                  <a:cubicBezTo>
                    <a:pt x="731" y="556"/>
                    <a:pt x="731" y="564"/>
                    <a:pt x="728" y="569"/>
                  </a:cubicBezTo>
                  <a:cubicBezTo>
                    <a:pt x="726" y="574"/>
                    <a:pt x="724" y="580"/>
                    <a:pt x="724" y="586"/>
                  </a:cubicBezTo>
                  <a:cubicBezTo>
                    <a:pt x="724" y="586"/>
                    <a:pt x="724" y="587"/>
                    <a:pt x="724" y="586"/>
                  </a:cubicBezTo>
                  <a:cubicBezTo>
                    <a:pt x="726" y="581"/>
                    <a:pt x="728" y="576"/>
                    <a:pt x="729" y="570"/>
                  </a:cubicBezTo>
                  <a:cubicBezTo>
                    <a:pt x="730" y="566"/>
                    <a:pt x="732" y="563"/>
                    <a:pt x="734" y="559"/>
                  </a:cubicBezTo>
                  <a:cubicBezTo>
                    <a:pt x="735" y="558"/>
                    <a:pt x="736" y="555"/>
                    <a:pt x="737" y="554"/>
                  </a:cubicBezTo>
                  <a:cubicBezTo>
                    <a:pt x="741" y="559"/>
                    <a:pt x="745" y="565"/>
                    <a:pt x="750" y="570"/>
                  </a:cubicBezTo>
                  <a:cubicBezTo>
                    <a:pt x="748" y="571"/>
                    <a:pt x="746" y="578"/>
                    <a:pt x="746" y="579"/>
                  </a:cubicBezTo>
                  <a:cubicBezTo>
                    <a:pt x="743" y="585"/>
                    <a:pt x="740" y="591"/>
                    <a:pt x="736" y="598"/>
                  </a:cubicBezTo>
                  <a:cubicBezTo>
                    <a:pt x="733" y="605"/>
                    <a:pt x="729" y="612"/>
                    <a:pt x="726" y="619"/>
                  </a:cubicBezTo>
                  <a:cubicBezTo>
                    <a:pt x="722" y="627"/>
                    <a:pt x="717" y="634"/>
                    <a:pt x="712" y="642"/>
                  </a:cubicBezTo>
                  <a:cubicBezTo>
                    <a:pt x="711" y="642"/>
                    <a:pt x="712" y="643"/>
                    <a:pt x="712" y="643"/>
                  </a:cubicBezTo>
                  <a:cubicBezTo>
                    <a:pt x="708" y="648"/>
                    <a:pt x="707" y="654"/>
                    <a:pt x="708" y="660"/>
                  </a:cubicBezTo>
                  <a:cubicBezTo>
                    <a:pt x="709" y="663"/>
                    <a:pt x="711" y="666"/>
                    <a:pt x="714" y="668"/>
                  </a:cubicBezTo>
                  <a:cubicBezTo>
                    <a:pt x="716" y="670"/>
                    <a:pt x="720" y="671"/>
                    <a:pt x="722" y="671"/>
                  </a:cubicBezTo>
                  <a:cubicBezTo>
                    <a:pt x="723" y="671"/>
                    <a:pt x="723" y="671"/>
                    <a:pt x="723" y="670"/>
                  </a:cubicBezTo>
                  <a:cubicBezTo>
                    <a:pt x="720" y="673"/>
                    <a:pt x="717" y="677"/>
                    <a:pt x="714" y="680"/>
                  </a:cubicBezTo>
                  <a:cubicBezTo>
                    <a:pt x="713" y="681"/>
                    <a:pt x="712" y="682"/>
                    <a:pt x="711" y="683"/>
                  </a:cubicBezTo>
                  <a:cubicBezTo>
                    <a:pt x="711" y="683"/>
                    <a:pt x="711" y="683"/>
                    <a:pt x="710" y="683"/>
                  </a:cubicBezTo>
                  <a:cubicBezTo>
                    <a:pt x="705" y="682"/>
                    <a:pt x="702" y="673"/>
                    <a:pt x="702" y="668"/>
                  </a:cubicBezTo>
                  <a:cubicBezTo>
                    <a:pt x="702" y="667"/>
                    <a:pt x="701" y="667"/>
                    <a:pt x="701" y="668"/>
                  </a:cubicBezTo>
                  <a:cubicBezTo>
                    <a:pt x="700" y="674"/>
                    <a:pt x="701" y="681"/>
                    <a:pt x="706" y="685"/>
                  </a:cubicBezTo>
                  <a:close/>
                  <a:moveTo>
                    <a:pt x="789" y="596"/>
                  </a:moveTo>
                  <a:cubicBezTo>
                    <a:pt x="778" y="622"/>
                    <a:pt x="756" y="644"/>
                    <a:pt x="733" y="660"/>
                  </a:cubicBezTo>
                  <a:cubicBezTo>
                    <a:pt x="734" y="658"/>
                    <a:pt x="734" y="655"/>
                    <a:pt x="736" y="653"/>
                  </a:cubicBezTo>
                  <a:cubicBezTo>
                    <a:pt x="738" y="649"/>
                    <a:pt x="741" y="646"/>
                    <a:pt x="744" y="643"/>
                  </a:cubicBezTo>
                  <a:cubicBezTo>
                    <a:pt x="749" y="637"/>
                    <a:pt x="753" y="631"/>
                    <a:pt x="758" y="625"/>
                  </a:cubicBezTo>
                  <a:cubicBezTo>
                    <a:pt x="762" y="618"/>
                    <a:pt x="767" y="610"/>
                    <a:pt x="772" y="604"/>
                  </a:cubicBezTo>
                  <a:cubicBezTo>
                    <a:pt x="775" y="600"/>
                    <a:pt x="779" y="596"/>
                    <a:pt x="779" y="591"/>
                  </a:cubicBezTo>
                  <a:cubicBezTo>
                    <a:pt x="782" y="593"/>
                    <a:pt x="786" y="595"/>
                    <a:pt x="789" y="596"/>
                  </a:cubicBezTo>
                  <a:cubicBezTo>
                    <a:pt x="789" y="596"/>
                    <a:pt x="789" y="596"/>
                    <a:pt x="789" y="596"/>
                  </a:cubicBezTo>
                  <a:close/>
                  <a:moveTo>
                    <a:pt x="792" y="597"/>
                  </a:moveTo>
                  <a:cubicBezTo>
                    <a:pt x="794" y="598"/>
                    <a:pt x="795" y="598"/>
                    <a:pt x="797" y="599"/>
                  </a:cubicBezTo>
                  <a:cubicBezTo>
                    <a:pt x="794" y="610"/>
                    <a:pt x="784" y="618"/>
                    <a:pt x="776" y="625"/>
                  </a:cubicBezTo>
                  <a:cubicBezTo>
                    <a:pt x="775" y="626"/>
                    <a:pt x="775" y="626"/>
                    <a:pt x="774" y="627"/>
                  </a:cubicBezTo>
                  <a:cubicBezTo>
                    <a:pt x="781" y="618"/>
                    <a:pt x="788" y="608"/>
                    <a:pt x="792" y="597"/>
                  </a:cubicBezTo>
                  <a:close/>
                  <a:moveTo>
                    <a:pt x="777" y="590"/>
                  </a:moveTo>
                  <a:cubicBezTo>
                    <a:pt x="776" y="596"/>
                    <a:pt x="769" y="603"/>
                    <a:pt x="765" y="608"/>
                  </a:cubicBezTo>
                  <a:cubicBezTo>
                    <a:pt x="761" y="615"/>
                    <a:pt x="756" y="621"/>
                    <a:pt x="751" y="628"/>
                  </a:cubicBezTo>
                  <a:cubicBezTo>
                    <a:pt x="746" y="634"/>
                    <a:pt x="741" y="640"/>
                    <a:pt x="736" y="647"/>
                  </a:cubicBezTo>
                  <a:cubicBezTo>
                    <a:pt x="732" y="652"/>
                    <a:pt x="730" y="658"/>
                    <a:pt x="727" y="664"/>
                  </a:cubicBezTo>
                  <a:cubicBezTo>
                    <a:pt x="727" y="664"/>
                    <a:pt x="727" y="664"/>
                    <a:pt x="727" y="664"/>
                  </a:cubicBezTo>
                  <a:cubicBezTo>
                    <a:pt x="726" y="665"/>
                    <a:pt x="724" y="667"/>
                    <a:pt x="722" y="667"/>
                  </a:cubicBezTo>
                  <a:cubicBezTo>
                    <a:pt x="720" y="666"/>
                    <a:pt x="717" y="666"/>
                    <a:pt x="715" y="665"/>
                  </a:cubicBezTo>
                  <a:cubicBezTo>
                    <a:pt x="713" y="663"/>
                    <a:pt x="712" y="660"/>
                    <a:pt x="712" y="657"/>
                  </a:cubicBezTo>
                  <a:cubicBezTo>
                    <a:pt x="711" y="653"/>
                    <a:pt x="713" y="648"/>
                    <a:pt x="714" y="644"/>
                  </a:cubicBezTo>
                  <a:cubicBezTo>
                    <a:pt x="724" y="634"/>
                    <a:pt x="732" y="623"/>
                    <a:pt x="740" y="611"/>
                  </a:cubicBezTo>
                  <a:cubicBezTo>
                    <a:pt x="744" y="605"/>
                    <a:pt x="748" y="599"/>
                    <a:pt x="752" y="593"/>
                  </a:cubicBezTo>
                  <a:cubicBezTo>
                    <a:pt x="756" y="589"/>
                    <a:pt x="760" y="585"/>
                    <a:pt x="762" y="580"/>
                  </a:cubicBezTo>
                  <a:cubicBezTo>
                    <a:pt x="765" y="582"/>
                    <a:pt x="768" y="584"/>
                    <a:pt x="772" y="586"/>
                  </a:cubicBezTo>
                  <a:cubicBezTo>
                    <a:pt x="773" y="587"/>
                    <a:pt x="775" y="588"/>
                    <a:pt x="777" y="589"/>
                  </a:cubicBezTo>
                  <a:cubicBezTo>
                    <a:pt x="777" y="589"/>
                    <a:pt x="777" y="589"/>
                    <a:pt x="777" y="590"/>
                  </a:cubicBezTo>
                  <a:close/>
                  <a:moveTo>
                    <a:pt x="749" y="591"/>
                  </a:moveTo>
                  <a:cubicBezTo>
                    <a:pt x="745" y="597"/>
                    <a:pt x="741" y="603"/>
                    <a:pt x="737" y="610"/>
                  </a:cubicBezTo>
                  <a:cubicBezTo>
                    <a:pt x="734" y="614"/>
                    <a:pt x="731" y="619"/>
                    <a:pt x="728" y="623"/>
                  </a:cubicBezTo>
                  <a:cubicBezTo>
                    <a:pt x="728" y="622"/>
                    <a:pt x="729" y="621"/>
                    <a:pt x="729" y="621"/>
                  </a:cubicBezTo>
                  <a:cubicBezTo>
                    <a:pt x="732" y="614"/>
                    <a:pt x="735" y="606"/>
                    <a:pt x="739" y="600"/>
                  </a:cubicBezTo>
                  <a:cubicBezTo>
                    <a:pt x="742" y="593"/>
                    <a:pt x="746" y="587"/>
                    <a:pt x="749" y="580"/>
                  </a:cubicBezTo>
                  <a:cubicBezTo>
                    <a:pt x="750" y="579"/>
                    <a:pt x="752" y="574"/>
                    <a:pt x="752" y="571"/>
                  </a:cubicBezTo>
                  <a:cubicBezTo>
                    <a:pt x="754" y="574"/>
                    <a:pt x="757" y="576"/>
                    <a:pt x="760" y="578"/>
                  </a:cubicBezTo>
                  <a:cubicBezTo>
                    <a:pt x="756" y="582"/>
                    <a:pt x="753" y="587"/>
                    <a:pt x="749" y="591"/>
                  </a:cubicBezTo>
                  <a:close/>
                  <a:moveTo>
                    <a:pt x="744" y="695"/>
                  </a:moveTo>
                  <a:cubicBezTo>
                    <a:pt x="743" y="697"/>
                    <a:pt x="741" y="699"/>
                    <a:pt x="740" y="701"/>
                  </a:cubicBezTo>
                  <a:cubicBezTo>
                    <a:pt x="735" y="706"/>
                    <a:pt x="729" y="709"/>
                    <a:pt x="722" y="708"/>
                  </a:cubicBezTo>
                  <a:cubicBezTo>
                    <a:pt x="717" y="708"/>
                    <a:pt x="713" y="707"/>
                    <a:pt x="709" y="704"/>
                  </a:cubicBezTo>
                  <a:cubicBezTo>
                    <a:pt x="714" y="706"/>
                    <a:pt x="720" y="705"/>
                    <a:pt x="724" y="704"/>
                  </a:cubicBezTo>
                  <a:cubicBezTo>
                    <a:pt x="731" y="701"/>
                    <a:pt x="738" y="697"/>
                    <a:pt x="744" y="693"/>
                  </a:cubicBezTo>
                  <a:cubicBezTo>
                    <a:pt x="744" y="694"/>
                    <a:pt x="744" y="694"/>
                    <a:pt x="744" y="695"/>
                  </a:cubicBezTo>
                  <a:close/>
                  <a:moveTo>
                    <a:pt x="821" y="625"/>
                  </a:moveTo>
                  <a:cubicBezTo>
                    <a:pt x="821" y="625"/>
                    <a:pt x="821" y="625"/>
                    <a:pt x="820" y="625"/>
                  </a:cubicBezTo>
                  <a:cubicBezTo>
                    <a:pt x="811" y="635"/>
                    <a:pt x="800" y="644"/>
                    <a:pt x="789" y="653"/>
                  </a:cubicBezTo>
                  <a:cubicBezTo>
                    <a:pt x="779" y="662"/>
                    <a:pt x="768" y="671"/>
                    <a:pt x="757" y="679"/>
                  </a:cubicBezTo>
                  <a:cubicBezTo>
                    <a:pt x="748" y="686"/>
                    <a:pt x="738" y="694"/>
                    <a:pt x="727" y="699"/>
                  </a:cubicBezTo>
                  <a:cubicBezTo>
                    <a:pt x="722" y="701"/>
                    <a:pt x="718" y="702"/>
                    <a:pt x="713" y="702"/>
                  </a:cubicBezTo>
                  <a:cubicBezTo>
                    <a:pt x="709" y="701"/>
                    <a:pt x="706" y="699"/>
                    <a:pt x="708" y="694"/>
                  </a:cubicBezTo>
                  <a:cubicBezTo>
                    <a:pt x="710" y="688"/>
                    <a:pt x="716" y="683"/>
                    <a:pt x="720" y="678"/>
                  </a:cubicBezTo>
                  <a:cubicBezTo>
                    <a:pt x="725" y="673"/>
                    <a:pt x="730" y="669"/>
                    <a:pt x="735" y="664"/>
                  </a:cubicBezTo>
                  <a:cubicBezTo>
                    <a:pt x="745" y="656"/>
                    <a:pt x="755" y="648"/>
                    <a:pt x="765" y="640"/>
                  </a:cubicBezTo>
                  <a:cubicBezTo>
                    <a:pt x="772" y="633"/>
                    <a:pt x="780" y="627"/>
                    <a:pt x="787" y="620"/>
                  </a:cubicBezTo>
                  <a:cubicBezTo>
                    <a:pt x="792" y="614"/>
                    <a:pt x="798" y="608"/>
                    <a:pt x="800" y="599"/>
                  </a:cubicBezTo>
                  <a:cubicBezTo>
                    <a:pt x="801" y="599"/>
                    <a:pt x="802" y="599"/>
                    <a:pt x="803" y="599"/>
                  </a:cubicBezTo>
                  <a:cubicBezTo>
                    <a:pt x="807" y="600"/>
                    <a:pt x="812" y="599"/>
                    <a:pt x="817" y="599"/>
                  </a:cubicBezTo>
                  <a:cubicBezTo>
                    <a:pt x="820" y="599"/>
                    <a:pt x="822" y="599"/>
                    <a:pt x="824" y="598"/>
                  </a:cubicBezTo>
                  <a:cubicBezTo>
                    <a:pt x="822" y="607"/>
                    <a:pt x="821" y="615"/>
                    <a:pt x="821" y="625"/>
                  </a:cubicBezTo>
                  <a:close/>
                  <a:moveTo>
                    <a:pt x="824" y="594"/>
                  </a:moveTo>
                  <a:cubicBezTo>
                    <a:pt x="820" y="597"/>
                    <a:pt x="814" y="595"/>
                    <a:pt x="810" y="596"/>
                  </a:cubicBezTo>
                  <a:cubicBezTo>
                    <a:pt x="806" y="596"/>
                    <a:pt x="802" y="596"/>
                    <a:pt x="797" y="595"/>
                  </a:cubicBezTo>
                  <a:cubicBezTo>
                    <a:pt x="787" y="592"/>
                    <a:pt x="776" y="586"/>
                    <a:pt x="767" y="580"/>
                  </a:cubicBezTo>
                  <a:cubicBezTo>
                    <a:pt x="750" y="569"/>
                    <a:pt x="737" y="550"/>
                    <a:pt x="730" y="532"/>
                  </a:cubicBezTo>
                  <a:cubicBezTo>
                    <a:pt x="727" y="527"/>
                    <a:pt x="725" y="522"/>
                    <a:pt x="724" y="516"/>
                  </a:cubicBezTo>
                  <a:cubicBezTo>
                    <a:pt x="724" y="516"/>
                    <a:pt x="724" y="516"/>
                    <a:pt x="724" y="516"/>
                  </a:cubicBezTo>
                  <a:cubicBezTo>
                    <a:pt x="717" y="496"/>
                    <a:pt x="713" y="474"/>
                    <a:pt x="718" y="453"/>
                  </a:cubicBezTo>
                  <a:cubicBezTo>
                    <a:pt x="720" y="442"/>
                    <a:pt x="724" y="430"/>
                    <a:pt x="732" y="422"/>
                  </a:cubicBezTo>
                  <a:cubicBezTo>
                    <a:pt x="736" y="419"/>
                    <a:pt x="740" y="418"/>
                    <a:pt x="744" y="415"/>
                  </a:cubicBezTo>
                  <a:cubicBezTo>
                    <a:pt x="745" y="414"/>
                    <a:pt x="746" y="414"/>
                    <a:pt x="747" y="413"/>
                  </a:cubicBezTo>
                  <a:cubicBezTo>
                    <a:pt x="750" y="412"/>
                    <a:pt x="753" y="412"/>
                    <a:pt x="755" y="411"/>
                  </a:cubicBezTo>
                  <a:cubicBezTo>
                    <a:pt x="769" y="409"/>
                    <a:pt x="782" y="405"/>
                    <a:pt x="795" y="399"/>
                  </a:cubicBezTo>
                  <a:cubicBezTo>
                    <a:pt x="796" y="399"/>
                    <a:pt x="796" y="399"/>
                    <a:pt x="797" y="398"/>
                  </a:cubicBezTo>
                  <a:cubicBezTo>
                    <a:pt x="803" y="397"/>
                    <a:pt x="808" y="394"/>
                    <a:pt x="815" y="395"/>
                  </a:cubicBezTo>
                  <a:cubicBezTo>
                    <a:pt x="816" y="396"/>
                    <a:pt x="817" y="396"/>
                    <a:pt x="817" y="396"/>
                  </a:cubicBezTo>
                  <a:cubicBezTo>
                    <a:pt x="822" y="397"/>
                    <a:pt x="827" y="398"/>
                    <a:pt x="831" y="399"/>
                  </a:cubicBezTo>
                  <a:cubicBezTo>
                    <a:pt x="840" y="402"/>
                    <a:pt x="848" y="406"/>
                    <a:pt x="854" y="412"/>
                  </a:cubicBezTo>
                  <a:cubicBezTo>
                    <a:pt x="866" y="423"/>
                    <a:pt x="879" y="437"/>
                    <a:pt x="884" y="452"/>
                  </a:cubicBezTo>
                  <a:cubicBezTo>
                    <a:pt x="889" y="470"/>
                    <a:pt x="892" y="490"/>
                    <a:pt x="890" y="509"/>
                  </a:cubicBezTo>
                  <a:cubicBezTo>
                    <a:pt x="890" y="517"/>
                    <a:pt x="888" y="525"/>
                    <a:pt x="887" y="534"/>
                  </a:cubicBezTo>
                  <a:cubicBezTo>
                    <a:pt x="887" y="540"/>
                    <a:pt x="887" y="547"/>
                    <a:pt x="885" y="553"/>
                  </a:cubicBezTo>
                  <a:cubicBezTo>
                    <a:pt x="879" y="543"/>
                    <a:pt x="866" y="539"/>
                    <a:pt x="857" y="548"/>
                  </a:cubicBezTo>
                  <a:cubicBezTo>
                    <a:pt x="846" y="558"/>
                    <a:pt x="834" y="567"/>
                    <a:pt x="829" y="582"/>
                  </a:cubicBezTo>
                  <a:cubicBezTo>
                    <a:pt x="827" y="586"/>
                    <a:pt x="826" y="590"/>
                    <a:pt x="825" y="594"/>
                  </a:cubicBezTo>
                  <a:cubicBezTo>
                    <a:pt x="825" y="594"/>
                    <a:pt x="824" y="594"/>
                    <a:pt x="824" y="594"/>
                  </a:cubicBezTo>
                  <a:close/>
                  <a:moveTo>
                    <a:pt x="935" y="598"/>
                  </a:moveTo>
                  <a:cubicBezTo>
                    <a:pt x="940" y="605"/>
                    <a:pt x="945" y="611"/>
                    <a:pt x="949" y="618"/>
                  </a:cubicBezTo>
                  <a:cubicBezTo>
                    <a:pt x="957" y="632"/>
                    <a:pt x="964" y="647"/>
                    <a:pt x="970" y="661"/>
                  </a:cubicBezTo>
                  <a:cubicBezTo>
                    <a:pt x="973" y="668"/>
                    <a:pt x="976" y="676"/>
                    <a:pt x="976" y="684"/>
                  </a:cubicBezTo>
                  <a:cubicBezTo>
                    <a:pt x="976" y="692"/>
                    <a:pt x="974" y="700"/>
                    <a:pt x="970" y="707"/>
                  </a:cubicBezTo>
                  <a:cubicBezTo>
                    <a:pt x="965" y="715"/>
                    <a:pt x="960" y="721"/>
                    <a:pt x="950" y="724"/>
                  </a:cubicBezTo>
                  <a:cubicBezTo>
                    <a:pt x="943" y="727"/>
                    <a:pt x="936" y="729"/>
                    <a:pt x="929" y="730"/>
                  </a:cubicBezTo>
                  <a:cubicBezTo>
                    <a:pt x="920" y="731"/>
                    <a:pt x="911" y="731"/>
                    <a:pt x="903" y="732"/>
                  </a:cubicBezTo>
                  <a:cubicBezTo>
                    <a:pt x="896" y="732"/>
                    <a:pt x="889" y="732"/>
                    <a:pt x="883" y="732"/>
                  </a:cubicBezTo>
                  <a:cubicBezTo>
                    <a:pt x="866" y="729"/>
                    <a:pt x="855" y="717"/>
                    <a:pt x="848" y="702"/>
                  </a:cubicBezTo>
                  <a:cubicBezTo>
                    <a:pt x="841" y="687"/>
                    <a:pt x="833" y="673"/>
                    <a:pt x="829" y="657"/>
                  </a:cubicBezTo>
                  <a:cubicBezTo>
                    <a:pt x="826" y="642"/>
                    <a:pt x="824" y="626"/>
                    <a:pt x="826" y="610"/>
                  </a:cubicBezTo>
                  <a:cubicBezTo>
                    <a:pt x="827" y="595"/>
                    <a:pt x="832" y="577"/>
                    <a:pt x="844" y="565"/>
                  </a:cubicBezTo>
                  <a:cubicBezTo>
                    <a:pt x="849" y="560"/>
                    <a:pt x="854" y="554"/>
                    <a:pt x="860" y="549"/>
                  </a:cubicBezTo>
                  <a:cubicBezTo>
                    <a:pt x="864" y="547"/>
                    <a:pt x="868" y="546"/>
                    <a:pt x="871" y="547"/>
                  </a:cubicBezTo>
                  <a:cubicBezTo>
                    <a:pt x="868" y="549"/>
                    <a:pt x="864" y="551"/>
                    <a:pt x="862" y="555"/>
                  </a:cubicBezTo>
                  <a:cubicBezTo>
                    <a:pt x="856" y="565"/>
                    <a:pt x="855" y="577"/>
                    <a:pt x="848" y="587"/>
                  </a:cubicBezTo>
                  <a:cubicBezTo>
                    <a:pt x="842" y="597"/>
                    <a:pt x="839" y="609"/>
                    <a:pt x="838" y="621"/>
                  </a:cubicBezTo>
                  <a:cubicBezTo>
                    <a:pt x="836" y="632"/>
                    <a:pt x="836" y="644"/>
                    <a:pt x="839" y="655"/>
                  </a:cubicBezTo>
                  <a:cubicBezTo>
                    <a:pt x="840" y="656"/>
                    <a:pt x="841" y="656"/>
                    <a:pt x="841" y="655"/>
                  </a:cubicBezTo>
                  <a:cubicBezTo>
                    <a:pt x="839" y="636"/>
                    <a:pt x="840" y="613"/>
                    <a:pt x="848" y="595"/>
                  </a:cubicBezTo>
                  <a:cubicBezTo>
                    <a:pt x="850" y="590"/>
                    <a:pt x="854" y="586"/>
                    <a:pt x="856" y="580"/>
                  </a:cubicBezTo>
                  <a:cubicBezTo>
                    <a:pt x="858" y="576"/>
                    <a:pt x="859" y="572"/>
                    <a:pt x="861" y="567"/>
                  </a:cubicBezTo>
                  <a:cubicBezTo>
                    <a:pt x="862" y="562"/>
                    <a:pt x="864" y="557"/>
                    <a:pt x="868" y="553"/>
                  </a:cubicBezTo>
                  <a:cubicBezTo>
                    <a:pt x="871" y="551"/>
                    <a:pt x="873" y="549"/>
                    <a:pt x="876" y="550"/>
                  </a:cubicBezTo>
                  <a:cubicBezTo>
                    <a:pt x="877" y="550"/>
                    <a:pt x="877" y="550"/>
                    <a:pt x="877" y="550"/>
                  </a:cubicBezTo>
                  <a:cubicBezTo>
                    <a:pt x="879" y="552"/>
                    <a:pt x="881" y="554"/>
                    <a:pt x="882" y="556"/>
                  </a:cubicBezTo>
                  <a:cubicBezTo>
                    <a:pt x="882" y="556"/>
                    <a:pt x="882" y="557"/>
                    <a:pt x="882" y="557"/>
                  </a:cubicBezTo>
                  <a:cubicBezTo>
                    <a:pt x="880" y="556"/>
                    <a:pt x="877" y="557"/>
                    <a:pt x="875" y="557"/>
                  </a:cubicBezTo>
                  <a:cubicBezTo>
                    <a:pt x="871" y="558"/>
                    <a:pt x="868" y="560"/>
                    <a:pt x="866" y="564"/>
                  </a:cubicBezTo>
                  <a:cubicBezTo>
                    <a:pt x="866" y="564"/>
                    <a:pt x="866" y="565"/>
                    <a:pt x="866" y="564"/>
                  </a:cubicBezTo>
                  <a:cubicBezTo>
                    <a:pt x="869" y="562"/>
                    <a:pt x="872" y="559"/>
                    <a:pt x="875" y="558"/>
                  </a:cubicBezTo>
                  <a:cubicBezTo>
                    <a:pt x="878" y="558"/>
                    <a:pt x="881" y="559"/>
                    <a:pt x="884" y="559"/>
                  </a:cubicBezTo>
                  <a:cubicBezTo>
                    <a:pt x="883" y="560"/>
                    <a:pt x="883" y="561"/>
                    <a:pt x="882" y="562"/>
                  </a:cubicBezTo>
                  <a:cubicBezTo>
                    <a:pt x="880" y="560"/>
                    <a:pt x="877" y="562"/>
                    <a:pt x="875" y="564"/>
                  </a:cubicBezTo>
                  <a:cubicBezTo>
                    <a:pt x="875" y="564"/>
                    <a:pt x="875" y="564"/>
                    <a:pt x="874" y="564"/>
                  </a:cubicBezTo>
                  <a:cubicBezTo>
                    <a:pt x="872" y="565"/>
                    <a:pt x="870" y="568"/>
                    <a:pt x="868" y="571"/>
                  </a:cubicBezTo>
                  <a:cubicBezTo>
                    <a:pt x="866" y="574"/>
                    <a:pt x="864" y="578"/>
                    <a:pt x="862" y="582"/>
                  </a:cubicBezTo>
                  <a:cubicBezTo>
                    <a:pt x="858" y="589"/>
                    <a:pt x="855" y="596"/>
                    <a:pt x="853" y="604"/>
                  </a:cubicBezTo>
                  <a:cubicBezTo>
                    <a:pt x="851" y="611"/>
                    <a:pt x="851" y="618"/>
                    <a:pt x="851" y="626"/>
                  </a:cubicBezTo>
                  <a:cubicBezTo>
                    <a:pt x="850" y="631"/>
                    <a:pt x="849" y="637"/>
                    <a:pt x="852" y="642"/>
                  </a:cubicBezTo>
                  <a:cubicBezTo>
                    <a:pt x="852" y="643"/>
                    <a:pt x="853" y="642"/>
                    <a:pt x="853" y="642"/>
                  </a:cubicBezTo>
                  <a:cubicBezTo>
                    <a:pt x="850" y="629"/>
                    <a:pt x="852" y="614"/>
                    <a:pt x="856" y="601"/>
                  </a:cubicBezTo>
                  <a:cubicBezTo>
                    <a:pt x="858" y="595"/>
                    <a:pt x="861" y="589"/>
                    <a:pt x="864" y="583"/>
                  </a:cubicBezTo>
                  <a:cubicBezTo>
                    <a:pt x="861" y="592"/>
                    <a:pt x="859" y="602"/>
                    <a:pt x="859" y="610"/>
                  </a:cubicBezTo>
                  <a:cubicBezTo>
                    <a:pt x="858" y="614"/>
                    <a:pt x="859" y="618"/>
                    <a:pt x="859" y="622"/>
                  </a:cubicBezTo>
                  <a:cubicBezTo>
                    <a:pt x="859" y="625"/>
                    <a:pt x="858" y="628"/>
                    <a:pt x="859" y="631"/>
                  </a:cubicBezTo>
                  <a:cubicBezTo>
                    <a:pt x="860" y="638"/>
                    <a:pt x="861" y="646"/>
                    <a:pt x="865" y="652"/>
                  </a:cubicBezTo>
                  <a:cubicBezTo>
                    <a:pt x="865" y="652"/>
                    <a:pt x="865" y="652"/>
                    <a:pt x="865" y="651"/>
                  </a:cubicBezTo>
                  <a:cubicBezTo>
                    <a:pt x="863" y="645"/>
                    <a:pt x="861" y="638"/>
                    <a:pt x="860" y="631"/>
                  </a:cubicBezTo>
                  <a:cubicBezTo>
                    <a:pt x="860" y="627"/>
                    <a:pt x="859" y="624"/>
                    <a:pt x="859" y="620"/>
                  </a:cubicBezTo>
                  <a:cubicBezTo>
                    <a:pt x="860" y="617"/>
                    <a:pt x="861" y="614"/>
                    <a:pt x="861" y="611"/>
                  </a:cubicBezTo>
                  <a:cubicBezTo>
                    <a:pt x="861" y="604"/>
                    <a:pt x="862" y="597"/>
                    <a:pt x="864" y="591"/>
                  </a:cubicBezTo>
                  <a:cubicBezTo>
                    <a:pt x="866" y="584"/>
                    <a:pt x="869" y="579"/>
                    <a:pt x="873" y="573"/>
                  </a:cubicBezTo>
                  <a:cubicBezTo>
                    <a:pt x="873" y="574"/>
                    <a:pt x="873" y="575"/>
                    <a:pt x="873" y="576"/>
                  </a:cubicBezTo>
                  <a:cubicBezTo>
                    <a:pt x="871" y="582"/>
                    <a:pt x="869" y="588"/>
                    <a:pt x="867" y="595"/>
                  </a:cubicBezTo>
                  <a:cubicBezTo>
                    <a:pt x="867" y="599"/>
                    <a:pt x="867" y="603"/>
                    <a:pt x="866" y="607"/>
                  </a:cubicBezTo>
                  <a:cubicBezTo>
                    <a:pt x="866" y="611"/>
                    <a:pt x="865" y="614"/>
                    <a:pt x="865" y="618"/>
                  </a:cubicBezTo>
                  <a:cubicBezTo>
                    <a:pt x="866" y="627"/>
                    <a:pt x="866" y="636"/>
                    <a:pt x="868" y="644"/>
                  </a:cubicBezTo>
                  <a:cubicBezTo>
                    <a:pt x="869" y="652"/>
                    <a:pt x="871" y="660"/>
                    <a:pt x="872" y="668"/>
                  </a:cubicBezTo>
                  <a:cubicBezTo>
                    <a:pt x="872" y="668"/>
                    <a:pt x="873" y="668"/>
                    <a:pt x="873" y="668"/>
                  </a:cubicBezTo>
                  <a:cubicBezTo>
                    <a:pt x="873" y="659"/>
                    <a:pt x="870" y="651"/>
                    <a:pt x="869" y="642"/>
                  </a:cubicBezTo>
                  <a:cubicBezTo>
                    <a:pt x="868" y="634"/>
                    <a:pt x="867" y="626"/>
                    <a:pt x="867" y="618"/>
                  </a:cubicBezTo>
                  <a:cubicBezTo>
                    <a:pt x="867" y="613"/>
                    <a:pt x="867" y="608"/>
                    <a:pt x="868" y="603"/>
                  </a:cubicBezTo>
                  <a:cubicBezTo>
                    <a:pt x="869" y="600"/>
                    <a:pt x="868" y="595"/>
                    <a:pt x="869" y="592"/>
                  </a:cubicBezTo>
                  <a:cubicBezTo>
                    <a:pt x="870" y="588"/>
                    <a:pt x="873" y="584"/>
                    <a:pt x="874" y="579"/>
                  </a:cubicBezTo>
                  <a:cubicBezTo>
                    <a:pt x="875" y="580"/>
                    <a:pt x="875" y="580"/>
                    <a:pt x="875" y="581"/>
                  </a:cubicBezTo>
                  <a:cubicBezTo>
                    <a:pt x="875" y="581"/>
                    <a:pt x="875" y="581"/>
                    <a:pt x="875" y="581"/>
                  </a:cubicBezTo>
                  <a:cubicBezTo>
                    <a:pt x="874" y="584"/>
                    <a:pt x="873" y="589"/>
                    <a:pt x="872" y="592"/>
                  </a:cubicBezTo>
                  <a:cubicBezTo>
                    <a:pt x="871" y="596"/>
                    <a:pt x="871" y="601"/>
                    <a:pt x="870" y="606"/>
                  </a:cubicBezTo>
                  <a:cubicBezTo>
                    <a:pt x="870" y="607"/>
                    <a:pt x="872" y="607"/>
                    <a:pt x="872" y="606"/>
                  </a:cubicBezTo>
                  <a:cubicBezTo>
                    <a:pt x="873" y="601"/>
                    <a:pt x="874" y="596"/>
                    <a:pt x="875" y="591"/>
                  </a:cubicBezTo>
                  <a:cubicBezTo>
                    <a:pt x="875" y="588"/>
                    <a:pt x="877" y="585"/>
                    <a:pt x="878" y="583"/>
                  </a:cubicBezTo>
                  <a:cubicBezTo>
                    <a:pt x="879" y="584"/>
                    <a:pt x="881" y="585"/>
                    <a:pt x="883" y="586"/>
                  </a:cubicBezTo>
                  <a:cubicBezTo>
                    <a:pt x="882" y="587"/>
                    <a:pt x="882" y="588"/>
                    <a:pt x="882" y="589"/>
                  </a:cubicBezTo>
                  <a:cubicBezTo>
                    <a:pt x="882" y="591"/>
                    <a:pt x="882" y="593"/>
                    <a:pt x="883" y="594"/>
                  </a:cubicBezTo>
                  <a:cubicBezTo>
                    <a:pt x="883" y="595"/>
                    <a:pt x="884" y="594"/>
                    <a:pt x="884" y="594"/>
                  </a:cubicBezTo>
                  <a:cubicBezTo>
                    <a:pt x="884" y="592"/>
                    <a:pt x="884" y="590"/>
                    <a:pt x="884" y="589"/>
                  </a:cubicBezTo>
                  <a:cubicBezTo>
                    <a:pt x="884" y="588"/>
                    <a:pt x="884" y="587"/>
                    <a:pt x="884" y="586"/>
                  </a:cubicBezTo>
                  <a:cubicBezTo>
                    <a:pt x="886" y="587"/>
                    <a:pt x="889" y="587"/>
                    <a:pt x="891" y="586"/>
                  </a:cubicBezTo>
                  <a:cubicBezTo>
                    <a:pt x="891" y="591"/>
                    <a:pt x="895" y="598"/>
                    <a:pt x="898" y="602"/>
                  </a:cubicBezTo>
                  <a:cubicBezTo>
                    <a:pt x="904" y="609"/>
                    <a:pt x="908" y="617"/>
                    <a:pt x="916" y="624"/>
                  </a:cubicBezTo>
                  <a:cubicBezTo>
                    <a:pt x="916" y="624"/>
                    <a:pt x="917" y="623"/>
                    <a:pt x="916" y="623"/>
                  </a:cubicBezTo>
                  <a:cubicBezTo>
                    <a:pt x="910" y="617"/>
                    <a:pt x="906" y="609"/>
                    <a:pt x="901" y="601"/>
                  </a:cubicBezTo>
                  <a:cubicBezTo>
                    <a:pt x="900" y="599"/>
                    <a:pt x="899" y="597"/>
                    <a:pt x="898" y="595"/>
                  </a:cubicBezTo>
                  <a:cubicBezTo>
                    <a:pt x="900" y="598"/>
                    <a:pt x="902" y="601"/>
                    <a:pt x="904" y="603"/>
                  </a:cubicBezTo>
                  <a:cubicBezTo>
                    <a:pt x="908" y="608"/>
                    <a:pt x="913" y="612"/>
                    <a:pt x="918" y="616"/>
                  </a:cubicBezTo>
                  <a:cubicBezTo>
                    <a:pt x="923" y="620"/>
                    <a:pt x="927" y="623"/>
                    <a:pt x="931" y="628"/>
                  </a:cubicBezTo>
                  <a:cubicBezTo>
                    <a:pt x="931" y="629"/>
                    <a:pt x="932" y="629"/>
                    <a:pt x="932" y="628"/>
                  </a:cubicBezTo>
                  <a:cubicBezTo>
                    <a:pt x="931" y="624"/>
                    <a:pt x="928" y="622"/>
                    <a:pt x="925" y="619"/>
                  </a:cubicBezTo>
                  <a:cubicBezTo>
                    <a:pt x="920" y="615"/>
                    <a:pt x="915" y="612"/>
                    <a:pt x="911" y="607"/>
                  </a:cubicBezTo>
                  <a:cubicBezTo>
                    <a:pt x="904" y="600"/>
                    <a:pt x="899" y="593"/>
                    <a:pt x="896" y="584"/>
                  </a:cubicBezTo>
                  <a:cubicBezTo>
                    <a:pt x="897" y="584"/>
                    <a:pt x="897" y="584"/>
                    <a:pt x="898" y="584"/>
                  </a:cubicBezTo>
                  <a:cubicBezTo>
                    <a:pt x="898" y="586"/>
                    <a:pt x="900" y="588"/>
                    <a:pt x="901" y="590"/>
                  </a:cubicBezTo>
                  <a:cubicBezTo>
                    <a:pt x="903" y="593"/>
                    <a:pt x="906" y="596"/>
                    <a:pt x="908" y="599"/>
                  </a:cubicBezTo>
                  <a:cubicBezTo>
                    <a:pt x="911" y="602"/>
                    <a:pt x="914" y="604"/>
                    <a:pt x="918" y="607"/>
                  </a:cubicBezTo>
                  <a:cubicBezTo>
                    <a:pt x="923" y="612"/>
                    <a:pt x="927" y="617"/>
                    <a:pt x="932" y="622"/>
                  </a:cubicBezTo>
                  <a:cubicBezTo>
                    <a:pt x="932" y="622"/>
                    <a:pt x="933" y="622"/>
                    <a:pt x="933" y="621"/>
                  </a:cubicBezTo>
                  <a:cubicBezTo>
                    <a:pt x="929" y="612"/>
                    <a:pt x="919" y="607"/>
                    <a:pt x="912" y="599"/>
                  </a:cubicBezTo>
                  <a:cubicBezTo>
                    <a:pt x="908" y="594"/>
                    <a:pt x="904" y="590"/>
                    <a:pt x="901" y="584"/>
                  </a:cubicBezTo>
                  <a:cubicBezTo>
                    <a:pt x="902" y="584"/>
                    <a:pt x="904" y="585"/>
                    <a:pt x="905" y="585"/>
                  </a:cubicBezTo>
                  <a:cubicBezTo>
                    <a:pt x="905" y="585"/>
                    <a:pt x="905" y="585"/>
                    <a:pt x="905" y="585"/>
                  </a:cubicBezTo>
                  <a:cubicBezTo>
                    <a:pt x="904" y="591"/>
                    <a:pt x="911" y="595"/>
                    <a:pt x="914" y="598"/>
                  </a:cubicBezTo>
                  <a:cubicBezTo>
                    <a:pt x="921" y="605"/>
                    <a:pt x="928" y="612"/>
                    <a:pt x="936" y="617"/>
                  </a:cubicBezTo>
                  <a:cubicBezTo>
                    <a:pt x="937" y="617"/>
                    <a:pt x="937" y="617"/>
                    <a:pt x="937" y="616"/>
                  </a:cubicBezTo>
                  <a:cubicBezTo>
                    <a:pt x="931" y="610"/>
                    <a:pt x="923" y="606"/>
                    <a:pt x="918" y="599"/>
                  </a:cubicBezTo>
                  <a:cubicBezTo>
                    <a:pt x="914" y="595"/>
                    <a:pt x="908" y="591"/>
                    <a:pt x="907" y="585"/>
                  </a:cubicBezTo>
                  <a:cubicBezTo>
                    <a:pt x="909" y="586"/>
                    <a:pt x="911" y="586"/>
                    <a:pt x="913" y="587"/>
                  </a:cubicBezTo>
                  <a:cubicBezTo>
                    <a:pt x="912" y="587"/>
                    <a:pt x="912" y="588"/>
                    <a:pt x="913" y="588"/>
                  </a:cubicBezTo>
                  <a:cubicBezTo>
                    <a:pt x="915" y="593"/>
                    <a:pt x="920" y="597"/>
                    <a:pt x="924" y="601"/>
                  </a:cubicBezTo>
                  <a:cubicBezTo>
                    <a:pt x="928" y="605"/>
                    <a:pt x="932" y="609"/>
                    <a:pt x="936" y="613"/>
                  </a:cubicBezTo>
                  <a:cubicBezTo>
                    <a:pt x="936" y="613"/>
                    <a:pt x="937" y="613"/>
                    <a:pt x="937" y="612"/>
                  </a:cubicBezTo>
                  <a:cubicBezTo>
                    <a:pt x="937" y="610"/>
                    <a:pt x="935" y="608"/>
                    <a:pt x="933" y="607"/>
                  </a:cubicBezTo>
                  <a:cubicBezTo>
                    <a:pt x="930" y="604"/>
                    <a:pt x="927" y="601"/>
                    <a:pt x="924" y="598"/>
                  </a:cubicBezTo>
                  <a:cubicBezTo>
                    <a:pt x="921" y="595"/>
                    <a:pt x="918" y="592"/>
                    <a:pt x="916" y="589"/>
                  </a:cubicBezTo>
                  <a:cubicBezTo>
                    <a:pt x="916" y="588"/>
                    <a:pt x="915" y="588"/>
                    <a:pt x="915" y="587"/>
                  </a:cubicBezTo>
                  <a:cubicBezTo>
                    <a:pt x="918" y="588"/>
                    <a:pt x="922" y="588"/>
                    <a:pt x="925" y="588"/>
                  </a:cubicBezTo>
                  <a:cubicBezTo>
                    <a:pt x="929" y="591"/>
                    <a:pt x="932" y="595"/>
                    <a:pt x="935" y="598"/>
                  </a:cubicBezTo>
                  <a:close/>
                  <a:moveTo>
                    <a:pt x="1145" y="566"/>
                  </a:moveTo>
                  <a:cubicBezTo>
                    <a:pt x="1133" y="572"/>
                    <a:pt x="1119" y="575"/>
                    <a:pt x="1106" y="580"/>
                  </a:cubicBezTo>
                  <a:cubicBezTo>
                    <a:pt x="1098" y="583"/>
                    <a:pt x="1090" y="584"/>
                    <a:pt x="1082" y="585"/>
                  </a:cubicBezTo>
                  <a:cubicBezTo>
                    <a:pt x="1075" y="585"/>
                    <a:pt x="1068" y="586"/>
                    <a:pt x="1061" y="587"/>
                  </a:cubicBezTo>
                  <a:cubicBezTo>
                    <a:pt x="1046" y="590"/>
                    <a:pt x="1030" y="592"/>
                    <a:pt x="1015" y="595"/>
                  </a:cubicBezTo>
                  <a:cubicBezTo>
                    <a:pt x="1007" y="596"/>
                    <a:pt x="999" y="597"/>
                    <a:pt x="991" y="596"/>
                  </a:cubicBezTo>
                  <a:cubicBezTo>
                    <a:pt x="983" y="596"/>
                    <a:pt x="976" y="596"/>
                    <a:pt x="968" y="593"/>
                  </a:cubicBezTo>
                  <a:cubicBezTo>
                    <a:pt x="963" y="591"/>
                    <a:pt x="958" y="589"/>
                    <a:pt x="953" y="588"/>
                  </a:cubicBezTo>
                  <a:cubicBezTo>
                    <a:pt x="950" y="587"/>
                    <a:pt x="946" y="585"/>
                    <a:pt x="943" y="586"/>
                  </a:cubicBezTo>
                  <a:cubicBezTo>
                    <a:pt x="943" y="586"/>
                    <a:pt x="943" y="586"/>
                    <a:pt x="943" y="586"/>
                  </a:cubicBezTo>
                  <a:cubicBezTo>
                    <a:pt x="939" y="584"/>
                    <a:pt x="934" y="585"/>
                    <a:pt x="931" y="585"/>
                  </a:cubicBezTo>
                  <a:cubicBezTo>
                    <a:pt x="929" y="585"/>
                    <a:pt x="927" y="585"/>
                    <a:pt x="924" y="584"/>
                  </a:cubicBezTo>
                  <a:cubicBezTo>
                    <a:pt x="923" y="584"/>
                    <a:pt x="921" y="583"/>
                    <a:pt x="919" y="584"/>
                  </a:cubicBezTo>
                  <a:cubicBezTo>
                    <a:pt x="919" y="584"/>
                    <a:pt x="919" y="584"/>
                    <a:pt x="919" y="584"/>
                  </a:cubicBezTo>
                  <a:cubicBezTo>
                    <a:pt x="916" y="583"/>
                    <a:pt x="914" y="583"/>
                    <a:pt x="911" y="582"/>
                  </a:cubicBezTo>
                  <a:cubicBezTo>
                    <a:pt x="907" y="581"/>
                    <a:pt x="889" y="576"/>
                    <a:pt x="887" y="584"/>
                  </a:cubicBezTo>
                  <a:cubicBezTo>
                    <a:pt x="885" y="583"/>
                    <a:pt x="882" y="582"/>
                    <a:pt x="880" y="580"/>
                  </a:cubicBezTo>
                  <a:cubicBezTo>
                    <a:pt x="880" y="579"/>
                    <a:pt x="879" y="579"/>
                    <a:pt x="879" y="579"/>
                  </a:cubicBezTo>
                  <a:cubicBezTo>
                    <a:pt x="880" y="578"/>
                    <a:pt x="880" y="578"/>
                    <a:pt x="880" y="577"/>
                  </a:cubicBezTo>
                  <a:cubicBezTo>
                    <a:pt x="880" y="574"/>
                    <a:pt x="882" y="571"/>
                    <a:pt x="883" y="569"/>
                  </a:cubicBezTo>
                  <a:cubicBezTo>
                    <a:pt x="883" y="569"/>
                    <a:pt x="884" y="569"/>
                    <a:pt x="884" y="568"/>
                  </a:cubicBezTo>
                  <a:cubicBezTo>
                    <a:pt x="885" y="565"/>
                    <a:pt x="886" y="561"/>
                    <a:pt x="888" y="558"/>
                  </a:cubicBezTo>
                  <a:cubicBezTo>
                    <a:pt x="889" y="558"/>
                    <a:pt x="890" y="558"/>
                    <a:pt x="891" y="558"/>
                  </a:cubicBezTo>
                  <a:cubicBezTo>
                    <a:pt x="891" y="559"/>
                    <a:pt x="890" y="560"/>
                    <a:pt x="889" y="561"/>
                  </a:cubicBezTo>
                  <a:cubicBezTo>
                    <a:pt x="888" y="563"/>
                    <a:pt x="886" y="567"/>
                    <a:pt x="888" y="569"/>
                  </a:cubicBezTo>
                  <a:cubicBezTo>
                    <a:pt x="888" y="569"/>
                    <a:pt x="889" y="569"/>
                    <a:pt x="889" y="569"/>
                  </a:cubicBezTo>
                  <a:cubicBezTo>
                    <a:pt x="891" y="567"/>
                    <a:pt x="891" y="563"/>
                    <a:pt x="893" y="561"/>
                  </a:cubicBezTo>
                  <a:cubicBezTo>
                    <a:pt x="893" y="560"/>
                    <a:pt x="894" y="559"/>
                    <a:pt x="895" y="557"/>
                  </a:cubicBezTo>
                  <a:cubicBezTo>
                    <a:pt x="897" y="557"/>
                    <a:pt x="899" y="557"/>
                    <a:pt x="901" y="557"/>
                  </a:cubicBezTo>
                  <a:cubicBezTo>
                    <a:pt x="899" y="558"/>
                    <a:pt x="897" y="560"/>
                    <a:pt x="896" y="562"/>
                  </a:cubicBezTo>
                  <a:cubicBezTo>
                    <a:pt x="895" y="564"/>
                    <a:pt x="892" y="567"/>
                    <a:pt x="894" y="569"/>
                  </a:cubicBezTo>
                  <a:cubicBezTo>
                    <a:pt x="894" y="570"/>
                    <a:pt x="895" y="570"/>
                    <a:pt x="895" y="569"/>
                  </a:cubicBezTo>
                  <a:cubicBezTo>
                    <a:pt x="897" y="568"/>
                    <a:pt x="897" y="565"/>
                    <a:pt x="899" y="563"/>
                  </a:cubicBezTo>
                  <a:cubicBezTo>
                    <a:pt x="900" y="561"/>
                    <a:pt x="902" y="558"/>
                    <a:pt x="905" y="557"/>
                  </a:cubicBezTo>
                  <a:cubicBezTo>
                    <a:pt x="905" y="557"/>
                    <a:pt x="906" y="557"/>
                    <a:pt x="907" y="557"/>
                  </a:cubicBezTo>
                  <a:cubicBezTo>
                    <a:pt x="907" y="557"/>
                    <a:pt x="906" y="558"/>
                    <a:pt x="906" y="559"/>
                  </a:cubicBezTo>
                  <a:cubicBezTo>
                    <a:pt x="905" y="560"/>
                    <a:pt x="901" y="564"/>
                    <a:pt x="903" y="566"/>
                  </a:cubicBezTo>
                  <a:cubicBezTo>
                    <a:pt x="903" y="566"/>
                    <a:pt x="904" y="567"/>
                    <a:pt x="904" y="566"/>
                  </a:cubicBezTo>
                  <a:cubicBezTo>
                    <a:pt x="905" y="566"/>
                    <a:pt x="905" y="565"/>
                    <a:pt x="906" y="564"/>
                  </a:cubicBezTo>
                  <a:cubicBezTo>
                    <a:pt x="907" y="562"/>
                    <a:pt x="907" y="561"/>
                    <a:pt x="908" y="560"/>
                  </a:cubicBezTo>
                  <a:cubicBezTo>
                    <a:pt x="909" y="559"/>
                    <a:pt x="910" y="558"/>
                    <a:pt x="911" y="557"/>
                  </a:cubicBezTo>
                  <a:cubicBezTo>
                    <a:pt x="912" y="557"/>
                    <a:pt x="913" y="557"/>
                    <a:pt x="913" y="557"/>
                  </a:cubicBezTo>
                  <a:cubicBezTo>
                    <a:pt x="910" y="560"/>
                    <a:pt x="908" y="564"/>
                    <a:pt x="910" y="566"/>
                  </a:cubicBezTo>
                  <a:cubicBezTo>
                    <a:pt x="911" y="567"/>
                    <a:pt x="911" y="566"/>
                    <a:pt x="911" y="566"/>
                  </a:cubicBezTo>
                  <a:cubicBezTo>
                    <a:pt x="913" y="564"/>
                    <a:pt x="913" y="562"/>
                    <a:pt x="915" y="560"/>
                  </a:cubicBezTo>
                  <a:cubicBezTo>
                    <a:pt x="916" y="559"/>
                    <a:pt x="917" y="558"/>
                    <a:pt x="918" y="557"/>
                  </a:cubicBezTo>
                  <a:cubicBezTo>
                    <a:pt x="918" y="557"/>
                    <a:pt x="919" y="557"/>
                    <a:pt x="920" y="557"/>
                  </a:cubicBezTo>
                  <a:cubicBezTo>
                    <a:pt x="920" y="557"/>
                    <a:pt x="921" y="557"/>
                    <a:pt x="921" y="557"/>
                  </a:cubicBezTo>
                  <a:cubicBezTo>
                    <a:pt x="920" y="557"/>
                    <a:pt x="920" y="558"/>
                    <a:pt x="919" y="558"/>
                  </a:cubicBezTo>
                  <a:cubicBezTo>
                    <a:pt x="918" y="560"/>
                    <a:pt x="916" y="564"/>
                    <a:pt x="917" y="566"/>
                  </a:cubicBezTo>
                  <a:cubicBezTo>
                    <a:pt x="918" y="567"/>
                    <a:pt x="918" y="567"/>
                    <a:pt x="918" y="566"/>
                  </a:cubicBezTo>
                  <a:cubicBezTo>
                    <a:pt x="920" y="564"/>
                    <a:pt x="920" y="562"/>
                    <a:pt x="921" y="560"/>
                  </a:cubicBezTo>
                  <a:cubicBezTo>
                    <a:pt x="922" y="559"/>
                    <a:pt x="923" y="557"/>
                    <a:pt x="924" y="557"/>
                  </a:cubicBezTo>
                  <a:cubicBezTo>
                    <a:pt x="925" y="557"/>
                    <a:pt x="927" y="557"/>
                    <a:pt x="928" y="557"/>
                  </a:cubicBezTo>
                  <a:cubicBezTo>
                    <a:pt x="926" y="559"/>
                    <a:pt x="924" y="561"/>
                    <a:pt x="924" y="564"/>
                  </a:cubicBezTo>
                  <a:cubicBezTo>
                    <a:pt x="924" y="564"/>
                    <a:pt x="924" y="565"/>
                    <a:pt x="924" y="564"/>
                  </a:cubicBezTo>
                  <a:cubicBezTo>
                    <a:pt x="926" y="563"/>
                    <a:pt x="927" y="561"/>
                    <a:pt x="929" y="559"/>
                  </a:cubicBezTo>
                  <a:cubicBezTo>
                    <a:pt x="930" y="558"/>
                    <a:pt x="930" y="557"/>
                    <a:pt x="931" y="557"/>
                  </a:cubicBezTo>
                  <a:cubicBezTo>
                    <a:pt x="932" y="557"/>
                    <a:pt x="933" y="557"/>
                    <a:pt x="933" y="557"/>
                  </a:cubicBezTo>
                  <a:cubicBezTo>
                    <a:pt x="931" y="559"/>
                    <a:pt x="929" y="562"/>
                    <a:pt x="930" y="565"/>
                  </a:cubicBezTo>
                  <a:cubicBezTo>
                    <a:pt x="930" y="565"/>
                    <a:pt x="930" y="566"/>
                    <a:pt x="930" y="565"/>
                  </a:cubicBezTo>
                  <a:cubicBezTo>
                    <a:pt x="931" y="563"/>
                    <a:pt x="932" y="561"/>
                    <a:pt x="934" y="559"/>
                  </a:cubicBezTo>
                  <a:cubicBezTo>
                    <a:pt x="934" y="559"/>
                    <a:pt x="935" y="558"/>
                    <a:pt x="936" y="557"/>
                  </a:cubicBezTo>
                  <a:cubicBezTo>
                    <a:pt x="936" y="557"/>
                    <a:pt x="936" y="557"/>
                    <a:pt x="936" y="557"/>
                  </a:cubicBezTo>
                  <a:cubicBezTo>
                    <a:pt x="936" y="557"/>
                    <a:pt x="936" y="557"/>
                    <a:pt x="937" y="557"/>
                  </a:cubicBezTo>
                  <a:cubicBezTo>
                    <a:pt x="936" y="557"/>
                    <a:pt x="936" y="558"/>
                    <a:pt x="936" y="558"/>
                  </a:cubicBezTo>
                  <a:cubicBezTo>
                    <a:pt x="936" y="559"/>
                    <a:pt x="937" y="559"/>
                    <a:pt x="937" y="559"/>
                  </a:cubicBezTo>
                  <a:cubicBezTo>
                    <a:pt x="937" y="560"/>
                    <a:pt x="939" y="561"/>
                    <a:pt x="940" y="560"/>
                  </a:cubicBezTo>
                  <a:cubicBezTo>
                    <a:pt x="940" y="560"/>
                    <a:pt x="941" y="559"/>
                    <a:pt x="941" y="559"/>
                  </a:cubicBezTo>
                  <a:cubicBezTo>
                    <a:pt x="941" y="558"/>
                    <a:pt x="942" y="558"/>
                    <a:pt x="942" y="558"/>
                  </a:cubicBezTo>
                  <a:cubicBezTo>
                    <a:pt x="942" y="558"/>
                    <a:pt x="942" y="558"/>
                    <a:pt x="943" y="558"/>
                  </a:cubicBezTo>
                  <a:cubicBezTo>
                    <a:pt x="943" y="557"/>
                    <a:pt x="943" y="557"/>
                    <a:pt x="943" y="557"/>
                  </a:cubicBezTo>
                  <a:cubicBezTo>
                    <a:pt x="943" y="557"/>
                    <a:pt x="943" y="556"/>
                    <a:pt x="943" y="556"/>
                  </a:cubicBezTo>
                  <a:cubicBezTo>
                    <a:pt x="945" y="555"/>
                    <a:pt x="946" y="553"/>
                    <a:pt x="947" y="551"/>
                  </a:cubicBezTo>
                  <a:cubicBezTo>
                    <a:pt x="948" y="550"/>
                    <a:pt x="949" y="549"/>
                    <a:pt x="950" y="548"/>
                  </a:cubicBezTo>
                  <a:cubicBezTo>
                    <a:pt x="955" y="546"/>
                    <a:pt x="959" y="546"/>
                    <a:pt x="965" y="546"/>
                  </a:cubicBezTo>
                  <a:cubicBezTo>
                    <a:pt x="974" y="548"/>
                    <a:pt x="983" y="549"/>
                    <a:pt x="993" y="549"/>
                  </a:cubicBezTo>
                  <a:cubicBezTo>
                    <a:pt x="1013" y="550"/>
                    <a:pt x="1033" y="549"/>
                    <a:pt x="1053" y="547"/>
                  </a:cubicBezTo>
                  <a:cubicBezTo>
                    <a:pt x="1068" y="546"/>
                    <a:pt x="1083" y="544"/>
                    <a:pt x="1099" y="546"/>
                  </a:cubicBezTo>
                  <a:cubicBezTo>
                    <a:pt x="1107" y="547"/>
                    <a:pt x="1114" y="551"/>
                    <a:pt x="1122" y="553"/>
                  </a:cubicBezTo>
                  <a:cubicBezTo>
                    <a:pt x="1129" y="555"/>
                    <a:pt x="1135" y="556"/>
                    <a:pt x="1142" y="555"/>
                  </a:cubicBezTo>
                  <a:cubicBezTo>
                    <a:pt x="1144" y="555"/>
                    <a:pt x="1158" y="553"/>
                    <a:pt x="1158" y="556"/>
                  </a:cubicBezTo>
                  <a:cubicBezTo>
                    <a:pt x="1157" y="561"/>
                    <a:pt x="1149" y="564"/>
                    <a:pt x="1145" y="566"/>
                  </a:cubicBezTo>
                  <a:close/>
                  <a:moveTo>
                    <a:pt x="1156" y="551"/>
                  </a:moveTo>
                  <a:cubicBezTo>
                    <a:pt x="1154" y="551"/>
                    <a:pt x="1151" y="551"/>
                    <a:pt x="1150" y="551"/>
                  </a:cubicBezTo>
                  <a:cubicBezTo>
                    <a:pt x="1143" y="553"/>
                    <a:pt x="1136" y="553"/>
                    <a:pt x="1129" y="552"/>
                  </a:cubicBezTo>
                  <a:cubicBezTo>
                    <a:pt x="1126" y="551"/>
                    <a:pt x="1122" y="550"/>
                    <a:pt x="1119" y="549"/>
                  </a:cubicBezTo>
                  <a:cubicBezTo>
                    <a:pt x="1123" y="548"/>
                    <a:pt x="1128" y="547"/>
                    <a:pt x="1132" y="546"/>
                  </a:cubicBezTo>
                  <a:cubicBezTo>
                    <a:pt x="1137" y="546"/>
                    <a:pt x="1142" y="547"/>
                    <a:pt x="1147" y="547"/>
                  </a:cubicBezTo>
                  <a:cubicBezTo>
                    <a:pt x="1147" y="547"/>
                    <a:pt x="1147" y="546"/>
                    <a:pt x="1147" y="546"/>
                  </a:cubicBezTo>
                  <a:cubicBezTo>
                    <a:pt x="1144" y="542"/>
                    <a:pt x="1136" y="545"/>
                    <a:pt x="1132" y="545"/>
                  </a:cubicBezTo>
                  <a:cubicBezTo>
                    <a:pt x="1126" y="545"/>
                    <a:pt x="1120" y="545"/>
                    <a:pt x="1114" y="547"/>
                  </a:cubicBezTo>
                  <a:cubicBezTo>
                    <a:pt x="1113" y="546"/>
                    <a:pt x="1112" y="546"/>
                    <a:pt x="1111" y="546"/>
                  </a:cubicBezTo>
                  <a:cubicBezTo>
                    <a:pt x="1113" y="545"/>
                    <a:pt x="1114" y="544"/>
                    <a:pt x="1116" y="544"/>
                  </a:cubicBezTo>
                  <a:cubicBezTo>
                    <a:pt x="1119" y="544"/>
                    <a:pt x="1122" y="542"/>
                    <a:pt x="1125" y="543"/>
                  </a:cubicBezTo>
                  <a:cubicBezTo>
                    <a:pt x="1125" y="543"/>
                    <a:pt x="1125" y="542"/>
                    <a:pt x="1125" y="542"/>
                  </a:cubicBezTo>
                  <a:cubicBezTo>
                    <a:pt x="1121" y="542"/>
                    <a:pt x="1117" y="542"/>
                    <a:pt x="1113" y="543"/>
                  </a:cubicBezTo>
                  <a:cubicBezTo>
                    <a:pt x="1112" y="543"/>
                    <a:pt x="1109" y="543"/>
                    <a:pt x="1108" y="544"/>
                  </a:cubicBezTo>
                  <a:cubicBezTo>
                    <a:pt x="1105" y="544"/>
                    <a:pt x="1102" y="543"/>
                    <a:pt x="1100" y="543"/>
                  </a:cubicBezTo>
                  <a:cubicBezTo>
                    <a:pt x="1101" y="543"/>
                    <a:pt x="1101" y="542"/>
                    <a:pt x="1102" y="542"/>
                  </a:cubicBezTo>
                  <a:cubicBezTo>
                    <a:pt x="1104" y="541"/>
                    <a:pt x="1106" y="540"/>
                    <a:pt x="1107" y="539"/>
                  </a:cubicBezTo>
                  <a:cubicBezTo>
                    <a:pt x="1107" y="539"/>
                    <a:pt x="1107" y="538"/>
                    <a:pt x="1107" y="538"/>
                  </a:cubicBezTo>
                  <a:cubicBezTo>
                    <a:pt x="1105" y="538"/>
                    <a:pt x="1103" y="539"/>
                    <a:pt x="1101" y="540"/>
                  </a:cubicBezTo>
                  <a:cubicBezTo>
                    <a:pt x="1100" y="540"/>
                    <a:pt x="1098" y="540"/>
                    <a:pt x="1098" y="541"/>
                  </a:cubicBezTo>
                  <a:cubicBezTo>
                    <a:pt x="1097" y="541"/>
                    <a:pt x="1097" y="540"/>
                    <a:pt x="1097" y="540"/>
                  </a:cubicBezTo>
                  <a:cubicBezTo>
                    <a:pt x="1102" y="538"/>
                    <a:pt x="1107" y="534"/>
                    <a:pt x="1109" y="533"/>
                  </a:cubicBezTo>
                  <a:cubicBezTo>
                    <a:pt x="1110" y="532"/>
                    <a:pt x="1109" y="531"/>
                    <a:pt x="1108" y="532"/>
                  </a:cubicBezTo>
                  <a:cubicBezTo>
                    <a:pt x="1105" y="534"/>
                    <a:pt x="1102" y="535"/>
                    <a:pt x="1098" y="537"/>
                  </a:cubicBezTo>
                  <a:cubicBezTo>
                    <a:pt x="1097" y="538"/>
                    <a:pt x="1095" y="539"/>
                    <a:pt x="1093" y="540"/>
                  </a:cubicBezTo>
                  <a:cubicBezTo>
                    <a:pt x="1092" y="540"/>
                    <a:pt x="1092" y="540"/>
                    <a:pt x="1091" y="540"/>
                  </a:cubicBezTo>
                  <a:cubicBezTo>
                    <a:pt x="1093" y="539"/>
                    <a:pt x="1094" y="538"/>
                    <a:pt x="1095" y="537"/>
                  </a:cubicBezTo>
                  <a:cubicBezTo>
                    <a:pt x="1099" y="533"/>
                    <a:pt x="1104" y="530"/>
                    <a:pt x="1108" y="526"/>
                  </a:cubicBezTo>
                  <a:cubicBezTo>
                    <a:pt x="1112" y="523"/>
                    <a:pt x="1119" y="521"/>
                    <a:pt x="1121" y="515"/>
                  </a:cubicBezTo>
                  <a:cubicBezTo>
                    <a:pt x="1122" y="515"/>
                    <a:pt x="1121" y="514"/>
                    <a:pt x="1121" y="515"/>
                  </a:cubicBezTo>
                  <a:cubicBezTo>
                    <a:pt x="1116" y="518"/>
                    <a:pt x="1111" y="523"/>
                    <a:pt x="1105" y="527"/>
                  </a:cubicBezTo>
                  <a:cubicBezTo>
                    <a:pt x="1105" y="527"/>
                    <a:pt x="1104" y="527"/>
                    <a:pt x="1104" y="527"/>
                  </a:cubicBezTo>
                  <a:cubicBezTo>
                    <a:pt x="1105" y="526"/>
                    <a:pt x="1107" y="524"/>
                    <a:pt x="1108" y="523"/>
                  </a:cubicBezTo>
                  <a:cubicBezTo>
                    <a:pt x="1113" y="518"/>
                    <a:pt x="1117" y="512"/>
                    <a:pt x="1121" y="506"/>
                  </a:cubicBezTo>
                  <a:cubicBezTo>
                    <a:pt x="1126" y="506"/>
                    <a:pt x="1134" y="509"/>
                    <a:pt x="1136" y="513"/>
                  </a:cubicBezTo>
                  <a:cubicBezTo>
                    <a:pt x="1138" y="514"/>
                    <a:pt x="1139" y="517"/>
                    <a:pt x="1141" y="518"/>
                  </a:cubicBezTo>
                  <a:cubicBezTo>
                    <a:pt x="1143" y="519"/>
                    <a:pt x="1145" y="520"/>
                    <a:pt x="1147" y="521"/>
                  </a:cubicBezTo>
                  <a:cubicBezTo>
                    <a:pt x="1150" y="524"/>
                    <a:pt x="1150" y="527"/>
                    <a:pt x="1152" y="530"/>
                  </a:cubicBezTo>
                  <a:cubicBezTo>
                    <a:pt x="1152" y="531"/>
                    <a:pt x="1153" y="532"/>
                    <a:pt x="1155" y="534"/>
                  </a:cubicBezTo>
                  <a:cubicBezTo>
                    <a:pt x="1159" y="539"/>
                    <a:pt x="1158" y="545"/>
                    <a:pt x="1156" y="551"/>
                  </a:cubicBezTo>
                  <a:close/>
                </a:path>
              </a:pathLst>
            </a:custGeom>
            <a:solidFill>
              <a:srgbClr val="574f1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pic>
          <p:nvPicPr>
            <p:cNvPr id="86" name="组合 1337" descr=""/>
            <p:cNvPicPr/>
            <p:nvPr/>
          </p:nvPicPr>
          <p:blipFill>
            <a:blip r:embed="rId1"/>
            <a:stretch/>
          </p:blipFill>
          <p:spPr>
            <a:xfrm>
              <a:off x="95400" y="3448080"/>
              <a:ext cx="4865400" cy="34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组合 521" descr=""/>
            <p:cNvPicPr/>
            <p:nvPr/>
          </p:nvPicPr>
          <p:blipFill>
            <a:blip r:embed="rId2"/>
            <a:stretch/>
          </p:blipFill>
          <p:spPr>
            <a:xfrm>
              <a:off x="851400" y="142920"/>
              <a:ext cx="4414320" cy="356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组合 4"/>
          <p:cNvGrpSpPr/>
          <p:nvPr/>
        </p:nvGrpSpPr>
        <p:grpSpPr>
          <a:xfrm>
            <a:off x="-2679840" y="-1051560"/>
            <a:ext cx="14891040" cy="7923960"/>
            <a:chOff x="-2679840" y="-1051560"/>
            <a:chExt cx="14891040" cy="7923960"/>
          </a:xfrm>
        </p:grpSpPr>
        <p:grpSp>
          <p:nvGrpSpPr>
            <p:cNvPr id="89" name="组合 1"/>
            <p:cNvGrpSpPr/>
            <p:nvPr/>
          </p:nvGrpSpPr>
          <p:grpSpPr>
            <a:xfrm>
              <a:off x="327240" y="-1051560"/>
              <a:ext cx="11883960" cy="7923960"/>
              <a:chOff x="327240" y="-1051560"/>
              <a:chExt cx="11883960" cy="7923960"/>
            </a:xfrm>
          </p:grpSpPr>
          <p:pic>
            <p:nvPicPr>
              <p:cNvPr id="90" name="图片 1347" descr=""/>
              <p:cNvPicPr/>
              <p:nvPr/>
            </p:nvPicPr>
            <p:blipFill>
              <a:blip r:embed="rId3"/>
              <a:stretch/>
            </p:blipFill>
            <p:spPr>
              <a:xfrm rot="6424200">
                <a:off x="223200" y="-96480"/>
                <a:ext cx="4048200" cy="277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1" name="组合 1340"/>
              <p:cNvGrpSpPr/>
              <p:nvPr/>
            </p:nvGrpSpPr>
            <p:grpSpPr>
              <a:xfrm>
                <a:off x="2812320" y="361080"/>
                <a:ext cx="5608080" cy="5811120"/>
                <a:chOff x="2812320" y="361080"/>
                <a:chExt cx="5608080" cy="5811120"/>
              </a:xfrm>
            </p:grpSpPr>
            <p:sp>
              <p:nvSpPr>
                <p:cNvPr id="92" name="椭圆 1338"/>
                <p:cNvSpPr/>
                <p:nvPr/>
              </p:nvSpPr>
              <p:spPr>
                <a:xfrm>
                  <a:off x="2926800" y="479880"/>
                  <a:ext cx="5378760" cy="5573520"/>
                </a:xfrm>
                <a:prstGeom prst="ellipse">
                  <a:avLst/>
                </a:prstGeom>
                <a:solidFill>
                  <a:srgbClr val="fdfb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  <p:sp>
              <p:nvSpPr>
                <p:cNvPr id="93" name="椭圆 1339"/>
                <p:cNvSpPr/>
                <p:nvPr/>
              </p:nvSpPr>
              <p:spPr>
                <a:xfrm>
                  <a:off x="2812320" y="361080"/>
                  <a:ext cx="5608080" cy="5811120"/>
                </a:xfrm>
                <a:prstGeom prst="ellipse">
                  <a:avLst/>
                </a:prstGeom>
                <a:noFill/>
                <a:ln w="19080">
                  <a:solidFill>
                    <a:srgbClr val="fdfbe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4" name="组合 522"/>
              <p:cNvGrpSpPr/>
              <p:nvPr/>
            </p:nvGrpSpPr>
            <p:grpSpPr>
              <a:xfrm>
                <a:off x="6989400" y="786240"/>
                <a:ext cx="5221800" cy="6086160"/>
                <a:chOff x="6989400" y="786240"/>
                <a:chExt cx="5221800" cy="6086160"/>
              </a:xfrm>
            </p:grpSpPr>
            <p:pic>
              <p:nvPicPr>
                <p:cNvPr id="95" name="图片 10" descr=""/>
                <p:cNvPicPr/>
                <p:nvPr/>
              </p:nvPicPr>
              <p:blipFill>
                <a:blip r:embed="rId4"/>
                <a:srcRect l="10654" t="0" r="0" b="0"/>
                <a:stretch/>
              </p:blipFill>
              <p:spPr>
                <a:xfrm flipH="1">
                  <a:off x="7907760" y="786240"/>
                  <a:ext cx="4289400" cy="353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图片 11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8539920" y="2581200"/>
                  <a:ext cx="2508840" cy="3697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图片 8" descr=""/>
                <p:cNvPicPr/>
                <p:nvPr/>
              </p:nvPicPr>
              <p:blipFill>
                <a:blip r:embed="rId6"/>
                <a:srcRect l="0" t="0" r="20937" b="-458"/>
                <a:stretch/>
              </p:blipFill>
              <p:spPr>
                <a:xfrm>
                  <a:off x="9009000" y="3476520"/>
                  <a:ext cx="3202200" cy="3384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图片 12" descr=""/>
                <p:cNvPicPr/>
                <p:nvPr/>
              </p:nvPicPr>
              <p:blipFill>
                <a:blip r:embed="rId7"/>
                <a:srcRect l="0" t="0" r="0" b="12867"/>
                <a:stretch/>
              </p:blipFill>
              <p:spPr>
                <a:xfrm>
                  <a:off x="6989400" y="4430160"/>
                  <a:ext cx="3808440" cy="244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99" name="图片 1140" descr=""/>
            <p:cNvPicPr/>
            <p:nvPr/>
          </p:nvPicPr>
          <p:blipFill>
            <a:blip r:embed="rId8"/>
            <a:stretch/>
          </p:blipFill>
          <p:spPr>
            <a:xfrm>
              <a:off x="-2679840" y="1599840"/>
              <a:ext cx="6433920" cy="50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图片 1141" descr=""/>
            <p:cNvPicPr/>
            <p:nvPr/>
          </p:nvPicPr>
          <p:blipFill>
            <a:blip r:embed="rId9"/>
            <a:stretch/>
          </p:blipFill>
          <p:spPr>
            <a:xfrm>
              <a:off x="398880" y="-232560"/>
              <a:ext cx="2385360" cy="3019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组合 1366" descr=""/>
          <p:cNvPicPr/>
          <p:nvPr/>
        </p:nvPicPr>
        <p:blipFill>
          <a:blip r:embed="rId10"/>
          <a:stretch/>
        </p:blipFill>
        <p:spPr>
          <a:xfrm>
            <a:off x="3108240" y="1795320"/>
            <a:ext cx="4410000" cy="307368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1348"/>
          <p:cNvGrpSpPr/>
          <p:nvPr/>
        </p:nvGrpSpPr>
        <p:grpSpPr>
          <a:xfrm>
            <a:off x="3130560" y="2495520"/>
            <a:ext cx="4511880" cy="1590120"/>
            <a:chOff x="3130560" y="2495520"/>
            <a:chExt cx="4511880" cy="1590120"/>
          </a:xfrm>
        </p:grpSpPr>
        <p:grpSp>
          <p:nvGrpSpPr>
            <p:cNvPr id="103" name="组合 1344"/>
            <p:cNvGrpSpPr/>
            <p:nvPr/>
          </p:nvGrpSpPr>
          <p:grpSpPr>
            <a:xfrm>
              <a:off x="3130560" y="2495520"/>
              <a:ext cx="4511880" cy="1240200"/>
              <a:chOff x="3130560" y="2495520"/>
              <a:chExt cx="4511880" cy="1240200"/>
            </a:xfrm>
          </p:grpSpPr>
          <p:sp>
            <p:nvSpPr>
              <p:cNvPr id="104" name="文本框 1341"/>
              <p:cNvSpPr/>
              <p:nvPr/>
            </p:nvSpPr>
            <p:spPr>
              <a:xfrm>
                <a:off x="3130560" y="2495520"/>
                <a:ext cx="451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13b17"/>
                    </a:solidFill>
                    <a:latin typeface="Vivaldi"/>
                  </a:rPr>
                  <a:t>Ten thousand people watched</a:t>
                </a:r>
                <a:endParaRPr b="0" lang="en-US" sz="2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pic>
            <p:nvPicPr>
              <p:cNvPr id="105" name="文本框 1342" descr=""/>
              <p:cNvPicPr/>
              <p:nvPr/>
            </p:nvPicPr>
            <p:blipFill>
              <a:blip r:embed="rId11"/>
              <a:stretch/>
            </p:blipFill>
            <p:spPr>
              <a:xfrm>
                <a:off x="4177440" y="2973960"/>
                <a:ext cx="2606040" cy="76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文本框 1345"/>
            <p:cNvSpPr/>
            <p:nvPr/>
          </p:nvSpPr>
          <p:spPr>
            <a:xfrm>
              <a:off x="4994640" y="380916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13b17"/>
                  </a:solidFill>
                  <a:latin typeface="楷体_GB2312"/>
                  <a:ea typeface="楷体_GB2312"/>
                </a:rPr>
                <a:t>制作人：张鑫</a:t>
              </a:r>
              <a:endParaRPr b="0" lang="en-US" sz="12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pic>
        <p:nvPicPr>
          <p:cNvPr id="107" name="The Voice - Rolling In the Deep.mp3" descr=""/>
          <p:cNvPicPr/>
          <p:nvPr/>
        </p:nvPicPr>
        <p:blipFill>
          <a:blip r:embed="rId12"/>
          <a:stretch/>
        </p:blipFill>
        <p:spPr>
          <a:xfrm>
            <a:off x="95400" y="6143760"/>
            <a:ext cx="618840" cy="61884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组合 13313"/>
          <p:cNvGrpSpPr/>
          <p:nvPr/>
        </p:nvGrpSpPr>
        <p:grpSpPr>
          <a:xfrm>
            <a:off x="1839600" y="-113400"/>
            <a:ext cx="7979760" cy="6173640"/>
            <a:chOff x="1839600" y="-113400"/>
            <a:chExt cx="7979760" cy="6173640"/>
          </a:xfrm>
        </p:grpSpPr>
        <p:pic>
          <p:nvPicPr>
            <p:cNvPr id="362" name="图片 1" descr=""/>
            <p:cNvPicPr/>
            <p:nvPr/>
          </p:nvPicPr>
          <p:blipFill>
            <a:blip r:embed="rId1"/>
            <a:stretch/>
          </p:blipFill>
          <p:spPr>
            <a:xfrm flipH="1">
              <a:off x="2970360" y="1060560"/>
              <a:ext cx="2603160" cy="370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图片 5" descr=""/>
            <p:cNvPicPr/>
            <p:nvPr/>
          </p:nvPicPr>
          <p:blipFill>
            <a:blip r:embed="rId2"/>
            <a:srcRect l="0" t="0" r="46724" b="35518"/>
            <a:stretch/>
          </p:blipFill>
          <p:spPr>
            <a:xfrm rot="18650400">
              <a:off x="2339640" y="2480400"/>
              <a:ext cx="3286440" cy="28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图片 6" descr=""/>
            <p:cNvPicPr/>
            <p:nvPr/>
          </p:nvPicPr>
          <p:blipFill>
            <a:blip r:embed="rId3"/>
            <a:srcRect l="0" t="0" r="-561" b="0"/>
            <a:stretch/>
          </p:blipFill>
          <p:spPr>
            <a:xfrm flipH="1" rot="2831400">
              <a:off x="5583240" y="864360"/>
              <a:ext cx="3854880" cy="272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5" name="组合 7"/>
            <p:cNvGrpSpPr/>
            <p:nvPr/>
          </p:nvGrpSpPr>
          <p:grpSpPr>
            <a:xfrm>
              <a:off x="3732480" y="1090080"/>
              <a:ext cx="4711320" cy="4712040"/>
              <a:chOff x="3732480" y="1090080"/>
              <a:chExt cx="4711320" cy="4712040"/>
            </a:xfrm>
          </p:grpSpPr>
          <p:sp>
            <p:nvSpPr>
              <p:cNvPr id="366" name="椭圆 8"/>
              <p:cNvSpPr/>
              <p:nvPr/>
            </p:nvSpPr>
            <p:spPr>
              <a:xfrm>
                <a:off x="3935520" y="1293120"/>
                <a:ext cx="4305240" cy="4305600"/>
              </a:xfrm>
              <a:prstGeom prst="ellipse">
                <a:avLst/>
              </a:prstGeom>
              <a:solidFill>
                <a:srgbClr val="fdfbe9">
                  <a:alpha val="8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367" name="椭圆 9"/>
              <p:cNvSpPr/>
              <p:nvPr/>
            </p:nvSpPr>
            <p:spPr>
              <a:xfrm>
                <a:off x="3732480" y="1090080"/>
                <a:ext cx="4711320" cy="4712040"/>
              </a:xfrm>
              <a:prstGeom prst="ellipse">
                <a:avLst/>
              </a:prstGeom>
              <a:noFill/>
              <a:ln w="12600">
                <a:solidFill>
                  <a:srgbClr val="fdfbe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pic>
          <p:nvPicPr>
            <p:cNvPr id="368" name="图片 22" descr=""/>
            <p:cNvPicPr/>
            <p:nvPr/>
          </p:nvPicPr>
          <p:blipFill>
            <a:blip r:embed="rId4"/>
            <a:stretch/>
          </p:blipFill>
          <p:spPr>
            <a:xfrm>
              <a:off x="3755880" y="885600"/>
              <a:ext cx="1815840" cy="10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文本框 10"/>
          <p:cNvSpPr/>
          <p:nvPr/>
        </p:nvSpPr>
        <p:spPr>
          <a:xfrm>
            <a:off x="3779640" y="2611440"/>
            <a:ext cx="46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4f1f"/>
                </a:solidFill>
                <a:latin typeface="Vivaldi"/>
              </a:rPr>
              <a:t>The darling of the rock and roll music</a:t>
            </a:r>
            <a:endParaRPr b="0" lang="en-US" sz="2000" spc="-1" strike="noStrike">
              <a:solidFill>
                <a:srgbClr val="574f1f"/>
              </a:solidFill>
              <a:latin typeface="Calibri"/>
            </a:endParaRPr>
          </a:p>
        </p:txBody>
      </p:sp>
      <p:sp>
        <p:nvSpPr>
          <p:cNvPr id="370" name="文本框 11"/>
          <p:cNvSpPr/>
          <p:nvPr/>
        </p:nvSpPr>
        <p:spPr>
          <a:xfrm>
            <a:off x="5266440" y="3005280"/>
            <a:ext cx="16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f1f"/>
                </a:solidFill>
                <a:latin typeface="宋体"/>
              </a:rPr>
              <a:t>{</a:t>
            </a:r>
            <a:r>
              <a:rPr b="0" lang="zh-CN" sz="3200" spc="-1" strike="noStrike">
                <a:solidFill>
                  <a:srgbClr val="574f1f"/>
                </a:solidFill>
                <a:latin typeface="宋体"/>
                <a:ea typeface="宋体"/>
              </a:rPr>
              <a:t>摇滚宠儿</a:t>
            </a:r>
            <a:r>
              <a:rPr b="0" lang="en-US" sz="3200" spc="-1" strike="noStrike">
                <a:solidFill>
                  <a:srgbClr val="574f1f"/>
                </a:solidFill>
                <a:latin typeface="宋体"/>
              </a:rPr>
              <a:t>}</a:t>
            </a:r>
            <a:endParaRPr b="0" lang="en-US" sz="3200" spc="-1" strike="noStrike">
              <a:solidFill>
                <a:srgbClr val="574f1f"/>
              </a:solidFill>
              <a:latin typeface="Calibri"/>
            </a:endParaRPr>
          </a:p>
        </p:txBody>
      </p:sp>
      <p:grpSp>
        <p:nvGrpSpPr>
          <p:cNvPr id="371" name="组合 12"/>
          <p:cNvGrpSpPr/>
          <p:nvPr/>
        </p:nvGrpSpPr>
        <p:grpSpPr>
          <a:xfrm>
            <a:off x="5445000" y="3844800"/>
            <a:ext cx="1352520" cy="387360"/>
            <a:chOff x="5445000" y="3844800"/>
            <a:chExt cx="1352520" cy="387360"/>
          </a:xfrm>
        </p:grpSpPr>
        <p:sp>
          <p:nvSpPr>
            <p:cNvPr id="372" name="Freeform 1332"/>
            <p:cNvSpPr/>
            <p:nvPr/>
          </p:nvSpPr>
          <p:spPr>
            <a:xfrm flipV="1">
              <a:off x="6336000" y="3866040"/>
              <a:ext cx="461520" cy="34452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20"/>
                  </a:moveTo>
                  <a:cubicBezTo>
                    <a:pt x="0" y="20"/>
                    <a:pt x="6" y="13"/>
                    <a:pt x="11" y="12"/>
                  </a:cubicBezTo>
                  <a:cubicBezTo>
                    <a:pt x="24" y="11"/>
                    <a:pt x="16" y="21"/>
                    <a:pt x="16" y="22"/>
                  </a:cubicBezTo>
                  <a:cubicBezTo>
                    <a:pt x="17" y="22"/>
                    <a:pt x="19" y="22"/>
                    <a:pt x="19" y="20"/>
                  </a:cubicBezTo>
                  <a:cubicBezTo>
                    <a:pt x="20" y="24"/>
                    <a:pt x="15" y="25"/>
                    <a:pt x="16" y="27"/>
                  </a:cubicBezTo>
                  <a:cubicBezTo>
                    <a:pt x="17" y="26"/>
                    <a:pt x="19" y="26"/>
                    <a:pt x="20" y="25"/>
                  </a:cubicBezTo>
                  <a:cubicBezTo>
                    <a:pt x="20" y="28"/>
                    <a:pt x="15" y="29"/>
                    <a:pt x="16" y="32"/>
                  </a:cubicBezTo>
                  <a:cubicBezTo>
                    <a:pt x="17" y="29"/>
                    <a:pt x="20" y="31"/>
                    <a:pt x="23" y="29"/>
                  </a:cubicBezTo>
                  <a:cubicBezTo>
                    <a:pt x="33" y="23"/>
                    <a:pt x="23" y="13"/>
                    <a:pt x="22" y="13"/>
                  </a:cubicBezTo>
                  <a:cubicBezTo>
                    <a:pt x="29" y="19"/>
                    <a:pt x="23" y="24"/>
                    <a:pt x="23" y="24"/>
                  </a:cubicBezTo>
                  <a:cubicBezTo>
                    <a:pt x="23" y="24"/>
                    <a:pt x="25" y="20"/>
                    <a:pt x="22" y="15"/>
                  </a:cubicBezTo>
                  <a:cubicBezTo>
                    <a:pt x="19" y="10"/>
                    <a:pt x="10" y="11"/>
                    <a:pt x="6" y="14"/>
                  </a:cubicBezTo>
                  <a:cubicBezTo>
                    <a:pt x="9" y="9"/>
                    <a:pt x="21" y="10"/>
                    <a:pt x="22" y="10"/>
                  </a:cubicBezTo>
                  <a:cubicBezTo>
                    <a:pt x="30" y="10"/>
                    <a:pt x="34" y="19"/>
                    <a:pt x="34" y="20"/>
                  </a:cubicBezTo>
                  <a:cubicBezTo>
                    <a:pt x="34" y="22"/>
                    <a:pt x="35" y="24"/>
                    <a:pt x="35" y="24"/>
                  </a:cubicBezTo>
                  <a:cubicBezTo>
                    <a:pt x="35" y="24"/>
                    <a:pt x="34" y="24"/>
                    <a:pt x="33" y="23"/>
                  </a:cubicBezTo>
                  <a:cubicBezTo>
                    <a:pt x="33" y="21"/>
                    <a:pt x="33" y="18"/>
                    <a:pt x="32" y="16"/>
                  </a:cubicBezTo>
                  <a:cubicBezTo>
                    <a:pt x="31" y="14"/>
                    <a:pt x="28" y="13"/>
                    <a:pt x="28" y="13"/>
                  </a:cubicBezTo>
                  <a:cubicBezTo>
                    <a:pt x="28" y="13"/>
                    <a:pt x="30" y="14"/>
                    <a:pt x="30" y="15"/>
                  </a:cubicBezTo>
                  <a:cubicBezTo>
                    <a:pt x="26" y="21"/>
                    <a:pt x="28" y="25"/>
                    <a:pt x="30" y="25"/>
                  </a:cubicBezTo>
                  <a:cubicBezTo>
                    <a:pt x="32" y="26"/>
                    <a:pt x="33" y="27"/>
                    <a:pt x="33" y="28"/>
                  </a:cubicBezTo>
                  <a:cubicBezTo>
                    <a:pt x="34" y="28"/>
                    <a:pt x="33" y="25"/>
                    <a:pt x="33" y="25"/>
                  </a:cubicBezTo>
                  <a:cubicBezTo>
                    <a:pt x="33" y="25"/>
                    <a:pt x="34" y="24"/>
                    <a:pt x="35" y="27"/>
                  </a:cubicBezTo>
                  <a:cubicBezTo>
                    <a:pt x="37" y="30"/>
                    <a:pt x="41" y="31"/>
                    <a:pt x="42" y="30"/>
                  </a:cubicBezTo>
                  <a:cubicBezTo>
                    <a:pt x="41" y="30"/>
                    <a:pt x="38" y="28"/>
                    <a:pt x="38" y="26"/>
                  </a:cubicBezTo>
                  <a:cubicBezTo>
                    <a:pt x="39" y="23"/>
                    <a:pt x="38" y="22"/>
                    <a:pt x="38" y="21"/>
                  </a:cubicBezTo>
                  <a:cubicBezTo>
                    <a:pt x="39" y="21"/>
                    <a:pt x="42" y="21"/>
                    <a:pt x="42" y="22"/>
                  </a:cubicBezTo>
                  <a:cubicBezTo>
                    <a:pt x="43" y="21"/>
                    <a:pt x="41" y="18"/>
                    <a:pt x="40" y="18"/>
                  </a:cubicBezTo>
                  <a:cubicBezTo>
                    <a:pt x="41" y="18"/>
                    <a:pt x="43" y="16"/>
                    <a:pt x="42" y="15"/>
                  </a:cubicBezTo>
                  <a:cubicBezTo>
                    <a:pt x="41" y="17"/>
                    <a:pt x="40" y="14"/>
                    <a:pt x="39" y="14"/>
                  </a:cubicBezTo>
                  <a:cubicBezTo>
                    <a:pt x="37" y="13"/>
                    <a:pt x="35" y="13"/>
                    <a:pt x="34" y="14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28" y="11"/>
                    <a:pt x="24" y="10"/>
                    <a:pt x="24" y="10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7" y="11"/>
                    <a:pt x="29" y="10"/>
                  </a:cubicBezTo>
                  <a:cubicBezTo>
                    <a:pt x="31" y="10"/>
                    <a:pt x="35" y="7"/>
                    <a:pt x="36" y="9"/>
                  </a:cubicBezTo>
                  <a:cubicBezTo>
                    <a:pt x="36" y="8"/>
                    <a:pt x="35" y="7"/>
                    <a:pt x="34" y="7"/>
                  </a:cubicBezTo>
                  <a:cubicBezTo>
                    <a:pt x="36" y="3"/>
                    <a:pt x="39" y="2"/>
                    <a:pt x="40" y="3"/>
                  </a:cubicBezTo>
                  <a:cubicBezTo>
                    <a:pt x="39" y="0"/>
                    <a:pt x="34" y="2"/>
                    <a:pt x="31" y="2"/>
                  </a:cubicBezTo>
                  <a:cubicBezTo>
                    <a:pt x="32" y="1"/>
                    <a:pt x="30" y="0"/>
                    <a:pt x="30" y="0"/>
                  </a:cubicBezTo>
                  <a:cubicBezTo>
                    <a:pt x="30" y="0"/>
                    <a:pt x="30" y="2"/>
                    <a:pt x="27" y="3"/>
                  </a:cubicBezTo>
                  <a:cubicBezTo>
                    <a:pt x="25" y="4"/>
                    <a:pt x="24" y="7"/>
                    <a:pt x="25" y="8"/>
                  </a:cubicBezTo>
                  <a:cubicBezTo>
                    <a:pt x="21" y="10"/>
                    <a:pt x="14" y="9"/>
                    <a:pt x="9" y="11"/>
                  </a:cubicBezTo>
                  <a:cubicBezTo>
                    <a:pt x="5" y="13"/>
                    <a:pt x="0" y="20"/>
                    <a:pt x="0" y="20"/>
                  </a:cubicBezTo>
                  <a:close/>
                  <a:moveTo>
                    <a:pt x="33" y="5"/>
                  </a:moveTo>
                  <a:cubicBezTo>
                    <a:pt x="34" y="7"/>
                    <a:pt x="26" y="8"/>
                    <a:pt x="26" y="8"/>
                  </a:cubicBezTo>
                  <a:cubicBezTo>
                    <a:pt x="26" y="8"/>
                    <a:pt x="32" y="2"/>
                    <a:pt x="33" y="5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373" name="Freeform 1333"/>
            <p:cNvSpPr/>
            <p:nvPr/>
          </p:nvSpPr>
          <p:spPr>
            <a:xfrm flipV="1">
              <a:off x="5445000" y="3866040"/>
              <a:ext cx="461520" cy="34452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33" y="11"/>
                  </a:moveTo>
                  <a:cubicBezTo>
                    <a:pt x="28" y="9"/>
                    <a:pt x="21" y="10"/>
                    <a:pt x="18" y="8"/>
                  </a:cubicBezTo>
                  <a:cubicBezTo>
                    <a:pt x="18" y="7"/>
                    <a:pt x="17" y="4"/>
                    <a:pt x="15" y="3"/>
                  </a:cubicBezTo>
                  <a:cubicBezTo>
                    <a:pt x="12" y="2"/>
                    <a:pt x="13" y="0"/>
                    <a:pt x="13" y="0"/>
                  </a:cubicBezTo>
                  <a:cubicBezTo>
                    <a:pt x="13" y="0"/>
                    <a:pt x="10" y="1"/>
                    <a:pt x="11" y="2"/>
                  </a:cubicBezTo>
                  <a:cubicBezTo>
                    <a:pt x="9" y="2"/>
                    <a:pt x="4" y="0"/>
                    <a:pt x="2" y="3"/>
                  </a:cubicBezTo>
                  <a:cubicBezTo>
                    <a:pt x="3" y="2"/>
                    <a:pt x="6" y="3"/>
                    <a:pt x="8" y="7"/>
                  </a:cubicBezTo>
                  <a:cubicBezTo>
                    <a:pt x="7" y="7"/>
                    <a:pt x="6" y="8"/>
                    <a:pt x="7" y="9"/>
                  </a:cubicBezTo>
                  <a:cubicBezTo>
                    <a:pt x="8" y="7"/>
                    <a:pt x="11" y="10"/>
                    <a:pt x="13" y="10"/>
                  </a:cubicBezTo>
                  <a:cubicBezTo>
                    <a:pt x="16" y="11"/>
                    <a:pt x="17" y="9"/>
                    <a:pt x="17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4" y="11"/>
                    <a:pt x="11" y="13"/>
                  </a:cubicBezTo>
                  <a:cubicBezTo>
                    <a:pt x="11" y="13"/>
                    <a:pt x="10" y="13"/>
                    <a:pt x="9" y="14"/>
                  </a:cubicBezTo>
                  <a:cubicBezTo>
                    <a:pt x="7" y="13"/>
                    <a:pt x="5" y="13"/>
                    <a:pt x="4" y="14"/>
                  </a:cubicBezTo>
                  <a:cubicBezTo>
                    <a:pt x="2" y="14"/>
                    <a:pt x="1" y="17"/>
                    <a:pt x="0" y="15"/>
                  </a:cubicBezTo>
                  <a:cubicBezTo>
                    <a:pt x="0" y="16"/>
                    <a:pt x="1" y="18"/>
                    <a:pt x="3" y="18"/>
                  </a:cubicBezTo>
                  <a:cubicBezTo>
                    <a:pt x="2" y="18"/>
                    <a:pt x="0" y="21"/>
                    <a:pt x="1" y="22"/>
                  </a:cubicBezTo>
                  <a:cubicBezTo>
                    <a:pt x="1" y="21"/>
                    <a:pt x="3" y="21"/>
                    <a:pt x="5" y="21"/>
                  </a:cubicBezTo>
                  <a:cubicBezTo>
                    <a:pt x="4" y="22"/>
                    <a:pt x="3" y="23"/>
                    <a:pt x="4" y="26"/>
                  </a:cubicBezTo>
                  <a:cubicBezTo>
                    <a:pt x="5" y="28"/>
                    <a:pt x="1" y="30"/>
                    <a:pt x="0" y="30"/>
                  </a:cubicBezTo>
                  <a:cubicBezTo>
                    <a:pt x="2" y="31"/>
                    <a:pt x="5" y="30"/>
                    <a:pt x="7" y="27"/>
                  </a:cubicBezTo>
                  <a:cubicBezTo>
                    <a:pt x="9" y="24"/>
                    <a:pt x="9" y="25"/>
                    <a:pt x="9" y="25"/>
                  </a:cubicBezTo>
                  <a:cubicBezTo>
                    <a:pt x="9" y="25"/>
                    <a:pt x="8" y="28"/>
                    <a:pt x="9" y="28"/>
                  </a:cubicBezTo>
                  <a:cubicBezTo>
                    <a:pt x="10" y="27"/>
                    <a:pt x="11" y="26"/>
                    <a:pt x="12" y="25"/>
                  </a:cubicBezTo>
                  <a:cubicBezTo>
                    <a:pt x="14" y="25"/>
                    <a:pt x="16" y="21"/>
                    <a:pt x="13" y="15"/>
                  </a:cubicBezTo>
                  <a:cubicBezTo>
                    <a:pt x="12" y="14"/>
                    <a:pt x="14" y="13"/>
                    <a:pt x="14" y="13"/>
                  </a:cubicBezTo>
                  <a:cubicBezTo>
                    <a:pt x="14" y="13"/>
                    <a:pt x="12" y="14"/>
                    <a:pt x="11" y="16"/>
                  </a:cubicBezTo>
                  <a:cubicBezTo>
                    <a:pt x="10" y="18"/>
                    <a:pt x="10" y="21"/>
                    <a:pt x="9" y="23"/>
                  </a:cubicBezTo>
                  <a:cubicBezTo>
                    <a:pt x="8" y="24"/>
                    <a:pt x="7" y="24"/>
                    <a:pt x="7" y="24"/>
                  </a:cubicBezTo>
                  <a:cubicBezTo>
                    <a:pt x="7" y="24"/>
                    <a:pt x="9" y="22"/>
                    <a:pt x="8" y="20"/>
                  </a:cubicBezTo>
                  <a:cubicBezTo>
                    <a:pt x="8" y="19"/>
                    <a:pt x="12" y="10"/>
                    <a:pt x="20" y="10"/>
                  </a:cubicBezTo>
                  <a:cubicBezTo>
                    <a:pt x="21" y="10"/>
                    <a:pt x="33" y="9"/>
                    <a:pt x="36" y="14"/>
                  </a:cubicBezTo>
                  <a:cubicBezTo>
                    <a:pt x="33" y="11"/>
                    <a:pt x="23" y="10"/>
                    <a:pt x="20" y="15"/>
                  </a:cubicBezTo>
                  <a:cubicBezTo>
                    <a:pt x="17" y="20"/>
                    <a:pt x="19" y="24"/>
                    <a:pt x="19" y="24"/>
                  </a:cubicBezTo>
                  <a:cubicBezTo>
                    <a:pt x="19" y="24"/>
                    <a:pt x="14" y="19"/>
                    <a:pt x="21" y="13"/>
                  </a:cubicBezTo>
                  <a:cubicBezTo>
                    <a:pt x="20" y="13"/>
                    <a:pt x="9" y="23"/>
                    <a:pt x="20" y="29"/>
                  </a:cubicBezTo>
                  <a:cubicBezTo>
                    <a:pt x="23" y="31"/>
                    <a:pt x="26" y="29"/>
                    <a:pt x="27" y="32"/>
                  </a:cubicBezTo>
                  <a:cubicBezTo>
                    <a:pt x="27" y="29"/>
                    <a:pt x="23" y="28"/>
                    <a:pt x="22" y="25"/>
                  </a:cubicBezTo>
                  <a:cubicBezTo>
                    <a:pt x="23" y="26"/>
                    <a:pt x="25" y="26"/>
                    <a:pt x="27" y="27"/>
                  </a:cubicBezTo>
                  <a:cubicBezTo>
                    <a:pt x="27" y="25"/>
                    <a:pt x="22" y="24"/>
                    <a:pt x="23" y="20"/>
                  </a:cubicBezTo>
                  <a:cubicBezTo>
                    <a:pt x="23" y="22"/>
                    <a:pt x="25" y="22"/>
                    <a:pt x="26" y="22"/>
                  </a:cubicBezTo>
                  <a:cubicBezTo>
                    <a:pt x="26" y="21"/>
                    <a:pt x="19" y="11"/>
                    <a:pt x="31" y="12"/>
                  </a:cubicBezTo>
                  <a:cubicBezTo>
                    <a:pt x="37" y="13"/>
                    <a:pt x="43" y="20"/>
                    <a:pt x="43" y="20"/>
                  </a:cubicBezTo>
                  <a:cubicBezTo>
                    <a:pt x="43" y="20"/>
                    <a:pt x="38" y="13"/>
                    <a:pt x="33" y="11"/>
                  </a:cubicBezTo>
                  <a:close/>
                  <a:moveTo>
                    <a:pt x="16" y="8"/>
                  </a:moveTo>
                  <a:cubicBezTo>
                    <a:pt x="16" y="8"/>
                    <a:pt x="9" y="7"/>
                    <a:pt x="9" y="5"/>
                  </a:cubicBezTo>
                  <a:cubicBezTo>
                    <a:pt x="10" y="2"/>
                    <a:pt x="16" y="8"/>
                    <a:pt x="16" y="8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374" name="Freeform 1334"/>
            <p:cNvSpPr/>
            <p:nvPr/>
          </p:nvSpPr>
          <p:spPr>
            <a:xfrm flipV="1">
              <a:off x="5734080" y="3844800"/>
              <a:ext cx="355320" cy="215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3" y="11"/>
                  </a:moveTo>
                  <a:cubicBezTo>
                    <a:pt x="33" y="12"/>
                    <a:pt x="33" y="12"/>
                    <a:pt x="33" y="12"/>
                  </a:cubicBezTo>
                  <a:cubicBezTo>
                    <a:pt x="33" y="12"/>
                    <a:pt x="28" y="7"/>
                    <a:pt x="23" y="11"/>
                  </a:cubicBezTo>
                  <a:cubicBezTo>
                    <a:pt x="23" y="12"/>
                    <a:pt x="23" y="15"/>
                    <a:pt x="18" y="15"/>
                  </a:cubicBezTo>
                  <a:cubicBezTo>
                    <a:pt x="19" y="15"/>
                    <a:pt x="19" y="12"/>
                    <a:pt x="22" y="11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10"/>
                    <a:pt x="14" y="15"/>
                    <a:pt x="12" y="13"/>
                  </a:cubicBezTo>
                  <a:cubicBezTo>
                    <a:pt x="11" y="14"/>
                    <a:pt x="11" y="15"/>
                    <a:pt x="10" y="16"/>
                  </a:cubicBezTo>
                  <a:cubicBezTo>
                    <a:pt x="8" y="17"/>
                    <a:pt x="6" y="18"/>
                    <a:pt x="6" y="20"/>
                  </a:cubicBezTo>
                  <a:cubicBezTo>
                    <a:pt x="5" y="19"/>
                    <a:pt x="5" y="14"/>
                    <a:pt x="11" y="13"/>
                  </a:cubicBezTo>
                  <a:cubicBezTo>
                    <a:pt x="10" y="13"/>
                    <a:pt x="8" y="13"/>
                    <a:pt x="8" y="13"/>
                  </a:cubicBezTo>
                  <a:cubicBezTo>
                    <a:pt x="8" y="13"/>
                    <a:pt x="4" y="16"/>
                    <a:pt x="0" y="13"/>
                  </a:cubicBezTo>
                  <a:cubicBezTo>
                    <a:pt x="1" y="12"/>
                    <a:pt x="4" y="9"/>
                    <a:pt x="8" y="12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3"/>
                    <a:pt x="5" y="11"/>
                    <a:pt x="6" y="6"/>
                  </a:cubicBezTo>
                  <a:cubicBezTo>
                    <a:pt x="7" y="7"/>
                    <a:pt x="10" y="7"/>
                    <a:pt x="10" y="9"/>
                  </a:cubicBezTo>
                  <a:cubicBezTo>
                    <a:pt x="11" y="11"/>
                    <a:pt x="10" y="12"/>
                    <a:pt x="12" y="13"/>
                  </a:cubicBezTo>
                  <a:cubicBezTo>
                    <a:pt x="14" y="14"/>
                    <a:pt x="22" y="10"/>
                    <a:pt x="22" y="10"/>
                  </a:cubicBezTo>
                  <a:cubicBezTo>
                    <a:pt x="22" y="10"/>
                    <a:pt x="21" y="9"/>
                    <a:pt x="20" y="9"/>
                  </a:cubicBezTo>
                  <a:cubicBezTo>
                    <a:pt x="19" y="9"/>
                    <a:pt x="17" y="8"/>
                    <a:pt x="16" y="7"/>
                  </a:cubicBezTo>
                  <a:cubicBezTo>
                    <a:pt x="14" y="5"/>
                    <a:pt x="15" y="3"/>
                    <a:pt x="15" y="3"/>
                  </a:cubicBezTo>
                  <a:cubicBezTo>
                    <a:pt x="15" y="3"/>
                    <a:pt x="16" y="3"/>
                    <a:pt x="19" y="5"/>
                  </a:cubicBezTo>
                  <a:cubicBezTo>
                    <a:pt x="22" y="7"/>
                    <a:pt x="19" y="8"/>
                    <a:pt x="23" y="9"/>
                  </a:cubicBezTo>
                  <a:cubicBezTo>
                    <a:pt x="25" y="9"/>
                    <a:pt x="28" y="8"/>
                    <a:pt x="28" y="9"/>
                  </a:cubicBezTo>
                  <a:cubicBezTo>
                    <a:pt x="27" y="8"/>
                    <a:pt x="24" y="6"/>
                    <a:pt x="25" y="4"/>
                  </a:cubicBezTo>
                  <a:cubicBezTo>
                    <a:pt x="25" y="1"/>
                    <a:pt x="26" y="1"/>
                    <a:pt x="26" y="0"/>
                  </a:cubicBezTo>
                  <a:cubicBezTo>
                    <a:pt x="27" y="0"/>
                    <a:pt x="29" y="2"/>
                    <a:pt x="28" y="4"/>
                  </a:cubicBezTo>
                  <a:cubicBezTo>
                    <a:pt x="28" y="6"/>
                    <a:pt x="28" y="8"/>
                    <a:pt x="29" y="9"/>
                  </a:cubicBezTo>
                  <a:cubicBezTo>
                    <a:pt x="31" y="10"/>
                    <a:pt x="33" y="11"/>
                    <a:pt x="33" y="11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375" name="Freeform 1335"/>
            <p:cNvSpPr/>
            <p:nvPr/>
          </p:nvSpPr>
          <p:spPr>
            <a:xfrm flipV="1">
              <a:off x="6143400" y="3844800"/>
              <a:ext cx="353880" cy="215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1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5" y="7"/>
                    <a:pt x="11" y="11"/>
                  </a:cubicBezTo>
                  <a:cubicBezTo>
                    <a:pt x="10" y="12"/>
                    <a:pt x="10" y="15"/>
                    <a:pt x="15" y="15"/>
                  </a:cubicBezTo>
                  <a:cubicBezTo>
                    <a:pt x="15" y="15"/>
                    <a:pt x="15" y="12"/>
                    <a:pt x="11" y="1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20" y="15"/>
                    <a:pt x="22" y="13"/>
                  </a:cubicBezTo>
                  <a:cubicBezTo>
                    <a:pt x="22" y="14"/>
                    <a:pt x="22" y="15"/>
                    <a:pt x="24" y="16"/>
                  </a:cubicBezTo>
                  <a:cubicBezTo>
                    <a:pt x="25" y="17"/>
                    <a:pt x="27" y="18"/>
                    <a:pt x="27" y="20"/>
                  </a:cubicBezTo>
                  <a:cubicBezTo>
                    <a:pt x="28" y="19"/>
                    <a:pt x="29" y="14"/>
                    <a:pt x="22" y="13"/>
                  </a:cubicBezTo>
                  <a:cubicBezTo>
                    <a:pt x="23" y="13"/>
                    <a:pt x="26" y="13"/>
                    <a:pt x="26" y="13"/>
                  </a:cubicBezTo>
                  <a:cubicBezTo>
                    <a:pt x="26" y="13"/>
                    <a:pt x="29" y="16"/>
                    <a:pt x="33" y="13"/>
                  </a:cubicBezTo>
                  <a:cubicBezTo>
                    <a:pt x="32" y="12"/>
                    <a:pt x="29" y="9"/>
                    <a:pt x="26" y="12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13"/>
                    <a:pt x="28" y="11"/>
                    <a:pt x="27" y="6"/>
                  </a:cubicBezTo>
                  <a:cubicBezTo>
                    <a:pt x="26" y="7"/>
                    <a:pt x="23" y="7"/>
                    <a:pt x="23" y="9"/>
                  </a:cubicBezTo>
                  <a:cubicBezTo>
                    <a:pt x="22" y="11"/>
                    <a:pt x="23" y="12"/>
                    <a:pt x="21" y="13"/>
                  </a:cubicBezTo>
                  <a:cubicBezTo>
                    <a:pt x="19" y="14"/>
                    <a:pt x="11" y="10"/>
                    <a:pt x="11" y="10"/>
                  </a:cubicBezTo>
                  <a:cubicBezTo>
                    <a:pt x="12" y="10"/>
                    <a:pt x="12" y="9"/>
                    <a:pt x="13" y="9"/>
                  </a:cubicBezTo>
                  <a:cubicBezTo>
                    <a:pt x="14" y="9"/>
                    <a:pt x="16" y="8"/>
                    <a:pt x="18" y="7"/>
                  </a:cubicBezTo>
                  <a:cubicBezTo>
                    <a:pt x="19" y="5"/>
                    <a:pt x="19" y="3"/>
                    <a:pt x="19" y="3"/>
                  </a:cubicBezTo>
                  <a:cubicBezTo>
                    <a:pt x="19" y="3"/>
                    <a:pt x="17" y="3"/>
                    <a:pt x="14" y="5"/>
                  </a:cubicBezTo>
                  <a:cubicBezTo>
                    <a:pt x="12" y="7"/>
                    <a:pt x="14" y="8"/>
                    <a:pt x="11" y="9"/>
                  </a:cubicBezTo>
                  <a:cubicBezTo>
                    <a:pt x="8" y="9"/>
                    <a:pt x="6" y="8"/>
                    <a:pt x="5" y="9"/>
                  </a:cubicBezTo>
                  <a:cubicBezTo>
                    <a:pt x="6" y="8"/>
                    <a:pt x="9" y="6"/>
                    <a:pt x="9" y="4"/>
                  </a:cubicBezTo>
                  <a:cubicBezTo>
                    <a:pt x="8" y="1"/>
                    <a:pt x="7" y="1"/>
                    <a:pt x="8" y="0"/>
                  </a:cubicBezTo>
                  <a:cubicBezTo>
                    <a:pt x="7" y="0"/>
                    <a:pt x="5" y="2"/>
                    <a:pt x="5" y="4"/>
                  </a:cubicBezTo>
                  <a:cubicBezTo>
                    <a:pt x="5" y="6"/>
                    <a:pt x="5" y="8"/>
                    <a:pt x="4" y="9"/>
                  </a:cubicBezTo>
                  <a:cubicBezTo>
                    <a:pt x="2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376" name="Freeform 1336"/>
            <p:cNvSpPr/>
            <p:nvPr/>
          </p:nvSpPr>
          <p:spPr>
            <a:xfrm flipV="1">
              <a:off x="5992920" y="3984480"/>
              <a:ext cx="235440" cy="2476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3" y="13"/>
                  </a:moveTo>
                  <a:cubicBezTo>
                    <a:pt x="12" y="16"/>
                    <a:pt x="17" y="16"/>
                    <a:pt x="17" y="17"/>
                  </a:cubicBezTo>
                  <a:cubicBezTo>
                    <a:pt x="18" y="16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20" y="14"/>
                    <a:pt x="21" y="14"/>
                    <a:pt x="22" y="15"/>
                  </a:cubicBezTo>
                  <a:cubicBezTo>
                    <a:pt x="22" y="12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0"/>
                    <a:pt x="16" y="8"/>
                    <a:pt x="13" y="11"/>
                  </a:cubicBezTo>
                  <a:cubicBezTo>
                    <a:pt x="15" y="8"/>
                    <a:pt x="13" y="3"/>
                    <a:pt x="13" y="3"/>
                  </a:cubicBezTo>
                  <a:cubicBezTo>
                    <a:pt x="13" y="3"/>
                    <a:pt x="13" y="4"/>
                    <a:pt x="12" y="5"/>
                  </a:cubicBezTo>
                  <a:cubicBezTo>
                    <a:pt x="12" y="2"/>
                    <a:pt x="7" y="0"/>
                    <a:pt x="6" y="0"/>
                  </a:cubicBezTo>
                  <a:cubicBezTo>
                    <a:pt x="7" y="0"/>
                    <a:pt x="7" y="2"/>
                    <a:pt x="7" y="3"/>
                  </a:cubicBezTo>
                  <a:cubicBezTo>
                    <a:pt x="8" y="5"/>
                    <a:pt x="8" y="6"/>
                    <a:pt x="8" y="6"/>
                  </a:cubicBezTo>
                  <a:cubicBezTo>
                    <a:pt x="8" y="6"/>
                    <a:pt x="7" y="6"/>
                    <a:pt x="6" y="6"/>
                  </a:cubicBezTo>
                  <a:cubicBezTo>
                    <a:pt x="7" y="7"/>
                    <a:pt x="8" y="9"/>
                    <a:pt x="9" y="9"/>
                  </a:cubicBezTo>
                  <a:cubicBezTo>
                    <a:pt x="11" y="10"/>
                    <a:pt x="10" y="12"/>
                    <a:pt x="12" y="13"/>
                  </a:cubicBezTo>
                  <a:cubicBezTo>
                    <a:pt x="11" y="13"/>
                    <a:pt x="9" y="13"/>
                    <a:pt x="9" y="11"/>
                  </a:cubicBezTo>
                  <a:cubicBezTo>
                    <a:pt x="8" y="9"/>
                    <a:pt x="6" y="9"/>
                    <a:pt x="6" y="9"/>
                  </a:cubicBezTo>
                  <a:cubicBezTo>
                    <a:pt x="6" y="9"/>
                    <a:pt x="6" y="9"/>
                    <a:pt x="7" y="10"/>
                  </a:cubicBezTo>
                  <a:cubicBezTo>
                    <a:pt x="4" y="8"/>
                    <a:pt x="0" y="11"/>
                    <a:pt x="0" y="12"/>
                  </a:cubicBezTo>
                  <a:cubicBezTo>
                    <a:pt x="1" y="11"/>
                    <a:pt x="3" y="14"/>
                    <a:pt x="5" y="14"/>
                  </a:cubicBezTo>
                  <a:cubicBezTo>
                    <a:pt x="4" y="15"/>
                    <a:pt x="4" y="16"/>
                    <a:pt x="5" y="17"/>
                  </a:cubicBezTo>
                  <a:cubicBezTo>
                    <a:pt x="5" y="15"/>
                    <a:pt x="6" y="15"/>
                    <a:pt x="7" y="16"/>
                  </a:cubicBezTo>
                  <a:cubicBezTo>
                    <a:pt x="9" y="16"/>
                    <a:pt x="10" y="14"/>
                    <a:pt x="10" y="13"/>
                  </a:cubicBezTo>
                  <a:cubicBezTo>
                    <a:pt x="10" y="13"/>
                    <a:pt x="12" y="13"/>
                    <a:pt x="12" y="13"/>
                  </a:cubicBezTo>
                  <a:cubicBezTo>
                    <a:pt x="12" y="13"/>
                    <a:pt x="10" y="15"/>
                    <a:pt x="10" y="18"/>
                  </a:cubicBezTo>
                  <a:cubicBezTo>
                    <a:pt x="9" y="22"/>
                    <a:pt x="13" y="23"/>
                    <a:pt x="13" y="23"/>
                  </a:cubicBezTo>
                  <a:cubicBezTo>
                    <a:pt x="7" y="20"/>
                    <a:pt x="12" y="14"/>
                    <a:pt x="13" y="13"/>
                  </a:cubicBezTo>
                  <a:close/>
                  <a:moveTo>
                    <a:pt x="10" y="5"/>
                  </a:moveTo>
                  <a:cubicBezTo>
                    <a:pt x="11" y="4"/>
                    <a:pt x="12" y="7"/>
                    <a:pt x="12" y="11"/>
                  </a:cubicBezTo>
                  <a:cubicBezTo>
                    <a:pt x="12" y="11"/>
                    <a:pt x="9" y="5"/>
                    <a:pt x="10" y="5"/>
                  </a:cubicBezTo>
                  <a:close/>
                  <a:moveTo>
                    <a:pt x="13" y="12"/>
                  </a:moveTo>
                  <a:cubicBezTo>
                    <a:pt x="13" y="12"/>
                    <a:pt x="18" y="11"/>
                    <a:pt x="19" y="13"/>
                  </a:cubicBezTo>
                  <a:cubicBezTo>
                    <a:pt x="19" y="14"/>
                    <a:pt x="13" y="12"/>
                    <a:pt x="13" y="12"/>
                  </a:cubicBezTo>
                  <a:close/>
                  <a:moveTo>
                    <a:pt x="9" y="13"/>
                  </a:moveTo>
                  <a:cubicBezTo>
                    <a:pt x="9" y="13"/>
                    <a:pt x="3" y="13"/>
                    <a:pt x="3" y="11"/>
                  </a:cubicBezTo>
                  <a:cubicBezTo>
                    <a:pt x="4" y="10"/>
                    <a:pt x="9" y="13"/>
                    <a:pt x="9" y="13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22"/>
          <p:cNvSpPr/>
          <p:nvPr/>
        </p:nvSpPr>
        <p:spPr>
          <a:xfrm>
            <a:off x="5727600" y="3817800"/>
            <a:ext cx="543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1994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年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月，汪峰与鲍家街分别在中央音乐学院、富豪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DISCO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、马克西姆俱乐部演出，作为一支新的乐队，首场演出就在马克西姆俱乐部引起摇滚界的震动。同年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月“鲍家街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43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号”乐队在中央音乐学院正式成立，汪峰担任主唱。</a:t>
            </a:r>
            <a:endParaRPr b="0" lang="en-US" sz="12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2001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年，为获得柏林电影展银熊奖的电影《十七岁的单车》谱写全部电影音乐，演唱中央电视台电视剧《忠诚》主题曲《忠诚》，演唱电影《北京乐与路》主题曲《回忆之前忘记之后》并获得第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21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届香港电影金像奖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-</a:t>
            </a:r>
            <a:r>
              <a:rPr b="0" lang="zh-CN" sz="1200" spc="-1" strike="noStrike">
                <a:solidFill>
                  <a:srgbClr val="574f1f"/>
                </a:solidFill>
                <a:latin typeface="微软雅黑"/>
                <a:ea typeface="微软雅黑"/>
              </a:rPr>
              <a:t>最佳原创电影音乐提名。</a:t>
            </a:r>
            <a:endParaRPr b="0" lang="en-US" sz="1200" spc="-1" strike="noStrike">
              <a:solidFill>
                <a:srgbClr val="574f1f"/>
              </a:solidFill>
              <a:latin typeface="Calibri"/>
            </a:endParaRPr>
          </a:p>
        </p:txBody>
      </p:sp>
      <p:grpSp>
        <p:nvGrpSpPr>
          <p:cNvPr id="378" name="组合 1205"/>
          <p:cNvGrpSpPr/>
          <p:nvPr/>
        </p:nvGrpSpPr>
        <p:grpSpPr>
          <a:xfrm>
            <a:off x="1008000" y="1743840"/>
            <a:ext cx="4599360" cy="4172760"/>
            <a:chOff x="1008000" y="1743840"/>
            <a:chExt cx="4599360" cy="4172760"/>
          </a:xfrm>
        </p:grpSpPr>
        <p:pic>
          <p:nvPicPr>
            <p:cNvPr id="379" name="图片 248" descr=""/>
            <p:cNvPicPr/>
            <p:nvPr/>
          </p:nvPicPr>
          <p:blipFill>
            <a:blip r:embed="rId1"/>
            <a:srcRect l="0" t="0" r="28673" b="0"/>
            <a:stretch/>
          </p:blipFill>
          <p:spPr>
            <a:xfrm rot="17209800">
              <a:off x="1455120" y="3322800"/>
              <a:ext cx="2314800" cy="230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0" name="组合 1204"/>
            <p:cNvGrpSpPr/>
            <p:nvPr/>
          </p:nvGrpSpPr>
          <p:grpSpPr>
            <a:xfrm>
              <a:off x="1008000" y="1743840"/>
              <a:ext cx="4599360" cy="3243240"/>
              <a:chOff x="1008000" y="1743840"/>
              <a:chExt cx="4599360" cy="3243240"/>
            </a:xfrm>
          </p:grpSpPr>
          <p:pic>
            <p:nvPicPr>
              <p:cNvPr id="381" name="图片 245" descr=""/>
              <p:cNvPicPr/>
              <p:nvPr/>
            </p:nvPicPr>
            <p:blipFill>
              <a:blip r:embed="rId2"/>
              <a:srcRect l="0" t="0" r="71851" b="39280"/>
              <a:stretch/>
            </p:blipFill>
            <p:spPr>
              <a:xfrm flipH="1" rot="20683200">
                <a:off x="4766040" y="2850840"/>
                <a:ext cx="710280" cy="10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图片 246" descr=""/>
              <p:cNvPicPr/>
              <p:nvPr/>
            </p:nvPicPr>
            <p:blipFill>
              <a:blip r:embed="rId3"/>
              <a:srcRect l="0" t="0" r="28673" b="0"/>
              <a:stretch/>
            </p:blipFill>
            <p:spPr>
              <a:xfrm rot="19306200">
                <a:off x="1473120" y="2212560"/>
                <a:ext cx="2314080" cy="230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83" name="组合 1208"/>
          <p:cNvGrpSpPr/>
          <p:nvPr/>
        </p:nvGrpSpPr>
        <p:grpSpPr>
          <a:xfrm>
            <a:off x="5680080" y="2611440"/>
            <a:ext cx="3573000" cy="1279440"/>
            <a:chOff x="5680080" y="2611440"/>
            <a:chExt cx="3573000" cy="1279440"/>
          </a:xfrm>
        </p:grpSpPr>
        <p:sp>
          <p:nvSpPr>
            <p:cNvPr id="384" name="文本框 23"/>
            <p:cNvSpPr/>
            <p:nvPr/>
          </p:nvSpPr>
          <p:spPr>
            <a:xfrm>
              <a:off x="6842880" y="30384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c2710"/>
                  </a:solidFill>
                  <a:latin typeface="微软雅黑"/>
                  <a:ea typeface="微软雅黑"/>
                </a:rPr>
                <a:t>我生命中的过客</a:t>
              </a:r>
              <a:endParaRPr b="0" lang="en-US" sz="20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grpSp>
          <p:nvGrpSpPr>
            <p:cNvPr id="385" name="组合 1207"/>
            <p:cNvGrpSpPr/>
            <p:nvPr/>
          </p:nvGrpSpPr>
          <p:grpSpPr>
            <a:xfrm>
              <a:off x="5680080" y="2611440"/>
              <a:ext cx="3573000" cy="1279440"/>
              <a:chOff x="5680080" y="2611440"/>
              <a:chExt cx="3573000" cy="1279440"/>
            </a:xfrm>
          </p:grpSpPr>
          <p:pic>
            <p:nvPicPr>
              <p:cNvPr id="386" name="图片 251" descr=""/>
              <p:cNvPicPr/>
              <p:nvPr/>
            </p:nvPicPr>
            <p:blipFill>
              <a:blip r:embed="rId4"/>
              <a:stretch/>
            </p:blipFill>
            <p:spPr>
              <a:xfrm>
                <a:off x="5680080" y="2611440"/>
                <a:ext cx="1024200" cy="127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图片 252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8228880" y="2611440"/>
                <a:ext cx="10242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88" name="组合 14348"/>
          <p:cNvGrpSpPr/>
          <p:nvPr/>
        </p:nvGrpSpPr>
        <p:grpSpPr>
          <a:xfrm>
            <a:off x="1557360" y="2260080"/>
            <a:ext cx="3750480" cy="3784320"/>
            <a:chOff x="1557360" y="2260080"/>
            <a:chExt cx="3750480" cy="3784320"/>
          </a:xfrm>
        </p:grpSpPr>
        <p:sp>
          <p:nvSpPr>
            <p:cNvPr id="389" name="椭圆 14349"/>
            <p:cNvSpPr/>
            <p:nvPr/>
          </p:nvSpPr>
          <p:spPr>
            <a:xfrm>
              <a:off x="1668600" y="2417760"/>
              <a:ext cx="3484440" cy="3470400"/>
            </a:xfrm>
            <a:prstGeom prst="ellipse">
              <a:avLst/>
            </a:prstGeom>
            <a:solidFill>
              <a:srgbClr val="fdfbe9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390" name="椭圆 14350"/>
            <p:cNvSpPr/>
            <p:nvPr/>
          </p:nvSpPr>
          <p:spPr>
            <a:xfrm rot="20460000">
              <a:off x="1964160" y="2656440"/>
              <a:ext cx="2936520" cy="29912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391" name="组合 14351"/>
          <p:cNvGrpSpPr/>
          <p:nvPr/>
        </p:nvGrpSpPr>
        <p:grpSpPr>
          <a:xfrm>
            <a:off x="2832120" y="266760"/>
            <a:ext cx="6315120" cy="1442880"/>
            <a:chOff x="2832120" y="266760"/>
            <a:chExt cx="6315120" cy="1442880"/>
          </a:xfrm>
        </p:grpSpPr>
        <p:grpSp>
          <p:nvGrpSpPr>
            <p:cNvPr id="392" name="组合 257"/>
            <p:cNvGrpSpPr/>
            <p:nvPr/>
          </p:nvGrpSpPr>
          <p:grpSpPr>
            <a:xfrm>
              <a:off x="2832120" y="266760"/>
              <a:ext cx="6315120" cy="1442880"/>
              <a:chOff x="2832120" y="266760"/>
              <a:chExt cx="6315120" cy="1442880"/>
            </a:xfrm>
          </p:grpSpPr>
          <p:pic>
            <p:nvPicPr>
              <p:cNvPr id="393" name="Group 8" descr=""/>
              <p:cNvPicPr/>
              <p:nvPr/>
            </p:nvPicPr>
            <p:blipFill>
              <a:blip r:embed="rId7"/>
              <a:stretch/>
            </p:blipFill>
            <p:spPr>
              <a:xfrm>
                <a:off x="2832120" y="266760"/>
                <a:ext cx="6315120" cy="14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文本框 260"/>
              <p:cNvSpPr/>
              <p:nvPr/>
            </p:nvSpPr>
            <p:spPr>
              <a:xfrm>
                <a:off x="4987080" y="888480"/>
                <a:ext cx="200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c2710"/>
                    </a:solidFill>
                    <a:latin typeface="Calibri"/>
                    <a:ea typeface="宋体"/>
                  </a:rPr>
                  <a:t>音乐风云榜最佳男歌手</a:t>
                </a:r>
                <a:endParaRPr b="0" lang="en-US" sz="2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395" name="文本框 14355"/>
            <p:cNvSpPr/>
            <p:nvPr/>
          </p:nvSpPr>
          <p:spPr>
            <a:xfrm>
              <a:off x="3631320" y="603360"/>
              <a:ext cx="48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74f1f"/>
                  </a:solidFill>
                  <a:latin typeface="Brush Script MT"/>
                </a:rPr>
                <a:t>The music of the list of the best male singer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100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38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3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17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3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17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3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组合 112"/>
          <p:cNvGrpSpPr/>
          <p:nvPr/>
        </p:nvGrpSpPr>
        <p:grpSpPr>
          <a:xfrm>
            <a:off x="4711680" y="4456080"/>
            <a:ext cx="2506680" cy="769320"/>
            <a:chOff x="4711680" y="4456080"/>
            <a:chExt cx="2506680" cy="769320"/>
          </a:xfrm>
        </p:grpSpPr>
        <p:sp>
          <p:nvSpPr>
            <p:cNvPr id="397" name="矩形 41"/>
            <p:cNvSpPr/>
            <p:nvPr/>
          </p:nvSpPr>
          <p:spPr>
            <a:xfrm>
              <a:off x="5038560" y="4705200"/>
              <a:ext cx="1971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这个人可能是我的爱人，可能只是朋友</a:t>
              </a:r>
              <a:endParaRPr b="0" lang="en-US" sz="14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grpSp>
          <p:nvGrpSpPr>
            <p:cNvPr id="398" name="Group 8"/>
            <p:cNvGrpSpPr/>
            <p:nvPr/>
          </p:nvGrpSpPr>
          <p:grpSpPr>
            <a:xfrm>
              <a:off x="4711680" y="4456080"/>
              <a:ext cx="2506680" cy="210960"/>
              <a:chOff x="4711680" y="4456080"/>
              <a:chExt cx="2506680" cy="210960"/>
            </a:xfrm>
          </p:grpSpPr>
          <p:sp>
            <p:nvSpPr>
              <p:cNvPr id="399" name="Freeform 9"/>
              <p:cNvSpPr/>
              <p:nvPr/>
            </p:nvSpPr>
            <p:spPr>
              <a:xfrm>
                <a:off x="4711680" y="4456080"/>
                <a:ext cx="173160" cy="209160"/>
              </a:xfrm>
              <a:custGeom>
                <a:avLst/>
                <a:gdLst/>
                <a:ahLst/>
                <a:rect l="l" t="t" r="r" b="b"/>
                <a:pathLst>
                  <a:path w="71" h="83">
                    <a:moveTo>
                      <a:pt x="0" y="43"/>
                    </a:moveTo>
                    <a:cubicBezTo>
                      <a:pt x="9" y="37"/>
                      <a:pt x="18" y="32"/>
                      <a:pt x="29" y="36"/>
                    </a:cubicBezTo>
                    <a:cubicBezTo>
                      <a:pt x="32" y="36"/>
                      <a:pt x="35" y="38"/>
                      <a:pt x="38" y="39"/>
                    </a:cubicBezTo>
                    <a:cubicBezTo>
                      <a:pt x="33" y="32"/>
                      <a:pt x="31" y="25"/>
                      <a:pt x="34" y="17"/>
                    </a:cubicBezTo>
                    <a:cubicBezTo>
                      <a:pt x="38" y="5"/>
                      <a:pt x="53" y="0"/>
                      <a:pt x="63" y="8"/>
                    </a:cubicBezTo>
                    <a:cubicBezTo>
                      <a:pt x="69" y="13"/>
                      <a:pt x="70" y="20"/>
                      <a:pt x="66" y="26"/>
                    </a:cubicBezTo>
                    <a:cubicBezTo>
                      <a:pt x="65" y="28"/>
                      <a:pt x="64" y="29"/>
                      <a:pt x="63" y="31"/>
                    </a:cubicBezTo>
                    <a:cubicBezTo>
                      <a:pt x="60" y="34"/>
                      <a:pt x="56" y="35"/>
                      <a:pt x="53" y="32"/>
                    </a:cubicBezTo>
                    <a:cubicBezTo>
                      <a:pt x="50" y="30"/>
                      <a:pt x="49" y="26"/>
                      <a:pt x="51" y="23"/>
                    </a:cubicBezTo>
                    <a:cubicBezTo>
                      <a:pt x="53" y="20"/>
                      <a:pt x="57" y="19"/>
                      <a:pt x="61" y="21"/>
                    </a:cubicBezTo>
                    <a:cubicBezTo>
                      <a:pt x="62" y="21"/>
                      <a:pt x="63" y="22"/>
                      <a:pt x="64" y="23"/>
                    </a:cubicBezTo>
                    <a:cubicBezTo>
                      <a:pt x="67" y="16"/>
                      <a:pt x="63" y="10"/>
                      <a:pt x="56" y="8"/>
                    </a:cubicBezTo>
                    <a:cubicBezTo>
                      <a:pt x="47" y="5"/>
                      <a:pt x="38" y="11"/>
                      <a:pt x="36" y="21"/>
                    </a:cubicBezTo>
                    <a:cubicBezTo>
                      <a:pt x="34" y="31"/>
                      <a:pt x="39" y="40"/>
                      <a:pt x="49" y="41"/>
                    </a:cubicBezTo>
                    <a:cubicBezTo>
                      <a:pt x="51" y="42"/>
                      <a:pt x="53" y="42"/>
                      <a:pt x="55" y="42"/>
                    </a:cubicBezTo>
                    <a:cubicBezTo>
                      <a:pt x="55" y="43"/>
                      <a:pt x="55" y="43"/>
                      <a:pt x="55" y="44"/>
                    </a:cubicBezTo>
                    <a:cubicBezTo>
                      <a:pt x="53" y="45"/>
                      <a:pt x="50" y="45"/>
                      <a:pt x="48" y="46"/>
                    </a:cubicBezTo>
                    <a:cubicBezTo>
                      <a:pt x="39" y="48"/>
                      <a:pt x="34" y="55"/>
                      <a:pt x="36" y="65"/>
                    </a:cubicBezTo>
                    <a:cubicBezTo>
                      <a:pt x="37" y="74"/>
                      <a:pt x="44" y="80"/>
                      <a:pt x="53" y="80"/>
                    </a:cubicBezTo>
                    <a:cubicBezTo>
                      <a:pt x="62" y="79"/>
                      <a:pt x="68" y="70"/>
                      <a:pt x="64" y="64"/>
                    </a:cubicBezTo>
                    <a:cubicBezTo>
                      <a:pt x="63" y="65"/>
                      <a:pt x="62" y="66"/>
                      <a:pt x="61" y="66"/>
                    </a:cubicBezTo>
                    <a:cubicBezTo>
                      <a:pt x="58" y="68"/>
                      <a:pt x="53" y="67"/>
                      <a:pt x="51" y="64"/>
                    </a:cubicBezTo>
                    <a:cubicBezTo>
                      <a:pt x="49" y="61"/>
                      <a:pt x="50" y="57"/>
                      <a:pt x="53" y="55"/>
                    </a:cubicBezTo>
                    <a:cubicBezTo>
                      <a:pt x="55" y="53"/>
                      <a:pt x="60" y="53"/>
                      <a:pt x="63" y="56"/>
                    </a:cubicBezTo>
                    <a:cubicBezTo>
                      <a:pt x="67" y="61"/>
                      <a:pt x="71" y="66"/>
                      <a:pt x="67" y="74"/>
                    </a:cubicBezTo>
                    <a:cubicBezTo>
                      <a:pt x="64" y="80"/>
                      <a:pt x="58" y="83"/>
                      <a:pt x="51" y="83"/>
                    </a:cubicBezTo>
                    <a:cubicBezTo>
                      <a:pt x="43" y="83"/>
                      <a:pt x="38" y="79"/>
                      <a:pt x="35" y="72"/>
                    </a:cubicBezTo>
                    <a:cubicBezTo>
                      <a:pt x="31" y="63"/>
                      <a:pt x="32" y="55"/>
                      <a:pt x="39" y="48"/>
                    </a:cubicBezTo>
                    <a:cubicBezTo>
                      <a:pt x="35" y="49"/>
                      <a:pt x="32" y="51"/>
                      <a:pt x="28" y="52"/>
                    </a:cubicBezTo>
                    <a:cubicBezTo>
                      <a:pt x="19" y="54"/>
                      <a:pt x="11" y="51"/>
                      <a:pt x="4" y="47"/>
                    </a:cubicBezTo>
                    <a:cubicBezTo>
                      <a:pt x="3" y="46"/>
                      <a:pt x="1" y="45"/>
                      <a:pt x="0" y="44"/>
                    </a:cubicBezTo>
                    <a:cubicBezTo>
                      <a:pt x="0" y="44"/>
                      <a:pt x="0" y="44"/>
                      <a:pt x="0" y="4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4860000" y="4548960"/>
                <a:ext cx="2210400" cy="32760"/>
              </a:xfrm>
              <a:custGeom>
                <a:avLst/>
                <a:gdLst/>
                <a:ahLst/>
                <a:rect l="l" t="t" r="r" b="b"/>
                <a:pathLst>
                  <a:path w="910" h="13">
                    <a:moveTo>
                      <a:pt x="25" y="0"/>
                    </a:moveTo>
                    <a:cubicBezTo>
                      <a:pt x="55" y="1"/>
                      <a:pt x="84" y="3"/>
                      <a:pt x="114" y="4"/>
                    </a:cubicBezTo>
                    <a:cubicBezTo>
                      <a:pt x="125" y="4"/>
                      <a:pt x="136" y="5"/>
                      <a:pt x="147" y="5"/>
                    </a:cubicBezTo>
                    <a:cubicBezTo>
                      <a:pt x="346" y="5"/>
                      <a:pt x="545" y="5"/>
                      <a:pt x="744" y="5"/>
                    </a:cubicBezTo>
                    <a:cubicBezTo>
                      <a:pt x="783" y="5"/>
                      <a:pt x="822" y="2"/>
                      <a:pt x="862" y="1"/>
                    </a:cubicBezTo>
                    <a:cubicBezTo>
                      <a:pt x="875" y="0"/>
                      <a:pt x="889" y="0"/>
                      <a:pt x="902" y="0"/>
                    </a:cubicBezTo>
                    <a:cubicBezTo>
                      <a:pt x="907" y="0"/>
                      <a:pt x="910" y="2"/>
                      <a:pt x="910" y="7"/>
                    </a:cubicBezTo>
                    <a:cubicBezTo>
                      <a:pt x="910" y="11"/>
                      <a:pt x="907" y="13"/>
                      <a:pt x="902" y="13"/>
                    </a:cubicBezTo>
                    <a:cubicBezTo>
                      <a:pt x="872" y="12"/>
                      <a:pt x="842" y="11"/>
                      <a:pt x="812" y="10"/>
                    </a:cubicBezTo>
                    <a:cubicBezTo>
                      <a:pt x="775" y="9"/>
                      <a:pt x="737" y="8"/>
                      <a:pt x="699" y="8"/>
                    </a:cubicBezTo>
                    <a:cubicBezTo>
                      <a:pt x="578" y="8"/>
                      <a:pt x="456" y="8"/>
                      <a:pt x="334" y="8"/>
                    </a:cubicBezTo>
                    <a:cubicBezTo>
                      <a:pt x="240" y="9"/>
                      <a:pt x="145" y="6"/>
                      <a:pt x="50" y="12"/>
                    </a:cubicBezTo>
                    <a:cubicBezTo>
                      <a:pt x="36" y="13"/>
                      <a:pt x="23" y="13"/>
                      <a:pt x="9" y="13"/>
                    </a:cubicBezTo>
                    <a:cubicBezTo>
                      <a:pt x="4" y="13"/>
                      <a:pt x="0" y="10"/>
                      <a:pt x="1" y="6"/>
                    </a:cubicBezTo>
                    <a:cubicBezTo>
                      <a:pt x="1" y="2"/>
                      <a:pt x="3" y="0"/>
                      <a:pt x="8" y="0"/>
                    </a:cubicBezTo>
                    <a:cubicBezTo>
                      <a:pt x="14" y="0"/>
                      <a:pt x="20" y="0"/>
                      <a:pt x="2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7046280" y="4463280"/>
                <a:ext cx="172080" cy="203760"/>
              </a:xfrm>
              <a:custGeom>
                <a:avLst/>
                <a:gdLst/>
                <a:ahLst/>
                <a:rect l="l" t="t" r="r" b="b"/>
                <a:pathLst>
                  <a:path w="71" h="81">
                    <a:moveTo>
                      <a:pt x="17" y="40"/>
                    </a:moveTo>
                    <a:cubicBezTo>
                      <a:pt x="19" y="39"/>
                      <a:pt x="21" y="39"/>
                      <a:pt x="23" y="38"/>
                    </a:cubicBezTo>
                    <a:cubicBezTo>
                      <a:pt x="35" y="36"/>
                      <a:pt x="37" y="26"/>
                      <a:pt x="35" y="16"/>
                    </a:cubicBezTo>
                    <a:cubicBezTo>
                      <a:pt x="34" y="7"/>
                      <a:pt x="23" y="2"/>
                      <a:pt x="15" y="5"/>
                    </a:cubicBezTo>
                    <a:cubicBezTo>
                      <a:pt x="8" y="7"/>
                      <a:pt x="5" y="14"/>
                      <a:pt x="8" y="20"/>
                    </a:cubicBezTo>
                    <a:cubicBezTo>
                      <a:pt x="9" y="19"/>
                      <a:pt x="9" y="18"/>
                      <a:pt x="10" y="18"/>
                    </a:cubicBezTo>
                    <a:cubicBezTo>
                      <a:pt x="14" y="16"/>
                      <a:pt x="18" y="17"/>
                      <a:pt x="20" y="20"/>
                    </a:cubicBezTo>
                    <a:cubicBezTo>
                      <a:pt x="22" y="23"/>
                      <a:pt x="21" y="27"/>
                      <a:pt x="19" y="29"/>
                    </a:cubicBezTo>
                    <a:cubicBezTo>
                      <a:pt x="16" y="32"/>
                      <a:pt x="11" y="31"/>
                      <a:pt x="9" y="28"/>
                    </a:cubicBezTo>
                    <a:cubicBezTo>
                      <a:pt x="5" y="22"/>
                      <a:pt x="0" y="17"/>
                      <a:pt x="5" y="9"/>
                    </a:cubicBezTo>
                    <a:cubicBezTo>
                      <a:pt x="8" y="4"/>
                      <a:pt x="16" y="0"/>
                      <a:pt x="23" y="1"/>
                    </a:cubicBezTo>
                    <a:cubicBezTo>
                      <a:pt x="31" y="3"/>
                      <a:pt x="37" y="9"/>
                      <a:pt x="38" y="16"/>
                    </a:cubicBezTo>
                    <a:cubicBezTo>
                      <a:pt x="40" y="23"/>
                      <a:pt x="39" y="26"/>
                      <a:pt x="34" y="36"/>
                    </a:cubicBezTo>
                    <a:cubicBezTo>
                      <a:pt x="47" y="28"/>
                      <a:pt x="59" y="31"/>
                      <a:pt x="71" y="40"/>
                    </a:cubicBezTo>
                    <a:cubicBezTo>
                      <a:pt x="63" y="49"/>
                      <a:pt x="51" y="51"/>
                      <a:pt x="33" y="45"/>
                    </a:cubicBezTo>
                    <a:cubicBezTo>
                      <a:pt x="38" y="51"/>
                      <a:pt x="40" y="57"/>
                      <a:pt x="38" y="64"/>
                    </a:cubicBezTo>
                    <a:cubicBezTo>
                      <a:pt x="37" y="71"/>
                      <a:pt x="33" y="76"/>
                      <a:pt x="27" y="79"/>
                    </a:cubicBezTo>
                    <a:cubicBezTo>
                      <a:pt x="20" y="81"/>
                      <a:pt x="14" y="80"/>
                      <a:pt x="8" y="76"/>
                    </a:cubicBezTo>
                    <a:cubicBezTo>
                      <a:pt x="2" y="71"/>
                      <a:pt x="1" y="64"/>
                      <a:pt x="5" y="58"/>
                    </a:cubicBezTo>
                    <a:cubicBezTo>
                      <a:pt x="6" y="57"/>
                      <a:pt x="7" y="55"/>
                      <a:pt x="8" y="54"/>
                    </a:cubicBezTo>
                    <a:cubicBezTo>
                      <a:pt x="11" y="50"/>
                      <a:pt x="15" y="49"/>
                      <a:pt x="18" y="52"/>
                    </a:cubicBezTo>
                    <a:cubicBezTo>
                      <a:pt x="22" y="54"/>
                      <a:pt x="22" y="59"/>
                      <a:pt x="20" y="62"/>
                    </a:cubicBezTo>
                    <a:cubicBezTo>
                      <a:pt x="17" y="65"/>
                      <a:pt x="13" y="65"/>
                      <a:pt x="9" y="62"/>
                    </a:cubicBezTo>
                    <a:cubicBezTo>
                      <a:pt x="9" y="62"/>
                      <a:pt x="9" y="61"/>
                      <a:pt x="8" y="60"/>
                    </a:cubicBezTo>
                    <a:cubicBezTo>
                      <a:pt x="5" y="67"/>
                      <a:pt x="7" y="73"/>
                      <a:pt x="13" y="76"/>
                    </a:cubicBezTo>
                    <a:cubicBezTo>
                      <a:pt x="23" y="80"/>
                      <a:pt x="34" y="73"/>
                      <a:pt x="36" y="63"/>
                    </a:cubicBezTo>
                    <a:cubicBezTo>
                      <a:pt x="37" y="51"/>
                      <a:pt x="32" y="44"/>
                      <a:pt x="21" y="42"/>
                    </a:cubicBezTo>
                    <a:cubicBezTo>
                      <a:pt x="19" y="42"/>
                      <a:pt x="18" y="42"/>
                      <a:pt x="17" y="41"/>
                    </a:cubicBezTo>
                    <a:cubicBezTo>
                      <a:pt x="17" y="41"/>
                      <a:pt x="17" y="40"/>
                      <a:pt x="17" y="4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</p:grpSp>
      <p:grpSp>
        <p:nvGrpSpPr>
          <p:cNvPr id="402" name="组合 111"/>
          <p:cNvGrpSpPr/>
          <p:nvPr/>
        </p:nvGrpSpPr>
        <p:grpSpPr>
          <a:xfrm>
            <a:off x="1271520" y="4456080"/>
            <a:ext cx="2508120" cy="556200"/>
            <a:chOff x="1271520" y="4456080"/>
            <a:chExt cx="2508120" cy="556200"/>
          </a:xfrm>
        </p:grpSpPr>
        <p:sp>
          <p:nvSpPr>
            <p:cNvPr id="403" name="矩形 90"/>
            <p:cNvSpPr/>
            <p:nvPr/>
          </p:nvSpPr>
          <p:spPr>
            <a:xfrm>
              <a:off x="1557000" y="4705200"/>
              <a:ext cx="19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我开始意识到，总有那么一只鸟，那么一个人在前面等我</a:t>
              </a:r>
              <a:endParaRPr b="0" lang="en-US" sz="14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grpSp>
          <p:nvGrpSpPr>
            <p:cNvPr id="404" name="Group 8"/>
            <p:cNvGrpSpPr/>
            <p:nvPr/>
          </p:nvGrpSpPr>
          <p:grpSpPr>
            <a:xfrm>
              <a:off x="1271520" y="4456080"/>
              <a:ext cx="2508120" cy="211320"/>
              <a:chOff x="1271520" y="4456080"/>
              <a:chExt cx="2508120" cy="211320"/>
            </a:xfrm>
          </p:grpSpPr>
          <p:sp>
            <p:nvSpPr>
              <p:cNvPr id="405" name="Freeform 9"/>
              <p:cNvSpPr/>
              <p:nvPr/>
            </p:nvSpPr>
            <p:spPr>
              <a:xfrm>
                <a:off x="1271520" y="4456080"/>
                <a:ext cx="173160" cy="209520"/>
              </a:xfrm>
              <a:custGeom>
                <a:avLst/>
                <a:gdLst/>
                <a:ahLst/>
                <a:rect l="l" t="t" r="r" b="b"/>
                <a:pathLst>
                  <a:path w="71" h="83">
                    <a:moveTo>
                      <a:pt x="0" y="43"/>
                    </a:moveTo>
                    <a:cubicBezTo>
                      <a:pt x="9" y="37"/>
                      <a:pt x="18" y="32"/>
                      <a:pt x="29" y="36"/>
                    </a:cubicBezTo>
                    <a:cubicBezTo>
                      <a:pt x="32" y="36"/>
                      <a:pt x="35" y="38"/>
                      <a:pt x="38" y="39"/>
                    </a:cubicBezTo>
                    <a:cubicBezTo>
                      <a:pt x="33" y="32"/>
                      <a:pt x="31" y="25"/>
                      <a:pt x="34" y="17"/>
                    </a:cubicBezTo>
                    <a:cubicBezTo>
                      <a:pt x="38" y="5"/>
                      <a:pt x="53" y="0"/>
                      <a:pt x="63" y="8"/>
                    </a:cubicBezTo>
                    <a:cubicBezTo>
                      <a:pt x="69" y="13"/>
                      <a:pt x="70" y="20"/>
                      <a:pt x="66" y="26"/>
                    </a:cubicBezTo>
                    <a:cubicBezTo>
                      <a:pt x="65" y="28"/>
                      <a:pt x="64" y="29"/>
                      <a:pt x="63" y="31"/>
                    </a:cubicBezTo>
                    <a:cubicBezTo>
                      <a:pt x="60" y="34"/>
                      <a:pt x="56" y="35"/>
                      <a:pt x="53" y="32"/>
                    </a:cubicBezTo>
                    <a:cubicBezTo>
                      <a:pt x="50" y="30"/>
                      <a:pt x="49" y="26"/>
                      <a:pt x="51" y="23"/>
                    </a:cubicBezTo>
                    <a:cubicBezTo>
                      <a:pt x="53" y="20"/>
                      <a:pt x="57" y="19"/>
                      <a:pt x="61" y="21"/>
                    </a:cubicBezTo>
                    <a:cubicBezTo>
                      <a:pt x="62" y="21"/>
                      <a:pt x="63" y="22"/>
                      <a:pt x="64" y="23"/>
                    </a:cubicBezTo>
                    <a:cubicBezTo>
                      <a:pt x="67" y="16"/>
                      <a:pt x="63" y="10"/>
                      <a:pt x="56" y="8"/>
                    </a:cubicBezTo>
                    <a:cubicBezTo>
                      <a:pt x="47" y="5"/>
                      <a:pt x="38" y="11"/>
                      <a:pt x="36" y="21"/>
                    </a:cubicBezTo>
                    <a:cubicBezTo>
                      <a:pt x="34" y="31"/>
                      <a:pt x="39" y="40"/>
                      <a:pt x="49" y="41"/>
                    </a:cubicBezTo>
                    <a:cubicBezTo>
                      <a:pt x="51" y="42"/>
                      <a:pt x="53" y="42"/>
                      <a:pt x="55" y="42"/>
                    </a:cubicBezTo>
                    <a:cubicBezTo>
                      <a:pt x="55" y="43"/>
                      <a:pt x="55" y="43"/>
                      <a:pt x="55" y="44"/>
                    </a:cubicBezTo>
                    <a:cubicBezTo>
                      <a:pt x="53" y="45"/>
                      <a:pt x="50" y="45"/>
                      <a:pt x="48" y="46"/>
                    </a:cubicBezTo>
                    <a:cubicBezTo>
                      <a:pt x="39" y="48"/>
                      <a:pt x="34" y="55"/>
                      <a:pt x="36" y="65"/>
                    </a:cubicBezTo>
                    <a:cubicBezTo>
                      <a:pt x="37" y="74"/>
                      <a:pt x="44" y="80"/>
                      <a:pt x="53" y="80"/>
                    </a:cubicBezTo>
                    <a:cubicBezTo>
                      <a:pt x="62" y="79"/>
                      <a:pt x="68" y="70"/>
                      <a:pt x="64" y="64"/>
                    </a:cubicBezTo>
                    <a:cubicBezTo>
                      <a:pt x="63" y="65"/>
                      <a:pt x="62" y="66"/>
                      <a:pt x="61" y="66"/>
                    </a:cubicBezTo>
                    <a:cubicBezTo>
                      <a:pt x="58" y="68"/>
                      <a:pt x="53" y="67"/>
                      <a:pt x="51" y="64"/>
                    </a:cubicBezTo>
                    <a:cubicBezTo>
                      <a:pt x="49" y="61"/>
                      <a:pt x="50" y="57"/>
                      <a:pt x="53" y="55"/>
                    </a:cubicBezTo>
                    <a:cubicBezTo>
                      <a:pt x="55" y="53"/>
                      <a:pt x="60" y="53"/>
                      <a:pt x="63" y="56"/>
                    </a:cubicBezTo>
                    <a:cubicBezTo>
                      <a:pt x="67" y="61"/>
                      <a:pt x="71" y="66"/>
                      <a:pt x="67" y="74"/>
                    </a:cubicBezTo>
                    <a:cubicBezTo>
                      <a:pt x="64" y="80"/>
                      <a:pt x="58" y="83"/>
                      <a:pt x="51" y="83"/>
                    </a:cubicBezTo>
                    <a:cubicBezTo>
                      <a:pt x="43" y="83"/>
                      <a:pt x="38" y="79"/>
                      <a:pt x="35" y="72"/>
                    </a:cubicBezTo>
                    <a:cubicBezTo>
                      <a:pt x="31" y="63"/>
                      <a:pt x="32" y="55"/>
                      <a:pt x="39" y="48"/>
                    </a:cubicBezTo>
                    <a:cubicBezTo>
                      <a:pt x="35" y="49"/>
                      <a:pt x="32" y="51"/>
                      <a:pt x="28" y="52"/>
                    </a:cubicBezTo>
                    <a:cubicBezTo>
                      <a:pt x="19" y="54"/>
                      <a:pt x="11" y="51"/>
                      <a:pt x="4" y="47"/>
                    </a:cubicBezTo>
                    <a:cubicBezTo>
                      <a:pt x="3" y="46"/>
                      <a:pt x="1" y="45"/>
                      <a:pt x="0" y="44"/>
                    </a:cubicBezTo>
                    <a:cubicBezTo>
                      <a:pt x="0" y="44"/>
                      <a:pt x="0" y="44"/>
                      <a:pt x="0" y="4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406" name="Freeform 10"/>
              <p:cNvSpPr/>
              <p:nvPr/>
            </p:nvSpPr>
            <p:spPr>
              <a:xfrm>
                <a:off x="1420200" y="4549320"/>
                <a:ext cx="2211840" cy="32760"/>
              </a:xfrm>
              <a:custGeom>
                <a:avLst/>
                <a:gdLst/>
                <a:ahLst/>
                <a:rect l="l" t="t" r="r" b="b"/>
                <a:pathLst>
                  <a:path w="910" h="13">
                    <a:moveTo>
                      <a:pt x="25" y="0"/>
                    </a:moveTo>
                    <a:cubicBezTo>
                      <a:pt x="55" y="1"/>
                      <a:pt x="84" y="3"/>
                      <a:pt x="114" y="4"/>
                    </a:cubicBezTo>
                    <a:cubicBezTo>
                      <a:pt x="125" y="4"/>
                      <a:pt x="136" y="5"/>
                      <a:pt x="147" y="5"/>
                    </a:cubicBezTo>
                    <a:cubicBezTo>
                      <a:pt x="346" y="5"/>
                      <a:pt x="545" y="5"/>
                      <a:pt x="744" y="5"/>
                    </a:cubicBezTo>
                    <a:cubicBezTo>
                      <a:pt x="783" y="5"/>
                      <a:pt x="822" y="2"/>
                      <a:pt x="862" y="1"/>
                    </a:cubicBezTo>
                    <a:cubicBezTo>
                      <a:pt x="875" y="0"/>
                      <a:pt x="889" y="0"/>
                      <a:pt x="902" y="0"/>
                    </a:cubicBezTo>
                    <a:cubicBezTo>
                      <a:pt x="907" y="0"/>
                      <a:pt x="910" y="2"/>
                      <a:pt x="910" y="7"/>
                    </a:cubicBezTo>
                    <a:cubicBezTo>
                      <a:pt x="910" y="11"/>
                      <a:pt x="907" y="13"/>
                      <a:pt x="902" y="13"/>
                    </a:cubicBezTo>
                    <a:cubicBezTo>
                      <a:pt x="872" y="12"/>
                      <a:pt x="842" y="11"/>
                      <a:pt x="812" y="10"/>
                    </a:cubicBezTo>
                    <a:cubicBezTo>
                      <a:pt x="775" y="9"/>
                      <a:pt x="737" y="8"/>
                      <a:pt x="699" y="8"/>
                    </a:cubicBezTo>
                    <a:cubicBezTo>
                      <a:pt x="578" y="8"/>
                      <a:pt x="456" y="8"/>
                      <a:pt x="334" y="8"/>
                    </a:cubicBezTo>
                    <a:cubicBezTo>
                      <a:pt x="240" y="9"/>
                      <a:pt x="145" y="6"/>
                      <a:pt x="50" y="12"/>
                    </a:cubicBezTo>
                    <a:cubicBezTo>
                      <a:pt x="36" y="13"/>
                      <a:pt x="23" y="13"/>
                      <a:pt x="9" y="13"/>
                    </a:cubicBezTo>
                    <a:cubicBezTo>
                      <a:pt x="4" y="13"/>
                      <a:pt x="0" y="10"/>
                      <a:pt x="1" y="6"/>
                    </a:cubicBezTo>
                    <a:cubicBezTo>
                      <a:pt x="1" y="2"/>
                      <a:pt x="3" y="0"/>
                      <a:pt x="8" y="0"/>
                    </a:cubicBezTo>
                    <a:cubicBezTo>
                      <a:pt x="14" y="0"/>
                      <a:pt x="20" y="0"/>
                      <a:pt x="2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407" name="Freeform 11"/>
              <p:cNvSpPr/>
              <p:nvPr/>
            </p:nvSpPr>
            <p:spPr>
              <a:xfrm>
                <a:off x="3607560" y="4463280"/>
                <a:ext cx="172080" cy="204120"/>
              </a:xfrm>
              <a:custGeom>
                <a:avLst/>
                <a:gdLst/>
                <a:ahLst/>
                <a:rect l="l" t="t" r="r" b="b"/>
                <a:pathLst>
                  <a:path w="71" h="81">
                    <a:moveTo>
                      <a:pt x="17" y="40"/>
                    </a:moveTo>
                    <a:cubicBezTo>
                      <a:pt x="19" y="39"/>
                      <a:pt x="21" y="39"/>
                      <a:pt x="23" y="38"/>
                    </a:cubicBezTo>
                    <a:cubicBezTo>
                      <a:pt x="35" y="36"/>
                      <a:pt x="37" y="26"/>
                      <a:pt x="35" y="16"/>
                    </a:cubicBezTo>
                    <a:cubicBezTo>
                      <a:pt x="34" y="7"/>
                      <a:pt x="23" y="2"/>
                      <a:pt x="15" y="5"/>
                    </a:cubicBezTo>
                    <a:cubicBezTo>
                      <a:pt x="8" y="7"/>
                      <a:pt x="5" y="14"/>
                      <a:pt x="8" y="20"/>
                    </a:cubicBezTo>
                    <a:cubicBezTo>
                      <a:pt x="9" y="19"/>
                      <a:pt x="9" y="18"/>
                      <a:pt x="10" y="18"/>
                    </a:cubicBezTo>
                    <a:cubicBezTo>
                      <a:pt x="14" y="16"/>
                      <a:pt x="18" y="17"/>
                      <a:pt x="20" y="20"/>
                    </a:cubicBezTo>
                    <a:cubicBezTo>
                      <a:pt x="22" y="23"/>
                      <a:pt x="21" y="27"/>
                      <a:pt x="19" y="29"/>
                    </a:cubicBezTo>
                    <a:cubicBezTo>
                      <a:pt x="16" y="32"/>
                      <a:pt x="11" y="31"/>
                      <a:pt x="9" y="28"/>
                    </a:cubicBezTo>
                    <a:cubicBezTo>
                      <a:pt x="5" y="22"/>
                      <a:pt x="0" y="17"/>
                      <a:pt x="5" y="9"/>
                    </a:cubicBezTo>
                    <a:cubicBezTo>
                      <a:pt x="8" y="4"/>
                      <a:pt x="16" y="0"/>
                      <a:pt x="23" y="1"/>
                    </a:cubicBezTo>
                    <a:cubicBezTo>
                      <a:pt x="31" y="3"/>
                      <a:pt x="37" y="9"/>
                      <a:pt x="38" y="16"/>
                    </a:cubicBezTo>
                    <a:cubicBezTo>
                      <a:pt x="40" y="23"/>
                      <a:pt x="39" y="26"/>
                      <a:pt x="34" y="36"/>
                    </a:cubicBezTo>
                    <a:cubicBezTo>
                      <a:pt x="47" y="28"/>
                      <a:pt x="59" y="31"/>
                      <a:pt x="71" y="40"/>
                    </a:cubicBezTo>
                    <a:cubicBezTo>
                      <a:pt x="63" y="49"/>
                      <a:pt x="51" y="51"/>
                      <a:pt x="33" y="45"/>
                    </a:cubicBezTo>
                    <a:cubicBezTo>
                      <a:pt x="38" y="51"/>
                      <a:pt x="40" y="57"/>
                      <a:pt x="38" y="64"/>
                    </a:cubicBezTo>
                    <a:cubicBezTo>
                      <a:pt x="37" y="71"/>
                      <a:pt x="33" y="76"/>
                      <a:pt x="27" y="79"/>
                    </a:cubicBezTo>
                    <a:cubicBezTo>
                      <a:pt x="20" y="81"/>
                      <a:pt x="14" y="80"/>
                      <a:pt x="8" y="76"/>
                    </a:cubicBezTo>
                    <a:cubicBezTo>
                      <a:pt x="2" y="71"/>
                      <a:pt x="1" y="64"/>
                      <a:pt x="5" y="58"/>
                    </a:cubicBezTo>
                    <a:cubicBezTo>
                      <a:pt x="6" y="57"/>
                      <a:pt x="7" y="55"/>
                      <a:pt x="8" y="54"/>
                    </a:cubicBezTo>
                    <a:cubicBezTo>
                      <a:pt x="11" y="50"/>
                      <a:pt x="15" y="49"/>
                      <a:pt x="18" y="52"/>
                    </a:cubicBezTo>
                    <a:cubicBezTo>
                      <a:pt x="22" y="54"/>
                      <a:pt x="22" y="59"/>
                      <a:pt x="20" y="62"/>
                    </a:cubicBezTo>
                    <a:cubicBezTo>
                      <a:pt x="17" y="65"/>
                      <a:pt x="13" y="65"/>
                      <a:pt x="9" y="62"/>
                    </a:cubicBezTo>
                    <a:cubicBezTo>
                      <a:pt x="9" y="62"/>
                      <a:pt x="9" y="61"/>
                      <a:pt x="8" y="60"/>
                    </a:cubicBezTo>
                    <a:cubicBezTo>
                      <a:pt x="5" y="67"/>
                      <a:pt x="7" y="73"/>
                      <a:pt x="13" y="76"/>
                    </a:cubicBezTo>
                    <a:cubicBezTo>
                      <a:pt x="23" y="80"/>
                      <a:pt x="34" y="73"/>
                      <a:pt x="36" y="63"/>
                    </a:cubicBezTo>
                    <a:cubicBezTo>
                      <a:pt x="37" y="51"/>
                      <a:pt x="32" y="44"/>
                      <a:pt x="21" y="42"/>
                    </a:cubicBezTo>
                    <a:cubicBezTo>
                      <a:pt x="19" y="42"/>
                      <a:pt x="18" y="42"/>
                      <a:pt x="17" y="41"/>
                    </a:cubicBezTo>
                    <a:cubicBezTo>
                      <a:pt x="17" y="41"/>
                      <a:pt x="17" y="40"/>
                      <a:pt x="17" y="4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</p:grpSp>
      <p:grpSp>
        <p:nvGrpSpPr>
          <p:cNvPr id="408" name="组合 113"/>
          <p:cNvGrpSpPr/>
          <p:nvPr/>
        </p:nvGrpSpPr>
        <p:grpSpPr>
          <a:xfrm>
            <a:off x="8150400" y="4456080"/>
            <a:ext cx="2506320" cy="556200"/>
            <a:chOff x="8150400" y="4456080"/>
            <a:chExt cx="2506320" cy="556200"/>
          </a:xfrm>
        </p:grpSpPr>
        <p:sp>
          <p:nvSpPr>
            <p:cNvPr id="409" name="矩形 42"/>
            <p:cNvSpPr/>
            <p:nvPr/>
          </p:nvSpPr>
          <p:spPr>
            <a:xfrm>
              <a:off x="8631360" y="4705200"/>
              <a:ext cx="16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但一定是知我懂我的人，这令我感觉如释重负。</a:t>
              </a:r>
              <a:endParaRPr b="0" lang="en-US" sz="14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grpSp>
          <p:nvGrpSpPr>
            <p:cNvPr id="410" name="Group 8"/>
            <p:cNvGrpSpPr/>
            <p:nvPr/>
          </p:nvGrpSpPr>
          <p:grpSpPr>
            <a:xfrm>
              <a:off x="8150400" y="4456080"/>
              <a:ext cx="2506320" cy="211320"/>
              <a:chOff x="8150400" y="4456080"/>
              <a:chExt cx="2506320" cy="211320"/>
            </a:xfrm>
          </p:grpSpPr>
          <p:sp>
            <p:nvSpPr>
              <p:cNvPr id="411" name="Freeform 9"/>
              <p:cNvSpPr/>
              <p:nvPr/>
            </p:nvSpPr>
            <p:spPr>
              <a:xfrm>
                <a:off x="8150400" y="4456080"/>
                <a:ext cx="173160" cy="209520"/>
              </a:xfrm>
              <a:custGeom>
                <a:avLst/>
                <a:gdLst/>
                <a:ahLst/>
                <a:rect l="l" t="t" r="r" b="b"/>
                <a:pathLst>
                  <a:path w="71" h="83">
                    <a:moveTo>
                      <a:pt x="0" y="43"/>
                    </a:moveTo>
                    <a:cubicBezTo>
                      <a:pt x="9" y="37"/>
                      <a:pt x="18" y="32"/>
                      <a:pt x="29" y="36"/>
                    </a:cubicBezTo>
                    <a:cubicBezTo>
                      <a:pt x="32" y="36"/>
                      <a:pt x="35" y="38"/>
                      <a:pt x="38" y="39"/>
                    </a:cubicBezTo>
                    <a:cubicBezTo>
                      <a:pt x="33" y="32"/>
                      <a:pt x="31" y="25"/>
                      <a:pt x="34" y="17"/>
                    </a:cubicBezTo>
                    <a:cubicBezTo>
                      <a:pt x="38" y="5"/>
                      <a:pt x="53" y="0"/>
                      <a:pt x="63" y="8"/>
                    </a:cubicBezTo>
                    <a:cubicBezTo>
                      <a:pt x="69" y="13"/>
                      <a:pt x="70" y="20"/>
                      <a:pt x="66" y="26"/>
                    </a:cubicBezTo>
                    <a:cubicBezTo>
                      <a:pt x="65" y="28"/>
                      <a:pt x="64" y="29"/>
                      <a:pt x="63" y="31"/>
                    </a:cubicBezTo>
                    <a:cubicBezTo>
                      <a:pt x="60" y="34"/>
                      <a:pt x="56" y="35"/>
                      <a:pt x="53" y="32"/>
                    </a:cubicBezTo>
                    <a:cubicBezTo>
                      <a:pt x="50" y="30"/>
                      <a:pt x="49" y="26"/>
                      <a:pt x="51" y="23"/>
                    </a:cubicBezTo>
                    <a:cubicBezTo>
                      <a:pt x="53" y="20"/>
                      <a:pt x="57" y="19"/>
                      <a:pt x="61" y="21"/>
                    </a:cubicBezTo>
                    <a:cubicBezTo>
                      <a:pt x="62" y="21"/>
                      <a:pt x="63" y="22"/>
                      <a:pt x="64" y="23"/>
                    </a:cubicBezTo>
                    <a:cubicBezTo>
                      <a:pt x="67" y="16"/>
                      <a:pt x="63" y="10"/>
                      <a:pt x="56" y="8"/>
                    </a:cubicBezTo>
                    <a:cubicBezTo>
                      <a:pt x="47" y="5"/>
                      <a:pt x="38" y="11"/>
                      <a:pt x="36" y="21"/>
                    </a:cubicBezTo>
                    <a:cubicBezTo>
                      <a:pt x="34" y="31"/>
                      <a:pt x="39" y="40"/>
                      <a:pt x="49" y="41"/>
                    </a:cubicBezTo>
                    <a:cubicBezTo>
                      <a:pt x="51" y="42"/>
                      <a:pt x="53" y="42"/>
                      <a:pt x="55" y="42"/>
                    </a:cubicBezTo>
                    <a:cubicBezTo>
                      <a:pt x="55" y="43"/>
                      <a:pt x="55" y="43"/>
                      <a:pt x="55" y="44"/>
                    </a:cubicBezTo>
                    <a:cubicBezTo>
                      <a:pt x="53" y="45"/>
                      <a:pt x="50" y="45"/>
                      <a:pt x="48" y="46"/>
                    </a:cubicBezTo>
                    <a:cubicBezTo>
                      <a:pt x="39" y="48"/>
                      <a:pt x="34" y="55"/>
                      <a:pt x="36" y="65"/>
                    </a:cubicBezTo>
                    <a:cubicBezTo>
                      <a:pt x="37" y="74"/>
                      <a:pt x="44" y="80"/>
                      <a:pt x="53" y="80"/>
                    </a:cubicBezTo>
                    <a:cubicBezTo>
                      <a:pt x="62" y="79"/>
                      <a:pt x="68" y="70"/>
                      <a:pt x="64" y="64"/>
                    </a:cubicBezTo>
                    <a:cubicBezTo>
                      <a:pt x="63" y="65"/>
                      <a:pt x="62" y="66"/>
                      <a:pt x="61" y="66"/>
                    </a:cubicBezTo>
                    <a:cubicBezTo>
                      <a:pt x="58" y="68"/>
                      <a:pt x="53" y="67"/>
                      <a:pt x="51" y="64"/>
                    </a:cubicBezTo>
                    <a:cubicBezTo>
                      <a:pt x="49" y="61"/>
                      <a:pt x="50" y="57"/>
                      <a:pt x="53" y="55"/>
                    </a:cubicBezTo>
                    <a:cubicBezTo>
                      <a:pt x="55" y="53"/>
                      <a:pt x="60" y="53"/>
                      <a:pt x="63" y="56"/>
                    </a:cubicBezTo>
                    <a:cubicBezTo>
                      <a:pt x="67" y="61"/>
                      <a:pt x="71" y="66"/>
                      <a:pt x="67" y="74"/>
                    </a:cubicBezTo>
                    <a:cubicBezTo>
                      <a:pt x="64" y="80"/>
                      <a:pt x="58" y="83"/>
                      <a:pt x="51" y="83"/>
                    </a:cubicBezTo>
                    <a:cubicBezTo>
                      <a:pt x="43" y="83"/>
                      <a:pt x="38" y="79"/>
                      <a:pt x="35" y="72"/>
                    </a:cubicBezTo>
                    <a:cubicBezTo>
                      <a:pt x="31" y="63"/>
                      <a:pt x="32" y="55"/>
                      <a:pt x="39" y="48"/>
                    </a:cubicBezTo>
                    <a:cubicBezTo>
                      <a:pt x="35" y="49"/>
                      <a:pt x="32" y="51"/>
                      <a:pt x="28" y="52"/>
                    </a:cubicBezTo>
                    <a:cubicBezTo>
                      <a:pt x="19" y="54"/>
                      <a:pt x="11" y="51"/>
                      <a:pt x="4" y="47"/>
                    </a:cubicBezTo>
                    <a:cubicBezTo>
                      <a:pt x="3" y="46"/>
                      <a:pt x="1" y="45"/>
                      <a:pt x="0" y="44"/>
                    </a:cubicBezTo>
                    <a:cubicBezTo>
                      <a:pt x="0" y="44"/>
                      <a:pt x="0" y="44"/>
                      <a:pt x="0" y="4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412" name="Freeform 10"/>
              <p:cNvSpPr/>
              <p:nvPr/>
            </p:nvSpPr>
            <p:spPr>
              <a:xfrm>
                <a:off x="8298720" y="4549320"/>
                <a:ext cx="2210040" cy="32760"/>
              </a:xfrm>
              <a:custGeom>
                <a:avLst/>
                <a:gdLst/>
                <a:ahLst/>
                <a:rect l="l" t="t" r="r" b="b"/>
                <a:pathLst>
                  <a:path w="910" h="13">
                    <a:moveTo>
                      <a:pt x="25" y="0"/>
                    </a:moveTo>
                    <a:cubicBezTo>
                      <a:pt x="55" y="1"/>
                      <a:pt x="84" y="3"/>
                      <a:pt x="114" y="4"/>
                    </a:cubicBezTo>
                    <a:cubicBezTo>
                      <a:pt x="125" y="4"/>
                      <a:pt x="136" y="5"/>
                      <a:pt x="147" y="5"/>
                    </a:cubicBezTo>
                    <a:cubicBezTo>
                      <a:pt x="346" y="5"/>
                      <a:pt x="545" y="5"/>
                      <a:pt x="744" y="5"/>
                    </a:cubicBezTo>
                    <a:cubicBezTo>
                      <a:pt x="783" y="5"/>
                      <a:pt x="822" y="2"/>
                      <a:pt x="862" y="1"/>
                    </a:cubicBezTo>
                    <a:cubicBezTo>
                      <a:pt x="875" y="0"/>
                      <a:pt x="889" y="0"/>
                      <a:pt x="902" y="0"/>
                    </a:cubicBezTo>
                    <a:cubicBezTo>
                      <a:pt x="907" y="0"/>
                      <a:pt x="910" y="2"/>
                      <a:pt x="910" y="7"/>
                    </a:cubicBezTo>
                    <a:cubicBezTo>
                      <a:pt x="910" y="11"/>
                      <a:pt x="907" y="13"/>
                      <a:pt x="902" y="13"/>
                    </a:cubicBezTo>
                    <a:cubicBezTo>
                      <a:pt x="872" y="12"/>
                      <a:pt x="842" y="11"/>
                      <a:pt x="812" y="10"/>
                    </a:cubicBezTo>
                    <a:cubicBezTo>
                      <a:pt x="775" y="9"/>
                      <a:pt x="737" y="8"/>
                      <a:pt x="699" y="8"/>
                    </a:cubicBezTo>
                    <a:cubicBezTo>
                      <a:pt x="578" y="8"/>
                      <a:pt x="456" y="8"/>
                      <a:pt x="334" y="8"/>
                    </a:cubicBezTo>
                    <a:cubicBezTo>
                      <a:pt x="240" y="9"/>
                      <a:pt x="145" y="6"/>
                      <a:pt x="50" y="12"/>
                    </a:cubicBezTo>
                    <a:cubicBezTo>
                      <a:pt x="36" y="13"/>
                      <a:pt x="23" y="13"/>
                      <a:pt x="9" y="13"/>
                    </a:cubicBezTo>
                    <a:cubicBezTo>
                      <a:pt x="4" y="13"/>
                      <a:pt x="0" y="10"/>
                      <a:pt x="1" y="6"/>
                    </a:cubicBezTo>
                    <a:cubicBezTo>
                      <a:pt x="1" y="2"/>
                      <a:pt x="3" y="0"/>
                      <a:pt x="8" y="0"/>
                    </a:cubicBezTo>
                    <a:cubicBezTo>
                      <a:pt x="14" y="0"/>
                      <a:pt x="20" y="0"/>
                      <a:pt x="2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413" name="Freeform 11"/>
              <p:cNvSpPr/>
              <p:nvPr/>
            </p:nvSpPr>
            <p:spPr>
              <a:xfrm>
                <a:off x="10484640" y="4463280"/>
                <a:ext cx="172080" cy="204120"/>
              </a:xfrm>
              <a:custGeom>
                <a:avLst/>
                <a:gdLst/>
                <a:ahLst/>
                <a:rect l="l" t="t" r="r" b="b"/>
                <a:pathLst>
                  <a:path w="71" h="81">
                    <a:moveTo>
                      <a:pt x="17" y="40"/>
                    </a:moveTo>
                    <a:cubicBezTo>
                      <a:pt x="19" y="39"/>
                      <a:pt x="21" y="39"/>
                      <a:pt x="23" y="38"/>
                    </a:cubicBezTo>
                    <a:cubicBezTo>
                      <a:pt x="35" y="36"/>
                      <a:pt x="37" y="26"/>
                      <a:pt x="35" y="16"/>
                    </a:cubicBezTo>
                    <a:cubicBezTo>
                      <a:pt x="34" y="7"/>
                      <a:pt x="23" y="2"/>
                      <a:pt x="15" y="5"/>
                    </a:cubicBezTo>
                    <a:cubicBezTo>
                      <a:pt x="8" y="7"/>
                      <a:pt x="5" y="14"/>
                      <a:pt x="8" y="20"/>
                    </a:cubicBezTo>
                    <a:cubicBezTo>
                      <a:pt x="9" y="19"/>
                      <a:pt x="9" y="18"/>
                      <a:pt x="10" y="18"/>
                    </a:cubicBezTo>
                    <a:cubicBezTo>
                      <a:pt x="14" y="16"/>
                      <a:pt x="18" y="17"/>
                      <a:pt x="20" y="20"/>
                    </a:cubicBezTo>
                    <a:cubicBezTo>
                      <a:pt x="22" y="23"/>
                      <a:pt x="21" y="27"/>
                      <a:pt x="19" y="29"/>
                    </a:cubicBezTo>
                    <a:cubicBezTo>
                      <a:pt x="16" y="32"/>
                      <a:pt x="11" y="31"/>
                      <a:pt x="9" y="28"/>
                    </a:cubicBezTo>
                    <a:cubicBezTo>
                      <a:pt x="5" y="22"/>
                      <a:pt x="0" y="17"/>
                      <a:pt x="5" y="9"/>
                    </a:cubicBezTo>
                    <a:cubicBezTo>
                      <a:pt x="8" y="4"/>
                      <a:pt x="16" y="0"/>
                      <a:pt x="23" y="1"/>
                    </a:cubicBezTo>
                    <a:cubicBezTo>
                      <a:pt x="31" y="3"/>
                      <a:pt x="37" y="9"/>
                      <a:pt x="38" y="16"/>
                    </a:cubicBezTo>
                    <a:cubicBezTo>
                      <a:pt x="40" y="23"/>
                      <a:pt x="39" y="26"/>
                      <a:pt x="34" y="36"/>
                    </a:cubicBezTo>
                    <a:cubicBezTo>
                      <a:pt x="47" y="28"/>
                      <a:pt x="59" y="31"/>
                      <a:pt x="71" y="40"/>
                    </a:cubicBezTo>
                    <a:cubicBezTo>
                      <a:pt x="63" y="49"/>
                      <a:pt x="51" y="51"/>
                      <a:pt x="33" y="45"/>
                    </a:cubicBezTo>
                    <a:cubicBezTo>
                      <a:pt x="38" y="51"/>
                      <a:pt x="40" y="57"/>
                      <a:pt x="38" y="64"/>
                    </a:cubicBezTo>
                    <a:cubicBezTo>
                      <a:pt x="37" y="71"/>
                      <a:pt x="33" y="76"/>
                      <a:pt x="27" y="79"/>
                    </a:cubicBezTo>
                    <a:cubicBezTo>
                      <a:pt x="20" y="81"/>
                      <a:pt x="14" y="80"/>
                      <a:pt x="8" y="76"/>
                    </a:cubicBezTo>
                    <a:cubicBezTo>
                      <a:pt x="2" y="71"/>
                      <a:pt x="1" y="64"/>
                      <a:pt x="5" y="58"/>
                    </a:cubicBezTo>
                    <a:cubicBezTo>
                      <a:pt x="6" y="57"/>
                      <a:pt x="7" y="55"/>
                      <a:pt x="8" y="54"/>
                    </a:cubicBezTo>
                    <a:cubicBezTo>
                      <a:pt x="11" y="50"/>
                      <a:pt x="15" y="49"/>
                      <a:pt x="18" y="52"/>
                    </a:cubicBezTo>
                    <a:cubicBezTo>
                      <a:pt x="22" y="54"/>
                      <a:pt x="22" y="59"/>
                      <a:pt x="20" y="62"/>
                    </a:cubicBezTo>
                    <a:cubicBezTo>
                      <a:pt x="17" y="65"/>
                      <a:pt x="13" y="65"/>
                      <a:pt x="9" y="62"/>
                    </a:cubicBezTo>
                    <a:cubicBezTo>
                      <a:pt x="9" y="62"/>
                      <a:pt x="9" y="61"/>
                      <a:pt x="8" y="60"/>
                    </a:cubicBezTo>
                    <a:cubicBezTo>
                      <a:pt x="5" y="67"/>
                      <a:pt x="7" y="73"/>
                      <a:pt x="13" y="76"/>
                    </a:cubicBezTo>
                    <a:cubicBezTo>
                      <a:pt x="23" y="80"/>
                      <a:pt x="34" y="73"/>
                      <a:pt x="36" y="63"/>
                    </a:cubicBezTo>
                    <a:cubicBezTo>
                      <a:pt x="37" y="51"/>
                      <a:pt x="32" y="44"/>
                      <a:pt x="21" y="42"/>
                    </a:cubicBezTo>
                    <a:cubicBezTo>
                      <a:pt x="19" y="42"/>
                      <a:pt x="18" y="42"/>
                      <a:pt x="17" y="41"/>
                    </a:cubicBezTo>
                    <a:cubicBezTo>
                      <a:pt x="17" y="41"/>
                      <a:pt x="17" y="40"/>
                      <a:pt x="17" y="4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</p:grpSp>
      <p:grpSp>
        <p:nvGrpSpPr>
          <p:cNvPr id="414" name="组合 15379"/>
          <p:cNvGrpSpPr/>
          <p:nvPr/>
        </p:nvGrpSpPr>
        <p:grpSpPr>
          <a:xfrm>
            <a:off x="2916360" y="237960"/>
            <a:ext cx="6315120" cy="1444680"/>
            <a:chOff x="2916360" y="237960"/>
            <a:chExt cx="6315120" cy="1444680"/>
          </a:xfrm>
        </p:grpSpPr>
        <p:grpSp>
          <p:nvGrpSpPr>
            <p:cNvPr id="415" name="组合 3"/>
            <p:cNvGrpSpPr/>
            <p:nvPr/>
          </p:nvGrpSpPr>
          <p:grpSpPr>
            <a:xfrm>
              <a:off x="2916360" y="237960"/>
              <a:ext cx="6315120" cy="1444680"/>
              <a:chOff x="2916360" y="237960"/>
              <a:chExt cx="6315120" cy="1444680"/>
            </a:xfrm>
          </p:grpSpPr>
          <p:pic>
            <p:nvPicPr>
              <p:cNvPr id="416" name="Group 8" descr=""/>
              <p:cNvPicPr/>
              <p:nvPr/>
            </p:nvPicPr>
            <p:blipFill>
              <a:blip r:embed="rId1"/>
              <a:stretch/>
            </p:blipFill>
            <p:spPr>
              <a:xfrm>
                <a:off x="2916360" y="237960"/>
                <a:ext cx="6315120" cy="14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文本框 6"/>
              <p:cNvSpPr/>
              <p:nvPr/>
            </p:nvSpPr>
            <p:spPr>
              <a:xfrm>
                <a:off x="5437080" y="86076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c2710"/>
                    </a:solidFill>
                    <a:latin typeface="Calibri"/>
                    <a:ea typeface="宋体"/>
                  </a:rPr>
                  <a:t>中国摇滚大神</a:t>
                </a:r>
                <a:endParaRPr b="0" lang="en-US" sz="2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418" name="文本框 15383"/>
            <p:cNvSpPr/>
            <p:nvPr/>
          </p:nvSpPr>
          <p:spPr>
            <a:xfrm>
              <a:off x="4522680" y="617760"/>
              <a:ext cx="314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74f1f"/>
                  </a:solidFill>
                  <a:latin typeface="Brush Script MT"/>
                </a:rPr>
                <a:t>Chinese rock a great god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419" name="组合 15384"/>
          <p:cNvGrpSpPr/>
          <p:nvPr/>
        </p:nvGrpSpPr>
        <p:grpSpPr>
          <a:xfrm>
            <a:off x="374760" y="1398600"/>
            <a:ext cx="4476600" cy="3103560"/>
            <a:chOff x="374760" y="1398600"/>
            <a:chExt cx="4476600" cy="3103560"/>
          </a:xfrm>
        </p:grpSpPr>
        <p:pic>
          <p:nvPicPr>
            <p:cNvPr id="420" name="图表 86" descr=""/>
            <p:cNvPicPr/>
            <p:nvPr/>
          </p:nvPicPr>
          <p:blipFill>
            <a:blip r:embed="rId2"/>
            <a:stretch/>
          </p:blipFill>
          <p:spPr>
            <a:xfrm>
              <a:off x="374760" y="1398600"/>
              <a:ext cx="447660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椭圆 15386"/>
            <p:cNvSpPr/>
            <p:nvPr/>
          </p:nvSpPr>
          <p:spPr>
            <a:xfrm>
              <a:off x="1670040" y="2122560"/>
              <a:ext cx="1853280" cy="1827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422" name="组合 15387"/>
          <p:cNvGrpSpPr/>
          <p:nvPr/>
        </p:nvGrpSpPr>
        <p:grpSpPr>
          <a:xfrm>
            <a:off x="3780000" y="1434960"/>
            <a:ext cx="4376520" cy="3002040"/>
            <a:chOff x="3780000" y="1434960"/>
            <a:chExt cx="4376520" cy="3002040"/>
          </a:xfrm>
        </p:grpSpPr>
        <p:grpSp>
          <p:nvGrpSpPr>
            <p:cNvPr id="423" name="组合 109"/>
            <p:cNvGrpSpPr/>
            <p:nvPr/>
          </p:nvGrpSpPr>
          <p:grpSpPr>
            <a:xfrm>
              <a:off x="3780000" y="1434960"/>
              <a:ext cx="4376520" cy="3002040"/>
              <a:chOff x="3780000" y="1434960"/>
              <a:chExt cx="4376520" cy="3002040"/>
            </a:xfrm>
          </p:grpSpPr>
          <p:pic>
            <p:nvPicPr>
              <p:cNvPr id="424" name="图表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0000" y="1434960"/>
                <a:ext cx="4376520" cy="300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椭圆 78"/>
              <p:cNvSpPr/>
              <p:nvPr/>
            </p:nvSpPr>
            <p:spPr>
              <a:xfrm>
                <a:off x="5034600" y="2098080"/>
                <a:ext cx="1814400" cy="1771920"/>
              </a:xfrm>
              <a:prstGeom prst="ellipse">
                <a:avLst/>
              </a:prstGeom>
              <a:solidFill>
                <a:srgbClr val="fd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426" name="文本框 18"/>
              <p:cNvSpPr/>
              <p:nvPr/>
            </p:nvSpPr>
            <p:spPr>
              <a:xfrm>
                <a:off x="5394600" y="2315160"/>
                <a:ext cx="1174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74f1f"/>
                    </a:solidFill>
                    <a:latin typeface="Vivaldi"/>
                  </a:rPr>
                  <a:t>78</a:t>
                </a:r>
                <a:r>
                  <a:rPr b="0" lang="en-US" sz="2800" spc="-1" strike="noStrike">
                    <a:solidFill>
                      <a:srgbClr val="574f1f"/>
                    </a:solidFill>
                    <a:latin typeface="Vivaldi"/>
                  </a:rPr>
                  <a:t>%</a:t>
                </a:r>
                <a:endParaRPr b="0" lang="en-US" sz="2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427" name="矩形 21"/>
              <p:cNvSpPr/>
              <p:nvPr/>
            </p:nvSpPr>
            <p:spPr>
              <a:xfrm>
                <a:off x="5579280" y="30441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分类</a:t>
                </a:r>
                <a:r>
                  <a:rPr b="0" lang="en-US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0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428" name="椭圆 79"/>
              <p:cNvSpPr/>
              <p:nvPr/>
            </p:nvSpPr>
            <p:spPr>
              <a:xfrm>
                <a:off x="4964760" y="2030760"/>
                <a:ext cx="1952640" cy="1907280"/>
              </a:xfrm>
              <a:prstGeom prst="ellipse">
                <a:avLst/>
              </a:prstGeom>
              <a:noFill/>
              <a:ln w="12600">
                <a:solidFill>
                  <a:srgbClr val="fdfbe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429" name="椭圆 15394"/>
            <p:cNvSpPr/>
            <p:nvPr/>
          </p:nvSpPr>
          <p:spPr>
            <a:xfrm>
              <a:off x="5028480" y="2094840"/>
              <a:ext cx="1853280" cy="1827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430" name="组合 15395"/>
          <p:cNvGrpSpPr/>
          <p:nvPr/>
        </p:nvGrpSpPr>
        <p:grpSpPr>
          <a:xfrm>
            <a:off x="7147080" y="1521000"/>
            <a:ext cx="4378320" cy="3000240"/>
            <a:chOff x="7147080" y="1521000"/>
            <a:chExt cx="4378320" cy="3000240"/>
          </a:xfrm>
        </p:grpSpPr>
        <p:grpSp>
          <p:nvGrpSpPr>
            <p:cNvPr id="431" name="组合 110"/>
            <p:cNvGrpSpPr/>
            <p:nvPr/>
          </p:nvGrpSpPr>
          <p:grpSpPr>
            <a:xfrm>
              <a:off x="7147080" y="1521000"/>
              <a:ext cx="4378320" cy="3000240"/>
              <a:chOff x="7147080" y="1521000"/>
              <a:chExt cx="4378320" cy="3000240"/>
            </a:xfrm>
          </p:grpSpPr>
          <p:pic>
            <p:nvPicPr>
              <p:cNvPr id="432" name="图表 9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47080" y="1521000"/>
                <a:ext cx="4378320" cy="30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椭圆 98"/>
              <p:cNvSpPr/>
              <p:nvPr/>
            </p:nvSpPr>
            <p:spPr>
              <a:xfrm>
                <a:off x="8402040" y="2183760"/>
                <a:ext cx="1815120" cy="1770840"/>
              </a:xfrm>
              <a:prstGeom prst="ellipse">
                <a:avLst/>
              </a:prstGeom>
              <a:solidFill>
                <a:srgbClr val="fd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434" name="文本框 99"/>
              <p:cNvSpPr/>
              <p:nvPr/>
            </p:nvSpPr>
            <p:spPr>
              <a:xfrm>
                <a:off x="8762400" y="2400480"/>
                <a:ext cx="1174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74f1f"/>
                    </a:solidFill>
                    <a:latin typeface="Vivaldi"/>
                  </a:rPr>
                  <a:t>56</a:t>
                </a:r>
                <a:r>
                  <a:rPr b="0" lang="en-US" sz="2800" spc="-1" strike="noStrike">
                    <a:solidFill>
                      <a:srgbClr val="574f1f"/>
                    </a:solidFill>
                    <a:latin typeface="Vivaldi"/>
                  </a:rPr>
                  <a:t>%</a:t>
                </a:r>
                <a:endParaRPr b="0" lang="en-US" sz="2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435" name="矩形 100"/>
              <p:cNvSpPr/>
              <p:nvPr/>
            </p:nvSpPr>
            <p:spPr>
              <a:xfrm>
                <a:off x="8947080" y="312948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分类</a:t>
                </a:r>
                <a:r>
                  <a:rPr b="0" lang="en-US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0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436" name="椭圆 102"/>
              <p:cNvSpPr/>
              <p:nvPr/>
            </p:nvSpPr>
            <p:spPr>
              <a:xfrm>
                <a:off x="8332200" y="2116440"/>
                <a:ext cx="1953360" cy="1906200"/>
              </a:xfrm>
              <a:prstGeom prst="ellipse">
                <a:avLst/>
              </a:prstGeom>
              <a:noFill/>
              <a:ln w="12600">
                <a:solidFill>
                  <a:srgbClr val="fdfbe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437" name="椭圆 15402"/>
            <p:cNvSpPr/>
            <p:nvPr/>
          </p:nvSpPr>
          <p:spPr>
            <a:xfrm>
              <a:off x="8386920" y="2166480"/>
              <a:ext cx="1854360" cy="18259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sp>
        <p:nvSpPr>
          <p:cNvPr id="438" name="下弧形箭头 15403"/>
          <p:cNvSpPr/>
          <p:nvPr/>
        </p:nvSpPr>
        <p:spPr>
          <a:xfrm rot="16260000">
            <a:off x="11558520" y="6316560"/>
            <a:ext cx="488880" cy="469800"/>
          </a:xfrm>
          <a:custGeom>
            <a:avLst/>
            <a:gdLst>
              <a:gd name="textAreaLeft" fmla="*/ 85320 w 488880"/>
              <a:gd name="textAreaRight" fmla="*/ 354600 w 488880"/>
              <a:gd name="textAreaTop" fmla="*/ 62640 h 469800"/>
              <a:gd name="textAreaBottom" fmla="*/ 40716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b8b00">
              <a:alpha val="57000"/>
            </a:srgbClr>
          </a:solidFill>
          <a:ln w="9360">
            <a:solidFill>
              <a:srgbClr val="574f1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0"/>
                            </p:stCondLst>
                            <p:childTnLst>
                              <p:par>
                                <p:cTn id="41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000"/>
                            </p:stCondLst>
                            <p:childTnLst>
                              <p:par>
                                <p:cTn id="4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1"/>
          <p:cNvGrpSpPr/>
          <p:nvPr/>
        </p:nvGrpSpPr>
        <p:grpSpPr>
          <a:xfrm>
            <a:off x="2230200" y="786600"/>
            <a:ext cx="7237440" cy="5018400"/>
            <a:chOff x="2230200" y="786600"/>
            <a:chExt cx="7237440" cy="5018400"/>
          </a:xfrm>
        </p:grpSpPr>
        <p:pic>
          <p:nvPicPr>
            <p:cNvPr id="440" name="图片 16" descr=""/>
            <p:cNvPicPr/>
            <p:nvPr/>
          </p:nvPicPr>
          <p:blipFill>
            <a:blip r:embed="rId1"/>
            <a:srcRect l="0" t="0" r="46724" b="35518"/>
            <a:stretch/>
          </p:blipFill>
          <p:spPr>
            <a:xfrm flipH="1" rot="3973200">
              <a:off x="6654960" y="2400480"/>
              <a:ext cx="2568240" cy="22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图片 2" descr=""/>
            <p:cNvPicPr/>
            <p:nvPr/>
          </p:nvPicPr>
          <p:blipFill>
            <a:blip r:embed="rId2"/>
            <a:srcRect l="0" t="0" r="46724" b="35518"/>
            <a:stretch/>
          </p:blipFill>
          <p:spPr>
            <a:xfrm rot="20964000">
              <a:off x="2444400" y="1044000"/>
              <a:ext cx="3040920" cy="261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3" descr=""/>
            <p:cNvPicPr/>
            <p:nvPr/>
          </p:nvPicPr>
          <p:blipFill>
            <a:blip r:embed="rId3"/>
            <a:srcRect l="0" t="0" r="-561" b="0"/>
            <a:stretch/>
          </p:blipFill>
          <p:spPr>
            <a:xfrm rot="16200000">
              <a:off x="2655360" y="1675080"/>
              <a:ext cx="4840200" cy="34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3" name="组合 4"/>
          <p:cNvGrpSpPr/>
          <p:nvPr/>
        </p:nvGrpSpPr>
        <p:grpSpPr>
          <a:xfrm>
            <a:off x="3740040" y="1030320"/>
            <a:ext cx="4711680" cy="4710240"/>
            <a:chOff x="3740040" y="1030320"/>
            <a:chExt cx="4711680" cy="4710240"/>
          </a:xfrm>
        </p:grpSpPr>
        <p:sp>
          <p:nvSpPr>
            <p:cNvPr id="444" name="椭圆 5"/>
            <p:cNvSpPr/>
            <p:nvPr/>
          </p:nvSpPr>
          <p:spPr>
            <a:xfrm>
              <a:off x="3943080" y="1233360"/>
              <a:ext cx="4305600" cy="4303800"/>
            </a:xfrm>
            <a:prstGeom prst="ellipse">
              <a:avLst/>
            </a:prstGeom>
            <a:solidFill>
              <a:srgbClr val="fdf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445" name="椭圆 6"/>
            <p:cNvSpPr/>
            <p:nvPr/>
          </p:nvSpPr>
          <p:spPr>
            <a:xfrm>
              <a:off x="3740040" y="1030320"/>
              <a:ext cx="4711680" cy="4710240"/>
            </a:xfrm>
            <a:prstGeom prst="ellipse">
              <a:avLst/>
            </a:prstGeom>
            <a:noFill/>
            <a:ln w="12600">
              <a:solidFill>
                <a:srgbClr val="fdfbe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sp>
        <p:nvSpPr>
          <p:cNvPr id="446" name="文本框 7"/>
          <p:cNvSpPr/>
          <p:nvPr/>
        </p:nvSpPr>
        <p:spPr>
          <a:xfrm>
            <a:off x="4293720" y="259560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4f1f"/>
                </a:solidFill>
                <a:latin typeface="Vivaldi"/>
              </a:rPr>
              <a:t>The darling of the pop music</a:t>
            </a:r>
            <a:endParaRPr b="0" lang="en-US" sz="2000" spc="-1" strike="noStrike">
              <a:solidFill>
                <a:srgbClr val="574f1f"/>
              </a:solidFill>
              <a:latin typeface="Calibri"/>
            </a:endParaRPr>
          </a:p>
        </p:txBody>
      </p:sp>
      <p:sp>
        <p:nvSpPr>
          <p:cNvPr id="447" name="文本框 8"/>
          <p:cNvSpPr/>
          <p:nvPr/>
        </p:nvSpPr>
        <p:spPr>
          <a:xfrm>
            <a:off x="5266440" y="2976480"/>
            <a:ext cx="16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f1f"/>
                </a:solidFill>
                <a:latin typeface="宋体"/>
              </a:rPr>
              <a:t>{</a:t>
            </a:r>
            <a:r>
              <a:rPr b="0" lang="zh-CN" sz="3200" spc="-1" strike="noStrike">
                <a:solidFill>
                  <a:srgbClr val="574f1f"/>
                </a:solidFill>
                <a:latin typeface="宋体"/>
                <a:ea typeface="宋体"/>
              </a:rPr>
              <a:t>流行宠儿</a:t>
            </a:r>
            <a:r>
              <a:rPr b="0" lang="en-US" sz="3200" spc="-1" strike="noStrike">
                <a:solidFill>
                  <a:srgbClr val="574f1f"/>
                </a:solidFill>
                <a:latin typeface="宋体"/>
              </a:rPr>
              <a:t>}</a:t>
            </a:r>
            <a:endParaRPr b="0" lang="en-US" sz="3200" spc="-1" strike="noStrike">
              <a:solidFill>
                <a:srgbClr val="574f1f"/>
              </a:solidFill>
              <a:latin typeface="Calibri"/>
            </a:endParaRPr>
          </a:p>
        </p:txBody>
      </p:sp>
      <p:grpSp>
        <p:nvGrpSpPr>
          <p:cNvPr id="448" name="组合 9"/>
          <p:cNvGrpSpPr/>
          <p:nvPr/>
        </p:nvGrpSpPr>
        <p:grpSpPr>
          <a:xfrm>
            <a:off x="5445000" y="3828960"/>
            <a:ext cx="1352520" cy="387360"/>
            <a:chOff x="5445000" y="3828960"/>
            <a:chExt cx="1352520" cy="387360"/>
          </a:xfrm>
        </p:grpSpPr>
        <p:sp>
          <p:nvSpPr>
            <p:cNvPr id="449" name="Freeform 1332"/>
            <p:cNvSpPr/>
            <p:nvPr/>
          </p:nvSpPr>
          <p:spPr>
            <a:xfrm flipV="1">
              <a:off x="6336000" y="3850200"/>
              <a:ext cx="461520" cy="34452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20"/>
                  </a:moveTo>
                  <a:cubicBezTo>
                    <a:pt x="0" y="20"/>
                    <a:pt x="6" y="13"/>
                    <a:pt x="11" y="12"/>
                  </a:cubicBezTo>
                  <a:cubicBezTo>
                    <a:pt x="24" y="11"/>
                    <a:pt x="16" y="21"/>
                    <a:pt x="16" y="22"/>
                  </a:cubicBezTo>
                  <a:cubicBezTo>
                    <a:pt x="17" y="22"/>
                    <a:pt x="19" y="22"/>
                    <a:pt x="19" y="20"/>
                  </a:cubicBezTo>
                  <a:cubicBezTo>
                    <a:pt x="20" y="24"/>
                    <a:pt x="15" y="25"/>
                    <a:pt x="16" y="27"/>
                  </a:cubicBezTo>
                  <a:cubicBezTo>
                    <a:pt x="17" y="26"/>
                    <a:pt x="19" y="26"/>
                    <a:pt x="20" y="25"/>
                  </a:cubicBezTo>
                  <a:cubicBezTo>
                    <a:pt x="20" y="28"/>
                    <a:pt x="15" y="29"/>
                    <a:pt x="16" y="32"/>
                  </a:cubicBezTo>
                  <a:cubicBezTo>
                    <a:pt x="17" y="29"/>
                    <a:pt x="20" y="31"/>
                    <a:pt x="23" y="29"/>
                  </a:cubicBezTo>
                  <a:cubicBezTo>
                    <a:pt x="33" y="23"/>
                    <a:pt x="23" y="13"/>
                    <a:pt x="22" y="13"/>
                  </a:cubicBezTo>
                  <a:cubicBezTo>
                    <a:pt x="29" y="19"/>
                    <a:pt x="23" y="24"/>
                    <a:pt x="23" y="24"/>
                  </a:cubicBezTo>
                  <a:cubicBezTo>
                    <a:pt x="23" y="24"/>
                    <a:pt x="25" y="20"/>
                    <a:pt x="22" y="15"/>
                  </a:cubicBezTo>
                  <a:cubicBezTo>
                    <a:pt x="19" y="10"/>
                    <a:pt x="10" y="11"/>
                    <a:pt x="6" y="14"/>
                  </a:cubicBezTo>
                  <a:cubicBezTo>
                    <a:pt x="9" y="9"/>
                    <a:pt x="21" y="10"/>
                    <a:pt x="22" y="10"/>
                  </a:cubicBezTo>
                  <a:cubicBezTo>
                    <a:pt x="30" y="10"/>
                    <a:pt x="34" y="19"/>
                    <a:pt x="34" y="20"/>
                  </a:cubicBezTo>
                  <a:cubicBezTo>
                    <a:pt x="34" y="22"/>
                    <a:pt x="35" y="24"/>
                    <a:pt x="35" y="24"/>
                  </a:cubicBezTo>
                  <a:cubicBezTo>
                    <a:pt x="35" y="24"/>
                    <a:pt x="34" y="24"/>
                    <a:pt x="33" y="23"/>
                  </a:cubicBezTo>
                  <a:cubicBezTo>
                    <a:pt x="33" y="21"/>
                    <a:pt x="33" y="18"/>
                    <a:pt x="32" y="16"/>
                  </a:cubicBezTo>
                  <a:cubicBezTo>
                    <a:pt x="31" y="14"/>
                    <a:pt x="28" y="13"/>
                    <a:pt x="28" y="13"/>
                  </a:cubicBezTo>
                  <a:cubicBezTo>
                    <a:pt x="28" y="13"/>
                    <a:pt x="30" y="14"/>
                    <a:pt x="30" y="15"/>
                  </a:cubicBezTo>
                  <a:cubicBezTo>
                    <a:pt x="26" y="21"/>
                    <a:pt x="28" y="25"/>
                    <a:pt x="30" y="25"/>
                  </a:cubicBezTo>
                  <a:cubicBezTo>
                    <a:pt x="32" y="26"/>
                    <a:pt x="33" y="27"/>
                    <a:pt x="33" y="28"/>
                  </a:cubicBezTo>
                  <a:cubicBezTo>
                    <a:pt x="34" y="28"/>
                    <a:pt x="33" y="25"/>
                    <a:pt x="33" y="25"/>
                  </a:cubicBezTo>
                  <a:cubicBezTo>
                    <a:pt x="33" y="25"/>
                    <a:pt x="34" y="24"/>
                    <a:pt x="35" y="27"/>
                  </a:cubicBezTo>
                  <a:cubicBezTo>
                    <a:pt x="37" y="30"/>
                    <a:pt x="41" y="31"/>
                    <a:pt x="42" y="30"/>
                  </a:cubicBezTo>
                  <a:cubicBezTo>
                    <a:pt x="41" y="30"/>
                    <a:pt x="38" y="28"/>
                    <a:pt x="38" y="26"/>
                  </a:cubicBezTo>
                  <a:cubicBezTo>
                    <a:pt x="39" y="23"/>
                    <a:pt x="38" y="22"/>
                    <a:pt x="38" y="21"/>
                  </a:cubicBezTo>
                  <a:cubicBezTo>
                    <a:pt x="39" y="21"/>
                    <a:pt x="42" y="21"/>
                    <a:pt x="42" y="22"/>
                  </a:cubicBezTo>
                  <a:cubicBezTo>
                    <a:pt x="43" y="21"/>
                    <a:pt x="41" y="18"/>
                    <a:pt x="40" y="18"/>
                  </a:cubicBezTo>
                  <a:cubicBezTo>
                    <a:pt x="41" y="18"/>
                    <a:pt x="43" y="16"/>
                    <a:pt x="42" y="15"/>
                  </a:cubicBezTo>
                  <a:cubicBezTo>
                    <a:pt x="41" y="17"/>
                    <a:pt x="40" y="14"/>
                    <a:pt x="39" y="14"/>
                  </a:cubicBezTo>
                  <a:cubicBezTo>
                    <a:pt x="37" y="13"/>
                    <a:pt x="35" y="13"/>
                    <a:pt x="34" y="14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28" y="11"/>
                    <a:pt x="24" y="10"/>
                    <a:pt x="24" y="10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7" y="11"/>
                    <a:pt x="29" y="10"/>
                  </a:cubicBezTo>
                  <a:cubicBezTo>
                    <a:pt x="31" y="10"/>
                    <a:pt x="35" y="7"/>
                    <a:pt x="36" y="9"/>
                  </a:cubicBezTo>
                  <a:cubicBezTo>
                    <a:pt x="36" y="8"/>
                    <a:pt x="35" y="7"/>
                    <a:pt x="34" y="7"/>
                  </a:cubicBezTo>
                  <a:cubicBezTo>
                    <a:pt x="36" y="3"/>
                    <a:pt x="39" y="2"/>
                    <a:pt x="40" y="3"/>
                  </a:cubicBezTo>
                  <a:cubicBezTo>
                    <a:pt x="39" y="0"/>
                    <a:pt x="34" y="2"/>
                    <a:pt x="31" y="2"/>
                  </a:cubicBezTo>
                  <a:cubicBezTo>
                    <a:pt x="32" y="1"/>
                    <a:pt x="30" y="0"/>
                    <a:pt x="30" y="0"/>
                  </a:cubicBezTo>
                  <a:cubicBezTo>
                    <a:pt x="30" y="0"/>
                    <a:pt x="30" y="2"/>
                    <a:pt x="27" y="3"/>
                  </a:cubicBezTo>
                  <a:cubicBezTo>
                    <a:pt x="25" y="4"/>
                    <a:pt x="24" y="7"/>
                    <a:pt x="25" y="8"/>
                  </a:cubicBezTo>
                  <a:cubicBezTo>
                    <a:pt x="21" y="10"/>
                    <a:pt x="14" y="9"/>
                    <a:pt x="9" y="11"/>
                  </a:cubicBezTo>
                  <a:cubicBezTo>
                    <a:pt x="5" y="13"/>
                    <a:pt x="0" y="20"/>
                    <a:pt x="0" y="20"/>
                  </a:cubicBezTo>
                  <a:close/>
                  <a:moveTo>
                    <a:pt x="33" y="5"/>
                  </a:moveTo>
                  <a:cubicBezTo>
                    <a:pt x="34" y="7"/>
                    <a:pt x="26" y="8"/>
                    <a:pt x="26" y="8"/>
                  </a:cubicBezTo>
                  <a:cubicBezTo>
                    <a:pt x="26" y="8"/>
                    <a:pt x="32" y="2"/>
                    <a:pt x="33" y="5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450" name="Freeform 1333"/>
            <p:cNvSpPr/>
            <p:nvPr/>
          </p:nvSpPr>
          <p:spPr>
            <a:xfrm flipV="1">
              <a:off x="5445000" y="3850200"/>
              <a:ext cx="461520" cy="34452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33" y="11"/>
                  </a:moveTo>
                  <a:cubicBezTo>
                    <a:pt x="28" y="9"/>
                    <a:pt x="21" y="10"/>
                    <a:pt x="18" y="8"/>
                  </a:cubicBezTo>
                  <a:cubicBezTo>
                    <a:pt x="18" y="7"/>
                    <a:pt x="17" y="4"/>
                    <a:pt x="15" y="3"/>
                  </a:cubicBezTo>
                  <a:cubicBezTo>
                    <a:pt x="12" y="2"/>
                    <a:pt x="13" y="0"/>
                    <a:pt x="13" y="0"/>
                  </a:cubicBezTo>
                  <a:cubicBezTo>
                    <a:pt x="13" y="0"/>
                    <a:pt x="10" y="1"/>
                    <a:pt x="11" y="2"/>
                  </a:cubicBezTo>
                  <a:cubicBezTo>
                    <a:pt x="9" y="2"/>
                    <a:pt x="4" y="0"/>
                    <a:pt x="2" y="3"/>
                  </a:cubicBezTo>
                  <a:cubicBezTo>
                    <a:pt x="3" y="2"/>
                    <a:pt x="6" y="3"/>
                    <a:pt x="8" y="7"/>
                  </a:cubicBezTo>
                  <a:cubicBezTo>
                    <a:pt x="7" y="7"/>
                    <a:pt x="6" y="8"/>
                    <a:pt x="7" y="9"/>
                  </a:cubicBezTo>
                  <a:cubicBezTo>
                    <a:pt x="8" y="7"/>
                    <a:pt x="11" y="10"/>
                    <a:pt x="13" y="10"/>
                  </a:cubicBezTo>
                  <a:cubicBezTo>
                    <a:pt x="16" y="11"/>
                    <a:pt x="17" y="9"/>
                    <a:pt x="17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4" y="11"/>
                    <a:pt x="11" y="13"/>
                  </a:cubicBezTo>
                  <a:cubicBezTo>
                    <a:pt x="11" y="13"/>
                    <a:pt x="10" y="13"/>
                    <a:pt x="9" y="14"/>
                  </a:cubicBezTo>
                  <a:cubicBezTo>
                    <a:pt x="7" y="13"/>
                    <a:pt x="5" y="13"/>
                    <a:pt x="4" y="14"/>
                  </a:cubicBezTo>
                  <a:cubicBezTo>
                    <a:pt x="2" y="14"/>
                    <a:pt x="1" y="17"/>
                    <a:pt x="0" y="15"/>
                  </a:cubicBezTo>
                  <a:cubicBezTo>
                    <a:pt x="0" y="16"/>
                    <a:pt x="1" y="18"/>
                    <a:pt x="3" y="18"/>
                  </a:cubicBezTo>
                  <a:cubicBezTo>
                    <a:pt x="2" y="18"/>
                    <a:pt x="0" y="21"/>
                    <a:pt x="1" y="22"/>
                  </a:cubicBezTo>
                  <a:cubicBezTo>
                    <a:pt x="1" y="21"/>
                    <a:pt x="3" y="21"/>
                    <a:pt x="5" y="21"/>
                  </a:cubicBezTo>
                  <a:cubicBezTo>
                    <a:pt x="4" y="22"/>
                    <a:pt x="3" y="23"/>
                    <a:pt x="4" y="26"/>
                  </a:cubicBezTo>
                  <a:cubicBezTo>
                    <a:pt x="5" y="28"/>
                    <a:pt x="1" y="30"/>
                    <a:pt x="0" y="30"/>
                  </a:cubicBezTo>
                  <a:cubicBezTo>
                    <a:pt x="2" y="31"/>
                    <a:pt x="5" y="30"/>
                    <a:pt x="7" y="27"/>
                  </a:cubicBezTo>
                  <a:cubicBezTo>
                    <a:pt x="9" y="24"/>
                    <a:pt x="9" y="25"/>
                    <a:pt x="9" y="25"/>
                  </a:cubicBezTo>
                  <a:cubicBezTo>
                    <a:pt x="9" y="25"/>
                    <a:pt x="8" y="28"/>
                    <a:pt x="9" y="28"/>
                  </a:cubicBezTo>
                  <a:cubicBezTo>
                    <a:pt x="10" y="27"/>
                    <a:pt x="11" y="26"/>
                    <a:pt x="12" y="25"/>
                  </a:cubicBezTo>
                  <a:cubicBezTo>
                    <a:pt x="14" y="25"/>
                    <a:pt x="16" y="21"/>
                    <a:pt x="13" y="15"/>
                  </a:cubicBezTo>
                  <a:cubicBezTo>
                    <a:pt x="12" y="14"/>
                    <a:pt x="14" y="13"/>
                    <a:pt x="14" y="13"/>
                  </a:cubicBezTo>
                  <a:cubicBezTo>
                    <a:pt x="14" y="13"/>
                    <a:pt x="12" y="14"/>
                    <a:pt x="11" y="16"/>
                  </a:cubicBezTo>
                  <a:cubicBezTo>
                    <a:pt x="10" y="18"/>
                    <a:pt x="10" y="21"/>
                    <a:pt x="9" y="23"/>
                  </a:cubicBezTo>
                  <a:cubicBezTo>
                    <a:pt x="8" y="24"/>
                    <a:pt x="7" y="24"/>
                    <a:pt x="7" y="24"/>
                  </a:cubicBezTo>
                  <a:cubicBezTo>
                    <a:pt x="7" y="24"/>
                    <a:pt x="9" y="22"/>
                    <a:pt x="8" y="20"/>
                  </a:cubicBezTo>
                  <a:cubicBezTo>
                    <a:pt x="8" y="19"/>
                    <a:pt x="12" y="10"/>
                    <a:pt x="20" y="10"/>
                  </a:cubicBezTo>
                  <a:cubicBezTo>
                    <a:pt x="21" y="10"/>
                    <a:pt x="33" y="9"/>
                    <a:pt x="36" y="14"/>
                  </a:cubicBezTo>
                  <a:cubicBezTo>
                    <a:pt x="33" y="11"/>
                    <a:pt x="23" y="10"/>
                    <a:pt x="20" y="15"/>
                  </a:cubicBezTo>
                  <a:cubicBezTo>
                    <a:pt x="17" y="20"/>
                    <a:pt x="19" y="24"/>
                    <a:pt x="19" y="24"/>
                  </a:cubicBezTo>
                  <a:cubicBezTo>
                    <a:pt x="19" y="24"/>
                    <a:pt x="14" y="19"/>
                    <a:pt x="21" y="13"/>
                  </a:cubicBezTo>
                  <a:cubicBezTo>
                    <a:pt x="20" y="13"/>
                    <a:pt x="9" y="23"/>
                    <a:pt x="20" y="29"/>
                  </a:cubicBezTo>
                  <a:cubicBezTo>
                    <a:pt x="23" y="31"/>
                    <a:pt x="26" y="29"/>
                    <a:pt x="27" y="32"/>
                  </a:cubicBezTo>
                  <a:cubicBezTo>
                    <a:pt x="27" y="29"/>
                    <a:pt x="23" y="28"/>
                    <a:pt x="22" y="25"/>
                  </a:cubicBezTo>
                  <a:cubicBezTo>
                    <a:pt x="23" y="26"/>
                    <a:pt x="25" y="26"/>
                    <a:pt x="27" y="27"/>
                  </a:cubicBezTo>
                  <a:cubicBezTo>
                    <a:pt x="27" y="25"/>
                    <a:pt x="22" y="24"/>
                    <a:pt x="23" y="20"/>
                  </a:cubicBezTo>
                  <a:cubicBezTo>
                    <a:pt x="23" y="22"/>
                    <a:pt x="25" y="22"/>
                    <a:pt x="26" y="22"/>
                  </a:cubicBezTo>
                  <a:cubicBezTo>
                    <a:pt x="26" y="21"/>
                    <a:pt x="19" y="11"/>
                    <a:pt x="31" y="12"/>
                  </a:cubicBezTo>
                  <a:cubicBezTo>
                    <a:pt x="37" y="13"/>
                    <a:pt x="43" y="20"/>
                    <a:pt x="43" y="20"/>
                  </a:cubicBezTo>
                  <a:cubicBezTo>
                    <a:pt x="43" y="20"/>
                    <a:pt x="38" y="13"/>
                    <a:pt x="33" y="11"/>
                  </a:cubicBezTo>
                  <a:close/>
                  <a:moveTo>
                    <a:pt x="16" y="8"/>
                  </a:moveTo>
                  <a:cubicBezTo>
                    <a:pt x="16" y="8"/>
                    <a:pt x="9" y="7"/>
                    <a:pt x="9" y="5"/>
                  </a:cubicBezTo>
                  <a:cubicBezTo>
                    <a:pt x="10" y="2"/>
                    <a:pt x="16" y="8"/>
                    <a:pt x="16" y="8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451" name="Freeform 1334"/>
            <p:cNvSpPr/>
            <p:nvPr/>
          </p:nvSpPr>
          <p:spPr>
            <a:xfrm flipV="1">
              <a:off x="5734080" y="3828960"/>
              <a:ext cx="355320" cy="215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3" y="11"/>
                  </a:moveTo>
                  <a:cubicBezTo>
                    <a:pt x="33" y="12"/>
                    <a:pt x="33" y="12"/>
                    <a:pt x="33" y="12"/>
                  </a:cubicBezTo>
                  <a:cubicBezTo>
                    <a:pt x="33" y="12"/>
                    <a:pt x="28" y="7"/>
                    <a:pt x="23" y="11"/>
                  </a:cubicBezTo>
                  <a:cubicBezTo>
                    <a:pt x="23" y="12"/>
                    <a:pt x="23" y="15"/>
                    <a:pt x="18" y="15"/>
                  </a:cubicBezTo>
                  <a:cubicBezTo>
                    <a:pt x="19" y="15"/>
                    <a:pt x="19" y="12"/>
                    <a:pt x="22" y="11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10"/>
                    <a:pt x="14" y="15"/>
                    <a:pt x="12" y="13"/>
                  </a:cubicBezTo>
                  <a:cubicBezTo>
                    <a:pt x="11" y="14"/>
                    <a:pt x="11" y="15"/>
                    <a:pt x="10" y="16"/>
                  </a:cubicBezTo>
                  <a:cubicBezTo>
                    <a:pt x="8" y="17"/>
                    <a:pt x="6" y="18"/>
                    <a:pt x="6" y="20"/>
                  </a:cubicBezTo>
                  <a:cubicBezTo>
                    <a:pt x="5" y="19"/>
                    <a:pt x="5" y="14"/>
                    <a:pt x="11" y="13"/>
                  </a:cubicBezTo>
                  <a:cubicBezTo>
                    <a:pt x="10" y="13"/>
                    <a:pt x="8" y="13"/>
                    <a:pt x="8" y="13"/>
                  </a:cubicBezTo>
                  <a:cubicBezTo>
                    <a:pt x="8" y="13"/>
                    <a:pt x="4" y="16"/>
                    <a:pt x="0" y="13"/>
                  </a:cubicBezTo>
                  <a:cubicBezTo>
                    <a:pt x="1" y="12"/>
                    <a:pt x="4" y="9"/>
                    <a:pt x="8" y="12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3"/>
                    <a:pt x="5" y="11"/>
                    <a:pt x="6" y="6"/>
                  </a:cubicBezTo>
                  <a:cubicBezTo>
                    <a:pt x="7" y="7"/>
                    <a:pt x="10" y="7"/>
                    <a:pt x="10" y="9"/>
                  </a:cubicBezTo>
                  <a:cubicBezTo>
                    <a:pt x="11" y="11"/>
                    <a:pt x="10" y="12"/>
                    <a:pt x="12" y="13"/>
                  </a:cubicBezTo>
                  <a:cubicBezTo>
                    <a:pt x="14" y="14"/>
                    <a:pt x="22" y="10"/>
                    <a:pt x="22" y="10"/>
                  </a:cubicBezTo>
                  <a:cubicBezTo>
                    <a:pt x="22" y="10"/>
                    <a:pt x="21" y="9"/>
                    <a:pt x="20" y="9"/>
                  </a:cubicBezTo>
                  <a:cubicBezTo>
                    <a:pt x="19" y="9"/>
                    <a:pt x="17" y="8"/>
                    <a:pt x="16" y="7"/>
                  </a:cubicBezTo>
                  <a:cubicBezTo>
                    <a:pt x="14" y="5"/>
                    <a:pt x="15" y="3"/>
                    <a:pt x="15" y="3"/>
                  </a:cubicBezTo>
                  <a:cubicBezTo>
                    <a:pt x="15" y="3"/>
                    <a:pt x="16" y="3"/>
                    <a:pt x="19" y="5"/>
                  </a:cubicBezTo>
                  <a:cubicBezTo>
                    <a:pt x="22" y="7"/>
                    <a:pt x="19" y="8"/>
                    <a:pt x="23" y="9"/>
                  </a:cubicBezTo>
                  <a:cubicBezTo>
                    <a:pt x="25" y="9"/>
                    <a:pt x="28" y="8"/>
                    <a:pt x="28" y="9"/>
                  </a:cubicBezTo>
                  <a:cubicBezTo>
                    <a:pt x="27" y="8"/>
                    <a:pt x="24" y="6"/>
                    <a:pt x="25" y="4"/>
                  </a:cubicBezTo>
                  <a:cubicBezTo>
                    <a:pt x="25" y="1"/>
                    <a:pt x="26" y="1"/>
                    <a:pt x="26" y="0"/>
                  </a:cubicBezTo>
                  <a:cubicBezTo>
                    <a:pt x="27" y="0"/>
                    <a:pt x="29" y="2"/>
                    <a:pt x="28" y="4"/>
                  </a:cubicBezTo>
                  <a:cubicBezTo>
                    <a:pt x="28" y="6"/>
                    <a:pt x="28" y="8"/>
                    <a:pt x="29" y="9"/>
                  </a:cubicBezTo>
                  <a:cubicBezTo>
                    <a:pt x="31" y="10"/>
                    <a:pt x="33" y="11"/>
                    <a:pt x="33" y="11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452" name="Freeform 1335"/>
            <p:cNvSpPr/>
            <p:nvPr/>
          </p:nvSpPr>
          <p:spPr>
            <a:xfrm flipV="1">
              <a:off x="6143400" y="3828960"/>
              <a:ext cx="353880" cy="215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1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5" y="7"/>
                    <a:pt x="11" y="11"/>
                  </a:cubicBezTo>
                  <a:cubicBezTo>
                    <a:pt x="10" y="12"/>
                    <a:pt x="10" y="15"/>
                    <a:pt x="15" y="15"/>
                  </a:cubicBezTo>
                  <a:cubicBezTo>
                    <a:pt x="15" y="15"/>
                    <a:pt x="15" y="12"/>
                    <a:pt x="11" y="1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20" y="15"/>
                    <a:pt x="22" y="13"/>
                  </a:cubicBezTo>
                  <a:cubicBezTo>
                    <a:pt x="22" y="14"/>
                    <a:pt x="22" y="15"/>
                    <a:pt x="24" y="16"/>
                  </a:cubicBezTo>
                  <a:cubicBezTo>
                    <a:pt x="25" y="17"/>
                    <a:pt x="27" y="18"/>
                    <a:pt x="27" y="20"/>
                  </a:cubicBezTo>
                  <a:cubicBezTo>
                    <a:pt x="28" y="19"/>
                    <a:pt x="29" y="14"/>
                    <a:pt x="22" y="13"/>
                  </a:cubicBezTo>
                  <a:cubicBezTo>
                    <a:pt x="23" y="13"/>
                    <a:pt x="26" y="13"/>
                    <a:pt x="26" y="13"/>
                  </a:cubicBezTo>
                  <a:cubicBezTo>
                    <a:pt x="26" y="13"/>
                    <a:pt x="29" y="16"/>
                    <a:pt x="33" y="13"/>
                  </a:cubicBezTo>
                  <a:cubicBezTo>
                    <a:pt x="32" y="12"/>
                    <a:pt x="29" y="9"/>
                    <a:pt x="26" y="12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13"/>
                    <a:pt x="28" y="11"/>
                    <a:pt x="27" y="6"/>
                  </a:cubicBezTo>
                  <a:cubicBezTo>
                    <a:pt x="26" y="7"/>
                    <a:pt x="23" y="7"/>
                    <a:pt x="23" y="9"/>
                  </a:cubicBezTo>
                  <a:cubicBezTo>
                    <a:pt x="22" y="11"/>
                    <a:pt x="23" y="12"/>
                    <a:pt x="21" y="13"/>
                  </a:cubicBezTo>
                  <a:cubicBezTo>
                    <a:pt x="19" y="14"/>
                    <a:pt x="11" y="10"/>
                    <a:pt x="11" y="10"/>
                  </a:cubicBezTo>
                  <a:cubicBezTo>
                    <a:pt x="12" y="10"/>
                    <a:pt x="12" y="9"/>
                    <a:pt x="13" y="9"/>
                  </a:cubicBezTo>
                  <a:cubicBezTo>
                    <a:pt x="14" y="9"/>
                    <a:pt x="16" y="8"/>
                    <a:pt x="18" y="7"/>
                  </a:cubicBezTo>
                  <a:cubicBezTo>
                    <a:pt x="19" y="5"/>
                    <a:pt x="19" y="3"/>
                    <a:pt x="19" y="3"/>
                  </a:cubicBezTo>
                  <a:cubicBezTo>
                    <a:pt x="19" y="3"/>
                    <a:pt x="17" y="3"/>
                    <a:pt x="14" y="5"/>
                  </a:cubicBezTo>
                  <a:cubicBezTo>
                    <a:pt x="12" y="7"/>
                    <a:pt x="14" y="8"/>
                    <a:pt x="11" y="9"/>
                  </a:cubicBezTo>
                  <a:cubicBezTo>
                    <a:pt x="8" y="9"/>
                    <a:pt x="6" y="8"/>
                    <a:pt x="5" y="9"/>
                  </a:cubicBezTo>
                  <a:cubicBezTo>
                    <a:pt x="6" y="8"/>
                    <a:pt x="9" y="6"/>
                    <a:pt x="9" y="4"/>
                  </a:cubicBezTo>
                  <a:cubicBezTo>
                    <a:pt x="8" y="1"/>
                    <a:pt x="7" y="1"/>
                    <a:pt x="8" y="0"/>
                  </a:cubicBezTo>
                  <a:cubicBezTo>
                    <a:pt x="7" y="0"/>
                    <a:pt x="5" y="2"/>
                    <a:pt x="5" y="4"/>
                  </a:cubicBezTo>
                  <a:cubicBezTo>
                    <a:pt x="5" y="6"/>
                    <a:pt x="5" y="8"/>
                    <a:pt x="4" y="9"/>
                  </a:cubicBezTo>
                  <a:cubicBezTo>
                    <a:pt x="2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453" name="Freeform 1336"/>
            <p:cNvSpPr/>
            <p:nvPr/>
          </p:nvSpPr>
          <p:spPr>
            <a:xfrm flipV="1">
              <a:off x="5992920" y="3968640"/>
              <a:ext cx="235440" cy="2476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3" y="13"/>
                  </a:moveTo>
                  <a:cubicBezTo>
                    <a:pt x="12" y="16"/>
                    <a:pt x="17" y="16"/>
                    <a:pt x="17" y="17"/>
                  </a:cubicBezTo>
                  <a:cubicBezTo>
                    <a:pt x="18" y="16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20" y="14"/>
                    <a:pt x="21" y="14"/>
                    <a:pt x="22" y="15"/>
                  </a:cubicBezTo>
                  <a:cubicBezTo>
                    <a:pt x="22" y="12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0"/>
                    <a:pt x="16" y="8"/>
                    <a:pt x="13" y="11"/>
                  </a:cubicBezTo>
                  <a:cubicBezTo>
                    <a:pt x="15" y="8"/>
                    <a:pt x="13" y="3"/>
                    <a:pt x="13" y="3"/>
                  </a:cubicBezTo>
                  <a:cubicBezTo>
                    <a:pt x="13" y="3"/>
                    <a:pt x="13" y="4"/>
                    <a:pt x="12" y="5"/>
                  </a:cubicBezTo>
                  <a:cubicBezTo>
                    <a:pt x="12" y="2"/>
                    <a:pt x="7" y="0"/>
                    <a:pt x="6" y="0"/>
                  </a:cubicBezTo>
                  <a:cubicBezTo>
                    <a:pt x="7" y="0"/>
                    <a:pt x="7" y="2"/>
                    <a:pt x="7" y="3"/>
                  </a:cubicBezTo>
                  <a:cubicBezTo>
                    <a:pt x="8" y="5"/>
                    <a:pt x="8" y="6"/>
                    <a:pt x="8" y="6"/>
                  </a:cubicBezTo>
                  <a:cubicBezTo>
                    <a:pt x="8" y="6"/>
                    <a:pt x="7" y="6"/>
                    <a:pt x="6" y="6"/>
                  </a:cubicBezTo>
                  <a:cubicBezTo>
                    <a:pt x="7" y="7"/>
                    <a:pt x="8" y="9"/>
                    <a:pt x="9" y="9"/>
                  </a:cubicBezTo>
                  <a:cubicBezTo>
                    <a:pt x="11" y="10"/>
                    <a:pt x="10" y="12"/>
                    <a:pt x="12" y="13"/>
                  </a:cubicBezTo>
                  <a:cubicBezTo>
                    <a:pt x="11" y="13"/>
                    <a:pt x="9" y="13"/>
                    <a:pt x="9" y="11"/>
                  </a:cubicBezTo>
                  <a:cubicBezTo>
                    <a:pt x="8" y="9"/>
                    <a:pt x="6" y="9"/>
                    <a:pt x="6" y="9"/>
                  </a:cubicBezTo>
                  <a:cubicBezTo>
                    <a:pt x="6" y="9"/>
                    <a:pt x="6" y="9"/>
                    <a:pt x="7" y="10"/>
                  </a:cubicBezTo>
                  <a:cubicBezTo>
                    <a:pt x="4" y="8"/>
                    <a:pt x="0" y="11"/>
                    <a:pt x="0" y="12"/>
                  </a:cubicBezTo>
                  <a:cubicBezTo>
                    <a:pt x="1" y="11"/>
                    <a:pt x="3" y="14"/>
                    <a:pt x="5" y="14"/>
                  </a:cubicBezTo>
                  <a:cubicBezTo>
                    <a:pt x="4" y="15"/>
                    <a:pt x="4" y="16"/>
                    <a:pt x="5" y="17"/>
                  </a:cubicBezTo>
                  <a:cubicBezTo>
                    <a:pt x="5" y="15"/>
                    <a:pt x="6" y="15"/>
                    <a:pt x="7" y="16"/>
                  </a:cubicBezTo>
                  <a:cubicBezTo>
                    <a:pt x="9" y="16"/>
                    <a:pt x="10" y="14"/>
                    <a:pt x="10" y="13"/>
                  </a:cubicBezTo>
                  <a:cubicBezTo>
                    <a:pt x="10" y="13"/>
                    <a:pt x="12" y="13"/>
                    <a:pt x="12" y="13"/>
                  </a:cubicBezTo>
                  <a:cubicBezTo>
                    <a:pt x="12" y="13"/>
                    <a:pt x="10" y="15"/>
                    <a:pt x="10" y="18"/>
                  </a:cubicBezTo>
                  <a:cubicBezTo>
                    <a:pt x="9" y="22"/>
                    <a:pt x="13" y="23"/>
                    <a:pt x="13" y="23"/>
                  </a:cubicBezTo>
                  <a:cubicBezTo>
                    <a:pt x="7" y="20"/>
                    <a:pt x="12" y="14"/>
                    <a:pt x="13" y="13"/>
                  </a:cubicBezTo>
                  <a:close/>
                  <a:moveTo>
                    <a:pt x="10" y="5"/>
                  </a:moveTo>
                  <a:cubicBezTo>
                    <a:pt x="11" y="4"/>
                    <a:pt x="12" y="7"/>
                    <a:pt x="12" y="11"/>
                  </a:cubicBezTo>
                  <a:cubicBezTo>
                    <a:pt x="12" y="11"/>
                    <a:pt x="9" y="5"/>
                    <a:pt x="10" y="5"/>
                  </a:cubicBezTo>
                  <a:close/>
                  <a:moveTo>
                    <a:pt x="13" y="12"/>
                  </a:moveTo>
                  <a:cubicBezTo>
                    <a:pt x="13" y="12"/>
                    <a:pt x="18" y="11"/>
                    <a:pt x="19" y="13"/>
                  </a:cubicBezTo>
                  <a:cubicBezTo>
                    <a:pt x="19" y="14"/>
                    <a:pt x="13" y="12"/>
                    <a:pt x="13" y="12"/>
                  </a:cubicBezTo>
                  <a:close/>
                  <a:moveTo>
                    <a:pt x="9" y="13"/>
                  </a:moveTo>
                  <a:cubicBezTo>
                    <a:pt x="9" y="13"/>
                    <a:pt x="3" y="13"/>
                    <a:pt x="3" y="11"/>
                  </a:cubicBezTo>
                  <a:cubicBezTo>
                    <a:pt x="4" y="10"/>
                    <a:pt x="9" y="13"/>
                    <a:pt x="9" y="13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8"/>
          <p:cNvGrpSpPr/>
          <p:nvPr/>
        </p:nvGrpSpPr>
        <p:grpSpPr>
          <a:xfrm>
            <a:off x="7381800" y="2760840"/>
            <a:ext cx="2358720" cy="204480"/>
            <a:chOff x="7381800" y="2760840"/>
            <a:chExt cx="2358720" cy="204480"/>
          </a:xfrm>
        </p:grpSpPr>
        <p:sp>
          <p:nvSpPr>
            <p:cNvPr id="455" name="Freeform 10"/>
            <p:cNvSpPr/>
            <p:nvPr/>
          </p:nvSpPr>
          <p:spPr>
            <a:xfrm>
              <a:off x="7381800" y="2846880"/>
              <a:ext cx="2211120" cy="32760"/>
            </a:xfrm>
            <a:custGeom>
              <a:avLst/>
              <a:gdLst/>
              <a:ahLst/>
              <a:rect l="l" t="t" r="r" b="b"/>
              <a:pathLst>
                <a:path w="910" h="13">
                  <a:moveTo>
                    <a:pt x="25" y="0"/>
                  </a:moveTo>
                  <a:cubicBezTo>
                    <a:pt x="55" y="1"/>
                    <a:pt x="84" y="3"/>
                    <a:pt x="114" y="4"/>
                  </a:cubicBezTo>
                  <a:cubicBezTo>
                    <a:pt x="125" y="4"/>
                    <a:pt x="136" y="5"/>
                    <a:pt x="147" y="5"/>
                  </a:cubicBezTo>
                  <a:cubicBezTo>
                    <a:pt x="346" y="5"/>
                    <a:pt x="545" y="5"/>
                    <a:pt x="744" y="5"/>
                  </a:cubicBezTo>
                  <a:cubicBezTo>
                    <a:pt x="783" y="5"/>
                    <a:pt x="822" y="2"/>
                    <a:pt x="862" y="1"/>
                  </a:cubicBezTo>
                  <a:cubicBezTo>
                    <a:pt x="875" y="0"/>
                    <a:pt x="889" y="0"/>
                    <a:pt x="902" y="0"/>
                  </a:cubicBezTo>
                  <a:cubicBezTo>
                    <a:pt x="907" y="0"/>
                    <a:pt x="910" y="2"/>
                    <a:pt x="910" y="7"/>
                  </a:cubicBezTo>
                  <a:cubicBezTo>
                    <a:pt x="910" y="11"/>
                    <a:pt x="907" y="13"/>
                    <a:pt x="902" y="13"/>
                  </a:cubicBezTo>
                  <a:cubicBezTo>
                    <a:pt x="872" y="12"/>
                    <a:pt x="842" y="11"/>
                    <a:pt x="812" y="10"/>
                  </a:cubicBezTo>
                  <a:cubicBezTo>
                    <a:pt x="775" y="9"/>
                    <a:pt x="737" y="8"/>
                    <a:pt x="699" y="8"/>
                  </a:cubicBezTo>
                  <a:cubicBezTo>
                    <a:pt x="578" y="8"/>
                    <a:pt x="456" y="8"/>
                    <a:pt x="334" y="8"/>
                  </a:cubicBezTo>
                  <a:cubicBezTo>
                    <a:pt x="240" y="9"/>
                    <a:pt x="145" y="6"/>
                    <a:pt x="50" y="12"/>
                  </a:cubicBezTo>
                  <a:cubicBezTo>
                    <a:pt x="36" y="13"/>
                    <a:pt x="23" y="13"/>
                    <a:pt x="9" y="13"/>
                  </a:cubicBezTo>
                  <a:cubicBezTo>
                    <a:pt x="4" y="13"/>
                    <a:pt x="0" y="10"/>
                    <a:pt x="1" y="6"/>
                  </a:cubicBezTo>
                  <a:cubicBezTo>
                    <a:pt x="1" y="2"/>
                    <a:pt x="3" y="0"/>
                    <a:pt x="8" y="0"/>
                  </a:cubicBezTo>
                  <a:cubicBezTo>
                    <a:pt x="14" y="0"/>
                    <a:pt x="20" y="0"/>
                    <a:pt x="2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456" name="Freeform 11"/>
            <p:cNvSpPr/>
            <p:nvPr/>
          </p:nvSpPr>
          <p:spPr>
            <a:xfrm>
              <a:off x="9568440" y="2760840"/>
              <a:ext cx="172080" cy="204480"/>
            </a:xfrm>
            <a:custGeom>
              <a:avLst/>
              <a:gdLst/>
              <a:ahLst/>
              <a:rect l="l" t="t" r="r" b="b"/>
              <a:pathLst>
                <a:path w="71" h="81">
                  <a:moveTo>
                    <a:pt x="17" y="40"/>
                  </a:moveTo>
                  <a:cubicBezTo>
                    <a:pt x="19" y="39"/>
                    <a:pt x="21" y="39"/>
                    <a:pt x="23" y="38"/>
                  </a:cubicBezTo>
                  <a:cubicBezTo>
                    <a:pt x="35" y="36"/>
                    <a:pt x="37" y="26"/>
                    <a:pt x="35" y="16"/>
                  </a:cubicBezTo>
                  <a:cubicBezTo>
                    <a:pt x="34" y="7"/>
                    <a:pt x="23" y="2"/>
                    <a:pt x="15" y="5"/>
                  </a:cubicBezTo>
                  <a:cubicBezTo>
                    <a:pt x="8" y="7"/>
                    <a:pt x="5" y="14"/>
                    <a:pt x="8" y="20"/>
                  </a:cubicBezTo>
                  <a:cubicBezTo>
                    <a:pt x="9" y="19"/>
                    <a:pt x="9" y="18"/>
                    <a:pt x="10" y="18"/>
                  </a:cubicBezTo>
                  <a:cubicBezTo>
                    <a:pt x="14" y="16"/>
                    <a:pt x="18" y="17"/>
                    <a:pt x="20" y="20"/>
                  </a:cubicBezTo>
                  <a:cubicBezTo>
                    <a:pt x="22" y="23"/>
                    <a:pt x="21" y="27"/>
                    <a:pt x="19" y="29"/>
                  </a:cubicBezTo>
                  <a:cubicBezTo>
                    <a:pt x="16" y="32"/>
                    <a:pt x="11" y="31"/>
                    <a:pt x="9" y="28"/>
                  </a:cubicBezTo>
                  <a:cubicBezTo>
                    <a:pt x="5" y="22"/>
                    <a:pt x="0" y="17"/>
                    <a:pt x="5" y="9"/>
                  </a:cubicBezTo>
                  <a:cubicBezTo>
                    <a:pt x="8" y="4"/>
                    <a:pt x="16" y="0"/>
                    <a:pt x="23" y="1"/>
                  </a:cubicBezTo>
                  <a:cubicBezTo>
                    <a:pt x="31" y="3"/>
                    <a:pt x="37" y="9"/>
                    <a:pt x="38" y="16"/>
                  </a:cubicBezTo>
                  <a:cubicBezTo>
                    <a:pt x="40" y="23"/>
                    <a:pt x="39" y="26"/>
                    <a:pt x="34" y="36"/>
                  </a:cubicBezTo>
                  <a:cubicBezTo>
                    <a:pt x="47" y="28"/>
                    <a:pt x="59" y="31"/>
                    <a:pt x="71" y="40"/>
                  </a:cubicBezTo>
                  <a:cubicBezTo>
                    <a:pt x="63" y="49"/>
                    <a:pt x="51" y="51"/>
                    <a:pt x="33" y="45"/>
                  </a:cubicBezTo>
                  <a:cubicBezTo>
                    <a:pt x="38" y="51"/>
                    <a:pt x="40" y="57"/>
                    <a:pt x="38" y="64"/>
                  </a:cubicBezTo>
                  <a:cubicBezTo>
                    <a:pt x="37" y="71"/>
                    <a:pt x="33" y="76"/>
                    <a:pt x="27" y="79"/>
                  </a:cubicBezTo>
                  <a:cubicBezTo>
                    <a:pt x="20" y="81"/>
                    <a:pt x="14" y="80"/>
                    <a:pt x="8" y="76"/>
                  </a:cubicBezTo>
                  <a:cubicBezTo>
                    <a:pt x="2" y="71"/>
                    <a:pt x="1" y="64"/>
                    <a:pt x="5" y="58"/>
                  </a:cubicBezTo>
                  <a:cubicBezTo>
                    <a:pt x="6" y="57"/>
                    <a:pt x="7" y="55"/>
                    <a:pt x="8" y="54"/>
                  </a:cubicBezTo>
                  <a:cubicBezTo>
                    <a:pt x="11" y="50"/>
                    <a:pt x="15" y="49"/>
                    <a:pt x="18" y="52"/>
                  </a:cubicBezTo>
                  <a:cubicBezTo>
                    <a:pt x="22" y="54"/>
                    <a:pt x="22" y="59"/>
                    <a:pt x="20" y="62"/>
                  </a:cubicBezTo>
                  <a:cubicBezTo>
                    <a:pt x="17" y="65"/>
                    <a:pt x="13" y="65"/>
                    <a:pt x="9" y="62"/>
                  </a:cubicBezTo>
                  <a:cubicBezTo>
                    <a:pt x="9" y="62"/>
                    <a:pt x="9" y="61"/>
                    <a:pt x="8" y="60"/>
                  </a:cubicBezTo>
                  <a:cubicBezTo>
                    <a:pt x="5" y="67"/>
                    <a:pt x="7" y="73"/>
                    <a:pt x="13" y="76"/>
                  </a:cubicBezTo>
                  <a:cubicBezTo>
                    <a:pt x="23" y="80"/>
                    <a:pt x="34" y="73"/>
                    <a:pt x="36" y="63"/>
                  </a:cubicBezTo>
                  <a:cubicBezTo>
                    <a:pt x="37" y="51"/>
                    <a:pt x="32" y="44"/>
                    <a:pt x="21" y="42"/>
                  </a:cubicBezTo>
                  <a:cubicBezTo>
                    <a:pt x="19" y="42"/>
                    <a:pt x="18" y="42"/>
                    <a:pt x="17" y="41"/>
                  </a:cubicBezTo>
                  <a:cubicBezTo>
                    <a:pt x="17" y="41"/>
                    <a:pt x="17" y="40"/>
                    <a:pt x="17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457" name="Group 8"/>
          <p:cNvGrpSpPr/>
          <p:nvPr/>
        </p:nvGrpSpPr>
        <p:grpSpPr>
          <a:xfrm>
            <a:off x="4614840" y="2760840"/>
            <a:ext cx="2358720" cy="204480"/>
            <a:chOff x="4614840" y="2760840"/>
            <a:chExt cx="2358720" cy="204480"/>
          </a:xfrm>
        </p:grpSpPr>
        <p:sp>
          <p:nvSpPr>
            <p:cNvPr id="458" name="Freeform 10"/>
            <p:cNvSpPr/>
            <p:nvPr/>
          </p:nvSpPr>
          <p:spPr>
            <a:xfrm>
              <a:off x="4614840" y="2846880"/>
              <a:ext cx="2211120" cy="32760"/>
            </a:xfrm>
            <a:custGeom>
              <a:avLst/>
              <a:gdLst/>
              <a:ahLst/>
              <a:rect l="l" t="t" r="r" b="b"/>
              <a:pathLst>
                <a:path w="910" h="13">
                  <a:moveTo>
                    <a:pt x="25" y="0"/>
                  </a:moveTo>
                  <a:cubicBezTo>
                    <a:pt x="55" y="1"/>
                    <a:pt x="84" y="3"/>
                    <a:pt x="114" y="4"/>
                  </a:cubicBezTo>
                  <a:cubicBezTo>
                    <a:pt x="125" y="4"/>
                    <a:pt x="136" y="5"/>
                    <a:pt x="147" y="5"/>
                  </a:cubicBezTo>
                  <a:cubicBezTo>
                    <a:pt x="346" y="5"/>
                    <a:pt x="545" y="5"/>
                    <a:pt x="744" y="5"/>
                  </a:cubicBezTo>
                  <a:cubicBezTo>
                    <a:pt x="783" y="5"/>
                    <a:pt x="822" y="2"/>
                    <a:pt x="862" y="1"/>
                  </a:cubicBezTo>
                  <a:cubicBezTo>
                    <a:pt x="875" y="0"/>
                    <a:pt x="889" y="0"/>
                    <a:pt x="902" y="0"/>
                  </a:cubicBezTo>
                  <a:cubicBezTo>
                    <a:pt x="907" y="0"/>
                    <a:pt x="910" y="2"/>
                    <a:pt x="910" y="7"/>
                  </a:cubicBezTo>
                  <a:cubicBezTo>
                    <a:pt x="910" y="11"/>
                    <a:pt x="907" y="13"/>
                    <a:pt x="902" y="13"/>
                  </a:cubicBezTo>
                  <a:cubicBezTo>
                    <a:pt x="872" y="12"/>
                    <a:pt x="842" y="11"/>
                    <a:pt x="812" y="10"/>
                  </a:cubicBezTo>
                  <a:cubicBezTo>
                    <a:pt x="775" y="9"/>
                    <a:pt x="737" y="8"/>
                    <a:pt x="699" y="8"/>
                  </a:cubicBezTo>
                  <a:cubicBezTo>
                    <a:pt x="578" y="8"/>
                    <a:pt x="456" y="8"/>
                    <a:pt x="334" y="8"/>
                  </a:cubicBezTo>
                  <a:cubicBezTo>
                    <a:pt x="240" y="9"/>
                    <a:pt x="145" y="6"/>
                    <a:pt x="50" y="12"/>
                  </a:cubicBezTo>
                  <a:cubicBezTo>
                    <a:pt x="36" y="13"/>
                    <a:pt x="23" y="13"/>
                    <a:pt x="9" y="13"/>
                  </a:cubicBezTo>
                  <a:cubicBezTo>
                    <a:pt x="4" y="13"/>
                    <a:pt x="0" y="10"/>
                    <a:pt x="1" y="6"/>
                  </a:cubicBezTo>
                  <a:cubicBezTo>
                    <a:pt x="1" y="2"/>
                    <a:pt x="3" y="0"/>
                    <a:pt x="8" y="0"/>
                  </a:cubicBezTo>
                  <a:cubicBezTo>
                    <a:pt x="14" y="0"/>
                    <a:pt x="20" y="0"/>
                    <a:pt x="2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459" name="Freeform 11"/>
            <p:cNvSpPr/>
            <p:nvPr/>
          </p:nvSpPr>
          <p:spPr>
            <a:xfrm>
              <a:off x="6801480" y="2760840"/>
              <a:ext cx="172080" cy="204480"/>
            </a:xfrm>
            <a:custGeom>
              <a:avLst/>
              <a:gdLst/>
              <a:ahLst/>
              <a:rect l="l" t="t" r="r" b="b"/>
              <a:pathLst>
                <a:path w="71" h="81">
                  <a:moveTo>
                    <a:pt x="17" y="40"/>
                  </a:moveTo>
                  <a:cubicBezTo>
                    <a:pt x="19" y="39"/>
                    <a:pt x="21" y="39"/>
                    <a:pt x="23" y="38"/>
                  </a:cubicBezTo>
                  <a:cubicBezTo>
                    <a:pt x="35" y="36"/>
                    <a:pt x="37" y="26"/>
                    <a:pt x="35" y="16"/>
                  </a:cubicBezTo>
                  <a:cubicBezTo>
                    <a:pt x="34" y="7"/>
                    <a:pt x="23" y="2"/>
                    <a:pt x="15" y="5"/>
                  </a:cubicBezTo>
                  <a:cubicBezTo>
                    <a:pt x="8" y="7"/>
                    <a:pt x="5" y="14"/>
                    <a:pt x="8" y="20"/>
                  </a:cubicBezTo>
                  <a:cubicBezTo>
                    <a:pt x="9" y="19"/>
                    <a:pt x="9" y="18"/>
                    <a:pt x="10" y="18"/>
                  </a:cubicBezTo>
                  <a:cubicBezTo>
                    <a:pt x="14" y="16"/>
                    <a:pt x="18" y="17"/>
                    <a:pt x="20" y="20"/>
                  </a:cubicBezTo>
                  <a:cubicBezTo>
                    <a:pt x="22" y="23"/>
                    <a:pt x="21" y="27"/>
                    <a:pt x="19" y="29"/>
                  </a:cubicBezTo>
                  <a:cubicBezTo>
                    <a:pt x="16" y="32"/>
                    <a:pt x="11" y="31"/>
                    <a:pt x="9" y="28"/>
                  </a:cubicBezTo>
                  <a:cubicBezTo>
                    <a:pt x="5" y="22"/>
                    <a:pt x="0" y="17"/>
                    <a:pt x="5" y="9"/>
                  </a:cubicBezTo>
                  <a:cubicBezTo>
                    <a:pt x="8" y="4"/>
                    <a:pt x="16" y="0"/>
                    <a:pt x="23" y="1"/>
                  </a:cubicBezTo>
                  <a:cubicBezTo>
                    <a:pt x="31" y="3"/>
                    <a:pt x="37" y="9"/>
                    <a:pt x="38" y="16"/>
                  </a:cubicBezTo>
                  <a:cubicBezTo>
                    <a:pt x="40" y="23"/>
                    <a:pt x="39" y="26"/>
                    <a:pt x="34" y="36"/>
                  </a:cubicBezTo>
                  <a:cubicBezTo>
                    <a:pt x="47" y="28"/>
                    <a:pt x="59" y="31"/>
                    <a:pt x="71" y="40"/>
                  </a:cubicBezTo>
                  <a:cubicBezTo>
                    <a:pt x="63" y="49"/>
                    <a:pt x="51" y="51"/>
                    <a:pt x="33" y="45"/>
                  </a:cubicBezTo>
                  <a:cubicBezTo>
                    <a:pt x="38" y="51"/>
                    <a:pt x="40" y="57"/>
                    <a:pt x="38" y="64"/>
                  </a:cubicBezTo>
                  <a:cubicBezTo>
                    <a:pt x="37" y="71"/>
                    <a:pt x="33" y="76"/>
                    <a:pt x="27" y="79"/>
                  </a:cubicBezTo>
                  <a:cubicBezTo>
                    <a:pt x="20" y="81"/>
                    <a:pt x="14" y="80"/>
                    <a:pt x="8" y="76"/>
                  </a:cubicBezTo>
                  <a:cubicBezTo>
                    <a:pt x="2" y="71"/>
                    <a:pt x="1" y="64"/>
                    <a:pt x="5" y="58"/>
                  </a:cubicBezTo>
                  <a:cubicBezTo>
                    <a:pt x="6" y="57"/>
                    <a:pt x="7" y="55"/>
                    <a:pt x="8" y="54"/>
                  </a:cubicBezTo>
                  <a:cubicBezTo>
                    <a:pt x="11" y="50"/>
                    <a:pt x="15" y="49"/>
                    <a:pt x="18" y="52"/>
                  </a:cubicBezTo>
                  <a:cubicBezTo>
                    <a:pt x="22" y="54"/>
                    <a:pt x="22" y="59"/>
                    <a:pt x="20" y="62"/>
                  </a:cubicBezTo>
                  <a:cubicBezTo>
                    <a:pt x="17" y="65"/>
                    <a:pt x="13" y="65"/>
                    <a:pt x="9" y="62"/>
                  </a:cubicBezTo>
                  <a:cubicBezTo>
                    <a:pt x="9" y="62"/>
                    <a:pt x="9" y="61"/>
                    <a:pt x="8" y="60"/>
                  </a:cubicBezTo>
                  <a:cubicBezTo>
                    <a:pt x="5" y="67"/>
                    <a:pt x="7" y="73"/>
                    <a:pt x="13" y="76"/>
                  </a:cubicBezTo>
                  <a:cubicBezTo>
                    <a:pt x="23" y="80"/>
                    <a:pt x="34" y="73"/>
                    <a:pt x="36" y="63"/>
                  </a:cubicBezTo>
                  <a:cubicBezTo>
                    <a:pt x="37" y="51"/>
                    <a:pt x="32" y="44"/>
                    <a:pt x="21" y="42"/>
                  </a:cubicBezTo>
                  <a:cubicBezTo>
                    <a:pt x="19" y="42"/>
                    <a:pt x="18" y="42"/>
                    <a:pt x="17" y="41"/>
                  </a:cubicBezTo>
                  <a:cubicBezTo>
                    <a:pt x="17" y="41"/>
                    <a:pt x="17" y="40"/>
                    <a:pt x="17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460" name="Group 8"/>
          <p:cNvGrpSpPr/>
          <p:nvPr/>
        </p:nvGrpSpPr>
        <p:grpSpPr>
          <a:xfrm>
            <a:off x="1697040" y="2760840"/>
            <a:ext cx="2358720" cy="204480"/>
            <a:chOff x="1697040" y="2760840"/>
            <a:chExt cx="2358720" cy="204480"/>
          </a:xfrm>
        </p:grpSpPr>
        <p:sp>
          <p:nvSpPr>
            <p:cNvPr id="461" name="Freeform 10"/>
            <p:cNvSpPr/>
            <p:nvPr/>
          </p:nvSpPr>
          <p:spPr>
            <a:xfrm>
              <a:off x="1697040" y="2846880"/>
              <a:ext cx="2211120" cy="32760"/>
            </a:xfrm>
            <a:custGeom>
              <a:avLst/>
              <a:gdLst/>
              <a:ahLst/>
              <a:rect l="l" t="t" r="r" b="b"/>
              <a:pathLst>
                <a:path w="910" h="13">
                  <a:moveTo>
                    <a:pt x="25" y="0"/>
                  </a:moveTo>
                  <a:cubicBezTo>
                    <a:pt x="55" y="1"/>
                    <a:pt x="84" y="3"/>
                    <a:pt x="114" y="4"/>
                  </a:cubicBezTo>
                  <a:cubicBezTo>
                    <a:pt x="125" y="4"/>
                    <a:pt x="136" y="5"/>
                    <a:pt x="147" y="5"/>
                  </a:cubicBezTo>
                  <a:cubicBezTo>
                    <a:pt x="346" y="5"/>
                    <a:pt x="545" y="5"/>
                    <a:pt x="744" y="5"/>
                  </a:cubicBezTo>
                  <a:cubicBezTo>
                    <a:pt x="783" y="5"/>
                    <a:pt x="822" y="2"/>
                    <a:pt x="862" y="1"/>
                  </a:cubicBezTo>
                  <a:cubicBezTo>
                    <a:pt x="875" y="0"/>
                    <a:pt x="889" y="0"/>
                    <a:pt x="902" y="0"/>
                  </a:cubicBezTo>
                  <a:cubicBezTo>
                    <a:pt x="907" y="0"/>
                    <a:pt x="910" y="2"/>
                    <a:pt x="910" y="7"/>
                  </a:cubicBezTo>
                  <a:cubicBezTo>
                    <a:pt x="910" y="11"/>
                    <a:pt x="907" y="13"/>
                    <a:pt x="902" y="13"/>
                  </a:cubicBezTo>
                  <a:cubicBezTo>
                    <a:pt x="872" y="12"/>
                    <a:pt x="842" y="11"/>
                    <a:pt x="812" y="10"/>
                  </a:cubicBezTo>
                  <a:cubicBezTo>
                    <a:pt x="775" y="9"/>
                    <a:pt x="737" y="8"/>
                    <a:pt x="699" y="8"/>
                  </a:cubicBezTo>
                  <a:cubicBezTo>
                    <a:pt x="578" y="8"/>
                    <a:pt x="456" y="8"/>
                    <a:pt x="334" y="8"/>
                  </a:cubicBezTo>
                  <a:cubicBezTo>
                    <a:pt x="240" y="9"/>
                    <a:pt x="145" y="6"/>
                    <a:pt x="50" y="12"/>
                  </a:cubicBezTo>
                  <a:cubicBezTo>
                    <a:pt x="36" y="13"/>
                    <a:pt x="23" y="13"/>
                    <a:pt x="9" y="13"/>
                  </a:cubicBezTo>
                  <a:cubicBezTo>
                    <a:pt x="4" y="13"/>
                    <a:pt x="0" y="10"/>
                    <a:pt x="1" y="6"/>
                  </a:cubicBezTo>
                  <a:cubicBezTo>
                    <a:pt x="1" y="2"/>
                    <a:pt x="3" y="0"/>
                    <a:pt x="8" y="0"/>
                  </a:cubicBezTo>
                  <a:cubicBezTo>
                    <a:pt x="14" y="0"/>
                    <a:pt x="20" y="0"/>
                    <a:pt x="2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462" name="Freeform 11"/>
            <p:cNvSpPr/>
            <p:nvPr/>
          </p:nvSpPr>
          <p:spPr>
            <a:xfrm>
              <a:off x="3883680" y="2760840"/>
              <a:ext cx="172080" cy="204480"/>
            </a:xfrm>
            <a:custGeom>
              <a:avLst/>
              <a:gdLst/>
              <a:ahLst/>
              <a:rect l="l" t="t" r="r" b="b"/>
              <a:pathLst>
                <a:path w="71" h="81">
                  <a:moveTo>
                    <a:pt x="17" y="40"/>
                  </a:moveTo>
                  <a:cubicBezTo>
                    <a:pt x="19" y="39"/>
                    <a:pt x="21" y="39"/>
                    <a:pt x="23" y="38"/>
                  </a:cubicBezTo>
                  <a:cubicBezTo>
                    <a:pt x="35" y="36"/>
                    <a:pt x="37" y="26"/>
                    <a:pt x="35" y="16"/>
                  </a:cubicBezTo>
                  <a:cubicBezTo>
                    <a:pt x="34" y="7"/>
                    <a:pt x="23" y="2"/>
                    <a:pt x="15" y="5"/>
                  </a:cubicBezTo>
                  <a:cubicBezTo>
                    <a:pt x="8" y="7"/>
                    <a:pt x="5" y="14"/>
                    <a:pt x="8" y="20"/>
                  </a:cubicBezTo>
                  <a:cubicBezTo>
                    <a:pt x="9" y="19"/>
                    <a:pt x="9" y="18"/>
                    <a:pt x="10" y="18"/>
                  </a:cubicBezTo>
                  <a:cubicBezTo>
                    <a:pt x="14" y="16"/>
                    <a:pt x="18" y="17"/>
                    <a:pt x="20" y="20"/>
                  </a:cubicBezTo>
                  <a:cubicBezTo>
                    <a:pt x="22" y="23"/>
                    <a:pt x="21" y="27"/>
                    <a:pt x="19" y="29"/>
                  </a:cubicBezTo>
                  <a:cubicBezTo>
                    <a:pt x="16" y="32"/>
                    <a:pt x="11" y="31"/>
                    <a:pt x="9" y="28"/>
                  </a:cubicBezTo>
                  <a:cubicBezTo>
                    <a:pt x="5" y="22"/>
                    <a:pt x="0" y="17"/>
                    <a:pt x="5" y="9"/>
                  </a:cubicBezTo>
                  <a:cubicBezTo>
                    <a:pt x="8" y="4"/>
                    <a:pt x="16" y="0"/>
                    <a:pt x="23" y="1"/>
                  </a:cubicBezTo>
                  <a:cubicBezTo>
                    <a:pt x="31" y="3"/>
                    <a:pt x="37" y="9"/>
                    <a:pt x="38" y="16"/>
                  </a:cubicBezTo>
                  <a:cubicBezTo>
                    <a:pt x="40" y="23"/>
                    <a:pt x="39" y="26"/>
                    <a:pt x="34" y="36"/>
                  </a:cubicBezTo>
                  <a:cubicBezTo>
                    <a:pt x="47" y="28"/>
                    <a:pt x="59" y="31"/>
                    <a:pt x="71" y="40"/>
                  </a:cubicBezTo>
                  <a:cubicBezTo>
                    <a:pt x="63" y="49"/>
                    <a:pt x="51" y="51"/>
                    <a:pt x="33" y="45"/>
                  </a:cubicBezTo>
                  <a:cubicBezTo>
                    <a:pt x="38" y="51"/>
                    <a:pt x="40" y="57"/>
                    <a:pt x="38" y="64"/>
                  </a:cubicBezTo>
                  <a:cubicBezTo>
                    <a:pt x="37" y="71"/>
                    <a:pt x="33" y="76"/>
                    <a:pt x="27" y="79"/>
                  </a:cubicBezTo>
                  <a:cubicBezTo>
                    <a:pt x="20" y="81"/>
                    <a:pt x="14" y="80"/>
                    <a:pt x="8" y="76"/>
                  </a:cubicBezTo>
                  <a:cubicBezTo>
                    <a:pt x="2" y="71"/>
                    <a:pt x="1" y="64"/>
                    <a:pt x="5" y="58"/>
                  </a:cubicBezTo>
                  <a:cubicBezTo>
                    <a:pt x="6" y="57"/>
                    <a:pt x="7" y="55"/>
                    <a:pt x="8" y="54"/>
                  </a:cubicBezTo>
                  <a:cubicBezTo>
                    <a:pt x="11" y="50"/>
                    <a:pt x="15" y="49"/>
                    <a:pt x="18" y="52"/>
                  </a:cubicBezTo>
                  <a:cubicBezTo>
                    <a:pt x="22" y="54"/>
                    <a:pt x="22" y="59"/>
                    <a:pt x="20" y="62"/>
                  </a:cubicBezTo>
                  <a:cubicBezTo>
                    <a:pt x="17" y="65"/>
                    <a:pt x="13" y="65"/>
                    <a:pt x="9" y="62"/>
                  </a:cubicBezTo>
                  <a:cubicBezTo>
                    <a:pt x="9" y="62"/>
                    <a:pt x="9" y="61"/>
                    <a:pt x="8" y="60"/>
                  </a:cubicBezTo>
                  <a:cubicBezTo>
                    <a:pt x="5" y="67"/>
                    <a:pt x="7" y="73"/>
                    <a:pt x="13" y="76"/>
                  </a:cubicBezTo>
                  <a:cubicBezTo>
                    <a:pt x="23" y="80"/>
                    <a:pt x="34" y="73"/>
                    <a:pt x="36" y="63"/>
                  </a:cubicBezTo>
                  <a:cubicBezTo>
                    <a:pt x="37" y="51"/>
                    <a:pt x="32" y="44"/>
                    <a:pt x="21" y="42"/>
                  </a:cubicBezTo>
                  <a:cubicBezTo>
                    <a:pt x="19" y="42"/>
                    <a:pt x="18" y="42"/>
                    <a:pt x="17" y="41"/>
                  </a:cubicBezTo>
                  <a:cubicBezTo>
                    <a:pt x="17" y="41"/>
                    <a:pt x="17" y="40"/>
                    <a:pt x="17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463" name="组合 91"/>
          <p:cNvGrpSpPr/>
          <p:nvPr/>
        </p:nvGrpSpPr>
        <p:grpSpPr>
          <a:xfrm>
            <a:off x="1046520" y="2091600"/>
            <a:ext cx="1681560" cy="1389960"/>
            <a:chOff x="1046520" y="2091600"/>
            <a:chExt cx="1681560" cy="1389960"/>
          </a:xfrm>
        </p:grpSpPr>
        <p:sp>
          <p:nvSpPr>
            <p:cNvPr id="464" name="椭圆 5"/>
            <p:cNvSpPr/>
            <p:nvPr/>
          </p:nvSpPr>
          <p:spPr>
            <a:xfrm>
              <a:off x="1085760" y="2160720"/>
              <a:ext cx="1320840" cy="1320840"/>
            </a:xfrm>
            <a:prstGeom prst="ellipse">
              <a:avLst/>
            </a:prstGeom>
            <a:solidFill>
              <a:srgbClr val="fdf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pic>
          <p:nvPicPr>
            <p:cNvPr id="465" name="图片 23" descr=""/>
            <p:cNvPicPr/>
            <p:nvPr/>
          </p:nvPicPr>
          <p:blipFill>
            <a:blip r:embed="rId1"/>
            <a:stretch/>
          </p:blipFill>
          <p:spPr>
            <a:xfrm rot="927000">
              <a:off x="1158120" y="2266920"/>
              <a:ext cx="1458000" cy="10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组合 92"/>
          <p:cNvGrpSpPr/>
          <p:nvPr/>
        </p:nvGrpSpPr>
        <p:grpSpPr>
          <a:xfrm>
            <a:off x="4020840" y="2054520"/>
            <a:ext cx="1678320" cy="1650600"/>
            <a:chOff x="4020840" y="2054520"/>
            <a:chExt cx="1678320" cy="1650600"/>
          </a:xfrm>
        </p:grpSpPr>
        <p:sp>
          <p:nvSpPr>
            <p:cNvPr id="467" name="椭圆 33"/>
            <p:cNvSpPr/>
            <p:nvPr/>
          </p:nvSpPr>
          <p:spPr>
            <a:xfrm>
              <a:off x="4070520" y="2160720"/>
              <a:ext cx="1319040" cy="1320840"/>
            </a:xfrm>
            <a:prstGeom prst="ellipse">
              <a:avLst/>
            </a:prstGeom>
            <a:solidFill>
              <a:srgbClr val="fdf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pic>
          <p:nvPicPr>
            <p:cNvPr id="468" name="图片 22" descr=""/>
            <p:cNvPicPr/>
            <p:nvPr/>
          </p:nvPicPr>
          <p:blipFill>
            <a:blip r:embed="rId2"/>
            <a:srcRect l="0" t="0" r="0" b="-458"/>
            <a:stretch/>
          </p:blipFill>
          <p:spPr>
            <a:xfrm flipH="1" rot="19171200">
              <a:off x="4206600" y="2352240"/>
              <a:ext cx="1306440" cy="105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组合 93"/>
          <p:cNvGrpSpPr/>
          <p:nvPr/>
        </p:nvGrpSpPr>
        <p:grpSpPr>
          <a:xfrm>
            <a:off x="6969240" y="2098080"/>
            <a:ext cx="1394640" cy="1383480"/>
            <a:chOff x="6969240" y="2098080"/>
            <a:chExt cx="1394640" cy="1383480"/>
          </a:xfrm>
        </p:grpSpPr>
        <p:sp>
          <p:nvSpPr>
            <p:cNvPr id="470" name="椭圆 37"/>
            <p:cNvSpPr/>
            <p:nvPr/>
          </p:nvSpPr>
          <p:spPr>
            <a:xfrm>
              <a:off x="6969240" y="2160720"/>
              <a:ext cx="1319040" cy="1320840"/>
            </a:xfrm>
            <a:prstGeom prst="ellipse">
              <a:avLst/>
            </a:prstGeom>
            <a:solidFill>
              <a:srgbClr val="fdf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grpSp>
          <p:nvGrpSpPr>
            <p:cNvPr id="471" name="组合 6"/>
            <p:cNvGrpSpPr/>
            <p:nvPr/>
          </p:nvGrpSpPr>
          <p:grpSpPr>
            <a:xfrm>
              <a:off x="7006680" y="2098080"/>
              <a:ext cx="1357200" cy="1375920"/>
              <a:chOff x="7006680" y="2098080"/>
              <a:chExt cx="1357200" cy="1375920"/>
            </a:xfrm>
          </p:grpSpPr>
          <p:pic>
            <p:nvPicPr>
              <p:cNvPr id="472" name="图片 39" descr=""/>
              <p:cNvPicPr/>
              <p:nvPr/>
            </p:nvPicPr>
            <p:blipFill>
              <a:blip r:embed="rId3"/>
              <a:srcRect l="0" t="0" r="46724" b="35518"/>
              <a:stretch/>
            </p:blipFill>
            <p:spPr>
              <a:xfrm rot="20964000">
                <a:off x="7079040" y="2217600"/>
                <a:ext cx="816120" cy="70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3" name="图片 40" descr=""/>
              <p:cNvPicPr/>
              <p:nvPr/>
            </p:nvPicPr>
            <p:blipFill>
              <a:blip r:embed="rId4"/>
              <a:srcRect l="0" t="0" r="46724" b="35518"/>
              <a:stretch/>
            </p:blipFill>
            <p:spPr>
              <a:xfrm rot="3627000">
                <a:off x="7385040" y="2275560"/>
                <a:ext cx="817560" cy="70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图片 41" descr=""/>
              <p:cNvPicPr/>
              <p:nvPr/>
            </p:nvPicPr>
            <p:blipFill>
              <a:blip r:embed="rId5"/>
              <a:srcRect l="0" t="0" r="46724" b="35518"/>
              <a:stretch/>
            </p:blipFill>
            <p:spPr>
              <a:xfrm rot="7366800">
                <a:off x="7438680" y="2589480"/>
                <a:ext cx="817560" cy="70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图片 42" descr=""/>
              <p:cNvPicPr/>
              <p:nvPr/>
            </p:nvPicPr>
            <p:blipFill>
              <a:blip r:embed="rId6"/>
              <a:srcRect l="0" t="0" r="38331" b="35518"/>
              <a:stretch/>
            </p:blipFill>
            <p:spPr>
              <a:xfrm rot="15282600">
                <a:off x="6996600" y="2527560"/>
                <a:ext cx="946080" cy="70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76" name="组合 94"/>
          <p:cNvGrpSpPr/>
          <p:nvPr/>
        </p:nvGrpSpPr>
        <p:grpSpPr>
          <a:xfrm>
            <a:off x="9755280" y="1940040"/>
            <a:ext cx="1332000" cy="1735200"/>
            <a:chOff x="9755280" y="1940040"/>
            <a:chExt cx="1332000" cy="1735200"/>
          </a:xfrm>
        </p:grpSpPr>
        <p:sp>
          <p:nvSpPr>
            <p:cNvPr id="477" name="椭圆 75"/>
            <p:cNvSpPr/>
            <p:nvPr/>
          </p:nvSpPr>
          <p:spPr>
            <a:xfrm>
              <a:off x="9755280" y="2160720"/>
              <a:ext cx="1319400" cy="1320840"/>
            </a:xfrm>
            <a:prstGeom prst="ellipse">
              <a:avLst/>
            </a:prstGeom>
            <a:solidFill>
              <a:srgbClr val="fdf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pic>
          <p:nvPicPr>
            <p:cNvPr id="478" name="图片 86" descr=""/>
            <p:cNvPicPr/>
            <p:nvPr/>
          </p:nvPicPr>
          <p:blipFill>
            <a:blip r:embed="rId7"/>
            <a:stretch/>
          </p:blipFill>
          <p:spPr>
            <a:xfrm>
              <a:off x="9866880" y="1940040"/>
              <a:ext cx="1220400" cy="173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组合 17434"/>
          <p:cNvGrpSpPr/>
          <p:nvPr/>
        </p:nvGrpSpPr>
        <p:grpSpPr>
          <a:xfrm>
            <a:off x="2916360" y="237960"/>
            <a:ext cx="6315120" cy="1444680"/>
            <a:chOff x="2916360" y="237960"/>
            <a:chExt cx="6315120" cy="1444680"/>
          </a:xfrm>
        </p:grpSpPr>
        <p:grpSp>
          <p:nvGrpSpPr>
            <p:cNvPr id="480" name="组合 8"/>
            <p:cNvGrpSpPr/>
            <p:nvPr/>
          </p:nvGrpSpPr>
          <p:grpSpPr>
            <a:xfrm>
              <a:off x="2916360" y="237960"/>
              <a:ext cx="6315120" cy="1444680"/>
              <a:chOff x="2916360" y="237960"/>
              <a:chExt cx="6315120" cy="1444680"/>
            </a:xfrm>
          </p:grpSpPr>
          <p:pic>
            <p:nvPicPr>
              <p:cNvPr id="481" name="Group 8" descr=""/>
              <p:cNvPicPr/>
              <p:nvPr/>
            </p:nvPicPr>
            <p:blipFill>
              <a:blip r:embed="rId8"/>
              <a:stretch/>
            </p:blipFill>
            <p:spPr>
              <a:xfrm>
                <a:off x="2916360" y="237960"/>
                <a:ext cx="6315120" cy="14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" name="文本框 11"/>
              <p:cNvSpPr/>
              <p:nvPr/>
            </p:nvSpPr>
            <p:spPr>
              <a:xfrm>
                <a:off x="5162760" y="860760"/>
                <a:ext cx="182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c2710"/>
                    </a:solidFill>
                    <a:latin typeface="Calibri"/>
                    <a:ea typeface="宋体"/>
                  </a:rPr>
                  <a:t>内地最受欢迎男歌手</a:t>
                </a:r>
                <a:endParaRPr b="0" lang="en-US" sz="2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483" name="文本框 17438"/>
            <p:cNvSpPr/>
            <p:nvPr/>
          </p:nvSpPr>
          <p:spPr>
            <a:xfrm>
              <a:off x="3624120" y="605520"/>
              <a:ext cx="498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74f1f"/>
                  </a:solidFill>
                  <a:latin typeface="Edwardian Script ITC"/>
                </a:rPr>
                <a:t>The mainland's most popular male singer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484" name="组合 17439"/>
          <p:cNvGrpSpPr/>
          <p:nvPr/>
        </p:nvGrpSpPr>
        <p:grpSpPr>
          <a:xfrm>
            <a:off x="772200" y="3583080"/>
            <a:ext cx="1986840" cy="2008080"/>
            <a:chOff x="772200" y="3583080"/>
            <a:chExt cx="1986840" cy="2008080"/>
          </a:xfrm>
        </p:grpSpPr>
        <p:grpSp>
          <p:nvGrpSpPr>
            <p:cNvPr id="485" name="组合 98"/>
            <p:cNvGrpSpPr/>
            <p:nvPr/>
          </p:nvGrpSpPr>
          <p:grpSpPr>
            <a:xfrm>
              <a:off x="772200" y="3583080"/>
              <a:ext cx="1986840" cy="2008080"/>
              <a:chOff x="772200" y="3583080"/>
              <a:chExt cx="1986840" cy="2008080"/>
            </a:xfrm>
          </p:grpSpPr>
          <p:sp>
            <p:nvSpPr>
              <p:cNvPr id="486" name="文本框 19"/>
              <p:cNvSpPr/>
              <p:nvPr/>
            </p:nvSpPr>
            <p:spPr>
              <a:xfrm>
                <a:off x="1645920" y="3674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星座</a:t>
                </a:r>
                <a:endParaRPr b="0" lang="en-US" sz="20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grpSp>
            <p:nvGrpSpPr>
              <p:cNvPr id="487" name="组合 49"/>
              <p:cNvGrpSpPr/>
              <p:nvPr/>
            </p:nvGrpSpPr>
            <p:grpSpPr>
              <a:xfrm>
                <a:off x="860760" y="4090680"/>
                <a:ext cx="1878840" cy="283680"/>
                <a:chOff x="860760" y="4090680"/>
                <a:chExt cx="1878840" cy="283680"/>
              </a:xfrm>
            </p:grpSpPr>
            <p:grpSp>
              <p:nvGrpSpPr>
                <p:cNvPr id="488" name="组合 43"/>
                <p:cNvGrpSpPr/>
                <p:nvPr/>
              </p:nvGrpSpPr>
              <p:grpSpPr>
                <a:xfrm>
                  <a:off x="1359000" y="4120920"/>
                  <a:ext cx="882000" cy="253440"/>
                  <a:chOff x="1359000" y="4120920"/>
                  <a:chExt cx="882000" cy="253440"/>
                </a:xfrm>
              </p:grpSpPr>
              <p:sp>
                <p:nvSpPr>
                  <p:cNvPr id="489" name="Freeform 1332"/>
                  <p:cNvSpPr/>
                  <p:nvPr/>
                </p:nvSpPr>
                <p:spPr>
                  <a:xfrm flipV="1">
                    <a:off x="1940040" y="4134960"/>
                    <a:ext cx="30096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20"/>
                        </a:moveTo>
                        <a:cubicBezTo>
                          <a:pt x="0" y="20"/>
                          <a:pt x="6" y="13"/>
                          <a:pt x="11" y="12"/>
                        </a:cubicBezTo>
                        <a:cubicBezTo>
                          <a:pt x="24" y="11"/>
                          <a:pt x="16" y="21"/>
                          <a:pt x="16" y="22"/>
                        </a:cubicBezTo>
                        <a:cubicBezTo>
                          <a:pt x="17" y="22"/>
                          <a:pt x="19" y="22"/>
                          <a:pt x="19" y="20"/>
                        </a:cubicBezTo>
                        <a:cubicBezTo>
                          <a:pt x="20" y="24"/>
                          <a:pt x="15" y="25"/>
                          <a:pt x="16" y="27"/>
                        </a:cubicBezTo>
                        <a:cubicBezTo>
                          <a:pt x="17" y="26"/>
                          <a:pt x="19" y="26"/>
                          <a:pt x="20" y="25"/>
                        </a:cubicBezTo>
                        <a:cubicBezTo>
                          <a:pt x="20" y="28"/>
                          <a:pt x="15" y="29"/>
                          <a:pt x="16" y="32"/>
                        </a:cubicBezTo>
                        <a:cubicBezTo>
                          <a:pt x="17" y="29"/>
                          <a:pt x="20" y="31"/>
                          <a:pt x="23" y="29"/>
                        </a:cubicBezTo>
                        <a:cubicBezTo>
                          <a:pt x="33" y="23"/>
                          <a:pt x="23" y="13"/>
                          <a:pt x="22" y="13"/>
                        </a:cubicBezTo>
                        <a:cubicBezTo>
                          <a:pt x="29" y="19"/>
                          <a:pt x="23" y="24"/>
                          <a:pt x="23" y="24"/>
                        </a:cubicBezTo>
                        <a:cubicBezTo>
                          <a:pt x="23" y="24"/>
                          <a:pt x="25" y="20"/>
                          <a:pt x="22" y="15"/>
                        </a:cubicBezTo>
                        <a:cubicBezTo>
                          <a:pt x="19" y="10"/>
                          <a:pt x="10" y="11"/>
                          <a:pt x="6" y="14"/>
                        </a:cubicBezTo>
                        <a:cubicBezTo>
                          <a:pt x="9" y="9"/>
                          <a:pt x="21" y="10"/>
                          <a:pt x="22" y="10"/>
                        </a:cubicBezTo>
                        <a:cubicBezTo>
                          <a:pt x="30" y="10"/>
                          <a:pt x="34" y="19"/>
                          <a:pt x="34" y="20"/>
                        </a:cubicBezTo>
                        <a:cubicBezTo>
                          <a:pt x="34" y="22"/>
                          <a:pt x="35" y="24"/>
                          <a:pt x="35" y="24"/>
                        </a:cubicBezTo>
                        <a:cubicBezTo>
                          <a:pt x="35" y="24"/>
                          <a:pt x="34" y="24"/>
                          <a:pt x="33" y="23"/>
                        </a:cubicBezTo>
                        <a:cubicBezTo>
                          <a:pt x="33" y="21"/>
                          <a:pt x="33" y="18"/>
                          <a:pt x="32" y="16"/>
                        </a:cubicBezTo>
                        <a:cubicBezTo>
                          <a:pt x="31" y="14"/>
                          <a:pt x="28" y="13"/>
                          <a:pt x="28" y="13"/>
                        </a:cubicBezTo>
                        <a:cubicBezTo>
                          <a:pt x="28" y="13"/>
                          <a:pt x="30" y="14"/>
                          <a:pt x="30" y="15"/>
                        </a:cubicBezTo>
                        <a:cubicBezTo>
                          <a:pt x="26" y="21"/>
                          <a:pt x="28" y="25"/>
                          <a:pt x="30" y="25"/>
                        </a:cubicBezTo>
                        <a:cubicBezTo>
                          <a:pt x="32" y="26"/>
                          <a:pt x="33" y="27"/>
                          <a:pt x="33" y="28"/>
                        </a:cubicBezTo>
                        <a:cubicBezTo>
                          <a:pt x="34" y="28"/>
                          <a:pt x="33" y="25"/>
                          <a:pt x="33" y="25"/>
                        </a:cubicBezTo>
                        <a:cubicBezTo>
                          <a:pt x="33" y="25"/>
                          <a:pt x="34" y="24"/>
                          <a:pt x="35" y="27"/>
                        </a:cubicBezTo>
                        <a:cubicBezTo>
                          <a:pt x="37" y="30"/>
                          <a:pt x="41" y="31"/>
                          <a:pt x="42" y="30"/>
                        </a:cubicBezTo>
                        <a:cubicBezTo>
                          <a:pt x="41" y="30"/>
                          <a:pt x="38" y="28"/>
                          <a:pt x="38" y="26"/>
                        </a:cubicBezTo>
                        <a:cubicBezTo>
                          <a:pt x="39" y="23"/>
                          <a:pt x="38" y="22"/>
                          <a:pt x="38" y="21"/>
                        </a:cubicBezTo>
                        <a:cubicBezTo>
                          <a:pt x="39" y="21"/>
                          <a:pt x="42" y="21"/>
                          <a:pt x="42" y="22"/>
                        </a:cubicBezTo>
                        <a:cubicBezTo>
                          <a:pt x="43" y="21"/>
                          <a:pt x="41" y="18"/>
                          <a:pt x="40" y="18"/>
                        </a:cubicBezTo>
                        <a:cubicBezTo>
                          <a:pt x="41" y="18"/>
                          <a:pt x="43" y="16"/>
                          <a:pt x="42" y="15"/>
                        </a:cubicBezTo>
                        <a:cubicBezTo>
                          <a:pt x="41" y="17"/>
                          <a:pt x="40" y="14"/>
                          <a:pt x="39" y="14"/>
                        </a:cubicBezTo>
                        <a:cubicBezTo>
                          <a:pt x="37" y="13"/>
                          <a:pt x="35" y="13"/>
                          <a:pt x="34" y="14"/>
                        </a:cubicBezTo>
                        <a:cubicBezTo>
                          <a:pt x="33" y="13"/>
                          <a:pt x="32" y="13"/>
                          <a:pt x="31" y="13"/>
                        </a:cubicBezTo>
                        <a:cubicBezTo>
                          <a:pt x="28" y="11"/>
                          <a:pt x="24" y="10"/>
                          <a:pt x="24" y="10"/>
                        </a:cubicBezTo>
                        <a:cubicBezTo>
                          <a:pt x="25" y="9"/>
                          <a:pt x="25" y="9"/>
                          <a:pt x="25" y="9"/>
                        </a:cubicBezTo>
                        <a:cubicBezTo>
                          <a:pt x="25" y="9"/>
                          <a:pt x="27" y="11"/>
                          <a:pt x="29" y="10"/>
                        </a:cubicBezTo>
                        <a:cubicBezTo>
                          <a:pt x="31" y="10"/>
                          <a:pt x="35" y="7"/>
                          <a:pt x="36" y="9"/>
                        </a:cubicBezTo>
                        <a:cubicBezTo>
                          <a:pt x="36" y="8"/>
                          <a:pt x="35" y="7"/>
                          <a:pt x="34" y="7"/>
                        </a:cubicBezTo>
                        <a:cubicBezTo>
                          <a:pt x="36" y="3"/>
                          <a:pt x="39" y="2"/>
                          <a:pt x="40" y="3"/>
                        </a:cubicBezTo>
                        <a:cubicBezTo>
                          <a:pt x="39" y="0"/>
                          <a:pt x="34" y="2"/>
                          <a:pt x="31" y="2"/>
                        </a:cubicBezTo>
                        <a:cubicBezTo>
                          <a:pt x="32" y="1"/>
                          <a:pt x="30" y="0"/>
                          <a:pt x="30" y="0"/>
                        </a:cubicBezTo>
                        <a:cubicBezTo>
                          <a:pt x="30" y="0"/>
                          <a:pt x="30" y="2"/>
                          <a:pt x="27" y="3"/>
                        </a:cubicBezTo>
                        <a:cubicBezTo>
                          <a:pt x="25" y="4"/>
                          <a:pt x="24" y="7"/>
                          <a:pt x="25" y="8"/>
                        </a:cubicBezTo>
                        <a:cubicBezTo>
                          <a:pt x="21" y="10"/>
                          <a:pt x="14" y="9"/>
                          <a:pt x="9" y="11"/>
                        </a:cubicBezTo>
                        <a:cubicBezTo>
                          <a:pt x="5" y="13"/>
                          <a:pt x="0" y="20"/>
                          <a:pt x="0" y="20"/>
                        </a:cubicBezTo>
                        <a:close/>
                        <a:moveTo>
                          <a:pt x="33" y="5"/>
                        </a:moveTo>
                        <a:cubicBezTo>
                          <a:pt x="34" y="7"/>
                          <a:pt x="26" y="8"/>
                          <a:pt x="26" y="8"/>
                        </a:cubicBezTo>
                        <a:cubicBezTo>
                          <a:pt x="26" y="8"/>
                          <a:pt x="32" y="2"/>
                          <a:pt x="33" y="5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0" name="Freeform 1333"/>
                  <p:cNvSpPr/>
                  <p:nvPr/>
                </p:nvSpPr>
                <p:spPr>
                  <a:xfrm flipV="1">
                    <a:off x="1359000" y="4134960"/>
                    <a:ext cx="30096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33" y="11"/>
                        </a:moveTo>
                        <a:cubicBezTo>
                          <a:pt x="28" y="9"/>
                          <a:pt x="21" y="10"/>
                          <a:pt x="18" y="8"/>
                        </a:cubicBezTo>
                        <a:cubicBezTo>
                          <a:pt x="18" y="7"/>
                          <a:pt x="17" y="4"/>
                          <a:pt x="15" y="3"/>
                        </a:cubicBezTo>
                        <a:cubicBezTo>
                          <a:pt x="12" y="2"/>
                          <a:pt x="13" y="0"/>
                          <a:pt x="13" y="0"/>
                        </a:cubicBezTo>
                        <a:cubicBezTo>
                          <a:pt x="13" y="0"/>
                          <a:pt x="10" y="1"/>
                          <a:pt x="11" y="2"/>
                        </a:cubicBezTo>
                        <a:cubicBezTo>
                          <a:pt x="9" y="2"/>
                          <a:pt x="4" y="0"/>
                          <a:pt x="2" y="3"/>
                        </a:cubicBezTo>
                        <a:cubicBezTo>
                          <a:pt x="3" y="2"/>
                          <a:pt x="6" y="3"/>
                          <a:pt x="8" y="7"/>
                        </a:cubicBezTo>
                        <a:cubicBezTo>
                          <a:pt x="7" y="7"/>
                          <a:pt x="6" y="8"/>
                          <a:pt x="7" y="9"/>
                        </a:cubicBezTo>
                        <a:cubicBezTo>
                          <a:pt x="8" y="7"/>
                          <a:pt x="11" y="10"/>
                          <a:pt x="13" y="10"/>
                        </a:cubicBezTo>
                        <a:cubicBezTo>
                          <a:pt x="16" y="11"/>
                          <a:pt x="17" y="9"/>
                          <a:pt x="17" y="9"/>
                        </a:cubicBezTo>
                        <a:cubicBezTo>
                          <a:pt x="19" y="10"/>
                          <a:pt x="19" y="10"/>
                          <a:pt x="19" y="10"/>
                        </a:cubicBezTo>
                        <a:cubicBezTo>
                          <a:pt x="19" y="10"/>
                          <a:pt x="14" y="11"/>
                          <a:pt x="11" y="13"/>
                        </a:cubicBezTo>
                        <a:cubicBezTo>
                          <a:pt x="11" y="13"/>
                          <a:pt x="10" y="13"/>
                          <a:pt x="9" y="14"/>
                        </a:cubicBezTo>
                        <a:cubicBezTo>
                          <a:pt x="7" y="13"/>
                          <a:pt x="5" y="13"/>
                          <a:pt x="4" y="14"/>
                        </a:cubicBezTo>
                        <a:cubicBezTo>
                          <a:pt x="2" y="14"/>
                          <a:pt x="1" y="17"/>
                          <a:pt x="0" y="15"/>
                        </a:cubicBezTo>
                        <a:cubicBezTo>
                          <a:pt x="0" y="16"/>
                          <a:pt x="1" y="18"/>
                          <a:pt x="3" y="18"/>
                        </a:cubicBezTo>
                        <a:cubicBezTo>
                          <a:pt x="2" y="18"/>
                          <a:pt x="0" y="21"/>
                          <a:pt x="1" y="22"/>
                        </a:cubicBezTo>
                        <a:cubicBezTo>
                          <a:pt x="1" y="21"/>
                          <a:pt x="3" y="21"/>
                          <a:pt x="5" y="21"/>
                        </a:cubicBezTo>
                        <a:cubicBezTo>
                          <a:pt x="4" y="22"/>
                          <a:pt x="3" y="23"/>
                          <a:pt x="4" y="26"/>
                        </a:cubicBezTo>
                        <a:cubicBezTo>
                          <a:pt x="5" y="28"/>
                          <a:pt x="1" y="30"/>
                          <a:pt x="0" y="30"/>
                        </a:cubicBezTo>
                        <a:cubicBezTo>
                          <a:pt x="2" y="31"/>
                          <a:pt x="5" y="30"/>
                          <a:pt x="7" y="27"/>
                        </a:cubicBezTo>
                        <a:cubicBezTo>
                          <a:pt x="9" y="24"/>
                          <a:pt x="9" y="25"/>
                          <a:pt x="9" y="25"/>
                        </a:cubicBezTo>
                        <a:cubicBezTo>
                          <a:pt x="9" y="25"/>
                          <a:pt x="8" y="28"/>
                          <a:pt x="9" y="28"/>
                        </a:cubicBezTo>
                        <a:cubicBezTo>
                          <a:pt x="10" y="27"/>
                          <a:pt x="11" y="26"/>
                          <a:pt x="12" y="25"/>
                        </a:cubicBezTo>
                        <a:cubicBezTo>
                          <a:pt x="14" y="25"/>
                          <a:pt x="16" y="21"/>
                          <a:pt x="13" y="15"/>
                        </a:cubicBezTo>
                        <a:cubicBezTo>
                          <a:pt x="12" y="14"/>
                          <a:pt x="14" y="13"/>
                          <a:pt x="14" y="13"/>
                        </a:cubicBezTo>
                        <a:cubicBezTo>
                          <a:pt x="14" y="13"/>
                          <a:pt x="12" y="14"/>
                          <a:pt x="11" y="16"/>
                        </a:cubicBezTo>
                        <a:cubicBezTo>
                          <a:pt x="10" y="18"/>
                          <a:pt x="10" y="21"/>
                          <a:pt x="9" y="23"/>
                        </a:cubicBezTo>
                        <a:cubicBezTo>
                          <a:pt x="8" y="24"/>
                          <a:pt x="7" y="24"/>
                          <a:pt x="7" y="24"/>
                        </a:cubicBezTo>
                        <a:cubicBezTo>
                          <a:pt x="7" y="24"/>
                          <a:pt x="9" y="22"/>
                          <a:pt x="8" y="20"/>
                        </a:cubicBezTo>
                        <a:cubicBezTo>
                          <a:pt x="8" y="19"/>
                          <a:pt x="12" y="10"/>
                          <a:pt x="20" y="10"/>
                        </a:cubicBezTo>
                        <a:cubicBezTo>
                          <a:pt x="21" y="10"/>
                          <a:pt x="33" y="9"/>
                          <a:pt x="36" y="14"/>
                        </a:cubicBezTo>
                        <a:cubicBezTo>
                          <a:pt x="33" y="11"/>
                          <a:pt x="23" y="10"/>
                          <a:pt x="20" y="15"/>
                        </a:cubicBezTo>
                        <a:cubicBezTo>
                          <a:pt x="17" y="20"/>
                          <a:pt x="19" y="24"/>
                          <a:pt x="19" y="24"/>
                        </a:cubicBezTo>
                        <a:cubicBezTo>
                          <a:pt x="19" y="24"/>
                          <a:pt x="14" y="19"/>
                          <a:pt x="21" y="13"/>
                        </a:cubicBezTo>
                        <a:cubicBezTo>
                          <a:pt x="20" y="13"/>
                          <a:pt x="9" y="23"/>
                          <a:pt x="20" y="29"/>
                        </a:cubicBezTo>
                        <a:cubicBezTo>
                          <a:pt x="23" y="31"/>
                          <a:pt x="26" y="29"/>
                          <a:pt x="27" y="32"/>
                        </a:cubicBezTo>
                        <a:cubicBezTo>
                          <a:pt x="27" y="29"/>
                          <a:pt x="23" y="28"/>
                          <a:pt x="22" y="25"/>
                        </a:cubicBezTo>
                        <a:cubicBezTo>
                          <a:pt x="23" y="26"/>
                          <a:pt x="25" y="26"/>
                          <a:pt x="27" y="27"/>
                        </a:cubicBezTo>
                        <a:cubicBezTo>
                          <a:pt x="27" y="25"/>
                          <a:pt x="22" y="24"/>
                          <a:pt x="23" y="20"/>
                        </a:cubicBezTo>
                        <a:cubicBezTo>
                          <a:pt x="23" y="22"/>
                          <a:pt x="25" y="22"/>
                          <a:pt x="26" y="22"/>
                        </a:cubicBezTo>
                        <a:cubicBezTo>
                          <a:pt x="26" y="21"/>
                          <a:pt x="19" y="11"/>
                          <a:pt x="31" y="12"/>
                        </a:cubicBezTo>
                        <a:cubicBezTo>
                          <a:pt x="37" y="13"/>
                          <a:pt x="43" y="20"/>
                          <a:pt x="43" y="20"/>
                        </a:cubicBezTo>
                        <a:cubicBezTo>
                          <a:pt x="43" y="20"/>
                          <a:pt x="38" y="13"/>
                          <a:pt x="33" y="11"/>
                        </a:cubicBezTo>
                        <a:close/>
                        <a:moveTo>
                          <a:pt x="16" y="8"/>
                        </a:moveTo>
                        <a:cubicBezTo>
                          <a:pt x="16" y="8"/>
                          <a:pt x="9" y="7"/>
                          <a:pt x="9" y="5"/>
                        </a:cubicBezTo>
                        <a:cubicBezTo>
                          <a:pt x="10" y="2"/>
                          <a:pt x="16" y="8"/>
                          <a:pt x="16" y="8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1" name="Freeform 1334"/>
                  <p:cNvSpPr/>
                  <p:nvPr/>
                </p:nvSpPr>
                <p:spPr>
                  <a:xfrm flipV="1">
                    <a:off x="1547640" y="4120560"/>
                    <a:ext cx="231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33" y="11"/>
                        </a:moveTo>
                        <a:cubicBezTo>
                          <a:pt x="33" y="12"/>
                          <a:pt x="33" y="12"/>
                          <a:pt x="33" y="12"/>
                        </a:cubicBezTo>
                        <a:cubicBezTo>
                          <a:pt x="33" y="12"/>
                          <a:pt x="28" y="7"/>
                          <a:pt x="23" y="11"/>
                        </a:cubicBezTo>
                        <a:cubicBezTo>
                          <a:pt x="23" y="12"/>
                          <a:pt x="23" y="15"/>
                          <a:pt x="18" y="15"/>
                        </a:cubicBezTo>
                        <a:cubicBezTo>
                          <a:pt x="19" y="15"/>
                          <a:pt x="19" y="12"/>
                          <a:pt x="22" y="11"/>
                        </a:cubicBezTo>
                        <a:cubicBezTo>
                          <a:pt x="23" y="10"/>
                          <a:pt x="23" y="10"/>
                          <a:pt x="23" y="10"/>
                        </a:cubicBezTo>
                        <a:cubicBezTo>
                          <a:pt x="23" y="10"/>
                          <a:pt x="14" y="15"/>
                          <a:pt x="12" y="13"/>
                        </a:cubicBezTo>
                        <a:cubicBezTo>
                          <a:pt x="11" y="14"/>
                          <a:pt x="11" y="15"/>
                          <a:pt x="10" y="16"/>
                        </a:cubicBezTo>
                        <a:cubicBezTo>
                          <a:pt x="8" y="17"/>
                          <a:pt x="6" y="18"/>
                          <a:pt x="6" y="20"/>
                        </a:cubicBezTo>
                        <a:cubicBezTo>
                          <a:pt x="5" y="19"/>
                          <a:pt x="5" y="14"/>
                          <a:pt x="11" y="13"/>
                        </a:cubicBezTo>
                        <a:cubicBezTo>
                          <a:pt x="10" y="13"/>
                          <a:pt x="8" y="13"/>
                          <a:pt x="8" y="13"/>
                        </a:cubicBezTo>
                        <a:cubicBezTo>
                          <a:pt x="8" y="13"/>
                          <a:pt x="4" y="16"/>
                          <a:pt x="0" y="13"/>
                        </a:cubicBezTo>
                        <a:cubicBezTo>
                          <a:pt x="1" y="12"/>
                          <a:pt x="4" y="9"/>
                          <a:pt x="8" y="12"/>
                        </a:cubicBezTo>
                        <a:cubicBezTo>
                          <a:pt x="10" y="13"/>
                          <a:pt x="10" y="13"/>
                          <a:pt x="10" y="13"/>
                        </a:cubicBezTo>
                        <a:cubicBezTo>
                          <a:pt x="10" y="13"/>
                          <a:pt x="5" y="11"/>
                          <a:pt x="6" y="6"/>
                        </a:cubicBezTo>
                        <a:cubicBezTo>
                          <a:pt x="7" y="7"/>
                          <a:pt x="10" y="7"/>
                          <a:pt x="10" y="9"/>
                        </a:cubicBezTo>
                        <a:cubicBezTo>
                          <a:pt x="11" y="11"/>
                          <a:pt x="10" y="12"/>
                          <a:pt x="12" y="13"/>
                        </a:cubicBezTo>
                        <a:cubicBezTo>
                          <a:pt x="14" y="14"/>
                          <a:pt x="22" y="10"/>
                          <a:pt x="22" y="10"/>
                        </a:cubicBezTo>
                        <a:cubicBezTo>
                          <a:pt x="22" y="10"/>
                          <a:pt x="21" y="9"/>
                          <a:pt x="20" y="9"/>
                        </a:cubicBezTo>
                        <a:cubicBezTo>
                          <a:pt x="19" y="9"/>
                          <a:pt x="17" y="8"/>
                          <a:pt x="16" y="7"/>
                        </a:cubicBezTo>
                        <a:cubicBezTo>
                          <a:pt x="14" y="5"/>
                          <a:pt x="15" y="3"/>
                          <a:pt x="15" y="3"/>
                        </a:cubicBezTo>
                        <a:cubicBezTo>
                          <a:pt x="15" y="3"/>
                          <a:pt x="16" y="3"/>
                          <a:pt x="19" y="5"/>
                        </a:cubicBezTo>
                        <a:cubicBezTo>
                          <a:pt x="22" y="7"/>
                          <a:pt x="19" y="8"/>
                          <a:pt x="23" y="9"/>
                        </a:cubicBezTo>
                        <a:cubicBezTo>
                          <a:pt x="25" y="9"/>
                          <a:pt x="28" y="8"/>
                          <a:pt x="28" y="9"/>
                        </a:cubicBezTo>
                        <a:cubicBezTo>
                          <a:pt x="27" y="8"/>
                          <a:pt x="24" y="6"/>
                          <a:pt x="25" y="4"/>
                        </a:cubicBezTo>
                        <a:cubicBezTo>
                          <a:pt x="25" y="1"/>
                          <a:pt x="26" y="1"/>
                          <a:pt x="26" y="0"/>
                        </a:cubicBezTo>
                        <a:cubicBezTo>
                          <a:pt x="27" y="0"/>
                          <a:pt x="29" y="2"/>
                          <a:pt x="28" y="4"/>
                        </a:cubicBezTo>
                        <a:cubicBezTo>
                          <a:pt x="28" y="6"/>
                          <a:pt x="28" y="8"/>
                          <a:pt x="29" y="9"/>
                        </a:cubicBezTo>
                        <a:cubicBezTo>
                          <a:pt x="31" y="10"/>
                          <a:pt x="33" y="11"/>
                          <a:pt x="33" y="11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2" name="Freeform 1335"/>
                  <p:cNvSpPr/>
                  <p:nvPr/>
                </p:nvSpPr>
                <p:spPr>
                  <a:xfrm flipV="1">
                    <a:off x="1814400" y="4120560"/>
                    <a:ext cx="23076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0" y="11"/>
                        </a:moveTo>
                        <a:cubicBezTo>
                          <a:pt x="0" y="12"/>
                          <a:pt x="0" y="12"/>
                          <a:pt x="0" y="12"/>
                        </a:cubicBezTo>
                        <a:cubicBezTo>
                          <a:pt x="0" y="12"/>
                          <a:pt x="5" y="7"/>
                          <a:pt x="11" y="11"/>
                        </a:cubicBezTo>
                        <a:cubicBezTo>
                          <a:pt x="10" y="12"/>
                          <a:pt x="10" y="15"/>
                          <a:pt x="15" y="15"/>
                        </a:cubicBezTo>
                        <a:cubicBezTo>
                          <a:pt x="15" y="15"/>
                          <a:pt x="15" y="12"/>
                          <a:pt x="11" y="11"/>
                        </a:cubicBezTo>
                        <a:cubicBezTo>
                          <a:pt x="10" y="10"/>
                          <a:pt x="10" y="10"/>
                          <a:pt x="10" y="10"/>
                        </a:cubicBezTo>
                        <a:cubicBezTo>
                          <a:pt x="10" y="10"/>
                          <a:pt x="20" y="15"/>
                          <a:pt x="22" y="13"/>
                        </a:cubicBezTo>
                        <a:cubicBezTo>
                          <a:pt x="22" y="14"/>
                          <a:pt x="22" y="15"/>
                          <a:pt x="24" y="16"/>
                        </a:cubicBezTo>
                        <a:cubicBezTo>
                          <a:pt x="25" y="17"/>
                          <a:pt x="27" y="18"/>
                          <a:pt x="27" y="20"/>
                        </a:cubicBezTo>
                        <a:cubicBezTo>
                          <a:pt x="28" y="19"/>
                          <a:pt x="29" y="14"/>
                          <a:pt x="22" y="13"/>
                        </a:cubicBezTo>
                        <a:cubicBezTo>
                          <a:pt x="23" y="13"/>
                          <a:pt x="26" y="13"/>
                          <a:pt x="26" y="13"/>
                        </a:cubicBezTo>
                        <a:cubicBezTo>
                          <a:pt x="26" y="13"/>
                          <a:pt x="29" y="16"/>
                          <a:pt x="33" y="13"/>
                        </a:cubicBezTo>
                        <a:cubicBezTo>
                          <a:pt x="32" y="12"/>
                          <a:pt x="29" y="9"/>
                          <a:pt x="26" y="12"/>
                        </a:cubicBezTo>
                        <a:cubicBezTo>
                          <a:pt x="23" y="13"/>
                          <a:pt x="23" y="13"/>
                          <a:pt x="23" y="13"/>
                        </a:cubicBezTo>
                        <a:cubicBezTo>
                          <a:pt x="23" y="13"/>
                          <a:pt x="28" y="11"/>
                          <a:pt x="27" y="6"/>
                        </a:cubicBezTo>
                        <a:cubicBezTo>
                          <a:pt x="26" y="7"/>
                          <a:pt x="23" y="7"/>
                          <a:pt x="23" y="9"/>
                        </a:cubicBezTo>
                        <a:cubicBezTo>
                          <a:pt x="22" y="11"/>
                          <a:pt x="23" y="12"/>
                          <a:pt x="21" y="13"/>
                        </a:cubicBezTo>
                        <a:cubicBezTo>
                          <a:pt x="19" y="14"/>
                          <a:pt x="11" y="10"/>
                          <a:pt x="11" y="10"/>
                        </a:cubicBezTo>
                        <a:cubicBezTo>
                          <a:pt x="12" y="10"/>
                          <a:pt x="12" y="9"/>
                          <a:pt x="13" y="9"/>
                        </a:cubicBezTo>
                        <a:cubicBezTo>
                          <a:pt x="14" y="9"/>
                          <a:pt x="16" y="8"/>
                          <a:pt x="18" y="7"/>
                        </a:cubicBezTo>
                        <a:cubicBezTo>
                          <a:pt x="19" y="5"/>
                          <a:pt x="19" y="3"/>
                          <a:pt x="19" y="3"/>
                        </a:cubicBezTo>
                        <a:cubicBezTo>
                          <a:pt x="19" y="3"/>
                          <a:pt x="17" y="3"/>
                          <a:pt x="14" y="5"/>
                        </a:cubicBezTo>
                        <a:cubicBezTo>
                          <a:pt x="12" y="7"/>
                          <a:pt x="14" y="8"/>
                          <a:pt x="11" y="9"/>
                        </a:cubicBezTo>
                        <a:cubicBezTo>
                          <a:pt x="8" y="9"/>
                          <a:pt x="6" y="8"/>
                          <a:pt x="5" y="9"/>
                        </a:cubicBezTo>
                        <a:cubicBezTo>
                          <a:pt x="6" y="8"/>
                          <a:pt x="9" y="6"/>
                          <a:pt x="9" y="4"/>
                        </a:cubicBezTo>
                        <a:cubicBezTo>
                          <a:pt x="8" y="1"/>
                          <a:pt x="7" y="1"/>
                          <a:pt x="8" y="0"/>
                        </a:cubicBezTo>
                        <a:cubicBezTo>
                          <a:pt x="7" y="0"/>
                          <a:pt x="5" y="2"/>
                          <a:pt x="5" y="4"/>
                        </a:cubicBezTo>
                        <a:cubicBezTo>
                          <a:pt x="5" y="6"/>
                          <a:pt x="5" y="8"/>
                          <a:pt x="4" y="9"/>
                        </a:cubicBezTo>
                        <a:cubicBezTo>
                          <a:pt x="2" y="10"/>
                          <a:pt x="0" y="11"/>
                          <a:pt x="0" y="11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3" name="Freeform 1336"/>
                  <p:cNvSpPr/>
                  <p:nvPr/>
                </p:nvSpPr>
                <p:spPr>
                  <a:xfrm flipV="1">
                    <a:off x="1716120" y="4212360"/>
                    <a:ext cx="15336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3">
                        <a:moveTo>
                          <a:pt x="13" y="13"/>
                        </a:moveTo>
                        <a:cubicBezTo>
                          <a:pt x="12" y="16"/>
                          <a:pt x="17" y="16"/>
                          <a:pt x="17" y="17"/>
                        </a:cubicBezTo>
                        <a:cubicBezTo>
                          <a:pt x="18" y="16"/>
                          <a:pt x="17" y="15"/>
                          <a:pt x="17" y="15"/>
                        </a:cubicBezTo>
                        <a:cubicBezTo>
                          <a:pt x="17" y="15"/>
                          <a:pt x="18" y="15"/>
                          <a:pt x="19" y="14"/>
                        </a:cubicBezTo>
                        <a:cubicBezTo>
                          <a:pt x="20" y="14"/>
                          <a:pt x="21" y="14"/>
                          <a:pt x="22" y="15"/>
                        </a:cubicBezTo>
                        <a:cubicBezTo>
                          <a:pt x="22" y="12"/>
                          <a:pt x="18" y="11"/>
                          <a:pt x="18" y="11"/>
                        </a:cubicBezTo>
                        <a:cubicBezTo>
                          <a:pt x="18" y="10"/>
                          <a:pt x="18" y="10"/>
                          <a:pt x="18" y="10"/>
                        </a:cubicBezTo>
                        <a:cubicBezTo>
                          <a:pt x="18" y="10"/>
                          <a:pt x="16" y="8"/>
                          <a:pt x="13" y="11"/>
                        </a:cubicBezTo>
                        <a:cubicBezTo>
                          <a:pt x="15" y="8"/>
                          <a:pt x="13" y="3"/>
                          <a:pt x="13" y="3"/>
                        </a:cubicBezTo>
                        <a:cubicBezTo>
                          <a:pt x="13" y="3"/>
                          <a:pt x="13" y="4"/>
                          <a:pt x="12" y="5"/>
                        </a:cubicBezTo>
                        <a:cubicBezTo>
                          <a:pt x="12" y="2"/>
                          <a:pt x="7" y="0"/>
                          <a:pt x="6" y="0"/>
                        </a:cubicBezTo>
                        <a:cubicBezTo>
                          <a:pt x="7" y="0"/>
                          <a:pt x="7" y="2"/>
                          <a:pt x="7" y="3"/>
                        </a:cubicBezTo>
                        <a:cubicBezTo>
                          <a:pt x="8" y="5"/>
                          <a:pt x="8" y="6"/>
                          <a:pt x="8" y="6"/>
                        </a:cubicBezTo>
                        <a:cubicBezTo>
                          <a:pt x="8" y="6"/>
                          <a:pt x="7" y="6"/>
                          <a:pt x="6" y="6"/>
                        </a:cubicBezTo>
                        <a:cubicBezTo>
                          <a:pt x="7" y="7"/>
                          <a:pt x="8" y="9"/>
                          <a:pt x="9" y="9"/>
                        </a:cubicBezTo>
                        <a:cubicBezTo>
                          <a:pt x="11" y="10"/>
                          <a:pt x="10" y="12"/>
                          <a:pt x="12" y="13"/>
                        </a:cubicBezTo>
                        <a:cubicBezTo>
                          <a:pt x="11" y="13"/>
                          <a:pt x="9" y="13"/>
                          <a:pt x="9" y="11"/>
                        </a:cubicBezTo>
                        <a:cubicBezTo>
                          <a:pt x="8" y="9"/>
                          <a:pt x="6" y="9"/>
                          <a:pt x="6" y="9"/>
                        </a:cubicBezTo>
                        <a:cubicBezTo>
                          <a:pt x="6" y="9"/>
                          <a:pt x="6" y="9"/>
                          <a:pt x="7" y="10"/>
                        </a:cubicBezTo>
                        <a:cubicBezTo>
                          <a:pt x="4" y="8"/>
                          <a:pt x="0" y="11"/>
                          <a:pt x="0" y="12"/>
                        </a:cubicBezTo>
                        <a:cubicBezTo>
                          <a:pt x="1" y="11"/>
                          <a:pt x="3" y="14"/>
                          <a:pt x="5" y="14"/>
                        </a:cubicBezTo>
                        <a:cubicBezTo>
                          <a:pt x="4" y="15"/>
                          <a:pt x="4" y="16"/>
                          <a:pt x="5" y="17"/>
                        </a:cubicBezTo>
                        <a:cubicBezTo>
                          <a:pt x="5" y="15"/>
                          <a:pt x="6" y="15"/>
                          <a:pt x="7" y="16"/>
                        </a:cubicBezTo>
                        <a:cubicBezTo>
                          <a:pt x="9" y="16"/>
                          <a:pt x="10" y="14"/>
                          <a:pt x="10" y="13"/>
                        </a:cubicBezTo>
                        <a:cubicBezTo>
                          <a:pt x="10" y="13"/>
                          <a:pt x="12" y="13"/>
                          <a:pt x="12" y="13"/>
                        </a:cubicBezTo>
                        <a:cubicBezTo>
                          <a:pt x="12" y="13"/>
                          <a:pt x="10" y="15"/>
                          <a:pt x="10" y="18"/>
                        </a:cubicBezTo>
                        <a:cubicBezTo>
                          <a:pt x="9" y="22"/>
                          <a:pt x="13" y="23"/>
                          <a:pt x="13" y="23"/>
                        </a:cubicBezTo>
                        <a:cubicBezTo>
                          <a:pt x="7" y="20"/>
                          <a:pt x="12" y="14"/>
                          <a:pt x="13" y="13"/>
                        </a:cubicBezTo>
                        <a:close/>
                        <a:moveTo>
                          <a:pt x="10" y="5"/>
                        </a:moveTo>
                        <a:cubicBezTo>
                          <a:pt x="11" y="4"/>
                          <a:pt x="12" y="7"/>
                          <a:pt x="12" y="11"/>
                        </a:cubicBezTo>
                        <a:cubicBezTo>
                          <a:pt x="12" y="11"/>
                          <a:pt x="9" y="5"/>
                          <a:pt x="10" y="5"/>
                        </a:cubicBezTo>
                        <a:close/>
                        <a:moveTo>
                          <a:pt x="13" y="12"/>
                        </a:moveTo>
                        <a:cubicBezTo>
                          <a:pt x="13" y="12"/>
                          <a:pt x="18" y="11"/>
                          <a:pt x="19" y="13"/>
                        </a:cubicBezTo>
                        <a:cubicBezTo>
                          <a:pt x="19" y="14"/>
                          <a:pt x="13" y="12"/>
                          <a:pt x="13" y="12"/>
                        </a:cubicBezTo>
                        <a:close/>
                        <a:moveTo>
                          <a:pt x="9" y="13"/>
                        </a:moveTo>
                        <a:cubicBezTo>
                          <a:pt x="9" y="13"/>
                          <a:pt x="3" y="13"/>
                          <a:pt x="3" y="11"/>
                        </a:cubicBezTo>
                        <a:cubicBezTo>
                          <a:pt x="4" y="10"/>
                          <a:pt x="9" y="13"/>
                          <a:pt x="9" y="13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94" name="直接连接符 15"/>
                <p:cNvSpPr/>
                <p:nvPr/>
              </p:nvSpPr>
              <p:spPr>
                <a:xfrm>
                  <a:off x="860760" y="4090680"/>
                  <a:ext cx="1878840" cy="0"/>
                </a:xfrm>
                <a:prstGeom prst="line">
                  <a:avLst/>
                </a:prstGeom>
                <a:ln w="6480">
                  <a:solidFill>
                    <a:srgbClr val="574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95" name="文本框 50"/>
              <p:cNvSpPr/>
              <p:nvPr/>
            </p:nvSpPr>
            <p:spPr>
              <a:xfrm>
                <a:off x="772200" y="35830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574f1f"/>
                    </a:solidFill>
                    <a:latin typeface="Vivaldi"/>
                  </a:rPr>
                  <a:t>01</a:t>
                </a:r>
                <a:endParaRPr b="0" lang="en-US" sz="32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496" name="矩形 87"/>
              <p:cNvSpPr/>
              <p:nvPr/>
            </p:nvSpPr>
            <p:spPr>
              <a:xfrm>
                <a:off x="841320" y="4421160"/>
                <a:ext cx="1917720" cy="11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497" name="文本框 17452"/>
            <p:cNvSpPr/>
            <p:nvPr/>
          </p:nvSpPr>
          <p:spPr>
            <a:xfrm>
              <a:off x="1555200" y="46512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74f1f"/>
                  </a:solidFill>
                  <a:latin typeface="Calibri"/>
                  <a:ea typeface="宋体"/>
                </a:rPr>
                <a:t>射手座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498" name="组合 17453"/>
          <p:cNvGrpSpPr/>
          <p:nvPr/>
        </p:nvGrpSpPr>
        <p:grpSpPr>
          <a:xfrm>
            <a:off x="3925800" y="3583080"/>
            <a:ext cx="1936800" cy="2008080"/>
            <a:chOff x="3925800" y="3583080"/>
            <a:chExt cx="1936800" cy="2008080"/>
          </a:xfrm>
        </p:grpSpPr>
        <p:grpSp>
          <p:nvGrpSpPr>
            <p:cNvPr id="499" name="组合 97"/>
            <p:cNvGrpSpPr/>
            <p:nvPr/>
          </p:nvGrpSpPr>
          <p:grpSpPr>
            <a:xfrm>
              <a:off x="3925800" y="3583080"/>
              <a:ext cx="1936800" cy="2008080"/>
              <a:chOff x="3925800" y="3583080"/>
              <a:chExt cx="1936800" cy="2008080"/>
            </a:xfrm>
          </p:grpSpPr>
          <p:sp>
            <p:nvSpPr>
              <p:cNvPr id="500" name="文本框 51"/>
              <p:cNvSpPr/>
              <p:nvPr/>
            </p:nvSpPr>
            <p:spPr>
              <a:xfrm>
                <a:off x="4723560" y="36748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破蛋日</a:t>
                </a:r>
                <a:endParaRPr b="0" lang="en-US" sz="20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grpSp>
            <p:nvGrpSpPr>
              <p:cNvPr id="501" name="组合 52"/>
              <p:cNvGrpSpPr/>
              <p:nvPr/>
            </p:nvGrpSpPr>
            <p:grpSpPr>
              <a:xfrm>
                <a:off x="3982680" y="4090680"/>
                <a:ext cx="1879920" cy="283680"/>
                <a:chOff x="3982680" y="4090680"/>
                <a:chExt cx="1879920" cy="283680"/>
              </a:xfrm>
            </p:grpSpPr>
            <p:grpSp>
              <p:nvGrpSpPr>
                <p:cNvPr id="502" name="组合 53"/>
                <p:cNvGrpSpPr/>
                <p:nvPr/>
              </p:nvGrpSpPr>
              <p:grpSpPr>
                <a:xfrm>
                  <a:off x="4480920" y="4120920"/>
                  <a:ext cx="883440" cy="253440"/>
                  <a:chOff x="4480920" y="4120920"/>
                  <a:chExt cx="883440" cy="253440"/>
                </a:xfrm>
              </p:grpSpPr>
              <p:sp>
                <p:nvSpPr>
                  <p:cNvPr id="503" name="Freeform 1332"/>
                  <p:cNvSpPr/>
                  <p:nvPr/>
                </p:nvSpPr>
                <p:spPr>
                  <a:xfrm flipV="1">
                    <a:off x="5063040" y="4134960"/>
                    <a:ext cx="30132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20"/>
                        </a:moveTo>
                        <a:cubicBezTo>
                          <a:pt x="0" y="20"/>
                          <a:pt x="6" y="13"/>
                          <a:pt x="11" y="12"/>
                        </a:cubicBezTo>
                        <a:cubicBezTo>
                          <a:pt x="24" y="11"/>
                          <a:pt x="16" y="21"/>
                          <a:pt x="16" y="22"/>
                        </a:cubicBezTo>
                        <a:cubicBezTo>
                          <a:pt x="17" y="22"/>
                          <a:pt x="19" y="22"/>
                          <a:pt x="19" y="20"/>
                        </a:cubicBezTo>
                        <a:cubicBezTo>
                          <a:pt x="20" y="24"/>
                          <a:pt x="15" y="25"/>
                          <a:pt x="16" y="27"/>
                        </a:cubicBezTo>
                        <a:cubicBezTo>
                          <a:pt x="17" y="26"/>
                          <a:pt x="19" y="26"/>
                          <a:pt x="20" y="25"/>
                        </a:cubicBezTo>
                        <a:cubicBezTo>
                          <a:pt x="20" y="28"/>
                          <a:pt x="15" y="29"/>
                          <a:pt x="16" y="32"/>
                        </a:cubicBezTo>
                        <a:cubicBezTo>
                          <a:pt x="17" y="29"/>
                          <a:pt x="20" y="31"/>
                          <a:pt x="23" y="29"/>
                        </a:cubicBezTo>
                        <a:cubicBezTo>
                          <a:pt x="33" y="23"/>
                          <a:pt x="23" y="13"/>
                          <a:pt x="22" y="13"/>
                        </a:cubicBezTo>
                        <a:cubicBezTo>
                          <a:pt x="29" y="19"/>
                          <a:pt x="23" y="24"/>
                          <a:pt x="23" y="24"/>
                        </a:cubicBezTo>
                        <a:cubicBezTo>
                          <a:pt x="23" y="24"/>
                          <a:pt x="25" y="20"/>
                          <a:pt x="22" y="15"/>
                        </a:cubicBezTo>
                        <a:cubicBezTo>
                          <a:pt x="19" y="10"/>
                          <a:pt x="10" y="11"/>
                          <a:pt x="6" y="14"/>
                        </a:cubicBezTo>
                        <a:cubicBezTo>
                          <a:pt x="9" y="9"/>
                          <a:pt x="21" y="10"/>
                          <a:pt x="22" y="10"/>
                        </a:cubicBezTo>
                        <a:cubicBezTo>
                          <a:pt x="30" y="10"/>
                          <a:pt x="34" y="19"/>
                          <a:pt x="34" y="20"/>
                        </a:cubicBezTo>
                        <a:cubicBezTo>
                          <a:pt x="34" y="22"/>
                          <a:pt x="35" y="24"/>
                          <a:pt x="35" y="24"/>
                        </a:cubicBezTo>
                        <a:cubicBezTo>
                          <a:pt x="35" y="24"/>
                          <a:pt x="34" y="24"/>
                          <a:pt x="33" y="23"/>
                        </a:cubicBezTo>
                        <a:cubicBezTo>
                          <a:pt x="33" y="21"/>
                          <a:pt x="33" y="18"/>
                          <a:pt x="32" y="16"/>
                        </a:cubicBezTo>
                        <a:cubicBezTo>
                          <a:pt x="31" y="14"/>
                          <a:pt x="28" y="13"/>
                          <a:pt x="28" y="13"/>
                        </a:cubicBezTo>
                        <a:cubicBezTo>
                          <a:pt x="28" y="13"/>
                          <a:pt x="30" y="14"/>
                          <a:pt x="30" y="15"/>
                        </a:cubicBezTo>
                        <a:cubicBezTo>
                          <a:pt x="26" y="21"/>
                          <a:pt x="28" y="25"/>
                          <a:pt x="30" y="25"/>
                        </a:cubicBezTo>
                        <a:cubicBezTo>
                          <a:pt x="32" y="26"/>
                          <a:pt x="33" y="27"/>
                          <a:pt x="33" y="28"/>
                        </a:cubicBezTo>
                        <a:cubicBezTo>
                          <a:pt x="34" y="28"/>
                          <a:pt x="33" y="25"/>
                          <a:pt x="33" y="25"/>
                        </a:cubicBezTo>
                        <a:cubicBezTo>
                          <a:pt x="33" y="25"/>
                          <a:pt x="34" y="24"/>
                          <a:pt x="35" y="27"/>
                        </a:cubicBezTo>
                        <a:cubicBezTo>
                          <a:pt x="37" y="30"/>
                          <a:pt x="41" y="31"/>
                          <a:pt x="42" y="30"/>
                        </a:cubicBezTo>
                        <a:cubicBezTo>
                          <a:pt x="41" y="30"/>
                          <a:pt x="38" y="28"/>
                          <a:pt x="38" y="26"/>
                        </a:cubicBezTo>
                        <a:cubicBezTo>
                          <a:pt x="39" y="23"/>
                          <a:pt x="38" y="22"/>
                          <a:pt x="38" y="21"/>
                        </a:cubicBezTo>
                        <a:cubicBezTo>
                          <a:pt x="39" y="21"/>
                          <a:pt x="42" y="21"/>
                          <a:pt x="42" y="22"/>
                        </a:cubicBezTo>
                        <a:cubicBezTo>
                          <a:pt x="43" y="21"/>
                          <a:pt x="41" y="18"/>
                          <a:pt x="40" y="18"/>
                        </a:cubicBezTo>
                        <a:cubicBezTo>
                          <a:pt x="41" y="18"/>
                          <a:pt x="43" y="16"/>
                          <a:pt x="42" y="15"/>
                        </a:cubicBezTo>
                        <a:cubicBezTo>
                          <a:pt x="41" y="17"/>
                          <a:pt x="40" y="14"/>
                          <a:pt x="39" y="14"/>
                        </a:cubicBezTo>
                        <a:cubicBezTo>
                          <a:pt x="37" y="13"/>
                          <a:pt x="35" y="13"/>
                          <a:pt x="34" y="14"/>
                        </a:cubicBezTo>
                        <a:cubicBezTo>
                          <a:pt x="33" y="13"/>
                          <a:pt x="32" y="13"/>
                          <a:pt x="31" y="13"/>
                        </a:cubicBezTo>
                        <a:cubicBezTo>
                          <a:pt x="28" y="11"/>
                          <a:pt x="24" y="10"/>
                          <a:pt x="24" y="10"/>
                        </a:cubicBezTo>
                        <a:cubicBezTo>
                          <a:pt x="25" y="9"/>
                          <a:pt x="25" y="9"/>
                          <a:pt x="25" y="9"/>
                        </a:cubicBezTo>
                        <a:cubicBezTo>
                          <a:pt x="25" y="9"/>
                          <a:pt x="27" y="11"/>
                          <a:pt x="29" y="10"/>
                        </a:cubicBezTo>
                        <a:cubicBezTo>
                          <a:pt x="31" y="10"/>
                          <a:pt x="35" y="7"/>
                          <a:pt x="36" y="9"/>
                        </a:cubicBezTo>
                        <a:cubicBezTo>
                          <a:pt x="36" y="8"/>
                          <a:pt x="35" y="7"/>
                          <a:pt x="34" y="7"/>
                        </a:cubicBezTo>
                        <a:cubicBezTo>
                          <a:pt x="36" y="3"/>
                          <a:pt x="39" y="2"/>
                          <a:pt x="40" y="3"/>
                        </a:cubicBezTo>
                        <a:cubicBezTo>
                          <a:pt x="39" y="0"/>
                          <a:pt x="34" y="2"/>
                          <a:pt x="31" y="2"/>
                        </a:cubicBezTo>
                        <a:cubicBezTo>
                          <a:pt x="32" y="1"/>
                          <a:pt x="30" y="0"/>
                          <a:pt x="30" y="0"/>
                        </a:cubicBezTo>
                        <a:cubicBezTo>
                          <a:pt x="30" y="0"/>
                          <a:pt x="30" y="2"/>
                          <a:pt x="27" y="3"/>
                        </a:cubicBezTo>
                        <a:cubicBezTo>
                          <a:pt x="25" y="4"/>
                          <a:pt x="24" y="7"/>
                          <a:pt x="25" y="8"/>
                        </a:cubicBezTo>
                        <a:cubicBezTo>
                          <a:pt x="21" y="10"/>
                          <a:pt x="14" y="9"/>
                          <a:pt x="9" y="11"/>
                        </a:cubicBezTo>
                        <a:cubicBezTo>
                          <a:pt x="5" y="13"/>
                          <a:pt x="0" y="20"/>
                          <a:pt x="0" y="20"/>
                        </a:cubicBezTo>
                        <a:close/>
                        <a:moveTo>
                          <a:pt x="33" y="5"/>
                        </a:moveTo>
                        <a:cubicBezTo>
                          <a:pt x="34" y="7"/>
                          <a:pt x="26" y="8"/>
                          <a:pt x="26" y="8"/>
                        </a:cubicBezTo>
                        <a:cubicBezTo>
                          <a:pt x="26" y="8"/>
                          <a:pt x="32" y="2"/>
                          <a:pt x="33" y="5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4" name="Freeform 1333"/>
                  <p:cNvSpPr/>
                  <p:nvPr/>
                </p:nvSpPr>
                <p:spPr>
                  <a:xfrm flipV="1">
                    <a:off x="4480920" y="4134960"/>
                    <a:ext cx="30132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33" y="11"/>
                        </a:moveTo>
                        <a:cubicBezTo>
                          <a:pt x="28" y="9"/>
                          <a:pt x="21" y="10"/>
                          <a:pt x="18" y="8"/>
                        </a:cubicBezTo>
                        <a:cubicBezTo>
                          <a:pt x="18" y="7"/>
                          <a:pt x="17" y="4"/>
                          <a:pt x="15" y="3"/>
                        </a:cubicBezTo>
                        <a:cubicBezTo>
                          <a:pt x="12" y="2"/>
                          <a:pt x="13" y="0"/>
                          <a:pt x="13" y="0"/>
                        </a:cubicBezTo>
                        <a:cubicBezTo>
                          <a:pt x="13" y="0"/>
                          <a:pt x="10" y="1"/>
                          <a:pt x="11" y="2"/>
                        </a:cubicBezTo>
                        <a:cubicBezTo>
                          <a:pt x="9" y="2"/>
                          <a:pt x="4" y="0"/>
                          <a:pt x="2" y="3"/>
                        </a:cubicBezTo>
                        <a:cubicBezTo>
                          <a:pt x="3" y="2"/>
                          <a:pt x="6" y="3"/>
                          <a:pt x="8" y="7"/>
                        </a:cubicBezTo>
                        <a:cubicBezTo>
                          <a:pt x="7" y="7"/>
                          <a:pt x="6" y="8"/>
                          <a:pt x="7" y="9"/>
                        </a:cubicBezTo>
                        <a:cubicBezTo>
                          <a:pt x="8" y="7"/>
                          <a:pt x="11" y="10"/>
                          <a:pt x="13" y="10"/>
                        </a:cubicBezTo>
                        <a:cubicBezTo>
                          <a:pt x="16" y="11"/>
                          <a:pt x="17" y="9"/>
                          <a:pt x="17" y="9"/>
                        </a:cubicBezTo>
                        <a:cubicBezTo>
                          <a:pt x="19" y="10"/>
                          <a:pt x="19" y="10"/>
                          <a:pt x="19" y="10"/>
                        </a:cubicBezTo>
                        <a:cubicBezTo>
                          <a:pt x="19" y="10"/>
                          <a:pt x="14" y="11"/>
                          <a:pt x="11" y="13"/>
                        </a:cubicBezTo>
                        <a:cubicBezTo>
                          <a:pt x="11" y="13"/>
                          <a:pt x="10" y="13"/>
                          <a:pt x="9" y="14"/>
                        </a:cubicBezTo>
                        <a:cubicBezTo>
                          <a:pt x="7" y="13"/>
                          <a:pt x="5" y="13"/>
                          <a:pt x="4" y="14"/>
                        </a:cubicBezTo>
                        <a:cubicBezTo>
                          <a:pt x="2" y="14"/>
                          <a:pt x="1" y="17"/>
                          <a:pt x="0" y="15"/>
                        </a:cubicBezTo>
                        <a:cubicBezTo>
                          <a:pt x="0" y="16"/>
                          <a:pt x="1" y="18"/>
                          <a:pt x="3" y="18"/>
                        </a:cubicBezTo>
                        <a:cubicBezTo>
                          <a:pt x="2" y="18"/>
                          <a:pt x="0" y="21"/>
                          <a:pt x="1" y="22"/>
                        </a:cubicBezTo>
                        <a:cubicBezTo>
                          <a:pt x="1" y="21"/>
                          <a:pt x="3" y="21"/>
                          <a:pt x="5" y="21"/>
                        </a:cubicBezTo>
                        <a:cubicBezTo>
                          <a:pt x="4" y="22"/>
                          <a:pt x="3" y="23"/>
                          <a:pt x="4" y="26"/>
                        </a:cubicBezTo>
                        <a:cubicBezTo>
                          <a:pt x="5" y="28"/>
                          <a:pt x="1" y="30"/>
                          <a:pt x="0" y="30"/>
                        </a:cubicBezTo>
                        <a:cubicBezTo>
                          <a:pt x="2" y="31"/>
                          <a:pt x="5" y="30"/>
                          <a:pt x="7" y="27"/>
                        </a:cubicBezTo>
                        <a:cubicBezTo>
                          <a:pt x="9" y="24"/>
                          <a:pt x="9" y="25"/>
                          <a:pt x="9" y="25"/>
                        </a:cubicBezTo>
                        <a:cubicBezTo>
                          <a:pt x="9" y="25"/>
                          <a:pt x="8" y="28"/>
                          <a:pt x="9" y="28"/>
                        </a:cubicBezTo>
                        <a:cubicBezTo>
                          <a:pt x="10" y="27"/>
                          <a:pt x="11" y="26"/>
                          <a:pt x="12" y="25"/>
                        </a:cubicBezTo>
                        <a:cubicBezTo>
                          <a:pt x="14" y="25"/>
                          <a:pt x="16" y="21"/>
                          <a:pt x="13" y="15"/>
                        </a:cubicBezTo>
                        <a:cubicBezTo>
                          <a:pt x="12" y="14"/>
                          <a:pt x="14" y="13"/>
                          <a:pt x="14" y="13"/>
                        </a:cubicBezTo>
                        <a:cubicBezTo>
                          <a:pt x="14" y="13"/>
                          <a:pt x="12" y="14"/>
                          <a:pt x="11" y="16"/>
                        </a:cubicBezTo>
                        <a:cubicBezTo>
                          <a:pt x="10" y="18"/>
                          <a:pt x="10" y="21"/>
                          <a:pt x="9" y="23"/>
                        </a:cubicBezTo>
                        <a:cubicBezTo>
                          <a:pt x="8" y="24"/>
                          <a:pt x="7" y="24"/>
                          <a:pt x="7" y="24"/>
                        </a:cubicBezTo>
                        <a:cubicBezTo>
                          <a:pt x="7" y="24"/>
                          <a:pt x="9" y="22"/>
                          <a:pt x="8" y="20"/>
                        </a:cubicBezTo>
                        <a:cubicBezTo>
                          <a:pt x="8" y="19"/>
                          <a:pt x="12" y="10"/>
                          <a:pt x="20" y="10"/>
                        </a:cubicBezTo>
                        <a:cubicBezTo>
                          <a:pt x="21" y="10"/>
                          <a:pt x="33" y="9"/>
                          <a:pt x="36" y="14"/>
                        </a:cubicBezTo>
                        <a:cubicBezTo>
                          <a:pt x="33" y="11"/>
                          <a:pt x="23" y="10"/>
                          <a:pt x="20" y="15"/>
                        </a:cubicBezTo>
                        <a:cubicBezTo>
                          <a:pt x="17" y="20"/>
                          <a:pt x="19" y="24"/>
                          <a:pt x="19" y="24"/>
                        </a:cubicBezTo>
                        <a:cubicBezTo>
                          <a:pt x="19" y="24"/>
                          <a:pt x="14" y="19"/>
                          <a:pt x="21" y="13"/>
                        </a:cubicBezTo>
                        <a:cubicBezTo>
                          <a:pt x="20" y="13"/>
                          <a:pt x="9" y="23"/>
                          <a:pt x="20" y="29"/>
                        </a:cubicBezTo>
                        <a:cubicBezTo>
                          <a:pt x="23" y="31"/>
                          <a:pt x="26" y="29"/>
                          <a:pt x="27" y="32"/>
                        </a:cubicBezTo>
                        <a:cubicBezTo>
                          <a:pt x="27" y="29"/>
                          <a:pt x="23" y="28"/>
                          <a:pt x="22" y="25"/>
                        </a:cubicBezTo>
                        <a:cubicBezTo>
                          <a:pt x="23" y="26"/>
                          <a:pt x="25" y="26"/>
                          <a:pt x="27" y="27"/>
                        </a:cubicBezTo>
                        <a:cubicBezTo>
                          <a:pt x="27" y="25"/>
                          <a:pt x="22" y="24"/>
                          <a:pt x="23" y="20"/>
                        </a:cubicBezTo>
                        <a:cubicBezTo>
                          <a:pt x="23" y="22"/>
                          <a:pt x="25" y="22"/>
                          <a:pt x="26" y="22"/>
                        </a:cubicBezTo>
                        <a:cubicBezTo>
                          <a:pt x="26" y="21"/>
                          <a:pt x="19" y="11"/>
                          <a:pt x="31" y="12"/>
                        </a:cubicBezTo>
                        <a:cubicBezTo>
                          <a:pt x="37" y="13"/>
                          <a:pt x="43" y="20"/>
                          <a:pt x="43" y="20"/>
                        </a:cubicBezTo>
                        <a:cubicBezTo>
                          <a:pt x="43" y="20"/>
                          <a:pt x="38" y="13"/>
                          <a:pt x="33" y="11"/>
                        </a:cubicBezTo>
                        <a:close/>
                        <a:moveTo>
                          <a:pt x="16" y="8"/>
                        </a:moveTo>
                        <a:cubicBezTo>
                          <a:pt x="16" y="8"/>
                          <a:pt x="9" y="7"/>
                          <a:pt x="9" y="5"/>
                        </a:cubicBezTo>
                        <a:cubicBezTo>
                          <a:pt x="10" y="2"/>
                          <a:pt x="16" y="8"/>
                          <a:pt x="16" y="8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5" name="Freeform 1334"/>
                  <p:cNvSpPr/>
                  <p:nvPr/>
                </p:nvSpPr>
                <p:spPr>
                  <a:xfrm flipV="1">
                    <a:off x="4669920" y="4120560"/>
                    <a:ext cx="23220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33" y="11"/>
                        </a:moveTo>
                        <a:cubicBezTo>
                          <a:pt x="33" y="12"/>
                          <a:pt x="33" y="12"/>
                          <a:pt x="33" y="12"/>
                        </a:cubicBezTo>
                        <a:cubicBezTo>
                          <a:pt x="33" y="12"/>
                          <a:pt x="28" y="7"/>
                          <a:pt x="23" y="11"/>
                        </a:cubicBezTo>
                        <a:cubicBezTo>
                          <a:pt x="23" y="12"/>
                          <a:pt x="23" y="15"/>
                          <a:pt x="18" y="15"/>
                        </a:cubicBezTo>
                        <a:cubicBezTo>
                          <a:pt x="19" y="15"/>
                          <a:pt x="19" y="12"/>
                          <a:pt x="22" y="11"/>
                        </a:cubicBezTo>
                        <a:cubicBezTo>
                          <a:pt x="23" y="10"/>
                          <a:pt x="23" y="10"/>
                          <a:pt x="23" y="10"/>
                        </a:cubicBezTo>
                        <a:cubicBezTo>
                          <a:pt x="23" y="10"/>
                          <a:pt x="14" y="15"/>
                          <a:pt x="12" y="13"/>
                        </a:cubicBezTo>
                        <a:cubicBezTo>
                          <a:pt x="11" y="14"/>
                          <a:pt x="11" y="15"/>
                          <a:pt x="10" y="16"/>
                        </a:cubicBezTo>
                        <a:cubicBezTo>
                          <a:pt x="8" y="17"/>
                          <a:pt x="6" y="18"/>
                          <a:pt x="6" y="20"/>
                        </a:cubicBezTo>
                        <a:cubicBezTo>
                          <a:pt x="5" y="19"/>
                          <a:pt x="5" y="14"/>
                          <a:pt x="11" y="13"/>
                        </a:cubicBezTo>
                        <a:cubicBezTo>
                          <a:pt x="10" y="13"/>
                          <a:pt x="8" y="13"/>
                          <a:pt x="8" y="13"/>
                        </a:cubicBezTo>
                        <a:cubicBezTo>
                          <a:pt x="8" y="13"/>
                          <a:pt x="4" y="16"/>
                          <a:pt x="0" y="13"/>
                        </a:cubicBezTo>
                        <a:cubicBezTo>
                          <a:pt x="1" y="12"/>
                          <a:pt x="4" y="9"/>
                          <a:pt x="8" y="12"/>
                        </a:cubicBezTo>
                        <a:cubicBezTo>
                          <a:pt x="10" y="13"/>
                          <a:pt x="10" y="13"/>
                          <a:pt x="10" y="13"/>
                        </a:cubicBezTo>
                        <a:cubicBezTo>
                          <a:pt x="10" y="13"/>
                          <a:pt x="5" y="11"/>
                          <a:pt x="6" y="6"/>
                        </a:cubicBezTo>
                        <a:cubicBezTo>
                          <a:pt x="7" y="7"/>
                          <a:pt x="10" y="7"/>
                          <a:pt x="10" y="9"/>
                        </a:cubicBezTo>
                        <a:cubicBezTo>
                          <a:pt x="11" y="11"/>
                          <a:pt x="10" y="12"/>
                          <a:pt x="12" y="13"/>
                        </a:cubicBezTo>
                        <a:cubicBezTo>
                          <a:pt x="14" y="14"/>
                          <a:pt x="22" y="10"/>
                          <a:pt x="22" y="10"/>
                        </a:cubicBezTo>
                        <a:cubicBezTo>
                          <a:pt x="22" y="10"/>
                          <a:pt x="21" y="9"/>
                          <a:pt x="20" y="9"/>
                        </a:cubicBezTo>
                        <a:cubicBezTo>
                          <a:pt x="19" y="9"/>
                          <a:pt x="17" y="8"/>
                          <a:pt x="16" y="7"/>
                        </a:cubicBezTo>
                        <a:cubicBezTo>
                          <a:pt x="14" y="5"/>
                          <a:pt x="15" y="3"/>
                          <a:pt x="15" y="3"/>
                        </a:cubicBezTo>
                        <a:cubicBezTo>
                          <a:pt x="15" y="3"/>
                          <a:pt x="16" y="3"/>
                          <a:pt x="19" y="5"/>
                        </a:cubicBezTo>
                        <a:cubicBezTo>
                          <a:pt x="22" y="7"/>
                          <a:pt x="19" y="8"/>
                          <a:pt x="23" y="9"/>
                        </a:cubicBezTo>
                        <a:cubicBezTo>
                          <a:pt x="25" y="9"/>
                          <a:pt x="28" y="8"/>
                          <a:pt x="28" y="9"/>
                        </a:cubicBezTo>
                        <a:cubicBezTo>
                          <a:pt x="27" y="8"/>
                          <a:pt x="24" y="6"/>
                          <a:pt x="25" y="4"/>
                        </a:cubicBezTo>
                        <a:cubicBezTo>
                          <a:pt x="25" y="1"/>
                          <a:pt x="26" y="1"/>
                          <a:pt x="26" y="0"/>
                        </a:cubicBezTo>
                        <a:cubicBezTo>
                          <a:pt x="27" y="0"/>
                          <a:pt x="29" y="2"/>
                          <a:pt x="28" y="4"/>
                        </a:cubicBezTo>
                        <a:cubicBezTo>
                          <a:pt x="28" y="6"/>
                          <a:pt x="28" y="8"/>
                          <a:pt x="29" y="9"/>
                        </a:cubicBezTo>
                        <a:cubicBezTo>
                          <a:pt x="31" y="10"/>
                          <a:pt x="33" y="11"/>
                          <a:pt x="33" y="11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6" name="Freeform 1335"/>
                  <p:cNvSpPr/>
                  <p:nvPr/>
                </p:nvSpPr>
                <p:spPr>
                  <a:xfrm flipV="1">
                    <a:off x="4937040" y="4120560"/>
                    <a:ext cx="23112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0" y="11"/>
                        </a:moveTo>
                        <a:cubicBezTo>
                          <a:pt x="0" y="12"/>
                          <a:pt x="0" y="12"/>
                          <a:pt x="0" y="12"/>
                        </a:cubicBezTo>
                        <a:cubicBezTo>
                          <a:pt x="0" y="12"/>
                          <a:pt x="5" y="7"/>
                          <a:pt x="11" y="11"/>
                        </a:cubicBezTo>
                        <a:cubicBezTo>
                          <a:pt x="10" y="12"/>
                          <a:pt x="10" y="15"/>
                          <a:pt x="15" y="15"/>
                        </a:cubicBezTo>
                        <a:cubicBezTo>
                          <a:pt x="15" y="15"/>
                          <a:pt x="15" y="12"/>
                          <a:pt x="11" y="11"/>
                        </a:cubicBezTo>
                        <a:cubicBezTo>
                          <a:pt x="10" y="10"/>
                          <a:pt x="10" y="10"/>
                          <a:pt x="10" y="10"/>
                        </a:cubicBezTo>
                        <a:cubicBezTo>
                          <a:pt x="10" y="10"/>
                          <a:pt x="20" y="15"/>
                          <a:pt x="22" y="13"/>
                        </a:cubicBezTo>
                        <a:cubicBezTo>
                          <a:pt x="22" y="14"/>
                          <a:pt x="22" y="15"/>
                          <a:pt x="24" y="16"/>
                        </a:cubicBezTo>
                        <a:cubicBezTo>
                          <a:pt x="25" y="17"/>
                          <a:pt x="27" y="18"/>
                          <a:pt x="27" y="20"/>
                        </a:cubicBezTo>
                        <a:cubicBezTo>
                          <a:pt x="28" y="19"/>
                          <a:pt x="29" y="14"/>
                          <a:pt x="22" y="13"/>
                        </a:cubicBezTo>
                        <a:cubicBezTo>
                          <a:pt x="23" y="13"/>
                          <a:pt x="26" y="13"/>
                          <a:pt x="26" y="13"/>
                        </a:cubicBezTo>
                        <a:cubicBezTo>
                          <a:pt x="26" y="13"/>
                          <a:pt x="29" y="16"/>
                          <a:pt x="33" y="13"/>
                        </a:cubicBezTo>
                        <a:cubicBezTo>
                          <a:pt x="32" y="12"/>
                          <a:pt x="29" y="9"/>
                          <a:pt x="26" y="12"/>
                        </a:cubicBezTo>
                        <a:cubicBezTo>
                          <a:pt x="23" y="13"/>
                          <a:pt x="23" y="13"/>
                          <a:pt x="23" y="13"/>
                        </a:cubicBezTo>
                        <a:cubicBezTo>
                          <a:pt x="23" y="13"/>
                          <a:pt x="28" y="11"/>
                          <a:pt x="27" y="6"/>
                        </a:cubicBezTo>
                        <a:cubicBezTo>
                          <a:pt x="26" y="7"/>
                          <a:pt x="23" y="7"/>
                          <a:pt x="23" y="9"/>
                        </a:cubicBezTo>
                        <a:cubicBezTo>
                          <a:pt x="22" y="11"/>
                          <a:pt x="23" y="12"/>
                          <a:pt x="21" y="13"/>
                        </a:cubicBezTo>
                        <a:cubicBezTo>
                          <a:pt x="19" y="14"/>
                          <a:pt x="11" y="10"/>
                          <a:pt x="11" y="10"/>
                        </a:cubicBezTo>
                        <a:cubicBezTo>
                          <a:pt x="12" y="10"/>
                          <a:pt x="12" y="9"/>
                          <a:pt x="13" y="9"/>
                        </a:cubicBezTo>
                        <a:cubicBezTo>
                          <a:pt x="14" y="9"/>
                          <a:pt x="16" y="8"/>
                          <a:pt x="18" y="7"/>
                        </a:cubicBezTo>
                        <a:cubicBezTo>
                          <a:pt x="19" y="5"/>
                          <a:pt x="19" y="3"/>
                          <a:pt x="19" y="3"/>
                        </a:cubicBezTo>
                        <a:cubicBezTo>
                          <a:pt x="19" y="3"/>
                          <a:pt x="17" y="3"/>
                          <a:pt x="14" y="5"/>
                        </a:cubicBezTo>
                        <a:cubicBezTo>
                          <a:pt x="12" y="7"/>
                          <a:pt x="14" y="8"/>
                          <a:pt x="11" y="9"/>
                        </a:cubicBezTo>
                        <a:cubicBezTo>
                          <a:pt x="8" y="9"/>
                          <a:pt x="6" y="8"/>
                          <a:pt x="5" y="9"/>
                        </a:cubicBezTo>
                        <a:cubicBezTo>
                          <a:pt x="6" y="8"/>
                          <a:pt x="9" y="6"/>
                          <a:pt x="9" y="4"/>
                        </a:cubicBezTo>
                        <a:cubicBezTo>
                          <a:pt x="8" y="1"/>
                          <a:pt x="7" y="1"/>
                          <a:pt x="8" y="0"/>
                        </a:cubicBezTo>
                        <a:cubicBezTo>
                          <a:pt x="7" y="0"/>
                          <a:pt x="5" y="2"/>
                          <a:pt x="5" y="4"/>
                        </a:cubicBezTo>
                        <a:cubicBezTo>
                          <a:pt x="5" y="6"/>
                          <a:pt x="5" y="8"/>
                          <a:pt x="4" y="9"/>
                        </a:cubicBezTo>
                        <a:cubicBezTo>
                          <a:pt x="2" y="10"/>
                          <a:pt x="0" y="11"/>
                          <a:pt x="0" y="11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7" name="Freeform 1336"/>
                  <p:cNvSpPr/>
                  <p:nvPr/>
                </p:nvSpPr>
                <p:spPr>
                  <a:xfrm flipV="1">
                    <a:off x="4838760" y="4212360"/>
                    <a:ext cx="15372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3">
                        <a:moveTo>
                          <a:pt x="13" y="13"/>
                        </a:moveTo>
                        <a:cubicBezTo>
                          <a:pt x="12" y="16"/>
                          <a:pt x="17" y="16"/>
                          <a:pt x="17" y="17"/>
                        </a:cubicBezTo>
                        <a:cubicBezTo>
                          <a:pt x="18" y="16"/>
                          <a:pt x="17" y="15"/>
                          <a:pt x="17" y="15"/>
                        </a:cubicBezTo>
                        <a:cubicBezTo>
                          <a:pt x="17" y="15"/>
                          <a:pt x="18" y="15"/>
                          <a:pt x="19" y="14"/>
                        </a:cubicBezTo>
                        <a:cubicBezTo>
                          <a:pt x="20" y="14"/>
                          <a:pt x="21" y="14"/>
                          <a:pt x="22" y="15"/>
                        </a:cubicBezTo>
                        <a:cubicBezTo>
                          <a:pt x="22" y="12"/>
                          <a:pt x="18" y="11"/>
                          <a:pt x="18" y="11"/>
                        </a:cubicBezTo>
                        <a:cubicBezTo>
                          <a:pt x="18" y="10"/>
                          <a:pt x="18" y="10"/>
                          <a:pt x="18" y="10"/>
                        </a:cubicBezTo>
                        <a:cubicBezTo>
                          <a:pt x="18" y="10"/>
                          <a:pt x="16" y="8"/>
                          <a:pt x="13" y="11"/>
                        </a:cubicBezTo>
                        <a:cubicBezTo>
                          <a:pt x="15" y="8"/>
                          <a:pt x="13" y="3"/>
                          <a:pt x="13" y="3"/>
                        </a:cubicBezTo>
                        <a:cubicBezTo>
                          <a:pt x="13" y="3"/>
                          <a:pt x="13" y="4"/>
                          <a:pt x="12" y="5"/>
                        </a:cubicBezTo>
                        <a:cubicBezTo>
                          <a:pt x="12" y="2"/>
                          <a:pt x="7" y="0"/>
                          <a:pt x="6" y="0"/>
                        </a:cubicBezTo>
                        <a:cubicBezTo>
                          <a:pt x="7" y="0"/>
                          <a:pt x="7" y="2"/>
                          <a:pt x="7" y="3"/>
                        </a:cubicBezTo>
                        <a:cubicBezTo>
                          <a:pt x="8" y="5"/>
                          <a:pt x="8" y="6"/>
                          <a:pt x="8" y="6"/>
                        </a:cubicBezTo>
                        <a:cubicBezTo>
                          <a:pt x="8" y="6"/>
                          <a:pt x="7" y="6"/>
                          <a:pt x="6" y="6"/>
                        </a:cubicBezTo>
                        <a:cubicBezTo>
                          <a:pt x="7" y="7"/>
                          <a:pt x="8" y="9"/>
                          <a:pt x="9" y="9"/>
                        </a:cubicBezTo>
                        <a:cubicBezTo>
                          <a:pt x="11" y="10"/>
                          <a:pt x="10" y="12"/>
                          <a:pt x="12" y="13"/>
                        </a:cubicBezTo>
                        <a:cubicBezTo>
                          <a:pt x="11" y="13"/>
                          <a:pt x="9" y="13"/>
                          <a:pt x="9" y="11"/>
                        </a:cubicBezTo>
                        <a:cubicBezTo>
                          <a:pt x="8" y="9"/>
                          <a:pt x="6" y="9"/>
                          <a:pt x="6" y="9"/>
                        </a:cubicBezTo>
                        <a:cubicBezTo>
                          <a:pt x="6" y="9"/>
                          <a:pt x="6" y="9"/>
                          <a:pt x="7" y="10"/>
                        </a:cubicBezTo>
                        <a:cubicBezTo>
                          <a:pt x="4" y="8"/>
                          <a:pt x="0" y="11"/>
                          <a:pt x="0" y="12"/>
                        </a:cubicBezTo>
                        <a:cubicBezTo>
                          <a:pt x="1" y="11"/>
                          <a:pt x="3" y="14"/>
                          <a:pt x="5" y="14"/>
                        </a:cubicBezTo>
                        <a:cubicBezTo>
                          <a:pt x="4" y="15"/>
                          <a:pt x="4" y="16"/>
                          <a:pt x="5" y="17"/>
                        </a:cubicBezTo>
                        <a:cubicBezTo>
                          <a:pt x="5" y="15"/>
                          <a:pt x="6" y="15"/>
                          <a:pt x="7" y="16"/>
                        </a:cubicBezTo>
                        <a:cubicBezTo>
                          <a:pt x="9" y="16"/>
                          <a:pt x="10" y="14"/>
                          <a:pt x="10" y="13"/>
                        </a:cubicBezTo>
                        <a:cubicBezTo>
                          <a:pt x="10" y="13"/>
                          <a:pt x="12" y="13"/>
                          <a:pt x="12" y="13"/>
                        </a:cubicBezTo>
                        <a:cubicBezTo>
                          <a:pt x="12" y="13"/>
                          <a:pt x="10" y="15"/>
                          <a:pt x="10" y="18"/>
                        </a:cubicBezTo>
                        <a:cubicBezTo>
                          <a:pt x="9" y="22"/>
                          <a:pt x="13" y="23"/>
                          <a:pt x="13" y="23"/>
                        </a:cubicBezTo>
                        <a:cubicBezTo>
                          <a:pt x="7" y="20"/>
                          <a:pt x="12" y="14"/>
                          <a:pt x="13" y="13"/>
                        </a:cubicBezTo>
                        <a:close/>
                        <a:moveTo>
                          <a:pt x="10" y="5"/>
                        </a:moveTo>
                        <a:cubicBezTo>
                          <a:pt x="11" y="4"/>
                          <a:pt x="12" y="7"/>
                          <a:pt x="12" y="11"/>
                        </a:cubicBezTo>
                        <a:cubicBezTo>
                          <a:pt x="12" y="11"/>
                          <a:pt x="9" y="5"/>
                          <a:pt x="10" y="5"/>
                        </a:cubicBezTo>
                        <a:close/>
                        <a:moveTo>
                          <a:pt x="13" y="12"/>
                        </a:moveTo>
                        <a:cubicBezTo>
                          <a:pt x="13" y="12"/>
                          <a:pt x="18" y="11"/>
                          <a:pt x="19" y="13"/>
                        </a:cubicBezTo>
                        <a:cubicBezTo>
                          <a:pt x="19" y="14"/>
                          <a:pt x="13" y="12"/>
                          <a:pt x="13" y="12"/>
                        </a:cubicBezTo>
                        <a:close/>
                        <a:moveTo>
                          <a:pt x="9" y="13"/>
                        </a:moveTo>
                        <a:cubicBezTo>
                          <a:pt x="9" y="13"/>
                          <a:pt x="3" y="13"/>
                          <a:pt x="3" y="11"/>
                        </a:cubicBezTo>
                        <a:cubicBezTo>
                          <a:pt x="4" y="10"/>
                          <a:pt x="9" y="13"/>
                          <a:pt x="9" y="13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508" name="直接连接符 54"/>
                <p:cNvSpPr/>
                <p:nvPr/>
              </p:nvSpPr>
              <p:spPr>
                <a:xfrm>
                  <a:off x="3982680" y="4090680"/>
                  <a:ext cx="1879920" cy="0"/>
                </a:xfrm>
                <a:prstGeom prst="line">
                  <a:avLst/>
                </a:prstGeom>
                <a:ln w="6480">
                  <a:solidFill>
                    <a:srgbClr val="574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09" name="文本框 60"/>
              <p:cNvSpPr/>
              <p:nvPr/>
            </p:nvSpPr>
            <p:spPr>
              <a:xfrm>
                <a:off x="3925800" y="35830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574f1f"/>
                    </a:solidFill>
                    <a:latin typeface="Vivaldi"/>
                  </a:rPr>
                  <a:t>02</a:t>
                </a:r>
                <a:endParaRPr b="0" lang="en-US" sz="32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510" name="矩形 88"/>
              <p:cNvSpPr/>
              <p:nvPr/>
            </p:nvSpPr>
            <p:spPr>
              <a:xfrm>
                <a:off x="3943440" y="4421160"/>
                <a:ext cx="1919160" cy="11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511" name="文本框 17466"/>
            <p:cNvSpPr/>
            <p:nvPr/>
          </p:nvSpPr>
          <p:spPr>
            <a:xfrm>
              <a:off x="4248720" y="466524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74f1f"/>
                  </a:solidFill>
                  <a:latin typeface="Calibri"/>
                </a:rPr>
                <a:t>1982-12-20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512" name="组合 17467"/>
          <p:cNvGrpSpPr/>
          <p:nvPr/>
        </p:nvGrpSpPr>
        <p:grpSpPr>
          <a:xfrm>
            <a:off x="6692400" y="3583080"/>
            <a:ext cx="1938960" cy="1793880"/>
            <a:chOff x="6692400" y="3583080"/>
            <a:chExt cx="1938960" cy="1793880"/>
          </a:xfrm>
        </p:grpSpPr>
        <p:grpSp>
          <p:nvGrpSpPr>
            <p:cNvPr id="513" name="组合 95"/>
            <p:cNvGrpSpPr/>
            <p:nvPr/>
          </p:nvGrpSpPr>
          <p:grpSpPr>
            <a:xfrm>
              <a:off x="6692400" y="3583080"/>
              <a:ext cx="1938960" cy="1793880"/>
              <a:chOff x="6692400" y="3583080"/>
              <a:chExt cx="1938960" cy="1793880"/>
            </a:xfrm>
          </p:grpSpPr>
          <p:sp>
            <p:nvSpPr>
              <p:cNvPr id="514" name="文本框 61"/>
              <p:cNvSpPr/>
              <p:nvPr/>
            </p:nvSpPr>
            <p:spPr>
              <a:xfrm>
                <a:off x="7414560" y="36748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毕业学校</a:t>
                </a:r>
                <a:endParaRPr b="0" lang="en-US" sz="20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grpSp>
            <p:nvGrpSpPr>
              <p:cNvPr id="515" name="组合 62"/>
              <p:cNvGrpSpPr/>
              <p:nvPr/>
            </p:nvGrpSpPr>
            <p:grpSpPr>
              <a:xfrm>
                <a:off x="6750360" y="4091040"/>
                <a:ext cx="1881000" cy="283320"/>
                <a:chOff x="6750360" y="4091040"/>
                <a:chExt cx="1881000" cy="283320"/>
              </a:xfrm>
            </p:grpSpPr>
            <p:grpSp>
              <p:nvGrpSpPr>
                <p:cNvPr id="516" name="组合 63"/>
                <p:cNvGrpSpPr/>
                <p:nvPr/>
              </p:nvGrpSpPr>
              <p:grpSpPr>
                <a:xfrm>
                  <a:off x="7249320" y="4121280"/>
                  <a:ext cx="883440" cy="253080"/>
                  <a:chOff x="7249320" y="4121280"/>
                  <a:chExt cx="883440" cy="253080"/>
                </a:xfrm>
              </p:grpSpPr>
              <p:sp>
                <p:nvSpPr>
                  <p:cNvPr id="517" name="Freeform 1332"/>
                  <p:cNvSpPr/>
                  <p:nvPr/>
                </p:nvSpPr>
                <p:spPr>
                  <a:xfrm flipV="1">
                    <a:off x="7831440" y="4134960"/>
                    <a:ext cx="3013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20"/>
                        </a:moveTo>
                        <a:cubicBezTo>
                          <a:pt x="0" y="20"/>
                          <a:pt x="6" y="13"/>
                          <a:pt x="11" y="12"/>
                        </a:cubicBezTo>
                        <a:cubicBezTo>
                          <a:pt x="24" y="11"/>
                          <a:pt x="16" y="21"/>
                          <a:pt x="16" y="22"/>
                        </a:cubicBezTo>
                        <a:cubicBezTo>
                          <a:pt x="17" y="22"/>
                          <a:pt x="19" y="22"/>
                          <a:pt x="19" y="20"/>
                        </a:cubicBezTo>
                        <a:cubicBezTo>
                          <a:pt x="20" y="24"/>
                          <a:pt x="15" y="25"/>
                          <a:pt x="16" y="27"/>
                        </a:cubicBezTo>
                        <a:cubicBezTo>
                          <a:pt x="17" y="26"/>
                          <a:pt x="19" y="26"/>
                          <a:pt x="20" y="25"/>
                        </a:cubicBezTo>
                        <a:cubicBezTo>
                          <a:pt x="20" y="28"/>
                          <a:pt x="15" y="29"/>
                          <a:pt x="16" y="32"/>
                        </a:cubicBezTo>
                        <a:cubicBezTo>
                          <a:pt x="17" y="29"/>
                          <a:pt x="20" y="31"/>
                          <a:pt x="23" y="29"/>
                        </a:cubicBezTo>
                        <a:cubicBezTo>
                          <a:pt x="33" y="23"/>
                          <a:pt x="23" y="13"/>
                          <a:pt x="22" y="13"/>
                        </a:cubicBezTo>
                        <a:cubicBezTo>
                          <a:pt x="29" y="19"/>
                          <a:pt x="23" y="24"/>
                          <a:pt x="23" y="24"/>
                        </a:cubicBezTo>
                        <a:cubicBezTo>
                          <a:pt x="23" y="24"/>
                          <a:pt x="25" y="20"/>
                          <a:pt x="22" y="15"/>
                        </a:cubicBezTo>
                        <a:cubicBezTo>
                          <a:pt x="19" y="10"/>
                          <a:pt x="10" y="11"/>
                          <a:pt x="6" y="14"/>
                        </a:cubicBezTo>
                        <a:cubicBezTo>
                          <a:pt x="9" y="9"/>
                          <a:pt x="21" y="10"/>
                          <a:pt x="22" y="10"/>
                        </a:cubicBezTo>
                        <a:cubicBezTo>
                          <a:pt x="30" y="10"/>
                          <a:pt x="34" y="19"/>
                          <a:pt x="34" y="20"/>
                        </a:cubicBezTo>
                        <a:cubicBezTo>
                          <a:pt x="34" y="22"/>
                          <a:pt x="35" y="24"/>
                          <a:pt x="35" y="24"/>
                        </a:cubicBezTo>
                        <a:cubicBezTo>
                          <a:pt x="35" y="24"/>
                          <a:pt x="34" y="24"/>
                          <a:pt x="33" y="23"/>
                        </a:cubicBezTo>
                        <a:cubicBezTo>
                          <a:pt x="33" y="21"/>
                          <a:pt x="33" y="18"/>
                          <a:pt x="32" y="16"/>
                        </a:cubicBezTo>
                        <a:cubicBezTo>
                          <a:pt x="31" y="14"/>
                          <a:pt x="28" y="13"/>
                          <a:pt x="28" y="13"/>
                        </a:cubicBezTo>
                        <a:cubicBezTo>
                          <a:pt x="28" y="13"/>
                          <a:pt x="30" y="14"/>
                          <a:pt x="30" y="15"/>
                        </a:cubicBezTo>
                        <a:cubicBezTo>
                          <a:pt x="26" y="21"/>
                          <a:pt x="28" y="25"/>
                          <a:pt x="30" y="25"/>
                        </a:cubicBezTo>
                        <a:cubicBezTo>
                          <a:pt x="32" y="26"/>
                          <a:pt x="33" y="27"/>
                          <a:pt x="33" y="28"/>
                        </a:cubicBezTo>
                        <a:cubicBezTo>
                          <a:pt x="34" y="28"/>
                          <a:pt x="33" y="25"/>
                          <a:pt x="33" y="25"/>
                        </a:cubicBezTo>
                        <a:cubicBezTo>
                          <a:pt x="33" y="25"/>
                          <a:pt x="34" y="24"/>
                          <a:pt x="35" y="27"/>
                        </a:cubicBezTo>
                        <a:cubicBezTo>
                          <a:pt x="37" y="30"/>
                          <a:pt x="41" y="31"/>
                          <a:pt x="42" y="30"/>
                        </a:cubicBezTo>
                        <a:cubicBezTo>
                          <a:pt x="41" y="30"/>
                          <a:pt x="38" y="28"/>
                          <a:pt x="38" y="26"/>
                        </a:cubicBezTo>
                        <a:cubicBezTo>
                          <a:pt x="39" y="23"/>
                          <a:pt x="38" y="22"/>
                          <a:pt x="38" y="21"/>
                        </a:cubicBezTo>
                        <a:cubicBezTo>
                          <a:pt x="39" y="21"/>
                          <a:pt x="42" y="21"/>
                          <a:pt x="42" y="22"/>
                        </a:cubicBezTo>
                        <a:cubicBezTo>
                          <a:pt x="43" y="21"/>
                          <a:pt x="41" y="18"/>
                          <a:pt x="40" y="18"/>
                        </a:cubicBezTo>
                        <a:cubicBezTo>
                          <a:pt x="41" y="18"/>
                          <a:pt x="43" y="16"/>
                          <a:pt x="42" y="15"/>
                        </a:cubicBezTo>
                        <a:cubicBezTo>
                          <a:pt x="41" y="17"/>
                          <a:pt x="40" y="14"/>
                          <a:pt x="39" y="14"/>
                        </a:cubicBezTo>
                        <a:cubicBezTo>
                          <a:pt x="37" y="13"/>
                          <a:pt x="35" y="13"/>
                          <a:pt x="34" y="14"/>
                        </a:cubicBezTo>
                        <a:cubicBezTo>
                          <a:pt x="33" y="13"/>
                          <a:pt x="32" y="13"/>
                          <a:pt x="31" y="13"/>
                        </a:cubicBezTo>
                        <a:cubicBezTo>
                          <a:pt x="28" y="11"/>
                          <a:pt x="24" y="10"/>
                          <a:pt x="24" y="10"/>
                        </a:cubicBezTo>
                        <a:cubicBezTo>
                          <a:pt x="25" y="9"/>
                          <a:pt x="25" y="9"/>
                          <a:pt x="25" y="9"/>
                        </a:cubicBezTo>
                        <a:cubicBezTo>
                          <a:pt x="25" y="9"/>
                          <a:pt x="27" y="11"/>
                          <a:pt x="29" y="10"/>
                        </a:cubicBezTo>
                        <a:cubicBezTo>
                          <a:pt x="31" y="10"/>
                          <a:pt x="35" y="7"/>
                          <a:pt x="36" y="9"/>
                        </a:cubicBezTo>
                        <a:cubicBezTo>
                          <a:pt x="36" y="8"/>
                          <a:pt x="35" y="7"/>
                          <a:pt x="34" y="7"/>
                        </a:cubicBezTo>
                        <a:cubicBezTo>
                          <a:pt x="36" y="3"/>
                          <a:pt x="39" y="2"/>
                          <a:pt x="40" y="3"/>
                        </a:cubicBezTo>
                        <a:cubicBezTo>
                          <a:pt x="39" y="0"/>
                          <a:pt x="34" y="2"/>
                          <a:pt x="31" y="2"/>
                        </a:cubicBezTo>
                        <a:cubicBezTo>
                          <a:pt x="32" y="1"/>
                          <a:pt x="30" y="0"/>
                          <a:pt x="30" y="0"/>
                        </a:cubicBezTo>
                        <a:cubicBezTo>
                          <a:pt x="30" y="0"/>
                          <a:pt x="30" y="2"/>
                          <a:pt x="27" y="3"/>
                        </a:cubicBezTo>
                        <a:cubicBezTo>
                          <a:pt x="25" y="4"/>
                          <a:pt x="24" y="7"/>
                          <a:pt x="25" y="8"/>
                        </a:cubicBezTo>
                        <a:cubicBezTo>
                          <a:pt x="21" y="10"/>
                          <a:pt x="14" y="9"/>
                          <a:pt x="9" y="11"/>
                        </a:cubicBezTo>
                        <a:cubicBezTo>
                          <a:pt x="5" y="13"/>
                          <a:pt x="0" y="20"/>
                          <a:pt x="0" y="20"/>
                        </a:cubicBezTo>
                        <a:close/>
                        <a:moveTo>
                          <a:pt x="33" y="5"/>
                        </a:moveTo>
                        <a:cubicBezTo>
                          <a:pt x="34" y="7"/>
                          <a:pt x="26" y="8"/>
                          <a:pt x="26" y="8"/>
                        </a:cubicBezTo>
                        <a:cubicBezTo>
                          <a:pt x="26" y="8"/>
                          <a:pt x="32" y="2"/>
                          <a:pt x="33" y="5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8" name="Freeform 1333"/>
                  <p:cNvSpPr/>
                  <p:nvPr/>
                </p:nvSpPr>
                <p:spPr>
                  <a:xfrm flipV="1">
                    <a:off x="7249320" y="4134960"/>
                    <a:ext cx="3013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33" y="11"/>
                        </a:moveTo>
                        <a:cubicBezTo>
                          <a:pt x="28" y="9"/>
                          <a:pt x="21" y="10"/>
                          <a:pt x="18" y="8"/>
                        </a:cubicBezTo>
                        <a:cubicBezTo>
                          <a:pt x="18" y="7"/>
                          <a:pt x="17" y="4"/>
                          <a:pt x="15" y="3"/>
                        </a:cubicBezTo>
                        <a:cubicBezTo>
                          <a:pt x="12" y="2"/>
                          <a:pt x="13" y="0"/>
                          <a:pt x="13" y="0"/>
                        </a:cubicBezTo>
                        <a:cubicBezTo>
                          <a:pt x="13" y="0"/>
                          <a:pt x="10" y="1"/>
                          <a:pt x="11" y="2"/>
                        </a:cubicBezTo>
                        <a:cubicBezTo>
                          <a:pt x="9" y="2"/>
                          <a:pt x="4" y="0"/>
                          <a:pt x="2" y="3"/>
                        </a:cubicBezTo>
                        <a:cubicBezTo>
                          <a:pt x="3" y="2"/>
                          <a:pt x="6" y="3"/>
                          <a:pt x="8" y="7"/>
                        </a:cubicBezTo>
                        <a:cubicBezTo>
                          <a:pt x="7" y="7"/>
                          <a:pt x="6" y="8"/>
                          <a:pt x="7" y="9"/>
                        </a:cubicBezTo>
                        <a:cubicBezTo>
                          <a:pt x="8" y="7"/>
                          <a:pt x="11" y="10"/>
                          <a:pt x="13" y="10"/>
                        </a:cubicBezTo>
                        <a:cubicBezTo>
                          <a:pt x="16" y="11"/>
                          <a:pt x="17" y="9"/>
                          <a:pt x="17" y="9"/>
                        </a:cubicBezTo>
                        <a:cubicBezTo>
                          <a:pt x="19" y="10"/>
                          <a:pt x="19" y="10"/>
                          <a:pt x="19" y="10"/>
                        </a:cubicBezTo>
                        <a:cubicBezTo>
                          <a:pt x="19" y="10"/>
                          <a:pt x="14" y="11"/>
                          <a:pt x="11" y="13"/>
                        </a:cubicBezTo>
                        <a:cubicBezTo>
                          <a:pt x="11" y="13"/>
                          <a:pt x="10" y="13"/>
                          <a:pt x="9" y="14"/>
                        </a:cubicBezTo>
                        <a:cubicBezTo>
                          <a:pt x="7" y="13"/>
                          <a:pt x="5" y="13"/>
                          <a:pt x="4" y="14"/>
                        </a:cubicBezTo>
                        <a:cubicBezTo>
                          <a:pt x="2" y="14"/>
                          <a:pt x="1" y="17"/>
                          <a:pt x="0" y="15"/>
                        </a:cubicBezTo>
                        <a:cubicBezTo>
                          <a:pt x="0" y="16"/>
                          <a:pt x="1" y="18"/>
                          <a:pt x="3" y="18"/>
                        </a:cubicBezTo>
                        <a:cubicBezTo>
                          <a:pt x="2" y="18"/>
                          <a:pt x="0" y="21"/>
                          <a:pt x="1" y="22"/>
                        </a:cubicBezTo>
                        <a:cubicBezTo>
                          <a:pt x="1" y="21"/>
                          <a:pt x="3" y="21"/>
                          <a:pt x="5" y="21"/>
                        </a:cubicBezTo>
                        <a:cubicBezTo>
                          <a:pt x="4" y="22"/>
                          <a:pt x="3" y="23"/>
                          <a:pt x="4" y="26"/>
                        </a:cubicBezTo>
                        <a:cubicBezTo>
                          <a:pt x="5" y="28"/>
                          <a:pt x="1" y="30"/>
                          <a:pt x="0" y="30"/>
                        </a:cubicBezTo>
                        <a:cubicBezTo>
                          <a:pt x="2" y="31"/>
                          <a:pt x="5" y="30"/>
                          <a:pt x="7" y="27"/>
                        </a:cubicBezTo>
                        <a:cubicBezTo>
                          <a:pt x="9" y="24"/>
                          <a:pt x="9" y="25"/>
                          <a:pt x="9" y="25"/>
                        </a:cubicBezTo>
                        <a:cubicBezTo>
                          <a:pt x="9" y="25"/>
                          <a:pt x="8" y="28"/>
                          <a:pt x="9" y="28"/>
                        </a:cubicBezTo>
                        <a:cubicBezTo>
                          <a:pt x="10" y="27"/>
                          <a:pt x="11" y="26"/>
                          <a:pt x="12" y="25"/>
                        </a:cubicBezTo>
                        <a:cubicBezTo>
                          <a:pt x="14" y="25"/>
                          <a:pt x="16" y="21"/>
                          <a:pt x="13" y="15"/>
                        </a:cubicBezTo>
                        <a:cubicBezTo>
                          <a:pt x="12" y="14"/>
                          <a:pt x="14" y="13"/>
                          <a:pt x="14" y="13"/>
                        </a:cubicBezTo>
                        <a:cubicBezTo>
                          <a:pt x="14" y="13"/>
                          <a:pt x="12" y="14"/>
                          <a:pt x="11" y="16"/>
                        </a:cubicBezTo>
                        <a:cubicBezTo>
                          <a:pt x="10" y="18"/>
                          <a:pt x="10" y="21"/>
                          <a:pt x="9" y="23"/>
                        </a:cubicBezTo>
                        <a:cubicBezTo>
                          <a:pt x="8" y="24"/>
                          <a:pt x="7" y="24"/>
                          <a:pt x="7" y="24"/>
                        </a:cubicBezTo>
                        <a:cubicBezTo>
                          <a:pt x="7" y="24"/>
                          <a:pt x="9" y="22"/>
                          <a:pt x="8" y="20"/>
                        </a:cubicBezTo>
                        <a:cubicBezTo>
                          <a:pt x="8" y="19"/>
                          <a:pt x="12" y="10"/>
                          <a:pt x="20" y="10"/>
                        </a:cubicBezTo>
                        <a:cubicBezTo>
                          <a:pt x="21" y="10"/>
                          <a:pt x="33" y="9"/>
                          <a:pt x="36" y="14"/>
                        </a:cubicBezTo>
                        <a:cubicBezTo>
                          <a:pt x="33" y="11"/>
                          <a:pt x="23" y="10"/>
                          <a:pt x="20" y="15"/>
                        </a:cubicBezTo>
                        <a:cubicBezTo>
                          <a:pt x="17" y="20"/>
                          <a:pt x="19" y="24"/>
                          <a:pt x="19" y="24"/>
                        </a:cubicBezTo>
                        <a:cubicBezTo>
                          <a:pt x="19" y="24"/>
                          <a:pt x="14" y="19"/>
                          <a:pt x="21" y="13"/>
                        </a:cubicBezTo>
                        <a:cubicBezTo>
                          <a:pt x="20" y="13"/>
                          <a:pt x="9" y="23"/>
                          <a:pt x="20" y="29"/>
                        </a:cubicBezTo>
                        <a:cubicBezTo>
                          <a:pt x="23" y="31"/>
                          <a:pt x="26" y="29"/>
                          <a:pt x="27" y="32"/>
                        </a:cubicBezTo>
                        <a:cubicBezTo>
                          <a:pt x="27" y="29"/>
                          <a:pt x="23" y="28"/>
                          <a:pt x="22" y="25"/>
                        </a:cubicBezTo>
                        <a:cubicBezTo>
                          <a:pt x="23" y="26"/>
                          <a:pt x="25" y="26"/>
                          <a:pt x="27" y="27"/>
                        </a:cubicBezTo>
                        <a:cubicBezTo>
                          <a:pt x="27" y="25"/>
                          <a:pt x="22" y="24"/>
                          <a:pt x="23" y="20"/>
                        </a:cubicBezTo>
                        <a:cubicBezTo>
                          <a:pt x="23" y="22"/>
                          <a:pt x="25" y="22"/>
                          <a:pt x="26" y="22"/>
                        </a:cubicBezTo>
                        <a:cubicBezTo>
                          <a:pt x="26" y="21"/>
                          <a:pt x="19" y="11"/>
                          <a:pt x="31" y="12"/>
                        </a:cubicBezTo>
                        <a:cubicBezTo>
                          <a:pt x="37" y="13"/>
                          <a:pt x="43" y="20"/>
                          <a:pt x="43" y="20"/>
                        </a:cubicBezTo>
                        <a:cubicBezTo>
                          <a:pt x="43" y="20"/>
                          <a:pt x="38" y="13"/>
                          <a:pt x="33" y="11"/>
                        </a:cubicBezTo>
                        <a:close/>
                        <a:moveTo>
                          <a:pt x="16" y="8"/>
                        </a:moveTo>
                        <a:cubicBezTo>
                          <a:pt x="16" y="8"/>
                          <a:pt x="9" y="7"/>
                          <a:pt x="9" y="5"/>
                        </a:cubicBezTo>
                        <a:cubicBezTo>
                          <a:pt x="10" y="2"/>
                          <a:pt x="16" y="8"/>
                          <a:pt x="16" y="8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9" name="Freeform 1334"/>
                  <p:cNvSpPr/>
                  <p:nvPr/>
                </p:nvSpPr>
                <p:spPr>
                  <a:xfrm flipV="1">
                    <a:off x="7438320" y="4120920"/>
                    <a:ext cx="23220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33" y="11"/>
                        </a:moveTo>
                        <a:cubicBezTo>
                          <a:pt x="33" y="12"/>
                          <a:pt x="33" y="12"/>
                          <a:pt x="33" y="12"/>
                        </a:cubicBezTo>
                        <a:cubicBezTo>
                          <a:pt x="33" y="12"/>
                          <a:pt x="28" y="7"/>
                          <a:pt x="23" y="11"/>
                        </a:cubicBezTo>
                        <a:cubicBezTo>
                          <a:pt x="23" y="12"/>
                          <a:pt x="23" y="15"/>
                          <a:pt x="18" y="15"/>
                        </a:cubicBezTo>
                        <a:cubicBezTo>
                          <a:pt x="19" y="15"/>
                          <a:pt x="19" y="12"/>
                          <a:pt x="22" y="11"/>
                        </a:cubicBezTo>
                        <a:cubicBezTo>
                          <a:pt x="23" y="10"/>
                          <a:pt x="23" y="10"/>
                          <a:pt x="23" y="10"/>
                        </a:cubicBezTo>
                        <a:cubicBezTo>
                          <a:pt x="23" y="10"/>
                          <a:pt x="14" y="15"/>
                          <a:pt x="12" y="13"/>
                        </a:cubicBezTo>
                        <a:cubicBezTo>
                          <a:pt x="11" y="14"/>
                          <a:pt x="11" y="15"/>
                          <a:pt x="10" y="16"/>
                        </a:cubicBezTo>
                        <a:cubicBezTo>
                          <a:pt x="8" y="17"/>
                          <a:pt x="6" y="18"/>
                          <a:pt x="6" y="20"/>
                        </a:cubicBezTo>
                        <a:cubicBezTo>
                          <a:pt x="5" y="19"/>
                          <a:pt x="5" y="14"/>
                          <a:pt x="11" y="13"/>
                        </a:cubicBezTo>
                        <a:cubicBezTo>
                          <a:pt x="10" y="13"/>
                          <a:pt x="8" y="13"/>
                          <a:pt x="8" y="13"/>
                        </a:cubicBezTo>
                        <a:cubicBezTo>
                          <a:pt x="8" y="13"/>
                          <a:pt x="4" y="16"/>
                          <a:pt x="0" y="13"/>
                        </a:cubicBezTo>
                        <a:cubicBezTo>
                          <a:pt x="1" y="12"/>
                          <a:pt x="4" y="9"/>
                          <a:pt x="8" y="12"/>
                        </a:cubicBezTo>
                        <a:cubicBezTo>
                          <a:pt x="10" y="13"/>
                          <a:pt x="10" y="13"/>
                          <a:pt x="10" y="13"/>
                        </a:cubicBezTo>
                        <a:cubicBezTo>
                          <a:pt x="10" y="13"/>
                          <a:pt x="5" y="11"/>
                          <a:pt x="6" y="6"/>
                        </a:cubicBezTo>
                        <a:cubicBezTo>
                          <a:pt x="7" y="7"/>
                          <a:pt x="10" y="7"/>
                          <a:pt x="10" y="9"/>
                        </a:cubicBezTo>
                        <a:cubicBezTo>
                          <a:pt x="11" y="11"/>
                          <a:pt x="10" y="12"/>
                          <a:pt x="12" y="13"/>
                        </a:cubicBezTo>
                        <a:cubicBezTo>
                          <a:pt x="14" y="14"/>
                          <a:pt x="22" y="10"/>
                          <a:pt x="22" y="10"/>
                        </a:cubicBezTo>
                        <a:cubicBezTo>
                          <a:pt x="22" y="10"/>
                          <a:pt x="21" y="9"/>
                          <a:pt x="20" y="9"/>
                        </a:cubicBezTo>
                        <a:cubicBezTo>
                          <a:pt x="19" y="9"/>
                          <a:pt x="17" y="8"/>
                          <a:pt x="16" y="7"/>
                        </a:cubicBezTo>
                        <a:cubicBezTo>
                          <a:pt x="14" y="5"/>
                          <a:pt x="15" y="3"/>
                          <a:pt x="15" y="3"/>
                        </a:cubicBezTo>
                        <a:cubicBezTo>
                          <a:pt x="15" y="3"/>
                          <a:pt x="16" y="3"/>
                          <a:pt x="19" y="5"/>
                        </a:cubicBezTo>
                        <a:cubicBezTo>
                          <a:pt x="22" y="7"/>
                          <a:pt x="19" y="8"/>
                          <a:pt x="23" y="9"/>
                        </a:cubicBezTo>
                        <a:cubicBezTo>
                          <a:pt x="25" y="9"/>
                          <a:pt x="28" y="8"/>
                          <a:pt x="28" y="9"/>
                        </a:cubicBezTo>
                        <a:cubicBezTo>
                          <a:pt x="27" y="8"/>
                          <a:pt x="24" y="6"/>
                          <a:pt x="25" y="4"/>
                        </a:cubicBezTo>
                        <a:cubicBezTo>
                          <a:pt x="25" y="1"/>
                          <a:pt x="26" y="1"/>
                          <a:pt x="26" y="0"/>
                        </a:cubicBezTo>
                        <a:cubicBezTo>
                          <a:pt x="27" y="0"/>
                          <a:pt x="29" y="2"/>
                          <a:pt x="28" y="4"/>
                        </a:cubicBezTo>
                        <a:cubicBezTo>
                          <a:pt x="28" y="6"/>
                          <a:pt x="28" y="8"/>
                          <a:pt x="29" y="9"/>
                        </a:cubicBezTo>
                        <a:cubicBezTo>
                          <a:pt x="31" y="10"/>
                          <a:pt x="33" y="11"/>
                          <a:pt x="33" y="11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0" name="Freeform 1335"/>
                  <p:cNvSpPr/>
                  <p:nvPr/>
                </p:nvSpPr>
                <p:spPr>
                  <a:xfrm flipV="1">
                    <a:off x="7705440" y="4120920"/>
                    <a:ext cx="23112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0" y="11"/>
                        </a:moveTo>
                        <a:cubicBezTo>
                          <a:pt x="0" y="12"/>
                          <a:pt x="0" y="12"/>
                          <a:pt x="0" y="12"/>
                        </a:cubicBezTo>
                        <a:cubicBezTo>
                          <a:pt x="0" y="12"/>
                          <a:pt x="5" y="7"/>
                          <a:pt x="11" y="11"/>
                        </a:cubicBezTo>
                        <a:cubicBezTo>
                          <a:pt x="10" y="12"/>
                          <a:pt x="10" y="15"/>
                          <a:pt x="15" y="15"/>
                        </a:cubicBezTo>
                        <a:cubicBezTo>
                          <a:pt x="15" y="15"/>
                          <a:pt x="15" y="12"/>
                          <a:pt x="11" y="11"/>
                        </a:cubicBezTo>
                        <a:cubicBezTo>
                          <a:pt x="10" y="10"/>
                          <a:pt x="10" y="10"/>
                          <a:pt x="10" y="10"/>
                        </a:cubicBezTo>
                        <a:cubicBezTo>
                          <a:pt x="10" y="10"/>
                          <a:pt x="20" y="15"/>
                          <a:pt x="22" y="13"/>
                        </a:cubicBezTo>
                        <a:cubicBezTo>
                          <a:pt x="22" y="14"/>
                          <a:pt x="22" y="15"/>
                          <a:pt x="24" y="16"/>
                        </a:cubicBezTo>
                        <a:cubicBezTo>
                          <a:pt x="25" y="17"/>
                          <a:pt x="27" y="18"/>
                          <a:pt x="27" y="20"/>
                        </a:cubicBezTo>
                        <a:cubicBezTo>
                          <a:pt x="28" y="19"/>
                          <a:pt x="29" y="14"/>
                          <a:pt x="22" y="13"/>
                        </a:cubicBezTo>
                        <a:cubicBezTo>
                          <a:pt x="23" y="13"/>
                          <a:pt x="26" y="13"/>
                          <a:pt x="26" y="13"/>
                        </a:cubicBezTo>
                        <a:cubicBezTo>
                          <a:pt x="26" y="13"/>
                          <a:pt x="29" y="16"/>
                          <a:pt x="33" y="13"/>
                        </a:cubicBezTo>
                        <a:cubicBezTo>
                          <a:pt x="32" y="12"/>
                          <a:pt x="29" y="9"/>
                          <a:pt x="26" y="12"/>
                        </a:cubicBezTo>
                        <a:cubicBezTo>
                          <a:pt x="23" y="13"/>
                          <a:pt x="23" y="13"/>
                          <a:pt x="23" y="13"/>
                        </a:cubicBezTo>
                        <a:cubicBezTo>
                          <a:pt x="23" y="13"/>
                          <a:pt x="28" y="11"/>
                          <a:pt x="27" y="6"/>
                        </a:cubicBezTo>
                        <a:cubicBezTo>
                          <a:pt x="26" y="7"/>
                          <a:pt x="23" y="7"/>
                          <a:pt x="23" y="9"/>
                        </a:cubicBezTo>
                        <a:cubicBezTo>
                          <a:pt x="22" y="11"/>
                          <a:pt x="23" y="12"/>
                          <a:pt x="21" y="13"/>
                        </a:cubicBezTo>
                        <a:cubicBezTo>
                          <a:pt x="19" y="14"/>
                          <a:pt x="11" y="10"/>
                          <a:pt x="11" y="10"/>
                        </a:cubicBezTo>
                        <a:cubicBezTo>
                          <a:pt x="12" y="10"/>
                          <a:pt x="12" y="9"/>
                          <a:pt x="13" y="9"/>
                        </a:cubicBezTo>
                        <a:cubicBezTo>
                          <a:pt x="14" y="9"/>
                          <a:pt x="16" y="8"/>
                          <a:pt x="18" y="7"/>
                        </a:cubicBezTo>
                        <a:cubicBezTo>
                          <a:pt x="19" y="5"/>
                          <a:pt x="19" y="3"/>
                          <a:pt x="19" y="3"/>
                        </a:cubicBezTo>
                        <a:cubicBezTo>
                          <a:pt x="19" y="3"/>
                          <a:pt x="17" y="3"/>
                          <a:pt x="14" y="5"/>
                        </a:cubicBezTo>
                        <a:cubicBezTo>
                          <a:pt x="12" y="7"/>
                          <a:pt x="14" y="8"/>
                          <a:pt x="11" y="9"/>
                        </a:cubicBezTo>
                        <a:cubicBezTo>
                          <a:pt x="8" y="9"/>
                          <a:pt x="6" y="8"/>
                          <a:pt x="5" y="9"/>
                        </a:cubicBezTo>
                        <a:cubicBezTo>
                          <a:pt x="6" y="8"/>
                          <a:pt x="9" y="6"/>
                          <a:pt x="9" y="4"/>
                        </a:cubicBezTo>
                        <a:cubicBezTo>
                          <a:pt x="8" y="1"/>
                          <a:pt x="7" y="1"/>
                          <a:pt x="8" y="0"/>
                        </a:cubicBezTo>
                        <a:cubicBezTo>
                          <a:pt x="7" y="0"/>
                          <a:pt x="5" y="2"/>
                          <a:pt x="5" y="4"/>
                        </a:cubicBezTo>
                        <a:cubicBezTo>
                          <a:pt x="5" y="6"/>
                          <a:pt x="5" y="8"/>
                          <a:pt x="4" y="9"/>
                        </a:cubicBezTo>
                        <a:cubicBezTo>
                          <a:pt x="2" y="10"/>
                          <a:pt x="0" y="11"/>
                          <a:pt x="0" y="11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1" name="Freeform 1336"/>
                  <p:cNvSpPr/>
                  <p:nvPr/>
                </p:nvSpPr>
                <p:spPr>
                  <a:xfrm flipV="1">
                    <a:off x="7607160" y="4212360"/>
                    <a:ext cx="1537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3">
                        <a:moveTo>
                          <a:pt x="13" y="13"/>
                        </a:moveTo>
                        <a:cubicBezTo>
                          <a:pt x="12" y="16"/>
                          <a:pt x="17" y="16"/>
                          <a:pt x="17" y="17"/>
                        </a:cubicBezTo>
                        <a:cubicBezTo>
                          <a:pt x="18" y="16"/>
                          <a:pt x="17" y="15"/>
                          <a:pt x="17" y="15"/>
                        </a:cubicBezTo>
                        <a:cubicBezTo>
                          <a:pt x="17" y="15"/>
                          <a:pt x="18" y="15"/>
                          <a:pt x="19" y="14"/>
                        </a:cubicBezTo>
                        <a:cubicBezTo>
                          <a:pt x="20" y="14"/>
                          <a:pt x="21" y="14"/>
                          <a:pt x="22" y="15"/>
                        </a:cubicBezTo>
                        <a:cubicBezTo>
                          <a:pt x="22" y="12"/>
                          <a:pt x="18" y="11"/>
                          <a:pt x="18" y="11"/>
                        </a:cubicBezTo>
                        <a:cubicBezTo>
                          <a:pt x="18" y="10"/>
                          <a:pt x="18" y="10"/>
                          <a:pt x="18" y="10"/>
                        </a:cubicBezTo>
                        <a:cubicBezTo>
                          <a:pt x="18" y="10"/>
                          <a:pt x="16" y="8"/>
                          <a:pt x="13" y="11"/>
                        </a:cubicBezTo>
                        <a:cubicBezTo>
                          <a:pt x="15" y="8"/>
                          <a:pt x="13" y="3"/>
                          <a:pt x="13" y="3"/>
                        </a:cubicBezTo>
                        <a:cubicBezTo>
                          <a:pt x="13" y="3"/>
                          <a:pt x="13" y="4"/>
                          <a:pt x="12" y="5"/>
                        </a:cubicBezTo>
                        <a:cubicBezTo>
                          <a:pt x="12" y="2"/>
                          <a:pt x="7" y="0"/>
                          <a:pt x="6" y="0"/>
                        </a:cubicBezTo>
                        <a:cubicBezTo>
                          <a:pt x="7" y="0"/>
                          <a:pt x="7" y="2"/>
                          <a:pt x="7" y="3"/>
                        </a:cubicBezTo>
                        <a:cubicBezTo>
                          <a:pt x="8" y="5"/>
                          <a:pt x="8" y="6"/>
                          <a:pt x="8" y="6"/>
                        </a:cubicBezTo>
                        <a:cubicBezTo>
                          <a:pt x="8" y="6"/>
                          <a:pt x="7" y="6"/>
                          <a:pt x="6" y="6"/>
                        </a:cubicBezTo>
                        <a:cubicBezTo>
                          <a:pt x="7" y="7"/>
                          <a:pt x="8" y="9"/>
                          <a:pt x="9" y="9"/>
                        </a:cubicBezTo>
                        <a:cubicBezTo>
                          <a:pt x="11" y="10"/>
                          <a:pt x="10" y="12"/>
                          <a:pt x="12" y="13"/>
                        </a:cubicBezTo>
                        <a:cubicBezTo>
                          <a:pt x="11" y="13"/>
                          <a:pt x="9" y="13"/>
                          <a:pt x="9" y="11"/>
                        </a:cubicBezTo>
                        <a:cubicBezTo>
                          <a:pt x="8" y="9"/>
                          <a:pt x="6" y="9"/>
                          <a:pt x="6" y="9"/>
                        </a:cubicBezTo>
                        <a:cubicBezTo>
                          <a:pt x="6" y="9"/>
                          <a:pt x="6" y="9"/>
                          <a:pt x="7" y="10"/>
                        </a:cubicBezTo>
                        <a:cubicBezTo>
                          <a:pt x="4" y="8"/>
                          <a:pt x="0" y="11"/>
                          <a:pt x="0" y="12"/>
                        </a:cubicBezTo>
                        <a:cubicBezTo>
                          <a:pt x="1" y="11"/>
                          <a:pt x="3" y="14"/>
                          <a:pt x="5" y="14"/>
                        </a:cubicBezTo>
                        <a:cubicBezTo>
                          <a:pt x="4" y="15"/>
                          <a:pt x="4" y="16"/>
                          <a:pt x="5" y="17"/>
                        </a:cubicBezTo>
                        <a:cubicBezTo>
                          <a:pt x="5" y="15"/>
                          <a:pt x="6" y="15"/>
                          <a:pt x="7" y="16"/>
                        </a:cubicBezTo>
                        <a:cubicBezTo>
                          <a:pt x="9" y="16"/>
                          <a:pt x="10" y="14"/>
                          <a:pt x="10" y="13"/>
                        </a:cubicBezTo>
                        <a:cubicBezTo>
                          <a:pt x="10" y="13"/>
                          <a:pt x="12" y="13"/>
                          <a:pt x="12" y="13"/>
                        </a:cubicBezTo>
                        <a:cubicBezTo>
                          <a:pt x="12" y="13"/>
                          <a:pt x="10" y="15"/>
                          <a:pt x="10" y="18"/>
                        </a:cubicBezTo>
                        <a:cubicBezTo>
                          <a:pt x="9" y="22"/>
                          <a:pt x="13" y="23"/>
                          <a:pt x="13" y="23"/>
                        </a:cubicBezTo>
                        <a:cubicBezTo>
                          <a:pt x="7" y="20"/>
                          <a:pt x="12" y="14"/>
                          <a:pt x="13" y="13"/>
                        </a:cubicBezTo>
                        <a:close/>
                        <a:moveTo>
                          <a:pt x="10" y="5"/>
                        </a:moveTo>
                        <a:cubicBezTo>
                          <a:pt x="11" y="4"/>
                          <a:pt x="12" y="7"/>
                          <a:pt x="12" y="11"/>
                        </a:cubicBezTo>
                        <a:cubicBezTo>
                          <a:pt x="12" y="11"/>
                          <a:pt x="9" y="5"/>
                          <a:pt x="10" y="5"/>
                        </a:cubicBezTo>
                        <a:close/>
                        <a:moveTo>
                          <a:pt x="13" y="12"/>
                        </a:moveTo>
                        <a:cubicBezTo>
                          <a:pt x="13" y="12"/>
                          <a:pt x="18" y="11"/>
                          <a:pt x="19" y="13"/>
                        </a:cubicBezTo>
                        <a:cubicBezTo>
                          <a:pt x="19" y="14"/>
                          <a:pt x="13" y="12"/>
                          <a:pt x="13" y="12"/>
                        </a:cubicBezTo>
                        <a:close/>
                        <a:moveTo>
                          <a:pt x="9" y="13"/>
                        </a:moveTo>
                        <a:cubicBezTo>
                          <a:pt x="9" y="13"/>
                          <a:pt x="3" y="13"/>
                          <a:pt x="3" y="11"/>
                        </a:cubicBezTo>
                        <a:cubicBezTo>
                          <a:pt x="4" y="10"/>
                          <a:pt x="9" y="13"/>
                          <a:pt x="9" y="13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522" name="直接连接符 64"/>
                <p:cNvSpPr/>
                <p:nvPr/>
              </p:nvSpPr>
              <p:spPr>
                <a:xfrm>
                  <a:off x="6750360" y="4091040"/>
                  <a:ext cx="1881000" cy="0"/>
                </a:xfrm>
                <a:prstGeom prst="line">
                  <a:avLst/>
                </a:prstGeom>
                <a:ln w="6480">
                  <a:solidFill>
                    <a:srgbClr val="574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23" name="文本框 70"/>
              <p:cNvSpPr/>
              <p:nvPr/>
            </p:nvSpPr>
            <p:spPr>
              <a:xfrm>
                <a:off x="6692400" y="35830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574f1f"/>
                    </a:solidFill>
                    <a:latin typeface="Vivaldi"/>
                  </a:rPr>
                  <a:t>03</a:t>
                </a:r>
                <a:endParaRPr b="0" lang="en-US" sz="32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524" name="矩形 89"/>
              <p:cNvSpPr/>
              <p:nvPr/>
            </p:nvSpPr>
            <p:spPr>
              <a:xfrm>
                <a:off x="6756480" y="4422960"/>
                <a:ext cx="1856160" cy="9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525" name="文本框 17480"/>
            <p:cNvSpPr/>
            <p:nvPr/>
          </p:nvSpPr>
          <p:spPr>
            <a:xfrm>
              <a:off x="7207920" y="46936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74f1f"/>
                  </a:solidFill>
                  <a:latin typeface="Calibri"/>
                  <a:ea typeface="宋体"/>
                </a:rPr>
                <a:t>四川师范大学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526" name="组合 17481"/>
          <p:cNvGrpSpPr/>
          <p:nvPr/>
        </p:nvGrpSpPr>
        <p:grpSpPr>
          <a:xfrm>
            <a:off x="9482040" y="3583080"/>
            <a:ext cx="1940040" cy="2008080"/>
            <a:chOff x="9482040" y="3583080"/>
            <a:chExt cx="1940040" cy="2008080"/>
          </a:xfrm>
        </p:grpSpPr>
        <p:grpSp>
          <p:nvGrpSpPr>
            <p:cNvPr id="527" name="组合 96"/>
            <p:cNvGrpSpPr/>
            <p:nvPr/>
          </p:nvGrpSpPr>
          <p:grpSpPr>
            <a:xfrm>
              <a:off x="9482040" y="3583080"/>
              <a:ext cx="1940040" cy="2008080"/>
              <a:chOff x="9482040" y="3583080"/>
              <a:chExt cx="1940040" cy="2008080"/>
            </a:xfrm>
          </p:grpSpPr>
          <p:sp>
            <p:nvSpPr>
              <p:cNvPr id="528" name="文本框 76"/>
              <p:cNvSpPr/>
              <p:nvPr/>
            </p:nvSpPr>
            <p:spPr>
              <a:xfrm>
                <a:off x="10283040" y="36748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代表作</a:t>
                </a:r>
                <a:endParaRPr b="0" lang="en-US" sz="20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grpSp>
            <p:nvGrpSpPr>
              <p:cNvPr id="529" name="组合 77"/>
              <p:cNvGrpSpPr/>
              <p:nvPr/>
            </p:nvGrpSpPr>
            <p:grpSpPr>
              <a:xfrm>
                <a:off x="9542160" y="4090680"/>
                <a:ext cx="1879920" cy="283680"/>
                <a:chOff x="9542160" y="4090680"/>
                <a:chExt cx="1879920" cy="283680"/>
              </a:xfrm>
            </p:grpSpPr>
            <p:grpSp>
              <p:nvGrpSpPr>
                <p:cNvPr id="530" name="组合 78"/>
                <p:cNvGrpSpPr/>
                <p:nvPr/>
              </p:nvGrpSpPr>
              <p:grpSpPr>
                <a:xfrm>
                  <a:off x="10040400" y="4120920"/>
                  <a:ext cx="883080" cy="253440"/>
                  <a:chOff x="10040400" y="4120920"/>
                  <a:chExt cx="883080" cy="253440"/>
                </a:xfrm>
              </p:grpSpPr>
              <p:sp>
                <p:nvSpPr>
                  <p:cNvPr id="531" name="Freeform 1332"/>
                  <p:cNvSpPr/>
                  <p:nvPr/>
                </p:nvSpPr>
                <p:spPr>
                  <a:xfrm flipV="1">
                    <a:off x="10622160" y="4134960"/>
                    <a:ext cx="30132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20"/>
                        </a:moveTo>
                        <a:cubicBezTo>
                          <a:pt x="0" y="20"/>
                          <a:pt x="6" y="13"/>
                          <a:pt x="11" y="12"/>
                        </a:cubicBezTo>
                        <a:cubicBezTo>
                          <a:pt x="24" y="11"/>
                          <a:pt x="16" y="21"/>
                          <a:pt x="16" y="22"/>
                        </a:cubicBezTo>
                        <a:cubicBezTo>
                          <a:pt x="17" y="22"/>
                          <a:pt x="19" y="22"/>
                          <a:pt x="19" y="20"/>
                        </a:cubicBezTo>
                        <a:cubicBezTo>
                          <a:pt x="20" y="24"/>
                          <a:pt x="15" y="25"/>
                          <a:pt x="16" y="27"/>
                        </a:cubicBezTo>
                        <a:cubicBezTo>
                          <a:pt x="17" y="26"/>
                          <a:pt x="19" y="26"/>
                          <a:pt x="20" y="25"/>
                        </a:cubicBezTo>
                        <a:cubicBezTo>
                          <a:pt x="20" y="28"/>
                          <a:pt x="15" y="29"/>
                          <a:pt x="16" y="32"/>
                        </a:cubicBezTo>
                        <a:cubicBezTo>
                          <a:pt x="17" y="29"/>
                          <a:pt x="20" y="31"/>
                          <a:pt x="23" y="29"/>
                        </a:cubicBezTo>
                        <a:cubicBezTo>
                          <a:pt x="33" y="23"/>
                          <a:pt x="23" y="13"/>
                          <a:pt x="22" y="13"/>
                        </a:cubicBezTo>
                        <a:cubicBezTo>
                          <a:pt x="29" y="19"/>
                          <a:pt x="23" y="24"/>
                          <a:pt x="23" y="24"/>
                        </a:cubicBezTo>
                        <a:cubicBezTo>
                          <a:pt x="23" y="24"/>
                          <a:pt x="25" y="20"/>
                          <a:pt x="22" y="15"/>
                        </a:cubicBezTo>
                        <a:cubicBezTo>
                          <a:pt x="19" y="10"/>
                          <a:pt x="10" y="11"/>
                          <a:pt x="6" y="14"/>
                        </a:cubicBezTo>
                        <a:cubicBezTo>
                          <a:pt x="9" y="9"/>
                          <a:pt x="21" y="10"/>
                          <a:pt x="22" y="10"/>
                        </a:cubicBezTo>
                        <a:cubicBezTo>
                          <a:pt x="30" y="10"/>
                          <a:pt x="34" y="19"/>
                          <a:pt x="34" y="20"/>
                        </a:cubicBezTo>
                        <a:cubicBezTo>
                          <a:pt x="34" y="22"/>
                          <a:pt x="35" y="24"/>
                          <a:pt x="35" y="24"/>
                        </a:cubicBezTo>
                        <a:cubicBezTo>
                          <a:pt x="35" y="24"/>
                          <a:pt x="34" y="24"/>
                          <a:pt x="33" y="23"/>
                        </a:cubicBezTo>
                        <a:cubicBezTo>
                          <a:pt x="33" y="21"/>
                          <a:pt x="33" y="18"/>
                          <a:pt x="32" y="16"/>
                        </a:cubicBezTo>
                        <a:cubicBezTo>
                          <a:pt x="31" y="14"/>
                          <a:pt x="28" y="13"/>
                          <a:pt x="28" y="13"/>
                        </a:cubicBezTo>
                        <a:cubicBezTo>
                          <a:pt x="28" y="13"/>
                          <a:pt x="30" y="14"/>
                          <a:pt x="30" y="15"/>
                        </a:cubicBezTo>
                        <a:cubicBezTo>
                          <a:pt x="26" y="21"/>
                          <a:pt x="28" y="25"/>
                          <a:pt x="30" y="25"/>
                        </a:cubicBezTo>
                        <a:cubicBezTo>
                          <a:pt x="32" y="26"/>
                          <a:pt x="33" y="27"/>
                          <a:pt x="33" y="28"/>
                        </a:cubicBezTo>
                        <a:cubicBezTo>
                          <a:pt x="34" y="28"/>
                          <a:pt x="33" y="25"/>
                          <a:pt x="33" y="25"/>
                        </a:cubicBezTo>
                        <a:cubicBezTo>
                          <a:pt x="33" y="25"/>
                          <a:pt x="34" y="24"/>
                          <a:pt x="35" y="27"/>
                        </a:cubicBezTo>
                        <a:cubicBezTo>
                          <a:pt x="37" y="30"/>
                          <a:pt x="41" y="31"/>
                          <a:pt x="42" y="30"/>
                        </a:cubicBezTo>
                        <a:cubicBezTo>
                          <a:pt x="41" y="30"/>
                          <a:pt x="38" y="28"/>
                          <a:pt x="38" y="26"/>
                        </a:cubicBezTo>
                        <a:cubicBezTo>
                          <a:pt x="39" y="23"/>
                          <a:pt x="38" y="22"/>
                          <a:pt x="38" y="21"/>
                        </a:cubicBezTo>
                        <a:cubicBezTo>
                          <a:pt x="39" y="21"/>
                          <a:pt x="42" y="21"/>
                          <a:pt x="42" y="22"/>
                        </a:cubicBezTo>
                        <a:cubicBezTo>
                          <a:pt x="43" y="21"/>
                          <a:pt x="41" y="18"/>
                          <a:pt x="40" y="18"/>
                        </a:cubicBezTo>
                        <a:cubicBezTo>
                          <a:pt x="41" y="18"/>
                          <a:pt x="43" y="16"/>
                          <a:pt x="42" y="15"/>
                        </a:cubicBezTo>
                        <a:cubicBezTo>
                          <a:pt x="41" y="17"/>
                          <a:pt x="40" y="14"/>
                          <a:pt x="39" y="14"/>
                        </a:cubicBezTo>
                        <a:cubicBezTo>
                          <a:pt x="37" y="13"/>
                          <a:pt x="35" y="13"/>
                          <a:pt x="34" y="14"/>
                        </a:cubicBezTo>
                        <a:cubicBezTo>
                          <a:pt x="33" y="13"/>
                          <a:pt x="32" y="13"/>
                          <a:pt x="31" y="13"/>
                        </a:cubicBezTo>
                        <a:cubicBezTo>
                          <a:pt x="28" y="11"/>
                          <a:pt x="24" y="10"/>
                          <a:pt x="24" y="10"/>
                        </a:cubicBezTo>
                        <a:cubicBezTo>
                          <a:pt x="25" y="9"/>
                          <a:pt x="25" y="9"/>
                          <a:pt x="25" y="9"/>
                        </a:cubicBezTo>
                        <a:cubicBezTo>
                          <a:pt x="25" y="9"/>
                          <a:pt x="27" y="11"/>
                          <a:pt x="29" y="10"/>
                        </a:cubicBezTo>
                        <a:cubicBezTo>
                          <a:pt x="31" y="10"/>
                          <a:pt x="35" y="7"/>
                          <a:pt x="36" y="9"/>
                        </a:cubicBezTo>
                        <a:cubicBezTo>
                          <a:pt x="36" y="8"/>
                          <a:pt x="35" y="7"/>
                          <a:pt x="34" y="7"/>
                        </a:cubicBezTo>
                        <a:cubicBezTo>
                          <a:pt x="36" y="3"/>
                          <a:pt x="39" y="2"/>
                          <a:pt x="40" y="3"/>
                        </a:cubicBezTo>
                        <a:cubicBezTo>
                          <a:pt x="39" y="0"/>
                          <a:pt x="34" y="2"/>
                          <a:pt x="31" y="2"/>
                        </a:cubicBezTo>
                        <a:cubicBezTo>
                          <a:pt x="32" y="1"/>
                          <a:pt x="30" y="0"/>
                          <a:pt x="30" y="0"/>
                        </a:cubicBezTo>
                        <a:cubicBezTo>
                          <a:pt x="30" y="0"/>
                          <a:pt x="30" y="2"/>
                          <a:pt x="27" y="3"/>
                        </a:cubicBezTo>
                        <a:cubicBezTo>
                          <a:pt x="25" y="4"/>
                          <a:pt x="24" y="7"/>
                          <a:pt x="25" y="8"/>
                        </a:cubicBezTo>
                        <a:cubicBezTo>
                          <a:pt x="21" y="10"/>
                          <a:pt x="14" y="9"/>
                          <a:pt x="9" y="11"/>
                        </a:cubicBezTo>
                        <a:cubicBezTo>
                          <a:pt x="5" y="13"/>
                          <a:pt x="0" y="20"/>
                          <a:pt x="0" y="20"/>
                        </a:cubicBezTo>
                        <a:close/>
                        <a:moveTo>
                          <a:pt x="33" y="5"/>
                        </a:moveTo>
                        <a:cubicBezTo>
                          <a:pt x="34" y="7"/>
                          <a:pt x="26" y="8"/>
                          <a:pt x="26" y="8"/>
                        </a:cubicBezTo>
                        <a:cubicBezTo>
                          <a:pt x="26" y="8"/>
                          <a:pt x="32" y="2"/>
                          <a:pt x="33" y="5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2" name="Freeform 1333"/>
                  <p:cNvSpPr/>
                  <p:nvPr/>
                </p:nvSpPr>
                <p:spPr>
                  <a:xfrm flipV="1">
                    <a:off x="10040400" y="4134960"/>
                    <a:ext cx="30132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33" y="11"/>
                        </a:moveTo>
                        <a:cubicBezTo>
                          <a:pt x="28" y="9"/>
                          <a:pt x="21" y="10"/>
                          <a:pt x="18" y="8"/>
                        </a:cubicBezTo>
                        <a:cubicBezTo>
                          <a:pt x="18" y="7"/>
                          <a:pt x="17" y="4"/>
                          <a:pt x="15" y="3"/>
                        </a:cubicBezTo>
                        <a:cubicBezTo>
                          <a:pt x="12" y="2"/>
                          <a:pt x="13" y="0"/>
                          <a:pt x="13" y="0"/>
                        </a:cubicBezTo>
                        <a:cubicBezTo>
                          <a:pt x="13" y="0"/>
                          <a:pt x="10" y="1"/>
                          <a:pt x="11" y="2"/>
                        </a:cubicBezTo>
                        <a:cubicBezTo>
                          <a:pt x="9" y="2"/>
                          <a:pt x="4" y="0"/>
                          <a:pt x="2" y="3"/>
                        </a:cubicBezTo>
                        <a:cubicBezTo>
                          <a:pt x="3" y="2"/>
                          <a:pt x="6" y="3"/>
                          <a:pt x="8" y="7"/>
                        </a:cubicBezTo>
                        <a:cubicBezTo>
                          <a:pt x="7" y="7"/>
                          <a:pt x="6" y="8"/>
                          <a:pt x="7" y="9"/>
                        </a:cubicBezTo>
                        <a:cubicBezTo>
                          <a:pt x="8" y="7"/>
                          <a:pt x="11" y="10"/>
                          <a:pt x="13" y="10"/>
                        </a:cubicBezTo>
                        <a:cubicBezTo>
                          <a:pt x="16" y="11"/>
                          <a:pt x="17" y="9"/>
                          <a:pt x="17" y="9"/>
                        </a:cubicBezTo>
                        <a:cubicBezTo>
                          <a:pt x="19" y="10"/>
                          <a:pt x="19" y="10"/>
                          <a:pt x="19" y="10"/>
                        </a:cubicBezTo>
                        <a:cubicBezTo>
                          <a:pt x="19" y="10"/>
                          <a:pt x="14" y="11"/>
                          <a:pt x="11" y="13"/>
                        </a:cubicBezTo>
                        <a:cubicBezTo>
                          <a:pt x="11" y="13"/>
                          <a:pt x="10" y="13"/>
                          <a:pt x="9" y="14"/>
                        </a:cubicBezTo>
                        <a:cubicBezTo>
                          <a:pt x="7" y="13"/>
                          <a:pt x="5" y="13"/>
                          <a:pt x="4" y="14"/>
                        </a:cubicBezTo>
                        <a:cubicBezTo>
                          <a:pt x="2" y="14"/>
                          <a:pt x="1" y="17"/>
                          <a:pt x="0" y="15"/>
                        </a:cubicBezTo>
                        <a:cubicBezTo>
                          <a:pt x="0" y="16"/>
                          <a:pt x="1" y="18"/>
                          <a:pt x="3" y="18"/>
                        </a:cubicBezTo>
                        <a:cubicBezTo>
                          <a:pt x="2" y="18"/>
                          <a:pt x="0" y="21"/>
                          <a:pt x="1" y="22"/>
                        </a:cubicBezTo>
                        <a:cubicBezTo>
                          <a:pt x="1" y="21"/>
                          <a:pt x="3" y="21"/>
                          <a:pt x="5" y="21"/>
                        </a:cubicBezTo>
                        <a:cubicBezTo>
                          <a:pt x="4" y="22"/>
                          <a:pt x="3" y="23"/>
                          <a:pt x="4" y="26"/>
                        </a:cubicBezTo>
                        <a:cubicBezTo>
                          <a:pt x="5" y="28"/>
                          <a:pt x="1" y="30"/>
                          <a:pt x="0" y="30"/>
                        </a:cubicBezTo>
                        <a:cubicBezTo>
                          <a:pt x="2" y="31"/>
                          <a:pt x="5" y="30"/>
                          <a:pt x="7" y="27"/>
                        </a:cubicBezTo>
                        <a:cubicBezTo>
                          <a:pt x="9" y="24"/>
                          <a:pt x="9" y="25"/>
                          <a:pt x="9" y="25"/>
                        </a:cubicBezTo>
                        <a:cubicBezTo>
                          <a:pt x="9" y="25"/>
                          <a:pt x="8" y="28"/>
                          <a:pt x="9" y="28"/>
                        </a:cubicBezTo>
                        <a:cubicBezTo>
                          <a:pt x="10" y="27"/>
                          <a:pt x="11" y="26"/>
                          <a:pt x="12" y="25"/>
                        </a:cubicBezTo>
                        <a:cubicBezTo>
                          <a:pt x="14" y="25"/>
                          <a:pt x="16" y="21"/>
                          <a:pt x="13" y="15"/>
                        </a:cubicBezTo>
                        <a:cubicBezTo>
                          <a:pt x="12" y="14"/>
                          <a:pt x="14" y="13"/>
                          <a:pt x="14" y="13"/>
                        </a:cubicBezTo>
                        <a:cubicBezTo>
                          <a:pt x="14" y="13"/>
                          <a:pt x="12" y="14"/>
                          <a:pt x="11" y="16"/>
                        </a:cubicBezTo>
                        <a:cubicBezTo>
                          <a:pt x="10" y="18"/>
                          <a:pt x="10" y="21"/>
                          <a:pt x="9" y="23"/>
                        </a:cubicBezTo>
                        <a:cubicBezTo>
                          <a:pt x="8" y="24"/>
                          <a:pt x="7" y="24"/>
                          <a:pt x="7" y="24"/>
                        </a:cubicBezTo>
                        <a:cubicBezTo>
                          <a:pt x="7" y="24"/>
                          <a:pt x="9" y="22"/>
                          <a:pt x="8" y="20"/>
                        </a:cubicBezTo>
                        <a:cubicBezTo>
                          <a:pt x="8" y="19"/>
                          <a:pt x="12" y="10"/>
                          <a:pt x="20" y="10"/>
                        </a:cubicBezTo>
                        <a:cubicBezTo>
                          <a:pt x="21" y="10"/>
                          <a:pt x="33" y="9"/>
                          <a:pt x="36" y="14"/>
                        </a:cubicBezTo>
                        <a:cubicBezTo>
                          <a:pt x="33" y="11"/>
                          <a:pt x="23" y="10"/>
                          <a:pt x="20" y="15"/>
                        </a:cubicBezTo>
                        <a:cubicBezTo>
                          <a:pt x="17" y="20"/>
                          <a:pt x="19" y="24"/>
                          <a:pt x="19" y="24"/>
                        </a:cubicBezTo>
                        <a:cubicBezTo>
                          <a:pt x="19" y="24"/>
                          <a:pt x="14" y="19"/>
                          <a:pt x="21" y="13"/>
                        </a:cubicBezTo>
                        <a:cubicBezTo>
                          <a:pt x="20" y="13"/>
                          <a:pt x="9" y="23"/>
                          <a:pt x="20" y="29"/>
                        </a:cubicBezTo>
                        <a:cubicBezTo>
                          <a:pt x="23" y="31"/>
                          <a:pt x="26" y="29"/>
                          <a:pt x="27" y="32"/>
                        </a:cubicBezTo>
                        <a:cubicBezTo>
                          <a:pt x="27" y="29"/>
                          <a:pt x="23" y="28"/>
                          <a:pt x="22" y="25"/>
                        </a:cubicBezTo>
                        <a:cubicBezTo>
                          <a:pt x="23" y="26"/>
                          <a:pt x="25" y="26"/>
                          <a:pt x="27" y="27"/>
                        </a:cubicBezTo>
                        <a:cubicBezTo>
                          <a:pt x="27" y="25"/>
                          <a:pt x="22" y="24"/>
                          <a:pt x="23" y="20"/>
                        </a:cubicBezTo>
                        <a:cubicBezTo>
                          <a:pt x="23" y="22"/>
                          <a:pt x="25" y="22"/>
                          <a:pt x="26" y="22"/>
                        </a:cubicBezTo>
                        <a:cubicBezTo>
                          <a:pt x="26" y="21"/>
                          <a:pt x="19" y="11"/>
                          <a:pt x="31" y="12"/>
                        </a:cubicBezTo>
                        <a:cubicBezTo>
                          <a:pt x="37" y="13"/>
                          <a:pt x="43" y="20"/>
                          <a:pt x="43" y="20"/>
                        </a:cubicBezTo>
                        <a:cubicBezTo>
                          <a:pt x="43" y="20"/>
                          <a:pt x="38" y="13"/>
                          <a:pt x="33" y="11"/>
                        </a:cubicBezTo>
                        <a:close/>
                        <a:moveTo>
                          <a:pt x="16" y="8"/>
                        </a:moveTo>
                        <a:cubicBezTo>
                          <a:pt x="16" y="8"/>
                          <a:pt x="9" y="7"/>
                          <a:pt x="9" y="5"/>
                        </a:cubicBezTo>
                        <a:cubicBezTo>
                          <a:pt x="10" y="2"/>
                          <a:pt x="16" y="8"/>
                          <a:pt x="16" y="8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3" name="Freeform 1334"/>
                  <p:cNvSpPr/>
                  <p:nvPr/>
                </p:nvSpPr>
                <p:spPr>
                  <a:xfrm flipV="1">
                    <a:off x="10229040" y="4120560"/>
                    <a:ext cx="231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33" y="11"/>
                        </a:moveTo>
                        <a:cubicBezTo>
                          <a:pt x="33" y="12"/>
                          <a:pt x="33" y="12"/>
                          <a:pt x="33" y="12"/>
                        </a:cubicBezTo>
                        <a:cubicBezTo>
                          <a:pt x="33" y="12"/>
                          <a:pt x="28" y="7"/>
                          <a:pt x="23" y="11"/>
                        </a:cubicBezTo>
                        <a:cubicBezTo>
                          <a:pt x="23" y="12"/>
                          <a:pt x="23" y="15"/>
                          <a:pt x="18" y="15"/>
                        </a:cubicBezTo>
                        <a:cubicBezTo>
                          <a:pt x="19" y="15"/>
                          <a:pt x="19" y="12"/>
                          <a:pt x="22" y="11"/>
                        </a:cubicBezTo>
                        <a:cubicBezTo>
                          <a:pt x="23" y="10"/>
                          <a:pt x="23" y="10"/>
                          <a:pt x="23" y="10"/>
                        </a:cubicBezTo>
                        <a:cubicBezTo>
                          <a:pt x="23" y="10"/>
                          <a:pt x="14" y="15"/>
                          <a:pt x="12" y="13"/>
                        </a:cubicBezTo>
                        <a:cubicBezTo>
                          <a:pt x="11" y="14"/>
                          <a:pt x="11" y="15"/>
                          <a:pt x="10" y="16"/>
                        </a:cubicBezTo>
                        <a:cubicBezTo>
                          <a:pt x="8" y="17"/>
                          <a:pt x="6" y="18"/>
                          <a:pt x="6" y="20"/>
                        </a:cubicBezTo>
                        <a:cubicBezTo>
                          <a:pt x="5" y="19"/>
                          <a:pt x="5" y="14"/>
                          <a:pt x="11" y="13"/>
                        </a:cubicBezTo>
                        <a:cubicBezTo>
                          <a:pt x="10" y="13"/>
                          <a:pt x="8" y="13"/>
                          <a:pt x="8" y="13"/>
                        </a:cubicBezTo>
                        <a:cubicBezTo>
                          <a:pt x="8" y="13"/>
                          <a:pt x="4" y="16"/>
                          <a:pt x="0" y="13"/>
                        </a:cubicBezTo>
                        <a:cubicBezTo>
                          <a:pt x="1" y="12"/>
                          <a:pt x="4" y="9"/>
                          <a:pt x="8" y="12"/>
                        </a:cubicBezTo>
                        <a:cubicBezTo>
                          <a:pt x="10" y="13"/>
                          <a:pt x="10" y="13"/>
                          <a:pt x="10" y="13"/>
                        </a:cubicBezTo>
                        <a:cubicBezTo>
                          <a:pt x="10" y="13"/>
                          <a:pt x="5" y="11"/>
                          <a:pt x="6" y="6"/>
                        </a:cubicBezTo>
                        <a:cubicBezTo>
                          <a:pt x="7" y="7"/>
                          <a:pt x="10" y="7"/>
                          <a:pt x="10" y="9"/>
                        </a:cubicBezTo>
                        <a:cubicBezTo>
                          <a:pt x="11" y="11"/>
                          <a:pt x="10" y="12"/>
                          <a:pt x="12" y="13"/>
                        </a:cubicBezTo>
                        <a:cubicBezTo>
                          <a:pt x="14" y="14"/>
                          <a:pt x="22" y="10"/>
                          <a:pt x="22" y="10"/>
                        </a:cubicBezTo>
                        <a:cubicBezTo>
                          <a:pt x="22" y="10"/>
                          <a:pt x="21" y="9"/>
                          <a:pt x="20" y="9"/>
                        </a:cubicBezTo>
                        <a:cubicBezTo>
                          <a:pt x="19" y="9"/>
                          <a:pt x="17" y="8"/>
                          <a:pt x="16" y="7"/>
                        </a:cubicBezTo>
                        <a:cubicBezTo>
                          <a:pt x="14" y="5"/>
                          <a:pt x="15" y="3"/>
                          <a:pt x="15" y="3"/>
                        </a:cubicBezTo>
                        <a:cubicBezTo>
                          <a:pt x="15" y="3"/>
                          <a:pt x="16" y="3"/>
                          <a:pt x="19" y="5"/>
                        </a:cubicBezTo>
                        <a:cubicBezTo>
                          <a:pt x="22" y="7"/>
                          <a:pt x="19" y="8"/>
                          <a:pt x="23" y="9"/>
                        </a:cubicBezTo>
                        <a:cubicBezTo>
                          <a:pt x="25" y="9"/>
                          <a:pt x="28" y="8"/>
                          <a:pt x="28" y="9"/>
                        </a:cubicBezTo>
                        <a:cubicBezTo>
                          <a:pt x="27" y="8"/>
                          <a:pt x="24" y="6"/>
                          <a:pt x="25" y="4"/>
                        </a:cubicBezTo>
                        <a:cubicBezTo>
                          <a:pt x="25" y="1"/>
                          <a:pt x="26" y="1"/>
                          <a:pt x="26" y="0"/>
                        </a:cubicBezTo>
                        <a:cubicBezTo>
                          <a:pt x="27" y="0"/>
                          <a:pt x="29" y="2"/>
                          <a:pt x="28" y="4"/>
                        </a:cubicBezTo>
                        <a:cubicBezTo>
                          <a:pt x="28" y="6"/>
                          <a:pt x="28" y="8"/>
                          <a:pt x="29" y="9"/>
                        </a:cubicBezTo>
                        <a:cubicBezTo>
                          <a:pt x="31" y="10"/>
                          <a:pt x="33" y="11"/>
                          <a:pt x="33" y="11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4" name="Freeform 1335"/>
                  <p:cNvSpPr/>
                  <p:nvPr/>
                </p:nvSpPr>
                <p:spPr>
                  <a:xfrm flipV="1">
                    <a:off x="10496520" y="4120560"/>
                    <a:ext cx="23112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0" y="11"/>
                        </a:moveTo>
                        <a:cubicBezTo>
                          <a:pt x="0" y="12"/>
                          <a:pt x="0" y="12"/>
                          <a:pt x="0" y="12"/>
                        </a:cubicBezTo>
                        <a:cubicBezTo>
                          <a:pt x="0" y="12"/>
                          <a:pt x="5" y="7"/>
                          <a:pt x="11" y="11"/>
                        </a:cubicBezTo>
                        <a:cubicBezTo>
                          <a:pt x="10" y="12"/>
                          <a:pt x="10" y="15"/>
                          <a:pt x="15" y="15"/>
                        </a:cubicBezTo>
                        <a:cubicBezTo>
                          <a:pt x="15" y="15"/>
                          <a:pt x="15" y="12"/>
                          <a:pt x="11" y="11"/>
                        </a:cubicBezTo>
                        <a:cubicBezTo>
                          <a:pt x="10" y="10"/>
                          <a:pt x="10" y="10"/>
                          <a:pt x="10" y="10"/>
                        </a:cubicBezTo>
                        <a:cubicBezTo>
                          <a:pt x="10" y="10"/>
                          <a:pt x="20" y="15"/>
                          <a:pt x="22" y="13"/>
                        </a:cubicBezTo>
                        <a:cubicBezTo>
                          <a:pt x="22" y="14"/>
                          <a:pt x="22" y="15"/>
                          <a:pt x="24" y="16"/>
                        </a:cubicBezTo>
                        <a:cubicBezTo>
                          <a:pt x="25" y="17"/>
                          <a:pt x="27" y="18"/>
                          <a:pt x="27" y="20"/>
                        </a:cubicBezTo>
                        <a:cubicBezTo>
                          <a:pt x="28" y="19"/>
                          <a:pt x="29" y="14"/>
                          <a:pt x="22" y="13"/>
                        </a:cubicBezTo>
                        <a:cubicBezTo>
                          <a:pt x="23" y="13"/>
                          <a:pt x="26" y="13"/>
                          <a:pt x="26" y="13"/>
                        </a:cubicBezTo>
                        <a:cubicBezTo>
                          <a:pt x="26" y="13"/>
                          <a:pt x="29" y="16"/>
                          <a:pt x="33" y="13"/>
                        </a:cubicBezTo>
                        <a:cubicBezTo>
                          <a:pt x="32" y="12"/>
                          <a:pt x="29" y="9"/>
                          <a:pt x="26" y="12"/>
                        </a:cubicBezTo>
                        <a:cubicBezTo>
                          <a:pt x="23" y="13"/>
                          <a:pt x="23" y="13"/>
                          <a:pt x="23" y="13"/>
                        </a:cubicBezTo>
                        <a:cubicBezTo>
                          <a:pt x="23" y="13"/>
                          <a:pt x="28" y="11"/>
                          <a:pt x="27" y="6"/>
                        </a:cubicBezTo>
                        <a:cubicBezTo>
                          <a:pt x="26" y="7"/>
                          <a:pt x="23" y="7"/>
                          <a:pt x="23" y="9"/>
                        </a:cubicBezTo>
                        <a:cubicBezTo>
                          <a:pt x="22" y="11"/>
                          <a:pt x="23" y="12"/>
                          <a:pt x="21" y="13"/>
                        </a:cubicBezTo>
                        <a:cubicBezTo>
                          <a:pt x="19" y="14"/>
                          <a:pt x="11" y="10"/>
                          <a:pt x="11" y="10"/>
                        </a:cubicBezTo>
                        <a:cubicBezTo>
                          <a:pt x="12" y="10"/>
                          <a:pt x="12" y="9"/>
                          <a:pt x="13" y="9"/>
                        </a:cubicBezTo>
                        <a:cubicBezTo>
                          <a:pt x="14" y="9"/>
                          <a:pt x="16" y="8"/>
                          <a:pt x="18" y="7"/>
                        </a:cubicBezTo>
                        <a:cubicBezTo>
                          <a:pt x="19" y="5"/>
                          <a:pt x="19" y="3"/>
                          <a:pt x="19" y="3"/>
                        </a:cubicBezTo>
                        <a:cubicBezTo>
                          <a:pt x="19" y="3"/>
                          <a:pt x="17" y="3"/>
                          <a:pt x="14" y="5"/>
                        </a:cubicBezTo>
                        <a:cubicBezTo>
                          <a:pt x="12" y="7"/>
                          <a:pt x="14" y="8"/>
                          <a:pt x="11" y="9"/>
                        </a:cubicBezTo>
                        <a:cubicBezTo>
                          <a:pt x="8" y="9"/>
                          <a:pt x="6" y="8"/>
                          <a:pt x="5" y="9"/>
                        </a:cubicBezTo>
                        <a:cubicBezTo>
                          <a:pt x="6" y="8"/>
                          <a:pt x="9" y="6"/>
                          <a:pt x="9" y="4"/>
                        </a:cubicBezTo>
                        <a:cubicBezTo>
                          <a:pt x="8" y="1"/>
                          <a:pt x="7" y="1"/>
                          <a:pt x="8" y="0"/>
                        </a:cubicBezTo>
                        <a:cubicBezTo>
                          <a:pt x="7" y="0"/>
                          <a:pt x="5" y="2"/>
                          <a:pt x="5" y="4"/>
                        </a:cubicBezTo>
                        <a:cubicBezTo>
                          <a:pt x="5" y="6"/>
                          <a:pt x="5" y="8"/>
                          <a:pt x="4" y="9"/>
                        </a:cubicBezTo>
                        <a:cubicBezTo>
                          <a:pt x="2" y="10"/>
                          <a:pt x="0" y="11"/>
                          <a:pt x="0" y="11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5" name="Freeform 1336"/>
                  <p:cNvSpPr/>
                  <p:nvPr/>
                </p:nvSpPr>
                <p:spPr>
                  <a:xfrm flipV="1">
                    <a:off x="10397880" y="4212360"/>
                    <a:ext cx="15372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3">
                        <a:moveTo>
                          <a:pt x="13" y="13"/>
                        </a:moveTo>
                        <a:cubicBezTo>
                          <a:pt x="12" y="16"/>
                          <a:pt x="17" y="16"/>
                          <a:pt x="17" y="17"/>
                        </a:cubicBezTo>
                        <a:cubicBezTo>
                          <a:pt x="18" y="16"/>
                          <a:pt x="17" y="15"/>
                          <a:pt x="17" y="15"/>
                        </a:cubicBezTo>
                        <a:cubicBezTo>
                          <a:pt x="17" y="15"/>
                          <a:pt x="18" y="15"/>
                          <a:pt x="19" y="14"/>
                        </a:cubicBezTo>
                        <a:cubicBezTo>
                          <a:pt x="20" y="14"/>
                          <a:pt x="21" y="14"/>
                          <a:pt x="22" y="15"/>
                        </a:cubicBezTo>
                        <a:cubicBezTo>
                          <a:pt x="22" y="12"/>
                          <a:pt x="18" y="11"/>
                          <a:pt x="18" y="11"/>
                        </a:cubicBezTo>
                        <a:cubicBezTo>
                          <a:pt x="18" y="10"/>
                          <a:pt x="18" y="10"/>
                          <a:pt x="18" y="10"/>
                        </a:cubicBezTo>
                        <a:cubicBezTo>
                          <a:pt x="18" y="10"/>
                          <a:pt x="16" y="8"/>
                          <a:pt x="13" y="11"/>
                        </a:cubicBezTo>
                        <a:cubicBezTo>
                          <a:pt x="15" y="8"/>
                          <a:pt x="13" y="3"/>
                          <a:pt x="13" y="3"/>
                        </a:cubicBezTo>
                        <a:cubicBezTo>
                          <a:pt x="13" y="3"/>
                          <a:pt x="13" y="4"/>
                          <a:pt x="12" y="5"/>
                        </a:cubicBezTo>
                        <a:cubicBezTo>
                          <a:pt x="12" y="2"/>
                          <a:pt x="7" y="0"/>
                          <a:pt x="6" y="0"/>
                        </a:cubicBezTo>
                        <a:cubicBezTo>
                          <a:pt x="7" y="0"/>
                          <a:pt x="7" y="2"/>
                          <a:pt x="7" y="3"/>
                        </a:cubicBezTo>
                        <a:cubicBezTo>
                          <a:pt x="8" y="5"/>
                          <a:pt x="8" y="6"/>
                          <a:pt x="8" y="6"/>
                        </a:cubicBezTo>
                        <a:cubicBezTo>
                          <a:pt x="8" y="6"/>
                          <a:pt x="7" y="6"/>
                          <a:pt x="6" y="6"/>
                        </a:cubicBezTo>
                        <a:cubicBezTo>
                          <a:pt x="7" y="7"/>
                          <a:pt x="8" y="9"/>
                          <a:pt x="9" y="9"/>
                        </a:cubicBezTo>
                        <a:cubicBezTo>
                          <a:pt x="11" y="10"/>
                          <a:pt x="10" y="12"/>
                          <a:pt x="12" y="13"/>
                        </a:cubicBezTo>
                        <a:cubicBezTo>
                          <a:pt x="11" y="13"/>
                          <a:pt x="9" y="13"/>
                          <a:pt x="9" y="11"/>
                        </a:cubicBezTo>
                        <a:cubicBezTo>
                          <a:pt x="8" y="9"/>
                          <a:pt x="6" y="9"/>
                          <a:pt x="6" y="9"/>
                        </a:cubicBezTo>
                        <a:cubicBezTo>
                          <a:pt x="6" y="9"/>
                          <a:pt x="6" y="9"/>
                          <a:pt x="7" y="10"/>
                        </a:cubicBezTo>
                        <a:cubicBezTo>
                          <a:pt x="4" y="8"/>
                          <a:pt x="0" y="11"/>
                          <a:pt x="0" y="12"/>
                        </a:cubicBezTo>
                        <a:cubicBezTo>
                          <a:pt x="1" y="11"/>
                          <a:pt x="3" y="14"/>
                          <a:pt x="5" y="14"/>
                        </a:cubicBezTo>
                        <a:cubicBezTo>
                          <a:pt x="4" y="15"/>
                          <a:pt x="4" y="16"/>
                          <a:pt x="5" y="17"/>
                        </a:cubicBezTo>
                        <a:cubicBezTo>
                          <a:pt x="5" y="15"/>
                          <a:pt x="6" y="15"/>
                          <a:pt x="7" y="16"/>
                        </a:cubicBezTo>
                        <a:cubicBezTo>
                          <a:pt x="9" y="16"/>
                          <a:pt x="10" y="14"/>
                          <a:pt x="10" y="13"/>
                        </a:cubicBezTo>
                        <a:cubicBezTo>
                          <a:pt x="10" y="13"/>
                          <a:pt x="12" y="13"/>
                          <a:pt x="12" y="13"/>
                        </a:cubicBezTo>
                        <a:cubicBezTo>
                          <a:pt x="12" y="13"/>
                          <a:pt x="10" y="15"/>
                          <a:pt x="10" y="18"/>
                        </a:cubicBezTo>
                        <a:cubicBezTo>
                          <a:pt x="9" y="22"/>
                          <a:pt x="13" y="23"/>
                          <a:pt x="13" y="23"/>
                        </a:cubicBezTo>
                        <a:cubicBezTo>
                          <a:pt x="7" y="20"/>
                          <a:pt x="12" y="14"/>
                          <a:pt x="13" y="13"/>
                        </a:cubicBezTo>
                        <a:close/>
                        <a:moveTo>
                          <a:pt x="10" y="5"/>
                        </a:moveTo>
                        <a:cubicBezTo>
                          <a:pt x="11" y="4"/>
                          <a:pt x="12" y="7"/>
                          <a:pt x="12" y="11"/>
                        </a:cubicBezTo>
                        <a:cubicBezTo>
                          <a:pt x="12" y="11"/>
                          <a:pt x="9" y="5"/>
                          <a:pt x="10" y="5"/>
                        </a:cubicBezTo>
                        <a:close/>
                        <a:moveTo>
                          <a:pt x="13" y="12"/>
                        </a:moveTo>
                        <a:cubicBezTo>
                          <a:pt x="13" y="12"/>
                          <a:pt x="18" y="11"/>
                          <a:pt x="19" y="13"/>
                        </a:cubicBezTo>
                        <a:cubicBezTo>
                          <a:pt x="19" y="14"/>
                          <a:pt x="13" y="12"/>
                          <a:pt x="13" y="12"/>
                        </a:cubicBezTo>
                        <a:close/>
                        <a:moveTo>
                          <a:pt x="9" y="13"/>
                        </a:moveTo>
                        <a:cubicBezTo>
                          <a:pt x="9" y="13"/>
                          <a:pt x="3" y="13"/>
                          <a:pt x="3" y="11"/>
                        </a:cubicBezTo>
                        <a:cubicBezTo>
                          <a:pt x="4" y="10"/>
                          <a:pt x="9" y="13"/>
                          <a:pt x="9" y="13"/>
                        </a:cubicBezTo>
                        <a:close/>
                      </a:path>
                    </a:pathLst>
                  </a:custGeom>
                  <a:solidFill>
                    <a:srgbClr val="574f1f">
                      <a:alpha val="8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536" name="直接连接符 79"/>
                <p:cNvSpPr/>
                <p:nvPr/>
              </p:nvSpPr>
              <p:spPr>
                <a:xfrm>
                  <a:off x="9542160" y="4090680"/>
                  <a:ext cx="1879920" cy="0"/>
                </a:xfrm>
                <a:prstGeom prst="line">
                  <a:avLst/>
                </a:prstGeom>
                <a:ln w="6480">
                  <a:solidFill>
                    <a:srgbClr val="574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37" name="文本框 85"/>
              <p:cNvSpPr/>
              <p:nvPr/>
            </p:nvSpPr>
            <p:spPr>
              <a:xfrm>
                <a:off x="9485280" y="35830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574f1f"/>
                    </a:solidFill>
                    <a:latin typeface="Vivaldi"/>
                  </a:rPr>
                  <a:t>04</a:t>
                </a:r>
                <a:endParaRPr b="0" lang="en-US" sz="32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538" name="矩形 90"/>
              <p:cNvSpPr/>
              <p:nvPr/>
            </p:nvSpPr>
            <p:spPr>
              <a:xfrm>
                <a:off x="9482040" y="4421160"/>
                <a:ext cx="1918080" cy="11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539" name="文本框 17494"/>
            <p:cNvSpPr/>
            <p:nvPr/>
          </p:nvSpPr>
          <p:spPr>
            <a:xfrm>
              <a:off x="10179720" y="473580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74f1f"/>
                  </a:solidFill>
                  <a:latin typeface="Calibri"/>
                  <a:ea typeface="宋体"/>
                </a:rPr>
                <a:t>《逆战》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pic>
        <p:nvPicPr>
          <p:cNvPr id="540" name="图片 17495" descr="090c9d62844e79ba-2ae13b1c02ff01d9-0809dd89565d41d6284c5bc99cb863c7"/>
          <p:cNvPicPr/>
          <p:nvPr/>
        </p:nvPicPr>
        <p:blipFill>
          <a:blip r:embed="rId9"/>
          <a:stretch/>
        </p:blipFill>
        <p:spPr>
          <a:xfrm>
            <a:off x="7308720" y="5130720"/>
            <a:ext cx="917640" cy="13762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17496" descr="6491e9e2892428eb-158af79e8231b720-a88ec65d866e59598732a3f7dc648523"/>
          <p:cNvPicPr/>
          <p:nvPr/>
        </p:nvPicPr>
        <p:blipFill>
          <a:blip r:embed="rId10"/>
          <a:stretch/>
        </p:blipFill>
        <p:spPr>
          <a:xfrm rot="1500000">
            <a:off x="10639080" y="5086440"/>
            <a:ext cx="952560" cy="13842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17497" descr="7207ec154d5d258f-b9569679706ae1f1-8a806df96b39f609a452d0a384988507"/>
          <p:cNvPicPr/>
          <p:nvPr/>
        </p:nvPicPr>
        <p:blipFill>
          <a:blip r:embed="rId11"/>
          <a:stretch/>
        </p:blipFill>
        <p:spPr>
          <a:xfrm>
            <a:off x="4384800" y="5092560"/>
            <a:ext cx="1022400" cy="14036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17498" descr="ca86e620b9e623ff-7f2f5cb76becee35-a80ac2ff7f560c50f48ea3df55710308"/>
          <p:cNvPicPr/>
          <p:nvPr/>
        </p:nvPicPr>
        <p:blipFill>
          <a:blip r:embed="rId12"/>
          <a:stretch/>
        </p:blipFill>
        <p:spPr>
          <a:xfrm rot="20400000">
            <a:off x="667800" y="5029200"/>
            <a:ext cx="1028880" cy="142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9" dur="100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0"/>
                            </p:stCondLst>
                            <p:childTnLst>
                              <p:par>
                                <p:cTn id="4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500"/>
                            </p:stCondLst>
                            <p:childTnLst>
                              <p:par>
                                <p:cTn id="5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500"/>
                            </p:stCondLst>
                            <p:childTnLst>
                              <p:par>
                                <p:cTn id="516" dur="indefinite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dur="indefinite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2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dur="indefinite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8" dur="indefinite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0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4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组合 33"/>
          <p:cNvGrpSpPr/>
          <p:nvPr/>
        </p:nvGrpSpPr>
        <p:grpSpPr>
          <a:xfrm>
            <a:off x="4981680" y="1996920"/>
            <a:ext cx="2153880" cy="503280"/>
            <a:chOff x="4981680" y="1996920"/>
            <a:chExt cx="2153880" cy="503280"/>
          </a:xfrm>
        </p:grpSpPr>
        <p:sp>
          <p:nvSpPr>
            <p:cNvPr id="545" name="矩形 23"/>
            <p:cNvSpPr/>
            <p:nvPr/>
          </p:nvSpPr>
          <p:spPr>
            <a:xfrm>
              <a:off x="4981680" y="1996920"/>
              <a:ext cx="2153880" cy="503280"/>
            </a:xfrm>
            <a:prstGeom prst="rect">
              <a:avLst/>
            </a:prstGeom>
            <a:solidFill>
              <a:srgbClr val="d6c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546" name="文本框 22"/>
            <p:cNvSpPr/>
            <p:nvPr/>
          </p:nvSpPr>
          <p:spPr>
            <a:xfrm>
              <a:off x="5322960" y="2052720"/>
              <a:ext cx="143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c2710"/>
                  </a:solidFill>
                  <a:latin typeface="微软雅黑"/>
                  <a:ea typeface="微软雅黑"/>
                </a:rPr>
                <a:t>{ </a:t>
              </a:r>
              <a:r>
                <a:rPr b="0" lang="zh-CN" sz="2000" spc="-1" strike="noStrike">
                  <a:solidFill>
                    <a:srgbClr val="2c271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2c2710"/>
                  </a:solidFill>
                  <a:latin typeface="微软雅黑"/>
                  <a:ea typeface="微软雅黑"/>
                </a:rPr>
                <a:t>获奖经历  </a:t>
              </a:r>
              <a:r>
                <a:rPr b="0" lang="en-US" sz="2000" spc="-1" strike="noStrike">
                  <a:solidFill>
                    <a:srgbClr val="2c2710"/>
                  </a:solidFill>
                  <a:latin typeface="微软雅黑"/>
                  <a:ea typeface="微软雅黑"/>
                </a:rPr>
                <a:t>}</a:t>
              </a:r>
              <a:endParaRPr b="0" lang="en-US" sz="20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547" name="组合 32"/>
          <p:cNvGrpSpPr/>
          <p:nvPr/>
        </p:nvGrpSpPr>
        <p:grpSpPr>
          <a:xfrm>
            <a:off x="1006920" y="2016000"/>
            <a:ext cx="10073880" cy="3962520"/>
            <a:chOff x="1006920" y="2016000"/>
            <a:chExt cx="10073880" cy="3962520"/>
          </a:xfrm>
        </p:grpSpPr>
        <p:grpSp>
          <p:nvGrpSpPr>
            <p:cNvPr id="548" name="组合 18"/>
            <p:cNvGrpSpPr/>
            <p:nvPr/>
          </p:nvGrpSpPr>
          <p:grpSpPr>
            <a:xfrm>
              <a:off x="1006920" y="2809440"/>
              <a:ext cx="3494520" cy="2520360"/>
              <a:chOff x="1006920" y="2809440"/>
              <a:chExt cx="3494520" cy="2520360"/>
            </a:xfrm>
          </p:grpSpPr>
          <p:pic>
            <p:nvPicPr>
              <p:cNvPr id="549" name="图片 19" descr=""/>
              <p:cNvPicPr/>
              <p:nvPr/>
            </p:nvPicPr>
            <p:blipFill>
              <a:blip r:embed="rId1"/>
              <a:srcRect l="0" t="0" r="46724" b="35518"/>
              <a:stretch/>
            </p:blipFill>
            <p:spPr>
              <a:xfrm flipH="1" rot="3973200">
                <a:off x="3088800" y="3615120"/>
                <a:ext cx="1289880" cy="110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图片 20" descr=""/>
              <p:cNvPicPr/>
              <p:nvPr/>
            </p:nvPicPr>
            <p:blipFill>
              <a:blip r:embed="rId2"/>
              <a:srcRect l="0" t="0" r="46724" b="35518"/>
              <a:stretch/>
            </p:blipFill>
            <p:spPr>
              <a:xfrm rot="20964000">
                <a:off x="1114560" y="2938320"/>
                <a:ext cx="1527120" cy="131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图片 21" descr=""/>
              <p:cNvPicPr/>
              <p:nvPr/>
            </p:nvPicPr>
            <p:blipFill>
              <a:blip r:embed="rId3"/>
              <a:srcRect l="0" t="0" r="-561" b="0"/>
              <a:stretch/>
            </p:blipFill>
            <p:spPr>
              <a:xfrm rot="16200000">
                <a:off x="1220040" y="3255840"/>
                <a:ext cx="2431080" cy="171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2" name="组合 15"/>
            <p:cNvGrpSpPr/>
            <p:nvPr/>
          </p:nvGrpSpPr>
          <p:grpSpPr>
            <a:xfrm>
              <a:off x="8516160" y="3397320"/>
              <a:ext cx="2564640" cy="2397240"/>
              <a:chOff x="8516160" y="3397320"/>
              <a:chExt cx="2564640" cy="2397240"/>
            </a:xfrm>
          </p:grpSpPr>
          <p:pic>
            <p:nvPicPr>
              <p:cNvPr id="553" name="图片 13" descr=""/>
              <p:cNvPicPr/>
              <p:nvPr/>
            </p:nvPicPr>
            <p:blipFill>
              <a:blip r:embed="rId4"/>
              <a:srcRect l="0" t="0" r="46724" b="35518"/>
              <a:stretch/>
            </p:blipFill>
            <p:spPr>
              <a:xfrm rot="4590600">
                <a:off x="9500400" y="3636360"/>
                <a:ext cx="1527120" cy="131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图片 14" descr=""/>
              <p:cNvPicPr/>
              <p:nvPr/>
            </p:nvPicPr>
            <p:blipFill>
              <a:blip r:embed="rId5"/>
              <a:srcRect l="0" t="0" r="-561" b="0"/>
              <a:stretch/>
            </p:blipFill>
            <p:spPr>
              <a:xfrm rot="21426600">
                <a:off x="8557560" y="4016880"/>
                <a:ext cx="2431080" cy="171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5" name="组合 8"/>
            <p:cNvGrpSpPr/>
            <p:nvPr/>
          </p:nvGrpSpPr>
          <p:grpSpPr>
            <a:xfrm>
              <a:off x="2273040" y="3326760"/>
              <a:ext cx="7565400" cy="2468160"/>
              <a:chOff x="2273040" y="3326760"/>
              <a:chExt cx="7565400" cy="2468160"/>
            </a:xfrm>
          </p:grpSpPr>
          <p:sp>
            <p:nvSpPr>
              <p:cNvPr id="556" name="任意多边形 9"/>
              <p:cNvSpPr/>
              <p:nvPr/>
            </p:nvSpPr>
            <p:spPr>
              <a:xfrm>
                <a:off x="2273040" y="3326760"/>
                <a:ext cx="7565400" cy="2468160"/>
              </a:xfrm>
              <a:custGeom>
                <a:avLst/>
                <a:gdLst/>
                <a:ahLst/>
                <a:rect l="l" t="t" r="r" b="b"/>
                <a:pathLst>
                  <a:path w="8817618" h="2876550">
                    <a:moveTo>
                      <a:pt x="409575" y="0"/>
                    </a:moveTo>
                    <a:lnTo>
                      <a:pt x="8408043" y="0"/>
                    </a:lnTo>
                    <a:lnTo>
                      <a:pt x="8440229" y="159425"/>
                    </a:lnTo>
                    <a:cubicBezTo>
                      <a:pt x="8502407" y="306428"/>
                      <a:pt x="8647967" y="409575"/>
                      <a:pt x="8817618" y="409575"/>
                    </a:cubicBezTo>
                    <a:lnTo>
                      <a:pt x="8817618" y="2427763"/>
                    </a:lnTo>
                    <a:cubicBezTo>
                      <a:pt x="8591416" y="2427763"/>
                      <a:pt x="8408043" y="2611136"/>
                      <a:pt x="8408043" y="2837338"/>
                    </a:cubicBezTo>
                    <a:lnTo>
                      <a:pt x="8415959" y="2876550"/>
                    </a:lnTo>
                    <a:lnTo>
                      <a:pt x="401658" y="2876550"/>
                    </a:lnTo>
                    <a:lnTo>
                      <a:pt x="409574" y="2837338"/>
                    </a:lnTo>
                    <a:cubicBezTo>
                      <a:pt x="409574" y="2639411"/>
                      <a:pt x="269180" y="2474276"/>
                      <a:pt x="82543" y="2436084"/>
                    </a:cubicBezTo>
                    <a:lnTo>
                      <a:pt x="0" y="2427763"/>
                    </a:lnTo>
                    <a:lnTo>
                      <a:pt x="0" y="409575"/>
                    </a:lnTo>
                    <a:cubicBezTo>
                      <a:pt x="226202" y="409575"/>
                      <a:pt x="409575" y="226202"/>
                      <a:pt x="409575" y="0"/>
                    </a:cubicBezTo>
                    <a:close/>
                  </a:path>
                </a:pathLst>
              </a:custGeom>
              <a:solidFill>
                <a:srgbClr val="c1b152"/>
              </a:solidFill>
              <a:ln w="0">
                <a:noFill/>
              </a:ln>
              <a:effectLst>
                <a:outerShdw dist="0" dir="0" blurRad="0" rotWithShape="0">
                  <a:srgbClr val="574f1f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557" name="任意多边形 10"/>
              <p:cNvSpPr/>
              <p:nvPr/>
            </p:nvSpPr>
            <p:spPr>
              <a:xfrm>
                <a:off x="2410920" y="3459960"/>
                <a:ext cx="7289280" cy="2201400"/>
              </a:xfrm>
              <a:custGeom>
                <a:avLst/>
                <a:gdLst/>
                <a:ahLst/>
                <a:rect l="l" t="t" r="r" b="b"/>
                <a:pathLst>
                  <a:path w="8817618" h="2876550">
                    <a:moveTo>
                      <a:pt x="409575" y="0"/>
                    </a:moveTo>
                    <a:lnTo>
                      <a:pt x="8408043" y="0"/>
                    </a:lnTo>
                    <a:lnTo>
                      <a:pt x="8440229" y="159425"/>
                    </a:lnTo>
                    <a:cubicBezTo>
                      <a:pt x="8502407" y="306428"/>
                      <a:pt x="8647967" y="409575"/>
                      <a:pt x="8817618" y="409575"/>
                    </a:cubicBezTo>
                    <a:lnTo>
                      <a:pt x="8817618" y="2427763"/>
                    </a:lnTo>
                    <a:cubicBezTo>
                      <a:pt x="8591416" y="2427763"/>
                      <a:pt x="8408043" y="2611136"/>
                      <a:pt x="8408043" y="2837338"/>
                    </a:cubicBezTo>
                    <a:lnTo>
                      <a:pt x="8415959" y="2876550"/>
                    </a:lnTo>
                    <a:lnTo>
                      <a:pt x="401658" y="2876550"/>
                    </a:lnTo>
                    <a:lnTo>
                      <a:pt x="409574" y="2837338"/>
                    </a:lnTo>
                    <a:cubicBezTo>
                      <a:pt x="409574" y="2639411"/>
                      <a:pt x="269180" y="2474276"/>
                      <a:pt x="82543" y="2436084"/>
                    </a:cubicBezTo>
                    <a:lnTo>
                      <a:pt x="0" y="2427763"/>
                    </a:lnTo>
                    <a:lnTo>
                      <a:pt x="0" y="409575"/>
                    </a:lnTo>
                    <a:cubicBezTo>
                      <a:pt x="226202" y="409575"/>
                      <a:pt x="409575" y="226202"/>
                      <a:pt x="409575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574f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grpSp>
          <p:nvGrpSpPr>
            <p:cNvPr id="558" name="组合 26"/>
            <p:cNvGrpSpPr/>
            <p:nvPr/>
          </p:nvGrpSpPr>
          <p:grpSpPr>
            <a:xfrm>
              <a:off x="1478160" y="3643200"/>
              <a:ext cx="2184120" cy="2042640"/>
              <a:chOff x="1478160" y="3643200"/>
              <a:chExt cx="2184120" cy="2042640"/>
            </a:xfrm>
          </p:grpSpPr>
          <p:pic>
            <p:nvPicPr>
              <p:cNvPr id="559" name="图片 27" descr=""/>
              <p:cNvPicPr/>
              <p:nvPr/>
            </p:nvPicPr>
            <p:blipFill>
              <a:blip r:embed="rId6"/>
              <a:srcRect l="0" t="0" r="46724" b="35518"/>
              <a:stretch/>
            </p:blipFill>
            <p:spPr>
              <a:xfrm rot="4590600">
                <a:off x="2315880" y="3846960"/>
                <a:ext cx="13010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图片 28" descr=""/>
              <p:cNvPicPr/>
              <p:nvPr/>
            </p:nvPicPr>
            <p:blipFill>
              <a:blip r:embed="rId7"/>
              <a:srcRect l="0" t="0" r="-561" b="0"/>
              <a:stretch/>
            </p:blipFill>
            <p:spPr>
              <a:xfrm rot="21426600">
                <a:off x="1513440" y="4171680"/>
                <a:ext cx="2071080" cy="1462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1" name="图片 29" descr=""/>
            <p:cNvPicPr/>
            <p:nvPr/>
          </p:nvPicPr>
          <p:blipFill>
            <a:blip r:embed="rId8"/>
            <a:srcRect l="0" t="0" r="0" b="-458"/>
            <a:stretch/>
          </p:blipFill>
          <p:spPr>
            <a:xfrm flipH="1">
              <a:off x="1905120" y="5220720"/>
              <a:ext cx="939960" cy="7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图片 30" descr=""/>
            <p:cNvPicPr/>
            <p:nvPr/>
          </p:nvPicPr>
          <p:blipFill>
            <a:blip r:embed="rId9"/>
            <a:stretch/>
          </p:blipFill>
          <p:spPr>
            <a:xfrm flipH="1">
              <a:off x="2192040" y="2016000"/>
              <a:ext cx="1542240" cy="219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3" name="矩形 25"/>
          <p:cNvSpPr/>
          <p:nvPr/>
        </p:nvSpPr>
        <p:spPr>
          <a:xfrm>
            <a:off x="3625920" y="3919680"/>
            <a:ext cx="55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dfbe9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fdfbe9"/>
                </a:solidFill>
                <a:latin typeface="微软雅黑"/>
                <a:ea typeface="微软雅黑"/>
              </a:rPr>
              <a:t>2004</a:t>
            </a:r>
            <a:r>
              <a:rPr b="0" lang="zh-CN" sz="1400" spc="-1" strike="noStrike">
                <a:solidFill>
                  <a:srgbClr val="fdfbe9"/>
                </a:solidFill>
                <a:latin typeface="微软雅黑"/>
                <a:ea typeface="微软雅黑"/>
              </a:rPr>
              <a:t>年参加东方卫视《我型我秀》获得全国年度总冠军，</a:t>
            </a:r>
            <a:r>
              <a:rPr b="0" lang="zh-CN" sz="1400" spc="-1" strike="noStrike">
                <a:solidFill>
                  <a:srgbClr val="fdfbe9"/>
                </a:solidFill>
                <a:latin typeface="微软雅黑"/>
                <a:ea typeface="微软雅黑"/>
              </a:rPr>
              <a:t>2005</a:t>
            </a:r>
            <a:r>
              <a:rPr b="0" lang="zh-CN" sz="1400" spc="-1" strike="noStrike">
                <a:solidFill>
                  <a:srgbClr val="fdfbe9"/>
                </a:solidFill>
                <a:latin typeface="微软雅黑"/>
                <a:ea typeface="微软雅黑"/>
              </a:rPr>
              <a:t>年出道并发行个人首张专辑《第一张》，</a:t>
            </a:r>
            <a:r>
              <a:rPr b="0" lang="zh-CN" sz="1400" spc="-1" strike="noStrike">
                <a:solidFill>
                  <a:srgbClr val="fdfbe9"/>
                </a:solidFill>
                <a:latin typeface="微软雅黑"/>
                <a:ea typeface="微软雅黑"/>
              </a:rPr>
              <a:t>2006</a:t>
            </a:r>
            <a:r>
              <a:rPr b="0" lang="zh-CN" sz="1400" spc="-1" strike="noStrike">
                <a:solidFill>
                  <a:srgbClr val="fdfbe9"/>
                </a:solidFill>
                <a:latin typeface="微软雅黑"/>
                <a:ea typeface="微软雅黑"/>
              </a:rPr>
              <a:t>年发行第二张专辑《再爱我一回》，</a:t>
            </a:r>
            <a:r>
              <a:rPr b="0" lang="zh-CN" sz="1400" spc="-1" strike="noStrike">
                <a:solidFill>
                  <a:srgbClr val="fdfbe9"/>
                </a:solidFill>
                <a:latin typeface="微软雅黑"/>
                <a:ea typeface="微软雅黑"/>
              </a:rPr>
              <a:t>2007</a:t>
            </a:r>
            <a:r>
              <a:rPr b="0" lang="zh-CN" sz="1400" spc="-1" strike="noStrike">
                <a:solidFill>
                  <a:srgbClr val="fdfbe9"/>
                </a:solidFill>
                <a:latin typeface="微软雅黑"/>
                <a:ea typeface="微软雅黑"/>
              </a:rPr>
              <a:t>年参加湖南卫视《快乐男声》获得全国第四名。</a:t>
            </a:r>
            <a:r>
              <a:rPr b="0" lang="zh-CN" sz="1400" spc="-1" strike="noStrike">
                <a:solidFill>
                  <a:srgbClr val="fdfbe9"/>
                </a:solidFill>
                <a:latin typeface="微软雅黑"/>
                <a:ea typeface="微软雅黑"/>
              </a:rPr>
              <a:t>2008</a:t>
            </a:r>
            <a:r>
              <a:rPr b="0" lang="zh-CN" sz="1400" spc="-1" strike="noStrike">
                <a:solidFill>
                  <a:srgbClr val="fdfbe9"/>
                </a:solidFill>
                <a:latin typeface="微软雅黑"/>
                <a:ea typeface="微软雅黑"/>
              </a:rPr>
              <a:t>年，张杰举办首场个人演唱会，凭借其在专辑《明天过后》中的出色表现获得内地最受欢迎男歌手奖。</a:t>
            </a:r>
            <a:r>
              <a:rPr b="0" lang="zh-CN" sz="1400" spc="-1" strike="noStrike">
                <a:solidFill>
                  <a:srgbClr val="fdfbe9"/>
                </a:solidFill>
                <a:latin typeface="微软雅黑"/>
                <a:ea typeface="微软雅黑"/>
              </a:rPr>
              <a:t>2010</a:t>
            </a:r>
            <a:r>
              <a:rPr b="0" lang="zh-CN" sz="1400" spc="-1" strike="noStrike">
                <a:solidFill>
                  <a:srgbClr val="fdfbe9"/>
                </a:solidFill>
                <a:latin typeface="微软雅黑"/>
                <a:ea typeface="微软雅黑"/>
              </a:rPr>
              <a:t>年，张杰发行专辑《这，就是爱》。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</p:txBody>
      </p:sp>
      <p:grpSp>
        <p:nvGrpSpPr>
          <p:cNvPr id="564" name="组合 34"/>
          <p:cNvGrpSpPr/>
          <p:nvPr/>
        </p:nvGrpSpPr>
        <p:grpSpPr>
          <a:xfrm>
            <a:off x="3581280" y="2398680"/>
            <a:ext cx="6256440" cy="646560"/>
            <a:chOff x="3581280" y="2398680"/>
            <a:chExt cx="6256440" cy="646560"/>
          </a:xfrm>
        </p:grpSpPr>
        <p:sp>
          <p:nvSpPr>
            <p:cNvPr id="565" name="文本框 24"/>
            <p:cNvSpPr/>
            <p:nvPr/>
          </p:nvSpPr>
          <p:spPr>
            <a:xfrm>
              <a:off x="3651120" y="2471760"/>
              <a:ext cx="6186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2014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年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11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月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24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日，张杰获全美音乐奖年度国际艺人奖。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年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月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16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日，荣获第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届华语榜中榜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-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内地最受欢迎男歌手、最具人气演唱会奖。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年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月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23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日，荣获酷音乐亚洲盛典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-</a:t>
              </a:r>
              <a:r>
                <a:rPr b="0" lang="zh-CN" sz="12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酷音乐亚洲盛典现场人气歌手、内地年度最佳歌手、年度最佳演唱会</a:t>
              </a:r>
              <a:endParaRPr b="0" lang="en-US" sz="12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566" name="矩形 31"/>
            <p:cNvSpPr/>
            <p:nvPr/>
          </p:nvSpPr>
          <p:spPr>
            <a:xfrm>
              <a:off x="3581280" y="2398680"/>
              <a:ext cx="64620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567" name="组合 18456"/>
          <p:cNvGrpSpPr/>
          <p:nvPr/>
        </p:nvGrpSpPr>
        <p:grpSpPr>
          <a:xfrm>
            <a:off x="2916360" y="237960"/>
            <a:ext cx="6315120" cy="1444680"/>
            <a:chOff x="2916360" y="237960"/>
            <a:chExt cx="6315120" cy="1444680"/>
          </a:xfrm>
        </p:grpSpPr>
        <p:grpSp>
          <p:nvGrpSpPr>
            <p:cNvPr id="568" name="组合 2"/>
            <p:cNvGrpSpPr/>
            <p:nvPr/>
          </p:nvGrpSpPr>
          <p:grpSpPr>
            <a:xfrm>
              <a:off x="2916360" y="237960"/>
              <a:ext cx="6315120" cy="1444680"/>
              <a:chOff x="2916360" y="237960"/>
              <a:chExt cx="6315120" cy="1444680"/>
            </a:xfrm>
          </p:grpSpPr>
          <p:pic>
            <p:nvPicPr>
              <p:cNvPr id="569" name="Group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16360" y="237960"/>
                <a:ext cx="6315120" cy="14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文本框 5"/>
              <p:cNvSpPr/>
              <p:nvPr/>
            </p:nvSpPr>
            <p:spPr>
              <a:xfrm>
                <a:off x="5254200" y="860760"/>
                <a:ext cx="164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c2710"/>
                    </a:solidFill>
                    <a:latin typeface="Calibri"/>
                    <a:ea typeface="宋体"/>
                  </a:rPr>
                  <a:t>内地年度最佳歌手</a:t>
                </a:r>
                <a:endParaRPr b="0" lang="en-US" sz="2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571" name="文本框 18460"/>
            <p:cNvSpPr/>
            <p:nvPr/>
          </p:nvSpPr>
          <p:spPr>
            <a:xfrm>
              <a:off x="4493880" y="618120"/>
              <a:ext cx="314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74f1f"/>
                  </a:solidFill>
                  <a:latin typeface="Brush Script MT"/>
                </a:rPr>
                <a:t>Mainland singer of the year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sp>
        <p:nvSpPr>
          <p:cNvPr id="572" name="下弧形箭头 18461"/>
          <p:cNvSpPr/>
          <p:nvPr/>
        </p:nvSpPr>
        <p:spPr>
          <a:xfrm rot="16260000">
            <a:off x="11558520" y="6316560"/>
            <a:ext cx="488880" cy="469800"/>
          </a:xfrm>
          <a:custGeom>
            <a:avLst/>
            <a:gdLst>
              <a:gd name="textAreaLeft" fmla="*/ 85320 w 488880"/>
              <a:gd name="textAreaRight" fmla="*/ 354600 w 488880"/>
              <a:gd name="textAreaTop" fmla="*/ 62640 h 469800"/>
              <a:gd name="textAreaBottom" fmla="*/ 40716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b8b00">
              <a:alpha val="57000"/>
            </a:srgbClr>
          </a:solidFill>
          <a:ln w="9360">
            <a:solidFill>
              <a:srgbClr val="574f1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0"/>
                            </p:stCondLst>
                            <p:childTnLst>
                              <p:par>
                                <p:cTn id="5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500"/>
                            </p:stCondLst>
                            <p:childTnLst>
                              <p:par>
                                <p:cTn id="5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500"/>
                            </p:stCondLst>
                            <p:childTnLst>
                              <p:par>
                                <p:cTn id="589" dur="indefinite" nodeType="after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8800"/>
                            </p:stCondLst>
                            <p:childTnLst>
                              <p:par>
                                <p:cTn id="595" dur="indefinite" nodeType="after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200"/>
                            </p:stCondLst>
                            <p:childTnLst>
                              <p:par>
                                <p:cTn id="59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19457"/>
          <p:cNvGrpSpPr/>
          <p:nvPr/>
        </p:nvGrpSpPr>
        <p:grpSpPr>
          <a:xfrm>
            <a:off x="843840" y="-419400"/>
            <a:ext cx="10778760" cy="6799320"/>
            <a:chOff x="843840" y="-419400"/>
            <a:chExt cx="10778760" cy="6799320"/>
          </a:xfrm>
        </p:grpSpPr>
        <p:pic>
          <p:nvPicPr>
            <p:cNvPr id="574" name="图片 925" descr=""/>
            <p:cNvPicPr/>
            <p:nvPr/>
          </p:nvPicPr>
          <p:blipFill>
            <a:blip r:embed="rId1"/>
            <a:srcRect l="0" t="0" r="0" b="3621"/>
            <a:stretch/>
          </p:blipFill>
          <p:spPr>
            <a:xfrm>
              <a:off x="7224840" y="2590560"/>
              <a:ext cx="3951000" cy="27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图片 924" descr=""/>
            <p:cNvPicPr/>
            <p:nvPr/>
          </p:nvPicPr>
          <p:blipFill>
            <a:blip r:embed="rId2"/>
            <a:srcRect l="0" t="0" r="20937" b="-458"/>
            <a:stretch/>
          </p:blipFill>
          <p:spPr>
            <a:xfrm flipH="1">
              <a:off x="6762600" y="3352320"/>
              <a:ext cx="2968560" cy="30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图片 1" descr=""/>
            <p:cNvPicPr/>
            <p:nvPr/>
          </p:nvPicPr>
          <p:blipFill>
            <a:blip r:embed="rId3"/>
            <a:stretch/>
          </p:blipFill>
          <p:spPr>
            <a:xfrm flipH="1" rot="20673000">
              <a:off x="1153800" y="258480"/>
              <a:ext cx="4054680" cy="28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组合 613" descr=""/>
            <p:cNvPicPr/>
            <p:nvPr/>
          </p:nvPicPr>
          <p:blipFill>
            <a:blip r:embed="rId4"/>
            <a:stretch/>
          </p:blipFill>
          <p:spPr>
            <a:xfrm>
              <a:off x="1596600" y="291600"/>
              <a:ext cx="4413240" cy="356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图片 917" descr=""/>
            <p:cNvPicPr/>
            <p:nvPr/>
          </p:nvPicPr>
          <p:blipFill>
            <a:blip r:embed="rId5"/>
            <a:srcRect l="0" t="0" r="0" b="-458"/>
            <a:stretch/>
          </p:blipFill>
          <p:spPr>
            <a:xfrm flipH="1" rot="19171200">
              <a:off x="1655280" y="2828520"/>
              <a:ext cx="3176280" cy="256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图片 922" descr=""/>
            <p:cNvPicPr/>
            <p:nvPr/>
          </p:nvPicPr>
          <p:blipFill>
            <a:blip r:embed="rId6"/>
            <a:srcRect l="-12815" t="0" r="0" b="0"/>
            <a:stretch/>
          </p:blipFill>
          <p:spPr>
            <a:xfrm flipH="1" rot="1625400">
              <a:off x="6917040" y="415440"/>
              <a:ext cx="4322520" cy="27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图片 944" descr=""/>
            <p:cNvPicPr/>
            <p:nvPr/>
          </p:nvPicPr>
          <p:blipFill>
            <a:blip r:embed="rId7"/>
            <a:srcRect l="0" t="0" r="0" b="-458"/>
            <a:stretch/>
          </p:blipFill>
          <p:spPr>
            <a:xfrm flipH="1" rot="21246600">
              <a:off x="8078400" y="2138040"/>
              <a:ext cx="2138040" cy="172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Freeform 1224"/>
          <p:cNvSpPr/>
          <p:nvPr/>
        </p:nvSpPr>
        <p:spPr>
          <a:xfrm>
            <a:off x="6381720" y="-123840"/>
            <a:ext cx="4865760" cy="3409920"/>
          </a:xfrm>
          <a:custGeom>
            <a:avLst/>
            <a:gdLst/>
            <a:ahLst/>
            <a:rect l="l" t="t" r="r" b="b"/>
            <a:pathLst>
              <a:path w="1162" h="815">
                <a:moveTo>
                  <a:pt x="1160" y="552"/>
                </a:moveTo>
                <a:cubicBezTo>
                  <a:pt x="1159" y="552"/>
                  <a:pt x="1159" y="552"/>
                  <a:pt x="1158" y="551"/>
                </a:cubicBezTo>
                <a:cubicBezTo>
                  <a:pt x="1161" y="547"/>
                  <a:pt x="1162" y="542"/>
                  <a:pt x="1160" y="537"/>
                </a:cubicBezTo>
                <a:cubicBezTo>
                  <a:pt x="1159" y="534"/>
                  <a:pt x="1156" y="532"/>
                  <a:pt x="1155" y="530"/>
                </a:cubicBezTo>
                <a:cubicBezTo>
                  <a:pt x="1153" y="527"/>
                  <a:pt x="1153" y="523"/>
                  <a:pt x="1151" y="521"/>
                </a:cubicBezTo>
                <a:cubicBezTo>
                  <a:pt x="1148" y="518"/>
                  <a:pt x="1144" y="517"/>
                  <a:pt x="1142" y="514"/>
                </a:cubicBezTo>
                <a:cubicBezTo>
                  <a:pt x="1139" y="512"/>
                  <a:pt x="1138" y="509"/>
                  <a:pt x="1134" y="507"/>
                </a:cubicBezTo>
                <a:cubicBezTo>
                  <a:pt x="1131" y="505"/>
                  <a:pt x="1127" y="503"/>
                  <a:pt x="1123" y="503"/>
                </a:cubicBezTo>
                <a:cubicBezTo>
                  <a:pt x="1127" y="498"/>
                  <a:pt x="1130" y="492"/>
                  <a:pt x="1132" y="486"/>
                </a:cubicBezTo>
                <a:cubicBezTo>
                  <a:pt x="1137" y="477"/>
                  <a:pt x="1140" y="466"/>
                  <a:pt x="1136" y="456"/>
                </a:cubicBezTo>
                <a:cubicBezTo>
                  <a:pt x="1135" y="452"/>
                  <a:pt x="1132" y="448"/>
                  <a:pt x="1128" y="446"/>
                </a:cubicBezTo>
                <a:cubicBezTo>
                  <a:pt x="1126" y="445"/>
                  <a:pt x="1122" y="445"/>
                  <a:pt x="1121" y="442"/>
                </a:cubicBezTo>
                <a:cubicBezTo>
                  <a:pt x="1121" y="439"/>
                  <a:pt x="1121" y="437"/>
                  <a:pt x="1120" y="434"/>
                </a:cubicBezTo>
                <a:cubicBezTo>
                  <a:pt x="1118" y="423"/>
                  <a:pt x="1109" y="413"/>
                  <a:pt x="1098" y="410"/>
                </a:cubicBezTo>
                <a:cubicBezTo>
                  <a:pt x="1086" y="406"/>
                  <a:pt x="1072" y="408"/>
                  <a:pt x="1060" y="410"/>
                </a:cubicBezTo>
                <a:cubicBezTo>
                  <a:pt x="1045" y="413"/>
                  <a:pt x="1030" y="417"/>
                  <a:pt x="1015" y="421"/>
                </a:cubicBezTo>
                <a:cubicBezTo>
                  <a:pt x="1006" y="423"/>
                  <a:pt x="996" y="426"/>
                  <a:pt x="987" y="429"/>
                </a:cubicBezTo>
                <a:cubicBezTo>
                  <a:pt x="988" y="428"/>
                  <a:pt x="989" y="425"/>
                  <a:pt x="989" y="423"/>
                </a:cubicBezTo>
                <a:cubicBezTo>
                  <a:pt x="992" y="419"/>
                  <a:pt x="995" y="414"/>
                  <a:pt x="998" y="410"/>
                </a:cubicBezTo>
                <a:cubicBezTo>
                  <a:pt x="1006" y="400"/>
                  <a:pt x="1016" y="393"/>
                  <a:pt x="1026" y="384"/>
                </a:cubicBezTo>
                <a:cubicBezTo>
                  <a:pt x="1041" y="371"/>
                  <a:pt x="1052" y="354"/>
                  <a:pt x="1050" y="332"/>
                </a:cubicBezTo>
                <a:cubicBezTo>
                  <a:pt x="1048" y="314"/>
                  <a:pt x="1035" y="295"/>
                  <a:pt x="1017" y="290"/>
                </a:cubicBezTo>
                <a:cubicBezTo>
                  <a:pt x="1007" y="288"/>
                  <a:pt x="998" y="287"/>
                  <a:pt x="988" y="289"/>
                </a:cubicBezTo>
                <a:cubicBezTo>
                  <a:pt x="987" y="289"/>
                  <a:pt x="984" y="289"/>
                  <a:pt x="982" y="290"/>
                </a:cubicBezTo>
                <a:cubicBezTo>
                  <a:pt x="988" y="286"/>
                  <a:pt x="993" y="280"/>
                  <a:pt x="997" y="275"/>
                </a:cubicBezTo>
                <a:cubicBezTo>
                  <a:pt x="1002" y="269"/>
                  <a:pt x="1006" y="261"/>
                  <a:pt x="1003" y="253"/>
                </a:cubicBezTo>
                <a:cubicBezTo>
                  <a:pt x="1003" y="252"/>
                  <a:pt x="1002" y="252"/>
                  <a:pt x="1001" y="252"/>
                </a:cubicBezTo>
                <a:cubicBezTo>
                  <a:pt x="1000" y="252"/>
                  <a:pt x="998" y="252"/>
                  <a:pt x="997" y="253"/>
                </a:cubicBezTo>
                <a:cubicBezTo>
                  <a:pt x="994" y="253"/>
                  <a:pt x="994" y="252"/>
                  <a:pt x="995" y="249"/>
                </a:cubicBezTo>
                <a:cubicBezTo>
                  <a:pt x="996" y="248"/>
                  <a:pt x="994" y="246"/>
                  <a:pt x="993" y="246"/>
                </a:cubicBezTo>
                <a:cubicBezTo>
                  <a:pt x="994" y="243"/>
                  <a:pt x="993" y="240"/>
                  <a:pt x="991" y="238"/>
                </a:cubicBezTo>
                <a:cubicBezTo>
                  <a:pt x="988" y="234"/>
                  <a:pt x="984" y="233"/>
                  <a:pt x="980" y="232"/>
                </a:cubicBezTo>
                <a:cubicBezTo>
                  <a:pt x="975" y="231"/>
                  <a:pt x="972" y="225"/>
                  <a:pt x="966" y="225"/>
                </a:cubicBezTo>
                <a:cubicBezTo>
                  <a:pt x="961" y="224"/>
                  <a:pt x="955" y="224"/>
                  <a:pt x="949" y="225"/>
                </a:cubicBezTo>
                <a:cubicBezTo>
                  <a:pt x="934" y="227"/>
                  <a:pt x="920" y="232"/>
                  <a:pt x="905" y="234"/>
                </a:cubicBezTo>
                <a:cubicBezTo>
                  <a:pt x="898" y="235"/>
                  <a:pt x="891" y="235"/>
                  <a:pt x="884" y="237"/>
                </a:cubicBezTo>
                <a:cubicBezTo>
                  <a:pt x="879" y="238"/>
                  <a:pt x="874" y="240"/>
                  <a:pt x="870" y="242"/>
                </a:cubicBezTo>
                <a:cubicBezTo>
                  <a:pt x="870" y="241"/>
                  <a:pt x="871" y="240"/>
                  <a:pt x="872" y="239"/>
                </a:cubicBezTo>
                <a:cubicBezTo>
                  <a:pt x="874" y="236"/>
                  <a:pt x="875" y="234"/>
                  <a:pt x="877" y="232"/>
                </a:cubicBezTo>
                <a:cubicBezTo>
                  <a:pt x="894" y="206"/>
                  <a:pt x="903" y="178"/>
                  <a:pt x="899" y="148"/>
                </a:cubicBezTo>
                <a:cubicBezTo>
                  <a:pt x="895" y="121"/>
                  <a:pt x="885" y="86"/>
                  <a:pt x="857" y="76"/>
                </a:cubicBezTo>
                <a:cubicBezTo>
                  <a:pt x="851" y="73"/>
                  <a:pt x="844" y="69"/>
                  <a:pt x="838" y="70"/>
                </a:cubicBezTo>
                <a:cubicBezTo>
                  <a:pt x="833" y="70"/>
                  <a:pt x="827" y="73"/>
                  <a:pt x="824" y="77"/>
                </a:cubicBezTo>
                <a:cubicBezTo>
                  <a:pt x="822" y="78"/>
                  <a:pt x="819" y="81"/>
                  <a:pt x="816" y="82"/>
                </a:cubicBezTo>
                <a:cubicBezTo>
                  <a:pt x="813" y="82"/>
                  <a:pt x="810" y="81"/>
                  <a:pt x="806" y="80"/>
                </a:cubicBezTo>
                <a:cubicBezTo>
                  <a:pt x="800" y="79"/>
                  <a:pt x="794" y="79"/>
                  <a:pt x="788" y="82"/>
                </a:cubicBezTo>
                <a:cubicBezTo>
                  <a:pt x="775" y="87"/>
                  <a:pt x="763" y="95"/>
                  <a:pt x="752" y="105"/>
                </a:cubicBezTo>
                <a:cubicBezTo>
                  <a:pt x="747" y="110"/>
                  <a:pt x="743" y="116"/>
                  <a:pt x="738" y="121"/>
                </a:cubicBezTo>
                <a:cubicBezTo>
                  <a:pt x="736" y="124"/>
                  <a:pt x="733" y="127"/>
                  <a:pt x="733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29" y="130"/>
                  <a:pt x="729" y="126"/>
                  <a:pt x="727" y="125"/>
                </a:cubicBezTo>
                <a:cubicBezTo>
                  <a:pt x="724" y="123"/>
                  <a:pt x="722" y="123"/>
                  <a:pt x="719" y="123"/>
                </a:cubicBezTo>
                <a:cubicBezTo>
                  <a:pt x="712" y="122"/>
                  <a:pt x="704" y="122"/>
                  <a:pt x="697" y="123"/>
                </a:cubicBezTo>
                <a:cubicBezTo>
                  <a:pt x="689" y="124"/>
                  <a:pt x="681" y="125"/>
                  <a:pt x="673" y="126"/>
                </a:cubicBezTo>
                <a:cubicBezTo>
                  <a:pt x="670" y="127"/>
                  <a:pt x="668" y="127"/>
                  <a:pt x="665" y="128"/>
                </a:cubicBezTo>
                <a:cubicBezTo>
                  <a:pt x="662" y="127"/>
                  <a:pt x="658" y="124"/>
                  <a:pt x="655" y="122"/>
                </a:cubicBezTo>
                <a:cubicBezTo>
                  <a:pt x="652" y="121"/>
                  <a:pt x="648" y="119"/>
                  <a:pt x="645" y="117"/>
                </a:cubicBezTo>
                <a:cubicBezTo>
                  <a:pt x="638" y="114"/>
                  <a:pt x="630" y="111"/>
                  <a:pt x="623" y="109"/>
                </a:cubicBezTo>
                <a:cubicBezTo>
                  <a:pt x="610" y="106"/>
                  <a:pt x="595" y="105"/>
                  <a:pt x="581" y="106"/>
                </a:cubicBezTo>
                <a:cubicBezTo>
                  <a:pt x="567" y="107"/>
                  <a:pt x="554" y="112"/>
                  <a:pt x="543" y="121"/>
                </a:cubicBezTo>
                <a:cubicBezTo>
                  <a:pt x="540" y="124"/>
                  <a:pt x="535" y="128"/>
                  <a:pt x="533" y="132"/>
                </a:cubicBezTo>
                <a:cubicBezTo>
                  <a:pt x="533" y="132"/>
                  <a:pt x="533" y="132"/>
                  <a:pt x="533" y="132"/>
                </a:cubicBezTo>
                <a:cubicBezTo>
                  <a:pt x="530" y="131"/>
                  <a:pt x="528" y="131"/>
                  <a:pt x="525" y="130"/>
                </a:cubicBezTo>
                <a:cubicBezTo>
                  <a:pt x="520" y="116"/>
                  <a:pt x="514" y="101"/>
                  <a:pt x="505" y="89"/>
                </a:cubicBezTo>
                <a:cubicBezTo>
                  <a:pt x="499" y="81"/>
                  <a:pt x="488" y="68"/>
                  <a:pt x="477" y="74"/>
                </a:cubicBezTo>
                <a:cubicBezTo>
                  <a:pt x="474" y="75"/>
                  <a:pt x="472" y="78"/>
                  <a:pt x="469" y="79"/>
                </a:cubicBezTo>
                <a:cubicBezTo>
                  <a:pt x="465" y="81"/>
                  <a:pt x="463" y="78"/>
                  <a:pt x="460" y="76"/>
                </a:cubicBezTo>
                <a:cubicBezTo>
                  <a:pt x="457" y="74"/>
                  <a:pt x="454" y="74"/>
                  <a:pt x="451" y="77"/>
                </a:cubicBezTo>
                <a:cubicBezTo>
                  <a:pt x="450" y="79"/>
                  <a:pt x="449" y="76"/>
                  <a:pt x="447" y="75"/>
                </a:cubicBezTo>
                <a:cubicBezTo>
                  <a:pt x="445" y="73"/>
                  <a:pt x="443" y="72"/>
                  <a:pt x="440" y="71"/>
                </a:cubicBezTo>
                <a:cubicBezTo>
                  <a:pt x="436" y="69"/>
                  <a:pt x="433" y="69"/>
                  <a:pt x="429" y="72"/>
                </a:cubicBezTo>
                <a:cubicBezTo>
                  <a:pt x="424" y="75"/>
                  <a:pt x="419" y="82"/>
                  <a:pt x="415" y="87"/>
                </a:cubicBezTo>
                <a:cubicBezTo>
                  <a:pt x="410" y="92"/>
                  <a:pt x="407" y="99"/>
                  <a:pt x="402" y="105"/>
                </a:cubicBezTo>
                <a:cubicBezTo>
                  <a:pt x="397" y="112"/>
                  <a:pt x="390" y="118"/>
                  <a:pt x="386" y="126"/>
                </a:cubicBezTo>
                <a:cubicBezTo>
                  <a:pt x="383" y="133"/>
                  <a:pt x="381" y="139"/>
                  <a:pt x="380" y="147"/>
                </a:cubicBezTo>
                <a:cubicBezTo>
                  <a:pt x="377" y="162"/>
                  <a:pt x="373" y="177"/>
                  <a:pt x="371" y="192"/>
                </a:cubicBezTo>
                <a:cubicBezTo>
                  <a:pt x="369" y="183"/>
                  <a:pt x="366" y="173"/>
                  <a:pt x="362" y="164"/>
                </a:cubicBezTo>
                <a:cubicBezTo>
                  <a:pt x="357" y="153"/>
                  <a:pt x="351" y="143"/>
                  <a:pt x="344" y="133"/>
                </a:cubicBezTo>
                <a:cubicBezTo>
                  <a:pt x="342" y="129"/>
                  <a:pt x="341" y="125"/>
                  <a:pt x="338" y="122"/>
                </a:cubicBezTo>
                <a:cubicBezTo>
                  <a:pt x="337" y="121"/>
                  <a:pt x="333" y="120"/>
                  <a:pt x="333" y="119"/>
                </a:cubicBezTo>
                <a:cubicBezTo>
                  <a:pt x="332" y="118"/>
                  <a:pt x="331" y="117"/>
                  <a:pt x="330" y="116"/>
                </a:cubicBezTo>
                <a:cubicBezTo>
                  <a:pt x="329" y="114"/>
                  <a:pt x="328" y="113"/>
                  <a:pt x="327" y="111"/>
                </a:cubicBezTo>
                <a:cubicBezTo>
                  <a:pt x="325" y="109"/>
                  <a:pt x="322" y="106"/>
                  <a:pt x="319" y="104"/>
                </a:cubicBezTo>
                <a:cubicBezTo>
                  <a:pt x="319" y="103"/>
                  <a:pt x="319" y="103"/>
                  <a:pt x="319" y="103"/>
                </a:cubicBezTo>
                <a:cubicBezTo>
                  <a:pt x="314" y="98"/>
                  <a:pt x="313" y="88"/>
                  <a:pt x="310" y="82"/>
                </a:cubicBezTo>
                <a:cubicBezTo>
                  <a:pt x="307" y="74"/>
                  <a:pt x="304" y="67"/>
                  <a:pt x="300" y="60"/>
                </a:cubicBezTo>
                <a:cubicBezTo>
                  <a:pt x="296" y="53"/>
                  <a:pt x="291" y="46"/>
                  <a:pt x="286" y="40"/>
                </a:cubicBezTo>
                <a:cubicBezTo>
                  <a:pt x="280" y="33"/>
                  <a:pt x="274" y="26"/>
                  <a:pt x="267" y="20"/>
                </a:cubicBezTo>
                <a:cubicBezTo>
                  <a:pt x="261" y="15"/>
                  <a:pt x="254" y="10"/>
                  <a:pt x="246" y="6"/>
                </a:cubicBezTo>
                <a:cubicBezTo>
                  <a:pt x="244" y="5"/>
                  <a:pt x="238" y="2"/>
                  <a:pt x="236" y="4"/>
                </a:cubicBezTo>
                <a:cubicBezTo>
                  <a:pt x="229" y="0"/>
                  <a:pt x="223" y="18"/>
                  <a:pt x="222" y="23"/>
                </a:cubicBezTo>
                <a:cubicBezTo>
                  <a:pt x="217" y="41"/>
                  <a:pt x="218" y="59"/>
                  <a:pt x="222" y="77"/>
                </a:cubicBezTo>
                <a:cubicBezTo>
                  <a:pt x="227" y="99"/>
                  <a:pt x="234" y="120"/>
                  <a:pt x="245" y="140"/>
                </a:cubicBezTo>
                <a:cubicBezTo>
                  <a:pt x="251" y="150"/>
                  <a:pt x="259" y="158"/>
                  <a:pt x="267" y="167"/>
                </a:cubicBezTo>
                <a:cubicBezTo>
                  <a:pt x="271" y="172"/>
                  <a:pt x="276" y="177"/>
                  <a:pt x="281" y="182"/>
                </a:cubicBezTo>
                <a:cubicBezTo>
                  <a:pt x="269" y="179"/>
                  <a:pt x="256" y="178"/>
                  <a:pt x="244" y="180"/>
                </a:cubicBezTo>
                <a:cubicBezTo>
                  <a:pt x="244" y="176"/>
                  <a:pt x="243" y="172"/>
                  <a:pt x="243" y="168"/>
                </a:cubicBezTo>
                <a:cubicBezTo>
                  <a:pt x="242" y="163"/>
                  <a:pt x="242" y="159"/>
                  <a:pt x="241" y="154"/>
                </a:cubicBezTo>
                <a:cubicBezTo>
                  <a:pt x="239" y="146"/>
                  <a:pt x="237" y="138"/>
                  <a:pt x="233" y="130"/>
                </a:cubicBezTo>
                <a:cubicBezTo>
                  <a:pt x="229" y="122"/>
                  <a:pt x="222" y="115"/>
                  <a:pt x="217" y="107"/>
                </a:cubicBezTo>
                <a:cubicBezTo>
                  <a:pt x="213" y="99"/>
                  <a:pt x="210" y="90"/>
                  <a:pt x="204" y="84"/>
                </a:cubicBezTo>
                <a:cubicBezTo>
                  <a:pt x="199" y="80"/>
                  <a:pt x="196" y="76"/>
                  <a:pt x="193" y="71"/>
                </a:cubicBezTo>
                <a:cubicBezTo>
                  <a:pt x="191" y="68"/>
                  <a:pt x="189" y="65"/>
                  <a:pt x="186" y="63"/>
                </a:cubicBezTo>
                <a:cubicBezTo>
                  <a:pt x="183" y="59"/>
                  <a:pt x="179" y="56"/>
                  <a:pt x="176" y="52"/>
                </a:cubicBezTo>
                <a:cubicBezTo>
                  <a:pt x="170" y="47"/>
                  <a:pt x="162" y="42"/>
                  <a:pt x="156" y="49"/>
                </a:cubicBezTo>
                <a:cubicBezTo>
                  <a:pt x="156" y="49"/>
                  <a:pt x="156" y="49"/>
                  <a:pt x="156" y="49"/>
                </a:cubicBezTo>
                <a:cubicBezTo>
                  <a:pt x="153" y="45"/>
                  <a:pt x="149" y="42"/>
                  <a:pt x="145" y="42"/>
                </a:cubicBezTo>
                <a:cubicBezTo>
                  <a:pt x="138" y="42"/>
                  <a:pt x="131" y="41"/>
                  <a:pt x="126" y="45"/>
                </a:cubicBezTo>
                <a:cubicBezTo>
                  <a:pt x="119" y="50"/>
                  <a:pt x="114" y="58"/>
                  <a:pt x="108" y="65"/>
                </a:cubicBezTo>
                <a:cubicBezTo>
                  <a:pt x="103" y="72"/>
                  <a:pt x="98" y="79"/>
                  <a:pt x="94" y="87"/>
                </a:cubicBezTo>
                <a:cubicBezTo>
                  <a:pt x="87" y="103"/>
                  <a:pt x="77" y="119"/>
                  <a:pt x="74" y="137"/>
                </a:cubicBezTo>
                <a:cubicBezTo>
                  <a:pt x="72" y="145"/>
                  <a:pt x="71" y="154"/>
                  <a:pt x="71" y="163"/>
                </a:cubicBezTo>
                <a:cubicBezTo>
                  <a:pt x="71" y="168"/>
                  <a:pt x="71" y="172"/>
                  <a:pt x="72" y="177"/>
                </a:cubicBezTo>
                <a:cubicBezTo>
                  <a:pt x="72" y="178"/>
                  <a:pt x="72" y="179"/>
                  <a:pt x="72" y="181"/>
                </a:cubicBezTo>
                <a:cubicBezTo>
                  <a:pt x="69" y="178"/>
                  <a:pt x="65" y="177"/>
                  <a:pt x="63" y="173"/>
                </a:cubicBezTo>
                <a:cubicBezTo>
                  <a:pt x="58" y="164"/>
                  <a:pt x="47" y="163"/>
                  <a:pt x="38" y="160"/>
                </a:cubicBezTo>
                <a:cubicBezTo>
                  <a:pt x="35" y="159"/>
                  <a:pt x="32" y="159"/>
                  <a:pt x="30" y="158"/>
                </a:cubicBezTo>
                <a:cubicBezTo>
                  <a:pt x="26" y="152"/>
                  <a:pt x="23" y="145"/>
                  <a:pt x="19" y="139"/>
                </a:cubicBezTo>
                <a:cubicBezTo>
                  <a:pt x="13" y="133"/>
                  <a:pt x="6" y="127"/>
                  <a:pt x="0" y="122"/>
                </a:cubicBezTo>
                <a:cubicBezTo>
                  <a:pt x="0" y="126"/>
                  <a:pt x="0" y="126"/>
                  <a:pt x="0" y="126"/>
                </a:cubicBezTo>
                <a:cubicBezTo>
                  <a:pt x="1" y="127"/>
                  <a:pt x="2" y="128"/>
                  <a:pt x="3" y="129"/>
                </a:cubicBezTo>
                <a:cubicBezTo>
                  <a:pt x="9" y="134"/>
                  <a:pt x="15" y="139"/>
                  <a:pt x="19" y="145"/>
                </a:cubicBezTo>
                <a:cubicBezTo>
                  <a:pt x="22" y="149"/>
                  <a:pt x="24" y="154"/>
                  <a:pt x="27" y="158"/>
                </a:cubicBezTo>
                <a:cubicBezTo>
                  <a:pt x="20" y="157"/>
                  <a:pt x="13" y="158"/>
                  <a:pt x="5" y="160"/>
                </a:cubicBezTo>
                <a:cubicBezTo>
                  <a:pt x="4" y="160"/>
                  <a:pt x="2" y="161"/>
                  <a:pt x="0" y="162"/>
                </a:cubicBezTo>
                <a:cubicBezTo>
                  <a:pt x="1" y="160"/>
                  <a:pt x="0" y="159"/>
                  <a:pt x="0" y="157"/>
                </a:cubicBezTo>
                <a:cubicBezTo>
                  <a:pt x="0" y="166"/>
                  <a:pt x="0" y="166"/>
                  <a:pt x="0" y="166"/>
                </a:cubicBezTo>
                <a:cubicBezTo>
                  <a:pt x="5" y="163"/>
                  <a:pt x="10" y="162"/>
                  <a:pt x="15" y="162"/>
                </a:cubicBezTo>
                <a:cubicBezTo>
                  <a:pt x="27" y="159"/>
                  <a:pt x="38" y="163"/>
                  <a:pt x="49" y="167"/>
                </a:cubicBezTo>
                <a:cubicBezTo>
                  <a:pt x="52" y="168"/>
                  <a:pt x="57" y="169"/>
                  <a:pt x="59" y="173"/>
                </a:cubicBezTo>
                <a:cubicBezTo>
                  <a:pt x="60" y="174"/>
                  <a:pt x="61" y="176"/>
                  <a:pt x="62" y="178"/>
                </a:cubicBezTo>
                <a:cubicBezTo>
                  <a:pt x="65" y="182"/>
                  <a:pt x="70" y="183"/>
                  <a:pt x="73" y="188"/>
                </a:cubicBezTo>
                <a:cubicBezTo>
                  <a:pt x="79" y="197"/>
                  <a:pt x="80" y="209"/>
                  <a:pt x="81" y="220"/>
                </a:cubicBezTo>
                <a:cubicBezTo>
                  <a:pt x="81" y="231"/>
                  <a:pt x="82" y="242"/>
                  <a:pt x="84" y="253"/>
                </a:cubicBezTo>
                <a:cubicBezTo>
                  <a:pt x="86" y="264"/>
                  <a:pt x="87" y="275"/>
                  <a:pt x="90" y="285"/>
                </a:cubicBezTo>
                <a:cubicBezTo>
                  <a:pt x="97" y="304"/>
                  <a:pt x="108" y="320"/>
                  <a:pt x="114" y="338"/>
                </a:cubicBezTo>
                <a:cubicBezTo>
                  <a:pt x="114" y="339"/>
                  <a:pt x="114" y="339"/>
                  <a:pt x="115" y="339"/>
                </a:cubicBezTo>
                <a:cubicBezTo>
                  <a:pt x="115" y="339"/>
                  <a:pt x="115" y="340"/>
                  <a:pt x="115" y="340"/>
                </a:cubicBezTo>
                <a:cubicBezTo>
                  <a:pt x="114" y="343"/>
                  <a:pt x="115" y="346"/>
                  <a:pt x="118" y="348"/>
                </a:cubicBezTo>
                <a:cubicBezTo>
                  <a:pt x="122" y="353"/>
                  <a:pt x="124" y="359"/>
                  <a:pt x="127" y="365"/>
                </a:cubicBezTo>
                <a:cubicBezTo>
                  <a:pt x="128" y="366"/>
                  <a:pt x="131" y="374"/>
                  <a:pt x="129" y="374"/>
                </a:cubicBezTo>
                <a:cubicBezTo>
                  <a:pt x="128" y="374"/>
                  <a:pt x="126" y="374"/>
                  <a:pt x="125" y="374"/>
                </a:cubicBezTo>
                <a:cubicBezTo>
                  <a:pt x="124" y="376"/>
                  <a:pt x="123" y="377"/>
                  <a:pt x="124" y="378"/>
                </a:cubicBezTo>
                <a:cubicBezTo>
                  <a:pt x="118" y="374"/>
                  <a:pt x="115" y="366"/>
                  <a:pt x="109" y="361"/>
                </a:cubicBezTo>
                <a:cubicBezTo>
                  <a:pt x="108" y="360"/>
                  <a:pt x="106" y="360"/>
                  <a:pt x="106" y="362"/>
                </a:cubicBezTo>
                <a:cubicBezTo>
                  <a:pt x="105" y="367"/>
                  <a:pt x="108" y="371"/>
                  <a:pt x="110" y="375"/>
                </a:cubicBezTo>
                <a:cubicBezTo>
                  <a:pt x="110" y="375"/>
                  <a:pt x="114" y="383"/>
                  <a:pt x="112" y="382"/>
                </a:cubicBezTo>
                <a:cubicBezTo>
                  <a:pt x="110" y="382"/>
                  <a:pt x="107" y="380"/>
                  <a:pt x="105" y="379"/>
                </a:cubicBezTo>
                <a:cubicBezTo>
                  <a:pt x="102" y="378"/>
                  <a:pt x="98" y="378"/>
                  <a:pt x="97" y="381"/>
                </a:cubicBezTo>
                <a:cubicBezTo>
                  <a:pt x="96" y="382"/>
                  <a:pt x="96" y="382"/>
                  <a:pt x="96" y="382"/>
                </a:cubicBezTo>
                <a:cubicBezTo>
                  <a:pt x="90" y="377"/>
                  <a:pt x="82" y="372"/>
                  <a:pt x="75" y="368"/>
                </a:cubicBezTo>
                <a:cubicBezTo>
                  <a:pt x="66" y="363"/>
                  <a:pt x="57" y="357"/>
                  <a:pt x="47" y="352"/>
                </a:cubicBezTo>
                <a:cubicBezTo>
                  <a:pt x="38" y="348"/>
                  <a:pt x="29" y="342"/>
                  <a:pt x="20" y="337"/>
                </a:cubicBezTo>
                <a:cubicBezTo>
                  <a:pt x="13" y="333"/>
                  <a:pt x="7" y="329"/>
                  <a:pt x="0" y="326"/>
                </a:cubicBezTo>
                <a:cubicBezTo>
                  <a:pt x="0" y="330"/>
                  <a:pt x="0" y="330"/>
                  <a:pt x="0" y="330"/>
                </a:cubicBezTo>
                <a:cubicBezTo>
                  <a:pt x="7" y="333"/>
                  <a:pt x="13" y="337"/>
                  <a:pt x="20" y="341"/>
                </a:cubicBezTo>
                <a:cubicBezTo>
                  <a:pt x="29" y="346"/>
                  <a:pt x="38" y="351"/>
                  <a:pt x="47" y="356"/>
                </a:cubicBezTo>
                <a:cubicBezTo>
                  <a:pt x="52" y="359"/>
                  <a:pt x="56" y="361"/>
                  <a:pt x="61" y="363"/>
                </a:cubicBezTo>
                <a:cubicBezTo>
                  <a:pt x="60" y="363"/>
                  <a:pt x="59" y="363"/>
                  <a:pt x="58" y="363"/>
                </a:cubicBezTo>
                <a:cubicBezTo>
                  <a:pt x="56" y="362"/>
                  <a:pt x="54" y="360"/>
                  <a:pt x="51" y="359"/>
                </a:cubicBezTo>
                <a:cubicBezTo>
                  <a:pt x="51" y="359"/>
                  <a:pt x="50" y="359"/>
                  <a:pt x="50" y="359"/>
                </a:cubicBezTo>
                <a:cubicBezTo>
                  <a:pt x="48" y="357"/>
                  <a:pt x="45" y="356"/>
                  <a:pt x="43" y="356"/>
                </a:cubicBezTo>
                <a:cubicBezTo>
                  <a:pt x="32" y="352"/>
                  <a:pt x="20" y="349"/>
                  <a:pt x="9" y="348"/>
                </a:cubicBezTo>
                <a:cubicBezTo>
                  <a:pt x="6" y="348"/>
                  <a:pt x="3" y="348"/>
                  <a:pt x="0" y="347"/>
                </a:cubicBezTo>
                <a:cubicBezTo>
                  <a:pt x="0" y="350"/>
                  <a:pt x="0" y="350"/>
                  <a:pt x="0" y="350"/>
                </a:cubicBezTo>
                <a:cubicBezTo>
                  <a:pt x="12" y="352"/>
                  <a:pt x="25" y="353"/>
                  <a:pt x="37" y="356"/>
                </a:cubicBezTo>
                <a:cubicBezTo>
                  <a:pt x="41" y="357"/>
                  <a:pt x="45" y="359"/>
                  <a:pt x="48" y="360"/>
                </a:cubicBezTo>
                <a:cubicBezTo>
                  <a:pt x="48" y="360"/>
                  <a:pt x="48" y="361"/>
                  <a:pt x="48" y="361"/>
                </a:cubicBezTo>
                <a:cubicBezTo>
                  <a:pt x="51" y="366"/>
                  <a:pt x="54" y="370"/>
                  <a:pt x="56" y="374"/>
                </a:cubicBezTo>
                <a:cubicBezTo>
                  <a:pt x="59" y="380"/>
                  <a:pt x="61" y="386"/>
                  <a:pt x="64" y="392"/>
                </a:cubicBezTo>
                <a:cubicBezTo>
                  <a:pt x="70" y="403"/>
                  <a:pt x="78" y="412"/>
                  <a:pt x="87" y="421"/>
                </a:cubicBezTo>
                <a:cubicBezTo>
                  <a:pt x="91" y="425"/>
                  <a:pt x="96" y="428"/>
                  <a:pt x="101" y="432"/>
                </a:cubicBezTo>
                <a:cubicBezTo>
                  <a:pt x="107" y="436"/>
                  <a:pt x="111" y="442"/>
                  <a:pt x="115" y="448"/>
                </a:cubicBezTo>
                <a:cubicBezTo>
                  <a:pt x="122" y="460"/>
                  <a:pt x="126" y="473"/>
                  <a:pt x="131" y="485"/>
                </a:cubicBezTo>
                <a:cubicBezTo>
                  <a:pt x="131" y="485"/>
                  <a:pt x="131" y="486"/>
                  <a:pt x="131" y="486"/>
                </a:cubicBezTo>
                <a:cubicBezTo>
                  <a:pt x="130" y="489"/>
                  <a:pt x="131" y="492"/>
                  <a:pt x="132" y="495"/>
                </a:cubicBezTo>
                <a:cubicBezTo>
                  <a:pt x="134" y="499"/>
                  <a:pt x="135" y="503"/>
                  <a:pt x="135" y="507"/>
                </a:cubicBezTo>
                <a:cubicBezTo>
                  <a:pt x="136" y="515"/>
                  <a:pt x="137" y="524"/>
                  <a:pt x="142" y="531"/>
                </a:cubicBezTo>
                <a:cubicBezTo>
                  <a:pt x="146" y="535"/>
                  <a:pt x="151" y="538"/>
                  <a:pt x="154" y="542"/>
                </a:cubicBezTo>
                <a:cubicBezTo>
                  <a:pt x="158" y="545"/>
                  <a:pt x="162" y="549"/>
                  <a:pt x="166" y="553"/>
                </a:cubicBezTo>
                <a:cubicBezTo>
                  <a:pt x="175" y="561"/>
                  <a:pt x="184" y="569"/>
                  <a:pt x="194" y="575"/>
                </a:cubicBezTo>
                <a:cubicBezTo>
                  <a:pt x="204" y="582"/>
                  <a:pt x="213" y="588"/>
                  <a:pt x="224" y="594"/>
                </a:cubicBezTo>
                <a:cubicBezTo>
                  <a:pt x="228" y="596"/>
                  <a:pt x="232" y="598"/>
                  <a:pt x="237" y="599"/>
                </a:cubicBezTo>
                <a:cubicBezTo>
                  <a:pt x="243" y="600"/>
                  <a:pt x="248" y="602"/>
                  <a:pt x="253" y="606"/>
                </a:cubicBezTo>
                <a:cubicBezTo>
                  <a:pt x="257" y="609"/>
                  <a:pt x="261" y="612"/>
                  <a:pt x="265" y="615"/>
                </a:cubicBezTo>
                <a:cubicBezTo>
                  <a:pt x="270" y="618"/>
                  <a:pt x="272" y="621"/>
                  <a:pt x="275" y="626"/>
                </a:cubicBezTo>
                <a:cubicBezTo>
                  <a:pt x="270" y="632"/>
                  <a:pt x="277" y="639"/>
                  <a:pt x="281" y="643"/>
                </a:cubicBezTo>
                <a:cubicBezTo>
                  <a:pt x="291" y="651"/>
                  <a:pt x="296" y="663"/>
                  <a:pt x="303" y="673"/>
                </a:cubicBezTo>
                <a:cubicBezTo>
                  <a:pt x="312" y="684"/>
                  <a:pt x="322" y="694"/>
                  <a:pt x="329" y="706"/>
                </a:cubicBezTo>
                <a:cubicBezTo>
                  <a:pt x="334" y="716"/>
                  <a:pt x="340" y="726"/>
                  <a:pt x="345" y="736"/>
                </a:cubicBezTo>
                <a:cubicBezTo>
                  <a:pt x="348" y="741"/>
                  <a:pt x="351" y="747"/>
                  <a:pt x="353" y="753"/>
                </a:cubicBezTo>
                <a:cubicBezTo>
                  <a:pt x="354" y="758"/>
                  <a:pt x="352" y="762"/>
                  <a:pt x="352" y="766"/>
                </a:cubicBezTo>
                <a:cubicBezTo>
                  <a:pt x="352" y="768"/>
                  <a:pt x="353" y="770"/>
                  <a:pt x="353" y="771"/>
                </a:cubicBezTo>
                <a:cubicBezTo>
                  <a:pt x="353" y="771"/>
                  <a:pt x="353" y="772"/>
                  <a:pt x="353" y="772"/>
                </a:cubicBezTo>
                <a:cubicBezTo>
                  <a:pt x="352" y="777"/>
                  <a:pt x="353" y="783"/>
                  <a:pt x="353" y="789"/>
                </a:cubicBezTo>
                <a:cubicBezTo>
                  <a:pt x="354" y="795"/>
                  <a:pt x="354" y="800"/>
                  <a:pt x="354" y="806"/>
                </a:cubicBezTo>
                <a:cubicBezTo>
                  <a:pt x="353" y="809"/>
                  <a:pt x="353" y="812"/>
                  <a:pt x="352" y="815"/>
                </a:cubicBezTo>
                <a:cubicBezTo>
                  <a:pt x="356" y="815"/>
                  <a:pt x="356" y="815"/>
                  <a:pt x="356" y="815"/>
                </a:cubicBezTo>
                <a:cubicBezTo>
                  <a:pt x="357" y="810"/>
                  <a:pt x="357" y="805"/>
                  <a:pt x="357" y="800"/>
                </a:cubicBezTo>
                <a:cubicBezTo>
                  <a:pt x="357" y="791"/>
                  <a:pt x="357" y="782"/>
                  <a:pt x="356" y="774"/>
                </a:cubicBezTo>
                <a:cubicBezTo>
                  <a:pt x="358" y="775"/>
                  <a:pt x="362" y="775"/>
                  <a:pt x="366" y="773"/>
                </a:cubicBezTo>
                <a:cubicBezTo>
                  <a:pt x="373" y="770"/>
                  <a:pt x="385" y="768"/>
                  <a:pt x="389" y="760"/>
                </a:cubicBezTo>
                <a:cubicBezTo>
                  <a:pt x="393" y="752"/>
                  <a:pt x="394" y="744"/>
                  <a:pt x="392" y="735"/>
                </a:cubicBezTo>
                <a:cubicBezTo>
                  <a:pt x="392" y="735"/>
                  <a:pt x="393" y="735"/>
                  <a:pt x="393" y="735"/>
                </a:cubicBezTo>
                <a:cubicBezTo>
                  <a:pt x="393" y="735"/>
                  <a:pt x="394" y="734"/>
                  <a:pt x="393" y="734"/>
                </a:cubicBezTo>
                <a:cubicBezTo>
                  <a:pt x="392" y="731"/>
                  <a:pt x="391" y="729"/>
                  <a:pt x="390" y="726"/>
                </a:cubicBezTo>
                <a:cubicBezTo>
                  <a:pt x="391" y="727"/>
                  <a:pt x="393" y="728"/>
                  <a:pt x="394" y="729"/>
                </a:cubicBezTo>
                <a:cubicBezTo>
                  <a:pt x="397" y="730"/>
                  <a:pt x="399" y="731"/>
                  <a:pt x="402" y="732"/>
                </a:cubicBezTo>
                <a:cubicBezTo>
                  <a:pt x="398" y="732"/>
                  <a:pt x="396" y="739"/>
                  <a:pt x="397" y="743"/>
                </a:cubicBezTo>
                <a:cubicBezTo>
                  <a:pt x="397" y="743"/>
                  <a:pt x="398" y="743"/>
                  <a:pt x="398" y="743"/>
                </a:cubicBezTo>
                <a:cubicBezTo>
                  <a:pt x="399" y="740"/>
                  <a:pt x="400" y="732"/>
                  <a:pt x="404" y="733"/>
                </a:cubicBezTo>
                <a:cubicBezTo>
                  <a:pt x="405" y="733"/>
                  <a:pt x="405" y="732"/>
                  <a:pt x="405" y="732"/>
                </a:cubicBezTo>
                <a:cubicBezTo>
                  <a:pt x="411" y="732"/>
                  <a:pt x="417" y="731"/>
                  <a:pt x="421" y="726"/>
                </a:cubicBezTo>
                <a:cubicBezTo>
                  <a:pt x="420" y="728"/>
                  <a:pt x="421" y="730"/>
                  <a:pt x="421" y="732"/>
                </a:cubicBezTo>
                <a:cubicBezTo>
                  <a:pt x="427" y="752"/>
                  <a:pt x="465" y="751"/>
                  <a:pt x="469" y="732"/>
                </a:cubicBezTo>
                <a:cubicBezTo>
                  <a:pt x="469" y="732"/>
                  <a:pt x="470" y="731"/>
                  <a:pt x="470" y="731"/>
                </a:cubicBezTo>
                <a:cubicBezTo>
                  <a:pt x="469" y="734"/>
                  <a:pt x="468" y="736"/>
                  <a:pt x="467" y="738"/>
                </a:cubicBezTo>
                <a:cubicBezTo>
                  <a:pt x="463" y="745"/>
                  <a:pt x="455" y="749"/>
                  <a:pt x="447" y="750"/>
                </a:cubicBezTo>
                <a:cubicBezTo>
                  <a:pt x="439" y="751"/>
                  <a:pt x="431" y="750"/>
                  <a:pt x="425" y="746"/>
                </a:cubicBezTo>
                <a:cubicBezTo>
                  <a:pt x="419" y="743"/>
                  <a:pt x="415" y="738"/>
                  <a:pt x="411" y="732"/>
                </a:cubicBezTo>
                <a:cubicBezTo>
                  <a:pt x="411" y="732"/>
                  <a:pt x="410" y="732"/>
                  <a:pt x="410" y="733"/>
                </a:cubicBezTo>
                <a:cubicBezTo>
                  <a:pt x="412" y="749"/>
                  <a:pt x="433" y="756"/>
                  <a:pt x="447" y="753"/>
                </a:cubicBezTo>
                <a:cubicBezTo>
                  <a:pt x="453" y="752"/>
                  <a:pt x="459" y="751"/>
                  <a:pt x="463" y="748"/>
                </a:cubicBezTo>
                <a:cubicBezTo>
                  <a:pt x="461" y="759"/>
                  <a:pt x="460" y="772"/>
                  <a:pt x="458" y="784"/>
                </a:cubicBezTo>
                <a:cubicBezTo>
                  <a:pt x="456" y="793"/>
                  <a:pt x="454" y="803"/>
                  <a:pt x="454" y="812"/>
                </a:cubicBezTo>
                <a:cubicBezTo>
                  <a:pt x="454" y="813"/>
                  <a:pt x="454" y="813"/>
                  <a:pt x="454" y="813"/>
                </a:cubicBezTo>
                <a:cubicBezTo>
                  <a:pt x="453" y="805"/>
                  <a:pt x="453" y="798"/>
                  <a:pt x="455" y="791"/>
                </a:cubicBezTo>
                <a:cubicBezTo>
                  <a:pt x="455" y="790"/>
                  <a:pt x="454" y="790"/>
                  <a:pt x="454" y="790"/>
                </a:cubicBezTo>
                <a:cubicBezTo>
                  <a:pt x="450" y="797"/>
                  <a:pt x="450" y="806"/>
                  <a:pt x="451" y="814"/>
                </a:cubicBezTo>
                <a:cubicBezTo>
                  <a:pt x="451" y="814"/>
                  <a:pt x="451" y="815"/>
                  <a:pt x="451" y="815"/>
                </a:cubicBezTo>
                <a:cubicBezTo>
                  <a:pt x="459" y="815"/>
                  <a:pt x="459" y="815"/>
                  <a:pt x="459" y="815"/>
                </a:cubicBezTo>
                <a:cubicBezTo>
                  <a:pt x="476" y="808"/>
                  <a:pt x="492" y="798"/>
                  <a:pt x="507" y="788"/>
                </a:cubicBezTo>
                <a:cubicBezTo>
                  <a:pt x="525" y="776"/>
                  <a:pt x="543" y="763"/>
                  <a:pt x="561" y="752"/>
                </a:cubicBezTo>
                <a:cubicBezTo>
                  <a:pt x="579" y="740"/>
                  <a:pt x="597" y="727"/>
                  <a:pt x="616" y="716"/>
                </a:cubicBezTo>
                <a:cubicBezTo>
                  <a:pt x="631" y="707"/>
                  <a:pt x="645" y="697"/>
                  <a:pt x="658" y="686"/>
                </a:cubicBezTo>
                <a:cubicBezTo>
                  <a:pt x="653" y="695"/>
                  <a:pt x="653" y="705"/>
                  <a:pt x="660" y="713"/>
                </a:cubicBezTo>
                <a:cubicBezTo>
                  <a:pt x="662" y="716"/>
                  <a:pt x="665" y="718"/>
                  <a:pt x="668" y="720"/>
                </a:cubicBezTo>
                <a:cubicBezTo>
                  <a:pt x="664" y="721"/>
                  <a:pt x="661" y="724"/>
                  <a:pt x="658" y="726"/>
                </a:cubicBezTo>
                <a:cubicBezTo>
                  <a:pt x="651" y="731"/>
                  <a:pt x="645" y="736"/>
                  <a:pt x="638" y="741"/>
                </a:cubicBezTo>
                <a:cubicBezTo>
                  <a:pt x="628" y="749"/>
                  <a:pt x="617" y="756"/>
                  <a:pt x="606" y="762"/>
                </a:cubicBezTo>
                <a:cubicBezTo>
                  <a:pt x="596" y="767"/>
                  <a:pt x="586" y="774"/>
                  <a:pt x="577" y="781"/>
                </a:cubicBezTo>
                <a:cubicBezTo>
                  <a:pt x="560" y="794"/>
                  <a:pt x="541" y="804"/>
                  <a:pt x="523" y="815"/>
                </a:cubicBezTo>
                <a:cubicBezTo>
                  <a:pt x="530" y="815"/>
                  <a:pt x="530" y="815"/>
                  <a:pt x="530" y="815"/>
                </a:cubicBezTo>
                <a:cubicBezTo>
                  <a:pt x="546" y="805"/>
                  <a:pt x="563" y="795"/>
                  <a:pt x="578" y="784"/>
                </a:cubicBezTo>
                <a:cubicBezTo>
                  <a:pt x="597" y="771"/>
                  <a:pt x="617" y="760"/>
                  <a:pt x="636" y="747"/>
                </a:cubicBezTo>
                <a:cubicBezTo>
                  <a:pt x="643" y="742"/>
                  <a:pt x="649" y="738"/>
                  <a:pt x="656" y="732"/>
                </a:cubicBezTo>
                <a:cubicBezTo>
                  <a:pt x="660" y="729"/>
                  <a:pt x="666" y="721"/>
                  <a:pt x="672" y="721"/>
                </a:cubicBezTo>
                <a:cubicBezTo>
                  <a:pt x="676" y="721"/>
                  <a:pt x="680" y="721"/>
                  <a:pt x="684" y="720"/>
                </a:cubicBezTo>
                <a:cubicBezTo>
                  <a:pt x="689" y="718"/>
                  <a:pt x="693" y="716"/>
                  <a:pt x="698" y="714"/>
                </a:cubicBezTo>
                <a:cubicBezTo>
                  <a:pt x="702" y="713"/>
                  <a:pt x="706" y="713"/>
                  <a:pt x="710" y="712"/>
                </a:cubicBezTo>
                <a:cubicBezTo>
                  <a:pt x="712" y="713"/>
                  <a:pt x="715" y="714"/>
                  <a:pt x="719" y="714"/>
                </a:cubicBezTo>
                <a:cubicBezTo>
                  <a:pt x="727" y="715"/>
                  <a:pt x="736" y="713"/>
                  <a:pt x="741" y="706"/>
                </a:cubicBezTo>
                <a:cubicBezTo>
                  <a:pt x="744" y="702"/>
                  <a:pt x="747" y="698"/>
                  <a:pt x="747" y="693"/>
                </a:cubicBezTo>
                <a:cubicBezTo>
                  <a:pt x="747" y="692"/>
                  <a:pt x="748" y="691"/>
                  <a:pt x="748" y="690"/>
                </a:cubicBezTo>
                <a:cubicBezTo>
                  <a:pt x="751" y="688"/>
                  <a:pt x="754" y="686"/>
                  <a:pt x="757" y="683"/>
                </a:cubicBezTo>
                <a:cubicBezTo>
                  <a:pt x="769" y="675"/>
                  <a:pt x="780" y="665"/>
                  <a:pt x="792" y="656"/>
                </a:cubicBezTo>
                <a:cubicBezTo>
                  <a:pt x="802" y="647"/>
                  <a:pt x="813" y="639"/>
                  <a:pt x="821" y="628"/>
                </a:cubicBezTo>
                <a:cubicBezTo>
                  <a:pt x="821" y="628"/>
                  <a:pt x="821" y="628"/>
                  <a:pt x="821" y="629"/>
                </a:cubicBezTo>
                <a:cubicBezTo>
                  <a:pt x="822" y="644"/>
                  <a:pt x="825" y="659"/>
                  <a:pt x="830" y="673"/>
                </a:cubicBezTo>
                <a:cubicBezTo>
                  <a:pt x="833" y="681"/>
                  <a:pt x="836" y="688"/>
                  <a:pt x="840" y="695"/>
                </a:cubicBezTo>
                <a:cubicBezTo>
                  <a:pt x="843" y="702"/>
                  <a:pt x="846" y="709"/>
                  <a:pt x="850" y="715"/>
                </a:cubicBezTo>
                <a:cubicBezTo>
                  <a:pt x="858" y="725"/>
                  <a:pt x="868" y="734"/>
                  <a:pt x="881" y="735"/>
                </a:cubicBezTo>
                <a:cubicBezTo>
                  <a:pt x="888" y="736"/>
                  <a:pt x="895" y="735"/>
                  <a:pt x="902" y="735"/>
                </a:cubicBezTo>
                <a:cubicBezTo>
                  <a:pt x="910" y="735"/>
                  <a:pt x="917" y="735"/>
                  <a:pt x="924" y="734"/>
                </a:cubicBezTo>
                <a:cubicBezTo>
                  <a:pt x="932" y="733"/>
                  <a:pt x="940" y="732"/>
                  <a:pt x="948" y="729"/>
                </a:cubicBezTo>
                <a:cubicBezTo>
                  <a:pt x="953" y="727"/>
                  <a:pt x="960" y="725"/>
                  <a:pt x="965" y="721"/>
                </a:cubicBezTo>
                <a:cubicBezTo>
                  <a:pt x="973" y="712"/>
                  <a:pt x="980" y="697"/>
                  <a:pt x="980" y="684"/>
                </a:cubicBezTo>
                <a:cubicBezTo>
                  <a:pt x="980" y="670"/>
                  <a:pt x="973" y="658"/>
                  <a:pt x="967" y="646"/>
                </a:cubicBezTo>
                <a:cubicBezTo>
                  <a:pt x="960" y="631"/>
                  <a:pt x="953" y="616"/>
                  <a:pt x="943" y="603"/>
                </a:cubicBezTo>
                <a:cubicBezTo>
                  <a:pt x="940" y="599"/>
                  <a:pt x="936" y="593"/>
                  <a:pt x="931" y="588"/>
                </a:cubicBezTo>
                <a:cubicBezTo>
                  <a:pt x="935" y="588"/>
                  <a:pt x="939" y="588"/>
                  <a:pt x="942" y="588"/>
                </a:cubicBezTo>
                <a:cubicBezTo>
                  <a:pt x="943" y="589"/>
                  <a:pt x="943" y="589"/>
                  <a:pt x="944" y="589"/>
                </a:cubicBezTo>
                <a:cubicBezTo>
                  <a:pt x="947" y="588"/>
                  <a:pt x="954" y="592"/>
                  <a:pt x="957" y="593"/>
                </a:cubicBezTo>
                <a:cubicBezTo>
                  <a:pt x="961" y="594"/>
                  <a:pt x="966" y="596"/>
                  <a:pt x="970" y="598"/>
                </a:cubicBezTo>
                <a:cubicBezTo>
                  <a:pt x="977" y="600"/>
                  <a:pt x="984" y="600"/>
                  <a:pt x="991" y="600"/>
                </a:cubicBezTo>
                <a:cubicBezTo>
                  <a:pt x="997" y="601"/>
                  <a:pt x="1003" y="601"/>
                  <a:pt x="1009" y="600"/>
                </a:cubicBezTo>
                <a:cubicBezTo>
                  <a:pt x="1023" y="598"/>
                  <a:pt x="1036" y="595"/>
                  <a:pt x="1050" y="593"/>
                </a:cubicBezTo>
                <a:cubicBezTo>
                  <a:pt x="1057" y="592"/>
                  <a:pt x="1064" y="590"/>
                  <a:pt x="1071" y="589"/>
                </a:cubicBezTo>
                <a:cubicBezTo>
                  <a:pt x="1078" y="589"/>
                  <a:pt x="1084" y="588"/>
                  <a:pt x="1091" y="588"/>
                </a:cubicBezTo>
                <a:cubicBezTo>
                  <a:pt x="1098" y="587"/>
                  <a:pt x="1105" y="585"/>
                  <a:pt x="1112" y="582"/>
                </a:cubicBezTo>
                <a:cubicBezTo>
                  <a:pt x="1119" y="579"/>
                  <a:pt x="1127" y="576"/>
                  <a:pt x="1135" y="574"/>
                </a:cubicBezTo>
                <a:cubicBezTo>
                  <a:pt x="1143" y="571"/>
                  <a:pt x="1155" y="567"/>
                  <a:pt x="1159" y="560"/>
                </a:cubicBezTo>
                <a:cubicBezTo>
                  <a:pt x="1161" y="558"/>
                  <a:pt x="1162" y="554"/>
                  <a:pt x="1160" y="552"/>
                </a:cubicBezTo>
                <a:close/>
                <a:moveTo>
                  <a:pt x="1016" y="424"/>
                </a:moveTo>
                <a:cubicBezTo>
                  <a:pt x="1028" y="421"/>
                  <a:pt x="1041" y="418"/>
                  <a:pt x="1054" y="415"/>
                </a:cubicBezTo>
                <a:cubicBezTo>
                  <a:pt x="1065" y="413"/>
                  <a:pt x="1078" y="410"/>
                  <a:pt x="1090" y="412"/>
                </a:cubicBezTo>
                <a:cubicBezTo>
                  <a:pt x="1103" y="414"/>
                  <a:pt x="1115" y="423"/>
                  <a:pt x="1117" y="436"/>
                </a:cubicBezTo>
                <a:cubicBezTo>
                  <a:pt x="1118" y="439"/>
                  <a:pt x="1117" y="445"/>
                  <a:pt x="1120" y="447"/>
                </a:cubicBezTo>
                <a:cubicBezTo>
                  <a:pt x="1125" y="449"/>
                  <a:pt x="1129" y="449"/>
                  <a:pt x="1132" y="454"/>
                </a:cubicBezTo>
                <a:cubicBezTo>
                  <a:pt x="1137" y="464"/>
                  <a:pt x="1134" y="477"/>
                  <a:pt x="1129" y="486"/>
                </a:cubicBezTo>
                <a:cubicBezTo>
                  <a:pt x="1123" y="498"/>
                  <a:pt x="1116" y="510"/>
                  <a:pt x="1108" y="519"/>
                </a:cubicBezTo>
                <a:cubicBezTo>
                  <a:pt x="1103" y="524"/>
                  <a:pt x="1099" y="528"/>
                  <a:pt x="1095" y="533"/>
                </a:cubicBezTo>
                <a:cubicBezTo>
                  <a:pt x="1092" y="536"/>
                  <a:pt x="1089" y="540"/>
                  <a:pt x="1084" y="541"/>
                </a:cubicBezTo>
                <a:cubicBezTo>
                  <a:pt x="1084" y="541"/>
                  <a:pt x="1084" y="541"/>
                  <a:pt x="1084" y="541"/>
                </a:cubicBezTo>
                <a:cubicBezTo>
                  <a:pt x="1078" y="541"/>
                  <a:pt x="1072" y="542"/>
                  <a:pt x="1066" y="542"/>
                </a:cubicBezTo>
                <a:cubicBezTo>
                  <a:pt x="1049" y="544"/>
                  <a:pt x="1033" y="545"/>
                  <a:pt x="1016" y="545"/>
                </a:cubicBezTo>
                <a:cubicBezTo>
                  <a:pt x="1007" y="545"/>
                  <a:pt x="998" y="545"/>
                  <a:pt x="989" y="545"/>
                </a:cubicBezTo>
                <a:cubicBezTo>
                  <a:pt x="991" y="544"/>
                  <a:pt x="992" y="544"/>
                  <a:pt x="994" y="544"/>
                </a:cubicBezTo>
                <a:cubicBezTo>
                  <a:pt x="996" y="544"/>
                  <a:pt x="999" y="544"/>
                  <a:pt x="1002" y="544"/>
                </a:cubicBezTo>
                <a:cubicBezTo>
                  <a:pt x="1001" y="544"/>
                  <a:pt x="1001" y="544"/>
                  <a:pt x="1001" y="544"/>
                </a:cubicBezTo>
                <a:cubicBezTo>
                  <a:pt x="1001" y="544"/>
                  <a:pt x="1001" y="545"/>
                  <a:pt x="1001" y="545"/>
                </a:cubicBezTo>
                <a:cubicBezTo>
                  <a:pt x="1005" y="545"/>
                  <a:pt x="1008" y="544"/>
                  <a:pt x="1012" y="544"/>
                </a:cubicBezTo>
                <a:cubicBezTo>
                  <a:pt x="1013" y="544"/>
                  <a:pt x="1014" y="544"/>
                  <a:pt x="1015" y="544"/>
                </a:cubicBezTo>
                <a:cubicBezTo>
                  <a:pt x="1021" y="544"/>
                  <a:pt x="1027" y="544"/>
                  <a:pt x="1033" y="543"/>
                </a:cubicBezTo>
                <a:cubicBezTo>
                  <a:pt x="1040" y="541"/>
                  <a:pt x="1045" y="539"/>
                  <a:pt x="1051" y="537"/>
                </a:cubicBezTo>
                <a:cubicBezTo>
                  <a:pt x="1052" y="537"/>
                  <a:pt x="1051" y="536"/>
                  <a:pt x="1051" y="536"/>
                </a:cubicBezTo>
                <a:cubicBezTo>
                  <a:pt x="1045" y="538"/>
                  <a:pt x="1038" y="540"/>
                  <a:pt x="1031" y="541"/>
                </a:cubicBezTo>
                <a:cubicBezTo>
                  <a:pt x="1030" y="541"/>
                  <a:pt x="1028" y="541"/>
                  <a:pt x="1026" y="541"/>
                </a:cubicBezTo>
                <a:cubicBezTo>
                  <a:pt x="1033" y="540"/>
                  <a:pt x="1038" y="537"/>
                  <a:pt x="1044" y="536"/>
                </a:cubicBezTo>
                <a:cubicBezTo>
                  <a:pt x="1045" y="535"/>
                  <a:pt x="1045" y="535"/>
                  <a:pt x="1044" y="535"/>
                </a:cubicBezTo>
                <a:cubicBezTo>
                  <a:pt x="1037" y="536"/>
                  <a:pt x="1029" y="539"/>
                  <a:pt x="1022" y="540"/>
                </a:cubicBezTo>
                <a:cubicBezTo>
                  <a:pt x="1018" y="541"/>
                  <a:pt x="1015" y="541"/>
                  <a:pt x="1011" y="541"/>
                </a:cubicBezTo>
                <a:cubicBezTo>
                  <a:pt x="1011" y="541"/>
                  <a:pt x="1010" y="541"/>
                  <a:pt x="1010" y="541"/>
                </a:cubicBezTo>
                <a:cubicBezTo>
                  <a:pt x="1007" y="541"/>
                  <a:pt x="1003" y="541"/>
                  <a:pt x="1000" y="541"/>
                </a:cubicBezTo>
                <a:cubicBezTo>
                  <a:pt x="1007" y="539"/>
                  <a:pt x="1014" y="536"/>
                  <a:pt x="1020" y="534"/>
                </a:cubicBezTo>
                <a:cubicBezTo>
                  <a:pt x="1021" y="534"/>
                  <a:pt x="1020" y="533"/>
                  <a:pt x="1020" y="533"/>
                </a:cubicBezTo>
                <a:cubicBezTo>
                  <a:pt x="1008" y="537"/>
                  <a:pt x="996" y="540"/>
                  <a:pt x="984" y="543"/>
                </a:cubicBezTo>
                <a:cubicBezTo>
                  <a:pt x="984" y="543"/>
                  <a:pt x="984" y="543"/>
                  <a:pt x="984" y="543"/>
                </a:cubicBezTo>
                <a:cubicBezTo>
                  <a:pt x="982" y="543"/>
                  <a:pt x="981" y="543"/>
                  <a:pt x="979" y="544"/>
                </a:cubicBezTo>
                <a:cubicBezTo>
                  <a:pt x="978" y="544"/>
                  <a:pt x="977" y="544"/>
                  <a:pt x="977" y="544"/>
                </a:cubicBezTo>
                <a:cubicBezTo>
                  <a:pt x="981" y="542"/>
                  <a:pt x="985" y="539"/>
                  <a:pt x="989" y="537"/>
                </a:cubicBezTo>
                <a:cubicBezTo>
                  <a:pt x="996" y="533"/>
                  <a:pt x="1004" y="529"/>
                  <a:pt x="1012" y="527"/>
                </a:cubicBezTo>
                <a:cubicBezTo>
                  <a:pt x="1012" y="527"/>
                  <a:pt x="1012" y="526"/>
                  <a:pt x="1012" y="526"/>
                </a:cubicBezTo>
                <a:cubicBezTo>
                  <a:pt x="1003" y="528"/>
                  <a:pt x="997" y="531"/>
                  <a:pt x="989" y="535"/>
                </a:cubicBezTo>
                <a:cubicBezTo>
                  <a:pt x="985" y="536"/>
                  <a:pt x="982" y="538"/>
                  <a:pt x="978" y="540"/>
                </a:cubicBezTo>
                <a:cubicBezTo>
                  <a:pt x="976" y="541"/>
                  <a:pt x="973" y="542"/>
                  <a:pt x="971" y="543"/>
                </a:cubicBezTo>
                <a:cubicBezTo>
                  <a:pt x="970" y="543"/>
                  <a:pt x="969" y="543"/>
                  <a:pt x="968" y="543"/>
                </a:cubicBezTo>
                <a:cubicBezTo>
                  <a:pt x="962" y="542"/>
                  <a:pt x="955" y="541"/>
                  <a:pt x="950" y="544"/>
                </a:cubicBezTo>
                <a:cubicBezTo>
                  <a:pt x="946" y="546"/>
                  <a:pt x="943" y="548"/>
                  <a:pt x="941" y="552"/>
                </a:cubicBezTo>
                <a:cubicBezTo>
                  <a:pt x="938" y="550"/>
                  <a:pt x="933" y="551"/>
                  <a:pt x="930" y="551"/>
                </a:cubicBezTo>
                <a:cubicBezTo>
                  <a:pt x="929" y="551"/>
                  <a:pt x="928" y="551"/>
                  <a:pt x="927" y="551"/>
                </a:cubicBezTo>
                <a:cubicBezTo>
                  <a:pt x="937" y="549"/>
                  <a:pt x="947" y="544"/>
                  <a:pt x="956" y="541"/>
                </a:cubicBezTo>
                <a:cubicBezTo>
                  <a:pt x="964" y="538"/>
                  <a:pt x="971" y="535"/>
                  <a:pt x="978" y="532"/>
                </a:cubicBezTo>
                <a:cubicBezTo>
                  <a:pt x="985" y="528"/>
                  <a:pt x="993" y="524"/>
                  <a:pt x="1001" y="521"/>
                </a:cubicBezTo>
                <a:cubicBezTo>
                  <a:pt x="1001" y="520"/>
                  <a:pt x="1001" y="519"/>
                  <a:pt x="1000" y="520"/>
                </a:cubicBezTo>
                <a:cubicBezTo>
                  <a:pt x="992" y="523"/>
                  <a:pt x="985" y="527"/>
                  <a:pt x="977" y="530"/>
                </a:cubicBezTo>
                <a:cubicBezTo>
                  <a:pt x="970" y="533"/>
                  <a:pt x="963" y="535"/>
                  <a:pt x="955" y="538"/>
                </a:cubicBezTo>
                <a:cubicBezTo>
                  <a:pt x="942" y="543"/>
                  <a:pt x="928" y="548"/>
                  <a:pt x="914" y="549"/>
                </a:cubicBezTo>
                <a:cubicBezTo>
                  <a:pt x="913" y="549"/>
                  <a:pt x="913" y="550"/>
                  <a:pt x="912" y="550"/>
                </a:cubicBezTo>
                <a:cubicBezTo>
                  <a:pt x="912" y="550"/>
                  <a:pt x="911" y="550"/>
                  <a:pt x="911" y="550"/>
                </a:cubicBezTo>
                <a:cubicBezTo>
                  <a:pt x="909" y="550"/>
                  <a:pt x="907" y="550"/>
                  <a:pt x="905" y="550"/>
                </a:cubicBezTo>
                <a:cubicBezTo>
                  <a:pt x="905" y="550"/>
                  <a:pt x="906" y="549"/>
                  <a:pt x="906" y="549"/>
                </a:cubicBezTo>
                <a:cubicBezTo>
                  <a:pt x="906" y="549"/>
                  <a:pt x="907" y="549"/>
                  <a:pt x="907" y="549"/>
                </a:cubicBezTo>
                <a:cubicBezTo>
                  <a:pt x="911" y="549"/>
                  <a:pt x="915" y="547"/>
                  <a:pt x="919" y="545"/>
                </a:cubicBezTo>
                <a:cubicBezTo>
                  <a:pt x="924" y="543"/>
                  <a:pt x="929" y="540"/>
                  <a:pt x="934" y="538"/>
                </a:cubicBezTo>
                <a:cubicBezTo>
                  <a:pt x="944" y="532"/>
                  <a:pt x="954" y="526"/>
                  <a:pt x="965" y="523"/>
                </a:cubicBezTo>
                <a:cubicBezTo>
                  <a:pt x="966" y="522"/>
                  <a:pt x="966" y="521"/>
                  <a:pt x="965" y="521"/>
                </a:cubicBezTo>
                <a:cubicBezTo>
                  <a:pt x="954" y="525"/>
                  <a:pt x="944" y="529"/>
                  <a:pt x="934" y="534"/>
                </a:cubicBezTo>
                <a:cubicBezTo>
                  <a:pt x="929" y="536"/>
                  <a:pt x="924" y="539"/>
                  <a:pt x="919" y="541"/>
                </a:cubicBezTo>
                <a:cubicBezTo>
                  <a:pt x="916" y="543"/>
                  <a:pt x="912" y="544"/>
                  <a:pt x="909" y="545"/>
                </a:cubicBezTo>
                <a:cubicBezTo>
                  <a:pt x="910" y="545"/>
                  <a:pt x="910" y="544"/>
                  <a:pt x="910" y="544"/>
                </a:cubicBezTo>
                <a:cubicBezTo>
                  <a:pt x="911" y="543"/>
                  <a:pt x="912" y="543"/>
                  <a:pt x="913" y="542"/>
                </a:cubicBezTo>
                <a:cubicBezTo>
                  <a:pt x="916" y="541"/>
                  <a:pt x="919" y="539"/>
                  <a:pt x="921" y="538"/>
                </a:cubicBezTo>
                <a:cubicBezTo>
                  <a:pt x="928" y="534"/>
                  <a:pt x="934" y="529"/>
                  <a:pt x="940" y="525"/>
                </a:cubicBezTo>
                <a:cubicBezTo>
                  <a:pt x="947" y="521"/>
                  <a:pt x="954" y="517"/>
                  <a:pt x="960" y="513"/>
                </a:cubicBezTo>
                <a:cubicBezTo>
                  <a:pt x="967" y="508"/>
                  <a:pt x="974" y="504"/>
                  <a:pt x="980" y="500"/>
                </a:cubicBezTo>
                <a:cubicBezTo>
                  <a:pt x="981" y="500"/>
                  <a:pt x="980" y="500"/>
                  <a:pt x="980" y="500"/>
                </a:cubicBezTo>
                <a:cubicBezTo>
                  <a:pt x="964" y="508"/>
                  <a:pt x="950" y="518"/>
                  <a:pt x="934" y="527"/>
                </a:cubicBezTo>
                <a:cubicBezTo>
                  <a:pt x="928" y="531"/>
                  <a:pt x="923" y="534"/>
                  <a:pt x="917" y="537"/>
                </a:cubicBezTo>
                <a:cubicBezTo>
                  <a:pt x="918" y="535"/>
                  <a:pt x="920" y="534"/>
                  <a:pt x="921" y="532"/>
                </a:cubicBezTo>
                <a:cubicBezTo>
                  <a:pt x="921" y="532"/>
                  <a:pt x="921" y="532"/>
                  <a:pt x="921" y="532"/>
                </a:cubicBezTo>
                <a:cubicBezTo>
                  <a:pt x="926" y="532"/>
                  <a:pt x="930" y="529"/>
                  <a:pt x="934" y="526"/>
                </a:cubicBezTo>
                <a:cubicBezTo>
                  <a:pt x="939" y="523"/>
                  <a:pt x="943" y="520"/>
                  <a:pt x="948" y="517"/>
                </a:cubicBezTo>
                <a:cubicBezTo>
                  <a:pt x="957" y="510"/>
                  <a:pt x="965" y="503"/>
                  <a:pt x="972" y="495"/>
                </a:cubicBezTo>
                <a:cubicBezTo>
                  <a:pt x="973" y="494"/>
                  <a:pt x="972" y="494"/>
                  <a:pt x="972" y="494"/>
                </a:cubicBezTo>
                <a:cubicBezTo>
                  <a:pt x="964" y="503"/>
                  <a:pt x="955" y="510"/>
                  <a:pt x="945" y="516"/>
                </a:cubicBezTo>
                <a:cubicBezTo>
                  <a:pt x="940" y="519"/>
                  <a:pt x="936" y="522"/>
                  <a:pt x="931" y="524"/>
                </a:cubicBezTo>
                <a:cubicBezTo>
                  <a:pt x="930" y="525"/>
                  <a:pt x="929" y="525"/>
                  <a:pt x="928" y="526"/>
                </a:cubicBezTo>
                <a:cubicBezTo>
                  <a:pt x="928" y="526"/>
                  <a:pt x="928" y="526"/>
                  <a:pt x="928" y="525"/>
                </a:cubicBezTo>
                <a:cubicBezTo>
                  <a:pt x="928" y="525"/>
                  <a:pt x="928" y="525"/>
                  <a:pt x="928" y="525"/>
                </a:cubicBezTo>
                <a:cubicBezTo>
                  <a:pt x="934" y="521"/>
                  <a:pt x="939" y="517"/>
                  <a:pt x="945" y="513"/>
                </a:cubicBezTo>
                <a:cubicBezTo>
                  <a:pt x="950" y="510"/>
                  <a:pt x="953" y="508"/>
                  <a:pt x="957" y="502"/>
                </a:cubicBezTo>
                <a:cubicBezTo>
                  <a:pt x="957" y="502"/>
                  <a:pt x="957" y="502"/>
                  <a:pt x="957" y="502"/>
                </a:cubicBezTo>
                <a:cubicBezTo>
                  <a:pt x="960" y="499"/>
                  <a:pt x="963" y="496"/>
                  <a:pt x="965" y="494"/>
                </a:cubicBezTo>
                <a:cubicBezTo>
                  <a:pt x="974" y="485"/>
                  <a:pt x="983" y="476"/>
                  <a:pt x="994" y="469"/>
                </a:cubicBezTo>
                <a:cubicBezTo>
                  <a:pt x="994" y="469"/>
                  <a:pt x="994" y="468"/>
                  <a:pt x="993" y="469"/>
                </a:cubicBezTo>
                <a:cubicBezTo>
                  <a:pt x="983" y="474"/>
                  <a:pt x="975" y="483"/>
                  <a:pt x="966" y="491"/>
                </a:cubicBezTo>
                <a:cubicBezTo>
                  <a:pt x="964" y="492"/>
                  <a:pt x="962" y="494"/>
                  <a:pt x="960" y="496"/>
                </a:cubicBezTo>
                <a:cubicBezTo>
                  <a:pt x="957" y="497"/>
                  <a:pt x="954" y="499"/>
                  <a:pt x="951" y="501"/>
                </a:cubicBezTo>
                <a:cubicBezTo>
                  <a:pt x="953" y="499"/>
                  <a:pt x="955" y="497"/>
                  <a:pt x="957" y="495"/>
                </a:cubicBezTo>
                <a:cubicBezTo>
                  <a:pt x="964" y="488"/>
                  <a:pt x="972" y="481"/>
                  <a:pt x="979" y="475"/>
                </a:cubicBezTo>
                <a:cubicBezTo>
                  <a:pt x="982" y="471"/>
                  <a:pt x="986" y="468"/>
                  <a:pt x="989" y="465"/>
                </a:cubicBezTo>
                <a:cubicBezTo>
                  <a:pt x="993" y="461"/>
                  <a:pt x="997" y="459"/>
                  <a:pt x="1001" y="457"/>
                </a:cubicBezTo>
                <a:cubicBezTo>
                  <a:pt x="1006" y="453"/>
                  <a:pt x="1012" y="448"/>
                  <a:pt x="1019" y="447"/>
                </a:cubicBezTo>
                <a:cubicBezTo>
                  <a:pt x="1019" y="447"/>
                  <a:pt x="1019" y="446"/>
                  <a:pt x="1019" y="446"/>
                </a:cubicBezTo>
                <a:cubicBezTo>
                  <a:pt x="1013" y="446"/>
                  <a:pt x="1008" y="449"/>
                  <a:pt x="1003" y="453"/>
                </a:cubicBezTo>
                <a:cubicBezTo>
                  <a:pt x="997" y="458"/>
                  <a:pt x="990" y="462"/>
                  <a:pt x="984" y="468"/>
                </a:cubicBezTo>
                <a:cubicBezTo>
                  <a:pt x="975" y="474"/>
                  <a:pt x="967" y="481"/>
                  <a:pt x="959" y="489"/>
                </a:cubicBezTo>
                <a:cubicBezTo>
                  <a:pt x="955" y="492"/>
                  <a:pt x="951" y="497"/>
                  <a:pt x="947" y="501"/>
                </a:cubicBezTo>
                <a:cubicBezTo>
                  <a:pt x="955" y="492"/>
                  <a:pt x="964" y="484"/>
                  <a:pt x="972" y="476"/>
                </a:cubicBezTo>
                <a:cubicBezTo>
                  <a:pt x="977" y="471"/>
                  <a:pt x="982" y="465"/>
                  <a:pt x="987" y="462"/>
                </a:cubicBezTo>
                <a:cubicBezTo>
                  <a:pt x="992" y="459"/>
                  <a:pt x="996" y="457"/>
                  <a:pt x="1000" y="452"/>
                </a:cubicBezTo>
                <a:cubicBezTo>
                  <a:pt x="1001" y="452"/>
                  <a:pt x="1000" y="451"/>
                  <a:pt x="999" y="451"/>
                </a:cubicBezTo>
                <a:cubicBezTo>
                  <a:pt x="990" y="461"/>
                  <a:pt x="978" y="467"/>
                  <a:pt x="969" y="476"/>
                </a:cubicBezTo>
                <a:cubicBezTo>
                  <a:pt x="962" y="483"/>
                  <a:pt x="954" y="489"/>
                  <a:pt x="948" y="496"/>
                </a:cubicBezTo>
                <a:cubicBezTo>
                  <a:pt x="949" y="494"/>
                  <a:pt x="950" y="492"/>
                  <a:pt x="951" y="490"/>
                </a:cubicBezTo>
                <a:cubicBezTo>
                  <a:pt x="952" y="491"/>
                  <a:pt x="952" y="491"/>
                  <a:pt x="953" y="491"/>
                </a:cubicBezTo>
                <a:cubicBezTo>
                  <a:pt x="958" y="487"/>
                  <a:pt x="962" y="481"/>
                  <a:pt x="966" y="476"/>
                </a:cubicBezTo>
                <a:cubicBezTo>
                  <a:pt x="970" y="471"/>
                  <a:pt x="974" y="467"/>
                  <a:pt x="979" y="463"/>
                </a:cubicBezTo>
                <a:cubicBezTo>
                  <a:pt x="988" y="454"/>
                  <a:pt x="999" y="447"/>
                  <a:pt x="1008" y="439"/>
                </a:cubicBezTo>
                <a:cubicBezTo>
                  <a:pt x="1009" y="439"/>
                  <a:pt x="1008" y="439"/>
                  <a:pt x="1008" y="439"/>
                </a:cubicBezTo>
                <a:cubicBezTo>
                  <a:pt x="996" y="444"/>
                  <a:pt x="987" y="453"/>
                  <a:pt x="977" y="461"/>
                </a:cubicBezTo>
                <a:cubicBezTo>
                  <a:pt x="972" y="466"/>
                  <a:pt x="968" y="471"/>
                  <a:pt x="963" y="475"/>
                </a:cubicBezTo>
                <a:cubicBezTo>
                  <a:pt x="961" y="478"/>
                  <a:pt x="959" y="480"/>
                  <a:pt x="957" y="482"/>
                </a:cubicBezTo>
                <a:cubicBezTo>
                  <a:pt x="965" y="470"/>
                  <a:pt x="972" y="457"/>
                  <a:pt x="976" y="443"/>
                </a:cubicBezTo>
                <a:cubicBezTo>
                  <a:pt x="977" y="441"/>
                  <a:pt x="977" y="439"/>
                  <a:pt x="978" y="438"/>
                </a:cubicBezTo>
                <a:cubicBezTo>
                  <a:pt x="978" y="438"/>
                  <a:pt x="979" y="437"/>
                  <a:pt x="979" y="437"/>
                </a:cubicBezTo>
                <a:cubicBezTo>
                  <a:pt x="990" y="431"/>
                  <a:pt x="1004" y="428"/>
                  <a:pt x="1016" y="424"/>
                </a:cubicBezTo>
                <a:close/>
                <a:moveTo>
                  <a:pt x="893" y="481"/>
                </a:moveTo>
                <a:cubicBezTo>
                  <a:pt x="893" y="481"/>
                  <a:pt x="893" y="481"/>
                  <a:pt x="893" y="481"/>
                </a:cubicBezTo>
                <a:cubicBezTo>
                  <a:pt x="893" y="481"/>
                  <a:pt x="893" y="481"/>
                  <a:pt x="894" y="481"/>
                </a:cubicBezTo>
                <a:cubicBezTo>
                  <a:pt x="895" y="480"/>
                  <a:pt x="894" y="478"/>
                  <a:pt x="894" y="477"/>
                </a:cubicBezTo>
                <a:cubicBezTo>
                  <a:pt x="895" y="474"/>
                  <a:pt x="895" y="471"/>
                  <a:pt x="896" y="469"/>
                </a:cubicBezTo>
                <a:cubicBezTo>
                  <a:pt x="896" y="466"/>
                  <a:pt x="896" y="462"/>
                  <a:pt x="895" y="459"/>
                </a:cubicBezTo>
                <a:cubicBezTo>
                  <a:pt x="895" y="456"/>
                  <a:pt x="896" y="452"/>
                  <a:pt x="895" y="448"/>
                </a:cubicBezTo>
                <a:cubicBezTo>
                  <a:pt x="895" y="448"/>
                  <a:pt x="894" y="448"/>
                  <a:pt x="894" y="448"/>
                </a:cubicBezTo>
                <a:cubicBezTo>
                  <a:pt x="893" y="452"/>
                  <a:pt x="894" y="455"/>
                  <a:pt x="894" y="459"/>
                </a:cubicBezTo>
                <a:cubicBezTo>
                  <a:pt x="894" y="462"/>
                  <a:pt x="893" y="466"/>
                  <a:pt x="894" y="469"/>
                </a:cubicBezTo>
                <a:cubicBezTo>
                  <a:pt x="894" y="471"/>
                  <a:pt x="893" y="474"/>
                  <a:pt x="892" y="477"/>
                </a:cubicBezTo>
                <a:cubicBezTo>
                  <a:pt x="892" y="476"/>
                  <a:pt x="892" y="475"/>
                  <a:pt x="892" y="475"/>
                </a:cubicBezTo>
                <a:cubicBezTo>
                  <a:pt x="890" y="465"/>
                  <a:pt x="889" y="455"/>
                  <a:pt x="885" y="446"/>
                </a:cubicBezTo>
                <a:cubicBezTo>
                  <a:pt x="883" y="441"/>
                  <a:pt x="880" y="437"/>
                  <a:pt x="877" y="432"/>
                </a:cubicBezTo>
                <a:cubicBezTo>
                  <a:pt x="877" y="428"/>
                  <a:pt x="875" y="424"/>
                  <a:pt x="874" y="420"/>
                </a:cubicBezTo>
                <a:cubicBezTo>
                  <a:pt x="873" y="414"/>
                  <a:pt x="872" y="408"/>
                  <a:pt x="873" y="403"/>
                </a:cubicBezTo>
                <a:cubicBezTo>
                  <a:pt x="873" y="402"/>
                  <a:pt x="871" y="401"/>
                  <a:pt x="871" y="402"/>
                </a:cubicBezTo>
                <a:cubicBezTo>
                  <a:pt x="871" y="408"/>
                  <a:pt x="871" y="413"/>
                  <a:pt x="872" y="419"/>
                </a:cubicBezTo>
                <a:cubicBezTo>
                  <a:pt x="872" y="422"/>
                  <a:pt x="873" y="425"/>
                  <a:pt x="874" y="427"/>
                </a:cubicBezTo>
                <a:cubicBezTo>
                  <a:pt x="870" y="422"/>
                  <a:pt x="865" y="417"/>
                  <a:pt x="859" y="412"/>
                </a:cubicBezTo>
                <a:cubicBezTo>
                  <a:pt x="859" y="408"/>
                  <a:pt x="858" y="405"/>
                  <a:pt x="857" y="402"/>
                </a:cubicBezTo>
                <a:cubicBezTo>
                  <a:pt x="856" y="397"/>
                  <a:pt x="856" y="390"/>
                  <a:pt x="857" y="385"/>
                </a:cubicBezTo>
                <a:cubicBezTo>
                  <a:pt x="857" y="384"/>
                  <a:pt x="855" y="383"/>
                  <a:pt x="855" y="385"/>
                </a:cubicBezTo>
                <a:cubicBezTo>
                  <a:pt x="855" y="391"/>
                  <a:pt x="855" y="396"/>
                  <a:pt x="856" y="402"/>
                </a:cubicBezTo>
                <a:cubicBezTo>
                  <a:pt x="856" y="404"/>
                  <a:pt x="856" y="407"/>
                  <a:pt x="857" y="410"/>
                </a:cubicBezTo>
                <a:cubicBezTo>
                  <a:pt x="855" y="408"/>
                  <a:pt x="853" y="407"/>
                  <a:pt x="851" y="405"/>
                </a:cubicBezTo>
                <a:cubicBezTo>
                  <a:pt x="851" y="404"/>
                  <a:pt x="851" y="403"/>
                  <a:pt x="851" y="402"/>
                </a:cubicBezTo>
                <a:cubicBezTo>
                  <a:pt x="851" y="401"/>
                  <a:pt x="850" y="400"/>
                  <a:pt x="850" y="399"/>
                </a:cubicBezTo>
                <a:cubicBezTo>
                  <a:pt x="850" y="398"/>
                  <a:pt x="848" y="398"/>
                  <a:pt x="848" y="399"/>
                </a:cubicBezTo>
                <a:cubicBezTo>
                  <a:pt x="848" y="400"/>
                  <a:pt x="848" y="402"/>
                  <a:pt x="849" y="403"/>
                </a:cubicBezTo>
                <a:cubicBezTo>
                  <a:pt x="849" y="403"/>
                  <a:pt x="849" y="403"/>
                  <a:pt x="849" y="404"/>
                </a:cubicBezTo>
                <a:cubicBezTo>
                  <a:pt x="841" y="399"/>
                  <a:pt x="833" y="396"/>
                  <a:pt x="824" y="394"/>
                </a:cubicBezTo>
                <a:cubicBezTo>
                  <a:pt x="821" y="394"/>
                  <a:pt x="816" y="391"/>
                  <a:pt x="812" y="391"/>
                </a:cubicBezTo>
                <a:cubicBezTo>
                  <a:pt x="813" y="390"/>
                  <a:pt x="814" y="390"/>
                  <a:pt x="815" y="389"/>
                </a:cubicBezTo>
                <a:cubicBezTo>
                  <a:pt x="820" y="385"/>
                  <a:pt x="824" y="382"/>
                  <a:pt x="828" y="378"/>
                </a:cubicBezTo>
                <a:cubicBezTo>
                  <a:pt x="836" y="372"/>
                  <a:pt x="851" y="362"/>
                  <a:pt x="854" y="350"/>
                </a:cubicBezTo>
                <a:cubicBezTo>
                  <a:pt x="854" y="350"/>
                  <a:pt x="855" y="350"/>
                  <a:pt x="855" y="349"/>
                </a:cubicBezTo>
                <a:cubicBezTo>
                  <a:pt x="855" y="335"/>
                  <a:pt x="848" y="321"/>
                  <a:pt x="838" y="310"/>
                </a:cubicBezTo>
                <a:cubicBezTo>
                  <a:pt x="838" y="310"/>
                  <a:pt x="838" y="309"/>
                  <a:pt x="838" y="309"/>
                </a:cubicBezTo>
                <a:cubicBezTo>
                  <a:pt x="839" y="309"/>
                  <a:pt x="839" y="308"/>
                  <a:pt x="839" y="308"/>
                </a:cubicBezTo>
                <a:cubicBezTo>
                  <a:pt x="840" y="305"/>
                  <a:pt x="845" y="302"/>
                  <a:pt x="847" y="300"/>
                </a:cubicBezTo>
                <a:cubicBezTo>
                  <a:pt x="851" y="295"/>
                  <a:pt x="856" y="290"/>
                  <a:pt x="860" y="285"/>
                </a:cubicBezTo>
                <a:cubicBezTo>
                  <a:pt x="864" y="280"/>
                  <a:pt x="868" y="274"/>
                  <a:pt x="874" y="272"/>
                </a:cubicBezTo>
                <a:cubicBezTo>
                  <a:pt x="879" y="270"/>
                  <a:pt x="883" y="269"/>
                  <a:pt x="886" y="266"/>
                </a:cubicBezTo>
                <a:cubicBezTo>
                  <a:pt x="899" y="257"/>
                  <a:pt x="911" y="251"/>
                  <a:pt x="927" y="252"/>
                </a:cubicBezTo>
                <a:cubicBezTo>
                  <a:pt x="945" y="254"/>
                  <a:pt x="957" y="264"/>
                  <a:pt x="966" y="280"/>
                </a:cubicBezTo>
                <a:cubicBezTo>
                  <a:pt x="980" y="306"/>
                  <a:pt x="988" y="337"/>
                  <a:pt x="988" y="367"/>
                </a:cubicBezTo>
                <a:cubicBezTo>
                  <a:pt x="986" y="382"/>
                  <a:pt x="984" y="397"/>
                  <a:pt x="978" y="411"/>
                </a:cubicBezTo>
                <a:cubicBezTo>
                  <a:pt x="972" y="429"/>
                  <a:pt x="962" y="446"/>
                  <a:pt x="953" y="463"/>
                </a:cubicBezTo>
                <a:cubicBezTo>
                  <a:pt x="945" y="478"/>
                  <a:pt x="935" y="492"/>
                  <a:pt x="924" y="505"/>
                </a:cubicBezTo>
                <a:cubicBezTo>
                  <a:pt x="926" y="501"/>
                  <a:pt x="929" y="496"/>
                  <a:pt x="931" y="492"/>
                </a:cubicBezTo>
                <a:cubicBezTo>
                  <a:pt x="933" y="487"/>
                  <a:pt x="935" y="482"/>
                  <a:pt x="938" y="478"/>
                </a:cubicBezTo>
                <a:cubicBezTo>
                  <a:pt x="939" y="478"/>
                  <a:pt x="938" y="477"/>
                  <a:pt x="938" y="477"/>
                </a:cubicBezTo>
                <a:cubicBezTo>
                  <a:pt x="933" y="480"/>
                  <a:pt x="932" y="486"/>
                  <a:pt x="929" y="491"/>
                </a:cubicBezTo>
                <a:cubicBezTo>
                  <a:pt x="926" y="497"/>
                  <a:pt x="921" y="503"/>
                  <a:pt x="920" y="510"/>
                </a:cubicBezTo>
                <a:cubicBezTo>
                  <a:pt x="920" y="510"/>
                  <a:pt x="919" y="510"/>
                  <a:pt x="919" y="511"/>
                </a:cubicBezTo>
                <a:cubicBezTo>
                  <a:pt x="913" y="517"/>
                  <a:pt x="907" y="524"/>
                  <a:pt x="901" y="530"/>
                </a:cubicBezTo>
                <a:cubicBezTo>
                  <a:pt x="901" y="529"/>
                  <a:pt x="902" y="527"/>
                  <a:pt x="902" y="526"/>
                </a:cubicBezTo>
                <a:cubicBezTo>
                  <a:pt x="904" y="522"/>
                  <a:pt x="907" y="517"/>
                  <a:pt x="909" y="513"/>
                </a:cubicBezTo>
                <a:cubicBezTo>
                  <a:pt x="910" y="513"/>
                  <a:pt x="909" y="513"/>
                  <a:pt x="909" y="513"/>
                </a:cubicBezTo>
                <a:cubicBezTo>
                  <a:pt x="908" y="514"/>
                  <a:pt x="906" y="516"/>
                  <a:pt x="905" y="517"/>
                </a:cubicBezTo>
                <a:cubicBezTo>
                  <a:pt x="906" y="517"/>
                  <a:pt x="906" y="516"/>
                  <a:pt x="906" y="516"/>
                </a:cubicBezTo>
                <a:cubicBezTo>
                  <a:pt x="909" y="507"/>
                  <a:pt x="912" y="498"/>
                  <a:pt x="913" y="488"/>
                </a:cubicBezTo>
                <a:cubicBezTo>
                  <a:pt x="913" y="488"/>
                  <a:pt x="912" y="488"/>
                  <a:pt x="912" y="488"/>
                </a:cubicBezTo>
                <a:cubicBezTo>
                  <a:pt x="909" y="497"/>
                  <a:pt x="908" y="506"/>
                  <a:pt x="904" y="515"/>
                </a:cubicBezTo>
                <a:cubicBezTo>
                  <a:pt x="901" y="522"/>
                  <a:pt x="898" y="529"/>
                  <a:pt x="894" y="535"/>
                </a:cubicBezTo>
                <a:cubicBezTo>
                  <a:pt x="894" y="535"/>
                  <a:pt x="894" y="535"/>
                  <a:pt x="894" y="535"/>
                </a:cubicBezTo>
                <a:cubicBezTo>
                  <a:pt x="893" y="537"/>
                  <a:pt x="891" y="538"/>
                  <a:pt x="890" y="540"/>
                </a:cubicBezTo>
                <a:cubicBezTo>
                  <a:pt x="890" y="538"/>
                  <a:pt x="890" y="537"/>
                  <a:pt x="890" y="535"/>
                </a:cubicBezTo>
                <a:cubicBezTo>
                  <a:pt x="891" y="526"/>
                  <a:pt x="894" y="516"/>
                  <a:pt x="894" y="507"/>
                </a:cubicBezTo>
                <a:cubicBezTo>
                  <a:pt x="894" y="498"/>
                  <a:pt x="894" y="490"/>
                  <a:pt x="893" y="481"/>
                </a:cubicBezTo>
                <a:close/>
                <a:moveTo>
                  <a:pt x="713" y="477"/>
                </a:moveTo>
                <a:cubicBezTo>
                  <a:pt x="712" y="474"/>
                  <a:pt x="712" y="471"/>
                  <a:pt x="711" y="468"/>
                </a:cubicBezTo>
                <a:cubicBezTo>
                  <a:pt x="710" y="459"/>
                  <a:pt x="714" y="450"/>
                  <a:pt x="715" y="441"/>
                </a:cubicBezTo>
                <a:cubicBezTo>
                  <a:pt x="716" y="435"/>
                  <a:pt x="717" y="429"/>
                  <a:pt x="721" y="424"/>
                </a:cubicBezTo>
                <a:cubicBezTo>
                  <a:pt x="724" y="421"/>
                  <a:pt x="728" y="418"/>
                  <a:pt x="731" y="416"/>
                </a:cubicBezTo>
                <a:cubicBezTo>
                  <a:pt x="735" y="415"/>
                  <a:pt x="739" y="414"/>
                  <a:pt x="742" y="414"/>
                </a:cubicBezTo>
                <a:cubicBezTo>
                  <a:pt x="740" y="414"/>
                  <a:pt x="738" y="415"/>
                  <a:pt x="737" y="416"/>
                </a:cubicBezTo>
                <a:cubicBezTo>
                  <a:pt x="733" y="418"/>
                  <a:pt x="729" y="421"/>
                  <a:pt x="726" y="424"/>
                </a:cubicBezTo>
                <a:cubicBezTo>
                  <a:pt x="720" y="433"/>
                  <a:pt x="716" y="443"/>
                  <a:pt x="714" y="454"/>
                </a:cubicBezTo>
                <a:cubicBezTo>
                  <a:pt x="713" y="461"/>
                  <a:pt x="712" y="469"/>
                  <a:pt x="713" y="477"/>
                </a:cubicBezTo>
                <a:close/>
                <a:moveTo>
                  <a:pt x="712" y="421"/>
                </a:moveTo>
                <a:cubicBezTo>
                  <a:pt x="712" y="420"/>
                  <a:pt x="711" y="418"/>
                  <a:pt x="709" y="416"/>
                </a:cubicBezTo>
                <a:cubicBezTo>
                  <a:pt x="712" y="417"/>
                  <a:pt x="715" y="417"/>
                  <a:pt x="717" y="417"/>
                </a:cubicBezTo>
                <a:cubicBezTo>
                  <a:pt x="720" y="417"/>
                  <a:pt x="723" y="417"/>
                  <a:pt x="726" y="416"/>
                </a:cubicBezTo>
                <a:cubicBezTo>
                  <a:pt x="721" y="419"/>
                  <a:pt x="718" y="423"/>
                  <a:pt x="715" y="428"/>
                </a:cubicBezTo>
                <a:cubicBezTo>
                  <a:pt x="714" y="425"/>
                  <a:pt x="713" y="421"/>
                  <a:pt x="712" y="421"/>
                </a:cubicBezTo>
                <a:close/>
                <a:moveTo>
                  <a:pt x="741" y="410"/>
                </a:moveTo>
                <a:cubicBezTo>
                  <a:pt x="728" y="413"/>
                  <a:pt x="715" y="413"/>
                  <a:pt x="702" y="412"/>
                </a:cubicBezTo>
                <a:cubicBezTo>
                  <a:pt x="695" y="411"/>
                  <a:pt x="689" y="411"/>
                  <a:pt x="682" y="410"/>
                </a:cubicBezTo>
                <a:cubicBezTo>
                  <a:pt x="676" y="409"/>
                  <a:pt x="670" y="409"/>
                  <a:pt x="664" y="407"/>
                </a:cubicBezTo>
                <a:cubicBezTo>
                  <a:pt x="653" y="404"/>
                  <a:pt x="644" y="398"/>
                  <a:pt x="636" y="390"/>
                </a:cubicBezTo>
                <a:cubicBezTo>
                  <a:pt x="632" y="386"/>
                  <a:pt x="626" y="379"/>
                  <a:pt x="620" y="383"/>
                </a:cubicBezTo>
                <a:cubicBezTo>
                  <a:pt x="619" y="383"/>
                  <a:pt x="619" y="384"/>
                  <a:pt x="620" y="384"/>
                </a:cubicBezTo>
                <a:cubicBezTo>
                  <a:pt x="628" y="385"/>
                  <a:pt x="633" y="393"/>
                  <a:pt x="639" y="399"/>
                </a:cubicBezTo>
                <a:cubicBezTo>
                  <a:pt x="638" y="398"/>
                  <a:pt x="637" y="398"/>
                  <a:pt x="635" y="397"/>
                </a:cubicBezTo>
                <a:cubicBezTo>
                  <a:pt x="634" y="396"/>
                  <a:pt x="633" y="396"/>
                  <a:pt x="632" y="396"/>
                </a:cubicBezTo>
                <a:cubicBezTo>
                  <a:pt x="631" y="396"/>
                  <a:pt x="631" y="396"/>
                  <a:pt x="631" y="396"/>
                </a:cubicBezTo>
                <a:cubicBezTo>
                  <a:pt x="630" y="399"/>
                  <a:pt x="636" y="399"/>
                  <a:pt x="637" y="400"/>
                </a:cubicBezTo>
                <a:cubicBezTo>
                  <a:pt x="640" y="402"/>
                  <a:pt x="643" y="404"/>
                  <a:pt x="646" y="406"/>
                </a:cubicBezTo>
                <a:cubicBezTo>
                  <a:pt x="647" y="406"/>
                  <a:pt x="647" y="405"/>
                  <a:pt x="647" y="405"/>
                </a:cubicBezTo>
                <a:cubicBezTo>
                  <a:pt x="647" y="405"/>
                  <a:pt x="647" y="404"/>
                  <a:pt x="646" y="404"/>
                </a:cubicBezTo>
                <a:cubicBezTo>
                  <a:pt x="656" y="409"/>
                  <a:pt x="665" y="412"/>
                  <a:pt x="676" y="413"/>
                </a:cubicBezTo>
                <a:cubicBezTo>
                  <a:pt x="685" y="414"/>
                  <a:pt x="695" y="415"/>
                  <a:pt x="704" y="416"/>
                </a:cubicBezTo>
                <a:cubicBezTo>
                  <a:pt x="705" y="417"/>
                  <a:pt x="706" y="417"/>
                  <a:pt x="707" y="418"/>
                </a:cubicBezTo>
                <a:cubicBezTo>
                  <a:pt x="709" y="420"/>
                  <a:pt x="710" y="422"/>
                  <a:pt x="711" y="424"/>
                </a:cubicBezTo>
                <a:cubicBezTo>
                  <a:pt x="712" y="425"/>
                  <a:pt x="713" y="429"/>
                  <a:pt x="714" y="430"/>
                </a:cubicBezTo>
                <a:cubicBezTo>
                  <a:pt x="714" y="431"/>
                  <a:pt x="713" y="432"/>
                  <a:pt x="713" y="433"/>
                </a:cubicBezTo>
                <a:cubicBezTo>
                  <a:pt x="712" y="439"/>
                  <a:pt x="712" y="444"/>
                  <a:pt x="710" y="450"/>
                </a:cubicBezTo>
                <a:cubicBezTo>
                  <a:pt x="709" y="454"/>
                  <a:pt x="708" y="459"/>
                  <a:pt x="707" y="463"/>
                </a:cubicBezTo>
                <a:cubicBezTo>
                  <a:pt x="702" y="472"/>
                  <a:pt x="691" y="476"/>
                  <a:pt x="683" y="480"/>
                </a:cubicBezTo>
                <a:cubicBezTo>
                  <a:pt x="671" y="485"/>
                  <a:pt x="660" y="489"/>
                  <a:pt x="648" y="494"/>
                </a:cubicBezTo>
                <a:cubicBezTo>
                  <a:pt x="642" y="496"/>
                  <a:pt x="636" y="499"/>
                  <a:pt x="630" y="500"/>
                </a:cubicBezTo>
                <a:cubicBezTo>
                  <a:pt x="624" y="501"/>
                  <a:pt x="619" y="501"/>
                  <a:pt x="613" y="502"/>
                </a:cubicBezTo>
                <a:cubicBezTo>
                  <a:pt x="601" y="503"/>
                  <a:pt x="590" y="500"/>
                  <a:pt x="581" y="493"/>
                </a:cubicBezTo>
                <a:cubicBezTo>
                  <a:pt x="572" y="487"/>
                  <a:pt x="563" y="477"/>
                  <a:pt x="557" y="468"/>
                </a:cubicBezTo>
                <a:cubicBezTo>
                  <a:pt x="550" y="457"/>
                  <a:pt x="547" y="445"/>
                  <a:pt x="543" y="434"/>
                </a:cubicBezTo>
                <a:cubicBezTo>
                  <a:pt x="539" y="423"/>
                  <a:pt x="536" y="412"/>
                  <a:pt x="540" y="401"/>
                </a:cubicBezTo>
                <a:cubicBezTo>
                  <a:pt x="542" y="395"/>
                  <a:pt x="543" y="389"/>
                  <a:pt x="545" y="383"/>
                </a:cubicBezTo>
                <a:cubicBezTo>
                  <a:pt x="547" y="378"/>
                  <a:pt x="550" y="375"/>
                  <a:pt x="553" y="371"/>
                </a:cubicBezTo>
                <a:cubicBezTo>
                  <a:pt x="560" y="366"/>
                  <a:pt x="567" y="360"/>
                  <a:pt x="576" y="360"/>
                </a:cubicBezTo>
                <a:cubicBezTo>
                  <a:pt x="583" y="360"/>
                  <a:pt x="589" y="361"/>
                  <a:pt x="595" y="364"/>
                </a:cubicBezTo>
                <a:cubicBezTo>
                  <a:pt x="598" y="365"/>
                  <a:pt x="601" y="367"/>
                  <a:pt x="604" y="368"/>
                </a:cubicBezTo>
                <a:cubicBezTo>
                  <a:pt x="606" y="369"/>
                  <a:pt x="607" y="370"/>
                  <a:pt x="609" y="370"/>
                </a:cubicBezTo>
                <a:cubicBezTo>
                  <a:pt x="609" y="370"/>
                  <a:pt x="609" y="370"/>
                  <a:pt x="609" y="370"/>
                </a:cubicBezTo>
                <a:cubicBezTo>
                  <a:pt x="608" y="371"/>
                  <a:pt x="607" y="372"/>
                  <a:pt x="607" y="373"/>
                </a:cubicBezTo>
                <a:cubicBezTo>
                  <a:pt x="606" y="375"/>
                  <a:pt x="605" y="378"/>
                  <a:pt x="605" y="380"/>
                </a:cubicBezTo>
                <a:cubicBezTo>
                  <a:pt x="593" y="374"/>
                  <a:pt x="579" y="385"/>
                  <a:pt x="567" y="386"/>
                </a:cubicBezTo>
                <a:cubicBezTo>
                  <a:pt x="566" y="386"/>
                  <a:pt x="566" y="388"/>
                  <a:pt x="567" y="388"/>
                </a:cubicBezTo>
                <a:cubicBezTo>
                  <a:pt x="573" y="387"/>
                  <a:pt x="579" y="384"/>
                  <a:pt x="584" y="383"/>
                </a:cubicBezTo>
                <a:cubicBezTo>
                  <a:pt x="591" y="381"/>
                  <a:pt x="598" y="380"/>
                  <a:pt x="604" y="381"/>
                </a:cubicBezTo>
                <a:cubicBezTo>
                  <a:pt x="605" y="381"/>
                  <a:pt x="605" y="381"/>
                  <a:pt x="605" y="381"/>
                </a:cubicBezTo>
                <a:cubicBezTo>
                  <a:pt x="605" y="381"/>
                  <a:pt x="605" y="382"/>
                  <a:pt x="605" y="383"/>
                </a:cubicBezTo>
                <a:cubicBezTo>
                  <a:pt x="604" y="383"/>
                  <a:pt x="604" y="383"/>
                  <a:pt x="603" y="384"/>
                </a:cubicBezTo>
                <a:cubicBezTo>
                  <a:pt x="602" y="386"/>
                  <a:pt x="601" y="389"/>
                  <a:pt x="601" y="391"/>
                </a:cubicBezTo>
                <a:cubicBezTo>
                  <a:pt x="595" y="392"/>
                  <a:pt x="592" y="397"/>
                  <a:pt x="587" y="400"/>
                </a:cubicBezTo>
                <a:cubicBezTo>
                  <a:pt x="583" y="402"/>
                  <a:pt x="581" y="404"/>
                  <a:pt x="578" y="407"/>
                </a:cubicBezTo>
                <a:cubicBezTo>
                  <a:pt x="576" y="409"/>
                  <a:pt x="574" y="410"/>
                  <a:pt x="571" y="412"/>
                </a:cubicBezTo>
                <a:cubicBezTo>
                  <a:pt x="571" y="412"/>
                  <a:pt x="571" y="412"/>
                  <a:pt x="570" y="412"/>
                </a:cubicBezTo>
                <a:cubicBezTo>
                  <a:pt x="570" y="413"/>
                  <a:pt x="569" y="414"/>
                  <a:pt x="568" y="414"/>
                </a:cubicBezTo>
                <a:cubicBezTo>
                  <a:pt x="567" y="415"/>
                  <a:pt x="569" y="418"/>
                  <a:pt x="571" y="416"/>
                </a:cubicBezTo>
                <a:cubicBezTo>
                  <a:pt x="574" y="413"/>
                  <a:pt x="577" y="410"/>
                  <a:pt x="581" y="407"/>
                </a:cubicBezTo>
                <a:cubicBezTo>
                  <a:pt x="583" y="406"/>
                  <a:pt x="585" y="404"/>
                  <a:pt x="587" y="402"/>
                </a:cubicBezTo>
                <a:cubicBezTo>
                  <a:pt x="590" y="398"/>
                  <a:pt x="596" y="393"/>
                  <a:pt x="601" y="391"/>
                </a:cubicBezTo>
                <a:cubicBezTo>
                  <a:pt x="602" y="392"/>
                  <a:pt x="602" y="392"/>
                  <a:pt x="602" y="393"/>
                </a:cubicBezTo>
                <a:cubicBezTo>
                  <a:pt x="599" y="395"/>
                  <a:pt x="597" y="398"/>
                  <a:pt x="595" y="401"/>
                </a:cubicBezTo>
                <a:cubicBezTo>
                  <a:pt x="595" y="401"/>
                  <a:pt x="595" y="401"/>
                  <a:pt x="596" y="401"/>
                </a:cubicBezTo>
                <a:cubicBezTo>
                  <a:pt x="598" y="399"/>
                  <a:pt x="600" y="396"/>
                  <a:pt x="602" y="394"/>
                </a:cubicBezTo>
                <a:cubicBezTo>
                  <a:pt x="603" y="394"/>
                  <a:pt x="603" y="395"/>
                  <a:pt x="604" y="395"/>
                </a:cubicBezTo>
                <a:cubicBezTo>
                  <a:pt x="602" y="397"/>
                  <a:pt x="601" y="400"/>
                  <a:pt x="600" y="403"/>
                </a:cubicBezTo>
                <a:cubicBezTo>
                  <a:pt x="600" y="403"/>
                  <a:pt x="600" y="403"/>
                  <a:pt x="600" y="403"/>
                </a:cubicBezTo>
                <a:cubicBezTo>
                  <a:pt x="601" y="400"/>
                  <a:pt x="603" y="398"/>
                  <a:pt x="605" y="396"/>
                </a:cubicBezTo>
                <a:cubicBezTo>
                  <a:pt x="606" y="397"/>
                  <a:pt x="608" y="397"/>
                  <a:pt x="610" y="397"/>
                </a:cubicBezTo>
                <a:cubicBezTo>
                  <a:pt x="612" y="397"/>
                  <a:pt x="614" y="397"/>
                  <a:pt x="617" y="397"/>
                </a:cubicBezTo>
                <a:cubicBezTo>
                  <a:pt x="617" y="397"/>
                  <a:pt x="617" y="397"/>
                  <a:pt x="617" y="397"/>
                </a:cubicBezTo>
                <a:cubicBezTo>
                  <a:pt x="617" y="404"/>
                  <a:pt x="621" y="410"/>
                  <a:pt x="625" y="414"/>
                </a:cubicBezTo>
                <a:cubicBezTo>
                  <a:pt x="631" y="421"/>
                  <a:pt x="637" y="428"/>
                  <a:pt x="644" y="433"/>
                </a:cubicBezTo>
                <a:cubicBezTo>
                  <a:pt x="644" y="434"/>
                  <a:pt x="645" y="433"/>
                  <a:pt x="644" y="433"/>
                </a:cubicBezTo>
                <a:cubicBezTo>
                  <a:pt x="638" y="428"/>
                  <a:pt x="633" y="421"/>
                  <a:pt x="628" y="415"/>
                </a:cubicBezTo>
                <a:cubicBezTo>
                  <a:pt x="626" y="412"/>
                  <a:pt x="623" y="410"/>
                  <a:pt x="622" y="407"/>
                </a:cubicBezTo>
                <a:cubicBezTo>
                  <a:pt x="620" y="404"/>
                  <a:pt x="620" y="401"/>
                  <a:pt x="619" y="398"/>
                </a:cubicBezTo>
                <a:cubicBezTo>
                  <a:pt x="619" y="398"/>
                  <a:pt x="619" y="398"/>
                  <a:pt x="619" y="398"/>
                </a:cubicBezTo>
                <a:cubicBezTo>
                  <a:pt x="619" y="398"/>
                  <a:pt x="619" y="397"/>
                  <a:pt x="619" y="397"/>
                </a:cubicBezTo>
                <a:cubicBezTo>
                  <a:pt x="619" y="397"/>
                  <a:pt x="618" y="397"/>
                  <a:pt x="618" y="397"/>
                </a:cubicBezTo>
                <a:cubicBezTo>
                  <a:pt x="619" y="396"/>
                  <a:pt x="620" y="396"/>
                  <a:pt x="622" y="396"/>
                </a:cubicBezTo>
                <a:cubicBezTo>
                  <a:pt x="622" y="398"/>
                  <a:pt x="623" y="400"/>
                  <a:pt x="625" y="401"/>
                </a:cubicBezTo>
                <a:cubicBezTo>
                  <a:pt x="626" y="404"/>
                  <a:pt x="629" y="405"/>
                  <a:pt x="630" y="406"/>
                </a:cubicBezTo>
                <a:cubicBezTo>
                  <a:pt x="630" y="407"/>
                  <a:pt x="631" y="406"/>
                  <a:pt x="631" y="406"/>
                </a:cubicBezTo>
                <a:cubicBezTo>
                  <a:pt x="629" y="405"/>
                  <a:pt x="628" y="403"/>
                  <a:pt x="627" y="401"/>
                </a:cubicBezTo>
                <a:cubicBezTo>
                  <a:pt x="625" y="399"/>
                  <a:pt x="624" y="398"/>
                  <a:pt x="623" y="396"/>
                </a:cubicBezTo>
                <a:cubicBezTo>
                  <a:pt x="624" y="396"/>
                  <a:pt x="625" y="395"/>
                  <a:pt x="625" y="395"/>
                </a:cubicBezTo>
                <a:cubicBezTo>
                  <a:pt x="625" y="396"/>
                  <a:pt x="625" y="396"/>
                  <a:pt x="626" y="397"/>
                </a:cubicBezTo>
                <a:cubicBezTo>
                  <a:pt x="632" y="405"/>
                  <a:pt x="641" y="409"/>
                  <a:pt x="651" y="412"/>
                </a:cubicBezTo>
                <a:cubicBezTo>
                  <a:pt x="651" y="412"/>
                  <a:pt x="651" y="412"/>
                  <a:pt x="651" y="412"/>
                </a:cubicBezTo>
                <a:cubicBezTo>
                  <a:pt x="641" y="409"/>
                  <a:pt x="634" y="402"/>
                  <a:pt x="627" y="395"/>
                </a:cubicBezTo>
                <a:cubicBezTo>
                  <a:pt x="627" y="395"/>
                  <a:pt x="627" y="395"/>
                  <a:pt x="627" y="395"/>
                </a:cubicBezTo>
                <a:cubicBezTo>
                  <a:pt x="628" y="394"/>
                  <a:pt x="629" y="394"/>
                  <a:pt x="630" y="394"/>
                </a:cubicBezTo>
                <a:cubicBezTo>
                  <a:pt x="631" y="393"/>
                  <a:pt x="631" y="392"/>
                  <a:pt x="630" y="392"/>
                </a:cubicBezTo>
                <a:cubicBezTo>
                  <a:pt x="626" y="392"/>
                  <a:pt x="622" y="392"/>
                  <a:pt x="619" y="393"/>
                </a:cubicBezTo>
                <a:cubicBezTo>
                  <a:pt x="615" y="393"/>
                  <a:pt x="612" y="393"/>
                  <a:pt x="610" y="390"/>
                </a:cubicBezTo>
                <a:cubicBezTo>
                  <a:pt x="608" y="387"/>
                  <a:pt x="607" y="383"/>
                  <a:pt x="608" y="380"/>
                </a:cubicBezTo>
                <a:cubicBezTo>
                  <a:pt x="610" y="372"/>
                  <a:pt x="619" y="365"/>
                  <a:pt x="627" y="371"/>
                </a:cubicBezTo>
                <a:cubicBezTo>
                  <a:pt x="631" y="374"/>
                  <a:pt x="634" y="378"/>
                  <a:pt x="639" y="380"/>
                </a:cubicBezTo>
                <a:cubicBezTo>
                  <a:pt x="643" y="382"/>
                  <a:pt x="648" y="382"/>
                  <a:pt x="652" y="383"/>
                </a:cubicBezTo>
                <a:cubicBezTo>
                  <a:pt x="665" y="384"/>
                  <a:pt x="677" y="388"/>
                  <a:pt x="689" y="392"/>
                </a:cubicBezTo>
                <a:cubicBezTo>
                  <a:pt x="700" y="394"/>
                  <a:pt x="711" y="398"/>
                  <a:pt x="722" y="400"/>
                </a:cubicBezTo>
                <a:cubicBezTo>
                  <a:pt x="731" y="401"/>
                  <a:pt x="741" y="399"/>
                  <a:pt x="750" y="398"/>
                </a:cubicBezTo>
                <a:cubicBezTo>
                  <a:pt x="758" y="397"/>
                  <a:pt x="766" y="395"/>
                  <a:pt x="774" y="394"/>
                </a:cubicBezTo>
                <a:cubicBezTo>
                  <a:pt x="778" y="393"/>
                  <a:pt x="785" y="392"/>
                  <a:pt x="787" y="388"/>
                </a:cubicBezTo>
                <a:cubicBezTo>
                  <a:pt x="787" y="387"/>
                  <a:pt x="786" y="386"/>
                  <a:pt x="786" y="387"/>
                </a:cubicBezTo>
                <a:cubicBezTo>
                  <a:pt x="784" y="390"/>
                  <a:pt x="778" y="390"/>
                  <a:pt x="775" y="391"/>
                </a:cubicBezTo>
                <a:cubicBezTo>
                  <a:pt x="771" y="392"/>
                  <a:pt x="767" y="392"/>
                  <a:pt x="764" y="393"/>
                </a:cubicBezTo>
                <a:cubicBezTo>
                  <a:pt x="758" y="394"/>
                  <a:pt x="752" y="395"/>
                  <a:pt x="746" y="395"/>
                </a:cubicBezTo>
                <a:cubicBezTo>
                  <a:pt x="740" y="396"/>
                  <a:pt x="733" y="397"/>
                  <a:pt x="727" y="396"/>
                </a:cubicBezTo>
                <a:cubicBezTo>
                  <a:pt x="720" y="396"/>
                  <a:pt x="712" y="394"/>
                  <a:pt x="705" y="392"/>
                </a:cubicBezTo>
                <a:cubicBezTo>
                  <a:pt x="709" y="392"/>
                  <a:pt x="712" y="391"/>
                  <a:pt x="715" y="390"/>
                </a:cubicBezTo>
                <a:cubicBezTo>
                  <a:pt x="723" y="388"/>
                  <a:pt x="731" y="387"/>
                  <a:pt x="740" y="387"/>
                </a:cubicBezTo>
                <a:cubicBezTo>
                  <a:pt x="740" y="387"/>
                  <a:pt x="740" y="386"/>
                  <a:pt x="740" y="386"/>
                </a:cubicBezTo>
                <a:cubicBezTo>
                  <a:pt x="733" y="385"/>
                  <a:pt x="727" y="386"/>
                  <a:pt x="721" y="388"/>
                </a:cubicBezTo>
                <a:cubicBezTo>
                  <a:pt x="717" y="389"/>
                  <a:pt x="712" y="390"/>
                  <a:pt x="707" y="390"/>
                </a:cubicBezTo>
                <a:cubicBezTo>
                  <a:pt x="704" y="390"/>
                  <a:pt x="700" y="389"/>
                  <a:pt x="697" y="390"/>
                </a:cubicBezTo>
                <a:cubicBezTo>
                  <a:pt x="694" y="389"/>
                  <a:pt x="691" y="388"/>
                  <a:pt x="688" y="387"/>
                </a:cubicBezTo>
                <a:cubicBezTo>
                  <a:pt x="688" y="387"/>
                  <a:pt x="688" y="387"/>
                  <a:pt x="688" y="387"/>
                </a:cubicBezTo>
                <a:cubicBezTo>
                  <a:pt x="690" y="387"/>
                  <a:pt x="693" y="386"/>
                  <a:pt x="695" y="386"/>
                </a:cubicBezTo>
                <a:cubicBezTo>
                  <a:pt x="706" y="385"/>
                  <a:pt x="716" y="383"/>
                  <a:pt x="726" y="381"/>
                </a:cubicBezTo>
                <a:cubicBezTo>
                  <a:pt x="727" y="381"/>
                  <a:pt x="727" y="380"/>
                  <a:pt x="726" y="380"/>
                </a:cubicBezTo>
                <a:cubicBezTo>
                  <a:pt x="717" y="382"/>
                  <a:pt x="708" y="384"/>
                  <a:pt x="698" y="384"/>
                </a:cubicBezTo>
                <a:cubicBezTo>
                  <a:pt x="694" y="384"/>
                  <a:pt x="690" y="385"/>
                  <a:pt x="686" y="385"/>
                </a:cubicBezTo>
                <a:cubicBezTo>
                  <a:pt x="683" y="385"/>
                  <a:pt x="680" y="384"/>
                  <a:pt x="678" y="383"/>
                </a:cubicBezTo>
                <a:cubicBezTo>
                  <a:pt x="678" y="383"/>
                  <a:pt x="679" y="383"/>
                  <a:pt x="680" y="383"/>
                </a:cubicBezTo>
                <a:cubicBezTo>
                  <a:pt x="687" y="382"/>
                  <a:pt x="694" y="380"/>
                  <a:pt x="701" y="378"/>
                </a:cubicBezTo>
                <a:cubicBezTo>
                  <a:pt x="717" y="375"/>
                  <a:pt x="732" y="370"/>
                  <a:pt x="748" y="367"/>
                </a:cubicBezTo>
                <a:cubicBezTo>
                  <a:pt x="749" y="366"/>
                  <a:pt x="748" y="366"/>
                  <a:pt x="748" y="366"/>
                </a:cubicBezTo>
                <a:cubicBezTo>
                  <a:pt x="740" y="366"/>
                  <a:pt x="734" y="369"/>
                  <a:pt x="726" y="371"/>
                </a:cubicBezTo>
                <a:cubicBezTo>
                  <a:pt x="718" y="372"/>
                  <a:pt x="711" y="375"/>
                  <a:pt x="703" y="376"/>
                </a:cubicBezTo>
                <a:cubicBezTo>
                  <a:pt x="695" y="377"/>
                  <a:pt x="688" y="379"/>
                  <a:pt x="681" y="380"/>
                </a:cubicBezTo>
                <a:cubicBezTo>
                  <a:pt x="675" y="381"/>
                  <a:pt x="669" y="380"/>
                  <a:pt x="664" y="379"/>
                </a:cubicBezTo>
                <a:cubicBezTo>
                  <a:pt x="667" y="378"/>
                  <a:pt x="670" y="378"/>
                  <a:pt x="673" y="377"/>
                </a:cubicBezTo>
                <a:cubicBezTo>
                  <a:pt x="678" y="376"/>
                  <a:pt x="684" y="377"/>
                  <a:pt x="689" y="375"/>
                </a:cubicBezTo>
                <a:cubicBezTo>
                  <a:pt x="694" y="374"/>
                  <a:pt x="699" y="372"/>
                  <a:pt x="704" y="371"/>
                </a:cubicBezTo>
                <a:cubicBezTo>
                  <a:pt x="705" y="371"/>
                  <a:pt x="704" y="370"/>
                  <a:pt x="704" y="370"/>
                </a:cubicBezTo>
                <a:cubicBezTo>
                  <a:pt x="694" y="372"/>
                  <a:pt x="684" y="374"/>
                  <a:pt x="674" y="375"/>
                </a:cubicBezTo>
                <a:cubicBezTo>
                  <a:pt x="675" y="375"/>
                  <a:pt x="676" y="374"/>
                  <a:pt x="677" y="374"/>
                </a:cubicBezTo>
                <a:cubicBezTo>
                  <a:pt x="687" y="369"/>
                  <a:pt x="698" y="363"/>
                  <a:pt x="709" y="359"/>
                </a:cubicBezTo>
                <a:cubicBezTo>
                  <a:pt x="710" y="359"/>
                  <a:pt x="710" y="359"/>
                  <a:pt x="709" y="359"/>
                </a:cubicBezTo>
                <a:cubicBezTo>
                  <a:pt x="690" y="363"/>
                  <a:pt x="674" y="378"/>
                  <a:pt x="654" y="376"/>
                </a:cubicBezTo>
                <a:cubicBezTo>
                  <a:pt x="654" y="376"/>
                  <a:pt x="654" y="377"/>
                  <a:pt x="653" y="377"/>
                </a:cubicBezTo>
                <a:cubicBezTo>
                  <a:pt x="652" y="377"/>
                  <a:pt x="651" y="377"/>
                  <a:pt x="650" y="377"/>
                </a:cubicBezTo>
                <a:cubicBezTo>
                  <a:pt x="657" y="376"/>
                  <a:pt x="664" y="374"/>
                  <a:pt x="670" y="371"/>
                </a:cubicBezTo>
                <a:cubicBezTo>
                  <a:pt x="680" y="368"/>
                  <a:pt x="689" y="364"/>
                  <a:pt x="698" y="360"/>
                </a:cubicBezTo>
                <a:cubicBezTo>
                  <a:pt x="718" y="351"/>
                  <a:pt x="738" y="342"/>
                  <a:pt x="760" y="338"/>
                </a:cubicBezTo>
                <a:cubicBezTo>
                  <a:pt x="761" y="337"/>
                  <a:pt x="760" y="336"/>
                  <a:pt x="760" y="336"/>
                </a:cubicBezTo>
                <a:cubicBezTo>
                  <a:pt x="739" y="340"/>
                  <a:pt x="720" y="349"/>
                  <a:pt x="701" y="357"/>
                </a:cubicBezTo>
                <a:cubicBezTo>
                  <a:pt x="691" y="361"/>
                  <a:pt x="681" y="365"/>
                  <a:pt x="671" y="369"/>
                </a:cubicBezTo>
                <a:cubicBezTo>
                  <a:pt x="663" y="371"/>
                  <a:pt x="655" y="373"/>
                  <a:pt x="647" y="375"/>
                </a:cubicBezTo>
                <a:cubicBezTo>
                  <a:pt x="647" y="374"/>
                  <a:pt x="647" y="374"/>
                  <a:pt x="647" y="374"/>
                </a:cubicBezTo>
                <a:cubicBezTo>
                  <a:pt x="654" y="373"/>
                  <a:pt x="661" y="370"/>
                  <a:pt x="667" y="367"/>
                </a:cubicBezTo>
                <a:cubicBezTo>
                  <a:pt x="680" y="362"/>
                  <a:pt x="691" y="352"/>
                  <a:pt x="705" y="349"/>
                </a:cubicBezTo>
                <a:cubicBezTo>
                  <a:pt x="705" y="349"/>
                  <a:pt x="705" y="349"/>
                  <a:pt x="705" y="349"/>
                </a:cubicBezTo>
                <a:cubicBezTo>
                  <a:pt x="698" y="350"/>
                  <a:pt x="693" y="352"/>
                  <a:pt x="687" y="356"/>
                </a:cubicBezTo>
                <a:cubicBezTo>
                  <a:pt x="679" y="360"/>
                  <a:pt x="671" y="364"/>
                  <a:pt x="663" y="367"/>
                </a:cubicBezTo>
                <a:cubicBezTo>
                  <a:pt x="661" y="368"/>
                  <a:pt x="658" y="369"/>
                  <a:pt x="656" y="369"/>
                </a:cubicBezTo>
                <a:cubicBezTo>
                  <a:pt x="658" y="368"/>
                  <a:pt x="661" y="366"/>
                  <a:pt x="663" y="365"/>
                </a:cubicBezTo>
                <a:cubicBezTo>
                  <a:pt x="663" y="365"/>
                  <a:pt x="663" y="365"/>
                  <a:pt x="663" y="365"/>
                </a:cubicBezTo>
                <a:cubicBezTo>
                  <a:pt x="660" y="366"/>
                  <a:pt x="657" y="366"/>
                  <a:pt x="654" y="367"/>
                </a:cubicBezTo>
                <a:cubicBezTo>
                  <a:pt x="651" y="369"/>
                  <a:pt x="648" y="370"/>
                  <a:pt x="644" y="371"/>
                </a:cubicBezTo>
                <a:cubicBezTo>
                  <a:pt x="644" y="371"/>
                  <a:pt x="644" y="371"/>
                  <a:pt x="643" y="371"/>
                </a:cubicBezTo>
                <a:cubicBezTo>
                  <a:pt x="647" y="369"/>
                  <a:pt x="650" y="367"/>
                  <a:pt x="654" y="365"/>
                </a:cubicBezTo>
                <a:cubicBezTo>
                  <a:pt x="659" y="362"/>
                  <a:pt x="664" y="359"/>
                  <a:pt x="668" y="355"/>
                </a:cubicBezTo>
                <a:cubicBezTo>
                  <a:pt x="677" y="349"/>
                  <a:pt x="687" y="343"/>
                  <a:pt x="697" y="338"/>
                </a:cubicBezTo>
                <a:cubicBezTo>
                  <a:pt x="698" y="338"/>
                  <a:pt x="697" y="337"/>
                  <a:pt x="696" y="337"/>
                </a:cubicBezTo>
                <a:cubicBezTo>
                  <a:pt x="686" y="342"/>
                  <a:pt x="675" y="347"/>
                  <a:pt x="665" y="354"/>
                </a:cubicBezTo>
                <a:cubicBezTo>
                  <a:pt x="660" y="358"/>
                  <a:pt x="655" y="361"/>
                  <a:pt x="649" y="364"/>
                </a:cubicBezTo>
                <a:cubicBezTo>
                  <a:pt x="648" y="365"/>
                  <a:pt x="647" y="366"/>
                  <a:pt x="646" y="366"/>
                </a:cubicBezTo>
                <a:cubicBezTo>
                  <a:pt x="646" y="366"/>
                  <a:pt x="646" y="366"/>
                  <a:pt x="647" y="365"/>
                </a:cubicBezTo>
                <a:cubicBezTo>
                  <a:pt x="649" y="364"/>
                  <a:pt x="651" y="362"/>
                  <a:pt x="653" y="361"/>
                </a:cubicBezTo>
                <a:cubicBezTo>
                  <a:pt x="658" y="358"/>
                  <a:pt x="663" y="355"/>
                  <a:pt x="668" y="351"/>
                </a:cubicBezTo>
                <a:cubicBezTo>
                  <a:pt x="677" y="344"/>
                  <a:pt x="685" y="335"/>
                  <a:pt x="696" y="330"/>
                </a:cubicBezTo>
                <a:cubicBezTo>
                  <a:pt x="697" y="329"/>
                  <a:pt x="696" y="328"/>
                  <a:pt x="696" y="329"/>
                </a:cubicBezTo>
                <a:cubicBezTo>
                  <a:pt x="683" y="334"/>
                  <a:pt x="674" y="344"/>
                  <a:pt x="663" y="351"/>
                </a:cubicBezTo>
                <a:cubicBezTo>
                  <a:pt x="659" y="354"/>
                  <a:pt x="654" y="356"/>
                  <a:pt x="650" y="359"/>
                </a:cubicBezTo>
                <a:cubicBezTo>
                  <a:pt x="650" y="359"/>
                  <a:pt x="650" y="359"/>
                  <a:pt x="650" y="359"/>
                </a:cubicBezTo>
                <a:cubicBezTo>
                  <a:pt x="655" y="355"/>
                  <a:pt x="660" y="351"/>
                  <a:pt x="666" y="347"/>
                </a:cubicBezTo>
                <a:cubicBezTo>
                  <a:pt x="676" y="340"/>
                  <a:pt x="685" y="332"/>
                  <a:pt x="695" y="324"/>
                </a:cubicBezTo>
                <a:cubicBezTo>
                  <a:pt x="705" y="316"/>
                  <a:pt x="716" y="308"/>
                  <a:pt x="725" y="298"/>
                </a:cubicBezTo>
                <a:cubicBezTo>
                  <a:pt x="729" y="293"/>
                  <a:pt x="733" y="287"/>
                  <a:pt x="738" y="283"/>
                </a:cubicBezTo>
                <a:cubicBezTo>
                  <a:pt x="741" y="282"/>
                  <a:pt x="743" y="280"/>
                  <a:pt x="745" y="278"/>
                </a:cubicBezTo>
                <a:cubicBezTo>
                  <a:pt x="745" y="278"/>
                  <a:pt x="746" y="278"/>
                  <a:pt x="746" y="278"/>
                </a:cubicBezTo>
                <a:cubicBezTo>
                  <a:pt x="758" y="276"/>
                  <a:pt x="768" y="279"/>
                  <a:pt x="779" y="281"/>
                </a:cubicBezTo>
                <a:cubicBezTo>
                  <a:pt x="788" y="284"/>
                  <a:pt x="796" y="285"/>
                  <a:pt x="804" y="289"/>
                </a:cubicBezTo>
                <a:cubicBezTo>
                  <a:pt x="804" y="289"/>
                  <a:pt x="805" y="289"/>
                  <a:pt x="805" y="289"/>
                </a:cubicBezTo>
                <a:cubicBezTo>
                  <a:pt x="807" y="290"/>
                  <a:pt x="808" y="291"/>
                  <a:pt x="810" y="292"/>
                </a:cubicBezTo>
                <a:cubicBezTo>
                  <a:pt x="828" y="302"/>
                  <a:pt x="847" y="320"/>
                  <a:pt x="852" y="341"/>
                </a:cubicBezTo>
                <a:cubicBezTo>
                  <a:pt x="852" y="342"/>
                  <a:pt x="852" y="342"/>
                  <a:pt x="852" y="342"/>
                </a:cubicBezTo>
                <a:cubicBezTo>
                  <a:pt x="854" y="351"/>
                  <a:pt x="846" y="359"/>
                  <a:pt x="839" y="365"/>
                </a:cubicBezTo>
                <a:cubicBezTo>
                  <a:pt x="832" y="371"/>
                  <a:pt x="825" y="377"/>
                  <a:pt x="817" y="382"/>
                </a:cubicBezTo>
                <a:cubicBezTo>
                  <a:pt x="806" y="391"/>
                  <a:pt x="792" y="397"/>
                  <a:pt x="778" y="402"/>
                </a:cubicBezTo>
                <a:cubicBezTo>
                  <a:pt x="766" y="406"/>
                  <a:pt x="754" y="407"/>
                  <a:pt x="741" y="410"/>
                </a:cubicBezTo>
                <a:close/>
                <a:moveTo>
                  <a:pt x="521" y="621"/>
                </a:moveTo>
                <a:cubicBezTo>
                  <a:pt x="520" y="621"/>
                  <a:pt x="520" y="621"/>
                  <a:pt x="519" y="621"/>
                </a:cubicBezTo>
                <a:cubicBezTo>
                  <a:pt x="521" y="620"/>
                  <a:pt x="522" y="617"/>
                  <a:pt x="522" y="615"/>
                </a:cubicBezTo>
                <a:cubicBezTo>
                  <a:pt x="523" y="613"/>
                  <a:pt x="520" y="613"/>
                  <a:pt x="520" y="614"/>
                </a:cubicBezTo>
                <a:cubicBezTo>
                  <a:pt x="520" y="616"/>
                  <a:pt x="519" y="617"/>
                  <a:pt x="519" y="618"/>
                </a:cubicBezTo>
                <a:cubicBezTo>
                  <a:pt x="518" y="618"/>
                  <a:pt x="517" y="619"/>
                  <a:pt x="516" y="619"/>
                </a:cubicBezTo>
                <a:cubicBezTo>
                  <a:pt x="515" y="619"/>
                  <a:pt x="515" y="620"/>
                  <a:pt x="516" y="621"/>
                </a:cubicBezTo>
                <a:cubicBezTo>
                  <a:pt x="514" y="621"/>
                  <a:pt x="513" y="621"/>
                  <a:pt x="512" y="621"/>
                </a:cubicBezTo>
                <a:cubicBezTo>
                  <a:pt x="509" y="622"/>
                  <a:pt x="506" y="623"/>
                  <a:pt x="504" y="624"/>
                </a:cubicBezTo>
                <a:cubicBezTo>
                  <a:pt x="501" y="625"/>
                  <a:pt x="499" y="625"/>
                  <a:pt x="497" y="624"/>
                </a:cubicBezTo>
                <a:cubicBezTo>
                  <a:pt x="497" y="623"/>
                  <a:pt x="497" y="623"/>
                  <a:pt x="496" y="622"/>
                </a:cubicBezTo>
                <a:cubicBezTo>
                  <a:pt x="495" y="621"/>
                  <a:pt x="495" y="620"/>
                  <a:pt x="493" y="619"/>
                </a:cubicBezTo>
                <a:cubicBezTo>
                  <a:pt x="493" y="619"/>
                  <a:pt x="492" y="619"/>
                  <a:pt x="492" y="619"/>
                </a:cubicBezTo>
                <a:cubicBezTo>
                  <a:pt x="492" y="619"/>
                  <a:pt x="492" y="619"/>
                  <a:pt x="491" y="619"/>
                </a:cubicBezTo>
                <a:cubicBezTo>
                  <a:pt x="491" y="619"/>
                  <a:pt x="490" y="618"/>
                  <a:pt x="490" y="618"/>
                </a:cubicBezTo>
                <a:cubicBezTo>
                  <a:pt x="491" y="616"/>
                  <a:pt x="492" y="615"/>
                  <a:pt x="494" y="613"/>
                </a:cubicBezTo>
                <a:cubicBezTo>
                  <a:pt x="495" y="611"/>
                  <a:pt x="498" y="609"/>
                  <a:pt x="499" y="606"/>
                </a:cubicBezTo>
                <a:cubicBezTo>
                  <a:pt x="503" y="600"/>
                  <a:pt x="506" y="592"/>
                  <a:pt x="513" y="588"/>
                </a:cubicBezTo>
                <a:cubicBezTo>
                  <a:pt x="518" y="585"/>
                  <a:pt x="522" y="583"/>
                  <a:pt x="525" y="578"/>
                </a:cubicBezTo>
                <a:cubicBezTo>
                  <a:pt x="528" y="571"/>
                  <a:pt x="532" y="566"/>
                  <a:pt x="536" y="560"/>
                </a:cubicBezTo>
                <a:cubicBezTo>
                  <a:pt x="547" y="548"/>
                  <a:pt x="558" y="537"/>
                  <a:pt x="570" y="526"/>
                </a:cubicBezTo>
                <a:cubicBezTo>
                  <a:pt x="573" y="523"/>
                  <a:pt x="577" y="519"/>
                  <a:pt x="580" y="515"/>
                </a:cubicBezTo>
                <a:cubicBezTo>
                  <a:pt x="582" y="512"/>
                  <a:pt x="585" y="507"/>
                  <a:pt x="589" y="505"/>
                </a:cubicBezTo>
                <a:cubicBezTo>
                  <a:pt x="590" y="504"/>
                  <a:pt x="590" y="502"/>
                  <a:pt x="588" y="503"/>
                </a:cubicBezTo>
                <a:cubicBezTo>
                  <a:pt x="585" y="504"/>
                  <a:pt x="582" y="508"/>
                  <a:pt x="579" y="511"/>
                </a:cubicBezTo>
                <a:cubicBezTo>
                  <a:pt x="576" y="515"/>
                  <a:pt x="573" y="519"/>
                  <a:pt x="569" y="523"/>
                </a:cubicBezTo>
                <a:cubicBezTo>
                  <a:pt x="565" y="526"/>
                  <a:pt x="562" y="529"/>
                  <a:pt x="559" y="532"/>
                </a:cubicBezTo>
                <a:cubicBezTo>
                  <a:pt x="559" y="531"/>
                  <a:pt x="560" y="530"/>
                  <a:pt x="561" y="529"/>
                </a:cubicBezTo>
                <a:cubicBezTo>
                  <a:pt x="563" y="526"/>
                  <a:pt x="566" y="522"/>
                  <a:pt x="569" y="519"/>
                </a:cubicBezTo>
                <a:cubicBezTo>
                  <a:pt x="574" y="513"/>
                  <a:pt x="580" y="507"/>
                  <a:pt x="584" y="500"/>
                </a:cubicBezTo>
                <a:cubicBezTo>
                  <a:pt x="584" y="500"/>
                  <a:pt x="584" y="500"/>
                  <a:pt x="584" y="500"/>
                </a:cubicBezTo>
                <a:cubicBezTo>
                  <a:pt x="592" y="504"/>
                  <a:pt x="601" y="507"/>
                  <a:pt x="610" y="506"/>
                </a:cubicBezTo>
                <a:cubicBezTo>
                  <a:pt x="614" y="505"/>
                  <a:pt x="618" y="505"/>
                  <a:pt x="623" y="505"/>
                </a:cubicBezTo>
                <a:cubicBezTo>
                  <a:pt x="617" y="510"/>
                  <a:pt x="609" y="520"/>
                  <a:pt x="608" y="521"/>
                </a:cubicBezTo>
                <a:cubicBezTo>
                  <a:pt x="594" y="537"/>
                  <a:pt x="577" y="551"/>
                  <a:pt x="563" y="567"/>
                </a:cubicBezTo>
                <a:cubicBezTo>
                  <a:pt x="555" y="575"/>
                  <a:pt x="547" y="582"/>
                  <a:pt x="540" y="590"/>
                </a:cubicBezTo>
                <a:cubicBezTo>
                  <a:pt x="533" y="596"/>
                  <a:pt x="529" y="602"/>
                  <a:pt x="527" y="610"/>
                </a:cubicBezTo>
                <a:cubicBezTo>
                  <a:pt x="526" y="611"/>
                  <a:pt x="526" y="613"/>
                  <a:pt x="525" y="616"/>
                </a:cubicBezTo>
                <a:cubicBezTo>
                  <a:pt x="525" y="616"/>
                  <a:pt x="525" y="616"/>
                  <a:pt x="524" y="616"/>
                </a:cubicBezTo>
                <a:cubicBezTo>
                  <a:pt x="524" y="616"/>
                  <a:pt x="523" y="617"/>
                  <a:pt x="523" y="617"/>
                </a:cubicBezTo>
                <a:cubicBezTo>
                  <a:pt x="522" y="618"/>
                  <a:pt x="521" y="619"/>
                  <a:pt x="521" y="621"/>
                </a:cubicBezTo>
                <a:cubicBezTo>
                  <a:pt x="521" y="621"/>
                  <a:pt x="521" y="621"/>
                  <a:pt x="521" y="621"/>
                </a:cubicBezTo>
                <a:close/>
                <a:moveTo>
                  <a:pt x="453" y="616"/>
                </a:moveTo>
                <a:cubicBezTo>
                  <a:pt x="451" y="615"/>
                  <a:pt x="449" y="613"/>
                  <a:pt x="448" y="612"/>
                </a:cubicBezTo>
                <a:cubicBezTo>
                  <a:pt x="448" y="611"/>
                  <a:pt x="448" y="610"/>
                  <a:pt x="447" y="610"/>
                </a:cubicBezTo>
                <a:cubicBezTo>
                  <a:pt x="450" y="612"/>
                  <a:pt x="453" y="613"/>
                  <a:pt x="457" y="614"/>
                </a:cubicBezTo>
                <a:cubicBezTo>
                  <a:pt x="458" y="615"/>
                  <a:pt x="459" y="616"/>
                  <a:pt x="460" y="617"/>
                </a:cubicBezTo>
                <a:cubicBezTo>
                  <a:pt x="465" y="619"/>
                  <a:pt x="471" y="620"/>
                  <a:pt x="476" y="622"/>
                </a:cubicBezTo>
                <a:cubicBezTo>
                  <a:pt x="482" y="624"/>
                  <a:pt x="486" y="624"/>
                  <a:pt x="492" y="622"/>
                </a:cubicBezTo>
                <a:cubicBezTo>
                  <a:pt x="492" y="622"/>
                  <a:pt x="492" y="622"/>
                  <a:pt x="492" y="622"/>
                </a:cubicBezTo>
                <a:cubicBezTo>
                  <a:pt x="492" y="623"/>
                  <a:pt x="493" y="623"/>
                  <a:pt x="493" y="624"/>
                </a:cubicBezTo>
                <a:cubicBezTo>
                  <a:pt x="494" y="628"/>
                  <a:pt x="498" y="630"/>
                  <a:pt x="503" y="629"/>
                </a:cubicBezTo>
                <a:cubicBezTo>
                  <a:pt x="506" y="628"/>
                  <a:pt x="508" y="627"/>
                  <a:pt x="511" y="625"/>
                </a:cubicBezTo>
                <a:cubicBezTo>
                  <a:pt x="513" y="625"/>
                  <a:pt x="515" y="625"/>
                  <a:pt x="517" y="625"/>
                </a:cubicBezTo>
                <a:cubicBezTo>
                  <a:pt x="518" y="634"/>
                  <a:pt x="509" y="640"/>
                  <a:pt x="501" y="639"/>
                </a:cubicBezTo>
                <a:cubicBezTo>
                  <a:pt x="492" y="639"/>
                  <a:pt x="484" y="635"/>
                  <a:pt x="476" y="632"/>
                </a:cubicBezTo>
                <a:cubicBezTo>
                  <a:pt x="472" y="630"/>
                  <a:pt x="468" y="628"/>
                  <a:pt x="464" y="626"/>
                </a:cubicBezTo>
                <a:cubicBezTo>
                  <a:pt x="461" y="624"/>
                  <a:pt x="458" y="621"/>
                  <a:pt x="454" y="619"/>
                </a:cubicBezTo>
                <a:cubicBezTo>
                  <a:pt x="454" y="619"/>
                  <a:pt x="453" y="619"/>
                  <a:pt x="453" y="619"/>
                </a:cubicBezTo>
                <a:cubicBezTo>
                  <a:pt x="454" y="618"/>
                  <a:pt x="454" y="617"/>
                  <a:pt x="453" y="616"/>
                </a:cubicBezTo>
                <a:close/>
                <a:moveTo>
                  <a:pt x="360" y="549"/>
                </a:moveTo>
                <a:cubicBezTo>
                  <a:pt x="361" y="525"/>
                  <a:pt x="362" y="499"/>
                  <a:pt x="367" y="475"/>
                </a:cubicBezTo>
                <a:cubicBezTo>
                  <a:pt x="367" y="474"/>
                  <a:pt x="367" y="474"/>
                  <a:pt x="366" y="473"/>
                </a:cubicBezTo>
                <a:cubicBezTo>
                  <a:pt x="366" y="473"/>
                  <a:pt x="366" y="473"/>
                  <a:pt x="367" y="473"/>
                </a:cubicBezTo>
                <a:cubicBezTo>
                  <a:pt x="368" y="472"/>
                  <a:pt x="370" y="471"/>
                  <a:pt x="372" y="471"/>
                </a:cubicBezTo>
                <a:cubicBezTo>
                  <a:pt x="372" y="471"/>
                  <a:pt x="372" y="471"/>
                  <a:pt x="372" y="471"/>
                </a:cubicBezTo>
                <a:cubicBezTo>
                  <a:pt x="372" y="471"/>
                  <a:pt x="372" y="471"/>
                  <a:pt x="372" y="472"/>
                </a:cubicBezTo>
                <a:cubicBezTo>
                  <a:pt x="371" y="472"/>
                  <a:pt x="371" y="473"/>
                  <a:pt x="371" y="474"/>
                </a:cubicBezTo>
                <a:cubicBezTo>
                  <a:pt x="371" y="476"/>
                  <a:pt x="370" y="478"/>
                  <a:pt x="370" y="479"/>
                </a:cubicBezTo>
                <a:cubicBezTo>
                  <a:pt x="370" y="480"/>
                  <a:pt x="371" y="480"/>
                  <a:pt x="371" y="480"/>
                </a:cubicBezTo>
                <a:cubicBezTo>
                  <a:pt x="372" y="478"/>
                  <a:pt x="373" y="475"/>
                  <a:pt x="373" y="473"/>
                </a:cubicBezTo>
                <a:cubicBezTo>
                  <a:pt x="373" y="472"/>
                  <a:pt x="374" y="471"/>
                  <a:pt x="373" y="470"/>
                </a:cubicBezTo>
                <a:cubicBezTo>
                  <a:pt x="376" y="469"/>
                  <a:pt x="378" y="468"/>
                  <a:pt x="380" y="466"/>
                </a:cubicBezTo>
                <a:cubicBezTo>
                  <a:pt x="380" y="467"/>
                  <a:pt x="380" y="467"/>
                  <a:pt x="380" y="468"/>
                </a:cubicBezTo>
                <a:cubicBezTo>
                  <a:pt x="380" y="468"/>
                  <a:pt x="380" y="469"/>
                  <a:pt x="380" y="469"/>
                </a:cubicBezTo>
                <a:cubicBezTo>
                  <a:pt x="377" y="475"/>
                  <a:pt x="377" y="484"/>
                  <a:pt x="376" y="490"/>
                </a:cubicBezTo>
                <a:cubicBezTo>
                  <a:pt x="374" y="499"/>
                  <a:pt x="375" y="507"/>
                  <a:pt x="375" y="516"/>
                </a:cubicBezTo>
                <a:cubicBezTo>
                  <a:pt x="375" y="526"/>
                  <a:pt x="375" y="535"/>
                  <a:pt x="374" y="545"/>
                </a:cubicBezTo>
                <a:cubicBezTo>
                  <a:pt x="373" y="550"/>
                  <a:pt x="372" y="556"/>
                  <a:pt x="371" y="561"/>
                </a:cubicBezTo>
                <a:cubicBezTo>
                  <a:pt x="370" y="565"/>
                  <a:pt x="369" y="568"/>
                  <a:pt x="369" y="571"/>
                </a:cubicBezTo>
                <a:cubicBezTo>
                  <a:pt x="369" y="571"/>
                  <a:pt x="369" y="571"/>
                  <a:pt x="368" y="571"/>
                </a:cubicBezTo>
                <a:cubicBezTo>
                  <a:pt x="366" y="575"/>
                  <a:pt x="368" y="580"/>
                  <a:pt x="365" y="584"/>
                </a:cubicBezTo>
                <a:cubicBezTo>
                  <a:pt x="364" y="585"/>
                  <a:pt x="364" y="586"/>
                  <a:pt x="363" y="587"/>
                </a:cubicBezTo>
                <a:cubicBezTo>
                  <a:pt x="363" y="586"/>
                  <a:pt x="363" y="585"/>
                  <a:pt x="363" y="584"/>
                </a:cubicBezTo>
                <a:cubicBezTo>
                  <a:pt x="363" y="572"/>
                  <a:pt x="360" y="561"/>
                  <a:pt x="360" y="549"/>
                </a:cubicBezTo>
                <a:close/>
                <a:moveTo>
                  <a:pt x="359" y="574"/>
                </a:moveTo>
                <a:cubicBezTo>
                  <a:pt x="360" y="581"/>
                  <a:pt x="361" y="587"/>
                  <a:pt x="357" y="593"/>
                </a:cubicBezTo>
                <a:cubicBezTo>
                  <a:pt x="356" y="594"/>
                  <a:pt x="355" y="595"/>
                  <a:pt x="355" y="596"/>
                </a:cubicBezTo>
                <a:cubicBezTo>
                  <a:pt x="354" y="596"/>
                  <a:pt x="353" y="597"/>
                  <a:pt x="352" y="598"/>
                </a:cubicBezTo>
                <a:cubicBezTo>
                  <a:pt x="351" y="598"/>
                  <a:pt x="351" y="599"/>
                  <a:pt x="350" y="599"/>
                </a:cubicBezTo>
                <a:cubicBezTo>
                  <a:pt x="350" y="599"/>
                  <a:pt x="349" y="599"/>
                  <a:pt x="349" y="599"/>
                </a:cubicBezTo>
                <a:cubicBezTo>
                  <a:pt x="349" y="598"/>
                  <a:pt x="349" y="596"/>
                  <a:pt x="349" y="595"/>
                </a:cubicBezTo>
                <a:cubicBezTo>
                  <a:pt x="350" y="595"/>
                  <a:pt x="350" y="596"/>
                  <a:pt x="350" y="596"/>
                </a:cubicBezTo>
                <a:cubicBezTo>
                  <a:pt x="350" y="596"/>
                  <a:pt x="351" y="596"/>
                  <a:pt x="351" y="595"/>
                </a:cubicBezTo>
                <a:cubicBezTo>
                  <a:pt x="351" y="591"/>
                  <a:pt x="352" y="587"/>
                  <a:pt x="352" y="582"/>
                </a:cubicBezTo>
                <a:cubicBezTo>
                  <a:pt x="351" y="579"/>
                  <a:pt x="351" y="576"/>
                  <a:pt x="350" y="573"/>
                </a:cubicBezTo>
                <a:cubicBezTo>
                  <a:pt x="351" y="575"/>
                  <a:pt x="352" y="577"/>
                  <a:pt x="352" y="580"/>
                </a:cubicBezTo>
                <a:cubicBezTo>
                  <a:pt x="352" y="583"/>
                  <a:pt x="352" y="587"/>
                  <a:pt x="352" y="590"/>
                </a:cubicBezTo>
                <a:cubicBezTo>
                  <a:pt x="352" y="591"/>
                  <a:pt x="353" y="591"/>
                  <a:pt x="353" y="590"/>
                </a:cubicBezTo>
                <a:cubicBezTo>
                  <a:pt x="353" y="586"/>
                  <a:pt x="353" y="582"/>
                  <a:pt x="353" y="578"/>
                </a:cubicBezTo>
                <a:cubicBezTo>
                  <a:pt x="352" y="574"/>
                  <a:pt x="352" y="571"/>
                  <a:pt x="350" y="568"/>
                </a:cubicBezTo>
                <a:cubicBezTo>
                  <a:pt x="350" y="568"/>
                  <a:pt x="349" y="568"/>
                  <a:pt x="349" y="568"/>
                </a:cubicBezTo>
                <a:cubicBezTo>
                  <a:pt x="349" y="567"/>
                  <a:pt x="349" y="566"/>
                  <a:pt x="349" y="565"/>
                </a:cubicBezTo>
                <a:cubicBezTo>
                  <a:pt x="348" y="562"/>
                  <a:pt x="348" y="558"/>
                  <a:pt x="348" y="554"/>
                </a:cubicBezTo>
                <a:cubicBezTo>
                  <a:pt x="347" y="551"/>
                  <a:pt x="348" y="548"/>
                  <a:pt x="347" y="544"/>
                </a:cubicBezTo>
                <a:cubicBezTo>
                  <a:pt x="347" y="538"/>
                  <a:pt x="347" y="532"/>
                  <a:pt x="346" y="526"/>
                </a:cubicBezTo>
                <a:cubicBezTo>
                  <a:pt x="346" y="525"/>
                  <a:pt x="345" y="525"/>
                  <a:pt x="345" y="526"/>
                </a:cubicBezTo>
                <a:cubicBezTo>
                  <a:pt x="345" y="533"/>
                  <a:pt x="344" y="540"/>
                  <a:pt x="346" y="547"/>
                </a:cubicBezTo>
                <a:cubicBezTo>
                  <a:pt x="347" y="553"/>
                  <a:pt x="346" y="561"/>
                  <a:pt x="347" y="567"/>
                </a:cubicBezTo>
                <a:cubicBezTo>
                  <a:pt x="347" y="574"/>
                  <a:pt x="350" y="580"/>
                  <a:pt x="349" y="586"/>
                </a:cubicBezTo>
                <a:cubicBezTo>
                  <a:pt x="349" y="587"/>
                  <a:pt x="349" y="588"/>
                  <a:pt x="349" y="590"/>
                </a:cubicBezTo>
                <a:cubicBezTo>
                  <a:pt x="349" y="589"/>
                  <a:pt x="349" y="589"/>
                  <a:pt x="349" y="588"/>
                </a:cubicBezTo>
                <a:cubicBezTo>
                  <a:pt x="347" y="584"/>
                  <a:pt x="345" y="579"/>
                  <a:pt x="344" y="575"/>
                </a:cubicBezTo>
                <a:cubicBezTo>
                  <a:pt x="342" y="564"/>
                  <a:pt x="340" y="552"/>
                  <a:pt x="340" y="541"/>
                </a:cubicBezTo>
                <a:cubicBezTo>
                  <a:pt x="340" y="522"/>
                  <a:pt x="344" y="504"/>
                  <a:pt x="340" y="485"/>
                </a:cubicBezTo>
                <a:cubicBezTo>
                  <a:pt x="340" y="485"/>
                  <a:pt x="341" y="485"/>
                  <a:pt x="341" y="485"/>
                </a:cubicBezTo>
                <a:cubicBezTo>
                  <a:pt x="349" y="482"/>
                  <a:pt x="356" y="478"/>
                  <a:pt x="364" y="474"/>
                </a:cubicBezTo>
                <a:cubicBezTo>
                  <a:pt x="361" y="484"/>
                  <a:pt x="360" y="496"/>
                  <a:pt x="359" y="506"/>
                </a:cubicBezTo>
                <a:cubicBezTo>
                  <a:pt x="359" y="518"/>
                  <a:pt x="358" y="530"/>
                  <a:pt x="357" y="542"/>
                </a:cubicBezTo>
                <a:cubicBezTo>
                  <a:pt x="357" y="553"/>
                  <a:pt x="358" y="563"/>
                  <a:pt x="359" y="574"/>
                </a:cubicBezTo>
                <a:close/>
                <a:moveTo>
                  <a:pt x="323" y="576"/>
                </a:moveTo>
                <a:cubicBezTo>
                  <a:pt x="323" y="576"/>
                  <a:pt x="323" y="576"/>
                  <a:pt x="323" y="576"/>
                </a:cubicBezTo>
                <a:cubicBezTo>
                  <a:pt x="322" y="577"/>
                  <a:pt x="322" y="577"/>
                  <a:pt x="321" y="578"/>
                </a:cubicBezTo>
                <a:cubicBezTo>
                  <a:pt x="320" y="578"/>
                  <a:pt x="320" y="579"/>
                  <a:pt x="319" y="579"/>
                </a:cubicBezTo>
                <a:cubicBezTo>
                  <a:pt x="319" y="579"/>
                  <a:pt x="319" y="579"/>
                  <a:pt x="319" y="579"/>
                </a:cubicBezTo>
                <a:cubicBezTo>
                  <a:pt x="311" y="566"/>
                  <a:pt x="307" y="551"/>
                  <a:pt x="302" y="537"/>
                </a:cubicBezTo>
                <a:cubicBezTo>
                  <a:pt x="297" y="523"/>
                  <a:pt x="291" y="509"/>
                  <a:pt x="286" y="495"/>
                </a:cubicBezTo>
                <a:cubicBezTo>
                  <a:pt x="282" y="486"/>
                  <a:pt x="277" y="478"/>
                  <a:pt x="272" y="469"/>
                </a:cubicBezTo>
                <a:cubicBezTo>
                  <a:pt x="274" y="471"/>
                  <a:pt x="276" y="473"/>
                  <a:pt x="279" y="475"/>
                </a:cubicBezTo>
                <a:cubicBezTo>
                  <a:pt x="286" y="480"/>
                  <a:pt x="294" y="484"/>
                  <a:pt x="303" y="487"/>
                </a:cubicBezTo>
                <a:cubicBezTo>
                  <a:pt x="303" y="487"/>
                  <a:pt x="303" y="487"/>
                  <a:pt x="303" y="487"/>
                </a:cubicBezTo>
                <a:cubicBezTo>
                  <a:pt x="303" y="491"/>
                  <a:pt x="304" y="495"/>
                  <a:pt x="305" y="499"/>
                </a:cubicBezTo>
                <a:cubicBezTo>
                  <a:pt x="305" y="503"/>
                  <a:pt x="306" y="506"/>
                  <a:pt x="307" y="510"/>
                </a:cubicBezTo>
                <a:cubicBezTo>
                  <a:pt x="309" y="517"/>
                  <a:pt x="313" y="524"/>
                  <a:pt x="316" y="531"/>
                </a:cubicBezTo>
                <a:cubicBezTo>
                  <a:pt x="321" y="545"/>
                  <a:pt x="326" y="560"/>
                  <a:pt x="336" y="571"/>
                </a:cubicBezTo>
                <a:cubicBezTo>
                  <a:pt x="335" y="571"/>
                  <a:pt x="334" y="570"/>
                  <a:pt x="333" y="570"/>
                </a:cubicBezTo>
                <a:cubicBezTo>
                  <a:pt x="330" y="570"/>
                  <a:pt x="327" y="571"/>
                  <a:pt x="325" y="573"/>
                </a:cubicBezTo>
                <a:cubicBezTo>
                  <a:pt x="325" y="574"/>
                  <a:pt x="324" y="574"/>
                  <a:pt x="324" y="575"/>
                </a:cubicBezTo>
                <a:cubicBezTo>
                  <a:pt x="323" y="574"/>
                  <a:pt x="323" y="574"/>
                  <a:pt x="322" y="574"/>
                </a:cubicBezTo>
                <a:cubicBezTo>
                  <a:pt x="322" y="574"/>
                  <a:pt x="321" y="574"/>
                  <a:pt x="322" y="574"/>
                </a:cubicBezTo>
                <a:cubicBezTo>
                  <a:pt x="322" y="575"/>
                  <a:pt x="322" y="575"/>
                  <a:pt x="323" y="576"/>
                </a:cubicBezTo>
                <a:close/>
                <a:moveTo>
                  <a:pt x="176" y="253"/>
                </a:moveTo>
                <a:cubicBezTo>
                  <a:pt x="172" y="261"/>
                  <a:pt x="166" y="272"/>
                  <a:pt x="168" y="281"/>
                </a:cubicBezTo>
                <a:cubicBezTo>
                  <a:pt x="167" y="278"/>
                  <a:pt x="166" y="274"/>
                  <a:pt x="165" y="270"/>
                </a:cubicBezTo>
                <a:cubicBezTo>
                  <a:pt x="165" y="271"/>
                  <a:pt x="166" y="271"/>
                  <a:pt x="167" y="271"/>
                </a:cubicBezTo>
                <a:cubicBezTo>
                  <a:pt x="167" y="272"/>
                  <a:pt x="167" y="271"/>
                  <a:pt x="167" y="271"/>
                </a:cubicBezTo>
                <a:cubicBezTo>
                  <a:pt x="167" y="269"/>
                  <a:pt x="165" y="267"/>
                  <a:pt x="165" y="265"/>
                </a:cubicBezTo>
                <a:cubicBezTo>
                  <a:pt x="166" y="262"/>
                  <a:pt x="166" y="259"/>
                  <a:pt x="167" y="256"/>
                </a:cubicBezTo>
                <a:cubicBezTo>
                  <a:pt x="168" y="251"/>
                  <a:pt x="170" y="245"/>
                  <a:pt x="173" y="241"/>
                </a:cubicBezTo>
                <a:cubicBezTo>
                  <a:pt x="174" y="241"/>
                  <a:pt x="173" y="241"/>
                  <a:pt x="173" y="241"/>
                </a:cubicBezTo>
                <a:cubicBezTo>
                  <a:pt x="169" y="246"/>
                  <a:pt x="167" y="252"/>
                  <a:pt x="165" y="258"/>
                </a:cubicBezTo>
                <a:cubicBezTo>
                  <a:pt x="165" y="258"/>
                  <a:pt x="165" y="258"/>
                  <a:pt x="165" y="259"/>
                </a:cubicBezTo>
                <a:cubicBezTo>
                  <a:pt x="164" y="257"/>
                  <a:pt x="164" y="256"/>
                  <a:pt x="164" y="255"/>
                </a:cubicBezTo>
                <a:cubicBezTo>
                  <a:pt x="164" y="252"/>
                  <a:pt x="164" y="249"/>
                  <a:pt x="165" y="246"/>
                </a:cubicBezTo>
                <a:cubicBezTo>
                  <a:pt x="165" y="245"/>
                  <a:pt x="165" y="245"/>
                  <a:pt x="165" y="245"/>
                </a:cubicBezTo>
                <a:cubicBezTo>
                  <a:pt x="165" y="245"/>
                  <a:pt x="165" y="245"/>
                  <a:pt x="165" y="245"/>
                </a:cubicBezTo>
                <a:cubicBezTo>
                  <a:pt x="165" y="244"/>
                  <a:pt x="165" y="244"/>
                  <a:pt x="165" y="244"/>
                </a:cubicBezTo>
                <a:cubicBezTo>
                  <a:pt x="167" y="237"/>
                  <a:pt x="170" y="232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0" y="229"/>
                  <a:pt x="167" y="234"/>
                  <a:pt x="165" y="239"/>
                </a:cubicBezTo>
                <a:cubicBezTo>
                  <a:pt x="165" y="237"/>
                  <a:pt x="165" y="236"/>
                  <a:pt x="165" y="234"/>
                </a:cubicBezTo>
                <a:cubicBezTo>
                  <a:pt x="165" y="230"/>
                  <a:pt x="166" y="226"/>
                  <a:pt x="166" y="222"/>
                </a:cubicBezTo>
                <a:cubicBezTo>
                  <a:pt x="166" y="221"/>
                  <a:pt x="164" y="221"/>
                  <a:pt x="164" y="222"/>
                </a:cubicBezTo>
                <a:cubicBezTo>
                  <a:pt x="164" y="224"/>
                  <a:pt x="164" y="227"/>
                  <a:pt x="164" y="229"/>
                </a:cubicBezTo>
                <a:cubicBezTo>
                  <a:pt x="164" y="231"/>
                  <a:pt x="163" y="233"/>
                  <a:pt x="163" y="235"/>
                </a:cubicBezTo>
                <a:cubicBezTo>
                  <a:pt x="163" y="238"/>
                  <a:pt x="163" y="241"/>
                  <a:pt x="164" y="244"/>
                </a:cubicBezTo>
                <a:cubicBezTo>
                  <a:pt x="164" y="245"/>
                  <a:pt x="163" y="247"/>
                  <a:pt x="163" y="248"/>
                </a:cubicBezTo>
                <a:cubicBezTo>
                  <a:pt x="163" y="250"/>
                  <a:pt x="162" y="253"/>
                  <a:pt x="162" y="257"/>
                </a:cubicBezTo>
                <a:cubicBezTo>
                  <a:pt x="161" y="250"/>
                  <a:pt x="160" y="244"/>
                  <a:pt x="160" y="237"/>
                </a:cubicBezTo>
                <a:cubicBezTo>
                  <a:pt x="161" y="233"/>
                  <a:pt x="161" y="229"/>
                  <a:pt x="159" y="226"/>
                </a:cubicBezTo>
                <a:cubicBezTo>
                  <a:pt x="156" y="222"/>
                  <a:pt x="152" y="218"/>
                  <a:pt x="151" y="212"/>
                </a:cubicBezTo>
                <a:cubicBezTo>
                  <a:pt x="151" y="204"/>
                  <a:pt x="151" y="198"/>
                  <a:pt x="146" y="190"/>
                </a:cubicBezTo>
                <a:cubicBezTo>
                  <a:pt x="144" y="187"/>
                  <a:pt x="141" y="183"/>
                  <a:pt x="140" y="179"/>
                </a:cubicBezTo>
                <a:cubicBezTo>
                  <a:pt x="139" y="178"/>
                  <a:pt x="138" y="170"/>
                  <a:pt x="141" y="171"/>
                </a:cubicBezTo>
                <a:cubicBezTo>
                  <a:pt x="143" y="171"/>
                  <a:pt x="144" y="172"/>
                  <a:pt x="146" y="173"/>
                </a:cubicBezTo>
                <a:cubicBezTo>
                  <a:pt x="151" y="175"/>
                  <a:pt x="158" y="178"/>
                  <a:pt x="160" y="184"/>
                </a:cubicBezTo>
                <a:cubicBezTo>
                  <a:pt x="161" y="186"/>
                  <a:pt x="162" y="189"/>
                  <a:pt x="164" y="190"/>
                </a:cubicBezTo>
                <a:cubicBezTo>
                  <a:pt x="164" y="192"/>
                  <a:pt x="166" y="194"/>
                  <a:pt x="166" y="195"/>
                </a:cubicBezTo>
                <a:cubicBezTo>
                  <a:pt x="167" y="197"/>
                  <a:pt x="168" y="199"/>
                  <a:pt x="169" y="200"/>
                </a:cubicBezTo>
                <a:cubicBezTo>
                  <a:pt x="170" y="202"/>
                  <a:pt x="170" y="203"/>
                  <a:pt x="171" y="205"/>
                </a:cubicBezTo>
                <a:cubicBezTo>
                  <a:pt x="172" y="213"/>
                  <a:pt x="178" y="221"/>
                  <a:pt x="180" y="229"/>
                </a:cubicBezTo>
                <a:cubicBezTo>
                  <a:pt x="181" y="233"/>
                  <a:pt x="182" y="238"/>
                  <a:pt x="183" y="242"/>
                </a:cubicBezTo>
                <a:cubicBezTo>
                  <a:pt x="184" y="247"/>
                  <a:pt x="184" y="251"/>
                  <a:pt x="185" y="256"/>
                </a:cubicBezTo>
                <a:cubicBezTo>
                  <a:pt x="185" y="256"/>
                  <a:pt x="185" y="256"/>
                  <a:pt x="185" y="256"/>
                </a:cubicBezTo>
                <a:cubicBezTo>
                  <a:pt x="184" y="258"/>
                  <a:pt x="182" y="260"/>
                  <a:pt x="181" y="263"/>
                </a:cubicBezTo>
                <a:cubicBezTo>
                  <a:pt x="179" y="267"/>
                  <a:pt x="179" y="271"/>
                  <a:pt x="179" y="275"/>
                </a:cubicBezTo>
                <a:cubicBezTo>
                  <a:pt x="177" y="287"/>
                  <a:pt x="178" y="301"/>
                  <a:pt x="180" y="312"/>
                </a:cubicBezTo>
                <a:cubicBezTo>
                  <a:pt x="181" y="318"/>
                  <a:pt x="182" y="325"/>
                  <a:pt x="184" y="331"/>
                </a:cubicBezTo>
                <a:cubicBezTo>
                  <a:pt x="179" y="322"/>
                  <a:pt x="178" y="312"/>
                  <a:pt x="174" y="303"/>
                </a:cubicBezTo>
                <a:cubicBezTo>
                  <a:pt x="173" y="297"/>
                  <a:pt x="171" y="291"/>
                  <a:pt x="169" y="286"/>
                </a:cubicBezTo>
                <a:cubicBezTo>
                  <a:pt x="169" y="286"/>
                  <a:pt x="170" y="286"/>
                  <a:pt x="170" y="285"/>
                </a:cubicBezTo>
                <a:cubicBezTo>
                  <a:pt x="170" y="280"/>
                  <a:pt x="170" y="275"/>
                  <a:pt x="171" y="270"/>
                </a:cubicBezTo>
                <a:cubicBezTo>
                  <a:pt x="172" y="264"/>
                  <a:pt x="174" y="258"/>
                  <a:pt x="176" y="253"/>
                </a:cubicBezTo>
                <a:cubicBezTo>
                  <a:pt x="176" y="253"/>
                  <a:pt x="176" y="253"/>
                  <a:pt x="176" y="253"/>
                </a:cubicBezTo>
                <a:close/>
                <a:moveTo>
                  <a:pt x="157" y="248"/>
                </a:moveTo>
                <a:cubicBezTo>
                  <a:pt x="158" y="254"/>
                  <a:pt x="159" y="260"/>
                  <a:pt x="160" y="266"/>
                </a:cubicBezTo>
                <a:cubicBezTo>
                  <a:pt x="162" y="271"/>
                  <a:pt x="163" y="276"/>
                  <a:pt x="165" y="281"/>
                </a:cubicBezTo>
                <a:cubicBezTo>
                  <a:pt x="163" y="278"/>
                  <a:pt x="162" y="275"/>
                  <a:pt x="161" y="273"/>
                </a:cubicBezTo>
                <a:cubicBezTo>
                  <a:pt x="157" y="261"/>
                  <a:pt x="152" y="250"/>
                  <a:pt x="148" y="238"/>
                </a:cubicBezTo>
                <a:cubicBezTo>
                  <a:pt x="140" y="219"/>
                  <a:pt x="131" y="197"/>
                  <a:pt x="136" y="176"/>
                </a:cubicBezTo>
                <a:cubicBezTo>
                  <a:pt x="136" y="177"/>
                  <a:pt x="136" y="177"/>
                  <a:pt x="136" y="177"/>
                </a:cubicBezTo>
                <a:cubicBezTo>
                  <a:pt x="137" y="186"/>
                  <a:pt x="145" y="191"/>
                  <a:pt x="147" y="200"/>
                </a:cubicBezTo>
                <a:cubicBezTo>
                  <a:pt x="148" y="205"/>
                  <a:pt x="147" y="211"/>
                  <a:pt x="149" y="216"/>
                </a:cubicBezTo>
                <a:cubicBezTo>
                  <a:pt x="150" y="221"/>
                  <a:pt x="156" y="225"/>
                  <a:pt x="157" y="230"/>
                </a:cubicBezTo>
                <a:cubicBezTo>
                  <a:pt x="158" y="236"/>
                  <a:pt x="157" y="242"/>
                  <a:pt x="157" y="248"/>
                </a:cubicBezTo>
                <a:close/>
                <a:moveTo>
                  <a:pt x="163" y="261"/>
                </a:moveTo>
                <a:cubicBezTo>
                  <a:pt x="163" y="261"/>
                  <a:pt x="163" y="262"/>
                  <a:pt x="164" y="263"/>
                </a:cubicBezTo>
                <a:cubicBezTo>
                  <a:pt x="164" y="264"/>
                  <a:pt x="164" y="265"/>
                  <a:pt x="164" y="266"/>
                </a:cubicBezTo>
                <a:cubicBezTo>
                  <a:pt x="163" y="264"/>
                  <a:pt x="163" y="262"/>
                  <a:pt x="163" y="261"/>
                </a:cubicBezTo>
                <a:close/>
                <a:moveTo>
                  <a:pt x="213" y="192"/>
                </a:moveTo>
                <a:cubicBezTo>
                  <a:pt x="206" y="196"/>
                  <a:pt x="200" y="201"/>
                  <a:pt x="196" y="208"/>
                </a:cubicBezTo>
                <a:cubicBezTo>
                  <a:pt x="194" y="213"/>
                  <a:pt x="192" y="218"/>
                  <a:pt x="192" y="223"/>
                </a:cubicBezTo>
                <a:cubicBezTo>
                  <a:pt x="190" y="220"/>
                  <a:pt x="189" y="218"/>
                  <a:pt x="187" y="215"/>
                </a:cubicBezTo>
                <a:cubicBezTo>
                  <a:pt x="184" y="210"/>
                  <a:pt x="183" y="204"/>
                  <a:pt x="182" y="197"/>
                </a:cubicBezTo>
                <a:cubicBezTo>
                  <a:pt x="179" y="184"/>
                  <a:pt x="177" y="170"/>
                  <a:pt x="174" y="157"/>
                </a:cubicBezTo>
                <a:cubicBezTo>
                  <a:pt x="172" y="143"/>
                  <a:pt x="169" y="130"/>
                  <a:pt x="164" y="117"/>
                </a:cubicBezTo>
                <a:cubicBezTo>
                  <a:pt x="164" y="115"/>
                  <a:pt x="162" y="111"/>
                  <a:pt x="160" y="110"/>
                </a:cubicBezTo>
                <a:cubicBezTo>
                  <a:pt x="160" y="102"/>
                  <a:pt x="160" y="95"/>
                  <a:pt x="161" y="87"/>
                </a:cubicBezTo>
                <a:cubicBezTo>
                  <a:pt x="161" y="81"/>
                  <a:pt x="161" y="74"/>
                  <a:pt x="164" y="68"/>
                </a:cubicBezTo>
                <a:cubicBezTo>
                  <a:pt x="167" y="63"/>
                  <a:pt x="169" y="72"/>
                  <a:pt x="170" y="74"/>
                </a:cubicBezTo>
                <a:cubicBezTo>
                  <a:pt x="171" y="78"/>
                  <a:pt x="173" y="80"/>
                  <a:pt x="176" y="82"/>
                </a:cubicBezTo>
                <a:cubicBezTo>
                  <a:pt x="183" y="89"/>
                  <a:pt x="187" y="98"/>
                  <a:pt x="189" y="107"/>
                </a:cubicBezTo>
                <a:cubicBezTo>
                  <a:pt x="191" y="112"/>
                  <a:pt x="191" y="116"/>
                  <a:pt x="191" y="121"/>
                </a:cubicBezTo>
                <a:cubicBezTo>
                  <a:pt x="191" y="123"/>
                  <a:pt x="192" y="125"/>
                  <a:pt x="193" y="127"/>
                </a:cubicBezTo>
                <a:cubicBezTo>
                  <a:pt x="194" y="128"/>
                  <a:pt x="196" y="129"/>
                  <a:pt x="197" y="129"/>
                </a:cubicBezTo>
                <a:cubicBezTo>
                  <a:pt x="200" y="131"/>
                  <a:pt x="202" y="132"/>
                  <a:pt x="203" y="135"/>
                </a:cubicBezTo>
                <a:cubicBezTo>
                  <a:pt x="205" y="139"/>
                  <a:pt x="207" y="143"/>
                  <a:pt x="208" y="146"/>
                </a:cubicBezTo>
                <a:cubicBezTo>
                  <a:pt x="212" y="155"/>
                  <a:pt x="214" y="164"/>
                  <a:pt x="213" y="174"/>
                </a:cubicBezTo>
                <a:cubicBezTo>
                  <a:pt x="213" y="180"/>
                  <a:pt x="212" y="186"/>
                  <a:pt x="213" y="192"/>
                </a:cubicBezTo>
                <a:close/>
                <a:moveTo>
                  <a:pt x="193" y="242"/>
                </a:moveTo>
                <a:cubicBezTo>
                  <a:pt x="193" y="240"/>
                  <a:pt x="192" y="239"/>
                  <a:pt x="192" y="238"/>
                </a:cubicBezTo>
                <a:cubicBezTo>
                  <a:pt x="192" y="236"/>
                  <a:pt x="191" y="234"/>
                  <a:pt x="191" y="233"/>
                </a:cubicBezTo>
                <a:cubicBezTo>
                  <a:pt x="191" y="232"/>
                  <a:pt x="191" y="232"/>
                  <a:pt x="191" y="232"/>
                </a:cubicBezTo>
                <a:cubicBezTo>
                  <a:pt x="192" y="232"/>
                  <a:pt x="192" y="233"/>
                  <a:pt x="193" y="234"/>
                </a:cubicBezTo>
                <a:cubicBezTo>
                  <a:pt x="194" y="237"/>
                  <a:pt x="194" y="239"/>
                  <a:pt x="193" y="242"/>
                </a:cubicBezTo>
                <a:close/>
                <a:moveTo>
                  <a:pt x="189" y="237"/>
                </a:moveTo>
                <a:cubicBezTo>
                  <a:pt x="189" y="239"/>
                  <a:pt x="190" y="241"/>
                  <a:pt x="190" y="243"/>
                </a:cubicBezTo>
                <a:cubicBezTo>
                  <a:pt x="190" y="244"/>
                  <a:pt x="190" y="245"/>
                  <a:pt x="191" y="246"/>
                </a:cubicBezTo>
                <a:cubicBezTo>
                  <a:pt x="189" y="248"/>
                  <a:pt x="188" y="251"/>
                  <a:pt x="186" y="254"/>
                </a:cubicBezTo>
                <a:cubicBezTo>
                  <a:pt x="186" y="246"/>
                  <a:pt x="183" y="237"/>
                  <a:pt x="181" y="228"/>
                </a:cubicBezTo>
                <a:cubicBezTo>
                  <a:pt x="180" y="224"/>
                  <a:pt x="179" y="219"/>
                  <a:pt x="177" y="214"/>
                </a:cubicBezTo>
                <a:cubicBezTo>
                  <a:pt x="177" y="214"/>
                  <a:pt x="177" y="215"/>
                  <a:pt x="177" y="215"/>
                </a:cubicBezTo>
                <a:cubicBezTo>
                  <a:pt x="181" y="220"/>
                  <a:pt x="185" y="225"/>
                  <a:pt x="190" y="230"/>
                </a:cubicBezTo>
                <a:cubicBezTo>
                  <a:pt x="188" y="231"/>
                  <a:pt x="188" y="235"/>
                  <a:pt x="189" y="237"/>
                </a:cubicBezTo>
                <a:close/>
                <a:moveTo>
                  <a:pt x="161" y="121"/>
                </a:moveTo>
                <a:cubicBezTo>
                  <a:pt x="162" y="124"/>
                  <a:pt x="163" y="128"/>
                  <a:pt x="165" y="131"/>
                </a:cubicBezTo>
                <a:cubicBezTo>
                  <a:pt x="165" y="132"/>
                  <a:pt x="166" y="134"/>
                  <a:pt x="167" y="135"/>
                </a:cubicBezTo>
                <a:cubicBezTo>
                  <a:pt x="167" y="136"/>
                  <a:pt x="167" y="137"/>
                  <a:pt x="167" y="138"/>
                </a:cubicBezTo>
                <a:cubicBezTo>
                  <a:pt x="170" y="150"/>
                  <a:pt x="172" y="162"/>
                  <a:pt x="174" y="173"/>
                </a:cubicBezTo>
                <a:cubicBezTo>
                  <a:pt x="176" y="184"/>
                  <a:pt x="177" y="196"/>
                  <a:pt x="180" y="207"/>
                </a:cubicBezTo>
                <a:cubicBezTo>
                  <a:pt x="182" y="213"/>
                  <a:pt x="185" y="218"/>
                  <a:pt x="188" y="223"/>
                </a:cubicBezTo>
                <a:cubicBezTo>
                  <a:pt x="186" y="221"/>
                  <a:pt x="184" y="218"/>
                  <a:pt x="182" y="216"/>
                </a:cubicBezTo>
                <a:cubicBezTo>
                  <a:pt x="175" y="206"/>
                  <a:pt x="169" y="195"/>
                  <a:pt x="167" y="183"/>
                </a:cubicBezTo>
                <a:cubicBezTo>
                  <a:pt x="164" y="171"/>
                  <a:pt x="162" y="159"/>
                  <a:pt x="161" y="148"/>
                </a:cubicBezTo>
                <a:cubicBezTo>
                  <a:pt x="160" y="142"/>
                  <a:pt x="160" y="137"/>
                  <a:pt x="159" y="132"/>
                </a:cubicBezTo>
                <a:cubicBezTo>
                  <a:pt x="159" y="127"/>
                  <a:pt x="158" y="123"/>
                  <a:pt x="158" y="118"/>
                </a:cubicBezTo>
                <a:cubicBezTo>
                  <a:pt x="158" y="118"/>
                  <a:pt x="158" y="118"/>
                  <a:pt x="158" y="117"/>
                </a:cubicBezTo>
                <a:cubicBezTo>
                  <a:pt x="159" y="119"/>
                  <a:pt x="160" y="120"/>
                  <a:pt x="161" y="121"/>
                </a:cubicBezTo>
                <a:close/>
                <a:moveTo>
                  <a:pt x="184" y="312"/>
                </a:moveTo>
                <a:cubicBezTo>
                  <a:pt x="182" y="304"/>
                  <a:pt x="181" y="297"/>
                  <a:pt x="181" y="290"/>
                </a:cubicBezTo>
                <a:cubicBezTo>
                  <a:pt x="181" y="288"/>
                  <a:pt x="181" y="286"/>
                  <a:pt x="182" y="284"/>
                </a:cubicBezTo>
                <a:cubicBezTo>
                  <a:pt x="185" y="294"/>
                  <a:pt x="191" y="303"/>
                  <a:pt x="198" y="311"/>
                </a:cubicBezTo>
                <a:cubicBezTo>
                  <a:pt x="202" y="315"/>
                  <a:pt x="206" y="320"/>
                  <a:pt x="211" y="324"/>
                </a:cubicBezTo>
                <a:cubicBezTo>
                  <a:pt x="210" y="328"/>
                  <a:pt x="211" y="332"/>
                  <a:pt x="209" y="336"/>
                </a:cubicBezTo>
                <a:cubicBezTo>
                  <a:pt x="208" y="338"/>
                  <a:pt x="207" y="344"/>
                  <a:pt x="204" y="345"/>
                </a:cubicBezTo>
                <a:cubicBezTo>
                  <a:pt x="202" y="347"/>
                  <a:pt x="197" y="345"/>
                  <a:pt x="194" y="344"/>
                </a:cubicBezTo>
                <a:cubicBezTo>
                  <a:pt x="192" y="339"/>
                  <a:pt x="189" y="335"/>
                  <a:pt x="188" y="329"/>
                </a:cubicBezTo>
                <a:cubicBezTo>
                  <a:pt x="186" y="324"/>
                  <a:pt x="185" y="318"/>
                  <a:pt x="184" y="312"/>
                </a:cubicBezTo>
                <a:close/>
                <a:moveTo>
                  <a:pt x="208" y="347"/>
                </a:moveTo>
                <a:cubicBezTo>
                  <a:pt x="210" y="344"/>
                  <a:pt x="211" y="340"/>
                  <a:pt x="212" y="336"/>
                </a:cubicBezTo>
                <a:cubicBezTo>
                  <a:pt x="213" y="333"/>
                  <a:pt x="213" y="330"/>
                  <a:pt x="213" y="327"/>
                </a:cubicBezTo>
                <a:cubicBezTo>
                  <a:pt x="218" y="331"/>
                  <a:pt x="223" y="335"/>
                  <a:pt x="229" y="338"/>
                </a:cubicBezTo>
                <a:cubicBezTo>
                  <a:pt x="230" y="338"/>
                  <a:pt x="230" y="338"/>
                  <a:pt x="231" y="338"/>
                </a:cubicBezTo>
                <a:cubicBezTo>
                  <a:pt x="229" y="341"/>
                  <a:pt x="229" y="345"/>
                  <a:pt x="228" y="348"/>
                </a:cubicBezTo>
                <a:cubicBezTo>
                  <a:pt x="228" y="354"/>
                  <a:pt x="228" y="359"/>
                  <a:pt x="229" y="364"/>
                </a:cubicBezTo>
                <a:cubicBezTo>
                  <a:pt x="230" y="370"/>
                  <a:pt x="234" y="376"/>
                  <a:pt x="235" y="382"/>
                </a:cubicBezTo>
                <a:cubicBezTo>
                  <a:pt x="236" y="386"/>
                  <a:pt x="235" y="390"/>
                  <a:pt x="235" y="395"/>
                </a:cubicBezTo>
                <a:cubicBezTo>
                  <a:pt x="235" y="400"/>
                  <a:pt x="235" y="405"/>
                  <a:pt x="236" y="410"/>
                </a:cubicBezTo>
                <a:cubicBezTo>
                  <a:pt x="236" y="412"/>
                  <a:pt x="236" y="413"/>
                  <a:pt x="236" y="415"/>
                </a:cubicBezTo>
                <a:cubicBezTo>
                  <a:pt x="235" y="414"/>
                  <a:pt x="234" y="413"/>
                  <a:pt x="232" y="412"/>
                </a:cubicBezTo>
                <a:cubicBezTo>
                  <a:pt x="227" y="411"/>
                  <a:pt x="224" y="414"/>
                  <a:pt x="219" y="414"/>
                </a:cubicBezTo>
                <a:cubicBezTo>
                  <a:pt x="217" y="414"/>
                  <a:pt x="215" y="414"/>
                  <a:pt x="214" y="415"/>
                </a:cubicBezTo>
                <a:cubicBezTo>
                  <a:pt x="213" y="408"/>
                  <a:pt x="211" y="402"/>
                  <a:pt x="211" y="396"/>
                </a:cubicBezTo>
                <a:cubicBezTo>
                  <a:pt x="210" y="390"/>
                  <a:pt x="209" y="384"/>
                  <a:pt x="208" y="377"/>
                </a:cubicBezTo>
                <a:cubicBezTo>
                  <a:pt x="207" y="372"/>
                  <a:pt x="206" y="367"/>
                  <a:pt x="203" y="362"/>
                </a:cubicBezTo>
                <a:cubicBezTo>
                  <a:pt x="200" y="358"/>
                  <a:pt x="198" y="353"/>
                  <a:pt x="195" y="347"/>
                </a:cubicBezTo>
                <a:cubicBezTo>
                  <a:pt x="195" y="347"/>
                  <a:pt x="195" y="347"/>
                  <a:pt x="195" y="347"/>
                </a:cubicBezTo>
                <a:cubicBezTo>
                  <a:pt x="200" y="348"/>
                  <a:pt x="204" y="350"/>
                  <a:pt x="208" y="347"/>
                </a:cubicBezTo>
                <a:close/>
                <a:moveTo>
                  <a:pt x="233" y="367"/>
                </a:moveTo>
                <a:cubicBezTo>
                  <a:pt x="232" y="361"/>
                  <a:pt x="231" y="355"/>
                  <a:pt x="232" y="348"/>
                </a:cubicBezTo>
                <a:cubicBezTo>
                  <a:pt x="232" y="346"/>
                  <a:pt x="233" y="342"/>
                  <a:pt x="233" y="339"/>
                </a:cubicBezTo>
                <a:cubicBezTo>
                  <a:pt x="240" y="343"/>
                  <a:pt x="248" y="347"/>
                  <a:pt x="255" y="346"/>
                </a:cubicBezTo>
                <a:cubicBezTo>
                  <a:pt x="250" y="353"/>
                  <a:pt x="246" y="361"/>
                  <a:pt x="242" y="368"/>
                </a:cubicBezTo>
                <a:cubicBezTo>
                  <a:pt x="240" y="372"/>
                  <a:pt x="239" y="376"/>
                  <a:pt x="238" y="380"/>
                </a:cubicBezTo>
                <a:cubicBezTo>
                  <a:pt x="237" y="375"/>
                  <a:pt x="235" y="371"/>
                  <a:pt x="233" y="367"/>
                </a:cubicBezTo>
                <a:close/>
                <a:moveTo>
                  <a:pt x="246" y="367"/>
                </a:moveTo>
                <a:cubicBezTo>
                  <a:pt x="252" y="355"/>
                  <a:pt x="260" y="342"/>
                  <a:pt x="271" y="334"/>
                </a:cubicBezTo>
                <a:cubicBezTo>
                  <a:pt x="281" y="327"/>
                  <a:pt x="291" y="320"/>
                  <a:pt x="303" y="315"/>
                </a:cubicBezTo>
                <a:cubicBezTo>
                  <a:pt x="308" y="314"/>
                  <a:pt x="313" y="312"/>
                  <a:pt x="318" y="311"/>
                </a:cubicBezTo>
                <a:cubicBezTo>
                  <a:pt x="325" y="310"/>
                  <a:pt x="331" y="309"/>
                  <a:pt x="338" y="309"/>
                </a:cubicBezTo>
                <a:cubicBezTo>
                  <a:pt x="348" y="308"/>
                  <a:pt x="358" y="309"/>
                  <a:pt x="368" y="311"/>
                </a:cubicBezTo>
                <a:cubicBezTo>
                  <a:pt x="371" y="311"/>
                  <a:pt x="410" y="317"/>
                  <a:pt x="409" y="321"/>
                </a:cubicBezTo>
                <a:cubicBezTo>
                  <a:pt x="409" y="321"/>
                  <a:pt x="409" y="321"/>
                  <a:pt x="409" y="322"/>
                </a:cubicBezTo>
                <a:cubicBezTo>
                  <a:pt x="409" y="322"/>
                  <a:pt x="409" y="322"/>
                  <a:pt x="409" y="322"/>
                </a:cubicBezTo>
                <a:cubicBezTo>
                  <a:pt x="409" y="322"/>
                  <a:pt x="408" y="323"/>
                  <a:pt x="408" y="324"/>
                </a:cubicBezTo>
                <a:cubicBezTo>
                  <a:pt x="408" y="323"/>
                  <a:pt x="408" y="323"/>
                  <a:pt x="408" y="323"/>
                </a:cubicBezTo>
                <a:cubicBezTo>
                  <a:pt x="394" y="317"/>
                  <a:pt x="378" y="315"/>
                  <a:pt x="363" y="314"/>
                </a:cubicBezTo>
                <a:cubicBezTo>
                  <a:pt x="355" y="314"/>
                  <a:pt x="348" y="315"/>
                  <a:pt x="340" y="314"/>
                </a:cubicBezTo>
                <a:cubicBezTo>
                  <a:pt x="333" y="314"/>
                  <a:pt x="327" y="314"/>
                  <a:pt x="320" y="314"/>
                </a:cubicBezTo>
                <a:cubicBezTo>
                  <a:pt x="306" y="316"/>
                  <a:pt x="291" y="323"/>
                  <a:pt x="280" y="330"/>
                </a:cubicBezTo>
                <a:cubicBezTo>
                  <a:pt x="267" y="338"/>
                  <a:pt x="257" y="349"/>
                  <a:pt x="253" y="363"/>
                </a:cubicBezTo>
                <a:cubicBezTo>
                  <a:pt x="252" y="363"/>
                  <a:pt x="254" y="364"/>
                  <a:pt x="254" y="363"/>
                </a:cubicBezTo>
                <a:cubicBezTo>
                  <a:pt x="261" y="349"/>
                  <a:pt x="272" y="338"/>
                  <a:pt x="286" y="330"/>
                </a:cubicBezTo>
                <a:cubicBezTo>
                  <a:pt x="299" y="324"/>
                  <a:pt x="312" y="317"/>
                  <a:pt x="327" y="317"/>
                </a:cubicBezTo>
                <a:cubicBezTo>
                  <a:pt x="333" y="317"/>
                  <a:pt x="340" y="318"/>
                  <a:pt x="347" y="318"/>
                </a:cubicBezTo>
                <a:cubicBezTo>
                  <a:pt x="353" y="317"/>
                  <a:pt x="360" y="317"/>
                  <a:pt x="367" y="318"/>
                </a:cubicBezTo>
                <a:cubicBezTo>
                  <a:pt x="374" y="319"/>
                  <a:pt x="382" y="320"/>
                  <a:pt x="389" y="321"/>
                </a:cubicBezTo>
                <a:cubicBezTo>
                  <a:pt x="395" y="322"/>
                  <a:pt x="402" y="325"/>
                  <a:pt x="408" y="324"/>
                </a:cubicBezTo>
                <a:cubicBezTo>
                  <a:pt x="408" y="324"/>
                  <a:pt x="408" y="324"/>
                  <a:pt x="408" y="324"/>
                </a:cubicBezTo>
                <a:cubicBezTo>
                  <a:pt x="408" y="325"/>
                  <a:pt x="407" y="327"/>
                  <a:pt x="407" y="328"/>
                </a:cubicBezTo>
                <a:cubicBezTo>
                  <a:pt x="401" y="325"/>
                  <a:pt x="394" y="326"/>
                  <a:pt x="387" y="326"/>
                </a:cubicBezTo>
                <a:cubicBezTo>
                  <a:pt x="379" y="325"/>
                  <a:pt x="371" y="323"/>
                  <a:pt x="363" y="322"/>
                </a:cubicBezTo>
                <a:cubicBezTo>
                  <a:pt x="363" y="322"/>
                  <a:pt x="363" y="323"/>
                  <a:pt x="363" y="323"/>
                </a:cubicBezTo>
                <a:cubicBezTo>
                  <a:pt x="369" y="325"/>
                  <a:pt x="377" y="326"/>
                  <a:pt x="384" y="327"/>
                </a:cubicBezTo>
                <a:cubicBezTo>
                  <a:pt x="392" y="327"/>
                  <a:pt x="399" y="327"/>
                  <a:pt x="407" y="330"/>
                </a:cubicBezTo>
                <a:cubicBezTo>
                  <a:pt x="407" y="330"/>
                  <a:pt x="407" y="331"/>
                  <a:pt x="406" y="331"/>
                </a:cubicBezTo>
                <a:cubicBezTo>
                  <a:pt x="402" y="332"/>
                  <a:pt x="399" y="331"/>
                  <a:pt x="395" y="331"/>
                </a:cubicBezTo>
                <a:cubicBezTo>
                  <a:pt x="391" y="331"/>
                  <a:pt x="388" y="331"/>
                  <a:pt x="385" y="330"/>
                </a:cubicBezTo>
                <a:cubicBezTo>
                  <a:pt x="384" y="330"/>
                  <a:pt x="383" y="331"/>
                  <a:pt x="384" y="331"/>
                </a:cubicBezTo>
                <a:cubicBezTo>
                  <a:pt x="387" y="334"/>
                  <a:pt x="390" y="333"/>
                  <a:pt x="394" y="333"/>
                </a:cubicBezTo>
                <a:cubicBezTo>
                  <a:pt x="398" y="333"/>
                  <a:pt x="402" y="334"/>
                  <a:pt x="406" y="334"/>
                </a:cubicBezTo>
                <a:cubicBezTo>
                  <a:pt x="406" y="335"/>
                  <a:pt x="406" y="336"/>
                  <a:pt x="406" y="337"/>
                </a:cubicBezTo>
                <a:cubicBezTo>
                  <a:pt x="406" y="337"/>
                  <a:pt x="406" y="337"/>
                  <a:pt x="405" y="336"/>
                </a:cubicBezTo>
                <a:cubicBezTo>
                  <a:pt x="405" y="336"/>
                  <a:pt x="405" y="335"/>
                  <a:pt x="405" y="335"/>
                </a:cubicBezTo>
                <a:cubicBezTo>
                  <a:pt x="398" y="336"/>
                  <a:pt x="392" y="337"/>
                  <a:pt x="386" y="338"/>
                </a:cubicBezTo>
                <a:cubicBezTo>
                  <a:pt x="381" y="338"/>
                  <a:pt x="375" y="338"/>
                  <a:pt x="370" y="338"/>
                </a:cubicBezTo>
                <a:cubicBezTo>
                  <a:pt x="369" y="339"/>
                  <a:pt x="369" y="339"/>
                  <a:pt x="370" y="339"/>
                </a:cubicBezTo>
                <a:cubicBezTo>
                  <a:pt x="376" y="340"/>
                  <a:pt x="382" y="339"/>
                  <a:pt x="388" y="338"/>
                </a:cubicBezTo>
                <a:cubicBezTo>
                  <a:pt x="393" y="338"/>
                  <a:pt x="398" y="338"/>
                  <a:pt x="403" y="337"/>
                </a:cubicBezTo>
                <a:cubicBezTo>
                  <a:pt x="399" y="339"/>
                  <a:pt x="396" y="341"/>
                  <a:pt x="391" y="341"/>
                </a:cubicBezTo>
                <a:cubicBezTo>
                  <a:pt x="388" y="342"/>
                  <a:pt x="384" y="342"/>
                  <a:pt x="380" y="343"/>
                </a:cubicBezTo>
                <a:cubicBezTo>
                  <a:pt x="372" y="343"/>
                  <a:pt x="365" y="343"/>
                  <a:pt x="357" y="344"/>
                </a:cubicBezTo>
                <a:cubicBezTo>
                  <a:pt x="357" y="345"/>
                  <a:pt x="357" y="345"/>
                  <a:pt x="357" y="345"/>
                </a:cubicBezTo>
                <a:cubicBezTo>
                  <a:pt x="366" y="345"/>
                  <a:pt x="375" y="345"/>
                  <a:pt x="383" y="344"/>
                </a:cubicBezTo>
                <a:cubicBezTo>
                  <a:pt x="387" y="344"/>
                  <a:pt x="391" y="343"/>
                  <a:pt x="395" y="342"/>
                </a:cubicBezTo>
                <a:cubicBezTo>
                  <a:pt x="399" y="341"/>
                  <a:pt x="402" y="341"/>
                  <a:pt x="405" y="338"/>
                </a:cubicBezTo>
                <a:cubicBezTo>
                  <a:pt x="406" y="338"/>
                  <a:pt x="406" y="338"/>
                  <a:pt x="406" y="338"/>
                </a:cubicBezTo>
                <a:cubicBezTo>
                  <a:pt x="406" y="338"/>
                  <a:pt x="406" y="339"/>
                  <a:pt x="406" y="340"/>
                </a:cubicBezTo>
                <a:cubicBezTo>
                  <a:pt x="406" y="340"/>
                  <a:pt x="406" y="340"/>
                  <a:pt x="406" y="340"/>
                </a:cubicBezTo>
                <a:cubicBezTo>
                  <a:pt x="401" y="339"/>
                  <a:pt x="397" y="343"/>
                  <a:pt x="392" y="344"/>
                </a:cubicBezTo>
                <a:cubicBezTo>
                  <a:pt x="389" y="345"/>
                  <a:pt x="385" y="345"/>
                  <a:pt x="382" y="346"/>
                </a:cubicBezTo>
                <a:cubicBezTo>
                  <a:pt x="378" y="347"/>
                  <a:pt x="374" y="348"/>
                  <a:pt x="370" y="348"/>
                </a:cubicBezTo>
                <a:cubicBezTo>
                  <a:pt x="363" y="348"/>
                  <a:pt x="354" y="348"/>
                  <a:pt x="347" y="347"/>
                </a:cubicBezTo>
                <a:cubicBezTo>
                  <a:pt x="339" y="346"/>
                  <a:pt x="331" y="344"/>
                  <a:pt x="324" y="344"/>
                </a:cubicBezTo>
                <a:cubicBezTo>
                  <a:pt x="323" y="344"/>
                  <a:pt x="323" y="345"/>
                  <a:pt x="324" y="346"/>
                </a:cubicBezTo>
                <a:cubicBezTo>
                  <a:pt x="332" y="348"/>
                  <a:pt x="340" y="348"/>
                  <a:pt x="349" y="349"/>
                </a:cubicBezTo>
                <a:cubicBezTo>
                  <a:pt x="355" y="351"/>
                  <a:pt x="362" y="351"/>
                  <a:pt x="368" y="350"/>
                </a:cubicBezTo>
                <a:cubicBezTo>
                  <a:pt x="376" y="349"/>
                  <a:pt x="382" y="347"/>
                  <a:pt x="389" y="346"/>
                </a:cubicBezTo>
                <a:cubicBezTo>
                  <a:pt x="390" y="346"/>
                  <a:pt x="391" y="345"/>
                  <a:pt x="392" y="345"/>
                </a:cubicBezTo>
                <a:cubicBezTo>
                  <a:pt x="390" y="346"/>
                  <a:pt x="388" y="347"/>
                  <a:pt x="386" y="347"/>
                </a:cubicBezTo>
                <a:cubicBezTo>
                  <a:pt x="379" y="349"/>
                  <a:pt x="371" y="350"/>
                  <a:pt x="365" y="353"/>
                </a:cubicBezTo>
                <a:cubicBezTo>
                  <a:pt x="364" y="353"/>
                  <a:pt x="364" y="353"/>
                  <a:pt x="365" y="353"/>
                </a:cubicBezTo>
                <a:cubicBezTo>
                  <a:pt x="368" y="354"/>
                  <a:pt x="372" y="352"/>
                  <a:pt x="375" y="352"/>
                </a:cubicBezTo>
                <a:cubicBezTo>
                  <a:pt x="381" y="350"/>
                  <a:pt x="386" y="349"/>
                  <a:pt x="392" y="347"/>
                </a:cubicBezTo>
                <a:cubicBezTo>
                  <a:pt x="393" y="347"/>
                  <a:pt x="406" y="343"/>
                  <a:pt x="406" y="341"/>
                </a:cubicBezTo>
                <a:cubicBezTo>
                  <a:pt x="406" y="341"/>
                  <a:pt x="406" y="341"/>
                  <a:pt x="406" y="341"/>
                </a:cubicBezTo>
                <a:cubicBezTo>
                  <a:pt x="406" y="342"/>
                  <a:pt x="406" y="343"/>
                  <a:pt x="406" y="344"/>
                </a:cubicBezTo>
                <a:cubicBezTo>
                  <a:pt x="405" y="344"/>
                  <a:pt x="403" y="345"/>
                  <a:pt x="401" y="346"/>
                </a:cubicBezTo>
                <a:cubicBezTo>
                  <a:pt x="400" y="347"/>
                  <a:pt x="398" y="348"/>
                  <a:pt x="397" y="350"/>
                </a:cubicBezTo>
                <a:cubicBezTo>
                  <a:pt x="396" y="350"/>
                  <a:pt x="397" y="350"/>
                  <a:pt x="397" y="350"/>
                </a:cubicBezTo>
                <a:cubicBezTo>
                  <a:pt x="395" y="350"/>
                  <a:pt x="393" y="351"/>
                  <a:pt x="392" y="352"/>
                </a:cubicBezTo>
                <a:cubicBezTo>
                  <a:pt x="387" y="353"/>
                  <a:pt x="382" y="356"/>
                  <a:pt x="378" y="359"/>
                </a:cubicBezTo>
                <a:cubicBezTo>
                  <a:pt x="368" y="365"/>
                  <a:pt x="358" y="370"/>
                  <a:pt x="347" y="372"/>
                </a:cubicBezTo>
                <a:cubicBezTo>
                  <a:pt x="346" y="372"/>
                  <a:pt x="346" y="373"/>
                  <a:pt x="347" y="373"/>
                </a:cubicBezTo>
                <a:cubicBezTo>
                  <a:pt x="352" y="373"/>
                  <a:pt x="357" y="372"/>
                  <a:pt x="362" y="370"/>
                </a:cubicBezTo>
                <a:cubicBezTo>
                  <a:pt x="367" y="368"/>
                  <a:pt x="373" y="365"/>
                  <a:pt x="377" y="362"/>
                </a:cubicBezTo>
                <a:cubicBezTo>
                  <a:pt x="383" y="358"/>
                  <a:pt x="389" y="355"/>
                  <a:pt x="396" y="353"/>
                </a:cubicBezTo>
                <a:cubicBezTo>
                  <a:pt x="399" y="352"/>
                  <a:pt x="404" y="352"/>
                  <a:pt x="407" y="350"/>
                </a:cubicBezTo>
                <a:cubicBezTo>
                  <a:pt x="407" y="350"/>
                  <a:pt x="407" y="351"/>
                  <a:pt x="407" y="352"/>
                </a:cubicBezTo>
                <a:cubicBezTo>
                  <a:pt x="406" y="352"/>
                  <a:pt x="404" y="352"/>
                  <a:pt x="403" y="353"/>
                </a:cubicBezTo>
                <a:cubicBezTo>
                  <a:pt x="403" y="353"/>
                  <a:pt x="403" y="353"/>
                  <a:pt x="403" y="353"/>
                </a:cubicBezTo>
                <a:cubicBezTo>
                  <a:pt x="404" y="353"/>
                  <a:pt x="406" y="353"/>
                  <a:pt x="407" y="352"/>
                </a:cubicBezTo>
                <a:cubicBezTo>
                  <a:pt x="407" y="352"/>
                  <a:pt x="407" y="352"/>
                  <a:pt x="408" y="352"/>
                </a:cubicBezTo>
                <a:cubicBezTo>
                  <a:pt x="408" y="353"/>
                  <a:pt x="408" y="353"/>
                  <a:pt x="408" y="354"/>
                </a:cubicBezTo>
                <a:cubicBezTo>
                  <a:pt x="408" y="354"/>
                  <a:pt x="408" y="354"/>
                  <a:pt x="408" y="354"/>
                </a:cubicBezTo>
                <a:cubicBezTo>
                  <a:pt x="405" y="354"/>
                  <a:pt x="402" y="356"/>
                  <a:pt x="400" y="357"/>
                </a:cubicBezTo>
                <a:cubicBezTo>
                  <a:pt x="399" y="358"/>
                  <a:pt x="400" y="358"/>
                  <a:pt x="400" y="358"/>
                </a:cubicBezTo>
                <a:cubicBezTo>
                  <a:pt x="403" y="357"/>
                  <a:pt x="406" y="357"/>
                  <a:pt x="408" y="355"/>
                </a:cubicBezTo>
                <a:cubicBezTo>
                  <a:pt x="408" y="355"/>
                  <a:pt x="408" y="355"/>
                  <a:pt x="408" y="355"/>
                </a:cubicBezTo>
                <a:cubicBezTo>
                  <a:pt x="409" y="360"/>
                  <a:pt x="411" y="365"/>
                  <a:pt x="412" y="370"/>
                </a:cubicBezTo>
                <a:cubicBezTo>
                  <a:pt x="403" y="375"/>
                  <a:pt x="397" y="386"/>
                  <a:pt x="391" y="394"/>
                </a:cubicBezTo>
                <a:cubicBezTo>
                  <a:pt x="391" y="394"/>
                  <a:pt x="391" y="395"/>
                  <a:pt x="391" y="395"/>
                </a:cubicBezTo>
                <a:cubicBezTo>
                  <a:pt x="395" y="391"/>
                  <a:pt x="398" y="386"/>
                  <a:pt x="402" y="382"/>
                </a:cubicBezTo>
                <a:cubicBezTo>
                  <a:pt x="405" y="379"/>
                  <a:pt x="409" y="375"/>
                  <a:pt x="413" y="371"/>
                </a:cubicBezTo>
                <a:cubicBezTo>
                  <a:pt x="414" y="375"/>
                  <a:pt x="415" y="378"/>
                  <a:pt x="416" y="381"/>
                </a:cubicBezTo>
                <a:cubicBezTo>
                  <a:pt x="412" y="382"/>
                  <a:pt x="406" y="387"/>
                  <a:pt x="403" y="389"/>
                </a:cubicBezTo>
                <a:cubicBezTo>
                  <a:pt x="398" y="393"/>
                  <a:pt x="392" y="399"/>
                  <a:pt x="389" y="405"/>
                </a:cubicBezTo>
                <a:cubicBezTo>
                  <a:pt x="389" y="406"/>
                  <a:pt x="390" y="407"/>
                  <a:pt x="390" y="406"/>
                </a:cubicBezTo>
                <a:cubicBezTo>
                  <a:pt x="394" y="400"/>
                  <a:pt x="398" y="396"/>
                  <a:pt x="404" y="391"/>
                </a:cubicBezTo>
                <a:cubicBezTo>
                  <a:pt x="406" y="389"/>
                  <a:pt x="410" y="386"/>
                  <a:pt x="413" y="385"/>
                </a:cubicBezTo>
                <a:cubicBezTo>
                  <a:pt x="414" y="384"/>
                  <a:pt x="416" y="384"/>
                  <a:pt x="417" y="383"/>
                </a:cubicBezTo>
                <a:cubicBezTo>
                  <a:pt x="417" y="384"/>
                  <a:pt x="417" y="385"/>
                  <a:pt x="418" y="386"/>
                </a:cubicBezTo>
                <a:cubicBezTo>
                  <a:pt x="413" y="387"/>
                  <a:pt x="407" y="395"/>
                  <a:pt x="404" y="398"/>
                </a:cubicBezTo>
                <a:cubicBezTo>
                  <a:pt x="402" y="401"/>
                  <a:pt x="399" y="404"/>
                  <a:pt x="396" y="407"/>
                </a:cubicBezTo>
                <a:cubicBezTo>
                  <a:pt x="393" y="412"/>
                  <a:pt x="389" y="417"/>
                  <a:pt x="387" y="422"/>
                </a:cubicBezTo>
                <a:cubicBezTo>
                  <a:pt x="387" y="423"/>
                  <a:pt x="388" y="423"/>
                  <a:pt x="388" y="422"/>
                </a:cubicBezTo>
                <a:cubicBezTo>
                  <a:pt x="392" y="419"/>
                  <a:pt x="393" y="414"/>
                  <a:pt x="396" y="410"/>
                </a:cubicBezTo>
                <a:cubicBezTo>
                  <a:pt x="399" y="406"/>
                  <a:pt x="401" y="403"/>
                  <a:pt x="404" y="400"/>
                </a:cubicBezTo>
                <a:cubicBezTo>
                  <a:pt x="407" y="397"/>
                  <a:pt x="410" y="394"/>
                  <a:pt x="412" y="392"/>
                </a:cubicBezTo>
                <a:cubicBezTo>
                  <a:pt x="414" y="390"/>
                  <a:pt x="416" y="388"/>
                  <a:pt x="418" y="387"/>
                </a:cubicBezTo>
                <a:cubicBezTo>
                  <a:pt x="419" y="389"/>
                  <a:pt x="419" y="390"/>
                  <a:pt x="420" y="392"/>
                </a:cubicBezTo>
                <a:cubicBezTo>
                  <a:pt x="415" y="394"/>
                  <a:pt x="413" y="399"/>
                  <a:pt x="409" y="402"/>
                </a:cubicBezTo>
                <a:cubicBezTo>
                  <a:pt x="407" y="404"/>
                  <a:pt x="402" y="409"/>
                  <a:pt x="404" y="412"/>
                </a:cubicBezTo>
                <a:cubicBezTo>
                  <a:pt x="404" y="413"/>
                  <a:pt x="404" y="413"/>
                  <a:pt x="404" y="412"/>
                </a:cubicBezTo>
                <a:cubicBezTo>
                  <a:pt x="407" y="408"/>
                  <a:pt x="408" y="404"/>
                  <a:pt x="412" y="400"/>
                </a:cubicBezTo>
                <a:cubicBezTo>
                  <a:pt x="415" y="398"/>
                  <a:pt x="418" y="395"/>
                  <a:pt x="420" y="393"/>
                </a:cubicBezTo>
                <a:cubicBezTo>
                  <a:pt x="421" y="394"/>
                  <a:pt x="422" y="396"/>
                  <a:pt x="423" y="397"/>
                </a:cubicBezTo>
                <a:cubicBezTo>
                  <a:pt x="421" y="399"/>
                  <a:pt x="419" y="403"/>
                  <a:pt x="418" y="405"/>
                </a:cubicBezTo>
                <a:cubicBezTo>
                  <a:pt x="418" y="406"/>
                  <a:pt x="419" y="406"/>
                  <a:pt x="419" y="406"/>
                </a:cubicBezTo>
                <a:cubicBezTo>
                  <a:pt x="421" y="404"/>
                  <a:pt x="422" y="401"/>
                  <a:pt x="424" y="398"/>
                </a:cubicBezTo>
                <a:cubicBezTo>
                  <a:pt x="424" y="399"/>
                  <a:pt x="424" y="400"/>
                  <a:pt x="425" y="400"/>
                </a:cubicBezTo>
                <a:cubicBezTo>
                  <a:pt x="426" y="402"/>
                  <a:pt x="428" y="404"/>
                  <a:pt x="429" y="405"/>
                </a:cubicBezTo>
                <a:cubicBezTo>
                  <a:pt x="428" y="407"/>
                  <a:pt x="427" y="409"/>
                  <a:pt x="426" y="410"/>
                </a:cubicBezTo>
                <a:cubicBezTo>
                  <a:pt x="424" y="414"/>
                  <a:pt x="421" y="417"/>
                  <a:pt x="419" y="421"/>
                </a:cubicBezTo>
                <a:cubicBezTo>
                  <a:pt x="413" y="430"/>
                  <a:pt x="407" y="439"/>
                  <a:pt x="399" y="447"/>
                </a:cubicBezTo>
                <a:cubicBezTo>
                  <a:pt x="384" y="462"/>
                  <a:pt x="366" y="470"/>
                  <a:pt x="347" y="478"/>
                </a:cubicBezTo>
                <a:cubicBezTo>
                  <a:pt x="347" y="478"/>
                  <a:pt x="347" y="478"/>
                  <a:pt x="347" y="478"/>
                </a:cubicBezTo>
                <a:cubicBezTo>
                  <a:pt x="342" y="480"/>
                  <a:pt x="337" y="482"/>
                  <a:pt x="331" y="483"/>
                </a:cubicBezTo>
                <a:cubicBezTo>
                  <a:pt x="330" y="483"/>
                  <a:pt x="329" y="484"/>
                  <a:pt x="328" y="484"/>
                </a:cubicBezTo>
                <a:cubicBezTo>
                  <a:pt x="313" y="486"/>
                  <a:pt x="298" y="483"/>
                  <a:pt x="285" y="475"/>
                </a:cubicBezTo>
                <a:cubicBezTo>
                  <a:pt x="281" y="472"/>
                  <a:pt x="275" y="468"/>
                  <a:pt x="272" y="464"/>
                </a:cubicBezTo>
                <a:cubicBezTo>
                  <a:pt x="270" y="461"/>
                  <a:pt x="268" y="456"/>
                  <a:pt x="264" y="454"/>
                </a:cubicBezTo>
                <a:cubicBezTo>
                  <a:pt x="254" y="449"/>
                  <a:pt x="253" y="437"/>
                  <a:pt x="250" y="427"/>
                </a:cubicBezTo>
                <a:cubicBezTo>
                  <a:pt x="249" y="426"/>
                  <a:pt x="248" y="426"/>
                  <a:pt x="248" y="427"/>
                </a:cubicBezTo>
                <a:cubicBezTo>
                  <a:pt x="248" y="432"/>
                  <a:pt x="249" y="438"/>
                  <a:pt x="250" y="444"/>
                </a:cubicBezTo>
                <a:cubicBezTo>
                  <a:pt x="250" y="443"/>
                  <a:pt x="249" y="443"/>
                  <a:pt x="249" y="442"/>
                </a:cubicBezTo>
                <a:cubicBezTo>
                  <a:pt x="247" y="439"/>
                  <a:pt x="245" y="436"/>
                  <a:pt x="244" y="432"/>
                </a:cubicBezTo>
                <a:cubicBezTo>
                  <a:pt x="242" y="425"/>
                  <a:pt x="240" y="417"/>
                  <a:pt x="239" y="410"/>
                </a:cubicBezTo>
                <a:cubicBezTo>
                  <a:pt x="237" y="395"/>
                  <a:pt x="240" y="381"/>
                  <a:pt x="246" y="367"/>
                </a:cubicBezTo>
                <a:close/>
                <a:moveTo>
                  <a:pt x="407" y="347"/>
                </a:moveTo>
                <a:cubicBezTo>
                  <a:pt x="406" y="347"/>
                  <a:pt x="406" y="348"/>
                  <a:pt x="406" y="348"/>
                </a:cubicBezTo>
                <a:cubicBezTo>
                  <a:pt x="406" y="347"/>
                  <a:pt x="402" y="348"/>
                  <a:pt x="401" y="349"/>
                </a:cubicBezTo>
                <a:cubicBezTo>
                  <a:pt x="400" y="349"/>
                  <a:pt x="399" y="349"/>
                  <a:pt x="398" y="350"/>
                </a:cubicBezTo>
                <a:cubicBezTo>
                  <a:pt x="399" y="349"/>
                  <a:pt x="401" y="348"/>
                  <a:pt x="402" y="347"/>
                </a:cubicBezTo>
                <a:cubicBezTo>
                  <a:pt x="404" y="346"/>
                  <a:pt x="405" y="346"/>
                  <a:pt x="406" y="345"/>
                </a:cubicBezTo>
                <a:cubicBezTo>
                  <a:pt x="406" y="346"/>
                  <a:pt x="407" y="347"/>
                  <a:pt x="407" y="347"/>
                </a:cubicBezTo>
                <a:close/>
                <a:moveTo>
                  <a:pt x="449" y="263"/>
                </a:moveTo>
                <a:cubicBezTo>
                  <a:pt x="449" y="261"/>
                  <a:pt x="449" y="258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1" y="257"/>
                  <a:pt x="452" y="259"/>
                  <a:pt x="452" y="261"/>
                </a:cubicBezTo>
                <a:cubicBezTo>
                  <a:pt x="452" y="261"/>
                  <a:pt x="451" y="262"/>
                  <a:pt x="451" y="263"/>
                </a:cubicBezTo>
                <a:cubicBezTo>
                  <a:pt x="450" y="266"/>
                  <a:pt x="451" y="268"/>
                  <a:pt x="451" y="271"/>
                </a:cubicBezTo>
                <a:cubicBezTo>
                  <a:pt x="451" y="273"/>
                  <a:pt x="451" y="276"/>
                  <a:pt x="452" y="278"/>
                </a:cubicBezTo>
                <a:cubicBezTo>
                  <a:pt x="451" y="278"/>
                  <a:pt x="451" y="278"/>
                  <a:pt x="451" y="279"/>
                </a:cubicBezTo>
                <a:cubicBezTo>
                  <a:pt x="451" y="278"/>
                  <a:pt x="451" y="278"/>
                  <a:pt x="451" y="278"/>
                </a:cubicBezTo>
                <a:cubicBezTo>
                  <a:pt x="449" y="273"/>
                  <a:pt x="449" y="268"/>
                  <a:pt x="449" y="263"/>
                </a:cubicBezTo>
                <a:close/>
                <a:moveTo>
                  <a:pt x="448" y="255"/>
                </a:moveTo>
                <a:cubicBezTo>
                  <a:pt x="448" y="252"/>
                  <a:pt x="448" y="248"/>
                  <a:pt x="448" y="245"/>
                </a:cubicBezTo>
                <a:cubicBezTo>
                  <a:pt x="448" y="246"/>
                  <a:pt x="448" y="248"/>
                  <a:pt x="449" y="249"/>
                </a:cubicBezTo>
                <a:cubicBezTo>
                  <a:pt x="449" y="250"/>
                  <a:pt x="449" y="252"/>
                  <a:pt x="450" y="253"/>
                </a:cubicBezTo>
                <a:cubicBezTo>
                  <a:pt x="449" y="253"/>
                  <a:pt x="448" y="254"/>
                  <a:pt x="448" y="255"/>
                </a:cubicBezTo>
                <a:close/>
                <a:moveTo>
                  <a:pt x="450" y="283"/>
                </a:moveTo>
                <a:cubicBezTo>
                  <a:pt x="456" y="280"/>
                  <a:pt x="463" y="279"/>
                  <a:pt x="469" y="277"/>
                </a:cubicBezTo>
                <a:cubicBezTo>
                  <a:pt x="477" y="274"/>
                  <a:pt x="485" y="272"/>
                  <a:pt x="493" y="271"/>
                </a:cubicBezTo>
                <a:cubicBezTo>
                  <a:pt x="501" y="270"/>
                  <a:pt x="509" y="271"/>
                  <a:pt x="517" y="274"/>
                </a:cubicBezTo>
                <a:cubicBezTo>
                  <a:pt x="526" y="276"/>
                  <a:pt x="535" y="277"/>
                  <a:pt x="542" y="281"/>
                </a:cubicBezTo>
                <a:cubicBezTo>
                  <a:pt x="549" y="284"/>
                  <a:pt x="556" y="289"/>
                  <a:pt x="562" y="293"/>
                </a:cubicBezTo>
                <a:cubicBezTo>
                  <a:pt x="570" y="298"/>
                  <a:pt x="577" y="303"/>
                  <a:pt x="582" y="312"/>
                </a:cubicBezTo>
                <a:cubicBezTo>
                  <a:pt x="586" y="318"/>
                  <a:pt x="589" y="323"/>
                  <a:pt x="594" y="328"/>
                </a:cubicBezTo>
                <a:cubicBezTo>
                  <a:pt x="594" y="329"/>
                  <a:pt x="594" y="329"/>
                  <a:pt x="594" y="329"/>
                </a:cubicBezTo>
                <a:cubicBezTo>
                  <a:pt x="594" y="329"/>
                  <a:pt x="594" y="329"/>
                  <a:pt x="595" y="330"/>
                </a:cubicBezTo>
                <a:cubicBezTo>
                  <a:pt x="595" y="330"/>
                  <a:pt x="596" y="330"/>
                  <a:pt x="596" y="330"/>
                </a:cubicBezTo>
                <a:cubicBezTo>
                  <a:pt x="596" y="336"/>
                  <a:pt x="597" y="343"/>
                  <a:pt x="598" y="349"/>
                </a:cubicBezTo>
                <a:cubicBezTo>
                  <a:pt x="599" y="353"/>
                  <a:pt x="600" y="358"/>
                  <a:pt x="602" y="363"/>
                </a:cubicBezTo>
                <a:cubicBezTo>
                  <a:pt x="600" y="362"/>
                  <a:pt x="598" y="361"/>
                  <a:pt x="596" y="360"/>
                </a:cubicBezTo>
                <a:cubicBezTo>
                  <a:pt x="593" y="359"/>
                  <a:pt x="590" y="358"/>
                  <a:pt x="587" y="358"/>
                </a:cubicBezTo>
                <a:cubicBezTo>
                  <a:pt x="586" y="357"/>
                  <a:pt x="585" y="356"/>
                  <a:pt x="584" y="356"/>
                </a:cubicBezTo>
                <a:cubicBezTo>
                  <a:pt x="582" y="355"/>
                  <a:pt x="579" y="354"/>
                  <a:pt x="577" y="354"/>
                </a:cubicBezTo>
                <a:cubicBezTo>
                  <a:pt x="577" y="354"/>
                  <a:pt x="576" y="354"/>
                  <a:pt x="577" y="354"/>
                </a:cubicBezTo>
                <a:cubicBezTo>
                  <a:pt x="578" y="355"/>
                  <a:pt x="580" y="356"/>
                  <a:pt x="582" y="356"/>
                </a:cubicBezTo>
                <a:cubicBezTo>
                  <a:pt x="582" y="356"/>
                  <a:pt x="584" y="357"/>
                  <a:pt x="586" y="357"/>
                </a:cubicBezTo>
                <a:cubicBezTo>
                  <a:pt x="582" y="356"/>
                  <a:pt x="579" y="356"/>
                  <a:pt x="575" y="356"/>
                </a:cubicBezTo>
                <a:cubicBezTo>
                  <a:pt x="568" y="357"/>
                  <a:pt x="560" y="361"/>
                  <a:pt x="553" y="366"/>
                </a:cubicBezTo>
                <a:cubicBezTo>
                  <a:pt x="544" y="369"/>
                  <a:pt x="536" y="371"/>
                  <a:pt x="526" y="374"/>
                </a:cubicBezTo>
                <a:cubicBezTo>
                  <a:pt x="521" y="375"/>
                  <a:pt x="516" y="376"/>
                  <a:pt x="510" y="378"/>
                </a:cubicBezTo>
                <a:cubicBezTo>
                  <a:pt x="508" y="379"/>
                  <a:pt x="505" y="380"/>
                  <a:pt x="502" y="381"/>
                </a:cubicBezTo>
                <a:cubicBezTo>
                  <a:pt x="501" y="381"/>
                  <a:pt x="501" y="382"/>
                  <a:pt x="500" y="382"/>
                </a:cubicBezTo>
                <a:cubicBezTo>
                  <a:pt x="500" y="382"/>
                  <a:pt x="500" y="382"/>
                  <a:pt x="500" y="382"/>
                </a:cubicBezTo>
                <a:cubicBezTo>
                  <a:pt x="500" y="383"/>
                  <a:pt x="500" y="383"/>
                  <a:pt x="500" y="383"/>
                </a:cubicBezTo>
                <a:cubicBezTo>
                  <a:pt x="504" y="385"/>
                  <a:pt x="510" y="380"/>
                  <a:pt x="513" y="379"/>
                </a:cubicBezTo>
                <a:cubicBezTo>
                  <a:pt x="518" y="378"/>
                  <a:pt x="523" y="377"/>
                  <a:pt x="529" y="375"/>
                </a:cubicBezTo>
                <a:cubicBezTo>
                  <a:pt x="534" y="374"/>
                  <a:pt x="540" y="372"/>
                  <a:pt x="546" y="370"/>
                </a:cubicBezTo>
                <a:cubicBezTo>
                  <a:pt x="547" y="370"/>
                  <a:pt x="548" y="370"/>
                  <a:pt x="550" y="369"/>
                </a:cubicBezTo>
                <a:cubicBezTo>
                  <a:pt x="549" y="370"/>
                  <a:pt x="548" y="371"/>
                  <a:pt x="547" y="372"/>
                </a:cubicBezTo>
                <a:cubicBezTo>
                  <a:pt x="543" y="374"/>
                  <a:pt x="539" y="377"/>
                  <a:pt x="535" y="379"/>
                </a:cubicBezTo>
                <a:cubicBezTo>
                  <a:pt x="531" y="381"/>
                  <a:pt x="526" y="382"/>
                  <a:pt x="521" y="384"/>
                </a:cubicBezTo>
                <a:cubicBezTo>
                  <a:pt x="517" y="386"/>
                  <a:pt x="513" y="388"/>
                  <a:pt x="508" y="389"/>
                </a:cubicBezTo>
                <a:cubicBezTo>
                  <a:pt x="507" y="390"/>
                  <a:pt x="505" y="391"/>
                  <a:pt x="503" y="392"/>
                </a:cubicBezTo>
                <a:cubicBezTo>
                  <a:pt x="502" y="392"/>
                  <a:pt x="499" y="394"/>
                  <a:pt x="498" y="394"/>
                </a:cubicBezTo>
                <a:cubicBezTo>
                  <a:pt x="498" y="394"/>
                  <a:pt x="498" y="394"/>
                  <a:pt x="498" y="394"/>
                </a:cubicBezTo>
                <a:cubicBezTo>
                  <a:pt x="497" y="394"/>
                  <a:pt x="496" y="395"/>
                  <a:pt x="497" y="396"/>
                </a:cubicBezTo>
                <a:cubicBezTo>
                  <a:pt x="497" y="396"/>
                  <a:pt x="497" y="396"/>
                  <a:pt x="497" y="396"/>
                </a:cubicBezTo>
                <a:cubicBezTo>
                  <a:pt x="497" y="396"/>
                  <a:pt x="498" y="396"/>
                  <a:pt x="499" y="396"/>
                </a:cubicBezTo>
                <a:cubicBezTo>
                  <a:pt x="507" y="392"/>
                  <a:pt x="516" y="388"/>
                  <a:pt x="525" y="384"/>
                </a:cubicBezTo>
                <a:cubicBezTo>
                  <a:pt x="532" y="381"/>
                  <a:pt x="540" y="378"/>
                  <a:pt x="546" y="374"/>
                </a:cubicBezTo>
                <a:cubicBezTo>
                  <a:pt x="546" y="374"/>
                  <a:pt x="546" y="374"/>
                  <a:pt x="546" y="374"/>
                </a:cubicBezTo>
                <a:cubicBezTo>
                  <a:pt x="544" y="376"/>
                  <a:pt x="543" y="379"/>
                  <a:pt x="542" y="381"/>
                </a:cubicBezTo>
                <a:cubicBezTo>
                  <a:pt x="542" y="381"/>
                  <a:pt x="542" y="381"/>
                  <a:pt x="542" y="382"/>
                </a:cubicBezTo>
                <a:cubicBezTo>
                  <a:pt x="535" y="386"/>
                  <a:pt x="529" y="392"/>
                  <a:pt x="523" y="397"/>
                </a:cubicBezTo>
                <a:cubicBezTo>
                  <a:pt x="519" y="401"/>
                  <a:pt x="515" y="406"/>
                  <a:pt x="510" y="408"/>
                </a:cubicBezTo>
                <a:cubicBezTo>
                  <a:pt x="507" y="409"/>
                  <a:pt x="505" y="409"/>
                  <a:pt x="504" y="411"/>
                </a:cubicBezTo>
                <a:cubicBezTo>
                  <a:pt x="504" y="412"/>
                  <a:pt x="504" y="413"/>
                  <a:pt x="505" y="412"/>
                </a:cubicBezTo>
                <a:cubicBezTo>
                  <a:pt x="512" y="408"/>
                  <a:pt x="518" y="403"/>
                  <a:pt x="524" y="398"/>
                </a:cubicBezTo>
                <a:cubicBezTo>
                  <a:pt x="528" y="395"/>
                  <a:pt x="532" y="393"/>
                  <a:pt x="535" y="390"/>
                </a:cubicBezTo>
                <a:cubicBezTo>
                  <a:pt x="536" y="389"/>
                  <a:pt x="539" y="387"/>
                  <a:pt x="541" y="385"/>
                </a:cubicBezTo>
                <a:cubicBezTo>
                  <a:pt x="540" y="387"/>
                  <a:pt x="540" y="389"/>
                  <a:pt x="539" y="391"/>
                </a:cubicBezTo>
                <a:cubicBezTo>
                  <a:pt x="539" y="391"/>
                  <a:pt x="539" y="391"/>
                  <a:pt x="539" y="391"/>
                </a:cubicBezTo>
                <a:cubicBezTo>
                  <a:pt x="536" y="392"/>
                  <a:pt x="534" y="394"/>
                  <a:pt x="532" y="397"/>
                </a:cubicBezTo>
                <a:cubicBezTo>
                  <a:pt x="529" y="400"/>
                  <a:pt x="526" y="403"/>
                  <a:pt x="524" y="407"/>
                </a:cubicBezTo>
                <a:cubicBezTo>
                  <a:pt x="522" y="409"/>
                  <a:pt x="521" y="413"/>
                  <a:pt x="519" y="415"/>
                </a:cubicBezTo>
                <a:cubicBezTo>
                  <a:pt x="517" y="417"/>
                  <a:pt x="515" y="418"/>
                  <a:pt x="512" y="420"/>
                </a:cubicBezTo>
                <a:cubicBezTo>
                  <a:pt x="510" y="422"/>
                  <a:pt x="507" y="424"/>
                  <a:pt x="507" y="428"/>
                </a:cubicBezTo>
                <a:cubicBezTo>
                  <a:pt x="507" y="428"/>
                  <a:pt x="508" y="428"/>
                  <a:pt x="508" y="428"/>
                </a:cubicBezTo>
                <a:cubicBezTo>
                  <a:pt x="510" y="422"/>
                  <a:pt x="515" y="421"/>
                  <a:pt x="518" y="417"/>
                </a:cubicBezTo>
                <a:cubicBezTo>
                  <a:pt x="521" y="414"/>
                  <a:pt x="523" y="411"/>
                  <a:pt x="525" y="408"/>
                </a:cubicBezTo>
                <a:cubicBezTo>
                  <a:pt x="529" y="402"/>
                  <a:pt x="534" y="397"/>
                  <a:pt x="539" y="392"/>
                </a:cubicBezTo>
                <a:cubicBezTo>
                  <a:pt x="538" y="395"/>
                  <a:pt x="537" y="397"/>
                  <a:pt x="536" y="400"/>
                </a:cubicBezTo>
                <a:cubicBezTo>
                  <a:pt x="536" y="401"/>
                  <a:pt x="535" y="403"/>
                  <a:pt x="535" y="404"/>
                </a:cubicBezTo>
                <a:cubicBezTo>
                  <a:pt x="535" y="404"/>
                  <a:pt x="535" y="404"/>
                  <a:pt x="535" y="404"/>
                </a:cubicBezTo>
                <a:cubicBezTo>
                  <a:pt x="533" y="406"/>
                  <a:pt x="530" y="408"/>
                  <a:pt x="529" y="411"/>
                </a:cubicBezTo>
                <a:cubicBezTo>
                  <a:pt x="529" y="411"/>
                  <a:pt x="530" y="411"/>
                  <a:pt x="530" y="411"/>
                </a:cubicBezTo>
                <a:cubicBezTo>
                  <a:pt x="532" y="409"/>
                  <a:pt x="533" y="407"/>
                  <a:pt x="535" y="405"/>
                </a:cubicBezTo>
                <a:cubicBezTo>
                  <a:pt x="533" y="415"/>
                  <a:pt x="535" y="424"/>
                  <a:pt x="539" y="435"/>
                </a:cubicBezTo>
                <a:cubicBezTo>
                  <a:pt x="541" y="440"/>
                  <a:pt x="542" y="445"/>
                  <a:pt x="544" y="450"/>
                </a:cubicBezTo>
                <a:cubicBezTo>
                  <a:pt x="538" y="455"/>
                  <a:pt x="528" y="454"/>
                  <a:pt x="521" y="453"/>
                </a:cubicBezTo>
                <a:cubicBezTo>
                  <a:pt x="512" y="452"/>
                  <a:pt x="503" y="450"/>
                  <a:pt x="494" y="448"/>
                </a:cubicBezTo>
                <a:cubicBezTo>
                  <a:pt x="486" y="445"/>
                  <a:pt x="478" y="440"/>
                  <a:pt x="470" y="436"/>
                </a:cubicBezTo>
                <a:cubicBezTo>
                  <a:pt x="463" y="433"/>
                  <a:pt x="456" y="429"/>
                  <a:pt x="451" y="422"/>
                </a:cubicBezTo>
                <a:cubicBezTo>
                  <a:pt x="445" y="416"/>
                  <a:pt x="439" y="411"/>
                  <a:pt x="434" y="405"/>
                </a:cubicBezTo>
                <a:cubicBezTo>
                  <a:pt x="433" y="405"/>
                  <a:pt x="433" y="405"/>
                  <a:pt x="433" y="404"/>
                </a:cubicBezTo>
                <a:cubicBezTo>
                  <a:pt x="433" y="404"/>
                  <a:pt x="433" y="404"/>
                  <a:pt x="432" y="403"/>
                </a:cubicBezTo>
                <a:cubicBezTo>
                  <a:pt x="427" y="398"/>
                  <a:pt x="424" y="392"/>
                  <a:pt x="421" y="384"/>
                </a:cubicBezTo>
                <a:cubicBezTo>
                  <a:pt x="419" y="377"/>
                  <a:pt x="417" y="369"/>
                  <a:pt x="414" y="362"/>
                </a:cubicBezTo>
                <a:cubicBezTo>
                  <a:pt x="412" y="355"/>
                  <a:pt x="410" y="347"/>
                  <a:pt x="410" y="340"/>
                </a:cubicBezTo>
                <a:cubicBezTo>
                  <a:pt x="410" y="332"/>
                  <a:pt x="411" y="325"/>
                  <a:pt x="415" y="318"/>
                </a:cubicBezTo>
                <a:cubicBezTo>
                  <a:pt x="419" y="311"/>
                  <a:pt x="425" y="305"/>
                  <a:pt x="430" y="299"/>
                </a:cubicBezTo>
                <a:cubicBezTo>
                  <a:pt x="436" y="293"/>
                  <a:pt x="442" y="287"/>
                  <a:pt x="450" y="283"/>
                </a:cubicBezTo>
                <a:close/>
                <a:moveTo>
                  <a:pt x="455" y="277"/>
                </a:moveTo>
                <a:cubicBezTo>
                  <a:pt x="455" y="276"/>
                  <a:pt x="456" y="275"/>
                  <a:pt x="456" y="274"/>
                </a:cubicBezTo>
                <a:cubicBezTo>
                  <a:pt x="456" y="275"/>
                  <a:pt x="456" y="276"/>
                  <a:pt x="456" y="276"/>
                </a:cubicBezTo>
                <a:cubicBezTo>
                  <a:pt x="456" y="277"/>
                  <a:pt x="455" y="277"/>
                  <a:pt x="455" y="277"/>
                </a:cubicBezTo>
                <a:close/>
                <a:moveTo>
                  <a:pt x="528" y="466"/>
                </a:moveTo>
                <a:cubicBezTo>
                  <a:pt x="532" y="466"/>
                  <a:pt x="536" y="464"/>
                  <a:pt x="539" y="462"/>
                </a:cubicBezTo>
                <a:cubicBezTo>
                  <a:pt x="542" y="460"/>
                  <a:pt x="544" y="459"/>
                  <a:pt x="547" y="457"/>
                </a:cubicBezTo>
                <a:cubicBezTo>
                  <a:pt x="547" y="457"/>
                  <a:pt x="547" y="457"/>
                  <a:pt x="547" y="457"/>
                </a:cubicBezTo>
                <a:cubicBezTo>
                  <a:pt x="544" y="460"/>
                  <a:pt x="542" y="463"/>
                  <a:pt x="540" y="465"/>
                </a:cubicBezTo>
                <a:cubicBezTo>
                  <a:pt x="537" y="469"/>
                  <a:pt x="533" y="469"/>
                  <a:pt x="529" y="472"/>
                </a:cubicBezTo>
                <a:cubicBezTo>
                  <a:pt x="529" y="472"/>
                  <a:pt x="529" y="473"/>
                  <a:pt x="529" y="473"/>
                </a:cubicBezTo>
                <a:cubicBezTo>
                  <a:pt x="533" y="474"/>
                  <a:pt x="537" y="470"/>
                  <a:pt x="539" y="468"/>
                </a:cubicBezTo>
                <a:cubicBezTo>
                  <a:pt x="542" y="465"/>
                  <a:pt x="545" y="462"/>
                  <a:pt x="548" y="458"/>
                </a:cubicBezTo>
                <a:cubicBezTo>
                  <a:pt x="550" y="463"/>
                  <a:pt x="552" y="467"/>
                  <a:pt x="555" y="471"/>
                </a:cubicBezTo>
                <a:cubicBezTo>
                  <a:pt x="558" y="476"/>
                  <a:pt x="562" y="480"/>
                  <a:pt x="566" y="485"/>
                </a:cubicBezTo>
                <a:cubicBezTo>
                  <a:pt x="560" y="486"/>
                  <a:pt x="555" y="490"/>
                  <a:pt x="549" y="491"/>
                </a:cubicBezTo>
                <a:cubicBezTo>
                  <a:pt x="542" y="492"/>
                  <a:pt x="535" y="491"/>
                  <a:pt x="528" y="489"/>
                </a:cubicBezTo>
                <a:cubicBezTo>
                  <a:pt x="514" y="484"/>
                  <a:pt x="500" y="479"/>
                  <a:pt x="488" y="471"/>
                </a:cubicBezTo>
                <a:cubicBezTo>
                  <a:pt x="481" y="467"/>
                  <a:pt x="475" y="463"/>
                  <a:pt x="470" y="458"/>
                </a:cubicBezTo>
                <a:cubicBezTo>
                  <a:pt x="470" y="457"/>
                  <a:pt x="469" y="456"/>
                  <a:pt x="469" y="456"/>
                </a:cubicBezTo>
                <a:cubicBezTo>
                  <a:pt x="463" y="451"/>
                  <a:pt x="459" y="445"/>
                  <a:pt x="454" y="438"/>
                </a:cubicBezTo>
                <a:cubicBezTo>
                  <a:pt x="451" y="433"/>
                  <a:pt x="446" y="427"/>
                  <a:pt x="443" y="421"/>
                </a:cubicBezTo>
                <a:cubicBezTo>
                  <a:pt x="443" y="420"/>
                  <a:pt x="443" y="419"/>
                  <a:pt x="442" y="418"/>
                </a:cubicBezTo>
                <a:cubicBezTo>
                  <a:pt x="447" y="423"/>
                  <a:pt x="451" y="429"/>
                  <a:pt x="457" y="433"/>
                </a:cubicBezTo>
                <a:cubicBezTo>
                  <a:pt x="463" y="437"/>
                  <a:pt x="471" y="440"/>
                  <a:pt x="477" y="443"/>
                </a:cubicBezTo>
                <a:cubicBezTo>
                  <a:pt x="480" y="445"/>
                  <a:pt x="483" y="446"/>
                  <a:pt x="485" y="447"/>
                </a:cubicBezTo>
                <a:cubicBezTo>
                  <a:pt x="485" y="447"/>
                  <a:pt x="485" y="447"/>
                  <a:pt x="485" y="447"/>
                </a:cubicBezTo>
                <a:cubicBezTo>
                  <a:pt x="504" y="463"/>
                  <a:pt x="522" y="480"/>
                  <a:pt x="546" y="486"/>
                </a:cubicBezTo>
                <a:cubicBezTo>
                  <a:pt x="547" y="486"/>
                  <a:pt x="548" y="485"/>
                  <a:pt x="547" y="485"/>
                </a:cubicBezTo>
                <a:cubicBezTo>
                  <a:pt x="536" y="478"/>
                  <a:pt x="523" y="474"/>
                  <a:pt x="513" y="466"/>
                </a:cubicBezTo>
                <a:cubicBezTo>
                  <a:pt x="507" y="462"/>
                  <a:pt x="502" y="456"/>
                  <a:pt x="496" y="451"/>
                </a:cubicBezTo>
                <a:cubicBezTo>
                  <a:pt x="502" y="453"/>
                  <a:pt x="508" y="454"/>
                  <a:pt x="514" y="456"/>
                </a:cubicBezTo>
                <a:cubicBezTo>
                  <a:pt x="513" y="456"/>
                  <a:pt x="512" y="456"/>
                  <a:pt x="511" y="456"/>
                </a:cubicBezTo>
                <a:cubicBezTo>
                  <a:pt x="509" y="456"/>
                  <a:pt x="508" y="457"/>
                  <a:pt x="507" y="457"/>
                </a:cubicBezTo>
                <a:cubicBezTo>
                  <a:pt x="507" y="458"/>
                  <a:pt x="507" y="459"/>
                  <a:pt x="507" y="459"/>
                </a:cubicBezTo>
                <a:cubicBezTo>
                  <a:pt x="510" y="460"/>
                  <a:pt x="513" y="458"/>
                  <a:pt x="515" y="457"/>
                </a:cubicBezTo>
                <a:cubicBezTo>
                  <a:pt x="517" y="457"/>
                  <a:pt x="518" y="457"/>
                  <a:pt x="520" y="456"/>
                </a:cubicBezTo>
                <a:cubicBezTo>
                  <a:pt x="525" y="457"/>
                  <a:pt x="532" y="458"/>
                  <a:pt x="538" y="457"/>
                </a:cubicBezTo>
                <a:cubicBezTo>
                  <a:pt x="534" y="458"/>
                  <a:pt x="531" y="460"/>
                  <a:pt x="527" y="460"/>
                </a:cubicBezTo>
                <a:cubicBezTo>
                  <a:pt x="523" y="460"/>
                  <a:pt x="519" y="460"/>
                  <a:pt x="515" y="462"/>
                </a:cubicBezTo>
                <a:cubicBezTo>
                  <a:pt x="514" y="462"/>
                  <a:pt x="514" y="464"/>
                  <a:pt x="516" y="464"/>
                </a:cubicBezTo>
                <a:cubicBezTo>
                  <a:pt x="522" y="463"/>
                  <a:pt x="528" y="461"/>
                  <a:pt x="535" y="459"/>
                </a:cubicBezTo>
                <a:cubicBezTo>
                  <a:pt x="538" y="459"/>
                  <a:pt x="542" y="457"/>
                  <a:pt x="545" y="454"/>
                </a:cubicBezTo>
                <a:cubicBezTo>
                  <a:pt x="545" y="454"/>
                  <a:pt x="545" y="453"/>
                  <a:pt x="545" y="453"/>
                </a:cubicBezTo>
                <a:cubicBezTo>
                  <a:pt x="546" y="454"/>
                  <a:pt x="546" y="455"/>
                  <a:pt x="547" y="456"/>
                </a:cubicBezTo>
                <a:cubicBezTo>
                  <a:pt x="544" y="457"/>
                  <a:pt x="541" y="459"/>
                  <a:pt x="538" y="460"/>
                </a:cubicBezTo>
                <a:cubicBezTo>
                  <a:pt x="534" y="462"/>
                  <a:pt x="531" y="463"/>
                  <a:pt x="528" y="465"/>
                </a:cubicBezTo>
                <a:cubicBezTo>
                  <a:pt x="528" y="466"/>
                  <a:pt x="528" y="467"/>
                  <a:pt x="528" y="466"/>
                </a:cubicBezTo>
                <a:close/>
                <a:moveTo>
                  <a:pt x="527" y="554"/>
                </a:moveTo>
                <a:cubicBezTo>
                  <a:pt x="521" y="565"/>
                  <a:pt x="511" y="574"/>
                  <a:pt x="508" y="586"/>
                </a:cubicBezTo>
                <a:cubicBezTo>
                  <a:pt x="508" y="587"/>
                  <a:pt x="508" y="587"/>
                  <a:pt x="509" y="587"/>
                </a:cubicBezTo>
                <a:cubicBezTo>
                  <a:pt x="508" y="587"/>
                  <a:pt x="508" y="587"/>
                  <a:pt x="508" y="587"/>
                </a:cubicBezTo>
                <a:cubicBezTo>
                  <a:pt x="503" y="592"/>
                  <a:pt x="500" y="599"/>
                  <a:pt x="496" y="605"/>
                </a:cubicBezTo>
                <a:cubicBezTo>
                  <a:pt x="494" y="608"/>
                  <a:pt x="490" y="612"/>
                  <a:pt x="487" y="615"/>
                </a:cubicBezTo>
                <a:cubicBezTo>
                  <a:pt x="487" y="615"/>
                  <a:pt x="487" y="615"/>
                  <a:pt x="487" y="614"/>
                </a:cubicBezTo>
                <a:cubicBezTo>
                  <a:pt x="488" y="614"/>
                  <a:pt x="488" y="614"/>
                  <a:pt x="489" y="613"/>
                </a:cubicBezTo>
                <a:cubicBezTo>
                  <a:pt x="490" y="607"/>
                  <a:pt x="492" y="600"/>
                  <a:pt x="495" y="595"/>
                </a:cubicBezTo>
                <a:cubicBezTo>
                  <a:pt x="498" y="588"/>
                  <a:pt x="503" y="584"/>
                  <a:pt x="507" y="578"/>
                </a:cubicBezTo>
                <a:cubicBezTo>
                  <a:pt x="515" y="569"/>
                  <a:pt x="521" y="558"/>
                  <a:pt x="526" y="547"/>
                </a:cubicBezTo>
                <a:cubicBezTo>
                  <a:pt x="532" y="536"/>
                  <a:pt x="537" y="524"/>
                  <a:pt x="544" y="513"/>
                </a:cubicBezTo>
                <a:cubicBezTo>
                  <a:pt x="548" y="507"/>
                  <a:pt x="554" y="500"/>
                  <a:pt x="554" y="493"/>
                </a:cubicBezTo>
                <a:cubicBezTo>
                  <a:pt x="558" y="491"/>
                  <a:pt x="562" y="489"/>
                  <a:pt x="567" y="487"/>
                </a:cubicBezTo>
                <a:cubicBezTo>
                  <a:pt x="567" y="487"/>
                  <a:pt x="567" y="487"/>
                  <a:pt x="567" y="487"/>
                </a:cubicBezTo>
                <a:cubicBezTo>
                  <a:pt x="571" y="490"/>
                  <a:pt x="575" y="494"/>
                  <a:pt x="579" y="497"/>
                </a:cubicBezTo>
                <a:cubicBezTo>
                  <a:pt x="580" y="497"/>
                  <a:pt x="581" y="498"/>
                  <a:pt x="582" y="499"/>
                </a:cubicBezTo>
                <a:cubicBezTo>
                  <a:pt x="582" y="499"/>
                  <a:pt x="582" y="499"/>
                  <a:pt x="582" y="499"/>
                </a:cubicBezTo>
                <a:cubicBezTo>
                  <a:pt x="575" y="507"/>
                  <a:pt x="568" y="514"/>
                  <a:pt x="562" y="522"/>
                </a:cubicBezTo>
                <a:cubicBezTo>
                  <a:pt x="558" y="527"/>
                  <a:pt x="553" y="532"/>
                  <a:pt x="552" y="538"/>
                </a:cubicBezTo>
                <a:cubicBezTo>
                  <a:pt x="546" y="544"/>
                  <a:pt x="540" y="551"/>
                  <a:pt x="534" y="558"/>
                </a:cubicBezTo>
                <a:cubicBezTo>
                  <a:pt x="530" y="563"/>
                  <a:pt x="526" y="567"/>
                  <a:pt x="523" y="573"/>
                </a:cubicBezTo>
                <a:cubicBezTo>
                  <a:pt x="521" y="578"/>
                  <a:pt x="520" y="581"/>
                  <a:pt x="515" y="583"/>
                </a:cubicBezTo>
                <a:cubicBezTo>
                  <a:pt x="513" y="584"/>
                  <a:pt x="511" y="585"/>
                  <a:pt x="509" y="587"/>
                </a:cubicBezTo>
                <a:cubicBezTo>
                  <a:pt x="513" y="581"/>
                  <a:pt x="515" y="575"/>
                  <a:pt x="519" y="570"/>
                </a:cubicBezTo>
                <a:cubicBezTo>
                  <a:pt x="522" y="565"/>
                  <a:pt x="525" y="560"/>
                  <a:pt x="528" y="555"/>
                </a:cubicBezTo>
                <a:cubicBezTo>
                  <a:pt x="528" y="554"/>
                  <a:pt x="528" y="554"/>
                  <a:pt x="527" y="554"/>
                </a:cubicBezTo>
                <a:close/>
                <a:moveTo>
                  <a:pt x="486" y="620"/>
                </a:moveTo>
                <a:cubicBezTo>
                  <a:pt x="486" y="620"/>
                  <a:pt x="486" y="620"/>
                  <a:pt x="486" y="620"/>
                </a:cubicBezTo>
                <a:cubicBezTo>
                  <a:pt x="481" y="620"/>
                  <a:pt x="477" y="618"/>
                  <a:pt x="472" y="617"/>
                </a:cubicBezTo>
                <a:cubicBezTo>
                  <a:pt x="469" y="616"/>
                  <a:pt x="460" y="615"/>
                  <a:pt x="461" y="611"/>
                </a:cubicBezTo>
                <a:cubicBezTo>
                  <a:pt x="464" y="600"/>
                  <a:pt x="470" y="589"/>
                  <a:pt x="475" y="578"/>
                </a:cubicBezTo>
                <a:cubicBezTo>
                  <a:pt x="482" y="563"/>
                  <a:pt x="488" y="547"/>
                  <a:pt x="493" y="532"/>
                </a:cubicBezTo>
                <a:cubicBezTo>
                  <a:pt x="499" y="517"/>
                  <a:pt x="505" y="501"/>
                  <a:pt x="509" y="486"/>
                </a:cubicBezTo>
                <a:cubicBezTo>
                  <a:pt x="516" y="489"/>
                  <a:pt x="523" y="491"/>
                  <a:pt x="531" y="493"/>
                </a:cubicBezTo>
                <a:cubicBezTo>
                  <a:pt x="530" y="493"/>
                  <a:pt x="530" y="494"/>
                  <a:pt x="530" y="494"/>
                </a:cubicBezTo>
                <a:cubicBezTo>
                  <a:pt x="531" y="498"/>
                  <a:pt x="525" y="505"/>
                  <a:pt x="522" y="508"/>
                </a:cubicBezTo>
                <a:cubicBezTo>
                  <a:pt x="518" y="513"/>
                  <a:pt x="516" y="520"/>
                  <a:pt x="514" y="526"/>
                </a:cubicBezTo>
                <a:cubicBezTo>
                  <a:pt x="511" y="534"/>
                  <a:pt x="508" y="542"/>
                  <a:pt x="505" y="550"/>
                </a:cubicBezTo>
                <a:cubicBezTo>
                  <a:pt x="502" y="556"/>
                  <a:pt x="498" y="563"/>
                  <a:pt x="496" y="569"/>
                </a:cubicBezTo>
                <a:cubicBezTo>
                  <a:pt x="491" y="580"/>
                  <a:pt x="487" y="591"/>
                  <a:pt x="484" y="602"/>
                </a:cubicBezTo>
                <a:cubicBezTo>
                  <a:pt x="482" y="609"/>
                  <a:pt x="481" y="615"/>
                  <a:pt x="486" y="620"/>
                </a:cubicBezTo>
                <a:close/>
                <a:moveTo>
                  <a:pt x="466" y="585"/>
                </a:moveTo>
                <a:cubicBezTo>
                  <a:pt x="466" y="579"/>
                  <a:pt x="466" y="573"/>
                  <a:pt x="465" y="568"/>
                </a:cubicBezTo>
                <a:cubicBezTo>
                  <a:pt x="464" y="560"/>
                  <a:pt x="462" y="553"/>
                  <a:pt x="462" y="546"/>
                </a:cubicBezTo>
                <a:cubicBezTo>
                  <a:pt x="461" y="539"/>
                  <a:pt x="462" y="533"/>
                  <a:pt x="462" y="526"/>
                </a:cubicBezTo>
                <a:cubicBezTo>
                  <a:pt x="462" y="513"/>
                  <a:pt x="462" y="499"/>
                  <a:pt x="466" y="486"/>
                </a:cubicBezTo>
                <a:cubicBezTo>
                  <a:pt x="468" y="479"/>
                  <a:pt x="471" y="471"/>
                  <a:pt x="471" y="463"/>
                </a:cubicBezTo>
                <a:cubicBezTo>
                  <a:pt x="477" y="469"/>
                  <a:pt x="484" y="473"/>
                  <a:pt x="491" y="477"/>
                </a:cubicBezTo>
                <a:cubicBezTo>
                  <a:pt x="496" y="480"/>
                  <a:pt x="500" y="482"/>
                  <a:pt x="505" y="484"/>
                </a:cubicBezTo>
                <a:cubicBezTo>
                  <a:pt x="503" y="494"/>
                  <a:pt x="499" y="503"/>
                  <a:pt x="496" y="513"/>
                </a:cubicBezTo>
                <a:cubicBezTo>
                  <a:pt x="493" y="522"/>
                  <a:pt x="490" y="531"/>
                  <a:pt x="486" y="540"/>
                </a:cubicBezTo>
                <a:cubicBezTo>
                  <a:pt x="480" y="557"/>
                  <a:pt x="473" y="573"/>
                  <a:pt x="466" y="590"/>
                </a:cubicBezTo>
                <a:cubicBezTo>
                  <a:pt x="466" y="588"/>
                  <a:pt x="466" y="586"/>
                  <a:pt x="466" y="585"/>
                </a:cubicBezTo>
                <a:close/>
                <a:moveTo>
                  <a:pt x="492" y="588"/>
                </a:moveTo>
                <a:cubicBezTo>
                  <a:pt x="497" y="576"/>
                  <a:pt x="502" y="564"/>
                  <a:pt x="508" y="552"/>
                </a:cubicBezTo>
                <a:cubicBezTo>
                  <a:pt x="511" y="546"/>
                  <a:pt x="513" y="539"/>
                  <a:pt x="515" y="533"/>
                </a:cubicBezTo>
                <a:cubicBezTo>
                  <a:pt x="518" y="526"/>
                  <a:pt x="520" y="518"/>
                  <a:pt x="524" y="511"/>
                </a:cubicBezTo>
                <a:cubicBezTo>
                  <a:pt x="527" y="507"/>
                  <a:pt x="535" y="499"/>
                  <a:pt x="532" y="493"/>
                </a:cubicBezTo>
                <a:cubicBezTo>
                  <a:pt x="533" y="493"/>
                  <a:pt x="533" y="494"/>
                  <a:pt x="534" y="494"/>
                </a:cubicBezTo>
                <a:cubicBezTo>
                  <a:pt x="539" y="495"/>
                  <a:pt x="546" y="495"/>
                  <a:pt x="551" y="494"/>
                </a:cubicBezTo>
                <a:cubicBezTo>
                  <a:pt x="548" y="503"/>
                  <a:pt x="541" y="510"/>
                  <a:pt x="537" y="519"/>
                </a:cubicBezTo>
                <a:cubicBezTo>
                  <a:pt x="531" y="530"/>
                  <a:pt x="525" y="541"/>
                  <a:pt x="519" y="553"/>
                </a:cubicBezTo>
                <a:cubicBezTo>
                  <a:pt x="516" y="559"/>
                  <a:pt x="513" y="565"/>
                  <a:pt x="509" y="570"/>
                </a:cubicBezTo>
                <a:cubicBezTo>
                  <a:pt x="506" y="575"/>
                  <a:pt x="501" y="579"/>
                  <a:pt x="498" y="583"/>
                </a:cubicBezTo>
                <a:cubicBezTo>
                  <a:pt x="492" y="590"/>
                  <a:pt x="489" y="597"/>
                  <a:pt x="487" y="605"/>
                </a:cubicBezTo>
                <a:cubicBezTo>
                  <a:pt x="488" y="599"/>
                  <a:pt x="491" y="592"/>
                  <a:pt x="492" y="588"/>
                </a:cubicBezTo>
                <a:close/>
                <a:moveTo>
                  <a:pt x="244" y="441"/>
                </a:moveTo>
                <a:cubicBezTo>
                  <a:pt x="246" y="444"/>
                  <a:pt x="249" y="447"/>
                  <a:pt x="252" y="449"/>
                </a:cubicBezTo>
                <a:cubicBezTo>
                  <a:pt x="253" y="451"/>
                  <a:pt x="255" y="453"/>
                  <a:pt x="257" y="455"/>
                </a:cubicBezTo>
                <a:cubicBezTo>
                  <a:pt x="257" y="455"/>
                  <a:pt x="258" y="456"/>
                  <a:pt x="259" y="456"/>
                </a:cubicBezTo>
                <a:cubicBezTo>
                  <a:pt x="260" y="458"/>
                  <a:pt x="263" y="462"/>
                  <a:pt x="263" y="462"/>
                </a:cubicBezTo>
                <a:cubicBezTo>
                  <a:pt x="264" y="463"/>
                  <a:pt x="264" y="463"/>
                  <a:pt x="264" y="463"/>
                </a:cubicBezTo>
                <a:cubicBezTo>
                  <a:pt x="262" y="468"/>
                  <a:pt x="259" y="473"/>
                  <a:pt x="258" y="479"/>
                </a:cubicBezTo>
                <a:cubicBezTo>
                  <a:pt x="256" y="474"/>
                  <a:pt x="253" y="470"/>
                  <a:pt x="248" y="473"/>
                </a:cubicBezTo>
                <a:cubicBezTo>
                  <a:pt x="245" y="475"/>
                  <a:pt x="242" y="478"/>
                  <a:pt x="239" y="481"/>
                </a:cubicBezTo>
                <a:cubicBezTo>
                  <a:pt x="239" y="480"/>
                  <a:pt x="239" y="479"/>
                  <a:pt x="239" y="478"/>
                </a:cubicBezTo>
                <a:cubicBezTo>
                  <a:pt x="239" y="472"/>
                  <a:pt x="238" y="466"/>
                  <a:pt x="240" y="460"/>
                </a:cubicBezTo>
                <a:cubicBezTo>
                  <a:pt x="241" y="454"/>
                  <a:pt x="242" y="449"/>
                  <a:pt x="243" y="444"/>
                </a:cubicBezTo>
                <a:cubicBezTo>
                  <a:pt x="244" y="443"/>
                  <a:pt x="244" y="442"/>
                  <a:pt x="244" y="441"/>
                </a:cubicBezTo>
                <a:close/>
                <a:moveTo>
                  <a:pt x="262" y="474"/>
                </a:moveTo>
                <a:cubicBezTo>
                  <a:pt x="263" y="471"/>
                  <a:pt x="265" y="468"/>
                  <a:pt x="266" y="466"/>
                </a:cubicBezTo>
                <a:cubicBezTo>
                  <a:pt x="267" y="468"/>
                  <a:pt x="269" y="470"/>
                  <a:pt x="270" y="472"/>
                </a:cubicBezTo>
                <a:cubicBezTo>
                  <a:pt x="277" y="483"/>
                  <a:pt x="282" y="494"/>
                  <a:pt x="287" y="506"/>
                </a:cubicBezTo>
                <a:cubicBezTo>
                  <a:pt x="292" y="519"/>
                  <a:pt x="297" y="532"/>
                  <a:pt x="301" y="545"/>
                </a:cubicBezTo>
                <a:cubicBezTo>
                  <a:pt x="297" y="539"/>
                  <a:pt x="294" y="533"/>
                  <a:pt x="290" y="527"/>
                </a:cubicBezTo>
                <a:cubicBezTo>
                  <a:pt x="282" y="515"/>
                  <a:pt x="272" y="505"/>
                  <a:pt x="265" y="493"/>
                </a:cubicBezTo>
                <a:cubicBezTo>
                  <a:pt x="263" y="490"/>
                  <a:pt x="262" y="488"/>
                  <a:pt x="262" y="485"/>
                </a:cubicBezTo>
                <a:cubicBezTo>
                  <a:pt x="261" y="482"/>
                  <a:pt x="261" y="477"/>
                  <a:pt x="262" y="474"/>
                </a:cubicBezTo>
                <a:close/>
                <a:moveTo>
                  <a:pt x="319" y="530"/>
                </a:moveTo>
                <a:cubicBezTo>
                  <a:pt x="316" y="522"/>
                  <a:pt x="312" y="515"/>
                  <a:pt x="310" y="507"/>
                </a:cubicBezTo>
                <a:cubicBezTo>
                  <a:pt x="309" y="501"/>
                  <a:pt x="308" y="493"/>
                  <a:pt x="305" y="487"/>
                </a:cubicBezTo>
                <a:cubicBezTo>
                  <a:pt x="315" y="490"/>
                  <a:pt x="325" y="490"/>
                  <a:pt x="336" y="487"/>
                </a:cubicBezTo>
                <a:cubicBezTo>
                  <a:pt x="336" y="486"/>
                  <a:pt x="336" y="486"/>
                  <a:pt x="337" y="486"/>
                </a:cubicBezTo>
                <a:cubicBezTo>
                  <a:pt x="340" y="505"/>
                  <a:pt x="335" y="524"/>
                  <a:pt x="337" y="543"/>
                </a:cubicBezTo>
                <a:cubicBezTo>
                  <a:pt x="337" y="552"/>
                  <a:pt x="338" y="562"/>
                  <a:pt x="340" y="571"/>
                </a:cubicBezTo>
                <a:cubicBezTo>
                  <a:pt x="340" y="571"/>
                  <a:pt x="340" y="571"/>
                  <a:pt x="340" y="571"/>
                </a:cubicBezTo>
                <a:cubicBezTo>
                  <a:pt x="340" y="571"/>
                  <a:pt x="340" y="570"/>
                  <a:pt x="339" y="570"/>
                </a:cubicBezTo>
                <a:cubicBezTo>
                  <a:pt x="329" y="558"/>
                  <a:pt x="325" y="544"/>
                  <a:pt x="319" y="530"/>
                </a:cubicBezTo>
                <a:close/>
                <a:moveTo>
                  <a:pt x="370" y="572"/>
                </a:moveTo>
                <a:cubicBezTo>
                  <a:pt x="370" y="571"/>
                  <a:pt x="370" y="571"/>
                  <a:pt x="370" y="571"/>
                </a:cubicBezTo>
                <a:cubicBezTo>
                  <a:pt x="374" y="565"/>
                  <a:pt x="375" y="556"/>
                  <a:pt x="376" y="549"/>
                </a:cubicBezTo>
                <a:cubicBezTo>
                  <a:pt x="377" y="539"/>
                  <a:pt x="378" y="530"/>
                  <a:pt x="378" y="520"/>
                </a:cubicBezTo>
                <a:cubicBezTo>
                  <a:pt x="378" y="510"/>
                  <a:pt x="377" y="501"/>
                  <a:pt x="379" y="491"/>
                </a:cubicBezTo>
                <a:cubicBezTo>
                  <a:pt x="381" y="484"/>
                  <a:pt x="381" y="477"/>
                  <a:pt x="382" y="470"/>
                </a:cubicBezTo>
                <a:cubicBezTo>
                  <a:pt x="382" y="470"/>
                  <a:pt x="382" y="470"/>
                  <a:pt x="382" y="469"/>
                </a:cubicBezTo>
                <a:cubicBezTo>
                  <a:pt x="382" y="469"/>
                  <a:pt x="383" y="468"/>
                  <a:pt x="383" y="467"/>
                </a:cubicBezTo>
                <a:cubicBezTo>
                  <a:pt x="383" y="466"/>
                  <a:pt x="384" y="465"/>
                  <a:pt x="384" y="464"/>
                </a:cubicBezTo>
                <a:cubicBezTo>
                  <a:pt x="387" y="462"/>
                  <a:pt x="391" y="459"/>
                  <a:pt x="394" y="456"/>
                </a:cubicBezTo>
                <a:cubicBezTo>
                  <a:pt x="403" y="449"/>
                  <a:pt x="410" y="441"/>
                  <a:pt x="417" y="431"/>
                </a:cubicBezTo>
                <a:cubicBezTo>
                  <a:pt x="420" y="426"/>
                  <a:pt x="423" y="421"/>
                  <a:pt x="426" y="416"/>
                </a:cubicBezTo>
                <a:cubicBezTo>
                  <a:pt x="428" y="413"/>
                  <a:pt x="429" y="409"/>
                  <a:pt x="431" y="407"/>
                </a:cubicBezTo>
                <a:cubicBezTo>
                  <a:pt x="432" y="408"/>
                  <a:pt x="432" y="408"/>
                  <a:pt x="433" y="409"/>
                </a:cubicBezTo>
                <a:cubicBezTo>
                  <a:pt x="433" y="409"/>
                  <a:pt x="433" y="409"/>
                  <a:pt x="433" y="410"/>
                </a:cubicBezTo>
                <a:cubicBezTo>
                  <a:pt x="438" y="415"/>
                  <a:pt x="439" y="423"/>
                  <a:pt x="443" y="429"/>
                </a:cubicBezTo>
                <a:cubicBezTo>
                  <a:pt x="444" y="430"/>
                  <a:pt x="445" y="432"/>
                  <a:pt x="446" y="433"/>
                </a:cubicBezTo>
                <a:cubicBezTo>
                  <a:pt x="443" y="440"/>
                  <a:pt x="440" y="448"/>
                  <a:pt x="439" y="455"/>
                </a:cubicBezTo>
                <a:cubicBezTo>
                  <a:pt x="438" y="464"/>
                  <a:pt x="440" y="472"/>
                  <a:pt x="438" y="481"/>
                </a:cubicBezTo>
                <a:cubicBezTo>
                  <a:pt x="436" y="489"/>
                  <a:pt x="434" y="498"/>
                  <a:pt x="434" y="507"/>
                </a:cubicBezTo>
                <a:cubicBezTo>
                  <a:pt x="434" y="516"/>
                  <a:pt x="435" y="525"/>
                  <a:pt x="436" y="534"/>
                </a:cubicBezTo>
                <a:cubicBezTo>
                  <a:pt x="437" y="543"/>
                  <a:pt x="437" y="552"/>
                  <a:pt x="437" y="562"/>
                </a:cubicBezTo>
                <a:cubicBezTo>
                  <a:pt x="437" y="570"/>
                  <a:pt x="438" y="579"/>
                  <a:pt x="438" y="587"/>
                </a:cubicBezTo>
                <a:cubicBezTo>
                  <a:pt x="439" y="593"/>
                  <a:pt x="440" y="599"/>
                  <a:pt x="443" y="604"/>
                </a:cubicBezTo>
                <a:cubicBezTo>
                  <a:pt x="442" y="604"/>
                  <a:pt x="442" y="604"/>
                  <a:pt x="442" y="604"/>
                </a:cubicBezTo>
                <a:cubicBezTo>
                  <a:pt x="442" y="604"/>
                  <a:pt x="441" y="604"/>
                  <a:pt x="441" y="604"/>
                </a:cubicBezTo>
                <a:cubicBezTo>
                  <a:pt x="441" y="604"/>
                  <a:pt x="441" y="604"/>
                  <a:pt x="441" y="604"/>
                </a:cubicBezTo>
                <a:cubicBezTo>
                  <a:pt x="442" y="604"/>
                  <a:pt x="441" y="604"/>
                  <a:pt x="442" y="605"/>
                </a:cubicBezTo>
                <a:cubicBezTo>
                  <a:pt x="442" y="605"/>
                  <a:pt x="442" y="606"/>
                  <a:pt x="442" y="606"/>
                </a:cubicBezTo>
                <a:cubicBezTo>
                  <a:pt x="442" y="606"/>
                  <a:pt x="442" y="607"/>
                  <a:pt x="442" y="607"/>
                </a:cubicBezTo>
                <a:cubicBezTo>
                  <a:pt x="442" y="608"/>
                  <a:pt x="442" y="608"/>
                  <a:pt x="442" y="608"/>
                </a:cubicBezTo>
                <a:cubicBezTo>
                  <a:pt x="441" y="607"/>
                  <a:pt x="441" y="607"/>
                  <a:pt x="440" y="608"/>
                </a:cubicBezTo>
                <a:cubicBezTo>
                  <a:pt x="439" y="609"/>
                  <a:pt x="439" y="613"/>
                  <a:pt x="440" y="615"/>
                </a:cubicBezTo>
                <a:cubicBezTo>
                  <a:pt x="441" y="617"/>
                  <a:pt x="442" y="618"/>
                  <a:pt x="444" y="619"/>
                </a:cubicBezTo>
                <a:cubicBezTo>
                  <a:pt x="443" y="622"/>
                  <a:pt x="444" y="625"/>
                  <a:pt x="444" y="628"/>
                </a:cubicBezTo>
                <a:cubicBezTo>
                  <a:pt x="445" y="634"/>
                  <a:pt x="445" y="640"/>
                  <a:pt x="444" y="646"/>
                </a:cubicBezTo>
                <a:cubicBezTo>
                  <a:pt x="443" y="658"/>
                  <a:pt x="439" y="670"/>
                  <a:pt x="435" y="682"/>
                </a:cubicBezTo>
                <a:cubicBezTo>
                  <a:pt x="433" y="688"/>
                  <a:pt x="431" y="694"/>
                  <a:pt x="428" y="700"/>
                </a:cubicBezTo>
                <a:cubicBezTo>
                  <a:pt x="428" y="694"/>
                  <a:pt x="422" y="688"/>
                  <a:pt x="419" y="684"/>
                </a:cubicBezTo>
                <a:cubicBezTo>
                  <a:pt x="412" y="672"/>
                  <a:pt x="406" y="659"/>
                  <a:pt x="400" y="647"/>
                </a:cubicBezTo>
                <a:cubicBezTo>
                  <a:pt x="394" y="633"/>
                  <a:pt x="390" y="620"/>
                  <a:pt x="382" y="607"/>
                </a:cubicBezTo>
                <a:cubicBezTo>
                  <a:pt x="381" y="604"/>
                  <a:pt x="378" y="602"/>
                  <a:pt x="377" y="598"/>
                </a:cubicBezTo>
                <a:cubicBezTo>
                  <a:pt x="376" y="596"/>
                  <a:pt x="376" y="593"/>
                  <a:pt x="375" y="590"/>
                </a:cubicBezTo>
                <a:cubicBezTo>
                  <a:pt x="374" y="586"/>
                  <a:pt x="373" y="583"/>
                  <a:pt x="369" y="581"/>
                </a:cubicBezTo>
                <a:cubicBezTo>
                  <a:pt x="370" y="578"/>
                  <a:pt x="370" y="575"/>
                  <a:pt x="370" y="572"/>
                </a:cubicBezTo>
                <a:close/>
                <a:moveTo>
                  <a:pt x="444" y="615"/>
                </a:moveTo>
                <a:cubicBezTo>
                  <a:pt x="444" y="615"/>
                  <a:pt x="444" y="614"/>
                  <a:pt x="443" y="614"/>
                </a:cubicBezTo>
                <a:cubicBezTo>
                  <a:pt x="443" y="613"/>
                  <a:pt x="443" y="612"/>
                  <a:pt x="443" y="611"/>
                </a:cubicBezTo>
                <a:cubicBezTo>
                  <a:pt x="443" y="611"/>
                  <a:pt x="444" y="611"/>
                  <a:pt x="444" y="611"/>
                </a:cubicBezTo>
                <a:cubicBezTo>
                  <a:pt x="445" y="612"/>
                  <a:pt x="445" y="613"/>
                  <a:pt x="446" y="614"/>
                </a:cubicBezTo>
                <a:cubicBezTo>
                  <a:pt x="446" y="614"/>
                  <a:pt x="446" y="614"/>
                  <a:pt x="446" y="614"/>
                </a:cubicBezTo>
                <a:cubicBezTo>
                  <a:pt x="445" y="614"/>
                  <a:pt x="445" y="614"/>
                  <a:pt x="445" y="615"/>
                </a:cubicBezTo>
                <a:cubicBezTo>
                  <a:pt x="445" y="615"/>
                  <a:pt x="444" y="615"/>
                  <a:pt x="444" y="615"/>
                </a:cubicBezTo>
                <a:close/>
                <a:moveTo>
                  <a:pt x="443" y="595"/>
                </a:moveTo>
                <a:cubicBezTo>
                  <a:pt x="442" y="589"/>
                  <a:pt x="442" y="583"/>
                  <a:pt x="441" y="577"/>
                </a:cubicBezTo>
                <a:cubicBezTo>
                  <a:pt x="439" y="560"/>
                  <a:pt x="441" y="543"/>
                  <a:pt x="439" y="526"/>
                </a:cubicBezTo>
                <a:cubicBezTo>
                  <a:pt x="438" y="517"/>
                  <a:pt x="437" y="508"/>
                  <a:pt x="438" y="500"/>
                </a:cubicBezTo>
                <a:cubicBezTo>
                  <a:pt x="439" y="492"/>
                  <a:pt x="442" y="484"/>
                  <a:pt x="443" y="476"/>
                </a:cubicBezTo>
                <a:cubicBezTo>
                  <a:pt x="443" y="468"/>
                  <a:pt x="441" y="461"/>
                  <a:pt x="443" y="454"/>
                </a:cubicBezTo>
                <a:cubicBezTo>
                  <a:pt x="444" y="448"/>
                  <a:pt x="446" y="442"/>
                  <a:pt x="448" y="436"/>
                </a:cubicBezTo>
                <a:cubicBezTo>
                  <a:pt x="451" y="440"/>
                  <a:pt x="454" y="444"/>
                  <a:pt x="457" y="448"/>
                </a:cubicBezTo>
                <a:cubicBezTo>
                  <a:pt x="460" y="453"/>
                  <a:pt x="463" y="457"/>
                  <a:pt x="467" y="460"/>
                </a:cubicBezTo>
                <a:cubicBezTo>
                  <a:pt x="468" y="471"/>
                  <a:pt x="463" y="482"/>
                  <a:pt x="461" y="492"/>
                </a:cubicBezTo>
                <a:cubicBezTo>
                  <a:pt x="459" y="503"/>
                  <a:pt x="459" y="515"/>
                  <a:pt x="459" y="526"/>
                </a:cubicBezTo>
                <a:cubicBezTo>
                  <a:pt x="458" y="539"/>
                  <a:pt x="459" y="551"/>
                  <a:pt x="461" y="564"/>
                </a:cubicBezTo>
                <a:cubicBezTo>
                  <a:pt x="463" y="571"/>
                  <a:pt x="463" y="578"/>
                  <a:pt x="463" y="585"/>
                </a:cubicBezTo>
                <a:cubicBezTo>
                  <a:pt x="463" y="586"/>
                  <a:pt x="463" y="593"/>
                  <a:pt x="463" y="596"/>
                </a:cubicBezTo>
                <a:cubicBezTo>
                  <a:pt x="461" y="599"/>
                  <a:pt x="459" y="603"/>
                  <a:pt x="458" y="607"/>
                </a:cubicBezTo>
                <a:cubicBezTo>
                  <a:pt x="456" y="607"/>
                  <a:pt x="455" y="608"/>
                  <a:pt x="454" y="608"/>
                </a:cubicBezTo>
                <a:cubicBezTo>
                  <a:pt x="452" y="608"/>
                  <a:pt x="451" y="607"/>
                  <a:pt x="449" y="607"/>
                </a:cubicBezTo>
                <a:cubicBezTo>
                  <a:pt x="449" y="606"/>
                  <a:pt x="448" y="606"/>
                  <a:pt x="448" y="606"/>
                </a:cubicBezTo>
                <a:cubicBezTo>
                  <a:pt x="445" y="603"/>
                  <a:pt x="444" y="599"/>
                  <a:pt x="443" y="595"/>
                </a:cubicBezTo>
                <a:close/>
                <a:moveTo>
                  <a:pt x="908" y="527"/>
                </a:moveTo>
                <a:cubicBezTo>
                  <a:pt x="916" y="520"/>
                  <a:pt x="922" y="512"/>
                  <a:pt x="928" y="505"/>
                </a:cubicBezTo>
                <a:cubicBezTo>
                  <a:pt x="940" y="490"/>
                  <a:pt x="950" y="475"/>
                  <a:pt x="959" y="459"/>
                </a:cubicBezTo>
                <a:cubicBezTo>
                  <a:pt x="967" y="443"/>
                  <a:pt x="976" y="427"/>
                  <a:pt x="981" y="410"/>
                </a:cubicBezTo>
                <a:cubicBezTo>
                  <a:pt x="985" y="398"/>
                  <a:pt x="986" y="385"/>
                  <a:pt x="988" y="372"/>
                </a:cubicBezTo>
                <a:cubicBezTo>
                  <a:pt x="988" y="388"/>
                  <a:pt x="985" y="403"/>
                  <a:pt x="980" y="418"/>
                </a:cubicBezTo>
                <a:cubicBezTo>
                  <a:pt x="974" y="435"/>
                  <a:pt x="971" y="452"/>
                  <a:pt x="962" y="467"/>
                </a:cubicBezTo>
                <a:cubicBezTo>
                  <a:pt x="957" y="475"/>
                  <a:pt x="952" y="482"/>
                  <a:pt x="947" y="490"/>
                </a:cubicBezTo>
                <a:cubicBezTo>
                  <a:pt x="943" y="497"/>
                  <a:pt x="939" y="504"/>
                  <a:pt x="934" y="510"/>
                </a:cubicBezTo>
                <a:cubicBezTo>
                  <a:pt x="927" y="521"/>
                  <a:pt x="917" y="531"/>
                  <a:pt x="909" y="541"/>
                </a:cubicBezTo>
                <a:cubicBezTo>
                  <a:pt x="907" y="542"/>
                  <a:pt x="906" y="544"/>
                  <a:pt x="905" y="546"/>
                </a:cubicBezTo>
                <a:cubicBezTo>
                  <a:pt x="904" y="547"/>
                  <a:pt x="904" y="548"/>
                  <a:pt x="903" y="549"/>
                </a:cubicBezTo>
                <a:cubicBezTo>
                  <a:pt x="902" y="549"/>
                  <a:pt x="902" y="549"/>
                  <a:pt x="902" y="549"/>
                </a:cubicBezTo>
                <a:cubicBezTo>
                  <a:pt x="901" y="549"/>
                  <a:pt x="901" y="550"/>
                  <a:pt x="901" y="550"/>
                </a:cubicBezTo>
                <a:cubicBezTo>
                  <a:pt x="898" y="550"/>
                  <a:pt x="896" y="550"/>
                  <a:pt x="893" y="551"/>
                </a:cubicBezTo>
                <a:cubicBezTo>
                  <a:pt x="892" y="551"/>
                  <a:pt x="890" y="551"/>
                  <a:pt x="888" y="551"/>
                </a:cubicBezTo>
                <a:cubicBezTo>
                  <a:pt x="889" y="550"/>
                  <a:pt x="889" y="548"/>
                  <a:pt x="890" y="546"/>
                </a:cubicBezTo>
                <a:cubicBezTo>
                  <a:pt x="893" y="538"/>
                  <a:pt x="902" y="533"/>
                  <a:pt x="908" y="527"/>
                </a:cubicBezTo>
                <a:close/>
                <a:moveTo>
                  <a:pt x="988" y="406"/>
                </a:moveTo>
                <a:cubicBezTo>
                  <a:pt x="988" y="406"/>
                  <a:pt x="988" y="406"/>
                  <a:pt x="988" y="406"/>
                </a:cubicBezTo>
                <a:cubicBezTo>
                  <a:pt x="988" y="406"/>
                  <a:pt x="988" y="406"/>
                  <a:pt x="989" y="406"/>
                </a:cubicBezTo>
                <a:cubicBezTo>
                  <a:pt x="988" y="407"/>
                  <a:pt x="987" y="408"/>
                  <a:pt x="987" y="409"/>
                </a:cubicBezTo>
                <a:cubicBezTo>
                  <a:pt x="987" y="408"/>
                  <a:pt x="987" y="407"/>
                  <a:pt x="987" y="407"/>
                </a:cubicBezTo>
                <a:cubicBezTo>
                  <a:pt x="988" y="406"/>
                  <a:pt x="988" y="406"/>
                  <a:pt x="988" y="406"/>
                </a:cubicBezTo>
                <a:close/>
                <a:moveTo>
                  <a:pt x="949" y="508"/>
                </a:moveTo>
                <a:cubicBezTo>
                  <a:pt x="952" y="506"/>
                  <a:pt x="954" y="504"/>
                  <a:pt x="956" y="502"/>
                </a:cubicBezTo>
                <a:cubicBezTo>
                  <a:pt x="954" y="505"/>
                  <a:pt x="952" y="506"/>
                  <a:pt x="949" y="508"/>
                </a:cubicBezTo>
                <a:close/>
                <a:moveTo>
                  <a:pt x="986" y="292"/>
                </a:moveTo>
                <a:cubicBezTo>
                  <a:pt x="990" y="292"/>
                  <a:pt x="993" y="291"/>
                  <a:pt x="997" y="291"/>
                </a:cubicBezTo>
                <a:cubicBezTo>
                  <a:pt x="1007" y="292"/>
                  <a:pt x="1018" y="293"/>
                  <a:pt x="1026" y="299"/>
                </a:cubicBezTo>
                <a:cubicBezTo>
                  <a:pt x="1041" y="309"/>
                  <a:pt x="1048" y="326"/>
                  <a:pt x="1046" y="344"/>
                </a:cubicBezTo>
                <a:cubicBezTo>
                  <a:pt x="1044" y="355"/>
                  <a:pt x="1040" y="365"/>
                  <a:pt x="1033" y="373"/>
                </a:cubicBezTo>
                <a:cubicBezTo>
                  <a:pt x="1027" y="379"/>
                  <a:pt x="1020" y="384"/>
                  <a:pt x="1013" y="390"/>
                </a:cubicBezTo>
                <a:cubicBezTo>
                  <a:pt x="1012" y="390"/>
                  <a:pt x="1012" y="391"/>
                  <a:pt x="1012" y="391"/>
                </a:cubicBezTo>
                <a:cubicBezTo>
                  <a:pt x="1016" y="387"/>
                  <a:pt x="1019" y="383"/>
                  <a:pt x="1023" y="379"/>
                </a:cubicBezTo>
                <a:cubicBezTo>
                  <a:pt x="1023" y="378"/>
                  <a:pt x="1023" y="377"/>
                  <a:pt x="1022" y="378"/>
                </a:cubicBezTo>
                <a:cubicBezTo>
                  <a:pt x="1016" y="382"/>
                  <a:pt x="1013" y="387"/>
                  <a:pt x="1008" y="392"/>
                </a:cubicBezTo>
                <a:cubicBezTo>
                  <a:pt x="1004" y="397"/>
                  <a:pt x="998" y="401"/>
                  <a:pt x="994" y="407"/>
                </a:cubicBezTo>
                <a:cubicBezTo>
                  <a:pt x="990" y="411"/>
                  <a:pt x="985" y="418"/>
                  <a:pt x="983" y="424"/>
                </a:cubicBezTo>
                <a:cubicBezTo>
                  <a:pt x="985" y="416"/>
                  <a:pt x="989" y="410"/>
                  <a:pt x="994" y="403"/>
                </a:cubicBezTo>
                <a:cubicBezTo>
                  <a:pt x="998" y="397"/>
                  <a:pt x="1002" y="393"/>
                  <a:pt x="1007" y="388"/>
                </a:cubicBezTo>
                <a:cubicBezTo>
                  <a:pt x="1010" y="385"/>
                  <a:pt x="1014" y="382"/>
                  <a:pt x="1016" y="377"/>
                </a:cubicBezTo>
                <a:cubicBezTo>
                  <a:pt x="1016" y="377"/>
                  <a:pt x="1016" y="377"/>
                  <a:pt x="1015" y="377"/>
                </a:cubicBezTo>
                <a:cubicBezTo>
                  <a:pt x="1007" y="385"/>
                  <a:pt x="999" y="391"/>
                  <a:pt x="992" y="400"/>
                </a:cubicBezTo>
                <a:cubicBezTo>
                  <a:pt x="994" y="396"/>
                  <a:pt x="996" y="393"/>
                  <a:pt x="999" y="389"/>
                </a:cubicBezTo>
                <a:cubicBezTo>
                  <a:pt x="1003" y="386"/>
                  <a:pt x="1006" y="382"/>
                  <a:pt x="1010" y="378"/>
                </a:cubicBezTo>
                <a:cubicBezTo>
                  <a:pt x="1011" y="378"/>
                  <a:pt x="1010" y="377"/>
                  <a:pt x="1009" y="377"/>
                </a:cubicBezTo>
                <a:cubicBezTo>
                  <a:pt x="1005" y="381"/>
                  <a:pt x="1000" y="385"/>
                  <a:pt x="995" y="390"/>
                </a:cubicBezTo>
                <a:cubicBezTo>
                  <a:pt x="999" y="385"/>
                  <a:pt x="1002" y="381"/>
                  <a:pt x="1005" y="376"/>
                </a:cubicBezTo>
                <a:cubicBezTo>
                  <a:pt x="1009" y="372"/>
                  <a:pt x="1013" y="368"/>
                  <a:pt x="1017" y="364"/>
                </a:cubicBezTo>
                <a:cubicBezTo>
                  <a:pt x="1022" y="359"/>
                  <a:pt x="1030" y="350"/>
                  <a:pt x="1027" y="342"/>
                </a:cubicBezTo>
                <a:cubicBezTo>
                  <a:pt x="1027" y="342"/>
                  <a:pt x="1027" y="342"/>
                  <a:pt x="1027" y="342"/>
                </a:cubicBezTo>
                <a:cubicBezTo>
                  <a:pt x="1020" y="363"/>
                  <a:pt x="998" y="373"/>
                  <a:pt x="990" y="393"/>
                </a:cubicBezTo>
                <a:cubicBezTo>
                  <a:pt x="991" y="388"/>
                  <a:pt x="992" y="383"/>
                  <a:pt x="992" y="378"/>
                </a:cubicBezTo>
                <a:cubicBezTo>
                  <a:pt x="993" y="373"/>
                  <a:pt x="997" y="368"/>
                  <a:pt x="1000" y="365"/>
                </a:cubicBezTo>
                <a:cubicBezTo>
                  <a:pt x="1005" y="359"/>
                  <a:pt x="1012" y="354"/>
                  <a:pt x="1017" y="348"/>
                </a:cubicBezTo>
                <a:cubicBezTo>
                  <a:pt x="1017" y="348"/>
                  <a:pt x="1017" y="347"/>
                  <a:pt x="1017" y="347"/>
                </a:cubicBezTo>
                <a:cubicBezTo>
                  <a:pt x="1009" y="353"/>
                  <a:pt x="1003" y="360"/>
                  <a:pt x="997" y="367"/>
                </a:cubicBezTo>
                <a:cubicBezTo>
                  <a:pt x="996" y="369"/>
                  <a:pt x="994" y="371"/>
                  <a:pt x="992" y="374"/>
                </a:cubicBezTo>
                <a:cubicBezTo>
                  <a:pt x="992" y="372"/>
                  <a:pt x="992" y="371"/>
                  <a:pt x="992" y="369"/>
                </a:cubicBezTo>
                <a:cubicBezTo>
                  <a:pt x="994" y="366"/>
                  <a:pt x="995" y="363"/>
                  <a:pt x="996" y="359"/>
                </a:cubicBezTo>
                <a:cubicBezTo>
                  <a:pt x="998" y="356"/>
                  <a:pt x="1000" y="353"/>
                  <a:pt x="1002" y="349"/>
                </a:cubicBezTo>
                <a:cubicBezTo>
                  <a:pt x="1009" y="341"/>
                  <a:pt x="1017" y="334"/>
                  <a:pt x="1027" y="330"/>
                </a:cubicBezTo>
                <a:cubicBezTo>
                  <a:pt x="1027" y="330"/>
                  <a:pt x="1027" y="330"/>
                  <a:pt x="1026" y="330"/>
                </a:cubicBezTo>
                <a:cubicBezTo>
                  <a:pt x="1020" y="331"/>
                  <a:pt x="1015" y="335"/>
                  <a:pt x="1011" y="339"/>
                </a:cubicBezTo>
                <a:cubicBezTo>
                  <a:pt x="1007" y="342"/>
                  <a:pt x="1003" y="346"/>
                  <a:pt x="1000" y="350"/>
                </a:cubicBezTo>
                <a:cubicBezTo>
                  <a:pt x="999" y="352"/>
                  <a:pt x="995" y="357"/>
                  <a:pt x="992" y="362"/>
                </a:cubicBezTo>
                <a:cubicBezTo>
                  <a:pt x="992" y="361"/>
                  <a:pt x="992" y="360"/>
                  <a:pt x="992" y="359"/>
                </a:cubicBezTo>
                <a:cubicBezTo>
                  <a:pt x="992" y="359"/>
                  <a:pt x="992" y="359"/>
                  <a:pt x="992" y="359"/>
                </a:cubicBezTo>
                <a:cubicBezTo>
                  <a:pt x="993" y="356"/>
                  <a:pt x="993" y="354"/>
                  <a:pt x="994" y="351"/>
                </a:cubicBezTo>
                <a:cubicBezTo>
                  <a:pt x="996" y="349"/>
                  <a:pt x="997" y="346"/>
                  <a:pt x="998" y="344"/>
                </a:cubicBezTo>
                <a:cubicBezTo>
                  <a:pt x="999" y="343"/>
                  <a:pt x="997" y="342"/>
                  <a:pt x="997" y="343"/>
                </a:cubicBezTo>
                <a:cubicBezTo>
                  <a:pt x="995" y="346"/>
                  <a:pt x="993" y="349"/>
                  <a:pt x="992" y="352"/>
                </a:cubicBezTo>
                <a:cubicBezTo>
                  <a:pt x="992" y="352"/>
                  <a:pt x="992" y="353"/>
                  <a:pt x="991" y="353"/>
                </a:cubicBezTo>
                <a:cubicBezTo>
                  <a:pt x="991" y="352"/>
                  <a:pt x="991" y="351"/>
                  <a:pt x="991" y="350"/>
                </a:cubicBezTo>
                <a:cubicBezTo>
                  <a:pt x="991" y="346"/>
                  <a:pt x="990" y="342"/>
                  <a:pt x="990" y="338"/>
                </a:cubicBezTo>
                <a:cubicBezTo>
                  <a:pt x="990" y="336"/>
                  <a:pt x="991" y="333"/>
                  <a:pt x="992" y="331"/>
                </a:cubicBezTo>
                <a:cubicBezTo>
                  <a:pt x="993" y="328"/>
                  <a:pt x="995" y="326"/>
                  <a:pt x="996" y="324"/>
                </a:cubicBezTo>
                <a:cubicBezTo>
                  <a:pt x="997" y="323"/>
                  <a:pt x="996" y="322"/>
                  <a:pt x="995" y="323"/>
                </a:cubicBezTo>
                <a:cubicBezTo>
                  <a:pt x="993" y="326"/>
                  <a:pt x="990" y="330"/>
                  <a:pt x="989" y="334"/>
                </a:cubicBezTo>
                <a:cubicBezTo>
                  <a:pt x="987" y="325"/>
                  <a:pt x="985" y="316"/>
                  <a:pt x="982" y="308"/>
                </a:cubicBezTo>
                <a:cubicBezTo>
                  <a:pt x="980" y="303"/>
                  <a:pt x="979" y="298"/>
                  <a:pt x="977" y="294"/>
                </a:cubicBezTo>
                <a:cubicBezTo>
                  <a:pt x="979" y="293"/>
                  <a:pt x="984" y="292"/>
                  <a:pt x="986" y="292"/>
                </a:cubicBezTo>
                <a:close/>
                <a:moveTo>
                  <a:pt x="992" y="256"/>
                </a:moveTo>
                <a:cubicBezTo>
                  <a:pt x="992" y="256"/>
                  <a:pt x="992" y="256"/>
                  <a:pt x="992" y="256"/>
                </a:cubicBezTo>
                <a:cubicBezTo>
                  <a:pt x="995" y="257"/>
                  <a:pt x="998" y="256"/>
                  <a:pt x="1000" y="255"/>
                </a:cubicBezTo>
                <a:cubicBezTo>
                  <a:pt x="1003" y="263"/>
                  <a:pt x="996" y="271"/>
                  <a:pt x="992" y="276"/>
                </a:cubicBezTo>
                <a:cubicBezTo>
                  <a:pt x="987" y="281"/>
                  <a:pt x="980" y="285"/>
                  <a:pt x="975" y="290"/>
                </a:cubicBezTo>
                <a:cubicBezTo>
                  <a:pt x="973" y="285"/>
                  <a:pt x="971" y="280"/>
                  <a:pt x="968" y="276"/>
                </a:cubicBezTo>
                <a:cubicBezTo>
                  <a:pt x="972" y="275"/>
                  <a:pt x="977" y="271"/>
                  <a:pt x="980" y="269"/>
                </a:cubicBezTo>
                <a:cubicBezTo>
                  <a:pt x="985" y="266"/>
                  <a:pt x="989" y="261"/>
                  <a:pt x="992" y="256"/>
                </a:cubicBezTo>
                <a:close/>
                <a:moveTo>
                  <a:pt x="880" y="242"/>
                </a:moveTo>
                <a:cubicBezTo>
                  <a:pt x="885" y="240"/>
                  <a:pt x="891" y="239"/>
                  <a:pt x="896" y="239"/>
                </a:cubicBezTo>
                <a:cubicBezTo>
                  <a:pt x="908" y="237"/>
                  <a:pt x="920" y="234"/>
                  <a:pt x="932" y="231"/>
                </a:cubicBezTo>
                <a:cubicBezTo>
                  <a:pt x="939" y="230"/>
                  <a:pt x="946" y="229"/>
                  <a:pt x="953" y="228"/>
                </a:cubicBezTo>
                <a:cubicBezTo>
                  <a:pt x="957" y="228"/>
                  <a:pt x="965" y="226"/>
                  <a:pt x="969" y="229"/>
                </a:cubicBezTo>
                <a:cubicBezTo>
                  <a:pt x="973" y="231"/>
                  <a:pt x="975" y="235"/>
                  <a:pt x="980" y="236"/>
                </a:cubicBezTo>
                <a:cubicBezTo>
                  <a:pt x="988" y="237"/>
                  <a:pt x="992" y="241"/>
                  <a:pt x="991" y="249"/>
                </a:cubicBezTo>
                <a:cubicBezTo>
                  <a:pt x="991" y="250"/>
                  <a:pt x="991" y="250"/>
                  <a:pt x="991" y="250"/>
                </a:cubicBezTo>
                <a:cubicBezTo>
                  <a:pt x="988" y="257"/>
                  <a:pt x="984" y="263"/>
                  <a:pt x="977" y="267"/>
                </a:cubicBezTo>
                <a:cubicBezTo>
                  <a:pt x="974" y="269"/>
                  <a:pt x="969" y="270"/>
                  <a:pt x="966" y="273"/>
                </a:cubicBezTo>
                <a:cubicBezTo>
                  <a:pt x="965" y="271"/>
                  <a:pt x="964" y="270"/>
                  <a:pt x="963" y="268"/>
                </a:cubicBezTo>
                <a:cubicBezTo>
                  <a:pt x="954" y="257"/>
                  <a:pt x="943" y="250"/>
                  <a:pt x="929" y="249"/>
                </a:cubicBezTo>
                <a:cubicBezTo>
                  <a:pt x="915" y="248"/>
                  <a:pt x="902" y="250"/>
                  <a:pt x="891" y="258"/>
                </a:cubicBezTo>
                <a:cubicBezTo>
                  <a:pt x="888" y="260"/>
                  <a:pt x="885" y="263"/>
                  <a:pt x="882" y="264"/>
                </a:cubicBezTo>
                <a:cubicBezTo>
                  <a:pt x="879" y="266"/>
                  <a:pt x="877" y="267"/>
                  <a:pt x="874" y="268"/>
                </a:cubicBezTo>
                <a:cubicBezTo>
                  <a:pt x="871" y="269"/>
                  <a:pt x="869" y="271"/>
                  <a:pt x="867" y="273"/>
                </a:cubicBezTo>
                <a:cubicBezTo>
                  <a:pt x="867" y="272"/>
                  <a:pt x="867" y="272"/>
                  <a:pt x="866" y="272"/>
                </a:cubicBezTo>
                <a:cubicBezTo>
                  <a:pt x="866" y="272"/>
                  <a:pt x="865" y="272"/>
                  <a:pt x="864" y="272"/>
                </a:cubicBezTo>
                <a:cubicBezTo>
                  <a:pt x="864" y="272"/>
                  <a:pt x="863" y="272"/>
                  <a:pt x="863" y="272"/>
                </a:cubicBezTo>
                <a:cubicBezTo>
                  <a:pt x="861" y="272"/>
                  <a:pt x="860" y="273"/>
                  <a:pt x="859" y="274"/>
                </a:cubicBezTo>
                <a:cubicBezTo>
                  <a:pt x="859" y="274"/>
                  <a:pt x="859" y="275"/>
                  <a:pt x="860" y="275"/>
                </a:cubicBezTo>
                <a:cubicBezTo>
                  <a:pt x="861" y="275"/>
                  <a:pt x="862" y="274"/>
                  <a:pt x="863" y="274"/>
                </a:cubicBezTo>
                <a:cubicBezTo>
                  <a:pt x="863" y="274"/>
                  <a:pt x="864" y="274"/>
                  <a:pt x="865" y="273"/>
                </a:cubicBezTo>
                <a:cubicBezTo>
                  <a:pt x="865" y="273"/>
                  <a:pt x="866" y="273"/>
                  <a:pt x="866" y="273"/>
                </a:cubicBezTo>
                <a:cubicBezTo>
                  <a:pt x="864" y="275"/>
                  <a:pt x="861" y="278"/>
                  <a:pt x="859" y="281"/>
                </a:cubicBezTo>
                <a:cubicBezTo>
                  <a:pt x="856" y="284"/>
                  <a:pt x="853" y="288"/>
                  <a:pt x="849" y="291"/>
                </a:cubicBezTo>
                <a:cubicBezTo>
                  <a:pt x="847" y="294"/>
                  <a:pt x="845" y="297"/>
                  <a:pt x="842" y="300"/>
                </a:cubicBezTo>
                <a:cubicBezTo>
                  <a:pt x="840" y="302"/>
                  <a:pt x="836" y="304"/>
                  <a:pt x="836" y="307"/>
                </a:cubicBezTo>
                <a:cubicBezTo>
                  <a:pt x="835" y="307"/>
                  <a:pt x="835" y="307"/>
                  <a:pt x="835" y="307"/>
                </a:cubicBezTo>
                <a:cubicBezTo>
                  <a:pt x="833" y="304"/>
                  <a:pt x="830" y="302"/>
                  <a:pt x="827" y="299"/>
                </a:cubicBezTo>
                <a:cubicBezTo>
                  <a:pt x="830" y="298"/>
                  <a:pt x="833" y="296"/>
                  <a:pt x="836" y="295"/>
                </a:cubicBezTo>
                <a:cubicBezTo>
                  <a:pt x="839" y="294"/>
                  <a:pt x="843" y="294"/>
                  <a:pt x="846" y="292"/>
                </a:cubicBezTo>
                <a:cubicBezTo>
                  <a:pt x="846" y="292"/>
                  <a:pt x="846" y="292"/>
                  <a:pt x="846" y="292"/>
                </a:cubicBezTo>
                <a:cubicBezTo>
                  <a:pt x="843" y="291"/>
                  <a:pt x="839" y="292"/>
                  <a:pt x="836" y="293"/>
                </a:cubicBezTo>
                <a:cubicBezTo>
                  <a:pt x="832" y="294"/>
                  <a:pt x="828" y="295"/>
                  <a:pt x="825" y="297"/>
                </a:cubicBezTo>
                <a:cubicBezTo>
                  <a:pt x="825" y="297"/>
                  <a:pt x="825" y="297"/>
                  <a:pt x="824" y="298"/>
                </a:cubicBezTo>
                <a:cubicBezTo>
                  <a:pt x="824" y="297"/>
                  <a:pt x="823" y="297"/>
                  <a:pt x="823" y="296"/>
                </a:cubicBezTo>
                <a:cubicBezTo>
                  <a:pt x="824" y="295"/>
                  <a:pt x="826" y="294"/>
                  <a:pt x="827" y="294"/>
                </a:cubicBezTo>
                <a:cubicBezTo>
                  <a:pt x="829" y="293"/>
                  <a:pt x="832" y="292"/>
                  <a:pt x="834" y="291"/>
                </a:cubicBezTo>
                <a:cubicBezTo>
                  <a:pt x="839" y="290"/>
                  <a:pt x="843" y="286"/>
                  <a:pt x="848" y="285"/>
                </a:cubicBezTo>
                <a:cubicBezTo>
                  <a:pt x="849" y="285"/>
                  <a:pt x="849" y="285"/>
                  <a:pt x="848" y="285"/>
                </a:cubicBezTo>
                <a:cubicBezTo>
                  <a:pt x="843" y="283"/>
                  <a:pt x="837" y="287"/>
                  <a:pt x="832" y="290"/>
                </a:cubicBezTo>
                <a:cubicBezTo>
                  <a:pt x="830" y="291"/>
                  <a:pt x="823" y="292"/>
                  <a:pt x="820" y="294"/>
                </a:cubicBezTo>
                <a:cubicBezTo>
                  <a:pt x="819" y="294"/>
                  <a:pt x="818" y="293"/>
                  <a:pt x="818" y="293"/>
                </a:cubicBezTo>
                <a:cubicBezTo>
                  <a:pt x="820" y="292"/>
                  <a:pt x="823" y="290"/>
                  <a:pt x="825" y="289"/>
                </a:cubicBezTo>
                <a:cubicBezTo>
                  <a:pt x="832" y="286"/>
                  <a:pt x="838" y="284"/>
                  <a:pt x="845" y="282"/>
                </a:cubicBezTo>
                <a:cubicBezTo>
                  <a:pt x="847" y="281"/>
                  <a:pt x="846" y="278"/>
                  <a:pt x="845" y="279"/>
                </a:cubicBezTo>
                <a:cubicBezTo>
                  <a:pt x="837" y="282"/>
                  <a:pt x="830" y="285"/>
                  <a:pt x="822" y="287"/>
                </a:cubicBezTo>
                <a:cubicBezTo>
                  <a:pt x="820" y="288"/>
                  <a:pt x="816" y="289"/>
                  <a:pt x="815" y="291"/>
                </a:cubicBezTo>
                <a:cubicBezTo>
                  <a:pt x="814" y="291"/>
                  <a:pt x="814" y="290"/>
                  <a:pt x="813" y="290"/>
                </a:cubicBezTo>
                <a:cubicBezTo>
                  <a:pt x="813" y="290"/>
                  <a:pt x="813" y="290"/>
                  <a:pt x="813" y="290"/>
                </a:cubicBezTo>
                <a:cubicBezTo>
                  <a:pt x="813" y="289"/>
                  <a:pt x="813" y="289"/>
                  <a:pt x="813" y="289"/>
                </a:cubicBezTo>
                <a:cubicBezTo>
                  <a:pt x="815" y="287"/>
                  <a:pt x="817" y="285"/>
                  <a:pt x="819" y="284"/>
                </a:cubicBezTo>
                <a:cubicBezTo>
                  <a:pt x="822" y="282"/>
                  <a:pt x="825" y="281"/>
                  <a:pt x="828" y="279"/>
                </a:cubicBezTo>
                <a:cubicBezTo>
                  <a:pt x="836" y="276"/>
                  <a:pt x="843" y="273"/>
                  <a:pt x="850" y="270"/>
                </a:cubicBezTo>
                <a:cubicBezTo>
                  <a:pt x="864" y="265"/>
                  <a:pt x="877" y="262"/>
                  <a:pt x="891" y="257"/>
                </a:cubicBezTo>
                <a:cubicBezTo>
                  <a:pt x="891" y="257"/>
                  <a:pt x="891" y="256"/>
                  <a:pt x="891" y="256"/>
                </a:cubicBezTo>
                <a:cubicBezTo>
                  <a:pt x="876" y="258"/>
                  <a:pt x="862" y="264"/>
                  <a:pt x="848" y="269"/>
                </a:cubicBezTo>
                <a:cubicBezTo>
                  <a:pt x="842" y="271"/>
                  <a:pt x="835" y="274"/>
                  <a:pt x="829" y="276"/>
                </a:cubicBezTo>
                <a:cubicBezTo>
                  <a:pt x="834" y="273"/>
                  <a:pt x="838" y="270"/>
                  <a:pt x="843" y="267"/>
                </a:cubicBezTo>
                <a:cubicBezTo>
                  <a:pt x="846" y="266"/>
                  <a:pt x="849" y="264"/>
                  <a:pt x="853" y="263"/>
                </a:cubicBezTo>
                <a:cubicBezTo>
                  <a:pt x="858" y="261"/>
                  <a:pt x="863" y="260"/>
                  <a:pt x="869" y="257"/>
                </a:cubicBezTo>
                <a:cubicBezTo>
                  <a:pt x="878" y="253"/>
                  <a:pt x="888" y="248"/>
                  <a:pt x="899" y="247"/>
                </a:cubicBezTo>
                <a:cubicBezTo>
                  <a:pt x="899" y="246"/>
                  <a:pt x="899" y="245"/>
                  <a:pt x="898" y="245"/>
                </a:cubicBezTo>
                <a:cubicBezTo>
                  <a:pt x="888" y="246"/>
                  <a:pt x="879" y="251"/>
                  <a:pt x="869" y="255"/>
                </a:cubicBezTo>
                <a:cubicBezTo>
                  <a:pt x="863" y="257"/>
                  <a:pt x="856" y="259"/>
                  <a:pt x="850" y="262"/>
                </a:cubicBezTo>
                <a:cubicBezTo>
                  <a:pt x="850" y="262"/>
                  <a:pt x="849" y="262"/>
                  <a:pt x="849" y="262"/>
                </a:cubicBezTo>
                <a:cubicBezTo>
                  <a:pt x="855" y="257"/>
                  <a:pt x="861" y="252"/>
                  <a:pt x="866" y="246"/>
                </a:cubicBezTo>
                <a:cubicBezTo>
                  <a:pt x="871" y="246"/>
                  <a:pt x="875" y="244"/>
                  <a:pt x="880" y="242"/>
                </a:cubicBezTo>
                <a:close/>
                <a:moveTo>
                  <a:pt x="743" y="122"/>
                </a:moveTo>
                <a:cubicBezTo>
                  <a:pt x="745" y="119"/>
                  <a:pt x="747" y="116"/>
                  <a:pt x="750" y="113"/>
                </a:cubicBezTo>
                <a:cubicBezTo>
                  <a:pt x="760" y="102"/>
                  <a:pt x="773" y="91"/>
                  <a:pt x="788" y="86"/>
                </a:cubicBezTo>
                <a:cubicBezTo>
                  <a:pt x="793" y="84"/>
                  <a:pt x="797" y="82"/>
                  <a:pt x="802" y="83"/>
                </a:cubicBezTo>
                <a:cubicBezTo>
                  <a:pt x="806" y="83"/>
                  <a:pt x="809" y="85"/>
                  <a:pt x="812" y="85"/>
                </a:cubicBezTo>
                <a:cubicBezTo>
                  <a:pt x="816" y="86"/>
                  <a:pt x="819" y="85"/>
                  <a:pt x="822" y="83"/>
                </a:cubicBezTo>
                <a:cubicBezTo>
                  <a:pt x="828" y="78"/>
                  <a:pt x="835" y="71"/>
                  <a:pt x="843" y="74"/>
                </a:cubicBezTo>
                <a:cubicBezTo>
                  <a:pt x="850" y="77"/>
                  <a:pt x="858" y="79"/>
                  <a:pt x="864" y="83"/>
                </a:cubicBezTo>
                <a:cubicBezTo>
                  <a:pt x="879" y="92"/>
                  <a:pt x="886" y="110"/>
                  <a:pt x="891" y="126"/>
                </a:cubicBezTo>
                <a:cubicBezTo>
                  <a:pt x="895" y="141"/>
                  <a:pt x="898" y="156"/>
                  <a:pt x="897" y="171"/>
                </a:cubicBezTo>
                <a:cubicBezTo>
                  <a:pt x="895" y="188"/>
                  <a:pt x="890" y="204"/>
                  <a:pt x="881" y="218"/>
                </a:cubicBezTo>
                <a:cubicBezTo>
                  <a:pt x="876" y="227"/>
                  <a:pt x="870" y="235"/>
                  <a:pt x="864" y="243"/>
                </a:cubicBezTo>
                <a:cubicBezTo>
                  <a:pt x="863" y="244"/>
                  <a:pt x="862" y="245"/>
                  <a:pt x="860" y="246"/>
                </a:cubicBezTo>
                <a:cubicBezTo>
                  <a:pt x="854" y="251"/>
                  <a:pt x="848" y="256"/>
                  <a:pt x="842" y="260"/>
                </a:cubicBezTo>
                <a:cubicBezTo>
                  <a:pt x="835" y="265"/>
                  <a:pt x="828" y="269"/>
                  <a:pt x="821" y="274"/>
                </a:cubicBezTo>
                <a:cubicBezTo>
                  <a:pt x="816" y="278"/>
                  <a:pt x="811" y="282"/>
                  <a:pt x="805" y="286"/>
                </a:cubicBezTo>
                <a:cubicBezTo>
                  <a:pt x="803" y="285"/>
                  <a:pt x="801" y="284"/>
                  <a:pt x="798" y="283"/>
                </a:cubicBezTo>
                <a:cubicBezTo>
                  <a:pt x="801" y="282"/>
                  <a:pt x="803" y="280"/>
                  <a:pt x="805" y="278"/>
                </a:cubicBezTo>
                <a:cubicBezTo>
                  <a:pt x="811" y="274"/>
                  <a:pt x="817" y="270"/>
                  <a:pt x="823" y="265"/>
                </a:cubicBezTo>
                <a:cubicBezTo>
                  <a:pt x="836" y="255"/>
                  <a:pt x="848" y="243"/>
                  <a:pt x="859" y="230"/>
                </a:cubicBezTo>
                <a:cubicBezTo>
                  <a:pt x="868" y="218"/>
                  <a:pt x="878" y="205"/>
                  <a:pt x="884" y="191"/>
                </a:cubicBezTo>
                <a:cubicBezTo>
                  <a:pt x="888" y="182"/>
                  <a:pt x="893" y="171"/>
                  <a:pt x="890" y="161"/>
                </a:cubicBezTo>
                <a:cubicBezTo>
                  <a:pt x="890" y="161"/>
                  <a:pt x="889" y="161"/>
                  <a:pt x="889" y="162"/>
                </a:cubicBezTo>
                <a:cubicBezTo>
                  <a:pt x="890" y="172"/>
                  <a:pt x="885" y="183"/>
                  <a:pt x="880" y="193"/>
                </a:cubicBezTo>
                <a:cubicBezTo>
                  <a:pt x="873" y="206"/>
                  <a:pt x="864" y="220"/>
                  <a:pt x="854" y="231"/>
                </a:cubicBezTo>
                <a:cubicBezTo>
                  <a:pt x="844" y="242"/>
                  <a:pt x="833" y="252"/>
                  <a:pt x="822" y="261"/>
                </a:cubicBezTo>
                <a:cubicBezTo>
                  <a:pt x="816" y="265"/>
                  <a:pt x="810" y="270"/>
                  <a:pt x="804" y="274"/>
                </a:cubicBezTo>
                <a:cubicBezTo>
                  <a:pt x="801" y="277"/>
                  <a:pt x="798" y="280"/>
                  <a:pt x="793" y="282"/>
                </a:cubicBezTo>
                <a:cubicBezTo>
                  <a:pt x="789" y="280"/>
                  <a:pt x="784" y="279"/>
                  <a:pt x="779" y="278"/>
                </a:cubicBezTo>
                <a:cubicBezTo>
                  <a:pt x="773" y="276"/>
                  <a:pt x="767" y="275"/>
                  <a:pt x="761" y="274"/>
                </a:cubicBezTo>
                <a:cubicBezTo>
                  <a:pt x="763" y="273"/>
                  <a:pt x="765" y="272"/>
                  <a:pt x="766" y="271"/>
                </a:cubicBezTo>
                <a:cubicBezTo>
                  <a:pt x="772" y="267"/>
                  <a:pt x="777" y="262"/>
                  <a:pt x="781" y="257"/>
                </a:cubicBezTo>
                <a:cubicBezTo>
                  <a:pt x="786" y="252"/>
                  <a:pt x="790" y="247"/>
                  <a:pt x="794" y="241"/>
                </a:cubicBezTo>
                <a:cubicBezTo>
                  <a:pt x="797" y="236"/>
                  <a:pt x="801" y="231"/>
                  <a:pt x="804" y="226"/>
                </a:cubicBezTo>
                <a:cubicBezTo>
                  <a:pt x="807" y="221"/>
                  <a:pt x="810" y="215"/>
                  <a:pt x="814" y="210"/>
                </a:cubicBezTo>
                <a:cubicBezTo>
                  <a:pt x="814" y="209"/>
                  <a:pt x="813" y="208"/>
                  <a:pt x="812" y="209"/>
                </a:cubicBezTo>
                <a:cubicBezTo>
                  <a:pt x="809" y="213"/>
                  <a:pt x="805" y="218"/>
                  <a:pt x="802" y="222"/>
                </a:cubicBezTo>
                <a:cubicBezTo>
                  <a:pt x="800" y="227"/>
                  <a:pt x="798" y="232"/>
                  <a:pt x="795" y="237"/>
                </a:cubicBezTo>
                <a:cubicBezTo>
                  <a:pt x="791" y="243"/>
                  <a:pt x="786" y="248"/>
                  <a:pt x="782" y="253"/>
                </a:cubicBezTo>
                <a:cubicBezTo>
                  <a:pt x="776" y="259"/>
                  <a:pt x="767" y="270"/>
                  <a:pt x="758" y="272"/>
                </a:cubicBezTo>
                <a:cubicBezTo>
                  <a:pt x="760" y="270"/>
                  <a:pt x="761" y="268"/>
                  <a:pt x="762" y="267"/>
                </a:cubicBezTo>
                <a:cubicBezTo>
                  <a:pt x="767" y="261"/>
                  <a:pt x="771" y="255"/>
                  <a:pt x="774" y="249"/>
                </a:cubicBezTo>
                <a:cubicBezTo>
                  <a:pt x="777" y="245"/>
                  <a:pt x="779" y="242"/>
                  <a:pt x="782" y="238"/>
                </a:cubicBezTo>
                <a:cubicBezTo>
                  <a:pt x="785" y="235"/>
                  <a:pt x="787" y="231"/>
                  <a:pt x="789" y="227"/>
                </a:cubicBezTo>
                <a:cubicBezTo>
                  <a:pt x="790" y="224"/>
                  <a:pt x="793" y="221"/>
                  <a:pt x="794" y="217"/>
                </a:cubicBezTo>
                <a:cubicBezTo>
                  <a:pt x="797" y="213"/>
                  <a:pt x="798" y="209"/>
                  <a:pt x="801" y="205"/>
                </a:cubicBezTo>
                <a:cubicBezTo>
                  <a:pt x="802" y="205"/>
                  <a:pt x="801" y="204"/>
                  <a:pt x="800" y="204"/>
                </a:cubicBezTo>
                <a:cubicBezTo>
                  <a:pt x="798" y="207"/>
                  <a:pt x="796" y="209"/>
                  <a:pt x="795" y="212"/>
                </a:cubicBezTo>
                <a:cubicBezTo>
                  <a:pt x="793" y="216"/>
                  <a:pt x="792" y="220"/>
                  <a:pt x="790" y="223"/>
                </a:cubicBezTo>
                <a:cubicBezTo>
                  <a:pt x="787" y="227"/>
                  <a:pt x="785" y="230"/>
                  <a:pt x="783" y="233"/>
                </a:cubicBezTo>
                <a:cubicBezTo>
                  <a:pt x="781" y="236"/>
                  <a:pt x="779" y="239"/>
                  <a:pt x="778" y="242"/>
                </a:cubicBezTo>
                <a:cubicBezTo>
                  <a:pt x="773" y="248"/>
                  <a:pt x="768" y="254"/>
                  <a:pt x="763" y="260"/>
                </a:cubicBezTo>
                <a:cubicBezTo>
                  <a:pt x="760" y="264"/>
                  <a:pt x="758" y="267"/>
                  <a:pt x="754" y="270"/>
                </a:cubicBezTo>
                <a:cubicBezTo>
                  <a:pt x="753" y="270"/>
                  <a:pt x="753" y="270"/>
                  <a:pt x="753" y="270"/>
                </a:cubicBezTo>
                <a:cubicBezTo>
                  <a:pt x="756" y="266"/>
                  <a:pt x="758" y="261"/>
                  <a:pt x="761" y="256"/>
                </a:cubicBezTo>
                <a:cubicBezTo>
                  <a:pt x="761" y="256"/>
                  <a:pt x="760" y="256"/>
                  <a:pt x="760" y="256"/>
                </a:cubicBezTo>
                <a:cubicBezTo>
                  <a:pt x="758" y="258"/>
                  <a:pt x="757" y="260"/>
                  <a:pt x="756" y="262"/>
                </a:cubicBezTo>
                <a:cubicBezTo>
                  <a:pt x="756" y="260"/>
                  <a:pt x="757" y="259"/>
                  <a:pt x="757" y="258"/>
                </a:cubicBezTo>
                <a:cubicBezTo>
                  <a:pt x="758" y="257"/>
                  <a:pt x="758" y="255"/>
                  <a:pt x="759" y="253"/>
                </a:cubicBezTo>
                <a:cubicBezTo>
                  <a:pt x="759" y="253"/>
                  <a:pt x="760" y="253"/>
                  <a:pt x="760" y="253"/>
                </a:cubicBezTo>
                <a:cubicBezTo>
                  <a:pt x="765" y="242"/>
                  <a:pt x="771" y="232"/>
                  <a:pt x="777" y="223"/>
                </a:cubicBezTo>
                <a:cubicBezTo>
                  <a:pt x="782" y="217"/>
                  <a:pt x="786" y="210"/>
                  <a:pt x="789" y="203"/>
                </a:cubicBezTo>
                <a:cubicBezTo>
                  <a:pt x="791" y="199"/>
                  <a:pt x="793" y="195"/>
                  <a:pt x="795" y="192"/>
                </a:cubicBezTo>
                <a:cubicBezTo>
                  <a:pt x="797" y="188"/>
                  <a:pt x="798" y="185"/>
                  <a:pt x="800" y="182"/>
                </a:cubicBezTo>
                <a:cubicBezTo>
                  <a:pt x="800" y="180"/>
                  <a:pt x="798" y="179"/>
                  <a:pt x="798" y="181"/>
                </a:cubicBezTo>
                <a:cubicBezTo>
                  <a:pt x="794" y="188"/>
                  <a:pt x="791" y="196"/>
                  <a:pt x="786" y="204"/>
                </a:cubicBezTo>
                <a:cubicBezTo>
                  <a:pt x="782" y="211"/>
                  <a:pt x="777" y="218"/>
                  <a:pt x="773" y="225"/>
                </a:cubicBezTo>
                <a:cubicBezTo>
                  <a:pt x="770" y="229"/>
                  <a:pt x="767" y="234"/>
                  <a:pt x="764" y="238"/>
                </a:cubicBezTo>
                <a:cubicBezTo>
                  <a:pt x="766" y="234"/>
                  <a:pt x="767" y="230"/>
                  <a:pt x="768" y="226"/>
                </a:cubicBezTo>
                <a:cubicBezTo>
                  <a:pt x="769" y="222"/>
                  <a:pt x="771" y="219"/>
                  <a:pt x="773" y="215"/>
                </a:cubicBezTo>
                <a:cubicBezTo>
                  <a:pt x="775" y="211"/>
                  <a:pt x="776" y="206"/>
                  <a:pt x="779" y="201"/>
                </a:cubicBezTo>
                <a:cubicBezTo>
                  <a:pt x="779" y="201"/>
                  <a:pt x="779" y="200"/>
                  <a:pt x="779" y="201"/>
                </a:cubicBezTo>
                <a:cubicBezTo>
                  <a:pt x="775" y="205"/>
                  <a:pt x="774" y="211"/>
                  <a:pt x="771" y="216"/>
                </a:cubicBezTo>
                <a:cubicBezTo>
                  <a:pt x="770" y="218"/>
                  <a:pt x="769" y="220"/>
                  <a:pt x="769" y="221"/>
                </a:cubicBezTo>
                <a:cubicBezTo>
                  <a:pt x="769" y="220"/>
                  <a:pt x="769" y="219"/>
                  <a:pt x="769" y="219"/>
                </a:cubicBezTo>
                <a:cubicBezTo>
                  <a:pt x="769" y="217"/>
                  <a:pt x="769" y="215"/>
                  <a:pt x="770" y="213"/>
                </a:cubicBezTo>
                <a:cubicBezTo>
                  <a:pt x="772" y="209"/>
                  <a:pt x="773" y="204"/>
                  <a:pt x="775" y="200"/>
                </a:cubicBezTo>
                <a:cubicBezTo>
                  <a:pt x="777" y="194"/>
                  <a:pt x="779" y="187"/>
                  <a:pt x="782" y="182"/>
                </a:cubicBezTo>
                <a:cubicBezTo>
                  <a:pt x="785" y="177"/>
                  <a:pt x="788" y="173"/>
                  <a:pt x="790" y="167"/>
                </a:cubicBezTo>
                <a:cubicBezTo>
                  <a:pt x="791" y="162"/>
                  <a:pt x="793" y="157"/>
                  <a:pt x="796" y="151"/>
                </a:cubicBezTo>
                <a:cubicBezTo>
                  <a:pt x="796" y="151"/>
                  <a:pt x="795" y="151"/>
                  <a:pt x="795" y="151"/>
                </a:cubicBezTo>
                <a:cubicBezTo>
                  <a:pt x="792" y="156"/>
                  <a:pt x="791" y="161"/>
                  <a:pt x="788" y="166"/>
                </a:cubicBezTo>
                <a:cubicBezTo>
                  <a:pt x="786" y="169"/>
                  <a:pt x="785" y="172"/>
                  <a:pt x="783" y="175"/>
                </a:cubicBezTo>
                <a:cubicBezTo>
                  <a:pt x="782" y="178"/>
                  <a:pt x="782" y="181"/>
                  <a:pt x="780" y="183"/>
                </a:cubicBezTo>
                <a:cubicBezTo>
                  <a:pt x="777" y="188"/>
                  <a:pt x="775" y="194"/>
                  <a:pt x="772" y="199"/>
                </a:cubicBezTo>
                <a:cubicBezTo>
                  <a:pt x="772" y="201"/>
                  <a:pt x="771" y="204"/>
                  <a:pt x="770" y="206"/>
                </a:cubicBezTo>
                <a:cubicBezTo>
                  <a:pt x="770" y="203"/>
                  <a:pt x="769" y="200"/>
                  <a:pt x="769" y="198"/>
                </a:cubicBezTo>
                <a:cubicBezTo>
                  <a:pt x="770" y="192"/>
                  <a:pt x="774" y="186"/>
                  <a:pt x="775" y="181"/>
                </a:cubicBezTo>
                <a:cubicBezTo>
                  <a:pt x="777" y="172"/>
                  <a:pt x="780" y="165"/>
                  <a:pt x="785" y="157"/>
                </a:cubicBezTo>
                <a:cubicBezTo>
                  <a:pt x="785" y="157"/>
                  <a:pt x="784" y="156"/>
                  <a:pt x="784" y="157"/>
                </a:cubicBezTo>
                <a:cubicBezTo>
                  <a:pt x="777" y="162"/>
                  <a:pt x="774" y="172"/>
                  <a:pt x="773" y="180"/>
                </a:cubicBezTo>
                <a:cubicBezTo>
                  <a:pt x="772" y="184"/>
                  <a:pt x="772" y="187"/>
                  <a:pt x="770" y="191"/>
                </a:cubicBezTo>
                <a:cubicBezTo>
                  <a:pt x="769" y="192"/>
                  <a:pt x="769" y="192"/>
                  <a:pt x="769" y="193"/>
                </a:cubicBezTo>
                <a:cubicBezTo>
                  <a:pt x="768" y="191"/>
                  <a:pt x="768" y="188"/>
                  <a:pt x="768" y="186"/>
                </a:cubicBezTo>
                <a:cubicBezTo>
                  <a:pt x="768" y="186"/>
                  <a:pt x="768" y="185"/>
                  <a:pt x="768" y="185"/>
                </a:cubicBezTo>
                <a:cubicBezTo>
                  <a:pt x="769" y="183"/>
                  <a:pt x="769" y="180"/>
                  <a:pt x="770" y="178"/>
                </a:cubicBezTo>
                <a:cubicBezTo>
                  <a:pt x="772" y="172"/>
                  <a:pt x="774" y="166"/>
                  <a:pt x="776" y="160"/>
                </a:cubicBezTo>
                <a:cubicBezTo>
                  <a:pt x="777" y="159"/>
                  <a:pt x="775" y="158"/>
                  <a:pt x="775" y="159"/>
                </a:cubicBezTo>
                <a:cubicBezTo>
                  <a:pt x="772" y="166"/>
                  <a:pt x="770" y="173"/>
                  <a:pt x="767" y="180"/>
                </a:cubicBezTo>
                <a:cubicBezTo>
                  <a:pt x="767" y="180"/>
                  <a:pt x="767" y="180"/>
                  <a:pt x="766" y="181"/>
                </a:cubicBezTo>
                <a:cubicBezTo>
                  <a:pt x="766" y="178"/>
                  <a:pt x="765" y="176"/>
                  <a:pt x="764" y="173"/>
                </a:cubicBezTo>
                <a:cubicBezTo>
                  <a:pt x="764" y="173"/>
                  <a:pt x="764" y="173"/>
                  <a:pt x="764" y="173"/>
                </a:cubicBezTo>
                <a:cubicBezTo>
                  <a:pt x="764" y="171"/>
                  <a:pt x="764" y="170"/>
                  <a:pt x="764" y="169"/>
                </a:cubicBezTo>
                <a:cubicBezTo>
                  <a:pt x="765" y="166"/>
                  <a:pt x="765" y="163"/>
                  <a:pt x="765" y="160"/>
                </a:cubicBezTo>
                <a:cubicBezTo>
                  <a:pt x="766" y="153"/>
                  <a:pt x="767" y="148"/>
                  <a:pt x="769" y="142"/>
                </a:cubicBezTo>
                <a:cubicBezTo>
                  <a:pt x="770" y="141"/>
                  <a:pt x="769" y="141"/>
                  <a:pt x="768" y="141"/>
                </a:cubicBezTo>
                <a:cubicBezTo>
                  <a:pt x="764" y="148"/>
                  <a:pt x="765" y="154"/>
                  <a:pt x="763" y="161"/>
                </a:cubicBezTo>
                <a:cubicBezTo>
                  <a:pt x="763" y="162"/>
                  <a:pt x="762" y="164"/>
                  <a:pt x="762" y="165"/>
                </a:cubicBezTo>
                <a:cubicBezTo>
                  <a:pt x="759" y="158"/>
                  <a:pt x="756" y="149"/>
                  <a:pt x="749" y="145"/>
                </a:cubicBezTo>
                <a:cubicBezTo>
                  <a:pt x="747" y="143"/>
                  <a:pt x="746" y="143"/>
                  <a:pt x="743" y="143"/>
                </a:cubicBezTo>
                <a:cubicBezTo>
                  <a:pt x="741" y="142"/>
                  <a:pt x="742" y="137"/>
                  <a:pt x="741" y="136"/>
                </a:cubicBezTo>
                <a:cubicBezTo>
                  <a:pt x="739" y="133"/>
                  <a:pt x="738" y="132"/>
                  <a:pt x="736" y="132"/>
                </a:cubicBezTo>
                <a:cubicBezTo>
                  <a:pt x="736" y="128"/>
                  <a:pt x="740" y="124"/>
                  <a:pt x="743" y="122"/>
                </a:cubicBezTo>
                <a:close/>
                <a:moveTo>
                  <a:pt x="684" y="129"/>
                </a:moveTo>
                <a:cubicBezTo>
                  <a:pt x="692" y="127"/>
                  <a:pt x="700" y="126"/>
                  <a:pt x="708" y="126"/>
                </a:cubicBezTo>
                <a:cubicBezTo>
                  <a:pt x="712" y="126"/>
                  <a:pt x="716" y="126"/>
                  <a:pt x="719" y="126"/>
                </a:cubicBezTo>
                <a:cubicBezTo>
                  <a:pt x="722" y="127"/>
                  <a:pt x="725" y="128"/>
                  <a:pt x="726" y="130"/>
                </a:cubicBezTo>
                <a:cubicBezTo>
                  <a:pt x="726" y="131"/>
                  <a:pt x="727" y="132"/>
                  <a:pt x="727" y="132"/>
                </a:cubicBezTo>
                <a:cubicBezTo>
                  <a:pt x="730" y="135"/>
                  <a:pt x="737" y="133"/>
                  <a:pt x="738" y="139"/>
                </a:cubicBezTo>
                <a:cubicBezTo>
                  <a:pt x="738" y="142"/>
                  <a:pt x="739" y="146"/>
                  <a:pt x="743" y="146"/>
                </a:cubicBezTo>
                <a:cubicBezTo>
                  <a:pt x="750" y="146"/>
                  <a:pt x="753" y="155"/>
                  <a:pt x="756" y="160"/>
                </a:cubicBezTo>
                <a:cubicBezTo>
                  <a:pt x="761" y="172"/>
                  <a:pt x="765" y="186"/>
                  <a:pt x="766" y="199"/>
                </a:cubicBezTo>
                <a:cubicBezTo>
                  <a:pt x="767" y="216"/>
                  <a:pt x="763" y="230"/>
                  <a:pt x="758" y="245"/>
                </a:cubicBezTo>
                <a:cubicBezTo>
                  <a:pt x="755" y="254"/>
                  <a:pt x="752" y="266"/>
                  <a:pt x="745" y="273"/>
                </a:cubicBezTo>
                <a:cubicBezTo>
                  <a:pt x="745" y="273"/>
                  <a:pt x="745" y="273"/>
                  <a:pt x="745" y="273"/>
                </a:cubicBezTo>
                <a:cubicBezTo>
                  <a:pt x="742" y="275"/>
                  <a:pt x="740" y="278"/>
                  <a:pt x="737" y="280"/>
                </a:cubicBezTo>
                <a:cubicBezTo>
                  <a:pt x="734" y="282"/>
                  <a:pt x="732" y="284"/>
                  <a:pt x="730" y="286"/>
                </a:cubicBezTo>
                <a:cubicBezTo>
                  <a:pt x="726" y="291"/>
                  <a:pt x="722" y="296"/>
                  <a:pt x="718" y="300"/>
                </a:cubicBezTo>
                <a:cubicBezTo>
                  <a:pt x="709" y="309"/>
                  <a:pt x="699" y="316"/>
                  <a:pt x="689" y="324"/>
                </a:cubicBezTo>
                <a:cubicBezTo>
                  <a:pt x="684" y="329"/>
                  <a:pt x="679" y="334"/>
                  <a:pt x="673" y="338"/>
                </a:cubicBezTo>
                <a:cubicBezTo>
                  <a:pt x="668" y="342"/>
                  <a:pt x="663" y="345"/>
                  <a:pt x="657" y="349"/>
                </a:cubicBezTo>
                <a:cubicBezTo>
                  <a:pt x="649" y="355"/>
                  <a:pt x="642" y="363"/>
                  <a:pt x="635" y="372"/>
                </a:cubicBezTo>
                <a:cubicBezTo>
                  <a:pt x="635" y="372"/>
                  <a:pt x="635" y="372"/>
                  <a:pt x="635" y="372"/>
                </a:cubicBezTo>
                <a:cubicBezTo>
                  <a:pt x="635" y="372"/>
                  <a:pt x="634" y="371"/>
                  <a:pt x="633" y="371"/>
                </a:cubicBezTo>
                <a:cubicBezTo>
                  <a:pt x="630" y="368"/>
                  <a:pt x="627" y="365"/>
                  <a:pt x="623" y="365"/>
                </a:cubicBezTo>
                <a:cubicBezTo>
                  <a:pt x="628" y="357"/>
                  <a:pt x="634" y="350"/>
                  <a:pt x="642" y="345"/>
                </a:cubicBezTo>
                <a:cubicBezTo>
                  <a:pt x="646" y="342"/>
                  <a:pt x="650" y="339"/>
                  <a:pt x="655" y="337"/>
                </a:cubicBezTo>
                <a:cubicBezTo>
                  <a:pt x="659" y="335"/>
                  <a:pt x="664" y="334"/>
                  <a:pt x="668" y="332"/>
                </a:cubicBezTo>
                <a:cubicBezTo>
                  <a:pt x="674" y="327"/>
                  <a:pt x="679" y="319"/>
                  <a:pt x="684" y="313"/>
                </a:cubicBezTo>
                <a:cubicBezTo>
                  <a:pt x="689" y="305"/>
                  <a:pt x="695" y="296"/>
                  <a:pt x="704" y="291"/>
                </a:cubicBezTo>
                <a:cubicBezTo>
                  <a:pt x="711" y="288"/>
                  <a:pt x="719" y="286"/>
                  <a:pt x="726" y="283"/>
                </a:cubicBezTo>
                <a:cubicBezTo>
                  <a:pt x="732" y="280"/>
                  <a:pt x="737" y="274"/>
                  <a:pt x="741" y="268"/>
                </a:cubicBezTo>
                <a:cubicBezTo>
                  <a:pt x="745" y="263"/>
                  <a:pt x="748" y="258"/>
                  <a:pt x="750" y="252"/>
                </a:cubicBezTo>
                <a:cubicBezTo>
                  <a:pt x="751" y="248"/>
                  <a:pt x="754" y="243"/>
                  <a:pt x="752" y="240"/>
                </a:cubicBezTo>
                <a:cubicBezTo>
                  <a:pt x="752" y="239"/>
                  <a:pt x="751" y="240"/>
                  <a:pt x="751" y="241"/>
                </a:cubicBezTo>
                <a:cubicBezTo>
                  <a:pt x="752" y="245"/>
                  <a:pt x="747" y="253"/>
                  <a:pt x="746" y="256"/>
                </a:cubicBezTo>
                <a:cubicBezTo>
                  <a:pt x="741" y="263"/>
                  <a:pt x="737" y="270"/>
                  <a:pt x="731" y="275"/>
                </a:cubicBezTo>
                <a:cubicBezTo>
                  <a:pt x="725" y="281"/>
                  <a:pt x="717" y="282"/>
                  <a:pt x="710" y="285"/>
                </a:cubicBezTo>
                <a:cubicBezTo>
                  <a:pt x="703" y="287"/>
                  <a:pt x="697" y="291"/>
                  <a:pt x="692" y="296"/>
                </a:cubicBezTo>
                <a:cubicBezTo>
                  <a:pt x="686" y="303"/>
                  <a:pt x="681" y="310"/>
                  <a:pt x="675" y="317"/>
                </a:cubicBezTo>
                <a:cubicBezTo>
                  <a:pt x="673" y="321"/>
                  <a:pt x="670" y="326"/>
                  <a:pt x="666" y="328"/>
                </a:cubicBezTo>
                <a:cubicBezTo>
                  <a:pt x="664" y="329"/>
                  <a:pt x="662" y="330"/>
                  <a:pt x="661" y="331"/>
                </a:cubicBezTo>
                <a:cubicBezTo>
                  <a:pt x="666" y="325"/>
                  <a:pt x="669" y="319"/>
                  <a:pt x="674" y="314"/>
                </a:cubicBezTo>
                <a:cubicBezTo>
                  <a:pt x="679" y="310"/>
                  <a:pt x="682" y="304"/>
                  <a:pt x="687" y="300"/>
                </a:cubicBezTo>
                <a:cubicBezTo>
                  <a:pt x="690" y="296"/>
                  <a:pt x="694" y="291"/>
                  <a:pt x="698" y="287"/>
                </a:cubicBezTo>
                <a:cubicBezTo>
                  <a:pt x="698" y="287"/>
                  <a:pt x="697" y="286"/>
                  <a:pt x="697" y="287"/>
                </a:cubicBezTo>
                <a:cubicBezTo>
                  <a:pt x="692" y="291"/>
                  <a:pt x="689" y="296"/>
                  <a:pt x="685" y="301"/>
                </a:cubicBezTo>
                <a:cubicBezTo>
                  <a:pt x="681" y="305"/>
                  <a:pt x="677" y="309"/>
                  <a:pt x="673" y="313"/>
                </a:cubicBezTo>
                <a:cubicBezTo>
                  <a:pt x="666" y="319"/>
                  <a:pt x="662" y="328"/>
                  <a:pt x="654" y="333"/>
                </a:cubicBezTo>
                <a:cubicBezTo>
                  <a:pt x="654" y="333"/>
                  <a:pt x="654" y="333"/>
                  <a:pt x="654" y="333"/>
                </a:cubicBezTo>
                <a:cubicBezTo>
                  <a:pt x="656" y="331"/>
                  <a:pt x="657" y="329"/>
                  <a:pt x="659" y="327"/>
                </a:cubicBezTo>
                <a:cubicBezTo>
                  <a:pt x="663" y="322"/>
                  <a:pt x="667" y="317"/>
                  <a:pt x="671" y="312"/>
                </a:cubicBezTo>
                <a:cubicBezTo>
                  <a:pt x="671" y="312"/>
                  <a:pt x="670" y="311"/>
                  <a:pt x="670" y="312"/>
                </a:cubicBezTo>
                <a:cubicBezTo>
                  <a:pt x="667" y="317"/>
                  <a:pt x="662" y="321"/>
                  <a:pt x="658" y="326"/>
                </a:cubicBezTo>
                <a:cubicBezTo>
                  <a:pt x="655" y="329"/>
                  <a:pt x="653" y="333"/>
                  <a:pt x="649" y="335"/>
                </a:cubicBezTo>
                <a:cubicBezTo>
                  <a:pt x="648" y="336"/>
                  <a:pt x="648" y="336"/>
                  <a:pt x="648" y="336"/>
                </a:cubicBezTo>
                <a:cubicBezTo>
                  <a:pt x="646" y="337"/>
                  <a:pt x="643" y="339"/>
                  <a:pt x="641" y="340"/>
                </a:cubicBezTo>
                <a:cubicBezTo>
                  <a:pt x="642" y="339"/>
                  <a:pt x="644" y="337"/>
                  <a:pt x="645" y="335"/>
                </a:cubicBezTo>
                <a:cubicBezTo>
                  <a:pt x="645" y="335"/>
                  <a:pt x="645" y="335"/>
                  <a:pt x="645" y="335"/>
                </a:cubicBezTo>
                <a:cubicBezTo>
                  <a:pt x="641" y="339"/>
                  <a:pt x="637" y="342"/>
                  <a:pt x="633" y="346"/>
                </a:cubicBezTo>
                <a:cubicBezTo>
                  <a:pt x="630" y="349"/>
                  <a:pt x="626" y="352"/>
                  <a:pt x="623" y="356"/>
                </a:cubicBezTo>
                <a:cubicBezTo>
                  <a:pt x="623" y="356"/>
                  <a:pt x="623" y="355"/>
                  <a:pt x="623" y="354"/>
                </a:cubicBezTo>
                <a:cubicBezTo>
                  <a:pt x="624" y="354"/>
                  <a:pt x="624" y="353"/>
                  <a:pt x="625" y="352"/>
                </a:cubicBezTo>
                <a:cubicBezTo>
                  <a:pt x="627" y="350"/>
                  <a:pt x="629" y="347"/>
                  <a:pt x="631" y="345"/>
                </a:cubicBezTo>
                <a:cubicBezTo>
                  <a:pt x="632" y="343"/>
                  <a:pt x="633" y="341"/>
                  <a:pt x="634" y="339"/>
                </a:cubicBezTo>
                <a:cubicBezTo>
                  <a:pt x="635" y="339"/>
                  <a:pt x="635" y="339"/>
                  <a:pt x="635" y="338"/>
                </a:cubicBezTo>
                <a:cubicBezTo>
                  <a:pt x="636" y="337"/>
                  <a:pt x="636" y="336"/>
                  <a:pt x="637" y="335"/>
                </a:cubicBezTo>
                <a:cubicBezTo>
                  <a:pt x="641" y="330"/>
                  <a:pt x="644" y="325"/>
                  <a:pt x="648" y="320"/>
                </a:cubicBezTo>
                <a:cubicBezTo>
                  <a:pt x="648" y="320"/>
                  <a:pt x="648" y="320"/>
                  <a:pt x="647" y="320"/>
                </a:cubicBezTo>
                <a:cubicBezTo>
                  <a:pt x="644" y="323"/>
                  <a:pt x="642" y="326"/>
                  <a:pt x="640" y="330"/>
                </a:cubicBezTo>
                <a:cubicBezTo>
                  <a:pt x="643" y="324"/>
                  <a:pt x="646" y="319"/>
                  <a:pt x="649" y="313"/>
                </a:cubicBezTo>
                <a:cubicBezTo>
                  <a:pt x="654" y="306"/>
                  <a:pt x="659" y="299"/>
                  <a:pt x="664" y="291"/>
                </a:cubicBezTo>
                <a:cubicBezTo>
                  <a:pt x="664" y="291"/>
                  <a:pt x="663" y="290"/>
                  <a:pt x="663" y="290"/>
                </a:cubicBezTo>
                <a:cubicBezTo>
                  <a:pt x="657" y="298"/>
                  <a:pt x="652" y="306"/>
                  <a:pt x="647" y="314"/>
                </a:cubicBezTo>
                <a:cubicBezTo>
                  <a:pt x="642" y="322"/>
                  <a:pt x="637" y="329"/>
                  <a:pt x="634" y="337"/>
                </a:cubicBezTo>
                <a:cubicBezTo>
                  <a:pt x="632" y="340"/>
                  <a:pt x="630" y="342"/>
                  <a:pt x="628" y="345"/>
                </a:cubicBezTo>
                <a:cubicBezTo>
                  <a:pt x="627" y="346"/>
                  <a:pt x="626" y="348"/>
                  <a:pt x="624" y="349"/>
                </a:cubicBezTo>
                <a:cubicBezTo>
                  <a:pt x="629" y="340"/>
                  <a:pt x="633" y="331"/>
                  <a:pt x="638" y="322"/>
                </a:cubicBezTo>
                <a:cubicBezTo>
                  <a:pt x="641" y="317"/>
                  <a:pt x="643" y="312"/>
                  <a:pt x="646" y="308"/>
                </a:cubicBezTo>
                <a:cubicBezTo>
                  <a:pt x="648" y="303"/>
                  <a:pt x="651" y="299"/>
                  <a:pt x="653" y="295"/>
                </a:cubicBezTo>
                <a:cubicBezTo>
                  <a:pt x="653" y="294"/>
                  <a:pt x="653" y="294"/>
                  <a:pt x="653" y="294"/>
                </a:cubicBezTo>
                <a:cubicBezTo>
                  <a:pt x="645" y="303"/>
                  <a:pt x="642" y="315"/>
                  <a:pt x="635" y="325"/>
                </a:cubicBezTo>
                <a:cubicBezTo>
                  <a:pt x="631" y="331"/>
                  <a:pt x="626" y="337"/>
                  <a:pt x="624" y="345"/>
                </a:cubicBezTo>
                <a:cubicBezTo>
                  <a:pt x="625" y="341"/>
                  <a:pt x="626" y="337"/>
                  <a:pt x="627" y="334"/>
                </a:cubicBezTo>
                <a:cubicBezTo>
                  <a:pt x="632" y="323"/>
                  <a:pt x="638" y="314"/>
                  <a:pt x="642" y="303"/>
                </a:cubicBezTo>
                <a:cubicBezTo>
                  <a:pt x="643" y="302"/>
                  <a:pt x="641" y="302"/>
                  <a:pt x="640" y="303"/>
                </a:cubicBezTo>
                <a:cubicBezTo>
                  <a:pt x="636" y="314"/>
                  <a:pt x="628" y="324"/>
                  <a:pt x="624" y="335"/>
                </a:cubicBezTo>
                <a:cubicBezTo>
                  <a:pt x="622" y="340"/>
                  <a:pt x="621" y="346"/>
                  <a:pt x="620" y="351"/>
                </a:cubicBezTo>
                <a:cubicBezTo>
                  <a:pt x="620" y="351"/>
                  <a:pt x="619" y="350"/>
                  <a:pt x="619" y="350"/>
                </a:cubicBezTo>
                <a:cubicBezTo>
                  <a:pt x="619" y="350"/>
                  <a:pt x="619" y="349"/>
                  <a:pt x="619" y="349"/>
                </a:cubicBezTo>
                <a:cubicBezTo>
                  <a:pt x="620" y="347"/>
                  <a:pt x="620" y="344"/>
                  <a:pt x="620" y="341"/>
                </a:cubicBezTo>
                <a:cubicBezTo>
                  <a:pt x="621" y="335"/>
                  <a:pt x="624" y="329"/>
                  <a:pt x="626" y="324"/>
                </a:cubicBezTo>
                <a:cubicBezTo>
                  <a:pt x="631" y="313"/>
                  <a:pt x="637" y="302"/>
                  <a:pt x="640" y="290"/>
                </a:cubicBezTo>
                <a:cubicBezTo>
                  <a:pt x="640" y="290"/>
                  <a:pt x="640" y="290"/>
                  <a:pt x="640" y="290"/>
                </a:cubicBezTo>
                <a:cubicBezTo>
                  <a:pt x="634" y="303"/>
                  <a:pt x="628" y="315"/>
                  <a:pt x="622" y="328"/>
                </a:cubicBezTo>
                <a:cubicBezTo>
                  <a:pt x="622" y="329"/>
                  <a:pt x="622" y="330"/>
                  <a:pt x="621" y="330"/>
                </a:cubicBezTo>
                <a:cubicBezTo>
                  <a:pt x="622" y="324"/>
                  <a:pt x="625" y="319"/>
                  <a:pt x="627" y="313"/>
                </a:cubicBezTo>
                <a:cubicBezTo>
                  <a:pt x="629" y="310"/>
                  <a:pt x="629" y="307"/>
                  <a:pt x="630" y="304"/>
                </a:cubicBezTo>
                <a:cubicBezTo>
                  <a:pt x="632" y="300"/>
                  <a:pt x="634" y="296"/>
                  <a:pt x="635" y="292"/>
                </a:cubicBezTo>
                <a:cubicBezTo>
                  <a:pt x="636" y="291"/>
                  <a:pt x="635" y="291"/>
                  <a:pt x="635" y="291"/>
                </a:cubicBezTo>
                <a:cubicBezTo>
                  <a:pt x="632" y="296"/>
                  <a:pt x="631" y="301"/>
                  <a:pt x="629" y="306"/>
                </a:cubicBezTo>
                <a:cubicBezTo>
                  <a:pt x="627" y="309"/>
                  <a:pt x="625" y="312"/>
                  <a:pt x="624" y="315"/>
                </a:cubicBezTo>
                <a:cubicBezTo>
                  <a:pt x="623" y="318"/>
                  <a:pt x="622" y="320"/>
                  <a:pt x="621" y="323"/>
                </a:cubicBezTo>
                <a:cubicBezTo>
                  <a:pt x="621" y="321"/>
                  <a:pt x="621" y="319"/>
                  <a:pt x="621" y="317"/>
                </a:cubicBezTo>
                <a:cubicBezTo>
                  <a:pt x="623" y="313"/>
                  <a:pt x="624" y="309"/>
                  <a:pt x="625" y="305"/>
                </a:cubicBezTo>
                <a:cubicBezTo>
                  <a:pt x="625" y="305"/>
                  <a:pt x="625" y="305"/>
                  <a:pt x="624" y="305"/>
                </a:cubicBezTo>
                <a:cubicBezTo>
                  <a:pt x="623" y="307"/>
                  <a:pt x="622" y="310"/>
                  <a:pt x="621" y="313"/>
                </a:cubicBezTo>
                <a:cubicBezTo>
                  <a:pt x="622" y="308"/>
                  <a:pt x="622" y="303"/>
                  <a:pt x="623" y="298"/>
                </a:cubicBezTo>
                <a:cubicBezTo>
                  <a:pt x="623" y="298"/>
                  <a:pt x="623" y="298"/>
                  <a:pt x="623" y="298"/>
                </a:cubicBezTo>
                <a:cubicBezTo>
                  <a:pt x="623" y="298"/>
                  <a:pt x="623" y="298"/>
                  <a:pt x="623" y="298"/>
                </a:cubicBezTo>
                <a:cubicBezTo>
                  <a:pt x="624" y="297"/>
                  <a:pt x="624" y="295"/>
                  <a:pt x="625" y="293"/>
                </a:cubicBezTo>
                <a:cubicBezTo>
                  <a:pt x="626" y="291"/>
                  <a:pt x="627" y="289"/>
                  <a:pt x="628" y="287"/>
                </a:cubicBezTo>
                <a:cubicBezTo>
                  <a:pt x="630" y="283"/>
                  <a:pt x="631" y="280"/>
                  <a:pt x="631" y="277"/>
                </a:cubicBezTo>
                <a:cubicBezTo>
                  <a:pt x="631" y="276"/>
                  <a:pt x="631" y="276"/>
                  <a:pt x="630" y="277"/>
                </a:cubicBezTo>
                <a:cubicBezTo>
                  <a:pt x="629" y="281"/>
                  <a:pt x="627" y="285"/>
                  <a:pt x="625" y="289"/>
                </a:cubicBezTo>
                <a:cubicBezTo>
                  <a:pt x="624" y="291"/>
                  <a:pt x="623" y="292"/>
                  <a:pt x="623" y="294"/>
                </a:cubicBezTo>
                <a:cubicBezTo>
                  <a:pt x="623" y="292"/>
                  <a:pt x="623" y="289"/>
                  <a:pt x="623" y="286"/>
                </a:cubicBezTo>
                <a:cubicBezTo>
                  <a:pt x="624" y="286"/>
                  <a:pt x="624" y="286"/>
                  <a:pt x="624" y="286"/>
                </a:cubicBezTo>
                <a:cubicBezTo>
                  <a:pt x="625" y="282"/>
                  <a:pt x="627" y="279"/>
                  <a:pt x="628" y="276"/>
                </a:cubicBezTo>
                <a:cubicBezTo>
                  <a:pt x="628" y="275"/>
                  <a:pt x="628" y="275"/>
                  <a:pt x="627" y="275"/>
                </a:cubicBezTo>
                <a:cubicBezTo>
                  <a:pt x="626" y="277"/>
                  <a:pt x="625" y="280"/>
                  <a:pt x="624" y="282"/>
                </a:cubicBezTo>
                <a:cubicBezTo>
                  <a:pt x="624" y="280"/>
                  <a:pt x="624" y="278"/>
                  <a:pt x="624" y="276"/>
                </a:cubicBezTo>
                <a:cubicBezTo>
                  <a:pt x="624" y="267"/>
                  <a:pt x="624" y="257"/>
                  <a:pt x="622" y="247"/>
                </a:cubicBezTo>
                <a:cubicBezTo>
                  <a:pt x="624" y="245"/>
                  <a:pt x="622" y="243"/>
                  <a:pt x="623" y="241"/>
                </a:cubicBezTo>
                <a:cubicBezTo>
                  <a:pt x="623" y="239"/>
                  <a:pt x="623" y="238"/>
                  <a:pt x="623" y="237"/>
                </a:cubicBezTo>
                <a:cubicBezTo>
                  <a:pt x="623" y="235"/>
                  <a:pt x="623" y="234"/>
                  <a:pt x="623" y="233"/>
                </a:cubicBezTo>
                <a:cubicBezTo>
                  <a:pt x="623" y="232"/>
                  <a:pt x="622" y="232"/>
                  <a:pt x="622" y="233"/>
                </a:cubicBezTo>
                <a:cubicBezTo>
                  <a:pt x="622" y="234"/>
                  <a:pt x="621" y="236"/>
                  <a:pt x="621" y="237"/>
                </a:cubicBezTo>
                <a:cubicBezTo>
                  <a:pt x="621" y="238"/>
                  <a:pt x="622" y="239"/>
                  <a:pt x="622" y="241"/>
                </a:cubicBezTo>
                <a:cubicBezTo>
                  <a:pt x="622" y="242"/>
                  <a:pt x="622" y="243"/>
                  <a:pt x="621" y="244"/>
                </a:cubicBezTo>
                <a:cubicBezTo>
                  <a:pt x="620" y="239"/>
                  <a:pt x="619" y="234"/>
                  <a:pt x="617" y="229"/>
                </a:cubicBezTo>
                <a:cubicBezTo>
                  <a:pt x="613" y="218"/>
                  <a:pt x="607" y="206"/>
                  <a:pt x="601" y="196"/>
                </a:cubicBezTo>
                <a:cubicBezTo>
                  <a:pt x="601" y="193"/>
                  <a:pt x="605" y="190"/>
                  <a:pt x="606" y="187"/>
                </a:cubicBezTo>
                <a:cubicBezTo>
                  <a:pt x="609" y="184"/>
                  <a:pt x="611" y="180"/>
                  <a:pt x="614" y="177"/>
                </a:cubicBezTo>
                <a:cubicBezTo>
                  <a:pt x="619" y="170"/>
                  <a:pt x="624" y="163"/>
                  <a:pt x="631" y="157"/>
                </a:cubicBezTo>
                <a:cubicBezTo>
                  <a:pt x="636" y="152"/>
                  <a:pt x="641" y="147"/>
                  <a:pt x="648" y="144"/>
                </a:cubicBezTo>
                <a:cubicBezTo>
                  <a:pt x="653" y="141"/>
                  <a:pt x="657" y="139"/>
                  <a:pt x="662" y="136"/>
                </a:cubicBezTo>
                <a:cubicBezTo>
                  <a:pt x="668" y="130"/>
                  <a:pt x="676" y="130"/>
                  <a:pt x="684" y="129"/>
                </a:cubicBezTo>
                <a:close/>
                <a:moveTo>
                  <a:pt x="538" y="132"/>
                </a:moveTo>
                <a:cubicBezTo>
                  <a:pt x="540" y="130"/>
                  <a:pt x="541" y="129"/>
                  <a:pt x="542" y="128"/>
                </a:cubicBezTo>
                <a:cubicBezTo>
                  <a:pt x="547" y="123"/>
                  <a:pt x="552" y="119"/>
                  <a:pt x="558" y="116"/>
                </a:cubicBezTo>
                <a:cubicBezTo>
                  <a:pt x="570" y="111"/>
                  <a:pt x="582" y="109"/>
                  <a:pt x="595" y="110"/>
                </a:cubicBezTo>
                <a:cubicBezTo>
                  <a:pt x="596" y="110"/>
                  <a:pt x="597" y="110"/>
                  <a:pt x="598" y="110"/>
                </a:cubicBezTo>
                <a:cubicBezTo>
                  <a:pt x="598" y="110"/>
                  <a:pt x="598" y="110"/>
                  <a:pt x="598" y="110"/>
                </a:cubicBezTo>
                <a:cubicBezTo>
                  <a:pt x="585" y="110"/>
                  <a:pt x="570" y="113"/>
                  <a:pt x="560" y="121"/>
                </a:cubicBezTo>
                <a:cubicBezTo>
                  <a:pt x="559" y="122"/>
                  <a:pt x="560" y="123"/>
                  <a:pt x="561" y="122"/>
                </a:cubicBezTo>
                <a:cubicBezTo>
                  <a:pt x="574" y="118"/>
                  <a:pt x="586" y="112"/>
                  <a:pt x="601" y="113"/>
                </a:cubicBezTo>
                <a:cubicBezTo>
                  <a:pt x="608" y="113"/>
                  <a:pt x="615" y="115"/>
                  <a:pt x="622" y="117"/>
                </a:cubicBezTo>
                <a:cubicBezTo>
                  <a:pt x="628" y="119"/>
                  <a:pt x="633" y="124"/>
                  <a:pt x="639" y="124"/>
                </a:cubicBezTo>
                <a:cubicBezTo>
                  <a:pt x="639" y="124"/>
                  <a:pt x="639" y="124"/>
                  <a:pt x="639" y="124"/>
                </a:cubicBezTo>
                <a:cubicBezTo>
                  <a:pt x="635" y="122"/>
                  <a:pt x="632" y="119"/>
                  <a:pt x="628" y="117"/>
                </a:cubicBezTo>
                <a:cubicBezTo>
                  <a:pt x="625" y="115"/>
                  <a:pt x="621" y="114"/>
                  <a:pt x="618" y="113"/>
                </a:cubicBezTo>
                <a:cubicBezTo>
                  <a:pt x="613" y="112"/>
                  <a:pt x="609" y="111"/>
                  <a:pt x="604" y="110"/>
                </a:cubicBezTo>
                <a:cubicBezTo>
                  <a:pt x="614" y="111"/>
                  <a:pt x="623" y="113"/>
                  <a:pt x="633" y="116"/>
                </a:cubicBezTo>
                <a:cubicBezTo>
                  <a:pt x="640" y="119"/>
                  <a:pt x="647" y="122"/>
                  <a:pt x="653" y="125"/>
                </a:cubicBezTo>
                <a:cubicBezTo>
                  <a:pt x="656" y="127"/>
                  <a:pt x="659" y="129"/>
                  <a:pt x="662" y="130"/>
                </a:cubicBezTo>
                <a:cubicBezTo>
                  <a:pt x="661" y="131"/>
                  <a:pt x="659" y="132"/>
                  <a:pt x="658" y="134"/>
                </a:cubicBezTo>
                <a:cubicBezTo>
                  <a:pt x="653" y="138"/>
                  <a:pt x="646" y="140"/>
                  <a:pt x="640" y="144"/>
                </a:cubicBezTo>
                <a:cubicBezTo>
                  <a:pt x="635" y="148"/>
                  <a:pt x="630" y="152"/>
                  <a:pt x="625" y="157"/>
                </a:cubicBezTo>
                <a:cubicBezTo>
                  <a:pt x="622" y="160"/>
                  <a:pt x="619" y="164"/>
                  <a:pt x="616" y="168"/>
                </a:cubicBezTo>
                <a:cubicBezTo>
                  <a:pt x="616" y="166"/>
                  <a:pt x="616" y="164"/>
                  <a:pt x="616" y="163"/>
                </a:cubicBezTo>
                <a:cubicBezTo>
                  <a:pt x="616" y="160"/>
                  <a:pt x="616" y="156"/>
                  <a:pt x="617" y="153"/>
                </a:cubicBezTo>
                <a:cubicBezTo>
                  <a:pt x="617" y="153"/>
                  <a:pt x="616" y="152"/>
                  <a:pt x="616" y="153"/>
                </a:cubicBezTo>
                <a:cubicBezTo>
                  <a:pt x="615" y="156"/>
                  <a:pt x="614" y="159"/>
                  <a:pt x="613" y="163"/>
                </a:cubicBezTo>
                <a:cubicBezTo>
                  <a:pt x="613" y="165"/>
                  <a:pt x="613" y="168"/>
                  <a:pt x="614" y="170"/>
                </a:cubicBezTo>
                <a:cubicBezTo>
                  <a:pt x="612" y="172"/>
                  <a:pt x="611" y="174"/>
                  <a:pt x="609" y="177"/>
                </a:cubicBezTo>
                <a:cubicBezTo>
                  <a:pt x="609" y="178"/>
                  <a:pt x="608" y="178"/>
                  <a:pt x="607" y="179"/>
                </a:cubicBezTo>
                <a:cubicBezTo>
                  <a:pt x="607" y="178"/>
                  <a:pt x="607" y="176"/>
                  <a:pt x="607" y="175"/>
                </a:cubicBezTo>
                <a:cubicBezTo>
                  <a:pt x="607" y="171"/>
                  <a:pt x="606" y="167"/>
                  <a:pt x="607" y="163"/>
                </a:cubicBezTo>
                <a:cubicBezTo>
                  <a:pt x="607" y="162"/>
                  <a:pt x="606" y="162"/>
                  <a:pt x="605" y="163"/>
                </a:cubicBezTo>
                <a:cubicBezTo>
                  <a:pt x="605" y="166"/>
                  <a:pt x="604" y="170"/>
                  <a:pt x="604" y="173"/>
                </a:cubicBezTo>
                <a:cubicBezTo>
                  <a:pt x="604" y="175"/>
                  <a:pt x="605" y="177"/>
                  <a:pt x="604" y="179"/>
                </a:cubicBezTo>
                <a:cubicBezTo>
                  <a:pt x="604" y="181"/>
                  <a:pt x="604" y="182"/>
                  <a:pt x="604" y="184"/>
                </a:cubicBezTo>
                <a:cubicBezTo>
                  <a:pt x="604" y="184"/>
                  <a:pt x="604" y="184"/>
                  <a:pt x="604" y="184"/>
                </a:cubicBezTo>
                <a:cubicBezTo>
                  <a:pt x="603" y="185"/>
                  <a:pt x="603" y="186"/>
                  <a:pt x="602" y="186"/>
                </a:cubicBezTo>
                <a:cubicBezTo>
                  <a:pt x="602" y="182"/>
                  <a:pt x="601" y="178"/>
                  <a:pt x="600" y="174"/>
                </a:cubicBezTo>
                <a:cubicBezTo>
                  <a:pt x="600" y="170"/>
                  <a:pt x="600" y="166"/>
                  <a:pt x="600" y="162"/>
                </a:cubicBezTo>
                <a:cubicBezTo>
                  <a:pt x="600" y="157"/>
                  <a:pt x="599" y="153"/>
                  <a:pt x="600" y="148"/>
                </a:cubicBezTo>
                <a:cubicBezTo>
                  <a:pt x="600" y="144"/>
                  <a:pt x="601" y="140"/>
                  <a:pt x="602" y="136"/>
                </a:cubicBezTo>
                <a:cubicBezTo>
                  <a:pt x="602" y="135"/>
                  <a:pt x="601" y="135"/>
                  <a:pt x="601" y="135"/>
                </a:cubicBezTo>
                <a:cubicBezTo>
                  <a:pt x="599" y="139"/>
                  <a:pt x="598" y="143"/>
                  <a:pt x="598" y="148"/>
                </a:cubicBezTo>
                <a:cubicBezTo>
                  <a:pt x="599" y="153"/>
                  <a:pt x="598" y="158"/>
                  <a:pt x="598" y="164"/>
                </a:cubicBezTo>
                <a:cubicBezTo>
                  <a:pt x="599" y="170"/>
                  <a:pt x="598" y="176"/>
                  <a:pt x="599" y="182"/>
                </a:cubicBezTo>
                <a:cubicBezTo>
                  <a:pt x="599" y="180"/>
                  <a:pt x="598" y="179"/>
                  <a:pt x="598" y="177"/>
                </a:cubicBezTo>
                <a:cubicBezTo>
                  <a:pt x="597" y="171"/>
                  <a:pt x="596" y="165"/>
                  <a:pt x="595" y="159"/>
                </a:cubicBezTo>
                <a:cubicBezTo>
                  <a:pt x="595" y="154"/>
                  <a:pt x="595" y="149"/>
                  <a:pt x="595" y="143"/>
                </a:cubicBezTo>
                <a:cubicBezTo>
                  <a:pt x="595" y="138"/>
                  <a:pt x="594" y="133"/>
                  <a:pt x="596" y="128"/>
                </a:cubicBezTo>
                <a:cubicBezTo>
                  <a:pt x="596" y="127"/>
                  <a:pt x="595" y="127"/>
                  <a:pt x="594" y="128"/>
                </a:cubicBezTo>
                <a:cubicBezTo>
                  <a:pt x="593" y="132"/>
                  <a:pt x="593" y="137"/>
                  <a:pt x="593" y="142"/>
                </a:cubicBezTo>
                <a:cubicBezTo>
                  <a:pt x="594" y="148"/>
                  <a:pt x="593" y="154"/>
                  <a:pt x="593" y="161"/>
                </a:cubicBezTo>
                <a:cubicBezTo>
                  <a:pt x="594" y="167"/>
                  <a:pt x="595" y="173"/>
                  <a:pt x="596" y="180"/>
                </a:cubicBezTo>
                <a:cubicBezTo>
                  <a:pt x="597" y="182"/>
                  <a:pt x="597" y="184"/>
                  <a:pt x="597" y="187"/>
                </a:cubicBezTo>
                <a:cubicBezTo>
                  <a:pt x="597" y="185"/>
                  <a:pt x="596" y="183"/>
                  <a:pt x="596" y="182"/>
                </a:cubicBezTo>
                <a:cubicBezTo>
                  <a:pt x="595" y="181"/>
                  <a:pt x="595" y="181"/>
                  <a:pt x="595" y="182"/>
                </a:cubicBezTo>
                <a:cubicBezTo>
                  <a:pt x="595" y="184"/>
                  <a:pt x="595" y="186"/>
                  <a:pt x="595" y="187"/>
                </a:cubicBezTo>
                <a:cubicBezTo>
                  <a:pt x="595" y="187"/>
                  <a:pt x="594" y="186"/>
                  <a:pt x="594" y="186"/>
                </a:cubicBezTo>
                <a:cubicBezTo>
                  <a:pt x="594" y="186"/>
                  <a:pt x="594" y="185"/>
                  <a:pt x="593" y="185"/>
                </a:cubicBezTo>
                <a:cubicBezTo>
                  <a:pt x="592" y="183"/>
                  <a:pt x="590" y="180"/>
                  <a:pt x="589" y="177"/>
                </a:cubicBezTo>
                <a:cubicBezTo>
                  <a:pt x="586" y="168"/>
                  <a:pt x="583" y="160"/>
                  <a:pt x="580" y="152"/>
                </a:cubicBezTo>
                <a:cubicBezTo>
                  <a:pt x="578" y="144"/>
                  <a:pt x="576" y="137"/>
                  <a:pt x="578" y="129"/>
                </a:cubicBezTo>
                <a:cubicBezTo>
                  <a:pt x="578" y="129"/>
                  <a:pt x="577" y="129"/>
                  <a:pt x="577" y="129"/>
                </a:cubicBezTo>
                <a:cubicBezTo>
                  <a:pt x="572" y="134"/>
                  <a:pt x="575" y="144"/>
                  <a:pt x="577" y="150"/>
                </a:cubicBezTo>
                <a:cubicBezTo>
                  <a:pt x="579" y="155"/>
                  <a:pt x="581" y="160"/>
                  <a:pt x="583" y="165"/>
                </a:cubicBezTo>
                <a:cubicBezTo>
                  <a:pt x="584" y="167"/>
                  <a:pt x="585" y="170"/>
                  <a:pt x="586" y="172"/>
                </a:cubicBezTo>
                <a:cubicBezTo>
                  <a:pt x="585" y="172"/>
                  <a:pt x="585" y="171"/>
                  <a:pt x="585" y="171"/>
                </a:cubicBezTo>
                <a:cubicBezTo>
                  <a:pt x="582" y="168"/>
                  <a:pt x="580" y="165"/>
                  <a:pt x="578" y="162"/>
                </a:cubicBezTo>
                <a:cubicBezTo>
                  <a:pt x="578" y="162"/>
                  <a:pt x="578" y="162"/>
                  <a:pt x="578" y="162"/>
                </a:cubicBezTo>
                <a:cubicBezTo>
                  <a:pt x="577" y="161"/>
                  <a:pt x="577" y="160"/>
                  <a:pt x="577" y="159"/>
                </a:cubicBezTo>
                <a:cubicBezTo>
                  <a:pt x="576" y="158"/>
                  <a:pt x="576" y="157"/>
                  <a:pt x="576" y="156"/>
                </a:cubicBezTo>
                <a:cubicBezTo>
                  <a:pt x="575" y="155"/>
                  <a:pt x="575" y="154"/>
                  <a:pt x="574" y="152"/>
                </a:cubicBezTo>
                <a:cubicBezTo>
                  <a:pt x="573" y="152"/>
                  <a:pt x="573" y="152"/>
                  <a:pt x="573" y="153"/>
                </a:cubicBezTo>
                <a:cubicBezTo>
                  <a:pt x="573" y="155"/>
                  <a:pt x="574" y="157"/>
                  <a:pt x="574" y="158"/>
                </a:cubicBezTo>
                <a:cubicBezTo>
                  <a:pt x="574" y="158"/>
                  <a:pt x="573" y="157"/>
                  <a:pt x="572" y="156"/>
                </a:cubicBezTo>
                <a:cubicBezTo>
                  <a:pt x="563" y="147"/>
                  <a:pt x="554" y="139"/>
                  <a:pt x="541" y="135"/>
                </a:cubicBezTo>
                <a:cubicBezTo>
                  <a:pt x="540" y="134"/>
                  <a:pt x="538" y="134"/>
                  <a:pt x="537" y="133"/>
                </a:cubicBezTo>
                <a:cubicBezTo>
                  <a:pt x="537" y="133"/>
                  <a:pt x="538" y="132"/>
                  <a:pt x="538" y="132"/>
                </a:cubicBezTo>
                <a:close/>
                <a:moveTo>
                  <a:pt x="525" y="135"/>
                </a:moveTo>
                <a:cubicBezTo>
                  <a:pt x="531" y="136"/>
                  <a:pt x="538" y="137"/>
                  <a:pt x="544" y="139"/>
                </a:cubicBezTo>
                <a:cubicBezTo>
                  <a:pt x="556" y="144"/>
                  <a:pt x="566" y="154"/>
                  <a:pt x="574" y="163"/>
                </a:cubicBezTo>
                <a:cubicBezTo>
                  <a:pt x="579" y="168"/>
                  <a:pt x="583" y="173"/>
                  <a:pt x="586" y="179"/>
                </a:cubicBezTo>
                <a:cubicBezTo>
                  <a:pt x="589" y="183"/>
                  <a:pt x="591" y="187"/>
                  <a:pt x="594" y="190"/>
                </a:cubicBezTo>
                <a:cubicBezTo>
                  <a:pt x="601" y="206"/>
                  <a:pt x="611" y="220"/>
                  <a:pt x="616" y="238"/>
                </a:cubicBezTo>
                <a:cubicBezTo>
                  <a:pt x="621" y="254"/>
                  <a:pt x="621" y="270"/>
                  <a:pt x="620" y="287"/>
                </a:cubicBezTo>
                <a:cubicBezTo>
                  <a:pt x="619" y="304"/>
                  <a:pt x="617" y="321"/>
                  <a:pt x="616" y="339"/>
                </a:cubicBezTo>
                <a:cubicBezTo>
                  <a:pt x="616" y="345"/>
                  <a:pt x="616" y="351"/>
                  <a:pt x="616" y="357"/>
                </a:cubicBezTo>
                <a:cubicBezTo>
                  <a:pt x="616" y="359"/>
                  <a:pt x="616" y="363"/>
                  <a:pt x="617" y="365"/>
                </a:cubicBezTo>
                <a:cubicBezTo>
                  <a:pt x="615" y="366"/>
                  <a:pt x="613" y="367"/>
                  <a:pt x="611" y="368"/>
                </a:cubicBezTo>
                <a:cubicBezTo>
                  <a:pt x="611" y="368"/>
                  <a:pt x="611" y="368"/>
                  <a:pt x="610" y="367"/>
                </a:cubicBezTo>
                <a:cubicBezTo>
                  <a:pt x="607" y="365"/>
                  <a:pt x="605" y="362"/>
                  <a:pt x="603" y="358"/>
                </a:cubicBezTo>
                <a:cubicBezTo>
                  <a:pt x="601" y="351"/>
                  <a:pt x="600" y="344"/>
                  <a:pt x="600" y="338"/>
                </a:cubicBezTo>
                <a:cubicBezTo>
                  <a:pt x="599" y="324"/>
                  <a:pt x="601" y="311"/>
                  <a:pt x="605" y="297"/>
                </a:cubicBezTo>
                <a:cubicBezTo>
                  <a:pt x="608" y="284"/>
                  <a:pt x="610" y="270"/>
                  <a:pt x="609" y="256"/>
                </a:cubicBezTo>
                <a:cubicBezTo>
                  <a:pt x="609" y="250"/>
                  <a:pt x="609" y="243"/>
                  <a:pt x="607" y="237"/>
                </a:cubicBezTo>
                <a:cubicBezTo>
                  <a:pt x="605" y="232"/>
                  <a:pt x="603" y="227"/>
                  <a:pt x="601" y="222"/>
                </a:cubicBezTo>
                <a:cubicBezTo>
                  <a:pt x="600" y="221"/>
                  <a:pt x="599" y="222"/>
                  <a:pt x="599" y="223"/>
                </a:cubicBezTo>
                <a:cubicBezTo>
                  <a:pt x="601" y="230"/>
                  <a:pt x="604" y="236"/>
                  <a:pt x="605" y="243"/>
                </a:cubicBezTo>
                <a:cubicBezTo>
                  <a:pt x="606" y="251"/>
                  <a:pt x="606" y="258"/>
                  <a:pt x="606" y="266"/>
                </a:cubicBezTo>
                <a:cubicBezTo>
                  <a:pt x="605" y="274"/>
                  <a:pt x="605" y="281"/>
                  <a:pt x="603" y="289"/>
                </a:cubicBezTo>
                <a:cubicBezTo>
                  <a:pt x="602" y="296"/>
                  <a:pt x="599" y="303"/>
                  <a:pt x="598" y="309"/>
                </a:cubicBezTo>
                <a:cubicBezTo>
                  <a:pt x="597" y="315"/>
                  <a:pt x="597" y="321"/>
                  <a:pt x="596" y="327"/>
                </a:cubicBezTo>
                <a:cubicBezTo>
                  <a:pt x="596" y="326"/>
                  <a:pt x="596" y="326"/>
                  <a:pt x="596" y="326"/>
                </a:cubicBezTo>
                <a:cubicBezTo>
                  <a:pt x="596" y="326"/>
                  <a:pt x="597" y="325"/>
                  <a:pt x="596" y="325"/>
                </a:cubicBezTo>
                <a:cubicBezTo>
                  <a:pt x="595" y="323"/>
                  <a:pt x="595" y="320"/>
                  <a:pt x="595" y="318"/>
                </a:cubicBezTo>
                <a:cubicBezTo>
                  <a:pt x="595" y="318"/>
                  <a:pt x="595" y="318"/>
                  <a:pt x="595" y="318"/>
                </a:cubicBezTo>
                <a:cubicBezTo>
                  <a:pt x="595" y="317"/>
                  <a:pt x="595" y="317"/>
                  <a:pt x="596" y="316"/>
                </a:cubicBezTo>
                <a:cubicBezTo>
                  <a:pt x="596" y="316"/>
                  <a:pt x="596" y="315"/>
                  <a:pt x="596" y="315"/>
                </a:cubicBezTo>
                <a:cubicBezTo>
                  <a:pt x="596" y="314"/>
                  <a:pt x="595" y="313"/>
                  <a:pt x="595" y="312"/>
                </a:cubicBezTo>
                <a:cubicBezTo>
                  <a:pt x="595" y="312"/>
                  <a:pt x="594" y="312"/>
                  <a:pt x="594" y="313"/>
                </a:cubicBezTo>
                <a:cubicBezTo>
                  <a:pt x="594" y="313"/>
                  <a:pt x="594" y="314"/>
                  <a:pt x="594" y="315"/>
                </a:cubicBezTo>
                <a:cubicBezTo>
                  <a:pt x="594" y="316"/>
                  <a:pt x="594" y="316"/>
                  <a:pt x="594" y="316"/>
                </a:cubicBezTo>
                <a:cubicBezTo>
                  <a:pt x="594" y="317"/>
                  <a:pt x="594" y="317"/>
                  <a:pt x="594" y="317"/>
                </a:cubicBezTo>
                <a:cubicBezTo>
                  <a:pt x="594" y="317"/>
                  <a:pt x="594" y="316"/>
                  <a:pt x="593" y="316"/>
                </a:cubicBezTo>
                <a:cubicBezTo>
                  <a:pt x="593" y="316"/>
                  <a:pt x="593" y="316"/>
                  <a:pt x="593" y="316"/>
                </a:cubicBezTo>
                <a:cubicBezTo>
                  <a:pt x="593" y="314"/>
                  <a:pt x="593" y="313"/>
                  <a:pt x="592" y="312"/>
                </a:cubicBezTo>
                <a:cubicBezTo>
                  <a:pt x="592" y="312"/>
                  <a:pt x="592" y="312"/>
                  <a:pt x="592" y="311"/>
                </a:cubicBezTo>
                <a:cubicBezTo>
                  <a:pt x="592" y="311"/>
                  <a:pt x="592" y="311"/>
                  <a:pt x="591" y="310"/>
                </a:cubicBezTo>
                <a:cubicBezTo>
                  <a:pt x="591" y="310"/>
                  <a:pt x="591" y="310"/>
                  <a:pt x="591" y="310"/>
                </a:cubicBezTo>
                <a:cubicBezTo>
                  <a:pt x="591" y="311"/>
                  <a:pt x="591" y="311"/>
                  <a:pt x="591" y="311"/>
                </a:cubicBezTo>
                <a:cubicBezTo>
                  <a:pt x="590" y="311"/>
                  <a:pt x="590" y="312"/>
                  <a:pt x="590" y="312"/>
                </a:cubicBezTo>
                <a:cubicBezTo>
                  <a:pt x="590" y="313"/>
                  <a:pt x="590" y="315"/>
                  <a:pt x="591" y="316"/>
                </a:cubicBezTo>
                <a:cubicBezTo>
                  <a:pt x="587" y="306"/>
                  <a:pt x="584" y="295"/>
                  <a:pt x="582" y="285"/>
                </a:cubicBezTo>
                <a:cubicBezTo>
                  <a:pt x="582" y="284"/>
                  <a:pt x="581" y="284"/>
                  <a:pt x="581" y="285"/>
                </a:cubicBezTo>
                <a:cubicBezTo>
                  <a:pt x="581" y="291"/>
                  <a:pt x="583" y="297"/>
                  <a:pt x="585" y="303"/>
                </a:cubicBezTo>
                <a:cubicBezTo>
                  <a:pt x="586" y="306"/>
                  <a:pt x="587" y="310"/>
                  <a:pt x="588" y="313"/>
                </a:cubicBezTo>
                <a:cubicBezTo>
                  <a:pt x="589" y="315"/>
                  <a:pt x="589" y="316"/>
                  <a:pt x="590" y="318"/>
                </a:cubicBezTo>
                <a:cubicBezTo>
                  <a:pt x="591" y="319"/>
                  <a:pt x="592" y="318"/>
                  <a:pt x="591" y="318"/>
                </a:cubicBezTo>
                <a:cubicBezTo>
                  <a:pt x="592" y="318"/>
                  <a:pt x="592" y="319"/>
                  <a:pt x="592" y="319"/>
                </a:cubicBezTo>
                <a:cubicBezTo>
                  <a:pt x="592" y="319"/>
                  <a:pt x="592" y="319"/>
                  <a:pt x="592" y="319"/>
                </a:cubicBezTo>
                <a:cubicBezTo>
                  <a:pt x="592" y="320"/>
                  <a:pt x="592" y="321"/>
                  <a:pt x="593" y="322"/>
                </a:cubicBezTo>
                <a:cubicBezTo>
                  <a:pt x="588" y="315"/>
                  <a:pt x="584" y="306"/>
                  <a:pt x="578" y="300"/>
                </a:cubicBezTo>
                <a:cubicBezTo>
                  <a:pt x="571" y="293"/>
                  <a:pt x="561" y="288"/>
                  <a:pt x="553" y="282"/>
                </a:cubicBezTo>
                <a:cubicBezTo>
                  <a:pt x="552" y="282"/>
                  <a:pt x="551" y="281"/>
                  <a:pt x="550" y="281"/>
                </a:cubicBezTo>
                <a:cubicBezTo>
                  <a:pt x="550" y="281"/>
                  <a:pt x="550" y="281"/>
                  <a:pt x="550" y="281"/>
                </a:cubicBezTo>
                <a:cubicBezTo>
                  <a:pt x="546" y="278"/>
                  <a:pt x="543" y="276"/>
                  <a:pt x="539" y="274"/>
                </a:cubicBezTo>
                <a:cubicBezTo>
                  <a:pt x="539" y="274"/>
                  <a:pt x="539" y="274"/>
                  <a:pt x="539" y="274"/>
                </a:cubicBezTo>
                <a:cubicBezTo>
                  <a:pt x="540" y="275"/>
                  <a:pt x="542" y="276"/>
                  <a:pt x="543" y="278"/>
                </a:cubicBezTo>
                <a:cubicBezTo>
                  <a:pt x="540" y="276"/>
                  <a:pt x="537" y="275"/>
                  <a:pt x="535" y="274"/>
                </a:cubicBezTo>
                <a:cubicBezTo>
                  <a:pt x="536" y="275"/>
                  <a:pt x="536" y="275"/>
                  <a:pt x="537" y="275"/>
                </a:cubicBezTo>
                <a:cubicBezTo>
                  <a:pt x="538" y="275"/>
                  <a:pt x="538" y="275"/>
                  <a:pt x="538" y="275"/>
                </a:cubicBezTo>
                <a:cubicBezTo>
                  <a:pt x="533" y="270"/>
                  <a:pt x="525" y="267"/>
                  <a:pt x="519" y="264"/>
                </a:cubicBezTo>
                <a:cubicBezTo>
                  <a:pt x="515" y="262"/>
                  <a:pt x="512" y="260"/>
                  <a:pt x="508" y="259"/>
                </a:cubicBezTo>
                <a:cubicBezTo>
                  <a:pt x="504" y="258"/>
                  <a:pt x="500" y="256"/>
                  <a:pt x="496" y="256"/>
                </a:cubicBezTo>
                <a:cubicBezTo>
                  <a:pt x="495" y="255"/>
                  <a:pt x="493" y="255"/>
                  <a:pt x="491" y="256"/>
                </a:cubicBezTo>
                <a:cubicBezTo>
                  <a:pt x="491" y="256"/>
                  <a:pt x="491" y="257"/>
                  <a:pt x="492" y="257"/>
                </a:cubicBezTo>
                <a:cubicBezTo>
                  <a:pt x="494" y="256"/>
                  <a:pt x="499" y="258"/>
                  <a:pt x="501" y="258"/>
                </a:cubicBezTo>
                <a:cubicBezTo>
                  <a:pt x="504" y="259"/>
                  <a:pt x="507" y="260"/>
                  <a:pt x="510" y="261"/>
                </a:cubicBezTo>
                <a:cubicBezTo>
                  <a:pt x="516" y="263"/>
                  <a:pt x="520" y="266"/>
                  <a:pt x="525" y="269"/>
                </a:cubicBezTo>
                <a:cubicBezTo>
                  <a:pt x="528" y="271"/>
                  <a:pt x="531" y="273"/>
                  <a:pt x="534" y="274"/>
                </a:cubicBezTo>
                <a:cubicBezTo>
                  <a:pt x="531" y="273"/>
                  <a:pt x="527" y="272"/>
                  <a:pt x="524" y="271"/>
                </a:cubicBezTo>
                <a:cubicBezTo>
                  <a:pt x="514" y="269"/>
                  <a:pt x="504" y="266"/>
                  <a:pt x="494" y="267"/>
                </a:cubicBezTo>
                <a:cubicBezTo>
                  <a:pt x="487" y="267"/>
                  <a:pt x="479" y="270"/>
                  <a:pt x="472" y="272"/>
                </a:cubicBezTo>
                <a:cubicBezTo>
                  <a:pt x="468" y="273"/>
                  <a:pt x="464" y="274"/>
                  <a:pt x="459" y="276"/>
                </a:cubicBezTo>
                <a:cubicBezTo>
                  <a:pt x="458" y="271"/>
                  <a:pt x="458" y="266"/>
                  <a:pt x="456" y="261"/>
                </a:cubicBezTo>
                <a:cubicBezTo>
                  <a:pt x="454" y="256"/>
                  <a:pt x="452" y="251"/>
                  <a:pt x="452" y="245"/>
                </a:cubicBezTo>
                <a:cubicBezTo>
                  <a:pt x="452" y="240"/>
                  <a:pt x="452" y="235"/>
                  <a:pt x="453" y="230"/>
                </a:cubicBezTo>
                <a:cubicBezTo>
                  <a:pt x="453" y="225"/>
                  <a:pt x="453" y="219"/>
                  <a:pt x="455" y="214"/>
                </a:cubicBezTo>
                <a:cubicBezTo>
                  <a:pt x="456" y="209"/>
                  <a:pt x="459" y="204"/>
                  <a:pt x="461" y="199"/>
                </a:cubicBezTo>
                <a:cubicBezTo>
                  <a:pt x="463" y="194"/>
                  <a:pt x="464" y="188"/>
                  <a:pt x="465" y="183"/>
                </a:cubicBezTo>
                <a:cubicBezTo>
                  <a:pt x="466" y="178"/>
                  <a:pt x="467" y="172"/>
                  <a:pt x="471" y="167"/>
                </a:cubicBezTo>
                <a:cubicBezTo>
                  <a:pt x="474" y="163"/>
                  <a:pt x="478" y="158"/>
                  <a:pt x="482" y="154"/>
                </a:cubicBezTo>
                <a:cubicBezTo>
                  <a:pt x="486" y="150"/>
                  <a:pt x="490" y="146"/>
                  <a:pt x="494" y="143"/>
                </a:cubicBezTo>
                <a:cubicBezTo>
                  <a:pt x="498" y="139"/>
                  <a:pt x="502" y="135"/>
                  <a:pt x="508" y="134"/>
                </a:cubicBezTo>
                <a:cubicBezTo>
                  <a:pt x="513" y="133"/>
                  <a:pt x="519" y="134"/>
                  <a:pt x="525" y="135"/>
                </a:cubicBezTo>
                <a:close/>
                <a:moveTo>
                  <a:pt x="373" y="210"/>
                </a:moveTo>
                <a:cubicBezTo>
                  <a:pt x="375" y="203"/>
                  <a:pt x="375" y="197"/>
                  <a:pt x="376" y="190"/>
                </a:cubicBezTo>
                <a:cubicBezTo>
                  <a:pt x="378" y="176"/>
                  <a:pt x="381" y="162"/>
                  <a:pt x="384" y="148"/>
                </a:cubicBezTo>
                <a:cubicBezTo>
                  <a:pt x="385" y="140"/>
                  <a:pt x="387" y="133"/>
                  <a:pt x="391" y="126"/>
                </a:cubicBezTo>
                <a:cubicBezTo>
                  <a:pt x="394" y="120"/>
                  <a:pt x="400" y="115"/>
                  <a:pt x="404" y="109"/>
                </a:cubicBezTo>
                <a:cubicBezTo>
                  <a:pt x="412" y="98"/>
                  <a:pt x="419" y="86"/>
                  <a:pt x="429" y="77"/>
                </a:cubicBezTo>
                <a:cubicBezTo>
                  <a:pt x="435" y="72"/>
                  <a:pt x="440" y="74"/>
                  <a:pt x="445" y="78"/>
                </a:cubicBezTo>
                <a:cubicBezTo>
                  <a:pt x="448" y="80"/>
                  <a:pt x="448" y="84"/>
                  <a:pt x="452" y="82"/>
                </a:cubicBezTo>
                <a:cubicBezTo>
                  <a:pt x="455" y="80"/>
                  <a:pt x="455" y="76"/>
                  <a:pt x="459" y="80"/>
                </a:cubicBezTo>
                <a:cubicBezTo>
                  <a:pt x="460" y="81"/>
                  <a:pt x="461" y="82"/>
                  <a:pt x="463" y="83"/>
                </a:cubicBezTo>
                <a:cubicBezTo>
                  <a:pt x="466" y="85"/>
                  <a:pt x="469" y="83"/>
                  <a:pt x="472" y="82"/>
                </a:cubicBezTo>
                <a:cubicBezTo>
                  <a:pt x="477" y="77"/>
                  <a:pt x="483" y="74"/>
                  <a:pt x="490" y="78"/>
                </a:cubicBezTo>
                <a:cubicBezTo>
                  <a:pt x="496" y="81"/>
                  <a:pt x="501" y="88"/>
                  <a:pt x="504" y="94"/>
                </a:cubicBezTo>
                <a:cubicBezTo>
                  <a:pt x="512" y="105"/>
                  <a:pt x="517" y="117"/>
                  <a:pt x="522" y="130"/>
                </a:cubicBezTo>
                <a:cubicBezTo>
                  <a:pt x="516" y="129"/>
                  <a:pt x="510" y="129"/>
                  <a:pt x="505" y="131"/>
                </a:cubicBezTo>
                <a:cubicBezTo>
                  <a:pt x="496" y="134"/>
                  <a:pt x="487" y="143"/>
                  <a:pt x="481" y="150"/>
                </a:cubicBezTo>
                <a:cubicBezTo>
                  <a:pt x="472" y="159"/>
                  <a:pt x="464" y="168"/>
                  <a:pt x="462" y="180"/>
                </a:cubicBezTo>
                <a:cubicBezTo>
                  <a:pt x="460" y="187"/>
                  <a:pt x="459" y="194"/>
                  <a:pt x="456" y="201"/>
                </a:cubicBezTo>
                <a:cubicBezTo>
                  <a:pt x="456" y="202"/>
                  <a:pt x="455" y="202"/>
                  <a:pt x="455" y="203"/>
                </a:cubicBezTo>
                <a:cubicBezTo>
                  <a:pt x="456" y="198"/>
                  <a:pt x="457" y="194"/>
                  <a:pt x="458" y="189"/>
                </a:cubicBezTo>
                <a:cubicBezTo>
                  <a:pt x="459" y="183"/>
                  <a:pt x="460" y="178"/>
                  <a:pt x="462" y="172"/>
                </a:cubicBezTo>
                <a:cubicBezTo>
                  <a:pt x="462" y="172"/>
                  <a:pt x="461" y="171"/>
                  <a:pt x="461" y="172"/>
                </a:cubicBezTo>
                <a:cubicBezTo>
                  <a:pt x="458" y="177"/>
                  <a:pt x="456" y="182"/>
                  <a:pt x="456" y="187"/>
                </a:cubicBezTo>
                <a:cubicBezTo>
                  <a:pt x="455" y="195"/>
                  <a:pt x="452" y="202"/>
                  <a:pt x="450" y="209"/>
                </a:cubicBezTo>
                <a:cubicBezTo>
                  <a:pt x="447" y="220"/>
                  <a:pt x="447" y="231"/>
                  <a:pt x="447" y="242"/>
                </a:cubicBezTo>
                <a:cubicBezTo>
                  <a:pt x="447" y="246"/>
                  <a:pt x="447" y="249"/>
                  <a:pt x="446" y="253"/>
                </a:cubicBezTo>
                <a:cubicBezTo>
                  <a:pt x="445" y="258"/>
                  <a:pt x="446" y="263"/>
                  <a:pt x="445" y="267"/>
                </a:cubicBezTo>
                <a:cubicBezTo>
                  <a:pt x="445" y="270"/>
                  <a:pt x="443" y="278"/>
                  <a:pt x="446" y="280"/>
                </a:cubicBezTo>
                <a:cubicBezTo>
                  <a:pt x="447" y="280"/>
                  <a:pt x="448" y="280"/>
                  <a:pt x="447" y="279"/>
                </a:cubicBezTo>
                <a:cubicBezTo>
                  <a:pt x="447" y="278"/>
                  <a:pt x="447" y="275"/>
                  <a:pt x="447" y="273"/>
                </a:cubicBezTo>
                <a:cubicBezTo>
                  <a:pt x="447" y="276"/>
                  <a:pt x="448" y="278"/>
                  <a:pt x="448" y="279"/>
                </a:cubicBezTo>
                <a:cubicBezTo>
                  <a:pt x="448" y="279"/>
                  <a:pt x="448" y="279"/>
                  <a:pt x="449" y="279"/>
                </a:cubicBezTo>
                <a:cubicBezTo>
                  <a:pt x="447" y="280"/>
                  <a:pt x="445" y="281"/>
                  <a:pt x="443" y="283"/>
                </a:cubicBezTo>
                <a:cubicBezTo>
                  <a:pt x="443" y="283"/>
                  <a:pt x="443" y="282"/>
                  <a:pt x="443" y="282"/>
                </a:cubicBezTo>
                <a:cubicBezTo>
                  <a:pt x="442" y="277"/>
                  <a:pt x="443" y="271"/>
                  <a:pt x="443" y="266"/>
                </a:cubicBezTo>
                <a:cubicBezTo>
                  <a:pt x="443" y="258"/>
                  <a:pt x="443" y="250"/>
                  <a:pt x="444" y="242"/>
                </a:cubicBezTo>
                <a:cubicBezTo>
                  <a:pt x="445" y="224"/>
                  <a:pt x="447" y="206"/>
                  <a:pt x="453" y="189"/>
                </a:cubicBezTo>
                <a:cubicBezTo>
                  <a:pt x="453" y="189"/>
                  <a:pt x="452" y="189"/>
                  <a:pt x="452" y="189"/>
                </a:cubicBezTo>
                <a:cubicBezTo>
                  <a:pt x="446" y="206"/>
                  <a:pt x="441" y="224"/>
                  <a:pt x="440" y="241"/>
                </a:cubicBezTo>
                <a:cubicBezTo>
                  <a:pt x="440" y="251"/>
                  <a:pt x="440" y="260"/>
                  <a:pt x="440" y="269"/>
                </a:cubicBezTo>
                <a:cubicBezTo>
                  <a:pt x="440" y="273"/>
                  <a:pt x="439" y="280"/>
                  <a:pt x="440" y="284"/>
                </a:cubicBezTo>
                <a:cubicBezTo>
                  <a:pt x="440" y="284"/>
                  <a:pt x="441" y="284"/>
                  <a:pt x="441" y="284"/>
                </a:cubicBezTo>
                <a:cubicBezTo>
                  <a:pt x="439" y="286"/>
                  <a:pt x="437" y="287"/>
                  <a:pt x="435" y="289"/>
                </a:cubicBezTo>
                <a:cubicBezTo>
                  <a:pt x="436" y="287"/>
                  <a:pt x="436" y="285"/>
                  <a:pt x="436" y="283"/>
                </a:cubicBezTo>
                <a:cubicBezTo>
                  <a:pt x="436" y="281"/>
                  <a:pt x="436" y="278"/>
                  <a:pt x="436" y="276"/>
                </a:cubicBezTo>
                <a:cubicBezTo>
                  <a:pt x="436" y="275"/>
                  <a:pt x="435" y="275"/>
                  <a:pt x="435" y="275"/>
                </a:cubicBezTo>
                <a:cubicBezTo>
                  <a:pt x="433" y="280"/>
                  <a:pt x="434" y="285"/>
                  <a:pt x="433" y="289"/>
                </a:cubicBezTo>
                <a:cubicBezTo>
                  <a:pt x="433" y="290"/>
                  <a:pt x="433" y="290"/>
                  <a:pt x="433" y="290"/>
                </a:cubicBezTo>
                <a:cubicBezTo>
                  <a:pt x="433" y="291"/>
                  <a:pt x="432" y="291"/>
                  <a:pt x="432" y="292"/>
                </a:cubicBezTo>
                <a:cubicBezTo>
                  <a:pt x="432" y="284"/>
                  <a:pt x="430" y="276"/>
                  <a:pt x="430" y="268"/>
                </a:cubicBezTo>
                <a:cubicBezTo>
                  <a:pt x="430" y="264"/>
                  <a:pt x="431" y="259"/>
                  <a:pt x="431" y="255"/>
                </a:cubicBezTo>
                <a:cubicBezTo>
                  <a:pt x="431" y="252"/>
                  <a:pt x="430" y="248"/>
                  <a:pt x="430" y="245"/>
                </a:cubicBezTo>
                <a:cubicBezTo>
                  <a:pt x="430" y="244"/>
                  <a:pt x="429" y="243"/>
                  <a:pt x="429" y="244"/>
                </a:cubicBezTo>
                <a:cubicBezTo>
                  <a:pt x="428" y="252"/>
                  <a:pt x="428" y="260"/>
                  <a:pt x="427" y="268"/>
                </a:cubicBezTo>
                <a:cubicBezTo>
                  <a:pt x="427" y="276"/>
                  <a:pt x="429" y="284"/>
                  <a:pt x="429" y="292"/>
                </a:cubicBezTo>
                <a:cubicBezTo>
                  <a:pt x="429" y="293"/>
                  <a:pt x="430" y="293"/>
                  <a:pt x="430" y="293"/>
                </a:cubicBezTo>
                <a:cubicBezTo>
                  <a:pt x="428" y="295"/>
                  <a:pt x="427" y="297"/>
                  <a:pt x="425" y="299"/>
                </a:cubicBezTo>
                <a:cubicBezTo>
                  <a:pt x="425" y="298"/>
                  <a:pt x="425" y="297"/>
                  <a:pt x="426" y="296"/>
                </a:cubicBezTo>
                <a:cubicBezTo>
                  <a:pt x="426" y="294"/>
                  <a:pt x="426" y="292"/>
                  <a:pt x="426" y="290"/>
                </a:cubicBezTo>
                <a:cubicBezTo>
                  <a:pt x="426" y="290"/>
                  <a:pt x="426" y="289"/>
                  <a:pt x="426" y="290"/>
                </a:cubicBezTo>
                <a:cubicBezTo>
                  <a:pt x="425" y="291"/>
                  <a:pt x="424" y="293"/>
                  <a:pt x="424" y="295"/>
                </a:cubicBezTo>
                <a:cubicBezTo>
                  <a:pt x="423" y="293"/>
                  <a:pt x="422" y="291"/>
                  <a:pt x="422" y="289"/>
                </a:cubicBezTo>
                <a:cubicBezTo>
                  <a:pt x="422" y="289"/>
                  <a:pt x="422" y="289"/>
                  <a:pt x="423" y="289"/>
                </a:cubicBezTo>
                <a:cubicBezTo>
                  <a:pt x="423" y="289"/>
                  <a:pt x="423" y="288"/>
                  <a:pt x="423" y="288"/>
                </a:cubicBezTo>
                <a:cubicBezTo>
                  <a:pt x="423" y="288"/>
                  <a:pt x="423" y="288"/>
                  <a:pt x="423" y="288"/>
                </a:cubicBezTo>
                <a:cubicBezTo>
                  <a:pt x="423" y="288"/>
                  <a:pt x="423" y="288"/>
                  <a:pt x="423" y="288"/>
                </a:cubicBezTo>
                <a:cubicBezTo>
                  <a:pt x="423" y="288"/>
                  <a:pt x="423" y="288"/>
                  <a:pt x="423" y="288"/>
                </a:cubicBezTo>
                <a:cubicBezTo>
                  <a:pt x="423" y="288"/>
                  <a:pt x="423" y="287"/>
                  <a:pt x="423" y="287"/>
                </a:cubicBezTo>
                <a:cubicBezTo>
                  <a:pt x="424" y="286"/>
                  <a:pt x="424" y="285"/>
                  <a:pt x="424" y="284"/>
                </a:cubicBezTo>
                <a:cubicBezTo>
                  <a:pt x="423" y="282"/>
                  <a:pt x="423" y="280"/>
                  <a:pt x="423" y="278"/>
                </a:cubicBezTo>
                <a:cubicBezTo>
                  <a:pt x="422" y="277"/>
                  <a:pt x="422" y="277"/>
                  <a:pt x="422" y="278"/>
                </a:cubicBezTo>
                <a:cubicBezTo>
                  <a:pt x="421" y="279"/>
                  <a:pt x="421" y="281"/>
                  <a:pt x="421" y="283"/>
                </a:cubicBezTo>
                <a:cubicBezTo>
                  <a:pt x="421" y="285"/>
                  <a:pt x="421" y="286"/>
                  <a:pt x="421" y="288"/>
                </a:cubicBezTo>
                <a:cubicBezTo>
                  <a:pt x="421" y="287"/>
                  <a:pt x="420" y="285"/>
                  <a:pt x="420" y="284"/>
                </a:cubicBezTo>
                <a:cubicBezTo>
                  <a:pt x="418" y="279"/>
                  <a:pt x="417" y="275"/>
                  <a:pt x="416" y="271"/>
                </a:cubicBezTo>
                <a:cubicBezTo>
                  <a:pt x="414" y="262"/>
                  <a:pt x="413" y="254"/>
                  <a:pt x="413" y="245"/>
                </a:cubicBezTo>
                <a:cubicBezTo>
                  <a:pt x="413" y="244"/>
                  <a:pt x="412" y="244"/>
                  <a:pt x="412" y="245"/>
                </a:cubicBezTo>
                <a:cubicBezTo>
                  <a:pt x="411" y="254"/>
                  <a:pt x="413" y="263"/>
                  <a:pt x="414" y="271"/>
                </a:cubicBezTo>
                <a:cubicBezTo>
                  <a:pt x="415" y="278"/>
                  <a:pt x="417" y="285"/>
                  <a:pt x="419" y="292"/>
                </a:cubicBezTo>
                <a:cubicBezTo>
                  <a:pt x="417" y="287"/>
                  <a:pt x="414" y="282"/>
                  <a:pt x="410" y="277"/>
                </a:cubicBezTo>
                <a:cubicBezTo>
                  <a:pt x="410" y="277"/>
                  <a:pt x="410" y="276"/>
                  <a:pt x="410" y="276"/>
                </a:cubicBezTo>
                <a:cubicBezTo>
                  <a:pt x="410" y="276"/>
                  <a:pt x="410" y="275"/>
                  <a:pt x="410" y="274"/>
                </a:cubicBezTo>
                <a:cubicBezTo>
                  <a:pt x="410" y="274"/>
                  <a:pt x="410" y="273"/>
                  <a:pt x="409" y="273"/>
                </a:cubicBezTo>
                <a:cubicBezTo>
                  <a:pt x="409" y="273"/>
                  <a:pt x="409" y="273"/>
                  <a:pt x="409" y="273"/>
                </a:cubicBezTo>
                <a:cubicBezTo>
                  <a:pt x="408" y="273"/>
                  <a:pt x="408" y="274"/>
                  <a:pt x="408" y="274"/>
                </a:cubicBezTo>
                <a:cubicBezTo>
                  <a:pt x="407" y="272"/>
                  <a:pt x="406" y="270"/>
                  <a:pt x="405" y="268"/>
                </a:cubicBezTo>
                <a:cubicBezTo>
                  <a:pt x="401" y="262"/>
                  <a:pt x="397" y="255"/>
                  <a:pt x="393" y="249"/>
                </a:cubicBezTo>
                <a:cubicBezTo>
                  <a:pt x="389" y="244"/>
                  <a:pt x="384" y="239"/>
                  <a:pt x="379" y="234"/>
                </a:cubicBezTo>
                <a:cubicBezTo>
                  <a:pt x="377" y="232"/>
                  <a:pt x="375" y="229"/>
                  <a:pt x="373" y="227"/>
                </a:cubicBezTo>
                <a:cubicBezTo>
                  <a:pt x="372" y="221"/>
                  <a:pt x="373" y="215"/>
                  <a:pt x="373" y="210"/>
                </a:cubicBezTo>
                <a:close/>
                <a:moveTo>
                  <a:pt x="343" y="137"/>
                </a:moveTo>
                <a:cubicBezTo>
                  <a:pt x="349" y="146"/>
                  <a:pt x="355" y="156"/>
                  <a:pt x="359" y="166"/>
                </a:cubicBezTo>
                <a:cubicBezTo>
                  <a:pt x="363" y="175"/>
                  <a:pt x="368" y="185"/>
                  <a:pt x="369" y="196"/>
                </a:cubicBezTo>
                <a:cubicBezTo>
                  <a:pt x="370" y="199"/>
                  <a:pt x="370" y="203"/>
                  <a:pt x="370" y="207"/>
                </a:cubicBezTo>
                <a:cubicBezTo>
                  <a:pt x="370" y="210"/>
                  <a:pt x="369" y="213"/>
                  <a:pt x="369" y="216"/>
                </a:cubicBezTo>
                <a:cubicBezTo>
                  <a:pt x="369" y="218"/>
                  <a:pt x="369" y="221"/>
                  <a:pt x="370" y="223"/>
                </a:cubicBezTo>
                <a:cubicBezTo>
                  <a:pt x="368" y="221"/>
                  <a:pt x="365" y="219"/>
                  <a:pt x="363" y="216"/>
                </a:cubicBezTo>
                <a:cubicBezTo>
                  <a:pt x="363" y="216"/>
                  <a:pt x="363" y="216"/>
                  <a:pt x="363" y="216"/>
                </a:cubicBezTo>
                <a:cubicBezTo>
                  <a:pt x="363" y="216"/>
                  <a:pt x="363" y="216"/>
                  <a:pt x="363" y="215"/>
                </a:cubicBezTo>
                <a:cubicBezTo>
                  <a:pt x="364" y="200"/>
                  <a:pt x="357" y="185"/>
                  <a:pt x="352" y="170"/>
                </a:cubicBezTo>
                <a:cubicBezTo>
                  <a:pt x="348" y="157"/>
                  <a:pt x="346" y="144"/>
                  <a:pt x="340" y="132"/>
                </a:cubicBezTo>
                <a:cubicBezTo>
                  <a:pt x="341" y="134"/>
                  <a:pt x="342" y="136"/>
                  <a:pt x="343" y="137"/>
                </a:cubicBezTo>
                <a:close/>
                <a:moveTo>
                  <a:pt x="321" y="108"/>
                </a:moveTo>
                <a:cubicBezTo>
                  <a:pt x="322" y="110"/>
                  <a:pt x="325" y="112"/>
                  <a:pt x="326" y="114"/>
                </a:cubicBezTo>
                <a:cubicBezTo>
                  <a:pt x="326" y="115"/>
                  <a:pt x="326" y="116"/>
                  <a:pt x="326" y="116"/>
                </a:cubicBezTo>
                <a:cubicBezTo>
                  <a:pt x="328" y="118"/>
                  <a:pt x="329" y="119"/>
                  <a:pt x="330" y="121"/>
                </a:cubicBezTo>
                <a:cubicBezTo>
                  <a:pt x="330" y="121"/>
                  <a:pt x="330" y="121"/>
                  <a:pt x="330" y="121"/>
                </a:cubicBezTo>
                <a:cubicBezTo>
                  <a:pt x="331" y="124"/>
                  <a:pt x="331" y="127"/>
                  <a:pt x="334" y="129"/>
                </a:cubicBezTo>
                <a:cubicBezTo>
                  <a:pt x="334" y="130"/>
                  <a:pt x="335" y="130"/>
                  <a:pt x="336" y="129"/>
                </a:cubicBezTo>
                <a:cubicBezTo>
                  <a:pt x="343" y="143"/>
                  <a:pt x="344" y="158"/>
                  <a:pt x="349" y="172"/>
                </a:cubicBezTo>
                <a:cubicBezTo>
                  <a:pt x="354" y="186"/>
                  <a:pt x="360" y="200"/>
                  <a:pt x="361" y="215"/>
                </a:cubicBezTo>
                <a:cubicBezTo>
                  <a:pt x="356" y="211"/>
                  <a:pt x="351" y="208"/>
                  <a:pt x="345" y="205"/>
                </a:cubicBezTo>
                <a:cubicBezTo>
                  <a:pt x="339" y="201"/>
                  <a:pt x="333" y="198"/>
                  <a:pt x="327" y="195"/>
                </a:cubicBezTo>
                <a:cubicBezTo>
                  <a:pt x="328" y="184"/>
                  <a:pt x="322" y="174"/>
                  <a:pt x="317" y="164"/>
                </a:cubicBezTo>
                <a:cubicBezTo>
                  <a:pt x="314" y="157"/>
                  <a:pt x="311" y="150"/>
                  <a:pt x="310" y="143"/>
                </a:cubicBezTo>
                <a:cubicBezTo>
                  <a:pt x="308" y="135"/>
                  <a:pt x="308" y="129"/>
                  <a:pt x="309" y="121"/>
                </a:cubicBezTo>
                <a:cubicBezTo>
                  <a:pt x="309" y="121"/>
                  <a:pt x="308" y="121"/>
                  <a:pt x="308" y="121"/>
                </a:cubicBezTo>
                <a:cubicBezTo>
                  <a:pt x="305" y="126"/>
                  <a:pt x="306" y="132"/>
                  <a:pt x="307" y="137"/>
                </a:cubicBezTo>
                <a:cubicBezTo>
                  <a:pt x="308" y="145"/>
                  <a:pt x="310" y="152"/>
                  <a:pt x="313" y="159"/>
                </a:cubicBezTo>
                <a:cubicBezTo>
                  <a:pt x="318" y="171"/>
                  <a:pt x="324" y="182"/>
                  <a:pt x="325" y="194"/>
                </a:cubicBezTo>
                <a:cubicBezTo>
                  <a:pt x="319" y="191"/>
                  <a:pt x="312" y="188"/>
                  <a:pt x="305" y="187"/>
                </a:cubicBezTo>
                <a:cubicBezTo>
                  <a:pt x="304" y="187"/>
                  <a:pt x="304" y="186"/>
                  <a:pt x="303" y="186"/>
                </a:cubicBezTo>
                <a:cubicBezTo>
                  <a:pt x="303" y="186"/>
                  <a:pt x="303" y="185"/>
                  <a:pt x="303" y="185"/>
                </a:cubicBezTo>
                <a:cubicBezTo>
                  <a:pt x="300" y="180"/>
                  <a:pt x="301" y="175"/>
                  <a:pt x="300" y="170"/>
                </a:cubicBezTo>
                <a:cubicBezTo>
                  <a:pt x="300" y="164"/>
                  <a:pt x="300" y="158"/>
                  <a:pt x="300" y="153"/>
                </a:cubicBezTo>
                <a:cubicBezTo>
                  <a:pt x="300" y="142"/>
                  <a:pt x="302" y="133"/>
                  <a:pt x="306" y="123"/>
                </a:cubicBezTo>
                <a:cubicBezTo>
                  <a:pt x="308" y="118"/>
                  <a:pt x="309" y="113"/>
                  <a:pt x="312" y="108"/>
                </a:cubicBezTo>
                <a:cubicBezTo>
                  <a:pt x="312" y="108"/>
                  <a:pt x="312" y="108"/>
                  <a:pt x="312" y="107"/>
                </a:cubicBezTo>
                <a:cubicBezTo>
                  <a:pt x="312" y="107"/>
                  <a:pt x="312" y="107"/>
                  <a:pt x="312" y="107"/>
                </a:cubicBezTo>
                <a:cubicBezTo>
                  <a:pt x="313" y="106"/>
                  <a:pt x="314" y="105"/>
                  <a:pt x="314" y="104"/>
                </a:cubicBezTo>
                <a:cubicBezTo>
                  <a:pt x="315" y="103"/>
                  <a:pt x="320" y="107"/>
                  <a:pt x="321" y="108"/>
                </a:cubicBezTo>
                <a:close/>
                <a:moveTo>
                  <a:pt x="297" y="173"/>
                </a:moveTo>
                <a:cubicBezTo>
                  <a:pt x="297" y="177"/>
                  <a:pt x="297" y="181"/>
                  <a:pt x="299" y="185"/>
                </a:cubicBezTo>
                <a:cubicBezTo>
                  <a:pt x="297" y="185"/>
                  <a:pt x="295" y="184"/>
                  <a:pt x="293" y="184"/>
                </a:cubicBezTo>
                <a:cubicBezTo>
                  <a:pt x="293" y="184"/>
                  <a:pt x="293" y="183"/>
                  <a:pt x="293" y="183"/>
                </a:cubicBezTo>
                <a:cubicBezTo>
                  <a:pt x="293" y="183"/>
                  <a:pt x="293" y="182"/>
                  <a:pt x="293" y="182"/>
                </a:cubicBezTo>
                <a:cubicBezTo>
                  <a:pt x="288" y="170"/>
                  <a:pt x="292" y="155"/>
                  <a:pt x="295" y="142"/>
                </a:cubicBezTo>
                <a:cubicBezTo>
                  <a:pt x="297" y="136"/>
                  <a:pt x="298" y="129"/>
                  <a:pt x="300" y="122"/>
                </a:cubicBezTo>
                <a:cubicBezTo>
                  <a:pt x="302" y="118"/>
                  <a:pt x="303" y="114"/>
                  <a:pt x="307" y="112"/>
                </a:cubicBezTo>
                <a:cubicBezTo>
                  <a:pt x="306" y="114"/>
                  <a:pt x="305" y="116"/>
                  <a:pt x="305" y="117"/>
                </a:cubicBezTo>
                <a:cubicBezTo>
                  <a:pt x="303" y="123"/>
                  <a:pt x="300" y="129"/>
                  <a:pt x="299" y="136"/>
                </a:cubicBezTo>
                <a:cubicBezTo>
                  <a:pt x="298" y="141"/>
                  <a:pt x="297" y="147"/>
                  <a:pt x="297" y="152"/>
                </a:cubicBezTo>
                <a:cubicBezTo>
                  <a:pt x="297" y="159"/>
                  <a:pt x="297" y="166"/>
                  <a:pt x="297" y="173"/>
                </a:cubicBezTo>
                <a:close/>
                <a:moveTo>
                  <a:pt x="239" y="8"/>
                </a:moveTo>
                <a:cubicBezTo>
                  <a:pt x="238" y="6"/>
                  <a:pt x="245" y="10"/>
                  <a:pt x="246" y="10"/>
                </a:cubicBezTo>
                <a:cubicBezTo>
                  <a:pt x="249" y="12"/>
                  <a:pt x="252" y="14"/>
                  <a:pt x="256" y="16"/>
                </a:cubicBezTo>
                <a:cubicBezTo>
                  <a:pt x="264" y="22"/>
                  <a:pt x="272" y="30"/>
                  <a:pt x="279" y="38"/>
                </a:cubicBezTo>
                <a:cubicBezTo>
                  <a:pt x="288" y="49"/>
                  <a:pt x="296" y="60"/>
                  <a:pt x="302" y="73"/>
                </a:cubicBezTo>
                <a:cubicBezTo>
                  <a:pt x="305" y="80"/>
                  <a:pt x="309" y="86"/>
                  <a:pt x="311" y="93"/>
                </a:cubicBezTo>
                <a:cubicBezTo>
                  <a:pt x="312" y="96"/>
                  <a:pt x="313" y="99"/>
                  <a:pt x="315" y="102"/>
                </a:cubicBezTo>
                <a:cubicBezTo>
                  <a:pt x="312" y="102"/>
                  <a:pt x="310" y="104"/>
                  <a:pt x="309" y="107"/>
                </a:cubicBezTo>
                <a:cubicBezTo>
                  <a:pt x="306" y="108"/>
                  <a:pt x="304" y="110"/>
                  <a:pt x="302" y="112"/>
                </a:cubicBezTo>
                <a:cubicBezTo>
                  <a:pt x="302" y="108"/>
                  <a:pt x="300" y="104"/>
                  <a:pt x="299" y="101"/>
                </a:cubicBezTo>
                <a:cubicBezTo>
                  <a:pt x="298" y="99"/>
                  <a:pt x="297" y="97"/>
                  <a:pt x="297" y="96"/>
                </a:cubicBezTo>
                <a:cubicBezTo>
                  <a:pt x="297" y="96"/>
                  <a:pt x="297" y="96"/>
                  <a:pt x="297" y="95"/>
                </a:cubicBezTo>
                <a:cubicBezTo>
                  <a:pt x="298" y="93"/>
                  <a:pt x="297" y="90"/>
                  <a:pt x="297" y="88"/>
                </a:cubicBezTo>
                <a:cubicBezTo>
                  <a:pt x="297" y="85"/>
                  <a:pt x="297" y="82"/>
                  <a:pt x="298" y="79"/>
                </a:cubicBezTo>
                <a:cubicBezTo>
                  <a:pt x="298" y="79"/>
                  <a:pt x="297" y="79"/>
                  <a:pt x="297" y="79"/>
                </a:cubicBezTo>
                <a:cubicBezTo>
                  <a:pt x="296" y="82"/>
                  <a:pt x="296" y="85"/>
                  <a:pt x="296" y="88"/>
                </a:cubicBezTo>
                <a:cubicBezTo>
                  <a:pt x="296" y="89"/>
                  <a:pt x="295" y="91"/>
                  <a:pt x="295" y="93"/>
                </a:cubicBezTo>
                <a:cubicBezTo>
                  <a:pt x="294" y="91"/>
                  <a:pt x="293" y="89"/>
                  <a:pt x="292" y="87"/>
                </a:cubicBezTo>
                <a:cubicBezTo>
                  <a:pt x="293" y="86"/>
                  <a:pt x="293" y="83"/>
                  <a:pt x="293" y="82"/>
                </a:cubicBezTo>
                <a:cubicBezTo>
                  <a:pt x="293" y="80"/>
                  <a:pt x="293" y="77"/>
                  <a:pt x="293" y="75"/>
                </a:cubicBezTo>
                <a:cubicBezTo>
                  <a:pt x="293" y="74"/>
                  <a:pt x="292" y="74"/>
                  <a:pt x="292" y="75"/>
                </a:cubicBezTo>
                <a:cubicBezTo>
                  <a:pt x="291" y="77"/>
                  <a:pt x="291" y="80"/>
                  <a:pt x="291" y="82"/>
                </a:cubicBezTo>
                <a:cubicBezTo>
                  <a:pt x="291" y="83"/>
                  <a:pt x="291" y="84"/>
                  <a:pt x="291" y="84"/>
                </a:cubicBezTo>
                <a:cubicBezTo>
                  <a:pt x="290" y="83"/>
                  <a:pt x="289" y="82"/>
                  <a:pt x="289" y="81"/>
                </a:cubicBezTo>
                <a:cubicBezTo>
                  <a:pt x="289" y="80"/>
                  <a:pt x="288" y="78"/>
                  <a:pt x="288" y="77"/>
                </a:cubicBezTo>
                <a:cubicBezTo>
                  <a:pt x="288" y="75"/>
                  <a:pt x="288" y="74"/>
                  <a:pt x="288" y="72"/>
                </a:cubicBezTo>
                <a:cubicBezTo>
                  <a:pt x="288" y="71"/>
                  <a:pt x="287" y="71"/>
                  <a:pt x="287" y="72"/>
                </a:cubicBezTo>
                <a:cubicBezTo>
                  <a:pt x="287" y="74"/>
                  <a:pt x="287" y="76"/>
                  <a:pt x="287" y="78"/>
                </a:cubicBezTo>
                <a:cubicBezTo>
                  <a:pt x="287" y="78"/>
                  <a:pt x="287" y="78"/>
                  <a:pt x="287" y="78"/>
                </a:cubicBezTo>
                <a:cubicBezTo>
                  <a:pt x="287" y="78"/>
                  <a:pt x="286" y="77"/>
                  <a:pt x="286" y="76"/>
                </a:cubicBezTo>
                <a:cubicBezTo>
                  <a:pt x="285" y="76"/>
                  <a:pt x="284" y="75"/>
                  <a:pt x="284" y="73"/>
                </a:cubicBezTo>
                <a:cubicBezTo>
                  <a:pt x="284" y="71"/>
                  <a:pt x="284" y="69"/>
                  <a:pt x="284" y="67"/>
                </a:cubicBezTo>
                <a:cubicBezTo>
                  <a:pt x="284" y="64"/>
                  <a:pt x="284" y="62"/>
                  <a:pt x="284" y="59"/>
                </a:cubicBezTo>
                <a:cubicBezTo>
                  <a:pt x="284" y="58"/>
                  <a:pt x="284" y="58"/>
                  <a:pt x="284" y="59"/>
                </a:cubicBezTo>
                <a:cubicBezTo>
                  <a:pt x="283" y="61"/>
                  <a:pt x="283" y="64"/>
                  <a:pt x="283" y="67"/>
                </a:cubicBezTo>
                <a:cubicBezTo>
                  <a:pt x="283" y="68"/>
                  <a:pt x="282" y="70"/>
                  <a:pt x="282" y="71"/>
                </a:cubicBezTo>
                <a:cubicBezTo>
                  <a:pt x="281" y="69"/>
                  <a:pt x="279" y="67"/>
                  <a:pt x="277" y="65"/>
                </a:cubicBezTo>
                <a:cubicBezTo>
                  <a:pt x="278" y="63"/>
                  <a:pt x="278" y="62"/>
                  <a:pt x="278" y="60"/>
                </a:cubicBezTo>
                <a:cubicBezTo>
                  <a:pt x="278" y="58"/>
                  <a:pt x="278" y="56"/>
                  <a:pt x="278" y="55"/>
                </a:cubicBezTo>
                <a:cubicBezTo>
                  <a:pt x="278" y="54"/>
                  <a:pt x="277" y="53"/>
                  <a:pt x="277" y="54"/>
                </a:cubicBezTo>
                <a:cubicBezTo>
                  <a:pt x="277" y="57"/>
                  <a:pt x="276" y="61"/>
                  <a:pt x="276" y="64"/>
                </a:cubicBezTo>
                <a:cubicBezTo>
                  <a:pt x="275" y="63"/>
                  <a:pt x="274" y="61"/>
                  <a:pt x="273" y="60"/>
                </a:cubicBezTo>
                <a:cubicBezTo>
                  <a:pt x="273" y="59"/>
                  <a:pt x="273" y="58"/>
                  <a:pt x="273" y="56"/>
                </a:cubicBezTo>
                <a:cubicBezTo>
                  <a:pt x="273" y="55"/>
                  <a:pt x="273" y="53"/>
                  <a:pt x="273" y="51"/>
                </a:cubicBezTo>
                <a:cubicBezTo>
                  <a:pt x="273" y="50"/>
                  <a:pt x="272" y="50"/>
                  <a:pt x="272" y="51"/>
                </a:cubicBezTo>
                <a:cubicBezTo>
                  <a:pt x="272" y="53"/>
                  <a:pt x="272" y="55"/>
                  <a:pt x="272" y="56"/>
                </a:cubicBezTo>
                <a:cubicBezTo>
                  <a:pt x="272" y="57"/>
                  <a:pt x="271" y="58"/>
                  <a:pt x="271" y="59"/>
                </a:cubicBezTo>
                <a:cubicBezTo>
                  <a:pt x="270" y="58"/>
                  <a:pt x="269" y="57"/>
                  <a:pt x="268" y="56"/>
                </a:cubicBezTo>
                <a:cubicBezTo>
                  <a:pt x="268" y="56"/>
                  <a:pt x="268" y="56"/>
                  <a:pt x="268" y="56"/>
                </a:cubicBezTo>
                <a:cubicBezTo>
                  <a:pt x="270" y="55"/>
                  <a:pt x="270" y="52"/>
                  <a:pt x="270" y="50"/>
                </a:cubicBezTo>
                <a:cubicBezTo>
                  <a:pt x="271" y="48"/>
                  <a:pt x="271" y="46"/>
                  <a:pt x="271" y="44"/>
                </a:cubicBezTo>
                <a:cubicBezTo>
                  <a:pt x="271" y="43"/>
                  <a:pt x="270" y="43"/>
                  <a:pt x="270" y="44"/>
                </a:cubicBezTo>
                <a:cubicBezTo>
                  <a:pt x="269" y="46"/>
                  <a:pt x="269" y="48"/>
                  <a:pt x="269" y="50"/>
                </a:cubicBezTo>
                <a:cubicBezTo>
                  <a:pt x="268" y="52"/>
                  <a:pt x="267" y="54"/>
                  <a:pt x="267" y="56"/>
                </a:cubicBezTo>
                <a:cubicBezTo>
                  <a:pt x="267" y="56"/>
                  <a:pt x="267" y="56"/>
                  <a:pt x="267" y="56"/>
                </a:cubicBezTo>
                <a:cubicBezTo>
                  <a:pt x="266" y="55"/>
                  <a:pt x="264" y="54"/>
                  <a:pt x="262" y="54"/>
                </a:cubicBezTo>
                <a:cubicBezTo>
                  <a:pt x="263" y="52"/>
                  <a:pt x="264" y="49"/>
                  <a:pt x="264" y="47"/>
                </a:cubicBezTo>
                <a:cubicBezTo>
                  <a:pt x="265" y="45"/>
                  <a:pt x="265" y="43"/>
                  <a:pt x="265" y="40"/>
                </a:cubicBezTo>
                <a:cubicBezTo>
                  <a:pt x="265" y="40"/>
                  <a:pt x="263" y="40"/>
                  <a:pt x="263" y="40"/>
                </a:cubicBezTo>
                <a:cubicBezTo>
                  <a:pt x="264" y="43"/>
                  <a:pt x="263" y="45"/>
                  <a:pt x="262" y="47"/>
                </a:cubicBezTo>
                <a:cubicBezTo>
                  <a:pt x="262" y="49"/>
                  <a:pt x="261" y="51"/>
                  <a:pt x="261" y="53"/>
                </a:cubicBezTo>
                <a:cubicBezTo>
                  <a:pt x="261" y="53"/>
                  <a:pt x="261" y="54"/>
                  <a:pt x="261" y="54"/>
                </a:cubicBezTo>
                <a:cubicBezTo>
                  <a:pt x="260" y="54"/>
                  <a:pt x="259" y="54"/>
                  <a:pt x="257" y="54"/>
                </a:cubicBezTo>
                <a:cubicBezTo>
                  <a:pt x="257" y="54"/>
                  <a:pt x="257" y="53"/>
                  <a:pt x="257" y="53"/>
                </a:cubicBezTo>
                <a:cubicBezTo>
                  <a:pt x="257" y="53"/>
                  <a:pt x="257" y="53"/>
                  <a:pt x="257" y="53"/>
                </a:cubicBezTo>
                <a:cubicBezTo>
                  <a:pt x="257" y="51"/>
                  <a:pt x="258" y="49"/>
                  <a:pt x="258" y="48"/>
                </a:cubicBezTo>
                <a:cubicBezTo>
                  <a:pt x="258" y="47"/>
                  <a:pt x="258" y="47"/>
                  <a:pt x="257" y="47"/>
                </a:cubicBezTo>
                <a:cubicBezTo>
                  <a:pt x="257" y="49"/>
                  <a:pt x="256" y="50"/>
                  <a:pt x="256" y="51"/>
                </a:cubicBezTo>
                <a:cubicBezTo>
                  <a:pt x="255" y="49"/>
                  <a:pt x="255" y="48"/>
                  <a:pt x="254" y="46"/>
                </a:cubicBezTo>
                <a:cubicBezTo>
                  <a:pt x="254" y="46"/>
                  <a:pt x="254" y="46"/>
                  <a:pt x="254" y="46"/>
                </a:cubicBezTo>
                <a:cubicBezTo>
                  <a:pt x="255" y="44"/>
                  <a:pt x="255" y="40"/>
                  <a:pt x="256" y="38"/>
                </a:cubicBezTo>
                <a:cubicBezTo>
                  <a:pt x="256" y="35"/>
                  <a:pt x="256" y="32"/>
                  <a:pt x="256" y="28"/>
                </a:cubicBezTo>
                <a:cubicBezTo>
                  <a:pt x="256" y="28"/>
                  <a:pt x="255" y="28"/>
                  <a:pt x="255" y="28"/>
                </a:cubicBezTo>
                <a:cubicBezTo>
                  <a:pt x="255" y="32"/>
                  <a:pt x="254" y="35"/>
                  <a:pt x="254" y="38"/>
                </a:cubicBezTo>
                <a:cubicBezTo>
                  <a:pt x="253" y="40"/>
                  <a:pt x="253" y="42"/>
                  <a:pt x="253" y="43"/>
                </a:cubicBezTo>
                <a:cubicBezTo>
                  <a:pt x="248" y="32"/>
                  <a:pt x="243" y="20"/>
                  <a:pt x="238" y="9"/>
                </a:cubicBezTo>
                <a:cubicBezTo>
                  <a:pt x="238" y="9"/>
                  <a:pt x="239" y="8"/>
                  <a:pt x="239" y="8"/>
                </a:cubicBezTo>
                <a:close/>
                <a:moveTo>
                  <a:pt x="235" y="9"/>
                </a:moveTo>
                <a:cubicBezTo>
                  <a:pt x="236" y="9"/>
                  <a:pt x="236" y="9"/>
                  <a:pt x="237" y="9"/>
                </a:cubicBezTo>
                <a:cubicBezTo>
                  <a:pt x="237" y="17"/>
                  <a:pt x="242" y="24"/>
                  <a:pt x="245" y="31"/>
                </a:cubicBezTo>
                <a:cubicBezTo>
                  <a:pt x="248" y="40"/>
                  <a:pt x="251" y="48"/>
                  <a:pt x="255" y="56"/>
                </a:cubicBezTo>
                <a:cubicBezTo>
                  <a:pt x="255" y="57"/>
                  <a:pt x="255" y="57"/>
                  <a:pt x="255" y="58"/>
                </a:cubicBezTo>
                <a:cubicBezTo>
                  <a:pt x="255" y="58"/>
                  <a:pt x="255" y="58"/>
                  <a:pt x="256" y="58"/>
                </a:cubicBezTo>
                <a:cubicBezTo>
                  <a:pt x="256" y="58"/>
                  <a:pt x="256" y="58"/>
                  <a:pt x="256" y="58"/>
                </a:cubicBezTo>
                <a:cubicBezTo>
                  <a:pt x="256" y="58"/>
                  <a:pt x="257" y="58"/>
                  <a:pt x="258" y="58"/>
                </a:cubicBezTo>
                <a:cubicBezTo>
                  <a:pt x="262" y="55"/>
                  <a:pt x="267" y="60"/>
                  <a:pt x="270" y="63"/>
                </a:cubicBezTo>
                <a:cubicBezTo>
                  <a:pt x="276" y="68"/>
                  <a:pt x="280" y="75"/>
                  <a:pt x="284" y="81"/>
                </a:cubicBezTo>
                <a:cubicBezTo>
                  <a:pt x="291" y="91"/>
                  <a:pt x="300" y="105"/>
                  <a:pt x="298" y="117"/>
                </a:cubicBezTo>
                <a:cubicBezTo>
                  <a:pt x="298" y="117"/>
                  <a:pt x="298" y="118"/>
                  <a:pt x="298" y="118"/>
                </a:cubicBezTo>
                <a:cubicBezTo>
                  <a:pt x="298" y="120"/>
                  <a:pt x="297" y="122"/>
                  <a:pt x="296" y="123"/>
                </a:cubicBezTo>
                <a:cubicBezTo>
                  <a:pt x="294" y="131"/>
                  <a:pt x="293" y="138"/>
                  <a:pt x="291" y="146"/>
                </a:cubicBezTo>
                <a:cubicBezTo>
                  <a:pt x="289" y="154"/>
                  <a:pt x="286" y="164"/>
                  <a:pt x="287" y="174"/>
                </a:cubicBezTo>
                <a:cubicBezTo>
                  <a:pt x="284" y="170"/>
                  <a:pt x="281" y="166"/>
                  <a:pt x="278" y="162"/>
                </a:cubicBezTo>
                <a:cubicBezTo>
                  <a:pt x="270" y="150"/>
                  <a:pt x="262" y="137"/>
                  <a:pt x="255" y="124"/>
                </a:cubicBezTo>
                <a:cubicBezTo>
                  <a:pt x="251" y="117"/>
                  <a:pt x="248" y="110"/>
                  <a:pt x="245" y="102"/>
                </a:cubicBezTo>
                <a:cubicBezTo>
                  <a:pt x="245" y="102"/>
                  <a:pt x="245" y="102"/>
                  <a:pt x="245" y="102"/>
                </a:cubicBezTo>
                <a:cubicBezTo>
                  <a:pt x="245" y="100"/>
                  <a:pt x="245" y="97"/>
                  <a:pt x="244" y="95"/>
                </a:cubicBezTo>
                <a:cubicBezTo>
                  <a:pt x="244" y="93"/>
                  <a:pt x="244" y="91"/>
                  <a:pt x="244" y="89"/>
                </a:cubicBezTo>
                <a:cubicBezTo>
                  <a:pt x="244" y="87"/>
                  <a:pt x="242" y="87"/>
                  <a:pt x="242" y="89"/>
                </a:cubicBezTo>
                <a:cubicBezTo>
                  <a:pt x="242" y="91"/>
                  <a:pt x="242" y="93"/>
                  <a:pt x="242" y="95"/>
                </a:cubicBezTo>
                <a:cubicBezTo>
                  <a:pt x="241" y="92"/>
                  <a:pt x="241" y="88"/>
                  <a:pt x="240" y="85"/>
                </a:cubicBezTo>
                <a:cubicBezTo>
                  <a:pt x="239" y="72"/>
                  <a:pt x="239" y="60"/>
                  <a:pt x="236" y="47"/>
                </a:cubicBezTo>
                <a:cubicBezTo>
                  <a:pt x="235" y="47"/>
                  <a:pt x="235" y="46"/>
                  <a:pt x="234" y="46"/>
                </a:cubicBezTo>
                <a:cubicBezTo>
                  <a:pt x="232" y="46"/>
                  <a:pt x="233" y="34"/>
                  <a:pt x="232" y="32"/>
                </a:cubicBezTo>
                <a:cubicBezTo>
                  <a:pt x="231" y="26"/>
                  <a:pt x="229" y="21"/>
                  <a:pt x="229" y="16"/>
                </a:cubicBezTo>
                <a:cubicBezTo>
                  <a:pt x="229" y="15"/>
                  <a:pt x="229" y="15"/>
                  <a:pt x="228" y="15"/>
                </a:cubicBezTo>
                <a:cubicBezTo>
                  <a:pt x="230" y="11"/>
                  <a:pt x="232" y="5"/>
                  <a:pt x="235" y="9"/>
                </a:cubicBezTo>
                <a:close/>
                <a:moveTo>
                  <a:pt x="269" y="165"/>
                </a:moveTo>
                <a:cubicBezTo>
                  <a:pt x="262" y="157"/>
                  <a:pt x="255" y="149"/>
                  <a:pt x="250" y="140"/>
                </a:cubicBezTo>
                <a:cubicBezTo>
                  <a:pt x="240" y="123"/>
                  <a:pt x="233" y="106"/>
                  <a:pt x="228" y="87"/>
                </a:cubicBezTo>
                <a:cubicBezTo>
                  <a:pt x="223" y="68"/>
                  <a:pt x="220" y="49"/>
                  <a:pt x="224" y="29"/>
                </a:cubicBezTo>
                <a:cubicBezTo>
                  <a:pt x="225" y="27"/>
                  <a:pt x="225" y="25"/>
                  <a:pt x="226" y="23"/>
                </a:cubicBezTo>
                <a:cubicBezTo>
                  <a:pt x="226" y="28"/>
                  <a:pt x="229" y="32"/>
                  <a:pt x="229" y="37"/>
                </a:cubicBezTo>
                <a:cubicBezTo>
                  <a:pt x="229" y="41"/>
                  <a:pt x="227" y="48"/>
                  <a:pt x="232" y="50"/>
                </a:cubicBezTo>
                <a:cubicBezTo>
                  <a:pt x="235" y="61"/>
                  <a:pt x="234" y="74"/>
                  <a:pt x="236" y="86"/>
                </a:cubicBezTo>
                <a:cubicBezTo>
                  <a:pt x="238" y="98"/>
                  <a:pt x="243" y="110"/>
                  <a:pt x="249" y="121"/>
                </a:cubicBezTo>
                <a:cubicBezTo>
                  <a:pt x="255" y="134"/>
                  <a:pt x="263" y="146"/>
                  <a:pt x="271" y="158"/>
                </a:cubicBezTo>
                <a:cubicBezTo>
                  <a:pt x="274" y="163"/>
                  <a:pt x="277" y="168"/>
                  <a:pt x="281" y="172"/>
                </a:cubicBezTo>
                <a:cubicBezTo>
                  <a:pt x="282" y="174"/>
                  <a:pt x="285" y="176"/>
                  <a:pt x="288" y="178"/>
                </a:cubicBezTo>
                <a:cubicBezTo>
                  <a:pt x="288" y="179"/>
                  <a:pt x="288" y="181"/>
                  <a:pt x="289" y="182"/>
                </a:cubicBezTo>
                <a:cubicBezTo>
                  <a:pt x="281" y="178"/>
                  <a:pt x="275" y="171"/>
                  <a:pt x="269" y="165"/>
                </a:cubicBezTo>
                <a:close/>
                <a:moveTo>
                  <a:pt x="275" y="184"/>
                </a:moveTo>
                <a:cubicBezTo>
                  <a:pt x="279" y="184"/>
                  <a:pt x="284" y="185"/>
                  <a:pt x="289" y="186"/>
                </a:cubicBezTo>
                <a:cubicBezTo>
                  <a:pt x="289" y="187"/>
                  <a:pt x="290" y="187"/>
                  <a:pt x="290" y="187"/>
                </a:cubicBezTo>
                <a:cubicBezTo>
                  <a:pt x="291" y="187"/>
                  <a:pt x="291" y="187"/>
                  <a:pt x="292" y="187"/>
                </a:cubicBezTo>
                <a:cubicBezTo>
                  <a:pt x="294" y="188"/>
                  <a:pt x="296" y="188"/>
                  <a:pt x="298" y="188"/>
                </a:cubicBezTo>
                <a:cubicBezTo>
                  <a:pt x="306" y="190"/>
                  <a:pt x="314" y="192"/>
                  <a:pt x="321" y="196"/>
                </a:cubicBezTo>
                <a:cubicBezTo>
                  <a:pt x="337" y="205"/>
                  <a:pt x="354" y="211"/>
                  <a:pt x="366" y="224"/>
                </a:cubicBezTo>
                <a:cubicBezTo>
                  <a:pt x="372" y="231"/>
                  <a:pt x="378" y="237"/>
                  <a:pt x="384" y="244"/>
                </a:cubicBezTo>
                <a:cubicBezTo>
                  <a:pt x="390" y="250"/>
                  <a:pt x="394" y="257"/>
                  <a:pt x="398" y="264"/>
                </a:cubicBezTo>
                <a:cubicBezTo>
                  <a:pt x="406" y="276"/>
                  <a:pt x="416" y="289"/>
                  <a:pt x="422" y="303"/>
                </a:cubicBezTo>
                <a:cubicBezTo>
                  <a:pt x="421" y="303"/>
                  <a:pt x="421" y="304"/>
                  <a:pt x="421" y="304"/>
                </a:cubicBezTo>
                <a:cubicBezTo>
                  <a:pt x="420" y="305"/>
                  <a:pt x="419" y="307"/>
                  <a:pt x="418" y="308"/>
                </a:cubicBezTo>
                <a:cubicBezTo>
                  <a:pt x="418" y="307"/>
                  <a:pt x="418" y="307"/>
                  <a:pt x="418" y="307"/>
                </a:cubicBezTo>
                <a:cubicBezTo>
                  <a:pt x="406" y="285"/>
                  <a:pt x="397" y="261"/>
                  <a:pt x="378" y="244"/>
                </a:cubicBezTo>
                <a:cubicBezTo>
                  <a:pt x="369" y="235"/>
                  <a:pt x="359" y="228"/>
                  <a:pt x="349" y="220"/>
                </a:cubicBezTo>
                <a:cubicBezTo>
                  <a:pt x="339" y="212"/>
                  <a:pt x="330" y="203"/>
                  <a:pt x="319" y="197"/>
                </a:cubicBezTo>
                <a:cubicBezTo>
                  <a:pt x="308" y="192"/>
                  <a:pt x="295" y="189"/>
                  <a:pt x="283" y="187"/>
                </a:cubicBezTo>
                <a:cubicBezTo>
                  <a:pt x="272" y="186"/>
                  <a:pt x="261" y="184"/>
                  <a:pt x="250" y="186"/>
                </a:cubicBezTo>
                <a:cubicBezTo>
                  <a:pt x="239" y="187"/>
                  <a:pt x="229" y="191"/>
                  <a:pt x="219" y="198"/>
                </a:cubicBezTo>
                <a:cubicBezTo>
                  <a:pt x="209" y="205"/>
                  <a:pt x="206" y="214"/>
                  <a:pt x="201" y="225"/>
                </a:cubicBezTo>
                <a:cubicBezTo>
                  <a:pt x="200" y="226"/>
                  <a:pt x="202" y="227"/>
                  <a:pt x="202" y="226"/>
                </a:cubicBezTo>
                <a:cubicBezTo>
                  <a:pt x="206" y="221"/>
                  <a:pt x="208" y="216"/>
                  <a:pt x="211" y="211"/>
                </a:cubicBezTo>
                <a:cubicBezTo>
                  <a:pt x="215" y="206"/>
                  <a:pt x="220" y="202"/>
                  <a:pt x="226" y="198"/>
                </a:cubicBezTo>
                <a:cubicBezTo>
                  <a:pt x="236" y="192"/>
                  <a:pt x="246" y="189"/>
                  <a:pt x="258" y="189"/>
                </a:cubicBezTo>
                <a:cubicBezTo>
                  <a:pt x="270" y="189"/>
                  <a:pt x="282" y="190"/>
                  <a:pt x="294" y="193"/>
                </a:cubicBezTo>
                <a:cubicBezTo>
                  <a:pt x="305" y="195"/>
                  <a:pt x="316" y="198"/>
                  <a:pt x="325" y="205"/>
                </a:cubicBezTo>
                <a:cubicBezTo>
                  <a:pt x="334" y="212"/>
                  <a:pt x="343" y="219"/>
                  <a:pt x="352" y="226"/>
                </a:cubicBezTo>
                <a:cubicBezTo>
                  <a:pt x="361" y="233"/>
                  <a:pt x="371" y="240"/>
                  <a:pt x="379" y="249"/>
                </a:cubicBezTo>
                <a:cubicBezTo>
                  <a:pt x="388" y="258"/>
                  <a:pt x="394" y="269"/>
                  <a:pt x="401" y="281"/>
                </a:cubicBezTo>
                <a:cubicBezTo>
                  <a:pt x="403" y="285"/>
                  <a:pt x="405" y="289"/>
                  <a:pt x="407" y="293"/>
                </a:cubicBezTo>
                <a:cubicBezTo>
                  <a:pt x="400" y="284"/>
                  <a:pt x="391" y="275"/>
                  <a:pt x="383" y="266"/>
                </a:cubicBezTo>
                <a:cubicBezTo>
                  <a:pt x="376" y="260"/>
                  <a:pt x="370" y="253"/>
                  <a:pt x="362" y="247"/>
                </a:cubicBezTo>
                <a:cubicBezTo>
                  <a:pt x="357" y="242"/>
                  <a:pt x="351" y="238"/>
                  <a:pt x="344" y="236"/>
                </a:cubicBezTo>
                <a:cubicBezTo>
                  <a:pt x="343" y="236"/>
                  <a:pt x="343" y="237"/>
                  <a:pt x="344" y="237"/>
                </a:cubicBezTo>
                <a:cubicBezTo>
                  <a:pt x="360" y="243"/>
                  <a:pt x="372" y="258"/>
                  <a:pt x="384" y="270"/>
                </a:cubicBezTo>
                <a:cubicBezTo>
                  <a:pt x="395" y="281"/>
                  <a:pt x="406" y="293"/>
                  <a:pt x="413" y="306"/>
                </a:cubicBezTo>
                <a:cubicBezTo>
                  <a:pt x="413" y="306"/>
                  <a:pt x="413" y="306"/>
                  <a:pt x="413" y="306"/>
                </a:cubicBezTo>
                <a:cubicBezTo>
                  <a:pt x="412" y="305"/>
                  <a:pt x="411" y="304"/>
                  <a:pt x="409" y="303"/>
                </a:cubicBezTo>
                <a:cubicBezTo>
                  <a:pt x="405" y="298"/>
                  <a:pt x="402" y="294"/>
                  <a:pt x="398" y="289"/>
                </a:cubicBezTo>
                <a:cubicBezTo>
                  <a:pt x="389" y="280"/>
                  <a:pt x="378" y="273"/>
                  <a:pt x="368" y="265"/>
                </a:cubicBezTo>
                <a:cubicBezTo>
                  <a:pt x="368" y="264"/>
                  <a:pt x="367" y="265"/>
                  <a:pt x="368" y="265"/>
                </a:cubicBezTo>
                <a:cubicBezTo>
                  <a:pt x="377" y="274"/>
                  <a:pt x="388" y="281"/>
                  <a:pt x="396" y="291"/>
                </a:cubicBezTo>
                <a:cubicBezTo>
                  <a:pt x="400" y="295"/>
                  <a:pt x="404" y="300"/>
                  <a:pt x="408" y="304"/>
                </a:cubicBezTo>
                <a:cubicBezTo>
                  <a:pt x="408" y="305"/>
                  <a:pt x="408" y="305"/>
                  <a:pt x="409" y="306"/>
                </a:cubicBezTo>
                <a:cubicBezTo>
                  <a:pt x="404" y="302"/>
                  <a:pt x="398" y="299"/>
                  <a:pt x="393" y="295"/>
                </a:cubicBezTo>
                <a:cubicBezTo>
                  <a:pt x="388" y="290"/>
                  <a:pt x="383" y="285"/>
                  <a:pt x="376" y="282"/>
                </a:cubicBezTo>
                <a:cubicBezTo>
                  <a:pt x="376" y="282"/>
                  <a:pt x="376" y="282"/>
                  <a:pt x="376" y="283"/>
                </a:cubicBezTo>
                <a:cubicBezTo>
                  <a:pt x="388" y="292"/>
                  <a:pt x="401" y="301"/>
                  <a:pt x="412" y="311"/>
                </a:cubicBezTo>
                <a:cubicBezTo>
                  <a:pt x="412" y="311"/>
                  <a:pt x="412" y="311"/>
                  <a:pt x="412" y="311"/>
                </a:cubicBezTo>
                <a:cubicBezTo>
                  <a:pt x="399" y="301"/>
                  <a:pt x="384" y="291"/>
                  <a:pt x="368" y="285"/>
                </a:cubicBezTo>
                <a:cubicBezTo>
                  <a:pt x="359" y="282"/>
                  <a:pt x="349" y="280"/>
                  <a:pt x="341" y="276"/>
                </a:cubicBezTo>
                <a:cubicBezTo>
                  <a:pt x="334" y="272"/>
                  <a:pt x="327" y="268"/>
                  <a:pt x="319" y="266"/>
                </a:cubicBezTo>
                <a:cubicBezTo>
                  <a:pt x="319" y="266"/>
                  <a:pt x="319" y="266"/>
                  <a:pt x="319" y="266"/>
                </a:cubicBezTo>
                <a:cubicBezTo>
                  <a:pt x="321" y="269"/>
                  <a:pt x="324" y="270"/>
                  <a:pt x="328" y="271"/>
                </a:cubicBezTo>
                <a:cubicBezTo>
                  <a:pt x="332" y="273"/>
                  <a:pt x="337" y="276"/>
                  <a:pt x="341" y="278"/>
                </a:cubicBezTo>
                <a:cubicBezTo>
                  <a:pt x="349" y="281"/>
                  <a:pt x="357" y="284"/>
                  <a:pt x="364" y="286"/>
                </a:cubicBezTo>
                <a:cubicBezTo>
                  <a:pt x="373" y="290"/>
                  <a:pt x="383" y="293"/>
                  <a:pt x="391" y="299"/>
                </a:cubicBezTo>
                <a:cubicBezTo>
                  <a:pt x="397" y="304"/>
                  <a:pt x="403" y="308"/>
                  <a:pt x="409" y="313"/>
                </a:cubicBezTo>
                <a:cubicBezTo>
                  <a:pt x="409" y="313"/>
                  <a:pt x="408" y="313"/>
                  <a:pt x="408" y="312"/>
                </a:cubicBezTo>
                <a:cubicBezTo>
                  <a:pt x="407" y="312"/>
                  <a:pt x="407" y="311"/>
                  <a:pt x="406" y="311"/>
                </a:cubicBezTo>
                <a:cubicBezTo>
                  <a:pt x="405" y="310"/>
                  <a:pt x="404" y="310"/>
                  <a:pt x="404" y="309"/>
                </a:cubicBezTo>
                <a:cubicBezTo>
                  <a:pt x="403" y="308"/>
                  <a:pt x="402" y="307"/>
                  <a:pt x="400" y="307"/>
                </a:cubicBezTo>
                <a:cubicBezTo>
                  <a:pt x="396" y="304"/>
                  <a:pt x="392" y="301"/>
                  <a:pt x="388" y="299"/>
                </a:cubicBezTo>
                <a:cubicBezTo>
                  <a:pt x="379" y="294"/>
                  <a:pt x="369" y="292"/>
                  <a:pt x="360" y="288"/>
                </a:cubicBezTo>
                <a:cubicBezTo>
                  <a:pt x="350" y="284"/>
                  <a:pt x="340" y="281"/>
                  <a:pt x="331" y="277"/>
                </a:cubicBezTo>
                <a:cubicBezTo>
                  <a:pt x="321" y="273"/>
                  <a:pt x="311" y="271"/>
                  <a:pt x="302" y="265"/>
                </a:cubicBezTo>
                <a:cubicBezTo>
                  <a:pt x="302" y="265"/>
                  <a:pt x="301" y="266"/>
                  <a:pt x="302" y="266"/>
                </a:cubicBezTo>
                <a:cubicBezTo>
                  <a:pt x="308" y="273"/>
                  <a:pt x="318" y="274"/>
                  <a:pt x="327" y="277"/>
                </a:cubicBezTo>
                <a:cubicBezTo>
                  <a:pt x="337" y="281"/>
                  <a:pt x="347" y="285"/>
                  <a:pt x="358" y="289"/>
                </a:cubicBezTo>
                <a:cubicBezTo>
                  <a:pt x="368" y="294"/>
                  <a:pt x="379" y="295"/>
                  <a:pt x="389" y="301"/>
                </a:cubicBezTo>
                <a:cubicBezTo>
                  <a:pt x="391" y="302"/>
                  <a:pt x="394" y="303"/>
                  <a:pt x="396" y="305"/>
                </a:cubicBezTo>
                <a:cubicBezTo>
                  <a:pt x="391" y="303"/>
                  <a:pt x="385" y="301"/>
                  <a:pt x="380" y="299"/>
                </a:cubicBezTo>
                <a:cubicBezTo>
                  <a:pt x="372" y="296"/>
                  <a:pt x="365" y="293"/>
                  <a:pt x="358" y="291"/>
                </a:cubicBezTo>
                <a:cubicBezTo>
                  <a:pt x="351" y="289"/>
                  <a:pt x="344" y="287"/>
                  <a:pt x="338" y="285"/>
                </a:cubicBezTo>
                <a:cubicBezTo>
                  <a:pt x="323" y="281"/>
                  <a:pt x="310" y="276"/>
                  <a:pt x="295" y="273"/>
                </a:cubicBezTo>
                <a:cubicBezTo>
                  <a:pt x="282" y="270"/>
                  <a:pt x="268" y="268"/>
                  <a:pt x="254" y="266"/>
                </a:cubicBezTo>
                <a:cubicBezTo>
                  <a:pt x="253" y="266"/>
                  <a:pt x="252" y="267"/>
                  <a:pt x="253" y="268"/>
                </a:cubicBezTo>
                <a:cubicBezTo>
                  <a:pt x="258" y="270"/>
                  <a:pt x="264" y="270"/>
                  <a:pt x="269" y="271"/>
                </a:cubicBezTo>
                <a:cubicBezTo>
                  <a:pt x="277" y="271"/>
                  <a:pt x="285" y="273"/>
                  <a:pt x="293" y="274"/>
                </a:cubicBezTo>
                <a:cubicBezTo>
                  <a:pt x="307" y="278"/>
                  <a:pt x="321" y="281"/>
                  <a:pt x="335" y="285"/>
                </a:cubicBezTo>
                <a:cubicBezTo>
                  <a:pt x="351" y="290"/>
                  <a:pt x="366" y="296"/>
                  <a:pt x="381" y="301"/>
                </a:cubicBezTo>
                <a:cubicBezTo>
                  <a:pt x="388" y="304"/>
                  <a:pt x="395" y="307"/>
                  <a:pt x="402" y="311"/>
                </a:cubicBezTo>
                <a:cubicBezTo>
                  <a:pt x="402" y="311"/>
                  <a:pt x="403" y="311"/>
                  <a:pt x="403" y="312"/>
                </a:cubicBezTo>
                <a:cubicBezTo>
                  <a:pt x="398" y="309"/>
                  <a:pt x="392" y="308"/>
                  <a:pt x="388" y="307"/>
                </a:cubicBezTo>
                <a:cubicBezTo>
                  <a:pt x="383" y="305"/>
                  <a:pt x="379" y="302"/>
                  <a:pt x="374" y="301"/>
                </a:cubicBezTo>
                <a:cubicBezTo>
                  <a:pt x="370" y="300"/>
                  <a:pt x="365" y="299"/>
                  <a:pt x="361" y="298"/>
                </a:cubicBezTo>
                <a:cubicBezTo>
                  <a:pt x="361" y="298"/>
                  <a:pt x="360" y="299"/>
                  <a:pt x="361" y="299"/>
                </a:cubicBezTo>
                <a:cubicBezTo>
                  <a:pt x="365" y="301"/>
                  <a:pt x="369" y="302"/>
                  <a:pt x="374" y="303"/>
                </a:cubicBezTo>
                <a:cubicBezTo>
                  <a:pt x="375" y="303"/>
                  <a:pt x="377" y="304"/>
                  <a:pt x="378" y="304"/>
                </a:cubicBezTo>
                <a:cubicBezTo>
                  <a:pt x="377" y="304"/>
                  <a:pt x="376" y="304"/>
                  <a:pt x="375" y="304"/>
                </a:cubicBezTo>
                <a:cubicBezTo>
                  <a:pt x="374" y="304"/>
                  <a:pt x="374" y="304"/>
                  <a:pt x="374" y="304"/>
                </a:cubicBezTo>
                <a:cubicBezTo>
                  <a:pt x="378" y="306"/>
                  <a:pt x="383" y="306"/>
                  <a:pt x="386" y="309"/>
                </a:cubicBezTo>
                <a:cubicBezTo>
                  <a:pt x="386" y="309"/>
                  <a:pt x="386" y="309"/>
                  <a:pt x="386" y="309"/>
                </a:cubicBezTo>
                <a:cubicBezTo>
                  <a:pt x="385" y="308"/>
                  <a:pt x="384" y="307"/>
                  <a:pt x="384" y="307"/>
                </a:cubicBezTo>
                <a:cubicBezTo>
                  <a:pt x="384" y="307"/>
                  <a:pt x="385" y="307"/>
                  <a:pt x="386" y="307"/>
                </a:cubicBezTo>
                <a:cubicBezTo>
                  <a:pt x="390" y="309"/>
                  <a:pt x="394" y="310"/>
                  <a:pt x="398" y="312"/>
                </a:cubicBezTo>
                <a:cubicBezTo>
                  <a:pt x="400" y="313"/>
                  <a:pt x="401" y="313"/>
                  <a:pt x="403" y="314"/>
                </a:cubicBezTo>
                <a:cubicBezTo>
                  <a:pt x="392" y="310"/>
                  <a:pt x="374" y="308"/>
                  <a:pt x="371" y="308"/>
                </a:cubicBezTo>
                <a:cubicBezTo>
                  <a:pt x="361" y="306"/>
                  <a:pt x="351" y="305"/>
                  <a:pt x="340" y="305"/>
                </a:cubicBezTo>
                <a:cubicBezTo>
                  <a:pt x="328" y="306"/>
                  <a:pt x="314" y="307"/>
                  <a:pt x="302" y="312"/>
                </a:cubicBezTo>
                <a:cubicBezTo>
                  <a:pt x="298" y="313"/>
                  <a:pt x="293" y="316"/>
                  <a:pt x="289" y="318"/>
                </a:cubicBezTo>
                <a:cubicBezTo>
                  <a:pt x="282" y="322"/>
                  <a:pt x="275" y="326"/>
                  <a:pt x="269" y="331"/>
                </a:cubicBezTo>
                <a:cubicBezTo>
                  <a:pt x="265" y="334"/>
                  <a:pt x="262" y="338"/>
                  <a:pt x="259" y="341"/>
                </a:cubicBezTo>
                <a:cubicBezTo>
                  <a:pt x="258" y="341"/>
                  <a:pt x="258" y="341"/>
                  <a:pt x="258" y="341"/>
                </a:cubicBezTo>
                <a:cubicBezTo>
                  <a:pt x="252" y="344"/>
                  <a:pt x="242" y="339"/>
                  <a:pt x="237" y="337"/>
                </a:cubicBezTo>
                <a:cubicBezTo>
                  <a:pt x="229" y="333"/>
                  <a:pt x="221" y="329"/>
                  <a:pt x="215" y="323"/>
                </a:cubicBezTo>
                <a:cubicBezTo>
                  <a:pt x="205" y="313"/>
                  <a:pt x="194" y="302"/>
                  <a:pt x="188" y="289"/>
                </a:cubicBezTo>
                <a:cubicBezTo>
                  <a:pt x="185" y="283"/>
                  <a:pt x="181" y="273"/>
                  <a:pt x="183" y="266"/>
                </a:cubicBezTo>
                <a:cubicBezTo>
                  <a:pt x="185" y="263"/>
                  <a:pt x="187" y="260"/>
                  <a:pt x="189" y="257"/>
                </a:cubicBezTo>
                <a:cubicBezTo>
                  <a:pt x="189" y="256"/>
                  <a:pt x="190" y="255"/>
                  <a:pt x="190" y="254"/>
                </a:cubicBezTo>
                <a:cubicBezTo>
                  <a:pt x="196" y="251"/>
                  <a:pt x="199" y="241"/>
                  <a:pt x="199" y="234"/>
                </a:cubicBezTo>
                <a:cubicBezTo>
                  <a:pt x="200" y="228"/>
                  <a:pt x="197" y="220"/>
                  <a:pt x="198" y="213"/>
                </a:cubicBezTo>
                <a:cubicBezTo>
                  <a:pt x="198" y="213"/>
                  <a:pt x="198" y="212"/>
                  <a:pt x="199" y="212"/>
                </a:cubicBezTo>
                <a:cubicBezTo>
                  <a:pt x="205" y="199"/>
                  <a:pt x="219" y="191"/>
                  <a:pt x="232" y="187"/>
                </a:cubicBezTo>
                <a:cubicBezTo>
                  <a:pt x="246" y="182"/>
                  <a:pt x="260" y="182"/>
                  <a:pt x="275" y="184"/>
                </a:cubicBezTo>
                <a:close/>
                <a:moveTo>
                  <a:pt x="155" y="52"/>
                </a:moveTo>
                <a:cubicBezTo>
                  <a:pt x="155" y="52"/>
                  <a:pt x="155" y="52"/>
                  <a:pt x="155" y="52"/>
                </a:cubicBezTo>
                <a:cubicBezTo>
                  <a:pt x="155" y="52"/>
                  <a:pt x="155" y="52"/>
                  <a:pt x="156" y="53"/>
                </a:cubicBezTo>
                <a:cubicBezTo>
                  <a:pt x="157" y="53"/>
                  <a:pt x="157" y="53"/>
                  <a:pt x="158" y="52"/>
                </a:cubicBezTo>
                <a:cubicBezTo>
                  <a:pt x="165" y="43"/>
                  <a:pt x="176" y="58"/>
                  <a:pt x="181" y="63"/>
                </a:cubicBezTo>
                <a:cubicBezTo>
                  <a:pt x="182" y="64"/>
                  <a:pt x="184" y="66"/>
                  <a:pt x="186" y="67"/>
                </a:cubicBezTo>
                <a:cubicBezTo>
                  <a:pt x="188" y="70"/>
                  <a:pt x="190" y="74"/>
                  <a:pt x="192" y="78"/>
                </a:cubicBezTo>
                <a:cubicBezTo>
                  <a:pt x="193" y="79"/>
                  <a:pt x="194" y="80"/>
                  <a:pt x="195" y="80"/>
                </a:cubicBezTo>
                <a:cubicBezTo>
                  <a:pt x="195" y="80"/>
                  <a:pt x="194" y="81"/>
                  <a:pt x="194" y="81"/>
                </a:cubicBezTo>
                <a:cubicBezTo>
                  <a:pt x="194" y="84"/>
                  <a:pt x="196" y="88"/>
                  <a:pt x="196" y="91"/>
                </a:cubicBezTo>
                <a:cubicBezTo>
                  <a:pt x="197" y="95"/>
                  <a:pt x="197" y="99"/>
                  <a:pt x="200" y="101"/>
                </a:cubicBezTo>
                <a:cubicBezTo>
                  <a:pt x="200" y="101"/>
                  <a:pt x="200" y="101"/>
                  <a:pt x="200" y="101"/>
                </a:cubicBezTo>
                <a:cubicBezTo>
                  <a:pt x="201" y="98"/>
                  <a:pt x="199" y="94"/>
                  <a:pt x="199" y="91"/>
                </a:cubicBezTo>
                <a:cubicBezTo>
                  <a:pt x="198" y="88"/>
                  <a:pt x="198" y="85"/>
                  <a:pt x="197" y="83"/>
                </a:cubicBezTo>
                <a:cubicBezTo>
                  <a:pt x="201" y="87"/>
                  <a:pt x="205" y="91"/>
                  <a:pt x="208" y="96"/>
                </a:cubicBezTo>
                <a:cubicBezTo>
                  <a:pt x="212" y="103"/>
                  <a:pt x="215" y="110"/>
                  <a:pt x="220" y="117"/>
                </a:cubicBezTo>
                <a:cubicBezTo>
                  <a:pt x="225" y="123"/>
                  <a:pt x="230" y="130"/>
                  <a:pt x="233" y="139"/>
                </a:cubicBezTo>
                <a:cubicBezTo>
                  <a:pt x="235" y="146"/>
                  <a:pt x="237" y="153"/>
                  <a:pt x="238" y="161"/>
                </a:cubicBezTo>
                <a:cubicBezTo>
                  <a:pt x="239" y="165"/>
                  <a:pt x="239" y="168"/>
                  <a:pt x="240" y="172"/>
                </a:cubicBezTo>
                <a:cubicBezTo>
                  <a:pt x="240" y="175"/>
                  <a:pt x="240" y="178"/>
                  <a:pt x="241" y="180"/>
                </a:cubicBezTo>
                <a:cubicBezTo>
                  <a:pt x="238" y="181"/>
                  <a:pt x="235" y="182"/>
                  <a:pt x="232" y="183"/>
                </a:cubicBezTo>
                <a:cubicBezTo>
                  <a:pt x="233" y="179"/>
                  <a:pt x="234" y="174"/>
                  <a:pt x="235" y="170"/>
                </a:cubicBezTo>
                <a:cubicBezTo>
                  <a:pt x="236" y="168"/>
                  <a:pt x="238" y="163"/>
                  <a:pt x="237" y="161"/>
                </a:cubicBezTo>
                <a:cubicBezTo>
                  <a:pt x="236" y="160"/>
                  <a:pt x="234" y="166"/>
                  <a:pt x="234" y="166"/>
                </a:cubicBezTo>
                <a:cubicBezTo>
                  <a:pt x="232" y="172"/>
                  <a:pt x="231" y="177"/>
                  <a:pt x="229" y="183"/>
                </a:cubicBezTo>
                <a:cubicBezTo>
                  <a:pt x="229" y="183"/>
                  <a:pt x="229" y="183"/>
                  <a:pt x="229" y="184"/>
                </a:cubicBezTo>
                <a:cubicBezTo>
                  <a:pt x="228" y="184"/>
                  <a:pt x="227" y="185"/>
                  <a:pt x="225" y="185"/>
                </a:cubicBezTo>
                <a:cubicBezTo>
                  <a:pt x="225" y="185"/>
                  <a:pt x="225" y="185"/>
                  <a:pt x="225" y="185"/>
                </a:cubicBezTo>
                <a:cubicBezTo>
                  <a:pt x="226" y="184"/>
                  <a:pt x="227" y="183"/>
                  <a:pt x="227" y="181"/>
                </a:cubicBezTo>
                <a:cubicBezTo>
                  <a:pt x="232" y="170"/>
                  <a:pt x="234" y="159"/>
                  <a:pt x="234" y="147"/>
                </a:cubicBezTo>
                <a:cubicBezTo>
                  <a:pt x="234" y="147"/>
                  <a:pt x="233" y="146"/>
                  <a:pt x="233" y="147"/>
                </a:cubicBezTo>
                <a:cubicBezTo>
                  <a:pt x="232" y="155"/>
                  <a:pt x="232" y="164"/>
                  <a:pt x="229" y="171"/>
                </a:cubicBezTo>
                <a:cubicBezTo>
                  <a:pt x="227" y="174"/>
                  <a:pt x="225" y="178"/>
                  <a:pt x="224" y="182"/>
                </a:cubicBezTo>
                <a:cubicBezTo>
                  <a:pt x="224" y="183"/>
                  <a:pt x="223" y="183"/>
                  <a:pt x="223" y="184"/>
                </a:cubicBezTo>
                <a:cubicBezTo>
                  <a:pt x="222" y="185"/>
                  <a:pt x="223" y="186"/>
                  <a:pt x="224" y="186"/>
                </a:cubicBezTo>
                <a:cubicBezTo>
                  <a:pt x="223" y="187"/>
                  <a:pt x="221" y="187"/>
                  <a:pt x="220" y="188"/>
                </a:cubicBezTo>
                <a:cubicBezTo>
                  <a:pt x="224" y="182"/>
                  <a:pt x="226" y="175"/>
                  <a:pt x="228" y="168"/>
                </a:cubicBezTo>
                <a:cubicBezTo>
                  <a:pt x="229" y="159"/>
                  <a:pt x="233" y="149"/>
                  <a:pt x="232" y="140"/>
                </a:cubicBezTo>
                <a:cubicBezTo>
                  <a:pt x="232" y="139"/>
                  <a:pt x="231" y="139"/>
                  <a:pt x="231" y="139"/>
                </a:cubicBezTo>
                <a:cubicBezTo>
                  <a:pt x="230" y="145"/>
                  <a:pt x="229" y="150"/>
                  <a:pt x="228" y="155"/>
                </a:cubicBezTo>
                <a:cubicBezTo>
                  <a:pt x="227" y="159"/>
                  <a:pt x="226" y="163"/>
                  <a:pt x="225" y="167"/>
                </a:cubicBezTo>
                <a:cubicBezTo>
                  <a:pt x="224" y="173"/>
                  <a:pt x="222" y="179"/>
                  <a:pt x="219" y="184"/>
                </a:cubicBezTo>
                <a:cubicBezTo>
                  <a:pt x="220" y="181"/>
                  <a:pt x="220" y="178"/>
                  <a:pt x="221" y="175"/>
                </a:cubicBezTo>
                <a:cubicBezTo>
                  <a:pt x="222" y="169"/>
                  <a:pt x="224" y="164"/>
                  <a:pt x="226" y="159"/>
                </a:cubicBezTo>
                <a:cubicBezTo>
                  <a:pt x="227" y="151"/>
                  <a:pt x="232" y="140"/>
                  <a:pt x="228" y="133"/>
                </a:cubicBezTo>
                <a:cubicBezTo>
                  <a:pt x="228" y="133"/>
                  <a:pt x="228" y="133"/>
                  <a:pt x="228" y="133"/>
                </a:cubicBezTo>
                <a:cubicBezTo>
                  <a:pt x="227" y="138"/>
                  <a:pt x="227" y="142"/>
                  <a:pt x="226" y="147"/>
                </a:cubicBezTo>
                <a:cubicBezTo>
                  <a:pt x="226" y="152"/>
                  <a:pt x="224" y="157"/>
                  <a:pt x="222" y="162"/>
                </a:cubicBezTo>
                <a:cubicBezTo>
                  <a:pt x="221" y="166"/>
                  <a:pt x="219" y="171"/>
                  <a:pt x="218" y="176"/>
                </a:cubicBezTo>
                <a:cubicBezTo>
                  <a:pt x="217" y="180"/>
                  <a:pt x="217" y="185"/>
                  <a:pt x="216" y="190"/>
                </a:cubicBezTo>
                <a:cubicBezTo>
                  <a:pt x="216" y="190"/>
                  <a:pt x="216" y="190"/>
                  <a:pt x="216" y="190"/>
                </a:cubicBezTo>
                <a:cubicBezTo>
                  <a:pt x="216" y="190"/>
                  <a:pt x="216" y="190"/>
                  <a:pt x="215" y="190"/>
                </a:cubicBezTo>
                <a:cubicBezTo>
                  <a:pt x="216" y="185"/>
                  <a:pt x="217" y="180"/>
                  <a:pt x="217" y="175"/>
                </a:cubicBezTo>
                <a:cubicBezTo>
                  <a:pt x="219" y="171"/>
                  <a:pt x="218" y="166"/>
                  <a:pt x="220" y="161"/>
                </a:cubicBezTo>
                <a:cubicBezTo>
                  <a:pt x="221" y="156"/>
                  <a:pt x="223" y="151"/>
                  <a:pt x="225" y="146"/>
                </a:cubicBezTo>
                <a:cubicBezTo>
                  <a:pt x="225" y="144"/>
                  <a:pt x="224" y="144"/>
                  <a:pt x="223" y="145"/>
                </a:cubicBezTo>
                <a:cubicBezTo>
                  <a:pt x="222" y="150"/>
                  <a:pt x="220" y="154"/>
                  <a:pt x="218" y="158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20" y="153"/>
                  <a:pt x="222" y="148"/>
                  <a:pt x="222" y="143"/>
                </a:cubicBezTo>
                <a:cubicBezTo>
                  <a:pt x="222" y="138"/>
                  <a:pt x="222" y="133"/>
                  <a:pt x="223" y="128"/>
                </a:cubicBezTo>
                <a:cubicBezTo>
                  <a:pt x="223" y="127"/>
                  <a:pt x="223" y="127"/>
                  <a:pt x="223" y="127"/>
                </a:cubicBezTo>
                <a:cubicBezTo>
                  <a:pt x="220" y="130"/>
                  <a:pt x="220" y="135"/>
                  <a:pt x="220" y="139"/>
                </a:cubicBezTo>
                <a:cubicBezTo>
                  <a:pt x="220" y="146"/>
                  <a:pt x="218" y="152"/>
                  <a:pt x="217" y="159"/>
                </a:cubicBezTo>
                <a:cubicBezTo>
                  <a:pt x="216" y="159"/>
                  <a:pt x="216" y="159"/>
                  <a:pt x="216" y="159"/>
                </a:cubicBezTo>
                <a:cubicBezTo>
                  <a:pt x="216" y="160"/>
                  <a:pt x="216" y="160"/>
                  <a:pt x="216" y="160"/>
                </a:cubicBezTo>
                <a:cubicBezTo>
                  <a:pt x="216" y="159"/>
                  <a:pt x="216" y="157"/>
                  <a:pt x="215" y="156"/>
                </a:cubicBezTo>
                <a:cubicBezTo>
                  <a:pt x="216" y="156"/>
                  <a:pt x="216" y="156"/>
                  <a:pt x="216" y="156"/>
                </a:cubicBezTo>
                <a:cubicBezTo>
                  <a:pt x="216" y="147"/>
                  <a:pt x="215" y="139"/>
                  <a:pt x="218" y="131"/>
                </a:cubicBezTo>
                <a:cubicBezTo>
                  <a:pt x="218" y="130"/>
                  <a:pt x="217" y="130"/>
                  <a:pt x="217" y="130"/>
                </a:cubicBezTo>
                <a:cubicBezTo>
                  <a:pt x="216" y="135"/>
                  <a:pt x="214" y="139"/>
                  <a:pt x="214" y="144"/>
                </a:cubicBezTo>
                <a:cubicBezTo>
                  <a:pt x="213" y="145"/>
                  <a:pt x="213" y="147"/>
                  <a:pt x="213" y="148"/>
                </a:cubicBezTo>
                <a:cubicBezTo>
                  <a:pt x="212" y="145"/>
                  <a:pt x="210" y="142"/>
                  <a:pt x="209" y="138"/>
                </a:cubicBezTo>
                <a:cubicBezTo>
                  <a:pt x="207" y="135"/>
                  <a:pt x="205" y="129"/>
                  <a:pt x="202" y="127"/>
                </a:cubicBezTo>
                <a:cubicBezTo>
                  <a:pt x="198" y="126"/>
                  <a:pt x="195" y="125"/>
                  <a:pt x="195" y="120"/>
                </a:cubicBezTo>
                <a:cubicBezTo>
                  <a:pt x="195" y="118"/>
                  <a:pt x="195" y="115"/>
                  <a:pt x="195" y="113"/>
                </a:cubicBezTo>
                <a:cubicBezTo>
                  <a:pt x="194" y="109"/>
                  <a:pt x="193" y="104"/>
                  <a:pt x="191" y="100"/>
                </a:cubicBezTo>
                <a:cubicBezTo>
                  <a:pt x="192" y="98"/>
                  <a:pt x="192" y="97"/>
                  <a:pt x="192" y="95"/>
                </a:cubicBezTo>
                <a:cubicBezTo>
                  <a:pt x="192" y="92"/>
                  <a:pt x="192" y="89"/>
                  <a:pt x="192" y="86"/>
                </a:cubicBezTo>
                <a:cubicBezTo>
                  <a:pt x="192" y="81"/>
                  <a:pt x="190" y="76"/>
                  <a:pt x="187" y="72"/>
                </a:cubicBezTo>
                <a:cubicBezTo>
                  <a:pt x="187" y="71"/>
                  <a:pt x="185" y="72"/>
                  <a:pt x="186" y="73"/>
                </a:cubicBezTo>
                <a:cubicBezTo>
                  <a:pt x="188" y="78"/>
                  <a:pt x="189" y="83"/>
                  <a:pt x="190" y="88"/>
                </a:cubicBezTo>
                <a:cubicBezTo>
                  <a:pt x="191" y="91"/>
                  <a:pt x="191" y="93"/>
                  <a:pt x="190" y="96"/>
                </a:cubicBezTo>
                <a:cubicBezTo>
                  <a:pt x="190" y="97"/>
                  <a:pt x="190" y="97"/>
                  <a:pt x="190" y="97"/>
                </a:cubicBezTo>
                <a:cubicBezTo>
                  <a:pt x="189" y="93"/>
                  <a:pt x="187" y="90"/>
                  <a:pt x="185" y="87"/>
                </a:cubicBezTo>
                <a:cubicBezTo>
                  <a:pt x="184" y="87"/>
                  <a:pt x="184" y="86"/>
                  <a:pt x="183" y="85"/>
                </a:cubicBezTo>
                <a:cubicBezTo>
                  <a:pt x="183" y="85"/>
                  <a:pt x="183" y="84"/>
                  <a:pt x="183" y="84"/>
                </a:cubicBezTo>
                <a:cubicBezTo>
                  <a:pt x="182" y="83"/>
                  <a:pt x="181" y="82"/>
                  <a:pt x="180" y="81"/>
                </a:cubicBezTo>
                <a:cubicBezTo>
                  <a:pt x="178" y="79"/>
                  <a:pt x="175" y="77"/>
                  <a:pt x="174" y="73"/>
                </a:cubicBezTo>
                <a:cubicBezTo>
                  <a:pt x="173" y="70"/>
                  <a:pt x="172" y="67"/>
                  <a:pt x="169" y="64"/>
                </a:cubicBezTo>
                <a:cubicBezTo>
                  <a:pt x="166" y="61"/>
                  <a:pt x="162" y="63"/>
                  <a:pt x="160" y="66"/>
                </a:cubicBezTo>
                <a:cubicBezTo>
                  <a:pt x="157" y="73"/>
                  <a:pt x="158" y="80"/>
                  <a:pt x="157" y="87"/>
                </a:cubicBezTo>
                <a:cubicBezTo>
                  <a:pt x="157" y="90"/>
                  <a:pt x="157" y="93"/>
                  <a:pt x="156" y="96"/>
                </a:cubicBezTo>
                <a:cubicBezTo>
                  <a:pt x="156" y="91"/>
                  <a:pt x="155" y="85"/>
                  <a:pt x="154" y="80"/>
                </a:cubicBezTo>
                <a:cubicBezTo>
                  <a:pt x="154" y="73"/>
                  <a:pt x="153" y="67"/>
                  <a:pt x="153" y="60"/>
                </a:cubicBezTo>
                <a:cubicBezTo>
                  <a:pt x="153" y="58"/>
                  <a:pt x="152" y="55"/>
                  <a:pt x="152" y="53"/>
                </a:cubicBezTo>
                <a:cubicBezTo>
                  <a:pt x="152" y="50"/>
                  <a:pt x="154" y="51"/>
                  <a:pt x="155" y="52"/>
                </a:cubicBezTo>
                <a:close/>
                <a:moveTo>
                  <a:pt x="82" y="200"/>
                </a:moveTo>
                <a:cubicBezTo>
                  <a:pt x="80" y="194"/>
                  <a:pt x="79" y="189"/>
                  <a:pt x="75" y="185"/>
                </a:cubicBezTo>
                <a:cubicBezTo>
                  <a:pt x="77" y="179"/>
                  <a:pt x="75" y="171"/>
                  <a:pt x="75" y="165"/>
                </a:cubicBezTo>
                <a:cubicBezTo>
                  <a:pt x="75" y="157"/>
                  <a:pt x="75" y="149"/>
                  <a:pt x="77" y="141"/>
                </a:cubicBezTo>
                <a:cubicBezTo>
                  <a:pt x="80" y="126"/>
                  <a:pt x="87" y="113"/>
                  <a:pt x="93" y="99"/>
                </a:cubicBezTo>
                <a:cubicBezTo>
                  <a:pt x="97" y="91"/>
                  <a:pt x="100" y="83"/>
                  <a:pt x="104" y="77"/>
                </a:cubicBezTo>
                <a:cubicBezTo>
                  <a:pt x="108" y="70"/>
                  <a:pt x="114" y="64"/>
                  <a:pt x="118" y="58"/>
                </a:cubicBezTo>
                <a:cubicBezTo>
                  <a:pt x="123" y="52"/>
                  <a:pt x="128" y="45"/>
                  <a:pt x="137" y="45"/>
                </a:cubicBezTo>
                <a:cubicBezTo>
                  <a:pt x="142" y="45"/>
                  <a:pt x="148" y="45"/>
                  <a:pt x="151" y="48"/>
                </a:cubicBezTo>
                <a:cubicBezTo>
                  <a:pt x="151" y="48"/>
                  <a:pt x="150" y="49"/>
                  <a:pt x="150" y="50"/>
                </a:cubicBezTo>
                <a:cubicBezTo>
                  <a:pt x="148" y="56"/>
                  <a:pt x="149" y="64"/>
                  <a:pt x="150" y="70"/>
                </a:cubicBezTo>
                <a:cubicBezTo>
                  <a:pt x="151" y="84"/>
                  <a:pt x="153" y="97"/>
                  <a:pt x="156" y="111"/>
                </a:cubicBezTo>
                <a:cubicBezTo>
                  <a:pt x="156" y="111"/>
                  <a:pt x="156" y="112"/>
                  <a:pt x="155" y="113"/>
                </a:cubicBezTo>
                <a:cubicBezTo>
                  <a:pt x="152" y="121"/>
                  <a:pt x="156" y="132"/>
                  <a:pt x="157" y="140"/>
                </a:cubicBezTo>
                <a:cubicBezTo>
                  <a:pt x="158" y="153"/>
                  <a:pt x="160" y="167"/>
                  <a:pt x="163" y="180"/>
                </a:cubicBezTo>
                <a:cubicBezTo>
                  <a:pt x="163" y="182"/>
                  <a:pt x="164" y="185"/>
                  <a:pt x="165" y="187"/>
                </a:cubicBezTo>
                <a:cubicBezTo>
                  <a:pt x="163" y="184"/>
                  <a:pt x="162" y="180"/>
                  <a:pt x="159" y="177"/>
                </a:cubicBezTo>
                <a:cubicBezTo>
                  <a:pt x="155" y="173"/>
                  <a:pt x="150" y="171"/>
                  <a:pt x="146" y="169"/>
                </a:cubicBezTo>
                <a:cubicBezTo>
                  <a:pt x="145" y="169"/>
                  <a:pt x="144" y="169"/>
                  <a:pt x="143" y="168"/>
                </a:cubicBezTo>
                <a:cubicBezTo>
                  <a:pt x="144" y="162"/>
                  <a:pt x="141" y="156"/>
                  <a:pt x="141" y="150"/>
                </a:cubicBezTo>
                <a:cubicBezTo>
                  <a:pt x="140" y="142"/>
                  <a:pt x="139" y="135"/>
                  <a:pt x="139" y="128"/>
                </a:cubicBezTo>
                <a:cubicBezTo>
                  <a:pt x="140" y="127"/>
                  <a:pt x="138" y="127"/>
                  <a:pt x="138" y="128"/>
                </a:cubicBezTo>
                <a:cubicBezTo>
                  <a:pt x="137" y="135"/>
                  <a:pt x="138" y="143"/>
                  <a:pt x="139" y="150"/>
                </a:cubicBezTo>
                <a:cubicBezTo>
                  <a:pt x="139" y="156"/>
                  <a:pt x="139" y="163"/>
                  <a:pt x="141" y="168"/>
                </a:cubicBezTo>
                <a:cubicBezTo>
                  <a:pt x="140" y="168"/>
                  <a:pt x="138" y="168"/>
                  <a:pt x="137" y="169"/>
                </a:cubicBezTo>
                <a:cubicBezTo>
                  <a:pt x="137" y="169"/>
                  <a:pt x="137" y="169"/>
                  <a:pt x="136" y="169"/>
                </a:cubicBezTo>
                <a:cubicBezTo>
                  <a:pt x="134" y="171"/>
                  <a:pt x="133" y="174"/>
                  <a:pt x="132" y="177"/>
                </a:cubicBezTo>
                <a:cubicBezTo>
                  <a:pt x="132" y="176"/>
                  <a:pt x="131" y="174"/>
                  <a:pt x="131" y="173"/>
                </a:cubicBezTo>
                <a:cubicBezTo>
                  <a:pt x="130" y="170"/>
                  <a:pt x="130" y="166"/>
                  <a:pt x="130" y="163"/>
                </a:cubicBezTo>
                <a:cubicBezTo>
                  <a:pt x="130" y="156"/>
                  <a:pt x="129" y="149"/>
                  <a:pt x="129" y="142"/>
                </a:cubicBezTo>
                <a:cubicBezTo>
                  <a:pt x="128" y="137"/>
                  <a:pt x="128" y="132"/>
                  <a:pt x="128" y="127"/>
                </a:cubicBezTo>
                <a:cubicBezTo>
                  <a:pt x="128" y="124"/>
                  <a:pt x="128" y="120"/>
                  <a:pt x="128" y="117"/>
                </a:cubicBezTo>
                <a:cubicBezTo>
                  <a:pt x="127" y="113"/>
                  <a:pt x="127" y="108"/>
                  <a:pt x="126" y="104"/>
                </a:cubicBezTo>
                <a:cubicBezTo>
                  <a:pt x="126" y="100"/>
                  <a:pt x="126" y="96"/>
                  <a:pt x="126" y="93"/>
                </a:cubicBezTo>
                <a:cubicBezTo>
                  <a:pt x="126" y="92"/>
                  <a:pt x="126" y="92"/>
                  <a:pt x="126" y="93"/>
                </a:cubicBezTo>
                <a:cubicBezTo>
                  <a:pt x="123" y="101"/>
                  <a:pt x="128" y="109"/>
                  <a:pt x="126" y="117"/>
                </a:cubicBezTo>
                <a:cubicBezTo>
                  <a:pt x="124" y="122"/>
                  <a:pt x="126" y="127"/>
                  <a:pt x="126" y="131"/>
                </a:cubicBezTo>
                <a:cubicBezTo>
                  <a:pt x="126" y="136"/>
                  <a:pt x="126" y="141"/>
                  <a:pt x="127" y="146"/>
                </a:cubicBezTo>
                <a:cubicBezTo>
                  <a:pt x="127" y="153"/>
                  <a:pt x="127" y="161"/>
                  <a:pt x="128" y="169"/>
                </a:cubicBezTo>
                <a:cubicBezTo>
                  <a:pt x="128" y="172"/>
                  <a:pt x="128" y="178"/>
                  <a:pt x="132" y="180"/>
                </a:cubicBezTo>
                <a:cubicBezTo>
                  <a:pt x="130" y="187"/>
                  <a:pt x="131" y="194"/>
                  <a:pt x="132" y="200"/>
                </a:cubicBezTo>
                <a:cubicBezTo>
                  <a:pt x="132" y="202"/>
                  <a:pt x="133" y="204"/>
                  <a:pt x="133" y="206"/>
                </a:cubicBezTo>
                <a:cubicBezTo>
                  <a:pt x="127" y="204"/>
                  <a:pt x="119" y="207"/>
                  <a:pt x="114" y="210"/>
                </a:cubicBezTo>
                <a:cubicBezTo>
                  <a:pt x="107" y="213"/>
                  <a:pt x="101" y="216"/>
                  <a:pt x="95" y="219"/>
                </a:cubicBezTo>
                <a:cubicBezTo>
                  <a:pt x="91" y="220"/>
                  <a:pt x="88" y="220"/>
                  <a:pt x="85" y="220"/>
                </a:cubicBezTo>
                <a:cubicBezTo>
                  <a:pt x="84" y="213"/>
                  <a:pt x="84" y="206"/>
                  <a:pt x="82" y="200"/>
                </a:cubicBezTo>
                <a:close/>
                <a:moveTo>
                  <a:pt x="85" y="234"/>
                </a:moveTo>
                <a:cubicBezTo>
                  <a:pt x="85" y="231"/>
                  <a:pt x="85" y="227"/>
                  <a:pt x="85" y="224"/>
                </a:cubicBezTo>
                <a:cubicBezTo>
                  <a:pt x="92" y="225"/>
                  <a:pt x="99" y="221"/>
                  <a:pt x="106" y="218"/>
                </a:cubicBezTo>
                <a:cubicBezTo>
                  <a:pt x="114" y="214"/>
                  <a:pt x="125" y="206"/>
                  <a:pt x="134" y="210"/>
                </a:cubicBezTo>
                <a:cubicBezTo>
                  <a:pt x="134" y="211"/>
                  <a:pt x="135" y="212"/>
                  <a:pt x="135" y="213"/>
                </a:cubicBezTo>
                <a:cubicBezTo>
                  <a:pt x="130" y="211"/>
                  <a:pt x="121" y="217"/>
                  <a:pt x="118" y="220"/>
                </a:cubicBezTo>
                <a:cubicBezTo>
                  <a:pt x="113" y="224"/>
                  <a:pt x="108" y="230"/>
                  <a:pt x="103" y="235"/>
                </a:cubicBezTo>
                <a:cubicBezTo>
                  <a:pt x="99" y="238"/>
                  <a:pt x="96" y="241"/>
                  <a:pt x="91" y="242"/>
                </a:cubicBezTo>
                <a:cubicBezTo>
                  <a:pt x="89" y="243"/>
                  <a:pt x="88" y="243"/>
                  <a:pt x="87" y="244"/>
                </a:cubicBezTo>
                <a:cubicBezTo>
                  <a:pt x="86" y="241"/>
                  <a:pt x="86" y="237"/>
                  <a:pt x="85" y="234"/>
                </a:cubicBezTo>
                <a:close/>
                <a:moveTo>
                  <a:pt x="106" y="312"/>
                </a:moveTo>
                <a:cubicBezTo>
                  <a:pt x="106" y="311"/>
                  <a:pt x="105" y="311"/>
                  <a:pt x="105" y="310"/>
                </a:cubicBezTo>
                <a:cubicBezTo>
                  <a:pt x="105" y="310"/>
                  <a:pt x="106" y="310"/>
                  <a:pt x="106" y="310"/>
                </a:cubicBezTo>
                <a:cubicBezTo>
                  <a:pt x="107" y="311"/>
                  <a:pt x="108" y="311"/>
                  <a:pt x="108" y="311"/>
                </a:cubicBezTo>
                <a:cubicBezTo>
                  <a:pt x="108" y="311"/>
                  <a:pt x="108" y="311"/>
                  <a:pt x="107" y="311"/>
                </a:cubicBezTo>
                <a:cubicBezTo>
                  <a:pt x="107" y="311"/>
                  <a:pt x="106" y="311"/>
                  <a:pt x="106" y="312"/>
                </a:cubicBezTo>
                <a:close/>
                <a:moveTo>
                  <a:pt x="117" y="337"/>
                </a:moveTo>
                <a:cubicBezTo>
                  <a:pt x="114" y="329"/>
                  <a:pt x="111" y="322"/>
                  <a:pt x="107" y="315"/>
                </a:cubicBezTo>
                <a:cubicBezTo>
                  <a:pt x="107" y="315"/>
                  <a:pt x="107" y="315"/>
                  <a:pt x="107" y="315"/>
                </a:cubicBezTo>
                <a:cubicBezTo>
                  <a:pt x="111" y="315"/>
                  <a:pt x="114" y="317"/>
                  <a:pt x="118" y="318"/>
                </a:cubicBezTo>
                <a:cubicBezTo>
                  <a:pt x="121" y="319"/>
                  <a:pt x="124" y="320"/>
                  <a:pt x="128" y="321"/>
                </a:cubicBezTo>
                <a:cubicBezTo>
                  <a:pt x="136" y="324"/>
                  <a:pt x="144" y="328"/>
                  <a:pt x="152" y="333"/>
                </a:cubicBezTo>
                <a:cubicBezTo>
                  <a:pt x="160" y="337"/>
                  <a:pt x="168" y="343"/>
                  <a:pt x="175" y="349"/>
                </a:cubicBezTo>
                <a:cubicBezTo>
                  <a:pt x="181" y="355"/>
                  <a:pt x="187" y="362"/>
                  <a:pt x="194" y="367"/>
                </a:cubicBezTo>
                <a:cubicBezTo>
                  <a:pt x="194" y="367"/>
                  <a:pt x="195" y="367"/>
                  <a:pt x="195" y="367"/>
                </a:cubicBezTo>
                <a:cubicBezTo>
                  <a:pt x="189" y="359"/>
                  <a:pt x="182" y="353"/>
                  <a:pt x="174" y="347"/>
                </a:cubicBezTo>
                <a:cubicBezTo>
                  <a:pt x="172" y="344"/>
                  <a:pt x="169" y="342"/>
                  <a:pt x="167" y="340"/>
                </a:cubicBezTo>
                <a:cubicBezTo>
                  <a:pt x="171" y="343"/>
                  <a:pt x="176" y="347"/>
                  <a:pt x="181" y="350"/>
                </a:cubicBezTo>
                <a:cubicBezTo>
                  <a:pt x="181" y="350"/>
                  <a:pt x="181" y="349"/>
                  <a:pt x="181" y="349"/>
                </a:cubicBezTo>
                <a:cubicBezTo>
                  <a:pt x="176" y="343"/>
                  <a:pt x="169" y="339"/>
                  <a:pt x="162" y="335"/>
                </a:cubicBezTo>
                <a:cubicBezTo>
                  <a:pt x="155" y="331"/>
                  <a:pt x="148" y="326"/>
                  <a:pt x="140" y="322"/>
                </a:cubicBezTo>
                <a:cubicBezTo>
                  <a:pt x="132" y="318"/>
                  <a:pt x="123" y="317"/>
                  <a:pt x="115" y="312"/>
                </a:cubicBezTo>
                <a:cubicBezTo>
                  <a:pt x="113" y="311"/>
                  <a:pt x="106" y="306"/>
                  <a:pt x="104" y="307"/>
                </a:cubicBezTo>
                <a:cubicBezTo>
                  <a:pt x="103" y="305"/>
                  <a:pt x="102" y="303"/>
                  <a:pt x="101" y="301"/>
                </a:cubicBezTo>
                <a:cubicBezTo>
                  <a:pt x="107" y="303"/>
                  <a:pt x="114" y="306"/>
                  <a:pt x="120" y="309"/>
                </a:cubicBezTo>
                <a:cubicBezTo>
                  <a:pt x="128" y="312"/>
                  <a:pt x="136" y="315"/>
                  <a:pt x="144" y="320"/>
                </a:cubicBezTo>
                <a:cubicBezTo>
                  <a:pt x="146" y="321"/>
                  <a:pt x="147" y="318"/>
                  <a:pt x="146" y="317"/>
                </a:cubicBezTo>
                <a:cubicBezTo>
                  <a:pt x="138" y="313"/>
                  <a:pt x="131" y="310"/>
                  <a:pt x="123" y="307"/>
                </a:cubicBezTo>
                <a:cubicBezTo>
                  <a:pt x="115" y="304"/>
                  <a:pt x="107" y="300"/>
                  <a:pt x="99" y="297"/>
                </a:cubicBezTo>
                <a:cubicBezTo>
                  <a:pt x="96" y="290"/>
                  <a:pt x="93" y="283"/>
                  <a:pt x="92" y="276"/>
                </a:cubicBezTo>
                <a:cubicBezTo>
                  <a:pt x="90" y="266"/>
                  <a:pt x="88" y="257"/>
                  <a:pt x="87" y="247"/>
                </a:cubicBezTo>
                <a:cubicBezTo>
                  <a:pt x="91" y="246"/>
                  <a:pt x="98" y="244"/>
                  <a:pt x="101" y="241"/>
                </a:cubicBezTo>
                <a:cubicBezTo>
                  <a:pt x="106" y="237"/>
                  <a:pt x="111" y="231"/>
                  <a:pt x="115" y="226"/>
                </a:cubicBezTo>
                <a:cubicBezTo>
                  <a:pt x="118" y="223"/>
                  <a:pt x="122" y="219"/>
                  <a:pt x="126" y="217"/>
                </a:cubicBezTo>
                <a:cubicBezTo>
                  <a:pt x="130" y="215"/>
                  <a:pt x="133" y="216"/>
                  <a:pt x="136" y="217"/>
                </a:cubicBezTo>
                <a:cubicBezTo>
                  <a:pt x="138" y="222"/>
                  <a:pt x="139" y="227"/>
                  <a:pt x="141" y="232"/>
                </a:cubicBezTo>
                <a:cubicBezTo>
                  <a:pt x="147" y="245"/>
                  <a:pt x="152" y="258"/>
                  <a:pt x="157" y="272"/>
                </a:cubicBezTo>
                <a:cubicBezTo>
                  <a:pt x="162" y="283"/>
                  <a:pt x="169" y="294"/>
                  <a:pt x="172" y="306"/>
                </a:cubicBezTo>
                <a:cubicBezTo>
                  <a:pt x="172" y="306"/>
                  <a:pt x="172" y="306"/>
                  <a:pt x="173" y="306"/>
                </a:cubicBezTo>
                <a:cubicBezTo>
                  <a:pt x="175" y="316"/>
                  <a:pt x="178" y="326"/>
                  <a:pt x="184" y="335"/>
                </a:cubicBezTo>
                <a:cubicBezTo>
                  <a:pt x="185" y="337"/>
                  <a:pt x="188" y="344"/>
                  <a:pt x="191" y="346"/>
                </a:cubicBezTo>
                <a:cubicBezTo>
                  <a:pt x="191" y="346"/>
                  <a:pt x="191" y="346"/>
                  <a:pt x="191" y="346"/>
                </a:cubicBezTo>
                <a:cubicBezTo>
                  <a:pt x="193" y="352"/>
                  <a:pt x="195" y="357"/>
                  <a:pt x="198" y="362"/>
                </a:cubicBezTo>
                <a:cubicBezTo>
                  <a:pt x="203" y="367"/>
                  <a:pt x="204" y="373"/>
                  <a:pt x="205" y="380"/>
                </a:cubicBezTo>
                <a:cubicBezTo>
                  <a:pt x="205" y="380"/>
                  <a:pt x="205" y="380"/>
                  <a:pt x="205" y="380"/>
                </a:cubicBezTo>
                <a:cubicBezTo>
                  <a:pt x="205" y="380"/>
                  <a:pt x="205" y="379"/>
                  <a:pt x="204" y="379"/>
                </a:cubicBezTo>
                <a:cubicBezTo>
                  <a:pt x="204" y="379"/>
                  <a:pt x="204" y="379"/>
                  <a:pt x="204" y="379"/>
                </a:cubicBezTo>
                <a:cubicBezTo>
                  <a:pt x="205" y="381"/>
                  <a:pt x="205" y="380"/>
                  <a:pt x="203" y="379"/>
                </a:cubicBezTo>
                <a:cubicBezTo>
                  <a:pt x="203" y="378"/>
                  <a:pt x="202" y="377"/>
                  <a:pt x="201" y="377"/>
                </a:cubicBezTo>
                <a:cubicBezTo>
                  <a:pt x="200" y="375"/>
                  <a:pt x="198" y="373"/>
                  <a:pt x="197" y="371"/>
                </a:cubicBezTo>
                <a:cubicBezTo>
                  <a:pt x="194" y="368"/>
                  <a:pt x="191" y="367"/>
                  <a:pt x="187" y="366"/>
                </a:cubicBezTo>
                <a:cubicBezTo>
                  <a:pt x="187" y="365"/>
                  <a:pt x="187" y="366"/>
                  <a:pt x="187" y="366"/>
                </a:cubicBezTo>
                <a:cubicBezTo>
                  <a:pt x="191" y="368"/>
                  <a:pt x="194" y="371"/>
                  <a:pt x="197" y="374"/>
                </a:cubicBezTo>
                <a:cubicBezTo>
                  <a:pt x="200" y="377"/>
                  <a:pt x="202" y="380"/>
                  <a:pt x="205" y="382"/>
                </a:cubicBezTo>
                <a:cubicBezTo>
                  <a:pt x="205" y="382"/>
                  <a:pt x="205" y="382"/>
                  <a:pt x="205" y="381"/>
                </a:cubicBezTo>
                <a:cubicBezTo>
                  <a:pt x="206" y="385"/>
                  <a:pt x="207" y="388"/>
                  <a:pt x="207" y="392"/>
                </a:cubicBezTo>
                <a:cubicBezTo>
                  <a:pt x="195" y="375"/>
                  <a:pt x="179" y="363"/>
                  <a:pt x="162" y="352"/>
                </a:cubicBezTo>
                <a:cubicBezTo>
                  <a:pt x="154" y="348"/>
                  <a:pt x="145" y="343"/>
                  <a:pt x="136" y="340"/>
                </a:cubicBezTo>
                <a:cubicBezTo>
                  <a:pt x="132" y="339"/>
                  <a:pt x="128" y="337"/>
                  <a:pt x="123" y="337"/>
                </a:cubicBezTo>
                <a:cubicBezTo>
                  <a:pt x="121" y="337"/>
                  <a:pt x="119" y="336"/>
                  <a:pt x="117" y="337"/>
                </a:cubicBezTo>
                <a:close/>
                <a:moveTo>
                  <a:pt x="124" y="341"/>
                </a:moveTo>
                <a:cubicBezTo>
                  <a:pt x="129" y="342"/>
                  <a:pt x="133" y="343"/>
                  <a:pt x="137" y="344"/>
                </a:cubicBezTo>
                <a:cubicBezTo>
                  <a:pt x="146" y="348"/>
                  <a:pt x="154" y="352"/>
                  <a:pt x="161" y="356"/>
                </a:cubicBezTo>
                <a:cubicBezTo>
                  <a:pt x="170" y="361"/>
                  <a:pt x="179" y="366"/>
                  <a:pt x="186" y="373"/>
                </a:cubicBezTo>
                <a:cubicBezTo>
                  <a:pt x="194" y="380"/>
                  <a:pt x="200" y="388"/>
                  <a:pt x="207" y="395"/>
                </a:cubicBezTo>
                <a:cubicBezTo>
                  <a:pt x="207" y="397"/>
                  <a:pt x="208" y="399"/>
                  <a:pt x="208" y="400"/>
                </a:cubicBezTo>
                <a:cubicBezTo>
                  <a:pt x="209" y="405"/>
                  <a:pt x="210" y="410"/>
                  <a:pt x="210" y="416"/>
                </a:cubicBezTo>
                <a:cubicBezTo>
                  <a:pt x="208" y="416"/>
                  <a:pt x="207" y="418"/>
                  <a:pt x="206" y="421"/>
                </a:cubicBezTo>
                <a:cubicBezTo>
                  <a:pt x="201" y="434"/>
                  <a:pt x="207" y="451"/>
                  <a:pt x="211" y="463"/>
                </a:cubicBezTo>
                <a:cubicBezTo>
                  <a:pt x="213" y="469"/>
                  <a:pt x="215" y="474"/>
                  <a:pt x="217" y="480"/>
                </a:cubicBezTo>
                <a:cubicBezTo>
                  <a:pt x="218" y="485"/>
                  <a:pt x="219" y="489"/>
                  <a:pt x="221" y="493"/>
                </a:cubicBezTo>
                <a:cubicBezTo>
                  <a:pt x="225" y="502"/>
                  <a:pt x="232" y="510"/>
                  <a:pt x="236" y="519"/>
                </a:cubicBezTo>
                <a:cubicBezTo>
                  <a:pt x="241" y="528"/>
                  <a:pt x="243" y="538"/>
                  <a:pt x="248" y="547"/>
                </a:cubicBezTo>
                <a:cubicBezTo>
                  <a:pt x="249" y="549"/>
                  <a:pt x="251" y="551"/>
                  <a:pt x="252" y="553"/>
                </a:cubicBezTo>
                <a:cubicBezTo>
                  <a:pt x="251" y="552"/>
                  <a:pt x="251" y="552"/>
                  <a:pt x="250" y="551"/>
                </a:cubicBezTo>
                <a:cubicBezTo>
                  <a:pt x="244" y="545"/>
                  <a:pt x="239" y="541"/>
                  <a:pt x="233" y="535"/>
                </a:cubicBezTo>
                <a:cubicBezTo>
                  <a:pt x="223" y="525"/>
                  <a:pt x="213" y="515"/>
                  <a:pt x="206" y="502"/>
                </a:cubicBezTo>
                <a:cubicBezTo>
                  <a:pt x="200" y="489"/>
                  <a:pt x="196" y="476"/>
                  <a:pt x="192" y="462"/>
                </a:cubicBezTo>
                <a:cubicBezTo>
                  <a:pt x="189" y="450"/>
                  <a:pt x="186" y="438"/>
                  <a:pt x="178" y="429"/>
                </a:cubicBezTo>
                <a:cubicBezTo>
                  <a:pt x="178" y="428"/>
                  <a:pt x="178" y="428"/>
                  <a:pt x="178" y="428"/>
                </a:cubicBezTo>
                <a:cubicBezTo>
                  <a:pt x="177" y="425"/>
                  <a:pt x="177" y="421"/>
                  <a:pt x="176" y="417"/>
                </a:cubicBezTo>
                <a:cubicBezTo>
                  <a:pt x="174" y="413"/>
                  <a:pt x="172" y="409"/>
                  <a:pt x="170" y="405"/>
                </a:cubicBezTo>
                <a:cubicBezTo>
                  <a:pt x="164" y="397"/>
                  <a:pt x="157" y="389"/>
                  <a:pt x="151" y="381"/>
                </a:cubicBezTo>
                <a:cubicBezTo>
                  <a:pt x="148" y="377"/>
                  <a:pt x="145" y="372"/>
                  <a:pt x="142" y="368"/>
                </a:cubicBezTo>
                <a:cubicBezTo>
                  <a:pt x="139" y="363"/>
                  <a:pt x="137" y="359"/>
                  <a:pt x="134" y="355"/>
                </a:cubicBezTo>
                <a:cubicBezTo>
                  <a:pt x="129" y="350"/>
                  <a:pt x="124" y="346"/>
                  <a:pt x="119" y="341"/>
                </a:cubicBezTo>
                <a:cubicBezTo>
                  <a:pt x="121" y="341"/>
                  <a:pt x="123" y="341"/>
                  <a:pt x="124" y="341"/>
                </a:cubicBezTo>
                <a:close/>
                <a:moveTo>
                  <a:pt x="103" y="382"/>
                </a:moveTo>
                <a:cubicBezTo>
                  <a:pt x="103" y="382"/>
                  <a:pt x="104" y="383"/>
                  <a:pt x="105" y="383"/>
                </a:cubicBezTo>
                <a:cubicBezTo>
                  <a:pt x="105" y="383"/>
                  <a:pt x="106" y="384"/>
                  <a:pt x="107" y="384"/>
                </a:cubicBezTo>
                <a:cubicBezTo>
                  <a:pt x="108" y="385"/>
                  <a:pt x="109" y="385"/>
                  <a:pt x="110" y="385"/>
                </a:cubicBezTo>
                <a:cubicBezTo>
                  <a:pt x="112" y="386"/>
                  <a:pt x="116" y="386"/>
                  <a:pt x="117" y="384"/>
                </a:cubicBezTo>
                <a:cubicBezTo>
                  <a:pt x="118" y="377"/>
                  <a:pt x="110" y="372"/>
                  <a:pt x="109" y="366"/>
                </a:cubicBezTo>
                <a:cubicBezTo>
                  <a:pt x="115" y="372"/>
                  <a:pt x="118" y="380"/>
                  <a:pt x="125" y="384"/>
                </a:cubicBezTo>
                <a:cubicBezTo>
                  <a:pt x="127" y="385"/>
                  <a:pt x="128" y="384"/>
                  <a:pt x="128" y="382"/>
                </a:cubicBezTo>
                <a:cubicBezTo>
                  <a:pt x="127" y="379"/>
                  <a:pt x="126" y="377"/>
                  <a:pt x="130" y="377"/>
                </a:cubicBezTo>
                <a:cubicBezTo>
                  <a:pt x="130" y="377"/>
                  <a:pt x="132" y="377"/>
                  <a:pt x="132" y="376"/>
                </a:cubicBezTo>
                <a:cubicBezTo>
                  <a:pt x="134" y="373"/>
                  <a:pt x="133" y="370"/>
                  <a:pt x="132" y="367"/>
                </a:cubicBezTo>
                <a:cubicBezTo>
                  <a:pt x="130" y="363"/>
                  <a:pt x="128" y="357"/>
                  <a:pt x="125" y="353"/>
                </a:cubicBezTo>
                <a:cubicBezTo>
                  <a:pt x="125" y="352"/>
                  <a:pt x="123" y="350"/>
                  <a:pt x="121" y="348"/>
                </a:cubicBezTo>
                <a:cubicBezTo>
                  <a:pt x="125" y="351"/>
                  <a:pt x="128" y="354"/>
                  <a:pt x="131" y="358"/>
                </a:cubicBezTo>
                <a:cubicBezTo>
                  <a:pt x="138" y="366"/>
                  <a:pt x="143" y="376"/>
                  <a:pt x="149" y="385"/>
                </a:cubicBezTo>
                <a:cubicBezTo>
                  <a:pt x="155" y="393"/>
                  <a:pt x="162" y="400"/>
                  <a:pt x="168" y="408"/>
                </a:cubicBezTo>
                <a:cubicBezTo>
                  <a:pt x="171" y="413"/>
                  <a:pt x="172" y="417"/>
                  <a:pt x="174" y="422"/>
                </a:cubicBezTo>
                <a:cubicBezTo>
                  <a:pt x="174" y="425"/>
                  <a:pt x="175" y="427"/>
                  <a:pt x="176" y="429"/>
                </a:cubicBezTo>
                <a:cubicBezTo>
                  <a:pt x="176" y="429"/>
                  <a:pt x="176" y="429"/>
                  <a:pt x="176" y="429"/>
                </a:cubicBezTo>
                <a:cubicBezTo>
                  <a:pt x="172" y="435"/>
                  <a:pt x="176" y="442"/>
                  <a:pt x="176" y="448"/>
                </a:cubicBezTo>
                <a:cubicBezTo>
                  <a:pt x="175" y="448"/>
                  <a:pt x="174" y="447"/>
                  <a:pt x="173" y="446"/>
                </a:cubicBezTo>
                <a:cubicBezTo>
                  <a:pt x="172" y="446"/>
                  <a:pt x="171" y="446"/>
                  <a:pt x="171" y="447"/>
                </a:cubicBezTo>
                <a:cubicBezTo>
                  <a:pt x="170" y="449"/>
                  <a:pt x="170" y="451"/>
                  <a:pt x="170" y="452"/>
                </a:cubicBezTo>
                <a:cubicBezTo>
                  <a:pt x="169" y="455"/>
                  <a:pt x="168" y="456"/>
                  <a:pt x="165" y="455"/>
                </a:cubicBezTo>
                <a:cubicBezTo>
                  <a:pt x="163" y="453"/>
                  <a:pt x="160" y="451"/>
                  <a:pt x="157" y="451"/>
                </a:cubicBezTo>
                <a:cubicBezTo>
                  <a:pt x="157" y="451"/>
                  <a:pt x="157" y="451"/>
                  <a:pt x="156" y="451"/>
                </a:cubicBezTo>
                <a:cubicBezTo>
                  <a:pt x="158" y="445"/>
                  <a:pt x="156" y="438"/>
                  <a:pt x="154" y="433"/>
                </a:cubicBezTo>
                <a:cubicBezTo>
                  <a:pt x="152" y="427"/>
                  <a:pt x="148" y="420"/>
                  <a:pt x="144" y="415"/>
                </a:cubicBezTo>
                <a:cubicBezTo>
                  <a:pt x="139" y="408"/>
                  <a:pt x="131" y="403"/>
                  <a:pt x="123" y="400"/>
                </a:cubicBezTo>
                <a:cubicBezTo>
                  <a:pt x="119" y="399"/>
                  <a:pt x="116" y="398"/>
                  <a:pt x="113" y="396"/>
                </a:cubicBezTo>
                <a:cubicBezTo>
                  <a:pt x="111" y="394"/>
                  <a:pt x="110" y="392"/>
                  <a:pt x="109" y="391"/>
                </a:cubicBezTo>
                <a:cubicBezTo>
                  <a:pt x="107" y="388"/>
                  <a:pt x="104" y="386"/>
                  <a:pt x="101" y="384"/>
                </a:cubicBezTo>
                <a:cubicBezTo>
                  <a:pt x="101" y="384"/>
                  <a:pt x="101" y="384"/>
                  <a:pt x="101" y="384"/>
                </a:cubicBezTo>
                <a:cubicBezTo>
                  <a:pt x="100" y="382"/>
                  <a:pt x="101" y="381"/>
                  <a:pt x="103" y="382"/>
                </a:cubicBezTo>
                <a:close/>
                <a:moveTo>
                  <a:pt x="153" y="452"/>
                </a:moveTo>
                <a:cubicBezTo>
                  <a:pt x="152" y="453"/>
                  <a:pt x="152" y="453"/>
                  <a:pt x="151" y="454"/>
                </a:cubicBezTo>
                <a:cubicBezTo>
                  <a:pt x="150" y="449"/>
                  <a:pt x="148" y="445"/>
                  <a:pt x="146" y="441"/>
                </a:cubicBezTo>
                <a:cubicBezTo>
                  <a:pt x="144" y="436"/>
                  <a:pt x="142" y="432"/>
                  <a:pt x="140" y="428"/>
                </a:cubicBezTo>
                <a:cubicBezTo>
                  <a:pt x="138" y="424"/>
                  <a:pt x="136" y="419"/>
                  <a:pt x="134" y="415"/>
                </a:cubicBezTo>
                <a:cubicBezTo>
                  <a:pt x="134" y="413"/>
                  <a:pt x="133" y="411"/>
                  <a:pt x="132" y="409"/>
                </a:cubicBezTo>
                <a:cubicBezTo>
                  <a:pt x="135" y="411"/>
                  <a:pt x="138" y="413"/>
                  <a:pt x="140" y="416"/>
                </a:cubicBezTo>
                <a:cubicBezTo>
                  <a:pt x="148" y="425"/>
                  <a:pt x="156" y="439"/>
                  <a:pt x="153" y="452"/>
                </a:cubicBezTo>
                <a:close/>
                <a:moveTo>
                  <a:pt x="101" y="389"/>
                </a:moveTo>
                <a:cubicBezTo>
                  <a:pt x="101" y="389"/>
                  <a:pt x="101" y="389"/>
                  <a:pt x="101" y="389"/>
                </a:cubicBezTo>
                <a:cubicBezTo>
                  <a:pt x="106" y="393"/>
                  <a:pt x="110" y="400"/>
                  <a:pt x="116" y="402"/>
                </a:cubicBezTo>
                <a:cubicBezTo>
                  <a:pt x="118" y="409"/>
                  <a:pt x="119" y="414"/>
                  <a:pt x="116" y="421"/>
                </a:cubicBezTo>
                <a:cubicBezTo>
                  <a:pt x="115" y="424"/>
                  <a:pt x="114" y="427"/>
                  <a:pt x="112" y="429"/>
                </a:cubicBezTo>
                <a:cubicBezTo>
                  <a:pt x="112" y="430"/>
                  <a:pt x="111" y="430"/>
                  <a:pt x="111" y="430"/>
                </a:cubicBezTo>
                <a:cubicBezTo>
                  <a:pt x="110" y="425"/>
                  <a:pt x="103" y="419"/>
                  <a:pt x="101" y="414"/>
                </a:cubicBezTo>
                <a:cubicBezTo>
                  <a:pt x="94" y="405"/>
                  <a:pt x="96" y="393"/>
                  <a:pt x="92" y="383"/>
                </a:cubicBezTo>
                <a:cubicBezTo>
                  <a:pt x="95" y="385"/>
                  <a:pt x="98" y="387"/>
                  <a:pt x="101" y="389"/>
                </a:cubicBezTo>
                <a:close/>
                <a:moveTo>
                  <a:pt x="108" y="433"/>
                </a:moveTo>
                <a:cubicBezTo>
                  <a:pt x="108" y="433"/>
                  <a:pt x="108" y="433"/>
                  <a:pt x="108" y="434"/>
                </a:cubicBezTo>
                <a:cubicBezTo>
                  <a:pt x="107" y="433"/>
                  <a:pt x="107" y="433"/>
                  <a:pt x="107" y="433"/>
                </a:cubicBezTo>
                <a:cubicBezTo>
                  <a:pt x="102" y="428"/>
                  <a:pt x="96" y="426"/>
                  <a:pt x="92" y="421"/>
                </a:cubicBezTo>
                <a:cubicBezTo>
                  <a:pt x="82" y="411"/>
                  <a:pt x="73" y="401"/>
                  <a:pt x="67" y="388"/>
                </a:cubicBezTo>
                <a:cubicBezTo>
                  <a:pt x="63" y="379"/>
                  <a:pt x="58" y="370"/>
                  <a:pt x="53" y="362"/>
                </a:cubicBezTo>
                <a:cubicBezTo>
                  <a:pt x="54" y="362"/>
                  <a:pt x="54" y="362"/>
                  <a:pt x="55" y="363"/>
                </a:cubicBezTo>
                <a:cubicBezTo>
                  <a:pt x="59" y="364"/>
                  <a:pt x="63" y="365"/>
                  <a:pt x="66" y="367"/>
                </a:cubicBezTo>
                <a:cubicBezTo>
                  <a:pt x="69" y="368"/>
                  <a:pt x="72" y="370"/>
                  <a:pt x="75" y="372"/>
                </a:cubicBezTo>
                <a:cubicBezTo>
                  <a:pt x="80" y="375"/>
                  <a:pt x="84" y="377"/>
                  <a:pt x="88" y="380"/>
                </a:cubicBezTo>
                <a:cubicBezTo>
                  <a:pt x="87" y="381"/>
                  <a:pt x="87" y="381"/>
                  <a:pt x="88" y="382"/>
                </a:cubicBezTo>
                <a:cubicBezTo>
                  <a:pt x="92" y="391"/>
                  <a:pt x="90" y="402"/>
                  <a:pt x="95" y="411"/>
                </a:cubicBezTo>
                <a:cubicBezTo>
                  <a:pt x="97" y="415"/>
                  <a:pt x="100" y="418"/>
                  <a:pt x="102" y="421"/>
                </a:cubicBezTo>
                <a:cubicBezTo>
                  <a:pt x="103" y="422"/>
                  <a:pt x="104" y="424"/>
                  <a:pt x="105" y="425"/>
                </a:cubicBezTo>
                <a:cubicBezTo>
                  <a:pt x="105" y="425"/>
                  <a:pt x="105" y="425"/>
                  <a:pt x="105" y="425"/>
                </a:cubicBezTo>
                <a:cubicBezTo>
                  <a:pt x="105" y="426"/>
                  <a:pt x="106" y="427"/>
                  <a:pt x="106" y="428"/>
                </a:cubicBezTo>
                <a:cubicBezTo>
                  <a:pt x="106" y="429"/>
                  <a:pt x="106" y="430"/>
                  <a:pt x="107" y="431"/>
                </a:cubicBezTo>
                <a:cubicBezTo>
                  <a:pt x="107" y="431"/>
                  <a:pt x="107" y="431"/>
                  <a:pt x="107" y="431"/>
                </a:cubicBezTo>
                <a:cubicBezTo>
                  <a:pt x="108" y="430"/>
                  <a:pt x="108" y="429"/>
                  <a:pt x="107" y="428"/>
                </a:cubicBezTo>
                <a:cubicBezTo>
                  <a:pt x="108" y="430"/>
                  <a:pt x="109" y="432"/>
                  <a:pt x="108" y="433"/>
                </a:cubicBezTo>
                <a:close/>
                <a:moveTo>
                  <a:pt x="132" y="482"/>
                </a:moveTo>
                <a:cubicBezTo>
                  <a:pt x="131" y="477"/>
                  <a:pt x="129" y="472"/>
                  <a:pt x="127" y="468"/>
                </a:cubicBezTo>
                <a:cubicBezTo>
                  <a:pt x="125" y="462"/>
                  <a:pt x="123" y="456"/>
                  <a:pt x="120" y="450"/>
                </a:cubicBezTo>
                <a:cubicBezTo>
                  <a:pt x="117" y="446"/>
                  <a:pt x="114" y="440"/>
                  <a:pt x="110" y="436"/>
                </a:cubicBezTo>
                <a:cubicBezTo>
                  <a:pt x="115" y="434"/>
                  <a:pt x="118" y="425"/>
                  <a:pt x="120" y="421"/>
                </a:cubicBezTo>
                <a:cubicBezTo>
                  <a:pt x="122" y="414"/>
                  <a:pt x="121" y="408"/>
                  <a:pt x="118" y="403"/>
                </a:cubicBezTo>
                <a:cubicBezTo>
                  <a:pt x="122" y="404"/>
                  <a:pt x="125" y="405"/>
                  <a:pt x="128" y="407"/>
                </a:cubicBezTo>
                <a:cubicBezTo>
                  <a:pt x="128" y="407"/>
                  <a:pt x="128" y="407"/>
                  <a:pt x="128" y="407"/>
                </a:cubicBezTo>
                <a:cubicBezTo>
                  <a:pt x="128" y="410"/>
                  <a:pt x="130" y="414"/>
                  <a:pt x="131" y="416"/>
                </a:cubicBezTo>
                <a:cubicBezTo>
                  <a:pt x="133" y="421"/>
                  <a:pt x="136" y="426"/>
                  <a:pt x="138" y="430"/>
                </a:cubicBezTo>
                <a:cubicBezTo>
                  <a:pt x="140" y="436"/>
                  <a:pt x="143" y="441"/>
                  <a:pt x="145" y="446"/>
                </a:cubicBezTo>
                <a:cubicBezTo>
                  <a:pt x="147" y="450"/>
                  <a:pt x="148" y="454"/>
                  <a:pt x="150" y="459"/>
                </a:cubicBezTo>
                <a:cubicBezTo>
                  <a:pt x="150" y="459"/>
                  <a:pt x="150" y="459"/>
                  <a:pt x="150" y="459"/>
                </a:cubicBezTo>
                <a:cubicBezTo>
                  <a:pt x="150" y="459"/>
                  <a:pt x="150" y="459"/>
                  <a:pt x="150" y="460"/>
                </a:cubicBezTo>
                <a:cubicBezTo>
                  <a:pt x="150" y="463"/>
                  <a:pt x="151" y="466"/>
                  <a:pt x="152" y="470"/>
                </a:cubicBezTo>
                <a:cubicBezTo>
                  <a:pt x="152" y="470"/>
                  <a:pt x="152" y="470"/>
                  <a:pt x="152" y="470"/>
                </a:cubicBezTo>
                <a:cubicBezTo>
                  <a:pt x="147" y="472"/>
                  <a:pt x="142" y="474"/>
                  <a:pt x="138" y="477"/>
                </a:cubicBezTo>
                <a:cubicBezTo>
                  <a:pt x="136" y="479"/>
                  <a:pt x="134" y="480"/>
                  <a:pt x="132" y="482"/>
                </a:cubicBezTo>
                <a:close/>
                <a:moveTo>
                  <a:pt x="263" y="609"/>
                </a:moveTo>
                <a:cubicBezTo>
                  <a:pt x="258" y="606"/>
                  <a:pt x="255" y="602"/>
                  <a:pt x="250" y="599"/>
                </a:cubicBezTo>
                <a:cubicBezTo>
                  <a:pt x="246" y="597"/>
                  <a:pt x="242" y="597"/>
                  <a:pt x="238" y="596"/>
                </a:cubicBezTo>
                <a:cubicBezTo>
                  <a:pt x="228" y="593"/>
                  <a:pt x="219" y="587"/>
                  <a:pt x="210" y="581"/>
                </a:cubicBezTo>
                <a:cubicBezTo>
                  <a:pt x="200" y="575"/>
                  <a:pt x="190" y="569"/>
                  <a:pt x="181" y="561"/>
                </a:cubicBezTo>
                <a:cubicBezTo>
                  <a:pt x="173" y="554"/>
                  <a:pt x="165" y="547"/>
                  <a:pt x="157" y="539"/>
                </a:cubicBezTo>
                <a:cubicBezTo>
                  <a:pt x="154" y="535"/>
                  <a:pt x="149" y="533"/>
                  <a:pt x="146" y="529"/>
                </a:cubicBezTo>
                <a:cubicBezTo>
                  <a:pt x="143" y="526"/>
                  <a:pt x="141" y="521"/>
                  <a:pt x="140" y="516"/>
                </a:cubicBezTo>
                <a:cubicBezTo>
                  <a:pt x="139" y="508"/>
                  <a:pt x="139" y="500"/>
                  <a:pt x="136" y="493"/>
                </a:cubicBezTo>
                <a:cubicBezTo>
                  <a:pt x="132" y="486"/>
                  <a:pt x="137" y="482"/>
                  <a:pt x="143" y="479"/>
                </a:cubicBezTo>
                <a:cubicBezTo>
                  <a:pt x="146" y="477"/>
                  <a:pt x="150" y="475"/>
                  <a:pt x="154" y="473"/>
                </a:cubicBezTo>
                <a:cubicBezTo>
                  <a:pt x="154" y="475"/>
                  <a:pt x="155" y="476"/>
                  <a:pt x="155" y="477"/>
                </a:cubicBezTo>
                <a:cubicBezTo>
                  <a:pt x="159" y="484"/>
                  <a:pt x="162" y="492"/>
                  <a:pt x="165" y="499"/>
                </a:cubicBezTo>
                <a:cubicBezTo>
                  <a:pt x="170" y="509"/>
                  <a:pt x="176" y="519"/>
                  <a:pt x="183" y="527"/>
                </a:cubicBezTo>
                <a:cubicBezTo>
                  <a:pt x="190" y="536"/>
                  <a:pt x="199" y="543"/>
                  <a:pt x="208" y="551"/>
                </a:cubicBezTo>
                <a:cubicBezTo>
                  <a:pt x="216" y="560"/>
                  <a:pt x="225" y="568"/>
                  <a:pt x="233" y="577"/>
                </a:cubicBezTo>
                <a:cubicBezTo>
                  <a:pt x="238" y="584"/>
                  <a:pt x="244" y="592"/>
                  <a:pt x="253" y="594"/>
                </a:cubicBezTo>
                <a:cubicBezTo>
                  <a:pt x="255" y="594"/>
                  <a:pt x="256" y="591"/>
                  <a:pt x="254" y="590"/>
                </a:cubicBezTo>
                <a:cubicBezTo>
                  <a:pt x="244" y="587"/>
                  <a:pt x="238" y="577"/>
                  <a:pt x="231" y="570"/>
                </a:cubicBezTo>
                <a:cubicBezTo>
                  <a:pt x="224" y="562"/>
                  <a:pt x="216" y="553"/>
                  <a:pt x="207" y="546"/>
                </a:cubicBezTo>
                <a:cubicBezTo>
                  <a:pt x="199" y="538"/>
                  <a:pt x="191" y="531"/>
                  <a:pt x="184" y="523"/>
                </a:cubicBezTo>
                <a:cubicBezTo>
                  <a:pt x="184" y="522"/>
                  <a:pt x="183" y="521"/>
                  <a:pt x="183" y="520"/>
                </a:cubicBezTo>
                <a:cubicBezTo>
                  <a:pt x="185" y="523"/>
                  <a:pt x="187" y="524"/>
                  <a:pt x="189" y="527"/>
                </a:cubicBezTo>
                <a:cubicBezTo>
                  <a:pt x="193" y="530"/>
                  <a:pt x="197" y="534"/>
                  <a:pt x="201" y="536"/>
                </a:cubicBezTo>
                <a:cubicBezTo>
                  <a:pt x="202" y="537"/>
                  <a:pt x="202" y="536"/>
                  <a:pt x="202" y="536"/>
                </a:cubicBezTo>
                <a:cubicBezTo>
                  <a:pt x="194" y="530"/>
                  <a:pt x="188" y="522"/>
                  <a:pt x="181" y="515"/>
                </a:cubicBezTo>
                <a:cubicBezTo>
                  <a:pt x="180" y="515"/>
                  <a:pt x="180" y="515"/>
                  <a:pt x="180" y="516"/>
                </a:cubicBezTo>
                <a:cubicBezTo>
                  <a:pt x="180" y="517"/>
                  <a:pt x="181" y="518"/>
                  <a:pt x="181" y="518"/>
                </a:cubicBezTo>
                <a:cubicBezTo>
                  <a:pt x="176" y="512"/>
                  <a:pt x="172" y="505"/>
                  <a:pt x="169" y="497"/>
                </a:cubicBezTo>
                <a:cubicBezTo>
                  <a:pt x="165" y="490"/>
                  <a:pt x="162" y="483"/>
                  <a:pt x="159" y="476"/>
                </a:cubicBezTo>
                <a:cubicBezTo>
                  <a:pt x="157" y="471"/>
                  <a:pt x="152" y="463"/>
                  <a:pt x="154" y="457"/>
                </a:cubicBezTo>
                <a:cubicBezTo>
                  <a:pt x="155" y="452"/>
                  <a:pt x="160" y="456"/>
                  <a:pt x="163" y="458"/>
                </a:cubicBezTo>
                <a:cubicBezTo>
                  <a:pt x="165" y="459"/>
                  <a:pt x="167" y="459"/>
                  <a:pt x="170" y="459"/>
                </a:cubicBezTo>
                <a:cubicBezTo>
                  <a:pt x="173" y="459"/>
                  <a:pt x="173" y="454"/>
                  <a:pt x="174" y="451"/>
                </a:cubicBezTo>
                <a:cubicBezTo>
                  <a:pt x="174" y="451"/>
                  <a:pt x="175" y="452"/>
                  <a:pt x="176" y="452"/>
                </a:cubicBezTo>
                <a:cubicBezTo>
                  <a:pt x="177" y="453"/>
                  <a:pt x="179" y="453"/>
                  <a:pt x="179" y="451"/>
                </a:cubicBezTo>
                <a:cubicBezTo>
                  <a:pt x="181" y="446"/>
                  <a:pt x="176" y="439"/>
                  <a:pt x="177" y="433"/>
                </a:cubicBezTo>
                <a:cubicBezTo>
                  <a:pt x="185" y="445"/>
                  <a:pt x="187" y="459"/>
                  <a:pt x="191" y="471"/>
                </a:cubicBezTo>
                <a:cubicBezTo>
                  <a:pt x="194" y="484"/>
                  <a:pt x="198" y="496"/>
                  <a:pt x="204" y="507"/>
                </a:cubicBezTo>
                <a:cubicBezTo>
                  <a:pt x="212" y="520"/>
                  <a:pt x="222" y="529"/>
                  <a:pt x="232" y="539"/>
                </a:cubicBezTo>
                <a:cubicBezTo>
                  <a:pt x="238" y="544"/>
                  <a:pt x="244" y="549"/>
                  <a:pt x="249" y="554"/>
                </a:cubicBezTo>
                <a:cubicBezTo>
                  <a:pt x="254" y="560"/>
                  <a:pt x="259" y="566"/>
                  <a:pt x="265" y="571"/>
                </a:cubicBezTo>
                <a:cubicBezTo>
                  <a:pt x="265" y="571"/>
                  <a:pt x="266" y="571"/>
                  <a:pt x="266" y="571"/>
                </a:cubicBezTo>
                <a:cubicBezTo>
                  <a:pt x="266" y="572"/>
                  <a:pt x="267" y="572"/>
                  <a:pt x="267" y="573"/>
                </a:cubicBezTo>
                <a:cubicBezTo>
                  <a:pt x="268" y="574"/>
                  <a:pt x="269" y="573"/>
                  <a:pt x="269" y="572"/>
                </a:cubicBezTo>
                <a:cubicBezTo>
                  <a:pt x="267" y="568"/>
                  <a:pt x="264" y="564"/>
                  <a:pt x="262" y="561"/>
                </a:cubicBezTo>
                <a:cubicBezTo>
                  <a:pt x="262" y="560"/>
                  <a:pt x="262" y="560"/>
                  <a:pt x="262" y="560"/>
                </a:cubicBezTo>
                <a:cubicBezTo>
                  <a:pt x="258" y="547"/>
                  <a:pt x="250" y="537"/>
                  <a:pt x="244" y="525"/>
                </a:cubicBezTo>
                <a:cubicBezTo>
                  <a:pt x="244" y="525"/>
                  <a:pt x="243" y="525"/>
                  <a:pt x="243" y="526"/>
                </a:cubicBezTo>
                <a:cubicBezTo>
                  <a:pt x="246" y="532"/>
                  <a:pt x="248" y="538"/>
                  <a:pt x="252" y="543"/>
                </a:cubicBezTo>
                <a:cubicBezTo>
                  <a:pt x="255" y="548"/>
                  <a:pt x="257" y="553"/>
                  <a:pt x="260" y="558"/>
                </a:cubicBezTo>
                <a:cubicBezTo>
                  <a:pt x="257" y="555"/>
                  <a:pt x="255" y="552"/>
                  <a:pt x="252" y="548"/>
                </a:cubicBezTo>
                <a:cubicBezTo>
                  <a:pt x="247" y="541"/>
                  <a:pt x="245" y="533"/>
                  <a:pt x="242" y="525"/>
                </a:cubicBezTo>
                <a:cubicBezTo>
                  <a:pt x="240" y="519"/>
                  <a:pt x="237" y="513"/>
                  <a:pt x="233" y="508"/>
                </a:cubicBezTo>
                <a:cubicBezTo>
                  <a:pt x="234" y="509"/>
                  <a:pt x="235" y="510"/>
                  <a:pt x="236" y="511"/>
                </a:cubicBezTo>
                <a:cubicBezTo>
                  <a:pt x="236" y="511"/>
                  <a:pt x="237" y="511"/>
                  <a:pt x="236" y="510"/>
                </a:cubicBezTo>
                <a:cubicBezTo>
                  <a:pt x="235" y="509"/>
                  <a:pt x="235" y="506"/>
                  <a:pt x="234" y="504"/>
                </a:cubicBezTo>
                <a:cubicBezTo>
                  <a:pt x="233" y="503"/>
                  <a:pt x="233" y="501"/>
                  <a:pt x="231" y="501"/>
                </a:cubicBezTo>
                <a:cubicBezTo>
                  <a:pt x="231" y="501"/>
                  <a:pt x="231" y="502"/>
                  <a:pt x="231" y="502"/>
                </a:cubicBezTo>
                <a:cubicBezTo>
                  <a:pt x="230" y="503"/>
                  <a:pt x="232" y="505"/>
                  <a:pt x="232" y="507"/>
                </a:cubicBezTo>
                <a:cubicBezTo>
                  <a:pt x="233" y="507"/>
                  <a:pt x="233" y="507"/>
                  <a:pt x="233" y="508"/>
                </a:cubicBezTo>
                <a:cubicBezTo>
                  <a:pt x="232" y="506"/>
                  <a:pt x="231" y="504"/>
                  <a:pt x="230" y="502"/>
                </a:cubicBezTo>
                <a:cubicBezTo>
                  <a:pt x="228" y="499"/>
                  <a:pt x="225" y="495"/>
                  <a:pt x="224" y="491"/>
                </a:cubicBezTo>
                <a:cubicBezTo>
                  <a:pt x="222" y="487"/>
                  <a:pt x="221" y="482"/>
                  <a:pt x="220" y="477"/>
                </a:cubicBezTo>
                <a:cubicBezTo>
                  <a:pt x="216" y="463"/>
                  <a:pt x="208" y="449"/>
                  <a:pt x="208" y="433"/>
                </a:cubicBezTo>
                <a:cubicBezTo>
                  <a:pt x="208" y="427"/>
                  <a:pt x="208" y="418"/>
                  <a:pt x="216" y="418"/>
                </a:cubicBezTo>
                <a:cubicBezTo>
                  <a:pt x="220" y="418"/>
                  <a:pt x="222" y="418"/>
                  <a:pt x="226" y="416"/>
                </a:cubicBezTo>
                <a:cubicBezTo>
                  <a:pt x="231" y="415"/>
                  <a:pt x="234" y="418"/>
                  <a:pt x="237" y="420"/>
                </a:cubicBezTo>
                <a:cubicBezTo>
                  <a:pt x="237" y="420"/>
                  <a:pt x="237" y="420"/>
                  <a:pt x="237" y="420"/>
                </a:cubicBezTo>
                <a:cubicBezTo>
                  <a:pt x="238" y="426"/>
                  <a:pt x="240" y="431"/>
                  <a:pt x="242" y="437"/>
                </a:cubicBezTo>
                <a:cubicBezTo>
                  <a:pt x="240" y="438"/>
                  <a:pt x="240" y="442"/>
                  <a:pt x="240" y="444"/>
                </a:cubicBezTo>
                <a:cubicBezTo>
                  <a:pt x="239" y="450"/>
                  <a:pt x="237" y="455"/>
                  <a:pt x="236" y="461"/>
                </a:cubicBezTo>
                <a:cubicBezTo>
                  <a:pt x="235" y="466"/>
                  <a:pt x="235" y="471"/>
                  <a:pt x="236" y="477"/>
                </a:cubicBezTo>
                <a:cubicBezTo>
                  <a:pt x="236" y="480"/>
                  <a:pt x="236" y="484"/>
                  <a:pt x="236" y="487"/>
                </a:cubicBezTo>
                <a:cubicBezTo>
                  <a:pt x="235" y="490"/>
                  <a:pt x="235" y="493"/>
                  <a:pt x="235" y="495"/>
                </a:cubicBezTo>
                <a:cubicBezTo>
                  <a:pt x="238" y="509"/>
                  <a:pt x="250" y="516"/>
                  <a:pt x="258" y="526"/>
                </a:cubicBezTo>
                <a:cubicBezTo>
                  <a:pt x="268" y="538"/>
                  <a:pt x="277" y="551"/>
                  <a:pt x="284" y="564"/>
                </a:cubicBezTo>
                <a:cubicBezTo>
                  <a:pt x="287" y="570"/>
                  <a:pt x="290" y="576"/>
                  <a:pt x="295" y="580"/>
                </a:cubicBezTo>
                <a:cubicBezTo>
                  <a:pt x="296" y="581"/>
                  <a:pt x="296" y="582"/>
                  <a:pt x="297" y="583"/>
                </a:cubicBezTo>
                <a:cubicBezTo>
                  <a:pt x="297" y="583"/>
                  <a:pt x="296" y="584"/>
                  <a:pt x="296" y="585"/>
                </a:cubicBezTo>
                <a:cubicBezTo>
                  <a:pt x="298" y="593"/>
                  <a:pt x="297" y="603"/>
                  <a:pt x="290" y="609"/>
                </a:cubicBezTo>
                <a:cubicBezTo>
                  <a:pt x="287" y="612"/>
                  <a:pt x="284" y="614"/>
                  <a:pt x="281" y="616"/>
                </a:cubicBezTo>
                <a:cubicBezTo>
                  <a:pt x="279" y="618"/>
                  <a:pt x="277" y="619"/>
                  <a:pt x="275" y="621"/>
                </a:cubicBezTo>
                <a:cubicBezTo>
                  <a:pt x="272" y="616"/>
                  <a:pt x="268" y="613"/>
                  <a:pt x="263" y="609"/>
                </a:cubicBezTo>
                <a:close/>
                <a:moveTo>
                  <a:pt x="300" y="586"/>
                </a:moveTo>
                <a:cubicBezTo>
                  <a:pt x="300" y="586"/>
                  <a:pt x="300" y="587"/>
                  <a:pt x="301" y="587"/>
                </a:cubicBezTo>
                <a:cubicBezTo>
                  <a:pt x="303" y="592"/>
                  <a:pt x="304" y="598"/>
                  <a:pt x="301" y="604"/>
                </a:cubicBezTo>
                <a:cubicBezTo>
                  <a:pt x="299" y="610"/>
                  <a:pt x="295" y="614"/>
                  <a:pt x="290" y="618"/>
                </a:cubicBezTo>
                <a:cubicBezTo>
                  <a:pt x="289" y="619"/>
                  <a:pt x="290" y="620"/>
                  <a:pt x="290" y="619"/>
                </a:cubicBezTo>
                <a:cubicBezTo>
                  <a:pt x="300" y="617"/>
                  <a:pt x="306" y="602"/>
                  <a:pt x="305" y="591"/>
                </a:cubicBezTo>
                <a:cubicBezTo>
                  <a:pt x="306" y="593"/>
                  <a:pt x="308" y="595"/>
                  <a:pt x="309" y="598"/>
                </a:cubicBezTo>
                <a:cubicBezTo>
                  <a:pt x="311" y="600"/>
                  <a:pt x="313" y="602"/>
                  <a:pt x="315" y="605"/>
                </a:cubicBezTo>
                <a:cubicBezTo>
                  <a:pt x="314" y="614"/>
                  <a:pt x="307" y="621"/>
                  <a:pt x="299" y="623"/>
                </a:cubicBezTo>
                <a:cubicBezTo>
                  <a:pt x="293" y="624"/>
                  <a:pt x="284" y="624"/>
                  <a:pt x="279" y="622"/>
                </a:cubicBezTo>
                <a:cubicBezTo>
                  <a:pt x="282" y="620"/>
                  <a:pt x="285" y="619"/>
                  <a:pt x="288" y="616"/>
                </a:cubicBezTo>
                <a:cubicBezTo>
                  <a:pt x="291" y="614"/>
                  <a:pt x="295" y="610"/>
                  <a:pt x="297" y="606"/>
                </a:cubicBezTo>
                <a:cubicBezTo>
                  <a:pt x="300" y="600"/>
                  <a:pt x="301" y="593"/>
                  <a:pt x="300" y="586"/>
                </a:cubicBezTo>
                <a:close/>
                <a:moveTo>
                  <a:pt x="390" y="734"/>
                </a:moveTo>
                <a:cubicBezTo>
                  <a:pt x="390" y="743"/>
                  <a:pt x="391" y="756"/>
                  <a:pt x="383" y="761"/>
                </a:cubicBezTo>
                <a:cubicBezTo>
                  <a:pt x="380" y="764"/>
                  <a:pt x="375" y="765"/>
                  <a:pt x="371" y="767"/>
                </a:cubicBezTo>
                <a:cubicBezTo>
                  <a:pt x="368" y="768"/>
                  <a:pt x="359" y="774"/>
                  <a:pt x="357" y="769"/>
                </a:cubicBezTo>
                <a:cubicBezTo>
                  <a:pt x="355" y="765"/>
                  <a:pt x="357" y="761"/>
                  <a:pt x="357" y="757"/>
                </a:cubicBezTo>
                <a:cubicBezTo>
                  <a:pt x="357" y="753"/>
                  <a:pt x="356" y="750"/>
                  <a:pt x="355" y="746"/>
                </a:cubicBezTo>
                <a:cubicBezTo>
                  <a:pt x="352" y="739"/>
                  <a:pt x="347" y="732"/>
                  <a:pt x="343" y="725"/>
                </a:cubicBezTo>
                <a:cubicBezTo>
                  <a:pt x="338" y="716"/>
                  <a:pt x="334" y="706"/>
                  <a:pt x="328" y="698"/>
                </a:cubicBezTo>
                <a:cubicBezTo>
                  <a:pt x="321" y="689"/>
                  <a:pt x="314" y="681"/>
                  <a:pt x="307" y="672"/>
                </a:cubicBezTo>
                <a:cubicBezTo>
                  <a:pt x="301" y="663"/>
                  <a:pt x="296" y="653"/>
                  <a:pt x="288" y="644"/>
                </a:cubicBezTo>
                <a:cubicBezTo>
                  <a:pt x="284" y="639"/>
                  <a:pt x="277" y="635"/>
                  <a:pt x="277" y="628"/>
                </a:cubicBezTo>
                <a:cubicBezTo>
                  <a:pt x="277" y="628"/>
                  <a:pt x="278" y="627"/>
                  <a:pt x="278" y="627"/>
                </a:cubicBezTo>
                <a:cubicBezTo>
                  <a:pt x="277" y="626"/>
                  <a:pt x="277" y="625"/>
                  <a:pt x="277" y="624"/>
                </a:cubicBezTo>
                <a:cubicBezTo>
                  <a:pt x="280" y="626"/>
                  <a:pt x="284" y="626"/>
                  <a:pt x="288" y="626"/>
                </a:cubicBezTo>
                <a:cubicBezTo>
                  <a:pt x="293" y="626"/>
                  <a:pt x="298" y="626"/>
                  <a:pt x="302" y="625"/>
                </a:cubicBezTo>
                <a:cubicBezTo>
                  <a:pt x="308" y="622"/>
                  <a:pt x="317" y="615"/>
                  <a:pt x="317" y="608"/>
                </a:cubicBezTo>
                <a:cubicBezTo>
                  <a:pt x="318" y="610"/>
                  <a:pt x="320" y="612"/>
                  <a:pt x="321" y="612"/>
                </a:cubicBezTo>
                <a:cubicBezTo>
                  <a:pt x="320" y="614"/>
                  <a:pt x="319" y="617"/>
                  <a:pt x="318" y="619"/>
                </a:cubicBezTo>
                <a:cubicBezTo>
                  <a:pt x="318" y="619"/>
                  <a:pt x="317" y="618"/>
                  <a:pt x="317" y="618"/>
                </a:cubicBezTo>
                <a:cubicBezTo>
                  <a:pt x="317" y="618"/>
                  <a:pt x="316" y="618"/>
                  <a:pt x="316" y="619"/>
                </a:cubicBezTo>
                <a:cubicBezTo>
                  <a:pt x="316" y="619"/>
                  <a:pt x="317" y="620"/>
                  <a:pt x="317" y="621"/>
                </a:cubicBezTo>
                <a:cubicBezTo>
                  <a:pt x="315" y="625"/>
                  <a:pt x="312" y="628"/>
                  <a:pt x="308" y="629"/>
                </a:cubicBezTo>
                <a:cubicBezTo>
                  <a:pt x="303" y="631"/>
                  <a:pt x="298" y="629"/>
                  <a:pt x="292" y="630"/>
                </a:cubicBezTo>
                <a:cubicBezTo>
                  <a:pt x="292" y="630"/>
                  <a:pt x="292" y="630"/>
                  <a:pt x="292" y="630"/>
                </a:cubicBezTo>
                <a:cubicBezTo>
                  <a:pt x="297" y="633"/>
                  <a:pt x="306" y="633"/>
                  <a:pt x="311" y="630"/>
                </a:cubicBezTo>
                <a:cubicBezTo>
                  <a:pt x="314" y="628"/>
                  <a:pt x="316" y="625"/>
                  <a:pt x="318" y="622"/>
                </a:cubicBezTo>
                <a:cubicBezTo>
                  <a:pt x="319" y="624"/>
                  <a:pt x="320" y="625"/>
                  <a:pt x="321" y="625"/>
                </a:cubicBezTo>
                <a:cubicBezTo>
                  <a:pt x="322" y="626"/>
                  <a:pt x="323" y="625"/>
                  <a:pt x="323" y="625"/>
                </a:cubicBezTo>
                <a:cubicBezTo>
                  <a:pt x="322" y="623"/>
                  <a:pt x="321" y="622"/>
                  <a:pt x="320" y="621"/>
                </a:cubicBezTo>
                <a:cubicBezTo>
                  <a:pt x="320" y="621"/>
                  <a:pt x="320" y="620"/>
                  <a:pt x="319" y="620"/>
                </a:cubicBezTo>
                <a:cubicBezTo>
                  <a:pt x="320" y="618"/>
                  <a:pt x="321" y="615"/>
                  <a:pt x="322" y="613"/>
                </a:cubicBezTo>
                <a:cubicBezTo>
                  <a:pt x="322" y="613"/>
                  <a:pt x="322" y="613"/>
                  <a:pt x="322" y="613"/>
                </a:cubicBezTo>
                <a:cubicBezTo>
                  <a:pt x="325" y="626"/>
                  <a:pt x="337" y="638"/>
                  <a:pt x="344" y="649"/>
                </a:cubicBezTo>
                <a:cubicBezTo>
                  <a:pt x="347" y="653"/>
                  <a:pt x="350" y="657"/>
                  <a:pt x="352" y="660"/>
                </a:cubicBezTo>
                <a:cubicBezTo>
                  <a:pt x="353" y="662"/>
                  <a:pt x="354" y="663"/>
                  <a:pt x="354" y="664"/>
                </a:cubicBezTo>
                <a:cubicBezTo>
                  <a:pt x="357" y="669"/>
                  <a:pt x="358" y="675"/>
                  <a:pt x="360" y="680"/>
                </a:cubicBezTo>
                <a:cubicBezTo>
                  <a:pt x="362" y="685"/>
                  <a:pt x="365" y="688"/>
                  <a:pt x="367" y="693"/>
                </a:cubicBezTo>
                <a:cubicBezTo>
                  <a:pt x="370" y="697"/>
                  <a:pt x="372" y="702"/>
                  <a:pt x="375" y="707"/>
                </a:cubicBezTo>
                <a:cubicBezTo>
                  <a:pt x="377" y="710"/>
                  <a:pt x="380" y="714"/>
                  <a:pt x="383" y="718"/>
                </a:cubicBezTo>
                <a:cubicBezTo>
                  <a:pt x="385" y="722"/>
                  <a:pt x="386" y="726"/>
                  <a:pt x="388" y="731"/>
                </a:cubicBezTo>
                <a:cubicBezTo>
                  <a:pt x="389" y="732"/>
                  <a:pt x="389" y="733"/>
                  <a:pt x="390" y="734"/>
                </a:cubicBezTo>
                <a:close/>
                <a:moveTo>
                  <a:pt x="421" y="721"/>
                </a:moveTo>
                <a:cubicBezTo>
                  <a:pt x="421" y="721"/>
                  <a:pt x="421" y="721"/>
                  <a:pt x="421" y="721"/>
                </a:cubicBezTo>
                <a:cubicBezTo>
                  <a:pt x="416" y="728"/>
                  <a:pt x="406" y="731"/>
                  <a:pt x="398" y="727"/>
                </a:cubicBezTo>
                <a:cubicBezTo>
                  <a:pt x="392" y="723"/>
                  <a:pt x="388" y="718"/>
                  <a:pt x="385" y="712"/>
                </a:cubicBezTo>
                <a:cubicBezTo>
                  <a:pt x="380" y="702"/>
                  <a:pt x="376" y="693"/>
                  <a:pt x="371" y="683"/>
                </a:cubicBezTo>
                <a:cubicBezTo>
                  <a:pt x="371" y="685"/>
                  <a:pt x="372" y="686"/>
                  <a:pt x="373" y="686"/>
                </a:cubicBezTo>
                <a:cubicBezTo>
                  <a:pt x="374" y="686"/>
                  <a:pt x="374" y="686"/>
                  <a:pt x="374" y="686"/>
                </a:cubicBezTo>
                <a:cubicBezTo>
                  <a:pt x="373" y="682"/>
                  <a:pt x="372" y="678"/>
                  <a:pt x="369" y="676"/>
                </a:cubicBezTo>
                <a:cubicBezTo>
                  <a:pt x="368" y="675"/>
                  <a:pt x="368" y="676"/>
                  <a:pt x="368" y="676"/>
                </a:cubicBezTo>
                <a:cubicBezTo>
                  <a:pt x="368" y="677"/>
                  <a:pt x="368" y="679"/>
                  <a:pt x="369" y="680"/>
                </a:cubicBezTo>
                <a:cubicBezTo>
                  <a:pt x="368" y="679"/>
                  <a:pt x="367" y="678"/>
                  <a:pt x="367" y="676"/>
                </a:cubicBezTo>
                <a:cubicBezTo>
                  <a:pt x="360" y="665"/>
                  <a:pt x="353" y="653"/>
                  <a:pt x="344" y="642"/>
                </a:cubicBezTo>
                <a:cubicBezTo>
                  <a:pt x="337" y="632"/>
                  <a:pt x="330" y="621"/>
                  <a:pt x="323" y="610"/>
                </a:cubicBezTo>
                <a:cubicBezTo>
                  <a:pt x="323" y="609"/>
                  <a:pt x="323" y="609"/>
                  <a:pt x="322" y="610"/>
                </a:cubicBezTo>
                <a:cubicBezTo>
                  <a:pt x="320" y="608"/>
                  <a:pt x="317" y="603"/>
                  <a:pt x="316" y="601"/>
                </a:cubicBezTo>
                <a:cubicBezTo>
                  <a:pt x="314" y="598"/>
                  <a:pt x="312" y="594"/>
                  <a:pt x="309" y="591"/>
                </a:cubicBezTo>
                <a:cubicBezTo>
                  <a:pt x="306" y="587"/>
                  <a:pt x="302" y="583"/>
                  <a:pt x="298" y="579"/>
                </a:cubicBezTo>
                <a:cubicBezTo>
                  <a:pt x="294" y="575"/>
                  <a:pt x="291" y="570"/>
                  <a:pt x="288" y="564"/>
                </a:cubicBezTo>
                <a:cubicBezTo>
                  <a:pt x="282" y="554"/>
                  <a:pt x="275" y="544"/>
                  <a:pt x="268" y="534"/>
                </a:cubicBezTo>
                <a:cubicBezTo>
                  <a:pt x="265" y="529"/>
                  <a:pt x="262" y="525"/>
                  <a:pt x="258" y="520"/>
                </a:cubicBezTo>
                <a:cubicBezTo>
                  <a:pt x="254" y="516"/>
                  <a:pt x="249" y="513"/>
                  <a:pt x="246" y="508"/>
                </a:cubicBezTo>
                <a:cubicBezTo>
                  <a:pt x="242" y="503"/>
                  <a:pt x="237" y="496"/>
                  <a:pt x="239" y="490"/>
                </a:cubicBezTo>
                <a:cubicBezTo>
                  <a:pt x="241" y="485"/>
                  <a:pt x="244" y="479"/>
                  <a:pt x="249" y="477"/>
                </a:cubicBezTo>
                <a:cubicBezTo>
                  <a:pt x="254" y="474"/>
                  <a:pt x="256" y="485"/>
                  <a:pt x="258" y="488"/>
                </a:cubicBezTo>
                <a:cubicBezTo>
                  <a:pt x="260" y="493"/>
                  <a:pt x="264" y="499"/>
                  <a:pt x="267" y="503"/>
                </a:cubicBezTo>
                <a:cubicBezTo>
                  <a:pt x="275" y="514"/>
                  <a:pt x="283" y="523"/>
                  <a:pt x="290" y="534"/>
                </a:cubicBezTo>
                <a:cubicBezTo>
                  <a:pt x="294" y="539"/>
                  <a:pt x="298" y="544"/>
                  <a:pt x="300" y="549"/>
                </a:cubicBezTo>
                <a:cubicBezTo>
                  <a:pt x="303" y="554"/>
                  <a:pt x="304" y="560"/>
                  <a:pt x="307" y="564"/>
                </a:cubicBezTo>
                <a:cubicBezTo>
                  <a:pt x="307" y="565"/>
                  <a:pt x="308" y="565"/>
                  <a:pt x="308" y="564"/>
                </a:cubicBezTo>
                <a:cubicBezTo>
                  <a:pt x="310" y="570"/>
                  <a:pt x="313" y="575"/>
                  <a:pt x="316" y="580"/>
                </a:cubicBezTo>
                <a:cubicBezTo>
                  <a:pt x="313" y="583"/>
                  <a:pt x="318" y="586"/>
                  <a:pt x="319" y="589"/>
                </a:cubicBezTo>
                <a:cubicBezTo>
                  <a:pt x="322" y="596"/>
                  <a:pt x="324" y="603"/>
                  <a:pt x="331" y="607"/>
                </a:cubicBezTo>
                <a:cubicBezTo>
                  <a:pt x="332" y="608"/>
                  <a:pt x="333" y="606"/>
                  <a:pt x="332" y="605"/>
                </a:cubicBezTo>
                <a:cubicBezTo>
                  <a:pt x="327" y="600"/>
                  <a:pt x="325" y="595"/>
                  <a:pt x="322" y="589"/>
                </a:cubicBezTo>
                <a:cubicBezTo>
                  <a:pt x="322" y="588"/>
                  <a:pt x="321" y="586"/>
                  <a:pt x="320" y="585"/>
                </a:cubicBezTo>
                <a:cubicBezTo>
                  <a:pt x="320" y="585"/>
                  <a:pt x="318" y="582"/>
                  <a:pt x="318" y="582"/>
                </a:cubicBezTo>
                <a:cubicBezTo>
                  <a:pt x="322" y="582"/>
                  <a:pt x="325" y="578"/>
                  <a:pt x="328" y="576"/>
                </a:cubicBezTo>
                <a:cubicBezTo>
                  <a:pt x="333" y="571"/>
                  <a:pt x="338" y="577"/>
                  <a:pt x="341" y="580"/>
                </a:cubicBezTo>
                <a:cubicBezTo>
                  <a:pt x="342" y="580"/>
                  <a:pt x="342" y="580"/>
                  <a:pt x="343" y="580"/>
                </a:cubicBezTo>
                <a:cubicBezTo>
                  <a:pt x="343" y="583"/>
                  <a:pt x="344" y="585"/>
                  <a:pt x="345" y="587"/>
                </a:cubicBezTo>
                <a:cubicBezTo>
                  <a:pt x="346" y="592"/>
                  <a:pt x="346" y="598"/>
                  <a:pt x="346" y="603"/>
                </a:cubicBezTo>
                <a:cubicBezTo>
                  <a:pt x="346" y="603"/>
                  <a:pt x="346" y="603"/>
                  <a:pt x="346" y="604"/>
                </a:cubicBezTo>
                <a:cubicBezTo>
                  <a:pt x="344" y="606"/>
                  <a:pt x="343" y="608"/>
                  <a:pt x="343" y="611"/>
                </a:cubicBezTo>
                <a:cubicBezTo>
                  <a:pt x="343" y="611"/>
                  <a:pt x="343" y="611"/>
                  <a:pt x="343" y="611"/>
                </a:cubicBezTo>
                <a:cubicBezTo>
                  <a:pt x="346" y="607"/>
                  <a:pt x="350" y="604"/>
                  <a:pt x="353" y="601"/>
                </a:cubicBezTo>
                <a:cubicBezTo>
                  <a:pt x="355" y="600"/>
                  <a:pt x="357" y="598"/>
                  <a:pt x="359" y="596"/>
                </a:cubicBezTo>
                <a:cubicBezTo>
                  <a:pt x="358" y="597"/>
                  <a:pt x="357" y="599"/>
                  <a:pt x="356" y="600"/>
                </a:cubicBezTo>
                <a:cubicBezTo>
                  <a:pt x="354" y="602"/>
                  <a:pt x="351" y="604"/>
                  <a:pt x="350" y="606"/>
                </a:cubicBezTo>
                <a:cubicBezTo>
                  <a:pt x="350" y="607"/>
                  <a:pt x="351" y="607"/>
                  <a:pt x="351" y="607"/>
                </a:cubicBezTo>
                <a:cubicBezTo>
                  <a:pt x="355" y="606"/>
                  <a:pt x="358" y="602"/>
                  <a:pt x="360" y="599"/>
                </a:cubicBezTo>
                <a:cubicBezTo>
                  <a:pt x="362" y="597"/>
                  <a:pt x="363" y="594"/>
                  <a:pt x="363" y="592"/>
                </a:cubicBezTo>
                <a:cubicBezTo>
                  <a:pt x="363" y="592"/>
                  <a:pt x="363" y="591"/>
                  <a:pt x="363" y="591"/>
                </a:cubicBezTo>
                <a:cubicBezTo>
                  <a:pt x="365" y="589"/>
                  <a:pt x="367" y="587"/>
                  <a:pt x="368" y="585"/>
                </a:cubicBezTo>
                <a:cubicBezTo>
                  <a:pt x="375" y="593"/>
                  <a:pt x="370" y="602"/>
                  <a:pt x="361" y="606"/>
                </a:cubicBezTo>
                <a:cubicBezTo>
                  <a:pt x="360" y="607"/>
                  <a:pt x="359" y="607"/>
                  <a:pt x="358" y="608"/>
                </a:cubicBezTo>
                <a:cubicBezTo>
                  <a:pt x="360" y="607"/>
                  <a:pt x="361" y="605"/>
                  <a:pt x="363" y="604"/>
                </a:cubicBezTo>
                <a:cubicBezTo>
                  <a:pt x="363" y="603"/>
                  <a:pt x="362" y="602"/>
                  <a:pt x="362" y="603"/>
                </a:cubicBezTo>
                <a:cubicBezTo>
                  <a:pt x="359" y="605"/>
                  <a:pt x="355" y="606"/>
                  <a:pt x="353" y="609"/>
                </a:cubicBezTo>
                <a:cubicBezTo>
                  <a:pt x="353" y="610"/>
                  <a:pt x="353" y="610"/>
                  <a:pt x="354" y="610"/>
                </a:cubicBezTo>
                <a:cubicBezTo>
                  <a:pt x="349" y="612"/>
                  <a:pt x="345" y="613"/>
                  <a:pt x="340" y="610"/>
                </a:cubicBezTo>
                <a:cubicBezTo>
                  <a:pt x="339" y="609"/>
                  <a:pt x="337" y="611"/>
                  <a:pt x="338" y="613"/>
                </a:cubicBezTo>
                <a:cubicBezTo>
                  <a:pt x="346" y="620"/>
                  <a:pt x="360" y="612"/>
                  <a:pt x="367" y="607"/>
                </a:cubicBezTo>
                <a:cubicBezTo>
                  <a:pt x="370" y="605"/>
                  <a:pt x="372" y="603"/>
                  <a:pt x="373" y="600"/>
                </a:cubicBezTo>
                <a:cubicBezTo>
                  <a:pt x="376" y="604"/>
                  <a:pt x="379" y="608"/>
                  <a:pt x="381" y="612"/>
                </a:cubicBezTo>
                <a:cubicBezTo>
                  <a:pt x="387" y="624"/>
                  <a:pt x="391" y="635"/>
                  <a:pt x="396" y="647"/>
                </a:cubicBezTo>
                <a:cubicBezTo>
                  <a:pt x="401" y="658"/>
                  <a:pt x="406" y="670"/>
                  <a:pt x="413" y="681"/>
                </a:cubicBezTo>
                <a:cubicBezTo>
                  <a:pt x="415" y="684"/>
                  <a:pt x="417" y="687"/>
                  <a:pt x="420" y="691"/>
                </a:cubicBezTo>
                <a:cubicBezTo>
                  <a:pt x="420" y="691"/>
                  <a:pt x="420" y="691"/>
                  <a:pt x="420" y="691"/>
                </a:cubicBezTo>
                <a:cubicBezTo>
                  <a:pt x="420" y="693"/>
                  <a:pt x="421" y="695"/>
                  <a:pt x="422" y="697"/>
                </a:cubicBezTo>
                <a:cubicBezTo>
                  <a:pt x="423" y="698"/>
                  <a:pt x="424" y="701"/>
                  <a:pt x="423" y="703"/>
                </a:cubicBezTo>
                <a:cubicBezTo>
                  <a:pt x="423" y="703"/>
                  <a:pt x="423" y="703"/>
                  <a:pt x="424" y="703"/>
                </a:cubicBezTo>
                <a:cubicBezTo>
                  <a:pt x="425" y="703"/>
                  <a:pt x="426" y="701"/>
                  <a:pt x="425" y="699"/>
                </a:cubicBezTo>
                <a:cubicBezTo>
                  <a:pt x="426" y="700"/>
                  <a:pt x="426" y="701"/>
                  <a:pt x="426" y="702"/>
                </a:cubicBezTo>
                <a:cubicBezTo>
                  <a:pt x="426" y="703"/>
                  <a:pt x="426" y="704"/>
                  <a:pt x="427" y="704"/>
                </a:cubicBezTo>
                <a:cubicBezTo>
                  <a:pt x="426" y="706"/>
                  <a:pt x="425" y="707"/>
                  <a:pt x="425" y="709"/>
                </a:cubicBezTo>
                <a:cubicBezTo>
                  <a:pt x="423" y="713"/>
                  <a:pt x="422" y="717"/>
                  <a:pt x="421" y="721"/>
                </a:cubicBezTo>
                <a:close/>
                <a:moveTo>
                  <a:pt x="468" y="722"/>
                </a:moveTo>
                <a:cubicBezTo>
                  <a:pt x="467" y="726"/>
                  <a:pt x="465" y="730"/>
                  <a:pt x="464" y="734"/>
                </a:cubicBezTo>
                <a:cubicBezTo>
                  <a:pt x="459" y="741"/>
                  <a:pt x="449" y="744"/>
                  <a:pt x="441" y="742"/>
                </a:cubicBezTo>
                <a:cubicBezTo>
                  <a:pt x="435" y="742"/>
                  <a:pt x="429" y="739"/>
                  <a:pt x="426" y="734"/>
                </a:cubicBezTo>
                <a:cubicBezTo>
                  <a:pt x="423" y="728"/>
                  <a:pt x="425" y="720"/>
                  <a:pt x="427" y="713"/>
                </a:cubicBezTo>
                <a:cubicBezTo>
                  <a:pt x="430" y="706"/>
                  <a:pt x="434" y="699"/>
                  <a:pt x="436" y="691"/>
                </a:cubicBezTo>
                <a:cubicBezTo>
                  <a:pt x="439" y="683"/>
                  <a:pt x="442" y="674"/>
                  <a:pt x="444" y="666"/>
                </a:cubicBezTo>
                <a:cubicBezTo>
                  <a:pt x="446" y="657"/>
                  <a:pt x="449" y="649"/>
                  <a:pt x="449" y="640"/>
                </a:cubicBezTo>
                <a:cubicBezTo>
                  <a:pt x="449" y="634"/>
                  <a:pt x="448" y="627"/>
                  <a:pt x="447" y="621"/>
                </a:cubicBezTo>
                <a:cubicBezTo>
                  <a:pt x="448" y="621"/>
                  <a:pt x="448" y="621"/>
                  <a:pt x="448" y="621"/>
                </a:cubicBezTo>
                <a:cubicBezTo>
                  <a:pt x="455" y="622"/>
                  <a:pt x="459" y="627"/>
                  <a:pt x="465" y="631"/>
                </a:cubicBezTo>
                <a:cubicBezTo>
                  <a:pt x="470" y="633"/>
                  <a:pt x="475" y="635"/>
                  <a:pt x="480" y="637"/>
                </a:cubicBezTo>
                <a:cubicBezTo>
                  <a:pt x="485" y="639"/>
                  <a:pt x="490" y="641"/>
                  <a:pt x="496" y="642"/>
                </a:cubicBezTo>
                <a:cubicBezTo>
                  <a:pt x="493" y="644"/>
                  <a:pt x="491" y="648"/>
                  <a:pt x="490" y="650"/>
                </a:cubicBezTo>
                <a:cubicBezTo>
                  <a:pt x="486" y="657"/>
                  <a:pt x="484" y="664"/>
                  <a:pt x="482" y="672"/>
                </a:cubicBezTo>
                <a:cubicBezTo>
                  <a:pt x="479" y="684"/>
                  <a:pt x="476" y="695"/>
                  <a:pt x="472" y="707"/>
                </a:cubicBezTo>
                <a:cubicBezTo>
                  <a:pt x="470" y="712"/>
                  <a:pt x="469" y="716"/>
                  <a:pt x="468" y="722"/>
                </a:cubicBezTo>
                <a:close/>
                <a:moveTo>
                  <a:pt x="641" y="696"/>
                </a:moveTo>
                <a:cubicBezTo>
                  <a:pt x="632" y="703"/>
                  <a:pt x="622" y="708"/>
                  <a:pt x="613" y="714"/>
                </a:cubicBezTo>
                <a:cubicBezTo>
                  <a:pt x="594" y="725"/>
                  <a:pt x="577" y="737"/>
                  <a:pt x="559" y="748"/>
                </a:cubicBezTo>
                <a:cubicBezTo>
                  <a:pt x="541" y="760"/>
                  <a:pt x="523" y="773"/>
                  <a:pt x="505" y="785"/>
                </a:cubicBezTo>
                <a:cubicBezTo>
                  <a:pt x="490" y="795"/>
                  <a:pt x="474" y="803"/>
                  <a:pt x="458" y="811"/>
                </a:cubicBezTo>
                <a:cubicBezTo>
                  <a:pt x="459" y="789"/>
                  <a:pt x="468" y="767"/>
                  <a:pt x="466" y="745"/>
                </a:cubicBezTo>
                <a:cubicBezTo>
                  <a:pt x="467" y="744"/>
                  <a:pt x="469" y="742"/>
                  <a:pt x="470" y="740"/>
                </a:cubicBezTo>
                <a:cubicBezTo>
                  <a:pt x="474" y="733"/>
                  <a:pt x="475" y="722"/>
                  <a:pt x="473" y="714"/>
                </a:cubicBezTo>
                <a:cubicBezTo>
                  <a:pt x="476" y="703"/>
                  <a:pt x="481" y="691"/>
                  <a:pt x="484" y="680"/>
                </a:cubicBezTo>
                <a:cubicBezTo>
                  <a:pt x="486" y="673"/>
                  <a:pt x="487" y="666"/>
                  <a:pt x="489" y="659"/>
                </a:cubicBezTo>
                <a:cubicBezTo>
                  <a:pt x="491" y="655"/>
                  <a:pt x="492" y="651"/>
                  <a:pt x="495" y="648"/>
                </a:cubicBezTo>
                <a:cubicBezTo>
                  <a:pt x="497" y="645"/>
                  <a:pt x="498" y="644"/>
                  <a:pt x="501" y="643"/>
                </a:cubicBezTo>
                <a:cubicBezTo>
                  <a:pt x="504" y="643"/>
                  <a:pt x="508" y="642"/>
                  <a:pt x="511" y="640"/>
                </a:cubicBezTo>
                <a:cubicBezTo>
                  <a:pt x="516" y="638"/>
                  <a:pt x="521" y="631"/>
                  <a:pt x="519" y="625"/>
                </a:cubicBezTo>
                <a:cubicBezTo>
                  <a:pt x="520" y="625"/>
                  <a:pt x="521" y="625"/>
                  <a:pt x="522" y="625"/>
                </a:cubicBezTo>
                <a:cubicBezTo>
                  <a:pt x="527" y="624"/>
                  <a:pt x="529" y="615"/>
                  <a:pt x="530" y="611"/>
                </a:cubicBezTo>
                <a:cubicBezTo>
                  <a:pt x="534" y="600"/>
                  <a:pt x="541" y="593"/>
                  <a:pt x="550" y="586"/>
                </a:cubicBezTo>
                <a:cubicBezTo>
                  <a:pt x="558" y="578"/>
                  <a:pt x="566" y="569"/>
                  <a:pt x="574" y="560"/>
                </a:cubicBezTo>
                <a:cubicBezTo>
                  <a:pt x="581" y="552"/>
                  <a:pt x="590" y="545"/>
                  <a:pt x="598" y="537"/>
                </a:cubicBezTo>
                <a:cubicBezTo>
                  <a:pt x="605" y="530"/>
                  <a:pt x="612" y="523"/>
                  <a:pt x="618" y="515"/>
                </a:cubicBezTo>
                <a:cubicBezTo>
                  <a:pt x="619" y="514"/>
                  <a:pt x="623" y="508"/>
                  <a:pt x="625" y="505"/>
                </a:cubicBezTo>
                <a:cubicBezTo>
                  <a:pt x="628" y="504"/>
                  <a:pt x="630" y="504"/>
                  <a:pt x="633" y="503"/>
                </a:cubicBezTo>
                <a:cubicBezTo>
                  <a:pt x="640" y="501"/>
                  <a:pt x="646" y="498"/>
                  <a:pt x="653" y="496"/>
                </a:cubicBezTo>
                <a:cubicBezTo>
                  <a:pt x="665" y="491"/>
                  <a:pt x="678" y="486"/>
                  <a:pt x="690" y="480"/>
                </a:cubicBezTo>
                <a:cubicBezTo>
                  <a:pt x="696" y="477"/>
                  <a:pt x="703" y="473"/>
                  <a:pt x="708" y="467"/>
                </a:cubicBezTo>
                <a:cubicBezTo>
                  <a:pt x="708" y="472"/>
                  <a:pt x="709" y="476"/>
                  <a:pt x="710" y="480"/>
                </a:cubicBezTo>
                <a:cubicBezTo>
                  <a:pt x="712" y="487"/>
                  <a:pt x="713" y="493"/>
                  <a:pt x="715" y="500"/>
                </a:cubicBezTo>
                <a:cubicBezTo>
                  <a:pt x="718" y="512"/>
                  <a:pt x="722" y="524"/>
                  <a:pt x="727" y="536"/>
                </a:cubicBezTo>
                <a:cubicBezTo>
                  <a:pt x="729" y="540"/>
                  <a:pt x="731" y="544"/>
                  <a:pt x="734" y="548"/>
                </a:cubicBezTo>
                <a:cubicBezTo>
                  <a:pt x="727" y="552"/>
                  <a:pt x="723" y="566"/>
                  <a:pt x="721" y="572"/>
                </a:cubicBezTo>
                <a:cubicBezTo>
                  <a:pt x="715" y="588"/>
                  <a:pt x="708" y="604"/>
                  <a:pt x="704" y="621"/>
                </a:cubicBezTo>
                <a:cubicBezTo>
                  <a:pt x="702" y="628"/>
                  <a:pt x="701" y="635"/>
                  <a:pt x="699" y="641"/>
                </a:cubicBezTo>
                <a:cubicBezTo>
                  <a:pt x="699" y="641"/>
                  <a:pt x="698" y="641"/>
                  <a:pt x="698" y="641"/>
                </a:cubicBezTo>
                <a:cubicBezTo>
                  <a:pt x="686" y="644"/>
                  <a:pt x="678" y="657"/>
                  <a:pt x="678" y="669"/>
                </a:cubicBezTo>
                <a:cubicBezTo>
                  <a:pt x="678" y="669"/>
                  <a:pt x="677" y="669"/>
                  <a:pt x="677" y="669"/>
                </a:cubicBezTo>
                <a:cubicBezTo>
                  <a:pt x="672" y="671"/>
                  <a:pt x="666" y="675"/>
                  <a:pt x="662" y="680"/>
                </a:cubicBezTo>
                <a:cubicBezTo>
                  <a:pt x="654" y="684"/>
                  <a:pt x="648" y="691"/>
                  <a:pt x="641" y="696"/>
                </a:cubicBezTo>
                <a:close/>
                <a:moveTo>
                  <a:pt x="695" y="680"/>
                </a:moveTo>
                <a:cubicBezTo>
                  <a:pt x="690" y="676"/>
                  <a:pt x="687" y="671"/>
                  <a:pt x="688" y="664"/>
                </a:cubicBezTo>
                <a:cubicBezTo>
                  <a:pt x="688" y="657"/>
                  <a:pt x="692" y="652"/>
                  <a:pt x="697" y="648"/>
                </a:cubicBezTo>
                <a:cubicBezTo>
                  <a:pt x="695" y="652"/>
                  <a:pt x="694" y="657"/>
                  <a:pt x="693" y="662"/>
                </a:cubicBezTo>
                <a:cubicBezTo>
                  <a:pt x="692" y="668"/>
                  <a:pt x="692" y="674"/>
                  <a:pt x="695" y="680"/>
                </a:cubicBezTo>
                <a:close/>
                <a:moveTo>
                  <a:pt x="698" y="685"/>
                </a:moveTo>
                <a:cubicBezTo>
                  <a:pt x="698" y="685"/>
                  <a:pt x="698" y="685"/>
                  <a:pt x="698" y="685"/>
                </a:cubicBezTo>
                <a:cubicBezTo>
                  <a:pt x="698" y="685"/>
                  <a:pt x="698" y="685"/>
                  <a:pt x="698" y="685"/>
                </a:cubicBezTo>
                <a:cubicBezTo>
                  <a:pt x="698" y="686"/>
                  <a:pt x="698" y="686"/>
                  <a:pt x="697" y="687"/>
                </a:cubicBezTo>
                <a:cubicBezTo>
                  <a:pt x="697" y="687"/>
                  <a:pt x="697" y="687"/>
                  <a:pt x="697" y="687"/>
                </a:cubicBezTo>
                <a:cubicBezTo>
                  <a:pt x="686" y="688"/>
                  <a:pt x="681" y="677"/>
                  <a:pt x="681" y="668"/>
                </a:cubicBezTo>
                <a:cubicBezTo>
                  <a:pt x="681" y="663"/>
                  <a:pt x="683" y="658"/>
                  <a:pt x="685" y="654"/>
                </a:cubicBezTo>
                <a:cubicBezTo>
                  <a:pt x="687" y="652"/>
                  <a:pt x="689" y="649"/>
                  <a:pt x="691" y="648"/>
                </a:cubicBezTo>
                <a:cubicBezTo>
                  <a:pt x="693" y="646"/>
                  <a:pt x="696" y="644"/>
                  <a:pt x="698" y="643"/>
                </a:cubicBezTo>
                <a:cubicBezTo>
                  <a:pt x="698" y="643"/>
                  <a:pt x="698" y="644"/>
                  <a:pt x="698" y="644"/>
                </a:cubicBezTo>
                <a:cubicBezTo>
                  <a:pt x="698" y="644"/>
                  <a:pt x="698" y="644"/>
                  <a:pt x="697" y="644"/>
                </a:cubicBezTo>
                <a:cubicBezTo>
                  <a:pt x="682" y="651"/>
                  <a:pt x="679" y="679"/>
                  <a:pt x="698" y="685"/>
                </a:cubicBezTo>
                <a:close/>
                <a:moveTo>
                  <a:pt x="692" y="713"/>
                </a:moveTo>
                <a:cubicBezTo>
                  <a:pt x="685" y="716"/>
                  <a:pt x="675" y="721"/>
                  <a:pt x="668" y="716"/>
                </a:cubicBezTo>
                <a:cubicBezTo>
                  <a:pt x="650" y="704"/>
                  <a:pt x="661" y="679"/>
                  <a:pt x="678" y="673"/>
                </a:cubicBezTo>
                <a:cubicBezTo>
                  <a:pt x="679" y="683"/>
                  <a:pt x="686" y="692"/>
                  <a:pt x="697" y="690"/>
                </a:cubicBezTo>
                <a:cubicBezTo>
                  <a:pt x="697" y="695"/>
                  <a:pt x="699" y="701"/>
                  <a:pt x="701" y="704"/>
                </a:cubicBezTo>
                <a:cubicBezTo>
                  <a:pt x="703" y="706"/>
                  <a:pt x="704" y="708"/>
                  <a:pt x="706" y="709"/>
                </a:cubicBezTo>
                <a:cubicBezTo>
                  <a:pt x="701" y="709"/>
                  <a:pt x="695" y="712"/>
                  <a:pt x="692" y="713"/>
                </a:cubicBezTo>
                <a:close/>
                <a:moveTo>
                  <a:pt x="704" y="702"/>
                </a:moveTo>
                <a:cubicBezTo>
                  <a:pt x="704" y="702"/>
                  <a:pt x="704" y="702"/>
                  <a:pt x="704" y="701"/>
                </a:cubicBezTo>
                <a:cubicBezTo>
                  <a:pt x="702" y="698"/>
                  <a:pt x="701" y="695"/>
                  <a:pt x="701" y="691"/>
                </a:cubicBezTo>
                <a:cubicBezTo>
                  <a:pt x="701" y="690"/>
                  <a:pt x="701" y="689"/>
                  <a:pt x="701" y="687"/>
                </a:cubicBezTo>
                <a:cubicBezTo>
                  <a:pt x="702" y="688"/>
                  <a:pt x="702" y="688"/>
                  <a:pt x="703" y="689"/>
                </a:cubicBezTo>
                <a:cubicBezTo>
                  <a:pt x="702" y="693"/>
                  <a:pt x="702" y="699"/>
                  <a:pt x="704" y="702"/>
                </a:cubicBezTo>
                <a:close/>
                <a:moveTo>
                  <a:pt x="706" y="685"/>
                </a:moveTo>
                <a:cubicBezTo>
                  <a:pt x="700" y="687"/>
                  <a:pt x="696" y="674"/>
                  <a:pt x="696" y="669"/>
                </a:cubicBezTo>
                <a:cubicBezTo>
                  <a:pt x="696" y="664"/>
                  <a:pt x="697" y="659"/>
                  <a:pt x="698" y="654"/>
                </a:cubicBezTo>
                <a:cubicBezTo>
                  <a:pt x="702" y="642"/>
                  <a:pt x="705" y="629"/>
                  <a:pt x="708" y="616"/>
                </a:cubicBezTo>
                <a:cubicBezTo>
                  <a:pt x="712" y="602"/>
                  <a:pt x="718" y="588"/>
                  <a:pt x="723" y="574"/>
                </a:cubicBezTo>
                <a:cubicBezTo>
                  <a:pt x="725" y="569"/>
                  <a:pt x="727" y="564"/>
                  <a:pt x="729" y="559"/>
                </a:cubicBezTo>
                <a:cubicBezTo>
                  <a:pt x="731" y="556"/>
                  <a:pt x="733" y="553"/>
                  <a:pt x="735" y="551"/>
                </a:cubicBezTo>
                <a:cubicBezTo>
                  <a:pt x="736" y="551"/>
                  <a:pt x="736" y="552"/>
                  <a:pt x="737" y="553"/>
                </a:cubicBezTo>
                <a:cubicBezTo>
                  <a:pt x="731" y="556"/>
                  <a:pt x="731" y="564"/>
                  <a:pt x="728" y="569"/>
                </a:cubicBezTo>
                <a:cubicBezTo>
                  <a:pt x="726" y="574"/>
                  <a:pt x="724" y="580"/>
                  <a:pt x="724" y="586"/>
                </a:cubicBezTo>
                <a:cubicBezTo>
                  <a:pt x="724" y="586"/>
                  <a:pt x="724" y="587"/>
                  <a:pt x="724" y="586"/>
                </a:cubicBezTo>
                <a:cubicBezTo>
                  <a:pt x="726" y="581"/>
                  <a:pt x="728" y="576"/>
                  <a:pt x="729" y="570"/>
                </a:cubicBezTo>
                <a:cubicBezTo>
                  <a:pt x="730" y="566"/>
                  <a:pt x="732" y="563"/>
                  <a:pt x="734" y="559"/>
                </a:cubicBezTo>
                <a:cubicBezTo>
                  <a:pt x="735" y="558"/>
                  <a:pt x="736" y="555"/>
                  <a:pt x="737" y="554"/>
                </a:cubicBezTo>
                <a:cubicBezTo>
                  <a:pt x="741" y="559"/>
                  <a:pt x="745" y="565"/>
                  <a:pt x="750" y="570"/>
                </a:cubicBezTo>
                <a:cubicBezTo>
                  <a:pt x="748" y="571"/>
                  <a:pt x="746" y="578"/>
                  <a:pt x="746" y="579"/>
                </a:cubicBezTo>
                <a:cubicBezTo>
                  <a:pt x="743" y="585"/>
                  <a:pt x="740" y="591"/>
                  <a:pt x="736" y="598"/>
                </a:cubicBezTo>
                <a:cubicBezTo>
                  <a:pt x="733" y="605"/>
                  <a:pt x="729" y="612"/>
                  <a:pt x="726" y="619"/>
                </a:cubicBezTo>
                <a:cubicBezTo>
                  <a:pt x="722" y="627"/>
                  <a:pt x="717" y="634"/>
                  <a:pt x="712" y="642"/>
                </a:cubicBezTo>
                <a:cubicBezTo>
                  <a:pt x="711" y="642"/>
                  <a:pt x="712" y="643"/>
                  <a:pt x="712" y="643"/>
                </a:cubicBezTo>
                <a:cubicBezTo>
                  <a:pt x="708" y="648"/>
                  <a:pt x="707" y="654"/>
                  <a:pt x="708" y="660"/>
                </a:cubicBezTo>
                <a:cubicBezTo>
                  <a:pt x="709" y="663"/>
                  <a:pt x="711" y="666"/>
                  <a:pt x="714" y="668"/>
                </a:cubicBezTo>
                <a:cubicBezTo>
                  <a:pt x="716" y="670"/>
                  <a:pt x="720" y="671"/>
                  <a:pt x="722" y="671"/>
                </a:cubicBezTo>
                <a:cubicBezTo>
                  <a:pt x="723" y="671"/>
                  <a:pt x="723" y="671"/>
                  <a:pt x="723" y="670"/>
                </a:cubicBezTo>
                <a:cubicBezTo>
                  <a:pt x="720" y="673"/>
                  <a:pt x="717" y="677"/>
                  <a:pt x="714" y="680"/>
                </a:cubicBezTo>
                <a:cubicBezTo>
                  <a:pt x="713" y="681"/>
                  <a:pt x="712" y="682"/>
                  <a:pt x="711" y="683"/>
                </a:cubicBezTo>
                <a:cubicBezTo>
                  <a:pt x="711" y="683"/>
                  <a:pt x="711" y="683"/>
                  <a:pt x="710" y="683"/>
                </a:cubicBezTo>
                <a:cubicBezTo>
                  <a:pt x="705" y="682"/>
                  <a:pt x="702" y="673"/>
                  <a:pt x="702" y="668"/>
                </a:cubicBezTo>
                <a:cubicBezTo>
                  <a:pt x="702" y="667"/>
                  <a:pt x="701" y="667"/>
                  <a:pt x="701" y="668"/>
                </a:cubicBezTo>
                <a:cubicBezTo>
                  <a:pt x="700" y="674"/>
                  <a:pt x="701" y="681"/>
                  <a:pt x="706" y="685"/>
                </a:cubicBezTo>
                <a:close/>
                <a:moveTo>
                  <a:pt x="789" y="596"/>
                </a:moveTo>
                <a:cubicBezTo>
                  <a:pt x="778" y="622"/>
                  <a:pt x="756" y="644"/>
                  <a:pt x="733" y="660"/>
                </a:cubicBezTo>
                <a:cubicBezTo>
                  <a:pt x="734" y="658"/>
                  <a:pt x="734" y="655"/>
                  <a:pt x="736" y="653"/>
                </a:cubicBezTo>
                <a:cubicBezTo>
                  <a:pt x="738" y="649"/>
                  <a:pt x="741" y="646"/>
                  <a:pt x="744" y="643"/>
                </a:cubicBezTo>
                <a:cubicBezTo>
                  <a:pt x="749" y="637"/>
                  <a:pt x="753" y="631"/>
                  <a:pt x="758" y="625"/>
                </a:cubicBezTo>
                <a:cubicBezTo>
                  <a:pt x="762" y="618"/>
                  <a:pt x="767" y="610"/>
                  <a:pt x="772" y="604"/>
                </a:cubicBezTo>
                <a:cubicBezTo>
                  <a:pt x="775" y="600"/>
                  <a:pt x="779" y="596"/>
                  <a:pt x="779" y="591"/>
                </a:cubicBezTo>
                <a:cubicBezTo>
                  <a:pt x="782" y="593"/>
                  <a:pt x="786" y="595"/>
                  <a:pt x="789" y="596"/>
                </a:cubicBezTo>
                <a:cubicBezTo>
                  <a:pt x="789" y="596"/>
                  <a:pt x="789" y="596"/>
                  <a:pt x="789" y="596"/>
                </a:cubicBezTo>
                <a:close/>
                <a:moveTo>
                  <a:pt x="792" y="597"/>
                </a:moveTo>
                <a:cubicBezTo>
                  <a:pt x="794" y="598"/>
                  <a:pt x="795" y="598"/>
                  <a:pt x="797" y="599"/>
                </a:cubicBezTo>
                <a:cubicBezTo>
                  <a:pt x="794" y="610"/>
                  <a:pt x="784" y="618"/>
                  <a:pt x="776" y="625"/>
                </a:cubicBezTo>
                <a:cubicBezTo>
                  <a:pt x="775" y="626"/>
                  <a:pt x="775" y="626"/>
                  <a:pt x="774" y="627"/>
                </a:cubicBezTo>
                <a:cubicBezTo>
                  <a:pt x="781" y="618"/>
                  <a:pt x="788" y="608"/>
                  <a:pt x="792" y="597"/>
                </a:cubicBezTo>
                <a:close/>
                <a:moveTo>
                  <a:pt x="777" y="590"/>
                </a:moveTo>
                <a:cubicBezTo>
                  <a:pt x="776" y="596"/>
                  <a:pt x="769" y="603"/>
                  <a:pt x="765" y="608"/>
                </a:cubicBezTo>
                <a:cubicBezTo>
                  <a:pt x="761" y="615"/>
                  <a:pt x="756" y="621"/>
                  <a:pt x="751" y="628"/>
                </a:cubicBezTo>
                <a:cubicBezTo>
                  <a:pt x="746" y="634"/>
                  <a:pt x="741" y="640"/>
                  <a:pt x="736" y="647"/>
                </a:cubicBezTo>
                <a:cubicBezTo>
                  <a:pt x="732" y="652"/>
                  <a:pt x="730" y="658"/>
                  <a:pt x="727" y="664"/>
                </a:cubicBezTo>
                <a:cubicBezTo>
                  <a:pt x="727" y="664"/>
                  <a:pt x="727" y="664"/>
                  <a:pt x="727" y="664"/>
                </a:cubicBezTo>
                <a:cubicBezTo>
                  <a:pt x="726" y="665"/>
                  <a:pt x="724" y="667"/>
                  <a:pt x="722" y="667"/>
                </a:cubicBezTo>
                <a:cubicBezTo>
                  <a:pt x="720" y="666"/>
                  <a:pt x="717" y="666"/>
                  <a:pt x="715" y="665"/>
                </a:cubicBezTo>
                <a:cubicBezTo>
                  <a:pt x="713" y="663"/>
                  <a:pt x="712" y="660"/>
                  <a:pt x="712" y="657"/>
                </a:cubicBezTo>
                <a:cubicBezTo>
                  <a:pt x="711" y="653"/>
                  <a:pt x="713" y="648"/>
                  <a:pt x="714" y="644"/>
                </a:cubicBezTo>
                <a:cubicBezTo>
                  <a:pt x="724" y="634"/>
                  <a:pt x="732" y="623"/>
                  <a:pt x="740" y="611"/>
                </a:cubicBezTo>
                <a:cubicBezTo>
                  <a:pt x="744" y="605"/>
                  <a:pt x="748" y="599"/>
                  <a:pt x="752" y="593"/>
                </a:cubicBezTo>
                <a:cubicBezTo>
                  <a:pt x="756" y="589"/>
                  <a:pt x="760" y="585"/>
                  <a:pt x="762" y="580"/>
                </a:cubicBezTo>
                <a:cubicBezTo>
                  <a:pt x="765" y="582"/>
                  <a:pt x="768" y="584"/>
                  <a:pt x="772" y="586"/>
                </a:cubicBezTo>
                <a:cubicBezTo>
                  <a:pt x="773" y="587"/>
                  <a:pt x="775" y="588"/>
                  <a:pt x="777" y="589"/>
                </a:cubicBezTo>
                <a:cubicBezTo>
                  <a:pt x="777" y="589"/>
                  <a:pt x="777" y="589"/>
                  <a:pt x="777" y="590"/>
                </a:cubicBezTo>
                <a:close/>
                <a:moveTo>
                  <a:pt x="749" y="591"/>
                </a:moveTo>
                <a:cubicBezTo>
                  <a:pt x="745" y="597"/>
                  <a:pt x="741" y="603"/>
                  <a:pt x="737" y="610"/>
                </a:cubicBezTo>
                <a:cubicBezTo>
                  <a:pt x="734" y="614"/>
                  <a:pt x="731" y="619"/>
                  <a:pt x="728" y="623"/>
                </a:cubicBezTo>
                <a:cubicBezTo>
                  <a:pt x="728" y="622"/>
                  <a:pt x="729" y="621"/>
                  <a:pt x="729" y="621"/>
                </a:cubicBezTo>
                <a:cubicBezTo>
                  <a:pt x="732" y="614"/>
                  <a:pt x="735" y="606"/>
                  <a:pt x="739" y="600"/>
                </a:cubicBezTo>
                <a:cubicBezTo>
                  <a:pt x="742" y="593"/>
                  <a:pt x="746" y="587"/>
                  <a:pt x="749" y="580"/>
                </a:cubicBezTo>
                <a:cubicBezTo>
                  <a:pt x="750" y="579"/>
                  <a:pt x="752" y="574"/>
                  <a:pt x="752" y="571"/>
                </a:cubicBezTo>
                <a:cubicBezTo>
                  <a:pt x="754" y="574"/>
                  <a:pt x="757" y="576"/>
                  <a:pt x="760" y="578"/>
                </a:cubicBezTo>
                <a:cubicBezTo>
                  <a:pt x="756" y="582"/>
                  <a:pt x="753" y="587"/>
                  <a:pt x="749" y="591"/>
                </a:cubicBezTo>
                <a:close/>
                <a:moveTo>
                  <a:pt x="744" y="695"/>
                </a:moveTo>
                <a:cubicBezTo>
                  <a:pt x="743" y="697"/>
                  <a:pt x="741" y="699"/>
                  <a:pt x="740" y="701"/>
                </a:cubicBezTo>
                <a:cubicBezTo>
                  <a:pt x="735" y="706"/>
                  <a:pt x="729" y="709"/>
                  <a:pt x="722" y="708"/>
                </a:cubicBezTo>
                <a:cubicBezTo>
                  <a:pt x="717" y="708"/>
                  <a:pt x="713" y="707"/>
                  <a:pt x="709" y="704"/>
                </a:cubicBezTo>
                <a:cubicBezTo>
                  <a:pt x="714" y="706"/>
                  <a:pt x="720" y="705"/>
                  <a:pt x="724" y="704"/>
                </a:cubicBezTo>
                <a:cubicBezTo>
                  <a:pt x="731" y="701"/>
                  <a:pt x="738" y="697"/>
                  <a:pt x="744" y="693"/>
                </a:cubicBezTo>
                <a:cubicBezTo>
                  <a:pt x="744" y="694"/>
                  <a:pt x="744" y="694"/>
                  <a:pt x="744" y="695"/>
                </a:cubicBezTo>
                <a:close/>
                <a:moveTo>
                  <a:pt x="821" y="625"/>
                </a:moveTo>
                <a:cubicBezTo>
                  <a:pt x="821" y="625"/>
                  <a:pt x="821" y="625"/>
                  <a:pt x="820" y="625"/>
                </a:cubicBezTo>
                <a:cubicBezTo>
                  <a:pt x="811" y="635"/>
                  <a:pt x="800" y="644"/>
                  <a:pt x="789" y="653"/>
                </a:cubicBezTo>
                <a:cubicBezTo>
                  <a:pt x="779" y="662"/>
                  <a:pt x="768" y="671"/>
                  <a:pt x="757" y="679"/>
                </a:cubicBezTo>
                <a:cubicBezTo>
                  <a:pt x="748" y="686"/>
                  <a:pt x="738" y="694"/>
                  <a:pt x="727" y="699"/>
                </a:cubicBezTo>
                <a:cubicBezTo>
                  <a:pt x="722" y="701"/>
                  <a:pt x="718" y="702"/>
                  <a:pt x="713" y="702"/>
                </a:cubicBezTo>
                <a:cubicBezTo>
                  <a:pt x="709" y="701"/>
                  <a:pt x="706" y="699"/>
                  <a:pt x="708" y="694"/>
                </a:cubicBezTo>
                <a:cubicBezTo>
                  <a:pt x="710" y="688"/>
                  <a:pt x="716" y="683"/>
                  <a:pt x="720" y="678"/>
                </a:cubicBezTo>
                <a:cubicBezTo>
                  <a:pt x="725" y="673"/>
                  <a:pt x="730" y="669"/>
                  <a:pt x="735" y="664"/>
                </a:cubicBezTo>
                <a:cubicBezTo>
                  <a:pt x="745" y="656"/>
                  <a:pt x="755" y="648"/>
                  <a:pt x="765" y="640"/>
                </a:cubicBezTo>
                <a:cubicBezTo>
                  <a:pt x="772" y="633"/>
                  <a:pt x="780" y="627"/>
                  <a:pt x="787" y="620"/>
                </a:cubicBezTo>
                <a:cubicBezTo>
                  <a:pt x="792" y="614"/>
                  <a:pt x="798" y="608"/>
                  <a:pt x="800" y="599"/>
                </a:cubicBezTo>
                <a:cubicBezTo>
                  <a:pt x="801" y="599"/>
                  <a:pt x="802" y="599"/>
                  <a:pt x="803" y="599"/>
                </a:cubicBezTo>
                <a:cubicBezTo>
                  <a:pt x="807" y="600"/>
                  <a:pt x="812" y="599"/>
                  <a:pt x="817" y="599"/>
                </a:cubicBezTo>
                <a:cubicBezTo>
                  <a:pt x="820" y="599"/>
                  <a:pt x="822" y="599"/>
                  <a:pt x="824" y="598"/>
                </a:cubicBezTo>
                <a:cubicBezTo>
                  <a:pt x="822" y="607"/>
                  <a:pt x="821" y="615"/>
                  <a:pt x="821" y="625"/>
                </a:cubicBezTo>
                <a:close/>
                <a:moveTo>
                  <a:pt x="824" y="594"/>
                </a:moveTo>
                <a:cubicBezTo>
                  <a:pt x="820" y="597"/>
                  <a:pt x="814" y="595"/>
                  <a:pt x="810" y="596"/>
                </a:cubicBezTo>
                <a:cubicBezTo>
                  <a:pt x="806" y="596"/>
                  <a:pt x="802" y="596"/>
                  <a:pt x="797" y="595"/>
                </a:cubicBezTo>
                <a:cubicBezTo>
                  <a:pt x="787" y="592"/>
                  <a:pt x="776" y="586"/>
                  <a:pt x="767" y="580"/>
                </a:cubicBezTo>
                <a:cubicBezTo>
                  <a:pt x="750" y="569"/>
                  <a:pt x="737" y="550"/>
                  <a:pt x="730" y="532"/>
                </a:cubicBezTo>
                <a:cubicBezTo>
                  <a:pt x="727" y="527"/>
                  <a:pt x="725" y="522"/>
                  <a:pt x="724" y="516"/>
                </a:cubicBezTo>
                <a:cubicBezTo>
                  <a:pt x="724" y="516"/>
                  <a:pt x="724" y="516"/>
                  <a:pt x="724" y="516"/>
                </a:cubicBezTo>
                <a:cubicBezTo>
                  <a:pt x="717" y="496"/>
                  <a:pt x="713" y="474"/>
                  <a:pt x="718" y="453"/>
                </a:cubicBezTo>
                <a:cubicBezTo>
                  <a:pt x="720" y="442"/>
                  <a:pt x="724" y="430"/>
                  <a:pt x="732" y="422"/>
                </a:cubicBezTo>
                <a:cubicBezTo>
                  <a:pt x="736" y="419"/>
                  <a:pt x="740" y="418"/>
                  <a:pt x="744" y="415"/>
                </a:cubicBezTo>
                <a:cubicBezTo>
                  <a:pt x="745" y="414"/>
                  <a:pt x="746" y="414"/>
                  <a:pt x="747" y="413"/>
                </a:cubicBezTo>
                <a:cubicBezTo>
                  <a:pt x="750" y="412"/>
                  <a:pt x="753" y="412"/>
                  <a:pt x="755" y="411"/>
                </a:cubicBezTo>
                <a:cubicBezTo>
                  <a:pt x="769" y="409"/>
                  <a:pt x="782" y="405"/>
                  <a:pt x="795" y="399"/>
                </a:cubicBezTo>
                <a:cubicBezTo>
                  <a:pt x="796" y="399"/>
                  <a:pt x="796" y="399"/>
                  <a:pt x="797" y="398"/>
                </a:cubicBezTo>
                <a:cubicBezTo>
                  <a:pt x="803" y="397"/>
                  <a:pt x="808" y="394"/>
                  <a:pt x="815" y="395"/>
                </a:cubicBezTo>
                <a:cubicBezTo>
                  <a:pt x="816" y="396"/>
                  <a:pt x="817" y="396"/>
                  <a:pt x="817" y="396"/>
                </a:cubicBezTo>
                <a:cubicBezTo>
                  <a:pt x="822" y="397"/>
                  <a:pt x="827" y="398"/>
                  <a:pt x="831" y="399"/>
                </a:cubicBezTo>
                <a:cubicBezTo>
                  <a:pt x="840" y="402"/>
                  <a:pt x="848" y="406"/>
                  <a:pt x="854" y="412"/>
                </a:cubicBezTo>
                <a:cubicBezTo>
                  <a:pt x="866" y="423"/>
                  <a:pt x="879" y="437"/>
                  <a:pt x="884" y="452"/>
                </a:cubicBezTo>
                <a:cubicBezTo>
                  <a:pt x="889" y="470"/>
                  <a:pt x="892" y="490"/>
                  <a:pt x="890" y="509"/>
                </a:cubicBezTo>
                <a:cubicBezTo>
                  <a:pt x="890" y="517"/>
                  <a:pt x="888" y="525"/>
                  <a:pt x="887" y="534"/>
                </a:cubicBezTo>
                <a:cubicBezTo>
                  <a:pt x="887" y="540"/>
                  <a:pt x="887" y="547"/>
                  <a:pt x="885" y="553"/>
                </a:cubicBezTo>
                <a:cubicBezTo>
                  <a:pt x="879" y="543"/>
                  <a:pt x="866" y="539"/>
                  <a:pt x="857" y="548"/>
                </a:cubicBezTo>
                <a:cubicBezTo>
                  <a:pt x="846" y="558"/>
                  <a:pt x="834" y="567"/>
                  <a:pt x="829" y="582"/>
                </a:cubicBezTo>
                <a:cubicBezTo>
                  <a:pt x="827" y="586"/>
                  <a:pt x="826" y="590"/>
                  <a:pt x="825" y="594"/>
                </a:cubicBezTo>
                <a:cubicBezTo>
                  <a:pt x="825" y="594"/>
                  <a:pt x="824" y="594"/>
                  <a:pt x="824" y="594"/>
                </a:cubicBezTo>
                <a:close/>
                <a:moveTo>
                  <a:pt x="935" y="598"/>
                </a:moveTo>
                <a:cubicBezTo>
                  <a:pt x="940" y="605"/>
                  <a:pt x="945" y="611"/>
                  <a:pt x="949" y="618"/>
                </a:cubicBezTo>
                <a:cubicBezTo>
                  <a:pt x="957" y="632"/>
                  <a:pt x="964" y="647"/>
                  <a:pt x="970" y="661"/>
                </a:cubicBezTo>
                <a:cubicBezTo>
                  <a:pt x="973" y="668"/>
                  <a:pt x="976" y="676"/>
                  <a:pt x="976" y="684"/>
                </a:cubicBezTo>
                <a:cubicBezTo>
                  <a:pt x="976" y="692"/>
                  <a:pt x="974" y="700"/>
                  <a:pt x="970" y="707"/>
                </a:cubicBezTo>
                <a:cubicBezTo>
                  <a:pt x="965" y="715"/>
                  <a:pt x="960" y="721"/>
                  <a:pt x="950" y="724"/>
                </a:cubicBezTo>
                <a:cubicBezTo>
                  <a:pt x="943" y="727"/>
                  <a:pt x="936" y="729"/>
                  <a:pt x="929" y="730"/>
                </a:cubicBezTo>
                <a:cubicBezTo>
                  <a:pt x="920" y="731"/>
                  <a:pt x="911" y="731"/>
                  <a:pt x="903" y="732"/>
                </a:cubicBezTo>
                <a:cubicBezTo>
                  <a:pt x="896" y="732"/>
                  <a:pt x="889" y="732"/>
                  <a:pt x="883" y="732"/>
                </a:cubicBezTo>
                <a:cubicBezTo>
                  <a:pt x="866" y="729"/>
                  <a:pt x="855" y="717"/>
                  <a:pt x="848" y="702"/>
                </a:cubicBezTo>
                <a:cubicBezTo>
                  <a:pt x="841" y="687"/>
                  <a:pt x="833" y="673"/>
                  <a:pt x="829" y="657"/>
                </a:cubicBezTo>
                <a:cubicBezTo>
                  <a:pt x="826" y="642"/>
                  <a:pt x="824" y="626"/>
                  <a:pt x="826" y="610"/>
                </a:cubicBezTo>
                <a:cubicBezTo>
                  <a:pt x="827" y="595"/>
                  <a:pt x="832" y="577"/>
                  <a:pt x="844" y="565"/>
                </a:cubicBezTo>
                <a:cubicBezTo>
                  <a:pt x="849" y="560"/>
                  <a:pt x="854" y="554"/>
                  <a:pt x="860" y="549"/>
                </a:cubicBezTo>
                <a:cubicBezTo>
                  <a:pt x="864" y="547"/>
                  <a:pt x="868" y="546"/>
                  <a:pt x="871" y="547"/>
                </a:cubicBezTo>
                <a:cubicBezTo>
                  <a:pt x="868" y="549"/>
                  <a:pt x="864" y="551"/>
                  <a:pt x="862" y="555"/>
                </a:cubicBezTo>
                <a:cubicBezTo>
                  <a:pt x="856" y="565"/>
                  <a:pt x="855" y="577"/>
                  <a:pt x="848" y="587"/>
                </a:cubicBezTo>
                <a:cubicBezTo>
                  <a:pt x="842" y="597"/>
                  <a:pt x="839" y="609"/>
                  <a:pt x="838" y="621"/>
                </a:cubicBezTo>
                <a:cubicBezTo>
                  <a:pt x="836" y="632"/>
                  <a:pt x="836" y="644"/>
                  <a:pt x="839" y="655"/>
                </a:cubicBezTo>
                <a:cubicBezTo>
                  <a:pt x="840" y="656"/>
                  <a:pt x="841" y="656"/>
                  <a:pt x="841" y="655"/>
                </a:cubicBezTo>
                <a:cubicBezTo>
                  <a:pt x="839" y="636"/>
                  <a:pt x="840" y="613"/>
                  <a:pt x="848" y="595"/>
                </a:cubicBezTo>
                <a:cubicBezTo>
                  <a:pt x="850" y="590"/>
                  <a:pt x="854" y="586"/>
                  <a:pt x="856" y="580"/>
                </a:cubicBezTo>
                <a:cubicBezTo>
                  <a:pt x="858" y="576"/>
                  <a:pt x="859" y="572"/>
                  <a:pt x="861" y="567"/>
                </a:cubicBezTo>
                <a:cubicBezTo>
                  <a:pt x="862" y="562"/>
                  <a:pt x="864" y="557"/>
                  <a:pt x="868" y="553"/>
                </a:cubicBezTo>
                <a:cubicBezTo>
                  <a:pt x="871" y="551"/>
                  <a:pt x="873" y="549"/>
                  <a:pt x="876" y="550"/>
                </a:cubicBezTo>
                <a:cubicBezTo>
                  <a:pt x="877" y="550"/>
                  <a:pt x="877" y="550"/>
                  <a:pt x="877" y="550"/>
                </a:cubicBezTo>
                <a:cubicBezTo>
                  <a:pt x="879" y="552"/>
                  <a:pt x="881" y="554"/>
                  <a:pt x="882" y="556"/>
                </a:cubicBezTo>
                <a:cubicBezTo>
                  <a:pt x="882" y="556"/>
                  <a:pt x="882" y="557"/>
                  <a:pt x="882" y="557"/>
                </a:cubicBezTo>
                <a:cubicBezTo>
                  <a:pt x="880" y="556"/>
                  <a:pt x="877" y="557"/>
                  <a:pt x="875" y="557"/>
                </a:cubicBezTo>
                <a:cubicBezTo>
                  <a:pt x="871" y="558"/>
                  <a:pt x="868" y="560"/>
                  <a:pt x="866" y="564"/>
                </a:cubicBezTo>
                <a:cubicBezTo>
                  <a:pt x="866" y="564"/>
                  <a:pt x="866" y="565"/>
                  <a:pt x="866" y="564"/>
                </a:cubicBezTo>
                <a:cubicBezTo>
                  <a:pt x="869" y="562"/>
                  <a:pt x="872" y="559"/>
                  <a:pt x="875" y="558"/>
                </a:cubicBezTo>
                <a:cubicBezTo>
                  <a:pt x="878" y="558"/>
                  <a:pt x="881" y="559"/>
                  <a:pt x="884" y="559"/>
                </a:cubicBezTo>
                <a:cubicBezTo>
                  <a:pt x="883" y="560"/>
                  <a:pt x="883" y="561"/>
                  <a:pt x="882" y="562"/>
                </a:cubicBezTo>
                <a:cubicBezTo>
                  <a:pt x="880" y="560"/>
                  <a:pt x="877" y="562"/>
                  <a:pt x="875" y="564"/>
                </a:cubicBezTo>
                <a:cubicBezTo>
                  <a:pt x="875" y="564"/>
                  <a:pt x="875" y="564"/>
                  <a:pt x="874" y="564"/>
                </a:cubicBezTo>
                <a:cubicBezTo>
                  <a:pt x="872" y="565"/>
                  <a:pt x="870" y="568"/>
                  <a:pt x="868" y="571"/>
                </a:cubicBezTo>
                <a:cubicBezTo>
                  <a:pt x="866" y="574"/>
                  <a:pt x="864" y="578"/>
                  <a:pt x="862" y="582"/>
                </a:cubicBezTo>
                <a:cubicBezTo>
                  <a:pt x="858" y="589"/>
                  <a:pt x="855" y="596"/>
                  <a:pt x="853" y="604"/>
                </a:cubicBezTo>
                <a:cubicBezTo>
                  <a:pt x="851" y="611"/>
                  <a:pt x="851" y="618"/>
                  <a:pt x="851" y="626"/>
                </a:cubicBezTo>
                <a:cubicBezTo>
                  <a:pt x="850" y="631"/>
                  <a:pt x="849" y="637"/>
                  <a:pt x="852" y="642"/>
                </a:cubicBezTo>
                <a:cubicBezTo>
                  <a:pt x="852" y="643"/>
                  <a:pt x="853" y="642"/>
                  <a:pt x="853" y="642"/>
                </a:cubicBezTo>
                <a:cubicBezTo>
                  <a:pt x="850" y="629"/>
                  <a:pt x="852" y="614"/>
                  <a:pt x="856" y="601"/>
                </a:cubicBezTo>
                <a:cubicBezTo>
                  <a:pt x="858" y="595"/>
                  <a:pt x="861" y="589"/>
                  <a:pt x="864" y="583"/>
                </a:cubicBezTo>
                <a:cubicBezTo>
                  <a:pt x="861" y="592"/>
                  <a:pt x="859" y="602"/>
                  <a:pt x="859" y="610"/>
                </a:cubicBezTo>
                <a:cubicBezTo>
                  <a:pt x="858" y="614"/>
                  <a:pt x="859" y="618"/>
                  <a:pt x="859" y="622"/>
                </a:cubicBezTo>
                <a:cubicBezTo>
                  <a:pt x="859" y="625"/>
                  <a:pt x="858" y="628"/>
                  <a:pt x="859" y="631"/>
                </a:cubicBezTo>
                <a:cubicBezTo>
                  <a:pt x="860" y="638"/>
                  <a:pt x="861" y="646"/>
                  <a:pt x="865" y="652"/>
                </a:cubicBezTo>
                <a:cubicBezTo>
                  <a:pt x="865" y="652"/>
                  <a:pt x="865" y="652"/>
                  <a:pt x="865" y="651"/>
                </a:cubicBezTo>
                <a:cubicBezTo>
                  <a:pt x="863" y="645"/>
                  <a:pt x="861" y="638"/>
                  <a:pt x="860" y="631"/>
                </a:cubicBezTo>
                <a:cubicBezTo>
                  <a:pt x="860" y="627"/>
                  <a:pt x="859" y="624"/>
                  <a:pt x="859" y="620"/>
                </a:cubicBezTo>
                <a:cubicBezTo>
                  <a:pt x="860" y="617"/>
                  <a:pt x="861" y="614"/>
                  <a:pt x="861" y="611"/>
                </a:cubicBezTo>
                <a:cubicBezTo>
                  <a:pt x="861" y="604"/>
                  <a:pt x="862" y="597"/>
                  <a:pt x="864" y="591"/>
                </a:cubicBezTo>
                <a:cubicBezTo>
                  <a:pt x="866" y="584"/>
                  <a:pt x="869" y="579"/>
                  <a:pt x="873" y="573"/>
                </a:cubicBezTo>
                <a:cubicBezTo>
                  <a:pt x="873" y="574"/>
                  <a:pt x="873" y="575"/>
                  <a:pt x="873" y="576"/>
                </a:cubicBezTo>
                <a:cubicBezTo>
                  <a:pt x="871" y="582"/>
                  <a:pt x="869" y="588"/>
                  <a:pt x="867" y="595"/>
                </a:cubicBezTo>
                <a:cubicBezTo>
                  <a:pt x="867" y="599"/>
                  <a:pt x="867" y="603"/>
                  <a:pt x="866" y="607"/>
                </a:cubicBezTo>
                <a:cubicBezTo>
                  <a:pt x="866" y="611"/>
                  <a:pt x="865" y="614"/>
                  <a:pt x="865" y="618"/>
                </a:cubicBezTo>
                <a:cubicBezTo>
                  <a:pt x="866" y="627"/>
                  <a:pt x="866" y="636"/>
                  <a:pt x="868" y="644"/>
                </a:cubicBezTo>
                <a:cubicBezTo>
                  <a:pt x="869" y="652"/>
                  <a:pt x="871" y="660"/>
                  <a:pt x="872" y="668"/>
                </a:cubicBezTo>
                <a:cubicBezTo>
                  <a:pt x="872" y="668"/>
                  <a:pt x="873" y="668"/>
                  <a:pt x="873" y="668"/>
                </a:cubicBezTo>
                <a:cubicBezTo>
                  <a:pt x="873" y="659"/>
                  <a:pt x="870" y="651"/>
                  <a:pt x="869" y="642"/>
                </a:cubicBezTo>
                <a:cubicBezTo>
                  <a:pt x="868" y="634"/>
                  <a:pt x="867" y="626"/>
                  <a:pt x="867" y="618"/>
                </a:cubicBezTo>
                <a:cubicBezTo>
                  <a:pt x="867" y="613"/>
                  <a:pt x="867" y="608"/>
                  <a:pt x="868" y="603"/>
                </a:cubicBezTo>
                <a:cubicBezTo>
                  <a:pt x="869" y="600"/>
                  <a:pt x="868" y="595"/>
                  <a:pt x="869" y="592"/>
                </a:cubicBezTo>
                <a:cubicBezTo>
                  <a:pt x="870" y="588"/>
                  <a:pt x="873" y="584"/>
                  <a:pt x="874" y="579"/>
                </a:cubicBezTo>
                <a:cubicBezTo>
                  <a:pt x="875" y="580"/>
                  <a:pt x="875" y="580"/>
                  <a:pt x="875" y="581"/>
                </a:cubicBezTo>
                <a:cubicBezTo>
                  <a:pt x="875" y="581"/>
                  <a:pt x="875" y="581"/>
                  <a:pt x="875" y="581"/>
                </a:cubicBezTo>
                <a:cubicBezTo>
                  <a:pt x="874" y="584"/>
                  <a:pt x="873" y="589"/>
                  <a:pt x="872" y="592"/>
                </a:cubicBezTo>
                <a:cubicBezTo>
                  <a:pt x="871" y="596"/>
                  <a:pt x="871" y="601"/>
                  <a:pt x="870" y="606"/>
                </a:cubicBezTo>
                <a:cubicBezTo>
                  <a:pt x="870" y="607"/>
                  <a:pt x="872" y="607"/>
                  <a:pt x="872" y="606"/>
                </a:cubicBezTo>
                <a:cubicBezTo>
                  <a:pt x="873" y="601"/>
                  <a:pt x="874" y="596"/>
                  <a:pt x="875" y="591"/>
                </a:cubicBezTo>
                <a:cubicBezTo>
                  <a:pt x="875" y="588"/>
                  <a:pt x="877" y="585"/>
                  <a:pt x="878" y="583"/>
                </a:cubicBezTo>
                <a:cubicBezTo>
                  <a:pt x="879" y="584"/>
                  <a:pt x="881" y="585"/>
                  <a:pt x="883" y="586"/>
                </a:cubicBezTo>
                <a:cubicBezTo>
                  <a:pt x="882" y="587"/>
                  <a:pt x="882" y="588"/>
                  <a:pt x="882" y="589"/>
                </a:cubicBezTo>
                <a:cubicBezTo>
                  <a:pt x="882" y="591"/>
                  <a:pt x="882" y="593"/>
                  <a:pt x="883" y="594"/>
                </a:cubicBezTo>
                <a:cubicBezTo>
                  <a:pt x="883" y="595"/>
                  <a:pt x="884" y="594"/>
                  <a:pt x="884" y="594"/>
                </a:cubicBezTo>
                <a:cubicBezTo>
                  <a:pt x="884" y="592"/>
                  <a:pt x="884" y="590"/>
                  <a:pt x="884" y="589"/>
                </a:cubicBezTo>
                <a:cubicBezTo>
                  <a:pt x="884" y="588"/>
                  <a:pt x="884" y="587"/>
                  <a:pt x="884" y="586"/>
                </a:cubicBezTo>
                <a:cubicBezTo>
                  <a:pt x="886" y="587"/>
                  <a:pt x="889" y="587"/>
                  <a:pt x="891" y="586"/>
                </a:cubicBezTo>
                <a:cubicBezTo>
                  <a:pt x="891" y="591"/>
                  <a:pt x="895" y="598"/>
                  <a:pt x="898" y="602"/>
                </a:cubicBezTo>
                <a:cubicBezTo>
                  <a:pt x="904" y="609"/>
                  <a:pt x="908" y="617"/>
                  <a:pt x="916" y="624"/>
                </a:cubicBezTo>
                <a:cubicBezTo>
                  <a:pt x="916" y="624"/>
                  <a:pt x="917" y="623"/>
                  <a:pt x="916" y="623"/>
                </a:cubicBezTo>
                <a:cubicBezTo>
                  <a:pt x="910" y="617"/>
                  <a:pt x="906" y="609"/>
                  <a:pt x="901" y="601"/>
                </a:cubicBezTo>
                <a:cubicBezTo>
                  <a:pt x="900" y="599"/>
                  <a:pt x="899" y="597"/>
                  <a:pt x="898" y="595"/>
                </a:cubicBezTo>
                <a:cubicBezTo>
                  <a:pt x="900" y="598"/>
                  <a:pt x="902" y="601"/>
                  <a:pt x="904" y="603"/>
                </a:cubicBezTo>
                <a:cubicBezTo>
                  <a:pt x="908" y="608"/>
                  <a:pt x="913" y="612"/>
                  <a:pt x="918" y="616"/>
                </a:cubicBezTo>
                <a:cubicBezTo>
                  <a:pt x="923" y="620"/>
                  <a:pt x="927" y="623"/>
                  <a:pt x="931" y="628"/>
                </a:cubicBezTo>
                <a:cubicBezTo>
                  <a:pt x="931" y="629"/>
                  <a:pt x="932" y="629"/>
                  <a:pt x="932" y="628"/>
                </a:cubicBezTo>
                <a:cubicBezTo>
                  <a:pt x="931" y="624"/>
                  <a:pt x="928" y="622"/>
                  <a:pt x="925" y="619"/>
                </a:cubicBezTo>
                <a:cubicBezTo>
                  <a:pt x="920" y="615"/>
                  <a:pt x="915" y="612"/>
                  <a:pt x="911" y="607"/>
                </a:cubicBezTo>
                <a:cubicBezTo>
                  <a:pt x="904" y="600"/>
                  <a:pt x="899" y="593"/>
                  <a:pt x="896" y="584"/>
                </a:cubicBezTo>
                <a:cubicBezTo>
                  <a:pt x="897" y="584"/>
                  <a:pt x="897" y="584"/>
                  <a:pt x="898" y="584"/>
                </a:cubicBezTo>
                <a:cubicBezTo>
                  <a:pt x="898" y="586"/>
                  <a:pt x="900" y="588"/>
                  <a:pt x="901" y="590"/>
                </a:cubicBezTo>
                <a:cubicBezTo>
                  <a:pt x="903" y="593"/>
                  <a:pt x="906" y="596"/>
                  <a:pt x="908" y="599"/>
                </a:cubicBezTo>
                <a:cubicBezTo>
                  <a:pt x="911" y="602"/>
                  <a:pt x="914" y="604"/>
                  <a:pt x="918" y="607"/>
                </a:cubicBezTo>
                <a:cubicBezTo>
                  <a:pt x="923" y="612"/>
                  <a:pt x="927" y="617"/>
                  <a:pt x="932" y="622"/>
                </a:cubicBezTo>
                <a:cubicBezTo>
                  <a:pt x="932" y="622"/>
                  <a:pt x="933" y="622"/>
                  <a:pt x="933" y="621"/>
                </a:cubicBezTo>
                <a:cubicBezTo>
                  <a:pt x="929" y="612"/>
                  <a:pt x="919" y="607"/>
                  <a:pt x="912" y="599"/>
                </a:cubicBezTo>
                <a:cubicBezTo>
                  <a:pt x="908" y="594"/>
                  <a:pt x="904" y="590"/>
                  <a:pt x="901" y="584"/>
                </a:cubicBezTo>
                <a:cubicBezTo>
                  <a:pt x="902" y="584"/>
                  <a:pt x="904" y="585"/>
                  <a:pt x="905" y="585"/>
                </a:cubicBezTo>
                <a:cubicBezTo>
                  <a:pt x="905" y="585"/>
                  <a:pt x="905" y="585"/>
                  <a:pt x="905" y="585"/>
                </a:cubicBezTo>
                <a:cubicBezTo>
                  <a:pt x="904" y="591"/>
                  <a:pt x="911" y="595"/>
                  <a:pt x="914" y="598"/>
                </a:cubicBezTo>
                <a:cubicBezTo>
                  <a:pt x="921" y="605"/>
                  <a:pt x="928" y="612"/>
                  <a:pt x="936" y="617"/>
                </a:cubicBezTo>
                <a:cubicBezTo>
                  <a:pt x="937" y="617"/>
                  <a:pt x="937" y="617"/>
                  <a:pt x="937" y="616"/>
                </a:cubicBezTo>
                <a:cubicBezTo>
                  <a:pt x="931" y="610"/>
                  <a:pt x="923" y="606"/>
                  <a:pt x="918" y="599"/>
                </a:cubicBezTo>
                <a:cubicBezTo>
                  <a:pt x="914" y="595"/>
                  <a:pt x="908" y="591"/>
                  <a:pt x="907" y="585"/>
                </a:cubicBezTo>
                <a:cubicBezTo>
                  <a:pt x="909" y="586"/>
                  <a:pt x="911" y="586"/>
                  <a:pt x="913" y="587"/>
                </a:cubicBezTo>
                <a:cubicBezTo>
                  <a:pt x="912" y="587"/>
                  <a:pt x="912" y="588"/>
                  <a:pt x="913" y="588"/>
                </a:cubicBezTo>
                <a:cubicBezTo>
                  <a:pt x="915" y="593"/>
                  <a:pt x="920" y="597"/>
                  <a:pt x="924" y="601"/>
                </a:cubicBezTo>
                <a:cubicBezTo>
                  <a:pt x="928" y="605"/>
                  <a:pt x="932" y="609"/>
                  <a:pt x="936" y="613"/>
                </a:cubicBezTo>
                <a:cubicBezTo>
                  <a:pt x="936" y="613"/>
                  <a:pt x="937" y="613"/>
                  <a:pt x="937" y="612"/>
                </a:cubicBezTo>
                <a:cubicBezTo>
                  <a:pt x="937" y="610"/>
                  <a:pt x="935" y="608"/>
                  <a:pt x="933" y="607"/>
                </a:cubicBezTo>
                <a:cubicBezTo>
                  <a:pt x="930" y="604"/>
                  <a:pt x="927" y="601"/>
                  <a:pt x="924" y="598"/>
                </a:cubicBezTo>
                <a:cubicBezTo>
                  <a:pt x="921" y="595"/>
                  <a:pt x="918" y="592"/>
                  <a:pt x="916" y="589"/>
                </a:cubicBezTo>
                <a:cubicBezTo>
                  <a:pt x="916" y="588"/>
                  <a:pt x="915" y="588"/>
                  <a:pt x="915" y="587"/>
                </a:cubicBezTo>
                <a:cubicBezTo>
                  <a:pt x="918" y="588"/>
                  <a:pt x="922" y="588"/>
                  <a:pt x="925" y="588"/>
                </a:cubicBezTo>
                <a:cubicBezTo>
                  <a:pt x="929" y="591"/>
                  <a:pt x="932" y="595"/>
                  <a:pt x="935" y="598"/>
                </a:cubicBezTo>
                <a:close/>
                <a:moveTo>
                  <a:pt x="1145" y="566"/>
                </a:moveTo>
                <a:cubicBezTo>
                  <a:pt x="1133" y="572"/>
                  <a:pt x="1119" y="575"/>
                  <a:pt x="1106" y="580"/>
                </a:cubicBezTo>
                <a:cubicBezTo>
                  <a:pt x="1098" y="583"/>
                  <a:pt x="1090" y="584"/>
                  <a:pt x="1082" y="585"/>
                </a:cubicBezTo>
                <a:cubicBezTo>
                  <a:pt x="1075" y="585"/>
                  <a:pt x="1068" y="586"/>
                  <a:pt x="1061" y="587"/>
                </a:cubicBezTo>
                <a:cubicBezTo>
                  <a:pt x="1046" y="590"/>
                  <a:pt x="1030" y="592"/>
                  <a:pt x="1015" y="595"/>
                </a:cubicBezTo>
                <a:cubicBezTo>
                  <a:pt x="1007" y="596"/>
                  <a:pt x="999" y="597"/>
                  <a:pt x="991" y="596"/>
                </a:cubicBezTo>
                <a:cubicBezTo>
                  <a:pt x="983" y="596"/>
                  <a:pt x="976" y="596"/>
                  <a:pt x="968" y="593"/>
                </a:cubicBezTo>
                <a:cubicBezTo>
                  <a:pt x="963" y="591"/>
                  <a:pt x="958" y="589"/>
                  <a:pt x="953" y="588"/>
                </a:cubicBezTo>
                <a:cubicBezTo>
                  <a:pt x="950" y="587"/>
                  <a:pt x="946" y="585"/>
                  <a:pt x="943" y="586"/>
                </a:cubicBezTo>
                <a:cubicBezTo>
                  <a:pt x="943" y="586"/>
                  <a:pt x="943" y="586"/>
                  <a:pt x="943" y="586"/>
                </a:cubicBezTo>
                <a:cubicBezTo>
                  <a:pt x="939" y="584"/>
                  <a:pt x="934" y="585"/>
                  <a:pt x="931" y="585"/>
                </a:cubicBezTo>
                <a:cubicBezTo>
                  <a:pt x="929" y="585"/>
                  <a:pt x="927" y="585"/>
                  <a:pt x="924" y="584"/>
                </a:cubicBezTo>
                <a:cubicBezTo>
                  <a:pt x="923" y="584"/>
                  <a:pt x="921" y="583"/>
                  <a:pt x="919" y="584"/>
                </a:cubicBezTo>
                <a:cubicBezTo>
                  <a:pt x="919" y="584"/>
                  <a:pt x="919" y="584"/>
                  <a:pt x="919" y="584"/>
                </a:cubicBezTo>
                <a:cubicBezTo>
                  <a:pt x="916" y="583"/>
                  <a:pt x="914" y="583"/>
                  <a:pt x="911" y="582"/>
                </a:cubicBezTo>
                <a:cubicBezTo>
                  <a:pt x="907" y="581"/>
                  <a:pt x="889" y="576"/>
                  <a:pt x="887" y="584"/>
                </a:cubicBezTo>
                <a:cubicBezTo>
                  <a:pt x="885" y="583"/>
                  <a:pt x="882" y="582"/>
                  <a:pt x="880" y="580"/>
                </a:cubicBezTo>
                <a:cubicBezTo>
                  <a:pt x="880" y="579"/>
                  <a:pt x="879" y="579"/>
                  <a:pt x="879" y="579"/>
                </a:cubicBezTo>
                <a:cubicBezTo>
                  <a:pt x="880" y="578"/>
                  <a:pt x="880" y="578"/>
                  <a:pt x="880" y="577"/>
                </a:cubicBezTo>
                <a:cubicBezTo>
                  <a:pt x="880" y="574"/>
                  <a:pt x="882" y="571"/>
                  <a:pt x="883" y="569"/>
                </a:cubicBezTo>
                <a:cubicBezTo>
                  <a:pt x="883" y="569"/>
                  <a:pt x="884" y="569"/>
                  <a:pt x="884" y="568"/>
                </a:cubicBezTo>
                <a:cubicBezTo>
                  <a:pt x="885" y="565"/>
                  <a:pt x="886" y="561"/>
                  <a:pt x="888" y="558"/>
                </a:cubicBezTo>
                <a:cubicBezTo>
                  <a:pt x="889" y="558"/>
                  <a:pt x="890" y="558"/>
                  <a:pt x="891" y="558"/>
                </a:cubicBezTo>
                <a:cubicBezTo>
                  <a:pt x="891" y="559"/>
                  <a:pt x="890" y="560"/>
                  <a:pt x="889" y="561"/>
                </a:cubicBezTo>
                <a:cubicBezTo>
                  <a:pt x="888" y="563"/>
                  <a:pt x="886" y="567"/>
                  <a:pt x="888" y="569"/>
                </a:cubicBezTo>
                <a:cubicBezTo>
                  <a:pt x="888" y="569"/>
                  <a:pt x="889" y="569"/>
                  <a:pt x="889" y="569"/>
                </a:cubicBezTo>
                <a:cubicBezTo>
                  <a:pt x="891" y="567"/>
                  <a:pt x="891" y="563"/>
                  <a:pt x="893" y="561"/>
                </a:cubicBezTo>
                <a:cubicBezTo>
                  <a:pt x="893" y="560"/>
                  <a:pt x="894" y="559"/>
                  <a:pt x="895" y="557"/>
                </a:cubicBezTo>
                <a:cubicBezTo>
                  <a:pt x="897" y="557"/>
                  <a:pt x="899" y="557"/>
                  <a:pt x="901" y="557"/>
                </a:cubicBezTo>
                <a:cubicBezTo>
                  <a:pt x="899" y="558"/>
                  <a:pt x="897" y="560"/>
                  <a:pt x="896" y="562"/>
                </a:cubicBezTo>
                <a:cubicBezTo>
                  <a:pt x="895" y="564"/>
                  <a:pt x="892" y="567"/>
                  <a:pt x="894" y="569"/>
                </a:cubicBezTo>
                <a:cubicBezTo>
                  <a:pt x="894" y="570"/>
                  <a:pt x="895" y="570"/>
                  <a:pt x="895" y="569"/>
                </a:cubicBezTo>
                <a:cubicBezTo>
                  <a:pt x="897" y="568"/>
                  <a:pt x="897" y="565"/>
                  <a:pt x="899" y="563"/>
                </a:cubicBezTo>
                <a:cubicBezTo>
                  <a:pt x="900" y="561"/>
                  <a:pt x="902" y="558"/>
                  <a:pt x="905" y="557"/>
                </a:cubicBezTo>
                <a:cubicBezTo>
                  <a:pt x="905" y="557"/>
                  <a:pt x="906" y="557"/>
                  <a:pt x="907" y="557"/>
                </a:cubicBezTo>
                <a:cubicBezTo>
                  <a:pt x="907" y="557"/>
                  <a:pt x="906" y="558"/>
                  <a:pt x="906" y="559"/>
                </a:cubicBezTo>
                <a:cubicBezTo>
                  <a:pt x="905" y="560"/>
                  <a:pt x="901" y="564"/>
                  <a:pt x="903" y="566"/>
                </a:cubicBezTo>
                <a:cubicBezTo>
                  <a:pt x="903" y="566"/>
                  <a:pt x="904" y="567"/>
                  <a:pt x="904" y="566"/>
                </a:cubicBezTo>
                <a:cubicBezTo>
                  <a:pt x="905" y="566"/>
                  <a:pt x="905" y="565"/>
                  <a:pt x="906" y="564"/>
                </a:cubicBezTo>
                <a:cubicBezTo>
                  <a:pt x="907" y="562"/>
                  <a:pt x="907" y="561"/>
                  <a:pt x="908" y="560"/>
                </a:cubicBezTo>
                <a:cubicBezTo>
                  <a:pt x="909" y="559"/>
                  <a:pt x="910" y="558"/>
                  <a:pt x="911" y="557"/>
                </a:cubicBezTo>
                <a:cubicBezTo>
                  <a:pt x="912" y="557"/>
                  <a:pt x="913" y="557"/>
                  <a:pt x="913" y="557"/>
                </a:cubicBezTo>
                <a:cubicBezTo>
                  <a:pt x="910" y="560"/>
                  <a:pt x="908" y="564"/>
                  <a:pt x="910" y="566"/>
                </a:cubicBezTo>
                <a:cubicBezTo>
                  <a:pt x="911" y="567"/>
                  <a:pt x="911" y="566"/>
                  <a:pt x="911" y="566"/>
                </a:cubicBezTo>
                <a:cubicBezTo>
                  <a:pt x="913" y="564"/>
                  <a:pt x="913" y="562"/>
                  <a:pt x="915" y="560"/>
                </a:cubicBezTo>
                <a:cubicBezTo>
                  <a:pt x="916" y="559"/>
                  <a:pt x="917" y="558"/>
                  <a:pt x="918" y="557"/>
                </a:cubicBezTo>
                <a:cubicBezTo>
                  <a:pt x="918" y="557"/>
                  <a:pt x="919" y="557"/>
                  <a:pt x="920" y="557"/>
                </a:cubicBezTo>
                <a:cubicBezTo>
                  <a:pt x="920" y="557"/>
                  <a:pt x="921" y="557"/>
                  <a:pt x="921" y="557"/>
                </a:cubicBezTo>
                <a:cubicBezTo>
                  <a:pt x="920" y="557"/>
                  <a:pt x="920" y="558"/>
                  <a:pt x="919" y="558"/>
                </a:cubicBezTo>
                <a:cubicBezTo>
                  <a:pt x="918" y="560"/>
                  <a:pt x="916" y="564"/>
                  <a:pt x="917" y="566"/>
                </a:cubicBezTo>
                <a:cubicBezTo>
                  <a:pt x="918" y="567"/>
                  <a:pt x="918" y="567"/>
                  <a:pt x="918" y="566"/>
                </a:cubicBezTo>
                <a:cubicBezTo>
                  <a:pt x="920" y="564"/>
                  <a:pt x="920" y="562"/>
                  <a:pt x="921" y="560"/>
                </a:cubicBezTo>
                <a:cubicBezTo>
                  <a:pt x="922" y="559"/>
                  <a:pt x="923" y="557"/>
                  <a:pt x="924" y="557"/>
                </a:cubicBezTo>
                <a:cubicBezTo>
                  <a:pt x="925" y="557"/>
                  <a:pt x="927" y="557"/>
                  <a:pt x="928" y="557"/>
                </a:cubicBezTo>
                <a:cubicBezTo>
                  <a:pt x="926" y="559"/>
                  <a:pt x="924" y="561"/>
                  <a:pt x="924" y="564"/>
                </a:cubicBezTo>
                <a:cubicBezTo>
                  <a:pt x="924" y="564"/>
                  <a:pt x="924" y="565"/>
                  <a:pt x="924" y="564"/>
                </a:cubicBezTo>
                <a:cubicBezTo>
                  <a:pt x="926" y="563"/>
                  <a:pt x="927" y="561"/>
                  <a:pt x="929" y="559"/>
                </a:cubicBezTo>
                <a:cubicBezTo>
                  <a:pt x="930" y="558"/>
                  <a:pt x="930" y="557"/>
                  <a:pt x="931" y="557"/>
                </a:cubicBezTo>
                <a:cubicBezTo>
                  <a:pt x="932" y="557"/>
                  <a:pt x="933" y="557"/>
                  <a:pt x="933" y="557"/>
                </a:cubicBezTo>
                <a:cubicBezTo>
                  <a:pt x="931" y="559"/>
                  <a:pt x="929" y="562"/>
                  <a:pt x="930" y="565"/>
                </a:cubicBezTo>
                <a:cubicBezTo>
                  <a:pt x="930" y="565"/>
                  <a:pt x="930" y="566"/>
                  <a:pt x="930" y="565"/>
                </a:cubicBezTo>
                <a:cubicBezTo>
                  <a:pt x="931" y="563"/>
                  <a:pt x="932" y="561"/>
                  <a:pt x="934" y="559"/>
                </a:cubicBezTo>
                <a:cubicBezTo>
                  <a:pt x="934" y="559"/>
                  <a:pt x="935" y="558"/>
                  <a:pt x="936" y="557"/>
                </a:cubicBezTo>
                <a:cubicBezTo>
                  <a:pt x="936" y="557"/>
                  <a:pt x="936" y="557"/>
                  <a:pt x="936" y="557"/>
                </a:cubicBezTo>
                <a:cubicBezTo>
                  <a:pt x="936" y="557"/>
                  <a:pt x="936" y="557"/>
                  <a:pt x="937" y="557"/>
                </a:cubicBezTo>
                <a:cubicBezTo>
                  <a:pt x="936" y="557"/>
                  <a:pt x="936" y="558"/>
                  <a:pt x="936" y="558"/>
                </a:cubicBezTo>
                <a:cubicBezTo>
                  <a:pt x="936" y="559"/>
                  <a:pt x="937" y="559"/>
                  <a:pt x="937" y="559"/>
                </a:cubicBezTo>
                <a:cubicBezTo>
                  <a:pt x="937" y="560"/>
                  <a:pt x="939" y="561"/>
                  <a:pt x="940" y="560"/>
                </a:cubicBezTo>
                <a:cubicBezTo>
                  <a:pt x="940" y="560"/>
                  <a:pt x="941" y="559"/>
                  <a:pt x="941" y="559"/>
                </a:cubicBezTo>
                <a:cubicBezTo>
                  <a:pt x="941" y="558"/>
                  <a:pt x="942" y="558"/>
                  <a:pt x="942" y="558"/>
                </a:cubicBezTo>
                <a:cubicBezTo>
                  <a:pt x="942" y="558"/>
                  <a:pt x="942" y="558"/>
                  <a:pt x="943" y="558"/>
                </a:cubicBezTo>
                <a:cubicBezTo>
                  <a:pt x="943" y="557"/>
                  <a:pt x="943" y="557"/>
                  <a:pt x="943" y="557"/>
                </a:cubicBezTo>
                <a:cubicBezTo>
                  <a:pt x="943" y="557"/>
                  <a:pt x="943" y="556"/>
                  <a:pt x="943" y="556"/>
                </a:cubicBezTo>
                <a:cubicBezTo>
                  <a:pt x="945" y="555"/>
                  <a:pt x="946" y="553"/>
                  <a:pt x="947" y="551"/>
                </a:cubicBezTo>
                <a:cubicBezTo>
                  <a:pt x="948" y="550"/>
                  <a:pt x="949" y="549"/>
                  <a:pt x="950" y="548"/>
                </a:cubicBezTo>
                <a:cubicBezTo>
                  <a:pt x="955" y="546"/>
                  <a:pt x="959" y="546"/>
                  <a:pt x="965" y="546"/>
                </a:cubicBezTo>
                <a:cubicBezTo>
                  <a:pt x="974" y="548"/>
                  <a:pt x="983" y="549"/>
                  <a:pt x="993" y="549"/>
                </a:cubicBezTo>
                <a:cubicBezTo>
                  <a:pt x="1013" y="550"/>
                  <a:pt x="1033" y="549"/>
                  <a:pt x="1053" y="547"/>
                </a:cubicBezTo>
                <a:cubicBezTo>
                  <a:pt x="1068" y="546"/>
                  <a:pt x="1083" y="544"/>
                  <a:pt x="1099" y="546"/>
                </a:cubicBezTo>
                <a:cubicBezTo>
                  <a:pt x="1107" y="547"/>
                  <a:pt x="1114" y="551"/>
                  <a:pt x="1122" y="553"/>
                </a:cubicBezTo>
                <a:cubicBezTo>
                  <a:pt x="1129" y="555"/>
                  <a:pt x="1135" y="556"/>
                  <a:pt x="1142" y="555"/>
                </a:cubicBezTo>
                <a:cubicBezTo>
                  <a:pt x="1144" y="555"/>
                  <a:pt x="1158" y="553"/>
                  <a:pt x="1158" y="556"/>
                </a:cubicBezTo>
                <a:cubicBezTo>
                  <a:pt x="1157" y="561"/>
                  <a:pt x="1149" y="564"/>
                  <a:pt x="1145" y="566"/>
                </a:cubicBezTo>
                <a:close/>
                <a:moveTo>
                  <a:pt x="1156" y="551"/>
                </a:moveTo>
                <a:cubicBezTo>
                  <a:pt x="1154" y="551"/>
                  <a:pt x="1151" y="551"/>
                  <a:pt x="1150" y="551"/>
                </a:cubicBezTo>
                <a:cubicBezTo>
                  <a:pt x="1143" y="553"/>
                  <a:pt x="1136" y="553"/>
                  <a:pt x="1129" y="552"/>
                </a:cubicBezTo>
                <a:cubicBezTo>
                  <a:pt x="1126" y="551"/>
                  <a:pt x="1122" y="550"/>
                  <a:pt x="1119" y="549"/>
                </a:cubicBezTo>
                <a:cubicBezTo>
                  <a:pt x="1123" y="548"/>
                  <a:pt x="1128" y="547"/>
                  <a:pt x="1132" y="546"/>
                </a:cubicBezTo>
                <a:cubicBezTo>
                  <a:pt x="1137" y="546"/>
                  <a:pt x="1142" y="547"/>
                  <a:pt x="1147" y="547"/>
                </a:cubicBezTo>
                <a:cubicBezTo>
                  <a:pt x="1147" y="547"/>
                  <a:pt x="1147" y="546"/>
                  <a:pt x="1147" y="546"/>
                </a:cubicBezTo>
                <a:cubicBezTo>
                  <a:pt x="1144" y="542"/>
                  <a:pt x="1136" y="545"/>
                  <a:pt x="1132" y="545"/>
                </a:cubicBezTo>
                <a:cubicBezTo>
                  <a:pt x="1126" y="545"/>
                  <a:pt x="1120" y="545"/>
                  <a:pt x="1114" y="547"/>
                </a:cubicBezTo>
                <a:cubicBezTo>
                  <a:pt x="1113" y="546"/>
                  <a:pt x="1112" y="546"/>
                  <a:pt x="1111" y="546"/>
                </a:cubicBezTo>
                <a:cubicBezTo>
                  <a:pt x="1113" y="545"/>
                  <a:pt x="1114" y="544"/>
                  <a:pt x="1116" y="544"/>
                </a:cubicBezTo>
                <a:cubicBezTo>
                  <a:pt x="1119" y="544"/>
                  <a:pt x="1122" y="542"/>
                  <a:pt x="1125" y="543"/>
                </a:cubicBezTo>
                <a:cubicBezTo>
                  <a:pt x="1125" y="543"/>
                  <a:pt x="1125" y="542"/>
                  <a:pt x="1125" y="542"/>
                </a:cubicBezTo>
                <a:cubicBezTo>
                  <a:pt x="1121" y="542"/>
                  <a:pt x="1117" y="542"/>
                  <a:pt x="1113" y="543"/>
                </a:cubicBezTo>
                <a:cubicBezTo>
                  <a:pt x="1112" y="543"/>
                  <a:pt x="1109" y="543"/>
                  <a:pt x="1108" y="544"/>
                </a:cubicBezTo>
                <a:cubicBezTo>
                  <a:pt x="1105" y="544"/>
                  <a:pt x="1102" y="543"/>
                  <a:pt x="1100" y="543"/>
                </a:cubicBezTo>
                <a:cubicBezTo>
                  <a:pt x="1101" y="543"/>
                  <a:pt x="1101" y="542"/>
                  <a:pt x="1102" y="542"/>
                </a:cubicBezTo>
                <a:cubicBezTo>
                  <a:pt x="1104" y="541"/>
                  <a:pt x="1106" y="540"/>
                  <a:pt x="1107" y="539"/>
                </a:cubicBezTo>
                <a:cubicBezTo>
                  <a:pt x="1107" y="539"/>
                  <a:pt x="1107" y="538"/>
                  <a:pt x="1107" y="538"/>
                </a:cubicBezTo>
                <a:cubicBezTo>
                  <a:pt x="1105" y="538"/>
                  <a:pt x="1103" y="539"/>
                  <a:pt x="1101" y="540"/>
                </a:cubicBezTo>
                <a:cubicBezTo>
                  <a:pt x="1100" y="540"/>
                  <a:pt x="1098" y="540"/>
                  <a:pt x="1098" y="541"/>
                </a:cubicBezTo>
                <a:cubicBezTo>
                  <a:pt x="1097" y="541"/>
                  <a:pt x="1097" y="540"/>
                  <a:pt x="1097" y="540"/>
                </a:cubicBezTo>
                <a:cubicBezTo>
                  <a:pt x="1102" y="538"/>
                  <a:pt x="1107" y="534"/>
                  <a:pt x="1109" y="533"/>
                </a:cubicBezTo>
                <a:cubicBezTo>
                  <a:pt x="1110" y="532"/>
                  <a:pt x="1109" y="531"/>
                  <a:pt x="1108" y="532"/>
                </a:cubicBezTo>
                <a:cubicBezTo>
                  <a:pt x="1105" y="534"/>
                  <a:pt x="1102" y="535"/>
                  <a:pt x="1098" y="537"/>
                </a:cubicBezTo>
                <a:cubicBezTo>
                  <a:pt x="1097" y="538"/>
                  <a:pt x="1095" y="539"/>
                  <a:pt x="1093" y="540"/>
                </a:cubicBezTo>
                <a:cubicBezTo>
                  <a:pt x="1092" y="540"/>
                  <a:pt x="1092" y="540"/>
                  <a:pt x="1091" y="540"/>
                </a:cubicBezTo>
                <a:cubicBezTo>
                  <a:pt x="1093" y="539"/>
                  <a:pt x="1094" y="538"/>
                  <a:pt x="1095" y="537"/>
                </a:cubicBezTo>
                <a:cubicBezTo>
                  <a:pt x="1099" y="533"/>
                  <a:pt x="1104" y="530"/>
                  <a:pt x="1108" y="526"/>
                </a:cubicBezTo>
                <a:cubicBezTo>
                  <a:pt x="1112" y="523"/>
                  <a:pt x="1119" y="521"/>
                  <a:pt x="1121" y="515"/>
                </a:cubicBezTo>
                <a:cubicBezTo>
                  <a:pt x="1122" y="515"/>
                  <a:pt x="1121" y="514"/>
                  <a:pt x="1121" y="515"/>
                </a:cubicBezTo>
                <a:cubicBezTo>
                  <a:pt x="1116" y="518"/>
                  <a:pt x="1111" y="523"/>
                  <a:pt x="1105" y="527"/>
                </a:cubicBezTo>
                <a:cubicBezTo>
                  <a:pt x="1105" y="527"/>
                  <a:pt x="1104" y="527"/>
                  <a:pt x="1104" y="527"/>
                </a:cubicBezTo>
                <a:cubicBezTo>
                  <a:pt x="1105" y="526"/>
                  <a:pt x="1107" y="524"/>
                  <a:pt x="1108" y="523"/>
                </a:cubicBezTo>
                <a:cubicBezTo>
                  <a:pt x="1113" y="518"/>
                  <a:pt x="1117" y="512"/>
                  <a:pt x="1121" y="506"/>
                </a:cubicBezTo>
                <a:cubicBezTo>
                  <a:pt x="1126" y="506"/>
                  <a:pt x="1134" y="509"/>
                  <a:pt x="1136" y="513"/>
                </a:cubicBezTo>
                <a:cubicBezTo>
                  <a:pt x="1138" y="514"/>
                  <a:pt x="1139" y="517"/>
                  <a:pt x="1141" y="518"/>
                </a:cubicBezTo>
                <a:cubicBezTo>
                  <a:pt x="1143" y="519"/>
                  <a:pt x="1145" y="520"/>
                  <a:pt x="1147" y="521"/>
                </a:cubicBezTo>
                <a:cubicBezTo>
                  <a:pt x="1150" y="524"/>
                  <a:pt x="1150" y="527"/>
                  <a:pt x="1152" y="530"/>
                </a:cubicBezTo>
                <a:cubicBezTo>
                  <a:pt x="1152" y="531"/>
                  <a:pt x="1153" y="532"/>
                  <a:pt x="1155" y="534"/>
                </a:cubicBezTo>
                <a:cubicBezTo>
                  <a:pt x="1159" y="539"/>
                  <a:pt x="1158" y="545"/>
                  <a:pt x="1156" y="551"/>
                </a:cubicBezTo>
                <a:close/>
              </a:path>
            </a:pathLst>
          </a:custGeom>
          <a:solidFill>
            <a:srgbClr val="574f1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  <p:pic>
        <p:nvPicPr>
          <p:cNvPr id="582" name="组合 3" descr=""/>
          <p:cNvPicPr/>
          <p:nvPr/>
        </p:nvPicPr>
        <p:blipFill>
          <a:blip r:embed="rId8"/>
          <a:stretch/>
        </p:blipFill>
        <p:spPr>
          <a:xfrm>
            <a:off x="96840" y="3444840"/>
            <a:ext cx="4865760" cy="3406680"/>
          </a:xfrm>
          <a:prstGeom prst="rect">
            <a:avLst/>
          </a:prstGeom>
          <a:ln w="0">
            <a:noFill/>
          </a:ln>
        </p:spPr>
      </p:pic>
      <p:grpSp>
        <p:nvGrpSpPr>
          <p:cNvPr id="583" name="组合 918"/>
          <p:cNvGrpSpPr/>
          <p:nvPr/>
        </p:nvGrpSpPr>
        <p:grpSpPr>
          <a:xfrm>
            <a:off x="2889360" y="482760"/>
            <a:ext cx="5817960" cy="5816520"/>
            <a:chOff x="2889360" y="482760"/>
            <a:chExt cx="5817960" cy="5816520"/>
          </a:xfrm>
        </p:grpSpPr>
        <p:sp>
          <p:nvSpPr>
            <p:cNvPr id="584" name="椭圆 919"/>
            <p:cNvSpPr/>
            <p:nvPr/>
          </p:nvSpPr>
          <p:spPr>
            <a:xfrm>
              <a:off x="3008160" y="601560"/>
              <a:ext cx="5580000" cy="5578560"/>
            </a:xfrm>
            <a:prstGeom prst="ellipse">
              <a:avLst/>
            </a:prstGeom>
            <a:solidFill>
              <a:srgbClr val="fdf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585" name="椭圆 920"/>
            <p:cNvSpPr/>
            <p:nvPr/>
          </p:nvSpPr>
          <p:spPr>
            <a:xfrm>
              <a:off x="2889360" y="482760"/>
              <a:ext cx="5817960" cy="5816520"/>
            </a:xfrm>
            <a:prstGeom prst="ellipse">
              <a:avLst/>
            </a:prstGeom>
            <a:noFill/>
            <a:ln w="19080">
              <a:solidFill>
                <a:srgbClr val="fdfbe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586" name="组合 926"/>
          <p:cNvGrpSpPr/>
          <p:nvPr/>
        </p:nvGrpSpPr>
        <p:grpSpPr>
          <a:xfrm>
            <a:off x="4421520" y="2550960"/>
            <a:ext cx="2666520" cy="1738800"/>
            <a:chOff x="4421520" y="2550960"/>
            <a:chExt cx="2666520" cy="1738800"/>
          </a:xfrm>
        </p:grpSpPr>
        <p:grpSp>
          <p:nvGrpSpPr>
            <p:cNvPr id="587" name="组合 927"/>
            <p:cNvGrpSpPr/>
            <p:nvPr/>
          </p:nvGrpSpPr>
          <p:grpSpPr>
            <a:xfrm>
              <a:off x="4421520" y="2550960"/>
              <a:ext cx="2666520" cy="914040"/>
              <a:chOff x="4421520" y="2550960"/>
              <a:chExt cx="2666520" cy="914040"/>
            </a:xfrm>
          </p:grpSpPr>
          <p:sp>
            <p:nvSpPr>
              <p:cNvPr id="588" name="文本框 929"/>
              <p:cNvSpPr/>
              <p:nvPr/>
            </p:nvSpPr>
            <p:spPr>
              <a:xfrm>
                <a:off x="4421520" y="2550960"/>
                <a:ext cx="266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13b17"/>
                    </a:solidFill>
                    <a:latin typeface="Vivaldi"/>
                  </a:rPr>
                  <a:t>Thanks For Your Attention</a:t>
                </a:r>
                <a:endParaRPr b="0" lang="en-US" sz="16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589" name="文本框 930"/>
              <p:cNvSpPr/>
              <p:nvPr/>
            </p:nvSpPr>
            <p:spPr>
              <a:xfrm>
                <a:off x="5115600" y="2822400"/>
                <a:ext cx="127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413b17"/>
                    </a:solidFill>
                    <a:latin typeface="宋体"/>
                  </a:rPr>
                  <a:t>谢谢观看</a:t>
                </a:r>
                <a:endParaRPr b="0" lang="en-US" sz="36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590" name="文本框 928"/>
            <p:cNvSpPr/>
            <p:nvPr/>
          </p:nvSpPr>
          <p:spPr>
            <a:xfrm>
              <a:off x="5298120" y="39524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13b17"/>
                  </a:solidFill>
                  <a:latin typeface="微软雅黑"/>
                  <a:ea typeface="微软雅黑"/>
                </a:rPr>
                <a:t>制作人：张鑫</a:t>
              </a:r>
              <a:endParaRPr b="0" lang="en-US" sz="16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pic>
        <p:nvPicPr>
          <p:cNvPr id="591" name="组合 931" descr=""/>
          <p:cNvPicPr/>
          <p:nvPr/>
        </p:nvPicPr>
        <p:blipFill>
          <a:blip r:embed="rId9"/>
          <a:stretch/>
        </p:blipFill>
        <p:spPr>
          <a:xfrm>
            <a:off x="3470400" y="1974960"/>
            <a:ext cx="4411440" cy="307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500"/>
                            </p:stCondLst>
                            <p:childTnLst>
                              <p:par>
                                <p:cTn id="63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1"/>
          <p:cNvGrpSpPr/>
          <p:nvPr/>
        </p:nvGrpSpPr>
        <p:grpSpPr>
          <a:xfrm>
            <a:off x="285840" y="1348560"/>
            <a:ext cx="5048640" cy="3855600"/>
            <a:chOff x="285840" y="1348560"/>
            <a:chExt cx="5048640" cy="3855600"/>
          </a:xfrm>
        </p:grpSpPr>
        <p:pic>
          <p:nvPicPr>
            <p:cNvPr id="109" name="图片 655" descr=""/>
            <p:cNvPicPr/>
            <p:nvPr/>
          </p:nvPicPr>
          <p:blipFill>
            <a:blip r:embed="rId1"/>
            <a:srcRect l="0" t="0" r="71851" b="39280"/>
            <a:stretch/>
          </p:blipFill>
          <p:spPr>
            <a:xfrm rot="20187600">
              <a:off x="587520" y="2546640"/>
              <a:ext cx="1140840" cy="174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654" descr=""/>
            <p:cNvPicPr/>
            <p:nvPr/>
          </p:nvPicPr>
          <p:blipFill>
            <a:blip r:embed="rId2"/>
            <a:srcRect l="0" t="0" r="28673" b="0"/>
            <a:stretch/>
          </p:blipFill>
          <p:spPr>
            <a:xfrm flipH="1" rot="3856200">
              <a:off x="1963800" y="1836720"/>
              <a:ext cx="2892600" cy="287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组合 629"/>
            <p:cNvGrpSpPr/>
            <p:nvPr/>
          </p:nvGrpSpPr>
          <p:grpSpPr>
            <a:xfrm>
              <a:off x="973800" y="1492200"/>
              <a:ext cx="3096000" cy="3097800"/>
              <a:chOff x="973800" y="1492200"/>
              <a:chExt cx="3096000" cy="3097800"/>
            </a:xfrm>
          </p:grpSpPr>
          <p:sp>
            <p:nvSpPr>
              <p:cNvPr id="112" name="椭圆 627"/>
              <p:cNvSpPr/>
              <p:nvPr/>
            </p:nvSpPr>
            <p:spPr>
              <a:xfrm>
                <a:off x="1107000" y="1625400"/>
                <a:ext cx="2829240" cy="2831040"/>
              </a:xfrm>
              <a:prstGeom prst="ellipse">
                <a:avLst/>
              </a:prstGeom>
              <a:solidFill>
                <a:srgbClr val="fd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113" name="椭圆 628"/>
              <p:cNvSpPr/>
              <p:nvPr/>
            </p:nvSpPr>
            <p:spPr>
              <a:xfrm>
                <a:off x="973800" y="1492200"/>
                <a:ext cx="3096000" cy="3097800"/>
              </a:xfrm>
              <a:prstGeom prst="ellipse">
                <a:avLst/>
              </a:prstGeom>
              <a:noFill/>
              <a:ln w="12600">
                <a:solidFill>
                  <a:srgbClr val="fdfbe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114" name="文本框 631"/>
            <p:cNvSpPr/>
            <p:nvPr/>
          </p:nvSpPr>
          <p:spPr>
            <a:xfrm>
              <a:off x="1379880" y="2292480"/>
              <a:ext cx="228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74f1f"/>
                  </a:solidFill>
                  <a:latin typeface="Vivaldi"/>
                </a:rPr>
                <a:t>Art is forever love</a:t>
              </a:r>
              <a:endParaRPr b="0" lang="en-US" sz="20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115" name="文本框 632"/>
            <p:cNvSpPr/>
            <p:nvPr/>
          </p:nvSpPr>
          <p:spPr>
            <a:xfrm>
              <a:off x="1761840" y="2560680"/>
              <a:ext cx="152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574f1f"/>
                  </a:solidFill>
                  <a:latin typeface="宋体"/>
                  <a:ea typeface="华文行楷"/>
                </a:rPr>
                <a:t>千秋永爱</a:t>
              </a:r>
              <a:endParaRPr b="0" lang="en-US" sz="44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grpSp>
          <p:nvGrpSpPr>
            <p:cNvPr id="116" name="组合 646"/>
            <p:cNvGrpSpPr/>
            <p:nvPr/>
          </p:nvGrpSpPr>
          <p:grpSpPr>
            <a:xfrm>
              <a:off x="1823400" y="3349800"/>
              <a:ext cx="1395000" cy="399960"/>
              <a:chOff x="1823400" y="3349800"/>
              <a:chExt cx="1395000" cy="399960"/>
            </a:xfrm>
          </p:grpSpPr>
          <p:sp>
            <p:nvSpPr>
              <p:cNvPr id="117" name="Freeform 1332"/>
              <p:cNvSpPr/>
              <p:nvPr/>
            </p:nvSpPr>
            <p:spPr>
              <a:xfrm flipV="1">
                <a:off x="2742480" y="3372120"/>
                <a:ext cx="475920" cy="35568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20"/>
                    </a:moveTo>
                    <a:cubicBezTo>
                      <a:pt x="0" y="20"/>
                      <a:pt x="6" y="13"/>
                      <a:pt x="11" y="12"/>
                    </a:cubicBezTo>
                    <a:cubicBezTo>
                      <a:pt x="24" y="11"/>
                      <a:pt x="16" y="21"/>
                      <a:pt x="16" y="22"/>
                    </a:cubicBezTo>
                    <a:cubicBezTo>
                      <a:pt x="17" y="22"/>
                      <a:pt x="19" y="22"/>
                      <a:pt x="19" y="20"/>
                    </a:cubicBezTo>
                    <a:cubicBezTo>
                      <a:pt x="20" y="24"/>
                      <a:pt x="15" y="25"/>
                      <a:pt x="16" y="27"/>
                    </a:cubicBezTo>
                    <a:cubicBezTo>
                      <a:pt x="17" y="26"/>
                      <a:pt x="19" y="26"/>
                      <a:pt x="20" y="25"/>
                    </a:cubicBezTo>
                    <a:cubicBezTo>
                      <a:pt x="20" y="28"/>
                      <a:pt x="15" y="29"/>
                      <a:pt x="16" y="32"/>
                    </a:cubicBezTo>
                    <a:cubicBezTo>
                      <a:pt x="17" y="29"/>
                      <a:pt x="20" y="31"/>
                      <a:pt x="23" y="29"/>
                    </a:cubicBezTo>
                    <a:cubicBezTo>
                      <a:pt x="33" y="23"/>
                      <a:pt x="23" y="13"/>
                      <a:pt x="22" y="13"/>
                    </a:cubicBezTo>
                    <a:cubicBezTo>
                      <a:pt x="29" y="19"/>
                      <a:pt x="23" y="24"/>
                      <a:pt x="23" y="24"/>
                    </a:cubicBezTo>
                    <a:cubicBezTo>
                      <a:pt x="23" y="24"/>
                      <a:pt x="25" y="20"/>
                      <a:pt x="22" y="15"/>
                    </a:cubicBezTo>
                    <a:cubicBezTo>
                      <a:pt x="19" y="10"/>
                      <a:pt x="10" y="11"/>
                      <a:pt x="6" y="14"/>
                    </a:cubicBezTo>
                    <a:cubicBezTo>
                      <a:pt x="9" y="9"/>
                      <a:pt x="21" y="10"/>
                      <a:pt x="22" y="10"/>
                    </a:cubicBezTo>
                    <a:cubicBezTo>
                      <a:pt x="30" y="10"/>
                      <a:pt x="34" y="19"/>
                      <a:pt x="34" y="20"/>
                    </a:cubicBezTo>
                    <a:cubicBezTo>
                      <a:pt x="34" y="22"/>
                      <a:pt x="35" y="24"/>
                      <a:pt x="35" y="24"/>
                    </a:cubicBezTo>
                    <a:cubicBezTo>
                      <a:pt x="35" y="24"/>
                      <a:pt x="34" y="24"/>
                      <a:pt x="33" y="23"/>
                    </a:cubicBezTo>
                    <a:cubicBezTo>
                      <a:pt x="33" y="21"/>
                      <a:pt x="33" y="18"/>
                      <a:pt x="32" y="16"/>
                    </a:cubicBezTo>
                    <a:cubicBezTo>
                      <a:pt x="31" y="14"/>
                      <a:pt x="28" y="13"/>
                      <a:pt x="28" y="13"/>
                    </a:cubicBezTo>
                    <a:cubicBezTo>
                      <a:pt x="28" y="13"/>
                      <a:pt x="30" y="14"/>
                      <a:pt x="30" y="15"/>
                    </a:cubicBezTo>
                    <a:cubicBezTo>
                      <a:pt x="26" y="21"/>
                      <a:pt x="28" y="25"/>
                      <a:pt x="30" y="25"/>
                    </a:cubicBezTo>
                    <a:cubicBezTo>
                      <a:pt x="32" y="26"/>
                      <a:pt x="33" y="27"/>
                      <a:pt x="33" y="28"/>
                    </a:cubicBezTo>
                    <a:cubicBezTo>
                      <a:pt x="34" y="28"/>
                      <a:pt x="33" y="25"/>
                      <a:pt x="33" y="25"/>
                    </a:cubicBezTo>
                    <a:cubicBezTo>
                      <a:pt x="33" y="25"/>
                      <a:pt x="34" y="24"/>
                      <a:pt x="35" y="27"/>
                    </a:cubicBezTo>
                    <a:cubicBezTo>
                      <a:pt x="37" y="30"/>
                      <a:pt x="41" y="31"/>
                      <a:pt x="42" y="30"/>
                    </a:cubicBezTo>
                    <a:cubicBezTo>
                      <a:pt x="41" y="30"/>
                      <a:pt x="38" y="28"/>
                      <a:pt x="38" y="26"/>
                    </a:cubicBezTo>
                    <a:cubicBezTo>
                      <a:pt x="39" y="23"/>
                      <a:pt x="38" y="22"/>
                      <a:pt x="38" y="21"/>
                    </a:cubicBezTo>
                    <a:cubicBezTo>
                      <a:pt x="39" y="21"/>
                      <a:pt x="42" y="21"/>
                      <a:pt x="42" y="22"/>
                    </a:cubicBezTo>
                    <a:cubicBezTo>
                      <a:pt x="43" y="21"/>
                      <a:pt x="41" y="18"/>
                      <a:pt x="40" y="18"/>
                    </a:cubicBezTo>
                    <a:cubicBezTo>
                      <a:pt x="41" y="18"/>
                      <a:pt x="43" y="16"/>
                      <a:pt x="42" y="15"/>
                    </a:cubicBezTo>
                    <a:cubicBezTo>
                      <a:pt x="41" y="17"/>
                      <a:pt x="40" y="14"/>
                      <a:pt x="39" y="14"/>
                    </a:cubicBezTo>
                    <a:cubicBezTo>
                      <a:pt x="37" y="13"/>
                      <a:pt x="35" y="13"/>
                      <a:pt x="34" y="14"/>
                    </a:cubicBezTo>
                    <a:cubicBezTo>
                      <a:pt x="33" y="13"/>
                      <a:pt x="32" y="13"/>
                      <a:pt x="31" y="13"/>
                    </a:cubicBezTo>
                    <a:cubicBezTo>
                      <a:pt x="28" y="11"/>
                      <a:pt x="24" y="10"/>
                      <a:pt x="24" y="10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9"/>
                      <a:pt x="27" y="11"/>
                      <a:pt x="29" y="10"/>
                    </a:cubicBezTo>
                    <a:cubicBezTo>
                      <a:pt x="31" y="10"/>
                      <a:pt x="35" y="7"/>
                      <a:pt x="36" y="9"/>
                    </a:cubicBezTo>
                    <a:cubicBezTo>
                      <a:pt x="36" y="8"/>
                      <a:pt x="35" y="7"/>
                      <a:pt x="34" y="7"/>
                    </a:cubicBezTo>
                    <a:cubicBezTo>
                      <a:pt x="36" y="3"/>
                      <a:pt x="39" y="2"/>
                      <a:pt x="40" y="3"/>
                    </a:cubicBezTo>
                    <a:cubicBezTo>
                      <a:pt x="39" y="0"/>
                      <a:pt x="34" y="2"/>
                      <a:pt x="31" y="2"/>
                    </a:cubicBezTo>
                    <a:cubicBezTo>
                      <a:pt x="32" y="1"/>
                      <a:pt x="30" y="0"/>
                      <a:pt x="30" y="0"/>
                    </a:cubicBezTo>
                    <a:cubicBezTo>
                      <a:pt x="30" y="0"/>
                      <a:pt x="30" y="2"/>
                      <a:pt x="27" y="3"/>
                    </a:cubicBezTo>
                    <a:cubicBezTo>
                      <a:pt x="25" y="4"/>
                      <a:pt x="24" y="7"/>
                      <a:pt x="25" y="8"/>
                    </a:cubicBezTo>
                    <a:cubicBezTo>
                      <a:pt x="21" y="10"/>
                      <a:pt x="14" y="9"/>
                      <a:pt x="9" y="11"/>
                    </a:cubicBezTo>
                    <a:cubicBezTo>
                      <a:pt x="5" y="13"/>
                      <a:pt x="0" y="20"/>
                      <a:pt x="0" y="20"/>
                    </a:cubicBezTo>
                    <a:close/>
                    <a:moveTo>
                      <a:pt x="33" y="5"/>
                    </a:moveTo>
                    <a:cubicBezTo>
                      <a:pt x="34" y="7"/>
                      <a:pt x="26" y="8"/>
                      <a:pt x="26" y="8"/>
                    </a:cubicBezTo>
                    <a:cubicBezTo>
                      <a:pt x="26" y="8"/>
                      <a:pt x="32" y="2"/>
                      <a:pt x="33" y="5"/>
                    </a:cubicBezTo>
                    <a:close/>
                  </a:path>
                </a:pathLst>
              </a:custGeom>
              <a:solidFill>
                <a:srgbClr val="574f1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118" name="Freeform 1333"/>
              <p:cNvSpPr/>
              <p:nvPr/>
            </p:nvSpPr>
            <p:spPr>
              <a:xfrm flipV="1">
                <a:off x="1823400" y="3372120"/>
                <a:ext cx="475920" cy="35568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3" y="11"/>
                    </a:moveTo>
                    <a:cubicBezTo>
                      <a:pt x="28" y="9"/>
                      <a:pt x="21" y="10"/>
                      <a:pt x="18" y="8"/>
                    </a:cubicBezTo>
                    <a:cubicBezTo>
                      <a:pt x="18" y="7"/>
                      <a:pt x="17" y="4"/>
                      <a:pt x="15" y="3"/>
                    </a:cubicBezTo>
                    <a:cubicBezTo>
                      <a:pt x="12" y="2"/>
                      <a:pt x="13" y="0"/>
                      <a:pt x="13" y="0"/>
                    </a:cubicBezTo>
                    <a:cubicBezTo>
                      <a:pt x="13" y="0"/>
                      <a:pt x="10" y="1"/>
                      <a:pt x="11" y="2"/>
                    </a:cubicBezTo>
                    <a:cubicBezTo>
                      <a:pt x="9" y="2"/>
                      <a:pt x="4" y="0"/>
                      <a:pt x="2" y="3"/>
                    </a:cubicBezTo>
                    <a:cubicBezTo>
                      <a:pt x="3" y="2"/>
                      <a:pt x="6" y="3"/>
                      <a:pt x="8" y="7"/>
                    </a:cubicBezTo>
                    <a:cubicBezTo>
                      <a:pt x="7" y="7"/>
                      <a:pt x="6" y="8"/>
                      <a:pt x="7" y="9"/>
                    </a:cubicBezTo>
                    <a:cubicBezTo>
                      <a:pt x="8" y="7"/>
                      <a:pt x="11" y="10"/>
                      <a:pt x="13" y="10"/>
                    </a:cubicBezTo>
                    <a:cubicBezTo>
                      <a:pt x="16" y="11"/>
                      <a:pt x="17" y="9"/>
                      <a:pt x="17" y="9"/>
                    </a:cubicBez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10"/>
                      <a:pt x="14" y="11"/>
                      <a:pt x="11" y="13"/>
                    </a:cubicBezTo>
                    <a:cubicBezTo>
                      <a:pt x="11" y="13"/>
                      <a:pt x="10" y="13"/>
                      <a:pt x="9" y="14"/>
                    </a:cubicBezTo>
                    <a:cubicBezTo>
                      <a:pt x="7" y="13"/>
                      <a:pt x="5" y="13"/>
                      <a:pt x="4" y="14"/>
                    </a:cubicBezTo>
                    <a:cubicBezTo>
                      <a:pt x="2" y="14"/>
                      <a:pt x="1" y="17"/>
                      <a:pt x="0" y="15"/>
                    </a:cubicBezTo>
                    <a:cubicBezTo>
                      <a:pt x="0" y="16"/>
                      <a:pt x="1" y="18"/>
                      <a:pt x="3" y="18"/>
                    </a:cubicBezTo>
                    <a:cubicBezTo>
                      <a:pt x="2" y="18"/>
                      <a:pt x="0" y="21"/>
                      <a:pt x="1" y="22"/>
                    </a:cubicBezTo>
                    <a:cubicBezTo>
                      <a:pt x="1" y="21"/>
                      <a:pt x="3" y="21"/>
                      <a:pt x="5" y="21"/>
                    </a:cubicBezTo>
                    <a:cubicBezTo>
                      <a:pt x="4" y="22"/>
                      <a:pt x="3" y="23"/>
                      <a:pt x="4" y="26"/>
                    </a:cubicBezTo>
                    <a:cubicBezTo>
                      <a:pt x="5" y="28"/>
                      <a:pt x="1" y="30"/>
                      <a:pt x="0" y="30"/>
                    </a:cubicBezTo>
                    <a:cubicBezTo>
                      <a:pt x="2" y="31"/>
                      <a:pt x="5" y="30"/>
                      <a:pt x="7" y="27"/>
                    </a:cubicBezTo>
                    <a:cubicBezTo>
                      <a:pt x="9" y="24"/>
                      <a:pt x="9" y="25"/>
                      <a:pt x="9" y="25"/>
                    </a:cubicBezTo>
                    <a:cubicBezTo>
                      <a:pt x="9" y="25"/>
                      <a:pt x="8" y="28"/>
                      <a:pt x="9" y="28"/>
                    </a:cubicBezTo>
                    <a:cubicBezTo>
                      <a:pt x="10" y="27"/>
                      <a:pt x="11" y="26"/>
                      <a:pt x="12" y="25"/>
                    </a:cubicBezTo>
                    <a:cubicBezTo>
                      <a:pt x="14" y="25"/>
                      <a:pt x="16" y="21"/>
                      <a:pt x="13" y="15"/>
                    </a:cubicBezTo>
                    <a:cubicBezTo>
                      <a:pt x="12" y="14"/>
                      <a:pt x="14" y="13"/>
                      <a:pt x="14" y="13"/>
                    </a:cubicBezTo>
                    <a:cubicBezTo>
                      <a:pt x="14" y="13"/>
                      <a:pt x="12" y="14"/>
                      <a:pt x="11" y="16"/>
                    </a:cubicBezTo>
                    <a:cubicBezTo>
                      <a:pt x="10" y="18"/>
                      <a:pt x="10" y="21"/>
                      <a:pt x="9" y="23"/>
                    </a:cubicBezTo>
                    <a:cubicBezTo>
                      <a:pt x="8" y="24"/>
                      <a:pt x="7" y="24"/>
                      <a:pt x="7" y="24"/>
                    </a:cubicBezTo>
                    <a:cubicBezTo>
                      <a:pt x="7" y="24"/>
                      <a:pt x="9" y="22"/>
                      <a:pt x="8" y="20"/>
                    </a:cubicBezTo>
                    <a:cubicBezTo>
                      <a:pt x="8" y="19"/>
                      <a:pt x="12" y="10"/>
                      <a:pt x="20" y="10"/>
                    </a:cubicBezTo>
                    <a:cubicBezTo>
                      <a:pt x="21" y="10"/>
                      <a:pt x="33" y="9"/>
                      <a:pt x="36" y="14"/>
                    </a:cubicBezTo>
                    <a:cubicBezTo>
                      <a:pt x="33" y="11"/>
                      <a:pt x="23" y="10"/>
                      <a:pt x="20" y="15"/>
                    </a:cubicBezTo>
                    <a:cubicBezTo>
                      <a:pt x="17" y="20"/>
                      <a:pt x="19" y="24"/>
                      <a:pt x="19" y="24"/>
                    </a:cubicBezTo>
                    <a:cubicBezTo>
                      <a:pt x="19" y="24"/>
                      <a:pt x="14" y="19"/>
                      <a:pt x="21" y="13"/>
                    </a:cubicBezTo>
                    <a:cubicBezTo>
                      <a:pt x="20" y="13"/>
                      <a:pt x="9" y="23"/>
                      <a:pt x="20" y="29"/>
                    </a:cubicBezTo>
                    <a:cubicBezTo>
                      <a:pt x="23" y="31"/>
                      <a:pt x="26" y="29"/>
                      <a:pt x="27" y="32"/>
                    </a:cubicBezTo>
                    <a:cubicBezTo>
                      <a:pt x="27" y="29"/>
                      <a:pt x="23" y="28"/>
                      <a:pt x="22" y="25"/>
                    </a:cubicBezTo>
                    <a:cubicBezTo>
                      <a:pt x="23" y="26"/>
                      <a:pt x="25" y="26"/>
                      <a:pt x="27" y="27"/>
                    </a:cubicBezTo>
                    <a:cubicBezTo>
                      <a:pt x="27" y="25"/>
                      <a:pt x="22" y="24"/>
                      <a:pt x="23" y="20"/>
                    </a:cubicBezTo>
                    <a:cubicBezTo>
                      <a:pt x="23" y="22"/>
                      <a:pt x="25" y="22"/>
                      <a:pt x="26" y="22"/>
                    </a:cubicBezTo>
                    <a:cubicBezTo>
                      <a:pt x="26" y="21"/>
                      <a:pt x="19" y="11"/>
                      <a:pt x="31" y="12"/>
                    </a:cubicBezTo>
                    <a:cubicBezTo>
                      <a:pt x="37" y="13"/>
                      <a:pt x="43" y="20"/>
                      <a:pt x="43" y="20"/>
                    </a:cubicBezTo>
                    <a:cubicBezTo>
                      <a:pt x="43" y="20"/>
                      <a:pt x="38" y="13"/>
                      <a:pt x="33" y="11"/>
                    </a:cubicBezTo>
                    <a:close/>
                    <a:moveTo>
                      <a:pt x="16" y="8"/>
                    </a:moveTo>
                    <a:cubicBezTo>
                      <a:pt x="16" y="8"/>
                      <a:pt x="9" y="7"/>
                      <a:pt x="9" y="5"/>
                    </a:cubicBezTo>
                    <a:cubicBezTo>
                      <a:pt x="10" y="2"/>
                      <a:pt x="16" y="8"/>
                      <a:pt x="16" y="8"/>
                    </a:cubicBezTo>
                    <a:close/>
                  </a:path>
                </a:pathLst>
              </a:custGeom>
              <a:solidFill>
                <a:srgbClr val="574f1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119" name="Freeform 1334"/>
              <p:cNvSpPr/>
              <p:nvPr/>
            </p:nvSpPr>
            <p:spPr>
              <a:xfrm flipV="1">
                <a:off x="2121480" y="3349440"/>
                <a:ext cx="366480" cy="22212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33" y="11"/>
                    </a:moveTo>
                    <a:cubicBezTo>
                      <a:pt x="33" y="12"/>
                      <a:pt x="33" y="12"/>
                      <a:pt x="33" y="12"/>
                    </a:cubicBezTo>
                    <a:cubicBezTo>
                      <a:pt x="33" y="12"/>
                      <a:pt x="28" y="7"/>
                      <a:pt x="23" y="11"/>
                    </a:cubicBezTo>
                    <a:cubicBezTo>
                      <a:pt x="23" y="12"/>
                      <a:pt x="23" y="15"/>
                      <a:pt x="18" y="15"/>
                    </a:cubicBezTo>
                    <a:cubicBezTo>
                      <a:pt x="19" y="15"/>
                      <a:pt x="19" y="12"/>
                      <a:pt x="22" y="11"/>
                    </a:cubicBezTo>
                    <a:cubicBezTo>
                      <a:pt x="23" y="10"/>
                      <a:pt x="23" y="10"/>
                      <a:pt x="23" y="10"/>
                    </a:cubicBezTo>
                    <a:cubicBezTo>
                      <a:pt x="23" y="10"/>
                      <a:pt x="14" y="15"/>
                      <a:pt x="12" y="13"/>
                    </a:cubicBezTo>
                    <a:cubicBezTo>
                      <a:pt x="11" y="14"/>
                      <a:pt x="11" y="15"/>
                      <a:pt x="10" y="16"/>
                    </a:cubicBezTo>
                    <a:cubicBezTo>
                      <a:pt x="8" y="17"/>
                      <a:pt x="6" y="18"/>
                      <a:pt x="6" y="20"/>
                    </a:cubicBezTo>
                    <a:cubicBezTo>
                      <a:pt x="5" y="19"/>
                      <a:pt x="5" y="14"/>
                      <a:pt x="11" y="13"/>
                    </a:cubicBezTo>
                    <a:cubicBezTo>
                      <a:pt x="10" y="13"/>
                      <a:pt x="8" y="13"/>
                      <a:pt x="8" y="13"/>
                    </a:cubicBezTo>
                    <a:cubicBezTo>
                      <a:pt x="8" y="13"/>
                      <a:pt x="4" y="16"/>
                      <a:pt x="0" y="13"/>
                    </a:cubicBezTo>
                    <a:cubicBezTo>
                      <a:pt x="1" y="12"/>
                      <a:pt x="4" y="9"/>
                      <a:pt x="8" y="12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13"/>
                      <a:pt x="5" y="11"/>
                      <a:pt x="6" y="6"/>
                    </a:cubicBezTo>
                    <a:cubicBezTo>
                      <a:pt x="7" y="7"/>
                      <a:pt x="10" y="7"/>
                      <a:pt x="10" y="9"/>
                    </a:cubicBezTo>
                    <a:cubicBezTo>
                      <a:pt x="11" y="11"/>
                      <a:pt x="10" y="12"/>
                      <a:pt x="12" y="13"/>
                    </a:cubicBezTo>
                    <a:cubicBezTo>
                      <a:pt x="14" y="14"/>
                      <a:pt x="22" y="10"/>
                      <a:pt x="22" y="10"/>
                    </a:cubicBezTo>
                    <a:cubicBezTo>
                      <a:pt x="22" y="10"/>
                      <a:pt x="21" y="9"/>
                      <a:pt x="20" y="9"/>
                    </a:cubicBezTo>
                    <a:cubicBezTo>
                      <a:pt x="19" y="9"/>
                      <a:pt x="17" y="8"/>
                      <a:pt x="16" y="7"/>
                    </a:cubicBezTo>
                    <a:cubicBezTo>
                      <a:pt x="14" y="5"/>
                      <a:pt x="15" y="3"/>
                      <a:pt x="15" y="3"/>
                    </a:cubicBezTo>
                    <a:cubicBezTo>
                      <a:pt x="15" y="3"/>
                      <a:pt x="16" y="3"/>
                      <a:pt x="19" y="5"/>
                    </a:cubicBezTo>
                    <a:cubicBezTo>
                      <a:pt x="22" y="7"/>
                      <a:pt x="19" y="8"/>
                      <a:pt x="23" y="9"/>
                    </a:cubicBezTo>
                    <a:cubicBezTo>
                      <a:pt x="25" y="9"/>
                      <a:pt x="28" y="8"/>
                      <a:pt x="28" y="9"/>
                    </a:cubicBezTo>
                    <a:cubicBezTo>
                      <a:pt x="27" y="8"/>
                      <a:pt x="24" y="6"/>
                      <a:pt x="25" y="4"/>
                    </a:cubicBezTo>
                    <a:cubicBezTo>
                      <a:pt x="25" y="1"/>
                      <a:pt x="26" y="1"/>
                      <a:pt x="26" y="0"/>
                    </a:cubicBezTo>
                    <a:cubicBezTo>
                      <a:pt x="27" y="0"/>
                      <a:pt x="29" y="2"/>
                      <a:pt x="28" y="4"/>
                    </a:cubicBezTo>
                    <a:cubicBezTo>
                      <a:pt x="28" y="6"/>
                      <a:pt x="28" y="8"/>
                      <a:pt x="29" y="9"/>
                    </a:cubicBezTo>
                    <a:cubicBezTo>
                      <a:pt x="31" y="10"/>
                      <a:pt x="33" y="11"/>
                      <a:pt x="33" y="11"/>
                    </a:cubicBezTo>
                    <a:close/>
                  </a:path>
                </a:pathLst>
              </a:custGeom>
              <a:solidFill>
                <a:srgbClr val="574f1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120" name="Freeform 1335"/>
              <p:cNvSpPr/>
              <p:nvPr/>
            </p:nvSpPr>
            <p:spPr>
              <a:xfrm flipV="1">
                <a:off x="2543760" y="3349440"/>
                <a:ext cx="365040" cy="22212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0" y="11"/>
                    </a:move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5" y="7"/>
                      <a:pt x="11" y="11"/>
                    </a:cubicBezTo>
                    <a:cubicBezTo>
                      <a:pt x="10" y="12"/>
                      <a:pt x="10" y="15"/>
                      <a:pt x="15" y="15"/>
                    </a:cubicBezTo>
                    <a:cubicBezTo>
                      <a:pt x="15" y="15"/>
                      <a:pt x="15" y="12"/>
                      <a:pt x="11" y="11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20" y="15"/>
                      <a:pt x="22" y="13"/>
                    </a:cubicBezTo>
                    <a:cubicBezTo>
                      <a:pt x="22" y="14"/>
                      <a:pt x="22" y="15"/>
                      <a:pt x="24" y="16"/>
                    </a:cubicBezTo>
                    <a:cubicBezTo>
                      <a:pt x="25" y="17"/>
                      <a:pt x="27" y="18"/>
                      <a:pt x="27" y="20"/>
                    </a:cubicBezTo>
                    <a:cubicBezTo>
                      <a:pt x="28" y="19"/>
                      <a:pt x="29" y="14"/>
                      <a:pt x="22" y="13"/>
                    </a:cubicBezTo>
                    <a:cubicBezTo>
                      <a:pt x="23" y="13"/>
                      <a:pt x="26" y="13"/>
                      <a:pt x="26" y="13"/>
                    </a:cubicBezTo>
                    <a:cubicBezTo>
                      <a:pt x="26" y="13"/>
                      <a:pt x="29" y="16"/>
                      <a:pt x="33" y="13"/>
                    </a:cubicBezTo>
                    <a:cubicBezTo>
                      <a:pt x="32" y="12"/>
                      <a:pt x="29" y="9"/>
                      <a:pt x="26" y="12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3"/>
                      <a:pt x="28" y="11"/>
                      <a:pt x="27" y="6"/>
                    </a:cubicBezTo>
                    <a:cubicBezTo>
                      <a:pt x="26" y="7"/>
                      <a:pt x="23" y="7"/>
                      <a:pt x="23" y="9"/>
                    </a:cubicBezTo>
                    <a:cubicBezTo>
                      <a:pt x="22" y="11"/>
                      <a:pt x="23" y="12"/>
                      <a:pt x="21" y="13"/>
                    </a:cubicBezTo>
                    <a:cubicBezTo>
                      <a:pt x="19" y="14"/>
                      <a:pt x="11" y="10"/>
                      <a:pt x="11" y="10"/>
                    </a:cubicBezTo>
                    <a:cubicBezTo>
                      <a:pt x="12" y="10"/>
                      <a:pt x="12" y="9"/>
                      <a:pt x="13" y="9"/>
                    </a:cubicBezTo>
                    <a:cubicBezTo>
                      <a:pt x="14" y="9"/>
                      <a:pt x="16" y="8"/>
                      <a:pt x="18" y="7"/>
                    </a:cubicBezTo>
                    <a:cubicBezTo>
                      <a:pt x="19" y="5"/>
                      <a:pt x="19" y="3"/>
                      <a:pt x="19" y="3"/>
                    </a:cubicBezTo>
                    <a:cubicBezTo>
                      <a:pt x="19" y="3"/>
                      <a:pt x="17" y="3"/>
                      <a:pt x="14" y="5"/>
                    </a:cubicBezTo>
                    <a:cubicBezTo>
                      <a:pt x="12" y="7"/>
                      <a:pt x="14" y="8"/>
                      <a:pt x="11" y="9"/>
                    </a:cubicBezTo>
                    <a:cubicBezTo>
                      <a:pt x="8" y="9"/>
                      <a:pt x="6" y="8"/>
                      <a:pt x="5" y="9"/>
                    </a:cubicBezTo>
                    <a:cubicBezTo>
                      <a:pt x="6" y="8"/>
                      <a:pt x="9" y="6"/>
                      <a:pt x="9" y="4"/>
                    </a:cubicBezTo>
                    <a:cubicBezTo>
                      <a:pt x="8" y="1"/>
                      <a:pt x="7" y="1"/>
                      <a:pt x="8" y="0"/>
                    </a:cubicBezTo>
                    <a:cubicBezTo>
                      <a:pt x="7" y="0"/>
                      <a:pt x="5" y="2"/>
                      <a:pt x="5" y="4"/>
                    </a:cubicBezTo>
                    <a:cubicBezTo>
                      <a:pt x="5" y="6"/>
                      <a:pt x="5" y="8"/>
                      <a:pt x="4" y="9"/>
                    </a:cubicBezTo>
                    <a:cubicBezTo>
                      <a:pt x="2" y="10"/>
                      <a:pt x="0" y="11"/>
                      <a:pt x="0" y="11"/>
                    </a:cubicBezTo>
                    <a:close/>
                  </a:path>
                </a:pathLst>
              </a:custGeom>
              <a:solidFill>
                <a:srgbClr val="574f1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121" name="Freeform 1336"/>
              <p:cNvSpPr/>
              <p:nvPr/>
            </p:nvSpPr>
            <p:spPr>
              <a:xfrm flipV="1">
                <a:off x="2388240" y="3494160"/>
                <a:ext cx="242640" cy="2556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3" y="13"/>
                    </a:moveTo>
                    <a:cubicBezTo>
                      <a:pt x="12" y="16"/>
                      <a:pt x="17" y="16"/>
                      <a:pt x="17" y="17"/>
                    </a:cubicBezTo>
                    <a:cubicBezTo>
                      <a:pt x="18" y="16"/>
                      <a:pt x="17" y="15"/>
                      <a:pt x="17" y="15"/>
                    </a:cubicBezTo>
                    <a:cubicBezTo>
                      <a:pt x="17" y="15"/>
                      <a:pt x="18" y="15"/>
                      <a:pt x="19" y="14"/>
                    </a:cubicBezTo>
                    <a:cubicBezTo>
                      <a:pt x="20" y="14"/>
                      <a:pt x="21" y="14"/>
                      <a:pt x="22" y="15"/>
                    </a:cubicBezTo>
                    <a:cubicBezTo>
                      <a:pt x="22" y="12"/>
                      <a:pt x="18" y="11"/>
                      <a:pt x="18" y="11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6" y="8"/>
                      <a:pt x="13" y="11"/>
                    </a:cubicBezTo>
                    <a:cubicBezTo>
                      <a:pt x="15" y="8"/>
                      <a:pt x="13" y="3"/>
                      <a:pt x="13" y="3"/>
                    </a:cubicBezTo>
                    <a:cubicBezTo>
                      <a:pt x="13" y="3"/>
                      <a:pt x="13" y="4"/>
                      <a:pt x="12" y="5"/>
                    </a:cubicBezTo>
                    <a:cubicBezTo>
                      <a:pt x="12" y="2"/>
                      <a:pt x="7" y="0"/>
                      <a:pt x="6" y="0"/>
                    </a:cubicBezTo>
                    <a:cubicBezTo>
                      <a:pt x="7" y="0"/>
                      <a:pt x="7" y="2"/>
                      <a:pt x="7" y="3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8" y="6"/>
                      <a:pt x="7" y="6"/>
                      <a:pt x="6" y="6"/>
                    </a:cubicBezTo>
                    <a:cubicBezTo>
                      <a:pt x="7" y="7"/>
                      <a:pt x="8" y="9"/>
                      <a:pt x="9" y="9"/>
                    </a:cubicBezTo>
                    <a:cubicBezTo>
                      <a:pt x="11" y="10"/>
                      <a:pt x="10" y="12"/>
                      <a:pt x="12" y="13"/>
                    </a:cubicBezTo>
                    <a:cubicBezTo>
                      <a:pt x="11" y="13"/>
                      <a:pt x="9" y="13"/>
                      <a:pt x="9" y="11"/>
                    </a:cubicBezTo>
                    <a:cubicBezTo>
                      <a:pt x="8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7" y="10"/>
                    </a:cubicBezTo>
                    <a:cubicBezTo>
                      <a:pt x="4" y="8"/>
                      <a:pt x="0" y="11"/>
                      <a:pt x="0" y="12"/>
                    </a:cubicBezTo>
                    <a:cubicBezTo>
                      <a:pt x="1" y="11"/>
                      <a:pt x="3" y="14"/>
                      <a:pt x="5" y="14"/>
                    </a:cubicBezTo>
                    <a:cubicBezTo>
                      <a:pt x="4" y="15"/>
                      <a:pt x="4" y="16"/>
                      <a:pt x="5" y="17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9" y="16"/>
                      <a:pt x="10" y="14"/>
                      <a:pt x="10" y="13"/>
                    </a:cubicBezTo>
                    <a:cubicBezTo>
                      <a:pt x="10" y="13"/>
                      <a:pt x="12" y="13"/>
                      <a:pt x="12" y="13"/>
                    </a:cubicBezTo>
                    <a:cubicBezTo>
                      <a:pt x="12" y="13"/>
                      <a:pt x="10" y="15"/>
                      <a:pt x="10" y="18"/>
                    </a:cubicBezTo>
                    <a:cubicBezTo>
                      <a:pt x="9" y="22"/>
                      <a:pt x="13" y="23"/>
                      <a:pt x="13" y="23"/>
                    </a:cubicBezTo>
                    <a:cubicBezTo>
                      <a:pt x="7" y="20"/>
                      <a:pt x="12" y="14"/>
                      <a:pt x="13" y="13"/>
                    </a:cubicBezTo>
                    <a:close/>
                    <a:moveTo>
                      <a:pt x="10" y="5"/>
                    </a:moveTo>
                    <a:cubicBezTo>
                      <a:pt x="11" y="4"/>
                      <a:pt x="12" y="7"/>
                      <a:pt x="12" y="11"/>
                    </a:cubicBezTo>
                    <a:cubicBezTo>
                      <a:pt x="12" y="11"/>
                      <a:pt x="9" y="5"/>
                      <a:pt x="10" y="5"/>
                    </a:cubicBezTo>
                    <a:close/>
                    <a:moveTo>
                      <a:pt x="13" y="12"/>
                    </a:moveTo>
                    <a:cubicBezTo>
                      <a:pt x="13" y="12"/>
                      <a:pt x="18" y="11"/>
                      <a:pt x="19" y="13"/>
                    </a:cubicBezTo>
                    <a:cubicBezTo>
                      <a:pt x="19" y="14"/>
                      <a:pt x="13" y="12"/>
                      <a:pt x="13" y="12"/>
                    </a:cubicBezTo>
                    <a:close/>
                    <a:moveTo>
                      <a:pt x="9" y="13"/>
                    </a:moveTo>
                    <a:cubicBezTo>
                      <a:pt x="9" y="13"/>
                      <a:pt x="3" y="13"/>
                      <a:pt x="3" y="11"/>
                    </a:cubicBezTo>
                    <a:cubicBezTo>
                      <a:pt x="4" y="10"/>
                      <a:pt x="9" y="13"/>
                      <a:pt x="9" y="13"/>
                    </a:cubicBezTo>
                    <a:close/>
                  </a:path>
                </a:pathLst>
              </a:custGeom>
              <a:solidFill>
                <a:srgbClr val="574f1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</p:grpSp>
      <p:grpSp>
        <p:nvGrpSpPr>
          <p:cNvPr id="122" name="组合 3"/>
          <p:cNvGrpSpPr/>
          <p:nvPr/>
        </p:nvGrpSpPr>
        <p:grpSpPr>
          <a:xfrm>
            <a:off x="5421240" y="2160720"/>
            <a:ext cx="6055920" cy="1280880"/>
            <a:chOff x="5421240" y="2160720"/>
            <a:chExt cx="6055920" cy="1280880"/>
          </a:xfrm>
        </p:grpSpPr>
        <p:sp>
          <p:nvSpPr>
            <p:cNvPr id="123" name="文本框 648"/>
            <p:cNvSpPr/>
            <p:nvPr/>
          </p:nvSpPr>
          <p:spPr>
            <a:xfrm>
              <a:off x="5421240" y="236880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74f1f"/>
                  </a:solidFill>
                  <a:latin typeface="Vivaldi"/>
                </a:rPr>
                <a:t>02</a:t>
              </a:r>
              <a:endParaRPr b="0" lang="en-US" sz="4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grpSp>
          <p:nvGrpSpPr>
            <p:cNvPr id="124" name="组合 668"/>
            <p:cNvGrpSpPr/>
            <p:nvPr/>
          </p:nvGrpSpPr>
          <p:grpSpPr>
            <a:xfrm>
              <a:off x="5860440" y="2160720"/>
              <a:ext cx="5616720" cy="1280880"/>
              <a:chOff x="5860440" y="2160720"/>
              <a:chExt cx="5616720" cy="1280880"/>
            </a:xfrm>
          </p:grpSpPr>
          <p:grpSp>
            <p:nvGrpSpPr>
              <p:cNvPr id="125" name="组合 669"/>
              <p:cNvGrpSpPr/>
              <p:nvPr/>
            </p:nvGrpSpPr>
            <p:grpSpPr>
              <a:xfrm>
                <a:off x="5860440" y="2160720"/>
                <a:ext cx="5616720" cy="1280880"/>
                <a:chOff x="5860440" y="2160720"/>
                <a:chExt cx="5616720" cy="1280880"/>
              </a:xfrm>
            </p:grpSpPr>
            <p:pic>
              <p:nvPicPr>
                <p:cNvPr id="126" name="图片 67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60440" y="2160720"/>
                  <a:ext cx="1024200" cy="12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图片 672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10452960" y="2160720"/>
                  <a:ext cx="1024200" cy="1280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8" name="组合 673"/>
                <p:cNvGrpSpPr/>
                <p:nvPr/>
              </p:nvGrpSpPr>
              <p:grpSpPr>
                <a:xfrm>
                  <a:off x="7062840" y="2431800"/>
                  <a:ext cx="3165480" cy="510120"/>
                  <a:chOff x="7062840" y="2431800"/>
                  <a:chExt cx="3165480" cy="510120"/>
                </a:xfrm>
              </p:grpSpPr>
              <p:sp>
                <p:nvSpPr>
                  <p:cNvPr id="129" name="文本框 674"/>
                  <p:cNvSpPr/>
                  <p:nvPr/>
                </p:nvSpPr>
                <p:spPr>
                  <a:xfrm>
                    <a:off x="7062840" y="2431800"/>
                    <a:ext cx="72936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 u="sng">
                        <a:solidFill>
                          <a:srgbClr val="0563c1"/>
                        </a:solidFill>
                        <a:uFillTx/>
                        <a:latin typeface="Calibri"/>
                        <a:ea typeface="宋体"/>
                        <a:hlinkClick r:id="rId5"/>
                      </a:rPr>
                      <a:t>周云蓬</a:t>
                    </a:r>
                    <a:endParaRPr b="0" lang="en-US" sz="24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" name="文本框 675"/>
                  <p:cNvSpPr/>
                  <p:nvPr/>
                </p:nvSpPr>
                <p:spPr>
                  <a:xfrm>
                    <a:off x="8175960" y="2462400"/>
                    <a:ext cx="2052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574f1f"/>
                        </a:solidFill>
                        <a:latin typeface="Vivaldi"/>
                      </a:rPr>
                      <a:t>Small Title Here</a:t>
                    </a:r>
                    <a:endParaRPr b="0" lang="en-US" sz="20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31" name="文本框 670"/>
              <p:cNvSpPr/>
              <p:nvPr/>
            </p:nvSpPr>
            <p:spPr>
              <a:xfrm>
                <a:off x="6570720" y="2799720"/>
                <a:ext cx="4314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74f1f"/>
                    </a:solidFill>
                    <a:latin typeface="微软雅黑 Light"/>
                    <a:ea typeface="微软雅黑 Light"/>
                  </a:rPr>
                  <a:t>但相比而言，值得感激的事要多得多</a:t>
                </a:r>
                <a:endParaRPr b="0" lang="en-US" sz="1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</p:grpSp>
      <p:grpSp>
        <p:nvGrpSpPr>
          <p:cNvPr id="132" name="组合 4"/>
          <p:cNvGrpSpPr/>
          <p:nvPr/>
        </p:nvGrpSpPr>
        <p:grpSpPr>
          <a:xfrm>
            <a:off x="5421240" y="3475080"/>
            <a:ext cx="6055920" cy="1279440"/>
            <a:chOff x="5421240" y="3475080"/>
            <a:chExt cx="6055920" cy="1279440"/>
          </a:xfrm>
        </p:grpSpPr>
        <p:sp>
          <p:nvSpPr>
            <p:cNvPr id="133" name="文本框 649"/>
            <p:cNvSpPr/>
            <p:nvPr/>
          </p:nvSpPr>
          <p:spPr>
            <a:xfrm>
              <a:off x="5421240" y="368208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74f1f"/>
                  </a:solidFill>
                  <a:latin typeface="Vivaldi"/>
                </a:rPr>
                <a:t>03</a:t>
              </a:r>
              <a:endParaRPr b="0" lang="en-US" sz="4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grpSp>
          <p:nvGrpSpPr>
            <p:cNvPr id="134" name="组合 991"/>
            <p:cNvGrpSpPr/>
            <p:nvPr/>
          </p:nvGrpSpPr>
          <p:grpSpPr>
            <a:xfrm>
              <a:off x="5860440" y="3475080"/>
              <a:ext cx="5616720" cy="1279440"/>
              <a:chOff x="5860440" y="3475080"/>
              <a:chExt cx="5616720" cy="1279440"/>
            </a:xfrm>
          </p:grpSpPr>
          <p:grpSp>
            <p:nvGrpSpPr>
              <p:cNvPr id="135" name="组合 992"/>
              <p:cNvGrpSpPr/>
              <p:nvPr/>
            </p:nvGrpSpPr>
            <p:grpSpPr>
              <a:xfrm>
                <a:off x="5860440" y="3475080"/>
                <a:ext cx="5616720" cy="1279440"/>
                <a:chOff x="5860440" y="3475080"/>
                <a:chExt cx="5616720" cy="1279440"/>
              </a:xfrm>
            </p:grpSpPr>
            <p:pic>
              <p:nvPicPr>
                <p:cNvPr id="136" name="图片 9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860440" y="3475080"/>
                  <a:ext cx="10242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图片 995" descr="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10452960" y="3475080"/>
                  <a:ext cx="10242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8" name="组合 996"/>
                <p:cNvGrpSpPr/>
                <p:nvPr/>
              </p:nvGrpSpPr>
              <p:grpSpPr>
                <a:xfrm>
                  <a:off x="7154280" y="3745800"/>
                  <a:ext cx="3074040" cy="510120"/>
                  <a:chOff x="7154280" y="3745800"/>
                  <a:chExt cx="3074040" cy="510120"/>
                </a:xfrm>
              </p:grpSpPr>
              <p:sp>
                <p:nvSpPr>
                  <p:cNvPr id="139" name="文本框 997"/>
                  <p:cNvSpPr/>
                  <p:nvPr/>
                </p:nvSpPr>
                <p:spPr>
                  <a:xfrm>
                    <a:off x="7154280" y="3745800"/>
                    <a:ext cx="5464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 u="sng">
                        <a:solidFill>
                          <a:srgbClr val="0563c1"/>
                        </a:solidFill>
                        <a:uFillTx/>
                        <a:latin typeface="Calibri"/>
                        <a:ea typeface="宋体"/>
                        <a:hlinkClick r:id="rId8"/>
                      </a:rPr>
                      <a:t>汪峰</a:t>
                    </a:r>
                    <a:endParaRPr b="0" lang="en-US" sz="24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0" name="文本框 998"/>
                  <p:cNvSpPr/>
                  <p:nvPr/>
                </p:nvSpPr>
                <p:spPr>
                  <a:xfrm>
                    <a:off x="8175960" y="3776400"/>
                    <a:ext cx="2052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574f1f"/>
                        </a:solidFill>
                        <a:latin typeface="Vivaldi"/>
                      </a:rPr>
                      <a:t>Small Title Here</a:t>
                    </a:r>
                    <a:endParaRPr b="0" lang="en-US" sz="20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41" name="文本框 993"/>
              <p:cNvSpPr/>
              <p:nvPr/>
            </p:nvSpPr>
            <p:spPr>
              <a:xfrm>
                <a:off x="6570720" y="4113360"/>
                <a:ext cx="4314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74f1f"/>
                    </a:solidFill>
                    <a:latin typeface="微软雅黑 Light"/>
                    <a:ea typeface="微软雅黑 Light"/>
                  </a:rPr>
                  <a:t>尽管生命的美好有时被蒙上阴影</a:t>
                </a:r>
                <a:endParaRPr b="0" lang="en-US" sz="1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</p:grpSp>
      <p:grpSp>
        <p:nvGrpSpPr>
          <p:cNvPr id="142" name="组合 5"/>
          <p:cNvGrpSpPr/>
          <p:nvPr/>
        </p:nvGrpSpPr>
        <p:grpSpPr>
          <a:xfrm>
            <a:off x="5421240" y="4791240"/>
            <a:ext cx="6055920" cy="1279440"/>
            <a:chOff x="5421240" y="4791240"/>
            <a:chExt cx="6055920" cy="1279440"/>
          </a:xfrm>
        </p:grpSpPr>
        <p:sp>
          <p:nvSpPr>
            <p:cNvPr id="143" name="文本框 650"/>
            <p:cNvSpPr/>
            <p:nvPr/>
          </p:nvSpPr>
          <p:spPr>
            <a:xfrm>
              <a:off x="5421240" y="499608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74f1f"/>
                  </a:solidFill>
                  <a:latin typeface="Vivaldi"/>
                </a:rPr>
                <a:t>04</a:t>
              </a:r>
              <a:endParaRPr b="0" lang="en-US" sz="4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grpSp>
          <p:nvGrpSpPr>
            <p:cNvPr id="144" name="组合 999"/>
            <p:cNvGrpSpPr/>
            <p:nvPr/>
          </p:nvGrpSpPr>
          <p:grpSpPr>
            <a:xfrm>
              <a:off x="5860440" y="4791240"/>
              <a:ext cx="5616720" cy="1279440"/>
              <a:chOff x="5860440" y="4791240"/>
              <a:chExt cx="5616720" cy="1279440"/>
            </a:xfrm>
          </p:grpSpPr>
          <p:grpSp>
            <p:nvGrpSpPr>
              <p:cNvPr id="145" name="组合 1000"/>
              <p:cNvGrpSpPr/>
              <p:nvPr/>
            </p:nvGrpSpPr>
            <p:grpSpPr>
              <a:xfrm>
                <a:off x="5860440" y="4791240"/>
                <a:ext cx="5616720" cy="1279440"/>
                <a:chOff x="5860440" y="4791240"/>
                <a:chExt cx="5616720" cy="1279440"/>
              </a:xfrm>
            </p:grpSpPr>
            <p:pic>
              <p:nvPicPr>
                <p:cNvPr id="146" name="图片 100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860440" y="4791240"/>
                  <a:ext cx="10242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图片 1003" descr="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10452960" y="4791240"/>
                  <a:ext cx="10242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8" name="组合 1004"/>
                <p:cNvGrpSpPr/>
                <p:nvPr/>
              </p:nvGrpSpPr>
              <p:grpSpPr>
                <a:xfrm>
                  <a:off x="7154280" y="5061960"/>
                  <a:ext cx="3074040" cy="510120"/>
                  <a:chOff x="7154280" y="5061960"/>
                  <a:chExt cx="3074040" cy="510120"/>
                </a:xfrm>
              </p:grpSpPr>
              <p:sp>
                <p:nvSpPr>
                  <p:cNvPr id="149" name="文本框 1005"/>
                  <p:cNvSpPr/>
                  <p:nvPr/>
                </p:nvSpPr>
                <p:spPr>
                  <a:xfrm>
                    <a:off x="7154280" y="5061960"/>
                    <a:ext cx="5464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 u="sng">
                        <a:solidFill>
                          <a:srgbClr val="0563c1"/>
                        </a:solidFill>
                        <a:uFillTx/>
                        <a:latin typeface="Calibri"/>
                        <a:ea typeface="宋体"/>
                        <a:hlinkClick r:id="rId11"/>
                      </a:rPr>
                      <a:t>张杰</a:t>
                    </a:r>
                    <a:endParaRPr b="0" lang="en-US" sz="24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0" name="文本框 1006"/>
                  <p:cNvSpPr/>
                  <p:nvPr/>
                </p:nvSpPr>
                <p:spPr>
                  <a:xfrm>
                    <a:off x="8175960" y="5092560"/>
                    <a:ext cx="2052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574f1f"/>
                        </a:solidFill>
                        <a:latin typeface="Vivaldi"/>
                      </a:rPr>
                      <a:t>Small Title Here</a:t>
                    </a:r>
                    <a:endParaRPr b="0" lang="en-US" sz="2000" spc="-1" strike="noStrike">
                      <a:solidFill>
                        <a:srgbClr val="574f1f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51" name="文本框 1001"/>
              <p:cNvSpPr/>
              <p:nvPr/>
            </p:nvSpPr>
            <p:spPr>
              <a:xfrm>
                <a:off x="6570720" y="5429520"/>
                <a:ext cx="4314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74f1f"/>
                    </a:solidFill>
                    <a:latin typeface="微软雅黑 Light"/>
                    <a:ea typeface="微软雅黑 Light"/>
                  </a:rPr>
                  <a:t>但它却永远不会被埋没</a:t>
                </a:r>
                <a:endParaRPr b="0" lang="en-US" sz="1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</p:grpSp>
      <p:grpSp>
        <p:nvGrpSpPr>
          <p:cNvPr id="152" name="组合 5165"/>
          <p:cNvGrpSpPr/>
          <p:nvPr/>
        </p:nvGrpSpPr>
        <p:grpSpPr>
          <a:xfrm>
            <a:off x="5421240" y="898560"/>
            <a:ext cx="6055920" cy="1281240"/>
            <a:chOff x="5421240" y="898560"/>
            <a:chExt cx="6055920" cy="1281240"/>
          </a:xfrm>
        </p:grpSpPr>
        <p:grpSp>
          <p:nvGrpSpPr>
            <p:cNvPr id="153" name="组合 2"/>
            <p:cNvGrpSpPr/>
            <p:nvPr/>
          </p:nvGrpSpPr>
          <p:grpSpPr>
            <a:xfrm>
              <a:off x="5421240" y="898560"/>
              <a:ext cx="6055920" cy="1281240"/>
              <a:chOff x="5421240" y="898560"/>
              <a:chExt cx="6055920" cy="1281240"/>
            </a:xfrm>
          </p:grpSpPr>
          <p:sp>
            <p:nvSpPr>
              <p:cNvPr id="154" name="文本框 647"/>
              <p:cNvSpPr/>
              <p:nvPr/>
            </p:nvSpPr>
            <p:spPr>
              <a:xfrm>
                <a:off x="5421240" y="1055160"/>
                <a:ext cx="878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74f1f"/>
                    </a:solidFill>
                    <a:latin typeface="Vivaldi"/>
                  </a:rPr>
                  <a:t>01</a:t>
                </a:r>
                <a:endParaRPr b="0" lang="en-US" sz="4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grpSp>
            <p:nvGrpSpPr>
              <p:cNvPr id="155" name="组合 667"/>
              <p:cNvGrpSpPr/>
              <p:nvPr/>
            </p:nvGrpSpPr>
            <p:grpSpPr>
              <a:xfrm>
                <a:off x="5860440" y="898560"/>
                <a:ext cx="5616720" cy="1281240"/>
                <a:chOff x="5860440" y="898560"/>
                <a:chExt cx="5616720" cy="1281240"/>
              </a:xfrm>
            </p:grpSpPr>
            <p:grpSp>
              <p:nvGrpSpPr>
                <p:cNvPr id="156" name="组合 659"/>
                <p:cNvGrpSpPr/>
                <p:nvPr/>
              </p:nvGrpSpPr>
              <p:grpSpPr>
                <a:xfrm>
                  <a:off x="5860440" y="898560"/>
                  <a:ext cx="5616720" cy="1281240"/>
                  <a:chOff x="5860440" y="898560"/>
                  <a:chExt cx="5616720" cy="1281240"/>
                </a:xfrm>
              </p:grpSpPr>
              <p:pic>
                <p:nvPicPr>
                  <p:cNvPr id="157" name="图片 65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0440" y="898560"/>
                    <a:ext cx="10242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图片 65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 flipH="1">
                    <a:off x="10452960" y="898560"/>
                    <a:ext cx="10242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59" name="组合 658"/>
                  <p:cNvGrpSpPr/>
                  <p:nvPr/>
                </p:nvGrpSpPr>
                <p:grpSpPr>
                  <a:xfrm>
                    <a:off x="6561720" y="1170000"/>
                    <a:ext cx="3666240" cy="461880"/>
                    <a:chOff x="6561720" y="1170000"/>
                    <a:chExt cx="3666240" cy="461880"/>
                  </a:xfrm>
                </p:grpSpPr>
                <p:sp>
                  <p:nvSpPr>
                    <p:cNvPr id="160" name="文本框 656"/>
                    <p:cNvSpPr/>
                    <p:nvPr/>
                  </p:nvSpPr>
                  <p:spPr>
                    <a:xfrm>
                      <a:off x="6561720" y="1170000"/>
                      <a:ext cx="1732320" cy="461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f1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1" name="文本框 657"/>
                    <p:cNvSpPr/>
                    <p:nvPr/>
                  </p:nvSpPr>
                  <p:spPr>
                    <a:xfrm>
                      <a:off x="8175600" y="1200600"/>
                      <a:ext cx="20523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74f1f"/>
                          </a:solidFill>
                          <a:latin typeface="Vivaldi"/>
                        </a:rPr>
                        <a:t>Small Title Here</a:t>
                      </a:r>
                      <a:endParaRPr b="0" lang="en-US" sz="2000" spc="-1" strike="noStrike">
                        <a:solidFill>
                          <a:srgbClr val="574f1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62" name="文本框 666"/>
                <p:cNvSpPr/>
                <p:nvPr/>
              </p:nvSpPr>
              <p:spPr>
                <a:xfrm>
                  <a:off x="6570720" y="1537920"/>
                  <a:ext cx="4314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74f1f"/>
                      </a:solidFill>
                      <a:latin typeface="微软雅黑 Light"/>
                      <a:ea typeface="微软雅黑 Light"/>
                    </a:rPr>
                    <a:t>尽管有很多事让人忧虑，但相比而言</a:t>
                  </a:r>
                  <a:endParaRPr b="0" lang="en-US" sz="14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63" name="文本框 5176"/>
            <p:cNvSpPr/>
            <p:nvPr/>
          </p:nvSpPr>
          <p:spPr>
            <a:xfrm>
              <a:off x="6573960" y="1151640"/>
              <a:ext cx="1686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563c1"/>
                  </a:solidFill>
                  <a:uFillTx/>
                  <a:latin typeface="Calibri"/>
                  <a:ea typeface="宋体"/>
                  <a:hlinkClick r:id="rId14"/>
                </a:rPr>
                <a:t>阿黛尔</a:t>
              </a:r>
              <a:endParaRPr b="0" lang="en-US" sz="24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</p:spTree>
  </p:cSld>
  <p:transition advTm="10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6145"/>
          <p:cNvGrpSpPr/>
          <p:nvPr/>
        </p:nvGrpSpPr>
        <p:grpSpPr>
          <a:xfrm>
            <a:off x="2167560" y="-980280"/>
            <a:ext cx="7423560" cy="7521480"/>
            <a:chOff x="2167560" y="-980280"/>
            <a:chExt cx="7423560" cy="7521480"/>
          </a:xfrm>
        </p:grpSpPr>
        <p:pic>
          <p:nvPicPr>
            <p:cNvPr id="165" name="图片 1" descr=""/>
            <p:cNvPicPr/>
            <p:nvPr/>
          </p:nvPicPr>
          <p:blipFill>
            <a:blip r:embed="rId1"/>
            <a:srcRect l="0" t="0" r="46724" b="35518"/>
            <a:stretch/>
          </p:blipFill>
          <p:spPr>
            <a:xfrm rot="18650400">
              <a:off x="2684880" y="2707920"/>
              <a:ext cx="3283200" cy="282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图片 2" descr=""/>
            <p:cNvPicPr/>
            <p:nvPr/>
          </p:nvPicPr>
          <p:blipFill>
            <a:blip r:embed="rId2"/>
            <a:srcRect l="0" t="0" r="-561" b="0"/>
            <a:stretch/>
          </p:blipFill>
          <p:spPr>
            <a:xfrm flipH="1" rot="2831400">
              <a:off x="2782440" y="588960"/>
              <a:ext cx="6193080" cy="438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椭圆 4"/>
          <p:cNvSpPr/>
          <p:nvPr/>
        </p:nvSpPr>
        <p:spPr>
          <a:xfrm>
            <a:off x="3943440" y="1233360"/>
            <a:ext cx="4305240" cy="4305600"/>
          </a:xfrm>
          <a:prstGeom prst="ellipse">
            <a:avLst/>
          </a:prstGeom>
          <a:solidFill>
            <a:srgbClr val="fdf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  <p:sp>
        <p:nvSpPr>
          <p:cNvPr id="168" name="椭圆 5"/>
          <p:cNvSpPr/>
          <p:nvPr/>
        </p:nvSpPr>
        <p:spPr>
          <a:xfrm>
            <a:off x="3740040" y="1030320"/>
            <a:ext cx="4711680" cy="4711680"/>
          </a:xfrm>
          <a:prstGeom prst="ellipse">
            <a:avLst/>
          </a:prstGeom>
          <a:noFill/>
          <a:ln w="12600">
            <a:solidFill>
              <a:srgbClr val="fdfbe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  <p:sp>
        <p:nvSpPr>
          <p:cNvPr id="169" name="文本框 6"/>
          <p:cNvSpPr/>
          <p:nvPr/>
        </p:nvSpPr>
        <p:spPr>
          <a:xfrm>
            <a:off x="3693240" y="2611440"/>
            <a:ext cx="48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4f1f"/>
                </a:solidFill>
                <a:latin typeface="Vivaldi"/>
              </a:rPr>
              <a:t>Europe and the United States a darling</a:t>
            </a:r>
            <a:endParaRPr b="0" lang="en-US" sz="2000" spc="-1" strike="noStrike">
              <a:solidFill>
                <a:srgbClr val="574f1f"/>
              </a:solidFill>
              <a:latin typeface="Calibri"/>
            </a:endParaRPr>
          </a:p>
        </p:txBody>
      </p:sp>
      <p:sp>
        <p:nvSpPr>
          <p:cNvPr id="170" name="文本框 7"/>
          <p:cNvSpPr/>
          <p:nvPr/>
        </p:nvSpPr>
        <p:spPr>
          <a:xfrm>
            <a:off x="5266440" y="3033720"/>
            <a:ext cx="16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f1f"/>
                </a:solidFill>
                <a:latin typeface="宋体"/>
              </a:rPr>
              <a:t>{</a:t>
            </a:r>
            <a:r>
              <a:rPr b="0" lang="zh-CN" sz="3200" spc="-1" strike="noStrike">
                <a:solidFill>
                  <a:srgbClr val="574f1f"/>
                </a:solidFill>
                <a:latin typeface="宋体"/>
                <a:ea typeface="宋体"/>
              </a:rPr>
              <a:t>欧美宠儿</a:t>
            </a:r>
            <a:r>
              <a:rPr b="0" lang="en-US" sz="3200" spc="-1" strike="noStrike">
                <a:solidFill>
                  <a:srgbClr val="574f1f"/>
                </a:solidFill>
                <a:latin typeface="宋体"/>
              </a:rPr>
              <a:t>}</a:t>
            </a:r>
            <a:endParaRPr b="0" lang="en-US" sz="3200" spc="-1" strike="noStrike">
              <a:solidFill>
                <a:srgbClr val="574f1f"/>
              </a:solidFill>
              <a:latin typeface="Calibri"/>
            </a:endParaRPr>
          </a:p>
        </p:txBody>
      </p:sp>
      <p:grpSp>
        <p:nvGrpSpPr>
          <p:cNvPr id="171" name="组合 8"/>
          <p:cNvGrpSpPr/>
          <p:nvPr/>
        </p:nvGrpSpPr>
        <p:grpSpPr>
          <a:xfrm>
            <a:off x="5445000" y="3844800"/>
            <a:ext cx="1352520" cy="387360"/>
            <a:chOff x="5445000" y="3844800"/>
            <a:chExt cx="1352520" cy="387360"/>
          </a:xfrm>
        </p:grpSpPr>
        <p:sp>
          <p:nvSpPr>
            <p:cNvPr id="172" name="Freeform 1332"/>
            <p:cNvSpPr/>
            <p:nvPr/>
          </p:nvSpPr>
          <p:spPr>
            <a:xfrm flipV="1">
              <a:off x="6336000" y="3866040"/>
              <a:ext cx="461520" cy="34452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20"/>
                  </a:moveTo>
                  <a:cubicBezTo>
                    <a:pt x="0" y="20"/>
                    <a:pt x="6" y="13"/>
                    <a:pt x="11" y="12"/>
                  </a:cubicBezTo>
                  <a:cubicBezTo>
                    <a:pt x="24" y="11"/>
                    <a:pt x="16" y="21"/>
                    <a:pt x="16" y="22"/>
                  </a:cubicBezTo>
                  <a:cubicBezTo>
                    <a:pt x="17" y="22"/>
                    <a:pt x="19" y="22"/>
                    <a:pt x="19" y="20"/>
                  </a:cubicBezTo>
                  <a:cubicBezTo>
                    <a:pt x="20" y="24"/>
                    <a:pt x="15" y="25"/>
                    <a:pt x="16" y="27"/>
                  </a:cubicBezTo>
                  <a:cubicBezTo>
                    <a:pt x="17" y="26"/>
                    <a:pt x="19" y="26"/>
                    <a:pt x="20" y="25"/>
                  </a:cubicBezTo>
                  <a:cubicBezTo>
                    <a:pt x="20" y="28"/>
                    <a:pt x="15" y="29"/>
                    <a:pt x="16" y="32"/>
                  </a:cubicBezTo>
                  <a:cubicBezTo>
                    <a:pt x="17" y="29"/>
                    <a:pt x="20" y="31"/>
                    <a:pt x="23" y="29"/>
                  </a:cubicBezTo>
                  <a:cubicBezTo>
                    <a:pt x="33" y="23"/>
                    <a:pt x="23" y="13"/>
                    <a:pt x="22" y="13"/>
                  </a:cubicBezTo>
                  <a:cubicBezTo>
                    <a:pt x="29" y="19"/>
                    <a:pt x="23" y="24"/>
                    <a:pt x="23" y="24"/>
                  </a:cubicBezTo>
                  <a:cubicBezTo>
                    <a:pt x="23" y="24"/>
                    <a:pt x="25" y="20"/>
                    <a:pt x="22" y="15"/>
                  </a:cubicBezTo>
                  <a:cubicBezTo>
                    <a:pt x="19" y="10"/>
                    <a:pt x="10" y="11"/>
                    <a:pt x="6" y="14"/>
                  </a:cubicBezTo>
                  <a:cubicBezTo>
                    <a:pt x="9" y="9"/>
                    <a:pt x="21" y="10"/>
                    <a:pt x="22" y="10"/>
                  </a:cubicBezTo>
                  <a:cubicBezTo>
                    <a:pt x="30" y="10"/>
                    <a:pt x="34" y="19"/>
                    <a:pt x="34" y="20"/>
                  </a:cubicBezTo>
                  <a:cubicBezTo>
                    <a:pt x="34" y="22"/>
                    <a:pt x="35" y="24"/>
                    <a:pt x="35" y="24"/>
                  </a:cubicBezTo>
                  <a:cubicBezTo>
                    <a:pt x="35" y="24"/>
                    <a:pt x="34" y="24"/>
                    <a:pt x="33" y="23"/>
                  </a:cubicBezTo>
                  <a:cubicBezTo>
                    <a:pt x="33" y="21"/>
                    <a:pt x="33" y="18"/>
                    <a:pt x="32" y="16"/>
                  </a:cubicBezTo>
                  <a:cubicBezTo>
                    <a:pt x="31" y="14"/>
                    <a:pt x="28" y="13"/>
                    <a:pt x="28" y="13"/>
                  </a:cubicBezTo>
                  <a:cubicBezTo>
                    <a:pt x="28" y="13"/>
                    <a:pt x="30" y="14"/>
                    <a:pt x="30" y="15"/>
                  </a:cubicBezTo>
                  <a:cubicBezTo>
                    <a:pt x="26" y="21"/>
                    <a:pt x="28" y="25"/>
                    <a:pt x="30" y="25"/>
                  </a:cubicBezTo>
                  <a:cubicBezTo>
                    <a:pt x="32" y="26"/>
                    <a:pt x="33" y="27"/>
                    <a:pt x="33" y="28"/>
                  </a:cubicBezTo>
                  <a:cubicBezTo>
                    <a:pt x="34" y="28"/>
                    <a:pt x="33" y="25"/>
                    <a:pt x="33" y="25"/>
                  </a:cubicBezTo>
                  <a:cubicBezTo>
                    <a:pt x="33" y="25"/>
                    <a:pt x="34" y="24"/>
                    <a:pt x="35" y="27"/>
                  </a:cubicBezTo>
                  <a:cubicBezTo>
                    <a:pt x="37" y="30"/>
                    <a:pt x="41" y="31"/>
                    <a:pt x="42" y="30"/>
                  </a:cubicBezTo>
                  <a:cubicBezTo>
                    <a:pt x="41" y="30"/>
                    <a:pt x="38" y="28"/>
                    <a:pt x="38" y="26"/>
                  </a:cubicBezTo>
                  <a:cubicBezTo>
                    <a:pt x="39" y="23"/>
                    <a:pt x="38" y="22"/>
                    <a:pt x="38" y="21"/>
                  </a:cubicBezTo>
                  <a:cubicBezTo>
                    <a:pt x="39" y="21"/>
                    <a:pt x="42" y="21"/>
                    <a:pt x="42" y="22"/>
                  </a:cubicBezTo>
                  <a:cubicBezTo>
                    <a:pt x="43" y="21"/>
                    <a:pt x="41" y="18"/>
                    <a:pt x="40" y="18"/>
                  </a:cubicBezTo>
                  <a:cubicBezTo>
                    <a:pt x="41" y="18"/>
                    <a:pt x="43" y="16"/>
                    <a:pt x="42" y="15"/>
                  </a:cubicBezTo>
                  <a:cubicBezTo>
                    <a:pt x="41" y="17"/>
                    <a:pt x="40" y="14"/>
                    <a:pt x="39" y="14"/>
                  </a:cubicBezTo>
                  <a:cubicBezTo>
                    <a:pt x="37" y="13"/>
                    <a:pt x="35" y="13"/>
                    <a:pt x="34" y="14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28" y="11"/>
                    <a:pt x="24" y="10"/>
                    <a:pt x="24" y="10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7" y="11"/>
                    <a:pt x="29" y="10"/>
                  </a:cubicBezTo>
                  <a:cubicBezTo>
                    <a:pt x="31" y="10"/>
                    <a:pt x="35" y="7"/>
                    <a:pt x="36" y="9"/>
                  </a:cubicBezTo>
                  <a:cubicBezTo>
                    <a:pt x="36" y="8"/>
                    <a:pt x="35" y="7"/>
                    <a:pt x="34" y="7"/>
                  </a:cubicBezTo>
                  <a:cubicBezTo>
                    <a:pt x="36" y="3"/>
                    <a:pt x="39" y="2"/>
                    <a:pt x="40" y="3"/>
                  </a:cubicBezTo>
                  <a:cubicBezTo>
                    <a:pt x="39" y="0"/>
                    <a:pt x="34" y="2"/>
                    <a:pt x="31" y="2"/>
                  </a:cubicBezTo>
                  <a:cubicBezTo>
                    <a:pt x="32" y="1"/>
                    <a:pt x="30" y="0"/>
                    <a:pt x="30" y="0"/>
                  </a:cubicBezTo>
                  <a:cubicBezTo>
                    <a:pt x="30" y="0"/>
                    <a:pt x="30" y="2"/>
                    <a:pt x="27" y="3"/>
                  </a:cubicBezTo>
                  <a:cubicBezTo>
                    <a:pt x="25" y="4"/>
                    <a:pt x="24" y="7"/>
                    <a:pt x="25" y="8"/>
                  </a:cubicBezTo>
                  <a:cubicBezTo>
                    <a:pt x="21" y="10"/>
                    <a:pt x="14" y="9"/>
                    <a:pt x="9" y="11"/>
                  </a:cubicBezTo>
                  <a:cubicBezTo>
                    <a:pt x="5" y="13"/>
                    <a:pt x="0" y="20"/>
                    <a:pt x="0" y="20"/>
                  </a:cubicBezTo>
                  <a:close/>
                  <a:moveTo>
                    <a:pt x="33" y="5"/>
                  </a:moveTo>
                  <a:cubicBezTo>
                    <a:pt x="34" y="7"/>
                    <a:pt x="26" y="8"/>
                    <a:pt x="26" y="8"/>
                  </a:cubicBezTo>
                  <a:cubicBezTo>
                    <a:pt x="26" y="8"/>
                    <a:pt x="32" y="2"/>
                    <a:pt x="33" y="5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173" name="Freeform 1333"/>
            <p:cNvSpPr/>
            <p:nvPr/>
          </p:nvSpPr>
          <p:spPr>
            <a:xfrm flipV="1">
              <a:off x="5445000" y="3866040"/>
              <a:ext cx="461520" cy="34452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33" y="11"/>
                  </a:moveTo>
                  <a:cubicBezTo>
                    <a:pt x="28" y="9"/>
                    <a:pt x="21" y="10"/>
                    <a:pt x="18" y="8"/>
                  </a:cubicBezTo>
                  <a:cubicBezTo>
                    <a:pt x="18" y="7"/>
                    <a:pt x="17" y="4"/>
                    <a:pt x="15" y="3"/>
                  </a:cubicBezTo>
                  <a:cubicBezTo>
                    <a:pt x="12" y="2"/>
                    <a:pt x="13" y="0"/>
                    <a:pt x="13" y="0"/>
                  </a:cubicBezTo>
                  <a:cubicBezTo>
                    <a:pt x="13" y="0"/>
                    <a:pt x="10" y="1"/>
                    <a:pt x="11" y="2"/>
                  </a:cubicBezTo>
                  <a:cubicBezTo>
                    <a:pt x="9" y="2"/>
                    <a:pt x="4" y="0"/>
                    <a:pt x="2" y="3"/>
                  </a:cubicBezTo>
                  <a:cubicBezTo>
                    <a:pt x="3" y="2"/>
                    <a:pt x="6" y="3"/>
                    <a:pt x="8" y="7"/>
                  </a:cubicBezTo>
                  <a:cubicBezTo>
                    <a:pt x="7" y="7"/>
                    <a:pt x="6" y="8"/>
                    <a:pt x="7" y="9"/>
                  </a:cubicBezTo>
                  <a:cubicBezTo>
                    <a:pt x="8" y="7"/>
                    <a:pt x="11" y="10"/>
                    <a:pt x="13" y="10"/>
                  </a:cubicBezTo>
                  <a:cubicBezTo>
                    <a:pt x="16" y="11"/>
                    <a:pt x="17" y="9"/>
                    <a:pt x="17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4" y="11"/>
                    <a:pt x="11" y="13"/>
                  </a:cubicBezTo>
                  <a:cubicBezTo>
                    <a:pt x="11" y="13"/>
                    <a:pt x="10" y="13"/>
                    <a:pt x="9" y="14"/>
                  </a:cubicBezTo>
                  <a:cubicBezTo>
                    <a:pt x="7" y="13"/>
                    <a:pt x="5" y="13"/>
                    <a:pt x="4" y="14"/>
                  </a:cubicBezTo>
                  <a:cubicBezTo>
                    <a:pt x="2" y="14"/>
                    <a:pt x="1" y="17"/>
                    <a:pt x="0" y="15"/>
                  </a:cubicBezTo>
                  <a:cubicBezTo>
                    <a:pt x="0" y="16"/>
                    <a:pt x="1" y="18"/>
                    <a:pt x="3" y="18"/>
                  </a:cubicBezTo>
                  <a:cubicBezTo>
                    <a:pt x="2" y="18"/>
                    <a:pt x="0" y="21"/>
                    <a:pt x="1" y="22"/>
                  </a:cubicBezTo>
                  <a:cubicBezTo>
                    <a:pt x="1" y="21"/>
                    <a:pt x="3" y="21"/>
                    <a:pt x="5" y="21"/>
                  </a:cubicBezTo>
                  <a:cubicBezTo>
                    <a:pt x="4" y="22"/>
                    <a:pt x="3" y="23"/>
                    <a:pt x="4" y="26"/>
                  </a:cubicBezTo>
                  <a:cubicBezTo>
                    <a:pt x="5" y="28"/>
                    <a:pt x="1" y="30"/>
                    <a:pt x="0" y="30"/>
                  </a:cubicBezTo>
                  <a:cubicBezTo>
                    <a:pt x="2" y="31"/>
                    <a:pt x="5" y="30"/>
                    <a:pt x="7" y="27"/>
                  </a:cubicBezTo>
                  <a:cubicBezTo>
                    <a:pt x="9" y="24"/>
                    <a:pt x="9" y="25"/>
                    <a:pt x="9" y="25"/>
                  </a:cubicBezTo>
                  <a:cubicBezTo>
                    <a:pt x="9" y="25"/>
                    <a:pt x="8" y="28"/>
                    <a:pt x="9" y="28"/>
                  </a:cubicBezTo>
                  <a:cubicBezTo>
                    <a:pt x="10" y="27"/>
                    <a:pt x="11" y="26"/>
                    <a:pt x="12" y="25"/>
                  </a:cubicBezTo>
                  <a:cubicBezTo>
                    <a:pt x="14" y="25"/>
                    <a:pt x="16" y="21"/>
                    <a:pt x="13" y="15"/>
                  </a:cubicBezTo>
                  <a:cubicBezTo>
                    <a:pt x="12" y="14"/>
                    <a:pt x="14" y="13"/>
                    <a:pt x="14" y="13"/>
                  </a:cubicBezTo>
                  <a:cubicBezTo>
                    <a:pt x="14" y="13"/>
                    <a:pt x="12" y="14"/>
                    <a:pt x="11" y="16"/>
                  </a:cubicBezTo>
                  <a:cubicBezTo>
                    <a:pt x="10" y="18"/>
                    <a:pt x="10" y="21"/>
                    <a:pt x="9" y="23"/>
                  </a:cubicBezTo>
                  <a:cubicBezTo>
                    <a:pt x="8" y="24"/>
                    <a:pt x="7" y="24"/>
                    <a:pt x="7" y="24"/>
                  </a:cubicBezTo>
                  <a:cubicBezTo>
                    <a:pt x="7" y="24"/>
                    <a:pt x="9" y="22"/>
                    <a:pt x="8" y="20"/>
                  </a:cubicBezTo>
                  <a:cubicBezTo>
                    <a:pt x="8" y="19"/>
                    <a:pt x="12" y="10"/>
                    <a:pt x="20" y="10"/>
                  </a:cubicBezTo>
                  <a:cubicBezTo>
                    <a:pt x="21" y="10"/>
                    <a:pt x="33" y="9"/>
                    <a:pt x="36" y="14"/>
                  </a:cubicBezTo>
                  <a:cubicBezTo>
                    <a:pt x="33" y="11"/>
                    <a:pt x="23" y="10"/>
                    <a:pt x="20" y="15"/>
                  </a:cubicBezTo>
                  <a:cubicBezTo>
                    <a:pt x="17" y="20"/>
                    <a:pt x="19" y="24"/>
                    <a:pt x="19" y="24"/>
                  </a:cubicBezTo>
                  <a:cubicBezTo>
                    <a:pt x="19" y="24"/>
                    <a:pt x="14" y="19"/>
                    <a:pt x="21" y="13"/>
                  </a:cubicBezTo>
                  <a:cubicBezTo>
                    <a:pt x="20" y="13"/>
                    <a:pt x="9" y="23"/>
                    <a:pt x="20" y="29"/>
                  </a:cubicBezTo>
                  <a:cubicBezTo>
                    <a:pt x="23" y="31"/>
                    <a:pt x="26" y="29"/>
                    <a:pt x="27" y="32"/>
                  </a:cubicBezTo>
                  <a:cubicBezTo>
                    <a:pt x="27" y="29"/>
                    <a:pt x="23" y="28"/>
                    <a:pt x="22" y="25"/>
                  </a:cubicBezTo>
                  <a:cubicBezTo>
                    <a:pt x="23" y="26"/>
                    <a:pt x="25" y="26"/>
                    <a:pt x="27" y="27"/>
                  </a:cubicBezTo>
                  <a:cubicBezTo>
                    <a:pt x="27" y="25"/>
                    <a:pt x="22" y="24"/>
                    <a:pt x="23" y="20"/>
                  </a:cubicBezTo>
                  <a:cubicBezTo>
                    <a:pt x="23" y="22"/>
                    <a:pt x="25" y="22"/>
                    <a:pt x="26" y="22"/>
                  </a:cubicBezTo>
                  <a:cubicBezTo>
                    <a:pt x="26" y="21"/>
                    <a:pt x="19" y="11"/>
                    <a:pt x="31" y="12"/>
                  </a:cubicBezTo>
                  <a:cubicBezTo>
                    <a:pt x="37" y="13"/>
                    <a:pt x="43" y="20"/>
                    <a:pt x="43" y="20"/>
                  </a:cubicBezTo>
                  <a:cubicBezTo>
                    <a:pt x="43" y="20"/>
                    <a:pt x="38" y="13"/>
                    <a:pt x="33" y="11"/>
                  </a:cubicBezTo>
                  <a:close/>
                  <a:moveTo>
                    <a:pt x="16" y="8"/>
                  </a:moveTo>
                  <a:cubicBezTo>
                    <a:pt x="16" y="8"/>
                    <a:pt x="9" y="7"/>
                    <a:pt x="9" y="5"/>
                  </a:cubicBezTo>
                  <a:cubicBezTo>
                    <a:pt x="10" y="2"/>
                    <a:pt x="16" y="8"/>
                    <a:pt x="16" y="8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174" name="Freeform 1334"/>
            <p:cNvSpPr/>
            <p:nvPr/>
          </p:nvSpPr>
          <p:spPr>
            <a:xfrm flipV="1">
              <a:off x="5734080" y="3844800"/>
              <a:ext cx="355320" cy="215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3" y="11"/>
                  </a:moveTo>
                  <a:cubicBezTo>
                    <a:pt x="33" y="12"/>
                    <a:pt x="33" y="12"/>
                    <a:pt x="33" y="12"/>
                  </a:cubicBezTo>
                  <a:cubicBezTo>
                    <a:pt x="33" y="12"/>
                    <a:pt x="28" y="7"/>
                    <a:pt x="23" y="11"/>
                  </a:cubicBezTo>
                  <a:cubicBezTo>
                    <a:pt x="23" y="12"/>
                    <a:pt x="23" y="15"/>
                    <a:pt x="18" y="15"/>
                  </a:cubicBezTo>
                  <a:cubicBezTo>
                    <a:pt x="19" y="15"/>
                    <a:pt x="19" y="12"/>
                    <a:pt x="22" y="11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10"/>
                    <a:pt x="14" y="15"/>
                    <a:pt x="12" y="13"/>
                  </a:cubicBezTo>
                  <a:cubicBezTo>
                    <a:pt x="11" y="14"/>
                    <a:pt x="11" y="15"/>
                    <a:pt x="10" y="16"/>
                  </a:cubicBezTo>
                  <a:cubicBezTo>
                    <a:pt x="8" y="17"/>
                    <a:pt x="6" y="18"/>
                    <a:pt x="6" y="20"/>
                  </a:cubicBezTo>
                  <a:cubicBezTo>
                    <a:pt x="5" y="19"/>
                    <a:pt x="5" y="14"/>
                    <a:pt x="11" y="13"/>
                  </a:cubicBezTo>
                  <a:cubicBezTo>
                    <a:pt x="10" y="13"/>
                    <a:pt x="8" y="13"/>
                    <a:pt x="8" y="13"/>
                  </a:cubicBezTo>
                  <a:cubicBezTo>
                    <a:pt x="8" y="13"/>
                    <a:pt x="4" y="16"/>
                    <a:pt x="0" y="13"/>
                  </a:cubicBezTo>
                  <a:cubicBezTo>
                    <a:pt x="1" y="12"/>
                    <a:pt x="4" y="9"/>
                    <a:pt x="8" y="12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3"/>
                    <a:pt x="5" y="11"/>
                    <a:pt x="6" y="6"/>
                  </a:cubicBezTo>
                  <a:cubicBezTo>
                    <a:pt x="7" y="7"/>
                    <a:pt x="10" y="7"/>
                    <a:pt x="10" y="9"/>
                  </a:cubicBezTo>
                  <a:cubicBezTo>
                    <a:pt x="11" y="11"/>
                    <a:pt x="10" y="12"/>
                    <a:pt x="12" y="13"/>
                  </a:cubicBezTo>
                  <a:cubicBezTo>
                    <a:pt x="14" y="14"/>
                    <a:pt x="22" y="10"/>
                    <a:pt x="22" y="10"/>
                  </a:cubicBezTo>
                  <a:cubicBezTo>
                    <a:pt x="22" y="10"/>
                    <a:pt x="21" y="9"/>
                    <a:pt x="20" y="9"/>
                  </a:cubicBezTo>
                  <a:cubicBezTo>
                    <a:pt x="19" y="9"/>
                    <a:pt x="17" y="8"/>
                    <a:pt x="16" y="7"/>
                  </a:cubicBezTo>
                  <a:cubicBezTo>
                    <a:pt x="14" y="5"/>
                    <a:pt x="15" y="3"/>
                    <a:pt x="15" y="3"/>
                  </a:cubicBezTo>
                  <a:cubicBezTo>
                    <a:pt x="15" y="3"/>
                    <a:pt x="16" y="3"/>
                    <a:pt x="19" y="5"/>
                  </a:cubicBezTo>
                  <a:cubicBezTo>
                    <a:pt x="22" y="7"/>
                    <a:pt x="19" y="8"/>
                    <a:pt x="23" y="9"/>
                  </a:cubicBezTo>
                  <a:cubicBezTo>
                    <a:pt x="25" y="9"/>
                    <a:pt x="28" y="8"/>
                    <a:pt x="28" y="9"/>
                  </a:cubicBezTo>
                  <a:cubicBezTo>
                    <a:pt x="27" y="8"/>
                    <a:pt x="24" y="6"/>
                    <a:pt x="25" y="4"/>
                  </a:cubicBezTo>
                  <a:cubicBezTo>
                    <a:pt x="25" y="1"/>
                    <a:pt x="26" y="1"/>
                    <a:pt x="26" y="0"/>
                  </a:cubicBezTo>
                  <a:cubicBezTo>
                    <a:pt x="27" y="0"/>
                    <a:pt x="29" y="2"/>
                    <a:pt x="28" y="4"/>
                  </a:cubicBezTo>
                  <a:cubicBezTo>
                    <a:pt x="28" y="6"/>
                    <a:pt x="28" y="8"/>
                    <a:pt x="29" y="9"/>
                  </a:cubicBezTo>
                  <a:cubicBezTo>
                    <a:pt x="31" y="10"/>
                    <a:pt x="33" y="11"/>
                    <a:pt x="33" y="11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175" name="Freeform 1335"/>
            <p:cNvSpPr/>
            <p:nvPr/>
          </p:nvSpPr>
          <p:spPr>
            <a:xfrm flipV="1">
              <a:off x="6143400" y="3844800"/>
              <a:ext cx="353880" cy="215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1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5" y="7"/>
                    <a:pt x="11" y="11"/>
                  </a:cubicBezTo>
                  <a:cubicBezTo>
                    <a:pt x="10" y="12"/>
                    <a:pt x="10" y="15"/>
                    <a:pt x="15" y="15"/>
                  </a:cubicBezTo>
                  <a:cubicBezTo>
                    <a:pt x="15" y="15"/>
                    <a:pt x="15" y="12"/>
                    <a:pt x="11" y="1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20" y="15"/>
                    <a:pt x="22" y="13"/>
                  </a:cubicBezTo>
                  <a:cubicBezTo>
                    <a:pt x="22" y="14"/>
                    <a:pt x="22" y="15"/>
                    <a:pt x="24" y="16"/>
                  </a:cubicBezTo>
                  <a:cubicBezTo>
                    <a:pt x="25" y="17"/>
                    <a:pt x="27" y="18"/>
                    <a:pt x="27" y="20"/>
                  </a:cubicBezTo>
                  <a:cubicBezTo>
                    <a:pt x="28" y="19"/>
                    <a:pt x="29" y="14"/>
                    <a:pt x="22" y="13"/>
                  </a:cubicBezTo>
                  <a:cubicBezTo>
                    <a:pt x="23" y="13"/>
                    <a:pt x="26" y="13"/>
                    <a:pt x="26" y="13"/>
                  </a:cubicBezTo>
                  <a:cubicBezTo>
                    <a:pt x="26" y="13"/>
                    <a:pt x="29" y="16"/>
                    <a:pt x="33" y="13"/>
                  </a:cubicBezTo>
                  <a:cubicBezTo>
                    <a:pt x="32" y="12"/>
                    <a:pt x="29" y="9"/>
                    <a:pt x="26" y="12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13"/>
                    <a:pt x="28" y="11"/>
                    <a:pt x="27" y="6"/>
                  </a:cubicBezTo>
                  <a:cubicBezTo>
                    <a:pt x="26" y="7"/>
                    <a:pt x="23" y="7"/>
                    <a:pt x="23" y="9"/>
                  </a:cubicBezTo>
                  <a:cubicBezTo>
                    <a:pt x="22" y="11"/>
                    <a:pt x="23" y="12"/>
                    <a:pt x="21" y="13"/>
                  </a:cubicBezTo>
                  <a:cubicBezTo>
                    <a:pt x="19" y="14"/>
                    <a:pt x="11" y="10"/>
                    <a:pt x="11" y="10"/>
                  </a:cubicBezTo>
                  <a:cubicBezTo>
                    <a:pt x="12" y="10"/>
                    <a:pt x="12" y="9"/>
                    <a:pt x="13" y="9"/>
                  </a:cubicBezTo>
                  <a:cubicBezTo>
                    <a:pt x="14" y="9"/>
                    <a:pt x="16" y="8"/>
                    <a:pt x="18" y="7"/>
                  </a:cubicBezTo>
                  <a:cubicBezTo>
                    <a:pt x="19" y="5"/>
                    <a:pt x="19" y="3"/>
                    <a:pt x="19" y="3"/>
                  </a:cubicBezTo>
                  <a:cubicBezTo>
                    <a:pt x="19" y="3"/>
                    <a:pt x="17" y="3"/>
                    <a:pt x="14" y="5"/>
                  </a:cubicBezTo>
                  <a:cubicBezTo>
                    <a:pt x="12" y="7"/>
                    <a:pt x="14" y="8"/>
                    <a:pt x="11" y="9"/>
                  </a:cubicBezTo>
                  <a:cubicBezTo>
                    <a:pt x="8" y="9"/>
                    <a:pt x="6" y="8"/>
                    <a:pt x="5" y="9"/>
                  </a:cubicBezTo>
                  <a:cubicBezTo>
                    <a:pt x="6" y="8"/>
                    <a:pt x="9" y="6"/>
                    <a:pt x="9" y="4"/>
                  </a:cubicBezTo>
                  <a:cubicBezTo>
                    <a:pt x="8" y="1"/>
                    <a:pt x="7" y="1"/>
                    <a:pt x="8" y="0"/>
                  </a:cubicBezTo>
                  <a:cubicBezTo>
                    <a:pt x="7" y="0"/>
                    <a:pt x="5" y="2"/>
                    <a:pt x="5" y="4"/>
                  </a:cubicBezTo>
                  <a:cubicBezTo>
                    <a:pt x="5" y="6"/>
                    <a:pt x="5" y="8"/>
                    <a:pt x="4" y="9"/>
                  </a:cubicBezTo>
                  <a:cubicBezTo>
                    <a:pt x="2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176" name="Freeform 1336"/>
            <p:cNvSpPr/>
            <p:nvPr/>
          </p:nvSpPr>
          <p:spPr>
            <a:xfrm flipV="1">
              <a:off x="5992920" y="3984480"/>
              <a:ext cx="235440" cy="2476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3" y="13"/>
                  </a:moveTo>
                  <a:cubicBezTo>
                    <a:pt x="12" y="16"/>
                    <a:pt x="17" y="16"/>
                    <a:pt x="17" y="17"/>
                  </a:cubicBezTo>
                  <a:cubicBezTo>
                    <a:pt x="18" y="16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20" y="14"/>
                    <a:pt x="21" y="14"/>
                    <a:pt x="22" y="15"/>
                  </a:cubicBezTo>
                  <a:cubicBezTo>
                    <a:pt x="22" y="12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0"/>
                    <a:pt x="16" y="8"/>
                    <a:pt x="13" y="11"/>
                  </a:cubicBezTo>
                  <a:cubicBezTo>
                    <a:pt x="15" y="8"/>
                    <a:pt x="13" y="3"/>
                    <a:pt x="13" y="3"/>
                  </a:cubicBezTo>
                  <a:cubicBezTo>
                    <a:pt x="13" y="3"/>
                    <a:pt x="13" y="4"/>
                    <a:pt x="12" y="5"/>
                  </a:cubicBezTo>
                  <a:cubicBezTo>
                    <a:pt x="12" y="2"/>
                    <a:pt x="7" y="0"/>
                    <a:pt x="6" y="0"/>
                  </a:cubicBezTo>
                  <a:cubicBezTo>
                    <a:pt x="7" y="0"/>
                    <a:pt x="7" y="2"/>
                    <a:pt x="7" y="3"/>
                  </a:cubicBezTo>
                  <a:cubicBezTo>
                    <a:pt x="8" y="5"/>
                    <a:pt x="8" y="6"/>
                    <a:pt x="8" y="6"/>
                  </a:cubicBezTo>
                  <a:cubicBezTo>
                    <a:pt x="8" y="6"/>
                    <a:pt x="7" y="6"/>
                    <a:pt x="6" y="6"/>
                  </a:cubicBezTo>
                  <a:cubicBezTo>
                    <a:pt x="7" y="7"/>
                    <a:pt x="8" y="9"/>
                    <a:pt x="9" y="9"/>
                  </a:cubicBezTo>
                  <a:cubicBezTo>
                    <a:pt x="11" y="10"/>
                    <a:pt x="10" y="12"/>
                    <a:pt x="12" y="13"/>
                  </a:cubicBezTo>
                  <a:cubicBezTo>
                    <a:pt x="11" y="13"/>
                    <a:pt x="9" y="13"/>
                    <a:pt x="9" y="11"/>
                  </a:cubicBezTo>
                  <a:cubicBezTo>
                    <a:pt x="8" y="9"/>
                    <a:pt x="6" y="9"/>
                    <a:pt x="6" y="9"/>
                  </a:cubicBezTo>
                  <a:cubicBezTo>
                    <a:pt x="6" y="9"/>
                    <a:pt x="6" y="9"/>
                    <a:pt x="7" y="10"/>
                  </a:cubicBezTo>
                  <a:cubicBezTo>
                    <a:pt x="4" y="8"/>
                    <a:pt x="0" y="11"/>
                    <a:pt x="0" y="12"/>
                  </a:cubicBezTo>
                  <a:cubicBezTo>
                    <a:pt x="1" y="11"/>
                    <a:pt x="3" y="14"/>
                    <a:pt x="5" y="14"/>
                  </a:cubicBezTo>
                  <a:cubicBezTo>
                    <a:pt x="4" y="15"/>
                    <a:pt x="4" y="16"/>
                    <a:pt x="5" y="17"/>
                  </a:cubicBezTo>
                  <a:cubicBezTo>
                    <a:pt x="5" y="15"/>
                    <a:pt x="6" y="15"/>
                    <a:pt x="7" y="16"/>
                  </a:cubicBezTo>
                  <a:cubicBezTo>
                    <a:pt x="9" y="16"/>
                    <a:pt x="10" y="14"/>
                    <a:pt x="10" y="13"/>
                  </a:cubicBezTo>
                  <a:cubicBezTo>
                    <a:pt x="10" y="13"/>
                    <a:pt x="12" y="13"/>
                    <a:pt x="12" y="13"/>
                  </a:cubicBezTo>
                  <a:cubicBezTo>
                    <a:pt x="12" y="13"/>
                    <a:pt x="10" y="15"/>
                    <a:pt x="10" y="18"/>
                  </a:cubicBezTo>
                  <a:cubicBezTo>
                    <a:pt x="9" y="22"/>
                    <a:pt x="13" y="23"/>
                    <a:pt x="13" y="23"/>
                  </a:cubicBezTo>
                  <a:cubicBezTo>
                    <a:pt x="7" y="20"/>
                    <a:pt x="12" y="14"/>
                    <a:pt x="13" y="13"/>
                  </a:cubicBezTo>
                  <a:close/>
                  <a:moveTo>
                    <a:pt x="10" y="5"/>
                  </a:moveTo>
                  <a:cubicBezTo>
                    <a:pt x="11" y="4"/>
                    <a:pt x="12" y="7"/>
                    <a:pt x="12" y="11"/>
                  </a:cubicBezTo>
                  <a:cubicBezTo>
                    <a:pt x="12" y="11"/>
                    <a:pt x="9" y="5"/>
                    <a:pt x="10" y="5"/>
                  </a:cubicBezTo>
                  <a:close/>
                  <a:moveTo>
                    <a:pt x="13" y="12"/>
                  </a:moveTo>
                  <a:cubicBezTo>
                    <a:pt x="13" y="12"/>
                    <a:pt x="18" y="11"/>
                    <a:pt x="19" y="13"/>
                  </a:cubicBezTo>
                  <a:cubicBezTo>
                    <a:pt x="19" y="14"/>
                    <a:pt x="13" y="12"/>
                    <a:pt x="13" y="12"/>
                  </a:cubicBezTo>
                  <a:close/>
                  <a:moveTo>
                    <a:pt x="9" y="13"/>
                  </a:moveTo>
                  <a:cubicBezTo>
                    <a:pt x="9" y="13"/>
                    <a:pt x="3" y="13"/>
                    <a:pt x="3" y="11"/>
                  </a:cubicBezTo>
                  <a:cubicBezTo>
                    <a:pt x="4" y="10"/>
                    <a:pt x="9" y="13"/>
                    <a:pt x="9" y="13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pic>
        <p:nvPicPr>
          <p:cNvPr id="177" name="The Voice - Rolling In the Deep.mp3" descr="The Voice - Rolling In the Deep"/>
          <p:cNvPicPr/>
          <p:nvPr/>
        </p:nvPicPr>
        <p:blipFill>
          <a:blip r:embed="rId3"/>
          <a:stretch/>
        </p:blipFill>
        <p:spPr>
          <a:xfrm>
            <a:off x="41400" y="650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373"/>
          <p:cNvGrpSpPr/>
          <p:nvPr/>
        </p:nvGrpSpPr>
        <p:grpSpPr>
          <a:xfrm>
            <a:off x="57600" y="1924920"/>
            <a:ext cx="9386280" cy="4415040"/>
            <a:chOff x="57600" y="1924920"/>
            <a:chExt cx="9386280" cy="4415040"/>
          </a:xfrm>
        </p:grpSpPr>
        <p:grpSp>
          <p:nvGrpSpPr>
            <p:cNvPr id="179" name="组合 356"/>
            <p:cNvGrpSpPr/>
            <p:nvPr/>
          </p:nvGrpSpPr>
          <p:grpSpPr>
            <a:xfrm>
              <a:off x="57600" y="2636280"/>
              <a:ext cx="3495240" cy="2520360"/>
              <a:chOff x="57600" y="2636280"/>
              <a:chExt cx="3495240" cy="2520360"/>
            </a:xfrm>
          </p:grpSpPr>
          <p:pic>
            <p:nvPicPr>
              <p:cNvPr id="180" name="图片 357" descr=""/>
              <p:cNvPicPr/>
              <p:nvPr/>
            </p:nvPicPr>
            <p:blipFill>
              <a:blip r:embed="rId1"/>
              <a:srcRect l="0" t="0" r="46724" b="35518"/>
              <a:stretch/>
            </p:blipFill>
            <p:spPr>
              <a:xfrm flipH="1" rot="3973200">
                <a:off x="2140200" y="3441960"/>
                <a:ext cx="1289880" cy="11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图片 358" descr=""/>
              <p:cNvPicPr/>
              <p:nvPr/>
            </p:nvPicPr>
            <p:blipFill>
              <a:blip r:embed="rId2"/>
              <a:srcRect l="0" t="0" r="46724" b="35518"/>
              <a:stretch/>
            </p:blipFill>
            <p:spPr>
              <a:xfrm rot="20964000">
                <a:off x="165240" y="2765160"/>
                <a:ext cx="1527120" cy="131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图片 359" descr=""/>
              <p:cNvPicPr/>
              <p:nvPr/>
            </p:nvPicPr>
            <p:blipFill>
              <a:blip r:embed="rId3"/>
              <a:srcRect l="0" t="0" r="-561" b="0"/>
              <a:stretch/>
            </p:blipFill>
            <p:spPr>
              <a:xfrm rot="16200000">
                <a:off x="271080" y="3082680"/>
                <a:ext cx="2430720" cy="171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3" name="组合 355"/>
            <p:cNvGrpSpPr/>
            <p:nvPr/>
          </p:nvGrpSpPr>
          <p:grpSpPr>
            <a:xfrm>
              <a:off x="1200960" y="1924920"/>
              <a:ext cx="8242920" cy="4167360"/>
              <a:chOff x="1200960" y="1924920"/>
              <a:chExt cx="8242920" cy="4167360"/>
            </a:xfrm>
          </p:grpSpPr>
          <p:sp>
            <p:nvSpPr>
              <p:cNvPr id="184" name="任意多边形 48"/>
              <p:cNvSpPr/>
              <p:nvPr/>
            </p:nvSpPr>
            <p:spPr>
              <a:xfrm rot="157800">
                <a:off x="1284840" y="2089080"/>
                <a:ext cx="7248240" cy="3838680"/>
              </a:xfrm>
              <a:custGeom>
                <a:avLst/>
                <a:gdLst/>
                <a:ahLst/>
                <a:rect l="l" t="t" r="r" b="b"/>
                <a:pathLst>
                  <a:path w="7245131" h="3408812">
                    <a:moveTo>
                      <a:pt x="0" y="0"/>
                    </a:moveTo>
                    <a:lnTo>
                      <a:pt x="861412" y="0"/>
                    </a:lnTo>
                    <a:lnTo>
                      <a:pt x="863073" y="3291"/>
                    </a:lnTo>
                    <a:lnTo>
                      <a:pt x="864719" y="0"/>
                    </a:lnTo>
                    <a:lnTo>
                      <a:pt x="944475" y="0"/>
                    </a:lnTo>
                    <a:lnTo>
                      <a:pt x="1033664" y="25979"/>
                    </a:lnTo>
                    <a:cubicBezTo>
                      <a:pt x="1103228" y="46242"/>
                      <a:pt x="1173078" y="65292"/>
                      <a:pt x="1244073" y="79491"/>
                    </a:cubicBezTo>
                    <a:cubicBezTo>
                      <a:pt x="1280008" y="86678"/>
                      <a:pt x="1333468" y="33410"/>
                      <a:pt x="1358373" y="22341"/>
                    </a:cubicBezTo>
                    <a:cubicBezTo>
                      <a:pt x="1367548" y="18263"/>
                      <a:pt x="1379279" y="13843"/>
                      <a:pt x="1391715" y="9507"/>
                    </a:cubicBezTo>
                    <a:lnTo>
                      <a:pt x="1420677" y="0"/>
                    </a:lnTo>
                    <a:lnTo>
                      <a:pt x="1889061" y="0"/>
                    </a:lnTo>
                    <a:lnTo>
                      <a:pt x="1929873" y="3291"/>
                    </a:lnTo>
                    <a:cubicBezTo>
                      <a:pt x="1952628" y="5819"/>
                      <a:pt x="1966545" y="31152"/>
                      <a:pt x="1987023" y="41391"/>
                    </a:cubicBezTo>
                    <a:cubicBezTo>
                      <a:pt x="2004984" y="50371"/>
                      <a:pt x="2024315" y="57462"/>
                      <a:pt x="2044173" y="60441"/>
                    </a:cubicBezTo>
                    <a:cubicBezTo>
                      <a:pt x="2311999" y="100615"/>
                      <a:pt x="2406696" y="100958"/>
                      <a:pt x="2672823" y="117591"/>
                    </a:cubicBezTo>
                    <a:cubicBezTo>
                      <a:pt x="2749023" y="111241"/>
                      <a:pt x="2827748" y="119006"/>
                      <a:pt x="2901423" y="98541"/>
                    </a:cubicBezTo>
                    <a:cubicBezTo>
                      <a:pt x="2945543" y="86285"/>
                      <a:pt x="2972282" y="36821"/>
                      <a:pt x="3015723" y="22341"/>
                    </a:cubicBezTo>
                    <a:lnTo>
                      <a:pt x="3072873" y="3291"/>
                    </a:lnTo>
                    <a:lnTo>
                      <a:pt x="3074843" y="0"/>
                    </a:lnTo>
                    <a:lnTo>
                      <a:pt x="4296332" y="0"/>
                    </a:lnTo>
                    <a:lnTo>
                      <a:pt x="4308272" y="8073"/>
                    </a:lnTo>
                    <a:cubicBezTo>
                      <a:pt x="4368319" y="49048"/>
                      <a:pt x="4292937" y="-3328"/>
                      <a:pt x="4501623" y="41391"/>
                    </a:cubicBezTo>
                    <a:cubicBezTo>
                      <a:pt x="4535060" y="48556"/>
                      <a:pt x="4565123" y="66791"/>
                      <a:pt x="4596873" y="79491"/>
                    </a:cubicBezTo>
                    <a:cubicBezTo>
                      <a:pt x="4609573" y="98541"/>
                      <a:pt x="4615923" y="123941"/>
                      <a:pt x="4634973" y="136641"/>
                    </a:cubicBezTo>
                    <a:cubicBezTo>
                      <a:pt x="4691809" y="174532"/>
                      <a:pt x="4769197" y="146020"/>
                      <a:pt x="4825473" y="136641"/>
                    </a:cubicBezTo>
                    <a:cubicBezTo>
                      <a:pt x="4844523" y="123941"/>
                      <a:pt x="4866434" y="114730"/>
                      <a:pt x="4882623" y="98541"/>
                    </a:cubicBezTo>
                    <a:cubicBezTo>
                      <a:pt x="4898812" y="82352"/>
                      <a:pt x="4902845" y="55694"/>
                      <a:pt x="4920723" y="41391"/>
                    </a:cubicBezTo>
                    <a:cubicBezTo>
                      <a:pt x="4936403" y="28847"/>
                      <a:pt x="4958823" y="28691"/>
                      <a:pt x="4977873" y="22341"/>
                    </a:cubicBezTo>
                    <a:cubicBezTo>
                      <a:pt x="5136623" y="28691"/>
                      <a:pt x="5295650" y="30071"/>
                      <a:pt x="5454123" y="41391"/>
                    </a:cubicBezTo>
                    <a:cubicBezTo>
                      <a:pt x="5474152" y="42822"/>
                      <a:pt x="5493312" y="51461"/>
                      <a:pt x="5511273" y="60441"/>
                    </a:cubicBezTo>
                    <a:cubicBezTo>
                      <a:pt x="5531751" y="70680"/>
                      <a:pt x="5549373" y="85841"/>
                      <a:pt x="5568423" y="98541"/>
                    </a:cubicBezTo>
                    <a:cubicBezTo>
                      <a:pt x="5619223" y="92191"/>
                      <a:pt x="5671156" y="91908"/>
                      <a:pt x="5720823" y="79491"/>
                    </a:cubicBezTo>
                    <a:cubicBezTo>
                      <a:pt x="5968660" y="17532"/>
                      <a:pt x="5661417" y="60892"/>
                      <a:pt x="5854173" y="22341"/>
                    </a:cubicBezTo>
                    <a:cubicBezTo>
                      <a:pt x="5886186" y="15939"/>
                      <a:pt x="5914295" y="10510"/>
                      <a:pt x="5939540" y="5880"/>
                    </a:cubicBezTo>
                    <a:lnTo>
                      <a:pt x="5973877" y="0"/>
                    </a:lnTo>
                    <a:lnTo>
                      <a:pt x="6693596" y="0"/>
                    </a:lnTo>
                    <a:lnTo>
                      <a:pt x="6711423" y="3291"/>
                    </a:lnTo>
                    <a:cubicBezTo>
                      <a:pt x="6750555" y="12322"/>
                      <a:pt x="6785640" y="38886"/>
                      <a:pt x="6825723" y="41391"/>
                    </a:cubicBezTo>
                    <a:lnTo>
                      <a:pt x="7130523" y="60441"/>
                    </a:lnTo>
                    <a:cubicBezTo>
                      <a:pt x="7203032" y="84611"/>
                      <a:pt x="7221761" y="96105"/>
                      <a:pt x="7239193" y="98191"/>
                    </a:cubicBezTo>
                    <a:lnTo>
                      <a:pt x="7245131" y="97532"/>
                    </a:lnTo>
                    <a:lnTo>
                      <a:pt x="7245131" y="116707"/>
                    </a:lnTo>
                    <a:lnTo>
                      <a:pt x="7245131" y="1034797"/>
                    </a:lnTo>
                    <a:lnTo>
                      <a:pt x="7240011" y="1050157"/>
                    </a:lnTo>
                    <a:cubicBezTo>
                      <a:pt x="7166153" y="1197873"/>
                      <a:pt x="7230744" y="1020809"/>
                      <a:pt x="7182861" y="1164457"/>
                    </a:cubicBezTo>
                    <a:cubicBezTo>
                      <a:pt x="7176511" y="1227957"/>
                      <a:pt x="7175572" y="1292233"/>
                      <a:pt x="7163811" y="1354957"/>
                    </a:cubicBezTo>
                    <a:cubicBezTo>
                      <a:pt x="7156410" y="1394430"/>
                      <a:pt x="7125711" y="1469257"/>
                      <a:pt x="7125711" y="1469257"/>
                    </a:cubicBezTo>
                    <a:cubicBezTo>
                      <a:pt x="7132061" y="1488307"/>
                      <a:pt x="7139477" y="1507034"/>
                      <a:pt x="7144761" y="1526407"/>
                    </a:cubicBezTo>
                    <a:cubicBezTo>
                      <a:pt x="7158539" y="1576925"/>
                      <a:pt x="7166302" y="1629131"/>
                      <a:pt x="7182861" y="1678807"/>
                    </a:cubicBezTo>
                    <a:lnTo>
                      <a:pt x="7220961" y="1793107"/>
                    </a:lnTo>
                    <a:cubicBezTo>
                      <a:pt x="7214611" y="1812157"/>
                      <a:pt x="7214455" y="1834577"/>
                      <a:pt x="7201911" y="1850257"/>
                    </a:cubicBezTo>
                    <a:cubicBezTo>
                      <a:pt x="7187608" y="1868135"/>
                      <a:pt x="7162144" y="1873457"/>
                      <a:pt x="7144761" y="1888357"/>
                    </a:cubicBezTo>
                    <a:cubicBezTo>
                      <a:pt x="7117488" y="1911734"/>
                      <a:pt x="7093961" y="1939157"/>
                      <a:pt x="7068561" y="1964557"/>
                    </a:cubicBezTo>
                    <a:cubicBezTo>
                      <a:pt x="7032267" y="2073439"/>
                      <a:pt x="7030454" y="2053425"/>
                      <a:pt x="7068561" y="2231257"/>
                    </a:cubicBezTo>
                    <a:cubicBezTo>
                      <a:pt x="7073358" y="2253644"/>
                      <a:pt x="7093353" y="2269776"/>
                      <a:pt x="7106661" y="2288407"/>
                    </a:cubicBezTo>
                    <a:cubicBezTo>
                      <a:pt x="7125115" y="2314243"/>
                      <a:pt x="7145604" y="2338596"/>
                      <a:pt x="7163811" y="2364607"/>
                    </a:cubicBezTo>
                    <a:cubicBezTo>
                      <a:pt x="7190070" y="2402120"/>
                      <a:pt x="7214611" y="2440807"/>
                      <a:pt x="7240011" y="2478907"/>
                    </a:cubicBezTo>
                    <a:lnTo>
                      <a:pt x="7245131" y="2486587"/>
                    </a:lnTo>
                    <a:lnTo>
                      <a:pt x="7245131" y="2921644"/>
                    </a:lnTo>
                    <a:lnTo>
                      <a:pt x="7240011" y="2936107"/>
                    </a:lnTo>
                    <a:cubicBezTo>
                      <a:pt x="7229772" y="2956585"/>
                      <a:pt x="7214611" y="2974207"/>
                      <a:pt x="7201911" y="2993257"/>
                    </a:cubicBezTo>
                    <a:cubicBezTo>
                      <a:pt x="7189211" y="3044057"/>
                      <a:pt x="7153542" y="3094310"/>
                      <a:pt x="7163811" y="3145657"/>
                    </a:cubicBezTo>
                    <a:cubicBezTo>
                      <a:pt x="7170161" y="3177407"/>
                      <a:pt x="7169463" y="3211430"/>
                      <a:pt x="7182861" y="3240907"/>
                    </a:cubicBezTo>
                    <a:cubicBezTo>
                      <a:pt x="7195813" y="3269401"/>
                      <a:pt x="7216364" y="3301608"/>
                      <a:pt x="7240071" y="3332020"/>
                    </a:cubicBezTo>
                    <a:lnTo>
                      <a:pt x="7245131" y="3337921"/>
                    </a:lnTo>
                    <a:lnTo>
                      <a:pt x="7245131" y="3408812"/>
                    </a:lnTo>
                    <a:lnTo>
                      <a:pt x="6643452" y="3408812"/>
                    </a:lnTo>
                    <a:lnTo>
                      <a:pt x="6607791" y="3355320"/>
                    </a:lnTo>
                    <a:cubicBezTo>
                      <a:pt x="6590544" y="3334624"/>
                      <a:pt x="6569691" y="3317220"/>
                      <a:pt x="6550641" y="3298170"/>
                    </a:cubicBezTo>
                    <a:cubicBezTo>
                      <a:pt x="6340791" y="3245707"/>
                      <a:pt x="6586414" y="3281698"/>
                      <a:pt x="6436341" y="3336270"/>
                    </a:cubicBezTo>
                    <a:cubicBezTo>
                      <a:pt x="6382301" y="3355921"/>
                      <a:pt x="6322041" y="3348970"/>
                      <a:pt x="6264891" y="3355320"/>
                    </a:cubicBezTo>
                    <a:cubicBezTo>
                      <a:pt x="6245841" y="3342620"/>
                      <a:pt x="6228219" y="3327459"/>
                      <a:pt x="6207741" y="3317220"/>
                    </a:cubicBezTo>
                    <a:cubicBezTo>
                      <a:pt x="6133477" y="3280088"/>
                      <a:pt x="5959545" y="3276616"/>
                      <a:pt x="5921991" y="3279120"/>
                    </a:cubicBezTo>
                    <a:cubicBezTo>
                      <a:pt x="5899146" y="3280643"/>
                      <a:pt x="5883891" y="3304520"/>
                      <a:pt x="5864841" y="3317220"/>
                    </a:cubicBezTo>
                    <a:lnTo>
                      <a:pt x="5560041" y="3336270"/>
                    </a:lnTo>
                    <a:cubicBezTo>
                      <a:pt x="5519958" y="3338775"/>
                      <a:pt x="5485355" y="3367768"/>
                      <a:pt x="5445741" y="3374370"/>
                    </a:cubicBezTo>
                    <a:cubicBezTo>
                      <a:pt x="5370317" y="3386941"/>
                      <a:pt x="5293341" y="3387070"/>
                      <a:pt x="5217141" y="3393420"/>
                    </a:cubicBezTo>
                    <a:cubicBezTo>
                      <a:pt x="5191741" y="3387070"/>
                      <a:pt x="5166499" y="3380050"/>
                      <a:pt x="5140941" y="3374370"/>
                    </a:cubicBezTo>
                    <a:cubicBezTo>
                      <a:pt x="4923279" y="3326001"/>
                      <a:pt x="5155327" y="3382729"/>
                      <a:pt x="4969491" y="3336270"/>
                    </a:cubicBezTo>
                    <a:cubicBezTo>
                      <a:pt x="4880591" y="3329920"/>
                      <a:pt x="4791764" y="3311986"/>
                      <a:pt x="4702791" y="3317220"/>
                    </a:cubicBezTo>
                    <a:cubicBezTo>
                      <a:pt x="4679935" y="3318564"/>
                      <a:pt x="4667361" y="3348080"/>
                      <a:pt x="4645641" y="3355320"/>
                    </a:cubicBezTo>
                    <a:cubicBezTo>
                      <a:pt x="4608998" y="3367534"/>
                      <a:pt x="4569441" y="3368020"/>
                      <a:pt x="4531341" y="3374370"/>
                    </a:cubicBezTo>
                    <a:lnTo>
                      <a:pt x="4112241" y="3393420"/>
                    </a:lnTo>
                    <a:cubicBezTo>
                      <a:pt x="4089364" y="3392505"/>
                      <a:pt x="4077542" y="3359810"/>
                      <a:pt x="4055091" y="3355320"/>
                    </a:cubicBezTo>
                    <a:cubicBezTo>
                      <a:pt x="3980112" y="3340324"/>
                      <a:pt x="3902691" y="3342620"/>
                      <a:pt x="3826491" y="3336270"/>
                    </a:cubicBezTo>
                    <a:cubicBezTo>
                      <a:pt x="3794741" y="3348970"/>
                      <a:pt x="3761827" y="3359077"/>
                      <a:pt x="3731241" y="3374370"/>
                    </a:cubicBezTo>
                    <a:cubicBezTo>
                      <a:pt x="3715883" y="3382050"/>
                      <a:pt x="3704220" y="3398269"/>
                      <a:pt x="3689745" y="3406928"/>
                    </a:cubicBezTo>
                    <a:lnTo>
                      <a:pt x="3684423" y="3408812"/>
                    </a:lnTo>
                    <a:lnTo>
                      <a:pt x="3134075" y="3408812"/>
                    </a:lnTo>
                    <a:lnTo>
                      <a:pt x="3110294" y="3395665"/>
                    </a:lnTo>
                    <a:cubicBezTo>
                      <a:pt x="3056296" y="3361754"/>
                      <a:pt x="3106853" y="3362072"/>
                      <a:pt x="2969241" y="3336270"/>
                    </a:cubicBezTo>
                    <a:cubicBezTo>
                      <a:pt x="2906517" y="3324509"/>
                      <a:pt x="2842241" y="3323570"/>
                      <a:pt x="2778741" y="3317220"/>
                    </a:cubicBezTo>
                    <a:lnTo>
                      <a:pt x="2702541" y="3336270"/>
                    </a:lnTo>
                    <a:cubicBezTo>
                      <a:pt x="2651741" y="3348970"/>
                      <a:pt x="2600659" y="3360592"/>
                      <a:pt x="2550141" y="3374370"/>
                    </a:cubicBezTo>
                    <a:cubicBezTo>
                      <a:pt x="2530768" y="3379654"/>
                      <a:pt x="2512593" y="3389064"/>
                      <a:pt x="2492991" y="3393420"/>
                    </a:cubicBezTo>
                    <a:lnTo>
                      <a:pt x="2400639" y="3408812"/>
                    </a:lnTo>
                    <a:lnTo>
                      <a:pt x="1015784" y="3408812"/>
                    </a:lnTo>
                    <a:lnTo>
                      <a:pt x="1004964" y="3400688"/>
                    </a:lnTo>
                    <a:cubicBezTo>
                      <a:pt x="987105" y="3384775"/>
                      <a:pt x="969955" y="3366439"/>
                      <a:pt x="949941" y="3355320"/>
                    </a:cubicBezTo>
                    <a:cubicBezTo>
                      <a:pt x="932388" y="3345568"/>
                      <a:pt x="912598" y="3332969"/>
                      <a:pt x="892791" y="3336270"/>
                    </a:cubicBezTo>
                    <a:cubicBezTo>
                      <a:pt x="870207" y="3340034"/>
                      <a:pt x="858461" y="3372520"/>
                      <a:pt x="835641" y="3374370"/>
                    </a:cubicBezTo>
                    <a:cubicBezTo>
                      <a:pt x="620354" y="3391826"/>
                      <a:pt x="403841" y="3387070"/>
                      <a:pt x="187941" y="3393420"/>
                    </a:cubicBezTo>
                    <a:lnTo>
                      <a:pt x="218725" y="3408812"/>
                    </a:lnTo>
                    <a:lnTo>
                      <a:pt x="16442" y="3408812"/>
                    </a:lnTo>
                    <a:lnTo>
                      <a:pt x="16652" y="3408517"/>
                    </a:lnTo>
                    <a:cubicBezTo>
                      <a:pt x="23282" y="3399069"/>
                      <a:pt x="30773" y="3388171"/>
                      <a:pt x="39301" y="3375379"/>
                    </a:cubicBezTo>
                    <a:cubicBezTo>
                      <a:pt x="64701" y="3362679"/>
                      <a:pt x="98995" y="3360387"/>
                      <a:pt x="115501" y="3337279"/>
                    </a:cubicBezTo>
                    <a:cubicBezTo>
                      <a:pt x="164458" y="3268740"/>
                      <a:pt x="117465" y="3190770"/>
                      <a:pt x="96451" y="3127729"/>
                    </a:cubicBezTo>
                    <a:cubicBezTo>
                      <a:pt x="64701" y="3121379"/>
                      <a:pt x="32809" y="3115703"/>
                      <a:pt x="1201" y="3108679"/>
                    </a:cubicBezTo>
                    <a:lnTo>
                      <a:pt x="0" y="3108514"/>
                    </a:lnTo>
                    <a:lnTo>
                      <a:pt x="0" y="2653587"/>
                    </a:lnTo>
                    <a:lnTo>
                      <a:pt x="18193" y="2637287"/>
                    </a:lnTo>
                    <a:cubicBezTo>
                      <a:pt x="48044" y="2613292"/>
                      <a:pt x="20165" y="2656971"/>
                      <a:pt x="96451" y="2613379"/>
                    </a:cubicBezTo>
                    <a:cubicBezTo>
                      <a:pt x="124018" y="2597627"/>
                      <a:pt x="147251" y="2575279"/>
                      <a:pt x="172651" y="2556229"/>
                    </a:cubicBezTo>
                    <a:cubicBezTo>
                      <a:pt x="210299" y="2543680"/>
                      <a:pt x="260094" y="2532651"/>
                      <a:pt x="286951" y="2499079"/>
                    </a:cubicBezTo>
                    <a:cubicBezTo>
                      <a:pt x="299495" y="2483399"/>
                      <a:pt x="299651" y="2460979"/>
                      <a:pt x="306001" y="2441929"/>
                    </a:cubicBezTo>
                    <a:cubicBezTo>
                      <a:pt x="243162" y="2420983"/>
                      <a:pt x="221938" y="2415151"/>
                      <a:pt x="153601" y="2384779"/>
                    </a:cubicBezTo>
                    <a:cubicBezTo>
                      <a:pt x="127651" y="2373245"/>
                      <a:pt x="103503" y="2357866"/>
                      <a:pt x="77401" y="2346679"/>
                    </a:cubicBezTo>
                    <a:cubicBezTo>
                      <a:pt x="58944" y="2338769"/>
                      <a:pt x="28406" y="2345979"/>
                      <a:pt x="20251" y="2327629"/>
                    </a:cubicBezTo>
                    <a:cubicBezTo>
                      <a:pt x="-541" y="2280846"/>
                      <a:pt x="7551" y="2226029"/>
                      <a:pt x="1201" y="2175229"/>
                    </a:cubicBezTo>
                    <a:cubicBezTo>
                      <a:pt x="20251" y="2156179"/>
                      <a:pt x="43407" y="2140495"/>
                      <a:pt x="58351" y="2118079"/>
                    </a:cubicBezTo>
                    <a:cubicBezTo>
                      <a:pt x="69490" y="2101371"/>
                      <a:pt x="75055" y="2080872"/>
                      <a:pt x="77401" y="2060929"/>
                    </a:cubicBezTo>
                    <a:cubicBezTo>
                      <a:pt x="87815" y="1972413"/>
                      <a:pt x="90101" y="1883129"/>
                      <a:pt x="96451" y="1794229"/>
                    </a:cubicBezTo>
                    <a:cubicBezTo>
                      <a:pt x="80905" y="1747590"/>
                      <a:pt x="68726" y="1702074"/>
                      <a:pt x="39301" y="1660879"/>
                    </a:cubicBezTo>
                    <a:cubicBezTo>
                      <a:pt x="31472" y="1649918"/>
                      <a:pt x="21947" y="1640393"/>
                      <a:pt x="11998" y="1631227"/>
                    </a:cubicBezTo>
                    <a:lnTo>
                      <a:pt x="0" y="1620173"/>
                    </a:lnTo>
                    <a:lnTo>
                      <a:pt x="0" y="1162856"/>
                    </a:lnTo>
                    <a:lnTo>
                      <a:pt x="17311" y="1160215"/>
                    </a:lnTo>
                    <a:cubicBezTo>
                      <a:pt x="29303" y="1159085"/>
                      <a:pt x="39100" y="1156567"/>
                      <a:pt x="39301" y="1146529"/>
                    </a:cubicBezTo>
                    <a:cubicBezTo>
                      <a:pt x="45528" y="835182"/>
                      <a:pt x="13901" y="524229"/>
                      <a:pt x="1201" y="213079"/>
                    </a:cubicBezTo>
                    <a:lnTo>
                      <a:pt x="0" y="22567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  <a:effectLst>
                <a:outerShdw dist="153753" dir="2700000" blurRad="0" rotWithShape="0">
                  <a:srgbClr val="574f1f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pic>
            <p:nvPicPr>
              <p:cNvPr id="185" name="组合 49" descr=""/>
              <p:cNvPicPr/>
              <p:nvPr/>
            </p:nvPicPr>
            <p:blipFill>
              <a:blip r:embed="rId5"/>
              <a:stretch/>
            </p:blipFill>
            <p:spPr>
              <a:xfrm>
                <a:off x="6120360" y="3061080"/>
                <a:ext cx="3323520" cy="268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6" name="图片 353" descr=""/>
            <p:cNvPicPr/>
            <p:nvPr/>
          </p:nvPicPr>
          <p:blipFill>
            <a:blip r:embed="rId6"/>
            <a:srcRect l="0" t="0" r="0" b="-458"/>
            <a:stretch/>
          </p:blipFill>
          <p:spPr>
            <a:xfrm flipH="1" rot="19171200">
              <a:off x="419400" y="4057560"/>
              <a:ext cx="2206080" cy="177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Freeform 5"/>
            <p:cNvSpPr/>
            <p:nvPr/>
          </p:nvSpPr>
          <p:spPr>
            <a:xfrm>
              <a:off x="1504800" y="2283840"/>
              <a:ext cx="1701720" cy="1593720"/>
            </a:xfrm>
            <a:custGeom>
              <a:avLst/>
              <a:gdLst/>
              <a:ahLst/>
              <a:rect l="l" t="t" r="r" b="b"/>
              <a:pathLst>
                <a:path w="184" h="172">
                  <a:moveTo>
                    <a:pt x="87" y="3"/>
                  </a:moveTo>
                  <a:cubicBezTo>
                    <a:pt x="86" y="3"/>
                    <a:pt x="86" y="6"/>
                    <a:pt x="84" y="6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4" y="5"/>
                    <a:pt x="86" y="6"/>
                    <a:pt x="85" y="4"/>
                  </a:cubicBezTo>
                  <a:cubicBezTo>
                    <a:pt x="76" y="5"/>
                    <a:pt x="66" y="7"/>
                    <a:pt x="60" y="12"/>
                  </a:cubicBezTo>
                  <a:cubicBezTo>
                    <a:pt x="59" y="12"/>
                    <a:pt x="59" y="12"/>
                    <a:pt x="59" y="12"/>
                  </a:cubicBezTo>
                  <a:cubicBezTo>
                    <a:pt x="55" y="12"/>
                    <a:pt x="52" y="16"/>
                    <a:pt x="52" y="18"/>
                  </a:cubicBezTo>
                  <a:cubicBezTo>
                    <a:pt x="50" y="17"/>
                    <a:pt x="53" y="16"/>
                    <a:pt x="51" y="15"/>
                  </a:cubicBezTo>
                  <a:cubicBezTo>
                    <a:pt x="50" y="16"/>
                    <a:pt x="49" y="17"/>
                    <a:pt x="49" y="18"/>
                  </a:cubicBezTo>
                  <a:cubicBezTo>
                    <a:pt x="33" y="21"/>
                    <a:pt x="27" y="39"/>
                    <a:pt x="17" y="51"/>
                  </a:cubicBezTo>
                  <a:cubicBezTo>
                    <a:pt x="18" y="54"/>
                    <a:pt x="17" y="54"/>
                    <a:pt x="17" y="57"/>
                  </a:cubicBezTo>
                  <a:cubicBezTo>
                    <a:pt x="0" y="80"/>
                    <a:pt x="14" y="126"/>
                    <a:pt x="28" y="144"/>
                  </a:cubicBezTo>
                  <a:cubicBezTo>
                    <a:pt x="43" y="163"/>
                    <a:pt x="66" y="172"/>
                    <a:pt x="90" y="172"/>
                  </a:cubicBezTo>
                  <a:cubicBezTo>
                    <a:pt x="136" y="172"/>
                    <a:pt x="184" y="139"/>
                    <a:pt x="178" y="88"/>
                  </a:cubicBezTo>
                  <a:cubicBezTo>
                    <a:pt x="179" y="88"/>
                    <a:pt x="179" y="87"/>
                    <a:pt x="180" y="87"/>
                  </a:cubicBezTo>
                  <a:cubicBezTo>
                    <a:pt x="180" y="87"/>
                    <a:pt x="181" y="87"/>
                    <a:pt x="181" y="87"/>
                  </a:cubicBezTo>
                  <a:cubicBezTo>
                    <a:pt x="179" y="84"/>
                    <a:pt x="180" y="80"/>
                    <a:pt x="179" y="77"/>
                  </a:cubicBezTo>
                  <a:cubicBezTo>
                    <a:pt x="180" y="77"/>
                    <a:pt x="179" y="80"/>
                    <a:pt x="181" y="80"/>
                  </a:cubicBezTo>
                  <a:cubicBezTo>
                    <a:pt x="181" y="80"/>
                    <a:pt x="181" y="80"/>
                    <a:pt x="181" y="80"/>
                  </a:cubicBezTo>
                  <a:cubicBezTo>
                    <a:pt x="181" y="77"/>
                    <a:pt x="182" y="75"/>
                    <a:pt x="180" y="73"/>
                  </a:cubicBezTo>
                  <a:cubicBezTo>
                    <a:pt x="181" y="72"/>
                    <a:pt x="182" y="71"/>
                    <a:pt x="182" y="70"/>
                  </a:cubicBezTo>
                  <a:cubicBezTo>
                    <a:pt x="181" y="69"/>
                    <a:pt x="181" y="67"/>
                    <a:pt x="180" y="66"/>
                  </a:cubicBezTo>
                  <a:cubicBezTo>
                    <a:pt x="180" y="66"/>
                    <a:pt x="180" y="66"/>
                    <a:pt x="180" y="66"/>
                  </a:cubicBezTo>
                  <a:cubicBezTo>
                    <a:pt x="182" y="66"/>
                    <a:pt x="181" y="64"/>
                    <a:pt x="182" y="63"/>
                  </a:cubicBezTo>
                  <a:cubicBezTo>
                    <a:pt x="176" y="58"/>
                    <a:pt x="169" y="51"/>
                    <a:pt x="168" y="44"/>
                  </a:cubicBezTo>
                  <a:cubicBezTo>
                    <a:pt x="160" y="37"/>
                    <a:pt x="152" y="21"/>
                    <a:pt x="138" y="18"/>
                  </a:cubicBezTo>
                  <a:cubicBezTo>
                    <a:pt x="135" y="12"/>
                    <a:pt x="124" y="8"/>
                    <a:pt x="119" y="8"/>
                  </a:cubicBezTo>
                  <a:cubicBezTo>
                    <a:pt x="115" y="4"/>
                    <a:pt x="107" y="3"/>
                    <a:pt x="100" y="3"/>
                  </a:cubicBezTo>
                  <a:cubicBezTo>
                    <a:pt x="99" y="3"/>
                    <a:pt x="98" y="3"/>
                    <a:pt x="97" y="3"/>
                  </a:cubicBezTo>
                  <a:cubicBezTo>
                    <a:pt x="95" y="3"/>
                    <a:pt x="94" y="3"/>
                    <a:pt x="93" y="3"/>
                  </a:cubicBezTo>
                  <a:cubicBezTo>
                    <a:pt x="91" y="3"/>
                    <a:pt x="89" y="3"/>
                    <a:pt x="87" y="3"/>
                  </a:cubicBezTo>
                  <a:moveTo>
                    <a:pt x="87" y="13"/>
                  </a:moveTo>
                  <a:cubicBezTo>
                    <a:pt x="87" y="17"/>
                    <a:pt x="81" y="15"/>
                    <a:pt x="79" y="18"/>
                  </a:cubicBezTo>
                  <a:cubicBezTo>
                    <a:pt x="83" y="20"/>
                    <a:pt x="79" y="27"/>
                    <a:pt x="83" y="28"/>
                  </a:cubicBezTo>
                  <a:cubicBezTo>
                    <a:pt x="80" y="31"/>
                    <a:pt x="83" y="35"/>
                    <a:pt x="85" y="35"/>
                  </a:cubicBezTo>
                  <a:cubicBezTo>
                    <a:pt x="85" y="35"/>
                    <a:pt x="86" y="35"/>
                    <a:pt x="86" y="34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4" y="34"/>
                    <a:pt x="84" y="34"/>
                    <a:pt x="84" y="34"/>
                  </a:cubicBezTo>
                  <a:cubicBezTo>
                    <a:pt x="85" y="28"/>
                    <a:pt x="81" y="23"/>
                    <a:pt x="84" y="19"/>
                  </a:cubicBezTo>
                  <a:cubicBezTo>
                    <a:pt x="87" y="21"/>
                    <a:pt x="87" y="30"/>
                    <a:pt x="86" y="33"/>
                  </a:cubicBezTo>
                  <a:cubicBezTo>
                    <a:pt x="87" y="33"/>
                    <a:pt x="86" y="35"/>
                    <a:pt x="88" y="36"/>
                  </a:cubicBezTo>
                  <a:cubicBezTo>
                    <a:pt x="91" y="32"/>
                    <a:pt x="86" y="25"/>
                    <a:pt x="90" y="21"/>
                  </a:cubicBezTo>
                  <a:cubicBezTo>
                    <a:pt x="86" y="19"/>
                    <a:pt x="90" y="14"/>
                    <a:pt x="87" y="13"/>
                  </a:cubicBezTo>
                  <a:moveTo>
                    <a:pt x="96" y="14"/>
                  </a:moveTo>
                  <a:cubicBezTo>
                    <a:pt x="91" y="14"/>
                    <a:pt x="90" y="31"/>
                    <a:pt x="93" y="35"/>
                  </a:cubicBezTo>
                  <a:cubicBezTo>
                    <a:pt x="94" y="32"/>
                    <a:pt x="92" y="28"/>
                    <a:pt x="96" y="26"/>
                  </a:cubicBezTo>
                  <a:cubicBezTo>
                    <a:pt x="95" y="23"/>
                    <a:pt x="96" y="20"/>
                    <a:pt x="98" y="20"/>
                  </a:cubicBezTo>
                  <a:cubicBezTo>
                    <a:pt x="98" y="20"/>
                    <a:pt x="98" y="20"/>
                    <a:pt x="99" y="20"/>
                  </a:cubicBezTo>
                  <a:cubicBezTo>
                    <a:pt x="99" y="19"/>
                    <a:pt x="99" y="17"/>
                    <a:pt x="99" y="15"/>
                  </a:cubicBezTo>
                  <a:cubicBezTo>
                    <a:pt x="98" y="14"/>
                    <a:pt x="97" y="14"/>
                    <a:pt x="96" y="14"/>
                  </a:cubicBezTo>
                  <a:moveTo>
                    <a:pt x="115" y="15"/>
                  </a:moveTo>
                  <a:cubicBezTo>
                    <a:pt x="105" y="15"/>
                    <a:pt x="105" y="29"/>
                    <a:pt x="107" y="36"/>
                  </a:cubicBezTo>
                  <a:cubicBezTo>
                    <a:pt x="109" y="36"/>
                    <a:pt x="112" y="36"/>
                    <a:pt x="111" y="33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10" y="32"/>
                    <a:pt x="110" y="33"/>
                    <a:pt x="110" y="33"/>
                  </a:cubicBezTo>
                  <a:cubicBezTo>
                    <a:pt x="109" y="33"/>
                    <a:pt x="109" y="33"/>
                    <a:pt x="109" y="33"/>
                  </a:cubicBezTo>
                  <a:cubicBezTo>
                    <a:pt x="108" y="33"/>
                    <a:pt x="108" y="33"/>
                    <a:pt x="108" y="33"/>
                  </a:cubicBezTo>
                  <a:cubicBezTo>
                    <a:pt x="110" y="30"/>
                    <a:pt x="108" y="22"/>
                    <a:pt x="112" y="20"/>
                  </a:cubicBezTo>
                  <a:cubicBezTo>
                    <a:pt x="112" y="20"/>
                    <a:pt x="113" y="21"/>
                    <a:pt x="113" y="21"/>
                  </a:cubicBezTo>
                  <a:cubicBezTo>
                    <a:pt x="114" y="23"/>
                    <a:pt x="113" y="26"/>
                    <a:pt x="114" y="26"/>
                  </a:cubicBezTo>
                  <a:cubicBezTo>
                    <a:pt x="115" y="23"/>
                    <a:pt x="117" y="22"/>
                    <a:pt x="118" y="21"/>
                  </a:cubicBezTo>
                  <a:cubicBezTo>
                    <a:pt x="117" y="19"/>
                    <a:pt x="117" y="17"/>
                    <a:pt x="115" y="15"/>
                  </a:cubicBezTo>
                  <a:cubicBezTo>
                    <a:pt x="115" y="15"/>
                    <a:pt x="115" y="15"/>
                    <a:pt x="115" y="15"/>
                  </a:cubicBezTo>
                  <a:moveTo>
                    <a:pt x="74" y="17"/>
                  </a:moveTo>
                  <a:cubicBezTo>
                    <a:pt x="71" y="18"/>
                    <a:pt x="70" y="19"/>
                    <a:pt x="68" y="20"/>
                  </a:cubicBezTo>
                  <a:cubicBezTo>
                    <a:pt x="70" y="24"/>
                    <a:pt x="71" y="34"/>
                    <a:pt x="76" y="38"/>
                  </a:cubicBezTo>
                  <a:cubicBezTo>
                    <a:pt x="75" y="35"/>
                    <a:pt x="76" y="32"/>
                    <a:pt x="73" y="31"/>
                  </a:cubicBezTo>
                  <a:cubicBezTo>
                    <a:pt x="73" y="30"/>
                    <a:pt x="73" y="28"/>
                    <a:pt x="74" y="28"/>
                  </a:cubicBezTo>
                  <a:cubicBezTo>
                    <a:pt x="74" y="28"/>
                    <a:pt x="74" y="28"/>
                    <a:pt x="74" y="28"/>
                  </a:cubicBezTo>
                  <a:cubicBezTo>
                    <a:pt x="75" y="29"/>
                    <a:pt x="77" y="29"/>
                    <a:pt x="78" y="29"/>
                  </a:cubicBezTo>
                  <a:cubicBezTo>
                    <a:pt x="78" y="32"/>
                    <a:pt x="78" y="34"/>
                    <a:pt x="77" y="36"/>
                  </a:cubicBezTo>
                  <a:cubicBezTo>
                    <a:pt x="77" y="36"/>
                    <a:pt x="78" y="37"/>
                    <a:pt x="79" y="37"/>
                  </a:cubicBezTo>
                  <a:cubicBezTo>
                    <a:pt x="79" y="37"/>
                    <a:pt x="79" y="37"/>
                    <a:pt x="79" y="37"/>
                  </a:cubicBezTo>
                  <a:cubicBezTo>
                    <a:pt x="81" y="32"/>
                    <a:pt x="80" y="30"/>
                    <a:pt x="78" y="27"/>
                  </a:cubicBezTo>
                  <a:cubicBezTo>
                    <a:pt x="79" y="25"/>
                    <a:pt x="78" y="22"/>
                    <a:pt x="78" y="20"/>
                  </a:cubicBezTo>
                  <a:cubicBezTo>
                    <a:pt x="78" y="20"/>
                    <a:pt x="78" y="20"/>
                    <a:pt x="78" y="20"/>
                  </a:cubicBezTo>
                  <a:cubicBezTo>
                    <a:pt x="76" y="20"/>
                    <a:pt x="75" y="18"/>
                    <a:pt x="74" y="17"/>
                  </a:cubicBezTo>
                  <a:moveTo>
                    <a:pt x="121" y="20"/>
                  </a:moveTo>
                  <a:cubicBezTo>
                    <a:pt x="120" y="21"/>
                    <a:pt x="120" y="23"/>
                    <a:pt x="121" y="25"/>
                  </a:cubicBezTo>
                  <a:cubicBezTo>
                    <a:pt x="120" y="25"/>
                    <a:pt x="120" y="24"/>
                    <a:pt x="119" y="24"/>
                  </a:cubicBezTo>
                  <a:cubicBezTo>
                    <a:pt x="117" y="29"/>
                    <a:pt x="115" y="32"/>
                    <a:pt x="113" y="38"/>
                  </a:cubicBezTo>
                  <a:cubicBezTo>
                    <a:pt x="116" y="38"/>
                    <a:pt x="117" y="40"/>
                    <a:pt x="120" y="40"/>
                  </a:cubicBezTo>
                  <a:cubicBezTo>
                    <a:pt x="120" y="40"/>
                    <a:pt x="120" y="40"/>
                    <a:pt x="120" y="40"/>
                  </a:cubicBezTo>
                  <a:cubicBezTo>
                    <a:pt x="120" y="39"/>
                    <a:pt x="121" y="37"/>
                    <a:pt x="119" y="37"/>
                  </a:cubicBezTo>
                  <a:cubicBezTo>
                    <a:pt x="119" y="37"/>
                    <a:pt x="118" y="38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8" y="35"/>
                    <a:pt x="118" y="33"/>
                    <a:pt x="119" y="31"/>
                  </a:cubicBezTo>
                  <a:cubicBezTo>
                    <a:pt x="119" y="31"/>
                    <a:pt x="119" y="31"/>
                    <a:pt x="119" y="31"/>
                  </a:cubicBezTo>
                  <a:cubicBezTo>
                    <a:pt x="120" y="31"/>
                    <a:pt x="121" y="31"/>
                    <a:pt x="121" y="32"/>
                  </a:cubicBezTo>
                  <a:cubicBezTo>
                    <a:pt x="121" y="32"/>
                    <a:pt x="122" y="32"/>
                    <a:pt x="123" y="32"/>
                  </a:cubicBezTo>
                  <a:cubicBezTo>
                    <a:pt x="123" y="32"/>
                    <a:pt x="123" y="32"/>
                    <a:pt x="124" y="32"/>
                  </a:cubicBezTo>
                  <a:cubicBezTo>
                    <a:pt x="125" y="31"/>
                    <a:pt x="122" y="29"/>
                    <a:pt x="124" y="28"/>
                  </a:cubicBezTo>
                  <a:cubicBezTo>
                    <a:pt x="123" y="28"/>
                    <a:pt x="123" y="28"/>
                    <a:pt x="123" y="28"/>
                  </a:cubicBezTo>
                  <a:cubicBezTo>
                    <a:pt x="122" y="28"/>
                    <a:pt x="122" y="28"/>
                    <a:pt x="122" y="29"/>
                  </a:cubicBezTo>
                  <a:cubicBezTo>
                    <a:pt x="121" y="29"/>
                    <a:pt x="121" y="29"/>
                    <a:pt x="121" y="29"/>
                  </a:cubicBezTo>
                  <a:cubicBezTo>
                    <a:pt x="121" y="29"/>
                    <a:pt x="121" y="29"/>
                    <a:pt x="121" y="29"/>
                  </a:cubicBezTo>
                  <a:cubicBezTo>
                    <a:pt x="121" y="25"/>
                    <a:pt x="123" y="25"/>
                    <a:pt x="123" y="22"/>
                  </a:cubicBezTo>
                  <a:cubicBezTo>
                    <a:pt x="124" y="22"/>
                    <a:pt x="124" y="23"/>
                    <a:pt x="125" y="23"/>
                  </a:cubicBezTo>
                  <a:cubicBezTo>
                    <a:pt x="125" y="23"/>
                    <a:pt x="126" y="22"/>
                    <a:pt x="126" y="22"/>
                  </a:cubicBezTo>
                  <a:cubicBezTo>
                    <a:pt x="124" y="21"/>
                    <a:pt x="123" y="20"/>
                    <a:pt x="121" y="20"/>
                  </a:cubicBezTo>
                  <a:moveTo>
                    <a:pt x="128" y="21"/>
                  </a:moveTo>
                  <a:cubicBezTo>
                    <a:pt x="126" y="21"/>
                    <a:pt x="126" y="25"/>
                    <a:pt x="128" y="25"/>
                  </a:cubicBezTo>
                  <a:cubicBezTo>
                    <a:pt x="128" y="24"/>
                    <a:pt x="130" y="23"/>
                    <a:pt x="129" y="21"/>
                  </a:cubicBezTo>
                  <a:cubicBezTo>
                    <a:pt x="129" y="21"/>
                    <a:pt x="129" y="21"/>
                    <a:pt x="128" y="21"/>
                  </a:cubicBezTo>
                  <a:moveTo>
                    <a:pt x="65" y="22"/>
                  </a:moveTo>
                  <a:cubicBezTo>
                    <a:pt x="64" y="22"/>
                    <a:pt x="64" y="22"/>
                    <a:pt x="63" y="22"/>
                  </a:cubicBezTo>
                  <a:cubicBezTo>
                    <a:pt x="62" y="22"/>
                    <a:pt x="61" y="22"/>
                    <a:pt x="60" y="22"/>
                  </a:cubicBezTo>
                  <a:cubicBezTo>
                    <a:pt x="60" y="22"/>
                    <a:pt x="60" y="22"/>
                    <a:pt x="59" y="22"/>
                  </a:cubicBezTo>
                  <a:cubicBezTo>
                    <a:pt x="58" y="24"/>
                    <a:pt x="58" y="25"/>
                    <a:pt x="59" y="27"/>
                  </a:cubicBezTo>
                  <a:cubicBezTo>
                    <a:pt x="59" y="27"/>
                    <a:pt x="59" y="27"/>
                    <a:pt x="59" y="27"/>
                  </a:cubicBezTo>
                  <a:cubicBezTo>
                    <a:pt x="60" y="27"/>
                    <a:pt x="60" y="26"/>
                    <a:pt x="61" y="26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7"/>
                    <a:pt x="62" y="28"/>
                    <a:pt x="61" y="28"/>
                  </a:cubicBezTo>
                  <a:cubicBezTo>
                    <a:pt x="60" y="28"/>
                    <a:pt x="60" y="28"/>
                    <a:pt x="60" y="27"/>
                  </a:cubicBezTo>
                  <a:cubicBezTo>
                    <a:pt x="58" y="31"/>
                    <a:pt x="61" y="33"/>
                    <a:pt x="64" y="33"/>
                  </a:cubicBezTo>
                  <a:cubicBezTo>
                    <a:pt x="65" y="33"/>
                    <a:pt x="66" y="33"/>
                    <a:pt x="67" y="32"/>
                  </a:cubicBezTo>
                  <a:cubicBezTo>
                    <a:pt x="68" y="35"/>
                    <a:pt x="68" y="35"/>
                    <a:pt x="68" y="38"/>
                  </a:cubicBezTo>
                  <a:cubicBezTo>
                    <a:pt x="68" y="38"/>
                    <a:pt x="68" y="38"/>
                    <a:pt x="68" y="38"/>
                  </a:cubicBezTo>
                  <a:cubicBezTo>
                    <a:pt x="68" y="38"/>
                    <a:pt x="68" y="39"/>
                    <a:pt x="67" y="39"/>
                  </a:cubicBezTo>
                  <a:cubicBezTo>
                    <a:pt x="66" y="38"/>
                    <a:pt x="67" y="35"/>
                    <a:pt x="65" y="35"/>
                  </a:cubicBezTo>
                  <a:cubicBezTo>
                    <a:pt x="64" y="35"/>
                    <a:pt x="64" y="36"/>
                    <a:pt x="64" y="36"/>
                  </a:cubicBezTo>
                  <a:cubicBezTo>
                    <a:pt x="63" y="38"/>
                    <a:pt x="66" y="40"/>
                    <a:pt x="68" y="40"/>
                  </a:cubicBezTo>
                  <a:cubicBezTo>
                    <a:pt x="70" y="40"/>
                    <a:pt x="72" y="38"/>
                    <a:pt x="71" y="33"/>
                  </a:cubicBezTo>
                  <a:cubicBezTo>
                    <a:pt x="69" y="33"/>
                    <a:pt x="69" y="30"/>
                    <a:pt x="67" y="29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3" y="29"/>
                    <a:pt x="63" y="29"/>
                  </a:cubicBezTo>
                  <a:cubicBezTo>
                    <a:pt x="63" y="28"/>
                    <a:pt x="64" y="28"/>
                    <a:pt x="64" y="28"/>
                  </a:cubicBezTo>
                  <a:cubicBezTo>
                    <a:pt x="64" y="28"/>
                    <a:pt x="64" y="28"/>
                    <a:pt x="65" y="28"/>
                  </a:cubicBezTo>
                  <a:cubicBezTo>
                    <a:pt x="65" y="29"/>
                    <a:pt x="65" y="29"/>
                    <a:pt x="65" y="29"/>
                  </a:cubicBezTo>
                  <a:cubicBezTo>
                    <a:pt x="65" y="29"/>
                    <a:pt x="66" y="29"/>
                    <a:pt x="66" y="28"/>
                  </a:cubicBezTo>
                  <a:cubicBezTo>
                    <a:pt x="66" y="26"/>
                    <a:pt x="66" y="25"/>
                    <a:pt x="67" y="24"/>
                  </a:cubicBezTo>
                  <a:cubicBezTo>
                    <a:pt x="66" y="22"/>
                    <a:pt x="66" y="22"/>
                    <a:pt x="65" y="22"/>
                  </a:cubicBezTo>
                  <a:moveTo>
                    <a:pt x="99" y="22"/>
                  </a:moveTo>
                  <a:cubicBezTo>
                    <a:pt x="99" y="22"/>
                    <a:pt x="99" y="22"/>
                    <a:pt x="99" y="22"/>
                  </a:cubicBezTo>
                  <a:cubicBezTo>
                    <a:pt x="99" y="22"/>
                    <a:pt x="99" y="22"/>
                    <a:pt x="99" y="22"/>
                  </a:cubicBezTo>
                  <a:moveTo>
                    <a:pt x="99" y="22"/>
                  </a:moveTo>
                  <a:cubicBezTo>
                    <a:pt x="95" y="23"/>
                    <a:pt x="95" y="31"/>
                    <a:pt x="98" y="34"/>
                  </a:cubicBezTo>
                  <a:cubicBezTo>
                    <a:pt x="101" y="30"/>
                    <a:pt x="98" y="26"/>
                    <a:pt x="99" y="22"/>
                  </a:cubicBezTo>
                  <a:moveTo>
                    <a:pt x="132" y="24"/>
                  </a:moveTo>
                  <a:cubicBezTo>
                    <a:pt x="131" y="24"/>
                    <a:pt x="130" y="24"/>
                    <a:pt x="130" y="25"/>
                  </a:cubicBezTo>
                  <a:cubicBezTo>
                    <a:pt x="131" y="29"/>
                    <a:pt x="126" y="31"/>
                    <a:pt x="129" y="33"/>
                  </a:cubicBezTo>
                  <a:cubicBezTo>
                    <a:pt x="128" y="32"/>
                    <a:pt x="128" y="32"/>
                    <a:pt x="128" y="32"/>
                  </a:cubicBezTo>
                  <a:cubicBezTo>
                    <a:pt x="127" y="32"/>
                    <a:pt x="127" y="34"/>
                    <a:pt x="127" y="36"/>
                  </a:cubicBezTo>
                  <a:cubicBezTo>
                    <a:pt x="124" y="36"/>
                    <a:pt x="121" y="40"/>
                    <a:pt x="124" y="42"/>
                  </a:cubicBezTo>
                  <a:cubicBezTo>
                    <a:pt x="124" y="41"/>
                    <a:pt x="126" y="40"/>
                    <a:pt x="125" y="38"/>
                  </a:cubicBezTo>
                  <a:cubicBezTo>
                    <a:pt x="125" y="38"/>
                    <a:pt x="126" y="38"/>
                    <a:pt x="126" y="38"/>
                  </a:cubicBezTo>
                  <a:cubicBezTo>
                    <a:pt x="127" y="38"/>
                    <a:pt x="127" y="38"/>
                    <a:pt x="128" y="37"/>
                  </a:cubicBezTo>
                  <a:cubicBezTo>
                    <a:pt x="128" y="40"/>
                    <a:pt x="124" y="41"/>
                    <a:pt x="126" y="44"/>
                  </a:cubicBezTo>
                  <a:cubicBezTo>
                    <a:pt x="127" y="44"/>
                    <a:pt x="128" y="44"/>
                    <a:pt x="128" y="44"/>
                  </a:cubicBezTo>
                  <a:cubicBezTo>
                    <a:pt x="129" y="43"/>
                    <a:pt x="128" y="40"/>
                    <a:pt x="128" y="40"/>
                  </a:cubicBezTo>
                  <a:cubicBezTo>
                    <a:pt x="128" y="40"/>
                    <a:pt x="128" y="40"/>
                    <a:pt x="128" y="40"/>
                  </a:cubicBezTo>
                  <a:cubicBezTo>
                    <a:pt x="129" y="40"/>
                    <a:pt x="129" y="41"/>
                    <a:pt x="129" y="41"/>
                  </a:cubicBezTo>
                  <a:cubicBezTo>
                    <a:pt x="129" y="41"/>
                    <a:pt x="129" y="42"/>
                    <a:pt x="129" y="42"/>
                  </a:cubicBezTo>
                  <a:cubicBezTo>
                    <a:pt x="129" y="42"/>
                    <a:pt x="130" y="42"/>
                    <a:pt x="130" y="42"/>
                  </a:cubicBezTo>
                  <a:cubicBezTo>
                    <a:pt x="132" y="41"/>
                    <a:pt x="131" y="38"/>
                    <a:pt x="133" y="38"/>
                  </a:cubicBezTo>
                  <a:cubicBezTo>
                    <a:pt x="133" y="34"/>
                    <a:pt x="131" y="34"/>
                    <a:pt x="133" y="31"/>
                  </a:cubicBezTo>
                  <a:cubicBezTo>
                    <a:pt x="133" y="31"/>
                    <a:pt x="133" y="30"/>
                    <a:pt x="133" y="30"/>
                  </a:cubicBezTo>
                  <a:cubicBezTo>
                    <a:pt x="132" y="30"/>
                    <a:pt x="132" y="31"/>
                    <a:pt x="132" y="31"/>
                  </a:cubicBezTo>
                  <a:cubicBezTo>
                    <a:pt x="132" y="31"/>
                    <a:pt x="131" y="31"/>
                    <a:pt x="131" y="31"/>
                  </a:cubicBezTo>
                  <a:cubicBezTo>
                    <a:pt x="131" y="31"/>
                    <a:pt x="131" y="31"/>
                    <a:pt x="131" y="30"/>
                  </a:cubicBezTo>
                  <a:cubicBezTo>
                    <a:pt x="131" y="30"/>
                    <a:pt x="131" y="28"/>
                    <a:pt x="132" y="28"/>
                  </a:cubicBezTo>
                  <a:cubicBezTo>
                    <a:pt x="132" y="29"/>
                    <a:pt x="132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28"/>
                    <a:pt x="132" y="29"/>
                    <a:pt x="132" y="27"/>
                  </a:cubicBezTo>
                  <a:cubicBezTo>
                    <a:pt x="133" y="27"/>
                    <a:pt x="133" y="27"/>
                    <a:pt x="133" y="27"/>
                  </a:cubicBezTo>
                  <a:cubicBezTo>
                    <a:pt x="133" y="27"/>
                    <a:pt x="134" y="27"/>
                    <a:pt x="134" y="28"/>
                  </a:cubicBezTo>
                  <a:cubicBezTo>
                    <a:pt x="134" y="28"/>
                    <a:pt x="135" y="28"/>
                    <a:pt x="135" y="28"/>
                  </a:cubicBezTo>
                  <a:cubicBezTo>
                    <a:pt x="135" y="28"/>
                    <a:pt x="135" y="28"/>
                    <a:pt x="135" y="27"/>
                  </a:cubicBezTo>
                  <a:cubicBezTo>
                    <a:pt x="133" y="27"/>
                    <a:pt x="133" y="27"/>
                    <a:pt x="133" y="24"/>
                  </a:cubicBezTo>
                  <a:cubicBezTo>
                    <a:pt x="133" y="24"/>
                    <a:pt x="132" y="24"/>
                    <a:pt x="132" y="24"/>
                  </a:cubicBezTo>
                  <a:moveTo>
                    <a:pt x="53" y="25"/>
                  </a:moveTo>
                  <a:cubicBezTo>
                    <a:pt x="51" y="26"/>
                    <a:pt x="54" y="27"/>
                    <a:pt x="51" y="28"/>
                  </a:cubicBezTo>
                  <a:cubicBezTo>
                    <a:pt x="54" y="34"/>
                    <a:pt x="58" y="37"/>
                    <a:pt x="61" y="43"/>
                  </a:cubicBezTo>
                  <a:cubicBezTo>
                    <a:pt x="59" y="44"/>
                    <a:pt x="58" y="45"/>
                    <a:pt x="57" y="45"/>
                  </a:cubicBezTo>
                  <a:cubicBezTo>
                    <a:pt x="53" y="45"/>
                    <a:pt x="51" y="38"/>
                    <a:pt x="47" y="35"/>
                  </a:cubicBezTo>
                  <a:cubicBezTo>
                    <a:pt x="47" y="35"/>
                    <a:pt x="47" y="35"/>
                    <a:pt x="48" y="35"/>
                  </a:cubicBezTo>
                  <a:cubicBezTo>
                    <a:pt x="48" y="35"/>
                    <a:pt x="49" y="35"/>
                    <a:pt x="49" y="34"/>
                  </a:cubicBezTo>
                  <a:cubicBezTo>
                    <a:pt x="48" y="33"/>
                    <a:pt x="48" y="31"/>
                    <a:pt x="46" y="31"/>
                  </a:cubicBezTo>
                  <a:cubicBezTo>
                    <a:pt x="45" y="33"/>
                    <a:pt x="47" y="34"/>
                    <a:pt x="43" y="35"/>
                  </a:cubicBezTo>
                  <a:cubicBezTo>
                    <a:pt x="47" y="40"/>
                    <a:pt x="52" y="44"/>
                    <a:pt x="55" y="49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60" y="49"/>
                    <a:pt x="59" y="44"/>
                    <a:pt x="64" y="44"/>
                  </a:cubicBezTo>
                  <a:cubicBezTo>
                    <a:pt x="64" y="38"/>
                    <a:pt x="55" y="37"/>
                    <a:pt x="59" y="30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7" y="30"/>
                    <a:pt x="57" y="32"/>
                    <a:pt x="56" y="32"/>
                  </a:cubicBezTo>
                  <a:cubicBezTo>
                    <a:pt x="56" y="30"/>
                    <a:pt x="54" y="31"/>
                    <a:pt x="55" y="29"/>
                  </a:cubicBezTo>
                  <a:cubicBezTo>
                    <a:pt x="55" y="29"/>
                    <a:pt x="56" y="29"/>
                    <a:pt x="56" y="28"/>
                  </a:cubicBezTo>
                  <a:cubicBezTo>
                    <a:pt x="56" y="26"/>
                    <a:pt x="54" y="25"/>
                    <a:pt x="53" y="25"/>
                  </a:cubicBezTo>
                  <a:moveTo>
                    <a:pt x="138" y="26"/>
                  </a:moveTo>
                  <a:cubicBezTo>
                    <a:pt x="138" y="26"/>
                    <a:pt x="138" y="26"/>
                    <a:pt x="137" y="26"/>
                  </a:cubicBezTo>
                  <a:cubicBezTo>
                    <a:pt x="136" y="27"/>
                    <a:pt x="138" y="27"/>
                    <a:pt x="138" y="28"/>
                  </a:cubicBezTo>
                  <a:cubicBezTo>
                    <a:pt x="138" y="28"/>
                    <a:pt x="138" y="28"/>
                    <a:pt x="138" y="28"/>
                  </a:cubicBezTo>
                  <a:cubicBezTo>
                    <a:pt x="136" y="28"/>
                    <a:pt x="136" y="30"/>
                    <a:pt x="135" y="30"/>
                  </a:cubicBezTo>
                  <a:cubicBezTo>
                    <a:pt x="135" y="32"/>
                    <a:pt x="135" y="33"/>
                    <a:pt x="134" y="35"/>
                  </a:cubicBezTo>
                  <a:cubicBezTo>
                    <a:pt x="134" y="35"/>
                    <a:pt x="134" y="35"/>
                    <a:pt x="134" y="35"/>
                  </a:cubicBezTo>
                  <a:cubicBezTo>
                    <a:pt x="137" y="35"/>
                    <a:pt x="138" y="30"/>
                    <a:pt x="139" y="28"/>
                  </a:cubicBezTo>
                  <a:cubicBezTo>
                    <a:pt x="139" y="28"/>
                    <a:pt x="139" y="28"/>
                    <a:pt x="139" y="28"/>
                  </a:cubicBezTo>
                  <a:cubicBezTo>
                    <a:pt x="139" y="28"/>
                    <a:pt x="139" y="28"/>
                    <a:pt x="139" y="27"/>
                  </a:cubicBezTo>
                  <a:cubicBezTo>
                    <a:pt x="138" y="27"/>
                    <a:pt x="138" y="26"/>
                    <a:pt x="138" y="26"/>
                  </a:cubicBezTo>
                  <a:moveTo>
                    <a:pt x="112" y="28"/>
                  </a:moveTo>
                  <a:cubicBezTo>
                    <a:pt x="111" y="30"/>
                    <a:pt x="111" y="32"/>
                    <a:pt x="112" y="33"/>
                  </a:cubicBezTo>
                  <a:cubicBezTo>
                    <a:pt x="113" y="31"/>
                    <a:pt x="114" y="29"/>
                    <a:pt x="112" y="28"/>
                  </a:cubicBezTo>
                  <a:moveTo>
                    <a:pt x="142" y="29"/>
                  </a:moveTo>
                  <a:cubicBezTo>
                    <a:pt x="141" y="29"/>
                    <a:pt x="140" y="29"/>
                    <a:pt x="139" y="29"/>
                  </a:cubicBezTo>
                  <a:cubicBezTo>
                    <a:pt x="139" y="30"/>
                    <a:pt x="139" y="32"/>
                    <a:pt x="138" y="33"/>
                  </a:cubicBezTo>
                  <a:cubicBezTo>
                    <a:pt x="141" y="33"/>
                    <a:pt x="143" y="34"/>
                    <a:pt x="143" y="38"/>
                  </a:cubicBezTo>
                  <a:cubicBezTo>
                    <a:pt x="144" y="38"/>
                    <a:pt x="145" y="39"/>
                    <a:pt x="146" y="39"/>
                  </a:cubicBezTo>
                  <a:cubicBezTo>
                    <a:pt x="146" y="39"/>
                    <a:pt x="147" y="39"/>
                    <a:pt x="148" y="38"/>
                  </a:cubicBezTo>
                  <a:cubicBezTo>
                    <a:pt x="148" y="38"/>
                    <a:pt x="148" y="38"/>
                    <a:pt x="148" y="38"/>
                  </a:cubicBezTo>
                  <a:cubicBezTo>
                    <a:pt x="148" y="38"/>
                    <a:pt x="148" y="38"/>
                    <a:pt x="148" y="38"/>
                  </a:cubicBezTo>
                  <a:cubicBezTo>
                    <a:pt x="147" y="46"/>
                    <a:pt x="135" y="46"/>
                    <a:pt x="135" y="53"/>
                  </a:cubicBezTo>
                  <a:cubicBezTo>
                    <a:pt x="138" y="53"/>
                    <a:pt x="140" y="49"/>
                    <a:pt x="143" y="49"/>
                  </a:cubicBezTo>
                  <a:cubicBezTo>
                    <a:pt x="143" y="49"/>
                    <a:pt x="143" y="49"/>
                    <a:pt x="144" y="49"/>
                  </a:cubicBezTo>
                  <a:cubicBezTo>
                    <a:pt x="142" y="51"/>
                    <a:pt x="142" y="54"/>
                    <a:pt x="138" y="54"/>
                  </a:cubicBezTo>
                  <a:cubicBezTo>
                    <a:pt x="138" y="57"/>
                    <a:pt x="138" y="63"/>
                    <a:pt x="141" y="63"/>
                  </a:cubicBezTo>
                  <a:cubicBezTo>
                    <a:pt x="141" y="63"/>
                    <a:pt x="142" y="63"/>
                    <a:pt x="142" y="63"/>
                  </a:cubicBezTo>
                  <a:cubicBezTo>
                    <a:pt x="143" y="63"/>
                    <a:pt x="141" y="62"/>
                    <a:pt x="142" y="61"/>
                  </a:cubicBezTo>
                  <a:cubicBezTo>
                    <a:pt x="142" y="61"/>
                    <a:pt x="142" y="61"/>
                    <a:pt x="142" y="61"/>
                  </a:cubicBezTo>
                  <a:cubicBezTo>
                    <a:pt x="143" y="61"/>
                    <a:pt x="143" y="60"/>
                    <a:pt x="144" y="60"/>
                  </a:cubicBezTo>
                  <a:cubicBezTo>
                    <a:pt x="144" y="59"/>
                    <a:pt x="145" y="59"/>
                    <a:pt x="146" y="59"/>
                  </a:cubicBezTo>
                  <a:cubicBezTo>
                    <a:pt x="146" y="59"/>
                    <a:pt x="146" y="59"/>
                    <a:pt x="146" y="59"/>
                  </a:cubicBezTo>
                  <a:cubicBezTo>
                    <a:pt x="146" y="60"/>
                    <a:pt x="147" y="60"/>
                    <a:pt x="147" y="60"/>
                  </a:cubicBezTo>
                  <a:cubicBezTo>
                    <a:pt x="144" y="62"/>
                    <a:pt x="148" y="65"/>
                    <a:pt x="145" y="66"/>
                  </a:cubicBezTo>
                  <a:cubicBezTo>
                    <a:pt x="144" y="65"/>
                    <a:pt x="143" y="65"/>
                    <a:pt x="142" y="65"/>
                  </a:cubicBezTo>
                  <a:cubicBezTo>
                    <a:pt x="141" y="65"/>
                    <a:pt x="140" y="65"/>
                    <a:pt x="139" y="65"/>
                  </a:cubicBezTo>
                  <a:cubicBezTo>
                    <a:pt x="137" y="58"/>
                    <a:pt x="129" y="54"/>
                    <a:pt x="125" y="48"/>
                  </a:cubicBezTo>
                  <a:cubicBezTo>
                    <a:pt x="125" y="48"/>
                    <a:pt x="125" y="48"/>
                    <a:pt x="124" y="48"/>
                  </a:cubicBezTo>
                  <a:cubicBezTo>
                    <a:pt x="123" y="48"/>
                    <a:pt x="119" y="45"/>
                    <a:pt x="118" y="43"/>
                  </a:cubicBezTo>
                  <a:cubicBezTo>
                    <a:pt x="118" y="43"/>
                    <a:pt x="118" y="43"/>
                    <a:pt x="118" y="43"/>
                  </a:cubicBezTo>
                  <a:cubicBezTo>
                    <a:pt x="117" y="43"/>
                    <a:pt x="116" y="43"/>
                    <a:pt x="116" y="43"/>
                  </a:cubicBezTo>
                  <a:cubicBezTo>
                    <a:pt x="116" y="41"/>
                    <a:pt x="115" y="40"/>
                    <a:pt x="113" y="40"/>
                  </a:cubicBezTo>
                  <a:cubicBezTo>
                    <a:pt x="112" y="41"/>
                    <a:pt x="111" y="42"/>
                    <a:pt x="109" y="43"/>
                  </a:cubicBezTo>
                  <a:cubicBezTo>
                    <a:pt x="109" y="42"/>
                    <a:pt x="110" y="42"/>
                    <a:pt x="110" y="41"/>
                  </a:cubicBezTo>
                  <a:cubicBezTo>
                    <a:pt x="105" y="40"/>
                    <a:pt x="97" y="38"/>
                    <a:pt x="91" y="38"/>
                  </a:cubicBezTo>
                  <a:cubicBezTo>
                    <a:pt x="90" y="38"/>
                    <a:pt x="89" y="38"/>
                    <a:pt x="88" y="38"/>
                  </a:cubicBezTo>
                  <a:cubicBezTo>
                    <a:pt x="88" y="39"/>
                    <a:pt x="87" y="40"/>
                    <a:pt x="87" y="41"/>
                  </a:cubicBezTo>
                  <a:cubicBezTo>
                    <a:pt x="103" y="41"/>
                    <a:pt x="112" y="45"/>
                    <a:pt x="124" y="50"/>
                  </a:cubicBezTo>
                  <a:cubicBezTo>
                    <a:pt x="123" y="53"/>
                    <a:pt x="125" y="53"/>
                    <a:pt x="127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8"/>
                    <a:pt x="134" y="58"/>
                    <a:pt x="133" y="63"/>
                  </a:cubicBezTo>
                  <a:cubicBezTo>
                    <a:pt x="134" y="63"/>
                    <a:pt x="135" y="64"/>
                    <a:pt x="136" y="65"/>
                  </a:cubicBezTo>
                  <a:cubicBezTo>
                    <a:pt x="136" y="65"/>
                    <a:pt x="136" y="65"/>
                    <a:pt x="136" y="65"/>
                  </a:cubicBezTo>
                  <a:cubicBezTo>
                    <a:pt x="135" y="65"/>
                    <a:pt x="135" y="65"/>
                    <a:pt x="135" y="65"/>
                  </a:cubicBezTo>
                  <a:cubicBezTo>
                    <a:pt x="135" y="65"/>
                    <a:pt x="134" y="65"/>
                    <a:pt x="134" y="65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138" y="68"/>
                    <a:pt x="139" y="73"/>
                    <a:pt x="142" y="77"/>
                  </a:cubicBezTo>
                  <a:cubicBezTo>
                    <a:pt x="138" y="76"/>
                    <a:pt x="137" y="74"/>
                    <a:pt x="133" y="74"/>
                  </a:cubicBezTo>
                  <a:cubicBezTo>
                    <a:pt x="132" y="74"/>
                    <a:pt x="131" y="74"/>
                    <a:pt x="131" y="74"/>
                  </a:cubicBezTo>
                  <a:cubicBezTo>
                    <a:pt x="136" y="84"/>
                    <a:pt x="153" y="80"/>
                    <a:pt x="161" y="86"/>
                  </a:cubicBezTo>
                  <a:cubicBezTo>
                    <a:pt x="160" y="88"/>
                    <a:pt x="160" y="90"/>
                    <a:pt x="160" y="92"/>
                  </a:cubicBezTo>
                  <a:cubicBezTo>
                    <a:pt x="165" y="92"/>
                    <a:pt x="165" y="97"/>
                    <a:pt x="167" y="100"/>
                  </a:cubicBezTo>
                  <a:cubicBezTo>
                    <a:pt x="166" y="108"/>
                    <a:pt x="163" y="118"/>
                    <a:pt x="153" y="119"/>
                  </a:cubicBezTo>
                  <a:cubicBezTo>
                    <a:pt x="152" y="121"/>
                    <a:pt x="153" y="124"/>
                    <a:pt x="151" y="124"/>
                  </a:cubicBezTo>
                  <a:cubicBezTo>
                    <a:pt x="150" y="124"/>
                    <a:pt x="149" y="124"/>
                    <a:pt x="149" y="124"/>
                  </a:cubicBezTo>
                  <a:cubicBezTo>
                    <a:pt x="148" y="124"/>
                    <a:pt x="147" y="124"/>
                    <a:pt x="147" y="125"/>
                  </a:cubicBezTo>
                  <a:cubicBezTo>
                    <a:pt x="142" y="119"/>
                    <a:pt x="129" y="120"/>
                    <a:pt x="121" y="116"/>
                  </a:cubicBezTo>
                  <a:cubicBezTo>
                    <a:pt x="120" y="118"/>
                    <a:pt x="119" y="118"/>
                    <a:pt x="120" y="120"/>
                  </a:cubicBezTo>
                  <a:cubicBezTo>
                    <a:pt x="122" y="121"/>
                    <a:pt x="128" y="120"/>
                    <a:pt x="129" y="124"/>
                  </a:cubicBezTo>
                  <a:cubicBezTo>
                    <a:pt x="121" y="127"/>
                    <a:pt x="114" y="135"/>
                    <a:pt x="105" y="135"/>
                  </a:cubicBezTo>
                  <a:cubicBezTo>
                    <a:pt x="104" y="135"/>
                    <a:pt x="104" y="135"/>
                    <a:pt x="103" y="135"/>
                  </a:cubicBezTo>
                  <a:cubicBezTo>
                    <a:pt x="102" y="136"/>
                    <a:pt x="101" y="136"/>
                    <a:pt x="100" y="137"/>
                  </a:cubicBezTo>
                  <a:cubicBezTo>
                    <a:pt x="99" y="136"/>
                    <a:pt x="98" y="135"/>
                    <a:pt x="97" y="135"/>
                  </a:cubicBezTo>
                  <a:cubicBezTo>
                    <a:pt x="96" y="135"/>
                    <a:pt x="96" y="135"/>
                    <a:pt x="96" y="135"/>
                  </a:cubicBezTo>
                  <a:cubicBezTo>
                    <a:pt x="96" y="136"/>
                    <a:pt x="97" y="138"/>
                    <a:pt x="96" y="138"/>
                  </a:cubicBezTo>
                  <a:cubicBezTo>
                    <a:pt x="96" y="138"/>
                    <a:pt x="96" y="138"/>
                    <a:pt x="96" y="138"/>
                  </a:cubicBezTo>
                  <a:cubicBezTo>
                    <a:pt x="95" y="137"/>
                    <a:pt x="93" y="136"/>
                    <a:pt x="93" y="135"/>
                  </a:cubicBezTo>
                  <a:cubicBezTo>
                    <a:pt x="93" y="135"/>
                    <a:pt x="92" y="135"/>
                    <a:pt x="92" y="135"/>
                  </a:cubicBezTo>
                  <a:cubicBezTo>
                    <a:pt x="91" y="135"/>
                    <a:pt x="90" y="135"/>
                    <a:pt x="89" y="136"/>
                  </a:cubicBezTo>
                  <a:cubicBezTo>
                    <a:pt x="78" y="134"/>
                    <a:pt x="64" y="129"/>
                    <a:pt x="58" y="118"/>
                  </a:cubicBezTo>
                  <a:cubicBezTo>
                    <a:pt x="58" y="118"/>
                    <a:pt x="59" y="118"/>
                    <a:pt x="59" y="118"/>
                  </a:cubicBezTo>
                  <a:cubicBezTo>
                    <a:pt x="60" y="118"/>
                    <a:pt x="61" y="119"/>
                    <a:pt x="62" y="119"/>
                  </a:cubicBezTo>
                  <a:cubicBezTo>
                    <a:pt x="65" y="118"/>
                    <a:pt x="63" y="116"/>
                    <a:pt x="63" y="115"/>
                  </a:cubicBezTo>
                  <a:cubicBezTo>
                    <a:pt x="66" y="118"/>
                    <a:pt x="73" y="124"/>
                    <a:pt x="77" y="124"/>
                  </a:cubicBezTo>
                  <a:cubicBezTo>
                    <a:pt x="80" y="124"/>
                    <a:pt x="82" y="122"/>
                    <a:pt x="82" y="116"/>
                  </a:cubicBezTo>
                  <a:cubicBezTo>
                    <a:pt x="81" y="115"/>
                    <a:pt x="80" y="114"/>
                    <a:pt x="79" y="114"/>
                  </a:cubicBezTo>
                  <a:cubicBezTo>
                    <a:pt x="76" y="114"/>
                    <a:pt x="74" y="116"/>
                    <a:pt x="75" y="119"/>
                  </a:cubicBezTo>
                  <a:cubicBezTo>
                    <a:pt x="75" y="119"/>
                    <a:pt x="75" y="119"/>
                    <a:pt x="75" y="119"/>
                  </a:cubicBezTo>
                  <a:cubicBezTo>
                    <a:pt x="76" y="119"/>
                    <a:pt x="76" y="119"/>
                    <a:pt x="77" y="119"/>
                  </a:cubicBezTo>
                  <a:cubicBezTo>
                    <a:pt x="77" y="120"/>
                    <a:pt x="78" y="120"/>
                    <a:pt x="78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9" y="119"/>
                    <a:pt x="79" y="117"/>
                    <a:pt x="80" y="117"/>
                  </a:cubicBezTo>
                  <a:cubicBezTo>
                    <a:pt x="80" y="117"/>
                    <a:pt x="80" y="117"/>
                    <a:pt x="80" y="117"/>
                  </a:cubicBezTo>
                  <a:cubicBezTo>
                    <a:pt x="80" y="119"/>
                    <a:pt x="81" y="121"/>
                    <a:pt x="79" y="122"/>
                  </a:cubicBezTo>
                  <a:cubicBezTo>
                    <a:pt x="79" y="121"/>
                    <a:pt x="78" y="121"/>
                    <a:pt x="77" y="121"/>
                  </a:cubicBezTo>
                  <a:cubicBezTo>
                    <a:pt x="77" y="121"/>
                    <a:pt x="76" y="121"/>
                    <a:pt x="76" y="121"/>
                  </a:cubicBezTo>
                  <a:cubicBezTo>
                    <a:pt x="76" y="121"/>
                    <a:pt x="75" y="121"/>
                    <a:pt x="75" y="121"/>
                  </a:cubicBezTo>
                  <a:cubicBezTo>
                    <a:pt x="75" y="121"/>
                    <a:pt x="74" y="121"/>
                    <a:pt x="74" y="121"/>
                  </a:cubicBezTo>
                  <a:cubicBezTo>
                    <a:pt x="72" y="117"/>
                    <a:pt x="68" y="115"/>
                    <a:pt x="65" y="111"/>
                  </a:cubicBezTo>
                  <a:cubicBezTo>
                    <a:pt x="64" y="111"/>
                    <a:pt x="64" y="111"/>
                    <a:pt x="63" y="111"/>
                  </a:cubicBezTo>
                  <a:cubicBezTo>
                    <a:pt x="61" y="111"/>
                    <a:pt x="59" y="111"/>
                    <a:pt x="58" y="112"/>
                  </a:cubicBezTo>
                  <a:cubicBezTo>
                    <a:pt x="60" y="113"/>
                    <a:pt x="57" y="116"/>
                    <a:pt x="59" y="118"/>
                  </a:cubicBezTo>
                  <a:cubicBezTo>
                    <a:pt x="59" y="118"/>
                    <a:pt x="59" y="118"/>
                    <a:pt x="59" y="118"/>
                  </a:cubicBezTo>
                  <a:cubicBezTo>
                    <a:pt x="58" y="118"/>
                    <a:pt x="57" y="118"/>
                    <a:pt x="57" y="118"/>
                  </a:cubicBezTo>
                  <a:cubicBezTo>
                    <a:pt x="54" y="113"/>
                    <a:pt x="50" y="108"/>
                    <a:pt x="51" y="101"/>
                  </a:cubicBezTo>
                  <a:cubicBezTo>
                    <a:pt x="50" y="101"/>
                    <a:pt x="49" y="101"/>
                    <a:pt x="49" y="101"/>
                  </a:cubicBezTo>
                  <a:cubicBezTo>
                    <a:pt x="47" y="101"/>
                    <a:pt x="46" y="101"/>
                    <a:pt x="46" y="102"/>
                  </a:cubicBezTo>
                  <a:cubicBezTo>
                    <a:pt x="50" y="124"/>
                    <a:pt x="72" y="139"/>
                    <a:pt x="95" y="139"/>
                  </a:cubicBezTo>
                  <a:cubicBezTo>
                    <a:pt x="102" y="139"/>
                    <a:pt x="109" y="138"/>
                    <a:pt x="116" y="134"/>
                  </a:cubicBezTo>
                  <a:cubicBezTo>
                    <a:pt x="116" y="134"/>
                    <a:pt x="116" y="134"/>
                    <a:pt x="116" y="134"/>
                  </a:cubicBezTo>
                  <a:cubicBezTo>
                    <a:pt x="116" y="134"/>
                    <a:pt x="116" y="134"/>
                    <a:pt x="116" y="134"/>
                  </a:cubicBezTo>
                  <a:cubicBezTo>
                    <a:pt x="115" y="135"/>
                    <a:pt x="116" y="137"/>
                    <a:pt x="115" y="137"/>
                  </a:cubicBezTo>
                  <a:cubicBezTo>
                    <a:pt x="114" y="137"/>
                    <a:pt x="113" y="137"/>
                    <a:pt x="111" y="137"/>
                  </a:cubicBezTo>
                  <a:cubicBezTo>
                    <a:pt x="111" y="138"/>
                    <a:pt x="110" y="139"/>
                    <a:pt x="110" y="141"/>
                  </a:cubicBezTo>
                  <a:cubicBezTo>
                    <a:pt x="111" y="141"/>
                    <a:pt x="111" y="141"/>
                    <a:pt x="111" y="141"/>
                  </a:cubicBezTo>
                  <a:cubicBezTo>
                    <a:pt x="112" y="141"/>
                    <a:pt x="112" y="141"/>
                    <a:pt x="112" y="141"/>
                  </a:cubicBezTo>
                  <a:cubicBezTo>
                    <a:pt x="112" y="140"/>
                    <a:pt x="112" y="140"/>
                    <a:pt x="113" y="140"/>
                  </a:cubicBezTo>
                  <a:cubicBezTo>
                    <a:pt x="113" y="140"/>
                    <a:pt x="113" y="140"/>
                    <a:pt x="113" y="140"/>
                  </a:cubicBezTo>
                  <a:cubicBezTo>
                    <a:pt x="113" y="142"/>
                    <a:pt x="114" y="142"/>
                    <a:pt x="115" y="143"/>
                  </a:cubicBezTo>
                  <a:cubicBezTo>
                    <a:pt x="114" y="144"/>
                    <a:pt x="114" y="145"/>
                    <a:pt x="113" y="146"/>
                  </a:cubicBezTo>
                  <a:cubicBezTo>
                    <a:pt x="116" y="149"/>
                    <a:pt x="114" y="157"/>
                    <a:pt x="119" y="159"/>
                  </a:cubicBezTo>
                  <a:cubicBezTo>
                    <a:pt x="120" y="158"/>
                    <a:pt x="118" y="155"/>
                    <a:pt x="119" y="154"/>
                  </a:cubicBezTo>
                  <a:cubicBezTo>
                    <a:pt x="121" y="152"/>
                    <a:pt x="122" y="153"/>
                    <a:pt x="123" y="151"/>
                  </a:cubicBezTo>
                  <a:cubicBezTo>
                    <a:pt x="123" y="154"/>
                    <a:pt x="125" y="155"/>
                    <a:pt x="127" y="156"/>
                  </a:cubicBezTo>
                  <a:cubicBezTo>
                    <a:pt x="125" y="149"/>
                    <a:pt x="119" y="145"/>
                    <a:pt x="116" y="139"/>
                  </a:cubicBezTo>
                  <a:cubicBezTo>
                    <a:pt x="116" y="139"/>
                    <a:pt x="116" y="139"/>
                    <a:pt x="116" y="139"/>
                  </a:cubicBezTo>
                  <a:cubicBezTo>
                    <a:pt x="117" y="139"/>
                    <a:pt x="117" y="139"/>
                    <a:pt x="117" y="139"/>
                  </a:cubicBezTo>
                  <a:cubicBezTo>
                    <a:pt x="117" y="139"/>
                    <a:pt x="117" y="139"/>
                    <a:pt x="117" y="139"/>
                  </a:cubicBezTo>
                  <a:cubicBezTo>
                    <a:pt x="118" y="139"/>
                    <a:pt x="118" y="139"/>
                    <a:pt x="118" y="139"/>
                  </a:cubicBezTo>
                  <a:cubicBezTo>
                    <a:pt x="119" y="136"/>
                    <a:pt x="117" y="136"/>
                    <a:pt x="117" y="134"/>
                  </a:cubicBezTo>
                  <a:cubicBezTo>
                    <a:pt x="117" y="133"/>
                    <a:pt x="118" y="133"/>
                    <a:pt x="118" y="133"/>
                  </a:cubicBezTo>
                  <a:cubicBezTo>
                    <a:pt x="119" y="133"/>
                    <a:pt x="119" y="134"/>
                    <a:pt x="120" y="134"/>
                  </a:cubicBezTo>
                  <a:cubicBezTo>
                    <a:pt x="120" y="134"/>
                    <a:pt x="121" y="134"/>
                    <a:pt x="121" y="134"/>
                  </a:cubicBezTo>
                  <a:cubicBezTo>
                    <a:pt x="122" y="134"/>
                    <a:pt x="122" y="134"/>
                    <a:pt x="122" y="134"/>
                  </a:cubicBezTo>
                  <a:cubicBezTo>
                    <a:pt x="121" y="131"/>
                    <a:pt x="124" y="131"/>
                    <a:pt x="125" y="129"/>
                  </a:cubicBezTo>
                  <a:cubicBezTo>
                    <a:pt x="127" y="126"/>
                    <a:pt x="131" y="125"/>
                    <a:pt x="135" y="125"/>
                  </a:cubicBezTo>
                  <a:cubicBezTo>
                    <a:pt x="141" y="125"/>
                    <a:pt x="147" y="127"/>
                    <a:pt x="154" y="128"/>
                  </a:cubicBezTo>
                  <a:cubicBezTo>
                    <a:pt x="154" y="125"/>
                    <a:pt x="154" y="122"/>
                    <a:pt x="156" y="121"/>
                  </a:cubicBezTo>
                  <a:cubicBezTo>
                    <a:pt x="170" y="121"/>
                    <a:pt x="174" y="96"/>
                    <a:pt x="163" y="88"/>
                  </a:cubicBezTo>
                  <a:cubicBezTo>
                    <a:pt x="164" y="87"/>
                    <a:pt x="164" y="85"/>
                    <a:pt x="164" y="83"/>
                  </a:cubicBezTo>
                  <a:cubicBezTo>
                    <a:pt x="160" y="81"/>
                    <a:pt x="153" y="81"/>
                    <a:pt x="150" y="78"/>
                  </a:cubicBezTo>
                  <a:cubicBezTo>
                    <a:pt x="151" y="77"/>
                    <a:pt x="153" y="78"/>
                    <a:pt x="153" y="76"/>
                  </a:cubicBezTo>
                  <a:cubicBezTo>
                    <a:pt x="152" y="75"/>
                    <a:pt x="151" y="75"/>
                    <a:pt x="151" y="75"/>
                  </a:cubicBezTo>
                  <a:cubicBezTo>
                    <a:pt x="150" y="75"/>
                    <a:pt x="149" y="75"/>
                    <a:pt x="148" y="76"/>
                  </a:cubicBezTo>
                  <a:cubicBezTo>
                    <a:pt x="147" y="76"/>
                    <a:pt x="147" y="76"/>
                    <a:pt x="146" y="76"/>
                  </a:cubicBezTo>
                  <a:cubicBezTo>
                    <a:pt x="145" y="76"/>
                    <a:pt x="145" y="76"/>
                    <a:pt x="144" y="76"/>
                  </a:cubicBezTo>
                  <a:cubicBezTo>
                    <a:pt x="144" y="80"/>
                    <a:pt x="150" y="76"/>
                    <a:pt x="149" y="79"/>
                  </a:cubicBezTo>
                  <a:cubicBezTo>
                    <a:pt x="147" y="79"/>
                    <a:pt x="146" y="78"/>
                    <a:pt x="144" y="78"/>
                  </a:cubicBezTo>
                  <a:cubicBezTo>
                    <a:pt x="144" y="78"/>
                    <a:pt x="144" y="78"/>
                    <a:pt x="143" y="78"/>
                  </a:cubicBezTo>
                  <a:cubicBezTo>
                    <a:pt x="145" y="76"/>
                    <a:pt x="143" y="74"/>
                    <a:pt x="143" y="72"/>
                  </a:cubicBezTo>
                  <a:cubicBezTo>
                    <a:pt x="143" y="72"/>
                    <a:pt x="144" y="73"/>
                    <a:pt x="144" y="73"/>
                  </a:cubicBezTo>
                  <a:cubicBezTo>
                    <a:pt x="144" y="73"/>
                    <a:pt x="145" y="73"/>
                    <a:pt x="145" y="72"/>
                  </a:cubicBezTo>
                  <a:cubicBezTo>
                    <a:pt x="145" y="70"/>
                    <a:pt x="143" y="71"/>
                    <a:pt x="143" y="69"/>
                  </a:cubicBezTo>
                  <a:cubicBezTo>
                    <a:pt x="143" y="69"/>
                    <a:pt x="143" y="69"/>
                    <a:pt x="143" y="69"/>
                  </a:cubicBezTo>
                  <a:cubicBezTo>
                    <a:pt x="144" y="69"/>
                    <a:pt x="144" y="68"/>
                    <a:pt x="145" y="68"/>
                  </a:cubicBezTo>
                  <a:cubicBezTo>
                    <a:pt x="146" y="69"/>
                    <a:pt x="146" y="70"/>
                    <a:pt x="148" y="71"/>
                  </a:cubicBezTo>
                  <a:cubicBezTo>
                    <a:pt x="148" y="71"/>
                    <a:pt x="148" y="71"/>
                    <a:pt x="148" y="71"/>
                  </a:cubicBezTo>
                  <a:cubicBezTo>
                    <a:pt x="148" y="71"/>
                    <a:pt x="148" y="71"/>
                    <a:pt x="148" y="71"/>
                  </a:cubicBezTo>
                  <a:cubicBezTo>
                    <a:pt x="148" y="71"/>
                    <a:pt x="148" y="71"/>
                    <a:pt x="148" y="71"/>
                  </a:cubicBezTo>
                  <a:cubicBezTo>
                    <a:pt x="146" y="71"/>
                    <a:pt x="147" y="73"/>
                    <a:pt x="147" y="74"/>
                  </a:cubicBezTo>
                  <a:cubicBezTo>
                    <a:pt x="147" y="74"/>
                    <a:pt x="147" y="74"/>
                    <a:pt x="147" y="74"/>
                  </a:cubicBezTo>
                  <a:cubicBezTo>
                    <a:pt x="147" y="74"/>
                    <a:pt x="148" y="74"/>
                    <a:pt x="148" y="74"/>
                  </a:cubicBezTo>
                  <a:cubicBezTo>
                    <a:pt x="148" y="74"/>
                    <a:pt x="148" y="74"/>
                    <a:pt x="149" y="74"/>
                  </a:cubicBezTo>
                  <a:cubicBezTo>
                    <a:pt x="149" y="74"/>
                    <a:pt x="150" y="74"/>
                    <a:pt x="151" y="73"/>
                  </a:cubicBezTo>
                  <a:cubicBezTo>
                    <a:pt x="151" y="72"/>
                    <a:pt x="149" y="71"/>
                    <a:pt x="150" y="69"/>
                  </a:cubicBezTo>
                  <a:cubicBezTo>
                    <a:pt x="150" y="69"/>
                    <a:pt x="151" y="69"/>
                    <a:pt x="151" y="69"/>
                  </a:cubicBezTo>
                  <a:cubicBezTo>
                    <a:pt x="152" y="69"/>
                    <a:pt x="151" y="68"/>
                    <a:pt x="151" y="67"/>
                  </a:cubicBezTo>
                  <a:cubicBezTo>
                    <a:pt x="155" y="65"/>
                    <a:pt x="164" y="65"/>
                    <a:pt x="162" y="59"/>
                  </a:cubicBezTo>
                  <a:cubicBezTo>
                    <a:pt x="157" y="61"/>
                    <a:pt x="152" y="65"/>
                    <a:pt x="148" y="65"/>
                  </a:cubicBezTo>
                  <a:cubicBezTo>
                    <a:pt x="147" y="65"/>
                    <a:pt x="147" y="65"/>
                    <a:pt x="147" y="65"/>
                  </a:cubicBezTo>
                  <a:cubicBezTo>
                    <a:pt x="152" y="62"/>
                    <a:pt x="154" y="58"/>
                    <a:pt x="160" y="56"/>
                  </a:cubicBezTo>
                  <a:cubicBezTo>
                    <a:pt x="160" y="54"/>
                    <a:pt x="159" y="54"/>
                    <a:pt x="159" y="52"/>
                  </a:cubicBezTo>
                  <a:cubicBezTo>
                    <a:pt x="159" y="52"/>
                    <a:pt x="158" y="52"/>
                    <a:pt x="158" y="52"/>
                  </a:cubicBezTo>
                  <a:cubicBezTo>
                    <a:pt x="157" y="52"/>
                    <a:pt x="157" y="52"/>
                    <a:pt x="156" y="52"/>
                  </a:cubicBezTo>
                  <a:cubicBezTo>
                    <a:pt x="156" y="52"/>
                    <a:pt x="155" y="53"/>
                    <a:pt x="155" y="53"/>
                  </a:cubicBezTo>
                  <a:cubicBezTo>
                    <a:pt x="155" y="53"/>
                    <a:pt x="154" y="52"/>
                    <a:pt x="154" y="52"/>
                  </a:cubicBezTo>
                  <a:cubicBezTo>
                    <a:pt x="153" y="54"/>
                    <a:pt x="151" y="56"/>
                    <a:pt x="149" y="57"/>
                  </a:cubicBezTo>
                  <a:cubicBezTo>
                    <a:pt x="149" y="57"/>
                    <a:pt x="150" y="57"/>
                    <a:pt x="150" y="57"/>
                  </a:cubicBezTo>
                  <a:cubicBezTo>
                    <a:pt x="151" y="57"/>
                    <a:pt x="151" y="57"/>
                    <a:pt x="152" y="57"/>
                  </a:cubicBezTo>
                  <a:cubicBezTo>
                    <a:pt x="152" y="56"/>
                    <a:pt x="153" y="56"/>
                    <a:pt x="154" y="56"/>
                  </a:cubicBezTo>
                  <a:cubicBezTo>
                    <a:pt x="154" y="56"/>
                    <a:pt x="154" y="56"/>
                    <a:pt x="154" y="56"/>
                  </a:cubicBezTo>
                  <a:cubicBezTo>
                    <a:pt x="153" y="57"/>
                    <a:pt x="152" y="59"/>
                    <a:pt x="149" y="59"/>
                  </a:cubicBezTo>
                  <a:cubicBezTo>
                    <a:pt x="149" y="59"/>
                    <a:pt x="149" y="59"/>
                    <a:pt x="149" y="59"/>
                  </a:cubicBezTo>
                  <a:cubicBezTo>
                    <a:pt x="149" y="57"/>
                    <a:pt x="148" y="56"/>
                    <a:pt x="147" y="56"/>
                  </a:cubicBezTo>
                  <a:cubicBezTo>
                    <a:pt x="145" y="56"/>
                    <a:pt x="145" y="58"/>
                    <a:pt x="145" y="59"/>
                  </a:cubicBezTo>
                  <a:cubicBezTo>
                    <a:pt x="144" y="58"/>
                    <a:pt x="144" y="57"/>
                    <a:pt x="143" y="57"/>
                  </a:cubicBezTo>
                  <a:cubicBezTo>
                    <a:pt x="142" y="57"/>
                    <a:pt x="142" y="57"/>
                    <a:pt x="142" y="58"/>
                  </a:cubicBezTo>
                  <a:cubicBezTo>
                    <a:pt x="140" y="54"/>
                    <a:pt x="144" y="52"/>
                    <a:pt x="148" y="52"/>
                  </a:cubicBezTo>
                  <a:cubicBezTo>
                    <a:pt x="154" y="48"/>
                    <a:pt x="155" y="44"/>
                    <a:pt x="150" y="38"/>
                  </a:cubicBezTo>
                  <a:cubicBezTo>
                    <a:pt x="149" y="38"/>
                    <a:pt x="149" y="38"/>
                    <a:pt x="149" y="38"/>
                  </a:cubicBezTo>
                  <a:cubicBezTo>
                    <a:pt x="148" y="38"/>
                    <a:pt x="148" y="37"/>
                    <a:pt x="148" y="37"/>
                  </a:cubicBezTo>
                  <a:cubicBezTo>
                    <a:pt x="147" y="37"/>
                    <a:pt x="147" y="36"/>
                    <a:pt x="146" y="36"/>
                  </a:cubicBezTo>
                  <a:cubicBezTo>
                    <a:pt x="146" y="36"/>
                    <a:pt x="146" y="37"/>
                    <a:pt x="146" y="37"/>
                  </a:cubicBezTo>
                  <a:cubicBezTo>
                    <a:pt x="145" y="33"/>
                    <a:pt x="141" y="32"/>
                    <a:pt x="142" y="29"/>
                  </a:cubicBezTo>
                  <a:moveTo>
                    <a:pt x="95" y="34"/>
                  </a:moveTo>
                  <a:cubicBezTo>
                    <a:pt x="95" y="34"/>
                    <a:pt x="94" y="34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95" y="35"/>
                    <a:pt x="95" y="35"/>
                    <a:pt x="95" y="35"/>
                  </a:cubicBezTo>
                  <a:cubicBezTo>
                    <a:pt x="96" y="34"/>
                    <a:pt x="96" y="34"/>
                    <a:pt x="95" y="34"/>
                  </a:cubicBezTo>
                  <a:moveTo>
                    <a:pt x="139" y="35"/>
                  </a:moveTo>
                  <a:cubicBezTo>
                    <a:pt x="138" y="39"/>
                    <a:pt x="134" y="42"/>
                    <a:pt x="134" y="46"/>
                  </a:cubicBezTo>
                  <a:cubicBezTo>
                    <a:pt x="134" y="46"/>
                    <a:pt x="133" y="46"/>
                    <a:pt x="133" y="46"/>
                  </a:cubicBezTo>
                  <a:cubicBezTo>
                    <a:pt x="132" y="46"/>
                    <a:pt x="131" y="47"/>
                    <a:pt x="130" y="48"/>
                  </a:cubicBezTo>
                  <a:cubicBezTo>
                    <a:pt x="130" y="48"/>
                    <a:pt x="131" y="48"/>
                    <a:pt x="131" y="49"/>
                  </a:cubicBezTo>
                  <a:cubicBezTo>
                    <a:pt x="135" y="47"/>
                    <a:pt x="141" y="41"/>
                    <a:pt x="140" y="38"/>
                  </a:cubicBezTo>
                  <a:cubicBezTo>
                    <a:pt x="141" y="38"/>
                    <a:pt x="141" y="39"/>
                    <a:pt x="142" y="39"/>
                  </a:cubicBezTo>
                  <a:cubicBezTo>
                    <a:pt x="142" y="39"/>
                    <a:pt x="142" y="39"/>
                    <a:pt x="143" y="39"/>
                  </a:cubicBezTo>
                  <a:cubicBezTo>
                    <a:pt x="143" y="36"/>
                    <a:pt x="141" y="36"/>
                    <a:pt x="139" y="35"/>
                  </a:cubicBezTo>
                  <a:moveTo>
                    <a:pt x="97" y="35"/>
                  </a:moveTo>
                  <a:cubicBezTo>
                    <a:pt x="97" y="35"/>
                    <a:pt x="97" y="35"/>
                    <a:pt x="97" y="36"/>
                  </a:cubicBezTo>
                  <a:cubicBezTo>
                    <a:pt x="97" y="36"/>
                    <a:pt x="98" y="36"/>
                    <a:pt x="98" y="36"/>
                  </a:cubicBezTo>
                  <a:cubicBezTo>
                    <a:pt x="98" y="36"/>
                    <a:pt x="98" y="35"/>
                    <a:pt x="98" y="35"/>
                  </a:cubicBezTo>
                  <a:cubicBezTo>
                    <a:pt x="98" y="35"/>
                    <a:pt x="98" y="35"/>
                    <a:pt x="97" y="35"/>
                  </a:cubicBezTo>
                  <a:moveTo>
                    <a:pt x="110" y="37"/>
                  </a:moveTo>
                  <a:cubicBezTo>
                    <a:pt x="110" y="37"/>
                    <a:pt x="110" y="37"/>
                    <a:pt x="109" y="37"/>
                  </a:cubicBezTo>
                  <a:cubicBezTo>
                    <a:pt x="109" y="37"/>
                    <a:pt x="109" y="37"/>
                    <a:pt x="109" y="37"/>
                  </a:cubicBezTo>
                  <a:cubicBezTo>
                    <a:pt x="109" y="38"/>
                    <a:pt x="109" y="38"/>
                    <a:pt x="109" y="38"/>
                  </a:cubicBezTo>
                  <a:cubicBezTo>
                    <a:pt x="110" y="38"/>
                    <a:pt x="110" y="38"/>
                    <a:pt x="110" y="38"/>
                  </a:cubicBezTo>
                  <a:cubicBezTo>
                    <a:pt x="111" y="37"/>
                    <a:pt x="111" y="37"/>
                    <a:pt x="110" y="37"/>
                  </a:cubicBezTo>
                  <a:moveTo>
                    <a:pt x="81" y="38"/>
                  </a:moveTo>
                  <a:cubicBezTo>
                    <a:pt x="81" y="39"/>
                    <a:pt x="81" y="40"/>
                    <a:pt x="79" y="41"/>
                  </a:cubicBezTo>
                  <a:cubicBezTo>
                    <a:pt x="79" y="40"/>
                    <a:pt x="79" y="40"/>
                    <a:pt x="79" y="39"/>
                  </a:cubicBezTo>
                  <a:cubicBezTo>
                    <a:pt x="77" y="39"/>
                    <a:pt x="77" y="42"/>
                    <a:pt x="76" y="43"/>
                  </a:cubicBezTo>
                  <a:cubicBezTo>
                    <a:pt x="72" y="44"/>
                    <a:pt x="65" y="48"/>
                    <a:pt x="61" y="52"/>
                  </a:cubicBezTo>
                  <a:cubicBezTo>
                    <a:pt x="62" y="53"/>
                    <a:pt x="62" y="53"/>
                    <a:pt x="62" y="53"/>
                  </a:cubicBezTo>
                  <a:cubicBezTo>
                    <a:pt x="70" y="50"/>
                    <a:pt x="76" y="44"/>
                    <a:pt x="84" y="42"/>
                  </a:cubicBezTo>
                  <a:cubicBezTo>
                    <a:pt x="84" y="40"/>
                    <a:pt x="82" y="39"/>
                    <a:pt x="81" y="38"/>
                  </a:cubicBezTo>
                  <a:moveTo>
                    <a:pt x="86" y="41"/>
                  </a:moveTo>
                  <a:cubicBezTo>
                    <a:pt x="85" y="41"/>
                    <a:pt x="85" y="41"/>
                    <a:pt x="85" y="41"/>
                  </a:cubicBezTo>
                  <a:cubicBezTo>
                    <a:pt x="85" y="41"/>
                    <a:pt x="85" y="41"/>
                    <a:pt x="85" y="42"/>
                  </a:cubicBezTo>
                  <a:cubicBezTo>
                    <a:pt x="86" y="42"/>
                    <a:pt x="87" y="42"/>
                    <a:pt x="86" y="41"/>
                  </a:cubicBezTo>
                  <a:moveTo>
                    <a:pt x="98" y="46"/>
                  </a:moveTo>
                  <a:cubicBezTo>
                    <a:pt x="98" y="46"/>
                    <a:pt x="98" y="46"/>
                    <a:pt x="98" y="46"/>
                  </a:cubicBezTo>
                  <a:cubicBezTo>
                    <a:pt x="98" y="46"/>
                    <a:pt x="98" y="46"/>
                    <a:pt x="98" y="46"/>
                  </a:cubicBezTo>
                  <a:moveTo>
                    <a:pt x="98" y="46"/>
                  </a:moveTo>
                  <a:cubicBezTo>
                    <a:pt x="94" y="48"/>
                    <a:pt x="90" y="48"/>
                    <a:pt x="88" y="51"/>
                  </a:cubicBezTo>
                  <a:cubicBezTo>
                    <a:pt x="88" y="51"/>
                    <a:pt x="88" y="51"/>
                    <a:pt x="88" y="51"/>
                  </a:cubicBezTo>
                  <a:cubicBezTo>
                    <a:pt x="89" y="51"/>
                    <a:pt x="89" y="52"/>
                    <a:pt x="90" y="52"/>
                  </a:cubicBezTo>
                  <a:cubicBezTo>
                    <a:pt x="90" y="50"/>
                    <a:pt x="92" y="49"/>
                    <a:pt x="94" y="49"/>
                  </a:cubicBezTo>
                  <a:cubicBezTo>
                    <a:pt x="96" y="49"/>
                    <a:pt x="99" y="52"/>
                    <a:pt x="98" y="55"/>
                  </a:cubicBezTo>
                  <a:cubicBezTo>
                    <a:pt x="97" y="56"/>
                    <a:pt x="97" y="57"/>
                    <a:pt x="96" y="57"/>
                  </a:cubicBezTo>
                  <a:cubicBezTo>
                    <a:pt x="96" y="57"/>
                    <a:pt x="96" y="57"/>
                    <a:pt x="96" y="57"/>
                  </a:cubicBezTo>
                  <a:cubicBezTo>
                    <a:pt x="96" y="55"/>
                    <a:pt x="97" y="52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2" y="53"/>
                    <a:pt x="92" y="57"/>
                    <a:pt x="94" y="59"/>
                  </a:cubicBezTo>
                  <a:cubicBezTo>
                    <a:pt x="94" y="59"/>
                    <a:pt x="95" y="59"/>
                    <a:pt x="95" y="59"/>
                  </a:cubicBezTo>
                  <a:cubicBezTo>
                    <a:pt x="96" y="59"/>
                    <a:pt x="97" y="58"/>
                    <a:pt x="98" y="58"/>
                  </a:cubicBezTo>
                  <a:cubicBezTo>
                    <a:pt x="98" y="57"/>
                    <a:pt x="99" y="57"/>
                    <a:pt x="99" y="57"/>
                  </a:cubicBezTo>
                  <a:cubicBezTo>
                    <a:pt x="100" y="57"/>
                    <a:pt x="100" y="57"/>
                    <a:pt x="100" y="57"/>
                  </a:cubicBezTo>
                  <a:cubicBezTo>
                    <a:pt x="100" y="54"/>
                    <a:pt x="102" y="50"/>
                    <a:pt x="100" y="48"/>
                  </a:cubicBezTo>
                  <a:cubicBezTo>
                    <a:pt x="99" y="48"/>
                    <a:pt x="98" y="48"/>
                    <a:pt x="98" y="48"/>
                  </a:cubicBezTo>
                  <a:cubicBezTo>
                    <a:pt x="98" y="48"/>
                    <a:pt x="97" y="48"/>
                    <a:pt x="98" y="46"/>
                  </a:cubicBezTo>
                  <a:moveTo>
                    <a:pt x="82" y="47"/>
                  </a:moveTo>
                  <a:cubicBezTo>
                    <a:pt x="81" y="47"/>
                    <a:pt x="80" y="47"/>
                    <a:pt x="79" y="47"/>
                  </a:cubicBezTo>
                  <a:cubicBezTo>
                    <a:pt x="76" y="51"/>
                    <a:pt x="80" y="55"/>
                    <a:pt x="84" y="55"/>
                  </a:cubicBezTo>
                  <a:cubicBezTo>
                    <a:pt x="85" y="55"/>
                    <a:pt x="87" y="54"/>
                    <a:pt x="87" y="52"/>
                  </a:cubicBezTo>
                  <a:cubicBezTo>
                    <a:pt x="87" y="52"/>
                    <a:pt x="86" y="52"/>
                    <a:pt x="86" y="52"/>
                  </a:cubicBezTo>
                  <a:cubicBezTo>
                    <a:pt x="85" y="52"/>
                    <a:pt x="85" y="52"/>
                    <a:pt x="84" y="52"/>
                  </a:cubicBezTo>
                  <a:cubicBezTo>
                    <a:pt x="83" y="53"/>
                    <a:pt x="83" y="53"/>
                    <a:pt x="82" y="53"/>
                  </a:cubicBezTo>
                  <a:cubicBezTo>
                    <a:pt x="82" y="53"/>
                    <a:pt x="82" y="53"/>
                    <a:pt x="81" y="52"/>
                  </a:cubicBezTo>
                  <a:cubicBezTo>
                    <a:pt x="82" y="51"/>
                    <a:pt x="85" y="51"/>
                    <a:pt x="84" y="48"/>
                  </a:cubicBezTo>
                  <a:cubicBezTo>
                    <a:pt x="83" y="47"/>
                    <a:pt x="83" y="47"/>
                    <a:pt x="82" y="47"/>
                  </a:cubicBezTo>
                  <a:moveTo>
                    <a:pt x="35" y="48"/>
                  </a:moveTo>
                  <a:cubicBezTo>
                    <a:pt x="34" y="48"/>
                    <a:pt x="34" y="48"/>
                    <a:pt x="34" y="48"/>
                  </a:cubicBezTo>
                  <a:cubicBezTo>
                    <a:pt x="34" y="51"/>
                    <a:pt x="33" y="52"/>
                    <a:pt x="32" y="56"/>
                  </a:cubicBezTo>
                  <a:cubicBezTo>
                    <a:pt x="18" y="58"/>
                    <a:pt x="14" y="78"/>
                    <a:pt x="25" y="87"/>
                  </a:cubicBezTo>
                  <a:cubicBezTo>
                    <a:pt x="25" y="90"/>
                    <a:pt x="22" y="94"/>
                    <a:pt x="27" y="94"/>
                  </a:cubicBezTo>
                  <a:cubicBezTo>
                    <a:pt x="28" y="92"/>
                    <a:pt x="26" y="87"/>
                    <a:pt x="28" y="86"/>
                  </a:cubicBezTo>
                  <a:cubicBezTo>
                    <a:pt x="17" y="81"/>
                    <a:pt x="21" y="57"/>
                    <a:pt x="35" y="57"/>
                  </a:cubicBezTo>
                  <a:cubicBezTo>
                    <a:pt x="34" y="53"/>
                    <a:pt x="40" y="54"/>
                    <a:pt x="39" y="49"/>
                  </a:cubicBezTo>
                  <a:cubicBezTo>
                    <a:pt x="38" y="49"/>
                    <a:pt x="36" y="48"/>
                    <a:pt x="35" y="48"/>
                  </a:cubicBezTo>
                  <a:moveTo>
                    <a:pt x="112" y="51"/>
                  </a:moveTo>
                  <a:cubicBezTo>
                    <a:pt x="107" y="52"/>
                    <a:pt x="104" y="59"/>
                    <a:pt x="109" y="63"/>
                  </a:cubicBezTo>
                  <a:cubicBezTo>
                    <a:pt x="111" y="62"/>
                    <a:pt x="113" y="62"/>
                    <a:pt x="114" y="61"/>
                  </a:cubicBezTo>
                  <a:cubicBezTo>
                    <a:pt x="115" y="59"/>
                    <a:pt x="114" y="58"/>
                    <a:pt x="112" y="58"/>
                  </a:cubicBezTo>
                  <a:cubicBezTo>
                    <a:pt x="112" y="58"/>
                    <a:pt x="111" y="58"/>
                    <a:pt x="110" y="59"/>
                  </a:cubicBezTo>
                  <a:cubicBezTo>
                    <a:pt x="110" y="60"/>
                    <a:pt x="111" y="60"/>
                    <a:pt x="110" y="61"/>
                  </a:cubicBezTo>
                  <a:cubicBezTo>
                    <a:pt x="109" y="60"/>
                    <a:pt x="108" y="59"/>
                    <a:pt x="108" y="58"/>
                  </a:cubicBezTo>
                  <a:cubicBezTo>
                    <a:pt x="109" y="57"/>
                    <a:pt x="108" y="56"/>
                    <a:pt x="109" y="55"/>
                  </a:cubicBezTo>
                  <a:cubicBezTo>
                    <a:pt x="109" y="55"/>
                    <a:pt x="109" y="55"/>
                    <a:pt x="110" y="55"/>
                  </a:cubicBezTo>
                  <a:cubicBezTo>
                    <a:pt x="110" y="55"/>
                    <a:pt x="111" y="55"/>
                    <a:pt x="111" y="55"/>
                  </a:cubicBezTo>
                  <a:cubicBezTo>
                    <a:pt x="112" y="55"/>
                    <a:pt x="112" y="54"/>
                    <a:pt x="113" y="54"/>
                  </a:cubicBezTo>
                  <a:cubicBezTo>
                    <a:pt x="113" y="54"/>
                    <a:pt x="113" y="54"/>
                    <a:pt x="113" y="54"/>
                  </a:cubicBezTo>
                  <a:cubicBezTo>
                    <a:pt x="117" y="57"/>
                    <a:pt x="120" y="66"/>
                    <a:pt x="125" y="66"/>
                  </a:cubicBezTo>
                  <a:cubicBezTo>
                    <a:pt x="126" y="66"/>
                    <a:pt x="128" y="65"/>
                    <a:pt x="129" y="64"/>
                  </a:cubicBezTo>
                  <a:cubicBezTo>
                    <a:pt x="129" y="63"/>
                    <a:pt x="129" y="62"/>
                    <a:pt x="129" y="61"/>
                  </a:cubicBezTo>
                  <a:cubicBezTo>
                    <a:pt x="129" y="61"/>
                    <a:pt x="129" y="61"/>
                    <a:pt x="129" y="61"/>
                  </a:cubicBezTo>
                  <a:cubicBezTo>
                    <a:pt x="127" y="61"/>
                    <a:pt x="127" y="59"/>
                    <a:pt x="125" y="59"/>
                  </a:cubicBezTo>
                  <a:cubicBezTo>
                    <a:pt x="124" y="61"/>
                    <a:pt x="127" y="60"/>
                    <a:pt x="127" y="62"/>
                  </a:cubicBezTo>
                  <a:cubicBezTo>
                    <a:pt x="126" y="63"/>
                    <a:pt x="126" y="63"/>
                    <a:pt x="124" y="63"/>
                  </a:cubicBezTo>
                  <a:cubicBezTo>
                    <a:pt x="124" y="63"/>
                    <a:pt x="124" y="63"/>
                    <a:pt x="124" y="63"/>
                  </a:cubicBezTo>
                  <a:cubicBezTo>
                    <a:pt x="122" y="61"/>
                    <a:pt x="118" y="59"/>
                    <a:pt x="119" y="55"/>
                  </a:cubicBezTo>
                  <a:cubicBezTo>
                    <a:pt x="119" y="55"/>
                    <a:pt x="119" y="55"/>
                    <a:pt x="119" y="55"/>
                  </a:cubicBezTo>
                  <a:cubicBezTo>
                    <a:pt x="117" y="55"/>
                    <a:pt x="115" y="52"/>
                    <a:pt x="112" y="51"/>
                  </a:cubicBezTo>
                  <a:moveTo>
                    <a:pt x="104" y="52"/>
                  </a:moveTo>
                  <a:cubicBezTo>
                    <a:pt x="104" y="52"/>
                    <a:pt x="104" y="52"/>
                    <a:pt x="104" y="53"/>
                  </a:cubicBezTo>
                  <a:cubicBezTo>
                    <a:pt x="104" y="53"/>
                    <a:pt x="104" y="53"/>
                    <a:pt x="104" y="53"/>
                  </a:cubicBezTo>
                  <a:cubicBezTo>
                    <a:pt x="105" y="53"/>
                    <a:pt x="105" y="53"/>
                    <a:pt x="105" y="53"/>
                  </a:cubicBezTo>
                  <a:cubicBezTo>
                    <a:pt x="105" y="53"/>
                    <a:pt x="104" y="52"/>
                    <a:pt x="104" y="52"/>
                  </a:cubicBezTo>
                  <a:moveTo>
                    <a:pt x="174" y="53"/>
                  </a:moveTo>
                  <a:cubicBezTo>
                    <a:pt x="174" y="53"/>
                    <a:pt x="174" y="53"/>
                    <a:pt x="174" y="53"/>
                  </a:cubicBezTo>
                  <a:cubicBezTo>
                    <a:pt x="174" y="53"/>
                    <a:pt x="174" y="54"/>
                    <a:pt x="174" y="54"/>
                  </a:cubicBezTo>
                  <a:cubicBezTo>
                    <a:pt x="175" y="54"/>
                    <a:pt x="175" y="54"/>
                    <a:pt x="175" y="54"/>
                  </a:cubicBezTo>
                  <a:cubicBezTo>
                    <a:pt x="175" y="54"/>
                    <a:pt x="175" y="54"/>
                    <a:pt x="175" y="53"/>
                  </a:cubicBezTo>
                  <a:cubicBezTo>
                    <a:pt x="175" y="53"/>
                    <a:pt x="175" y="53"/>
                    <a:pt x="174" y="53"/>
                  </a:cubicBezTo>
                  <a:moveTo>
                    <a:pt x="103" y="54"/>
                  </a:moveTo>
                  <a:cubicBezTo>
                    <a:pt x="103" y="54"/>
                    <a:pt x="103" y="54"/>
                    <a:pt x="102" y="54"/>
                  </a:cubicBezTo>
                  <a:cubicBezTo>
                    <a:pt x="102" y="54"/>
                    <a:pt x="102" y="54"/>
                    <a:pt x="102" y="54"/>
                  </a:cubicBezTo>
                  <a:cubicBezTo>
                    <a:pt x="102" y="54"/>
                    <a:pt x="102" y="54"/>
                    <a:pt x="102" y="54"/>
                  </a:cubicBezTo>
                  <a:cubicBezTo>
                    <a:pt x="102" y="55"/>
                    <a:pt x="101" y="57"/>
                    <a:pt x="102" y="58"/>
                  </a:cubicBezTo>
                  <a:cubicBezTo>
                    <a:pt x="103" y="58"/>
                    <a:pt x="104" y="58"/>
                    <a:pt x="105" y="58"/>
                  </a:cubicBezTo>
                  <a:cubicBezTo>
                    <a:pt x="104" y="56"/>
                    <a:pt x="105" y="56"/>
                    <a:pt x="105" y="54"/>
                  </a:cubicBezTo>
                  <a:cubicBezTo>
                    <a:pt x="105" y="54"/>
                    <a:pt x="104" y="54"/>
                    <a:pt x="103" y="54"/>
                  </a:cubicBezTo>
                  <a:moveTo>
                    <a:pt x="40" y="62"/>
                  </a:moveTo>
                  <a:cubicBezTo>
                    <a:pt x="35" y="62"/>
                    <a:pt x="31" y="67"/>
                    <a:pt x="30" y="72"/>
                  </a:cubicBezTo>
                  <a:cubicBezTo>
                    <a:pt x="29" y="77"/>
                    <a:pt x="31" y="82"/>
                    <a:pt x="37" y="82"/>
                  </a:cubicBezTo>
                  <a:cubicBezTo>
                    <a:pt x="37" y="82"/>
                    <a:pt x="38" y="82"/>
                    <a:pt x="38" y="82"/>
                  </a:cubicBezTo>
                  <a:cubicBezTo>
                    <a:pt x="39" y="74"/>
                    <a:pt x="44" y="70"/>
                    <a:pt x="40" y="62"/>
                  </a:cubicBezTo>
                  <a:cubicBezTo>
                    <a:pt x="40" y="62"/>
                    <a:pt x="40" y="62"/>
                    <a:pt x="40" y="62"/>
                  </a:cubicBezTo>
                  <a:moveTo>
                    <a:pt x="144" y="62"/>
                  </a:moveTo>
                  <a:cubicBezTo>
                    <a:pt x="144" y="62"/>
                    <a:pt x="143" y="63"/>
                    <a:pt x="143" y="63"/>
                  </a:cubicBezTo>
                  <a:cubicBezTo>
                    <a:pt x="143" y="63"/>
                    <a:pt x="143" y="63"/>
                    <a:pt x="143" y="63"/>
                  </a:cubicBezTo>
                  <a:cubicBezTo>
                    <a:pt x="143" y="64"/>
                    <a:pt x="143" y="64"/>
                    <a:pt x="143" y="64"/>
                  </a:cubicBezTo>
                  <a:cubicBezTo>
                    <a:pt x="144" y="64"/>
                    <a:pt x="144" y="64"/>
                    <a:pt x="144" y="64"/>
                  </a:cubicBezTo>
                  <a:cubicBezTo>
                    <a:pt x="145" y="63"/>
                    <a:pt x="145" y="62"/>
                    <a:pt x="144" y="62"/>
                  </a:cubicBezTo>
                  <a:moveTo>
                    <a:pt x="131" y="64"/>
                  </a:moveTo>
                  <a:cubicBezTo>
                    <a:pt x="130" y="64"/>
                    <a:pt x="130" y="64"/>
                    <a:pt x="130" y="64"/>
                  </a:cubicBezTo>
                  <a:cubicBezTo>
                    <a:pt x="130" y="65"/>
                    <a:pt x="130" y="65"/>
                    <a:pt x="131" y="65"/>
                  </a:cubicBezTo>
                  <a:cubicBezTo>
                    <a:pt x="131" y="65"/>
                    <a:pt x="131" y="64"/>
                    <a:pt x="131" y="64"/>
                  </a:cubicBezTo>
                  <a:cubicBezTo>
                    <a:pt x="131" y="64"/>
                    <a:pt x="131" y="64"/>
                    <a:pt x="131" y="64"/>
                  </a:cubicBezTo>
                  <a:moveTo>
                    <a:pt x="137" y="69"/>
                  </a:moveTo>
                  <a:cubicBezTo>
                    <a:pt x="137" y="69"/>
                    <a:pt x="137" y="69"/>
                    <a:pt x="136" y="69"/>
                  </a:cubicBezTo>
                  <a:cubicBezTo>
                    <a:pt x="137" y="70"/>
                    <a:pt x="137" y="70"/>
                    <a:pt x="137" y="70"/>
                  </a:cubicBezTo>
                  <a:cubicBezTo>
                    <a:pt x="137" y="70"/>
                    <a:pt x="137" y="70"/>
                    <a:pt x="137" y="69"/>
                  </a:cubicBezTo>
                  <a:cubicBezTo>
                    <a:pt x="137" y="69"/>
                    <a:pt x="137" y="69"/>
                    <a:pt x="137" y="69"/>
                  </a:cubicBezTo>
                  <a:moveTo>
                    <a:pt x="42" y="71"/>
                  </a:moveTo>
                  <a:cubicBezTo>
                    <a:pt x="41" y="71"/>
                    <a:pt x="41" y="72"/>
                    <a:pt x="41" y="73"/>
                  </a:cubicBezTo>
                  <a:cubicBezTo>
                    <a:pt x="41" y="73"/>
                    <a:pt x="41" y="73"/>
                    <a:pt x="41" y="73"/>
                  </a:cubicBezTo>
                  <a:cubicBezTo>
                    <a:pt x="42" y="73"/>
                    <a:pt x="43" y="7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moveTo>
                    <a:pt x="66" y="71"/>
                  </a:moveTo>
                  <a:cubicBezTo>
                    <a:pt x="66" y="72"/>
                    <a:pt x="66" y="73"/>
                    <a:pt x="66" y="74"/>
                  </a:cubicBezTo>
                  <a:cubicBezTo>
                    <a:pt x="65" y="74"/>
                    <a:pt x="64" y="74"/>
                    <a:pt x="63" y="74"/>
                  </a:cubicBezTo>
                  <a:cubicBezTo>
                    <a:pt x="63" y="77"/>
                    <a:pt x="62" y="78"/>
                    <a:pt x="62" y="81"/>
                  </a:cubicBezTo>
                  <a:cubicBezTo>
                    <a:pt x="65" y="81"/>
                    <a:pt x="65" y="78"/>
                    <a:pt x="66" y="75"/>
                  </a:cubicBezTo>
                  <a:cubicBezTo>
                    <a:pt x="67" y="76"/>
                    <a:pt x="68" y="75"/>
                    <a:pt x="68" y="76"/>
                  </a:cubicBezTo>
                  <a:cubicBezTo>
                    <a:pt x="69" y="79"/>
                    <a:pt x="69" y="82"/>
                    <a:pt x="67" y="83"/>
                  </a:cubicBezTo>
                  <a:cubicBezTo>
                    <a:pt x="67" y="83"/>
                    <a:pt x="66" y="83"/>
                    <a:pt x="66" y="83"/>
                  </a:cubicBezTo>
                  <a:cubicBezTo>
                    <a:pt x="66" y="83"/>
                    <a:pt x="66" y="83"/>
                    <a:pt x="66" y="83"/>
                  </a:cubicBezTo>
                  <a:cubicBezTo>
                    <a:pt x="65" y="83"/>
                    <a:pt x="65" y="83"/>
                    <a:pt x="65" y="83"/>
                  </a:cubicBezTo>
                  <a:cubicBezTo>
                    <a:pt x="65" y="83"/>
                    <a:pt x="64" y="83"/>
                    <a:pt x="64" y="83"/>
                  </a:cubicBezTo>
                  <a:cubicBezTo>
                    <a:pt x="65" y="87"/>
                    <a:pt x="62" y="87"/>
                    <a:pt x="59" y="87"/>
                  </a:cubicBezTo>
                  <a:cubicBezTo>
                    <a:pt x="59" y="90"/>
                    <a:pt x="63" y="92"/>
                    <a:pt x="65" y="92"/>
                  </a:cubicBezTo>
                  <a:cubicBezTo>
                    <a:pt x="67" y="92"/>
                    <a:pt x="68" y="91"/>
                    <a:pt x="69" y="90"/>
                  </a:cubicBezTo>
                  <a:cubicBezTo>
                    <a:pt x="68" y="89"/>
                    <a:pt x="65" y="89"/>
                    <a:pt x="63" y="88"/>
                  </a:cubicBezTo>
                  <a:cubicBezTo>
                    <a:pt x="70" y="88"/>
                    <a:pt x="75" y="74"/>
                    <a:pt x="66" y="71"/>
                  </a:cubicBezTo>
                  <a:moveTo>
                    <a:pt x="59" y="71"/>
                  </a:moveTo>
                  <a:cubicBezTo>
                    <a:pt x="59" y="73"/>
                    <a:pt x="58" y="74"/>
                    <a:pt x="57" y="74"/>
                  </a:cubicBezTo>
                  <a:cubicBezTo>
                    <a:pt x="56" y="74"/>
                    <a:pt x="57" y="72"/>
                    <a:pt x="55" y="72"/>
                  </a:cubicBezTo>
                  <a:cubicBezTo>
                    <a:pt x="55" y="72"/>
                    <a:pt x="55" y="72"/>
                    <a:pt x="55" y="72"/>
                  </a:cubicBezTo>
                  <a:cubicBezTo>
                    <a:pt x="55" y="75"/>
                    <a:pt x="55" y="76"/>
                    <a:pt x="56" y="78"/>
                  </a:cubicBezTo>
                  <a:cubicBezTo>
                    <a:pt x="56" y="78"/>
                    <a:pt x="57" y="78"/>
                    <a:pt x="57" y="78"/>
                  </a:cubicBezTo>
                  <a:cubicBezTo>
                    <a:pt x="58" y="78"/>
                    <a:pt x="59" y="78"/>
                    <a:pt x="59" y="79"/>
                  </a:cubicBezTo>
                  <a:cubicBezTo>
                    <a:pt x="56" y="81"/>
                    <a:pt x="57" y="86"/>
                    <a:pt x="54" y="88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9"/>
                    <a:pt x="55" y="89"/>
                    <a:pt x="56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8" y="85"/>
                    <a:pt x="65" y="75"/>
                    <a:pt x="59" y="71"/>
                  </a:cubicBezTo>
                  <a:moveTo>
                    <a:pt x="41" y="74"/>
                  </a:moveTo>
                  <a:cubicBezTo>
                    <a:pt x="41" y="75"/>
                    <a:pt x="41" y="76"/>
                    <a:pt x="41" y="78"/>
                  </a:cubicBezTo>
                  <a:cubicBezTo>
                    <a:pt x="43" y="78"/>
                    <a:pt x="45" y="79"/>
                    <a:pt x="46" y="79"/>
                  </a:cubicBezTo>
                  <a:cubicBezTo>
                    <a:pt x="47" y="79"/>
                    <a:pt x="47" y="79"/>
                    <a:pt x="48" y="79"/>
                  </a:cubicBezTo>
                  <a:cubicBezTo>
                    <a:pt x="48" y="77"/>
                    <a:pt x="46" y="77"/>
                    <a:pt x="47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4" y="75"/>
                    <a:pt x="42" y="75"/>
                    <a:pt x="41" y="74"/>
                  </a:cubicBezTo>
                  <a:moveTo>
                    <a:pt x="83" y="75"/>
                  </a:moveTo>
                  <a:cubicBezTo>
                    <a:pt x="82" y="75"/>
                    <a:pt x="81" y="75"/>
                    <a:pt x="81" y="75"/>
                  </a:cubicBezTo>
                  <a:cubicBezTo>
                    <a:pt x="81" y="78"/>
                    <a:pt x="80" y="80"/>
                    <a:pt x="79" y="80"/>
                  </a:cubicBezTo>
                  <a:cubicBezTo>
                    <a:pt x="78" y="80"/>
                    <a:pt x="78" y="80"/>
                    <a:pt x="78" y="79"/>
                  </a:cubicBezTo>
                  <a:cubicBezTo>
                    <a:pt x="78" y="82"/>
                    <a:pt x="76" y="82"/>
                    <a:pt x="76" y="84"/>
                  </a:cubicBezTo>
                  <a:cubicBezTo>
                    <a:pt x="76" y="84"/>
                    <a:pt x="78" y="84"/>
                    <a:pt x="77" y="85"/>
                  </a:cubicBezTo>
                  <a:cubicBezTo>
                    <a:pt x="77" y="85"/>
                    <a:pt x="76" y="85"/>
                    <a:pt x="76" y="85"/>
                  </a:cubicBezTo>
                  <a:cubicBezTo>
                    <a:pt x="79" y="88"/>
                    <a:pt x="75" y="91"/>
                    <a:pt x="78" y="94"/>
                  </a:cubicBezTo>
                  <a:cubicBezTo>
                    <a:pt x="78" y="94"/>
                    <a:pt x="79" y="94"/>
                    <a:pt x="79" y="94"/>
                  </a:cubicBezTo>
                  <a:cubicBezTo>
                    <a:pt x="87" y="94"/>
                    <a:pt x="87" y="87"/>
                    <a:pt x="87" y="79"/>
                  </a:cubicBezTo>
                  <a:cubicBezTo>
                    <a:pt x="86" y="78"/>
                    <a:pt x="83" y="78"/>
                    <a:pt x="83" y="75"/>
                  </a:cubicBezTo>
                  <a:moveTo>
                    <a:pt x="53" y="77"/>
                  </a:moveTo>
                  <a:cubicBezTo>
                    <a:pt x="52" y="77"/>
                    <a:pt x="51" y="78"/>
                    <a:pt x="51" y="78"/>
                  </a:cubicBezTo>
                  <a:cubicBezTo>
                    <a:pt x="52" y="79"/>
                    <a:pt x="52" y="81"/>
                    <a:pt x="54" y="81"/>
                  </a:cubicBezTo>
                  <a:cubicBezTo>
                    <a:pt x="54" y="80"/>
                    <a:pt x="55" y="80"/>
                    <a:pt x="55" y="80"/>
                  </a:cubicBezTo>
                  <a:cubicBezTo>
                    <a:pt x="55" y="80"/>
                    <a:pt x="56" y="80"/>
                    <a:pt x="56" y="80"/>
                  </a:cubicBezTo>
                  <a:cubicBezTo>
                    <a:pt x="56" y="79"/>
                    <a:pt x="54" y="77"/>
                    <a:pt x="53" y="77"/>
                  </a:cubicBezTo>
                  <a:moveTo>
                    <a:pt x="92" y="80"/>
                  </a:moveTo>
                  <a:cubicBezTo>
                    <a:pt x="92" y="80"/>
                    <a:pt x="91" y="80"/>
                    <a:pt x="91" y="81"/>
                  </a:cubicBezTo>
                  <a:cubicBezTo>
                    <a:pt x="91" y="81"/>
                    <a:pt x="91" y="82"/>
                    <a:pt x="91" y="83"/>
                  </a:cubicBezTo>
                  <a:cubicBezTo>
                    <a:pt x="92" y="83"/>
                    <a:pt x="94" y="83"/>
                    <a:pt x="94" y="84"/>
                  </a:cubicBezTo>
                  <a:cubicBezTo>
                    <a:pt x="92" y="87"/>
                    <a:pt x="90" y="93"/>
                    <a:pt x="87" y="94"/>
                  </a:cubicBezTo>
                  <a:cubicBezTo>
                    <a:pt x="88" y="94"/>
                    <a:pt x="88" y="96"/>
                    <a:pt x="88" y="97"/>
                  </a:cubicBezTo>
                  <a:cubicBezTo>
                    <a:pt x="89" y="97"/>
                    <a:pt x="90" y="97"/>
                    <a:pt x="90" y="97"/>
                  </a:cubicBezTo>
                  <a:cubicBezTo>
                    <a:pt x="91" y="95"/>
                    <a:pt x="92" y="93"/>
                    <a:pt x="91" y="90"/>
                  </a:cubicBezTo>
                  <a:cubicBezTo>
                    <a:pt x="95" y="89"/>
                    <a:pt x="97" y="86"/>
                    <a:pt x="98" y="82"/>
                  </a:cubicBezTo>
                  <a:cubicBezTo>
                    <a:pt x="96" y="82"/>
                    <a:pt x="94" y="80"/>
                    <a:pt x="92" y="80"/>
                  </a:cubicBezTo>
                  <a:moveTo>
                    <a:pt x="6" y="80"/>
                  </a:moveTo>
                  <a:cubicBezTo>
                    <a:pt x="6" y="80"/>
                    <a:pt x="6" y="80"/>
                    <a:pt x="6" y="81"/>
                  </a:cubicBezTo>
                  <a:cubicBezTo>
                    <a:pt x="6" y="81"/>
                    <a:pt x="6" y="82"/>
                    <a:pt x="6" y="83"/>
                  </a:cubicBezTo>
                  <a:cubicBezTo>
                    <a:pt x="6" y="83"/>
                    <a:pt x="6" y="83"/>
                    <a:pt x="6" y="83"/>
                  </a:cubicBezTo>
                  <a:cubicBezTo>
                    <a:pt x="6" y="83"/>
                    <a:pt x="7" y="82"/>
                    <a:pt x="7" y="82"/>
                  </a:cubicBezTo>
                  <a:cubicBezTo>
                    <a:pt x="7" y="81"/>
                    <a:pt x="7" y="80"/>
                    <a:pt x="6" y="80"/>
                  </a:cubicBezTo>
                  <a:moveTo>
                    <a:pt x="112" y="83"/>
                  </a:moveTo>
                  <a:cubicBezTo>
                    <a:pt x="111" y="85"/>
                    <a:pt x="110" y="86"/>
                    <a:pt x="108" y="86"/>
                  </a:cubicBezTo>
                  <a:cubicBezTo>
                    <a:pt x="108" y="86"/>
                    <a:pt x="108" y="86"/>
                    <a:pt x="108" y="86"/>
                  </a:cubicBezTo>
                  <a:cubicBezTo>
                    <a:pt x="108" y="88"/>
                    <a:pt x="109" y="88"/>
                    <a:pt x="110" y="89"/>
                  </a:cubicBezTo>
                  <a:cubicBezTo>
                    <a:pt x="111" y="88"/>
                    <a:pt x="111" y="86"/>
                    <a:pt x="112" y="86"/>
                  </a:cubicBezTo>
                  <a:cubicBezTo>
                    <a:pt x="114" y="87"/>
                    <a:pt x="114" y="88"/>
                    <a:pt x="114" y="90"/>
                  </a:cubicBezTo>
                  <a:cubicBezTo>
                    <a:pt x="112" y="91"/>
                    <a:pt x="111" y="93"/>
                    <a:pt x="109" y="94"/>
                  </a:cubicBezTo>
                  <a:cubicBezTo>
                    <a:pt x="110" y="94"/>
                    <a:pt x="110" y="94"/>
                    <a:pt x="110" y="94"/>
                  </a:cubicBezTo>
                  <a:cubicBezTo>
                    <a:pt x="112" y="94"/>
                    <a:pt x="113" y="96"/>
                    <a:pt x="113" y="97"/>
                  </a:cubicBezTo>
                  <a:cubicBezTo>
                    <a:pt x="112" y="99"/>
                    <a:pt x="111" y="100"/>
                    <a:pt x="109" y="100"/>
                  </a:cubicBezTo>
                  <a:cubicBezTo>
                    <a:pt x="108" y="99"/>
                    <a:pt x="110" y="98"/>
                    <a:pt x="109" y="96"/>
                  </a:cubicBezTo>
                  <a:cubicBezTo>
                    <a:pt x="109" y="96"/>
                    <a:pt x="109" y="96"/>
                    <a:pt x="109" y="96"/>
                  </a:cubicBezTo>
                  <a:cubicBezTo>
                    <a:pt x="108" y="96"/>
                    <a:pt x="108" y="96"/>
                    <a:pt x="108" y="96"/>
                  </a:cubicBezTo>
                  <a:cubicBezTo>
                    <a:pt x="108" y="96"/>
                    <a:pt x="107" y="96"/>
                    <a:pt x="107" y="96"/>
                  </a:cubicBezTo>
                  <a:cubicBezTo>
                    <a:pt x="107" y="96"/>
                    <a:pt x="107" y="96"/>
                    <a:pt x="107" y="96"/>
                  </a:cubicBezTo>
                  <a:cubicBezTo>
                    <a:pt x="105" y="99"/>
                    <a:pt x="108" y="102"/>
                    <a:pt x="111" y="102"/>
                  </a:cubicBezTo>
                  <a:cubicBezTo>
                    <a:pt x="112" y="102"/>
                    <a:pt x="113" y="101"/>
                    <a:pt x="114" y="101"/>
                  </a:cubicBezTo>
                  <a:cubicBezTo>
                    <a:pt x="114" y="94"/>
                    <a:pt x="121" y="85"/>
                    <a:pt x="112" y="83"/>
                  </a:cubicBezTo>
                  <a:moveTo>
                    <a:pt x="73" y="84"/>
                  </a:moveTo>
                  <a:cubicBezTo>
                    <a:pt x="72" y="84"/>
                    <a:pt x="71" y="84"/>
                    <a:pt x="71" y="85"/>
                  </a:cubicBezTo>
                  <a:cubicBezTo>
                    <a:pt x="71" y="85"/>
                    <a:pt x="72" y="85"/>
                    <a:pt x="73" y="85"/>
                  </a:cubicBezTo>
                  <a:cubicBezTo>
                    <a:pt x="74" y="85"/>
                    <a:pt x="75" y="85"/>
                    <a:pt x="75" y="84"/>
                  </a:cubicBezTo>
                  <a:cubicBezTo>
                    <a:pt x="74" y="84"/>
                    <a:pt x="73" y="84"/>
                    <a:pt x="73" y="84"/>
                  </a:cubicBezTo>
                  <a:moveTo>
                    <a:pt x="137" y="85"/>
                  </a:moveTo>
                  <a:cubicBezTo>
                    <a:pt x="137" y="85"/>
                    <a:pt x="137" y="85"/>
                    <a:pt x="136" y="86"/>
                  </a:cubicBezTo>
                  <a:cubicBezTo>
                    <a:pt x="137" y="86"/>
                    <a:pt x="137" y="86"/>
                    <a:pt x="137" y="86"/>
                  </a:cubicBezTo>
                  <a:cubicBezTo>
                    <a:pt x="137" y="86"/>
                    <a:pt x="137" y="86"/>
                    <a:pt x="137" y="86"/>
                  </a:cubicBezTo>
                  <a:cubicBezTo>
                    <a:pt x="137" y="85"/>
                    <a:pt x="137" y="85"/>
                    <a:pt x="137" y="85"/>
                  </a:cubicBezTo>
                  <a:moveTo>
                    <a:pt x="104" y="87"/>
                  </a:moveTo>
                  <a:cubicBezTo>
                    <a:pt x="104" y="87"/>
                    <a:pt x="104" y="87"/>
                    <a:pt x="104" y="87"/>
                  </a:cubicBezTo>
                  <a:cubicBezTo>
                    <a:pt x="104" y="88"/>
                    <a:pt x="103" y="88"/>
                    <a:pt x="103" y="88"/>
                  </a:cubicBezTo>
                  <a:cubicBezTo>
                    <a:pt x="103" y="88"/>
                    <a:pt x="102" y="88"/>
                    <a:pt x="102" y="88"/>
                  </a:cubicBezTo>
                  <a:cubicBezTo>
                    <a:pt x="101" y="87"/>
                    <a:pt x="101" y="87"/>
                    <a:pt x="101" y="87"/>
                  </a:cubicBezTo>
                  <a:cubicBezTo>
                    <a:pt x="100" y="87"/>
                    <a:pt x="100" y="87"/>
                    <a:pt x="100" y="88"/>
                  </a:cubicBezTo>
                  <a:cubicBezTo>
                    <a:pt x="100" y="90"/>
                    <a:pt x="104" y="89"/>
                    <a:pt x="106" y="90"/>
                  </a:cubicBezTo>
                  <a:cubicBezTo>
                    <a:pt x="105" y="89"/>
                    <a:pt x="106" y="87"/>
                    <a:pt x="104" y="87"/>
                  </a:cubicBezTo>
                  <a:moveTo>
                    <a:pt x="123" y="88"/>
                  </a:moveTo>
                  <a:cubicBezTo>
                    <a:pt x="123" y="88"/>
                    <a:pt x="123" y="88"/>
                    <a:pt x="123" y="88"/>
                  </a:cubicBezTo>
                  <a:cubicBezTo>
                    <a:pt x="122" y="89"/>
                    <a:pt x="120" y="90"/>
                    <a:pt x="121" y="93"/>
                  </a:cubicBezTo>
                  <a:cubicBezTo>
                    <a:pt x="121" y="94"/>
                    <a:pt x="121" y="94"/>
                    <a:pt x="121" y="94"/>
                  </a:cubicBezTo>
                  <a:cubicBezTo>
                    <a:pt x="121" y="94"/>
                    <a:pt x="122" y="94"/>
                    <a:pt x="122" y="93"/>
                  </a:cubicBezTo>
                  <a:cubicBezTo>
                    <a:pt x="122" y="93"/>
                    <a:pt x="122" y="93"/>
                    <a:pt x="122" y="93"/>
                  </a:cubicBezTo>
                  <a:cubicBezTo>
                    <a:pt x="122" y="93"/>
                    <a:pt x="123" y="93"/>
                    <a:pt x="123" y="93"/>
                  </a:cubicBezTo>
                  <a:cubicBezTo>
                    <a:pt x="123" y="94"/>
                    <a:pt x="123" y="96"/>
                    <a:pt x="123" y="97"/>
                  </a:cubicBezTo>
                  <a:cubicBezTo>
                    <a:pt x="123" y="97"/>
                    <a:pt x="122" y="97"/>
                    <a:pt x="122" y="97"/>
                  </a:cubicBezTo>
                  <a:cubicBezTo>
                    <a:pt x="122" y="97"/>
                    <a:pt x="122" y="97"/>
                    <a:pt x="122" y="97"/>
                  </a:cubicBezTo>
                  <a:cubicBezTo>
                    <a:pt x="121" y="97"/>
                    <a:pt x="121" y="96"/>
                    <a:pt x="121" y="96"/>
                  </a:cubicBezTo>
                  <a:cubicBezTo>
                    <a:pt x="121" y="96"/>
                    <a:pt x="121" y="97"/>
                    <a:pt x="121" y="97"/>
                  </a:cubicBezTo>
                  <a:cubicBezTo>
                    <a:pt x="122" y="99"/>
                    <a:pt x="123" y="100"/>
                    <a:pt x="123" y="101"/>
                  </a:cubicBezTo>
                  <a:cubicBezTo>
                    <a:pt x="127" y="99"/>
                    <a:pt x="125" y="92"/>
                    <a:pt x="126" y="89"/>
                  </a:cubicBezTo>
                  <a:cubicBezTo>
                    <a:pt x="125" y="89"/>
                    <a:pt x="125" y="88"/>
                    <a:pt x="123" y="88"/>
                  </a:cubicBezTo>
                  <a:moveTo>
                    <a:pt x="134" y="90"/>
                  </a:moveTo>
                  <a:cubicBezTo>
                    <a:pt x="134" y="92"/>
                    <a:pt x="134" y="95"/>
                    <a:pt x="132" y="95"/>
                  </a:cubicBezTo>
                  <a:cubicBezTo>
                    <a:pt x="134" y="100"/>
                    <a:pt x="129" y="103"/>
                    <a:pt x="130" y="109"/>
                  </a:cubicBezTo>
                  <a:cubicBezTo>
                    <a:pt x="130" y="109"/>
                    <a:pt x="130" y="109"/>
                    <a:pt x="131" y="109"/>
                  </a:cubicBezTo>
                  <a:cubicBezTo>
                    <a:pt x="131" y="109"/>
                    <a:pt x="132" y="109"/>
                    <a:pt x="133" y="109"/>
                  </a:cubicBezTo>
                  <a:cubicBezTo>
                    <a:pt x="134" y="109"/>
                    <a:pt x="135" y="110"/>
                    <a:pt x="136" y="110"/>
                  </a:cubicBezTo>
                  <a:cubicBezTo>
                    <a:pt x="136" y="110"/>
                    <a:pt x="137" y="109"/>
                    <a:pt x="137" y="109"/>
                  </a:cubicBezTo>
                  <a:cubicBezTo>
                    <a:pt x="136" y="108"/>
                    <a:pt x="134" y="108"/>
                    <a:pt x="133" y="106"/>
                  </a:cubicBezTo>
                  <a:cubicBezTo>
                    <a:pt x="134" y="104"/>
                    <a:pt x="133" y="101"/>
                    <a:pt x="135" y="100"/>
                  </a:cubicBezTo>
                  <a:cubicBezTo>
                    <a:pt x="136" y="101"/>
                    <a:pt x="136" y="102"/>
                    <a:pt x="138" y="102"/>
                  </a:cubicBezTo>
                  <a:cubicBezTo>
                    <a:pt x="138" y="102"/>
                    <a:pt x="138" y="102"/>
                    <a:pt x="138" y="102"/>
                  </a:cubicBezTo>
                  <a:cubicBezTo>
                    <a:pt x="139" y="100"/>
                    <a:pt x="138" y="99"/>
                    <a:pt x="136" y="98"/>
                  </a:cubicBezTo>
                  <a:cubicBezTo>
                    <a:pt x="136" y="98"/>
                    <a:pt x="136" y="99"/>
                    <a:pt x="136" y="99"/>
                  </a:cubicBezTo>
                  <a:cubicBezTo>
                    <a:pt x="135" y="99"/>
                    <a:pt x="135" y="99"/>
                    <a:pt x="135" y="99"/>
                  </a:cubicBezTo>
                  <a:cubicBezTo>
                    <a:pt x="136" y="97"/>
                    <a:pt x="135" y="94"/>
                    <a:pt x="137" y="93"/>
                  </a:cubicBezTo>
                  <a:cubicBezTo>
                    <a:pt x="137" y="93"/>
                    <a:pt x="137" y="93"/>
                    <a:pt x="137" y="93"/>
                  </a:cubicBezTo>
                  <a:cubicBezTo>
                    <a:pt x="138" y="93"/>
                    <a:pt x="138" y="94"/>
                    <a:pt x="138" y="94"/>
                  </a:cubicBezTo>
                  <a:cubicBezTo>
                    <a:pt x="139" y="94"/>
                    <a:pt x="139" y="94"/>
                    <a:pt x="140" y="94"/>
                  </a:cubicBezTo>
                  <a:cubicBezTo>
                    <a:pt x="140" y="94"/>
                    <a:pt x="140" y="94"/>
                    <a:pt x="140" y="94"/>
                  </a:cubicBezTo>
                  <a:cubicBezTo>
                    <a:pt x="141" y="93"/>
                    <a:pt x="142" y="93"/>
                    <a:pt x="142" y="92"/>
                  </a:cubicBezTo>
                  <a:cubicBezTo>
                    <a:pt x="139" y="90"/>
                    <a:pt x="137" y="91"/>
                    <a:pt x="134" y="90"/>
                  </a:cubicBezTo>
                  <a:moveTo>
                    <a:pt x="99" y="91"/>
                  </a:moveTo>
                  <a:cubicBezTo>
                    <a:pt x="99" y="91"/>
                    <a:pt x="99" y="91"/>
                    <a:pt x="99" y="91"/>
                  </a:cubicBezTo>
                  <a:cubicBezTo>
                    <a:pt x="98" y="91"/>
                    <a:pt x="98" y="92"/>
                    <a:pt x="98" y="93"/>
                  </a:cubicBezTo>
                  <a:cubicBezTo>
                    <a:pt x="99" y="93"/>
                    <a:pt x="100" y="93"/>
                    <a:pt x="101" y="93"/>
                  </a:cubicBezTo>
                  <a:cubicBezTo>
                    <a:pt x="101" y="92"/>
                    <a:pt x="101" y="91"/>
                    <a:pt x="99" y="91"/>
                  </a:cubicBezTo>
                  <a:moveTo>
                    <a:pt x="102" y="92"/>
                  </a:moveTo>
                  <a:cubicBezTo>
                    <a:pt x="102" y="92"/>
                    <a:pt x="102" y="92"/>
                    <a:pt x="101" y="92"/>
                  </a:cubicBezTo>
                  <a:cubicBezTo>
                    <a:pt x="101" y="94"/>
                    <a:pt x="102" y="94"/>
                    <a:pt x="103" y="94"/>
                  </a:cubicBezTo>
                  <a:cubicBezTo>
                    <a:pt x="104" y="94"/>
                    <a:pt x="104" y="94"/>
                    <a:pt x="105" y="94"/>
                  </a:cubicBezTo>
                  <a:cubicBezTo>
                    <a:pt x="105" y="93"/>
                    <a:pt x="104" y="92"/>
                    <a:pt x="102" y="92"/>
                  </a:cubicBezTo>
                  <a:moveTo>
                    <a:pt x="146" y="93"/>
                  </a:moveTo>
                  <a:cubicBezTo>
                    <a:pt x="142" y="93"/>
                    <a:pt x="145" y="100"/>
                    <a:pt x="146" y="101"/>
                  </a:cubicBezTo>
                  <a:cubicBezTo>
                    <a:pt x="144" y="104"/>
                    <a:pt x="138" y="109"/>
                    <a:pt x="142" y="112"/>
                  </a:cubicBezTo>
                  <a:cubicBezTo>
                    <a:pt x="143" y="110"/>
                    <a:pt x="143" y="106"/>
                    <a:pt x="146" y="106"/>
                  </a:cubicBezTo>
                  <a:cubicBezTo>
                    <a:pt x="146" y="108"/>
                    <a:pt x="145" y="110"/>
                    <a:pt x="146" y="113"/>
                  </a:cubicBezTo>
                  <a:cubicBezTo>
                    <a:pt x="146" y="113"/>
                    <a:pt x="147" y="113"/>
                    <a:pt x="148" y="113"/>
                  </a:cubicBezTo>
                  <a:cubicBezTo>
                    <a:pt x="148" y="107"/>
                    <a:pt x="148" y="104"/>
                    <a:pt x="148" y="99"/>
                  </a:cubicBezTo>
                  <a:cubicBezTo>
                    <a:pt x="148" y="99"/>
                    <a:pt x="148" y="99"/>
                    <a:pt x="149" y="99"/>
                  </a:cubicBezTo>
                  <a:cubicBezTo>
                    <a:pt x="151" y="99"/>
                    <a:pt x="150" y="96"/>
                    <a:pt x="152" y="95"/>
                  </a:cubicBezTo>
                  <a:cubicBezTo>
                    <a:pt x="152" y="95"/>
                    <a:pt x="152" y="95"/>
                    <a:pt x="151" y="95"/>
                  </a:cubicBezTo>
                  <a:cubicBezTo>
                    <a:pt x="151" y="95"/>
                    <a:pt x="150" y="96"/>
                    <a:pt x="149" y="96"/>
                  </a:cubicBezTo>
                  <a:cubicBezTo>
                    <a:pt x="149" y="97"/>
                    <a:pt x="148" y="98"/>
                    <a:pt x="148" y="98"/>
                  </a:cubicBezTo>
                  <a:cubicBezTo>
                    <a:pt x="148" y="98"/>
                    <a:pt x="148" y="97"/>
                    <a:pt x="148" y="97"/>
                  </a:cubicBezTo>
                  <a:cubicBezTo>
                    <a:pt x="148" y="95"/>
                    <a:pt x="147" y="94"/>
                    <a:pt x="146" y="93"/>
                  </a:cubicBezTo>
                  <a:moveTo>
                    <a:pt x="120" y="96"/>
                  </a:moveTo>
                  <a:cubicBezTo>
                    <a:pt x="119" y="96"/>
                    <a:pt x="118" y="96"/>
                    <a:pt x="118" y="96"/>
                  </a:cubicBezTo>
                  <a:cubicBezTo>
                    <a:pt x="117" y="98"/>
                    <a:pt x="118" y="98"/>
                    <a:pt x="119" y="98"/>
                  </a:cubicBezTo>
                  <a:cubicBezTo>
                    <a:pt x="119" y="98"/>
                    <a:pt x="120" y="98"/>
                    <a:pt x="120" y="98"/>
                  </a:cubicBezTo>
                  <a:cubicBezTo>
                    <a:pt x="120" y="98"/>
                    <a:pt x="120" y="97"/>
                    <a:pt x="120" y="96"/>
                  </a:cubicBezTo>
                  <a:moveTo>
                    <a:pt x="157" y="96"/>
                  </a:moveTo>
                  <a:cubicBezTo>
                    <a:pt x="151" y="96"/>
                    <a:pt x="151" y="109"/>
                    <a:pt x="150" y="114"/>
                  </a:cubicBezTo>
                  <a:cubicBezTo>
                    <a:pt x="150" y="114"/>
                    <a:pt x="151" y="114"/>
                    <a:pt x="151" y="114"/>
                  </a:cubicBezTo>
                  <a:cubicBezTo>
                    <a:pt x="151" y="114"/>
                    <a:pt x="151" y="114"/>
                    <a:pt x="152" y="114"/>
                  </a:cubicBezTo>
                  <a:cubicBezTo>
                    <a:pt x="152" y="114"/>
                    <a:pt x="152" y="114"/>
                    <a:pt x="152" y="114"/>
                  </a:cubicBezTo>
                  <a:cubicBezTo>
                    <a:pt x="153" y="114"/>
                    <a:pt x="153" y="114"/>
                    <a:pt x="153" y="114"/>
                  </a:cubicBezTo>
                  <a:cubicBezTo>
                    <a:pt x="152" y="110"/>
                    <a:pt x="154" y="107"/>
                    <a:pt x="156" y="106"/>
                  </a:cubicBezTo>
                  <a:cubicBezTo>
                    <a:pt x="153" y="105"/>
                    <a:pt x="154" y="98"/>
                    <a:pt x="157" y="98"/>
                  </a:cubicBezTo>
                  <a:cubicBezTo>
                    <a:pt x="157" y="98"/>
                    <a:pt x="157" y="98"/>
                    <a:pt x="157" y="98"/>
                  </a:cubicBezTo>
                  <a:cubicBezTo>
                    <a:pt x="159" y="101"/>
                    <a:pt x="154" y="105"/>
                    <a:pt x="158" y="107"/>
                  </a:cubicBezTo>
                  <a:cubicBezTo>
                    <a:pt x="161" y="105"/>
                    <a:pt x="161" y="101"/>
                    <a:pt x="161" y="97"/>
                  </a:cubicBezTo>
                  <a:cubicBezTo>
                    <a:pt x="160" y="97"/>
                    <a:pt x="158" y="96"/>
                    <a:pt x="157" y="96"/>
                  </a:cubicBezTo>
                  <a:moveTo>
                    <a:pt x="118" y="102"/>
                  </a:moveTo>
                  <a:cubicBezTo>
                    <a:pt x="117" y="102"/>
                    <a:pt x="116" y="103"/>
                    <a:pt x="115" y="103"/>
                  </a:cubicBezTo>
                  <a:cubicBezTo>
                    <a:pt x="117" y="103"/>
                    <a:pt x="120" y="106"/>
                    <a:pt x="122" y="106"/>
                  </a:cubicBezTo>
                  <a:cubicBezTo>
                    <a:pt x="123" y="106"/>
                    <a:pt x="124" y="106"/>
                    <a:pt x="124" y="105"/>
                  </a:cubicBezTo>
                  <a:cubicBezTo>
                    <a:pt x="123" y="103"/>
                    <a:pt x="120" y="102"/>
                    <a:pt x="118" y="102"/>
                  </a:cubicBezTo>
                  <a:moveTo>
                    <a:pt x="41" y="109"/>
                  </a:moveTo>
                  <a:cubicBezTo>
                    <a:pt x="40" y="110"/>
                    <a:pt x="42" y="110"/>
                    <a:pt x="41" y="111"/>
                  </a:cubicBezTo>
                  <a:cubicBezTo>
                    <a:pt x="41" y="111"/>
                    <a:pt x="41" y="111"/>
                    <a:pt x="40" y="111"/>
                  </a:cubicBezTo>
                  <a:cubicBezTo>
                    <a:pt x="39" y="111"/>
                    <a:pt x="38" y="112"/>
                    <a:pt x="36" y="112"/>
                  </a:cubicBezTo>
                  <a:cubicBezTo>
                    <a:pt x="36" y="114"/>
                    <a:pt x="37" y="114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40" y="115"/>
                    <a:pt x="40" y="114"/>
                    <a:pt x="41" y="114"/>
                  </a:cubicBezTo>
                  <a:cubicBezTo>
                    <a:pt x="42" y="114"/>
                    <a:pt x="43" y="114"/>
                    <a:pt x="43" y="116"/>
                  </a:cubicBezTo>
                  <a:cubicBezTo>
                    <a:pt x="43" y="117"/>
                    <a:pt x="41" y="117"/>
                    <a:pt x="40" y="118"/>
                  </a:cubicBezTo>
                  <a:cubicBezTo>
                    <a:pt x="37" y="118"/>
                    <a:pt x="37" y="114"/>
                    <a:pt x="34" y="113"/>
                  </a:cubicBezTo>
                  <a:cubicBezTo>
                    <a:pt x="33" y="114"/>
                    <a:pt x="35" y="115"/>
                    <a:pt x="34" y="116"/>
                  </a:cubicBezTo>
                  <a:cubicBezTo>
                    <a:pt x="34" y="116"/>
                    <a:pt x="34" y="116"/>
                    <a:pt x="34" y="116"/>
                  </a:cubicBezTo>
                  <a:cubicBezTo>
                    <a:pt x="33" y="116"/>
                    <a:pt x="33" y="116"/>
                    <a:pt x="33" y="116"/>
                  </a:cubicBezTo>
                  <a:cubicBezTo>
                    <a:pt x="32" y="116"/>
                    <a:pt x="32" y="115"/>
                    <a:pt x="31" y="115"/>
                  </a:cubicBezTo>
                  <a:cubicBezTo>
                    <a:pt x="29" y="115"/>
                    <a:pt x="28" y="116"/>
                    <a:pt x="27" y="117"/>
                  </a:cubicBezTo>
                  <a:cubicBezTo>
                    <a:pt x="28" y="120"/>
                    <a:pt x="30" y="127"/>
                    <a:pt x="33" y="127"/>
                  </a:cubicBezTo>
                  <a:cubicBezTo>
                    <a:pt x="33" y="127"/>
                    <a:pt x="33" y="127"/>
                    <a:pt x="34" y="126"/>
                  </a:cubicBezTo>
                  <a:cubicBezTo>
                    <a:pt x="35" y="133"/>
                    <a:pt x="38" y="138"/>
                    <a:pt x="43" y="141"/>
                  </a:cubicBezTo>
                  <a:cubicBezTo>
                    <a:pt x="45" y="136"/>
                    <a:pt x="39" y="132"/>
                    <a:pt x="36" y="129"/>
                  </a:cubicBezTo>
                  <a:cubicBezTo>
                    <a:pt x="38" y="128"/>
                    <a:pt x="37" y="126"/>
                    <a:pt x="37" y="12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6" y="124"/>
                    <a:pt x="36" y="125"/>
                    <a:pt x="36" y="125"/>
                  </a:cubicBezTo>
                  <a:cubicBezTo>
                    <a:pt x="36" y="126"/>
                    <a:pt x="36" y="126"/>
                    <a:pt x="35" y="126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3" y="124"/>
                    <a:pt x="32" y="122"/>
                    <a:pt x="32" y="119"/>
                  </a:cubicBezTo>
                  <a:cubicBezTo>
                    <a:pt x="33" y="120"/>
                    <a:pt x="36" y="119"/>
                    <a:pt x="36" y="121"/>
                  </a:cubicBezTo>
                  <a:cubicBezTo>
                    <a:pt x="37" y="121"/>
                    <a:pt x="37" y="121"/>
                    <a:pt x="38" y="121"/>
                  </a:cubicBezTo>
                  <a:cubicBezTo>
                    <a:pt x="39" y="121"/>
                    <a:pt x="39" y="121"/>
                    <a:pt x="40" y="122"/>
                  </a:cubicBezTo>
                  <a:cubicBezTo>
                    <a:pt x="43" y="120"/>
                    <a:pt x="46" y="119"/>
                    <a:pt x="47" y="116"/>
                  </a:cubicBezTo>
                  <a:cubicBezTo>
                    <a:pt x="45" y="113"/>
                    <a:pt x="44" y="110"/>
                    <a:pt x="41" y="109"/>
                  </a:cubicBezTo>
                  <a:moveTo>
                    <a:pt x="156" y="114"/>
                  </a:moveTo>
                  <a:cubicBezTo>
                    <a:pt x="155" y="114"/>
                    <a:pt x="155" y="114"/>
                    <a:pt x="154" y="114"/>
                  </a:cubicBezTo>
                  <a:cubicBezTo>
                    <a:pt x="154" y="115"/>
                    <a:pt x="154" y="115"/>
                    <a:pt x="154" y="116"/>
                  </a:cubicBezTo>
                  <a:cubicBezTo>
                    <a:pt x="155" y="116"/>
                    <a:pt x="155" y="116"/>
                    <a:pt x="156" y="116"/>
                  </a:cubicBezTo>
                  <a:cubicBezTo>
                    <a:pt x="156" y="115"/>
                    <a:pt x="156" y="115"/>
                    <a:pt x="156" y="114"/>
                  </a:cubicBezTo>
                  <a:moveTo>
                    <a:pt x="94" y="115"/>
                  </a:moveTo>
                  <a:cubicBezTo>
                    <a:pt x="94" y="115"/>
                    <a:pt x="94" y="115"/>
                    <a:pt x="94" y="115"/>
                  </a:cubicBezTo>
                  <a:cubicBezTo>
                    <a:pt x="93" y="116"/>
                    <a:pt x="94" y="116"/>
                    <a:pt x="94" y="116"/>
                  </a:cubicBezTo>
                  <a:cubicBezTo>
                    <a:pt x="95" y="116"/>
                    <a:pt x="96" y="116"/>
                    <a:pt x="96" y="116"/>
                  </a:cubicBezTo>
                  <a:cubicBezTo>
                    <a:pt x="95" y="116"/>
                    <a:pt x="95" y="115"/>
                    <a:pt x="94" y="115"/>
                  </a:cubicBezTo>
                  <a:moveTo>
                    <a:pt x="93" y="118"/>
                  </a:moveTo>
                  <a:cubicBezTo>
                    <a:pt x="90" y="118"/>
                    <a:pt x="87" y="121"/>
                    <a:pt x="88" y="126"/>
                  </a:cubicBezTo>
                  <a:cubicBezTo>
                    <a:pt x="90" y="128"/>
                    <a:pt x="92" y="129"/>
                    <a:pt x="94" y="129"/>
                  </a:cubicBezTo>
                  <a:cubicBezTo>
                    <a:pt x="96" y="129"/>
                    <a:pt x="99" y="128"/>
                    <a:pt x="101" y="127"/>
                  </a:cubicBezTo>
                  <a:cubicBezTo>
                    <a:pt x="103" y="126"/>
                    <a:pt x="106" y="125"/>
                    <a:pt x="108" y="125"/>
                  </a:cubicBezTo>
                  <a:cubicBezTo>
                    <a:pt x="108" y="125"/>
                    <a:pt x="109" y="125"/>
                    <a:pt x="109" y="125"/>
                  </a:cubicBezTo>
                  <a:cubicBezTo>
                    <a:pt x="109" y="125"/>
                    <a:pt x="109" y="125"/>
                    <a:pt x="109" y="125"/>
                  </a:cubicBezTo>
                  <a:cubicBezTo>
                    <a:pt x="107" y="125"/>
                    <a:pt x="106" y="126"/>
                    <a:pt x="106" y="128"/>
                  </a:cubicBezTo>
                  <a:cubicBezTo>
                    <a:pt x="107" y="129"/>
                    <a:pt x="108" y="129"/>
                    <a:pt x="108" y="131"/>
                  </a:cubicBezTo>
                  <a:cubicBezTo>
                    <a:pt x="108" y="131"/>
                    <a:pt x="108" y="131"/>
                    <a:pt x="109" y="131"/>
                  </a:cubicBezTo>
                  <a:cubicBezTo>
                    <a:pt x="110" y="131"/>
                    <a:pt x="111" y="130"/>
                    <a:pt x="112" y="130"/>
                  </a:cubicBezTo>
                  <a:cubicBezTo>
                    <a:pt x="112" y="128"/>
                    <a:pt x="112" y="126"/>
                    <a:pt x="112" y="124"/>
                  </a:cubicBezTo>
                  <a:cubicBezTo>
                    <a:pt x="110" y="124"/>
                    <a:pt x="109" y="122"/>
                    <a:pt x="107" y="121"/>
                  </a:cubicBezTo>
                  <a:cubicBezTo>
                    <a:pt x="103" y="124"/>
                    <a:pt x="96" y="126"/>
                    <a:pt x="92" y="126"/>
                  </a:cubicBezTo>
                  <a:cubicBezTo>
                    <a:pt x="91" y="126"/>
                    <a:pt x="89" y="121"/>
                    <a:pt x="92" y="120"/>
                  </a:cubicBezTo>
                  <a:cubicBezTo>
                    <a:pt x="92" y="121"/>
                    <a:pt x="92" y="123"/>
                    <a:pt x="92" y="124"/>
                  </a:cubicBezTo>
                  <a:cubicBezTo>
                    <a:pt x="93" y="124"/>
                    <a:pt x="94" y="124"/>
                    <a:pt x="95" y="124"/>
                  </a:cubicBezTo>
                  <a:cubicBezTo>
                    <a:pt x="95" y="124"/>
                    <a:pt x="96" y="124"/>
                    <a:pt x="97" y="124"/>
                  </a:cubicBezTo>
                  <a:cubicBezTo>
                    <a:pt x="97" y="121"/>
                    <a:pt x="97" y="121"/>
                    <a:pt x="97" y="119"/>
                  </a:cubicBezTo>
                  <a:cubicBezTo>
                    <a:pt x="95" y="118"/>
                    <a:pt x="94" y="118"/>
                    <a:pt x="93" y="118"/>
                  </a:cubicBezTo>
                  <a:moveTo>
                    <a:pt x="85" y="118"/>
                  </a:moveTo>
                  <a:cubicBezTo>
                    <a:pt x="83" y="118"/>
                    <a:pt x="82" y="123"/>
                    <a:pt x="85" y="124"/>
                  </a:cubicBezTo>
                  <a:cubicBezTo>
                    <a:pt x="86" y="123"/>
                    <a:pt x="87" y="121"/>
                    <a:pt x="87" y="120"/>
                  </a:cubicBezTo>
                  <a:cubicBezTo>
                    <a:pt x="87" y="119"/>
                    <a:pt x="86" y="118"/>
                    <a:pt x="85" y="118"/>
                  </a:cubicBezTo>
                  <a:moveTo>
                    <a:pt x="49" y="122"/>
                  </a:moveTo>
                  <a:cubicBezTo>
                    <a:pt x="49" y="122"/>
                    <a:pt x="49" y="122"/>
                    <a:pt x="49" y="122"/>
                  </a:cubicBezTo>
                  <a:cubicBezTo>
                    <a:pt x="49" y="123"/>
                    <a:pt x="49" y="123"/>
                    <a:pt x="48" y="123"/>
                  </a:cubicBezTo>
                  <a:cubicBezTo>
                    <a:pt x="48" y="123"/>
                    <a:pt x="48" y="123"/>
                    <a:pt x="48" y="123"/>
                  </a:cubicBezTo>
                  <a:cubicBezTo>
                    <a:pt x="47" y="123"/>
                    <a:pt x="47" y="123"/>
                    <a:pt x="47" y="123"/>
                  </a:cubicBezTo>
                  <a:cubicBezTo>
                    <a:pt x="47" y="123"/>
                    <a:pt x="47" y="123"/>
                    <a:pt x="47" y="123"/>
                  </a:cubicBezTo>
                  <a:cubicBezTo>
                    <a:pt x="46" y="124"/>
                    <a:pt x="46" y="125"/>
                    <a:pt x="46" y="125"/>
                  </a:cubicBezTo>
                  <a:cubicBezTo>
                    <a:pt x="45" y="125"/>
                    <a:pt x="45" y="125"/>
                    <a:pt x="44" y="125"/>
                  </a:cubicBezTo>
                  <a:cubicBezTo>
                    <a:pt x="42" y="125"/>
                    <a:pt x="40" y="128"/>
                    <a:pt x="38" y="129"/>
                  </a:cubicBezTo>
                  <a:cubicBezTo>
                    <a:pt x="39" y="129"/>
                    <a:pt x="39" y="130"/>
                    <a:pt x="39" y="131"/>
                  </a:cubicBezTo>
                  <a:cubicBezTo>
                    <a:pt x="41" y="131"/>
                    <a:pt x="42" y="130"/>
                    <a:pt x="43" y="130"/>
                  </a:cubicBezTo>
                  <a:cubicBezTo>
                    <a:pt x="45" y="132"/>
                    <a:pt x="43" y="133"/>
                    <a:pt x="44" y="136"/>
                  </a:cubicBezTo>
                  <a:cubicBezTo>
                    <a:pt x="50" y="135"/>
                    <a:pt x="50" y="129"/>
                    <a:pt x="54" y="126"/>
                  </a:cubicBezTo>
                  <a:cubicBezTo>
                    <a:pt x="53" y="124"/>
                    <a:pt x="52" y="122"/>
                    <a:pt x="49" y="122"/>
                  </a:cubicBezTo>
                  <a:moveTo>
                    <a:pt x="135" y="125"/>
                  </a:moveTo>
                  <a:cubicBezTo>
                    <a:pt x="134" y="125"/>
                    <a:pt x="134" y="125"/>
                    <a:pt x="134" y="125"/>
                  </a:cubicBezTo>
                  <a:cubicBezTo>
                    <a:pt x="134" y="126"/>
                    <a:pt x="134" y="126"/>
                    <a:pt x="134" y="126"/>
                  </a:cubicBezTo>
                  <a:cubicBezTo>
                    <a:pt x="135" y="126"/>
                    <a:pt x="135" y="126"/>
                    <a:pt x="135" y="126"/>
                  </a:cubicBezTo>
                  <a:cubicBezTo>
                    <a:pt x="135" y="125"/>
                    <a:pt x="135" y="125"/>
                    <a:pt x="135" y="125"/>
                  </a:cubicBezTo>
                  <a:moveTo>
                    <a:pt x="33" y="128"/>
                  </a:moveTo>
                  <a:cubicBezTo>
                    <a:pt x="33" y="128"/>
                    <a:pt x="32" y="129"/>
                    <a:pt x="33" y="129"/>
                  </a:cubicBezTo>
                  <a:cubicBezTo>
                    <a:pt x="33" y="129"/>
                    <a:pt x="33" y="129"/>
                    <a:pt x="33" y="129"/>
                  </a:cubicBezTo>
                  <a:cubicBezTo>
                    <a:pt x="33" y="129"/>
                    <a:pt x="34" y="129"/>
                    <a:pt x="34" y="129"/>
                  </a:cubicBezTo>
                  <a:cubicBezTo>
                    <a:pt x="33" y="129"/>
                    <a:pt x="33" y="128"/>
                    <a:pt x="33" y="128"/>
                  </a:cubicBezTo>
                  <a:moveTo>
                    <a:pt x="101" y="132"/>
                  </a:moveTo>
                  <a:cubicBezTo>
                    <a:pt x="100" y="133"/>
                    <a:pt x="100" y="133"/>
                    <a:pt x="101" y="133"/>
                  </a:cubicBezTo>
                  <a:cubicBezTo>
                    <a:pt x="101" y="133"/>
                    <a:pt x="102" y="133"/>
                    <a:pt x="101" y="132"/>
                  </a:cubicBezTo>
                  <a:moveTo>
                    <a:pt x="126" y="134"/>
                  </a:moveTo>
                  <a:cubicBezTo>
                    <a:pt x="126" y="134"/>
                    <a:pt x="125" y="134"/>
                    <a:pt x="125" y="134"/>
                  </a:cubicBezTo>
                  <a:cubicBezTo>
                    <a:pt x="125" y="135"/>
                    <a:pt x="126" y="136"/>
                    <a:pt x="125" y="136"/>
                  </a:cubicBezTo>
                  <a:cubicBezTo>
                    <a:pt x="124" y="136"/>
                    <a:pt x="124" y="136"/>
                    <a:pt x="124" y="136"/>
                  </a:cubicBezTo>
                  <a:cubicBezTo>
                    <a:pt x="124" y="142"/>
                    <a:pt x="128" y="149"/>
                    <a:pt x="133" y="151"/>
                  </a:cubicBezTo>
                  <a:cubicBezTo>
                    <a:pt x="135" y="151"/>
                    <a:pt x="137" y="150"/>
                    <a:pt x="138" y="148"/>
                  </a:cubicBezTo>
                  <a:cubicBezTo>
                    <a:pt x="137" y="142"/>
                    <a:pt x="135" y="134"/>
                    <a:pt x="126" y="134"/>
                  </a:cubicBezTo>
                  <a:moveTo>
                    <a:pt x="56" y="134"/>
                  </a:moveTo>
                  <a:cubicBezTo>
                    <a:pt x="56" y="134"/>
                    <a:pt x="56" y="134"/>
                    <a:pt x="56" y="134"/>
                  </a:cubicBezTo>
                  <a:cubicBezTo>
                    <a:pt x="56" y="134"/>
                    <a:pt x="56" y="135"/>
                    <a:pt x="56" y="135"/>
                  </a:cubicBezTo>
                  <a:cubicBezTo>
                    <a:pt x="56" y="135"/>
                    <a:pt x="57" y="135"/>
                    <a:pt x="57" y="135"/>
                  </a:cubicBezTo>
                  <a:cubicBezTo>
                    <a:pt x="58" y="135"/>
                    <a:pt x="58" y="135"/>
                    <a:pt x="58" y="134"/>
                  </a:cubicBezTo>
                  <a:cubicBezTo>
                    <a:pt x="58" y="134"/>
                    <a:pt x="58" y="134"/>
                    <a:pt x="58" y="134"/>
                  </a:cubicBezTo>
                  <a:cubicBezTo>
                    <a:pt x="58" y="134"/>
                    <a:pt x="57" y="134"/>
                    <a:pt x="57" y="134"/>
                  </a:cubicBezTo>
                  <a:cubicBezTo>
                    <a:pt x="57" y="134"/>
                    <a:pt x="57" y="134"/>
                    <a:pt x="56" y="134"/>
                  </a:cubicBezTo>
                  <a:moveTo>
                    <a:pt x="69" y="134"/>
                  </a:moveTo>
                  <a:cubicBezTo>
                    <a:pt x="69" y="134"/>
                    <a:pt x="69" y="134"/>
                    <a:pt x="68" y="135"/>
                  </a:cubicBezTo>
                  <a:cubicBezTo>
                    <a:pt x="68" y="135"/>
                    <a:pt x="68" y="135"/>
                    <a:pt x="68" y="135"/>
                  </a:cubicBezTo>
                  <a:cubicBezTo>
                    <a:pt x="69" y="135"/>
                    <a:pt x="69" y="135"/>
                    <a:pt x="70" y="135"/>
                  </a:cubicBezTo>
                  <a:cubicBezTo>
                    <a:pt x="70" y="135"/>
                    <a:pt x="70" y="135"/>
                    <a:pt x="70" y="134"/>
                  </a:cubicBezTo>
                  <a:cubicBezTo>
                    <a:pt x="70" y="134"/>
                    <a:pt x="70" y="134"/>
                    <a:pt x="70" y="134"/>
                  </a:cubicBezTo>
                  <a:cubicBezTo>
                    <a:pt x="70" y="134"/>
                    <a:pt x="69" y="134"/>
                    <a:pt x="69" y="134"/>
                  </a:cubicBezTo>
                  <a:moveTo>
                    <a:pt x="62" y="135"/>
                  </a:moveTo>
                  <a:cubicBezTo>
                    <a:pt x="60" y="135"/>
                    <a:pt x="57" y="135"/>
                    <a:pt x="56" y="137"/>
                  </a:cubicBezTo>
                  <a:cubicBezTo>
                    <a:pt x="56" y="137"/>
                    <a:pt x="56" y="137"/>
                    <a:pt x="56" y="137"/>
                  </a:cubicBezTo>
                  <a:cubicBezTo>
                    <a:pt x="57" y="137"/>
                    <a:pt x="57" y="137"/>
                    <a:pt x="57" y="137"/>
                  </a:cubicBezTo>
                  <a:cubicBezTo>
                    <a:pt x="58" y="138"/>
                    <a:pt x="58" y="138"/>
                    <a:pt x="58" y="138"/>
                  </a:cubicBezTo>
                  <a:cubicBezTo>
                    <a:pt x="58" y="138"/>
                    <a:pt x="58" y="138"/>
                    <a:pt x="58" y="138"/>
                  </a:cubicBezTo>
                  <a:cubicBezTo>
                    <a:pt x="59" y="137"/>
                    <a:pt x="57" y="136"/>
                    <a:pt x="58" y="136"/>
                  </a:cubicBezTo>
                  <a:cubicBezTo>
                    <a:pt x="58" y="136"/>
                    <a:pt x="58" y="136"/>
                    <a:pt x="58" y="136"/>
                  </a:cubicBezTo>
                  <a:cubicBezTo>
                    <a:pt x="60" y="136"/>
                    <a:pt x="60" y="138"/>
                    <a:pt x="59" y="139"/>
                  </a:cubicBezTo>
                  <a:cubicBezTo>
                    <a:pt x="58" y="139"/>
                    <a:pt x="57" y="139"/>
                    <a:pt x="57" y="139"/>
                  </a:cubicBezTo>
                  <a:cubicBezTo>
                    <a:pt x="56" y="140"/>
                    <a:pt x="57" y="141"/>
                    <a:pt x="56" y="142"/>
                  </a:cubicBezTo>
                  <a:cubicBezTo>
                    <a:pt x="57" y="142"/>
                    <a:pt x="57" y="142"/>
                    <a:pt x="57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9" y="141"/>
                  </a:cubicBezTo>
                  <a:cubicBezTo>
                    <a:pt x="59" y="141"/>
                    <a:pt x="59" y="141"/>
                    <a:pt x="59" y="141"/>
                  </a:cubicBezTo>
                  <a:cubicBezTo>
                    <a:pt x="58" y="144"/>
                    <a:pt x="59" y="146"/>
                    <a:pt x="61" y="147"/>
                  </a:cubicBezTo>
                  <a:cubicBezTo>
                    <a:pt x="60" y="148"/>
                    <a:pt x="59" y="149"/>
                    <a:pt x="58" y="150"/>
                  </a:cubicBezTo>
                  <a:cubicBezTo>
                    <a:pt x="59" y="147"/>
                    <a:pt x="58" y="145"/>
                    <a:pt x="56" y="143"/>
                  </a:cubicBezTo>
                  <a:cubicBezTo>
                    <a:pt x="54" y="145"/>
                    <a:pt x="53" y="147"/>
                    <a:pt x="53" y="150"/>
                  </a:cubicBezTo>
                  <a:cubicBezTo>
                    <a:pt x="55" y="152"/>
                    <a:pt x="58" y="153"/>
                    <a:pt x="60" y="155"/>
                  </a:cubicBezTo>
                  <a:cubicBezTo>
                    <a:pt x="64" y="153"/>
                    <a:pt x="67" y="144"/>
                    <a:pt x="62" y="141"/>
                  </a:cubicBezTo>
                  <a:cubicBezTo>
                    <a:pt x="62" y="139"/>
                    <a:pt x="62" y="138"/>
                    <a:pt x="64" y="137"/>
                  </a:cubicBezTo>
                  <a:cubicBezTo>
                    <a:pt x="65" y="138"/>
                    <a:pt x="65" y="138"/>
                    <a:pt x="66" y="139"/>
                  </a:cubicBezTo>
                  <a:cubicBezTo>
                    <a:pt x="65" y="140"/>
                    <a:pt x="66" y="142"/>
                    <a:pt x="65" y="143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3"/>
                    <a:pt x="68" y="143"/>
                  </a:cubicBezTo>
                  <a:cubicBezTo>
                    <a:pt x="69" y="141"/>
                    <a:pt x="70" y="140"/>
                    <a:pt x="70" y="138"/>
                  </a:cubicBezTo>
                  <a:cubicBezTo>
                    <a:pt x="68" y="136"/>
                    <a:pt x="65" y="135"/>
                    <a:pt x="62" y="135"/>
                  </a:cubicBezTo>
                  <a:moveTo>
                    <a:pt x="74" y="140"/>
                  </a:moveTo>
                  <a:cubicBezTo>
                    <a:pt x="72" y="146"/>
                    <a:pt x="68" y="150"/>
                    <a:pt x="68" y="158"/>
                  </a:cubicBezTo>
                  <a:cubicBezTo>
                    <a:pt x="69" y="159"/>
                    <a:pt x="71" y="159"/>
                    <a:pt x="73" y="159"/>
                  </a:cubicBezTo>
                  <a:cubicBezTo>
                    <a:pt x="73" y="158"/>
                    <a:pt x="73" y="157"/>
                    <a:pt x="74" y="157"/>
                  </a:cubicBezTo>
                  <a:cubicBezTo>
                    <a:pt x="74" y="157"/>
                    <a:pt x="74" y="157"/>
                    <a:pt x="75" y="157"/>
                  </a:cubicBezTo>
                  <a:cubicBezTo>
                    <a:pt x="73" y="158"/>
                    <a:pt x="75" y="160"/>
                    <a:pt x="75" y="161"/>
                  </a:cubicBezTo>
                  <a:cubicBezTo>
                    <a:pt x="76" y="161"/>
                    <a:pt x="77" y="161"/>
                    <a:pt x="78" y="161"/>
                  </a:cubicBezTo>
                  <a:cubicBezTo>
                    <a:pt x="78" y="160"/>
                    <a:pt x="78" y="159"/>
                    <a:pt x="78" y="158"/>
                  </a:cubicBezTo>
                  <a:cubicBezTo>
                    <a:pt x="77" y="158"/>
                    <a:pt x="76" y="157"/>
                    <a:pt x="76" y="155"/>
                  </a:cubicBezTo>
                  <a:cubicBezTo>
                    <a:pt x="76" y="155"/>
                    <a:pt x="76" y="155"/>
                    <a:pt x="75" y="155"/>
                  </a:cubicBezTo>
                  <a:cubicBezTo>
                    <a:pt x="75" y="155"/>
                    <a:pt x="74" y="155"/>
                    <a:pt x="74" y="156"/>
                  </a:cubicBezTo>
                  <a:cubicBezTo>
                    <a:pt x="74" y="156"/>
                    <a:pt x="73" y="156"/>
                    <a:pt x="73" y="156"/>
                  </a:cubicBezTo>
                  <a:cubicBezTo>
                    <a:pt x="73" y="156"/>
                    <a:pt x="73" y="156"/>
                    <a:pt x="73" y="156"/>
                  </a:cubicBezTo>
                  <a:cubicBezTo>
                    <a:pt x="73" y="156"/>
                    <a:pt x="72" y="155"/>
                    <a:pt x="72" y="155"/>
                  </a:cubicBezTo>
                  <a:cubicBezTo>
                    <a:pt x="73" y="155"/>
                    <a:pt x="73" y="152"/>
                    <a:pt x="74" y="151"/>
                  </a:cubicBezTo>
                  <a:cubicBezTo>
                    <a:pt x="75" y="152"/>
                    <a:pt x="77" y="152"/>
                    <a:pt x="79" y="153"/>
                  </a:cubicBezTo>
                  <a:cubicBezTo>
                    <a:pt x="81" y="149"/>
                    <a:pt x="76" y="149"/>
                    <a:pt x="75" y="147"/>
                  </a:cubicBezTo>
                  <a:cubicBezTo>
                    <a:pt x="75" y="146"/>
                    <a:pt x="75" y="145"/>
                    <a:pt x="76" y="143"/>
                  </a:cubicBezTo>
                  <a:cubicBezTo>
                    <a:pt x="76" y="144"/>
                    <a:pt x="76" y="144"/>
                    <a:pt x="77" y="144"/>
                  </a:cubicBezTo>
                  <a:cubicBezTo>
                    <a:pt x="77" y="144"/>
                    <a:pt x="77" y="143"/>
                    <a:pt x="78" y="143"/>
                  </a:cubicBezTo>
                  <a:cubicBezTo>
                    <a:pt x="78" y="143"/>
                    <a:pt x="78" y="143"/>
                    <a:pt x="78" y="143"/>
                  </a:cubicBezTo>
                  <a:cubicBezTo>
                    <a:pt x="78" y="143"/>
                    <a:pt x="79" y="143"/>
                    <a:pt x="79" y="143"/>
                  </a:cubicBezTo>
                  <a:cubicBezTo>
                    <a:pt x="79" y="145"/>
                    <a:pt x="80" y="146"/>
                    <a:pt x="81" y="146"/>
                  </a:cubicBezTo>
                  <a:cubicBezTo>
                    <a:pt x="81" y="145"/>
                    <a:pt x="82" y="144"/>
                    <a:pt x="82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0" y="142"/>
                    <a:pt x="79" y="142"/>
                    <a:pt x="78" y="142"/>
                  </a:cubicBezTo>
                  <a:cubicBezTo>
                    <a:pt x="78" y="140"/>
                    <a:pt x="75" y="141"/>
                    <a:pt x="74" y="140"/>
                  </a:cubicBezTo>
                  <a:moveTo>
                    <a:pt x="99" y="142"/>
                  </a:moveTo>
                  <a:cubicBezTo>
                    <a:pt x="99" y="142"/>
                    <a:pt x="99" y="142"/>
                    <a:pt x="99" y="142"/>
                  </a:cubicBezTo>
                  <a:cubicBezTo>
                    <a:pt x="99" y="145"/>
                    <a:pt x="100" y="153"/>
                    <a:pt x="98" y="154"/>
                  </a:cubicBezTo>
                  <a:cubicBezTo>
                    <a:pt x="98" y="154"/>
                    <a:pt x="98" y="154"/>
                    <a:pt x="98" y="154"/>
                  </a:cubicBezTo>
                  <a:cubicBezTo>
                    <a:pt x="98" y="154"/>
                    <a:pt x="98" y="154"/>
                    <a:pt x="98" y="154"/>
                  </a:cubicBezTo>
                  <a:cubicBezTo>
                    <a:pt x="99" y="156"/>
                    <a:pt x="100" y="159"/>
                    <a:pt x="103" y="161"/>
                  </a:cubicBezTo>
                  <a:cubicBezTo>
                    <a:pt x="103" y="160"/>
                    <a:pt x="104" y="158"/>
                    <a:pt x="105" y="158"/>
                  </a:cubicBezTo>
                  <a:cubicBezTo>
                    <a:pt x="101" y="154"/>
                    <a:pt x="101" y="146"/>
                    <a:pt x="104" y="146"/>
                  </a:cubicBezTo>
                  <a:cubicBezTo>
                    <a:pt x="106" y="146"/>
                    <a:pt x="107" y="147"/>
                    <a:pt x="109" y="148"/>
                  </a:cubicBezTo>
                  <a:cubicBezTo>
                    <a:pt x="109" y="145"/>
                    <a:pt x="107" y="144"/>
                    <a:pt x="106" y="142"/>
                  </a:cubicBezTo>
                  <a:cubicBezTo>
                    <a:pt x="106" y="142"/>
                    <a:pt x="106" y="142"/>
                    <a:pt x="106" y="142"/>
                  </a:cubicBezTo>
                  <a:cubicBezTo>
                    <a:pt x="104" y="142"/>
                    <a:pt x="103" y="143"/>
                    <a:pt x="102" y="144"/>
                  </a:cubicBezTo>
                  <a:cubicBezTo>
                    <a:pt x="102" y="143"/>
                    <a:pt x="101" y="142"/>
                    <a:pt x="99" y="142"/>
                  </a:cubicBezTo>
                  <a:moveTo>
                    <a:pt x="89" y="144"/>
                  </a:moveTo>
                  <a:cubicBezTo>
                    <a:pt x="88" y="144"/>
                    <a:pt x="87" y="144"/>
                    <a:pt x="86" y="144"/>
                  </a:cubicBezTo>
                  <a:cubicBezTo>
                    <a:pt x="87" y="146"/>
                    <a:pt x="84" y="146"/>
                    <a:pt x="85" y="149"/>
                  </a:cubicBezTo>
                  <a:cubicBezTo>
                    <a:pt x="85" y="149"/>
                    <a:pt x="85" y="149"/>
                    <a:pt x="85" y="149"/>
                  </a:cubicBezTo>
                  <a:cubicBezTo>
                    <a:pt x="85" y="149"/>
                    <a:pt x="84" y="149"/>
                    <a:pt x="84" y="149"/>
                  </a:cubicBezTo>
                  <a:cubicBezTo>
                    <a:pt x="84" y="149"/>
                    <a:pt x="84" y="149"/>
                    <a:pt x="84" y="149"/>
                  </a:cubicBezTo>
                  <a:cubicBezTo>
                    <a:pt x="83" y="149"/>
                    <a:pt x="82" y="149"/>
                    <a:pt x="82" y="150"/>
                  </a:cubicBezTo>
                  <a:cubicBezTo>
                    <a:pt x="82" y="151"/>
                    <a:pt x="84" y="150"/>
                    <a:pt x="84" y="151"/>
                  </a:cubicBezTo>
                  <a:cubicBezTo>
                    <a:pt x="82" y="159"/>
                    <a:pt x="85" y="163"/>
                    <a:pt x="92" y="163"/>
                  </a:cubicBezTo>
                  <a:cubicBezTo>
                    <a:pt x="93" y="163"/>
                    <a:pt x="94" y="163"/>
                    <a:pt x="96" y="163"/>
                  </a:cubicBezTo>
                  <a:cubicBezTo>
                    <a:pt x="95" y="161"/>
                    <a:pt x="94" y="158"/>
                    <a:pt x="94" y="155"/>
                  </a:cubicBezTo>
                  <a:cubicBezTo>
                    <a:pt x="92" y="155"/>
                    <a:pt x="92" y="156"/>
                    <a:pt x="91" y="156"/>
                  </a:cubicBezTo>
                  <a:cubicBezTo>
                    <a:pt x="91" y="156"/>
                    <a:pt x="91" y="156"/>
                    <a:pt x="90" y="156"/>
                  </a:cubicBezTo>
                  <a:cubicBezTo>
                    <a:pt x="89" y="158"/>
                    <a:pt x="91" y="158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60"/>
                    <a:pt x="89" y="160"/>
                    <a:pt x="89" y="160"/>
                  </a:cubicBezTo>
                  <a:cubicBezTo>
                    <a:pt x="89" y="160"/>
                    <a:pt x="88" y="160"/>
                    <a:pt x="88" y="160"/>
                  </a:cubicBezTo>
                  <a:cubicBezTo>
                    <a:pt x="88" y="160"/>
                    <a:pt x="88" y="160"/>
                    <a:pt x="87" y="160"/>
                  </a:cubicBezTo>
                  <a:cubicBezTo>
                    <a:pt x="87" y="154"/>
                    <a:pt x="86" y="151"/>
                    <a:pt x="88" y="146"/>
                  </a:cubicBezTo>
                  <a:cubicBezTo>
                    <a:pt x="89" y="146"/>
                    <a:pt x="89" y="146"/>
                    <a:pt x="89" y="146"/>
                  </a:cubicBezTo>
                  <a:cubicBezTo>
                    <a:pt x="90" y="146"/>
                    <a:pt x="92" y="147"/>
                    <a:pt x="92" y="148"/>
                  </a:cubicBezTo>
                  <a:cubicBezTo>
                    <a:pt x="92" y="149"/>
                    <a:pt x="92" y="151"/>
                    <a:pt x="92" y="151"/>
                  </a:cubicBezTo>
                  <a:cubicBezTo>
                    <a:pt x="93" y="151"/>
                    <a:pt x="94" y="151"/>
                    <a:pt x="95" y="151"/>
                  </a:cubicBezTo>
                  <a:cubicBezTo>
                    <a:pt x="97" y="147"/>
                    <a:pt x="94" y="144"/>
                    <a:pt x="89" y="144"/>
                  </a:cubicBezTo>
                  <a:moveTo>
                    <a:pt x="71" y="146"/>
                  </a:moveTo>
                  <a:cubicBezTo>
                    <a:pt x="70" y="146"/>
                    <a:pt x="69" y="146"/>
                    <a:pt x="68" y="146"/>
                  </a:cubicBezTo>
                  <a:cubicBezTo>
                    <a:pt x="68" y="147"/>
                    <a:pt x="69" y="148"/>
                    <a:pt x="70" y="148"/>
                  </a:cubicBezTo>
                  <a:cubicBezTo>
                    <a:pt x="70" y="148"/>
                    <a:pt x="70" y="148"/>
                    <a:pt x="70" y="148"/>
                  </a:cubicBezTo>
                  <a:cubicBezTo>
                    <a:pt x="70" y="147"/>
                    <a:pt x="71" y="147"/>
                    <a:pt x="71" y="146"/>
                  </a:cubicBezTo>
                  <a:moveTo>
                    <a:pt x="108" y="151"/>
                  </a:moveTo>
                  <a:cubicBezTo>
                    <a:pt x="108" y="151"/>
                    <a:pt x="107" y="152"/>
                    <a:pt x="107" y="152"/>
                  </a:cubicBezTo>
                  <a:cubicBezTo>
                    <a:pt x="109" y="154"/>
                    <a:pt x="107" y="156"/>
                    <a:pt x="108" y="160"/>
                  </a:cubicBezTo>
                  <a:cubicBezTo>
                    <a:pt x="109" y="160"/>
                    <a:pt x="110" y="160"/>
                    <a:pt x="110" y="160"/>
                  </a:cubicBezTo>
                  <a:cubicBezTo>
                    <a:pt x="110" y="156"/>
                    <a:pt x="111" y="151"/>
                    <a:pt x="108" y="151"/>
                  </a:cubicBezTo>
                  <a:moveTo>
                    <a:pt x="76" y="153"/>
                  </a:moveTo>
                  <a:cubicBezTo>
                    <a:pt x="76" y="153"/>
                    <a:pt x="76" y="153"/>
                    <a:pt x="76" y="154"/>
                  </a:cubicBezTo>
                  <a:cubicBezTo>
                    <a:pt x="76" y="154"/>
                    <a:pt x="76" y="154"/>
                    <a:pt x="76" y="154"/>
                  </a:cubicBezTo>
                  <a:cubicBezTo>
                    <a:pt x="76" y="154"/>
                    <a:pt x="76" y="154"/>
                    <a:pt x="76" y="154"/>
                  </a:cubicBezTo>
                  <a:cubicBezTo>
                    <a:pt x="76" y="153"/>
                    <a:pt x="76" y="153"/>
                    <a:pt x="76" y="153"/>
                  </a:cubicBezTo>
                  <a:moveTo>
                    <a:pt x="57" y="155"/>
                  </a:moveTo>
                  <a:cubicBezTo>
                    <a:pt x="57" y="155"/>
                    <a:pt x="57" y="155"/>
                    <a:pt x="57" y="156"/>
                  </a:cubicBezTo>
                  <a:cubicBezTo>
                    <a:pt x="57" y="156"/>
                    <a:pt x="57" y="156"/>
                    <a:pt x="57" y="156"/>
                  </a:cubicBezTo>
                  <a:cubicBezTo>
                    <a:pt x="58" y="156"/>
                    <a:pt x="58" y="156"/>
                    <a:pt x="58" y="156"/>
                  </a:cubicBezTo>
                  <a:cubicBezTo>
                    <a:pt x="58" y="155"/>
                    <a:pt x="57" y="155"/>
                    <a:pt x="57" y="155"/>
                  </a:cubicBezTo>
                  <a:moveTo>
                    <a:pt x="89" y="157"/>
                  </a:moveTo>
                  <a:cubicBezTo>
                    <a:pt x="89" y="157"/>
                    <a:pt x="89" y="158"/>
                    <a:pt x="88" y="158"/>
                  </a:cubicBezTo>
                  <a:cubicBezTo>
                    <a:pt x="88" y="159"/>
                    <a:pt x="88" y="159"/>
                    <a:pt x="88" y="159"/>
                  </a:cubicBezTo>
                  <a:cubicBezTo>
                    <a:pt x="88" y="159"/>
                    <a:pt x="88" y="158"/>
                    <a:pt x="88" y="158"/>
                  </a:cubicBezTo>
                  <a:cubicBezTo>
                    <a:pt x="89" y="158"/>
                    <a:pt x="89" y="157"/>
                    <a:pt x="89" y="157"/>
                  </a:cubicBezTo>
                  <a:moveTo>
                    <a:pt x="108" y="164"/>
                  </a:moveTo>
                  <a:cubicBezTo>
                    <a:pt x="108" y="164"/>
                    <a:pt x="108" y="164"/>
                    <a:pt x="108" y="164"/>
                  </a:cubicBezTo>
                  <a:cubicBezTo>
                    <a:pt x="108" y="164"/>
                    <a:pt x="108" y="164"/>
                    <a:pt x="108" y="164"/>
                  </a:cubicBezTo>
                  <a:cubicBezTo>
                    <a:pt x="108" y="164"/>
                    <a:pt x="109" y="164"/>
                    <a:pt x="109" y="164"/>
                  </a:cubicBezTo>
                  <a:cubicBezTo>
                    <a:pt x="109" y="164"/>
                    <a:pt x="109" y="164"/>
                    <a:pt x="108" y="164"/>
                  </a:cubicBezTo>
                  <a:moveTo>
                    <a:pt x="61" y="163"/>
                  </a:moveTo>
                  <a:cubicBezTo>
                    <a:pt x="61" y="163"/>
                    <a:pt x="60" y="163"/>
                    <a:pt x="60" y="163"/>
                  </a:cubicBezTo>
                  <a:cubicBezTo>
                    <a:pt x="61" y="163"/>
                    <a:pt x="62" y="162"/>
                    <a:pt x="63" y="162"/>
                  </a:cubicBezTo>
                  <a:cubicBezTo>
                    <a:pt x="63" y="162"/>
                    <a:pt x="62" y="163"/>
                    <a:pt x="61" y="163"/>
                  </a:cubicBezTo>
                  <a:moveTo>
                    <a:pt x="135" y="160"/>
                  </a:moveTo>
                  <a:cubicBezTo>
                    <a:pt x="135" y="159"/>
                    <a:pt x="135" y="159"/>
                    <a:pt x="135" y="159"/>
                  </a:cubicBezTo>
                  <a:cubicBezTo>
                    <a:pt x="136" y="159"/>
                    <a:pt x="136" y="159"/>
                    <a:pt x="136" y="159"/>
                  </a:cubicBezTo>
                  <a:cubicBezTo>
                    <a:pt x="136" y="160"/>
                    <a:pt x="136" y="160"/>
                    <a:pt x="136" y="160"/>
                  </a:cubicBezTo>
                  <a:cubicBezTo>
                    <a:pt x="135" y="160"/>
                    <a:pt x="135" y="160"/>
                    <a:pt x="135" y="160"/>
                  </a:cubicBezTo>
                  <a:moveTo>
                    <a:pt x="118" y="153"/>
                  </a:moveTo>
                  <a:cubicBezTo>
                    <a:pt x="118" y="153"/>
                    <a:pt x="118" y="153"/>
                    <a:pt x="118" y="153"/>
                  </a:cubicBezTo>
                  <a:cubicBezTo>
                    <a:pt x="118" y="153"/>
                    <a:pt x="118" y="152"/>
                    <a:pt x="118" y="152"/>
                  </a:cubicBezTo>
                  <a:cubicBezTo>
                    <a:pt x="118" y="152"/>
                    <a:pt x="118" y="153"/>
                    <a:pt x="118" y="153"/>
                  </a:cubicBezTo>
                  <a:cubicBezTo>
                    <a:pt x="119" y="153"/>
                    <a:pt x="118" y="153"/>
                    <a:pt x="118" y="153"/>
                  </a:cubicBezTo>
                  <a:moveTo>
                    <a:pt x="118" y="149"/>
                  </a:moveTo>
                  <a:cubicBezTo>
                    <a:pt x="117" y="149"/>
                    <a:pt x="117" y="149"/>
                    <a:pt x="117" y="149"/>
                  </a:cubicBezTo>
                  <a:cubicBezTo>
                    <a:pt x="118" y="147"/>
                    <a:pt x="116" y="146"/>
                    <a:pt x="116" y="145"/>
                  </a:cubicBezTo>
                  <a:cubicBezTo>
                    <a:pt x="116" y="145"/>
                    <a:pt x="116" y="145"/>
                    <a:pt x="116" y="145"/>
                  </a:cubicBezTo>
                  <a:cubicBezTo>
                    <a:pt x="118" y="145"/>
                    <a:pt x="118" y="147"/>
                    <a:pt x="120" y="147"/>
                  </a:cubicBezTo>
                  <a:cubicBezTo>
                    <a:pt x="119" y="148"/>
                    <a:pt x="119" y="149"/>
                    <a:pt x="118" y="149"/>
                  </a:cubicBezTo>
                  <a:moveTo>
                    <a:pt x="116" y="144"/>
                  </a:moveTo>
                  <a:cubicBezTo>
                    <a:pt x="116" y="144"/>
                    <a:pt x="116" y="144"/>
                    <a:pt x="116" y="144"/>
                  </a:cubicBezTo>
                  <a:cubicBezTo>
                    <a:pt x="116" y="143"/>
                    <a:pt x="116" y="143"/>
                    <a:pt x="116" y="143"/>
                  </a:cubicBezTo>
                  <a:cubicBezTo>
                    <a:pt x="116" y="143"/>
                    <a:pt x="116" y="144"/>
                    <a:pt x="116" y="144"/>
                  </a:cubicBezTo>
                  <a:cubicBezTo>
                    <a:pt x="116" y="144"/>
                    <a:pt x="116" y="144"/>
                    <a:pt x="116" y="144"/>
                  </a:cubicBezTo>
                  <a:moveTo>
                    <a:pt x="134" y="148"/>
                  </a:moveTo>
                  <a:cubicBezTo>
                    <a:pt x="130" y="148"/>
                    <a:pt x="127" y="142"/>
                    <a:pt x="126" y="139"/>
                  </a:cubicBezTo>
                  <a:cubicBezTo>
                    <a:pt x="126" y="137"/>
                    <a:pt x="128" y="137"/>
                    <a:pt x="128" y="136"/>
                  </a:cubicBezTo>
                  <a:cubicBezTo>
                    <a:pt x="133" y="137"/>
                    <a:pt x="133" y="143"/>
                    <a:pt x="137" y="145"/>
                  </a:cubicBezTo>
                  <a:cubicBezTo>
                    <a:pt x="136" y="146"/>
                    <a:pt x="133" y="146"/>
                    <a:pt x="135" y="147"/>
                  </a:cubicBezTo>
                  <a:cubicBezTo>
                    <a:pt x="135" y="148"/>
                    <a:pt x="134" y="148"/>
                    <a:pt x="134" y="148"/>
                  </a:cubicBezTo>
                  <a:moveTo>
                    <a:pt x="46" y="133"/>
                  </a:moveTo>
                  <a:cubicBezTo>
                    <a:pt x="46" y="133"/>
                    <a:pt x="45" y="133"/>
                    <a:pt x="45" y="133"/>
                  </a:cubicBezTo>
                  <a:cubicBezTo>
                    <a:pt x="45" y="132"/>
                    <a:pt x="45" y="132"/>
                    <a:pt x="46" y="132"/>
                  </a:cubicBezTo>
                  <a:cubicBezTo>
                    <a:pt x="46" y="132"/>
                    <a:pt x="46" y="132"/>
                    <a:pt x="46" y="133"/>
                  </a:cubicBezTo>
                  <a:cubicBezTo>
                    <a:pt x="46" y="133"/>
                    <a:pt x="46" y="133"/>
                    <a:pt x="46" y="133"/>
                  </a:cubicBezTo>
                  <a:moveTo>
                    <a:pt x="47" y="129"/>
                  </a:moveTo>
                  <a:cubicBezTo>
                    <a:pt x="46" y="129"/>
                    <a:pt x="46" y="129"/>
                    <a:pt x="46" y="129"/>
                  </a:cubicBezTo>
                  <a:cubicBezTo>
                    <a:pt x="46" y="127"/>
                    <a:pt x="48" y="127"/>
                    <a:pt x="49" y="126"/>
                  </a:cubicBezTo>
                  <a:cubicBezTo>
                    <a:pt x="50" y="128"/>
                    <a:pt x="48" y="129"/>
                    <a:pt x="47" y="129"/>
                  </a:cubicBezTo>
                  <a:moveTo>
                    <a:pt x="79" y="91"/>
                  </a:moveTo>
                  <a:cubicBezTo>
                    <a:pt x="79" y="90"/>
                    <a:pt x="79" y="90"/>
                    <a:pt x="79" y="90"/>
                  </a:cubicBezTo>
                  <a:cubicBezTo>
                    <a:pt x="80" y="90"/>
                    <a:pt x="80" y="90"/>
                    <a:pt x="80" y="91"/>
                  </a:cubicBezTo>
                  <a:cubicBezTo>
                    <a:pt x="80" y="91"/>
                    <a:pt x="80" y="91"/>
                    <a:pt x="81" y="91"/>
                  </a:cubicBezTo>
                  <a:cubicBezTo>
                    <a:pt x="81" y="91"/>
                    <a:pt x="81" y="91"/>
                    <a:pt x="81" y="91"/>
                  </a:cubicBezTo>
                  <a:cubicBezTo>
                    <a:pt x="81" y="91"/>
                    <a:pt x="81" y="91"/>
                    <a:pt x="81" y="91"/>
                  </a:cubicBezTo>
                  <a:cubicBezTo>
                    <a:pt x="81" y="91"/>
                    <a:pt x="81" y="91"/>
                    <a:pt x="81" y="91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2"/>
                    <a:pt x="80" y="91"/>
                  </a:cubicBezTo>
                  <a:cubicBezTo>
                    <a:pt x="80" y="91"/>
                    <a:pt x="79" y="91"/>
                    <a:pt x="79" y="91"/>
                  </a:cubicBezTo>
                  <a:cubicBezTo>
                    <a:pt x="79" y="91"/>
                    <a:pt x="79" y="91"/>
                    <a:pt x="79" y="91"/>
                  </a:cubicBezTo>
                  <a:moveTo>
                    <a:pt x="81" y="90"/>
                  </a:moveTo>
                  <a:cubicBezTo>
                    <a:pt x="78" y="88"/>
                    <a:pt x="80" y="80"/>
                    <a:pt x="84" y="79"/>
                  </a:cubicBezTo>
                  <a:cubicBezTo>
                    <a:pt x="85" y="81"/>
                    <a:pt x="83" y="85"/>
                    <a:pt x="86" y="85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85" y="86"/>
                    <a:pt x="84" y="85"/>
                    <a:pt x="84" y="85"/>
                  </a:cubicBezTo>
                  <a:cubicBezTo>
                    <a:pt x="83" y="85"/>
                    <a:pt x="83" y="87"/>
                    <a:pt x="83" y="88"/>
                  </a:cubicBezTo>
                  <a:cubicBezTo>
                    <a:pt x="83" y="88"/>
                    <a:pt x="82" y="88"/>
                    <a:pt x="82" y="88"/>
                  </a:cubicBezTo>
                  <a:cubicBezTo>
                    <a:pt x="81" y="88"/>
                    <a:pt x="81" y="89"/>
                    <a:pt x="81" y="90"/>
                  </a:cubicBezTo>
                  <a:moveTo>
                    <a:pt x="37" y="65"/>
                  </a:moveTo>
                  <a:cubicBezTo>
                    <a:pt x="37" y="65"/>
                    <a:pt x="37" y="65"/>
                    <a:pt x="38" y="64"/>
                  </a:cubicBezTo>
                  <a:cubicBezTo>
                    <a:pt x="38" y="64"/>
                    <a:pt x="38" y="64"/>
                    <a:pt x="39" y="64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37" y="66"/>
                    <a:pt x="39" y="67"/>
                    <a:pt x="40" y="69"/>
                  </a:cubicBezTo>
                  <a:cubicBezTo>
                    <a:pt x="40" y="71"/>
                    <a:pt x="39" y="69"/>
                    <a:pt x="39" y="71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8" y="71"/>
                    <a:pt x="38" y="71"/>
                    <a:pt x="37" y="71"/>
                  </a:cubicBezTo>
                  <a:cubicBezTo>
                    <a:pt x="36" y="74"/>
                    <a:pt x="37" y="77"/>
                    <a:pt x="37" y="80"/>
                  </a:cubicBezTo>
                  <a:cubicBezTo>
                    <a:pt x="36" y="80"/>
                    <a:pt x="36" y="80"/>
                    <a:pt x="35" y="80"/>
                  </a:cubicBezTo>
                  <a:cubicBezTo>
                    <a:pt x="35" y="80"/>
                    <a:pt x="34" y="80"/>
                    <a:pt x="33" y="80"/>
                  </a:cubicBezTo>
                  <a:cubicBezTo>
                    <a:pt x="33" y="77"/>
                    <a:pt x="33" y="73"/>
                    <a:pt x="36" y="73"/>
                  </a:cubicBezTo>
                  <a:cubicBezTo>
                    <a:pt x="36" y="73"/>
                    <a:pt x="36" y="73"/>
                    <a:pt x="36" y="73"/>
                  </a:cubicBezTo>
                  <a:cubicBezTo>
                    <a:pt x="35" y="71"/>
                    <a:pt x="34" y="71"/>
                    <a:pt x="35" y="68"/>
                  </a:cubicBezTo>
                  <a:cubicBezTo>
                    <a:pt x="35" y="68"/>
                    <a:pt x="36" y="68"/>
                    <a:pt x="36" y="68"/>
                  </a:cubicBezTo>
                  <a:cubicBezTo>
                    <a:pt x="36" y="68"/>
                    <a:pt x="37" y="67"/>
                    <a:pt x="37" y="67"/>
                  </a:cubicBezTo>
                  <a:cubicBezTo>
                    <a:pt x="37" y="66"/>
                    <a:pt x="36" y="66"/>
                    <a:pt x="36" y="65"/>
                  </a:cubicBezTo>
                  <a:cubicBezTo>
                    <a:pt x="36" y="65"/>
                    <a:pt x="36" y="65"/>
                    <a:pt x="37" y="65"/>
                  </a:cubicBezTo>
                  <a:moveTo>
                    <a:pt x="140" y="60"/>
                  </a:moveTo>
                  <a:cubicBezTo>
                    <a:pt x="140" y="60"/>
                    <a:pt x="140" y="60"/>
                    <a:pt x="139" y="60"/>
                  </a:cubicBezTo>
                  <a:cubicBezTo>
                    <a:pt x="139" y="59"/>
                    <a:pt x="140" y="59"/>
                    <a:pt x="140" y="5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40" y="60"/>
                    <a:pt x="140" y="60"/>
                    <a:pt x="140" y="60"/>
                  </a:cubicBezTo>
                  <a:cubicBezTo>
                    <a:pt x="140" y="60"/>
                    <a:pt x="140" y="60"/>
                    <a:pt x="140" y="60"/>
                  </a:cubicBezTo>
                  <a:moveTo>
                    <a:pt x="167" y="51"/>
                  </a:moveTo>
                  <a:cubicBezTo>
                    <a:pt x="167" y="51"/>
                    <a:pt x="167" y="51"/>
                    <a:pt x="167" y="51"/>
                  </a:cubicBezTo>
                  <a:cubicBezTo>
                    <a:pt x="167" y="51"/>
                    <a:pt x="167" y="51"/>
                    <a:pt x="167" y="51"/>
                  </a:cubicBezTo>
                  <a:cubicBezTo>
                    <a:pt x="167" y="51"/>
                    <a:pt x="167" y="51"/>
                    <a:pt x="167" y="51"/>
                  </a:cubicBezTo>
                  <a:cubicBezTo>
                    <a:pt x="167" y="52"/>
                    <a:pt x="167" y="52"/>
                    <a:pt x="167" y="52"/>
                  </a:cubicBezTo>
                  <a:cubicBezTo>
                    <a:pt x="167" y="52"/>
                    <a:pt x="167" y="52"/>
                    <a:pt x="167" y="51"/>
                  </a:cubicBezTo>
                  <a:cubicBezTo>
                    <a:pt x="167" y="51"/>
                    <a:pt x="167" y="51"/>
                    <a:pt x="167" y="51"/>
                  </a:cubicBezTo>
                  <a:moveTo>
                    <a:pt x="80" y="50"/>
                  </a:moveTo>
                  <a:cubicBezTo>
                    <a:pt x="80" y="50"/>
                    <a:pt x="80" y="50"/>
                    <a:pt x="80" y="49"/>
                  </a:cubicBezTo>
                  <a:cubicBezTo>
                    <a:pt x="80" y="49"/>
                    <a:pt x="81" y="49"/>
                    <a:pt x="81" y="49"/>
                  </a:cubicBezTo>
                  <a:cubicBezTo>
                    <a:pt x="81" y="49"/>
                    <a:pt x="81" y="49"/>
                    <a:pt x="81" y="50"/>
                  </a:cubicBezTo>
                  <a:cubicBezTo>
                    <a:pt x="81" y="50"/>
                    <a:pt x="81" y="50"/>
                    <a:pt x="80" y="50"/>
                  </a:cubicBezTo>
                  <a:moveTo>
                    <a:pt x="149" y="44"/>
                  </a:moveTo>
                  <a:cubicBezTo>
                    <a:pt x="149" y="44"/>
                    <a:pt x="150" y="43"/>
                    <a:pt x="150" y="42"/>
                  </a:cubicBezTo>
                  <a:cubicBezTo>
                    <a:pt x="152" y="42"/>
                    <a:pt x="149" y="45"/>
                    <a:pt x="151" y="45"/>
                  </a:cubicBezTo>
                  <a:cubicBezTo>
                    <a:pt x="150" y="47"/>
                    <a:pt x="147" y="48"/>
                    <a:pt x="145" y="49"/>
                  </a:cubicBezTo>
                  <a:cubicBezTo>
                    <a:pt x="144" y="47"/>
                    <a:pt x="145" y="47"/>
                    <a:pt x="144" y="45"/>
                  </a:cubicBezTo>
                  <a:cubicBezTo>
                    <a:pt x="145" y="45"/>
                    <a:pt x="146" y="46"/>
                    <a:pt x="146" y="46"/>
                  </a:cubicBezTo>
                  <a:cubicBezTo>
                    <a:pt x="147" y="46"/>
                    <a:pt x="148" y="45"/>
                    <a:pt x="148" y="44"/>
                  </a:cubicBezTo>
                  <a:cubicBezTo>
                    <a:pt x="148" y="44"/>
                    <a:pt x="148" y="44"/>
                    <a:pt x="149" y="44"/>
                  </a:cubicBezTo>
                  <a:moveTo>
                    <a:pt x="158" y="38"/>
                  </a:moveTo>
                  <a:cubicBezTo>
                    <a:pt x="158" y="37"/>
                    <a:pt x="158" y="37"/>
                    <a:pt x="158" y="37"/>
                  </a:cubicBezTo>
                  <a:cubicBezTo>
                    <a:pt x="158" y="37"/>
                    <a:pt x="159" y="37"/>
                    <a:pt x="159" y="37"/>
                  </a:cubicBezTo>
                  <a:cubicBezTo>
                    <a:pt x="159" y="38"/>
                    <a:pt x="159" y="38"/>
                    <a:pt x="159" y="38"/>
                  </a:cubicBezTo>
                  <a:cubicBezTo>
                    <a:pt x="159" y="38"/>
                    <a:pt x="158" y="38"/>
                    <a:pt x="158" y="38"/>
                  </a:cubicBezTo>
                  <a:moveTo>
                    <a:pt x="130" y="38"/>
                  </a:moveTo>
                  <a:cubicBezTo>
                    <a:pt x="130" y="38"/>
                    <a:pt x="129" y="38"/>
                    <a:pt x="129" y="38"/>
                  </a:cubicBezTo>
                  <a:cubicBezTo>
                    <a:pt x="129" y="37"/>
                    <a:pt x="129" y="37"/>
                    <a:pt x="128" y="37"/>
                  </a:cubicBezTo>
                  <a:cubicBezTo>
                    <a:pt x="128" y="36"/>
                    <a:pt x="128" y="35"/>
                    <a:pt x="128" y="35"/>
                  </a:cubicBezTo>
                  <a:cubicBezTo>
                    <a:pt x="129" y="35"/>
                    <a:pt x="129" y="35"/>
                    <a:pt x="130" y="35"/>
                  </a:cubicBezTo>
                  <a:cubicBezTo>
                    <a:pt x="130" y="36"/>
                    <a:pt x="130" y="36"/>
                    <a:pt x="130" y="36"/>
                  </a:cubicBezTo>
                  <a:cubicBezTo>
                    <a:pt x="131" y="36"/>
                    <a:pt x="131" y="36"/>
                    <a:pt x="132" y="36"/>
                  </a:cubicBezTo>
                  <a:cubicBezTo>
                    <a:pt x="132" y="36"/>
                    <a:pt x="132" y="36"/>
                    <a:pt x="132" y="36"/>
                  </a:cubicBezTo>
                  <a:cubicBezTo>
                    <a:pt x="132" y="36"/>
                    <a:pt x="132" y="36"/>
                    <a:pt x="132" y="36"/>
                  </a:cubicBezTo>
                  <a:cubicBezTo>
                    <a:pt x="132" y="37"/>
                    <a:pt x="131" y="38"/>
                    <a:pt x="130" y="38"/>
                  </a:cubicBezTo>
                  <a:moveTo>
                    <a:pt x="153" y="34"/>
                  </a:moveTo>
                  <a:cubicBezTo>
                    <a:pt x="153" y="34"/>
                    <a:pt x="153" y="34"/>
                    <a:pt x="153" y="34"/>
                  </a:cubicBezTo>
                  <a:cubicBezTo>
                    <a:pt x="153" y="33"/>
                    <a:pt x="153" y="32"/>
                    <a:pt x="153" y="31"/>
                  </a:cubicBezTo>
                  <a:cubicBezTo>
                    <a:pt x="154" y="31"/>
                    <a:pt x="155" y="34"/>
                    <a:pt x="153" y="34"/>
                  </a:cubicBezTo>
                  <a:moveTo>
                    <a:pt x="36" y="30"/>
                  </a:moveTo>
                  <a:cubicBezTo>
                    <a:pt x="36" y="30"/>
                    <a:pt x="36" y="29"/>
                    <a:pt x="36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29"/>
                    <a:pt x="37" y="29"/>
                    <a:pt x="37" y="29"/>
                  </a:cubicBezTo>
                  <a:cubicBezTo>
                    <a:pt x="37" y="29"/>
                    <a:pt x="37" y="30"/>
                    <a:pt x="36" y="30"/>
                  </a:cubicBezTo>
                  <a:moveTo>
                    <a:pt x="62" y="25"/>
                  </a:moveTo>
                  <a:cubicBezTo>
                    <a:pt x="62" y="25"/>
                    <a:pt x="61" y="25"/>
                    <a:pt x="61" y="24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5"/>
                    <a:pt x="62" y="25"/>
                    <a:pt x="62" y="25"/>
                  </a:cubicBezTo>
                  <a:moveTo>
                    <a:pt x="72" y="28"/>
                  </a:moveTo>
                  <a:cubicBezTo>
                    <a:pt x="74" y="26"/>
                    <a:pt x="70" y="21"/>
                    <a:pt x="74" y="20"/>
                  </a:cubicBezTo>
                  <a:cubicBezTo>
                    <a:pt x="74" y="21"/>
                    <a:pt x="75" y="28"/>
                    <a:pt x="72" y="28"/>
                  </a:cubicBezTo>
                  <a:moveTo>
                    <a:pt x="138" y="21"/>
                  </a:moveTo>
                  <a:cubicBezTo>
                    <a:pt x="137" y="21"/>
                    <a:pt x="137" y="20"/>
                    <a:pt x="137" y="19"/>
                  </a:cubicBezTo>
                  <a:cubicBezTo>
                    <a:pt x="138" y="19"/>
                    <a:pt x="138" y="20"/>
                    <a:pt x="138" y="21"/>
                  </a:cubicBezTo>
                  <a:cubicBezTo>
                    <a:pt x="138" y="21"/>
                    <a:pt x="138" y="21"/>
                    <a:pt x="138" y="21"/>
                  </a:cubicBezTo>
                  <a:moveTo>
                    <a:pt x="54" y="19"/>
                  </a:moveTo>
                  <a:cubicBezTo>
                    <a:pt x="53" y="19"/>
                    <a:pt x="53" y="18"/>
                    <a:pt x="53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7"/>
                    <a:pt x="54" y="18"/>
                    <a:pt x="54" y="18"/>
                  </a:cubicBezTo>
                  <a:cubicBezTo>
                    <a:pt x="54" y="18"/>
                    <a:pt x="54" y="18"/>
                    <a:pt x="54" y="18"/>
                  </a:cubicBezTo>
                  <a:cubicBezTo>
                    <a:pt x="54" y="18"/>
                    <a:pt x="54" y="18"/>
                    <a:pt x="54" y="19"/>
                  </a:cubicBezTo>
                  <a:moveTo>
                    <a:pt x="60" y="15"/>
                  </a:moveTo>
                  <a:cubicBezTo>
                    <a:pt x="60" y="15"/>
                    <a:pt x="60" y="15"/>
                    <a:pt x="60" y="14"/>
                  </a:cubicBezTo>
                  <a:cubicBezTo>
                    <a:pt x="60" y="13"/>
                    <a:pt x="60" y="13"/>
                    <a:pt x="60" y="13"/>
                  </a:cubicBezTo>
                  <a:cubicBezTo>
                    <a:pt x="60" y="13"/>
                    <a:pt x="60" y="14"/>
                    <a:pt x="60" y="14"/>
                  </a:cubicBezTo>
                  <a:cubicBezTo>
                    <a:pt x="60" y="15"/>
                    <a:pt x="60" y="15"/>
                    <a:pt x="60" y="15"/>
                  </a:cubicBezTo>
                  <a:moveTo>
                    <a:pt x="122" y="13"/>
                  </a:moveTo>
                  <a:cubicBezTo>
                    <a:pt x="122" y="13"/>
                    <a:pt x="123" y="13"/>
                    <a:pt x="123" y="12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4" y="13"/>
                    <a:pt x="124" y="13"/>
                    <a:pt x="124" y="14"/>
                  </a:cubicBezTo>
                  <a:cubicBezTo>
                    <a:pt x="123" y="13"/>
                    <a:pt x="123" y="13"/>
                    <a:pt x="122" y="13"/>
                  </a:cubicBezTo>
                  <a:cubicBezTo>
                    <a:pt x="122" y="13"/>
                    <a:pt x="122" y="13"/>
                    <a:pt x="122" y="13"/>
                  </a:cubicBezTo>
                  <a:moveTo>
                    <a:pt x="108" y="9"/>
                  </a:moveTo>
                  <a:cubicBezTo>
                    <a:pt x="107" y="9"/>
                    <a:pt x="106" y="9"/>
                    <a:pt x="106" y="7"/>
                  </a:cubicBezTo>
                  <a:cubicBezTo>
                    <a:pt x="107" y="7"/>
                    <a:pt x="107" y="7"/>
                    <a:pt x="107" y="7"/>
                  </a:cubicBezTo>
                  <a:cubicBezTo>
                    <a:pt x="107" y="7"/>
                    <a:pt x="108" y="8"/>
                    <a:pt x="108" y="8"/>
                  </a:cubicBezTo>
                  <a:cubicBezTo>
                    <a:pt x="108" y="8"/>
                    <a:pt x="109" y="9"/>
                    <a:pt x="109" y="9"/>
                  </a:cubicBezTo>
                  <a:cubicBezTo>
                    <a:pt x="109" y="9"/>
                    <a:pt x="109" y="9"/>
                    <a:pt x="109" y="9"/>
                  </a:cubicBezTo>
                  <a:cubicBezTo>
                    <a:pt x="109" y="9"/>
                    <a:pt x="109" y="9"/>
                    <a:pt x="108" y="9"/>
                  </a:cubicBezTo>
                  <a:moveTo>
                    <a:pt x="112" y="7"/>
                  </a:moveTo>
                  <a:cubicBezTo>
                    <a:pt x="112" y="7"/>
                    <a:pt x="112" y="7"/>
                    <a:pt x="112" y="7"/>
                  </a:cubicBezTo>
                  <a:cubicBezTo>
                    <a:pt x="112" y="7"/>
                    <a:pt x="112" y="6"/>
                    <a:pt x="112" y="6"/>
                  </a:cubicBezTo>
                  <a:cubicBezTo>
                    <a:pt x="113" y="6"/>
                    <a:pt x="113" y="7"/>
                    <a:pt x="113" y="7"/>
                  </a:cubicBezTo>
                  <a:cubicBezTo>
                    <a:pt x="113" y="7"/>
                    <a:pt x="112" y="7"/>
                    <a:pt x="112" y="7"/>
                  </a:cubicBezTo>
                  <a:moveTo>
                    <a:pt x="102" y="10"/>
                  </a:moveTo>
                  <a:cubicBezTo>
                    <a:pt x="103" y="9"/>
                    <a:pt x="103" y="7"/>
                    <a:pt x="103" y="5"/>
                  </a:cubicBezTo>
                  <a:cubicBezTo>
                    <a:pt x="104" y="7"/>
                    <a:pt x="106" y="11"/>
                    <a:pt x="109" y="11"/>
                  </a:cubicBezTo>
                  <a:cubicBezTo>
                    <a:pt x="110" y="11"/>
                    <a:pt x="111" y="10"/>
                    <a:pt x="112" y="9"/>
                  </a:cubicBezTo>
                  <a:cubicBezTo>
                    <a:pt x="113" y="10"/>
                    <a:pt x="112" y="12"/>
                    <a:pt x="114" y="12"/>
                  </a:cubicBezTo>
                  <a:cubicBezTo>
                    <a:pt x="114" y="12"/>
                    <a:pt x="114" y="12"/>
                    <a:pt x="114" y="12"/>
                  </a:cubicBezTo>
                  <a:cubicBezTo>
                    <a:pt x="115" y="12"/>
                    <a:pt x="115" y="12"/>
                    <a:pt x="115" y="12"/>
                  </a:cubicBezTo>
                  <a:cubicBezTo>
                    <a:pt x="115" y="12"/>
                    <a:pt x="116" y="12"/>
                    <a:pt x="116" y="11"/>
                  </a:cubicBezTo>
                  <a:cubicBezTo>
                    <a:pt x="116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8" y="11"/>
                  </a:cubicBezTo>
                  <a:cubicBezTo>
                    <a:pt x="117" y="15"/>
                    <a:pt x="125" y="14"/>
                    <a:pt x="128" y="17"/>
                  </a:cubicBezTo>
                  <a:cubicBezTo>
                    <a:pt x="130" y="17"/>
                    <a:pt x="129" y="14"/>
                    <a:pt x="130" y="14"/>
                  </a:cubicBezTo>
                  <a:cubicBezTo>
                    <a:pt x="131" y="14"/>
                    <a:pt x="131" y="14"/>
                    <a:pt x="131" y="15"/>
                  </a:cubicBezTo>
                  <a:cubicBezTo>
                    <a:pt x="132" y="22"/>
                    <a:pt x="141" y="22"/>
                    <a:pt x="146" y="26"/>
                  </a:cubicBezTo>
                  <a:cubicBezTo>
                    <a:pt x="150" y="34"/>
                    <a:pt x="161" y="40"/>
                    <a:pt x="163" y="49"/>
                  </a:cubicBezTo>
                  <a:cubicBezTo>
                    <a:pt x="163" y="49"/>
                    <a:pt x="163" y="49"/>
                    <a:pt x="163" y="49"/>
                  </a:cubicBezTo>
                  <a:cubicBezTo>
                    <a:pt x="164" y="49"/>
                    <a:pt x="164" y="48"/>
                    <a:pt x="164" y="48"/>
                  </a:cubicBezTo>
                  <a:cubicBezTo>
                    <a:pt x="163" y="47"/>
                    <a:pt x="163" y="46"/>
                    <a:pt x="164" y="46"/>
                  </a:cubicBezTo>
                  <a:cubicBezTo>
                    <a:pt x="164" y="46"/>
                    <a:pt x="164" y="46"/>
                    <a:pt x="164" y="46"/>
                  </a:cubicBezTo>
                  <a:cubicBezTo>
                    <a:pt x="176" y="75"/>
                    <a:pt x="176" y="106"/>
                    <a:pt x="161" y="134"/>
                  </a:cubicBezTo>
                  <a:cubicBezTo>
                    <a:pt x="161" y="133"/>
                    <a:pt x="160" y="133"/>
                    <a:pt x="160" y="133"/>
                  </a:cubicBezTo>
                  <a:cubicBezTo>
                    <a:pt x="159" y="133"/>
                    <a:pt x="158" y="134"/>
                    <a:pt x="158" y="136"/>
                  </a:cubicBezTo>
                  <a:cubicBezTo>
                    <a:pt x="157" y="137"/>
                    <a:pt x="156" y="138"/>
                    <a:pt x="154" y="138"/>
                  </a:cubicBezTo>
                  <a:cubicBezTo>
                    <a:pt x="154" y="138"/>
                    <a:pt x="154" y="138"/>
                    <a:pt x="154" y="138"/>
                  </a:cubicBezTo>
                  <a:cubicBezTo>
                    <a:pt x="154" y="140"/>
                    <a:pt x="154" y="140"/>
                    <a:pt x="154" y="142"/>
                  </a:cubicBezTo>
                  <a:cubicBezTo>
                    <a:pt x="152" y="142"/>
                    <a:pt x="150" y="144"/>
                    <a:pt x="148" y="144"/>
                  </a:cubicBezTo>
                  <a:cubicBezTo>
                    <a:pt x="148" y="144"/>
                    <a:pt x="148" y="144"/>
                    <a:pt x="148" y="144"/>
                  </a:cubicBezTo>
                  <a:cubicBezTo>
                    <a:pt x="148" y="145"/>
                    <a:pt x="148" y="147"/>
                    <a:pt x="149" y="147"/>
                  </a:cubicBezTo>
                  <a:cubicBezTo>
                    <a:pt x="149" y="148"/>
                    <a:pt x="145" y="148"/>
                    <a:pt x="144" y="148"/>
                  </a:cubicBezTo>
                  <a:cubicBezTo>
                    <a:pt x="144" y="150"/>
                    <a:pt x="145" y="151"/>
                    <a:pt x="144" y="151"/>
                  </a:cubicBezTo>
                  <a:cubicBezTo>
                    <a:pt x="144" y="151"/>
                    <a:pt x="143" y="151"/>
                    <a:pt x="143" y="151"/>
                  </a:cubicBezTo>
                  <a:cubicBezTo>
                    <a:pt x="140" y="151"/>
                    <a:pt x="138" y="154"/>
                    <a:pt x="137" y="156"/>
                  </a:cubicBezTo>
                  <a:cubicBezTo>
                    <a:pt x="132" y="157"/>
                    <a:pt x="128" y="159"/>
                    <a:pt x="124" y="162"/>
                  </a:cubicBezTo>
                  <a:cubicBezTo>
                    <a:pt x="121" y="162"/>
                    <a:pt x="118" y="162"/>
                    <a:pt x="119" y="165"/>
                  </a:cubicBezTo>
                  <a:cubicBezTo>
                    <a:pt x="119" y="165"/>
                    <a:pt x="118" y="165"/>
                    <a:pt x="118" y="165"/>
                  </a:cubicBezTo>
                  <a:cubicBezTo>
                    <a:pt x="117" y="165"/>
                    <a:pt x="116" y="164"/>
                    <a:pt x="115" y="163"/>
                  </a:cubicBezTo>
                  <a:cubicBezTo>
                    <a:pt x="115" y="164"/>
                    <a:pt x="114" y="164"/>
                    <a:pt x="114" y="164"/>
                  </a:cubicBezTo>
                  <a:cubicBezTo>
                    <a:pt x="114" y="164"/>
                    <a:pt x="114" y="164"/>
                    <a:pt x="112" y="163"/>
                  </a:cubicBezTo>
                  <a:cubicBezTo>
                    <a:pt x="111" y="164"/>
                    <a:pt x="113" y="164"/>
                    <a:pt x="112" y="165"/>
                  </a:cubicBezTo>
                  <a:cubicBezTo>
                    <a:pt x="109" y="165"/>
                    <a:pt x="109" y="159"/>
                    <a:pt x="106" y="158"/>
                  </a:cubicBezTo>
                  <a:cubicBezTo>
                    <a:pt x="105" y="158"/>
                    <a:pt x="105" y="159"/>
                    <a:pt x="104" y="159"/>
                  </a:cubicBezTo>
                  <a:cubicBezTo>
                    <a:pt x="104" y="162"/>
                    <a:pt x="105" y="162"/>
                    <a:pt x="105" y="165"/>
                  </a:cubicBezTo>
                  <a:cubicBezTo>
                    <a:pt x="105" y="166"/>
                    <a:pt x="102" y="165"/>
                    <a:pt x="102" y="166"/>
                  </a:cubicBezTo>
                  <a:cubicBezTo>
                    <a:pt x="101" y="165"/>
                    <a:pt x="101" y="163"/>
                    <a:pt x="100" y="162"/>
                  </a:cubicBezTo>
                  <a:cubicBezTo>
                    <a:pt x="99" y="163"/>
                    <a:pt x="99" y="165"/>
                    <a:pt x="100" y="166"/>
                  </a:cubicBezTo>
                  <a:cubicBezTo>
                    <a:pt x="99" y="166"/>
                    <a:pt x="98" y="166"/>
                    <a:pt x="97" y="166"/>
                  </a:cubicBezTo>
                  <a:cubicBezTo>
                    <a:pt x="95" y="166"/>
                    <a:pt x="93" y="166"/>
                    <a:pt x="92" y="166"/>
                  </a:cubicBezTo>
                  <a:cubicBezTo>
                    <a:pt x="90" y="166"/>
                    <a:pt x="88" y="166"/>
                    <a:pt x="87" y="166"/>
                  </a:cubicBezTo>
                  <a:cubicBezTo>
                    <a:pt x="85" y="166"/>
                    <a:pt x="84" y="166"/>
                    <a:pt x="83" y="166"/>
                  </a:cubicBezTo>
                  <a:cubicBezTo>
                    <a:pt x="79" y="165"/>
                    <a:pt x="72" y="163"/>
                    <a:pt x="68" y="163"/>
                  </a:cubicBezTo>
                  <a:cubicBezTo>
                    <a:pt x="67" y="163"/>
                    <a:pt x="67" y="163"/>
                    <a:pt x="67" y="163"/>
                  </a:cubicBezTo>
                  <a:cubicBezTo>
                    <a:pt x="67" y="160"/>
                    <a:pt x="65" y="161"/>
                    <a:pt x="64" y="159"/>
                  </a:cubicBezTo>
                  <a:cubicBezTo>
                    <a:pt x="64" y="160"/>
                    <a:pt x="63" y="160"/>
                    <a:pt x="63" y="160"/>
                  </a:cubicBezTo>
                  <a:cubicBezTo>
                    <a:pt x="62" y="160"/>
                    <a:pt x="61" y="159"/>
                    <a:pt x="60" y="159"/>
                  </a:cubicBezTo>
                  <a:cubicBezTo>
                    <a:pt x="59" y="158"/>
                    <a:pt x="58" y="157"/>
                    <a:pt x="57" y="157"/>
                  </a:cubicBezTo>
                  <a:cubicBezTo>
                    <a:pt x="56" y="157"/>
                    <a:pt x="56" y="157"/>
                    <a:pt x="56" y="157"/>
                  </a:cubicBezTo>
                  <a:cubicBezTo>
                    <a:pt x="56" y="156"/>
                    <a:pt x="56" y="155"/>
                    <a:pt x="55" y="155"/>
                  </a:cubicBezTo>
                  <a:cubicBezTo>
                    <a:pt x="55" y="154"/>
                    <a:pt x="55" y="154"/>
                    <a:pt x="55" y="154"/>
                  </a:cubicBezTo>
                  <a:cubicBezTo>
                    <a:pt x="54" y="154"/>
                    <a:pt x="54" y="155"/>
                    <a:pt x="54" y="155"/>
                  </a:cubicBezTo>
                  <a:cubicBezTo>
                    <a:pt x="54" y="155"/>
                    <a:pt x="53" y="155"/>
                    <a:pt x="53" y="155"/>
                  </a:cubicBezTo>
                  <a:cubicBezTo>
                    <a:pt x="53" y="155"/>
                    <a:pt x="53" y="155"/>
                    <a:pt x="53" y="155"/>
                  </a:cubicBezTo>
                  <a:cubicBezTo>
                    <a:pt x="54" y="153"/>
                    <a:pt x="53" y="154"/>
                    <a:pt x="52" y="152"/>
                  </a:cubicBezTo>
                  <a:cubicBezTo>
                    <a:pt x="51" y="152"/>
                    <a:pt x="53" y="153"/>
                    <a:pt x="52" y="154"/>
                  </a:cubicBezTo>
                  <a:cubicBezTo>
                    <a:pt x="40" y="149"/>
                    <a:pt x="32" y="136"/>
                    <a:pt x="26" y="130"/>
                  </a:cubicBezTo>
                  <a:cubicBezTo>
                    <a:pt x="14" y="111"/>
                    <a:pt x="12" y="78"/>
                    <a:pt x="20" y="55"/>
                  </a:cubicBezTo>
                  <a:cubicBezTo>
                    <a:pt x="24" y="53"/>
                    <a:pt x="28" y="46"/>
                    <a:pt x="28" y="43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29" y="42"/>
                    <a:pt x="29" y="42"/>
                    <a:pt x="30" y="43"/>
                  </a:cubicBezTo>
                  <a:cubicBezTo>
                    <a:pt x="35" y="35"/>
                    <a:pt x="42" y="30"/>
                    <a:pt x="48" y="23"/>
                  </a:cubicBezTo>
                  <a:cubicBezTo>
                    <a:pt x="48" y="23"/>
                    <a:pt x="48" y="23"/>
                    <a:pt x="49" y="23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9" y="23"/>
                    <a:pt x="50" y="21"/>
                    <a:pt x="50" y="19"/>
                  </a:cubicBezTo>
                  <a:cubicBezTo>
                    <a:pt x="50" y="19"/>
                    <a:pt x="51" y="20"/>
                    <a:pt x="52" y="20"/>
                  </a:cubicBezTo>
                  <a:cubicBezTo>
                    <a:pt x="57" y="20"/>
                    <a:pt x="61" y="17"/>
                    <a:pt x="63" y="14"/>
                  </a:cubicBezTo>
                  <a:cubicBezTo>
                    <a:pt x="64" y="14"/>
                    <a:pt x="64" y="14"/>
                    <a:pt x="65" y="14"/>
                  </a:cubicBezTo>
                  <a:cubicBezTo>
                    <a:pt x="66" y="14"/>
                    <a:pt x="66" y="14"/>
                    <a:pt x="68" y="14"/>
                  </a:cubicBezTo>
                  <a:cubicBezTo>
                    <a:pt x="68" y="12"/>
                    <a:pt x="68" y="11"/>
                    <a:pt x="68" y="11"/>
                  </a:cubicBezTo>
                  <a:cubicBezTo>
                    <a:pt x="70" y="11"/>
                    <a:pt x="72" y="11"/>
                    <a:pt x="75" y="11"/>
                  </a:cubicBezTo>
                  <a:cubicBezTo>
                    <a:pt x="78" y="11"/>
                    <a:pt x="81" y="11"/>
                    <a:pt x="81" y="8"/>
                  </a:cubicBezTo>
                  <a:cubicBezTo>
                    <a:pt x="82" y="8"/>
                    <a:pt x="82" y="8"/>
                    <a:pt x="82" y="8"/>
                  </a:cubicBezTo>
                  <a:cubicBezTo>
                    <a:pt x="82" y="8"/>
                    <a:pt x="83" y="8"/>
                    <a:pt x="83" y="8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84" y="8"/>
                    <a:pt x="84" y="8"/>
                    <a:pt x="85" y="7"/>
                  </a:cubicBezTo>
                  <a:cubicBezTo>
                    <a:pt x="85" y="8"/>
                    <a:pt x="84" y="8"/>
                    <a:pt x="84" y="9"/>
                  </a:cubicBezTo>
                  <a:cubicBezTo>
                    <a:pt x="85" y="9"/>
                    <a:pt x="86" y="9"/>
                    <a:pt x="87" y="9"/>
                  </a:cubicBezTo>
                  <a:cubicBezTo>
                    <a:pt x="86" y="8"/>
                    <a:pt x="88" y="6"/>
                    <a:pt x="90" y="5"/>
                  </a:cubicBezTo>
                  <a:cubicBezTo>
                    <a:pt x="90" y="5"/>
                    <a:pt x="90" y="5"/>
                    <a:pt x="90" y="5"/>
                  </a:cubicBezTo>
                  <a:cubicBezTo>
                    <a:pt x="90" y="5"/>
                    <a:pt x="90" y="5"/>
                    <a:pt x="90" y="5"/>
                  </a:cubicBezTo>
                  <a:cubicBezTo>
                    <a:pt x="89" y="6"/>
                    <a:pt x="89" y="7"/>
                    <a:pt x="90" y="7"/>
                  </a:cubicBezTo>
                  <a:cubicBezTo>
                    <a:pt x="90" y="7"/>
                    <a:pt x="91" y="7"/>
                    <a:pt x="91" y="7"/>
                  </a:cubicBezTo>
                  <a:cubicBezTo>
                    <a:pt x="91" y="7"/>
                    <a:pt x="92" y="6"/>
                    <a:pt x="92" y="6"/>
                  </a:cubicBezTo>
                  <a:cubicBezTo>
                    <a:pt x="92" y="6"/>
                    <a:pt x="92" y="6"/>
                    <a:pt x="92" y="6"/>
                  </a:cubicBezTo>
                  <a:cubicBezTo>
                    <a:pt x="92" y="7"/>
                    <a:pt x="92" y="8"/>
                    <a:pt x="92" y="9"/>
                  </a:cubicBezTo>
                  <a:cubicBezTo>
                    <a:pt x="93" y="9"/>
                    <a:pt x="94" y="9"/>
                    <a:pt x="96" y="10"/>
                  </a:cubicBezTo>
                  <a:cubicBezTo>
                    <a:pt x="97" y="10"/>
                    <a:pt x="96" y="6"/>
                    <a:pt x="98" y="6"/>
                  </a:cubicBezTo>
                  <a:cubicBezTo>
                    <a:pt x="98" y="6"/>
                    <a:pt x="98" y="6"/>
                    <a:pt x="98" y="6"/>
                  </a:cubicBezTo>
                  <a:cubicBezTo>
                    <a:pt x="98" y="8"/>
                    <a:pt x="97" y="8"/>
                    <a:pt x="98" y="10"/>
                  </a:cubicBezTo>
                  <a:cubicBezTo>
                    <a:pt x="98" y="9"/>
                    <a:pt x="100" y="9"/>
                    <a:pt x="100" y="7"/>
                  </a:cubicBezTo>
                  <a:cubicBezTo>
                    <a:pt x="100" y="8"/>
                    <a:pt x="100" y="10"/>
                    <a:pt x="102" y="10"/>
                  </a:cubicBezTo>
                  <a:moveTo>
                    <a:pt x="93" y="6"/>
                  </a:moveTo>
                  <a:cubicBezTo>
                    <a:pt x="93" y="6"/>
                    <a:pt x="93" y="6"/>
                    <a:pt x="92" y="6"/>
                  </a:cubicBezTo>
                  <a:cubicBezTo>
                    <a:pt x="92" y="6"/>
                    <a:pt x="93" y="5"/>
                    <a:pt x="93" y="5"/>
                  </a:cubicBezTo>
                  <a:cubicBezTo>
                    <a:pt x="94" y="5"/>
                    <a:pt x="94" y="6"/>
                    <a:pt x="94" y="6"/>
                  </a:cubicBezTo>
                  <a:cubicBezTo>
                    <a:pt x="93" y="6"/>
                    <a:pt x="93" y="6"/>
                    <a:pt x="93" y="6"/>
                  </a:cubicBezTo>
                  <a:moveTo>
                    <a:pt x="82" y="0"/>
                  </a:moveTo>
                  <a:cubicBezTo>
                    <a:pt x="82" y="1"/>
                    <a:pt x="82" y="2"/>
                    <a:pt x="83" y="2"/>
                  </a:cubicBezTo>
                  <a:cubicBezTo>
                    <a:pt x="83" y="1"/>
                    <a:pt x="83" y="0"/>
                    <a:pt x="82" y="0"/>
                  </a:cubicBezTo>
                </a:path>
              </a:pathLst>
            </a:custGeom>
            <a:solidFill>
              <a:srgbClr val="574f1f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sp>
        <p:nvSpPr>
          <p:cNvPr id="188" name="矩形 370"/>
          <p:cNvSpPr/>
          <p:nvPr/>
        </p:nvSpPr>
        <p:spPr>
          <a:xfrm>
            <a:off x="3514680" y="4546440"/>
            <a:ext cx="4046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4f1f"/>
                </a:solidFill>
                <a:latin typeface="Vivaldi"/>
                <a:ea typeface="宋体"/>
              </a:rPr>
              <a:t>        </a:t>
            </a:r>
            <a:r>
              <a:rPr b="0" lang="zh-CN" sz="1200" spc="-1" strike="noStrike">
                <a:solidFill>
                  <a:srgbClr val="574f1f"/>
                </a:solidFill>
                <a:latin typeface="Vivaldi"/>
                <a:ea typeface="宋体"/>
              </a:rPr>
              <a:t>Her presence makes the ethnic partition of the world with a different look, has divided the world into two kinds of people: one is already knew people who knew her, and the other is ready to know people who knew her in the future, and it's not a lie, nor exaggerated. It is a public recognition of the truth!</a:t>
            </a:r>
            <a:endParaRPr b="0" lang="en-US" sz="1200" spc="-1" strike="noStrike">
              <a:solidFill>
                <a:srgbClr val="574f1f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2776680" y="252360"/>
            <a:ext cx="6314760" cy="1444680"/>
            <a:chOff x="2776680" y="252360"/>
            <a:chExt cx="6314760" cy="1444680"/>
          </a:xfrm>
        </p:grpSpPr>
        <p:pic>
          <p:nvPicPr>
            <p:cNvPr id="190" name="Group 8" descr=""/>
            <p:cNvPicPr/>
            <p:nvPr/>
          </p:nvPicPr>
          <p:blipFill>
            <a:blip r:embed="rId7"/>
            <a:stretch/>
          </p:blipFill>
          <p:spPr>
            <a:xfrm>
              <a:off x="2776680" y="252360"/>
              <a:ext cx="631476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文本框 5"/>
            <p:cNvSpPr/>
            <p:nvPr/>
          </p:nvSpPr>
          <p:spPr>
            <a:xfrm>
              <a:off x="4498200" y="875160"/>
              <a:ext cx="28760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pic>
        <p:nvPicPr>
          <p:cNvPr id="192" name="图片 354" descr=""/>
          <p:cNvPicPr/>
          <p:nvPr/>
        </p:nvPicPr>
        <p:blipFill>
          <a:blip r:embed="rId8"/>
          <a:srcRect l="-12815" t="0" r="0" b="0"/>
          <a:stretch/>
        </p:blipFill>
        <p:spPr>
          <a:xfrm flipH="1" rot="3240000">
            <a:off x="8939520" y="2993040"/>
            <a:ext cx="3378240" cy="2125800"/>
          </a:xfrm>
          <a:prstGeom prst="rect">
            <a:avLst/>
          </a:prstGeom>
          <a:ln w="0">
            <a:noFill/>
          </a:ln>
        </p:spPr>
      </p:pic>
      <p:sp>
        <p:nvSpPr>
          <p:cNvPr id="193" name="矩形 360"/>
          <p:cNvSpPr/>
          <p:nvPr/>
        </p:nvSpPr>
        <p:spPr>
          <a:xfrm>
            <a:off x="3486240" y="3289320"/>
            <a:ext cx="41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她的出现让世界的人种分划变了样子，让世界分成了两种人：一是已经认识知道了她的人，二是将来准备认识知道她的人，而这不是假话，也不是夸大。这是一个众人认可的事实！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</p:txBody>
      </p:sp>
      <p:grpSp>
        <p:nvGrpSpPr>
          <p:cNvPr id="194" name="组合 375"/>
          <p:cNvGrpSpPr/>
          <p:nvPr/>
        </p:nvGrpSpPr>
        <p:grpSpPr>
          <a:xfrm>
            <a:off x="3317760" y="2768760"/>
            <a:ext cx="4638960" cy="398880"/>
            <a:chOff x="3317760" y="2768760"/>
            <a:chExt cx="4638960" cy="398880"/>
          </a:xfrm>
        </p:grpSpPr>
        <p:sp>
          <p:nvSpPr>
            <p:cNvPr id="195" name="矩形 365"/>
            <p:cNvSpPr/>
            <p:nvPr/>
          </p:nvSpPr>
          <p:spPr>
            <a:xfrm>
              <a:off x="5292360" y="27687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74f1f"/>
                  </a:solidFill>
                  <a:latin typeface="Calibri"/>
                  <a:ea typeface="宋体"/>
                </a:rPr>
                <a:t>没有之一，只有唯一</a:t>
              </a:r>
              <a:endParaRPr b="0" lang="en-US" sz="20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196" name="直接连接符 372"/>
            <p:cNvSpPr/>
            <p:nvPr/>
          </p:nvSpPr>
          <p:spPr>
            <a:xfrm>
              <a:off x="3317760" y="3144960"/>
              <a:ext cx="4638960" cy="9360"/>
            </a:xfrm>
            <a:prstGeom prst="line">
              <a:avLst/>
            </a:prstGeom>
            <a:ln w="6480">
              <a:solidFill>
                <a:srgbClr val="574f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pic>
        <p:nvPicPr>
          <p:cNvPr id="197" name="图片 7188" descr="4cafaa135167772f-710c61837601d66f-6a022f7630fcc8e4b5c24d83de427ed6"/>
          <p:cNvPicPr/>
          <p:nvPr/>
        </p:nvPicPr>
        <p:blipFill>
          <a:blip r:embed="rId9"/>
          <a:stretch/>
        </p:blipFill>
        <p:spPr>
          <a:xfrm rot="21300000">
            <a:off x="8055000" y="2037960"/>
            <a:ext cx="2376360" cy="3121200"/>
          </a:xfrm>
          <a:prstGeom prst="rect">
            <a:avLst/>
          </a:prstGeom>
          <a:ln w="0">
            <a:noFill/>
          </a:ln>
        </p:spPr>
      </p:pic>
      <p:grpSp>
        <p:nvGrpSpPr>
          <p:cNvPr id="198" name="组合 7189"/>
          <p:cNvGrpSpPr/>
          <p:nvPr/>
        </p:nvGrpSpPr>
        <p:grpSpPr>
          <a:xfrm>
            <a:off x="3641760" y="606600"/>
            <a:ext cx="4594320" cy="702720"/>
            <a:chOff x="3641760" y="606600"/>
            <a:chExt cx="4594320" cy="702720"/>
          </a:xfrm>
        </p:grpSpPr>
        <p:sp>
          <p:nvSpPr>
            <p:cNvPr id="199" name="文本框 7190"/>
            <p:cNvSpPr/>
            <p:nvPr/>
          </p:nvSpPr>
          <p:spPr>
            <a:xfrm>
              <a:off x="4313160" y="941040"/>
              <a:ext cx="318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74f1f"/>
                  </a:solidFill>
                  <a:latin typeface="Calibri"/>
                  <a:ea typeface="宋体"/>
                </a:rPr>
                <a:t>欧美流行女歌手——</a:t>
              </a:r>
              <a:r>
                <a:rPr b="1" lang="zh-CN" sz="1800" spc="-1" strike="noStrike">
                  <a:solidFill>
                    <a:srgbClr val="574f1f"/>
                  </a:solidFill>
                  <a:latin typeface="Calibri"/>
                  <a:ea typeface="宋体"/>
                </a:rPr>
                <a:t>阿黛尔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00" name="文本框 7191"/>
            <p:cNvSpPr/>
            <p:nvPr/>
          </p:nvSpPr>
          <p:spPr>
            <a:xfrm>
              <a:off x="3641760" y="606600"/>
              <a:ext cx="45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74f1f"/>
                  </a:solidFill>
                  <a:latin typeface="Brush Script MT"/>
                </a:rPr>
                <a:t>The European and American pop singer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100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Group 8" descr=""/>
          <p:cNvPicPr/>
          <p:nvPr/>
        </p:nvPicPr>
        <p:blipFill>
          <a:blip r:embed="rId1"/>
          <a:stretch/>
        </p:blipFill>
        <p:spPr>
          <a:xfrm>
            <a:off x="2914560" y="237960"/>
            <a:ext cx="6315120" cy="144468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5"/>
          <p:cNvSpPr/>
          <p:nvPr/>
        </p:nvSpPr>
        <p:spPr>
          <a:xfrm>
            <a:off x="5343120" y="901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c2710"/>
                </a:solidFill>
                <a:latin typeface="Calibri"/>
                <a:ea typeface="宋体"/>
              </a:rPr>
              <a:t>欧美乐坛的霸主</a:t>
            </a:r>
            <a:endParaRPr b="0" lang="en-US" sz="2400" spc="-1" strike="noStrike">
              <a:solidFill>
                <a:srgbClr val="574f1f"/>
              </a:solidFill>
              <a:latin typeface="Calibri"/>
            </a:endParaRPr>
          </a:p>
        </p:txBody>
      </p:sp>
      <p:grpSp>
        <p:nvGrpSpPr>
          <p:cNvPr id="203" name="组合 126"/>
          <p:cNvGrpSpPr/>
          <p:nvPr/>
        </p:nvGrpSpPr>
        <p:grpSpPr>
          <a:xfrm>
            <a:off x="3724200" y="2203920"/>
            <a:ext cx="4416120" cy="3191400"/>
            <a:chOff x="3724200" y="2203920"/>
            <a:chExt cx="4416120" cy="3191400"/>
          </a:xfrm>
        </p:grpSpPr>
        <p:grpSp>
          <p:nvGrpSpPr>
            <p:cNvPr id="204" name="组合 93"/>
            <p:cNvGrpSpPr/>
            <p:nvPr/>
          </p:nvGrpSpPr>
          <p:grpSpPr>
            <a:xfrm>
              <a:off x="3724200" y="2203920"/>
              <a:ext cx="4416120" cy="3191400"/>
              <a:chOff x="3724200" y="2203920"/>
              <a:chExt cx="4416120" cy="3191400"/>
            </a:xfrm>
          </p:grpSpPr>
          <p:grpSp>
            <p:nvGrpSpPr>
              <p:cNvPr id="205" name="组合 89"/>
              <p:cNvGrpSpPr/>
              <p:nvPr/>
            </p:nvGrpSpPr>
            <p:grpSpPr>
              <a:xfrm>
                <a:off x="3724200" y="2203920"/>
                <a:ext cx="4416120" cy="3191400"/>
                <a:chOff x="3724200" y="2203920"/>
                <a:chExt cx="4416120" cy="3191400"/>
              </a:xfrm>
            </p:grpSpPr>
            <p:pic>
              <p:nvPicPr>
                <p:cNvPr id="206" name="图片 82" descr=""/>
                <p:cNvPicPr/>
                <p:nvPr/>
              </p:nvPicPr>
              <p:blipFill>
                <a:blip r:embed="rId2"/>
                <a:srcRect l="0" t="0" r="28673" b="0"/>
                <a:stretch/>
              </p:blipFill>
              <p:spPr>
                <a:xfrm rot="19024200">
                  <a:off x="4148280" y="2632320"/>
                  <a:ext cx="2067480" cy="2058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图片 79" descr=""/>
                <p:cNvPicPr/>
                <p:nvPr/>
              </p:nvPicPr>
              <p:blipFill>
                <a:blip r:embed="rId3"/>
                <a:srcRect l="0" t="0" r="0" b="-458"/>
                <a:stretch/>
              </p:blipFill>
              <p:spPr>
                <a:xfrm flipH="1" rot="155400">
                  <a:off x="6197040" y="2432160"/>
                  <a:ext cx="1396440" cy="112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图片 59" descr=""/>
                <p:cNvPicPr/>
                <p:nvPr/>
              </p:nvPicPr>
              <p:blipFill>
                <a:blip r:embed="rId4"/>
                <a:srcRect l="0" t="0" r="28673" b="0"/>
                <a:stretch/>
              </p:blipFill>
              <p:spPr>
                <a:xfrm flipH="1" rot="4179000">
                  <a:off x="5781960" y="3038760"/>
                  <a:ext cx="2067480" cy="2058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9" name="图片 81" descr=""/>
              <p:cNvPicPr/>
              <p:nvPr/>
            </p:nvPicPr>
            <p:blipFill>
              <a:blip r:embed="rId5"/>
              <a:srcRect l="0" t="0" r="0" b="-458"/>
              <a:stretch/>
            </p:blipFill>
            <p:spPr>
              <a:xfrm flipH="1" rot="19171200">
                <a:off x="4591800" y="3692160"/>
                <a:ext cx="1135800" cy="91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组合 120"/>
            <p:cNvGrpSpPr/>
            <p:nvPr/>
          </p:nvGrpSpPr>
          <p:grpSpPr>
            <a:xfrm>
              <a:off x="4748040" y="2730960"/>
              <a:ext cx="2782080" cy="2268000"/>
              <a:chOff x="4748040" y="2730960"/>
              <a:chExt cx="2782080" cy="2268000"/>
            </a:xfrm>
          </p:grpSpPr>
          <p:grpSp>
            <p:nvGrpSpPr>
              <p:cNvPr id="211" name="Group 4"/>
              <p:cNvGrpSpPr/>
              <p:nvPr/>
            </p:nvGrpSpPr>
            <p:grpSpPr>
              <a:xfrm>
                <a:off x="4748040" y="2730960"/>
                <a:ext cx="2782080" cy="2268000"/>
                <a:chOff x="4748040" y="2730960"/>
                <a:chExt cx="2782080" cy="2268000"/>
              </a:xfrm>
            </p:grpSpPr>
            <p:sp>
              <p:nvSpPr>
                <p:cNvPr id="212" name="Freeform 5"/>
                <p:cNvSpPr/>
                <p:nvPr/>
              </p:nvSpPr>
              <p:spPr>
                <a:xfrm>
                  <a:off x="4748040" y="2730960"/>
                  <a:ext cx="2782080" cy="2268000"/>
                </a:xfrm>
                <a:custGeom>
                  <a:avLst/>
                  <a:gdLst/>
                  <a:ahLst/>
                  <a:rect l="l" t="t" r="r" b="b"/>
                  <a:pathLst>
                    <a:path w="2765" h="2253">
                      <a:moveTo>
                        <a:pt x="506" y="1887"/>
                      </a:moveTo>
                      <a:cubicBezTo>
                        <a:pt x="697" y="2108"/>
                        <a:pt x="1014" y="2253"/>
                        <a:pt x="1373" y="2253"/>
                      </a:cubicBezTo>
                      <a:cubicBezTo>
                        <a:pt x="1732" y="2253"/>
                        <a:pt x="2049" y="2108"/>
                        <a:pt x="2240" y="1887"/>
                      </a:cubicBezTo>
                      <a:cubicBezTo>
                        <a:pt x="2240" y="1887"/>
                        <a:pt x="2240" y="1887"/>
                        <a:pt x="2240" y="1887"/>
                      </a:cubicBezTo>
                      <a:cubicBezTo>
                        <a:pt x="2299" y="1887"/>
                        <a:pt x="2358" y="1880"/>
                        <a:pt x="2418" y="1861"/>
                      </a:cubicBezTo>
                      <a:cubicBezTo>
                        <a:pt x="2589" y="1808"/>
                        <a:pt x="2667" y="1656"/>
                        <a:pt x="2665" y="1507"/>
                      </a:cubicBezTo>
                      <a:cubicBezTo>
                        <a:pt x="2662" y="1373"/>
                        <a:pt x="2610" y="1290"/>
                        <a:pt x="2649" y="1201"/>
                      </a:cubicBezTo>
                      <a:cubicBezTo>
                        <a:pt x="2686" y="1115"/>
                        <a:pt x="2765" y="1101"/>
                        <a:pt x="2765" y="1101"/>
                      </a:cubicBezTo>
                      <a:cubicBezTo>
                        <a:pt x="2765" y="1101"/>
                        <a:pt x="2686" y="1087"/>
                        <a:pt x="2649" y="1001"/>
                      </a:cubicBezTo>
                      <a:cubicBezTo>
                        <a:pt x="2610" y="912"/>
                        <a:pt x="2662" y="830"/>
                        <a:pt x="2665" y="695"/>
                      </a:cubicBezTo>
                      <a:cubicBezTo>
                        <a:pt x="2667" y="546"/>
                        <a:pt x="2589" y="394"/>
                        <a:pt x="2418" y="341"/>
                      </a:cubicBezTo>
                      <a:cubicBezTo>
                        <a:pt x="2343" y="317"/>
                        <a:pt x="2267" y="312"/>
                        <a:pt x="2195" y="316"/>
                      </a:cubicBezTo>
                      <a:cubicBezTo>
                        <a:pt x="2194" y="316"/>
                        <a:pt x="2194" y="316"/>
                        <a:pt x="2194" y="316"/>
                      </a:cubicBezTo>
                      <a:cubicBezTo>
                        <a:pt x="2001" y="123"/>
                        <a:pt x="1705" y="0"/>
                        <a:pt x="1373" y="0"/>
                      </a:cubicBezTo>
                      <a:cubicBezTo>
                        <a:pt x="1042" y="0"/>
                        <a:pt x="747" y="123"/>
                        <a:pt x="553" y="315"/>
                      </a:cubicBezTo>
                      <a:cubicBezTo>
                        <a:pt x="552" y="315"/>
                        <a:pt x="552" y="315"/>
                        <a:pt x="552" y="315"/>
                      </a:cubicBezTo>
                      <a:cubicBezTo>
                        <a:pt x="486" y="313"/>
                        <a:pt x="417" y="319"/>
                        <a:pt x="348" y="341"/>
                      </a:cubicBezTo>
                      <a:cubicBezTo>
                        <a:pt x="177" y="394"/>
                        <a:pt x="99" y="546"/>
                        <a:pt x="101" y="695"/>
                      </a:cubicBezTo>
                      <a:cubicBezTo>
                        <a:pt x="104" y="830"/>
                        <a:pt x="155" y="912"/>
                        <a:pt x="117" y="1001"/>
                      </a:cubicBezTo>
                      <a:cubicBezTo>
                        <a:pt x="80" y="1087"/>
                        <a:pt x="0" y="1101"/>
                        <a:pt x="0" y="1101"/>
                      </a:cubicBezTo>
                      <a:cubicBezTo>
                        <a:pt x="0" y="1101"/>
                        <a:pt x="80" y="1115"/>
                        <a:pt x="117" y="1201"/>
                      </a:cubicBezTo>
                      <a:cubicBezTo>
                        <a:pt x="155" y="1290"/>
                        <a:pt x="104" y="1373"/>
                        <a:pt x="101" y="1507"/>
                      </a:cubicBezTo>
                      <a:cubicBezTo>
                        <a:pt x="99" y="1656"/>
                        <a:pt x="177" y="1808"/>
                        <a:pt x="348" y="1861"/>
                      </a:cubicBezTo>
                      <a:cubicBezTo>
                        <a:pt x="401" y="1878"/>
                        <a:pt x="454" y="1885"/>
                        <a:pt x="506" y="1886"/>
                      </a:cubicBezTo>
                      <a:lnTo>
                        <a:pt x="506" y="1887"/>
                      </a:lnTo>
                      <a:close/>
                    </a:path>
                  </a:pathLst>
                </a:custGeom>
                <a:solidFill>
                  <a:srgbClr val="d6cb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  <p:sp>
              <p:nvSpPr>
                <p:cNvPr id="213" name="Freeform 6"/>
                <p:cNvSpPr/>
                <p:nvPr/>
              </p:nvSpPr>
              <p:spPr>
                <a:xfrm>
                  <a:off x="4815000" y="2757240"/>
                  <a:ext cx="2649240" cy="2214360"/>
                </a:xfrm>
                <a:custGeom>
                  <a:avLst/>
                  <a:gdLst/>
                  <a:ahLst/>
                  <a:rect l="l" t="t" r="r" b="b"/>
                  <a:pathLst>
                    <a:path w="2632" h="2200">
                      <a:moveTo>
                        <a:pt x="505" y="308"/>
                      </a:moveTo>
                      <a:cubicBezTo>
                        <a:pt x="498" y="315"/>
                        <a:pt x="498" y="315"/>
                        <a:pt x="498" y="315"/>
                      </a:cubicBezTo>
                      <a:cubicBezTo>
                        <a:pt x="486" y="316"/>
                        <a:pt x="486" y="316"/>
                        <a:pt x="486" y="316"/>
                      </a:cubicBezTo>
                      <a:cubicBezTo>
                        <a:pt x="484" y="316"/>
                        <a:pt x="484" y="316"/>
                        <a:pt x="484" y="316"/>
                      </a:cubicBezTo>
                      <a:cubicBezTo>
                        <a:pt x="412" y="314"/>
                        <a:pt x="348" y="322"/>
                        <a:pt x="289" y="340"/>
                      </a:cubicBezTo>
                      <a:cubicBezTo>
                        <a:pt x="121" y="393"/>
                        <a:pt x="61" y="540"/>
                        <a:pt x="61" y="663"/>
                      </a:cubicBezTo>
                      <a:cubicBezTo>
                        <a:pt x="61" y="665"/>
                        <a:pt x="61" y="667"/>
                        <a:pt x="61" y="669"/>
                      </a:cubicBezTo>
                      <a:cubicBezTo>
                        <a:pt x="62" y="719"/>
                        <a:pt x="70" y="764"/>
                        <a:pt x="78" y="803"/>
                      </a:cubicBezTo>
                      <a:cubicBezTo>
                        <a:pt x="85" y="838"/>
                        <a:pt x="91" y="871"/>
                        <a:pt x="91" y="904"/>
                      </a:cubicBezTo>
                      <a:cubicBezTo>
                        <a:pt x="91" y="931"/>
                        <a:pt x="87" y="958"/>
                        <a:pt x="74" y="986"/>
                      </a:cubicBezTo>
                      <a:cubicBezTo>
                        <a:pt x="55" y="1030"/>
                        <a:pt x="26" y="1058"/>
                        <a:pt x="0" y="1075"/>
                      </a:cubicBezTo>
                      <a:cubicBezTo>
                        <a:pt x="26" y="1092"/>
                        <a:pt x="55" y="1120"/>
                        <a:pt x="74" y="1164"/>
                      </a:cubicBezTo>
                      <a:cubicBezTo>
                        <a:pt x="87" y="1192"/>
                        <a:pt x="91" y="1219"/>
                        <a:pt x="91" y="1246"/>
                      </a:cubicBezTo>
                      <a:cubicBezTo>
                        <a:pt x="91" y="1279"/>
                        <a:pt x="85" y="1312"/>
                        <a:pt x="78" y="1348"/>
                      </a:cubicBezTo>
                      <a:cubicBezTo>
                        <a:pt x="70" y="1387"/>
                        <a:pt x="62" y="1431"/>
                        <a:pt x="61" y="1482"/>
                      </a:cubicBezTo>
                      <a:cubicBezTo>
                        <a:pt x="61" y="1484"/>
                        <a:pt x="61" y="1486"/>
                        <a:pt x="61" y="1488"/>
                      </a:cubicBezTo>
                      <a:cubicBezTo>
                        <a:pt x="61" y="1610"/>
                        <a:pt x="121" y="1757"/>
                        <a:pt x="289" y="1810"/>
                      </a:cubicBezTo>
                      <a:cubicBezTo>
                        <a:pt x="334" y="1824"/>
                        <a:pt x="384" y="1832"/>
                        <a:pt x="440" y="1834"/>
                      </a:cubicBezTo>
                      <a:cubicBezTo>
                        <a:pt x="451" y="1834"/>
                        <a:pt x="451" y="1834"/>
                        <a:pt x="451" y="1834"/>
                      </a:cubicBezTo>
                      <a:cubicBezTo>
                        <a:pt x="459" y="1843"/>
                        <a:pt x="459" y="1843"/>
                        <a:pt x="459" y="1843"/>
                      </a:cubicBezTo>
                      <a:cubicBezTo>
                        <a:pt x="652" y="2066"/>
                        <a:pt x="968" y="2200"/>
                        <a:pt x="1306" y="2200"/>
                      </a:cubicBezTo>
                      <a:cubicBezTo>
                        <a:pt x="1644" y="2200"/>
                        <a:pt x="1960" y="2067"/>
                        <a:pt x="2153" y="1844"/>
                      </a:cubicBezTo>
                      <a:cubicBezTo>
                        <a:pt x="2161" y="1835"/>
                        <a:pt x="2161" y="1835"/>
                        <a:pt x="2161" y="1835"/>
                      </a:cubicBezTo>
                      <a:cubicBezTo>
                        <a:pt x="2173" y="1835"/>
                        <a:pt x="2173" y="1835"/>
                        <a:pt x="2173" y="1835"/>
                      </a:cubicBezTo>
                      <a:cubicBezTo>
                        <a:pt x="2235" y="1834"/>
                        <a:pt x="2290" y="1826"/>
                        <a:pt x="2343" y="1810"/>
                      </a:cubicBezTo>
                      <a:cubicBezTo>
                        <a:pt x="2511" y="1757"/>
                        <a:pt x="2571" y="1610"/>
                        <a:pt x="2571" y="1488"/>
                      </a:cubicBezTo>
                      <a:cubicBezTo>
                        <a:pt x="2571" y="1486"/>
                        <a:pt x="2571" y="1484"/>
                        <a:pt x="2571" y="1482"/>
                      </a:cubicBezTo>
                      <a:cubicBezTo>
                        <a:pt x="2570" y="1431"/>
                        <a:pt x="2562" y="1387"/>
                        <a:pt x="2554" y="1348"/>
                      </a:cubicBezTo>
                      <a:cubicBezTo>
                        <a:pt x="2547" y="1312"/>
                        <a:pt x="2541" y="1279"/>
                        <a:pt x="2541" y="1246"/>
                      </a:cubicBezTo>
                      <a:cubicBezTo>
                        <a:pt x="2541" y="1219"/>
                        <a:pt x="2545" y="1192"/>
                        <a:pt x="2557" y="1164"/>
                      </a:cubicBezTo>
                      <a:cubicBezTo>
                        <a:pt x="2577" y="1120"/>
                        <a:pt x="2606" y="1092"/>
                        <a:pt x="2632" y="1075"/>
                      </a:cubicBezTo>
                      <a:cubicBezTo>
                        <a:pt x="2606" y="1058"/>
                        <a:pt x="2577" y="1030"/>
                        <a:pt x="2557" y="986"/>
                      </a:cubicBezTo>
                      <a:cubicBezTo>
                        <a:pt x="2545" y="958"/>
                        <a:pt x="2541" y="931"/>
                        <a:pt x="2541" y="904"/>
                      </a:cubicBezTo>
                      <a:cubicBezTo>
                        <a:pt x="2541" y="871"/>
                        <a:pt x="2547" y="838"/>
                        <a:pt x="2554" y="803"/>
                      </a:cubicBezTo>
                      <a:cubicBezTo>
                        <a:pt x="2562" y="764"/>
                        <a:pt x="2570" y="719"/>
                        <a:pt x="2571" y="669"/>
                      </a:cubicBezTo>
                      <a:cubicBezTo>
                        <a:pt x="2571" y="667"/>
                        <a:pt x="2571" y="665"/>
                        <a:pt x="2571" y="663"/>
                      </a:cubicBezTo>
                      <a:cubicBezTo>
                        <a:pt x="2571" y="540"/>
                        <a:pt x="2511" y="393"/>
                        <a:pt x="2343" y="340"/>
                      </a:cubicBezTo>
                      <a:cubicBezTo>
                        <a:pt x="2279" y="320"/>
                        <a:pt x="2209" y="312"/>
                        <a:pt x="2129" y="317"/>
                      </a:cubicBezTo>
                      <a:cubicBezTo>
                        <a:pt x="2117" y="317"/>
                        <a:pt x="2117" y="317"/>
                        <a:pt x="2117" y="317"/>
                      </a:cubicBezTo>
                      <a:cubicBezTo>
                        <a:pt x="2109" y="309"/>
                        <a:pt x="2109" y="309"/>
                        <a:pt x="2109" y="309"/>
                      </a:cubicBezTo>
                      <a:cubicBezTo>
                        <a:pt x="1912" y="113"/>
                        <a:pt x="1619" y="0"/>
                        <a:pt x="1306" y="0"/>
                      </a:cubicBezTo>
                      <a:cubicBezTo>
                        <a:pt x="994" y="0"/>
                        <a:pt x="702" y="112"/>
                        <a:pt x="505" y="308"/>
                      </a:cubicBezTo>
                      <a:close/>
                    </a:path>
                  </a:pathLst>
                </a:custGeom>
                <a:solidFill>
                  <a:srgbClr val="f8f2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  <p:sp>
              <p:nvSpPr>
                <p:cNvPr id="214" name="Freeform 7"/>
                <p:cNvSpPr/>
                <p:nvPr/>
              </p:nvSpPr>
              <p:spPr>
                <a:xfrm>
                  <a:off x="4838400" y="2770200"/>
                  <a:ext cx="2601360" cy="2188440"/>
                </a:xfrm>
                <a:custGeom>
                  <a:avLst/>
                  <a:gdLst/>
                  <a:ahLst/>
                  <a:rect l="l" t="t" r="r" b="b"/>
                  <a:pathLst>
                    <a:path w="2586" h="2173">
                      <a:moveTo>
                        <a:pt x="491" y="304"/>
                      </a:moveTo>
                      <a:cubicBezTo>
                        <a:pt x="481" y="314"/>
                        <a:pt x="481" y="314"/>
                        <a:pt x="481" y="314"/>
                      </a:cubicBezTo>
                      <a:cubicBezTo>
                        <a:pt x="463" y="315"/>
                        <a:pt x="463" y="315"/>
                        <a:pt x="463" y="315"/>
                      </a:cubicBezTo>
                      <a:cubicBezTo>
                        <a:pt x="461" y="315"/>
                        <a:pt x="461" y="315"/>
                        <a:pt x="461" y="315"/>
                      </a:cubicBezTo>
                      <a:cubicBezTo>
                        <a:pt x="390" y="313"/>
                        <a:pt x="328" y="321"/>
                        <a:pt x="270" y="339"/>
                      </a:cubicBezTo>
                      <a:cubicBezTo>
                        <a:pt x="109" y="389"/>
                        <a:pt x="51" y="532"/>
                        <a:pt x="51" y="649"/>
                      </a:cubicBezTo>
                      <a:cubicBezTo>
                        <a:pt x="51" y="654"/>
                        <a:pt x="51" y="654"/>
                        <a:pt x="51" y="654"/>
                      </a:cubicBezTo>
                      <a:cubicBezTo>
                        <a:pt x="52" y="704"/>
                        <a:pt x="61" y="748"/>
                        <a:pt x="68" y="786"/>
                      </a:cubicBezTo>
                      <a:cubicBezTo>
                        <a:pt x="75" y="822"/>
                        <a:pt x="81" y="856"/>
                        <a:pt x="81" y="890"/>
                      </a:cubicBezTo>
                      <a:cubicBezTo>
                        <a:pt x="81" y="921"/>
                        <a:pt x="75" y="950"/>
                        <a:pt x="64" y="977"/>
                      </a:cubicBezTo>
                      <a:cubicBezTo>
                        <a:pt x="49" y="1011"/>
                        <a:pt x="27" y="1039"/>
                        <a:pt x="0" y="1061"/>
                      </a:cubicBezTo>
                      <a:cubicBezTo>
                        <a:pt x="27" y="1083"/>
                        <a:pt x="49" y="1111"/>
                        <a:pt x="64" y="1145"/>
                      </a:cubicBezTo>
                      <a:cubicBezTo>
                        <a:pt x="75" y="1172"/>
                        <a:pt x="81" y="1201"/>
                        <a:pt x="81" y="1232"/>
                      </a:cubicBezTo>
                      <a:cubicBezTo>
                        <a:pt x="81" y="1266"/>
                        <a:pt x="75" y="1300"/>
                        <a:pt x="68" y="1336"/>
                      </a:cubicBezTo>
                      <a:cubicBezTo>
                        <a:pt x="61" y="1375"/>
                        <a:pt x="52" y="1418"/>
                        <a:pt x="51" y="1468"/>
                      </a:cubicBezTo>
                      <a:cubicBezTo>
                        <a:pt x="51" y="1474"/>
                        <a:pt x="51" y="1474"/>
                        <a:pt x="51" y="1474"/>
                      </a:cubicBezTo>
                      <a:cubicBezTo>
                        <a:pt x="51" y="1590"/>
                        <a:pt x="109" y="1733"/>
                        <a:pt x="270" y="1783"/>
                      </a:cubicBezTo>
                      <a:cubicBezTo>
                        <a:pt x="314" y="1797"/>
                        <a:pt x="362" y="1805"/>
                        <a:pt x="417" y="1806"/>
                      </a:cubicBezTo>
                      <a:cubicBezTo>
                        <a:pt x="434" y="1807"/>
                        <a:pt x="434" y="1807"/>
                        <a:pt x="434" y="1807"/>
                      </a:cubicBezTo>
                      <a:cubicBezTo>
                        <a:pt x="446" y="1820"/>
                        <a:pt x="446" y="1820"/>
                        <a:pt x="446" y="1820"/>
                      </a:cubicBezTo>
                      <a:cubicBezTo>
                        <a:pt x="636" y="2041"/>
                        <a:pt x="949" y="2173"/>
                        <a:pt x="1283" y="2173"/>
                      </a:cubicBezTo>
                      <a:cubicBezTo>
                        <a:pt x="1617" y="2173"/>
                        <a:pt x="1930" y="2041"/>
                        <a:pt x="2120" y="1821"/>
                      </a:cubicBezTo>
                      <a:cubicBezTo>
                        <a:pt x="2132" y="1807"/>
                        <a:pt x="2132" y="1807"/>
                        <a:pt x="2132" y="1807"/>
                      </a:cubicBezTo>
                      <a:cubicBezTo>
                        <a:pt x="2150" y="1807"/>
                        <a:pt x="2150" y="1807"/>
                        <a:pt x="2150" y="1807"/>
                      </a:cubicBezTo>
                      <a:cubicBezTo>
                        <a:pt x="2210" y="1807"/>
                        <a:pt x="2265" y="1799"/>
                        <a:pt x="2316" y="1783"/>
                      </a:cubicBezTo>
                      <a:cubicBezTo>
                        <a:pt x="2477" y="1733"/>
                        <a:pt x="2535" y="1590"/>
                        <a:pt x="2535" y="1474"/>
                      </a:cubicBezTo>
                      <a:cubicBezTo>
                        <a:pt x="2535" y="1468"/>
                        <a:pt x="2535" y="1468"/>
                        <a:pt x="2535" y="1468"/>
                      </a:cubicBezTo>
                      <a:cubicBezTo>
                        <a:pt x="2534" y="1418"/>
                        <a:pt x="2525" y="1375"/>
                        <a:pt x="2518" y="1336"/>
                      </a:cubicBezTo>
                      <a:cubicBezTo>
                        <a:pt x="2511" y="1300"/>
                        <a:pt x="2505" y="1266"/>
                        <a:pt x="2505" y="1232"/>
                      </a:cubicBezTo>
                      <a:cubicBezTo>
                        <a:pt x="2505" y="1201"/>
                        <a:pt x="2510" y="1172"/>
                        <a:pt x="2522" y="1145"/>
                      </a:cubicBezTo>
                      <a:cubicBezTo>
                        <a:pt x="2537" y="1111"/>
                        <a:pt x="2558" y="1083"/>
                        <a:pt x="2586" y="1061"/>
                      </a:cubicBezTo>
                      <a:cubicBezTo>
                        <a:pt x="2558" y="1039"/>
                        <a:pt x="2537" y="1011"/>
                        <a:pt x="2522" y="977"/>
                      </a:cubicBezTo>
                      <a:cubicBezTo>
                        <a:pt x="2510" y="950"/>
                        <a:pt x="2505" y="921"/>
                        <a:pt x="2505" y="890"/>
                      </a:cubicBezTo>
                      <a:cubicBezTo>
                        <a:pt x="2505" y="856"/>
                        <a:pt x="2511" y="822"/>
                        <a:pt x="2518" y="786"/>
                      </a:cubicBezTo>
                      <a:cubicBezTo>
                        <a:pt x="2525" y="748"/>
                        <a:pt x="2534" y="704"/>
                        <a:pt x="2535" y="654"/>
                      </a:cubicBezTo>
                      <a:cubicBezTo>
                        <a:pt x="2535" y="649"/>
                        <a:pt x="2535" y="649"/>
                        <a:pt x="2535" y="649"/>
                      </a:cubicBezTo>
                      <a:cubicBezTo>
                        <a:pt x="2535" y="532"/>
                        <a:pt x="2477" y="389"/>
                        <a:pt x="2316" y="339"/>
                      </a:cubicBezTo>
                      <a:cubicBezTo>
                        <a:pt x="2253" y="319"/>
                        <a:pt x="2185" y="312"/>
                        <a:pt x="2107" y="316"/>
                      </a:cubicBezTo>
                      <a:cubicBezTo>
                        <a:pt x="2089" y="317"/>
                        <a:pt x="2089" y="317"/>
                        <a:pt x="2089" y="317"/>
                      </a:cubicBezTo>
                      <a:cubicBezTo>
                        <a:pt x="2076" y="305"/>
                        <a:pt x="2076" y="305"/>
                        <a:pt x="2076" y="305"/>
                      </a:cubicBezTo>
                      <a:cubicBezTo>
                        <a:pt x="1882" y="111"/>
                        <a:pt x="1593" y="0"/>
                        <a:pt x="1283" y="0"/>
                      </a:cubicBezTo>
                      <a:cubicBezTo>
                        <a:pt x="974" y="0"/>
                        <a:pt x="686" y="110"/>
                        <a:pt x="491" y="304"/>
                      </a:cubicBezTo>
                      <a:close/>
                    </a:path>
                  </a:pathLst>
                </a:custGeom>
                <a:solidFill>
                  <a:srgbClr val="d6cb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5" name="组合 92"/>
              <p:cNvGrpSpPr/>
              <p:nvPr/>
            </p:nvGrpSpPr>
            <p:grpSpPr>
              <a:xfrm>
                <a:off x="5411520" y="3323160"/>
                <a:ext cx="1454760" cy="1055160"/>
                <a:chOff x="5411520" y="3323160"/>
                <a:chExt cx="1454760" cy="1055160"/>
              </a:xfrm>
            </p:grpSpPr>
            <p:sp>
              <p:nvSpPr>
                <p:cNvPr id="216" name="矩形 90"/>
                <p:cNvSpPr/>
                <p:nvPr/>
              </p:nvSpPr>
              <p:spPr>
                <a:xfrm>
                  <a:off x="5411520" y="3736800"/>
                  <a:ext cx="14547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2c2710"/>
                      </a:solidFill>
                      <a:latin typeface="微软雅黑"/>
                      <a:ea typeface="微软雅黑"/>
                    </a:rPr>
                    <a:t>她的歌就像恋爱中的碎碎念，有时像温柔的小猫，有时又像怒吼的狮子</a:t>
                  </a:r>
                  <a:endParaRPr b="0" lang="en-US" sz="12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  <p:sp>
              <p:nvSpPr>
                <p:cNvPr id="217" name="文本框 91"/>
                <p:cNvSpPr/>
                <p:nvPr/>
              </p:nvSpPr>
              <p:spPr>
                <a:xfrm>
                  <a:off x="5505840" y="3323160"/>
                  <a:ext cx="1265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c2710"/>
                      </a:solidFill>
                      <a:latin typeface="微软雅黑"/>
                      <a:ea typeface="微软雅黑"/>
                    </a:rPr>
                    <a:t>{ </a:t>
                  </a:r>
                  <a:r>
                    <a:rPr b="0" lang="zh-CN" sz="2400" spc="-1" strike="noStrike">
                      <a:solidFill>
                        <a:srgbClr val="2c2710"/>
                      </a:solidFill>
                      <a:latin typeface="微软雅黑"/>
                      <a:ea typeface="微软雅黑"/>
                    </a:rPr>
                    <a:t>阿黛尔 </a:t>
                  </a:r>
                  <a:r>
                    <a:rPr b="0" lang="en-US" sz="2400" spc="-1" strike="noStrike">
                      <a:solidFill>
                        <a:srgbClr val="2c2710"/>
                      </a:solidFill>
                      <a:latin typeface="微软雅黑"/>
                      <a:ea typeface="微软雅黑"/>
                    </a:rPr>
                    <a:t>}</a:t>
                  </a:r>
                  <a:endParaRPr b="0" lang="en-US" sz="24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18" name="直接连接符 94"/>
            <p:cNvSpPr/>
            <p:nvPr/>
          </p:nvSpPr>
          <p:spPr>
            <a:xfrm>
              <a:off x="5262480" y="3724200"/>
              <a:ext cx="1868400" cy="0"/>
            </a:xfrm>
            <a:prstGeom prst="line">
              <a:avLst/>
            </a:prstGeom>
            <a:ln w="6480">
              <a:solidFill>
                <a:srgbClr val="fdfbe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219" name="组合 124"/>
          <p:cNvGrpSpPr/>
          <p:nvPr/>
        </p:nvGrpSpPr>
        <p:grpSpPr>
          <a:xfrm>
            <a:off x="1304280" y="2066760"/>
            <a:ext cx="3083400" cy="1099440"/>
            <a:chOff x="1304280" y="2066760"/>
            <a:chExt cx="3083400" cy="1099440"/>
          </a:xfrm>
        </p:grpSpPr>
        <p:grpSp>
          <p:nvGrpSpPr>
            <p:cNvPr id="220" name="组合 104"/>
            <p:cNvGrpSpPr/>
            <p:nvPr/>
          </p:nvGrpSpPr>
          <p:grpSpPr>
            <a:xfrm>
              <a:off x="1439640" y="2164320"/>
              <a:ext cx="912240" cy="912600"/>
              <a:chOff x="1439640" y="2164320"/>
              <a:chExt cx="912240" cy="912600"/>
            </a:xfrm>
          </p:grpSpPr>
          <p:sp>
            <p:nvSpPr>
              <p:cNvPr id="221" name="椭圆 105"/>
              <p:cNvSpPr/>
              <p:nvPr/>
            </p:nvSpPr>
            <p:spPr>
              <a:xfrm>
                <a:off x="1479240" y="2203920"/>
                <a:ext cx="833040" cy="833400"/>
              </a:xfrm>
              <a:prstGeom prst="ellipse">
                <a:avLst/>
              </a:prstGeom>
              <a:solidFill>
                <a:srgbClr val="fd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222" name="椭圆 106"/>
              <p:cNvSpPr/>
              <p:nvPr/>
            </p:nvSpPr>
            <p:spPr>
              <a:xfrm>
                <a:off x="1439640" y="2164320"/>
                <a:ext cx="912240" cy="912600"/>
              </a:xfrm>
              <a:prstGeom prst="ellipse">
                <a:avLst/>
              </a:prstGeom>
              <a:noFill/>
              <a:ln w="12600">
                <a:solidFill>
                  <a:srgbClr val="fdfbe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223" name="文本框 96"/>
            <p:cNvSpPr/>
            <p:nvPr/>
          </p:nvSpPr>
          <p:spPr>
            <a:xfrm>
              <a:off x="1304280" y="2066760"/>
              <a:ext cx="715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574f1f"/>
                  </a:solidFill>
                  <a:latin typeface="Vivaldi"/>
                </a:rPr>
                <a:t>A</a:t>
              </a:r>
              <a:endParaRPr b="0" lang="en-US" sz="66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24" name="文本框 100"/>
            <p:cNvSpPr/>
            <p:nvPr/>
          </p:nvSpPr>
          <p:spPr>
            <a:xfrm>
              <a:off x="2839680" y="2216160"/>
              <a:ext cx="81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{ </a:t>
              </a:r>
              <a:r>
                <a:rPr b="0" lang="zh-CN" sz="18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第一个阶段 </a:t>
              </a:r>
              <a:r>
                <a:rPr b="0" lang="en-US" sz="18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}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25" name="矩形 101"/>
            <p:cNvSpPr/>
            <p:nvPr/>
          </p:nvSpPr>
          <p:spPr>
            <a:xfrm>
              <a:off x="2452320" y="2563560"/>
              <a:ext cx="193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第</a:t>
              </a:r>
              <a:r>
                <a:rPr b="0" lang="en-US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51</a:t>
              </a:r>
              <a:r>
                <a:rPr b="0" lang="zh-CN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届 格莱美奖最佳流行 女歌手、年度新人</a:t>
              </a:r>
              <a:endParaRPr b="0" lang="en-US" sz="14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226" name="组合 122"/>
          <p:cNvGrpSpPr/>
          <p:nvPr/>
        </p:nvGrpSpPr>
        <p:grpSpPr>
          <a:xfrm>
            <a:off x="7986600" y="2066760"/>
            <a:ext cx="2747520" cy="1099440"/>
            <a:chOff x="7986600" y="2066760"/>
            <a:chExt cx="2747520" cy="1099440"/>
          </a:xfrm>
        </p:grpSpPr>
        <p:grpSp>
          <p:nvGrpSpPr>
            <p:cNvPr id="227" name="组合 107"/>
            <p:cNvGrpSpPr/>
            <p:nvPr/>
          </p:nvGrpSpPr>
          <p:grpSpPr>
            <a:xfrm>
              <a:off x="9807120" y="2164320"/>
              <a:ext cx="912600" cy="912600"/>
              <a:chOff x="9807120" y="2164320"/>
              <a:chExt cx="912600" cy="912600"/>
            </a:xfrm>
          </p:grpSpPr>
          <p:sp>
            <p:nvSpPr>
              <p:cNvPr id="228" name="椭圆 108"/>
              <p:cNvSpPr/>
              <p:nvPr/>
            </p:nvSpPr>
            <p:spPr>
              <a:xfrm>
                <a:off x="9846720" y="2203920"/>
                <a:ext cx="833400" cy="833400"/>
              </a:xfrm>
              <a:prstGeom prst="ellipse">
                <a:avLst/>
              </a:prstGeom>
              <a:solidFill>
                <a:srgbClr val="fd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229" name="椭圆 109"/>
              <p:cNvSpPr/>
              <p:nvPr/>
            </p:nvSpPr>
            <p:spPr>
              <a:xfrm>
                <a:off x="9807120" y="2164320"/>
                <a:ext cx="912600" cy="912600"/>
              </a:xfrm>
              <a:prstGeom prst="ellipse">
                <a:avLst/>
              </a:prstGeom>
              <a:noFill/>
              <a:ln w="12600">
                <a:solidFill>
                  <a:srgbClr val="fdfbe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230" name="文本框 98"/>
            <p:cNvSpPr/>
            <p:nvPr/>
          </p:nvSpPr>
          <p:spPr>
            <a:xfrm>
              <a:off x="10023120" y="2066760"/>
              <a:ext cx="711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574f1f"/>
                  </a:solidFill>
                  <a:latin typeface="Vivaldi"/>
                </a:rPr>
                <a:t>C</a:t>
              </a:r>
              <a:endParaRPr b="0" lang="en-US" sz="66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31" name="矩形 103"/>
            <p:cNvSpPr/>
            <p:nvPr/>
          </p:nvSpPr>
          <p:spPr>
            <a:xfrm>
              <a:off x="7986600" y="256356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第</a:t>
              </a:r>
              <a:r>
                <a:rPr b="0" lang="en-US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55</a:t>
              </a:r>
              <a:r>
                <a:rPr b="0" lang="zh-CN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届格莱美奖最佳流行歌手。第</a:t>
              </a:r>
              <a:r>
                <a:rPr b="0" lang="en-US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70</a:t>
              </a:r>
              <a:r>
                <a:rPr b="0" lang="zh-CN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届金球奖最佳电影原创歌曲</a:t>
              </a:r>
              <a:endParaRPr b="0" lang="en-US" sz="14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32" name="文本框 116"/>
            <p:cNvSpPr/>
            <p:nvPr/>
          </p:nvSpPr>
          <p:spPr>
            <a:xfrm>
              <a:off x="8269200" y="221616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{ </a:t>
              </a:r>
              <a:r>
                <a:rPr b="0" lang="zh-CN" sz="18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第三个阶段 </a:t>
              </a:r>
              <a:r>
                <a:rPr b="0" lang="en-US" sz="18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}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233" name="组合 125"/>
          <p:cNvGrpSpPr/>
          <p:nvPr/>
        </p:nvGrpSpPr>
        <p:grpSpPr>
          <a:xfrm>
            <a:off x="1121760" y="4205160"/>
            <a:ext cx="3037320" cy="1099440"/>
            <a:chOff x="1121760" y="4205160"/>
            <a:chExt cx="3037320" cy="1099440"/>
          </a:xfrm>
        </p:grpSpPr>
        <p:grpSp>
          <p:nvGrpSpPr>
            <p:cNvPr id="234" name="组合 113"/>
            <p:cNvGrpSpPr/>
            <p:nvPr/>
          </p:nvGrpSpPr>
          <p:grpSpPr>
            <a:xfrm>
              <a:off x="1454760" y="4339800"/>
              <a:ext cx="912240" cy="912600"/>
              <a:chOff x="1454760" y="4339800"/>
              <a:chExt cx="912240" cy="912600"/>
            </a:xfrm>
          </p:grpSpPr>
          <p:sp>
            <p:nvSpPr>
              <p:cNvPr id="235" name="椭圆 114"/>
              <p:cNvSpPr/>
              <p:nvPr/>
            </p:nvSpPr>
            <p:spPr>
              <a:xfrm>
                <a:off x="1494360" y="4379400"/>
                <a:ext cx="833040" cy="833400"/>
              </a:xfrm>
              <a:prstGeom prst="ellipse">
                <a:avLst/>
              </a:prstGeom>
              <a:solidFill>
                <a:srgbClr val="fd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236" name="椭圆 115"/>
              <p:cNvSpPr/>
              <p:nvPr/>
            </p:nvSpPr>
            <p:spPr>
              <a:xfrm>
                <a:off x="1454760" y="4339800"/>
                <a:ext cx="912240" cy="912600"/>
              </a:xfrm>
              <a:prstGeom prst="ellipse">
                <a:avLst/>
              </a:prstGeom>
              <a:noFill/>
              <a:ln w="12600">
                <a:solidFill>
                  <a:srgbClr val="fdfbe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237" name="文本框 97"/>
            <p:cNvSpPr/>
            <p:nvPr/>
          </p:nvSpPr>
          <p:spPr>
            <a:xfrm>
              <a:off x="1121760" y="4205160"/>
              <a:ext cx="726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574f1f"/>
                  </a:solidFill>
                  <a:latin typeface="Vivaldi"/>
                </a:rPr>
                <a:t>B</a:t>
              </a:r>
              <a:endParaRPr b="0" lang="en-US" sz="66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38" name="矩形 102"/>
            <p:cNvSpPr/>
            <p:nvPr/>
          </p:nvSpPr>
          <p:spPr>
            <a:xfrm>
              <a:off x="2490840" y="4778280"/>
              <a:ext cx="166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第</a:t>
              </a:r>
              <a:r>
                <a:rPr b="0" lang="en-US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54</a:t>
              </a:r>
              <a:r>
                <a:rPr b="0" lang="zh-CN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届格莱美奖年度最佳专辑、年度最佳制作、年度最佳单曲、最佳流行专辑、最佳流行歌手、最佳短篇</a:t>
              </a:r>
              <a:r>
                <a:rPr b="0" lang="en-US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MV</a:t>
              </a:r>
              <a:endParaRPr b="0" lang="en-US" sz="14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39" name="文本框 117"/>
            <p:cNvSpPr/>
            <p:nvPr/>
          </p:nvSpPr>
          <p:spPr>
            <a:xfrm>
              <a:off x="2610360" y="440820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{ </a:t>
              </a:r>
              <a:r>
                <a:rPr b="0" lang="zh-CN" sz="18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第二个阶段 </a:t>
              </a:r>
              <a:r>
                <a:rPr b="0" lang="en-US" sz="18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}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240" name="组合 123"/>
          <p:cNvGrpSpPr/>
          <p:nvPr/>
        </p:nvGrpSpPr>
        <p:grpSpPr>
          <a:xfrm>
            <a:off x="7675560" y="4205160"/>
            <a:ext cx="3243960" cy="1099440"/>
            <a:chOff x="7675560" y="4205160"/>
            <a:chExt cx="3243960" cy="1099440"/>
          </a:xfrm>
        </p:grpSpPr>
        <p:grpSp>
          <p:nvGrpSpPr>
            <p:cNvPr id="241" name="组合 110"/>
            <p:cNvGrpSpPr/>
            <p:nvPr/>
          </p:nvGrpSpPr>
          <p:grpSpPr>
            <a:xfrm>
              <a:off x="9806760" y="4339800"/>
              <a:ext cx="911880" cy="912600"/>
              <a:chOff x="9806760" y="4339800"/>
              <a:chExt cx="911880" cy="912600"/>
            </a:xfrm>
          </p:grpSpPr>
          <p:sp>
            <p:nvSpPr>
              <p:cNvPr id="242" name="椭圆 111"/>
              <p:cNvSpPr/>
              <p:nvPr/>
            </p:nvSpPr>
            <p:spPr>
              <a:xfrm>
                <a:off x="9846360" y="4379400"/>
                <a:ext cx="832680" cy="833400"/>
              </a:xfrm>
              <a:prstGeom prst="ellipse">
                <a:avLst/>
              </a:prstGeom>
              <a:solidFill>
                <a:srgbClr val="fd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243" name="椭圆 112"/>
              <p:cNvSpPr/>
              <p:nvPr/>
            </p:nvSpPr>
            <p:spPr>
              <a:xfrm>
                <a:off x="9806760" y="4339800"/>
                <a:ext cx="911880" cy="912600"/>
              </a:xfrm>
              <a:prstGeom prst="ellipse">
                <a:avLst/>
              </a:prstGeom>
              <a:noFill/>
              <a:ln w="12600">
                <a:solidFill>
                  <a:srgbClr val="fdfbe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244" name="文本框 99"/>
            <p:cNvSpPr/>
            <p:nvPr/>
          </p:nvSpPr>
          <p:spPr>
            <a:xfrm>
              <a:off x="10126080" y="4205160"/>
              <a:ext cx="793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574f1f"/>
                  </a:solidFill>
                  <a:latin typeface="Vivaldi"/>
                </a:rPr>
                <a:t>D</a:t>
              </a:r>
              <a:endParaRPr b="0" lang="en-US" sz="66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45" name="文本框 118"/>
            <p:cNvSpPr/>
            <p:nvPr/>
          </p:nvSpPr>
          <p:spPr>
            <a:xfrm>
              <a:off x="8269560" y="440820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{ </a:t>
              </a:r>
              <a:r>
                <a:rPr b="0" lang="zh-CN" sz="18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第四个阶段 </a:t>
              </a:r>
              <a:r>
                <a:rPr b="0" lang="en-US" sz="18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}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46" name="矩形 119"/>
            <p:cNvSpPr/>
            <p:nvPr/>
          </p:nvSpPr>
          <p:spPr>
            <a:xfrm>
              <a:off x="7675560" y="4778280"/>
              <a:ext cx="193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第</a:t>
              </a:r>
              <a:r>
                <a:rPr b="0" lang="en-US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85</a:t>
              </a:r>
              <a:r>
                <a:rPr b="0" lang="zh-CN" sz="14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届奥斯卡最佳电影原创歌曲</a:t>
              </a:r>
              <a:endParaRPr b="0" lang="en-US" sz="14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sp>
        <p:nvSpPr>
          <p:cNvPr id="247" name="文本框 8239"/>
          <p:cNvSpPr/>
          <p:nvPr/>
        </p:nvSpPr>
        <p:spPr>
          <a:xfrm>
            <a:off x="4297320" y="603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4f1f"/>
                </a:solidFill>
                <a:latin typeface="Brush Script MT"/>
              </a:rPr>
              <a:t>The European and American pop singer</a:t>
            </a: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  <p:sp>
        <p:nvSpPr>
          <p:cNvPr id="248" name="下弧形箭头 8240"/>
          <p:cNvSpPr/>
          <p:nvPr/>
        </p:nvSpPr>
        <p:spPr>
          <a:xfrm rot="16260000">
            <a:off x="11558520" y="6316560"/>
            <a:ext cx="488880" cy="469800"/>
          </a:xfrm>
          <a:custGeom>
            <a:avLst/>
            <a:gdLst>
              <a:gd name="textAreaLeft" fmla="*/ 85320 w 488880"/>
              <a:gd name="textAreaRight" fmla="*/ 354600 w 488880"/>
              <a:gd name="textAreaTop" fmla="*/ 62640 h 469800"/>
              <a:gd name="textAreaBottom" fmla="*/ 40716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b8b00">
              <a:alpha val="57000"/>
            </a:srgbClr>
          </a:solidFill>
          <a:ln w="9360">
            <a:solidFill>
              <a:srgbClr val="574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9000"/>
                            </p:stCondLst>
                            <p:childTnLst>
                              <p:par>
                                <p:cTn id="1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组合 9217"/>
          <p:cNvGrpSpPr/>
          <p:nvPr/>
        </p:nvGrpSpPr>
        <p:grpSpPr>
          <a:xfrm>
            <a:off x="2397240" y="-295200"/>
            <a:ext cx="7214040" cy="7193160"/>
            <a:chOff x="2397240" y="-295200"/>
            <a:chExt cx="7214040" cy="7193160"/>
          </a:xfrm>
        </p:grpSpPr>
        <p:pic>
          <p:nvPicPr>
            <p:cNvPr id="250" name="图片 14" descr=""/>
            <p:cNvPicPr/>
            <p:nvPr/>
          </p:nvPicPr>
          <p:blipFill>
            <a:blip r:embed="rId1"/>
            <a:srcRect l="0" t="0" r="0" b="-458"/>
            <a:stretch/>
          </p:blipFill>
          <p:spPr>
            <a:xfrm flipH="1" rot="19171200">
              <a:off x="4374720" y="279000"/>
              <a:ext cx="2517120" cy="20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图片 1" descr=""/>
            <p:cNvPicPr/>
            <p:nvPr/>
          </p:nvPicPr>
          <p:blipFill>
            <a:blip r:embed="rId2"/>
            <a:srcRect l="-435" t="-739" r="65619" b="40027"/>
            <a:stretch/>
          </p:blipFill>
          <p:spPr>
            <a:xfrm rot="20187600">
              <a:off x="2838600" y="2074320"/>
              <a:ext cx="2149200" cy="26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图片 2" descr=""/>
            <p:cNvPicPr/>
            <p:nvPr/>
          </p:nvPicPr>
          <p:blipFill>
            <a:blip r:embed="rId3"/>
            <a:srcRect l="0" t="0" r="136" b="0"/>
            <a:stretch/>
          </p:blipFill>
          <p:spPr>
            <a:xfrm flipH="1" rot="3175200">
              <a:off x="3206520" y="1488960"/>
              <a:ext cx="6157800" cy="368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组合 9221"/>
          <p:cNvGrpSpPr/>
          <p:nvPr/>
        </p:nvGrpSpPr>
        <p:grpSpPr>
          <a:xfrm>
            <a:off x="3699000" y="1058760"/>
            <a:ext cx="4711680" cy="4711680"/>
            <a:chOff x="3699000" y="1058760"/>
            <a:chExt cx="4711680" cy="4711680"/>
          </a:xfrm>
        </p:grpSpPr>
        <p:grpSp>
          <p:nvGrpSpPr>
            <p:cNvPr id="254" name="组合 3"/>
            <p:cNvGrpSpPr/>
            <p:nvPr/>
          </p:nvGrpSpPr>
          <p:grpSpPr>
            <a:xfrm>
              <a:off x="3699000" y="1058760"/>
              <a:ext cx="4711680" cy="4711680"/>
              <a:chOff x="3699000" y="1058760"/>
              <a:chExt cx="4711680" cy="4711680"/>
            </a:xfrm>
          </p:grpSpPr>
          <p:sp>
            <p:nvSpPr>
              <p:cNvPr id="255" name="椭圆 4"/>
              <p:cNvSpPr/>
              <p:nvPr/>
            </p:nvSpPr>
            <p:spPr>
              <a:xfrm>
                <a:off x="3902040" y="1261800"/>
                <a:ext cx="4305600" cy="4305600"/>
              </a:xfrm>
              <a:prstGeom prst="ellipse">
                <a:avLst/>
              </a:prstGeom>
              <a:solidFill>
                <a:srgbClr val="fd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256" name="椭圆 5"/>
              <p:cNvSpPr/>
              <p:nvPr/>
            </p:nvSpPr>
            <p:spPr>
              <a:xfrm>
                <a:off x="3699000" y="1058760"/>
                <a:ext cx="4711680" cy="4711680"/>
              </a:xfrm>
              <a:prstGeom prst="ellipse">
                <a:avLst/>
              </a:prstGeom>
              <a:noFill/>
              <a:ln w="12600">
                <a:solidFill>
                  <a:srgbClr val="fdfbe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257" name="文本框 6"/>
            <p:cNvSpPr/>
            <p:nvPr/>
          </p:nvSpPr>
          <p:spPr>
            <a:xfrm>
              <a:off x="4101120" y="2625840"/>
              <a:ext cx="39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74f1f"/>
                  </a:solidFill>
                  <a:latin typeface="Vivaldi"/>
                </a:rPr>
                <a:t>The  darling  of  the  folk  music</a:t>
              </a:r>
              <a:endParaRPr b="0" lang="en-US" sz="20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58" name="文本框 7"/>
            <p:cNvSpPr/>
            <p:nvPr/>
          </p:nvSpPr>
          <p:spPr>
            <a:xfrm>
              <a:off x="5225400" y="2992320"/>
              <a:ext cx="165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74f1f"/>
                  </a:solidFill>
                  <a:latin typeface="宋体"/>
                </a:rPr>
                <a:t>{</a:t>
              </a:r>
              <a:r>
                <a:rPr b="0" lang="zh-CN" sz="3200" spc="-1" strike="noStrike">
                  <a:solidFill>
                    <a:srgbClr val="574f1f"/>
                  </a:solidFill>
                  <a:latin typeface="宋体"/>
                  <a:ea typeface="宋体"/>
                </a:rPr>
                <a:t>民谣宠儿</a:t>
              </a:r>
              <a:r>
                <a:rPr b="0" lang="en-US" sz="3200" spc="-1" strike="noStrike">
                  <a:solidFill>
                    <a:srgbClr val="574f1f"/>
                  </a:solidFill>
                  <a:latin typeface="宋体"/>
                </a:rPr>
                <a:t>}</a:t>
              </a:r>
              <a:endParaRPr b="0" lang="en-US" sz="32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259" name="组合 8"/>
          <p:cNvGrpSpPr/>
          <p:nvPr/>
        </p:nvGrpSpPr>
        <p:grpSpPr>
          <a:xfrm>
            <a:off x="5330880" y="3830760"/>
            <a:ext cx="1352520" cy="387360"/>
            <a:chOff x="5330880" y="3830760"/>
            <a:chExt cx="1352520" cy="387360"/>
          </a:xfrm>
        </p:grpSpPr>
        <p:sp>
          <p:nvSpPr>
            <p:cNvPr id="260" name="Freeform 1332"/>
            <p:cNvSpPr/>
            <p:nvPr/>
          </p:nvSpPr>
          <p:spPr>
            <a:xfrm flipV="1">
              <a:off x="6221880" y="3852000"/>
              <a:ext cx="461520" cy="34452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20"/>
                  </a:moveTo>
                  <a:cubicBezTo>
                    <a:pt x="0" y="20"/>
                    <a:pt x="6" y="13"/>
                    <a:pt x="11" y="12"/>
                  </a:cubicBezTo>
                  <a:cubicBezTo>
                    <a:pt x="24" y="11"/>
                    <a:pt x="16" y="21"/>
                    <a:pt x="16" y="22"/>
                  </a:cubicBezTo>
                  <a:cubicBezTo>
                    <a:pt x="17" y="22"/>
                    <a:pt x="19" y="22"/>
                    <a:pt x="19" y="20"/>
                  </a:cubicBezTo>
                  <a:cubicBezTo>
                    <a:pt x="20" y="24"/>
                    <a:pt x="15" y="25"/>
                    <a:pt x="16" y="27"/>
                  </a:cubicBezTo>
                  <a:cubicBezTo>
                    <a:pt x="17" y="26"/>
                    <a:pt x="19" y="26"/>
                    <a:pt x="20" y="25"/>
                  </a:cubicBezTo>
                  <a:cubicBezTo>
                    <a:pt x="20" y="28"/>
                    <a:pt x="15" y="29"/>
                    <a:pt x="16" y="32"/>
                  </a:cubicBezTo>
                  <a:cubicBezTo>
                    <a:pt x="17" y="29"/>
                    <a:pt x="20" y="31"/>
                    <a:pt x="23" y="29"/>
                  </a:cubicBezTo>
                  <a:cubicBezTo>
                    <a:pt x="33" y="23"/>
                    <a:pt x="23" y="13"/>
                    <a:pt x="22" y="13"/>
                  </a:cubicBezTo>
                  <a:cubicBezTo>
                    <a:pt x="29" y="19"/>
                    <a:pt x="23" y="24"/>
                    <a:pt x="23" y="24"/>
                  </a:cubicBezTo>
                  <a:cubicBezTo>
                    <a:pt x="23" y="24"/>
                    <a:pt x="25" y="20"/>
                    <a:pt x="22" y="15"/>
                  </a:cubicBezTo>
                  <a:cubicBezTo>
                    <a:pt x="19" y="10"/>
                    <a:pt x="10" y="11"/>
                    <a:pt x="6" y="14"/>
                  </a:cubicBezTo>
                  <a:cubicBezTo>
                    <a:pt x="9" y="9"/>
                    <a:pt x="21" y="10"/>
                    <a:pt x="22" y="10"/>
                  </a:cubicBezTo>
                  <a:cubicBezTo>
                    <a:pt x="30" y="10"/>
                    <a:pt x="34" y="19"/>
                    <a:pt x="34" y="20"/>
                  </a:cubicBezTo>
                  <a:cubicBezTo>
                    <a:pt x="34" y="22"/>
                    <a:pt x="35" y="24"/>
                    <a:pt x="35" y="24"/>
                  </a:cubicBezTo>
                  <a:cubicBezTo>
                    <a:pt x="35" y="24"/>
                    <a:pt x="34" y="24"/>
                    <a:pt x="33" y="23"/>
                  </a:cubicBezTo>
                  <a:cubicBezTo>
                    <a:pt x="33" y="21"/>
                    <a:pt x="33" y="18"/>
                    <a:pt x="32" y="16"/>
                  </a:cubicBezTo>
                  <a:cubicBezTo>
                    <a:pt x="31" y="14"/>
                    <a:pt x="28" y="13"/>
                    <a:pt x="28" y="13"/>
                  </a:cubicBezTo>
                  <a:cubicBezTo>
                    <a:pt x="28" y="13"/>
                    <a:pt x="30" y="14"/>
                    <a:pt x="30" y="15"/>
                  </a:cubicBezTo>
                  <a:cubicBezTo>
                    <a:pt x="26" y="21"/>
                    <a:pt x="28" y="25"/>
                    <a:pt x="30" y="25"/>
                  </a:cubicBezTo>
                  <a:cubicBezTo>
                    <a:pt x="32" y="26"/>
                    <a:pt x="33" y="27"/>
                    <a:pt x="33" y="28"/>
                  </a:cubicBezTo>
                  <a:cubicBezTo>
                    <a:pt x="34" y="28"/>
                    <a:pt x="33" y="25"/>
                    <a:pt x="33" y="25"/>
                  </a:cubicBezTo>
                  <a:cubicBezTo>
                    <a:pt x="33" y="25"/>
                    <a:pt x="34" y="24"/>
                    <a:pt x="35" y="27"/>
                  </a:cubicBezTo>
                  <a:cubicBezTo>
                    <a:pt x="37" y="30"/>
                    <a:pt x="41" y="31"/>
                    <a:pt x="42" y="30"/>
                  </a:cubicBezTo>
                  <a:cubicBezTo>
                    <a:pt x="41" y="30"/>
                    <a:pt x="38" y="28"/>
                    <a:pt x="38" y="26"/>
                  </a:cubicBezTo>
                  <a:cubicBezTo>
                    <a:pt x="39" y="23"/>
                    <a:pt x="38" y="22"/>
                    <a:pt x="38" y="21"/>
                  </a:cubicBezTo>
                  <a:cubicBezTo>
                    <a:pt x="39" y="21"/>
                    <a:pt x="42" y="21"/>
                    <a:pt x="42" y="22"/>
                  </a:cubicBezTo>
                  <a:cubicBezTo>
                    <a:pt x="43" y="21"/>
                    <a:pt x="41" y="18"/>
                    <a:pt x="40" y="18"/>
                  </a:cubicBezTo>
                  <a:cubicBezTo>
                    <a:pt x="41" y="18"/>
                    <a:pt x="43" y="16"/>
                    <a:pt x="42" y="15"/>
                  </a:cubicBezTo>
                  <a:cubicBezTo>
                    <a:pt x="41" y="17"/>
                    <a:pt x="40" y="14"/>
                    <a:pt x="39" y="14"/>
                  </a:cubicBezTo>
                  <a:cubicBezTo>
                    <a:pt x="37" y="13"/>
                    <a:pt x="35" y="13"/>
                    <a:pt x="34" y="14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28" y="11"/>
                    <a:pt x="24" y="10"/>
                    <a:pt x="24" y="10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7" y="11"/>
                    <a:pt x="29" y="10"/>
                  </a:cubicBezTo>
                  <a:cubicBezTo>
                    <a:pt x="31" y="10"/>
                    <a:pt x="35" y="7"/>
                    <a:pt x="36" y="9"/>
                  </a:cubicBezTo>
                  <a:cubicBezTo>
                    <a:pt x="36" y="8"/>
                    <a:pt x="35" y="7"/>
                    <a:pt x="34" y="7"/>
                  </a:cubicBezTo>
                  <a:cubicBezTo>
                    <a:pt x="36" y="3"/>
                    <a:pt x="39" y="2"/>
                    <a:pt x="40" y="3"/>
                  </a:cubicBezTo>
                  <a:cubicBezTo>
                    <a:pt x="39" y="0"/>
                    <a:pt x="34" y="2"/>
                    <a:pt x="31" y="2"/>
                  </a:cubicBezTo>
                  <a:cubicBezTo>
                    <a:pt x="32" y="1"/>
                    <a:pt x="30" y="0"/>
                    <a:pt x="30" y="0"/>
                  </a:cubicBezTo>
                  <a:cubicBezTo>
                    <a:pt x="30" y="0"/>
                    <a:pt x="30" y="2"/>
                    <a:pt x="27" y="3"/>
                  </a:cubicBezTo>
                  <a:cubicBezTo>
                    <a:pt x="25" y="4"/>
                    <a:pt x="24" y="7"/>
                    <a:pt x="25" y="8"/>
                  </a:cubicBezTo>
                  <a:cubicBezTo>
                    <a:pt x="21" y="10"/>
                    <a:pt x="14" y="9"/>
                    <a:pt x="9" y="11"/>
                  </a:cubicBezTo>
                  <a:cubicBezTo>
                    <a:pt x="5" y="13"/>
                    <a:pt x="0" y="20"/>
                    <a:pt x="0" y="20"/>
                  </a:cubicBezTo>
                  <a:close/>
                  <a:moveTo>
                    <a:pt x="33" y="5"/>
                  </a:moveTo>
                  <a:cubicBezTo>
                    <a:pt x="34" y="7"/>
                    <a:pt x="26" y="8"/>
                    <a:pt x="26" y="8"/>
                  </a:cubicBezTo>
                  <a:cubicBezTo>
                    <a:pt x="26" y="8"/>
                    <a:pt x="32" y="2"/>
                    <a:pt x="33" y="5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61" name="Freeform 1333"/>
            <p:cNvSpPr/>
            <p:nvPr/>
          </p:nvSpPr>
          <p:spPr>
            <a:xfrm flipV="1">
              <a:off x="5330880" y="3852000"/>
              <a:ext cx="461520" cy="34452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33" y="11"/>
                  </a:moveTo>
                  <a:cubicBezTo>
                    <a:pt x="28" y="9"/>
                    <a:pt x="21" y="10"/>
                    <a:pt x="18" y="8"/>
                  </a:cubicBezTo>
                  <a:cubicBezTo>
                    <a:pt x="18" y="7"/>
                    <a:pt x="17" y="4"/>
                    <a:pt x="15" y="3"/>
                  </a:cubicBezTo>
                  <a:cubicBezTo>
                    <a:pt x="12" y="2"/>
                    <a:pt x="13" y="0"/>
                    <a:pt x="13" y="0"/>
                  </a:cubicBezTo>
                  <a:cubicBezTo>
                    <a:pt x="13" y="0"/>
                    <a:pt x="10" y="1"/>
                    <a:pt x="11" y="2"/>
                  </a:cubicBezTo>
                  <a:cubicBezTo>
                    <a:pt x="9" y="2"/>
                    <a:pt x="4" y="0"/>
                    <a:pt x="2" y="3"/>
                  </a:cubicBezTo>
                  <a:cubicBezTo>
                    <a:pt x="3" y="2"/>
                    <a:pt x="6" y="3"/>
                    <a:pt x="8" y="7"/>
                  </a:cubicBezTo>
                  <a:cubicBezTo>
                    <a:pt x="7" y="7"/>
                    <a:pt x="6" y="8"/>
                    <a:pt x="7" y="9"/>
                  </a:cubicBezTo>
                  <a:cubicBezTo>
                    <a:pt x="8" y="7"/>
                    <a:pt x="11" y="10"/>
                    <a:pt x="13" y="10"/>
                  </a:cubicBezTo>
                  <a:cubicBezTo>
                    <a:pt x="16" y="11"/>
                    <a:pt x="17" y="9"/>
                    <a:pt x="17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4" y="11"/>
                    <a:pt x="11" y="13"/>
                  </a:cubicBezTo>
                  <a:cubicBezTo>
                    <a:pt x="11" y="13"/>
                    <a:pt x="10" y="13"/>
                    <a:pt x="9" y="14"/>
                  </a:cubicBezTo>
                  <a:cubicBezTo>
                    <a:pt x="7" y="13"/>
                    <a:pt x="5" y="13"/>
                    <a:pt x="4" y="14"/>
                  </a:cubicBezTo>
                  <a:cubicBezTo>
                    <a:pt x="2" y="14"/>
                    <a:pt x="1" y="17"/>
                    <a:pt x="0" y="15"/>
                  </a:cubicBezTo>
                  <a:cubicBezTo>
                    <a:pt x="0" y="16"/>
                    <a:pt x="1" y="18"/>
                    <a:pt x="3" y="18"/>
                  </a:cubicBezTo>
                  <a:cubicBezTo>
                    <a:pt x="2" y="18"/>
                    <a:pt x="0" y="21"/>
                    <a:pt x="1" y="22"/>
                  </a:cubicBezTo>
                  <a:cubicBezTo>
                    <a:pt x="1" y="21"/>
                    <a:pt x="3" y="21"/>
                    <a:pt x="5" y="21"/>
                  </a:cubicBezTo>
                  <a:cubicBezTo>
                    <a:pt x="4" y="22"/>
                    <a:pt x="3" y="23"/>
                    <a:pt x="4" y="26"/>
                  </a:cubicBezTo>
                  <a:cubicBezTo>
                    <a:pt x="5" y="28"/>
                    <a:pt x="1" y="30"/>
                    <a:pt x="0" y="30"/>
                  </a:cubicBezTo>
                  <a:cubicBezTo>
                    <a:pt x="2" y="31"/>
                    <a:pt x="5" y="30"/>
                    <a:pt x="7" y="27"/>
                  </a:cubicBezTo>
                  <a:cubicBezTo>
                    <a:pt x="9" y="24"/>
                    <a:pt x="9" y="25"/>
                    <a:pt x="9" y="25"/>
                  </a:cubicBezTo>
                  <a:cubicBezTo>
                    <a:pt x="9" y="25"/>
                    <a:pt x="8" y="28"/>
                    <a:pt x="9" y="28"/>
                  </a:cubicBezTo>
                  <a:cubicBezTo>
                    <a:pt x="10" y="27"/>
                    <a:pt x="11" y="26"/>
                    <a:pt x="12" y="25"/>
                  </a:cubicBezTo>
                  <a:cubicBezTo>
                    <a:pt x="14" y="25"/>
                    <a:pt x="16" y="21"/>
                    <a:pt x="13" y="15"/>
                  </a:cubicBezTo>
                  <a:cubicBezTo>
                    <a:pt x="12" y="14"/>
                    <a:pt x="14" y="13"/>
                    <a:pt x="14" y="13"/>
                  </a:cubicBezTo>
                  <a:cubicBezTo>
                    <a:pt x="14" y="13"/>
                    <a:pt x="12" y="14"/>
                    <a:pt x="11" y="16"/>
                  </a:cubicBezTo>
                  <a:cubicBezTo>
                    <a:pt x="10" y="18"/>
                    <a:pt x="10" y="21"/>
                    <a:pt x="9" y="23"/>
                  </a:cubicBezTo>
                  <a:cubicBezTo>
                    <a:pt x="8" y="24"/>
                    <a:pt x="7" y="24"/>
                    <a:pt x="7" y="24"/>
                  </a:cubicBezTo>
                  <a:cubicBezTo>
                    <a:pt x="7" y="24"/>
                    <a:pt x="9" y="22"/>
                    <a:pt x="8" y="20"/>
                  </a:cubicBezTo>
                  <a:cubicBezTo>
                    <a:pt x="8" y="19"/>
                    <a:pt x="12" y="10"/>
                    <a:pt x="20" y="10"/>
                  </a:cubicBezTo>
                  <a:cubicBezTo>
                    <a:pt x="21" y="10"/>
                    <a:pt x="33" y="9"/>
                    <a:pt x="36" y="14"/>
                  </a:cubicBezTo>
                  <a:cubicBezTo>
                    <a:pt x="33" y="11"/>
                    <a:pt x="23" y="10"/>
                    <a:pt x="20" y="15"/>
                  </a:cubicBezTo>
                  <a:cubicBezTo>
                    <a:pt x="17" y="20"/>
                    <a:pt x="19" y="24"/>
                    <a:pt x="19" y="24"/>
                  </a:cubicBezTo>
                  <a:cubicBezTo>
                    <a:pt x="19" y="24"/>
                    <a:pt x="14" y="19"/>
                    <a:pt x="21" y="13"/>
                  </a:cubicBezTo>
                  <a:cubicBezTo>
                    <a:pt x="20" y="13"/>
                    <a:pt x="9" y="23"/>
                    <a:pt x="20" y="29"/>
                  </a:cubicBezTo>
                  <a:cubicBezTo>
                    <a:pt x="23" y="31"/>
                    <a:pt x="26" y="29"/>
                    <a:pt x="27" y="32"/>
                  </a:cubicBezTo>
                  <a:cubicBezTo>
                    <a:pt x="27" y="29"/>
                    <a:pt x="23" y="28"/>
                    <a:pt x="22" y="25"/>
                  </a:cubicBezTo>
                  <a:cubicBezTo>
                    <a:pt x="23" y="26"/>
                    <a:pt x="25" y="26"/>
                    <a:pt x="27" y="27"/>
                  </a:cubicBezTo>
                  <a:cubicBezTo>
                    <a:pt x="27" y="25"/>
                    <a:pt x="22" y="24"/>
                    <a:pt x="23" y="20"/>
                  </a:cubicBezTo>
                  <a:cubicBezTo>
                    <a:pt x="23" y="22"/>
                    <a:pt x="25" y="22"/>
                    <a:pt x="26" y="22"/>
                  </a:cubicBezTo>
                  <a:cubicBezTo>
                    <a:pt x="26" y="21"/>
                    <a:pt x="19" y="11"/>
                    <a:pt x="31" y="12"/>
                  </a:cubicBezTo>
                  <a:cubicBezTo>
                    <a:pt x="37" y="13"/>
                    <a:pt x="43" y="20"/>
                    <a:pt x="43" y="20"/>
                  </a:cubicBezTo>
                  <a:cubicBezTo>
                    <a:pt x="43" y="20"/>
                    <a:pt x="38" y="13"/>
                    <a:pt x="33" y="11"/>
                  </a:cubicBezTo>
                  <a:close/>
                  <a:moveTo>
                    <a:pt x="16" y="8"/>
                  </a:moveTo>
                  <a:cubicBezTo>
                    <a:pt x="16" y="8"/>
                    <a:pt x="9" y="7"/>
                    <a:pt x="9" y="5"/>
                  </a:cubicBezTo>
                  <a:cubicBezTo>
                    <a:pt x="10" y="2"/>
                    <a:pt x="16" y="8"/>
                    <a:pt x="16" y="8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62" name="Freeform 1334"/>
            <p:cNvSpPr/>
            <p:nvPr/>
          </p:nvSpPr>
          <p:spPr>
            <a:xfrm flipV="1">
              <a:off x="5619960" y="3830760"/>
              <a:ext cx="355320" cy="215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3" y="11"/>
                  </a:moveTo>
                  <a:cubicBezTo>
                    <a:pt x="33" y="12"/>
                    <a:pt x="33" y="12"/>
                    <a:pt x="33" y="12"/>
                  </a:cubicBezTo>
                  <a:cubicBezTo>
                    <a:pt x="33" y="12"/>
                    <a:pt x="28" y="7"/>
                    <a:pt x="23" y="11"/>
                  </a:cubicBezTo>
                  <a:cubicBezTo>
                    <a:pt x="23" y="12"/>
                    <a:pt x="23" y="15"/>
                    <a:pt x="18" y="15"/>
                  </a:cubicBezTo>
                  <a:cubicBezTo>
                    <a:pt x="19" y="15"/>
                    <a:pt x="19" y="12"/>
                    <a:pt x="22" y="11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10"/>
                    <a:pt x="14" y="15"/>
                    <a:pt x="12" y="13"/>
                  </a:cubicBezTo>
                  <a:cubicBezTo>
                    <a:pt x="11" y="14"/>
                    <a:pt x="11" y="15"/>
                    <a:pt x="10" y="16"/>
                  </a:cubicBezTo>
                  <a:cubicBezTo>
                    <a:pt x="8" y="17"/>
                    <a:pt x="6" y="18"/>
                    <a:pt x="6" y="20"/>
                  </a:cubicBezTo>
                  <a:cubicBezTo>
                    <a:pt x="5" y="19"/>
                    <a:pt x="5" y="14"/>
                    <a:pt x="11" y="13"/>
                  </a:cubicBezTo>
                  <a:cubicBezTo>
                    <a:pt x="10" y="13"/>
                    <a:pt x="8" y="13"/>
                    <a:pt x="8" y="13"/>
                  </a:cubicBezTo>
                  <a:cubicBezTo>
                    <a:pt x="8" y="13"/>
                    <a:pt x="4" y="16"/>
                    <a:pt x="0" y="13"/>
                  </a:cubicBezTo>
                  <a:cubicBezTo>
                    <a:pt x="1" y="12"/>
                    <a:pt x="4" y="9"/>
                    <a:pt x="8" y="12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3"/>
                    <a:pt x="5" y="11"/>
                    <a:pt x="6" y="6"/>
                  </a:cubicBezTo>
                  <a:cubicBezTo>
                    <a:pt x="7" y="7"/>
                    <a:pt x="10" y="7"/>
                    <a:pt x="10" y="9"/>
                  </a:cubicBezTo>
                  <a:cubicBezTo>
                    <a:pt x="11" y="11"/>
                    <a:pt x="10" y="12"/>
                    <a:pt x="12" y="13"/>
                  </a:cubicBezTo>
                  <a:cubicBezTo>
                    <a:pt x="14" y="14"/>
                    <a:pt x="22" y="10"/>
                    <a:pt x="22" y="10"/>
                  </a:cubicBezTo>
                  <a:cubicBezTo>
                    <a:pt x="22" y="10"/>
                    <a:pt x="21" y="9"/>
                    <a:pt x="20" y="9"/>
                  </a:cubicBezTo>
                  <a:cubicBezTo>
                    <a:pt x="19" y="9"/>
                    <a:pt x="17" y="8"/>
                    <a:pt x="16" y="7"/>
                  </a:cubicBezTo>
                  <a:cubicBezTo>
                    <a:pt x="14" y="5"/>
                    <a:pt x="15" y="3"/>
                    <a:pt x="15" y="3"/>
                  </a:cubicBezTo>
                  <a:cubicBezTo>
                    <a:pt x="15" y="3"/>
                    <a:pt x="16" y="3"/>
                    <a:pt x="19" y="5"/>
                  </a:cubicBezTo>
                  <a:cubicBezTo>
                    <a:pt x="22" y="7"/>
                    <a:pt x="19" y="8"/>
                    <a:pt x="23" y="9"/>
                  </a:cubicBezTo>
                  <a:cubicBezTo>
                    <a:pt x="25" y="9"/>
                    <a:pt x="28" y="8"/>
                    <a:pt x="28" y="9"/>
                  </a:cubicBezTo>
                  <a:cubicBezTo>
                    <a:pt x="27" y="8"/>
                    <a:pt x="24" y="6"/>
                    <a:pt x="25" y="4"/>
                  </a:cubicBezTo>
                  <a:cubicBezTo>
                    <a:pt x="25" y="1"/>
                    <a:pt x="26" y="1"/>
                    <a:pt x="26" y="0"/>
                  </a:cubicBezTo>
                  <a:cubicBezTo>
                    <a:pt x="27" y="0"/>
                    <a:pt x="29" y="2"/>
                    <a:pt x="28" y="4"/>
                  </a:cubicBezTo>
                  <a:cubicBezTo>
                    <a:pt x="28" y="6"/>
                    <a:pt x="28" y="8"/>
                    <a:pt x="29" y="9"/>
                  </a:cubicBezTo>
                  <a:cubicBezTo>
                    <a:pt x="31" y="10"/>
                    <a:pt x="33" y="11"/>
                    <a:pt x="33" y="11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63" name="Freeform 1335"/>
            <p:cNvSpPr/>
            <p:nvPr/>
          </p:nvSpPr>
          <p:spPr>
            <a:xfrm flipV="1">
              <a:off x="6029280" y="3830760"/>
              <a:ext cx="353880" cy="215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1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5" y="7"/>
                    <a:pt x="11" y="11"/>
                  </a:cubicBezTo>
                  <a:cubicBezTo>
                    <a:pt x="10" y="12"/>
                    <a:pt x="10" y="15"/>
                    <a:pt x="15" y="15"/>
                  </a:cubicBezTo>
                  <a:cubicBezTo>
                    <a:pt x="15" y="15"/>
                    <a:pt x="15" y="12"/>
                    <a:pt x="11" y="1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20" y="15"/>
                    <a:pt x="22" y="13"/>
                  </a:cubicBezTo>
                  <a:cubicBezTo>
                    <a:pt x="22" y="14"/>
                    <a:pt x="22" y="15"/>
                    <a:pt x="24" y="16"/>
                  </a:cubicBezTo>
                  <a:cubicBezTo>
                    <a:pt x="25" y="17"/>
                    <a:pt x="27" y="18"/>
                    <a:pt x="27" y="20"/>
                  </a:cubicBezTo>
                  <a:cubicBezTo>
                    <a:pt x="28" y="19"/>
                    <a:pt x="29" y="14"/>
                    <a:pt x="22" y="13"/>
                  </a:cubicBezTo>
                  <a:cubicBezTo>
                    <a:pt x="23" y="13"/>
                    <a:pt x="26" y="13"/>
                    <a:pt x="26" y="13"/>
                  </a:cubicBezTo>
                  <a:cubicBezTo>
                    <a:pt x="26" y="13"/>
                    <a:pt x="29" y="16"/>
                    <a:pt x="33" y="13"/>
                  </a:cubicBezTo>
                  <a:cubicBezTo>
                    <a:pt x="32" y="12"/>
                    <a:pt x="29" y="9"/>
                    <a:pt x="26" y="12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13"/>
                    <a:pt x="28" y="11"/>
                    <a:pt x="27" y="6"/>
                  </a:cubicBezTo>
                  <a:cubicBezTo>
                    <a:pt x="26" y="7"/>
                    <a:pt x="23" y="7"/>
                    <a:pt x="23" y="9"/>
                  </a:cubicBezTo>
                  <a:cubicBezTo>
                    <a:pt x="22" y="11"/>
                    <a:pt x="23" y="12"/>
                    <a:pt x="21" y="13"/>
                  </a:cubicBezTo>
                  <a:cubicBezTo>
                    <a:pt x="19" y="14"/>
                    <a:pt x="11" y="10"/>
                    <a:pt x="11" y="10"/>
                  </a:cubicBezTo>
                  <a:cubicBezTo>
                    <a:pt x="12" y="10"/>
                    <a:pt x="12" y="9"/>
                    <a:pt x="13" y="9"/>
                  </a:cubicBezTo>
                  <a:cubicBezTo>
                    <a:pt x="14" y="9"/>
                    <a:pt x="16" y="8"/>
                    <a:pt x="18" y="7"/>
                  </a:cubicBezTo>
                  <a:cubicBezTo>
                    <a:pt x="19" y="5"/>
                    <a:pt x="19" y="3"/>
                    <a:pt x="19" y="3"/>
                  </a:cubicBezTo>
                  <a:cubicBezTo>
                    <a:pt x="19" y="3"/>
                    <a:pt x="17" y="3"/>
                    <a:pt x="14" y="5"/>
                  </a:cubicBezTo>
                  <a:cubicBezTo>
                    <a:pt x="12" y="7"/>
                    <a:pt x="14" y="8"/>
                    <a:pt x="11" y="9"/>
                  </a:cubicBezTo>
                  <a:cubicBezTo>
                    <a:pt x="8" y="9"/>
                    <a:pt x="6" y="8"/>
                    <a:pt x="5" y="9"/>
                  </a:cubicBezTo>
                  <a:cubicBezTo>
                    <a:pt x="6" y="8"/>
                    <a:pt x="9" y="6"/>
                    <a:pt x="9" y="4"/>
                  </a:cubicBezTo>
                  <a:cubicBezTo>
                    <a:pt x="8" y="1"/>
                    <a:pt x="7" y="1"/>
                    <a:pt x="8" y="0"/>
                  </a:cubicBezTo>
                  <a:cubicBezTo>
                    <a:pt x="7" y="0"/>
                    <a:pt x="5" y="2"/>
                    <a:pt x="5" y="4"/>
                  </a:cubicBezTo>
                  <a:cubicBezTo>
                    <a:pt x="5" y="6"/>
                    <a:pt x="5" y="8"/>
                    <a:pt x="4" y="9"/>
                  </a:cubicBezTo>
                  <a:cubicBezTo>
                    <a:pt x="2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64" name="Freeform 1336"/>
            <p:cNvSpPr/>
            <p:nvPr/>
          </p:nvSpPr>
          <p:spPr>
            <a:xfrm flipV="1">
              <a:off x="5878800" y="3970440"/>
              <a:ext cx="235440" cy="2476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3" y="13"/>
                  </a:moveTo>
                  <a:cubicBezTo>
                    <a:pt x="12" y="16"/>
                    <a:pt x="17" y="16"/>
                    <a:pt x="17" y="17"/>
                  </a:cubicBezTo>
                  <a:cubicBezTo>
                    <a:pt x="18" y="16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20" y="14"/>
                    <a:pt x="21" y="14"/>
                    <a:pt x="22" y="15"/>
                  </a:cubicBezTo>
                  <a:cubicBezTo>
                    <a:pt x="22" y="12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0"/>
                    <a:pt x="16" y="8"/>
                    <a:pt x="13" y="11"/>
                  </a:cubicBezTo>
                  <a:cubicBezTo>
                    <a:pt x="15" y="8"/>
                    <a:pt x="13" y="3"/>
                    <a:pt x="13" y="3"/>
                  </a:cubicBezTo>
                  <a:cubicBezTo>
                    <a:pt x="13" y="3"/>
                    <a:pt x="13" y="4"/>
                    <a:pt x="12" y="5"/>
                  </a:cubicBezTo>
                  <a:cubicBezTo>
                    <a:pt x="12" y="2"/>
                    <a:pt x="7" y="0"/>
                    <a:pt x="6" y="0"/>
                  </a:cubicBezTo>
                  <a:cubicBezTo>
                    <a:pt x="7" y="0"/>
                    <a:pt x="7" y="2"/>
                    <a:pt x="7" y="3"/>
                  </a:cubicBezTo>
                  <a:cubicBezTo>
                    <a:pt x="8" y="5"/>
                    <a:pt x="8" y="6"/>
                    <a:pt x="8" y="6"/>
                  </a:cubicBezTo>
                  <a:cubicBezTo>
                    <a:pt x="8" y="6"/>
                    <a:pt x="7" y="6"/>
                    <a:pt x="6" y="6"/>
                  </a:cubicBezTo>
                  <a:cubicBezTo>
                    <a:pt x="7" y="7"/>
                    <a:pt x="8" y="9"/>
                    <a:pt x="9" y="9"/>
                  </a:cubicBezTo>
                  <a:cubicBezTo>
                    <a:pt x="11" y="10"/>
                    <a:pt x="10" y="12"/>
                    <a:pt x="12" y="13"/>
                  </a:cubicBezTo>
                  <a:cubicBezTo>
                    <a:pt x="11" y="13"/>
                    <a:pt x="9" y="13"/>
                    <a:pt x="9" y="11"/>
                  </a:cubicBezTo>
                  <a:cubicBezTo>
                    <a:pt x="8" y="9"/>
                    <a:pt x="6" y="9"/>
                    <a:pt x="6" y="9"/>
                  </a:cubicBezTo>
                  <a:cubicBezTo>
                    <a:pt x="6" y="9"/>
                    <a:pt x="6" y="9"/>
                    <a:pt x="7" y="10"/>
                  </a:cubicBezTo>
                  <a:cubicBezTo>
                    <a:pt x="4" y="8"/>
                    <a:pt x="0" y="11"/>
                    <a:pt x="0" y="12"/>
                  </a:cubicBezTo>
                  <a:cubicBezTo>
                    <a:pt x="1" y="11"/>
                    <a:pt x="3" y="14"/>
                    <a:pt x="5" y="14"/>
                  </a:cubicBezTo>
                  <a:cubicBezTo>
                    <a:pt x="4" y="15"/>
                    <a:pt x="4" y="16"/>
                    <a:pt x="5" y="17"/>
                  </a:cubicBezTo>
                  <a:cubicBezTo>
                    <a:pt x="5" y="15"/>
                    <a:pt x="6" y="15"/>
                    <a:pt x="7" y="16"/>
                  </a:cubicBezTo>
                  <a:cubicBezTo>
                    <a:pt x="9" y="16"/>
                    <a:pt x="10" y="14"/>
                    <a:pt x="10" y="13"/>
                  </a:cubicBezTo>
                  <a:cubicBezTo>
                    <a:pt x="10" y="13"/>
                    <a:pt x="12" y="13"/>
                    <a:pt x="12" y="13"/>
                  </a:cubicBezTo>
                  <a:cubicBezTo>
                    <a:pt x="12" y="13"/>
                    <a:pt x="10" y="15"/>
                    <a:pt x="10" y="18"/>
                  </a:cubicBezTo>
                  <a:cubicBezTo>
                    <a:pt x="9" y="22"/>
                    <a:pt x="13" y="23"/>
                    <a:pt x="13" y="23"/>
                  </a:cubicBezTo>
                  <a:cubicBezTo>
                    <a:pt x="7" y="20"/>
                    <a:pt x="12" y="14"/>
                    <a:pt x="13" y="13"/>
                  </a:cubicBezTo>
                  <a:close/>
                  <a:moveTo>
                    <a:pt x="10" y="5"/>
                  </a:moveTo>
                  <a:cubicBezTo>
                    <a:pt x="11" y="4"/>
                    <a:pt x="12" y="7"/>
                    <a:pt x="12" y="11"/>
                  </a:cubicBezTo>
                  <a:cubicBezTo>
                    <a:pt x="12" y="11"/>
                    <a:pt x="9" y="5"/>
                    <a:pt x="10" y="5"/>
                  </a:cubicBezTo>
                  <a:close/>
                  <a:moveTo>
                    <a:pt x="13" y="12"/>
                  </a:moveTo>
                  <a:cubicBezTo>
                    <a:pt x="13" y="12"/>
                    <a:pt x="18" y="11"/>
                    <a:pt x="19" y="13"/>
                  </a:cubicBezTo>
                  <a:cubicBezTo>
                    <a:pt x="19" y="14"/>
                    <a:pt x="13" y="12"/>
                    <a:pt x="13" y="12"/>
                  </a:cubicBezTo>
                  <a:close/>
                  <a:moveTo>
                    <a:pt x="9" y="13"/>
                  </a:moveTo>
                  <a:cubicBezTo>
                    <a:pt x="9" y="13"/>
                    <a:pt x="3" y="13"/>
                    <a:pt x="3" y="11"/>
                  </a:cubicBezTo>
                  <a:cubicBezTo>
                    <a:pt x="4" y="10"/>
                    <a:pt x="9" y="13"/>
                    <a:pt x="9" y="13"/>
                  </a:cubicBezTo>
                  <a:close/>
                </a:path>
              </a:pathLst>
            </a:custGeom>
            <a:solidFill>
              <a:srgbClr val="574f1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pic>
        <p:nvPicPr>
          <p:cNvPr id="265" name="周云蓬 - 九月 (第三版).mp3" descr="周云蓬 - 九月 (第三版)"/>
          <p:cNvPicPr/>
          <p:nvPr/>
        </p:nvPicPr>
        <p:blipFill>
          <a:blip r:embed="rId4"/>
          <a:stretch/>
        </p:blipFill>
        <p:spPr>
          <a:xfrm>
            <a:off x="84240" y="650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8"/>
          <p:cNvGrpSpPr/>
          <p:nvPr/>
        </p:nvGrpSpPr>
        <p:grpSpPr>
          <a:xfrm>
            <a:off x="671400" y="5273640"/>
            <a:ext cx="5639040" cy="288720"/>
            <a:chOff x="671400" y="5273640"/>
            <a:chExt cx="5639040" cy="288720"/>
          </a:xfrm>
        </p:grpSpPr>
        <p:sp>
          <p:nvSpPr>
            <p:cNvPr id="267" name="Freeform 9"/>
            <p:cNvSpPr/>
            <p:nvPr/>
          </p:nvSpPr>
          <p:spPr>
            <a:xfrm>
              <a:off x="671400" y="5273640"/>
              <a:ext cx="236880" cy="286560"/>
            </a:xfrm>
            <a:custGeom>
              <a:avLst/>
              <a:gdLst/>
              <a:ahLst/>
              <a:rect l="l" t="t" r="r" b="b"/>
              <a:pathLst>
                <a:path w="71" h="83">
                  <a:moveTo>
                    <a:pt x="0" y="43"/>
                  </a:moveTo>
                  <a:cubicBezTo>
                    <a:pt x="9" y="37"/>
                    <a:pt x="18" y="32"/>
                    <a:pt x="29" y="36"/>
                  </a:cubicBezTo>
                  <a:cubicBezTo>
                    <a:pt x="32" y="36"/>
                    <a:pt x="35" y="38"/>
                    <a:pt x="38" y="39"/>
                  </a:cubicBezTo>
                  <a:cubicBezTo>
                    <a:pt x="33" y="32"/>
                    <a:pt x="31" y="25"/>
                    <a:pt x="34" y="17"/>
                  </a:cubicBezTo>
                  <a:cubicBezTo>
                    <a:pt x="38" y="5"/>
                    <a:pt x="53" y="0"/>
                    <a:pt x="63" y="8"/>
                  </a:cubicBezTo>
                  <a:cubicBezTo>
                    <a:pt x="69" y="13"/>
                    <a:pt x="70" y="20"/>
                    <a:pt x="66" y="26"/>
                  </a:cubicBezTo>
                  <a:cubicBezTo>
                    <a:pt x="65" y="28"/>
                    <a:pt x="64" y="29"/>
                    <a:pt x="63" y="31"/>
                  </a:cubicBezTo>
                  <a:cubicBezTo>
                    <a:pt x="60" y="34"/>
                    <a:pt x="56" y="35"/>
                    <a:pt x="53" y="32"/>
                  </a:cubicBezTo>
                  <a:cubicBezTo>
                    <a:pt x="50" y="30"/>
                    <a:pt x="49" y="26"/>
                    <a:pt x="51" y="23"/>
                  </a:cubicBezTo>
                  <a:cubicBezTo>
                    <a:pt x="53" y="20"/>
                    <a:pt x="57" y="19"/>
                    <a:pt x="61" y="21"/>
                  </a:cubicBezTo>
                  <a:cubicBezTo>
                    <a:pt x="62" y="21"/>
                    <a:pt x="63" y="22"/>
                    <a:pt x="64" y="23"/>
                  </a:cubicBezTo>
                  <a:cubicBezTo>
                    <a:pt x="67" y="16"/>
                    <a:pt x="63" y="10"/>
                    <a:pt x="56" y="8"/>
                  </a:cubicBezTo>
                  <a:cubicBezTo>
                    <a:pt x="47" y="5"/>
                    <a:pt x="38" y="11"/>
                    <a:pt x="36" y="21"/>
                  </a:cubicBezTo>
                  <a:cubicBezTo>
                    <a:pt x="34" y="31"/>
                    <a:pt x="39" y="40"/>
                    <a:pt x="49" y="41"/>
                  </a:cubicBezTo>
                  <a:cubicBezTo>
                    <a:pt x="51" y="42"/>
                    <a:pt x="53" y="42"/>
                    <a:pt x="55" y="42"/>
                  </a:cubicBezTo>
                  <a:cubicBezTo>
                    <a:pt x="55" y="43"/>
                    <a:pt x="55" y="43"/>
                    <a:pt x="55" y="44"/>
                  </a:cubicBezTo>
                  <a:cubicBezTo>
                    <a:pt x="53" y="45"/>
                    <a:pt x="50" y="45"/>
                    <a:pt x="48" y="46"/>
                  </a:cubicBezTo>
                  <a:cubicBezTo>
                    <a:pt x="39" y="48"/>
                    <a:pt x="34" y="55"/>
                    <a:pt x="36" y="65"/>
                  </a:cubicBezTo>
                  <a:cubicBezTo>
                    <a:pt x="37" y="74"/>
                    <a:pt x="44" y="80"/>
                    <a:pt x="53" y="80"/>
                  </a:cubicBezTo>
                  <a:cubicBezTo>
                    <a:pt x="62" y="79"/>
                    <a:pt x="68" y="70"/>
                    <a:pt x="64" y="64"/>
                  </a:cubicBezTo>
                  <a:cubicBezTo>
                    <a:pt x="63" y="65"/>
                    <a:pt x="62" y="66"/>
                    <a:pt x="61" y="66"/>
                  </a:cubicBezTo>
                  <a:cubicBezTo>
                    <a:pt x="58" y="68"/>
                    <a:pt x="53" y="67"/>
                    <a:pt x="51" y="64"/>
                  </a:cubicBezTo>
                  <a:cubicBezTo>
                    <a:pt x="49" y="61"/>
                    <a:pt x="50" y="57"/>
                    <a:pt x="53" y="55"/>
                  </a:cubicBezTo>
                  <a:cubicBezTo>
                    <a:pt x="55" y="53"/>
                    <a:pt x="60" y="53"/>
                    <a:pt x="63" y="56"/>
                  </a:cubicBezTo>
                  <a:cubicBezTo>
                    <a:pt x="67" y="61"/>
                    <a:pt x="71" y="66"/>
                    <a:pt x="67" y="74"/>
                  </a:cubicBezTo>
                  <a:cubicBezTo>
                    <a:pt x="64" y="80"/>
                    <a:pt x="58" y="83"/>
                    <a:pt x="51" y="83"/>
                  </a:cubicBezTo>
                  <a:cubicBezTo>
                    <a:pt x="43" y="83"/>
                    <a:pt x="38" y="79"/>
                    <a:pt x="35" y="72"/>
                  </a:cubicBezTo>
                  <a:cubicBezTo>
                    <a:pt x="31" y="63"/>
                    <a:pt x="32" y="55"/>
                    <a:pt x="39" y="48"/>
                  </a:cubicBezTo>
                  <a:cubicBezTo>
                    <a:pt x="35" y="49"/>
                    <a:pt x="32" y="51"/>
                    <a:pt x="28" y="52"/>
                  </a:cubicBezTo>
                  <a:cubicBezTo>
                    <a:pt x="19" y="54"/>
                    <a:pt x="11" y="51"/>
                    <a:pt x="4" y="47"/>
                  </a:cubicBezTo>
                  <a:cubicBezTo>
                    <a:pt x="3" y="46"/>
                    <a:pt x="1" y="45"/>
                    <a:pt x="0" y="44"/>
                  </a:cubicBezTo>
                  <a:cubicBezTo>
                    <a:pt x="0" y="44"/>
                    <a:pt x="0" y="44"/>
                    <a:pt x="0" y="4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68" name="Freeform 10"/>
            <p:cNvSpPr/>
            <p:nvPr/>
          </p:nvSpPr>
          <p:spPr>
            <a:xfrm>
              <a:off x="874440" y="5401080"/>
              <a:ext cx="5233320" cy="44640"/>
            </a:xfrm>
            <a:custGeom>
              <a:avLst/>
              <a:gdLst/>
              <a:ahLst/>
              <a:rect l="l" t="t" r="r" b="b"/>
              <a:pathLst>
                <a:path w="910" h="13">
                  <a:moveTo>
                    <a:pt x="25" y="0"/>
                  </a:moveTo>
                  <a:cubicBezTo>
                    <a:pt x="55" y="1"/>
                    <a:pt x="84" y="3"/>
                    <a:pt x="114" y="4"/>
                  </a:cubicBezTo>
                  <a:cubicBezTo>
                    <a:pt x="125" y="4"/>
                    <a:pt x="136" y="5"/>
                    <a:pt x="147" y="5"/>
                  </a:cubicBezTo>
                  <a:cubicBezTo>
                    <a:pt x="346" y="5"/>
                    <a:pt x="545" y="5"/>
                    <a:pt x="744" y="5"/>
                  </a:cubicBezTo>
                  <a:cubicBezTo>
                    <a:pt x="783" y="5"/>
                    <a:pt x="822" y="2"/>
                    <a:pt x="862" y="1"/>
                  </a:cubicBezTo>
                  <a:cubicBezTo>
                    <a:pt x="875" y="0"/>
                    <a:pt x="889" y="0"/>
                    <a:pt x="902" y="0"/>
                  </a:cubicBezTo>
                  <a:cubicBezTo>
                    <a:pt x="907" y="0"/>
                    <a:pt x="910" y="2"/>
                    <a:pt x="910" y="7"/>
                  </a:cubicBezTo>
                  <a:cubicBezTo>
                    <a:pt x="910" y="11"/>
                    <a:pt x="907" y="13"/>
                    <a:pt x="902" y="13"/>
                  </a:cubicBezTo>
                  <a:cubicBezTo>
                    <a:pt x="872" y="12"/>
                    <a:pt x="842" y="11"/>
                    <a:pt x="812" y="10"/>
                  </a:cubicBezTo>
                  <a:cubicBezTo>
                    <a:pt x="775" y="9"/>
                    <a:pt x="737" y="8"/>
                    <a:pt x="699" y="8"/>
                  </a:cubicBezTo>
                  <a:cubicBezTo>
                    <a:pt x="578" y="8"/>
                    <a:pt x="456" y="8"/>
                    <a:pt x="334" y="8"/>
                  </a:cubicBezTo>
                  <a:cubicBezTo>
                    <a:pt x="240" y="9"/>
                    <a:pt x="145" y="6"/>
                    <a:pt x="50" y="12"/>
                  </a:cubicBezTo>
                  <a:cubicBezTo>
                    <a:pt x="36" y="13"/>
                    <a:pt x="23" y="13"/>
                    <a:pt x="9" y="13"/>
                  </a:cubicBezTo>
                  <a:cubicBezTo>
                    <a:pt x="4" y="13"/>
                    <a:pt x="0" y="10"/>
                    <a:pt x="1" y="6"/>
                  </a:cubicBezTo>
                  <a:cubicBezTo>
                    <a:pt x="1" y="2"/>
                    <a:pt x="3" y="0"/>
                    <a:pt x="8" y="0"/>
                  </a:cubicBezTo>
                  <a:cubicBezTo>
                    <a:pt x="14" y="0"/>
                    <a:pt x="20" y="0"/>
                    <a:pt x="2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69" name="Freeform 11"/>
            <p:cNvSpPr/>
            <p:nvPr/>
          </p:nvSpPr>
          <p:spPr>
            <a:xfrm>
              <a:off x="6074640" y="5283360"/>
              <a:ext cx="235800" cy="279000"/>
            </a:xfrm>
            <a:custGeom>
              <a:avLst/>
              <a:gdLst/>
              <a:ahLst/>
              <a:rect l="l" t="t" r="r" b="b"/>
              <a:pathLst>
                <a:path w="71" h="81">
                  <a:moveTo>
                    <a:pt x="17" y="40"/>
                  </a:moveTo>
                  <a:cubicBezTo>
                    <a:pt x="19" y="39"/>
                    <a:pt x="21" y="39"/>
                    <a:pt x="23" y="38"/>
                  </a:cubicBezTo>
                  <a:cubicBezTo>
                    <a:pt x="35" y="36"/>
                    <a:pt x="37" y="26"/>
                    <a:pt x="35" y="16"/>
                  </a:cubicBezTo>
                  <a:cubicBezTo>
                    <a:pt x="34" y="7"/>
                    <a:pt x="23" y="2"/>
                    <a:pt x="15" y="5"/>
                  </a:cubicBezTo>
                  <a:cubicBezTo>
                    <a:pt x="8" y="7"/>
                    <a:pt x="5" y="14"/>
                    <a:pt x="8" y="20"/>
                  </a:cubicBezTo>
                  <a:cubicBezTo>
                    <a:pt x="9" y="19"/>
                    <a:pt x="9" y="18"/>
                    <a:pt x="10" y="18"/>
                  </a:cubicBezTo>
                  <a:cubicBezTo>
                    <a:pt x="14" y="16"/>
                    <a:pt x="18" y="17"/>
                    <a:pt x="20" y="20"/>
                  </a:cubicBezTo>
                  <a:cubicBezTo>
                    <a:pt x="22" y="23"/>
                    <a:pt x="21" y="27"/>
                    <a:pt x="19" y="29"/>
                  </a:cubicBezTo>
                  <a:cubicBezTo>
                    <a:pt x="16" y="32"/>
                    <a:pt x="11" y="31"/>
                    <a:pt x="9" y="28"/>
                  </a:cubicBezTo>
                  <a:cubicBezTo>
                    <a:pt x="5" y="22"/>
                    <a:pt x="0" y="17"/>
                    <a:pt x="5" y="9"/>
                  </a:cubicBezTo>
                  <a:cubicBezTo>
                    <a:pt x="8" y="4"/>
                    <a:pt x="16" y="0"/>
                    <a:pt x="23" y="1"/>
                  </a:cubicBezTo>
                  <a:cubicBezTo>
                    <a:pt x="31" y="3"/>
                    <a:pt x="37" y="9"/>
                    <a:pt x="38" y="16"/>
                  </a:cubicBezTo>
                  <a:cubicBezTo>
                    <a:pt x="40" y="23"/>
                    <a:pt x="39" y="26"/>
                    <a:pt x="34" y="36"/>
                  </a:cubicBezTo>
                  <a:cubicBezTo>
                    <a:pt x="47" y="28"/>
                    <a:pt x="59" y="31"/>
                    <a:pt x="71" y="40"/>
                  </a:cubicBezTo>
                  <a:cubicBezTo>
                    <a:pt x="63" y="49"/>
                    <a:pt x="51" y="51"/>
                    <a:pt x="33" y="45"/>
                  </a:cubicBezTo>
                  <a:cubicBezTo>
                    <a:pt x="38" y="51"/>
                    <a:pt x="40" y="57"/>
                    <a:pt x="38" y="64"/>
                  </a:cubicBezTo>
                  <a:cubicBezTo>
                    <a:pt x="37" y="71"/>
                    <a:pt x="33" y="76"/>
                    <a:pt x="27" y="79"/>
                  </a:cubicBezTo>
                  <a:cubicBezTo>
                    <a:pt x="20" y="81"/>
                    <a:pt x="14" y="80"/>
                    <a:pt x="8" y="76"/>
                  </a:cubicBezTo>
                  <a:cubicBezTo>
                    <a:pt x="2" y="71"/>
                    <a:pt x="1" y="64"/>
                    <a:pt x="5" y="58"/>
                  </a:cubicBezTo>
                  <a:cubicBezTo>
                    <a:pt x="6" y="57"/>
                    <a:pt x="7" y="55"/>
                    <a:pt x="8" y="54"/>
                  </a:cubicBezTo>
                  <a:cubicBezTo>
                    <a:pt x="11" y="50"/>
                    <a:pt x="15" y="49"/>
                    <a:pt x="18" y="52"/>
                  </a:cubicBezTo>
                  <a:cubicBezTo>
                    <a:pt x="22" y="54"/>
                    <a:pt x="22" y="59"/>
                    <a:pt x="20" y="62"/>
                  </a:cubicBezTo>
                  <a:cubicBezTo>
                    <a:pt x="17" y="65"/>
                    <a:pt x="13" y="65"/>
                    <a:pt x="9" y="62"/>
                  </a:cubicBezTo>
                  <a:cubicBezTo>
                    <a:pt x="9" y="62"/>
                    <a:pt x="9" y="61"/>
                    <a:pt x="8" y="60"/>
                  </a:cubicBezTo>
                  <a:cubicBezTo>
                    <a:pt x="5" y="67"/>
                    <a:pt x="7" y="73"/>
                    <a:pt x="13" y="76"/>
                  </a:cubicBezTo>
                  <a:cubicBezTo>
                    <a:pt x="23" y="80"/>
                    <a:pt x="34" y="73"/>
                    <a:pt x="36" y="63"/>
                  </a:cubicBezTo>
                  <a:cubicBezTo>
                    <a:pt x="37" y="51"/>
                    <a:pt x="32" y="44"/>
                    <a:pt x="21" y="42"/>
                  </a:cubicBezTo>
                  <a:cubicBezTo>
                    <a:pt x="19" y="42"/>
                    <a:pt x="18" y="42"/>
                    <a:pt x="17" y="41"/>
                  </a:cubicBezTo>
                  <a:cubicBezTo>
                    <a:pt x="17" y="41"/>
                    <a:pt x="17" y="40"/>
                    <a:pt x="17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grpSp>
        <p:nvGrpSpPr>
          <p:cNvPr id="270" name="组合 10245"/>
          <p:cNvGrpSpPr/>
          <p:nvPr/>
        </p:nvGrpSpPr>
        <p:grpSpPr>
          <a:xfrm>
            <a:off x="1400040" y="1531800"/>
            <a:ext cx="3928680" cy="1281240"/>
            <a:chOff x="1400040" y="1531800"/>
            <a:chExt cx="3928680" cy="1281240"/>
          </a:xfrm>
        </p:grpSpPr>
        <p:sp>
          <p:nvSpPr>
            <p:cNvPr id="271" name="文本框 233"/>
            <p:cNvSpPr/>
            <p:nvPr/>
          </p:nvSpPr>
          <p:spPr>
            <a:xfrm>
              <a:off x="2489760" y="1841040"/>
              <a:ext cx="174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c2710"/>
                  </a:solidFill>
                  <a:latin typeface="方正舒体"/>
                  <a:ea typeface="方正舒体"/>
                </a:rPr>
                <a:t>最佳民谣巨人 </a:t>
              </a:r>
              <a:endParaRPr b="0" lang="en-US" sz="32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pic>
          <p:nvPicPr>
            <p:cNvPr id="272" name="图片 241" descr=""/>
            <p:cNvPicPr/>
            <p:nvPr/>
          </p:nvPicPr>
          <p:blipFill>
            <a:blip r:embed="rId1"/>
            <a:stretch/>
          </p:blipFill>
          <p:spPr>
            <a:xfrm>
              <a:off x="1400040" y="1531800"/>
              <a:ext cx="1024200" cy="12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图片 242" descr=""/>
            <p:cNvPicPr/>
            <p:nvPr/>
          </p:nvPicPr>
          <p:blipFill>
            <a:blip r:embed="rId2"/>
            <a:stretch/>
          </p:blipFill>
          <p:spPr>
            <a:xfrm flipH="1">
              <a:off x="4304520" y="1531800"/>
              <a:ext cx="1024200" cy="128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组合 1"/>
          <p:cNvGrpSpPr/>
          <p:nvPr/>
        </p:nvGrpSpPr>
        <p:grpSpPr>
          <a:xfrm>
            <a:off x="6927840" y="2097000"/>
            <a:ext cx="3935520" cy="3934080"/>
            <a:chOff x="6927840" y="2097000"/>
            <a:chExt cx="3935520" cy="3934080"/>
          </a:xfrm>
        </p:grpSpPr>
        <p:grpSp>
          <p:nvGrpSpPr>
            <p:cNvPr id="275" name="组合 238"/>
            <p:cNvGrpSpPr/>
            <p:nvPr/>
          </p:nvGrpSpPr>
          <p:grpSpPr>
            <a:xfrm>
              <a:off x="6927840" y="2097000"/>
              <a:ext cx="3935520" cy="3934080"/>
              <a:chOff x="6927840" y="2097000"/>
              <a:chExt cx="3935520" cy="3934080"/>
            </a:xfrm>
          </p:grpSpPr>
          <p:sp>
            <p:nvSpPr>
              <p:cNvPr id="276" name="椭圆 236"/>
              <p:cNvSpPr/>
              <p:nvPr/>
            </p:nvSpPr>
            <p:spPr>
              <a:xfrm>
                <a:off x="7097400" y="2266560"/>
                <a:ext cx="3596040" cy="3594600"/>
              </a:xfrm>
              <a:prstGeom prst="ellipse">
                <a:avLst/>
              </a:prstGeom>
              <a:solidFill>
                <a:srgbClr val="fd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dfbe9"/>
                    </a:solidFill>
                    <a:latin typeface="Calibri"/>
                    <a:ea typeface="宋体"/>
                  </a:rPr>
                  <a:t>星座</a:t>
                </a: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277" name="椭圆 237"/>
              <p:cNvSpPr/>
              <p:nvPr/>
            </p:nvSpPr>
            <p:spPr>
              <a:xfrm>
                <a:off x="6927840" y="2097000"/>
                <a:ext cx="3935520" cy="3934080"/>
              </a:xfrm>
              <a:prstGeom prst="ellipse">
                <a:avLst/>
              </a:prstGeom>
              <a:noFill/>
              <a:ln w="12600">
                <a:solidFill>
                  <a:srgbClr val="fdfbe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dfbe9"/>
                    </a:solidFill>
                    <a:latin typeface="Calibri"/>
                    <a:ea typeface="宋体"/>
                  </a:rPr>
                  <a:t>星星星座座座</a:t>
                </a: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278" name="矩形 234"/>
            <p:cNvSpPr/>
            <p:nvPr/>
          </p:nvSpPr>
          <p:spPr>
            <a:xfrm>
              <a:off x="7553160" y="3467160"/>
              <a:ext cx="2719440" cy="15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8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姓名：周云蓬</a:t>
              </a:r>
              <a:endParaRPr b="0" lang="en-US" sz="1100" spc="-1" strike="noStrike">
                <a:solidFill>
                  <a:srgbClr val="574f1f"/>
                </a:solidFill>
                <a:latin typeface="Calibri"/>
              </a:endParaRPr>
            </a:p>
            <a:p>
              <a:pPr algn="ctr">
                <a:lnSpc>
                  <a:spcPts val="18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破蛋日：</a:t>
              </a:r>
              <a:r>
                <a:rPr b="0" lang="en-US" sz="11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1970</a:t>
              </a:r>
              <a:r>
                <a:rPr b="0" lang="zh-CN" sz="11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1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1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月</a:t>
              </a:r>
              <a:r>
                <a:rPr b="0" lang="en-US" sz="11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11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日</a:t>
              </a:r>
              <a:endParaRPr b="0" lang="en-US" sz="1100" spc="-1" strike="noStrike">
                <a:solidFill>
                  <a:srgbClr val="574f1f"/>
                </a:solidFill>
                <a:latin typeface="Calibri"/>
              </a:endParaRPr>
            </a:p>
            <a:p>
              <a:pPr algn="ctr">
                <a:lnSpc>
                  <a:spcPts val="18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出生地：辽宁</a:t>
              </a:r>
              <a:endParaRPr b="0" lang="en-US" sz="1100" spc="-1" strike="noStrike">
                <a:solidFill>
                  <a:srgbClr val="574f1f"/>
                </a:solidFill>
                <a:latin typeface="Calibri"/>
              </a:endParaRPr>
            </a:p>
            <a:p>
              <a:pPr algn="ctr">
                <a:lnSpc>
                  <a:spcPts val="18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国籍：中华人民共和国</a:t>
              </a:r>
              <a:endParaRPr b="0" lang="en-US" sz="1100" spc="-1" strike="noStrike">
                <a:solidFill>
                  <a:srgbClr val="574f1f"/>
                </a:solidFill>
                <a:latin typeface="Calibri"/>
              </a:endParaRPr>
            </a:p>
            <a:p>
              <a:pPr algn="ctr">
                <a:lnSpc>
                  <a:spcPts val="18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职业：歌手</a:t>
              </a:r>
              <a:endParaRPr b="0" lang="en-US" sz="1100" spc="-1" strike="noStrike">
                <a:solidFill>
                  <a:srgbClr val="574f1f"/>
                </a:solidFill>
                <a:latin typeface="Calibri"/>
              </a:endParaRPr>
            </a:p>
            <a:p>
              <a:pPr algn="ctr">
                <a:lnSpc>
                  <a:spcPts val="18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74f1f"/>
                  </a:solidFill>
                  <a:latin typeface="微软雅黑"/>
                  <a:ea typeface="微软雅黑"/>
                </a:rPr>
                <a:t>代表作品：不会说话的爱情、沉默如谜的呼吸</a:t>
              </a:r>
              <a:endParaRPr b="0" lang="en-US" sz="11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79" name="文本框 235"/>
            <p:cNvSpPr/>
            <p:nvPr/>
          </p:nvSpPr>
          <p:spPr>
            <a:xfrm>
              <a:off x="8258040" y="3020760"/>
              <a:ext cx="13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c271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000" spc="-1" strike="noStrike">
                  <a:solidFill>
                    <a:srgbClr val="2c2710"/>
                  </a:solidFill>
                  <a:latin typeface="微软雅黑"/>
                  <a:ea typeface="微软雅黑"/>
                </a:rPr>
                <a:t>个 人 简 介</a:t>
              </a:r>
              <a:endParaRPr b="0" lang="en-US" sz="20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280" name="直接连接符 245"/>
            <p:cNvSpPr/>
            <p:nvPr/>
          </p:nvSpPr>
          <p:spPr>
            <a:xfrm>
              <a:off x="7665840" y="3421080"/>
              <a:ext cx="2494080" cy="0"/>
            </a:xfrm>
            <a:prstGeom prst="line">
              <a:avLst/>
            </a:prstGeom>
            <a:ln w="6480">
              <a:solidFill>
                <a:srgbClr val="c1b15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pic>
        <p:nvPicPr>
          <p:cNvPr id="281" name="图片 10256" descr="10e8b9550acde0b8-459f14f6a089053d-102b4e638a2b8f2fb31c4dc08f17f241"/>
          <p:cNvPicPr/>
          <p:nvPr/>
        </p:nvPicPr>
        <p:blipFill>
          <a:blip r:embed="rId3"/>
          <a:stretch/>
        </p:blipFill>
        <p:spPr>
          <a:xfrm>
            <a:off x="1395360" y="2938320"/>
            <a:ext cx="3809880" cy="2349720"/>
          </a:xfrm>
          <a:prstGeom prst="rect">
            <a:avLst/>
          </a:prstGeom>
          <a:ln w="0">
            <a:noFill/>
          </a:ln>
        </p:spPr>
      </p:pic>
      <p:grpSp>
        <p:nvGrpSpPr>
          <p:cNvPr id="282" name="组合 10257"/>
          <p:cNvGrpSpPr/>
          <p:nvPr/>
        </p:nvGrpSpPr>
        <p:grpSpPr>
          <a:xfrm>
            <a:off x="2900520" y="237960"/>
            <a:ext cx="6314760" cy="1444680"/>
            <a:chOff x="2900520" y="237960"/>
            <a:chExt cx="6314760" cy="1444680"/>
          </a:xfrm>
        </p:grpSpPr>
        <p:grpSp>
          <p:nvGrpSpPr>
            <p:cNvPr id="283" name="组合 209"/>
            <p:cNvGrpSpPr/>
            <p:nvPr/>
          </p:nvGrpSpPr>
          <p:grpSpPr>
            <a:xfrm>
              <a:off x="2900520" y="237960"/>
              <a:ext cx="6314760" cy="1444680"/>
              <a:chOff x="2900520" y="237960"/>
              <a:chExt cx="6314760" cy="1444680"/>
            </a:xfrm>
          </p:grpSpPr>
          <p:pic>
            <p:nvPicPr>
              <p:cNvPr id="284" name="Group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900520" y="237960"/>
                <a:ext cx="6314760" cy="14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文本框 211"/>
              <p:cNvSpPr/>
              <p:nvPr/>
            </p:nvSpPr>
            <p:spPr>
              <a:xfrm>
                <a:off x="5024880" y="916560"/>
                <a:ext cx="207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c2710"/>
                    </a:solidFill>
                    <a:latin typeface="Calibri"/>
                    <a:ea typeface="宋体"/>
                  </a:rPr>
                  <a:t>民谣巨人</a:t>
                </a:r>
                <a:r>
                  <a:rPr b="0" lang="en-US" sz="2400" spc="-1" strike="noStrike">
                    <a:solidFill>
                      <a:srgbClr val="2c2710"/>
                    </a:solidFill>
                    <a:latin typeface="Calibri"/>
                  </a:rPr>
                  <a:t>——</a:t>
                </a:r>
                <a:r>
                  <a:rPr b="0" lang="zh-CN" sz="2400" spc="-1" strike="noStrike">
                    <a:solidFill>
                      <a:srgbClr val="2c2710"/>
                    </a:solidFill>
                    <a:latin typeface="Calibri"/>
                    <a:ea typeface="宋体"/>
                  </a:rPr>
                  <a:t>周云蓬</a:t>
                </a:r>
                <a:endParaRPr b="0" lang="en-US" sz="2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286" name="文本框 10261"/>
            <p:cNvSpPr/>
            <p:nvPr/>
          </p:nvSpPr>
          <p:spPr>
            <a:xfrm>
              <a:off x="4894920" y="559080"/>
              <a:ext cx="241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74f1f"/>
                  </a:solidFill>
                  <a:latin typeface="Brush Script MT"/>
                </a:rPr>
                <a:t>Folk music giant</a:t>
              </a:r>
              <a:endParaRPr b="0" lang="en-US" sz="24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100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000"/>
                            </p:stCondLst>
                            <p:childTnLst>
                              <p:par>
                                <p:cTn id="24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5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7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11265"/>
          <p:cNvGrpSpPr/>
          <p:nvPr/>
        </p:nvGrpSpPr>
        <p:grpSpPr>
          <a:xfrm>
            <a:off x="1492200" y="1897200"/>
            <a:ext cx="3398760" cy="4005000"/>
            <a:chOff x="1492200" y="1897200"/>
            <a:chExt cx="3398760" cy="4005000"/>
          </a:xfrm>
        </p:grpSpPr>
        <p:grpSp>
          <p:nvGrpSpPr>
            <p:cNvPr id="288" name="组合 27"/>
            <p:cNvGrpSpPr/>
            <p:nvPr/>
          </p:nvGrpSpPr>
          <p:grpSpPr>
            <a:xfrm>
              <a:off x="1492200" y="1897200"/>
              <a:ext cx="3398760" cy="3398760"/>
              <a:chOff x="1492200" y="1897200"/>
              <a:chExt cx="3398760" cy="3398760"/>
            </a:xfrm>
          </p:grpSpPr>
          <p:sp>
            <p:nvSpPr>
              <p:cNvPr id="289" name="椭圆 28"/>
              <p:cNvSpPr/>
              <p:nvPr/>
            </p:nvSpPr>
            <p:spPr>
              <a:xfrm>
                <a:off x="1638000" y="2043000"/>
                <a:ext cx="3106800" cy="310680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290" name="椭圆 29"/>
              <p:cNvSpPr/>
              <p:nvPr/>
            </p:nvSpPr>
            <p:spPr>
              <a:xfrm>
                <a:off x="1492200" y="1897200"/>
                <a:ext cx="3398760" cy="33987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fdfbe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grpSp>
          <p:nvGrpSpPr>
            <p:cNvPr id="291" name="组合 243"/>
            <p:cNvGrpSpPr/>
            <p:nvPr/>
          </p:nvGrpSpPr>
          <p:grpSpPr>
            <a:xfrm>
              <a:off x="2049480" y="5349960"/>
              <a:ext cx="2283840" cy="552240"/>
              <a:chOff x="2049480" y="5349960"/>
              <a:chExt cx="2283840" cy="552240"/>
            </a:xfrm>
          </p:grpSpPr>
          <p:grpSp>
            <p:nvGrpSpPr>
              <p:cNvPr id="292" name="组合 237"/>
              <p:cNvGrpSpPr/>
              <p:nvPr/>
            </p:nvGrpSpPr>
            <p:grpSpPr>
              <a:xfrm>
                <a:off x="2281320" y="5349960"/>
                <a:ext cx="1820520" cy="552240"/>
                <a:chOff x="2281320" y="5349960"/>
                <a:chExt cx="1820520" cy="552240"/>
              </a:xfrm>
            </p:grpSpPr>
            <p:sp>
              <p:nvSpPr>
                <p:cNvPr id="293" name="文本框 238"/>
                <p:cNvSpPr/>
                <p:nvPr/>
              </p:nvSpPr>
              <p:spPr>
                <a:xfrm>
                  <a:off x="2281320" y="5349960"/>
                  <a:ext cx="1820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74f1f"/>
                      </a:solidFill>
                      <a:latin typeface="Vivaldi"/>
                    </a:rPr>
                    <a:t>Unhappy childhood</a:t>
                  </a:r>
                  <a:endParaRPr b="0" lang="en-US" sz="14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  <p:sp>
              <p:nvSpPr>
                <p:cNvPr id="294" name="文本框 239"/>
                <p:cNvSpPr/>
                <p:nvPr/>
              </p:nvSpPr>
              <p:spPr>
                <a:xfrm>
                  <a:off x="2636640" y="5624280"/>
                  <a:ext cx="110916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5" name="组合 240"/>
              <p:cNvGrpSpPr/>
              <p:nvPr/>
            </p:nvGrpSpPr>
            <p:grpSpPr>
              <a:xfrm>
                <a:off x="2049480" y="5503680"/>
                <a:ext cx="2283840" cy="0"/>
                <a:chOff x="2049480" y="5503680"/>
                <a:chExt cx="2283840" cy="0"/>
              </a:xfrm>
            </p:grpSpPr>
            <p:sp>
              <p:nvSpPr>
                <p:cNvPr id="296" name="直接连接符 241"/>
                <p:cNvSpPr/>
                <p:nvPr/>
              </p:nvSpPr>
              <p:spPr>
                <a:xfrm>
                  <a:off x="2049480" y="5503680"/>
                  <a:ext cx="247320" cy="0"/>
                </a:xfrm>
                <a:prstGeom prst="line">
                  <a:avLst/>
                </a:prstGeom>
                <a:ln w="6480">
                  <a:solidFill>
                    <a:srgbClr val="574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  <p:sp>
              <p:nvSpPr>
                <p:cNvPr id="297" name="直接连接符 242"/>
                <p:cNvSpPr/>
                <p:nvPr/>
              </p:nvSpPr>
              <p:spPr>
                <a:xfrm>
                  <a:off x="4086000" y="5503680"/>
                  <a:ext cx="247320" cy="0"/>
                </a:xfrm>
                <a:prstGeom prst="line">
                  <a:avLst/>
                </a:prstGeom>
                <a:ln w="6480">
                  <a:solidFill>
                    <a:srgbClr val="574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98" name="组合 11276"/>
          <p:cNvGrpSpPr/>
          <p:nvPr/>
        </p:nvGrpSpPr>
        <p:grpSpPr>
          <a:xfrm>
            <a:off x="7846920" y="1622520"/>
            <a:ext cx="2506680" cy="532800"/>
            <a:chOff x="7846920" y="1622520"/>
            <a:chExt cx="2506680" cy="532800"/>
          </a:xfrm>
        </p:grpSpPr>
        <p:sp>
          <p:nvSpPr>
            <p:cNvPr id="299" name="矩形 553"/>
            <p:cNvSpPr/>
            <p:nvPr/>
          </p:nvSpPr>
          <p:spPr>
            <a:xfrm>
              <a:off x="8678520" y="1622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c2710"/>
                  </a:solidFill>
                  <a:latin typeface="微软雅黑"/>
                  <a:ea typeface="方正舒体"/>
                </a:rPr>
                <a:t>春天责备</a:t>
              </a:r>
              <a:endParaRPr b="0" lang="en-US" sz="24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grpSp>
          <p:nvGrpSpPr>
            <p:cNvPr id="300" name="Group 8"/>
            <p:cNvGrpSpPr/>
            <p:nvPr/>
          </p:nvGrpSpPr>
          <p:grpSpPr>
            <a:xfrm>
              <a:off x="7846920" y="1945080"/>
              <a:ext cx="2506680" cy="210240"/>
              <a:chOff x="7846920" y="1945080"/>
              <a:chExt cx="2506680" cy="210240"/>
            </a:xfrm>
          </p:grpSpPr>
          <p:sp>
            <p:nvSpPr>
              <p:cNvPr id="301" name="Freeform 9"/>
              <p:cNvSpPr/>
              <p:nvPr/>
            </p:nvSpPr>
            <p:spPr>
              <a:xfrm>
                <a:off x="7846920" y="1945080"/>
                <a:ext cx="173160" cy="208800"/>
              </a:xfrm>
              <a:custGeom>
                <a:avLst/>
                <a:gdLst/>
                <a:ahLst/>
                <a:rect l="l" t="t" r="r" b="b"/>
                <a:pathLst>
                  <a:path w="71" h="83">
                    <a:moveTo>
                      <a:pt x="0" y="43"/>
                    </a:moveTo>
                    <a:cubicBezTo>
                      <a:pt x="9" y="37"/>
                      <a:pt x="18" y="32"/>
                      <a:pt x="29" y="36"/>
                    </a:cubicBezTo>
                    <a:cubicBezTo>
                      <a:pt x="32" y="36"/>
                      <a:pt x="35" y="38"/>
                      <a:pt x="38" y="39"/>
                    </a:cubicBezTo>
                    <a:cubicBezTo>
                      <a:pt x="33" y="32"/>
                      <a:pt x="31" y="25"/>
                      <a:pt x="34" y="17"/>
                    </a:cubicBezTo>
                    <a:cubicBezTo>
                      <a:pt x="38" y="5"/>
                      <a:pt x="53" y="0"/>
                      <a:pt x="63" y="8"/>
                    </a:cubicBezTo>
                    <a:cubicBezTo>
                      <a:pt x="69" y="13"/>
                      <a:pt x="70" y="20"/>
                      <a:pt x="66" y="26"/>
                    </a:cubicBezTo>
                    <a:cubicBezTo>
                      <a:pt x="65" y="28"/>
                      <a:pt x="64" y="29"/>
                      <a:pt x="63" y="31"/>
                    </a:cubicBezTo>
                    <a:cubicBezTo>
                      <a:pt x="60" y="34"/>
                      <a:pt x="56" y="35"/>
                      <a:pt x="53" y="32"/>
                    </a:cubicBezTo>
                    <a:cubicBezTo>
                      <a:pt x="50" y="30"/>
                      <a:pt x="49" y="26"/>
                      <a:pt x="51" y="23"/>
                    </a:cubicBezTo>
                    <a:cubicBezTo>
                      <a:pt x="53" y="20"/>
                      <a:pt x="57" y="19"/>
                      <a:pt x="61" y="21"/>
                    </a:cubicBezTo>
                    <a:cubicBezTo>
                      <a:pt x="62" y="21"/>
                      <a:pt x="63" y="22"/>
                      <a:pt x="64" y="23"/>
                    </a:cubicBezTo>
                    <a:cubicBezTo>
                      <a:pt x="67" y="16"/>
                      <a:pt x="63" y="10"/>
                      <a:pt x="56" y="8"/>
                    </a:cubicBezTo>
                    <a:cubicBezTo>
                      <a:pt x="47" y="5"/>
                      <a:pt x="38" y="11"/>
                      <a:pt x="36" y="21"/>
                    </a:cubicBezTo>
                    <a:cubicBezTo>
                      <a:pt x="34" y="31"/>
                      <a:pt x="39" y="40"/>
                      <a:pt x="49" y="41"/>
                    </a:cubicBezTo>
                    <a:cubicBezTo>
                      <a:pt x="51" y="42"/>
                      <a:pt x="53" y="42"/>
                      <a:pt x="55" y="42"/>
                    </a:cubicBezTo>
                    <a:cubicBezTo>
                      <a:pt x="55" y="43"/>
                      <a:pt x="55" y="43"/>
                      <a:pt x="55" y="44"/>
                    </a:cubicBezTo>
                    <a:cubicBezTo>
                      <a:pt x="53" y="45"/>
                      <a:pt x="50" y="45"/>
                      <a:pt x="48" y="46"/>
                    </a:cubicBezTo>
                    <a:cubicBezTo>
                      <a:pt x="39" y="48"/>
                      <a:pt x="34" y="55"/>
                      <a:pt x="36" y="65"/>
                    </a:cubicBezTo>
                    <a:cubicBezTo>
                      <a:pt x="37" y="74"/>
                      <a:pt x="44" y="80"/>
                      <a:pt x="53" y="80"/>
                    </a:cubicBezTo>
                    <a:cubicBezTo>
                      <a:pt x="62" y="79"/>
                      <a:pt x="68" y="70"/>
                      <a:pt x="64" y="64"/>
                    </a:cubicBezTo>
                    <a:cubicBezTo>
                      <a:pt x="63" y="65"/>
                      <a:pt x="62" y="66"/>
                      <a:pt x="61" y="66"/>
                    </a:cubicBezTo>
                    <a:cubicBezTo>
                      <a:pt x="58" y="68"/>
                      <a:pt x="53" y="67"/>
                      <a:pt x="51" y="64"/>
                    </a:cubicBezTo>
                    <a:cubicBezTo>
                      <a:pt x="49" y="61"/>
                      <a:pt x="50" y="57"/>
                      <a:pt x="53" y="55"/>
                    </a:cubicBezTo>
                    <a:cubicBezTo>
                      <a:pt x="55" y="53"/>
                      <a:pt x="60" y="53"/>
                      <a:pt x="63" y="56"/>
                    </a:cubicBezTo>
                    <a:cubicBezTo>
                      <a:pt x="67" y="61"/>
                      <a:pt x="71" y="66"/>
                      <a:pt x="67" y="74"/>
                    </a:cubicBezTo>
                    <a:cubicBezTo>
                      <a:pt x="64" y="80"/>
                      <a:pt x="58" y="83"/>
                      <a:pt x="51" y="83"/>
                    </a:cubicBezTo>
                    <a:cubicBezTo>
                      <a:pt x="43" y="83"/>
                      <a:pt x="38" y="79"/>
                      <a:pt x="35" y="72"/>
                    </a:cubicBezTo>
                    <a:cubicBezTo>
                      <a:pt x="31" y="63"/>
                      <a:pt x="32" y="55"/>
                      <a:pt x="39" y="48"/>
                    </a:cubicBezTo>
                    <a:cubicBezTo>
                      <a:pt x="35" y="49"/>
                      <a:pt x="32" y="51"/>
                      <a:pt x="28" y="52"/>
                    </a:cubicBezTo>
                    <a:cubicBezTo>
                      <a:pt x="19" y="54"/>
                      <a:pt x="11" y="51"/>
                      <a:pt x="4" y="47"/>
                    </a:cubicBezTo>
                    <a:cubicBezTo>
                      <a:pt x="3" y="46"/>
                      <a:pt x="1" y="45"/>
                      <a:pt x="0" y="44"/>
                    </a:cubicBezTo>
                    <a:cubicBezTo>
                      <a:pt x="0" y="44"/>
                      <a:pt x="0" y="44"/>
                      <a:pt x="0" y="4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302" name="Freeform 10"/>
              <p:cNvSpPr/>
              <p:nvPr/>
            </p:nvSpPr>
            <p:spPr>
              <a:xfrm>
                <a:off x="7995240" y="2037960"/>
                <a:ext cx="2210400" cy="32400"/>
              </a:xfrm>
              <a:custGeom>
                <a:avLst/>
                <a:gdLst/>
                <a:ahLst/>
                <a:rect l="l" t="t" r="r" b="b"/>
                <a:pathLst>
                  <a:path w="910" h="13">
                    <a:moveTo>
                      <a:pt x="25" y="0"/>
                    </a:moveTo>
                    <a:cubicBezTo>
                      <a:pt x="55" y="1"/>
                      <a:pt x="84" y="3"/>
                      <a:pt x="114" y="4"/>
                    </a:cubicBezTo>
                    <a:cubicBezTo>
                      <a:pt x="125" y="4"/>
                      <a:pt x="136" y="5"/>
                      <a:pt x="147" y="5"/>
                    </a:cubicBezTo>
                    <a:cubicBezTo>
                      <a:pt x="346" y="5"/>
                      <a:pt x="545" y="5"/>
                      <a:pt x="744" y="5"/>
                    </a:cubicBezTo>
                    <a:cubicBezTo>
                      <a:pt x="783" y="5"/>
                      <a:pt x="822" y="2"/>
                      <a:pt x="862" y="1"/>
                    </a:cubicBezTo>
                    <a:cubicBezTo>
                      <a:pt x="875" y="0"/>
                      <a:pt x="889" y="0"/>
                      <a:pt x="902" y="0"/>
                    </a:cubicBezTo>
                    <a:cubicBezTo>
                      <a:pt x="907" y="0"/>
                      <a:pt x="910" y="2"/>
                      <a:pt x="910" y="7"/>
                    </a:cubicBezTo>
                    <a:cubicBezTo>
                      <a:pt x="910" y="11"/>
                      <a:pt x="907" y="13"/>
                      <a:pt x="902" y="13"/>
                    </a:cubicBezTo>
                    <a:cubicBezTo>
                      <a:pt x="872" y="12"/>
                      <a:pt x="842" y="11"/>
                      <a:pt x="812" y="10"/>
                    </a:cubicBezTo>
                    <a:cubicBezTo>
                      <a:pt x="775" y="9"/>
                      <a:pt x="737" y="8"/>
                      <a:pt x="699" y="8"/>
                    </a:cubicBezTo>
                    <a:cubicBezTo>
                      <a:pt x="578" y="8"/>
                      <a:pt x="456" y="8"/>
                      <a:pt x="334" y="8"/>
                    </a:cubicBezTo>
                    <a:cubicBezTo>
                      <a:pt x="240" y="9"/>
                      <a:pt x="145" y="6"/>
                      <a:pt x="50" y="12"/>
                    </a:cubicBezTo>
                    <a:cubicBezTo>
                      <a:pt x="36" y="13"/>
                      <a:pt x="23" y="13"/>
                      <a:pt x="9" y="13"/>
                    </a:cubicBezTo>
                    <a:cubicBezTo>
                      <a:pt x="4" y="13"/>
                      <a:pt x="0" y="10"/>
                      <a:pt x="1" y="6"/>
                    </a:cubicBezTo>
                    <a:cubicBezTo>
                      <a:pt x="1" y="2"/>
                      <a:pt x="3" y="0"/>
                      <a:pt x="8" y="0"/>
                    </a:cubicBezTo>
                    <a:cubicBezTo>
                      <a:pt x="14" y="0"/>
                      <a:pt x="20" y="0"/>
                      <a:pt x="2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303" name="Freeform 11"/>
              <p:cNvSpPr/>
              <p:nvPr/>
            </p:nvSpPr>
            <p:spPr>
              <a:xfrm>
                <a:off x="10181520" y="1951920"/>
                <a:ext cx="172080" cy="203400"/>
              </a:xfrm>
              <a:custGeom>
                <a:avLst/>
                <a:gdLst/>
                <a:ahLst/>
                <a:rect l="l" t="t" r="r" b="b"/>
                <a:pathLst>
                  <a:path w="71" h="81">
                    <a:moveTo>
                      <a:pt x="17" y="40"/>
                    </a:moveTo>
                    <a:cubicBezTo>
                      <a:pt x="19" y="39"/>
                      <a:pt x="21" y="39"/>
                      <a:pt x="23" y="38"/>
                    </a:cubicBezTo>
                    <a:cubicBezTo>
                      <a:pt x="35" y="36"/>
                      <a:pt x="37" y="26"/>
                      <a:pt x="35" y="16"/>
                    </a:cubicBezTo>
                    <a:cubicBezTo>
                      <a:pt x="34" y="7"/>
                      <a:pt x="23" y="2"/>
                      <a:pt x="15" y="5"/>
                    </a:cubicBezTo>
                    <a:cubicBezTo>
                      <a:pt x="8" y="7"/>
                      <a:pt x="5" y="14"/>
                      <a:pt x="8" y="20"/>
                    </a:cubicBezTo>
                    <a:cubicBezTo>
                      <a:pt x="9" y="19"/>
                      <a:pt x="9" y="18"/>
                      <a:pt x="10" y="18"/>
                    </a:cubicBezTo>
                    <a:cubicBezTo>
                      <a:pt x="14" y="16"/>
                      <a:pt x="18" y="17"/>
                      <a:pt x="20" y="20"/>
                    </a:cubicBezTo>
                    <a:cubicBezTo>
                      <a:pt x="22" y="23"/>
                      <a:pt x="21" y="27"/>
                      <a:pt x="19" y="29"/>
                    </a:cubicBezTo>
                    <a:cubicBezTo>
                      <a:pt x="16" y="32"/>
                      <a:pt x="11" y="31"/>
                      <a:pt x="9" y="28"/>
                    </a:cubicBezTo>
                    <a:cubicBezTo>
                      <a:pt x="5" y="22"/>
                      <a:pt x="0" y="17"/>
                      <a:pt x="5" y="9"/>
                    </a:cubicBezTo>
                    <a:cubicBezTo>
                      <a:pt x="8" y="4"/>
                      <a:pt x="16" y="0"/>
                      <a:pt x="23" y="1"/>
                    </a:cubicBezTo>
                    <a:cubicBezTo>
                      <a:pt x="31" y="3"/>
                      <a:pt x="37" y="9"/>
                      <a:pt x="38" y="16"/>
                    </a:cubicBezTo>
                    <a:cubicBezTo>
                      <a:pt x="40" y="23"/>
                      <a:pt x="39" y="26"/>
                      <a:pt x="34" y="36"/>
                    </a:cubicBezTo>
                    <a:cubicBezTo>
                      <a:pt x="47" y="28"/>
                      <a:pt x="59" y="31"/>
                      <a:pt x="71" y="40"/>
                    </a:cubicBezTo>
                    <a:cubicBezTo>
                      <a:pt x="63" y="49"/>
                      <a:pt x="51" y="51"/>
                      <a:pt x="33" y="45"/>
                    </a:cubicBezTo>
                    <a:cubicBezTo>
                      <a:pt x="38" y="51"/>
                      <a:pt x="40" y="57"/>
                      <a:pt x="38" y="64"/>
                    </a:cubicBezTo>
                    <a:cubicBezTo>
                      <a:pt x="37" y="71"/>
                      <a:pt x="33" y="76"/>
                      <a:pt x="27" y="79"/>
                    </a:cubicBezTo>
                    <a:cubicBezTo>
                      <a:pt x="20" y="81"/>
                      <a:pt x="14" y="80"/>
                      <a:pt x="8" y="76"/>
                    </a:cubicBezTo>
                    <a:cubicBezTo>
                      <a:pt x="2" y="71"/>
                      <a:pt x="1" y="64"/>
                      <a:pt x="5" y="58"/>
                    </a:cubicBezTo>
                    <a:cubicBezTo>
                      <a:pt x="6" y="57"/>
                      <a:pt x="7" y="55"/>
                      <a:pt x="8" y="54"/>
                    </a:cubicBezTo>
                    <a:cubicBezTo>
                      <a:pt x="11" y="50"/>
                      <a:pt x="15" y="49"/>
                      <a:pt x="18" y="52"/>
                    </a:cubicBezTo>
                    <a:cubicBezTo>
                      <a:pt x="22" y="54"/>
                      <a:pt x="22" y="59"/>
                      <a:pt x="20" y="62"/>
                    </a:cubicBezTo>
                    <a:cubicBezTo>
                      <a:pt x="17" y="65"/>
                      <a:pt x="13" y="65"/>
                      <a:pt x="9" y="62"/>
                    </a:cubicBezTo>
                    <a:cubicBezTo>
                      <a:pt x="9" y="62"/>
                      <a:pt x="9" y="61"/>
                      <a:pt x="8" y="60"/>
                    </a:cubicBezTo>
                    <a:cubicBezTo>
                      <a:pt x="5" y="67"/>
                      <a:pt x="7" y="73"/>
                      <a:pt x="13" y="76"/>
                    </a:cubicBezTo>
                    <a:cubicBezTo>
                      <a:pt x="23" y="80"/>
                      <a:pt x="34" y="73"/>
                      <a:pt x="36" y="63"/>
                    </a:cubicBezTo>
                    <a:cubicBezTo>
                      <a:pt x="37" y="51"/>
                      <a:pt x="32" y="44"/>
                      <a:pt x="21" y="42"/>
                    </a:cubicBezTo>
                    <a:cubicBezTo>
                      <a:pt x="19" y="42"/>
                      <a:pt x="18" y="42"/>
                      <a:pt x="17" y="41"/>
                    </a:cubicBezTo>
                    <a:cubicBezTo>
                      <a:pt x="17" y="41"/>
                      <a:pt x="17" y="40"/>
                      <a:pt x="17" y="4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</p:grpSp>
      <p:sp>
        <p:nvSpPr>
          <p:cNvPr id="304" name="矩形 560"/>
          <p:cNvSpPr/>
          <p:nvPr/>
        </p:nvSpPr>
        <p:spPr>
          <a:xfrm>
            <a:off x="6270480" y="2452680"/>
            <a:ext cx="487224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  <p:grpSp>
        <p:nvGrpSpPr>
          <p:cNvPr id="305" name="组合 11283"/>
          <p:cNvGrpSpPr/>
          <p:nvPr/>
        </p:nvGrpSpPr>
        <p:grpSpPr>
          <a:xfrm>
            <a:off x="2887560" y="223920"/>
            <a:ext cx="6315120" cy="1444680"/>
            <a:chOff x="2887560" y="223920"/>
            <a:chExt cx="6315120" cy="1444680"/>
          </a:xfrm>
        </p:grpSpPr>
        <p:grpSp>
          <p:nvGrpSpPr>
            <p:cNvPr id="306" name="组合 568"/>
            <p:cNvGrpSpPr/>
            <p:nvPr/>
          </p:nvGrpSpPr>
          <p:grpSpPr>
            <a:xfrm>
              <a:off x="2887560" y="223920"/>
              <a:ext cx="6315120" cy="1444680"/>
              <a:chOff x="2887560" y="223920"/>
              <a:chExt cx="6315120" cy="1444680"/>
            </a:xfrm>
          </p:grpSpPr>
          <p:pic>
            <p:nvPicPr>
              <p:cNvPr id="307" name="Group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7560" y="223920"/>
                <a:ext cx="6315120" cy="14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文本框 571"/>
              <p:cNvSpPr/>
              <p:nvPr/>
            </p:nvSpPr>
            <p:spPr>
              <a:xfrm>
                <a:off x="4876560" y="846720"/>
                <a:ext cx="234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2c2710"/>
                    </a:solidFill>
                    <a:latin typeface="Calibri"/>
                    <a:ea typeface="宋体"/>
                  </a:rPr>
                  <a:t>华语民谣代表人</a:t>
                </a:r>
                <a:r>
                  <a:rPr b="0" lang="zh-CN" sz="2400" spc="-1" strike="noStrike">
                    <a:solidFill>
                      <a:srgbClr val="2c2710"/>
                    </a:solidFill>
                    <a:latin typeface="Calibri"/>
                    <a:ea typeface="宋体"/>
                  </a:rPr>
                  <a:t>--</a:t>
                </a:r>
                <a:r>
                  <a:rPr b="0" lang="zh-CN" sz="2400" spc="-1" strike="noStrike">
                    <a:solidFill>
                      <a:srgbClr val="2c2710"/>
                    </a:solidFill>
                    <a:latin typeface="Calibri"/>
                    <a:ea typeface="宋体"/>
                  </a:rPr>
                  <a:t>周云蓬</a:t>
                </a:r>
                <a:endParaRPr b="0" lang="en-US" sz="2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sp>
          <p:nvSpPr>
            <p:cNvPr id="309" name="文本框 11287"/>
            <p:cNvSpPr/>
            <p:nvPr/>
          </p:nvSpPr>
          <p:spPr>
            <a:xfrm>
              <a:off x="5181840" y="58896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74f1f"/>
                  </a:solidFill>
                  <a:latin typeface="Brush Script MT"/>
                </a:rPr>
                <a:t>Folk music giant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sp>
        <p:nvSpPr>
          <p:cNvPr id="310" name="文本框 11288"/>
          <p:cNvSpPr/>
          <p:nvPr/>
        </p:nvSpPr>
        <p:spPr>
          <a:xfrm>
            <a:off x="8092080" y="2214720"/>
            <a:ext cx="2253240" cy="43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 “</a:t>
            </a: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我背着吉他进北大，门卫说：人可以进去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琴必须留下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我留着长发进北大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门卫说：人可以进去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头发必须留下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我点燃名字进北大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门卫说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人可以进去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证件必须留下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我拿出了身份证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门卫说：还有。我拿出来工作证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门卫说：还有。我拿出团员证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门卫说：还有。我拿出户口本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门卫说：还有。我拿出购粮证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门卫说：还有。我拿出死亡证……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4f1f"/>
                </a:solidFill>
                <a:latin typeface="微软雅黑"/>
                <a:ea typeface="微软雅黑"/>
              </a:rPr>
              <a:t>　于是，我背着自己的尸体走进了北大。”</a:t>
            </a: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74f1f"/>
              </a:solidFill>
              <a:latin typeface="Calibri"/>
            </a:endParaRPr>
          </a:p>
        </p:txBody>
      </p:sp>
      <p:sp>
        <p:nvSpPr>
          <p:cNvPr id="311" name="椭圆 11289"/>
          <p:cNvSpPr/>
          <p:nvPr/>
        </p:nvSpPr>
        <p:spPr>
          <a:xfrm>
            <a:off x="1712880" y="2122560"/>
            <a:ext cx="2951280" cy="2922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  <p:sp>
        <p:nvSpPr>
          <p:cNvPr id="312" name="文本框 11290"/>
          <p:cNvSpPr/>
          <p:nvPr/>
        </p:nvSpPr>
        <p:spPr>
          <a:xfrm>
            <a:off x="544680" y="5676840"/>
            <a:ext cx="62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74f1f"/>
                </a:solidFill>
                <a:latin typeface="Arial"/>
              </a:rPr>
              <a:t>        </a:t>
            </a:r>
            <a:r>
              <a:rPr b="0" lang="zh-CN" sz="1300" spc="-1" strike="noStrike">
                <a:solidFill>
                  <a:srgbClr val="574f1f"/>
                </a:solidFill>
                <a:latin typeface="Arial"/>
                <a:ea typeface="宋体"/>
              </a:rPr>
              <a:t>幼年时，因患眼病随母亲四处求医。整个童年充满了火车、医院、手术室和酒精棉的味道。</a:t>
            </a:r>
            <a:endParaRPr b="0" lang="en-US" sz="1300" spc="-1" strike="noStrike">
              <a:solidFill>
                <a:srgbClr val="574f1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74f1f"/>
                </a:solidFill>
                <a:latin typeface="Arial"/>
                <a:ea typeface="宋体"/>
              </a:rPr>
              <a:t>　　九岁时，彻底失明。留在视觉中的最后印象是动物园里的大象用鼻子吹口琴</a:t>
            </a:r>
            <a:endParaRPr b="0" lang="en-US" sz="1300" spc="-1" strike="noStrike">
              <a:solidFill>
                <a:srgbClr val="574f1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组合 163" descr=""/>
          <p:cNvPicPr/>
          <p:nvPr/>
        </p:nvPicPr>
        <p:blipFill>
          <a:blip r:embed="rId1"/>
          <a:stretch/>
        </p:blipFill>
        <p:spPr>
          <a:xfrm>
            <a:off x="1608120" y="3862440"/>
            <a:ext cx="1152720" cy="311040"/>
          </a:xfrm>
          <a:prstGeom prst="rect">
            <a:avLst/>
          </a:prstGeom>
          <a:ln w="0">
            <a:noFill/>
          </a:ln>
        </p:spPr>
      </p:pic>
      <p:sp>
        <p:nvSpPr>
          <p:cNvPr id="314" name="椭圆 15"/>
          <p:cNvSpPr/>
          <p:nvPr/>
        </p:nvSpPr>
        <p:spPr>
          <a:xfrm>
            <a:off x="3840120" y="2190600"/>
            <a:ext cx="1760760" cy="1762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  <p:pic>
        <p:nvPicPr>
          <p:cNvPr id="315" name="组合 183" descr=""/>
          <p:cNvPicPr/>
          <p:nvPr/>
        </p:nvPicPr>
        <p:blipFill>
          <a:blip r:embed="rId2"/>
          <a:stretch/>
        </p:blipFill>
        <p:spPr>
          <a:xfrm>
            <a:off x="4156200" y="3876840"/>
            <a:ext cx="1152360" cy="311040"/>
          </a:xfrm>
          <a:prstGeom prst="rect">
            <a:avLst/>
          </a:prstGeom>
          <a:ln w="0">
            <a:noFill/>
          </a:ln>
        </p:spPr>
      </p:pic>
      <p:pic>
        <p:nvPicPr>
          <p:cNvPr id="316" name="组合 203" descr=""/>
          <p:cNvPicPr/>
          <p:nvPr/>
        </p:nvPicPr>
        <p:blipFill>
          <a:blip r:embed="rId3"/>
          <a:stretch/>
        </p:blipFill>
        <p:spPr>
          <a:xfrm>
            <a:off x="6673680" y="3876840"/>
            <a:ext cx="1152720" cy="311040"/>
          </a:xfrm>
          <a:prstGeom prst="rect">
            <a:avLst/>
          </a:prstGeom>
          <a:ln w="0">
            <a:noFill/>
          </a:ln>
        </p:spPr>
      </p:pic>
      <p:pic>
        <p:nvPicPr>
          <p:cNvPr id="317" name="组合 223" descr=""/>
          <p:cNvPicPr/>
          <p:nvPr/>
        </p:nvPicPr>
        <p:blipFill>
          <a:blip r:embed="rId4"/>
          <a:stretch/>
        </p:blipFill>
        <p:spPr>
          <a:xfrm>
            <a:off x="9185400" y="3876840"/>
            <a:ext cx="1152360" cy="311040"/>
          </a:xfrm>
          <a:prstGeom prst="rect">
            <a:avLst/>
          </a:prstGeom>
          <a:ln w="0">
            <a:noFill/>
          </a:ln>
        </p:spPr>
      </p:pic>
      <p:grpSp>
        <p:nvGrpSpPr>
          <p:cNvPr id="318" name="组合 12294"/>
          <p:cNvGrpSpPr/>
          <p:nvPr/>
        </p:nvGrpSpPr>
        <p:grpSpPr>
          <a:xfrm>
            <a:off x="648720" y="1861920"/>
            <a:ext cx="2497680" cy="3054960"/>
            <a:chOff x="648720" y="1861920"/>
            <a:chExt cx="2497680" cy="3054960"/>
          </a:xfrm>
        </p:grpSpPr>
        <p:grpSp>
          <p:nvGrpSpPr>
            <p:cNvPr id="319" name="组合 12295"/>
            <p:cNvGrpSpPr/>
            <p:nvPr/>
          </p:nvGrpSpPr>
          <p:grpSpPr>
            <a:xfrm>
              <a:off x="1227240" y="4196160"/>
              <a:ext cx="1919160" cy="720720"/>
              <a:chOff x="1227240" y="4196160"/>
              <a:chExt cx="1919160" cy="720720"/>
            </a:xfrm>
          </p:grpSpPr>
          <p:sp>
            <p:nvSpPr>
              <p:cNvPr id="320" name="矩形 245"/>
              <p:cNvSpPr/>
              <p:nvPr/>
            </p:nvSpPr>
            <p:spPr>
              <a:xfrm>
                <a:off x="1227240" y="4609800"/>
                <a:ext cx="191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74f1f"/>
                    </a:solidFill>
                    <a:latin typeface="微软雅黑"/>
                    <a:ea typeface="微软雅黑"/>
                  </a:rPr>
                  <a:t>诗人闭着双眼涂出来的笔迹，此刻如倒翻的墨水瓶，湿淋淋的开始流淌，一笔一画中，勾勒悲伤，勾勒流年。</a:t>
                </a:r>
                <a:endParaRPr b="0" lang="en-US" sz="1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321" name="文本框 248"/>
              <p:cNvSpPr/>
              <p:nvPr/>
            </p:nvSpPr>
            <p:spPr>
              <a:xfrm>
                <a:off x="1568880" y="4196160"/>
                <a:ext cx="1235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{ </a:t>
                </a:r>
                <a:r>
                  <a:rPr b="0" lang="zh-CN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春天责备 </a:t>
                </a:r>
                <a:r>
                  <a:rPr b="0" lang="en-US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}</a:t>
                </a:r>
                <a:endParaRPr b="0" lang="en-US" sz="20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grpSp>
          <p:nvGrpSpPr>
            <p:cNvPr id="322" name="组合 12298"/>
            <p:cNvGrpSpPr/>
            <p:nvPr/>
          </p:nvGrpSpPr>
          <p:grpSpPr>
            <a:xfrm>
              <a:off x="648720" y="1861920"/>
              <a:ext cx="2417760" cy="2292480"/>
              <a:chOff x="648720" y="1861920"/>
              <a:chExt cx="2417760" cy="2292480"/>
            </a:xfrm>
          </p:grpSpPr>
          <p:pic>
            <p:nvPicPr>
              <p:cNvPr id="323" name="图片 258" descr=""/>
              <p:cNvPicPr/>
              <p:nvPr/>
            </p:nvPicPr>
            <p:blipFill>
              <a:blip r:embed="rId5"/>
              <a:srcRect l="0" t="0" r="28673" b="0"/>
              <a:stretch/>
            </p:blipFill>
            <p:spPr>
              <a:xfrm rot="18420000">
                <a:off x="974160" y="2191320"/>
                <a:ext cx="1639800" cy="1633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4" name="组合 179"/>
              <p:cNvGrpSpPr/>
              <p:nvPr/>
            </p:nvGrpSpPr>
            <p:grpSpPr>
              <a:xfrm>
                <a:off x="1304640" y="2176560"/>
                <a:ext cx="1761840" cy="1760400"/>
                <a:chOff x="1304640" y="2176560"/>
                <a:chExt cx="1761840" cy="1760400"/>
              </a:xfrm>
            </p:grpSpPr>
            <p:sp>
              <p:nvSpPr>
                <p:cNvPr id="325" name="椭圆 181"/>
                <p:cNvSpPr/>
                <p:nvPr/>
              </p:nvSpPr>
              <p:spPr>
                <a:xfrm>
                  <a:off x="1380600" y="2252520"/>
                  <a:ext cx="1609560" cy="1608120"/>
                </a:xfrm>
                <a:prstGeom prst="ellipse">
                  <a:avLst/>
                </a:prstGeom>
                <a:solidFill>
                  <a:srgbClr val="fdfb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  <p:sp>
              <p:nvSpPr>
                <p:cNvPr id="326" name="椭圆 182"/>
                <p:cNvSpPr/>
                <p:nvPr/>
              </p:nvSpPr>
              <p:spPr>
                <a:xfrm>
                  <a:off x="1304640" y="2176560"/>
                  <a:ext cx="1761840" cy="1760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327" name="图片 12303" descr="6e0216e0c9d71dd2-739bcbe7daa1e2b3-0365834d720fa11bbd69b30669c4ea20"/>
              <p:cNvPicPr/>
              <p:nvPr/>
            </p:nvPicPr>
            <p:blipFill>
              <a:blip r:embed="rId6"/>
              <a:stretch/>
            </p:blipFill>
            <p:spPr>
              <a:xfrm rot="20280000">
                <a:off x="1701360" y="2437560"/>
                <a:ext cx="894960" cy="1254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8" name="组合 12304"/>
          <p:cNvGrpSpPr/>
          <p:nvPr/>
        </p:nvGrpSpPr>
        <p:grpSpPr>
          <a:xfrm>
            <a:off x="3774960" y="1929960"/>
            <a:ext cx="2198520" cy="3001680"/>
            <a:chOff x="3774960" y="1929960"/>
            <a:chExt cx="2198520" cy="3001680"/>
          </a:xfrm>
        </p:grpSpPr>
        <p:grpSp>
          <p:nvGrpSpPr>
            <p:cNvPr id="329" name="组合 12305"/>
            <p:cNvGrpSpPr/>
            <p:nvPr/>
          </p:nvGrpSpPr>
          <p:grpSpPr>
            <a:xfrm>
              <a:off x="3774960" y="4209840"/>
              <a:ext cx="1919520" cy="721800"/>
              <a:chOff x="3774960" y="4209840"/>
              <a:chExt cx="1919520" cy="721800"/>
            </a:xfrm>
          </p:grpSpPr>
          <p:sp>
            <p:nvSpPr>
              <p:cNvPr id="330" name="矩形 247"/>
              <p:cNvSpPr/>
              <p:nvPr/>
            </p:nvSpPr>
            <p:spPr>
              <a:xfrm>
                <a:off x="3774960" y="4624560"/>
                <a:ext cx="191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74f1f"/>
                    </a:solidFill>
                    <a:latin typeface="微软雅黑"/>
                    <a:ea typeface="微软雅黑"/>
                  </a:rPr>
                  <a:t>蛇只能看见运动着的东西，狗的世界是黑白的，蜻蜓的眼睛里有一千个太阳。很多深海里的鱼，眼睛蜕化成了两个白点。</a:t>
                </a:r>
                <a:endParaRPr b="0" lang="en-US" sz="1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331" name="文本框 249"/>
              <p:cNvSpPr/>
              <p:nvPr/>
            </p:nvSpPr>
            <p:spPr>
              <a:xfrm>
                <a:off x="4116960" y="4209840"/>
                <a:ext cx="1235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{ </a:t>
                </a:r>
                <a:r>
                  <a:rPr b="0" lang="zh-CN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中国孩子 </a:t>
                </a:r>
                <a:r>
                  <a:rPr b="0" lang="en-US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}</a:t>
                </a:r>
                <a:endParaRPr b="0" lang="en-US" sz="20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grpSp>
          <p:nvGrpSpPr>
            <p:cNvPr id="332" name="组合 12308"/>
            <p:cNvGrpSpPr/>
            <p:nvPr/>
          </p:nvGrpSpPr>
          <p:grpSpPr>
            <a:xfrm>
              <a:off x="3916440" y="1929960"/>
              <a:ext cx="2057040" cy="1945800"/>
              <a:chOff x="3916440" y="1929960"/>
              <a:chExt cx="2057040" cy="1945800"/>
            </a:xfrm>
          </p:grpSpPr>
          <p:pic>
            <p:nvPicPr>
              <p:cNvPr id="333" name="图片 259" descr=""/>
              <p:cNvPicPr/>
              <p:nvPr/>
            </p:nvPicPr>
            <p:blipFill>
              <a:blip r:embed="rId7"/>
              <a:srcRect l="0" t="0" r="19341" b="0"/>
              <a:stretch/>
            </p:blipFill>
            <p:spPr>
              <a:xfrm flipH="1" rot="21180000">
                <a:off x="4024800" y="2036520"/>
                <a:ext cx="1856160" cy="163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椭圆 14"/>
              <p:cNvSpPr/>
              <p:nvPr/>
            </p:nvSpPr>
            <p:spPr>
              <a:xfrm>
                <a:off x="3916440" y="2266560"/>
                <a:ext cx="1607760" cy="1609200"/>
              </a:xfrm>
              <a:prstGeom prst="ellipse">
                <a:avLst/>
              </a:prstGeom>
              <a:solidFill>
                <a:srgbClr val="fd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pic>
            <p:nvPicPr>
              <p:cNvPr id="335" name="图片 12311" descr="10e8b9550acde0b8-459f14f6a089053d-102b4e638a2b8f2fb31c4dc08f17f241"/>
              <p:cNvPicPr/>
              <p:nvPr/>
            </p:nvPicPr>
            <p:blipFill>
              <a:blip r:embed="rId8"/>
              <a:stretch/>
            </p:blipFill>
            <p:spPr>
              <a:xfrm>
                <a:off x="4092120" y="2653560"/>
                <a:ext cx="1217880" cy="84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6" name="组合 12312"/>
          <p:cNvGrpSpPr/>
          <p:nvPr/>
        </p:nvGrpSpPr>
        <p:grpSpPr>
          <a:xfrm>
            <a:off x="8777160" y="1536480"/>
            <a:ext cx="2654640" cy="3380760"/>
            <a:chOff x="8777160" y="1536480"/>
            <a:chExt cx="2654640" cy="3380760"/>
          </a:xfrm>
        </p:grpSpPr>
        <p:grpSp>
          <p:nvGrpSpPr>
            <p:cNvPr id="337" name="组合 12313"/>
            <p:cNvGrpSpPr/>
            <p:nvPr/>
          </p:nvGrpSpPr>
          <p:grpSpPr>
            <a:xfrm>
              <a:off x="8777160" y="4195440"/>
              <a:ext cx="1915560" cy="721800"/>
              <a:chOff x="8777160" y="4195440"/>
              <a:chExt cx="1915560" cy="721800"/>
            </a:xfrm>
          </p:grpSpPr>
          <p:sp>
            <p:nvSpPr>
              <p:cNvPr id="338" name="文本框 251"/>
              <p:cNvSpPr/>
              <p:nvPr/>
            </p:nvSpPr>
            <p:spPr>
              <a:xfrm>
                <a:off x="8965800" y="4195440"/>
                <a:ext cx="154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{ </a:t>
                </a:r>
                <a:r>
                  <a:rPr b="0" lang="zh-CN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鱼相忘于江湖 </a:t>
                </a:r>
                <a:r>
                  <a:rPr b="0" lang="en-US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}</a:t>
                </a:r>
                <a:endParaRPr b="0" lang="en-US" sz="20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339" name="矩形 252"/>
              <p:cNvSpPr/>
              <p:nvPr/>
            </p:nvSpPr>
            <p:spPr>
              <a:xfrm>
                <a:off x="8777160" y="4610160"/>
                <a:ext cx="191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74f1f"/>
                    </a:solidFill>
                    <a:latin typeface="微软雅黑"/>
                    <a:ea typeface="微软雅黑"/>
                  </a:rPr>
                  <a:t>睁开眼睛就亮天，闭上眼睛就黑天。      太阳出来，为了生活出去，太阳落了，为了爱情回去。</a:t>
                </a:r>
                <a:endParaRPr b="0" lang="en-US" sz="1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grpSp>
          <p:nvGrpSpPr>
            <p:cNvPr id="340" name="组合 12316"/>
            <p:cNvGrpSpPr/>
            <p:nvPr/>
          </p:nvGrpSpPr>
          <p:grpSpPr>
            <a:xfrm>
              <a:off x="8854560" y="1536480"/>
              <a:ext cx="2577240" cy="2400120"/>
              <a:chOff x="8854560" y="1536480"/>
              <a:chExt cx="2577240" cy="2400120"/>
            </a:xfrm>
          </p:grpSpPr>
          <p:pic>
            <p:nvPicPr>
              <p:cNvPr id="341" name="图片 261" descr=""/>
              <p:cNvPicPr/>
              <p:nvPr/>
            </p:nvPicPr>
            <p:blipFill>
              <a:blip r:embed="rId9"/>
              <a:srcRect l="0" t="0" r="-12464" b="0"/>
              <a:stretch/>
            </p:blipFill>
            <p:spPr>
              <a:xfrm flipH="1" rot="1080000">
                <a:off x="9203040" y="1825200"/>
                <a:ext cx="2076840" cy="1309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2" name="组合 219"/>
              <p:cNvGrpSpPr/>
              <p:nvPr/>
            </p:nvGrpSpPr>
            <p:grpSpPr>
              <a:xfrm>
                <a:off x="8854560" y="2175840"/>
                <a:ext cx="1762200" cy="1760760"/>
                <a:chOff x="8854560" y="2175840"/>
                <a:chExt cx="1762200" cy="1760760"/>
              </a:xfrm>
            </p:grpSpPr>
            <p:sp>
              <p:nvSpPr>
                <p:cNvPr id="343" name="椭圆 220"/>
                <p:cNvSpPr/>
                <p:nvPr/>
              </p:nvSpPr>
              <p:spPr>
                <a:xfrm>
                  <a:off x="8930520" y="2251800"/>
                  <a:ext cx="1609920" cy="1608480"/>
                </a:xfrm>
                <a:prstGeom prst="ellipse">
                  <a:avLst/>
                </a:prstGeom>
                <a:solidFill>
                  <a:srgbClr val="fdfb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  <p:sp>
              <p:nvSpPr>
                <p:cNvPr id="344" name="椭圆 221"/>
                <p:cNvSpPr/>
                <p:nvPr/>
              </p:nvSpPr>
              <p:spPr>
                <a:xfrm>
                  <a:off x="8854560" y="2175840"/>
                  <a:ext cx="1762200" cy="17607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345" name="图片 12321" descr="a51423369a5d5a02-03f197e1a584bd04-28a4e0bd4c1693ec956072bf58331d67"/>
              <p:cNvPicPr/>
              <p:nvPr/>
            </p:nvPicPr>
            <p:blipFill>
              <a:blip r:embed="rId10"/>
              <a:stretch/>
            </p:blipFill>
            <p:spPr>
              <a:xfrm rot="1380000">
                <a:off x="9260640" y="2470680"/>
                <a:ext cx="895320" cy="1195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46" name="组合 12322"/>
          <p:cNvGrpSpPr/>
          <p:nvPr/>
        </p:nvGrpSpPr>
        <p:grpSpPr>
          <a:xfrm>
            <a:off x="5759280" y="1604160"/>
            <a:ext cx="2963880" cy="3331800"/>
            <a:chOff x="5759280" y="1604160"/>
            <a:chExt cx="2963880" cy="3331800"/>
          </a:xfrm>
        </p:grpSpPr>
        <p:grpSp>
          <p:nvGrpSpPr>
            <p:cNvPr id="347" name="组合 12323"/>
            <p:cNvGrpSpPr/>
            <p:nvPr/>
          </p:nvGrpSpPr>
          <p:grpSpPr>
            <a:xfrm>
              <a:off x="6323040" y="4210200"/>
              <a:ext cx="1854360" cy="725760"/>
              <a:chOff x="6323040" y="4210200"/>
              <a:chExt cx="1854360" cy="725760"/>
            </a:xfrm>
          </p:grpSpPr>
          <p:sp>
            <p:nvSpPr>
              <p:cNvPr id="348" name="矩形 246"/>
              <p:cNvSpPr/>
              <p:nvPr/>
            </p:nvSpPr>
            <p:spPr>
              <a:xfrm>
                <a:off x="6323040" y="4628880"/>
                <a:ext cx="1854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74f1f"/>
                    </a:solidFill>
                    <a:latin typeface="微软雅黑"/>
                    <a:ea typeface="微软雅黑"/>
                  </a:rPr>
                  <a:t>“</a:t>
                </a:r>
                <a:r>
                  <a:rPr b="0" lang="zh-CN" sz="1400" spc="-1" strike="noStrike">
                    <a:solidFill>
                      <a:srgbClr val="574f1f"/>
                    </a:solidFill>
                    <a:latin typeface="微软雅黑"/>
                    <a:ea typeface="微软雅黑"/>
                  </a:rPr>
                  <a:t>花开过，成尘埃；十年流水成尘埃，十年浮云，成尘埃”。娓娓道来的一份真谛，似道家的散淡。</a:t>
                </a:r>
                <a:endParaRPr b="0" lang="en-US" sz="14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  <p:sp>
            <p:nvSpPr>
              <p:cNvPr id="349" name="文本框 250"/>
              <p:cNvSpPr/>
              <p:nvPr/>
            </p:nvSpPr>
            <p:spPr>
              <a:xfrm>
                <a:off x="6708600" y="4210200"/>
                <a:ext cx="1082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{</a:t>
                </a:r>
                <a:r>
                  <a:rPr b="0" lang="zh-CN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空水杯 </a:t>
                </a:r>
                <a:r>
                  <a:rPr b="0" lang="en-US" sz="2000" spc="-1" strike="noStrike">
                    <a:solidFill>
                      <a:srgbClr val="2c2710"/>
                    </a:solidFill>
                    <a:latin typeface="微软雅黑"/>
                    <a:ea typeface="微软雅黑"/>
                  </a:rPr>
                  <a:t>}</a:t>
                </a:r>
                <a:endParaRPr b="0" lang="en-US" sz="2000" spc="-1" strike="noStrike">
                  <a:solidFill>
                    <a:srgbClr val="574f1f"/>
                  </a:solidFill>
                  <a:latin typeface="Calibri"/>
                </a:endParaRPr>
              </a:p>
            </p:txBody>
          </p:sp>
        </p:grpSp>
        <p:grpSp>
          <p:nvGrpSpPr>
            <p:cNvPr id="350" name="组合 12326"/>
            <p:cNvGrpSpPr/>
            <p:nvPr/>
          </p:nvGrpSpPr>
          <p:grpSpPr>
            <a:xfrm>
              <a:off x="5759280" y="1604160"/>
              <a:ext cx="2963880" cy="2351160"/>
              <a:chOff x="5759280" y="1604160"/>
              <a:chExt cx="2963880" cy="2351160"/>
            </a:xfrm>
          </p:grpSpPr>
          <p:pic>
            <p:nvPicPr>
              <p:cNvPr id="351" name="图片 260" descr=""/>
              <p:cNvPicPr/>
              <p:nvPr/>
            </p:nvPicPr>
            <p:blipFill>
              <a:blip r:embed="rId11"/>
              <a:srcRect l="0" t="0" r="-12464" b="0"/>
              <a:stretch/>
            </p:blipFill>
            <p:spPr>
              <a:xfrm flipH="1" rot="1080000">
                <a:off x="5947920" y="1963800"/>
                <a:ext cx="2586240" cy="1631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2" name="组合 199"/>
              <p:cNvGrpSpPr/>
              <p:nvPr/>
            </p:nvGrpSpPr>
            <p:grpSpPr>
              <a:xfrm>
                <a:off x="6368400" y="2190240"/>
                <a:ext cx="1761120" cy="1761840"/>
                <a:chOff x="6368400" y="2190240"/>
                <a:chExt cx="1761120" cy="1761840"/>
              </a:xfrm>
            </p:grpSpPr>
            <p:sp>
              <p:nvSpPr>
                <p:cNvPr id="353" name="椭圆 200"/>
                <p:cNvSpPr/>
                <p:nvPr/>
              </p:nvSpPr>
              <p:spPr>
                <a:xfrm>
                  <a:off x="6444360" y="2266200"/>
                  <a:ext cx="1608840" cy="1609560"/>
                </a:xfrm>
                <a:prstGeom prst="ellipse">
                  <a:avLst/>
                </a:prstGeom>
                <a:solidFill>
                  <a:srgbClr val="fdfb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  <p:sp>
              <p:nvSpPr>
                <p:cNvPr id="354" name="椭圆 201"/>
                <p:cNvSpPr/>
                <p:nvPr/>
              </p:nvSpPr>
              <p:spPr>
                <a:xfrm>
                  <a:off x="6368400" y="2190240"/>
                  <a:ext cx="1761120" cy="17618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f1f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355" name="图片 12331" descr="b2403eb89f898277-0e4bd0e3ff9648b8-0c8944757c97ad19d4678d844fcf4e78"/>
              <p:cNvPicPr/>
              <p:nvPr/>
            </p:nvPicPr>
            <p:blipFill>
              <a:blip r:embed="rId12"/>
              <a:stretch/>
            </p:blipFill>
            <p:spPr>
              <a:xfrm>
                <a:off x="6638400" y="2666520"/>
                <a:ext cx="1229040" cy="86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6" name="组合 12332"/>
          <p:cNvGrpSpPr/>
          <p:nvPr/>
        </p:nvGrpSpPr>
        <p:grpSpPr>
          <a:xfrm>
            <a:off x="2914560" y="237960"/>
            <a:ext cx="6315120" cy="1444680"/>
            <a:chOff x="2914560" y="237960"/>
            <a:chExt cx="6315120" cy="1444680"/>
          </a:xfrm>
        </p:grpSpPr>
        <p:pic>
          <p:nvPicPr>
            <p:cNvPr id="357" name="Group 8" descr=""/>
            <p:cNvPicPr/>
            <p:nvPr/>
          </p:nvPicPr>
          <p:blipFill>
            <a:blip r:embed="rId13"/>
            <a:stretch/>
          </p:blipFill>
          <p:spPr>
            <a:xfrm>
              <a:off x="2914560" y="237960"/>
              <a:ext cx="63151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文本框 266"/>
            <p:cNvSpPr/>
            <p:nvPr/>
          </p:nvSpPr>
          <p:spPr>
            <a:xfrm>
              <a:off x="4946760" y="860400"/>
              <a:ext cx="22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c2710"/>
                  </a:solidFill>
                  <a:latin typeface="Calibri"/>
                  <a:ea typeface="宋体"/>
                </a:rPr>
                <a:t>倾听</a:t>
              </a:r>
              <a:r>
                <a:rPr b="0" lang="en-US" sz="2400" spc="-1" strike="noStrike">
                  <a:solidFill>
                    <a:srgbClr val="2c2710"/>
                  </a:solidFill>
                  <a:latin typeface="Calibri"/>
                </a:rPr>
                <a:t>——</a:t>
              </a:r>
              <a:r>
                <a:rPr b="0" lang="zh-CN" sz="2400" spc="-1" strike="noStrike">
                  <a:solidFill>
                    <a:srgbClr val="2c2710"/>
                  </a:solidFill>
                  <a:latin typeface="Calibri"/>
                  <a:ea typeface="宋体"/>
                </a:rPr>
                <a:t>树生长的声音</a:t>
              </a:r>
              <a:endParaRPr b="0" lang="en-US" sz="2400" spc="-1" strike="noStrike">
                <a:solidFill>
                  <a:srgbClr val="574f1f"/>
                </a:solidFill>
                <a:latin typeface="Calibri"/>
              </a:endParaRPr>
            </a:p>
          </p:txBody>
        </p:sp>
        <p:sp>
          <p:nvSpPr>
            <p:cNvPr id="359" name="文本框 12335"/>
            <p:cNvSpPr/>
            <p:nvPr/>
          </p:nvSpPr>
          <p:spPr>
            <a:xfrm>
              <a:off x="5238720" y="617760"/>
              <a:ext cx="182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74f1f"/>
                  </a:solidFill>
                  <a:latin typeface="Brush Script MT"/>
                </a:rPr>
                <a:t>Folk music giant</a:t>
              </a:r>
              <a:endParaRPr b="0" lang="en-US" sz="1800" spc="-1" strike="noStrike">
                <a:solidFill>
                  <a:srgbClr val="574f1f"/>
                </a:solidFill>
                <a:latin typeface="Calibri"/>
              </a:endParaRPr>
            </a:p>
          </p:txBody>
        </p:sp>
      </p:grpSp>
      <p:sp>
        <p:nvSpPr>
          <p:cNvPr id="360" name="下弧形箭头 12336"/>
          <p:cNvSpPr/>
          <p:nvPr/>
        </p:nvSpPr>
        <p:spPr>
          <a:xfrm rot="16260000">
            <a:off x="11558520" y="6316560"/>
            <a:ext cx="488880" cy="469800"/>
          </a:xfrm>
          <a:custGeom>
            <a:avLst/>
            <a:gdLst>
              <a:gd name="textAreaLeft" fmla="*/ 85320 w 488880"/>
              <a:gd name="textAreaRight" fmla="*/ 354600 w 488880"/>
              <a:gd name="textAreaTop" fmla="*/ 62640 h 469800"/>
              <a:gd name="textAreaBottom" fmla="*/ 40716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b8b00">
              <a:alpha val="57000"/>
            </a:srgbClr>
          </a:solidFill>
          <a:ln w="9360">
            <a:solidFill>
              <a:srgbClr val="574f1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f1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500"/>
                            </p:stCondLst>
                            <p:childTnLst>
                              <p:par>
                                <p:cTn id="31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0:55:10Z</dcterms:created>
  <dc:creator>杨桉楠</dc:creator>
  <dc:description/>
  <dc:language>en-US</dc:language>
  <cp:lastModifiedBy>Owner</cp:lastModifiedBy>
  <dcterms:modified xsi:type="dcterms:W3CDTF">2016-01-27T05:33:28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fileid">
    <vt:lpwstr>519251</vt:lpwstr>
  </property>
  <property fmtid="{D5CDD505-2E9C-101B-9397-08002B2CF9AE}" pid="4" name="name">
    <vt:lpwstr>lXn8MQ7O1j56905.ppt</vt:lpwstr>
  </property>
</Properties>
</file>