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3.jpeg" ContentType="image/jpeg"/>
  <Override PartName="/ppt/media/image13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8.png" ContentType="image/png"/>
  <Override PartName="/ppt/media/image14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24.png" ContentType="image/pn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9BA-9F5A-4FBB-8E75-17700A13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DD5-EE49-4AB8-BF65-4E3663A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D4F-C6F0-4D4B-846C-E91E33A4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09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09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064-D8F9-44D6-80DC-70D19E3B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B81B-50E3-4B9C-9C17-DF2C7848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5510-10CD-4260-B35F-E1A3B12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15A9-151D-4A1D-9E70-144B687B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2C9F-479C-4CAC-9F36-0E51AED6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7755-87B8-4BA8-9A96-8B9C0804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88480" y="276120"/>
            <a:ext cx="78217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64D3-8EE5-49DF-B7EC-02A6977A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F40F-9412-44BD-992C-1449C4D9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0BE-F7CC-47EB-8CAA-983F9C2A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C9BD-042C-4BF1-9318-96E441A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99DC-0B31-438B-ACB0-81C3E49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00DD-3DFA-4F6B-92A9-DB2D85BA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32B9-C92E-4969-828F-94DCAD5B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09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372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09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372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B0B4-5274-4D5A-893B-01668D5B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B1D1-4331-4940-B9E3-EA78C469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5A98-3832-40EC-9F74-3FC316B3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05F08-EF41-49E0-84C1-D29CEA82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6E43-9310-40FC-8C70-FD1A3757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51FA-0A96-4BEC-A80F-AAE8BC88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4B6-1034-41F4-BE55-C14BE2F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88480" y="276120"/>
            <a:ext cx="78217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0A4E-D2B2-44A7-8B36-168FB4DD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F125-10F5-49B3-AC73-509923F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2D8D-8788-4C93-A9DC-54F38B55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274F-E253-438F-9894-6BAFA170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6D5B-453D-4D66-AFE4-0DB817F7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4D55-29A5-4179-B6C2-D7684010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609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372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609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9372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63AE-2E3C-4992-B023-9BF2B4DA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38F57-D566-4776-BF55-DD55C365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35461-9A21-4EC0-B6F6-227F8B40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1407-B702-4E7A-808E-51F3BAA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1EB-B12E-4487-8470-8290399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6DE5-860A-4919-904F-B63F56D2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DD28-9CBB-43E4-B580-7BDA3D5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88480" y="276120"/>
            <a:ext cx="78217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B7C8-D955-4604-97FD-1D4CE412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ED231-20D8-4DF8-AA10-3CD363BE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2E6CE-8DCC-4D7E-8E37-9C387C4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880F-B6E1-4215-B60B-24EB832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A020A-099E-4FF3-8F58-FDBAC9E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8B0C-8563-4DFE-B968-93FF0169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096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3720" y="12474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85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096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93720" y="3787200"/>
            <a:ext cx="26020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FAB10-ECEC-4AE4-94D5-E0D23B48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D44-85AB-45E9-8E84-1BEC38F5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480" y="276120"/>
            <a:ext cx="78217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859-E77D-4C13-B5F8-01C6C82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607-5E51-4C43-9225-266EA1C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0000" y="37872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E30-C4AD-4471-B5F6-CFB566A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0000" y="1247400"/>
            <a:ext cx="3943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787200"/>
            <a:ext cx="80820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A59-7737-4CC8-95F9-969E5C14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65B3-CBDA-4F2D-B218-E36510968F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Calibri"/>
                <a:ea typeface="幼圆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C1B-FD30-4698-A430-678279B57FCC}" type="slidenum">
              <a:rPr b="0" lang="zh-CN" sz="1300" spc="-1" strike="noStrike">
                <a:solidFill>
                  <a:srgbClr val="000000"/>
                </a:solidFill>
                <a:latin typeface="Calibri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1" indent="685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SzPct val="80000"/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2" marL="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1" indent="685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SzPct val="80000"/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2" marL="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Calibri"/>
                <a:ea typeface="幼圆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83B-BBB7-4E48-90C5-FCCE6E0EDBA4}" type="slidenum">
              <a:rPr b="0" lang="zh-CN" sz="1300" spc="-1" strike="noStrike">
                <a:solidFill>
                  <a:srgbClr val="000000"/>
                </a:solidFill>
                <a:latin typeface="Calibri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"/>
          <p:cNvSpPr/>
          <p:nvPr/>
        </p:nvSpPr>
        <p:spPr>
          <a:xfrm>
            <a:off x="7707240" y="27612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华文琥珀"/>
                <a:ea typeface="华文琥珀"/>
              </a:rPr>
              <a:t>晋善晋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1" indent="685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SzPct val="80000"/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2" marL="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5f5f5f"/>
                </a:solidFill>
                <a:latin typeface="Calibri"/>
                <a:ea typeface="幼圆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7CE-BC9E-4864-8D8D-673CA9863CA8}" type="slidenum">
              <a:rPr b="0" lang="zh-CN" sz="1300" spc="-1" strike="noStrike">
                <a:solidFill>
                  <a:srgbClr val="5f5f5f"/>
                </a:solidFill>
                <a:latin typeface="Calibri"/>
                <a:ea typeface="幼圆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262,4,      &#23665;&#35199;&#26159;&#20013;&#21326;&#27665;&#26063;&#30340;&#21457;&#31077;&#22320;&#20043;&#19968;&#65292;&#21382;&#21490;&#24736;&#20037;&#65292;&#20154;&#25991;&#33631;&#33795;&#65292;&#25317;&#26377;&#20016;&#21402;&#30340;&#21382;&#21490;&#25991;&#21270;&#36951;&#20135;&#65292;&#34987;&#35465;&#20026;&#8220;&#21326;&#22799;&#25991;&#26126;&#25671;&#31726;&#8221;&#12290;&#36804;&#20170;&#20026;&#27490;&#26377;&#25991;&#23383;&#35760;&#36733;&#30340;&#21382;&#21490;&#36798;&#19977;&#21315;&#24180;&#20043;&#20037;&#65292;&#32032;&#26377;&#8220;&#20013;&#22269;&#21476;&#20195;&#25991;&#21270;&#21338;&#29289;&#39302;&#8221;&#20043;&#32654;&#31216;&#12290;&#22312;&#23665;&#35199;&#65292;&#21517;&#20135;&#20197;&#27774;&#37202;&#12289;&#31481;&#21494;&#38738;&#26368;&#20026;&#26377;&#21517;&#12290;&#28165;&#38500;&#32769;&#38472;&#37259;&#12289;&#22826;&#21407;&#33889;&#33796;&#37202;&#20063;&#24182;&#19981;&#36874;&#33394;&#65292;&#30693;&#21517;&#24230;&#39047;&#39640;&#65292;&#32780;&#19988;&#29420;&#26641;&#19968;&#24092;&#65292;&#30427;&#21517;&#20013;&#22806;&#12290;" TargetMode="External"/><Relationship Id="rId3" Type="http://schemas.openxmlformats.org/officeDocument/2006/relationships/image" Target="../media/image9.png"/><Relationship Id="rId4" Type="http://schemas.openxmlformats.org/officeDocument/2006/relationships/hyperlink" Target="258,6,&#21809;&#21709;&#23665;&#35199;&#21517;&#27468;" TargetMode="External"/><Relationship Id="rId5" Type="http://schemas.openxmlformats.org/officeDocument/2006/relationships/image" Target="../media/image8.png"/><Relationship Id="rId6" Type="http://schemas.openxmlformats.org/officeDocument/2006/relationships/hyperlink" Target="261,7,&#24187;&#28783;&#29255; 7" TargetMode="External"/><Relationship Id="rId7" Type="http://schemas.openxmlformats.org/officeDocument/2006/relationships/image" Target="../media/image9.png"/><Relationship Id="rId8" Type="http://schemas.openxmlformats.org/officeDocument/2006/relationships/hyperlink" Target="264,8,&#25506;&#35775;&#23665;&#35199;&#21517;&#32988;&#20043;&#19968;" TargetMode="Externa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矩形 3073" descr=""/>
          <p:cNvPicPr/>
          <p:nvPr/>
        </p:nvPicPr>
        <p:blipFill>
          <a:blip r:embed="rId1"/>
          <a:stretch/>
        </p:blipFill>
        <p:spPr>
          <a:xfrm>
            <a:off x="1617840" y="2538360"/>
            <a:ext cx="6615000" cy="275436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7"/>
          <p:cNvSpPr/>
          <p:nvPr/>
        </p:nvSpPr>
        <p:spPr>
          <a:xfrm>
            <a:off x="5521320" y="4614840"/>
            <a:ext cx="180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03030"/>
                </a:solidFill>
                <a:latin typeface="Arial"/>
                <a:ea typeface="微软雅黑"/>
              </a:rPr>
              <a:t>班级：</a:t>
            </a:r>
            <a:r>
              <a:rPr b="0" lang="en-US" sz="2000" spc="-1" strike="noStrike">
                <a:solidFill>
                  <a:srgbClr val="303030"/>
                </a:solidFill>
                <a:latin typeface="Arial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303030"/>
                </a:solidFill>
                <a:latin typeface="Arial"/>
                <a:ea typeface="微软雅黑"/>
              </a:rPr>
              <a:t>旅游管理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03030"/>
                </a:solidFill>
                <a:latin typeface="Arial"/>
                <a:ea typeface="微软雅黑"/>
              </a:rPr>
              <a:t>作者： 武慧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矩形 8" descr=""/>
          <p:cNvPicPr/>
          <p:nvPr/>
        </p:nvPicPr>
        <p:blipFill>
          <a:blip r:embed="rId2"/>
          <a:stretch/>
        </p:blipFill>
        <p:spPr>
          <a:xfrm>
            <a:off x="649440" y="1241280"/>
            <a:ext cx="586260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人说山西好风光.mp3" descr=""/>
          <p:cNvPicPr/>
          <p:nvPr/>
        </p:nvPicPr>
        <p:blipFill>
          <a:blip r:embed="rId3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4120" y="1558440"/>
            <a:ext cx="59785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200" spc="-1" strike="noStrike">
              <a:solidFill>
                <a:srgbClr val="6c930e"/>
              </a:solidFill>
              <a:latin typeface="微软雅黑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012320" y="2631600"/>
            <a:ext cx="569916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231" name="矩形 12289"/>
          <p:cNvSpPr txBox="1"/>
          <p:nvPr/>
        </p:nvSpPr>
        <p:spPr>
          <a:xfrm rot="5400000">
            <a:off x="7532640" y="2379600"/>
            <a:ext cx="5051520" cy="1806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8100000" blurRad="0" rotWithShape="0">
                    <a:srgbClr val="000080">
                      <a:alpha val="50000"/>
                    </a:srgbClr>
                  </a:outerShdw>
                </a:effectLst>
                <a:latin typeface="楷体"/>
              </a:rPr>
              <a:t>魅力山西欢迎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8100000" blurRad="0" rotWithShape="0">
                  <a:srgbClr val="000080">
                    <a:alpha val="5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232" name="矩形 12290"/>
          <p:cNvSpPr txBox="1"/>
          <p:nvPr/>
        </p:nvSpPr>
        <p:spPr>
          <a:xfrm>
            <a:off x="2523960" y="-1266840"/>
            <a:ext cx="532296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人说山西好风光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 advTm="6000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604444 E">
                                      <p:cBhvr>
                                        <p:cTn id="26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dur="indefinite" nodeType="after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1.013472 0 E">
                                      <p:cBhvr>
                                        <p:cTn id="27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标题 4097" descr=""/>
          <p:cNvPicPr/>
          <p:nvPr/>
        </p:nvPicPr>
        <p:blipFill>
          <a:blip r:embed="rId1"/>
          <a:stretch/>
        </p:blipFill>
        <p:spPr>
          <a:xfrm>
            <a:off x="888840" y="216000"/>
            <a:ext cx="3533760" cy="796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88480" y="1247400"/>
            <a:ext cx="4675320" cy="37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       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山西位于太行山之西，黄河以东。山西之名，因居太行山之西而得名。自古被称为“表里山河”。春秋时期，大部分地区为晋国所有，所以简称“晋”；战国初期，韩、赵、魏三家分晋，因而又称“三晋”。全省总面积</a:t>
            </a: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15.6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万平方公里，总人口近</a:t>
            </a: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3400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万人，现辖太原、大同、朔州、阳泉、长治、忻州、吕梁、晋中、临汾、运城、晋城等</a:t>
            </a: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11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个地级市，共 </a:t>
            </a: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85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个县，</a:t>
            </a: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11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个县级市，</a:t>
            </a:r>
            <a:r>
              <a:rPr b="0" lang="en-US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23</a:t>
            </a:r>
            <a:r>
              <a:rPr b="0" lang="zh-CN" sz="2000" spc="-1" strike="noStrike">
                <a:solidFill>
                  <a:srgbClr val="002060"/>
                </a:solidFill>
                <a:latin typeface="华文隶书"/>
                <a:ea typeface="华文隶书"/>
              </a:rPr>
              <a:t>个市辖区。省会太原。省政府驻太原市府东街。 </a:t>
            </a:r>
            <a:endParaRPr b="0" lang="en-US" sz="2000" spc="-1" strike="noStrike">
              <a:solidFill>
                <a:srgbClr val="6c930e"/>
              </a:solidFill>
              <a:latin typeface="幼圆"/>
            </a:endParaRPr>
          </a:p>
        </p:txBody>
      </p:sp>
      <p:pic>
        <p:nvPicPr>
          <p:cNvPr id="174" name="图片 4099" descr="2"/>
          <p:cNvPicPr/>
          <p:nvPr/>
        </p:nvPicPr>
        <p:blipFill>
          <a:blip r:embed="rId2"/>
          <a:stretch/>
        </p:blipFill>
        <p:spPr>
          <a:xfrm>
            <a:off x="5865840" y="1555920"/>
            <a:ext cx="256212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19"/>
          <p:cNvGrpSpPr/>
          <p:nvPr/>
        </p:nvGrpSpPr>
        <p:grpSpPr>
          <a:xfrm>
            <a:off x="2276640" y="992160"/>
            <a:ext cx="2493720" cy="1098720"/>
            <a:chOff x="2276640" y="992160"/>
            <a:chExt cx="2493720" cy="1098720"/>
          </a:xfrm>
        </p:grpSpPr>
        <p:pic>
          <p:nvPicPr>
            <p:cNvPr id="176" name="图片 6" descr="219049-12100211513839"/>
            <p:cNvPicPr/>
            <p:nvPr/>
          </p:nvPicPr>
          <p:blipFill>
            <a:blip r:embed="rId1"/>
            <a:srcRect l="150" t="84200" r="57883" b="0"/>
            <a:stretch/>
          </p:blipFill>
          <p:spPr>
            <a:xfrm>
              <a:off x="2276640" y="992160"/>
              <a:ext cx="249372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10"/>
            <p:cNvSpPr/>
            <p:nvPr/>
          </p:nvSpPr>
          <p:spPr>
            <a:xfrm>
              <a:off x="2562120" y="1185120"/>
              <a:ext cx="187164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00b0f0"/>
                  </a:solidFill>
                  <a:uFillTx/>
                  <a:latin typeface="华文琥珀"/>
                  <a:ea typeface="华文琥珀"/>
                  <a:hlinkClick r:id="rId2"/>
                </a:rPr>
                <a:t>山西特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6"/>
          <p:cNvGrpSpPr/>
          <p:nvPr/>
        </p:nvGrpSpPr>
        <p:grpSpPr>
          <a:xfrm>
            <a:off x="4770360" y="2340000"/>
            <a:ext cx="2328840" cy="816120"/>
            <a:chOff x="4770360" y="2340000"/>
            <a:chExt cx="2328840" cy="816120"/>
          </a:xfrm>
        </p:grpSpPr>
        <p:pic>
          <p:nvPicPr>
            <p:cNvPr id="179" name="图片 9" descr="2457331_225346959000_2"/>
            <p:cNvPicPr/>
            <p:nvPr/>
          </p:nvPicPr>
          <p:blipFill>
            <a:blip r:embed="rId3"/>
            <a:srcRect l="0" t="0" r="60024" b="87194"/>
            <a:stretch/>
          </p:blipFill>
          <p:spPr>
            <a:xfrm>
              <a:off x="4770360" y="2410200"/>
              <a:ext cx="23288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文本框 13"/>
            <p:cNvSpPr/>
            <p:nvPr/>
          </p:nvSpPr>
          <p:spPr>
            <a:xfrm>
              <a:off x="5181120" y="2340000"/>
              <a:ext cx="187164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00b0f0"/>
                  </a:solidFill>
                  <a:uFillTx/>
                  <a:latin typeface="华文琥珀"/>
                  <a:ea typeface="华文琥珀"/>
                  <a:hlinkClick r:id="rId4"/>
                </a:rPr>
                <a:t>山西民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8"/>
          <p:cNvGrpSpPr/>
          <p:nvPr/>
        </p:nvGrpSpPr>
        <p:grpSpPr>
          <a:xfrm>
            <a:off x="2689200" y="3516480"/>
            <a:ext cx="2492280" cy="1098360"/>
            <a:chOff x="2689200" y="3516480"/>
            <a:chExt cx="2492280" cy="1098360"/>
          </a:xfrm>
        </p:grpSpPr>
        <p:pic>
          <p:nvPicPr>
            <p:cNvPr id="182" name="图片 8" descr="219049-12100211513839"/>
            <p:cNvPicPr/>
            <p:nvPr/>
          </p:nvPicPr>
          <p:blipFill>
            <a:blip r:embed="rId5"/>
            <a:srcRect l="150" t="84200" r="57883" b="0"/>
            <a:stretch/>
          </p:blipFill>
          <p:spPr>
            <a:xfrm>
              <a:off x="2689200" y="3516480"/>
              <a:ext cx="249228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文本框 14"/>
            <p:cNvSpPr/>
            <p:nvPr/>
          </p:nvSpPr>
          <p:spPr>
            <a:xfrm>
              <a:off x="2974680" y="3719520"/>
              <a:ext cx="187020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00b0f0"/>
                  </a:solidFill>
                  <a:uFillTx/>
                  <a:latin typeface="华文琥珀"/>
                  <a:ea typeface="华文琥珀"/>
                  <a:hlinkClick r:id="rId6"/>
                </a:rPr>
                <a:t>山西名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7"/>
          <p:cNvGrpSpPr/>
          <p:nvPr/>
        </p:nvGrpSpPr>
        <p:grpSpPr>
          <a:xfrm>
            <a:off x="5311800" y="4734000"/>
            <a:ext cx="2328840" cy="813240"/>
            <a:chOff x="5311800" y="4734000"/>
            <a:chExt cx="2328840" cy="813240"/>
          </a:xfrm>
        </p:grpSpPr>
        <p:pic>
          <p:nvPicPr>
            <p:cNvPr id="185" name="图片 7" descr="2457331_225346959000_2"/>
            <p:cNvPicPr/>
            <p:nvPr/>
          </p:nvPicPr>
          <p:blipFill>
            <a:blip r:embed="rId7"/>
            <a:srcRect l="0" t="0" r="60024" b="87194"/>
            <a:stretch/>
          </p:blipFill>
          <p:spPr>
            <a:xfrm>
              <a:off x="5311800" y="4773960"/>
              <a:ext cx="232884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文本框 15"/>
            <p:cNvSpPr/>
            <p:nvPr/>
          </p:nvSpPr>
          <p:spPr>
            <a:xfrm>
              <a:off x="5682600" y="4734000"/>
              <a:ext cx="187128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00b0f0"/>
                  </a:solidFill>
                  <a:uFillTx/>
                  <a:latin typeface="华文琥珀"/>
                  <a:ea typeface="华文琥珀"/>
                  <a:hlinkClick r:id="rId8"/>
                </a:rPr>
                <a:t>山西名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矩形 20" descr=""/>
          <p:cNvPicPr/>
          <p:nvPr/>
        </p:nvPicPr>
        <p:blipFill>
          <a:blip r:embed="rId9"/>
          <a:stretch/>
        </p:blipFill>
        <p:spPr>
          <a:xfrm>
            <a:off x="530280" y="1541520"/>
            <a:ext cx="146988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标题 7169" descr=""/>
          <p:cNvPicPr/>
          <p:nvPr/>
        </p:nvPicPr>
        <p:blipFill>
          <a:blip r:embed="rId1"/>
          <a:stretch/>
        </p:blipFill>
        <p:spPr>
          <a:xfrm>
            <a:off x="838080" y="225360"/>
            <a:ext cx="4888080" cy="79704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1"/>
          <p:cNvSpPr/>
          <p:nvPr/>
        </p:nvSpPr>
        <p:spPr>
          <a:xfrm>
            <a:off x="971640" y="102060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微软雅黑"/>
              </a:rPr>
              <a:t>山西是中华民族的发祥地之一，历史悠久，人文荟萃，拥有丰厚的历史文化遗产，被誉为“华夏文明摇篮”。迄今为止有文字记载的历史达三千年之久，素有“中国古代文化博物馆”之美称。在山西，名产以汾酒、竹叶青最为有名。清除老陈醋、太原葡萄酒也并不逊色，知名度颇高，而且独树一帜，盛名中外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3"/>
          <p:cNvSpPr/>
          <p:nvPr/>
        </p:nvSpPr>
        <p:spPr>
          <a:xfrm>
            <a:off x="6099120" y="2852640"/>
            <a:ext cx="2219400" cy="3171960"/>
          </a:xfrm>
          <a:custGeom>
            <a:avLst/>
            <a:gdLst>
              <a:gd name="textAreaLeft" fmla="*/ 108360 w 2219400"/>
              <a:gd name="textAreaRight" fmla="*/ 2111040 w 2219400"/>
              <a:gd name="textAreaTop" fmla="*/ 108360 h 3171960"/>
              <a:gd name="textAreaBottom" fmla="*/ 3063600 h 3171960"/>
            </a:gdLst>
            <a:ahLst/>
            <a:rect l="textAreaLeft" t="textAreaTop" r="textAreaRight" b="textAreaBottom"/>
            <a:pathLst>
              <a:path w="21600" h="30869">
                <a:moveTo>
                  <a:pt x="3600" y="0"/>
                </a:moveTo>
                <a:arcTo wR="3600" hR="3600" stAng="16200000" swAng="-5400000"/>
                <a:lnTo>
                  <a:pt x="0" y="27269"/>
                </a:lnTo>
                <a:arcTo wR="3600" hR="3600" stAng="10800000" swAng="-5400000"/>
                <a:lnTo>
                  <a:pt x="18000" y="30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4"/>
          <p:cNvSpPr/>
          <p:nvPr/>
        </p:nvSpPr>
        <p:spPr>
          <a:xfrm>
            <a:off x="971640" y="2854440"/>
            <a:ext cx="2217600" cy="3171600"/>
          </a:xfrm>
          <a:custGeom>
            <a:avLst/>
            <a:gdLst>
              <a:gd name="textAreaLeft" fmla="*/ 108000 w 2217600"/>
              <a:gd name="textAreaRight" fmla="*/ 2109600 w 2217600"/>
              <a:gd name="textAreaTop" fmla="*/ 108000 h 3171600"/>
              <a:gd name="textAreaBottom" fmla="*/ 3063600 h 3171600"/>
            </a:gdLst>
            <a:ahLst/>
            <a:rect l="textAreaLeft" t="textAreaTop" r="textAreaRight" b="textAreaBottom"/>
            <a:pathLst>
              <a:path w="21600" h="30891">
                <a:moveTo>
                  <a:pt x="3600" y="0"/>
                </a:moveTo>
                <a:arcTo wR="3600" hR="3600" stAng="16200000" swAng="-5400000"/>
                <a:lnTo>
                  <a:pt x="0" y="27291"/>
                </a:lnTo>
                <a:arcTo wR="3600" hR="3600" stAng="10800000" swAng="-5400000"/>
                <a:lnTo>
                  <a:pt x="18000" y="30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5"/>
          <p:cNvSpPr/>
          <p:nvPr/>
        </p:nvSpPr>
        <p:spPr>
          <a:xfrm>
            <a:off x="3492360" y="2854440"/>
            <a:ext cx="2219400" cy="3171600"/>
          </a:xfrm>
          <a:custGeom>
            <a:avLst/>
            <a:gdLst>
              <a:gd name="textAreaLeft" fmla="*/ 108360 w 2219400"/>
              <a:gd name="textAreaRight" fmla="*/ 2111040 w 2219400"/>
              <a:gd name="textAreaTop" fmla="*/ 108360 h 3171600"/>
              <a:gd name="textAreaBottom" fmla="*/ 3063240 h 3171600"/>
            </a:gdLst>
            <a:ahLst/>
            <a:rect l="textAreaLeft" t="textAreaTop" r="textAreaRight" b="textAreaBottom"/>
            <a:pathLst>
              <a:path w="21600" h="30866">
                <a:moveTo>
                  <a:pt x="3600" y="0"/>
                </a:moveTo>
                <a:arcTo wR="3600" hR="3600" stAng="16200000" swAng="-5400000"/>
                <a:lnTo>
                  <a:pt x="0" y="27266"/>
                </a:lnTo>
                <a:arcTo wR="3600" hR="3600" stAng="10800000" swAng="-5400000"/>
                <a:lnTo>
                  <a:pt x="18000" y="308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7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标题 7169" descr=""/>
          <p:cNvPicPr/>
          <p:nvPr/>
        </p:nvPicPr>
        <p:blipFill>
          <a:blip r:embed="rId1"/>
          <a:stretch/>
        </p:blipFill>
        <p:spPr>
          <a:xfrm>
            <a:off x="836640" y="225360"/>
            <a:ext cx="4751280" cy="79704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14"/>
          <p:cNvGrpSpPr/>
          <p:nvPr/>
        </p:nvGrpSpPr>
        <p:grpSpPr>
          <a:xfrm>
            <a:off x="1131840" y="1289160"/>
            <a:ext cx="3262320" cy="2280600"/>
            <a:chOff x="1131840" y="1289160"/>
            <a:chExt cx="3262320" cy="2280600"/>
          </a:xfrm>
        </p:grpSpPr>
        <p:sp>
          <p:nvSpPr>
            <p:cNvPr id="195" name="剪去对角的矩形 6"/>
            <p:cNvSpPr/>
            <p:nvPr/>
          </p:nvSpPr>
          <p:spPr>
            <a:xfrm>
              <a:off x="1131840" y="1289160"/>
              <a:ext cx="3262320" cy="1909800"/>
            </a:xfrm>
            <a:custGeom>
              <a:avLst/>
              <a:gdLst/>
              <a:ahLst/>
              <a:rect l="l" t="t" r="r" b="b"/>
              <a:pathLst>
                <a:path w="5138" h="3007">
                  <a:moveTo>
                    <a:pt x="0" y="0"/>
                  </a:moveTo>
                  <a:lnTo>
                    <a:pt x="4865" y="0"/>
                  </a:lnTo>
                  <a:lnTo>
                    <a:pt x="5138" y="272"/>
                  </a:lnTo>
                  <a:lnTo>
                    <a:pt x="5138" y="3007"/>
                  </a:lnTo>
                  <a:lnTo>
                    <a:pt x="5138" y="3007"/>
                  </a:lnTo>
                  <a:lnTo>
                    <a:pt x="272" y="3007"/>
                  </a:lnTo>
                  <a:lnTo>
                    <a:pt x="0" y="273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0"/>
            <p:cNvSpPr/>
            <p:nvPr/>
          </p:nvSpPr>
          <p:spPr>
            <a:xfrm>
              <a:off x="2031480" y="3198960"/>
              <a:ext cx="13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稍梅</a:t>
              </a: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(</a:t>
              </a: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烧麦</a:t>
              </a: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5"/>
          <p:cNvGrpSpPr/>
          <p:nvPr/>
        </p:nvGrpSpPr>
        <p:grpSpPr>
          <a:xfrm>
            <a:off x="4943520" y="1395360"/>
            <a:ext cx="3262320" cy="2280600"/>
            <a:chOff x="4943520" y="1395360"/>
            <a:chExt cx="3262320" cy="2280600"/>
          </a:xfrm>
        </p:grpSpPr>
        <p:sp>
          <p:nvSpPr>
            <p:cNvPr id="198" name="剪去对角的矩形 7"/>
            <p:cNvSpPr/>
            <p:nvPr/>
          </p:nvSpPr>
          <p:spPr>
            <a:xfrm>
              <a:off x="4943520" y="1395360"/>
              <a:ext cx="3262320" cy="1909800"/>
            </a:xfrm>
            <a:custGeom>
              <a:avLst/>
              <a:gdLst/>
              <a:ahLst/>
              <a:rect l="l" t="t" r="r" b="b"/>
              <a:pathLst>
                <a:path w="5138" h="3007">
                  <a:moveTo>
                    <a:pt x="0" y="0"/>
                  </a:moveTo>
                  <a:lnTo>
                    <a:pt x="4865" y="0"/>
                  </a:lnTo>
                  <a:lnTo>
                    <a:pt x="5138" y="272"/>
                  </a:lnTo>
                  <a:lnTo>
                    <a:pt x="5138" y="3007"/>
                  </a:lnTo>
                  <a:lnTo>
                    <a:pt x="5138" y="3007"/>
                  </a:lnTo>
                  <a:lnTo>
                    <a:pt x="272" y="3007"/>
                  </a:lnTo>
                  <a:lnTo>
                    <a:pt x="0" y="273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11"/>
            <p:cNvSpPr/>
            <p:nvPr/>
          </p:nvSpPr>
          <p:spPr>
            <a:xfrm>
              <a:off x="5927400" y="3305160"/>
              <a:ext cx="13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莜面栲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6"/>
          <p:cNvGrpSpPr/>
          <p:nvPr/>
        </p:nvGrpSpPr>
        <p:grpSpPr>
          <a:xfrm>
            <a:off x="1131840" y="3830760"/>
            <a:ext cx="3262320" cy="2318400"/>
            <a:chOff x="1131840" y="3830760"/>
            <a:chExt cx="3262320" cy="2318400"/>
          </a:xfrm>
        </p:grpSpPr>
        <p:sp>
          <p:nvSpPr>
            <p:cNvPr id="201" name="剪去对角的矩形 8"/>
            <p:cNvSpPr/>
            <p:nvPr/>
          </p:nvSpPr>
          <p:spPr>
            <a:xfrm>
              <a:off x="1131840" y="3830760"/>
              <a:ext cx="3262320" cy="1908360"/>
            </a:xfrm>
            <a:custGeom>
              <a:avLst/>
              <a:gdLst/>
              <a:ahLst/>
              <a:rect l="l" t="t" r="r" b="b"/>
              <a:pathLst>
                <a:path w="5138" h="3007">
                  <a:moveTo>
                    <a:pt x="0" y="0"/>
                  </a:moveTo>
                  <a:lnTo>
                    <a:pt x="4865" y="0"/>
                  </a:lnTo>
                  <a:lnTo>
                    <a:pt x="5138" y="272"/>
                  </a:lnTo>
                  <a:lnTo>
                    <a:pt x="5138" y="3007"/>
                  </a:lnTo>
                  <a:lnTo>
                    <a:pt x="5138" y="3007"/>
                  </a:lnTo>
                  <a:lnTo>
                    <a:pt x="272" y="3007"/>
                  </a:lnTo>
                  <a:lnTo>
                    <a:pt x="0" y="273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2"/>
            <p:cNvSpPr/>
            <p:nvPr/>
          </p:nvSpPr>
          <p:spPr>
            <a:xfrm>
              <a:off x="1952640" y="5778360"/>
              <a:ext cx="13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折叠刀削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7"/>
          <p:cNvGrpSpPr/>
          <p:nvPr/>
        </p:nvGrpSpPr>
        <p:grpSpPr>
          <a:xfrm>
            <a:off x="4943520" y="3870360"/>
            <a:ext cx="3262320" cy="2278800"/>
            <a:chOff x="4943520" y="3870360"/>
            <a:chExt cx="3262320" cy="2278800"/>
          </a:xfrm>
        </p:grpSpPr>
        <p:sp>
          <p:nvSpPr>
            <p:cNvPr id="204" name="剪去对角的矩形 9"/>
            <p:cNvSpPr/>
            <p:nvPr/>
          </p:nvSpPr>
          <p:spPr>
            <a:xfrm>
              <a:off x="4943520" y="3870360"/>
              <a:ext cx="3262320" cy="1908000"/>
            </a:xfrm>
            <a:custGeom>
              <a:avLst/>
              <a:gdLst/>
              <a:ahLst/>
              <a:rect l="l" t="t" r="r" b="b"/>
              <a:pathLst>
                <a:path w="5138" h="3007">
                  <a:moveTo>
                    <a:pt x="0" y="0"/>
                  </a:moveTo>
                  <a:lnTo>
                    <a:pt x="4865" y="0"/>
                  </a:lnTo>
                  <a:lnTo>
                    <a:pt x="5138" y="272"/>
                  </a:lnTo>
                  <a:lnTo>
                    <a:pt x="5138" y="3007"/>
                  </a:lnTo>
                  <a:lnTo>
                    <a:pt x="5138" y="3007"/>
                  </a:lnTo>
                  <a:lnTo>
                    <a:pt x="272" y="3007"/>
                  </a:lnTo>
                  <a:lnTo>
                    <a:pt x="0" y="273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13"/>
            <p:cNvSpPr/>
            <p:nvPr/>
          </p:nvSpPr>
          <p:spPr>
            <a:xfrm>
              <a:off x="5927400" y="5778360"/>
              <a:ext cx="13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2060"/>
                  </a:solidFill>
                  <a:latin typeface="华文琥珀"/>
                  <a:ea typeface="华文琥珀"/>
                </a:rPr>
                <a:t>折叠高粱面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椭圆 18" descr=""/>
          <p:cNvPicPr/>
          <p:nvPr/>
        </p:nvPicPr>
        <p:blipFill>
          <a:blip r:embed="rId6"/>
          <a:stretch/>
        </p:blipFill>
        <p:spPr>
          <a:xfrm>
            <a:off x="325440" y="6141960"/>
            <a:ext cx="1022400" cy="588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标题 5121" descr=""/>
          <p:cNvPicPr/>
          <p:nvPr/>
        </p:nvPicPr>
        <p:blipFill>
          <a:blip r:embed="rId1"/>
          <a:stretch/>
        </p:blipFill>
        <p:spPr>
          <a:xfrm>
            <a:off x="888840" y="276120"/>
            <a:ext cx="389916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66560" y="1073160"/>
            <a:ext cx="808200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山西民歌是一种古老的汉族民间艺术。于尧天舜日之时就有传录的，如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《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击壤歌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》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：“日出而作，日入而息，凿井而饮，耕田而食，帝力于我何有哉”；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《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南风歌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》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：“南风之熏兮，可以解吾民之愠兮！南风之时兮，可以阜吾民之财兮！”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《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诗三百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》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中所收集的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《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魏风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》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《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唐风</a:t>
            </a:r>
            <a:r>
              <a:rPr b="0" lang="en-US" sz="1600" spc="-1" strike="noStrike">
                <a:solidFill>
                  <a:srgbClr val="303030"/>
                </a:solidFill>
                <a:latin typeface="宋体"/>
                <a:ea typeface="宋体"/>
              </a:rPr>
              <a:t>》</a:t>
            </a:r>
            <a:r>
              <a:rPr b="0" lang="zh-CN" sz="1600" spc="-1" strike="noStrike">
                <a:solidFill>
                  <a:srgbClr val="303030"/>
                </a:solidFill>
                <a:latin typeface="宋体"/>
                <a:ea typeface="宋体"/>
              </a:rPr>
              <a:t>共十九篇，大部分采自山西。山西一百多个县，几乎每个县都有自己的民歌。据有关方面统计，现在已经收集起来的民歌达两万余首。 山西各地民歌品种繁多，大致可归纳为四大类：一、山歌；二、号子；三、小调；四、套曲。</a:t>
            </a:r>
            <a:endParaRPr b="0" lang="en-US" sz="1600" spc="-1" strike="noStrike">
              <a:solidFill>
                <a:srgbClr val="6c930e"/>
              </a:solidFill>
              <a:latin typeface="幼圆"/>
            </a:endParaRPr>
          </a:p>
        </p:txBody>
      </p:sp>
      <p:pic>
        <p:nvPicPr>
          <p:cNvPr id="209" name="图片 5123" descr="4e4a20a4462309f7ea492735710e0cf3d7cad6f7"/>
          <p:cNvPicPr/>
          <p:nvPr/>
        </p:nvPicPr>
        <p:blipFill>
          <a:blip r:embed="rId2"/>
          <a:stretch/>
        </p:blipFill>
        <p:spPr>
          <a:xfrm>
            <a:off x="776160" y="3533760"/>
            <a:ext cx="3311640" cy="228744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5124" descr="6159252dd42a2834ac0eb97a5ab5c9ea15cebf13"/>
          <p:cNvPicPr/>
          <p:nvPr/>
        </p:nvPicPr>
        <p:blipFill>
          <a:blip r:embed="rId3"/>
          <a:stretch/>
        </p:blipFill>
        <p:spPr>
          <a:xfrm rot="21540000">
            <a:off x="4616280" y="3476160"/>
            <a:ext cx="3378240" cy="2274840"/>
          </a:xfrm>
          <a:prstGeom prst="rect">
            <a:avLst/>
          </a:prstGeom>
          <a:ln w="0">
            <a:noFill/>
          </a:ln>
        </p:spPr>
      </p:pic>
      <p:pic>
        <p:nvPicPr>
          <p:cNvPr id="211" name="椭圆 18" descr=""/>
          <p:cNvPicPr/>
          <p:nvPr/>
        </p:nvPicPr>
        <p:blipFill>
          <a:blip r:embed="rId4"/>
          <a:stretch/>
        </p:blipFill>
        <p:spPr>
          <a:xfrm>
            <a:off x="325440" y="6141960"/>
            <a:ext cx="1022400" cy="58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"/>
                            </p:stCondLst>
                            <p:childTnLst>
                              <p:par>
                                <p:cTn id="15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1"/>
                            </p:stCondLst>
                            <p:childTnLst>
                              <p:par>
                                <p:cTn id="16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文本框 6147" descr=""/>
          <p:cNvPicPr/>
          <p:nvPr/>
        </p:nvPicPr>
        <p:blipFill>
          <a:blip r:embed="rId1"/>
          <a:stretch/>
        </p:blipFill>
        <p:spPr>
          <a:xfrm>
            <a:off x="673200" y="228600"/>
            <a:ext cx="427500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6148"/>
          <p:cNvSpPr/>
          <p:nvPr/>
        </p:nvSpPr>
        <p:spPr>
          <a:xfrm>
            <a:off x="2200320" y="4295880"/>
            <a:ext cx="611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149"/>
          <p:cNvSpPr/>
          <p:nvPr/>
        </p:nvSpPr>
        <p:spPr>
          <a:xfrm>
            <a:off x="5447880" y="992160"/>
            <a:ext cx="127548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Calibri"/>
              </a:rPr>
              <a:t>        </a:t>
            </a:r>
            <a:r>
              <a:rPr b="0" lang="zh-CN" sz="1600" spc="-1" strike="noStrike">
                <a:solidFill>
                  <a:srgbClr val="303030"/>
                </a:solidFill>
                <a:latin typeface="Calibri"/>
                <a:ea typeface="宋体"/>
              </a:rPr>
              <a:t>三晋之地，物华天宝，人杰地灵，自古至今，风云际会，名人辈出：尧、舜、禹、荀子、韩非子、司马迁、关羽、武则天、狄仁杰、王勃、王维、王昌龄、王之涣、裴度、柳宗元、司马光、司空图、米芾、元好问、关汉卿、罗贯中、傅山、于成龙、高君宇、李键吾、石评梅、高长虹、赵树理</a:t>
            </a:r>
            <a:r>
              <a:rPr b="0" lang="en-US" sz="1600" spc="-1" strike="noStrike">
                <a:solidFill>
                  <a:srgbClr val="303030"/>
                </a:solidFill>
                <a:latin typeface="Calibri"/>
              </a:rPr>
              <a:t>……</a:t>
            </a:r>
            <a:r>
              <a:rPr b="0" lang="zh-CN" sz="1600" spc="-1" strike="noStrike">
                <a:solidFill>
                  <a:srgbClr val="303030"/>
                </a:solidFill>
                <a:latin typeface="Calibri"/>
                <a:ea typeface="宋体"/>
              </a:rPr>
              <a:t>或文或武，或宦或商，他们是历史长河中璀璨的群星，放射出耀眼的光芒</a:t>
            </a:r>
            <a:r>
              <a:rPr b="0" lang="en-US" sz="1600" spc="-1" strike="noStrike">
                <a:solidFill>
                  <a:srgbClr val="303030"/>
                </a:solidFill>
                <a:latin typeface="Calibri"/>
              </a:rPr>
              <a:t>,</a:t>
            </a:r>
            <a:r>
              <a:rPr b="0" lang="zh-CN" sz="1600" spc="-1" strike="noStrike">
                <a:solidFill>
                  <a:srgbClr val="303030"/>
                </a:solidFill>
                <a:latin typeface="Calibri"/>
                <a:ea typeface="宋体"/>
              </a:rPr>
              <a:t>他们的行为和气节</a:t>
            </a:r>
            <a:r>
              <a:rPr b="0" lang="en-US" sz="1600" spc="-1" strike="noStrike">
                <a:solidFill>
                  <a:srgbClr val="303030"/>
                </a:solidFill>
                <a:latin typeface="Calibri"/>
              </a:rPr>
              <a:t>,</a:t>
            </a:r>
            <a:r>
              <a:rPr b="0" lang="zh-CN" sz="1600" spc="-1" strike="noStrike">
                <a:solidFill>
                  <a:srgbClr val="303030"/>
                </a:solidFill>
                <a:latin typeface="Calibri"/>
                <a:ea typeface="宋体"/>
              </a:rPr>
              <a:t>他们的才华和功业</a:t>
            </a:r>
            <a:r>
              <a:rPr b="0" lang="en-US" sz="1600" spc="-1" strike="noStrike">
                <a:solidFill>
                  <a:srgbClr val="303030"/>
                </a:solidFill>
                <a:latin typeface="Calibri"/>
              </a:rPr>
              <a:t>,</a:t>
            </a:r>
            <a:r>
              <a:rPr b="0" lang="zh-CN" sz="1600" spc="-1" strike="noStrike">
                <a:solidFill>
                  <a:srgbClr val="303030"/>
                </a:solidFill>
                <a:latin typeface="Calibri"/>
                <a:ea typeface="宋体"/>
              </a:rPr>
              <a:t>泽被四海、誉满天下，我们试图用这本刊物告诉历史，也告诉世人，这些彪炳千秋的山西人，以自己的成就促进了人类的文明和进步，他们不仅是山西的骄傲，也是华夏的骄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6150" descr="u=3892299798,4222782671&amp;fm=73"/>
          <p:cNvPicPr/>
          <p:nvPr/>
        </p:nvPicPr>
        <p:blipFill>
          <a:blip r:embed="rId2"/>
          <a:stretch/>
        </p:blipFill>
        <p:spPr>
          <a:xfrm>
            <a:off x="1521000" y="1171440"/>
            <a:ext cx="2006280" cy="2310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6" name="图片 6151" descr="u=3000571604,1188309671&amp;fm=73"/>
          <p:cNvPicPr/>
          <p:nvPr/>
        </p:nvPicPr>
        <p:blipFill>
          <a:blip r:embed="rId3"/>
          <a:stretch/>
        </p:blipFill>
        <p:spPr>
          <a:xfrm>
            <a:off x="1521000" y="3772080"/>
            <a:ext cx="1977840" cy="2309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17" name="椭圆 18" descr=""/>
          <p:cNvPicPr/>
          <p:nvPr/>
        </p:nvPicPr>
        <p:blipFill>
          <a:blip r:embed="rId4"/>
          <a:stretch/>
        </p:blipFill>
        <p:spPr>
          <a:xfrm>
            <a:off x="325440" y="6141960"/>
            <a:ext cx="1022400" cy="588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标题 9217" descr=""/>
          <p:cNvPicPr/>
          <p:nvPr/>
        </p:nvPicPr>
        <p:blipFill>
          <a:blip r:embed="rId1"/>
          <a:stretch/>
        </p:blipFill>
        <p:spPr>
          <a:xfrm>
            <a:off x="870120" y="277920"/>
            <a:ext cx="4943160" cy="79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763880" y="1063440"/>
            <a:ext cx="366228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幼圆"/>
              </a:rPr>
              <a:t>    </a:t>
            </a:r>
            <a:r>
              <a:rPr b="1" lang="zh-CN" sz="1600" spc="-1" strike="noStrike">
                <a:solidFill>
                  <a:srgbClr val="002060"/>
                </a:solidFill>
                <a:latin typeface="幼圆"/>
              </a:rPr>
              <a:t>晋祠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</a:rPr>
              <a:t>在晋阳城西南的悬瓮山麓，背负悬山，面临汾水，依山就势，利用山坡之高下，分层设置，在山间高地上充分地向外借景，依地势的显露，山势的起伏，构成壮丽巍峨的景观。在景区构成的诸多元素中，优美的天然景色和多种人文景观，无不张扬着灿烂中华历史文化的魅力。</a:t>
            </a:r>
            <a:endParaRPr b="0" lang="en-US" sz="1600" spc="-1" strike="noStrike">
              <a:solidFill>
                <a:srgbClr val="6c930e"/>
              </a:solidFill>
              <a:latin typeface="幼圆"/>
            </a:endParaRPr>
          </a:p>
        </p:txBody>
      </p:sp>
      <p:pic>
        <p:nvPicPr>
          <p:cNvPr id="220" name="图片 9219" descr="11"/>
          <p:cNvPicPr/>
          <p:nvPr/>
        </p:nvPicPr>
        <p:blipFill>
          <a:blip r:embed="rId2"/>
          <a:stretch/>
        </p:blipFill>
        <p:spPr>
          <a:xfrm>
            <a:off x="1219320" y="1201680"/>
            <a:ext cx="3303360" cy="2201760"/>
          </a:xfrm>
          <a:prstGeom prst="rect">
            <a:avLst/>
          </a:prstGeom>
          <a:ln w="0">
            <a:noFill/>
          </a:ln>
        </p:spPr>
      </p:pic>
      <p:sp>
        <p:nvSpPr>
          <p:cNvPr id="221" name="内容占位符 11265"/>
          <p:cNvSpPr/>
          <p:nvPr/>
        </p:nvSpPr>
        <p:spPr>
          <a:xfrm>
            <a:off x="1219320" y="3662280"/>
            <a:ext cx="3657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幼圆"/>
                <a:ea typeface="幼圆"/>
              </a:rPr>
              <a:t>  </a:t>
            </a:r>
            <a:r>
              <a:rPr b="0" lang="en-US" sz="1600" spc="-1" strike="noStrike">
                <a:solidFill>
                  <a:srgbClr val="002060"/>
                </a:solidFill>
                <a:latin typeface="幼圆"/>
                <a:ea typeface="幼圆"/>
              </a:rPr>
              <a:t> </a:t>
            </a:r>
            <a:r>
              <a:rPr b="1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解州关帝庙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总面积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22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万平方米，共有房舍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200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多间，是现存规模最大的宫殿式道教建筑群和武庙，被誉为“关庙之祖”、“武庙之冠”。庙内悬挂有康熙御笔“义炳乾坤”、乾隆钦定“神勇”、咸丰御书“万世人极”、慈禧太后亲书“威灵震叠”等匾额，代表建筑是“春秋楼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11266" descr="j"/>
          <p:cNvPicPr/>
          <p:nvPr/>
        </p:nvPicPr>
        <p:blipFill>
          <a:blip r:embed="rId3"/>
          <a:stretch/>
        </p:blipFill>
        <p:spPr>
          <a:xfrm>
            <a:off x="4937040" y="3736800"/>
            <a:ext cx="3362400" cy="223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1"/>
                            </p:stCondLst>
                            <p:childTnLst>
                              <p:par>
                                <p:cTn id="22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1"/>
                            </p:stCondLst>
                            <p:childTnLst>
                              <p:par>
                                <p:cTn id="2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74800" y="1368360"/>
            <a:ext cx="382752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36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幼圆"/>
              </a:rPr>
              <a:t>  </a:t>
            </a:r>
            <a:r>
              <a:rPr b="0" lang="en-US" sz="1600" spc="-1" strike="noStrike">
                <a:solidFill>
                  <a:srgbClr val="002060"/>
                </a:solidFill>
                <a:latin typeface="幼圆"/>
              </a:rPr>
              <a:t> 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</a:rPr>
              <a:t>五台山位于中国山西省东北部，距省会太原市</a:t>
            </a:r>
            <a:r>
              <a:rPr b="0" lang="en-US" sz="1600" spc="-1" strike="noStrike">
                <a:solidFill>
                  <a:srgbClr val="002060"/>
                </a:solidFill>
                <a:latin typeface="幼圆"/>
              </a:rPr>
              <a:t>230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</a:rPr>
              <a:t>公里。与四川峨嵋山、安徽九华山、浙江普陀山共称“中国佛教四大名山”。是中国佛教及旅游胜地，列中国十大避暑名山之首。</a:t>
            </a:r>
            <a:endParaRPr b="0" lang="en-US" sz="1600" spc="-1" strike="noStrike">
              <a:solidFill>
                <a:srgbClr val="6c930e"/>
              </a:solidFill>
              <a:latin typeface="幼圆"/>
            </a:endParaRPr>
          </a:p>
        </p:txBody>
      </p:sp>
      <p:sp>
        <p:nvSpPr>
          <p:cNvPr id="224" name="文本框 10242"/>
          <p:cNvSpPr/>
          <p:nvPr/>
        </p:nvSpPr>
        <p:spPr>
          <a:xfrm>
            <a:off x="900000" y="3887640"/>
            <a:ext cx="3802320" cy="10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幼圆"/>
                <a:ea typeface="幼圆"/>
              </a:rPr>
              <a:t>    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云冈石窟位于山西省大同市西郊武周山北崖，云冈石窟， 代表了公元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5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世纪至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6</a:t>
            </a:r>
            <a:r>
              <a:rPr b="0" lang="zh-CN" sz="1600" spc="-1" strike="noStrike">
                <a:solidFill>
                  <a:srgbClr val="002060"/>
                </a:solidFill>
                <a:latin typeface="幼圆"/>
                <a:ea typeface="幼圆"/>
              </a:rPr>
              <a:t>世纪时中国杰出的佛教石窟艺术。其中的昙曜五窟，布局设计严谨统一，是中国佛教艺术第一个巅峰时期的经典杰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0243" descr="w"/>
          <p:cNvPicPr/>
          <p:nvPr/>
        </p:nvPicPr>
        <p:blipFill>
          <a:blip r:embed="rId1"/>
          <a:stretch/>
        </p:blipFill>
        <p:spPr>
          <a:xfrm>
            <a:off x="4965840" y="1247760"/>
            <a:ext cx="3031920" cy="23511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0244" descr="y1"/>
          <p:cNvPicPr/>
          <p:nvPr/>
        </p:nvPicPr>
        <p:blipFill>
          <a:blip r:embed="rId2"/>
          <a:stretch/>
        </p:blipFill>
        <p:spPr>
          <a:xfrm>
            <a:off x="4924440" y="3805200"/>
            <a:ext cx="3073320" cy="2352600"/>
          </a:xfrm>
          <a:prstGeom prst="rect">
            <a:avLst/>
          </a:prstGeom>
          <a:ln w="0">
            <a:noFill/>
          </a:ln>
        </p:spPr>
      </p:pic>
      <p:pic>
        <p:nvPicPr>
          <p:cNvPr id="227" name="标题 9217" descr=""/>
          <p:cNvPicPr/>
          <p:nvPr/>
        </p:nvPicPr>
        <p:blipFill>
          <a:blip r:embed="rId3"/>
          <a:stretch/>
        </p:blipFill>
        <p:spPr>
          <a:xfrm>
            <a:off x="870120" y="277920"/>
            <a:ext cx="4943160" cy="796680"/>
          </a:xfrm>
          <a:prstGeom prst="rect">
            <a:avLst/>
          </a:prstGeom>
          <a:ln w="0">
            <a:noFill/>
          </a:ln>
        </p:spPr>
      </p:pic>
      <p:pic>
        <p:nvPicPr>
          <p:cNvPr id="228" name="椭圆 18" descr=""/>
          <p:cNvPicPr/>
          <p:nvPr/>
        </p:nvPicPr>
        <p:blipFill>
          <a:blip r:embed="rId4"/>
          <a:stretch/>
        </p:blipFill>
        <p:spPr>
          <a:xfrm>
            <a:off x="325440" y="6141960"/>
            <a:ext cx="1022400" cy="588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amond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-67,-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1,-67,-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6,-8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360"/>
                            </p:stCondLst>
                            <p:childTnLst>
                              <p:par>
                                <p:cTn id="242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360"/>
                            </p:stCondLst>
                            <p:childTnLst>
                              <p:par>
                                <p:cTn id="2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360"/>
                            </p:stCondLst>
                            <p:childTnLst>
                              <p:par>
                                <p:cTn id="25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3T06:35:11Z</dcterms:created>
  <dc:creator>Administrator</dc:creator>
  <dc:description/>
  <dc:language>en-US</dc:language>
  <cp:lastModifiedBy>Administrator</cp:lastModifiedBy>
  <dcterms:modified xsi:type="dcterms:W3CDTF">2015-12-25T03:07:1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