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543715"/>
                </a:solidFill>
                <a:latin typeface="微软雅黑"/>
              </a:rPr>
              <a:t>Click to move the slide</a:t>
            </a: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97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Calibri"/>
              </a:rPr>
              <a:t>单击此处编辑母版文本样式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Calibri"/>
              </a:rPr>
              <a:t>第二级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Calibri"/>
              </a:rPr>
              <a:t>第三级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Calibri"/>
              </a:rPr>
              <a:t>第四级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Calibri"/>
              </a:rPr>
              <a:t>第五级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FE9B-DE97-46A8-8E4D-33A11ADD14C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-844560" y="0"/>
            <a:ext cx="8093160" cy="4552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249B-49D6-4A3E-BA86-2152DECBC7DB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D3E-59A8-46B4-9EF2-16A90E80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10629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3600" y="3942720"/>
            <a:ext cx="10629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FCD-AE85-4478-81D0-1CE2DF65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7076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3600" y="394272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70760" y="394272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183-68E9-402F-8AE5-C9329D2C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7480" y="145260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11720" y="145260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3600" y="394272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7480" y="394272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11720" y="394272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713-41F0-40DF-ABDD-899CC584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FD26-89E2-48E1-9A1C-FCC884B3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23600" y="1452600"/>
            <a:ext cx="1062972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D03C-01AC-4779-80B9-025C26A6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10629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EB2B-F40F-4792-8F61-A1EAF73D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518724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170760" y="1452600"/>
            <a:ext cx="518724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E1E3-6DFB-41F5-A064-9FC9796E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29E0-148C-4F07-A6CB-F38DD0F9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22160" y="550440"/>
            <a:ext cx="1063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60E8-8A8F-4FE7-98FD-13162403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70760" y="1452600"/>
            <a:ext cx="518724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3600" y="394272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747B-C75D-4015-9858-3646993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3600" y="1452600"/>
            <a:ext cx="1062972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22C-EFEE-4469-B106-91A98381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518724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7076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70760" y="394272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EDF2-6684-43CB-9566-421E110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7076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23600" y="3942720"/>
            <a:ext cx="10629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F832-2798-40BB-98BB-D56EBF5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10629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23600" y="3942720"/>
            <a:ext cx="10629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475E-9FB5-4DB4-BD59-729537E0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17076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3600" y="394272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70760" y="394272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B0A4-F73A-4219-A361-AE56D9DF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17480" y="145260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911720" y="145260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23600" y="394272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17480" y="394272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911720" y="3942720"/>
            <a:ext cx="34225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30DF-DDDF-4496-A1A1-7CD57A32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10629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918-38CE-4788-99E1-D96F1E76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518724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170760" y="1452600"/>
            <a:ext cx="518724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EA5-0EB4-412A-AE76-6EDE4447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AF0-0FE6-4192-B1C4-947AA8D7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22160" y="550440"/>
            <a:ext cx="1063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472-7193-47BC-AF3D-7814FC4B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170760" y="1452600"/>
            <a:ext cx="518724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3600" y="394272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60C-2A6C-40E1-A6EE-F4A08D3D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518724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17076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70760" y="394272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AC6-6591-4E0C-AC22-1387D7DC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360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70760" y="1452600"/>
            <a:ext cx="518724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3600" y="3942720"/>
            <a:ext cx="10629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CE1-5395-4654-B71B-EDFBBBC9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90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" name="图片 13" descr=""/>
          <p:cNvPicPr/>
          <p:nvPr/>
        </p:nvPicPr>
        <p:blipFill>
          <a:blip r:embed="rId2"/>
          <a:stretch/>
        </p:blipFill>
        <p:spPr>
          <a:xfrm>
            <a:off x="279360" y="177840"/>
            <a:ext cx="11633400" cy="6543720"/>
          </a:xfrm>
          <a:prstGeom prst="rect">
            <a:avLst/>
          </a:prstGeom>
          <a:ln w="0">
            <a:noFill/>
          </a:ln>
        </p:spPr>
      </p:pic>
      <p:sp>
        <p:nvSpPr>
          <p:cNvPr id="2" name="矩形 8"/>
          <p:cNvSpPr/>
          <p:nvPr/>
        </p:nvSpPr>
        <p:spPr>
          <a:xfrm>
            <a:off x="482760" y="380880"/>
            <a:ext cx="11183760" cy="6147000"/>
          </a:xfrm>
          <a:prstGeom prst="rect">
            <a:avLst/>
          </a:prstGeom>
          <a:solidFill>
            <a:srgbClr val="ebe4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543715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A4F2-B7AE-4C6D-8679-DA1DEC1E6674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23600" y="1452600"/>
            <a:ext cx="10629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6f654d"/>
              </a:buClr>
              <a:buFont typeface="Webdings" charset="2"/>
              <a:buChar char="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1"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bfa48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90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45" name="图片 10" descr=""/>
          <p:cNvPicPr/>
          <p:nvPr/>
        </p:nvPicPr>
        <p:blipFill>
          <a:blip r:embed="rId2"/>
          <a:stretch/>
        </p:blipFill>
        <p:spPr>
          <a:xfrm>
            <a:off x="179280" y="122400"/>
            <a:ext cx="11835000" cy="6578280"/>
          </a:xfrm>
          <a:prstGeom prst="rect">
            <a:avLst/>
          </a:prstGeom>
          <a:ln w="0">
            <a:noFill/>
          </a:ln>
        </p:spPr>
      </p:pic>
      <p:sp>
        <p:nvSpPr>
          <p:cNvPr id="46" name="矩形 11"/>
          <p:cNvSpPr/>
          <p:nvPr/>
        </p:nvSpPr>
        <p:spPr>
          <a:xfrm>
            <a:off x="2946240" y="1920960"/>
            <a:ext cx="6299280" cy="3244680"/>
          </a:xfrm>
          <a:prstGeom prst="rect">
            <a:avLst/>
          </a:prstGeom>
          <a:solidFill>
            <a:srgbClr val="ebe4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3059280" y="2098800"/>
            <a:ext cx="6076800" cy="2904840"/>
          </a:xfrm>
          <a:prstGeom prst="rect">
            <a:avLst/>
          </a:prstGeom>
          <a:noFill/>
          <a:ln w="76320">
            <a:solidFill>
              <a:srgbClr val="8f83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8" name="直接连接符 14"/>
          <p:cNvSpPr/>
          <p:nvPr/>
        </p:nvSpPr>
        <p:spPr>
          <a:xfrm>
            <a:off x="3581280" y="4119480"/>
            <a:ext cx="5178600" cy="0"/>
          </a:xfrm>
          <a:prstGeom prst="line">
            <a:avLst/>
          </a:prstGeom>
          <a:ln w="6480">
            <a:solidFill>
              <a:srgbClr val="8f83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6019920" y="4019400"/>
            <a:ext cx="191880" cy="190800"/>
          </a:xfrm>
          <a:prstGeom prst="ellipse">
            <a:avLst/>
          </a:prstGeom>
          <a:solidFill>
            <a:srgbClr val="543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5865840" y="4051440"/>
            <a:ext cx="114120" cy="114120"/>
          </a:xfrm>
          <a:prstGeom prst="ellipse">
            <a:avLst/>
          </a:prstGeom>
          <a:solidFill>
            <a:srgbClr val="543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6259680" y="4051440"/>
            <a:ext cx="114120" cy="114120"/>
          </a:xfrm>
          <a:prstGeom prst="ellipse">
            <a:avLst/>
          </a:prstGeom>
          <a:solidFill>
            <a:srgbClr val="543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550440"/>
            <a:ext cx="1063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543715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543715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23600" y="1452600"/>
            <a:ext cx="10629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6f654d"/>
              </a:buClr>
              <a:buFont typeface="Webdings" charset="2"/>
              <a:buChar char="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1"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bfa48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E490-B982-4F7D-9BA0-D3F08EFC7D2D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标题 1" descr=""/>
          <p:cNvPicPr/>
          <p:nvPr/>
        </p:nvPicPr>
        <p:blipFill>
          <a:blip r:embed="rId1"/>
          <a:stretch/>
        </p:blipFill>
        <p:spPr>
          <a:xfrm>
            <a:off x="2819520" y="2568600"/>
            <a:ext cx="6480000" cy="2062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187800" y="4228920"/>
            <a:ext cx="5790960" cy="49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8f8363"/>
                </a:solidFill>
                <a:latin typeface="微软雅黑"/>
              </a:rPr>
              <a:t>作者：候宜京  班级：</a:t>
            </a:r>
            <a:r>
              <a:rPr b="0" lang="en-US" sz="2400" spc="-1" strike="noStrike">
                <a:solidFill>
                  <a:srgbClr val="8f8363"/>
                </a:solidFill>
                <a:latin typeface="微软雅黑"/>
              </a:rPr>
              <a:t>15</a:t>
            </a:r>
            <a:r>
              <a:rPr b="0" lang="zh-CN" sz="2400" spc="-1" strike="noStrike">
                <a:solidFill>
                  <a:srgbClr val="8f8363"/>
                </a:solidFill>
                <a:latin typeface="微软雅黑"/>
              </a:rPr>
              <a:t>旅游管理班</a:t>
            </a:r>
            <a:endParaRPr b="0" lang="en-US" sz="2400" spc="-1" strike="noStrike">
              <a:solidFill>
                <a:srgbClr val="8f8363"/>
              </a:solidFill>
              <a:latin typeface="微软雅黑"/>
            </a:endParaRPr>
          </a:p>
        </p:txBody>
      </p:sp>
      <p:pic>
        <p:nvPicPr>
          <p:cNvPr id="103" name="曹筱红 - 人说山西好风光.mp3" descr=""/>
          <p:cNvPicPr/>
          <p:nvPr/>
        </p:nvPicPr>
        <p:blipFill>
          <a:blip r:embed="rId2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</p:spTree>
  </p:cSld>
  <p:transition advTm="3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5"/>
          <p:cNvSpPr/>
          <p:nvPr/>
        </p:nvSpPr>
        <p:spPr>
          <a:xfrm>
            <a:off x="2878200" y="574560"/>
            <a:ext cx="5219640" cy="5380200"/>
          </a:xfrm>
          <a:custGeom>
            <a:avLst/>
            <a:gdLst>
              <a:gd name="textAreaLeft" fmla="*/ 0 w 5219640"/>
              <a:gd name="textAreaRight" fmla="*/ 5220000 w 5219640"/>
              <a:gd name="textAreaTop" fmla="*/ 0 h 5380200"/>
              <a:gd name="textAreaBottom" fmla="*/ 5380560 h 5380200"/>
            </a:gdLst>
            <a:ahLst/>
            <a:rect l="textAreaLeft" t="textAreaTop" r="textAreaRight" b="textAreaBottom"/>
            <a:pathLst>
              <a:path w="1740" h="1794">
                <a:moveTo>
                  <a:pt x="730" y="30"/>
                </a:moveTo>
                <a:lnTo>
                  <a:pt x="730" y="30"/>
                </a:lnTo>
                <a:lnTo>
                  <a:pt x="726" y="22"/>
                </a:lnTo>
                <a:lnTo>
                  <a:pt x="726" y="14"/>
                </a:lnTo>
                <a:lnTo>
                  <a:pt x="726" y="6"/>
                </a:lnTo>
                <a:lnTo>
                  <a:pt x="724" y="0"/>
                </a:lnTo>
                <a:lnTo>
                  <a:pt x="720" y="0"/>
                </a:lnTo>
                <a:lnTo>
                  <a:pt x="718" y="2"/>
                </a:lnTo>
                <a:lnTo>
                  <a:pt x="716" y="4"/>
                </a:lnTo>
                <a:lnTo>
                  <a:pt x="718" y="6"/>
                </a:lnTo>
                <a:lnTo>
                  <a:pt x="720" y="10"/>
                </a:lnTo>
                <a:lnTo>
                  <a:pt x="722" y="20"/>
                </a:lnTo>
                <a:lnTo>
                  <a:pt x="724" y="26"/>
                </a:lnTo>
                <a:lnTo>
                  <a:pt x="726" y="28"/>
                </a:lnTo>
                <a:lnTo>
                  <a:pt x="730" y="30"/>
                </a:lnTo>
                <a:close/>
                <a:moveTo>
                  <a:pt x="1010" y="182"/>
                </a:moveTo>
                <a:lnTo>
                  <a:pt x="1010" y="182"/>
                </a:lnTo>
                <a:lnTo>
                  <a:pt x="1002" y="182"/>
                </a:lnTo>
                <a:lnTo>
                  <a:pt x="996" y="180"/>
                </a:lnTo>
                <a:lnTo>
                  <a:pt x="984" y="176"/>
                </a:lnTo>
                <a:lnTo>
                  <a:pt x="974" y="172"/>
                </a:lnTo>
                <a:lnTo>
                  <a:pt x="970" y="172"/>
                </a:lnTo>
                <a:lnTo>
                  <a:pt x="966" y="174"/>
                </a:lnTo>
                <a:lnTo>
                  <a:pt x="972" y="176"/>
                </a:lnTo>
                <a:lnTo>
                  <a:pt x="978" y="180"/>
                </a:lnTo>
                <a:lnTo>
                  <a:pt x="990" y="186"/>
                </a:lnTo>
                <a:lnTo>
                  <a:pt x="994" y="188"/>
                </a:lnTo>
                <a:lnTo>
                  <a:pt x="1000" y="188"/>
                </a:lnTo>
                <a:lnTo>
                  <a:pt x="1004" y="186"/>
                </a:lnTo>
                <a:lnTo>
                  <a:pt x="1010" y="182"/>
                </a:lnTo>
                <a:close/>
                <a:moveTo>
                  <a:pt x="1062" y="198"/>
                </a:moveTo>
                <a:lnTo>
                  <a:pt x="1062" y="198"/>
                </a:lnTo>
                <a:lnTo>
                  <a:pt x="1050" y="198"/>
                </a:lnTo>
                <a:lnTo>
                  <a:pt x="1040" y="196"/>
                </a:lnTo>
                <a:lnTo>
                  <a:pt x="1030" y="194"/>
                </a:lnTo>
                <a:lnTo>
                  <a:pt x="1026" y="194"/>
                </a:lnTo>
                <a:lnTo>
                  <a:pt x="1022" y="196"/>
                </a:lnTo>
                <a:lnTo>
                  <a:pt x="1032" y="200"/>
                </a:lnTo>
                <a:lnTo>
                  <a:pt x="1042" y="202"/>
                </a:lnTo>
                <a:lnTo>
                  <a:pt x="1052" y="202"/>
                </a:lnTo>
                <a:lnTo>
                  <a:pt x="1062" y="198"/>
                </a:lnTo>
                <a:close/>
                <a:moveTo>
                  <a:pt x="1138" y="214"/>
                </a:moveTo>
                <a:lnTo>
                  <a:pt x="1138" y="214"/>
                </a:lnTo>
                <a:lnTo>
                  <a:pt x="1138" y="210"/>
                </a:lnTo>
                <a:lnTo>
                  <a:pt x="1136" y="208"/>
                </a:lnTo>
                <a:lnTo>
                  <a:pt x="1128" y="206"/>
                </a:lnTo>
                <a:lnTo>
                  <a:pt x="1120" y="206"/>
                </a:lnTo>
                <a:lnTo>
                  <a:pt x="1118" y="208"/>
                </a:lnTo>
                <a:lnTo>
                  <a:pt x="1116" y="210"/>
                </a:lnTo>
                <a:lnTo>
                  <a:pt x="1122" y="212"/>
                </a:lnTo>
                <a:lnTo>
                  <a:pt x="1126" y="212"/>
                </a:lnTo>
                <a:lnTo>
                  <a:pt x="1130" y="214"/>
                </a:lnTo>
                <a:lnTo>
                  <a:pt x="1138" y="214"/>
                </a:lnTo>
                <a:close/>
                <a:moveTo>
                  <a:pt x="1038" y="230"/>
                </a:moveTo>
                <a:lnTo>
                  <a:pt x="1038" y="230"/>
                </a:lnTo>
                <a:lnTo>
                  <a:pt x="1040" y="232"/>
                </a:lnTo>
                <a:lnTo>
                  <a:pt x="1044" y="236"/>
                </a:lnTo>
                <a:lnTo>
                  <a:pt x="1054" y="238"/>
                </a:lnTo>
                <a:lnTo>
                  <a:pt x="1066" y="236"/>
                </a:lnTo>
                <a:lnTo>
                  <a:pt x="1070" y="234"/>
                </a:lnTo>
                <a:lnTo>
                  <a:pt x="1072" y="232"/>
                </a:lnTo>
                <a:lnTo>
                  <a:pt x="1066" y="228"/>
                </a:lnTo>
                <a:lnTo>
                  <a:pt x="1056" y="226"/>
                </a:lnTo>
                <a:lnTo>
                  <a:pt x="1048" y="228"/>
                </a:lnTo>
                <a:lnTo>
                  <a:pt x="1038" y="230"/>
                </a:lnTo>
                <a:close/>
                <a:moveTo>
                  <a:pt x="852" y="234"/>
                </a:moveTo>
                <a:lnTo>
                  <a:pt x="852" y="234"/>
                </a:lnTo>
                <a:lnTo>
                  <a:pt x="848" y="234"/>
                </a:lnTo>
                <a:lnTo>
                  <a:pt x="846" y="234"/>
                </a:lnTo>
                <a:lnTo>
                  <a:pt x="840" y="232"/>
                </a:lnTo>
                <a:lnTo>
                  <a:pt x="840" y="236"/>
                </a:lnTo>
                <a:lnTo>
                  <a:pt x="838" y="240"/>
                </a:lnTo>
                <a:lnTo>
                  <a:pt x="848" y="240"/>
                </a:lnTo>
                <a:lnTo>
                  <a:pt x="850" y="238"/>
                </a:lnTo>
                <a:lnTo>
                  <a:pt x="852" y="234"/>
                </a:lnTo>
                <a:close/>
                <a:moveTo>
                  <a:pt x="478" y="274"/>
                </a:moveTo>
                <a:lnTo>
                  <a:pt x="478" y="274"/>
                </a:lnTo>
                <a:lnTo>
                  <a:pt x="476" y="270"/>
                </a:lnTo>
                <a:lnTo>
                  <a:pt x="474" y="268"/>
                </a:lnTo>
                <a:lnTo>
                  <a:pt x="466" y="264"/>
                </a:lnTo>
                <a:lnTo>
                  <a:pt x="458" y="262"/>
                </a:lnTo>
                <a:lnTo>
                  <a:pt x="452" y="262"/>
                </a:lnTo>
                <a:lnTo>
                  <a:pt x="458" y="266"/>
                </a:lnTo>
                <a:lnTo>
                  <a:pt x="464" y="272"/>
                </a:lnTo>
                <a:lnTo>
                  <a:pt x="470" y="274"/>
                </a:lnTo>
                <a:lnTo>
                  <a:pt x="474" y="274"/>
                </a:lnTo>
                <a:lnTo>
                  <a:pt x="478" y="274"/>
                </a:lnTo>
                <a:close/>
                <a:moveTo>
                  <a:pt x="456" y="434"/>
                </a:moveTo>
                <a:lnTo>
                  <a:pt x="456" y="434"/>
                </a:lnTo>
                <a:lnTo>
                  <a:pt x="456" y="430"/>
                </a:lnTo>
                <a:lnTo>
                  <a:pt x="452" y="426"/>
                </a:lnTo>
                <a:lnTo>
                  <a:pt x="444" y="424"/>
                </a:lnTo>
                <a:lnTo>
                  <a:pt x="444" y="430"/>
                </a:lnTo>
                <a:lnTo>
                  <a:pt x="448" y="434"/>
                </a:lnTo>
                <a:lnTo>
                  <a:pt x="452" y="436"/>
                </a:lnTo>
                <a:lnTo>
                  <a:pt x="456" y="434"/>
                </a:lnTo>
                <a:close/>
                <a:moveTo>
                  <a:pt x="1584" y="548"/>
                </a:moveTo>
                <a:lnTo>
                  <a:pt x="1584" y="538"/>
                </a:lnTo>
                <a:lnTo>
                  <a:pt x="1574" y="538"/>
                </a:lnTo>
                <a:lnTo>
                  <a:pt x="1572" y="544"/>
                </a:lnTo>
                <a:lnTo>
                  <a:pt x="1574" y="548"/>
                </a:lnTo>
                <a:lnTo>
                  <a:pt x="1578" y="550"/>
                </a:lnTo>
                <a:lnTo>
                  <a:pt x="1584" y="548"/>
                </a:lnTo>
                <a:close/>
                <a:moveTo>
                  <a:pt x="1626" y="588"/>
                </a:moveTo>
                <a:lnTo>
                  <a:pt x="1626" y="588"/>
                </a:lnTo>
                <a:lnTo>
                  <a:pt x="1620" y="586"/>
                </a:lnTo>
                <a:lnTo>
                  <a:pt x="1612" y="586"/>
                </a:lnTo>
                <a:lnTo>
                  <a:pt x="1612" y="588"/>
                </a:lnTo>
                <a:lnTo>
                  <a:pt x="1614" y="590"/>
                </a:lnTo>
                <a:lnTo>
                  <a:pt x="1618" y="592"/>
                </a:lnTo>
                <a:lnTo>
                  <a:pt x="1622" y="592"/>
                </a:lnTo>
                <a:lnTo>
                  <a:pt x="1624" y="590"/>
                </a:lnTo>
                <a:lnTo>
                  <a:pt x="1626" y="588"/>
                </a:lnTo>
                <a:close/>
                <a:moveTo>
                  <a:pt x="1708" y="782"/>
                </a:moveTo>
                <a:lnTo>
                  <a:pt x="1708" y="782"/>
                </a:lnTo>
                <a:lnTo>
                  <a:pt x="1710" y="780"/>
                </a:lnTo>
                <a:lnTo>
                  <a:pt x="1712" y="778"/>
                </a:lnTo>
                <a:lnTo>
                  <a:pt x="1714" y="776"/>
                </a:lnTo>
                <a:lnTo>
                  <a:pt x="1714" y="772"/>
                </a:lnTo>
                <a:lnTo>
                  <a:pt x="1710" y="772"/>
                </a:lnTo>
                <a:lnTo>
                  <a:pt x="1708" y="770"/>
                </a:lnTo>
                <a:lnTo>
                  <a:pt x="1704" y="770"/>
                </a:lnTo>
                <a:lnTo>
                  <a:pt x="1700" y="770"/>
                </a:lnTo>
                <a:lnTo>
                  <a:pt x="1700" y="774"/>
                </a:lnTo>
                <a:lnTo>
                  <a:pt x="1702" y="778"/>
                </a:lnTo>
                <a:lnTo>
                  <a:pt x="1708" y="782"/>
                </a:lnTo>
                <a:close/>
                <a:moveTo>
                  <a:pt x="106" y="862"/>
                </a:moveTo>
                <a:lnTo>
                  <a:pt x="106" y="862"/>
                </a:lnTo>
                <a:lnTo>
                  <a:pt x="112" y="860"/>
                </a:lnTo>
                <a:lnTo>
                  <a:pt x="116" y="856"/>
                </a:lnTo>
                <a:lnTo>
                  <a:pt x="120" y="852"/>
                </a:lnTo>
                <a:lnTo>
                  <a:pt x="126" y="850"/>
                </a:lnTo>
                <a:lnTo>
                  <a:pt x="126" y="842"/>
                </a:lnTo>
                <a:lnTo>
                  <a:pt x="128" y="838"/>
                </a:lnTo>
                <a:lnTo>
                  <a:pt x="130" y="834"/>
                </a:lnTo>
                <a:lnTo>
                  <a:pt x="132" y="830"/>
                </a:lnTo>
                <a:lnTo>
                  <a:pt x="122" y="834"/>
                </a:lnTo>
                <a:lnTo>
                  <a:pt x="114" y="842"/>
                </a:lnTo>
                <a:lnTo>
                  <a:pt x="100" y="858"/>
                </a:lnTo>
                <a:lnTo>
                  <a:pt x="104" y="860"/>
                </a:lnTo>
                <a:lnTo>
                  <a:pt x="106" y="862"/>
                </a:lnTo>
                <a:close/>
                <a:moveTo>
                  <a:pt x="156" y="852"/>
                </a:moveTo>
                <a:lnTo>
                  <a:pt x="156" y="852"/>
                </a:lnTo>
                <a:lnTo>
                  <a:pt x="150" y="852"/>
                </a:lnTo>
                <a:lnTo>
                  <a:pt x="148" y="850"/>
                </a:lnTo>
                <a:lnTo>
                  <a:pt x="148" y="846"/>
                </a:lnTo>
                <a:lnTo>
                  <a:pt x="144" y="844"/>
                </a:lnTo>
                <a:lnTo>
                  <a:pt x="144" y="848"/>
                </a:lnTo>
                <a:lnTo>
                  <a:pt x="142" y="852"/>
                </a:lnTo>
                <a:lnTo>
                  <a:pt x="136" y="858"/>
                </a:lnTo>
                <a:lnTo>
                  <a:pt x="130" y="864"/>
                </a:lnTo>
                <a:lnTo>
                  <a:pt x="130" y="868"/>
                </a:lnTo>
                <a:lnTo>
                  <a:pt x="130" y="874"/>
                </a:lnTo>
                <a:lnTo>
                  <a:pt x="134" y="872"/>
                </a:lnTo>
                <a:lnTo>
                  <a:pt x="138" y="870"/>
                </a:lnTo>
                <a:lnTo>
                  <a:pt x="144" y="864"/>
                </a:lnTo>
                <a:lnTo>
                  <a:pt x="150" y="858"/>
                </a:lnTo>
                <a:lnTo>
                  <a:pt x="156" y="852"/>
                </a:lnTo>
                <a:close/>
                <a:moveTo>
                  <a:pt x="126" y="884"/>
                </a:moveTo>
                <a:lnTo>
                  <a:pt x="126" y="884"/>
                </a:lnTo>
                <a:lnTo>
                  <a:pt x="124" y="888"/>
                </a:lnTo>
                <a:lnTo>
                  <a:pt x="124" y="890"/>
                </a:lnTo>
                <a:lnTo>
                  <a:pt x="124" y="894"/>
                </a:lnTo>
                <a:lnTo>
                  <a:pt x="132" y="894"/>
                </a:lnTo>
                <a:lnTo>
                  <a:pt x="132" y="886"/>
                </a:lnTo>
                <a:lnTo>
                  <a:pt x="130" y="884"/>
                </a:lnTo>
                <a:lnTo>
                  <a:pt x="126" y="884"/>
                </a:lnTo>
                <a:close/>
                <a:moveTo>
                  <a:pt x="4" y="964"/>
                </a:moveTo>
                <a:lnTo>
                  <a:pt x="4" y="964"/>
                </a:lnTo>
                <a:lnTo>
                  <a:pt x="8" y="964"/>
                </a:lnTo>
                <a:lnTo>
                  <a:pt x="12" y="962"/>
                </a:lnTo>
                <a:lnTo>
                  <a:pt x="14" y="958"/>
                </a:lnTo>
                <a:lnTo>
                  <a:pt x="14" y="954"/>
                </a:lnTo>
                <a:lnTo>
                  <a:pt x="12" y="952"/>
                </a:lnTo>
                <a:lnTo>
                  <a:pt x="8" y="952"/>
                </a:lnTo>
                <a:lnTo>
                  <a:pt x="2" y="954"/>
                </a:lnTo>
                <a:lnTo>
                  <a:pt x="0" y="956"/>
                </a:lnTo>
                <a:lnTo>
                  <a:pt x="0" y="960"/>
                </a:lnTo>
                <a:lnTo>
                  <a:pt x="2" y="962"/>
                </a:lnTo>
                <a:lnTo>
                  <a:pt x="4" y="964"/>
                </a:lnTo>
                <a:close/>
                <a:moveTo>
                  <a:pt x="48" y="986"/>
                </a:moveTo>
                <a:lnTo>
                  <a:pt x="48" y="986"/>
                </a:lnTo>
                <a:lnTo>
                  <a:pt x="48" y="992"/>
                </a:lnTo>
                <a:lnTo>
                  <a:pt x="44" y="1000"/>
                </a:lnTo>
                <a:lnTo>
                  <a:pt x="38" y="1016"/>
                </a:lnTo>
                <a:lnTo>
                  <a:pt x="34" y="1024"/>
                </a:lnTo>
                <a:lnTo>
                  <a:pt x="34" y="1030"/>
                </a:lnTo>
                <a:lnTo>
                  <a:pt x="38" y="1034"/>
                </a:lnTo>
                <a:lnTo>
                  <a:pt x="46" y="1036"/>
                </a:lnTo>
                <a:lnTo>
                  <a:pt x="46" y="1028"/>
                </a:lnTo>
                <a:lnTo>
                  <a:pt x="46" y="1020"/>
                </a:lnTo>
                <a:lnTo>
                  <a:pt x="52" y="1006"/>
                </a:lnTo>
                <a:lnTo>
                  <a:pt x="54" y="1000"/>
                </a:lnTo>
                <a:lnTo>
                  <a:pt x="56" y="994"/>
                </a:lnTo>
                <a:lnTo>
                  <a:pt x="54" y="990"/>
                </a:lnTo>
                <a:lnTo>
                  <a:pt x="48" y="986"/>
                </a:lnTo>
                <a:close/>
                <a:moveTo>
                  <a:pt x="1732" y="1110"/>
                </a:moveTo>
                <a:lnTo>
                  <a:pt x="1732" y="1110"/>
                </a:lnTo>
                <a:lnTo>
                  <a:pt x="1734" y="1112"/>
                </a:lnTo>
                <a:lnTo>
                  <a:pt x="1734" y="1116"/>
                </a:lnTo>
                <a:lnTo>
                  <a:pt x="1732" y="1124"/>
                </a:lnTo>
                <a:lnTo>
                  <a:pt x="1732" y="1128"/>
                </a:lnTo>
                <a:lnTo>
                  <a:pt x="1734" y="1132"/>
                </a:lnTo>
                <a:lnTo>
                  <a:pt x="1738" y="1134"/>
                </a:lnTo>
                <a:lnTo>
                  <a:pt x="1738" y="1126"/>
                </a:lnTo>
                <a:lnTo>
                  <a:pt x="1738" y="1118"/>
                </a:lnTo>
                <a:lnTo>
                  <a:pt x="1738" y="1112"/>
                </a:lnTo>
                <a:lnTo>
                  <a:pt x="1736" y="1110"/>
                </a:lnTo>
                <a:lnTo>
                  <a:pt x="1732" y="1110"/>
                </a:lnTo>
                <a:close/>
                <a:moveTo>
                  <a:pt x="1730" y="1154"/>
                </a:moveTo>
                <a:lnTo>
                  <a:pt x="1730" y="1154"/>
                </a:lnTo>
                <a:lnTo>
                  <a:pt x="1730" y="1162"/>
                </a:lnTo>
                <a:lnTo>
                  <a:pt x="1728" y="1168"/>
                </a:lnTo>
                <a:lnTo>
                  <a:pt x="1728" y="1174"/>
                </a:lnTo>
                <a:lnTo>
                  <a:pt x="1730" y="1176"/>
                </a:lnTo>
                <a:lnTo>
                  <a:pt x="1734" y="1178"/>
                </a:lnTo>
                <a:lnTo>
                  <a:pt x="1732" y="1174"/>
                </a:lnTo>
                <a:lnTo>
                  <a:pt x="1732" y="1170"/>
                </a:lnTo>
                <a:lnTo>
                  <a:pt x="1734" y="1164"/>
                </a:lnTo>
                <a:lnTo>
                  <a:pt x="1734" y="1158"/>
                </a:lnTo>
                <a:lnTo>
                  <a:pt x="1732" y="1156"/>
                </a:lnTo>
                <a:lnTo>
                  <a:pt x="1730" y="1154"/>
                </a:lnTo>
                <a:close/>
                <a:moveTo>
                  <a:pt x="106" y="1196"/>
                </a:moveTo>
                <a:lnTo>
                  <a:pt x="106" y="1196"/>
                </a:lnTo>
                <a:lnTo>
                  <a:pt x="110" y="1198"/>
                </a:lnTo>
                <a:lnTo>
                  <a:pt x="114" y="1200"/>
                </a:lnTo>
                <a:lnTo>
                  <a:pt x="108" y="1202"/>
                </a:lnTo>
                <a:lnTo>
                  <a:pt x="104" y="1204"/>
                </a:lnTo>
                <a:lnTo>
                  <a:pt x="100" y="1212"/>
                </a:lnTo>
                <a:lnTo>
                  <a:pt x="94" y="1218"/>
                </a:lnTo>
                <a:lnTo>
                  <a:pt x="92" y="1220"/>
                </a:lnTo>
                <a:lnTo>
                  <a:pt x="88" y="1218"/>
                </a:lnTo>
                <a:lnTo>
                  <a:pt x="86" y="1236"/>
                </a:lnTo>
                <a:lnTo>
                  <a:pt x="86" y="1244"/>
                </a:lnTo>
                <a:lnTo>
                  <a:pt x="88" y="1250"/>
                </a:lnTo>
                <a:lnTo>
                  <a:pt x="90" y="1250"/>
                </a:lnTo>
                <a:lnTo>
                  <a:pt x="92" y="1252"/>
                </a:lnTo>
                <a:lnTo>
                  <a:pt x="106" y="1246"/>
                </a:lnTo>
                <a:lnTo>
                  <a:pt x="118" y="1242"/>
                </a:lnTo>
                <a:lnTo>
                  <a:pt x="132" y="1238"/>
                </a:lnTo>
                <a:lnTo>
                  <a:pt x="144" y="1232"/>
                </a:lnTo>
                <a:lnTo>
                  <a:pt x="146" y="1226"/>
                </a:lnTo>
                <a:lnTo>
                  <a:pt x="146" y="1222"/>
                </a:lnTo>
                <a:lnTo>
                  <a:pt x="144" y="1214"/>
                </a:lnTo>
                <a:lnTo>
                  <a:pt x="140" y="1208"/>
                </a:lnTo>
                <a:lnTo>
                  <a:pt x="136" y="1198"/>
                </a:lnTo>
                <a:lnTo>
                  <a:pt x="132" y="1200"/>
                </a:lnTo>
                <a:lnTo>
                  <a:pt x="128" y="1200"/>
                </a:lnTo>
                <a:lnTo>
                  <a:pt x="120" y="1198"/>
                </a:lnTo>
                <a:lnTo>
                  <a:pt x="112" y="1194"/>
                </a:lnTo>
                <a:lnTo>
                  <a:pt x="108" y="1194"/>
                </a:lnTo>
                <a:lnTo>
                  <a:pt x="106" y="1196"/>
                </a:lnTo>
                <a:close/>
                <a:moveTo>
                  <a:pt x="1700" y="1296"/>
                </a:moveTo>
                <a:lnTo>
                  <a:pt x="1700" y="1296"/>
                </a:lnTo>
                <a:lnTo>
                  <a:pt x="1698" y="1300"/>
                </a:lnTo>
                <a:lnTo>
                  <a:pt x="1698" y="1304"/>
                </a:lnTo>
                <a:lnTo>
                  <a:pt x="1700" y="1308"/>
                </a:lnTo>
                <a:lnTo>
                  <a:pt x="1704" y="1310"/>
                </a:lnTo>
                <a:lnTo>
                  <a:pt x="1706" y="1302"/>
                </a:lnTo>
                <a:lnTo>
                  <a:pt x="1704" y="1298"/>
                </a:lnTo>
                <a:lnTo>
                  <a:pt x="1700" y="1296"/>
                </a:lnTo>
                <a:close/>
                <a:moveTo>
                  <a:pt x="492" y="1520"/>
                </a:moveTo>
                <a:lnTo>
                  <a:pt x="492" y="1520"/>
                </a:lnTo>
                <a:lnTo>
                  <a:pt x="490" y="1500"/>
                </a:lnTo>
                <a:lnTo>
                  <a:pt x="486" y="1492"/>
                </a:lnTo>
                <a:lnTo>
                  <a:pt x="482" y="1484"/>
                </a:lnTo>
                <a:lnTo>
                  <a:pt x="486" y="1486"/>
                </a:lnTo>
                <a:lnTo>
                  <a:pt x="488" y="1486"/>
                </a:lnTo>
                <a:lnTo>
                  <a:pt x="490" y="1484"/>
                </a:lnTo>
                <a:lnTo>
                  <a:pt x="486" y="1482"/>
                </a:lnTo>
                <a:lnTo>
                  <a:pt x="484" y="1480"/>
                </a:lnTo>
                <a:lnTo>
                  <a:pt x="480" y="1478"/>
                </a:lnTo>
                <a:lnTo>
                  <a:pt x="478" y="1480"/>
                </a:lnTo>
                <a:lnTo>
                  <a:pt x="478" y="1482"/>
                </a:lnTo>
                <a:lnTo>
                  <a:pt x="476" y="1490"/>
                </a:lnTo>
                <a:lnTo>
                  <a:pt x="476" y="1502"/>
                </a:lnTo>
                <a:lnTo>
                  <a:pt x="478" y="1510"/>
                </a:lnTo>
                <a:lnTo>
                  <a:pt x="482" y="1514"/>
                </a:lnTo>
                <a:lnTo>
                  <a:pt x="486" y="1518"/>
                </a:lnTo>
                <a:lnTo>
                  <a:pt x="492" y="1520"/>
                </a:lnTo>
                <a:close/>
                <a:moveTo>
                  <a:pt x="480" y="1526"/>
                </a:moveTo>
                <a:lnTo>
                  <a:pt x="480" y="1526"/>
                </a:lnTo>
                <a:lnTo>
                  <a:pt x="486" y="1538"/>
                </a:lnTo>
                <a:lnTo>
                  <a:pt x="492" y="1544"/>
                </a:lnTo>
                <a:lnTo>
                  <a:pt x="498" y="1546"/>
                </a:lnTo>
                <a:lnTo>
                  <a:pt x="496" y="1534"/>
                </a:lnTo>
                <a:lnTo>
                  <a:pt x="492" y="1522"/>
                </a:lnTo>
                <a:lnTo>
                  <a:pt x="486" y="1522"/>
                </a:lnTo>
                <a:lnTo>
                  <a:pt x="480" y="1526"/>
                </a:lnTo>
                <a:close/>
                <a:moveTo>
                  <a:pt x="426" y="1536"/>
                </a:moveTo>
                <a:lnTo>
                  <a:pt x="426" y="1536"/>
                </a:lnTo>
                <a:lnTo>
                  <a:pt x="420" y="1536"/>
                </a:lnTo>
                <a:lnTo>
                  <a:pt x="414" y="1534"/>
                </a:lnTo>
                <a:lnTo>
                  <a:pt x="414" y="1540"/>
                </a:lnTo>
                <a:lnTo>
                  <a:pt x="416" y="1546"/>
                </a:lnTo>
                <a:lnTo>
                  <a:pt x="420" y="1560"/>
                </a:lnTo>
                <a:lnTo>
                  <a:pt x="422" y="1554"/>
                </a:lnTo>
                <a:lnTo>
                  <a:pt x="424" y="1548"/>
                </a:lnTo>
                <a:lnTo>
                  <a:pt x="424" y="1542"/>
                </a:lnTo>
                <a:lnTo>
                  <a:pt x="420" y="1538"/>
                </a:lnTo>
                <a:lnTo>
                  <a:pt x="424" y="1538"/>
                </a:lnTo>
                <a:lnTo>
                  <a:pt x="426" y="1536"/>
                </a:lnTo>
                <a:close/>
                <a:moveTo>
                  <a:pt x="508" y="1564"/>
                </a:moveTo>
                <a:lnTo>
                  <a:pt x="508" y="1564"/>
                </a:lnTo>
                <a:lnTo>
                  <a:pt x="504" y="1554"/>
                </a:lnTo>
                <a:lnTo>
                  <a:pt x="500" y="1550"/>
                </a:lnTo>
                <a:lnTo>
                  <a:pt x="492" y="1548"/>
                </a:lnTo>
                <a:lnTo>
                  <a:pt x="494" y="1554"/>
                </a:lnTo>
                <a:lnTo>
                  <a:pt x="498" y="1558"/>
                </a:lnTo>
                <a:lnTo>
                  <a:pt x="502" y="1562"/>
                </a:lnTo>
                <a:lnTo>
                  <a:pt x="508" y="1564"/>
                </a:lnTo>
                <a:close/>
                <a:moveTo>
                  <a:pt x="338" y="1554"/>
                </a:moveTo>
                <a:lnTo>
                  <a:pt x="326" y="1554"/>
                </a:lnTo>
                <a:lnTo>
                  <a:pt x="326" y="1556"/>
                </a:lnTo>
                <a:lnTo>
                  <a:pt x="326" y="1560"/>
                </a:lnTo>
                <a:lnTo>
                  <a:pt x="330" y="1564"/>
                </a:lnTo>
                <a:lnTo>
                  <a:pt x="336" y="1564"/>
                </a:lnTo>
                <a:lnTo>
                  <a:pt x="338" y="1564"/>
                </a:lnTo>
                <a:lnTo>
                  <a:pt x="340" y="1562"/>
                </a:lnTo>
                <a:lnTo>
                  <a:pt x="338" y="1560"/>
                </a:lnTo>
                <a:lnTo>
                  <a:pt x="338" y="1554"/>
                </a:lnTo>
                <a:close/>
                <a:moveTo>
                  <a:pt x="584" y="1582"/>
                </a:moveTo>
                <a:lnTo>
                  <a:pt x="584" y="1582"/>
                </a:lnTo>
                <a:lnTo>
                  <a:pt x="592" y="1586"/>
                </a:lnTo>
                <a:lnTo>
                  <a:pt x="594" y="1586"/>
                </a:lnTo>
                <a:lnTo>
                  <a:pt x="596" y="1582"/>
                </a:lnTo>
                <a:lnTo>
                  <a:pt x="590" y="1578"/>
                </a:lnTo>
                <a:lnTo>
                  <a:pt x="586" y="1578"/>
                </a:lnTo>
                <a:lnTo>
                  <a:pt x="584" y="1582"/>
                </a:lnTo>
                <a:close/>
                <a:moveTo>
                  <a:pt x="574" y="1740"/>
                </a:moveTo>
                <a:lnTo>
                  <a:pt x="574" y="1740"/>
                </a:lnTo>
                <a:lnTo>
                  <a:pt x="578" y="1740"/>
                </a:lnTo>
                <a:lnTo>
                  <a:pt x="580" y="1742"/>
                </a:lnTo>
                <a:lnTo>
                  <a:pt x="584" y="1746"/>
                </a:lnTo>
                <a:lnTo>
                  <a:pt x="588" y="1748"/>
                </a:lnTo>
                <a:lnTo>
                  <a:pt x="590" y="1748"/>
                </a:lnTo>
                <a:lnTo>
                  <a:pt x="592" y="1744"/>
                </a:lnTo>
                <a:lnTo>
                  <a:pt x="588" y="1742"/>
                </a:lnTo>
                <a:lnTo>
                  <a:pt x="582" y="1738"/>
                </a:lnTo>
                <a:lnTo>
                  <a:pt x="578" y="1738"/>
                </a:lnTo>
                <a:lnTo>
                  <a:pt x="576" y="1738"/>
                </a:lnTo>
                <a:lnTo>
                  <a:pt x="574" y="1740"/>
                </a:lnTo>
                <a:close/>
                <a:moveTo>
                  <a:pt x="690" y="1740"/>
                </a:moveTo>
                <a:lnTo>
                  <a:pt x="690" y="1740"/>
                </a:lnTo>
                <a:lnTo>
                  <a:pt x="694" y="1742"/>
                </a:lnTo>
                <a:lnTo>
                  <a:pt x="700" y="1744"/>
                </a:lnTo>
                <a:lnTo>
                  <a:pt x="706" y="1744"/>
                </a:lnTo>
                <a:lnTo>
                  <a:pt x="708" y="1742"/>
                </a:lnTo>
                <a:lnTo>
                  <a:pt x="708" y="1740"/>
                </a:lnTo>
                <a:lnTo>
                  <a:pt x="698" y="1738"/>
                </a:lnTo>
                <a:lnTo>
                  <a:pt x="694" y="1738"/>
                </a:lnTo>
                <a:lnTo>
                  <a:pt x="692" y="1738"/>
                </a:lnTo>
                <a:lnTo>
                  <a:pt x="690" y="1740"/>
                </a:lnTo>
                <a:close/>
                <a:moveTo>
                  <a:pt x="750" y="1760"/>
                </a:moveTo>
                <a:lnTo>
                  <a:pt x="750" y="1760"/>
                </a:lnTo>
                <a:lnTo>
                  <a:pt x="754" y="1760"/>
                </a:lnTo>
                <a:lnTo>
                  <a:pt x="756" y="1760"/>
                </a:lnTo>
                <a:lnTo>
                  <a:pt x="758" y="1762"/>
                </a:lnTo>
                <a:lnTo>
                  <a:pt x="762" y="1762"/>
                </a:lnTo>
                <a:lnTo>
                  <a:pt x="762" y="1758"/>
                </a:lnTo>
                <a:lnTo>
                  <a:pt x="762" y="1756"/>
                </a:lnTo>
                <a:lnTo>
                  <a:pt x="758" y="1754"/>
                </a:lnTo>
                <a:lnTo>
                  <a:pt x="754" y="1756"/>
                </a:lnTo>
                <a:lnTo>
                  <a:pt x="750" y="1760"/>
                </a:lnTo>
                <a:close/>
                <a:moveTo>
                  <a:pt x="916" y="1770"/>
                </a:moveTo>
                <a:lnTo>
                  <a:pt x="916" y="1770"/>
                </a:lnTo>
                <a:lnTo>
                  <a:pt x="916" y="1774"/>
                </a:lnTo>
                <a:lnTo>
                  <a:pt x="918" y="1776"/>
                </a:lnTo>
                <a:lnTo>
                  <a:pt x="918" y="1778"/>
                </a:lnTo>
                <a:lnTo>
                  <a:pt x="916" y="1780"/>
                </a:lnTo>
                <a:lnTo>
                  <a:pt x="922" y="1778"/>
                </a:lnTo>
                <a:lnTo>
                  <a:pt x="928" y="1776"/>
                </a:lnTo>
                <a:lnTo>
                  <a:pt x="940" y="1776"/>
                </a:lnTo>
                <a:lnTo>
                  <a:pt x="950" y="1776"/>
                </a:lnTo>
                <a:lnTo>
                  <a:pt x="954" y="1774"/>
                </a:lnTo>
                <a:lnTo>
                  <a:pt x="958" y="1772"/>
                </a:lnTo>
                <a:lnTo>
                  <a:pt x="946" y="1774"/>
                </a:lnTo>
                <a:lnTo>
                  <a:pt x="938" y="1772"/>
                </a:lnTo>
                <a:lnTo>
                  <a:pt x="930" y="1770"/>
                </a:lnTo>
                <a:lnTo>
                  <a:pt x="916" y="1770"/>
                </a:lnTo>
                <a:close/>
                <a:moveTo>
                  <a:pt x="974" y="1774"/>
                </a:moveTo>
                <a:lnTo>
                  <a:pt x="974" y="1774"/>
                </a:lnTo>
                <a:lnTo>
                  <a:pt x="986" y="1776"/>
                </a:lnTo>
                <a:lnTo>
                  <a:pt x="1000" y="1776"/>
                </a:lnTo>
                <a:lnTo>
                  <a:pt x="1012" y="1776"/>
                </a:lnTo>
                <a:lnTo>
                  <a:pt x="1018" y="1776"/>
                </a:lnTo>
                <a:lnTo>
                  <a:pt x="1022" y="1772"/>
                </a:lnTo>
                <a:lnTo>
                  <a:pt x="1010" y="1770"/>
                </a:lnTo>
                <a:lnTo>
                  <a:pt x="996" y="1770"/>
                </a:lnTo>
                <a:lnTo>
                  <a:pt x="984" y="1770"/>
                </a:lnTo>
                <a:lnTo>
                  <a:pt x="974" y="1774"/>
                </a:lnTo>
                <a:close/>
                <a:moveTo>
                  <a:pt x="688" y="1780"/>
                </a:moveTo>
                <a:lnTo>
                  <a:pt x="688" y="1780"/>
                </a:lnTo>
                <a:lnTo>
                  <a:pt x="688" y="1784"/>
                </a:lnTo>
                <a:lnTo>
                  <a:pt x="688" y="1788"/>
                </a:lnTo>
                <a:lnTo>
                  <a:pt x="694" y="1792"/>
                </a:lnTo>
                <a:lnTo>
                  <a:pt x="700" y="1794"/>
                </a:lnTo>
                <a:lnTo>
                  <a:pt x="706" y="1792"/>
                </a:lnTo>
                <a:lnTo>
                  <a:pt x="702" y="1790"/>
                </a:lnTo>
                <a:lnTo>
                  <a:pt x="698" y="1784"/>
                </a:lnTo>
                <a:lnTo>
                  <a:pt x="694" y="1780"/>
                </a:lnTo>
                <a:lnTo>
                  <a:pt x="692" y="1780"/>
                </a:lnTo>
                <a:lnTo>
                  <a:pt x="688" y="1780"/>
                </a:lnTo>
                <a:close/>
                <a:moveTo>
                  <a:pt x="1028" y="184"/>
                </a:moveTo>
                <a:lnTo>
                  <a:pt x="1028" y="184"/>
                </a:lnTo>
                <a:lnTo>
                  <a:pt x="1032" y="186"/>
                </a:lnTo>
                <a:lnTo>
                  <a:pt x="1034" y="186"/>
                </a:lnTo>
                <a:lnTo>
                  <a:pt x="1036" y="188"/>
                </a:lnTo>
                <a:lnTo>
                  <a:pt x="1058" y="190"/>
                </a:lnTo>
                <a:lnTo>
                  <a:pt x="1060" y="188"/>
                </a:lnTo>
                <a:lnTo>
                  <a:pt x="1050" y="186"/>
                </a:lnTo>
                <a:lnTo>
                  <a:pt x="1036" y="184"/>
                </a:lnTo>
                <a:lnTo>
                  <a:pt x="1034" y="182"/>
                </a:lnTo>
                <a:lnTo>
                  <a:pt x="1028" y="182"/>
                </a:lnTo>
                <a:lnTo>
                  <a:pt x="1026" y="184"/>
                </a:lnTo>
                <a:lnTo>
                  <a:pt x="1028" y="184"/>
                </a:lnTo>
                <a:close/>
                <a:moveTo>
                  <a:pt x="1144" y="1722"/>
                </a:moveTo>
                <a:lnTo>
                  <a:pt x="1144" y="1722"/>
                </a:lnTo>
                <a:lnTo>
                  <a:pt x="1140" y="1726"/>
                </a:lnTo>
                <a:lnTo>
                  <a:pt x="1144" y="1722"/>
                </a:lnTo>
                <a:close/>
                <a:moveTo>
                  <a:pt x="1098" y="1760"/>
                </a:moveTo>
                <a:lnTo>
                  <a:pt x="1098" y="1760"/>
                </a:lnTo>
                <a:lnTo>
                  <a:pt x="1092" y="1760"/>
                </a:lnTo>
                <a:lnTo>
                  <a:pt x="1096" y="1762"/>
                </a:lnTo>
                <a:lnTo>
                  <a:pt x="1096" y="1760"/>
                </a:lnTo>
                <a:lnTo>
                  <a:pt x="1098" y="1760"/>
                </a:lnTo>
                <a:close/>
                <a:moveTo>
                  <a:pt x="1090" y="1760"/>
                </a:moveTo>
                <a:lnTo>
                  <a:pt x="1090" y="1760"/>
                </a:lnTo>
                <a:lnTo>
                  <a:pt x="1092" y="1760"/>
                </a:lnTo>
                <a:lnTo>
                  <a:pt x="1090" y="1760"/>
                </a:lnTo>
                <a:close/>
                <a:moveTo>
                  <a:pt x="1738" y="1026"/>
                </a:moveTo>
                <a:lnTo>
                  <a:pt x="1738" y="1026"/>
                </a:lnTo>
                <a:lnTo>
                  <a:pt x="1732" y="1026"/>
                </a:lnTo>
                <a:lnTo>
                  <a:pt x="1730" y="1026"/>
                </a:lnTo>
                <a:lnTo>
                  <a:pt x="1730" y="1024"/>
                </a:lnTo>
                <a:lnTo>
                  <a:pt x="1728" y="1002"/>
                </a:lnTo>
                <a:lnTo>
                  <a:pt x="1726" y="978"/>
                </a:lnTo>
                <a:lnTo>
                  <a:pt x="1716" y="928"/>
                </a:lnTo>
                <a:lnTo>
                  <a:pt x="1706" y="876"/>
                </a:lnTo>
                <a:lnTo>
                  <a:pt x="1696" y="826"/>
                </a:lnTo>
                <a:lnTo>
                  <a:pt x="1700" y="816"/>
                </a:lnTo>
                <a:lnTo>
                  <a:pt x="1704" y="810"/>
                </a:lnTo>
                <a:lnTo>
                  <a:pt x="1704" y="804"/>
                </a:lnTo>
                <a:lnTo>
                  <a:pt x="1696" y="804"/>
                </a:lnTo>
                <a:lnTo>
                  <a:pt x="1690" y="800"/>
                </a:lnTo>
                <a:lnTo>
                  <a:pt x="1682" y="788"/>
                </a:lnTo>
                <a:lnTo>
                  <a:pt x="1682" y="790"/>
                </a:lnTo>
                <a:lnTo>
                  <a:pt x="1680" y="792"/>
                </a:lnTo>
                <a:lnTo>
                  <a:pt x="1674" y="794"/>
                </a:lnTo>
                <a:lnTo>
                  <a:pt x="1666" y="792"/>
                </a:lnTo>
                <a:lnTo>
                  <a:pt x="1662" y="788"/>
                </a:lnTo>
                <a:lnTo>
                  <a:pt x="1662" y="780"/>
                </a:lnTo>
                <a:lnTo>
                  <a:pt x="1666" y="774"/>
                </a:lnTo>
                <a:lnTo>
                  <a:pt x="1662" y="764"/>
                </a:lnTo>
                <a:lnTo>
                  <a:pt x="1662" y="758"/>
                </a:lnTo>
                <a:lnTo>
                  <a:pt x="1664" y="754"/>
                </a:lnTo>
                <a:lnTo>
                  <a:pt x="1644" y="718"/>
                </a:lnTo>
                <a:lnTo>
                  <a:pt x="1624" y="684"/>
                </a:lnTo>
                <a:lnTo>
                  <a:pt x="1614" y="666"/>
                </a:lnTo>
                <a:lnTo>
                  <a:pt x="1606" y="646"/>
                </a:lnTo>
                <a:lnTo>
                  <a:pt x="1600" y="626"/>
                </a:lnTo>
                <a:lnTo>
                  <a:pt x="1596" y="606"/>
                </a:lnTo>
                <a:lnTo>
                  <a:pt x="1590" y="602"/>
                </a:lnTo>
                <a:lnTo>
                  <a:pt x="1586" y="596"/>
                </a:lnTo>
                <a:lnTo>
                  <a:pt x="1582" y="590"/>
                </a:lnTo>
                <a:lnTo>
                  <a:pt x="1584" y="582"/>
                </a:lnTo>
                <a:lnTo>
                  <a:pt x="1578" y="582"/>
                </a:lnTo>
                <a:lnTo>
                  <a:pt x="1574" y="584"/>
                </a:lnTo>
                <a:lnTo>
                  <a:pt x="1572" y="586"/>
                </a:lnTo>
                <a:lnTo>
                  <a:pt x="1568" y="588"/>
                </a:lnTo>
                <a:lnTo>
                  <a:pt x="1568" y="584"/>
                </a:lnTo>
                <a:lnTo>
                  <a:pt x="1568" y="582"/>
                </a:lnTo>
                <a:lnTo>
                  <a:pt x="1572" y="580"/>
                </a:lnTo>
                <a:lnTo>
                  <a:pt x="1576" y="578"/>
                </a:lnTo>
                <a:lnTo>
                  <a:pt x="1576" y="576"/>
                </a:lnTo>
                <a:lnTo>
                  <a:pt x="1576" y="572"/>
                </a:lnTo>
                <a:lnTo>
                  <a:pt x="1568" y="572"/>
                </a:lnTo>
                <a:lnTo>
                  <a:pt x="1560" y="572"/>
                </a:lnTo>
                <a:lnTo>
                  <a:pt x="1554" y="570"/>
                </a:lnTo>
                <a:lnTo>
                  <a:pt x="1550" y="566"/>
                </a:lnTo>
                <a:lnTo>
                  <a:pt x="1542" y="558"/>
                </a:lnTo>
                <a:lnTo>
                  <a:pt x="1534" y="548"/>
                </a:lnTo>
                <a:lnTo>
                  <a:pt x="1530" y="536"/>
                </a:lnTo>
                <a:lnTo>
                  <a:pt x="1524" y="528"/>
                </a:lnTo>
                <a:lnTo>
                  <a:pt x="1514" y="520"/>
                </a:lnTo>
                <a:lnTo>
                  <a:pt x="1504" y="514"/>
                </a:lnTo>
                <a:lnTo>
                  <a:pt x="1494" y="508"/>
                </a:lnTo>
                <a:lnTo>
                  <a:pt x="1486" y="500"/>
                </a:lnTo>
                <a:lnTo>
                  <a:pt x="1478" y="492"/>
                </a:lnTo>
                <a:lnTo>
                  <a:pt x="1474" y="482"/>
                </a:lnTo>
                <a:lnTo>
                  <a:pt x="1474" y="472"/>
                </a:lnTo>
                <a:lnTo>
                  <a:pt x="1476" y="464"/>
                </a:lnTo>
                <a:lnTo>
                  <a:pt x="1482" y="448"/>
                </a:lnTo>
                <a:lnTo>
                  <a:pt x="1500" y="416"/>
                </a:lnTo>
                <a:lnTo>
                  <a:pt x="1494" y="418"/>
                </a:lnTo>
                <a:lnTo>
                  <a:pt x="1488" y="420"/>
                </a:lnTo>
                <a:lnTo>
                  <a:pt x="1474" y="424"/>
                </a:lnTo>
                <a:lnTo>
                  <a:pt x="1472" y="414"/>
                </a:lnTo>
                <a:lnTo>
                  <a:pt x="1468" y="404"/>
                </a:lnTo>
                <a:lnTo>
                  <a:pt x="1458" y="386"/>
                </a:lnTo>
                <a:lnTo>
                  <a:pt x="1444" y="370"/>
                </a:lnTo>
                <a:lnTo>
                  <a:pt x="1428" y="354"/>
                </a:lnTo>
                <a:lnTo>
                  <a:pt x="1416" y="338"/>
                </a:lnTo>
                <a:lnTo>
                  <a:pt x="1410" y="330"/>
                </a:lnTo>
                <a:lnTo>
                  <a:pt x="1406" y="322"/>
                </a:lnTo>
                <a:lnTo>
                  <a:pt x="1402" y="312"/>
                </a:lnTo>
                <a:lnTo>
                  <a:pt x="1402" y="302"/>
                </a:lnTo>
                <a:lnTo>
                  <a:pt x="1402" y="292"/>
                </a:lnTo>
                <a:lnTo>
                  <a:pt x="1404" y="282"/>
                </a:lnTo>
                <a:lnTo>
                  <a:pt x="1400" y="282"/>
                </a:lnTo>
                <a:lnTo>
                  <a:pt x="1396" y="284"/>
                </a:lnTo>
                <a:lnTo>
                  <a:pt x="1390" y="290"/>
                </a:lnTo>
                <a:lnTo>
                  <a:pt x="1384" y="296"/>
                </a:lnTo>
                <a:lnTo>
                  <a:pt x="1382" y="298"/>
                </a:lnTo>
                <a:lnTo>
                  <a:pt x="1376" y="300"/>
                </a:lnTo>
                <a:lnTo>
                  <a:pt x="1372" y="298"/>
                </a:lnTo>
                <a:lnTo>
                  <a:pt x="1372" y="294"/>
                </a:lnTo>
                <a:lnTo>
                  <a:pt x="1370" y="288"/>
                </a:lnTo>
                <a:lnTo>
                  <a:pt x="1368" y="286"/>
                </a:lnTo>
                <a:lnTo>
                  <a:pt x="1366" y="290"/>
                </a:lnTo>
                <a:lnTo>
                  <a:pt x="1364" y="294"/>
                </a:lnTo>
                <a:lnTo>
                  <a:pt x="1354" y="288"/>
                </a:lnTo>
                <a:lnTo>
                  <a:pt x="1344" y="282"/>
                </a:lnTo>
                <a:lnTo>
                  <a:pt x="1338" y="278"/>
                </a:lnTo>
                <a:lnTo>
                  <a:pt x="1334" y="276"/>
                </a:lnTo>
                <a:lnTo>
                  <a:pt x="1328" y="278"/>
                </a:lnTo>
                <a:lnTo>
                  <a:pt x="1324" y="282"/>
                </a:lnTo>
                <a:lnTo>
                  <a:pt x="1328" y="284"/>
                </a:lnTo>
                <a:lnTo>
                  <a:pt x="1332" y="284"/>
                </a:lnTo>
                <a:lnTo>
                  <a:pt x="1340" y="282"/>
                </a:lnTo>
                <a:lnTo>
                  <a:pt x="1350" y="292"/>
                </a:lnTo>
                <a:lnTo>
                  <a:pt x="1360" y="300"/>
                </a:lnTo>
                <a:lnTo>
                  <a:pt x="1370" y="308"/>
                </a:lnTo>
                <a:lnTo>
                  <a:pt x="1378" y="320"/>
                </a:lnTo>
                <a:lnTo>
                  <a:pt x="1368" y="326"/>
                </a:lnTo>
                <a:lnTo>
                  <a:pt x="1358" y="332"/>
                </a:lnTo>
                <a:lnTo>
                  <a:pt x="1346" y="336"/>
                </a:lnTo>
                <a:lnTo>
                  <a:pt x="1338" y="344"/>
                </a:lnTo>
                <a:lnTo>
                  <a:pt x="1332" y="340"/>
                </a:lnTo>
                <a:lnTo>
                  <a:pt x="1328" y="338"/>
                </a:lnTo>
                <a:lnTo>
                  <a:pt x="1322" y="334"/>
                </a:lnTo>
                <a:lnTo>
                  <a:pt x="1318" y="330"/>
                </a:lnTo>
                <a:lnTo>
                  <a:pt x="1320" y="326"/>
                </a:lnTo>
                <a:lnTo>
                  <a:pt x="1322" y="324"/>
                </a:lnTo>
                <a:lnTo>
                  <a:pt x="1324" y="320"/>
                </a:lnTo>
                <a:lnTo>
                  <a:pt x="1326" y="318"/>
                </a:lnTo>
                <a:lnTo>
                  <a:pt x="1312" y="322"/>
                </a:lnTo>
                <a:lnTo>
                  <a:pt x="1298" y="322"/>
                </a:lnTo>
                <a:lnTo>
                  <a:pt x="1284" y="318"/>
                </a:lnTo>
                <a:lnTo>
                  <a:pt x="1272" y="310"/>
                </a:lnTo>
                <a:lnTo>
                  <a:pt x="1276" y="304"/>
                </a:lnTo>
                <a:lnTo>
                  <a:pt x="1280" y="296"/>
                </a:lnTo>
                <a:lnTo>
                  <a:pt x="1274" y="300"/>
                </a:lnTo>
                <a:lnTo>
                  <a:pt x="1270" y="302"/>
                </a:lnTo>
                <a:lnTo>
                  <a:pt x="1266" y="306"/>
                </a:lnTo>
                <a:lnTo>
                  <a:pt x="1260" y="308"/>
                </a:lnTo>
                <a:lnTo>
                  <a:pt x="1238" y="300"/>
                </a:lnTo>
                <a:lnTo>
                  <a:pt x="1220" y="294"/>
                </a:lnTo>
                <a:lnTo>
                  <a:pt x="1182" y="274"/>
                </a:lnTo>
                <a:lnTo>
                  <a:pt x="1146" y="258"/>
                </a:lnTo>
                <a:lnTo>
                  <a:pt x="1126" y="250"/>
                </a:lnTo>
                <a:lnTo>
                  <a:pt x="1108" y="244"/>
                </a:lnTo>
                <a:lnTo>
                  <a:pt x="1112" y="246"/>
                </a:lnTo>
                <a:lnTo>
                  <a:pt x="1114" y="250"/>
                </a:lnTo>
                <a:lnTo>
                  <a:pt x="1106" y="260"/>
                </a:lnTo>
                <a:lnTo>
                  <a:pt x="1098" y="264"/>
                </a:lnTo>
                <a:lnTo>
                  <a:pt x="1090" y="268"/>
                </a:lnTo>
                <a:lnTo>
                  <a:pt x="1078" y="268"/>
                </a:lnTo>
                <a:lnTo>
                  <a:pt x="1054" y="264"/>
                </a:lnTo>
                <a:lnTo>
                  <a:pt x="1026" y="260"/>
                </a:lnTo>
                <a:lnTo>
                  <a:pt x="1020" y="250"/>
                </a:lnTo>
                <a:lnTo>
                  <a:pt x="1012" y="242"/>
                </a:lnTo>
                <a:lnTo>
                  <a:pt x="1004" y="236"/>
                </a:lnTo>
                <a:lnTo>
                  <a:pt x="992" y="232"/>
                </a:lnTo>
                <a:lnTo>
                  <a:pt x="986" y="234"/>
                </a:lnTo>
                <a:lnTo>
                  <a:pt x="980" y="238"/>
                </a:lnTo>
                <a:lnTo>
                  <a:pt x="976" y="242"/>
                </a:lnTo>
                <a:lnTo>
                  <a:pt x="968" y="244"/>
                </a:lnTo>
                <a:lnTo>
                  <a:pt x="962" y="240"/>
                </a:lnTo>
                <a:lnTo>
                  <a:pt x="958" y="234"/>
                </a:lnTo>
                <a:lnTo>
                  <a:pt x="954" y="226"/>
                </a:lnTo>
                <a:lnTo>
                  <a:pt x="956" y="218"/>
                </a:lnTo>
                <a:lnTo>
                  <a:pt x="972" y="218"/>
                </a:lnTo>
                <a:lnTo>
                  <a:pt x="976" y="218"/>
                </a:lnTo>
                <a:lnTo>
                  <a:pt x="978" y="216"/>
                </a:lnTo>
                <a:lnTo>
                  <a:pt x="978" y="214"/>
                </a:lnTo>
                <a:lnTo>
                  <a:pt x="972" y="214"/>
                </a:lnTo>
                <a:lnTo>
                  <a:pt x="966" y="214"/>
                </a:lnTo>
                <a:lnTo>
                  <a:pt x="962" y="216"/>
                </a:lnTo>
                <a:lnTo>
                  <a:pt x="956" y="216"/>
                </a:lnTo>
                <a:lnTo>
                  <a:pt x="956" y="214"/>
                </a:lnTo>
                <a:lnTo>
                  <a:pt x="956" y="210"/>
                </a:lnTo>
                <a:lnTo>
                  <a:pt x="954" y="206"/>
                </a:lnTo>
                <a:lnTo>
                  <a:pt x="956" y="200"/>
                </a:lnTo>
                <a:lnTo>
                  <a:pt x="970" y="198"/>
                </a:lnTo>
                <a:lnTo>
                  <a:pt x="986" y="198"/>
                </a:lnTo>
                <a:lnTo>
                  <a:pt x="1002" y="198"/>
                </a:lnTo>
                <a:lnTo>
                  <a:pt x="1018" y="198"/>
                </a:lnTo>
                <a:lnTo>
                  <a:pt x="1016" y="198"/>
                </a:lnTo>
                <a:lnTo>
                  <a:pt x="1014" y="196"/>
                </a:lnTo>
                <a:lnTo>
                  <a:pt x="1018" y="194"/>
                </a:lnTo>
                <a:lnTo>
                  <a:pt x="1018" y="192"/>
                </a:lnTo>
                <a:lnTo>
                  <a:pt x="980" y="192"/>
                </a:lnTo>
                <a:lnTo>
                  <a:pt x="960" y="194"/>
                </a:lnTo>
                <a:lnTo>
                  <a:pt x="940" y="198"/>
                </a:lnTo>
                <a:lnTo>
                  <a:pt x="944" y="200"/>
                </a:lnTo>
                <a:lnTo>
                  <a:pt x="946" y="204"/>
                </a:lnTo>
                <a:lnTo>
                  <a:pt x="948" y="210"/>
                </a:lnTo>
                <a:lnTo>
                  <a:pt x="948" y="216"/>
                </a:lnTo>
                <a:lnTo>
                  <a:pt x="944" y="214"/>
                </a:lnTo>
                <a:lnTo>
                  <a:pt x="942" y="214"/>
                </a:lnTo>
                <a:lnTo>
                  <a:pt x="934" y="214"/>
                </a:lnTo>
                <a:lnTo>
                  <a:pt x="932" y="216"/>
                </a:lnTo>
                <a:lnTo>
                  <a:pt x="928" y="214"/>
                </a:lnTo>
                <a:lnTo>
                  <a:pt x="928" y="212"/>
                </a:lnTo>
                <a:lnTo>
                  <a:pt x="926" y="208"/>
                </a:lnTo>
                <a:lnTo>
                  <a:pt x="928" y="206"/>
                </a:lnTo>
                <a:lnTo>
                  <a:pt x="932" y="206"/>
                </a:lnTo>
                <a:lnTo>
                  <a:pt x="936" y="204"/>
                </a:lnTo>
                <a:lnTo>
                  <a:pt x="938" y="200"/>
                </a:lnTo>
                <a:lnTo>
                  <a:pt x="928" y="198"/>
                </a:lnTo>
                <a:lnTo>
                  <a:pt x="920" y="194"/>
                </a:lnTo>
                <a:lnTo>
                  <a:pt x="916" y="194"/>
                </a:lnTo>
                <a:lnTo>
                  <a:pt x="916" y="198"/>
                </a:lnTo>
                <a:lnTo>
                  <a:pt x="912" y="196"/>
                </a:lnTo>
                <a:lnTo>
                  <a:pt x="908" y="194"/>
                </a:lnTo>
                <a:lnTo>
                  <a:pt x="900" y="194"/>
                </a:lnTo>
                <a:lnTo>
                  <a:pt x="890" y="196"/>
                </a:lnTo>
                <a:lnTo>
                  <a:pt x="882" y="198"/>
                </a:lnTo>
                <a:lnTo>
                  <a:pt x="886" y="210"/>
                </a:lnTo>
                <a:lnTo>
                  <a:pt x="888" y="226"/>
                </a:lnTo>
                <a:lnTo>
                  <a:pt x="888" y="244"/>
                </a:lnTo>
                <a:lnTo>
                  <a:pt x="886" y="250"/>
                </a:lnTo>
                <a:lnTo>
                  <a:pt x="882" y="256"/>
                </a:lnTo>
                <a:lnTo>
                  <a:pt x="874" y="250"/>
                </a:lnTo>
                <a:lnTo>
                  <a:pt x="864" y="248"/>
                </a:lnTo>
                <a:lnTo>
                  <a:pt x="840" y="244"/>
                </a:lnTo>
                <a:lnTo>
                  <a:pt x="830" y="256"/>
                </a:lnTo>
                <a:lnTo>
                  <a:pt x="814" y="266"/>
                </a:lnTo>
                <a:lnTo>
                  <a:pt x="798" y="274"/>
                </a:lnTo>
                <a:lnTo>
                  <a:pt x="778" y="280"/>
                </a:lnTo>
                <a:lnTo>
                  <a:pt x="758" y="286"/>
                </a:lnTo>
                <a:lnTo>
                  <a:pt x="738" y="288"/>
                </a:lnTo>
                <a:lnTo>
                  <a:pt x="718" y="290"/>
                </a:lnTo>
                <a:lnTo>
                  <a:pt x="700" y="288"/>
                </a:lnTo>
                <a:lnTo>
                  <a:pt x="712" y="278"/>
                </a:lnTo>
                <a:lnTo>
                  <a:pt x="726" y="268"/>
                </a:lnTo>
                <a:lnTo>
                  <a:pt x="744" y="262"/>
                </a:lnTo>
                <a:lnTo>
                  <a:pt x="762" y="258"/>
                </a:lnTo>
                <a:lnTo>
                  <a:pt x="800" y="248"/>
                </a:lnTo>
                <a:lnTo>
                  <a:pt x="818" y="244"/>
                </a:lnTo>
                <a:lnTo>
                  <a:pt x="836" y="236"/>
                </a:lnTo>
                <a:lnTo>
                  <a:pt x="818" y="236"/>
                </a:lnTo>
                <a:lnTo>
                  <a:pt x="812" y="234"/>
                </a:lnTo>
                <a:lnTo>
                  <a:pt x="804" y="232"/>
                </a:lnTo>
                <a:lnTo>
                  <a:pt x="806" y="228"/>
                </a:lnTo>
                <a:lnTo>
                  <a:pt x="810" y="226"/>
                </a:lnTo>
                <a:lnTo>
                  <a:pt x="816" y="222"/>
                </a:lnTo>
                <a:lnTo>
                  <a:pt x="824" y="218"/>
                </a:lnTo>
                <a:lnTo>
                  <a:pt x="828" y="216"/>
                </a:lnTo>
                <a:lnTo>
                  <a:pt x="830" y="214"/>
                </a:lnTo>
                <a:lnTo>
                  <a:pt x="806" y="218"/>
                </a:lnTo>
                <a:lnTo>
                  <a:pt x="782" y="226"/>
                </a:lnTo>
                <a:lnTo>
                  <a:pt x="734" y="240"/>
                </a:lnTo>
                <a:lnTo>
                  <a:pt x="690" y="256"/>
                </a:lnTo>
                <a:lnTo>
                  <a:pt x="668" y="262"/>
                </a:lnTo>
                <a:lnTo>
                  <a:pt x="646" y="268"/>
                </a:lnTo>
                <a:lnTo>
                  <a:pt x="620" y="272"/>
                </a:lnTo>
                <a:lnTo>
                  <a:pt x="606" y="274"/>
                </a:lnTo>
                <a:lnTo>
                  <a:pt x="594" y="278"/>
                </a:lnTo>
                <a:lnTo>
                  <a:pt x="596" y="282"/>
                </a:lnTo>
                <a:lnTo>
                  <a:pt x="598" y="286"/>
                </a:lnTo>
                <a:lnTo>
                  <a:pt x="600" y="294"/>
                </a:lnTo>
                <a:lnTo>
                  <a:pt x="588" y="300"/>
                </a:lnTo>
                <a:lnTo>
                  <a:pt x="578" y="306"/>
                </a:lnTo>
                <a:lnTo>
                  <a:pt x="552" y="314"/>
                </a:lnTo>
                <a:lnTo>
                  <a:pt x="526" y="322"/>
                </a:lnTo>
                <a:lnTo>
                  <a:pt x="514" y="328"/>
                </a:lnTo>
                <a:lnTo>
                  <a:pt x="504" y="334"/>
                </a:lnTo>
                <a:lnTo>
                  <a:pt x="508" y="348"/>
                </a:lnTo>
                <a:lnTo>
                  <a:pt x="512" y="364"/>
                </a:lnTo>
                <a:lnTo>
                  <a:pt x="518" y="398"/>
                </a:lnTo>
                <a:lnTo>
                  <a:pt x="508" y="398"/>
                </a:lnTo>
                <a:lnTo>
                  <a:pt x="506" y="406"/>
                </a:lnTo>
                <a:lnTo>
                  <a:pt x="504" y="416"/>
                </a:lnTo>
                <a:lnTo>
                  <a:pt x="514" y="416"/>
                </a:lnTo>
                <a:lnTo>
                  <a:pt x="518" y="418"/>
                </a:lnTo>
                <a:lnTo>
                  <a:pt x="518" y="424"/>
                </a:lnTo>
                <a:lnTo>
                  <a:pt x="522" y="424"/>
                </a:lnTo>
                <a:lnTo>
                  <a:pt x="526" y="422"/>
                </a:lnTo>
                <a:lnTo>
                  <a:pt x="530" y="420"/>
                </a:lnTo>
                <a:lnTo>
                  <a:pt x="534" y="422"/>
                </a:lnTo>
                <a:lnTo>
                  <a:pt x="532" y="426"/>
                </a:lnTo>
                <a:lnTo>
                  <a:pt x="534" y="428"/>
                </a:lnTo>
                <a:lnTo>
                  <a:pt x="538" y="428"/>
                </a:lnTo>
                <a:lnTo>
                  <a:pt x="542" y="430"/>
                </a:lnTo>
                <a:lnTo>
                  <a:pt x="506" y="450"/>
                </a:lnTo>
                <a:lnTo>
                  <a:pt x="470" y="470"/>
                </a:lnTo>
                <a:lnTo>
                  <a:pt x="434" y="490"/>
                </a:lnTo>
                <a:lnTo>
                  <a:pt x="396" y="510"/>
                </a:lnTo>
                <a:lnTo>
                  <a:pt x="398" y="516"/>
                </a:lnTo>
                <a:lnTo>
                  <a:pt x="404" y="520"/>
                </a:lnTo>
                <a:lnTo>
                  <a:pt x="408" y="524"/>
                </a:lnTo>
                <a:lnTo>
                  <a:pt x="410" y="530"/>
                </a:lnTo>
                <a:lnTo>
                  <a:pt x="394" y="534"/>
                </a:lnTo>
                <a:lnTo>
                  <a:pt x="382" y="540"/>
                </a:lnTo>
                <a:lnTo>
                  <a:pt x="372" y="552"/>
                </a:lnTo>
                <a:lnTo>
                  <a:pt x="366" y="564"/>
                </a:lnTo>
                <a:lnTo>
                  <a:pt x="362" y="578"/>
                </a:lnTo>
                <a:lnTo>
                  <a:pt x="358" y="594"/>
                </a:lnTo>
                <a:lnTo>
                  <a:pt x="358" y="610"/>
                </a:lnTo>
                <a:lnTo>
                  <a:pt x="358" y="626"/>
                </a:lnTo>
                <a:lnTo>
                  <a:pt x="378" y="640"/>
                </a:lnTo>
                <a:lnTo>
                  <a:pt x="388" y="646"/>
                </a:lnTo>
                <a:lnTo>
                  <a:pt x="396" y="650"/>
                </a:lnTo>
                <a:lnTo>
                  <a:pt x="388" y="654"/>
                </a:lnTo>
                <a:lnTo>
                  <a:pt x="380" y="654"/>
                </a:lnTo>
                <a:lnTo>
                  <a:pt x="372" y="652"/>
                </a:lnTo>
                <a:lnTo>
                  <a:pt x="360" y="650"/>
                </a:lnTo>
                <a:lnTo>
                  <a:pt x="356" y="654"/>
                </a:lnTo>
                <a:lnTo>
                  <a:pt x="356" y="658"/>
                </a:lnTo>
                <a:lnTo>
                  <a:pt x="354" y="668"/>
                </a:lnTo>
                <a:lnTo>
                  <a:pt x="354" y="674"/>
                </a:lnTo>
                <a:lnTo>
                  <a:pt x="352" y="678"/>
                </a:lnTo>
                <a:lnTo>
                  <a:pt x="348" y="680"/>
                </a:lnTo>
                <a:lnTo>
                  <a:pt x="342" y="682"/>
                </a:lnTo>
                <a:lnTo>
                  <a:pt x="342" y="678"/>
                </a:lnTo>
                <a:lnTo>
                  <a:pt x="340" y="676"/>
                </a:lnTo>
                <a:lnTo>
                  <a:pt x="344" y="670"/>
                </a:lnTo>
                <a:lnTo>
                  <a:pt x="346" y="662"/>
                </a:lnTo>
                <a:lnTo>
                  <a:pt x="348" y="654"/>
                </a:lnTo>
                <a:lnTo>
                  <a:pt x="344" y="648"/>
                </a:lnTo>
                <a:lnTo>
                  <a:pt x="340" y="648"/>
                </a:lnTo>
                <a:lnTo>
                  <a:pt x="336" y="648"/>
                </a:lnTo>
                <a:lnTo>
                  <a:pt x="332" y="650"/>
                </a:lnTo>
                <a:lnTo>
                  <a:pt x="326" y="650"/>
                </a:lnTo>
                <a:lnTo>
                  <a:pt x="324" y="654"/>
                </a:lnTo>
                <a:lnTo>
                  <a:pt x="324" y="658"/>
                </a:lnTo>
                <a:lnTo>
                  <a:pt x="322" y="662"/>
                </a:lnTo>
                <a:lnTo>
                  <a:pt x="316" y="662"/>
                </a:lnTo>
                <a:lnTo>
                  <a:pt x="308" y="646"/>
                </a:lnTo>
                <a:lnTo>
                  <a:pt x="304" y="638"/>
                </a:lnTo>
                <a:lnTo>
                  <a:pt x="298" y="632"/>
                </a:lnTo>
                <a:lnTo>
                  <a:pt x="294" y="646"/>
                </a:lnTo>
                <a:lnTo>
                  <a:pt x="292" y="650"/>
                </a:lnTo>
                <a:lnTo>
                  <a:pt x="288" y="656"/>
                </a:lnTo>
                <a:lnTo>
                  <a:pt x="284" y="650"/>
                </a:lnTo>
                <a:lnTo>
                  <a:pt x="282" y="646"/>
                </a:lnTo>
                <a:lnTo>
                  <a:pt x="278" y="642"/>
                </a:lnTo>
                <a:lnTo>
                  <a:pt x="272" y="640"/>
                </a:lnTo>
                <a:lnTo>
                  <a:pt x="262" y="642"/>
                </a:lnTo>
                <a:lnTo>
                  <a:pt x="256" y="646"/>
                </a:lnTo>
                <a:lnTo>
                  <a:pt x="248" y="650"/>
                </a:lnTo>
                <a:lnTo>
                  <a:pt x="240" y="656"/>
                </a:lnTo>
                <a:lnTo>
                  <a:pt x="246" y="644"/>
                </a:lnTo>
                <a:lnTo>
                  <a:pt x="248" y="634"/>
                </a:lnTo>
                <a:lnTo>
                  <a:pt x="248" y="610"/>
                </a:lnTo>
                <a:lnTo>
                  <a:pt x="252" y="606"/>
                </a:lnTo>
                <a:lnTo>
                  <a:pt x="256" y="600"/>
                </a:lnTo>
                <a:lnTo>
                  <a:pt x="256" y="596"/>
                </a:lnTo>
                <a:lnTo>
                  <a:pt x="256" y="592"/>
                </a:lnTo>
                <a:lnTo>
                  <a:pt x="254" y="590"/>
                </a:lnTo>
                <a:lnTo>
                  <a:pt x="248" y="590"/>
                </a:lnTo>
                <a:lnTo>
                  <a:pt x="244" y="594"/>
                </a:lnTo>
                <a:lnTo>
                  <a:pt x="242" y="600"/>
                </a:lnTo>
                <a:lnTo>
                  <a:pt x="238" y="604"/>
                </a:lnTo>
                <a:lnTo>
                  <a:pt x="234" y="608"/>
                </a:lnTo>
                <a:lnTo>
                  <a:pt x="222" y="612"/>
                </a:lnTo>
                <a:lnTo>
                  <a:pt x="212" y="616"/>
                </a:lnTo>
                <a:lnTo>
                  <a:pt x="196" y="626"/>
                </a:lnTo>
                <a:lnTo>
                  <a:pt x="182" y="636"/>
                </a:lnTo>
                <a:lnTo>
                  <a:pt x="174" y="640"/>
                </a:lnTo>
                <a:lnTo>
                  <a:pt x="162" y="644"/>
                </a:lnTo>
                <a:lnTo>
                  <a:pt x="156" y="658"/>
                </a:lnTo>
                <a:lnTo>
                  <a:pt x="152" y="670"/>
                </a:lnTo>
                <a:lnTo>
                  <a:pt x="144" y="696"/>
                </a:lnTo>
                <a:lnTo>
                  <a:pt x="136" y="720"/>
                </a:lnTo>
                <a:lnTo>
                  <a:pt x="132" y="732"/>
                </a:lnTo>
                <a:lnTo>
                  <a:pt x="124" y="744"/>
                </a:lnTo>
                <a:lnTo>
                  <a:pt x="120" y="746"/>
                </a:lnTo>
                <a:lnTo>
                  <a:pt x="118" y="746"/>
                </a:lnTo>
                <a:lnTo>
                  <a:pt x="122" y="748"/>
                </a:lnTo>
                <a:lnTo>
                  <a:pt x="124" y="746"/>
                </a:lnTo>
                <a:lnTo>
                  <a:pt x="124" y="748"/>
                </a:lnTo>
                <a:lnTo>
                  <a:pt x="128" y="750"/>
                </a:lnTo>
                <a:lnTo>
                  <a:pt x="132" y="762"/>
                </a:lnTo>
                <a:lnTo>
                  <a:pt x="136" y="762"/>
                </a:lnTo>
                <a:lnTo>
                  <a:pt x="138" y="762"/>
                </a:lnTo>
                <a:lnTo>
                  <a:pt x="144" y="760"/>
                </a:lnTo>
                <a:lnTo>
                  <a:pt x="148" y="758"/>
                </a:lnTo>
                <a:lnTo>
                  <a:pt x="150" y="758"/>
                </a:lnTo>
                <a:lnTo>
                  <a:pt x="150" y="760"/>
                </a:lnTo>
                <a:lnTo>
                  <a:pt x="150" y="762"/>
                </a:lnTo>
                <a:lnTo>
                  <a:pt x="148" y="764"/>
                </a:lnTo>
                <a:lnTo>
                  <a:pt x="148" y="766"/>
                </a:lnTo>
                <a:lnTo>
                  <a:pt x="150" y="770"/>
                </a:lnTo>
                <a:lnTo>
                  <a:pt x="156" y="770"/>
                </a:lnTo>
                <a:lnTo>
                  <a:pt x="160" y="772"/>
                </a:lnTo>
                <a:lnTo>
                  <a:pt x="160" y="768"/>
                </a:lnTo>
                <a:lnTo>
                  <a:pt x="158" y="764"/>
                </a:lnTo>
                <a:lnTo>
                  <a:pt x="156" y="762"/>
                </a:lnTo>
                <a:lnTo>
                  <a:pt x="156" y="756"/>
                </a:lnTo>
                <a:lnTo>
                  <a:pt x="160" y="758"/>
                </a:lnTo>
                <a:lnTo>
                  <a:pt x="166" y="762"/>
                </a:lnTo>
                <a:lnTo>
                  <a:pt x="170" y="766"/>
                </a:lnTo>
                <a:lnTo>
                  <a:pt x="170" y="772"/>
                </a:lnTo>
                <a:lnTo>
                  <a:pt x="166" y="772"/>
                </a:lnTo>
                <a:lnTo>
                  <a:pt x="164" y="772"/>
                </a:lnTo>
                <a:lnTo>
                  <a:pt x="162" y="774"/>
                </a:lnTo>
                <a:lnTo>
                  <a:pt x="166" y="780"/>
                </a:lnTo>
                <a:lnTo>
                  <a:pt x="166" y="786"/>
                </a:lnTo>
                <a:lnTo>
                  <a:pt x="164" y="800"/>
                </a:lnTo>
                <a:lnTo>
                  <a:pt x="158" y="812"/>
                </a:lnTo>
                <a:lnTo>
                  <a:pt x="152" y="822"/>
                </a:lnTo>
                <a:lnTo>
                  <a:pt x="172" y="842"/>
                </a:lnTo>
                <a:lnTo>
                  <a:pt x="180" y="852"/>
                </a:lnTo>
                <a:lnTo>
                  <a:pt x="192" y="860"/>
                </a:lnTo>
                <a:lnTo>
                  <a:pt x="186" y="872"/>
                </a:lnTo>
                <a:lnTo>
                  <a:pt x="180" y="884"/>
                </a:lnTo>
                <a:lnTo>
                  <a:pt x="174" y="896"/>
                </a:lnTo>
                <a:lnTo>
                  <a:pt x="170" y="900"/>
                </a:lnTo>
                <a:lnTo>
                  <a:pt x="166" y="904"/>
                </a:lnTo>
                <a:lnTo>
                  <a:pt x="166" y="894"/>
                </a:lnTo>
                <a:lnTo>
                  <a:pt x="164" y="882"/>
                </a:lnTo>
                <a:lnTo>
                  <a:pt x="158" y="872"/>
                </a:lnTo>
                <a:lnTo>
                  <a:pt x="154" y="868"/>
                </a:lnTo>
                <a:lnTo>
                  <a:pt x="150" y="866"/>
                </a:lnTo>
                <a:lnTo>
                  <a:pt x="148" y="870"/>
                </a:lnTo>
                <a:lnTo>
                  <a:pt x="148" y="874"/>
                </a:lnTo>
                <a:lnTo>
                  <a:pt x="150" y="884"/>
                </a:lnTo>
                <a:lnTo>
                  <a:pt x="148" y="882"/>
                </a:lnTo>
                <a:lnTo>
                  <a:pt x="144" y="882"/>
                </a:lnTo>
                <a:lnTo>
                  <a:pt x="138" y="884"/>
                </a:lnTo>
                <a:lnTo>
                  <a:pt x="136" y="890"/>
                </a:lnTo>
                <a:lnTo>
                  <a:pt x="136" y="892"/>
                </a:lnTo>
                <a:lnTo>
                  <a:pt x="140" y="892"/>
                </a:lnTo>
                <a:lnTo>
                  <a:pt x="142" y="892"/>
                </a:lnTo>
                <a:lnTo>
                  <a:pt x="144" y="890"/>
                </a:lnTo>
                <a:lnTo>
                  <a:pt x="146" y="890"/>
                </a:lnTo>
                <a:lnTo>
                  <a:pt x="148" y="896"/>
                </a:lnTo>
                <a:lnTo>
                  <a:pt x="152" y="896"/>
                </a:lnTo>
                <a:lnTo>
                  <a:pt x="152" y="894"/>
                </a:lnTo>
                <a:lnTo>
                  <a:pt x="154" y="892"/>
                </a:lnTo>
                <a:lnTo>
                  <a:pt x="158" y="892"/>
                </a:lnTo>
                <a:lnTo>
                  <a:pt x="162" y="900"/>
                </a:lnTo>
                <a:lnTo>
                  <a:pt x="162" y="902"/>
                </a:lnTo>
                <a:lnTo>
                  <a:pt x="162" y="904"/>
                </a:lnTo>
                <a:lnTo>
                  <a:pt x="160" y="904"/>
                </a:lnTo>
                <a:lnTo>
                  <a:pt x="158" y="906"/>
                </a:lnTo>
                <a:lnTo>
                  <a:pt x="154" y="904"/>
                </a:lnTo>
                <a:lnTo>
                  <a:pt x="148" y="902"/>
                </a:lnTo>
                <a:lnTo>
                  <a:pt x="146" y="900"/>
                </a:lnTo>
                <a:lnTo>
                  <a:pt x="144" y="902"/>
                </a:lnTo>
                <a:lnTo>
                  <a:pt x="142" y="904"/>
                </a:lnTo>
                <a:lnTo>
                  <a:pt x="140" y="910"/>
                </a:lnTo>
                <a:lnTo>
                  <a:pt x="146" y="910"/>
                </a:lnTo>
                <a:lnTo>
                  <a:pt x="148" y="912"/>
                </a:lnTo>
                <a:lnTo>
                  <a:pt x="150" y="914"/>
                </a:lnTo>
                <a:lnTo>
                  <a:pt x="142" y="926"/>
                </a:lnTo>
                <a:lnTo>
                  <a:pt x="140" y="932"/>
                </a:lnTo>
                <a:lnTo>
                  <a:pt x="142" y="934"/>
                </a:lnTo>
                <a:lnTo>
                  <a:pt x="144" y="936"/>
                </a:lnTo>
                <a:lnTo>
                  <a:pt x="144" y="928"/>
                </a:lnTo>
                <a:lnTo>
                  <a:pt x="146" y="924"/>
                </a:lnTo>
                <a:lnTo>
                  <a:pt x="150" y="922"/>
                </a:lnTo>
                <a:lnTo>
                  <a:pt x="156" y="920"/>
                </a:lnTo>
                <a:lnTo>
                  <a:pt x="158" y="924"/>
                </a:lnTo>
                <a:lnTo>
                  <a:pt x="160" y="928"/>
                </a:lnTo>
                <a:lnTo>
                  <a:pt x="164" y="932"/>
                </a:lnTo>
                <a:lnTo>
                  <a:pt x="162" y="938"/>
                </a:lnTo>
                <a:lnTo>
                  <a:pt x="158" y="944"/>
                </a:lnTo>
                <a:lnTo>
                  <a:pt x="152" y="948"/>
                </a:lnTo>
                <a:lnTo>
                  <a:pt x="146" y="948"/>
                </a:lnTo>
                <a:lnTo>
                  <a:pt x="142" y="946"/>
                </a:lnTo>
                <a:lnTo>
                  <a:pt x="140" y="944"/>
                </a:lnTo>
                <a:lnTo>
                  <a:pt x="100" y="966"/>
                </a:lnTo>
                <a:lnTo>
                  <a:pt x="80" y="978"/>
                </a:lnTo>
                <a:lnTo>
                  <a:pt x="62" y="990"/>
                </a:lnTo>
                <a:lnTo>
                  <a:pt x="68" y="990"/>
                </a:lnTo>
                <a:lnTo>
                  <a:pt x="74" y="988"/>
                </a:lnTo>
                <a:lnTo>
                  <a:pt x="80" y="988"/>
                </a:lnTo>
                <a:lnTo>
                  <a:pt x="82" y="988"/>
                </a:lnTo>
                <a:lnTo>
                  <a:pt x="86" y="990"/>
                </a:lnTo>
                <a:lnTo>
                  <a:pt x="78" y="994"/>
                </a:lnTo>
                <a:lnTo>
                  <a:pt x="74" y="998"/>
                </a:lnTo>
                <a:lnTo>
                  <a:pt x="74" y="1004"/>
                </a:lnTo>
                <a:lnTo>
                  <a:pt x="90" y="1002"/>
                </a:lnTo>
                <a:lnTo>
                  <a:pt x="106" y="1004"/>
                </a:lnTo>
                <a:lnTo>
                  <a:pt x="112" y="1006"/>
                </a:lnTo>
                <a:lnTo>
                  <a:pt x="118" y="1010"/>
                </a:lnTo>
                <a:lnTo>
                  <a:pt x="122" y="1014"/>
                </a:lnTo>
                <a:lnTo>
                  <a:pt x="124" y="1022"/>
                </a:lnTo>
                <a:lnTo>
                  <a:pt x="124" y="1030"/>
                </a:lnTo>
                <a:lnTo>
                  <a:pt x="120" y="1038"/>
                </a:lnTo>
                <a:lnTo>
                  <a:pt x="108" y="1056"/>
                </a:lnTo>
                <a:lnTo>
                  <a:pt x="102" y="1066"/>
                </a:lnTo>
                <a:lnTo>
                  <a:pt x="98" y="1074"/>
                </a:lnTo>
                <a:lnTo>
                  <a:pt x="98" y="1084"/>
                </a:lnTo>
                <a:lnTo>
                  <a:pt x="100" y="1094"/>
                </a:lnTo>
                <a:lnTo>
                  <a:pt x="106" y="1078"/>
                </a:lnTo>
                <a:lnTo>
                  <a:pt x="112" y="1064"/>
                </a:lnTo>
                <a:lnTo>
                  <a:pt x="114" y="1060"/>
                </a:lnTo>
                <a:lnTo>
                  <a:pt x="120" y="1058"/>
                </a:lnTo>
                <a:lnTo>
                  <a:pt x="126" y="1058"/>
                </a:lnTo>
                <a:lnTo>
                  <a:pt x="132" y="1060"/>
                </a:lnTo>
                <a:lnTo>
                  <a:pt x="122" y="1092"/>
                </a:lnTo>
                <a:lnTo>
                  <a:pt x="118" y="1104"/>
                </a:lnTo>
                <a:lnTo>
                  <a:pt x="112" y="1112"/>
                </a:lnTo>
                <a:lnTo>
                  <a:pt x="112" y="1110"/>
                </a:lnTo>
                <a:lnTo>
                  <a:pt x="110" y="1110"/>
                </a:lnTo>
                <a:lnTo>
                  <a:pt x="106" y="1112"/>
                </a:lnTo>
                <a:lnTo>
                  <a:pt x="104" y="1118"/>
                </a:lnTo>
                <a:lnTo>
                  <a:pt x="100" y="1132"/>
                </a:lnTo>
                <a:lnTo>
                  <a:pt x="96" y="1136"/>
                </a:lnTo>
                <a:lnTo>
                  <a:pt x="90" y="1138"/>
                </a:lnTo>
                <a:lnTo>
                  <a:pt x="92" y="1148"/>
                </a:lnTo>
                <a:lnTo>
                  <a:pt x="90" y="1150"/>
                </a:lnTo>
                <a:lnTo>
                  <a:pt x="88" y="1154"/>
                </a:lnTo>
                <a:lnTo>
                  <a:pt x="94" y="1154"/>
                </a:lnTo>
                <a:lnTo>
                  <a:pt x="96" y="1154"/>
                </a:lnTo>
                <a:lnTo>
                  <a:pt x="98" y="1156"/>
                </a:lnTo>
                <a:lnTo>
                  <a:pt x="98" y="1162"/>
                </a:lnTo>
                <a:lnTo>
                  <a:pt x="94" y="1162"/>
                </a:lnTo>
                <a:lnTo>
                  <a:pt x="92" y="1162"/>
                </a:lnTo>
                <a:lnTo>
                  <a:pt x="90" y="1164"/>
                </a:lnTo>
                <a:lnTo>
                  <a:pt x="94" y="1168"/>
                </a:lnTo>
                <a:lnTo>
                  <a:pt x="100" y="1170"/>
                </a:lnTo>
                <a:lnTo>
                  <a:pt x="104" y="1174"/>
                </a:lnTo>
                <a:lnTo>
                  <a:pt x="104" y="1178"/>
                </a:lnTo>
                <a:lnTo>
                  <a:pt x="104" y="1182"/>
                </a:lnTo>
                <a:lnTo>
                  <a:pt x="110" y="1174"/>
                </a:lnTo>
                <a:lnTo>
                  <a:pt x="120" y="1170"/>
                </a:lnTo>
                <a:lnTo>
                  <a:pt x="130" y="1166"/>
                </a:lnTo>
                <a:lnTo>
                  <a:pt x="142" y="1164"/>
                </a:lnTo>
                <a:lnTo>
                  <a:pt x="166" y="1162"/>
                </a:lnTo>
                <a:lnTo>
                  <a:pt x="192" y="1162"/>
                </a:lnTo>
                <a:lnTo>
                  <a:pt x="198" y="1168"/>
                </a:lnTo>
                <a:lnTo>
                  <a:pt x="206" y="1172"/>
                </a:lnTo>
                <a:lnTo>
                  <a:pt x="216" y="1174"/>
                </a:lnTo>
                <a:lnTo>
                  <a:pt x="226" y="1176"/>
                </a:lnTo>
                <a:lnTo>
                  <a:pt x="248" y="1178"/>
                </a:lnTo>
                <a:lnTo>
                  <a:pt x="266" y="1174"/>
                </a:lnTo>
                <a:lnTo>
                  <a:pt x="262" y="1186"/>
                </a:lnTo>
                <a:lnTo>
                  <a:pt x="272" y="1194"/>
                </a:lnTo>
                <a:lnTo>
                  <a:pt x="284" y="1202"/>
                </a:lnTo>
                <a:lnTo>
                  <a:pt x="310" y="1216"/>
                </a:lnTo>
                <a:lnTo>
                  <a:pt x="334" y="1230"/>
                </a:lnTo>
                <a:lnTo>
                  <a:pt x="346" y="1238"/>
                </a:lnTo>
                <a:lnTo>
                  <a:pt x="356" y="1248"/>
                </a:lnTo>
                <a:lnTo>
                  <a:pt x="346" y="1260"/>
                </a:lnTo>
                <a:lnTo>
                  <a:pt x="340" y="1266"/>
                </a:lnTo>
                <a:lnTo>
                  <a:pt x="332" y="1270"/>
                </a:lnTo>
                <a:lnTo>
                  <a:pt x="332" y="1264"/>
                </a:lnTo>
                <a:lnTo>
                  <a:pt x="332" y="1262"/>
                </a:lnTo>
                <a:lnTo>
                  <a:pt x="330" y="1260"/>
                </a:lnTo>
                <a:lnTo>
                  <a:pt x="328" y="1264"/>
                </a:lnTo>
                <a:lnTo>
                  <a:pt x="328" y="1266"/>
                </a:lnTo>
                <a:lnTo>
                  <a:pt x="330" y="1272"/>
                </a:lnTo>
                <a:lnTo>
                  <a:pt x="332" y="1280"/>
                </a:lnTo>
                <a:lnTo>
                  <a:pt x="330" y="1282"/>
                </a:lnTo>
                <a:lnTo>
                  <a:pt x="330" y="1286"/>
                </a:lnTo>
                <a:lnTo>
                  <a:pt x="324" y="1284"/>
                </a:lnTo>
                <a:lnTo>
                  <a:pt x="318" y="1286"/>
                </a:lnTo>
                <a:lnTo>
                  <a:pt x="306" y="1288"/>
                </a:lnTo>
                <a:lnTo>
                  <a:pt x="308" y="1286"/>
                </a:lnTo>
                <a:lnTo>
                  <a:pt x="308" y="1284"/>
                </a:lnTo>
                <a:lnTo>
                  <a:pt x="306" y="1282"/>
                </a:lnTo>
                <a:lnTo>
                  <a:pt x="308" y="1278"/>
                </a:lnTo>
                <a:lnTo>
                  <a:pt x="306" y="1278"/>
                </a:lnTo>
                <a:lnTo>
                  <a:pt x="304" y="1278"/>
                </a:lnTo>
                <a:lnTo>
                  <a:pt x="304" y="1282"/>
                </a:lnTo>
                <a:lnTo>
                  <a:pt x="304" y="1284"/>
                </a:lnTo>
                <a:lnTo>
                  <a:pt x="302" y="1286"/>
                </a:lnTo>
                <a:lnTo>
                  <a:pt x="300" y="1286"/>
                </a:lnTo>
                <a:lnTo>
                  <a:pt x="300" y="1282"/>
                </a:lnTo>
                <a:lnTo>
                  <a:pt x="298" y="1278"/>
                </a:lnTo>
                <a:lnTo>
                  <a:pt x="296" y="1276"/>
                </a:lnTo>
                <a:lnTo>
                  <a:pt x="292" y="1278"/>
                </a:lnTo>
                <a:lnTo>
                  <a:pt x="292" y="1284"/>
                </a:lnTo>
                <a:lnTo>
                  <a:pt x="294" y="1288"/>
                </a:lnTo>
                <a:lnTo>
                  <a:pt x="298" y="1290"/>
                </a:lnTo>
                <a:lnTo>
                  <a:pt x="302" y="1294"/>
                </a:lnTo>
                <a:lnTo>
                  <a:pt x="312" y="1298"/>
                </a:lnTo>
                <a:lnTo>
                  <a:pt x="322" y="1300"/>
                </a:lnTo>
                <a:lnTo>
                  <a:pt x="318" y="1312"/>
                </a:lnTo>
                <a:lnTo>
                  <a:pt x="314" y="1322"/>
                </a:lnTo>
                <a:lnTo>
                  <a:pt x="310" y="1334"/>
                </a:lnTo>
                <a:lnTo>
                  <a:pt x="308" y="1348"/>
                </a:lnTo>
                <a:lnTo>
                  <a:pt x="302" y="1354"/>
                </a:lnTo>
                <a:lnTo>
                  <a:pt x="296" y="1358"/>
                </a:lnTo>
                <a:lnTo>
                  <a:pt x="290" y="1366"/>
                </a:lnTo>
                <a:lnTo>
                  <a:pt x="288" y="1370"/>
                </a:lnTo>
                <a:lnTo>
                  <a:pt x="288" y="1374"/>
                </a:lnTo>
                <a:lnTo>
                  <a:pt x="296" y="1374"/>
                </a:lnTo>
                <a:lnTo>
                  <a:pt x="306" y="1374"/>
                </a:lnTo>
                <a:lnTo>
                  <a:pt x="322" y="1378"/>
                </a:lnTo>
                <a:lnTo>
                  <a:pt x="330" y="1378"/>
                </a:lnTo>
                <a:lnTo>
                  <a:pt x="338" y="1378"/>
                </a:lnTo>
                <a:lnTo>
                  <a:pt x="344" y="1376"/>
                </a:lnTo>
                <a:lnTo>
                  <a:pt x="350" y="1370"/>
                </a:lnTo>
                <a:lnTo>
                  <a:pt x="346" y="1368"/>
                </a:lnTo>
                <a:lnTo>
                  <a:pt x="344" y="1364"/>
                </a:lnTo>
                <a:lnTo>
                  <a:pt x="344" y="1358"/>
                </a:lnTo>
                <a:lnTo>
                  <a:pt x="344" y="1352"/>
                </a:lnTo>
                <a:lnTo>
                  <a:pt x="342" y="1346"/>
                </a:lnTo>
                <a:lnTo>
                  <a:pt x="338" y="1356"/>
                </a:lnTo>
                <a:lnTo>
                  <a:pt x="334" y="1362"/>
                </a:lnTo>
                <a:lnTo>
                  <a:pt x="330" y="1364"/>
                </a:lnTo>
                <a:lnTo>
                  <a:pt x="326" y="1358"/>
                </a:lnTo>
                <a:lnTo>
                  <a:pt x="322" y="1348"/>
                </a:lnTo>
                <a:lnTo>
                  <a:pt x="320" y="1338"/>
                </a:lnTo>
                <a:lnTo>
                  <a:pt x="320" y="1326"/>
                </a:lnTo>
                <a:lnTo>
                  <a:pt x="322" y="1316"/>
                </a:lnTo>
                <a:lnTo>
                  <a:pt x="326" y="1308"/>
                </a:lnTo>
                <a:lnTo>
                  <a:pt x="330" y="1304"/>
                </a:lnTo>
                <a:lnTo>
                  <a:pt x="332" y="1302"/>
                </a:lnTo>
                <a:lnTo>
                  <a:pt x="338" y="1302"/>
                </a:lnTo>
                <a:lnTo>
                  <a:pt x="342" y="1302"/>
                </a:lnTo>
                <a:lnTo>
                  <a:pt x="346" y="1308"/>
                </a:lnTo>
                <a:lnTo>
                  <a:pt x="354" y="1312"/>
                </a:lnTo>
                <a:lnTo>
                  <a:pt x="372" y="1320"/>
                </a:lnTo>
                <a:lnTo>
                  <a:pt x="380" y="1324"/>
                </a:lnTo>
                <a:lnTo>
                  <a:pt x="386" y="1328"/>
                </a:lnTo>
                <a:lnTo>
                  <a:pt x="386" y="1330"/>
                </a:lnTo>
                <a:lnTo>
                  <a:pt x="386" y="1334"/>
                </a:lnTo>
                <a:lnTo>
                  <a:pt x="382" y="1340"/>
                </a:lnTo>
                <a:lnTo>
                  <a:pt x="382" y="1348"/>
                </a:lnTo>
                <a:lnTo>
                  <a:pt x="380" y="1354"/>
                </a:lnTo>
                <a:lnTo>
                  <a:pt x="376" y="1368"/>
                </a:lnTo>
                <a:lnTo>
                  <a:pt x="368" y="1380"/>
                </a:lnTo>
                <a:lnTo>
                  <a:pt x="362" y="1392"/>
                </a:lnTo>
                <a:lnTo>
                  <a:pt x="368" y="1396"/>
                </a:lnTo>
                <a:lnTo>
                  <a:pt x="372" y="1400"/>
                </a:lnTo>
                <a:lnTo>
                  <a:pt x="378" y="1410"/>
                </a:lnTo>
                <a:lnTo>
                  <a:pt x="380" y="1422"/>
                </a:lnTo>
                <a:lnTo>
                  <a:pt x="380" y="1434"/>
                </a:lnTo>
                <a:lnTo>
                  <a:pt x="376" y="1458"/>
                </a:lnTo>
                <a:lnTo>
                  <a:pt x="376" y="1470"/>
                </a:lnTo>
                <a:lnTo>
                  <a:pt x="376" y="1478"/>
                </a:lnTo>
                <a:lnTo>
                  <a:pt x="374" y="1490"/>
                </a:lnTo>
                <a:lnTo>
                  <a:pt x="374" y="1502"/>
                </a:lnTo>
                <a:lnTo>
                  <a:pt x="378" y="1514"/>
                </a:lnTo>
                <a:lnTo>
                  <a:pt x="382" y="1528"/>
                </a:lnTo>
                <a:lnTo>
                  <a:pt x="390" y="1550"/>
                </a:lnTo>
                <a:lnTo>
                  <a:pt x="396" y="1570"/>
                </a:lnTo>
                <a:lnTo>
                  <a:pt x="400" y="1572"/>
                </a:lnTo>
                <a:lnTo>
                  <a:pt x="404" y="1572"/>
                </a:lnTo>
                <a:lnTo>
                  <a:pt x="408" y="1574"/>
                </a:lnTo>
                <a:lnTo>
                  <a:pt x="410" y="1578"/>
                </a:lnTo>
                <a:lnTo>
                  <a:pt x="406" y="1584"/>
                </a:lnTo>
                <a:lnTo>
                  <a:pt x="404" y="1588"/>
                </a:lnTo>
                <a:lnTo>
                  <a:pt x="402" y="1588"/>
                </a:lnTo>
                <a:lnTo>
                  <a:pt x="406" y="1590"/>
                </a:lnTo>
                <a:lnTo>
                  <a:pt x="408" y="1594"/>
                </a:lnTo>
                <a:lnTo>
                  <a:pt x="412" y="1604"/>
                </a:lnTo>
                <a:lnTo>
                  <a:pt x="410" y="1606"/>
                </a:lnTo>
                <a:lnTo>
                  <a:pt x="406" y="1604"/>
                </a:lnTo>
                <a:lnTo>
                  <a:pt x="404" y="1608"/>
                </a:lnTo>
                <a:lnTo>
                  <a:pt x="412" y="1614"/>
                </a:lnTo>
                <a:lnTo>
                  <a:pt x="420" y="1616"/>
                </a:lnTo>
                <a:lnTo>
                  <a:pt x="426" y="1616"/>
                </a:lnTo>
                <a:lnTo>
                  <a:pt x="436" y="1618"/>
                </a:lnTo>
                <a:lnTo>
                  <a:pt x="434" y="1610"/>
                </a:lnTo>
                <a:lnTo>
                  <a:pt x="430" y="1600"/>
                </a:lnTo>
                <a:lnTo>
                  <a:pt x="420" y="1584"/>
                </a:lnTo>
                <a:lnTo>
                  <a:pt x="412" y="1568"/>
                </a:lnTo>
                <a:lnTo>
                  <a:pt x="408" y="1560"/>
                </a:lnTo>
                <a:lnTo>
                  <a:pt x="408" y="1552"/>
                </a:lnTo>
                <a:lnTo>
                  <a:pt x="400" y="1550"/>
                </a:lnTo>
                <a:lnTo>
                  <a:pt x="394" y="1544"/>
                </a:lnTo>
                <a:lnTo>
                  <a:pt x="392" y="1538"/>
                </a:lnTo>
                <a:lnTo>
                  <a:pt x="392" y="1528"/>
                </a:lnTo>
                <a:lnTo>
                  <a:pt x="400" y="1524"/>
                </a:lnTo>
                <a:lnTo>
                  <a:pt x="406" y="1524"/>
                </a:lnTo>
                <a:lnTo>
                  <a:pt x="420" y="1520"/>
                </a:lnTo>
                <a:lnTo>
                  <a:pt x="416" y="1518"/>
                </a:lnTo>
                <a:lnTo>
                  <a:pt x="414" y="1516"/>
                </a:lnTo>
                <a:lnTo>
                  <a:pt x="412" y="1514"/>
                </a:lnTo>
                <a:lnTo>
                  <a:pt x="410" y="1512"/>
                </a:lnTo>
                <a:lnTo>
                  <a:pt x="406" y="1512"/>
                </a:lnTo>
                <a:lnTo>
                  <a:pt x="406" y="1514"/>
                </a:lnTo>
                <a:lnTo>
                  <a:pt x="406" y="1516"/>
                </a:lnTo>
                <a:lnTo>
                  <a:pt x="404" y="1518"/>
                </a:lnTo>
                <a:lnTo>
                  <a:pt x="402" y="1518"/>
                </a:lnTo>
                <a:lnTo>
                  <a:pt x="400" y="1516"/>
                </a:lnTo>
                <a:lnTo>
                  <a:pt x="396" y="1510"/>
                </a:lnTo>
                <a:lnTo>
                  <a:pt x="396" y="1506"/>
                </a:lnTo>
                <a:lnTo>
                  <a:pt x="396" y="1502"/>
                </a:lnTo>
                <a:lnTo>
                  <a:pt x="400" y="1504"/>
                </a:lnTo>
                <a:lnTo>
                  <a:pt x="402" y="1506"/>
                </a:lnTo>
                <a:lnTo>
                  <a:pt x="404" y="1508"/>
                </a:lnTo>
                <a:lnTo>
                  <a:pt x="410" y="1508"/>
                </a:lnTo>
                <a:lnTo>
                  <a:pt x="414" y="1496"/>
                </a:lnTo>
                <a:lnTo>
                  <a:pt x="416" y="1484"/>
                </a:lnTo>
                <a:lnTo>
                  <a:pt x="414" y="1474"/>
                </a:lnTo>
                <a:lnTo>
                  <a:pt x="412" y="1464"/>
                </a:lnTo>
                <a:lnTo>
                  <a:pt x="404" y="1442"/>
                </a:lnTo>
                <a:lnTo>
                  <a:pt x="404" y="1432"/>
                </a:lnTo>
                <a:lnTo>
                  <a:pt x="404" y="1422"/>
                </a:lnTo>
                <a:lnTo>
                  <a:pt x="416" y="1420"/>
                </a:lnTo>
                <a:lnTo>
                  <a:pt x="426" y="1422"/>
                </a:lnTo>
                <a:lnTo>
                  <a:pt x="434" y="1424"/>
                </a:lnTo>
                <a:lnTo>
                  <a:pt x="442" y="1426"/>
                </a:lnTo>
                <a:lnTo>
                  <a:pt x="450" y="1432"/>
                </a:lnTo>
                <a:lnTo>
                  <a:pt x="456" y="1438"/>
                </a:lnTo>
                <a:lnTo>
                  <a:pt x="466" y="1452"/>
                </a:lnTo>
                <a:lnTo>
                  <a:pt x="462" y="1456"/>
                </a:lnTo>
                <a:lnTo>
                  <a:pt x="458" y="1456"/>
                </a:lnTo>
                <a:lnTo>
                  <a:pt x="452" y="1452"/>
                </a:lnTo>
                <a:lnTo>
                  <a:pt x="450" y="1470"/>
                </a:lnTo>
                <a:lnTo>
                  <a:pt x="448" y="1478"/>
                </a:lnTo>
                <a:lnTo>
                  <a:pt x="444" y="1484"/>
                </a:lnTo>
                <a:lnTo>
                  <a:pt x="438" y="1480"/>
                </a:lnTo>
                <a:lnTo>
                  <a:pt x="438" y="1476"/>
                </a:lnTo>
                <a:lnTo>
                  <a:pt x="438" y="1462"/>
                </a:lnTo>
                <a:lnTo>
                  <a:pt x="434" y="1464"/>
                </a:lnTo>
                <a:lnTo>
                  <a:pt x="434" y="1466"/>
                </a:lnTo>
                <a:lnTo>
                  <a:pt x="432" y="1472"/>
                </a:lnTo>
                <a:lnTo>
                  <a:pt x="432" y="1476"/>
                </a:lnTo>
                <a:lnTo>
                  <a:pt x="430" y="1480"/>
                </a:lnTo>
                <a:lnTo>
                  <a:pt x="428" y="1480"/>
                </a:lnTo>
                <a:lnTo>
                  <a:pt x="422" y="1478"/>
                </a:lnTo>
                <a:lnTo>
                  <a:pt x="422" y="1484"/>
                </a:lnTo>
                <a:lnTo>
                  <a:pt x="424" y="1488"/>
                </a:lnTo>
                <a:lnTo>
                  <a:pt x="426" y="1492"/>
                </a:lnTo>
                <a:lnTo>
                  <a:pt x="430" y="1492"/>
                </a:lnTo>
                <a:lnTo>
                  <a:pt x="430" y="1486"/>
                </a:lnTo>
                <a:lnTo>
                  <a:pt x="430" y="1484"/>
                </a:lnTo>
                <a:lnTo>
                  <a:pt x="432" y="1480"/>
                </a:lnTo>
                <a:lnTo>
                  <a:pt x="436" y="1478"/>
                </a:lnTo>
                <a:lnTo>
                  <a:pt x="438" y="1484"/>
                </a:lnTo>
                <a:lnTo>
                  <a:pt x="440" y="1490"/>
                </a:lnTo>
                <a:lnTo>
                  <a:pt x="446" y="1492"/>
                </a:lnTo>
                <a:lnTo>
                  <a:pt x="454" y="1492"/>
                </a:lnTo>
                <a:lnTo>
                  <a:pt x="454" y="1480"/>
                </a:lnTo>
                <a:lnTo>
                  <a:pt x="458" y="1472"/>
                </a:lnTo>
                <a:lnTo>
                  <a:pt x="462" y="1466"/>
                </a:lnTo>
                <a:lnTo>
                  <a:pt x="470" y="1466"/>
                </a:lnTo>
                <a:lnTo>
                  <a:pt x="470" y="1462"/>
                </a:lnTo>
                <a:lnTo>
                  <a:pt x="468" y="1460"/>
                </a:lnTo>
                <a:lnTo>
                  <a:pt x="464" y="1458"/>
                </a:lnTo>
                <a:lnTo>
                  <a:pt x="470" y="1458"/>
                </a:lnTo>
                <a:lnTo>
                  <a:pt x="474" y="1456"/>
                </a:lnTo>
                <a:lnTo>
                  <a:pt x="478" y="1464"/>
                </a:lnTo>
                <a:lnTo>
                  <a:pt x="486" y="1470"/>
                </a:lnTo>
                <a:lnTo>
                  <a:pt x="492" y="1476"/>
                </a:lnTo>
                <a:lnTo>
                  <a:pt x="498" y="1484"/>
                </a:lnTo>
                <a:lnTo>
                  <a:pt x="498" y="1496"/>
                </a:lnTo>
                <a:lnTo>
                  <a:pt x="500" y="1506"/>
                </a:lnTo>
                <a:lnTo>
                  <a:pt x="504" y="1514"/>
                </a:lnTo>
                <a:lnTo>
                  <a:pt x="508" y="1522"/>
                </a:lnTo>
                <a:lnTo>
                  <a:pt x="520" y="1538"/>
                </a:lnTo>
                <a:lnTo>
                  <a:pt x="526" y="1548"/>
                </a:lnTo>
                <a:lnTo>
                  <a:pt x="530" y="1560"/>
                </a:lnTo>
                <a:lnTo>
                  <a:pt x="522" y="1560"/>
                </a:lnTo>
                <a:lnTo>
                  <a:pt x="520" y="1560"/>
                </a:lnTo>
                <a:lnTo>
                  <a:pt x="518" y="1562"/>
                </a:lnTo>
                <a:lnTo>
                  <a:pt x="524" y="1562"/>
                </a:lnTo>
                <a:lnTo>
                  <a:pt x="528" y="1566"/>
                </a:lnTo>
                <a:lnTo>
                  <a:pt x="530" y="1568"/>
                </a:lnTo>
                <a:lnTo>
                  <a:pt x="532" y="1572"/>
                </a:lnTo>
                <a:lnTo>
                  <a:pt x="532" y="1582"/>
                </a:lnTo>
                <a:lnTo>
                  <a:pt x="530" y="1590"/>
                </a:lnTo>
                <a:lnTo>
                  <a:pt x="518" y="1576"/>
                </a:lnTo>
                <a:lnTo>
                  <a:pt x="508" y="1566"/>
                </a:lnTo>
                <a:lnTo>
                  <a:pt x="506" y="1570"/>
                </a:lnTo>
                <a:lnTo>
                  <a:pt x="506" y="1578"/>
                </a:lnTo>
                <a:lnTo>
                  <a:pt x="504" y="1584"/>
                </a:lnTo>
                <a:lnTo>
                  <a:pt x="504" y="1590"/>
                </a:lnTo>
                <a:lnTo>
                  <a:pt x="496" y="1584"/>
                </a:lnTo>
                <a:lnTo>
                  <a:pt x="488" y="1576"/>
                </a:lnTo>
                <a:lnTo>
                  <a:pt x="484" y="1566"/>
                </a:lnTo>
                <a:lnTo>
                  <a:pt x="484" y="1562"/>
                </a:lnTo>
                <a:lnTo>
                  <a:pt x="486" y="1556"/>
                </a:lnTo>
                <a:lnTo>
                  <a:pt x="480" y="1554"/>
                </a:lnTo>
                <a:lnTo>
                  <a:pt x="478" y="1552"/>
                </a:lnTo>
                <a:lnTo>
                  <a:pt x="476" y="1548"/>
                </a:lnTo>
                <a:lnTo>
                  <a:pt x="474" y="1540"/>
                </a:lnTo>
                <a:lnTo>
                  <a:pt x="470" y="1542"/>
                </a:lnTo>
                <a:lnTo>
                  <a:pt x="468" y="1544"/>
                </a:lnTo>
                <a:lnTo>
                  <a:pt x="462" y="1548"/>
                </a:lnTo>
                <a:lnTo>
                  <a:pt x="468" y="1550"/>
                </a:lnTo>
                <a:lnTo>
                  <a:pt x="472" y="1554"/>
                </a:lnTo>
                <a:lnTo>
                  <a:pt x="474" y="1564"/>
                </a:lnTo>
                <a:lnTo>
                  <a:pt x="466" y="1564"/>
                </a:lnTo>
                <a:lnTo>
                  <a:pt x="470" y="1570"/>
                </a:lnTo>
                <a:lnTo>
                  <a:pt x="474" y="1574"/>
                </a:lnTo>
                <a:lnTo>
                  <a:pt x="486" y="1580"/>
                </a:lnTo>
                <a:lnTo>
                  <a:pt x="490" y="1584"/>
                </a:lnTo>
                <a:lnTo>
                  <a:pt x="492" y="1588"/>
                </a:lnTo>
                <a:lnTo>
                  <a:pt x="494" y="1594"/>
                </a:lnTo>
                <a:lnTo>
                  <a:pt x="490" y="1600"/>
                </a:lnTo>
                <a:lnTo>
                  <a:pt x="488" y="1594"/>
                </a:lnTo>
                <a:lnTo>
                  <a:pt x="484" y="1592"/>
                </a:lnTo>
                <a:lnTo>
                  <a:pt x="482" y="1596"/>
                </a:lnTo>
                <a:lnTo>
                  <a:pt x="486" y="1600"/>
                </a:lnTo>
                <a:lnTo>
                  <a:pt x="490" y="1604"/>
                </a:lnTo>
                <a:lnTo>
                  <a:pt x="492" y="1612"/>
                </a:lnTo>
                <a:lnTo>
                  <a:pt x="494" y="1620"/>
                </a:lnTo>
                <a:lnTo>
                  <a:pt x="494" y="1624"/>
                </a:lnTo>
                <a:lnTo>
                  <a:pt x="498" y="1630"/>
                </a:lnTo>
                <a:lnTo>
                  <a:pt x="494" y="1628"/>
                </a:lnTo>
                <a:lnTo>
                  <a:pt x="490" y="1626"/>
                </a:lnTo>
                <a:lnTo>
                  <a:pt x="488" y="1624"/>
                </a:lnTo>
                <a:lnTo>
                  <a:pt x="482" y="1624"/>
                </a:lnTo>
                <a:lnTo>
                  <a:pt x="494" y="1640"/>
                </a:lnTo>
                <a:lnTo>
                  <a:pt x="498" y="1644"/>
                </a:lnTo>
                <a:lnTo>
                  <a:pt x="500" y="1646"/>
                </a:lnTo>
                <a:lnTo>
                  <a:pt x="500" y="1644"/>
                </a:lnTo>
                <a:lnTo>
                  <a:pt x="498" y="1638"/>
                </a:lnTo>
                <a:lnTo>
                  <a:pt x="498" y="1634"/>
                </a:lnTo>
                <a:lnTo>
                  <a:pt x="498" y="1632"/>
                </a:lnTo>
                <a:lnTo>
                  <a:pt x="510" y="1660"/>
                </a:lnTo>
                <a:lnTo>
                  <a:pt x="516" y="1676"/>
                </a:lnTo>
                <a:lnTo>
                  <a:pt x="524" y="1690"/>
                </a:lnTo>
                <a:lnTo>
                  <a:pt x="532" y="1704"/>
                </a:lnTo>
                <a:lnTo>
                  <a:pt x="544" y="1714"/>
                </a:lnTo>
                <a:lnTo>
                  <a:pt x="558" y="1724"/>
                </a:lnTo>
                <a:lnTo>
                  <a:pt x="576" y="1730"/>
                </a:lnTo>
                <a:lnTo>
                  <a:pt x="570" y="1722"/>
                </a:lnTo>
                <a:lnTo>
                  <a:pt x="562" y="1714"/>
                </a:lnTo>
                <a:lnTo>
                  <a:pt x="546" y="1702"/>
                </a:lnTo>
                <a:lnTo>
                  <a:pt x="538" y="1694"/>
                </a:lnTo>
                <a:lnTo>
                  <a:pt x="532" y="1688"/>
                </a:lnTo>
                <a:lnTo>
                  <a:pt x="526" y="1678"/>
                </a:lnTo>
                <a:lnTo>
                  <a:pt x="522" y="1668"/>
                </a:lnTo>
                <a:lnTo>
                  <a:pt x="528" y="1668"/>
                </a:lnTo>
                <a:lnTo>
                  <a:pt x="530" y="1670"/>
                </a:lnTo>
                <a:lnTo>
                  <a:pt x="534" y="1674"/>
                </a:lnTo>
                <a:lnTo>
                  <a:pt x="538" y="1676"/>
                </a:lnTo>
                <a:lnTo>
                  <a:pt x="540" y="1672"/>
                </a:lnTo>
                <a:lnTo>
                  <a:pt x="542" y="1670"/>
                </a:lnTo>
                <a:lnTo>
                  <a:pt x="548" y="1670"/>
                </a:lnTo>
                <a:lnTo>
                  <a:pt x="554" y="1672"/>
                </a:lnTo>
                <a:lnTo>
                  <a:pt x="558" y="1672"/>
                </a:lnTo>
                <a:lnTo>
                  <a:pt x="560" y="1670"/>
                </a:lnTo>
                <a:lnTo>
                  <a:pt x="552" y="1662"/>
                </a:lnTo>
                <a:lnTo>
                  <a:pt x="548" y="1652"/>
                </a:lnTo>
                <a:lnTo>
                  <a:pt x="546" y="1642"/>
                </a:lnTo>
                <a:lnTo>
                  <a:pt x="546" y="1630"/>
                </a:lnTo>
                <a:lnTo>
                  <a:pt x="548" y="1606"/>
                </a:lnTo>
                <a:lnTo>
                  <a:pt x="548" y="1596"/>
                </a:lnTo>
                <a:lnTo>
                  <a:pt x="544" y="1586"/>
                </a:lnTo>
                <a:lnTo>
                  <a:pt x="550" y="1584"/>
                </a:lnTo>
                <a:lnTo>
                  <a:pt x="552" y="1582"/>
                </a:lnTo>
                <a:lnTo>
                  <a:pt x="552" y="1580"/>
                </a:lnTo>
                <a:lnTo>
                  <a:pt x="546" y="1570"/>
                </a:lnTo>
                <a:lnTo>
                  <a:pt x="542" y="1556"/>
                </a:lnTo>
                <a:lnTo>
                  <a:pt x="540" y="1550"/>
                </a:lnTo>
                <a:lnTo>
                  <a:pt x="540" y="1542"/>
                </a:lnTo>
                <a:lnTo>
                  <a:pt x="542" y="1536"/>
                </a:lnTo>
                <a:lnTo>
                  <a:pt x="544" y="1530"/>
                </a:lnTo>
                <a:lnTo>
                  <a:pt x="556" y="1542"/>
                </a:lnTo>
                <a:lnTo>
                  <a:pt x="568" y="1552"/>
                </a:lnTo>
                <a:lnTo>
                  <a:pt x="592" y="1572"/>
                </a:lnTo>
                <a:lnTo>
                  <a:pt x="616" y="1592"/>
                </a:lnTo>
                <a:lnTo>
                  <a:pt x="628" y="1602"/>
                </a:lnTo>
                <a:lnTo>
                  <a:pt x="638" y="1614"/>
                </a:lnTo>
                <a:lnTo>
                  <a:pt x="636" y="1616"/>
                </a:lnTo>
                <a:lnTo>
                  <a:pt x="634" y="1620"/>
                </a:lnTo>
                <a:lnTo>
                  <a:pt x="634" y="1632"/>
                </a:lnTo>
                <a:lnTo>
                  <a:pt x="636" y="1632"/>
                </a:lnTo>
                <a:lnTo>
                  <a:pt x="638" y="1634"/>
                </a:lnTo>
                <a:lnTo>
                  <a:pt x="636" y="1638"/>
                </a:lnTo>
                <a:lnTo>
                  <a:pt x="652" y="1636"/>
                </a:lnTo>
                <a:lnTo>
                  <a:pt x="668" y="1638"/>
                </a:lnTo>
                <a:lnTo>
                  <a:pt x="686" y="1642"/>
                </a:lnTo>
                <a:lnTo>
                  <a:pt x="702" y="1648"/>
                </a:lnTo>
                <a:lnTo>
                  <a:pt x="734" y="1664"/>
                </a:lnTo>
                <a:lnTo>
                  <a:pt x="762" y="1678"/>
                </a:lnTo>
                <a:lnTo>
                  <a:pt x="766" y="1682"/>
                </a:lnTo>
                <a:lnTo>
                  <a:pt x="764" y="1684"/>
                </a:lnTo>
                <a:lnTo>
                  <a:pt x="764" y="1686"/>
                </a:lnTo>
                <a:lnTo>
                  <a:pt x="766" y="1688"/>
                </a:lnTo>
                <a:lnTo>
                  <a:pt x="790" y="1690"/>
                </a:lnTo>
                <a:lnTo>
                  <a:pt x="796" y="1692"/>
                </a:lnTo>
                <a:lnTo>
                  <a:pt x="802" y="1694"/>
                </a:lnTo>
                <a:lnTo>
                  <a:pt x="806" y="1698"/>
                </a:lnTo>
                <a:lnTo>
                  <a:pt x="808" y="1704"/>
                </a:lnTo>
                <a:lnTo>
                  <a:pt x="810" y="1702"/>
                </a:lnTo>
                <a:lnTo>
                  <a:pt x="812" y="1704"/>
                </a:lnTo>
                <a:lnTo>
                  <a:pt x="812" y="1708"/>
                </a:lnTo>
                <a:lnTo>
                  <a:pt x="814" y="1710"/>
                </a:lnTo>
                <a:lnTo>
                  <a:pt x="842" y="1714"/>
                </a:lnTo>
                <a:lnTo>
                  <a:pt x="872" y="1720"/>
                </a:lnTo>
                <a:lnTo>
                  <a:pt x="888" y="1726"/>
                </a:lnTo>
                <a:lnTo>
                  <a:pt x="900" y="1732"/>
                </a:lnTo>
                <a:lnTo>
                  <a:pt x="910" y="1738"/>
                </a:lnTo>
                <a:lnTo>
                  <a:pt x="916" y="1746"/>
                </a:lnTo>
                <a:lnTo>
                  <a:pt x="920" y="1742"/>
                </a:lnTo>
                <a:lnTo>
                  <a:pt x="924" y="1742"/>
                </a:lnTo>
                <a:lnTo>
                  <a:pt x="942" y="1744"/>
                </a:lnTo>
                <a:lnTo>
                  <a:pt x="956" y="1742"/>
                </a:lnTo>
                <a:lnTo>
                  <a:pt x="968" y="1740"/>
                </a:lnTo>
                <a:lnTo>
                  <a:pt x="980" y="1736"/>
                </a:lnTo>
                <a:lnTo>
                  <a:pt x="992" y="1728"/>
                </a:lnTo>
                <a:lnTo>
                  <a:pt x="988" y="1732"/>
                </a:lnTo>
                <a:lnTo>
                  <a:pt x="984" y="1736"/>
                </a:lnTo>
                <a:lnTo>
                  <a:pt x="982" y="1740"/>
                </a:lnTo>
                <a:lnTo>
                  <a:pt x="984" y="1742"/>
                </a:lnTo>
                <a:lnTo>
                  <a:pt x="986" y="1744"/>
                </a:lnTo>
                <a:lnTo>
                  <a:pt x="990" y="1738"/>
                </a:lnTo>
                <a:lnTo>
                  <a:pt x="992" y="1736"/>
                </a:lnTo>
                <a:lnTo>
                  <a:pt x="996" y="1736"/>
                </a:lnTo>
                <a:lnTo>
                  <a:pt x="1008" y="1746"/>
                </a:lnTo>
                <a:lnTo>
                  <a:pt x="1020" y="1754"/>
                </a:lnTo>
                <a:lnTo>
                  <a:pt x="1046" y="1770"/>
                </a:lnTo>
                <a:lnTo>
                  <a:pt x="1060" y="1770"/>
                </a:lnTo>
                <a:lnTo>
                  <a:pt x="1074" y="1770"/>
                </a:lnTo>
                <a:lnTo>
                  <a:pt x="1098" y="1766"/>
                </a:lnTo>
                <a:lnTo>
                  <a:pt x="1106" y="1766"/>
                </a:lnTo>
                <a:lnTo>
                  <a:pt x="1108" y="1766"/>
                </a:lnTo>
                <a:lnTo>
                  <a:pt x="1108" y="1762"/>
                </a:lnTo>
                <a:lnTo>
                  <a:pt x="1116" y="1756"/>
                </a:lnTo>
                <a:lnTo>
                  <a:pt x="1112" y="1756"/>
                </a:lnTo>
                <a:lnTo>
                  <a:pt x="1108" y="1758"/>
                </a:lnTo>
                <a:lnTo>
                  <a:pt x="1100" y="1762"/>
                </a:lnTo>
                <a:lnTo>
                  <a:pt x="1096" y="1764"/>
                </a:lnTo>
                <a:lnTo>
                  <a:pt x="1092" y="1762"/>
                </a:lnTo>
                <a:lnTo>
                  <a:pt x="1090" y="1760"/>
                </a:lnTo>
                <a:lnTo>
                  <a:pt x="1072" y="1760"/>
                </a:lnTo>
                <a:lnTo>
                  <a:pt x="1054" y="1758"/>
                </a:lnTo>
                <a:lnTo>
                  <a:pt x="1048" y="1754"/>
                </a:lnTo>
                <a:lnTo>
                  <a:pt x="1042" y="1750"/>
                </a:lnTo>
                <a:lnTo>
                  <a:pt x="1036" y="1744"/>
                </a:lnTo>
                <a:lnTo>
                  <a:pt x="1034" y="1736"/>
                </a:lnTo>
                <a:lnTo>
                  <a:pt x="1036" y="1734"/>
                </a:lnTo>
                <a:lnTo>
                  <a:pt x="1036" y="1730"/>
                </a:lnTo>
                <a:lnTo>
                  <a:pt x="1046" y="1732"/>
                </a:lnTo>
                <a:lnTo>
                  <a:pt x="1056" y="1730"/>
                </a:lnTo>
                <a:lnTo>
                  <a:pt x="1074" y="1728"/>
                </a:lnTo>
                <a:lnTo>
                  <a:pt x="1094" y="1724"/>
                </a:lnTo>
                <a:lnTo>
                  <a:pt x="1102" y="1724"/>
                </a:lnTo>
                <a:lnTo>
                  <a:pt x="1112" y="1726"/>
                </a:lnTo>
                <a:lnTo>
                  <a:pt x="1112" y="1722"/>
                </a:lnTo>
                <a:lnTo>
                  <a:pt x="1110" y="1720"/>
                </a:lnTo>
                <a:lnTo>
                  <a:pt x="1106" y="1720"/>
                </a:lnTo>
                <a:lnTo>
                  <a:pt x="1102" y="1718"/>
                </a:lnTo>
                <a:lnTo>
                  <a:pt x="1100" y="1714"/>
                </a:lnTo>
                <a:lnTo>
                  <a:pt x="1110" y="1714"/>
                </a:lnTo>
                <a:lnTo>
                  <a:pt x="1116" y="1712"/>
                </a:lnTo>
                <a:lnTo>
                  <a:pt x="1130" y="1708"/>
                </a:lnTo>
                <a:lnTo>
                  <a:pt x="1128" y="1712"/>
                </a:lnTo>
                <a:lnTo>
                  <a:pt x="1126" y="1714"/>
                </a:lnTo>
                <a:lnTo>
                  <a:pt x="1130" y="1716"/>
                </a:lnTo>
                <a:lnTo>
                  <a:pt x="1134" y="1714"/>
                </a:lnTo>
                <a:lnTo>
                  <a:pt x="1138" y="1712"/>
                </a:lnTo>
                <a:lnTo>
                  <a:pt x="1142" y="1712"/>
                </a:lnTo>
                <a:lnTo>
                  <a:pt x="1144" y="1714"/>
                </a:lnTo>
                <a:lnTo>
                  <a:pt x="1146" y="1712"/>
                </a:lnTo>
                <a:lnTo>
                  <a:pt x="1148" y="1708"/>
                </a:lnTo>
                <a:lnTo>
                  <a:pt x="1154" y="1704"/>
                </a:lnTo>
                <a:lnTo>
                  <a:pt x="1160" y="1702"/>
                </a:lnTo>
                <a:lnTo>
                  <a:pt x="1160" y="1700"/>
                </a:lnTo>
                <a:lnTo>
                  <a:pt x="1158" y="1696"/>
                </a:lnTo>
                <a:lnTo>
                  <a:pt x="1158" y="1698"/>
                </a:lnTo>
                <a:lnTo>
                  <a:pt x="1156" y="1700"/>
                </a:lnTo>
                <a:lnTo>
                  <a:pt x="1152" y="1700"/>
                </a:lnTo>
                <a:lnTo>
                  <a:pt x="1148" y="1700"/>
                </a:lnTo>
                <a:lnTo>
                  <a:pt x="1148" y="1698"/>
                </a:lnTo>
                <a:lnTo>
                  <a:pt x="1148" y="1696"/>
                </a:lnTo>
                <a:lnTo>
                  <a:pt x="1154" y="1696"/>
                </a:lnTo>
                <a:lnTo>
                  <a:pt x="1162" y="1692"/>
                </a:lnTo>
                <a:lnTo>
                  <a:pt x="1168" y="1692"/>
                </a:lnTo>
                <a:lnTo>
                  <a:pt x="1170" y="1692"/>
                </a:lnTo>
                <a:lnTo>
                  <a:pt x="1174" y="1694"/>
                </a:lnTo>
                <a:lnTo>
                  <a:pt x="1170" y="1696"/>
                </a:lnTo>
                <a:lnTo>
                  <a:pt x="1168" y="1696"/>
                </a:lnTo>
                <a:lnTo>
                  <a:pt x="1164" y="1698"/>
                </a:lnTo>
                <a:lnTo>
                  <a:pt x="1164" y="1702"/>
                </a:lnTo>
                <a:lnTo>
                  <a:pt x="1172" y="1700"/>
                </a:lnTo>
                <a:lnTo>
                  <a:pt x="1180" y="1698"/>
                </a:lnTo>
                <a:lnTo>
                  <a:pt x="1186" y="1696"/>
                </a:lnTo>
                <a:lnTo>
                  <a:pt x="1192" y="1694"/>
                </a:lnTo>
                <a:lnTo>
                  <a:pt x="1192" y="1688"/>
                </a:lnTo>
                <a:lnTo>
                  <a:pt x="1194" y="1684"/>
                </a:lnTo>
                <a:lnTo>
                  <a:pt x="1196" y="1682"/>
                </a:lnTo>
                <a:lnTo>
                  <a:pt x="1202" y="1684"/>
                </a:lnTo>
                <a:lnTo>
                  <a:pt x="1196" y="1684"/>
                </a:lnTo>
                <a:lnTo>
                  <a:pt x="1194" y="1686"/>
                </a:lnTo>
                <a:lnTo>
                  <a:pt x="1196" y="1690"/>
                </a:lnTo>
                <a:lnTo>
                  <a:pt x="1196" y="1692"/>
                </a:lnTo>
                <a:lnTo>
                  <a:pt x="1212" y="1684"/>
                </a:lnTo>
                <a:lnTo>
                  <a:pt x="1228" y="1674"/>
                </a:lnTo>
                <a:lnTo>
                  <a:pt x="1236" y="1670"/>
                </a:lnTo>
                <a:lnTo>
                  <a:pt x="1242" y="1668"/>
                </a:lnTo>
                <a:lnTo>
                  <a:pt x="1248" y="1670"/>
                </a:lnTo>
                <a:lnTo>
                  <a:pt x="1254" y="1674"/>
                </a:lnTo>
                <a:lnTo>
                  <a:pt x="1240" y="1680"/>
                </a:lnTo>
                <a:lnTo>
                  <a:pt x="1226" y="1686"/>
                </a:lnTo>
                <a:lnTo>
                  <a:pt x="1198" y="1696"/>
                </a:lnTo>
                <a:lnTo>
                  <a:pt x="1170" y="1708"/>
                </a:lnTo>
                <a:lnTo>
                  <a:pt x="1158" y="1714"/>
                </a:lnTo>
                <a:lnTo>
                  <a:pt x="1144" y="1722"/>
                </a:lnTo>
                <a:lnTo>
                  <a:pt x="1150" y="1720"/>
                </a:lnTo>
                <a:lnTo>
                  <a:pt x="1154" y="1720"/>
                </a:lnTo>
                <a:lnTo>
                  <a:pt x="1164" y="1724"/>
                </a:lnTo>
                <a:lnTo>
                  <a:pt x="1176" y="1728"/>
                </a:lnTo>
                <a:lnTo>
                  <a:pt x="1180" y="1728"/>
                </a:lnTo>
                <a:lnTo>
                  <a:pt x="1186" y="1726"/>
                </a:lnTo>
                <a:lnTo>
                  <a:pt x="1180" y="1722"/>
                </a:lnTo>
                <a:lnTo>
                  <a:pt x="1174" y="1720"/>
                </a:lnTo>
                <a:lnTo>
                  <a:pt x="1164" y="1718"/>
                </a:lnTo>
                <a:lnTo>
                  <a:pt x="1214" y="1698"/>
                </a:lnTo>
                <a:lnTo>
                  <a:pt x="1238" y="1690"/>
                </a:lnTo>
                <a:lnTo>
                  <a:pt x="1262" y="1678"/>
                </a:lnTo>
                <a:lnTo>
                  <a:pt x="1274" y="1690"/>
                </a:lnTo>
                <a:lnTo>
                  <a:pt x="1278" y="1696"/>
                </a:lnTo>
                <a:lnTo>
                  <a:pt x="1278" y="1700"/>
                </a:lnTo>
                <a:lnTo>
                  <a:pt x="1278" y="1704"/>
                </a:lnTo>
                <a:lnTo>
                  <a:pt x="1284" y="1704"/>
                </a:lnTo>
                <a:lnTo>
                  <a:pt x="1288" y="1704"/>
                </a:lnTo>
                <a:lnTo>
                  <a:pt x="1290" y="1706"/>
                </a:lnTo>
                <a:lnTo>
                  <a:pt x="1292" y="1708"/>
                </a:lnTo>
                <a:lnTo>
                  <a:pt x="1296" y="1714"/>
                </a:lnTo>
                <a:lnTo>
                  <a:pt x="1298" y="1716"/>
                </a:lnTo>
                <a:lnTo>
                  <a:pt x="1300" y="1718"/>
                </a:lnTo>
                <a:lnTo>
                  <a:pt x="1302" y="1714"/>
                </a:lnTo>
                <a:lnTo>
                  <a:pt x="1302" y="1710"/>
                </a:lnTo>
                <a:lnTo>
                  <a:pt x="1298" y="1704"/>
                </a:lnTo>
                <a:lnTo>
                  <a:pt x="1294" y="1700"/>
                </a:lnTo>
                <a:lnTo>
                  <a:pt x="1294" y="1696"/>
                </a:lnTo>
                <a:lnTo>
                  <a:pt x="1298" y="1694"/>
                </a:lnTo>
                <a:lnTo>
                  <a:pt x="1292" y="1694"/>
                </a:lnTo>
                <a:lnTo>
                  <a:pt x="1288" y="1692"/>
                </a:lnTo>
                <a:lnTo>
                  <a:pt x="1280" y="1686"/>
                </a:lnTo>
                <a:lnTo>
                  <a:pt x="1274" y="1678"/>
                </a:lnTo>
                <a:lnTo>
                  <a:pt x="1270" y="1670"/>
                </a:lnTo>
                <a:lnTo>
                  <a:pt x="1276" y="1668"/>
                </a:lnTo>
                <a:lnTo>
                  <a:pt x="1270" y="1668"/>
                </a:lnTo>
                <a:lnTo>
                  <a:pt x="1266" y="1668"/>
                </a:lnTo>
                <a:lnTo>
                  <a:pt x="1262" y="1666"/>
                </a:lnTo>
                <a:lnTo>
                  <a:pt x="1260" y="1662"/>
                </a:lnTo>
                <a:lnTo>
                  <a:pt x="1262" y="1656"/>
                </a:lnTo>
                <a:lnTo>
                  <a:pt x="1274" y="1654"/>
                </a:lnTo>
                <a:lnTo>
                  <a:pt x="1278" y="1652"/>
                </a:lnTo>
                <a:lnTo>
                  <a:pt x="1282" y="1648"/>
                </a:lnTo>
                <a:lnTo>
                  <a:pt x="1284" y="1652"/>
                </a:lnTo>
                <a:lnTo>
                  <a:pt x="1284" y="1656"/>
                </a:lnTo>
                <a:lnTo>
                  <a:pt x="1284" y="1660"/>
                </a:lnTo>
                <a:lnTo>
                  <a:pt x="1288" y="1664"/>
                </a:lnTo>
                <a:lnTo>
                  <a:pt x="1294" y="1656"/>
                </a:lnTo>
                <a:lnTo>
                  <a:pt x="1302" y="1648"/>
                </a:lnTo>
                <a:lnTo>
                  <a:pt x="1310" y="1644"/>
                </a:lnTo>
                <a:lnTo>
                  <a:pt x="1314" y="1638"/>
                </a:lnTo>
                <a:lnTo>
                  <a:pt x="1316" y="1640"/>
                </a:lnTo>
                <a:lnTo>
                  <a:pt x="1318" y="1640"/>
                </a:lnTo>
                <a:lnTo>
                  <a:pt x="1324" y="1638"/>
                </a:lnTo>
                <a:lnTo>
                  <a:pt x="1330" y="1634"/>
                </a:lnTo>
                <a:lnTo>
                  <a:pt x="1334" y="1626"/>
                </a:lnTo>
                <a:lnTo>
                  <a:pt x="1332" y="1626"/>
                </a:lnTo>
                <a:lnTo>
                  <a:pt x="1326" y="1628"/>
                </a:lnTo>
                <a:lnTo>
                  <a:pt x="1322" y="1630"/>
                </a:lnTo>
                <a:lnTo>
                  <a:pt x="1318" y="1630"/>
                </a:lnTo>
                <a:lnTo>
                  <a:pt x="1316" y="1626"/>
                </a:lnTo>
                <a:lnTo>
                  <a:pt x="1324" y="1620"/>
                </a:lnTo>
                <a:lnTo>
                  <a:pt x="1332" y="1614"/>
                </a:lnTo>
                <a:lnTo>
                  <a:pt x="1332" y="1616"/>
                </a:lnTo>
                <a:lnTo>
                  <a:pt x="1334" y="1618"/>
                </a:lnTo>
                <a:lnTo>
                  <a:pt x="1334" y="1624"/>
                </a:lnTo>
                <a:lnTo>
                  <a:pt x="1340" y="1624"/>
                </a:lnTo>
                <a:lnTo>
                  <a:pt x="1344" y="1622"/>
                </a:lnTo>
                <a:lnTo>
                  <a:pt x="1348" y="1620"/>
                </a:lnTo>
                <a:lnTo>
                  <a:pt x="1350" y="1616"/>
                </a:lnTo>
                <a:lnTo>
                  <a:pt x="1344" y="1616"/>
                </a:lnTo>
                <a:lnTo>
                  <a:pt x="1340" y="1616"/>
                </a:lnTo>
                <a:lnTo>
                  <a:pt x="1338" y="1616"/>
                </a:lnTo>
                <a:lnTo>
                  <a:pt x="1334" y="1614"/>
                </a:lnTo>
                <a:lnTo>
                  <a:pt x="1338" y="1610"/>
                </a:lnTo>
                <a:lnTo>
                  <a:pt x="1342" y="1606"/>
                </a:lnTo>
                <a:lnTo>
                  <a:pt x="1346" y="1604"/>
                </a:lnTo>
                <a:lnTo>
                  <a:pt x="1352" y="1604"/>
                </a:lnTo>
                <a:lnTo>
                  <a:pt x="1354" y="1606"/>
                </a:lnTo>
                <a:lnTo>
                  <a:pt x="1354" y="1610"/>
                </a:lnTo>
                <a:lnTo>
                  <a:pt x="1350" y="1614"/>
                </a:lnTo>
                <a:lnTo>
                  <a:pt x="1366" y="1614"/>
                </a:lnTo>
                <a:lnTo>
                  <a:pt x="1364" y="1618"/>
                </a:lnTo>
                <a:lnTo>
                  <a:pt x="1360" y="1620"/>
                </a:lnTo>
                <a:lnTo>
                  <a:pt x="1358" y="1622"/>
                </a:lnTo>
                <a:lnTo>
                  <a:pt x="1358" y="1626"/>
                </a:lnTo>
                <a:lnTo>
                  <a:pt x="1362" y="1626"/>
                </a:lnTo>
                <a:lnTo>
                  <a:pt x="1364" y="1628"/>
                </a:lnTo>
                <a:lnTo>
                  <a:pt x="1366" y="1632"/>
                </a:lnTo>
                <a:lnTo>
                  <a:pt x="1370" y="1632"/>
                </a:lnTo>
                <a:lnTo>
                  <a:pt x="1386" y="1616"/>
                </a:lnTo>
                <a:lnTo>
                  <a:pt x="1408" y="1598"/>
                </a:lnTo>
                <a:lnTo>
                  <a:pt x="1418" y="1590"/>
                </a:lnTo>
                <a:lnTo>
                  <a:pt x="1428" y="1584"/>
                </a:lnTo>
                <a:lnTo>
                  <a:pt x="1438" y="1582"/>
                </a:lnTo>
                <a:lnTo>
                  <a:pt x="1440" y="1582"/>
                </a:lnTo>
                <a:lnTo>
                  <a:pt x="1444" y="1586"/>
                </a:lnTo>
                <a:lnTo>
                  <a:pt x="1444" y="1582"/>
                </a:lnTo>
                <a:lnTo>
                  <a:pt x="1440" y="1580"/>
                </a:lnTo>
                <a:lnTo>
                  <a:pt x="1438" y="1578"/>
                </a:lnTo>
                <a:lnTo>
                  <a:pt x="1438" y="1572"/>
                </a:lnTo>
                <a:lnTo>
                  <a:pt x="1450" y="1574"/>
                </a:lnTo>
                <a:lnTo>
                  <a:pt x="1464" y="1578"/>
                </a:lnTo>
                <a:lnTo>
                  <a:pt x="1464" y="1572"/>
                </a:lnTo>
                <a:lnTo>
                  <a:pt x="1464" y="1566"/>
                </a:lnTo>
                <a:lnTo>
                  <a:pt x="1462" y="1562"/>
                </a:lnTo>
                <a:lnTo>
                  <a:pt x="1462" y="1556"/>
                </a:lnTo>
                <a:lnTo>
                  <a:pt x="1468" y="1554"/>
                </a:lnTo>
                <a:lnTo>
                  <a:pt x="1474" y="1550"/>
                </a:lnTo>
                <a:lnTo>
                  <a:pt x="1482" y="1538"/>
                </a:lnTo>
                <a:lnTo>
                  <a:pt x="1488" y="1528"/>
                </a:lnTo>
                <a:lnTo>
                  <a:pt x="1494" y="1522"/>
                </a:lnTo>
                <a:lnTo>
                  <a:pt x="1500" y="1520"/>
                </a:lnTo>
                <a:lnTo>
                  <a:pt x="1502" y="1524"/>
                </a:lnTo>
                <a:lnTo>
                  <a:pt x="1502" y="1530"/>
                </a:lnTo>
                <a:lnTo>
                  <a:pt x="1500" y="1540"/>
                </a:lnTo>
                <a:lnTo>
                  <a:pt x="1500" y="1548"/>
                </a:lnTo>
                <a:lnTo>
                  <a:pt x="1500" y="1552"/>
                </a:lnTo>
                <a:lnTo>
                  <a:pt x="1504" y="1556"/>
                </a:lnTo>
                <a:lnTo>
                  <a:pt x="1504" y="1544"/>
                </a:lnTo>
                <a:lnTo>
                  <a:pt x="1506" y="1532"/>
                </a:lnTo>
                <a:lnTo>
                  <a:pt x="1512" y="1522"/>
                </a:lnTo>
                <a:lnTo>
                  <a:pt x="1518" y="1512"/>
                </a:lnTo>
                <a:lnTo>
                  <a:pt x="1520" y="1516"/>
                </a:lnTo>
                <a:lnTo>
                  <a:pt x="1520" y="1520"/>
                </a:lnTo>
                <a:lnTo>
                  <a:pt x="1520" y="1524"/>
                </a:lnTo>
                <a:lnTo>
                  <a:pt x="1524" y="1526"/>
                </a:lnTo>
                <a:lnTo>
                  <a:pt x="1536" y="1518"/>
                </a:lnTo>
                <a:lnTo>
                  <a:pt x="1546" y="1508"/>
                </a:lnTo>
                <a:lnTo>
                  <a:pt x="1556" y="1496"/>
                </a:lnTo>
                <a:lnTo>
                  <a:pt x="1566" y="1482"/>
                </a:lnTo>
                <a:lnTo>
                  <a:pt x="1584" y="1456"/>
                </a:lnTo>
                <a:lnTo>
                  <a:pt x="1602" y="1430"/>
                </a:lnTo>
                <a:lnTo>
                  <a:pt x="1608" y="1426"/>
                </a:lnTo>
                <a:lnTo>
                  <a:pt x="1614" y="1426"/>
                </a:lnTo>
                <a:lnTo>
                  <a:pt x="1616" y="1434"/>
                </a:lnTo>
                <a:lnTo>
                  <a:pt x="1618" y="1438"/>
                </a:lnTo>
                <a:lnTo>
                  <a:pt x="1620" y="1440"/>
                </a:lnTo>
                <a:lnTo>
                  <a:pt x="1624" y="1436"/>
                </a:lnTo>
                <a:lnTo>
                  <a:pt x="1630" y="1432"/>
                </a:lnTo>
                <a:lnTo>
                  <a:pt x="1632" y="1428"/>
                </a:lnTo>
                <a:lnTo>
                  <a:pt x="1632" y="1426"/>
                </a:lnTo>
                <a:lnTo>
                  <a:pt x="1628" y="1424"/>
                </a:lnTo>
                <a:lnTo>
                  <a:pt x="1626" y="1426"/>
                </a:lnTo>
                <a:lnTo>
                  <a:pt x="1626" y="1430"/>
                </a:lnTo>
                <a:lnTo>
                  <a:pt x="1628" y="1432"/>
                </a:lnTo>
                <a:lnTo>
                  <a:pt x="1622" y="1432"/>
                </a:lnTo>
                <a:lnTo>
                  <a:pt x="1624" y="1424"/>
                </a:lnTo>
                <a:lnTo>
                  <a:pt x="1626" y="1422"/>
                </a:lnTo>
                <a:lnTo>
                  <a:pt x="1628" y="1418"/>
                </a:lnTo>
                <a:lnTo>
                  <a:pt x="1632" y="1420"/>
                </a:lnTo>
                <a:lnTo>
                  <a:pt x="1634" y="1422"/>
                </a:lnTo>
                <a:lnTo>
                  <a:pt x="1638" y="1422"/>
                </a:lnTo>
                <a:lnTo>
                  <a:pt x="1642" y="1406"/>
                </a:lnTo>
                <a:lnTo>
                  <a:pt x="1646" y="1384"/>
                </a:lnTo>
                <a:lnTo>
                  <a:pt x="1652" y="1362"/>
                </a:lnTo>
                <a:lnTo>
                  <a:pt x="1654" y="1352"/>
                </a:lnTo>
                <a:lnTo>
                  <a:pt x="1660" y="1344"/>
                </a:lnTo>
                <a:lnTo>
                  <a:pt x="1664" y="1340"/>
                </a:lnTo>
                <a:lnTo>
                  <a:pt x="1668" y="1338"/>
                </a:lnTo>
                <a:lnTo>
                  <a:pt x="1670" y="1338"/>
                </a:lnTo>
                <a:lnTo>
                  <a:pt x="1670" y="1336"/>
                </a:lnTo>
                <a:lnTo>
                  <a:pt x="1666" y="1330"/>
                </a:lnTo>
                <a:lnTo>
                  <a:pt x="1672" y="1332"/>
                </a:lnTo>
                <a:lnTo>
                  <a:pt x="1674" y="1334"/>
                </a:lnTo>
                <a:lnTo>
                  <a:pt x="1674" y="1330"/>
                </a:lnTo>
                <a:lnTo>
                  <a:pt x="1674" y="1328"/>
                </a:lnTo>
                <a:lnTo>
                  <a:pt x="1670" y="1326"/>
                </a:lnTo>
                <a:lnTo>
                  <a:pt x="1674" y="1320"/>
                </a:lnTo>
                <a:lnTo>
                  <a:pt x="1676" y="1314"/>
                </a:lnTo>
                <a:lnTo>
                  <a:pt x="1680" y="1302"/>
                </a:lnTo>
                <a:lnTo>
                  <a:pt x="1684" y="1290"/>
                </a:lnTo>
                <a:lnTo>
                  <a:pt x="1688" y="1286"/>
                </a:lnTo>
                <a:lnTo>
                  <a:pt x="1692" y="1282"/>
                </a:lnTo>
                <a:lnTo>
                  <a:pt x="1690" y="1280"/>
                </a:lnTo>
                <a:lnTo>
                  <a:pt x="1688" y="1276"/>
                </a:lnTo>
                <a:lnTo>
                  <a:pt x="1698" y="1250"/>
                </a:lnTo>
                <a:lnTo>
                  <a:pt x="1704" y="1222"/>
                </a:lnTo>
                <a:lnTo>
                  <a:pt x="1710" y="1194"/>
                </a:lnTo>
                <a:lnTo>
                  <a:pt x="1714" y="1164"/>
                </a:lnTo>
                <a:lnTo>
                  <a:pt x="1718" y="1098"/>
                </a:lnTo>
                <a:lnTo>
                  <a:pt x="1722" y="1030"/>
                </a:lnTo>
                <a:lnTo>
                  <a:pt x="1724" y="1034"/>
                </a:lnTo>
                <a:lnTo>
                  <a:pt x="1726" y="1036"/>
                </a:lnTo>
                <a:lnTo>
                  <a:pt x="1734" y="1040"/>
                </a:lnTo>
                <a:lnTo>
                  <a:pt x="1736" y="1036"/>
                </a:lnTo>
                <a:lnTo>
                  <a:pt x="1736" y="1034"/>
                </a:lnTo>
                <a:lnTo>
                  <a:pt x="1734" y="1030"/>
                </a:lnTo>
                <a:lnTo>
                  <a:pt x="1738" y="1026"/>
                </a:lnTo>
                <a:close/>
                <a:moveTo>
                  <a:pt x="160" y="756"/>
                </a:moveTo>
                <a:lnTo>
                  <a:pt x="160" y="756"/>
                </a:lnTo>
                <a:lnTo>
                  <a:pt x="160" y="744"/>
                </a:lnTo>
                <a:lnTo>
                  <a:pt x="162" y="734"/>
                </a:lnTo>
                <a:lnTo>
                  <a:pt x="168" y="732"/>
                </a:lnTo>
                <a:lnTo>
                  <a:pt x="172" y="736"/>
                </a:lnTo>
                <a:lnTo>
                  <a:pt x="174" y="738"/>
                </a:lnTo>
                <a:lnTo>
                  <a:pt x="178" y="738"/>
                </a:lnTo>
                <a:lnTo>
                  <a:pt x="178" y="746"/>
                </a:lnTo>
                <a:lnTo>
                  <a:pt x="174" y="752"/>
                </a:lnTo>
                <a:lnTo>
                  <a:pt x="170" y="756"/>
                </a:lnTo>
                <a:lnTo>
                  <a:pt x="160" y="756"/>
                </a:lnTo>
                <a:close/>
                <a:moveTo>
                  <a:pt x="126" y="998"/>
                </a:moveTo>
                <a:lnTo>
                  <a:pt x="126" y="998"/>
                </a:lnTo>
                <a:lnTo>
                  <a:pt x="128" y="996"/>
                </a:lnTo>
                <a:lnTo>
                  <a:pt x="128" y="994"/>
                </a:lnTo>
                <a:lnTo>
                  <a:pt x="122" y="994"/>
                </a:lnTo>
                <a:lnTo>
                  <a:pt x="114" y="994"/>
                </a:lnTo>
                <a:lnTo>
                  <a:pt x="112" y="992"/>
                </a:lnTo>
                <a:lnTo>
                  <a:pt x="112" y="988"/>
                </a:lnTo>
                <a:lnTo>
                  <a:pt x="126" y="990"/>
                </a:lnTo>
                <a:lnTo>
                  <a:pt x="142" y="988"/>
                </a:lnTo>
                <a:lnTo>
                  <a:pt x="140" y="992"/>
                </a:lnTo>
                <a:lnTo>
                  <a:pt x="138" y="996"/>
                </a:lnTo>
                <a:lnTo>
                  <a:pt x="134" y="998"/>
                </a:lnTo>
                <a:lnTo>
                  <a:pt x="126" y="998"/>
                </a:lnTo>
                <a:close/>
                <a:moveTo>
                  <a:pt x="214" y="878"/>
                </a:moveTo>
                <a:lnTo>
                  <a:pt x="214" y="878"/>
                </a:lnTo>
                <a:lnTo>
                  <a:pt x="204" y="878"/>
                </a:lnTo>
                <a:lnTo>
                  <a:pt x="200" y="878"/>
                </a:lnTo>
                <a:lnTo>
                  <a:pt x="196" y="876"/>
                </a:lnTo>
                <a:lnTo>
                  <a:pt x="198" y="864"/>
                </a:lnTo>
                <a:lnTo>
                  <a:pt x="202" y="854"/>
                </a:lnTo>
                <a:lnTo>
                  <a:pt x="206" y="850"/>
                </a:lnTo>
                <a:lnTo>
                  <a:pt x="208" y="848"/>
                </a:lnTo>
                <a:lnTo>
                  <a:pt x="212" y="846"/>
                </a:lnTo>
                <a:lnTo>
                  <a:pt x="218" y="848"/>
                </a:lnTo>
                <a:lnTo>
                  <a:pt x="218" y="840"/>
                </a:lnTo>
                <a:lnTo>
                  <a:pt x="220" y="834"/>
                </a:lnTo>
                <a:lnTo>
                  <a:pt x="230" y="824"/>
                </a:lnTo>
                <a:lnTo>
                  <a:pt x="234" y="820"/>
                </a:lnTo>
                <a:lnTo>
                  <a:pt x="240" y="814"/>
                </a:lnTo>
                <a:lnTo>
                  <a:pt x="242" y="806"/>
                </a:lnTo>
                <a:lnTo>
                  <a:pt x="244" y="798"/>
                </a:lnTo>
                <a:lnTo>
                  <a:pt x="234" y="788"/>
                </a:lnTo>
                <a:lnTo>
                  <a:pt x="226" y="774"/>
                </a:lnTo>
                <a:lnTo>
                  <a:pt x="222" y="760"/>
                </a:lnTo>
                <a:lnTo>
                  <a:pt x="222" y="752"/>
                </a:lnTo>
                <a:lnTo>
                  <a:pt x="222" y="744"/>
                </a:lnTo>
                <a:lnTo>
                  <a:pt x="226" y="742"/>
                </a:lnTo>
                <a:lnTo>
                  <a:pt x="232" y="740"/>
                </a:lnTo>
                <a:lnTo>
                  <a:pt x="244" y="740"/>
                </a:lnTo>
                <a:lnTo>
                  <a:pt x="244" y="746"/>
                </a:lnTo>
                <a:lnTo>
                  <a:pt x="244" y="752"/>
                </a:lnTo>
                <a:lnTo>
                  <a:pt x="242" y="756"/>
                </a:lnTo>
                <a:lnTo>
                  <a:pt x="240" y="762"/>
                </a:lnTo>
                <a:lnTo>
                  <a:pt x="242" y="762"/>
                </a:lnTo>
                <a:lnTo>
                  <a:pt x="244" y="762"/>
                </a:lnTo>
                <a:lnTo>
                  <a:pt x="252" y="756"/>
                </a:lnTo>
                <a:lnTo>
                  <a:pt x="254" y="764"/>
                </a:lnTo>
                <a:lnTo>
                  <a:pt x="256" y="772"/>
                </a:lnTo>
                <a:lnTo>
                  <a:pt x="254" y="788"/>
                </a:lnTo>
                <a:lnTo>
                  <a:pt x="254" y="796"/>
                </a:lnTo>
                <a:lnTo>
                  <a:pt x="254" y="804"/>
                </a:lnTo>
                <a:lnTo>
                  <a:pt x="254" y="812"/>
                </a:lnTo>
                <a:lnTo>
                  <a:pt x="260" y="818"/>
                </a:lnTo>
                <a:lnTo>
                  <a:pt x="250" y="822"/>
                </a:lnTo>
                <a:lnTo>
                  <a:pt x="242" y="828"/>
                </a:lnTo>
                <a:lnTo>
                  <a:pt x="236" y="836"/>
                </a:lnTo>
                <a:lnTo>
                  <a:pt x="232" y="844"/>
                </a:lnTo>
                <a:lnTo>
                  <a:pt x="224" y="862"/>
                </a:lnTo>
                <a:lnTo>
                  <a:pt x="220" y="870"/>
                </a:lnTo>
                <a:lnTo>
                  <a:pt x="214" y="878"/>
                </a:lnTo>
                <a:close/>
                <a:moveTo>
                  <a:pt x="318" y="754"/>
                </a:moveTo>
                <a:lnTo>
                  <a:pt x="318" y="754"/>
                </a:lnTo>
                <a:lnTo>
                  <a:pt x="306" y="770"/>
                </a:lnTo>
                <a:lnTo>
                  <a:pt x="300" y="774"/>
                </a:lnTo>
                <a:lnTo>
                  <a:pt x="298" y="776"/>
                </a:lnTo>
                <a:lnTo>
                  <a:pt x="296" y="774"/>
                </a:lnTo>
                <a:lnTo>
                  <a:pt x="304" y="754"/>
                </a:lnTo>
                <a:lnTo>
                  <a:pt x="310" y="744"/>
                </a:lnTo>
                <a:lnTo>
                  <a:pt x="316" y="736"/>
                </a:lnTo>
                <a:lnTo>
                  <a:pt x="326" y="734"/>
                </a:lnTo>
                <a:lnTo>
                  <a:pt x="338" y="734"/>
                </a:lnTo>
                <a:lnTo>
                  <a:pt x="338" y="738"/>
                </a:lnTo>
                <a:lnTo>
                  <a:pt x="338" y="742"/>
                </a:lnTo>
                <a:lnTo>
                  <a:pt x="336" y="744"/>
                </a:lnTo>
                <a:lnTo>
                  <a:pt x="332" y="746"/>
                </a:lnTo>
                <a:lnTo>
                  <a:pt x="326" y="750"/>
                </a:lnTo>
                <a:lnTo>
                  <a:pt x="318" y="754"/>
                </a:lnTo>
                <a:close/>
                <a:moveTo>
                  <a:pt x="340" y="1276"/>
                </a:moveTo>
                <a:lnTo>
                  <a:pt x="340" y="1276"/>
                </a:lnTo>
                <a:lnTo>
                  <a:pt x="342" y="1272"/>
                </a:lnTo>
                <a:lnTo>
                  <a:pt x="342" y="1268"/>
                </a:lnTo>
                <a:lnTo>
                  <a:pt x="346" y="1268"/>
                </a:lnTo>
                <a:lnTo>
                  <a:pt x="350" y="1268"/>
                </a:lnTo>
                <a:lnTo>
                  <a:pt x="352" y="1266"/>
                </a:lnTo>
                <a:lnTo>
                  <a:pt x="356" y="1266"/>
                </a:lnTo>
                <a:lnTo>
                  <a:pt x="354" y="1270"/>
                </a:lnTo>
                <a:lnTo>
                  <a:pt x="350" y="1274"/>
                </a:lnTo>
                <a:lnTo>
                  <a:pt x="346" y="1276"/>
                </a:lnTo>
                <a:lnTo>
                  <a:pt x="340" y="1276"/>
                </a:lnTo>
                <a:close/>
                <a:moveTo>
                  <a:pt x="402" y="1502"/>
                </a:moveTo>
                <a:lnTo>
                  <a:pt x="402" y="1502"/>
                </a:lnTo>
                <a:lnTo>
                  <a:pt x="398" y="1500"/>
                </a:lnTo>
                <a:lnTo>
                  <a:pt x="396" y="1496"/>
                </a:lnTo>
                <a:lnTo>
                  <a:pt x="394" y="1490"/>
                </a:lnTo>
                <a:lnTo>
                  <a:pt x="392" y="1486"/>
                </a:lnTo>
                <a:lnTo>
                  <a:pt x="392" y="1484"/>
                </a:lnTo>
                <a:lnTo>
                  <a:pt x="394" y="1484"/>
                </a:lnTo>
                <a:lnTo>
                  <a:pt x="396" y="1484"/>
                </a:lnTo>
                <a:lnTo>
                  <a:pt x="398" y="1486"/>
                </a:lnTo>
                <a:lnTo>
                  <a:pt x="400" y="1486"/>
                </a:lnTo>
                <a:lnTo>
                  <a:pt x="400" y="1484"/>
                </a:lnTo>
                <a:lnTo>
                  <a:pt x="402" y="1488"/>
                </a:lnTo>
                <a:lnTo>
                  <a:pt x="402" y="1494"/>
                </a:lnTo>
                <a:lnTo>
                  <a:pt x="404" y="1498"/>
                </a:lnTo>
                <a:lnTo>
                  <a:pt x="402" y="1502"/>
                </a:lnTo>
                <a:close/>
                <a:moveTo>
                  <a:pt x="530" y="1536"/>
                </a:moveTo>
                <a:lnTo>
                  <a:pt x="530" y="1536"/>
                </a:lnTo>
                <a:lnTo>
                  <a:pt x="524" y="1534"/>
                </a:lnTo>
                <a:lnTo>
                  <a:pt x="520" y="1530"/>
                </a:lnTo>
                <a:lnTo>
                  <a:pt x="518" y="1526"/>
                </a:lnTo>
                <a:lnTo>
                  <a:pt x="518" y="1522"/>
                </a:lnTo>
                <a:lnTo>
                  <a:pt x="518" y="1514"/>
                </a:lnTo>
                <a:lnTo>
                  <a:pt x="516" y="1510"/>
                </a:lnTo>
                <a:lnTo>
                  <a:pt x="518" y="1508"/>
                </a:lnTo>
                <a:lnTo>
                  <a:pt x="520" y="1508"/>
                </a:lnTo>
                <a:lnTo>
                  <a:pt x="526" y="1514"/>
                </a:lnTo>
                <a:lnTo>
                  <a:pt x="528" y="1524"/>
                </a:lnTo>
                <a:lnTo>
                  <a:pt x="530" y="1536"/>
                </a:lnTo>
                <a:close/>
                <a:moveTo>
                  <a:pt x="566" y="528"/>
                </a:moveTo>
                <a:lnTo>
                  <a:pt x="566" y="528"/>
                </a:lnTo>
                <a:lnTo>
                  <a:pt x="546" y="534"/>
                </a:lnTo>
                <a:lnTo>
                  <a:pt x="526" y="538"/>
                </a:lnTo>
                <a:lnTo>
                  <a:pt x="508" y="544"/>
                </a:lnTo>
                <a:lnTo>
                  <a:pt x="500" y="548"/>
                </a:lnTo>
                <a:lnTo>
                  <a:pt x="492" y="554"/>
                </a:lnTo>
                <a:lnTo>
                  <a:pt x="502" y="566"/>
                </a:lnTo>
                <a:lnTo>
                  <a:pt x="506" y="572"/>
                </a:lnTo>
                <a:lnTo>
                  <a:pt x="506" y="576"/>
                </a:lnTo>
                <a:lnTo>
                  <a:pt x="504" y="580"/>
                </a:lnTo>
                <a:lnTo>
                  <a:pt x="516" y="580"/>
                </a:lnTo>
                <a:lnTo>
                  <a:pt x="514" y="586"/>
                </a:lnTo>
                <a:lnTo>
                  <a:pt x="516" y="590"/>
                </a:lnTo>
                <a:lnTo>
                  <a:pt x="518" y="596"/>
                </a:lnTo>
                <a:lnTo>
                  <a:pt x="516" y="600"/>
                </a:lnTo>
                <a:lnTo>
                  <a:pt x="502" y="602"/>
                </a:lnTo>
                <a:lnTo>
                  <a:pt x="488" y="604"/>
                </a:lnTo>
                <a:lnTo>
                  <a:pt x="464" y="614"/>
                </a:lnTo>
                <a:lnTo>
                  <a:pt x="420" y="634"/>
                </a:lnTo>
                <a:lnTo>
                  <a:pt x="414" y="634"/>
                </a:lnTo>
                <a:lnTo>
                  <a:pt x="412" y="630"/>
                </a:lnTo>
                <a:lnTo>
                  <a:pt x="408" y="626"/>
                </a:lnTo>
                <a:lnTo>
                  <a:pt x="402" y="626"/>
                </a:lnTo>
                <a:lnTo>
                  <a:pt x="408" y="622"/>
                </a:lnTo>
                <a:lnTo>
                  <a:pt x="412" y="616"/>
                </a:lnTo>
                <a:lnTo>
                  <a:pt x="420" y="600"/>
                </a:lnTo>
                <a:lnTo>
                  <a:pt x="424" y="584"/>
                </a:lnTo>
                <a:lnTo>
                  <a:pt x="428" y="564"/>
                </a:lnTo>
                <a:lnTo>
                  <a:pt x="424" y="554"/>
                </a:lnTo>
                <a:lnTo>
                  <a:pt x="424" y="544"/>
                </a:lnTo>
                <a:lnTo>
                  <a:pt x="428" y="536"/>
                </a:lnTo>
                <a:lnTo>
                  <a:pt x="436" y="528"/>
                </a:lnTo>
                <a:lnTo>
                  <a:pt x="444" y="520"/>
                </a:lnTo>
                <a:lnTo>
                  <a:pt x="452" y="514"/>
                </a:lnTo>
                <a:lnTo>
                  <a:pt x="466" y="504"/>
                </a:lnTo>
                <a:lnTo>
                  <a:pt x="468" y="502"/>
                </a:lnTo>
                <a:lnTo>
                  <a:pt x="468" y="500"/>
                </a:lnTo>
                <a:lnTo>
                  <a:pt x="468" y="496"/>
                </a:lnTo>
                <a:lnTo>
                  <a:pt x="470" y="492"/>
                </a:lnTo>
                <a:lnTo>
                  <a:pt x="472" y="492"/>
                </a:lnTo>
                <a:lnTo>
                  <a:pt x="472" y="494"/>
                </a:lnTo>
                <a:lnTo>
                  <a:pt x="472" y="500"/>
                </a:lnTo>
                <a:lnTo>
                  <a:pt x="480" y="488"/>
                </a:lnTo>
                <a:lnTo>
                  <a:pt x="488" y="478"/>
                </a:lnTo>
                <a:lnTo>
                  <a:pt x="492" y="472"/>
                </a:lnTo>
                <a:lnTo>
                  <a:pt x="498" y="470"/>
                </a:lnTo>
                <a:lnTo>
                  <a:pt x="506" y="466"/>
                </a:lnTo>
                <a:lnTo>
                  <a:pt x="514" y="466"/>
                </a:lnTo>
                <a:lnTo>
                  <a:pt x="530" y="452"/>
                </a:lnTo>
                <a:lnTo>
                  <a:pt x="538" y="448"/>
                </a:lnTo>
                <a:lnTo>
                  <a:pt x="546" y="446"/>
                </a:lnTo>
                <a:lnTo>
                  <a:pt x="554" y="444"/>
                </a:lnTo>
                <a:lnTo>
                  <a:pt x="564" y="446"/>
                </a:lnTo>
                <a:lnTo>
                  <a:pt x="586" y="450"/>
                </a:lnTo>
                <a:lnTo>
                  <a:pt x="580" y="470"/>
                </a:lnTo>
                <a:lnTo>
                  <a:pt x="576" y="490"/>
                </a:lnTo>
                <a:lnTo>
                  <a:pt x="572" y="510"/>
                </a:lnTo>
                <a:lnTo>
                  <a:pt x="566" y="528"/>
                </a:lnTo>
                <a:close/>
                <a:moveTo>
                  <a:pt x="930" y="1736"/>
                </a:moveTo>
                <a:lnTo>
                  <a:pt x="930" y="1736"/>
                </a:lnTo>
                <a:lnTo>
                  <a:pt x="926" y="1734"/>
                </a:lnTo>
                <a:lnTo>
                  <a:pt x="924" y="1732"/>
                </a:lnTo>
                <a:lnTo>
                  <a:pt x="924" y="1726"/>
                </a:lnTo>
                <a:lnTo>
                  <a:pt x="928" y="1726"/>
                </a:lnTo>
                <a:lnTo>
                  <a:pt x="930" y="1726"/>
                </a:lnTo>
                <a:lnTo>
                  <a:pt x="934" y="1728"/>
                </a:lnTo>
                <a:lnTo>
                  <a:pt x="932" y="1732"/>
                </a:lnTo>
                <a:lnTo>
                  <a:pt x="930" y="1736"/>
                </a:lnTo>
                <a:close/>
                <a:moveTo>
                  <a:pt x="1030" y="1726"/>
                </a:moveTo>
                <a:lnTo>
                  <a:pt x="1030" y="1726"/>
                </a:lnTo>
                <a:lnTo>
                  <a:pt x="1056" y="1718"/>
                </a:lnTo>
                <a:lnTo>
                  <a:pt x="1062" y="1716"/>
                </a:lnTo>
                <a:lnTo>
                  <a:pt x="1068" y="1716"/>
                </a:lnTo>
                <a:lnTo>
                  <a:pt x="1072" y="1718"/>
                </a:lnTo>
                <a:lnTo>
                  <a:pt x="1074" y="1722"/>
                </a:lnTo>
                <a:lnTo>
                  <a:pt x="1068" y="1722"/>
                </a:lnTo>
                <a:lnTo>
                  <a:pt x="1062" y="1722"/>
                </a:lnTo>
                <a:lnTo>
                  <a:pt x="1052" y="1724"/>
                </a:lnTo>
                <a:lnTo>
                  <a:pt x="1042" y="1726"/>
                </a:lnTo>
                <a:lnTo>
                  <a:pt x="1030" y="1726"/>
                </a:lnTo>
                <a:close/>
                <a:moveTo>
                  <a:pt x="1090" y="206"/>
                </a:moveTo>
                <a:lnTo>
                  <a:pt x="1090" y="206"/>
                </a:lnTo>
                <a:lnTo>
                  <a:pt x="1086" y="206"/>
                </a:lnTo>
                <a:lnTo>
                  <a:pt x="1084" y="208"/>
                </a:lnTo>
                <a:lnTo>
                  <a:pt x="1082" y="216"/>
                </a:lnTo>
                <a:lnTo>
                  <a:pt x="1086" y="224"/>
                </a:lnTo>
                <a:lnTo>
                  <a:pt x="1088" y="226"/>
                </a:lnTo>
                <a:lnTo>
                  <a:pt x="1092" y="226"/>
                </a:lnTo>
                <a:lnTo>
                  <a:pt x="1094" y="222"/>
                </a:lnTo>
                <a:lnTo>
                  <a:pt x="1094" y="218"/>
                </a:lnTo>
                <a:lnTo>
                  <a:pt x="1090" y="208"/>
                </a:lnTo>
                <a:lnTo>
                  <a:pt x="1096" y="208"/>
                </a:lnTo>
                <a:lnTo>
                  <a:pt x="1100" y="208"/>
                </a:lnTo>
                <a:lnTo>
                  <a:pt x="1104" y="206"/>
                </a:lnTo>
                <a:lnTo>
                  <a:pt x="1106" y="208"/>
                </a:lnTo>
                <a:lnTo>
                  <a:pt x="1106" y="216"/>
                </a:lnTo>
                <a:lnTo>
                  <a:pt x="1100" y="216"/>
                </a:lnTo>
                <a:lnTo>
                  <a:pt x="1100" y="218"/>
                </a:lnTo>
                <a:lnTo>
                  <a:pt x="1098" y="218"/>
                </a:lnTo>
                <a:lnTo>
                  <a:pt x="1104" y="220"/>
                </a:lnTo>
                <a:lnTo>
                  <a:pt x="1108" y="222"/>
                </a:lnTo>
                <a:lnTo>
                  <a:pt x="1108" y="214"/>
                </a:lnTo>
                <a:lnTo>
                  <a:pt x="1110" y="210"/>
                </a:lnTo>
                <a:lnTo>
                  <a:pt x="1116" y="204"/>
                </a:lnTo>
                <a:lnTo>
                  <a:pt x="1108" y="204"/>
                </a:lnTo>
                <a:lnTo>
                  <a:pt x="1104" y="204"/>
                </a:lnTo>
                <a:lnTo>
                  <a:pt x="1104" y="200"/>
                </a:lnTo>
                <a:lnTo>
                  <a:pt x="1104" y="198"/>
                </a:lnTo>
                <a:lnTo>
                  <a:pt x="1102" y="202"/>
                </a:lnTo>
                <a:lnTo>
                  <a:pt x="1098" y="202"/>
                </a:lnTo>
                <a:lnTo>
                  <a:pt x="1090" y="202"/>
                </a:lnTo>
                <a:lnTo>
                  <a:pt x="1082" y="200"/>
                </a:lnTo>
                <a:lnTo>
                  <a:pt x="1080" y="202"/>
                </a:lnTo>
                <a:lnTo>
                  <a:pt x="1078" y="206"/>
                </a:lnTo>
                <a:lnTo>
                  <a:pt x="1082" y="206"/>
                </a:lnTo>
                <a:lnTo>
                  <a:pt x="1086" y="204"/>
                </a:lnTo>
                <a:lnTo>
                  <a:pt x="1088" y="204"/>
                </a:lnTo>
                <a:lnTo>
                  <a:pt x="1090" y="206"/>
                </a:lnTo>
                <a:close/>
                <a:moveTo>
                  <a:pt x="1254" y="252"/>
                </a:moveTo>
                <a:lnTo>
                  <a:pt x="1254" y="252"/>
                </a:lnTo>
                <a:lnTo>
                  <a:pt x="1266" y="256"/>
                </a:lnTo>
                <a:lnTo>
                  <a:pt x="1272" y="256"/>
                </a:lnTo>
                <a:lnTo>
                  <a:pt x="1274" y="254"/>
                </a:lnTo>
                <a:lnTo>
                  <a:pt x="1270" y="250"/>
                </a:lnTo>
                <a:lnTo>
                  <a:pt x="1256" y="242"/>
                </a:lnTo>
                <a:lnTo>
                  <a:pt x="1248" y="240"/>
                </a:lnTo>
                <a:lnTo>
                  <a:pt x="1238" y="236"/>
                </a:lnTo>
                <a:lnTo>
                  <a:pt x="1246" y="246"/>
                </a:lnTo>
                <a:lnTo>
                  <a:pt x="1248" y="250"/>
                </a:lnTo>
                <a:lnTo>
                  <a:pt x="1254" y="252"/>
                </a:lnTo>
                <a:close/>
                <a:moveTo>
                  <a:pt x="304" y="572"/>
                </a:moveTo>
                <a:lnTo>
                  <a:pt x="304" y="572"/>
                </a:lnTo>
                <a:lnTo>
                  <a:pt x="300" y="576"/>
                </a:lnTo>
                <a:lnTo>
                  <a:pt x="298" y="580"/>
                </a:lnTo>
                <a:lnTo>
                  <a:pt x="294" y="584"/>
                </a:lnTo>
                <a:lnTo>
                  <a:pt x="290" y="588"/>
                </a:lnTo>
                <a:lnTo>
                  <a:pt x="288" y="584"/>
                </a:lnTo>
                <a:lnTo>
                  <a:pt x="286" y="584"/>
                </a:lnTo>
                <a:lnTo>
                  <a:pt x="282" y="586"/>
                </a:lnTo>
                <a:lnTo>
                  <a:pt x="278" y="588"/>
                </a:lnTo>
                <a:lnTo>
                  <a:pt x="280" y="606"/>
                </a:lnTo>
                <a:lnTo>
                  <a:pt x="284" y="614"/>
                </a:lnTo>
                <a:lnTo>
                  <a:pt x="288" y="618"/>
                </a:lnTo>
                <a:lnTo>
                  <a:pt x="296" y="624"/>
                </a:lnTo>
                <a:lnTo>
                  <a:pt x="300" y="626"/>
                </a:lnTo>
                <a:lnTo>
                  <a:pt x="302" y="626"/>
                </a:lnTo>
                <a:lnTo>
                  <a:pt x="308" y="622"/>
                </a:lnTo>
                <a:lnTo>
                  <a:pt x="314" y="614"/>
                </a:lnTo>
                <a:lnTo>
                  <a:pt x="324" y="596"/>
                </a:lnTo>
                <a:lnTo>
                  <a:pt x="332" y="588"/>
                </a:lnTo>
                <a:lnTo>
                  <a:pt x="340" y="582"/>
                </a:lnTo>
                <a:lnTo>
                  <a:pt x="340" y="578"/>
                </a:lnTo>
                <a:lnTo>
                  <a:pt x="342" y="572"/>
                </a:lnTo>
                <a:lnTo>
                  <a:pt x="350" y="558"/>
                </a:lnTo>
                <a:lnTo>
                  <a:pt x="360" y="542"/>
                </a:lnTo>
                <a:lnTo>
                  <a:pt x="364" y="534"/>
                </a:lnTo>
                <a:lnTo>
                  <a:pt x="366" y="526"/>
                </a:lnTo>
                <a:lnTo>
                  <a:pt x="360" y="518"/>
                </a:lnTo>
                <a:lnTo>
                  <a:pt x="358" y="510"/>
                </a:lnTo>
                <a:lnTo>
                  <a:pt x="360" y="504"/>
                </a:lnTo>
                <a:lnTo>
                  <a:pt x="364" y="498"/>
                </a:lnTo>
                <a:lnTo>
                  <a:pt x="374" y="486"/>
                </a:lnTo>
                <a:lnTo>
                  <a:pt x="376" y="478"/>
                </a:lnTo>
                <a:lnTo>
                  <a:pt x="376" y="468"/>
                </a:lnTo>
                <a:lnTo>
                  <a:pt x="372" y="472"/>
                </a:lnTo>
                <a:lnTo>
                  <a:pt x="368" y="476"/>
                </a:lnTo>
                <a:lnTo>
                  <a:pt x="360" y="486"/>
                </a:lnTo>
                <a:lnTo>
                  <a:pt x="358" y="490"/>
                </a:lnTo>
                <a:lnTo>
                  <a:pt x="354" y="492"/>
                </a:lnTo>
                <a:lnTo>
                  <a:pt x="350" y="494"/>
                </a:lnTo>
                <a:lnTo>
                  <a:pt x="344" y="492"/>
                </a:lnTo>
                <a:lnTo>
                  <a:pt x="348" y="496"/>
                </a:lnTo>
                <a:lnTo>
                  <a:pt x="346" y="502"/>
                </a:lnTo>
                <a:lnTo>
                  <a:pt x="344" y="506"/>
                </a:lnTo>
                <a:lnTo>
                  <a:pt x="338" y="512"/>
                </a:lnTo>
                <a:lnTo>
                  <a:pt x="328" y="520"/>
                </a:lnTo>
                <a:lnTo>
                  <a:pt x="322" y="526"/>
                </a:lnTo>
                <a:lnTo>
                  <a:pt x="318" y="530"/>
                </a:lnTo>
                <a:lnTo>
                  <a:pt x="314" y="528"/>
                </a:lnTo>
                <a:lnTo>
                  <a:pt x="308" y="528"/>
                </a:lnTo>
                <a:lnTo>
                  <a:pt x="298" y="526"/>
                </a:lnTo>
                <a:lnTo>
                  <a:pt x="288" y="536"/>
                </a:lnTo>
                <a:lnTo>
                  <a:pt x="282" y="540"/>
                </a:lnTo>
                <a:lnTo>
                  <a:pt x="274" y="540"/>
                </a:lnTo>
                <a:lnTo>
                  <a:pt x="274" y="550"/>
                </a:lnTo>
                <a:lnTo>
                  <a:pt x="272" y="556"/>
                </a:lnTo>
                <a:lnTo>
                  <a:pt x="266" y="562"/>
                </a:lnTo>
                <a:lnTo>
                  <a:pt x="264" y="570"/>
                </a:lnTo>
                <a:lnTo>
                  <a:pt x="278" y="570"/>
                </a:lnTo>
                <a:lnTo>
                  <a:pt x="288" y="572"/>
                </a:lnTo>
                <a:lnTo>
                  <a:pt x="296" y="572"/>
                </a:lnTo>
                <a:lnTo>
                  <a:pt x="304" y="572"/>
                </a:lnTo>
                <a:close/>
                <a:moveTo>
                  <a:pt x="160" y="618"/>
                </a:moveTo>
                <a:lnTo>
                  <a:pt x="160" y="618"/>
                </a:lnTo>
                <a:lnTo>
                  <a:pt x="152" y="634"/>
                </a:lnTo>
                <a:lnTo>
                  <a:pt x="142" y="650"/>
                </a:lnTo>
                <a:lnTo>
                  <a:pt x="134" y="666"/>
                </a:lnTo>
                <a:lnTo>
                  <a:pt x="130" y="674"/>
                </a:lnTo>
                <a:lnTo>
                  <a:pt x="130" y="682"/>
                </a:lnTo>
                <a:lnTo>
                  <a:pt x="132" y="674"/>
                </a:lnTo>
                <a:lnTo>
                  <a:pt x="138" y="666"/>
                </a:lnTo>
                <a:lnTo>
                  <a:pt x="148" y="650"/>
                </a:lnTo>
                <a:lnTo>
                  <a:pt x="154" y="644"/>
                </a:lnTo>
                <a:lnTo>
                  <a:pt x="158" y="636"/>
                </a:lnTo>
                <a:lnTo>
                  <a:pt x="160" y="628"/>
                </a:lnTo>
                <a:lnTo>
                  <a:pt x="160" y="618"/>
                </a:lnTo>
                <a:close/>
                <a:moveTo>
                  <a:pt x="1734" y="1078"/>
                </a:moveTo>
                <a:lnTo>
                  <a:pt x="1734" y="1078"/>
                </a:lnTo>
                <a:lnTo>
                  <a:pt x="1736" y="1076"/>
                </a:lnTo>
                <a:lnTo>
                  <a:pt x="1740" y="1076"/>
                </a:lnTo>
                <a:lnTo>
                  <a:pt x="1738" y="1064"/>
                </a:lnTo>
                <a:lnTo>
                  <a:pt x="1736" y="1056"/>
                </a:lnTo>
                <a:lnTo>
                  <a:pt x="1734" y="1050"/>
                </a:lnTo>
                <a:lnTo>
                  <a:pt x="1732" y="1048"/>
                </a:lnTo>
                <a:lnTo>
                  <a:pt x="1730" y="1048"/>
                </a:lnTo>
                <a:lnTo>
                  <a:pt x="1732" y="1048"/>
                </a:lnTo>
                <a:lnTo>
                  <a:pt x="1732" y="1050"/>
                </a:lnTo>
                <a:lnTo>
                  <a:pt x="1730" y="1054"/>
                </a:lnTo>
                <a:lnTo>
                  <a:pt x="1728" y="1056"/>
                </a:lnTo>
                <a:lnTo>
                  <a:pt x="1728" y="1058"/>
                </a:lnTo>
                <a:lnTo>
                  <a:pt x="1730" y="1058"/>
                </a:lnTo>
                <a:lnTo>
                  <a:pt x="1732" y="1058"/>
                </a:lnTo>
                <a:lnTo>
                  <a:pt x="1734" y="1066"/>
                </a:lnTo>
                <a:lnTo>
                  <a:pt x="1732" y="1074"/>
                </a:lnTo>
                <a:lnTo>
                  <a:pt x="1734" y="1076"/>
                </a:lnTo>
                <a:lnTo>
                  <a:pt x="1734" y="1078"/>
                </a:lnTo>
                <a:close/>
                <a:moveTo>
                  <a:pt x="1674" y="1348"/>
                </a:moveTo>
                <a:lnTo>
                  <a:pt x="1674" y="1348"/>
                </a:lnTo>
                <a:lnTo>
                  <a:pt x="1672" y="1350"/>
                </a:lnTo>
                <a:lnTo>
                  <a:pt x="1670" y="1350"/>
                </a:lnTo>
                <a:lnTo>
                  <a:pt x="1670" y="1352"/>
                </a:lnTo>
                <a:lnTo>
                  <a:pt x="1670" y="1356"/>
                </a:lnTo>
                <a:lnTo>
                  <a:pt x="1668" y="1364"/>
                </a:lnTo>
                <a:lnTo>
                  <a:pt x="1668" y="1366"/>
                </a:lnTo>
                <a:lnTo>
                  <a:pt x="1668" y="1368"/>
                </a:lnTo>
                <a:lnTo>
                  <a:pt x="1670" y="1370"/>
                </a:lnTo>
                <a:lnTo>
                  <a:pt x="1674" y="1366"/>
                </a:lnTo>
                <a:lnTo>
                  <a:pt x="1672" y="1366"/>
                </a:lnTo>
                <a:lnTo>
                  <a:pt x="1670" y="1364"/>
                </a:lnTo>
                <a:lnTo>
                  <a:pt x="1672" y="1360"/>
                </a:lnTo>
                <a:lnTo>
                  <a:pt x="1678" y="1352"/>
                </a:lnTo>
                <a:lnTo>
                  <a:pt x="1676" y="1350"/>
                </a:lnTo>
                <a:lnTo>
                  <a:pt x="1674" y="1348"/>
                </a:lnTo>
                <a:close/>
                <a:moveTo>
                  <a:pt x="1660" y="1400"/>
                </a:moveTo>
                <a:lnTo>
                  <a:pt x="1660" y="1400"/>
                </a:lnTo>
                <a:lnTo>
                  <a:pt x="1652" y="1400"/>
                </a:lnTo>
                <a:lnTo>
                  <a:pt x="1650" y="1402"/>
                </a:lnTo>
                <a:lnTo>
                  <a:pt x="1648" y="1404"/>
                </a:lnTo>
                <a:lnTo>
                  <a:pt x="1652" y="1404"/>
                </a:lnTo>
                <a:lnTo>
                  <a:pt x="1654" y="1404"/>
                </a:lnTo>
                <a:lnTo>
                  <a:pt x="1650" y="1410"/>
                </a:lnTo>
                <a:lnTo>
                  <a:pt x="1646" y="1414"/>
                </a:lnTo>
                <a:lnTo>
                  <a:pt x="1646" y="1416"/>
                </a:lnTo>
                <a:lnTo>
                  <a:pt x="1648" y="1418"/>
                </a:lnTo>
                <a:lnTo>
                  <a:pt x="1654" y="1414"/>
                </a:lnTo>
                <a:lnTo>
                  <a:pt x="1658" y="1408"/>
                </a:lnTo>
                <a:lnTo>
                  <a:pt x="1662" y="1396"/>
                </a:lnTo>
                <a:lnTo>
                  <a:pt x="1668" y="1384"/>
                </a:lnTo>
                <a:lnTo>
                  <a:pt x="1674" y="1372"/>
                </a:lnTo>
                <a:lnTo>
                  <a:pt x="1666" y="1376"/>
                </a:lnTo>
                <a:lnTo>
                  <a:pt x="1662" y="1378"/>
                </a:lnTo>
                <a:lnTo>
                  <a:pt x="1660" y="1382"/>
                </a:lnTo>
                <a:lnTo>
                  <a:pt x="1660" y="1390"/>
                </a:lnTo>
                <a:lnTo>
                  <a:pt x="1660" y="1400"/>
                </a:lnTo>
                <a:close/>
                <a:moveTo>
                  <a:pt x="464" y="1532"/>
                </a:moveTo>
                <a:lnTo>
                  <a:pt x="464" y="1532"/>
                </a:lnTo>
                <a:lnTo>
                  <a:pt x="468" y="1532"/>
                </a:lnTo>
                <a:lnTo>
                  <a:pt x="468" y="1534"/>
                </a:lnTo>
                <a:lnTo>
                  <a:pt x="470" y="1536"/>
                </a:lnTo>
                <a:lnTo>
                  <a:pt x="474" y="1538"/>
                </a:lnTo>
                <a:lnTo>
                  <a:pt x="470" y="1470"/>
                </a:lnTo>
                <a:lnTo>
                  <a:pt x="464" y="1476"/>
                </a:lnTo>
                <a:lnTo>
                  <a:pt x="462" y="1484"/>
                </a:lnTo>
                <a:lnTo>
                  <a:pt x="464" y="1494"/>
                </a:lnTo>
                <a:lnTo>
                  <a:pt x="464" y="1502"/>
                </a:lnTo>
                <a:lnTo>
                  <a:pt x="468" y="1520"/>
                </a:lnTo>
                <a:lnTo>
                  <a:pt x="466" y="1528"/>
                </a:lnTo>
                <a:lnTo>
                  <a:pt x="464" y="1532"/>
                </a:lnTo>
                <a:close/>
                <a:moveTo>
                  <a:pt x="464" y="1532"/>
                </a:moveTo>
                <a:lnTo>
                  <a:pt x="464" y="1532"/>
                </a:lnTo>
                <a:lnTo>
                  <a:pt x="460" y="1534"/>
                </a:lnTo>
                <a:lnTo>
                  <a:pt x="464" y="1532"/>
                </a:lnTo>
                <a:close/>
                <a:moveTo>
                  <a:pt x="360" y="1526"/>
                </a:moveTo>
                <a:lnTo>
                  <a:pt x="360" y="1526"/>
                </a:lnTo>
                <a:lnTo>
                  <a:pt x="358" y="1530"/>
                </a:lnTo>
                <a:lnTo>
                  <a:pt x="356" y="1534"/>
                </a:lnTo>
                <a:lnTo>
                  <a:pt x="352" y="1536"/>
                </a:lnTo>
                <a:lnTo>
                  <a:pt x="348" y="1538"/>
                </a:lnTo>
                <a:lnTo>
                  <a:pt x="352" y="1542"/>
                </a:lnTo>
                <a:lnTo>
                  <a:pt x="354" y="1548"/>
                </a:lnTo>
                <a:lnTo>
                  <a:pt x="358" y="1554"/>
                </a:lnTo>
                <a:lnTo>
                  <a:pt x="362" y="1556"/>
                </a:lnTo>
                <a:lnTo>
                  <a:pt x="366" y="1556"/>
                </a:lnTo>
                <a:lnTo>
                  <a:pt x="368" y="1552"/>
                </a:lnTo>
                <a:lnTo>
                  <a:pt x="368" y="1550"/>
                </a:lnTo>
                <a:lnTo>
                  <a:pt x="366" y="1544"/>
                </a:lnTo>
                <a:lnTo>
                  <a:pt x="360" y="1540"/>
                </a:lnTo>
                <a:lnTo>
                  <a:pt x="358" y="1536"/>
                </a:lnTo>
                <a:lnTo>
                  <a:pt x="358" y="1534"/>
                </a:lnTo>
                <a:lnTo>
                  <a:pt x="360" y="1532"/>
                </a:lnTo>
                <a:lnTo>
                  <a:pt x="362" y="1530"/>
                </a:lnTo>
                <a:lnTo>
                  <a:pt x="368" y="1542"/>
                </a:lnTo>
                <a:lnTo>
                  <a:pt x="374" y="1546"/>
                </a:lnTo>
                <a:lnTo>
                  <a:pt x="376" y="1546"/>
                </a:lnTo>
                <a:lnTo>
                  <a:pt x="382" y="1546"/>
                </a:lnTo>
                <a:lnTo>
                  <a:pt x="380" y="1542"/>
                </a:lnTo>
                <a:lnTo>
                  <a:pt x="380" y="1538"/>
                </a:lnTo>
                <a:lnTo>
                  <a:pt x="374" y="1532"/>
                </a:lnTo>
                <a:lnTo>
                  <a:pt x="360" y="1526"/>
                </a:lnTo>
                <a:close/>
                <a:moveTo>
                  <a:pt x="440" y="1624"/>
                </a:moveTo>
                <a:lnTo>
                  <a:pt x="440" y="1624"/>
                </a:lnTo>
                <a:lnTo>
                  <a:pt x="440" y="1626"/>
                </a:lnTo>
                <a:lnTo>
                  <a:pt x="436" y="1626"/>
                </a:lnTo>
                <a:lnTo>
                  <a:pt x="432" y="1624"/>
                </a:lnTo>
                <a:lnTo>
                  <a:pt x="430" y="1626"/>
                </a:lnTo>
                <a:lnTo>
                  <a:pt x="434" y="1628"/>
                </a:lnTo>
                <a:lnTo>
                  <a:pt x="432" y="1630"/>
                </a:lnTo>
                <a:lnTo>
                  <a:pt x="428" y="1634"/>
                </a:lnTo>
                <a:lnTo>
                  <a:pt x="428" y="1638"/>
                </a:lnTo>
                <a:lnTo>
                  <a:pt x="424" y="1628"/>
                </a:lnTo>
                <a:lnTo>
                  <a:pt x="420" y="1626"/>
                </a:lnTo>
                <a:lnTo>
                  <a:pt x="414" y="1624"/>
                </a:lnTo>
                <a:lnTo>
                  <a:pt x="416" y="1630"/>
                </a:lnTo>
                <a:lnTo>
                  <a:pt x="418" y="1632"/>
                </a:lnTo>
                <a:lnTo>
                  <a:pt x="422" y="1640"/>
                </a:lnTo>
                <a:lnTo>
                  <a:pt x="436" y="1640"/>
                </a:lnTo>
                <a:lnTo>
                  <a:pt x="434" y="1636"/>
                </a:lnTo>
                <a:lnTo>
                  <a:pt x="436" y="1632"/>
                </a:lnTo>
                <a:lnTo>
                  <a:pt x="438" y="1630"/>
                </a:lnTo>
                <a:lnTo>
                  <a:pt x="442" y="1626"/>
                </a:lnTo>
                <a:lnTo>
                  <a:pt x="440" y="1624"/>
                </a:lnTo>
                <a:close/>
                <a:moveTo>
                  <a:pt x="1188" y="1730"/>
                </a:moveTo>
                <a:lnTo>
                  <a:pt x="1188" y="1730"/>
                </a:lnTo>
                <a:lnTo>
                  <a:pt x="1194" y="1730"/>
                </a:lnTo>
                <a:lnTo>
                  <a:pt x="1196" y="1732"/>
                </a:lnTo>
                <a:lnTo>
                  <a:pt x="1196" y="1734"/>
                </a:lnTo>
                <a:lnTo>
                  <a:pt x="1196" y="1736"/>
                </a:lnTo>
                <a:lnTo>
                  <a:pt x="1198" y="1734"/>
                </a:lnTo>
                <a:lnTo>
                  <a:pt x="1200" y="1734"/>
                </a:lnTo>
                <a:lnTo>
                  <a:pt x="1206" y="1732"/>
                </a:lnTo>
                <a:lnTo>
                  <a:pt x="1214" y="1734"/>
                </a:lnTo>
                <a:lnTo>
                  <a:pt x="1220" y="1734"/>
                </a:lnTo>
                <a:lnTo>
                  <a:pt x="1220" y="1728"/>
                </a:lnTo>
                <a:lnTo>
                  <a:pt x="1218" y="1726"/>
                </a:lnTo>
                <a:lnTo>
                  <a:pt x="1212" y="1720"/>
                </a:lnTo>
                <a:lnTo>
                  <a:pt x="1210" y="1724"/>
                </a:lnTo>
                <a:lnTo>
                  <a:pt x="1208" y="1726"/>
                </a:lnTo>
                <a:lnTo>
                  <a:pt x="1202" y="1726"/>
                </a:lnTo>
                <a:lnTo>
                  <a:pt x="1196" y="1726"/>
                </a:lnTo>
                <a:lnTo>
                  <a:pt x="1192" y="1728"/>
                </a:lnTo>
                <a:lnTo>
                  <a:pt x="1188" y="1730"/>
                </a:lnTo>
                <a:close/>
                <a:moveTo>
                  <a:pt x="742" y="1752"/>
                </a:moveTo>
                <a:lnTo>
                  <a:pt x="742" y="1752"/>
                </a:lnTo>
                <a:lnTo>
                  <a:pt x="740" y="1750"/>
                </a:lnTo>
                <a:lnTo>
                  <a:pt x="742" y="1748"/>
                </a:lnTo>
                <a:lnTo>
                  <a:pt x="746" y="1748"/>
                </a:lnTo>
                <a:lnTo>
                  <a:pt x="748" y="1746"/>
                </a:lnTo>
                <a:lnTo>
                  <a:pt x="734" y="1748"/>
                </a:lnTo>
                <a:lnTo>
                  <a:pt x="728" y="1748"/>
                </a:lnTo>
                <a:lnTo>
                  <a:pt x="724" y="1752"/>
                </a:lnTo>
                <a:lnTo>
                  <a:pt x="728" y="1754"/>
                </a:lnTo>
                <a:lnTo>
                  <a:pt x="734" y="1754"/>
                </a:lnTo>
                <a:lnTo>
                  <a:pt x="738" y="1754"/>
                </a:lnTo>
                <a:lnTo>
                  <a:pt x="742" y="1754"/>
                </a:lnTo>
                <a:lnTo>
                  <a:pt x="742" y="1752"/>
                </a:lnTo>
                <a:close/>
              </a:path>
            </a:pathLst>
          </a:custGeom>
          <a:solidFill>
            <a:srgbClr val="bfbf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13" name="文本框 12"/>
          <p:cNvSpPr/>
          <p:nvPr/>
        </p:nvSpPr>
        <p:spPr>
          <a:xfrm>
            <a:off x="4338000" y="2068560"/>
            <a:ext cx="125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7f7f7f"/>
                </a:solidFill>
                <a:latin typeface="汉仪雪君体简"/>
                <a:ea typeface="宋体"/>
              </a:rPr>
              <a:t>谢</a:t>
            </a:r>
            <a:endParaRPr b="0" lang="en-US" sz="9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14" name="文本框 13"/>
          <p:cNvSpPr/>
          <p:nvPr/>
        </p:nvSpPr>
        <p:spPr>
          <a:xfrm>
            <a:off x="5298480" y="2690640"/>
            <a:ext cx="13996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262626"/>
                </a:solidFill>
                <a:latin typeface="汉仪雪君体简"/>
                <a:ea typeface="宋体"/>
              </a:rPr>
              <a:t>谢</a:t>
            </a:r>
            <a:endParaRPr b="0" lang="en-US" sz="115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15" name="文本框 14"/>
          <p:cNvSpPr/>
          <p:nvPr/>
        </p:nvSpPr>
        <p:spPr>
          <a:xfrm>
            <a:off x="6480360" y="3720960"/>
            <a:ext cx="12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汉仪雪君体简"/>
                <a:ea typeface="宋体"/>
              </a:rPr>
              <a:t>观看</a:t>
            </a:r>
            <a:endParaRPr b="0" lang="en-US" sz="4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transition advTm="6000">
    <p:zoom dir="ou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86920" y="165240"/>
            <a:ext cx="604836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6f654d"/>
              </a:buClr>
              <a:buFont typeface="Webdings" charset="2"/>
              <a:buChar char="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文隶书"/>
                <a:ea typeface="华文隶书"/>
              </a:rPr>
              <a:t>历史文化之都</a:t>
            </a:r>
            <a:endParaRPr b="0" lang="en-US" sz="5400" spc="-1" strike="noStrike">
              <a:solidFill>
                <a:srgbClr val="8f8363"/>
              </a:solidFill>
              <a:latin typeface="微软雅黑"/>
            </a:endParaRPr>
          </a:p>
        </p:txBody>
      </p:sp>
      <p:grpSp>
        <p:nvGrpSpPr>
          <p:cNvPr id="105" name="组合 4"/>
          <p:cNvGrpSpPr/>
          <p:nvPr/>
        </p:nvGrpSpPr>
        <p:grpSpPr>
          <a:xfrm>
            <a:off x="3160800" y="1905120"/>
            <a:ext cx="6832440" cy="1710720"/>
            <a:chOff x="3160800" y="1905120"/>
            <a:chExt cx="6832440" cy="1710720"/>
          </a:xfrm>
        </p:grpSpPr>
        <p:sp>
          <p:nvSpPr>
            <p:cNvPr id="106" name="MH_Other_1"/>
            <p:cNvSpPr/>
            <p:nvPr/>
          </p:nvSpPr>
          <p:spPr>
            <a:xfrm>
              <a:off x="3179160" y="2535480"/>
              <a:ext cx="948600" cy="1064160"/>
            </a:xfrm>
            <a:prstGeom prst="pie">
              <a:avLst/>
            </a:prstGeom>
            <a:solidFill>
              <a:srgbClr val="f45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这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07" name="MH_Other_2"/>
            <p:cNvSpPr/>
            <p:nvPr/>
          </p:nvSpPr>
          <p:spPr>
            <a:xfrm flipV="1">
              <a:off x="3160800" y="1905120"/>
              <a:ext cx="905400" cy="1171440"/>
            </a:xfrm>
            <a:prstGeom prst="line">
              <a:avLst/>
            </a:prstGeom>
            <a:ln w="6480">
              <a:solidFill>
                <a:srgbClr val="f34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08" name="MH_Other_3"/>
            <p:cNvSpPr/>
            <p:nvPr/>
          </p:nvSpPr>
          <p:spPr>
            <a:xfrm>
              <a:off x="4660920" y="2551680"/>
              <a:ext cx="950400" cy="1064160"/>
            </a:xfrm>
            <a:prstGeom prst="pie">
              <a:avLst/>
            </a:prstGeom>
            <a:solidFill>
              <a:srgbClr val="f45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里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09" name="MH_Other_4"/>
            <p:cNvSpPr/>
            <p:nvPr/>
          </p:nvSpPr>
          <p:spPr>
            <a:xfrm flipV="1">
              <a:off x="4627800" y="1905120"/>
              <a:ext cx="903960" cy="1171440"/>
            </a:xfrm>
            <a:prstGeom prst="line">
              <a:avLst/>
            </a:prstGeom>
            <a:ln w="6480">
              <a:solidFill>
                <a:srgbClr val="f34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10" name="MH_Other_5"/>
            <p:cNvSpPr/>
            <p:nvPr/>
          </p:nvSpPr>
          <p:spPr>
            <a:xfrm>
              <a:off x="6111720" y="2535480"/>
              <a:ext cx="948600" cy="1064160"/>
            </a:xfrm>
            <a:prstGeom prst="pie">
              <a:avLst/>
            </a:prstGeom>
            <a:solidFill>
              <a:srgbClr val="f45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是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11" name="MH_Other_6"/>
            <p:cNvSpPr/>
            <p:nvPr/>
          </p:nvSpPr>
          <p:spPr>
            <a:xfrm flipV="1">
              <a:off x="6093720" y="1905120"/>
              <a:ext cx="905400" cy="1171440"/>
            </a:xfrm>
            <a:prstGeom prst="line">
              <a:avLst/>
            </a:prstGeom>
            <a:ln w="6480">
              <a:solidFill>
                <a:srgbClr val="f34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12" name="MH_Other_7"/>
            <p:cNvSpPr/>
            <p:nvPr/>
          </p:nvSpPr>
          <p:spPr>
            <a:xfrm>
              <a:off x="7577640" y="2535480"/>
              <a:ext cx="948240" cy="1064160"/>
            </a:xfrm>
            <a:prstGeom prst="pie">
              <a:avLst/>
            </a:prstGeom>
            <a:solidFill>
              <a:srgbClr val="f45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山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13" name="MH_Other_8"/>
            <p:cNvSpPr/>
            <p:nvPr/>
          </p:nvSpPr>
          <p:spPr>
            <a:xfrm flipV="1">
              <a:off x="7558920" y="1905120"/>
              <a:ext cx="905400" cy="1171440"/>
            </a:xfrm>
            <a:prstGeom prst="line">
              <a:avLst/>
            </a:prstGeom>
            <a:ln w="6480">
              <a:solidFill>
                <a:srgbClr val="f34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14" name="MH_Other_9"/>
            <p:cNvSpPr/>
            <p:nvPr/>
          </p:nvSpPr>
          <p:spPr>
            <a:xfrm>
              <a:off x="9042840" y="2535480"/>
              <a:ext cx="950400" cy="1064160"/>
            </a:xfrm>
            <a:prstGeom prst="pie">
              <a:avLst/>
            </a:prstGeom>
            <a:solidFill>
              <a:srgbClr val="f45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西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15" name="MH_Other_10"/>
            <p:cNvSpPr/>
            <p:nvPr/>
          </p:nvSpPr>
          <p:spPr>
            <a:xfrm flipV="1">
              <a:off x="9026280" y="1905120"/>
              <a:ext cx="903960" cy="1171440"/>
            </a:xfrm>
            <a:prstGeom prst="line">
              <a:avLst/>
            </a:prstGeom>
            <a:ln w="6480">
              <a:solidFill>
                <a:srgbClr val="f34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16" name="MH_Desc_1"/>
          <p:cNvSpPr/>
          <p:nvPr/>
        </p:nvSpPr>
        <p:spPr>
          <a:xfrm>
            <a:off x="2838600" y="4106880"/>
            <a:ext cx="65325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946080" y="1076400"/>
            <a:ext cx="102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山西现存的古建筑居全国之首，列为国家重点保护的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处，省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处。四大佛教圣地之一的五台山，寺庙群集千年之萃。其中，以我国现存最古的木构建筑南禅寺。集北魏至清代多种建筑为一体的佛光寺及显通寺，塔院舍利塔最为有名；建于北魏的恒山悬空寺悬于悬崖峭壁之上，以惊险奇特著称；太原的晋祠是形式多样的古建筑荟萃的游览胜地；平遥古城是全国现存三座古城之一，被列为世界文化遗产名录。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18" name="组合 9"/>
          <p:cNvGrpSpPr/>
          <p:nvPr/>
        </p:nvGrpSpPr>
        <p:grpSpPr>
          <a:xfrm>
            <a:off x="5091120" y="3597120"/>
            <a:ext cx="576720" cy="2829240"/>
            <a:chOff x="5091120" y="3597120"/>
            <a:chExt cx="576720" cy="2829240"/>
          </a:xfrm>
        </p:grpSpPr>
        <p:sp>
          <p:nvSpPr>
            <p:cNvPr id="119" name="文本框 7"/>
            <p:cNvSpPr/>
            <p:nvPr/>
          </p:nvSpPr>
          <p:spPr>
            <a:xfrm>
              <a:off x="5091120" y="3597120"/>
              <a:ext cx="576720" cy="28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03030"/>
                  </a:solidFill>
                  <a:latin typeface="华文行楷"/>
                  <a:ea typeface="华文行楷"/>
                </a:rPr>
                <a:t>忻州五台山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20" name="组合 10"/>
          <p:cNvGrpSpPr/>
          <p:nvPr/>
        </p:nvGrpSpPr>
        <p:grpSpPr>
          <a:xfrm>
            <a:off x="10223640" y="3625920"/>
            <a:ext cx="576720" cy="2828880"/>
            <a:chOff x="10223640" y="3625920"/>
            <a:chExt cx="576720" cy="2828880"/>
          </a:xfrm>
        </p:grpSpPr>
        <p:sp>
          <p:nvSpPr>
            <p:cNvPr id="121" name="文本框 8"/>
            <p:cNvSpPr/>
            <p:nvPr/>
          </p:nvSpPr>
          <p:spPr>
            <a:xfrm>
              <a:off x="10223640" y="3625920"/>
              <a:ext cx="576720" cy="28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03030"/>
                  </a:solidFill>
                  <a:latin typeface="华文行楷"/>
                  <a:ea typeface="华文行楷"/>
                </a:rPr>
                <a:t>太原晋祠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pic>
        <p:nvPicPr>
          <p:cNvPr id="122" name="圆角矩形 6" descr=""/>
          <p:cNvPicPr/>
          <p:nvPr/>
        </p:nvPicPr>
        <p:blipFill>
          <a:blip r:embed="rId1"/>
          <a:stretch/>
        </p:blipFill>
        <p:spPr>
          <a:xfrm>
            <a:off x="-108000" y="-95400"/>
            <a:ext cx="9904320" cy="14538600"/>
          </a:xfrm>
          <a:prstGeom prst="rect">
            <a:avLst/>
          </a:prstGeom>
          <a:ln w="0">
            <a:noFill/>
          </a:ln>
        </p:spPr>
      </p:pic>
      <p:pic>
        <p:nvPicPr>
          <p:cNvPr id="123" name="圆角矩形 5" descr=""/>
          <p:cNvPicPr/>
          <p:nvPr/>
        </p:nvPicPr>
        <p:blipFill>
          <a:blip r:embed="rId2"/>
          <a:stretch/>
        </p:blipFill>
        <p:spPr>
          <a:xfrm>
            <a:off x="1554120" y="-95400"/>
            <a:ext cx="9904320" cy="145386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5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2760" y="123480"/>
            <a:ext cx="40957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6f654d"/>
              </a:buClr>
              <a:buFont typeface="Webdings" charset="2"/>
              <a:buChar char="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文隶书"/>
                <a:ea typeface="华文隶书"/>
              </a:rPr>
              <a:t>旅游胜地</a:t>
            </a:r>
            <a:endParaRPr b="0" lang="en-US" sz="5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125" name="MH_SubTitle_3"/>
          <p:cNvSpPr/>
          <p:nvPr/>
        </p:nvSpPr>
        <p:spPr>
          <a:xfrm>
            <a:off x="7709040" y="3819600"/>
            <a:ext cx="18698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6" name="MH_SubTitle_5"/>
          <p:cNvSpPr/>
          <p:nvPr/>
        </p:nvSpPr>
        <p:spPr>
          <a:xfrm>
            <a:off x="2627280" y="4506840"/>
            <a:ext cx="22478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27" name="组合 4"/>
          <p:cNvGrpSpPr/>
          <p:nvPr/>
        </p:nvGrpSpPr>
        <p:grpSpPr>
          <a:xfrm>
            <a:off x="4687920" y="2066760"/>
            <a:ext cx="2579760" cy="2462040"/>
            <a:chOff x="4687920" y="2066760"/>
            <a:chExt cx="2579760" cy="2462040"/>
          </a:xfrm>
        </p:grpSpPr>
        <p:sp>
          <p:nvSpPr>
            <p:cNvPr id="128" name="MH_Other_1"/>
            <p:cNvSpPr/>
            <p:nvPr/>
          </p:nvSpPr>
          <p:spPr>
            <a:xfrm>
              <a:off x="5483520" y="2066760"/>
              <a:ext cx="567720" cy="1128960"/>
            </a:xfrm>
            <a:prstGeom prst="pie">
              <a:avLst/>
            </a:prstGeom>
            <a:gradFill rotWithShape="0">
              <a:gsLst>
                <a:gs pos="0">
                  <a:srgbClr val="fa5573"/>
                </a:gs>
                <a:gs pos="100000">
                  <a:srgbClr val="fd75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5f5f5f"/>
                  </a:solidFill>
                  <a:latin typeface="Calibri"/>
                  <a:ea typeface="微软雅黑"/>
                </a:rPr>
                <a:t>地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29" name="MH_Other_2"/>
            <p:cNvSpPr/>
            <p:nvPr/>
          </p:nvSpPr>
          <p:spPr>
            <a:xfrm>
              <a:off x="5849280" y="2367720"/>
              <a:ext cx="1145880" cy="603000"/>
            </a:xfrm>
            <a:prstGeom prst="pie">
              <a:avLst/>
            </a:prstGeom>
            <a:gradFill rotWithShape="0">
              <a:gsLst>
                <a:gs pos="0">
                  <a:srgbClr val="fa5573"/>
                </a:gs>
                <a:gs pos="100000">
                  <a:srgbClr val="fd75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44000" tIns="46800" bIns="216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5f5f5f"/>
                  </a:solidFill>
                  <a:latin typeface="Calibri"/>
                  <a:ea typeface="微软雅黑"/>
                </a:rPr>
                <a:t>风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0" name="MH_Other_3"/>
            <p:cNvSpPr/>
            <p:nvPr/>
          </p:nvSpPr>
          <p:spPr>
            <a:xfrm>
              <a:off x="6422400" y="2886840"/>
              <a:ext cx="845280" cy="957600"/>
            </a:xfrm>
            <a:prstGeom prst="pie">
              <a:avLst/>
            </a:prstGeom>
            <a:gradFill rotWithShape="0">
              <a:gsLst>
                <a:gs pos="0">
                  <a:srgbClr val="fa5573"/>
                </a:gs>
                <a:gs pos="100000">
                  <a:srgbClr val="fd75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0" tIns="46800" bIns="1080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5f5f5f"/>
                  </a:solidFill>
                  <a:latin typeface="Calibri"/>
                  <a:ea typeface="微软雅黑"/>
                </a:rPr>
                <a:t>景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1" name="MH_Other_4"/>
            <p:cNvSpPr/>
            <p:nvPr/>
          </p:nvSpPr>
          <p:spPr>
            <a:xfrm>
              <a:off x="6084720" y="3401640"/>
              <a:ext cx="567720" cy="1127160"/>
            </a:xfrm>
            <a:prstGeom prst="pie">
              <a:avLst/>
            </a:prstGeom>
            <a:gradFill rotWithShape="0">
              <a:gsLst>
                <a:gs pos="0">
                  <a:srgbClr val="fa5573"/>
                </a:gs>
                <a:gs pos="100000">
                  <a:srgbClr val="fd75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720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5f5f5f"/>
                  </a:solidFill>
                  <a:latin typeface="Calibri"/>
                  <a:ea typeface="微软雅黑"/>
                </a:rPr>
                <a:t>旅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2" name="MH_Other_5"/>
            <p:cNvSpPr/>
            <p:nvPr/>
          </p:nvSpPr>
          <p:spPr>
            <a:xfrm>
              <a:off x="5150880" y="3712320"/>
              <a:ext cx="1146960" cy="601920"/>
            </a:xfrm>
            <a:prstGeom prst="pie">
              <a:avLst/>
            </a:prstGeom>
            <a:gradFill rotWithShape="0">
              <a:gsLst>
                <a:gs pos="0">
                  <a:srgbClr val="fa5573"/>
                </a:gs>
                <a:gs pos="100000">
                  <a:srgbClr val="fd75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108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5f5f5f"/>
                  </a:solidFill>
                  <a:latin typeface="Calibri"/>
                  <a:ea typeface="微软雅黑"/>
                </a:rPr>
                <a:t>游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3" name="MH_Other_6"/>
            <p:cNvSpPr/>
            <p:nvPr/>
          </p:nvSpPr>
          <p:spPr>
            <a:xfrm>
              <a:off x="4687920" y="2752920"/>
              <a:ext cx="845280" cy="955800"/>
            </a:xfrm>
            <a:prstGeom prst="pie">
              <a:avLst/>
            </a:prstGeom>
            <a:gradFill rotWithShape="0">
              <a:gsLst>
                <a:gs pos="0">
                  <a:srgbClr val="fa5573"/>
                </a:gs>
                <a:gs pos="100000">
                  <a:srgbClr val="fd75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720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5f5f5f"/>
                  </a:solidFill>
                  <a:latin typeface="Calibri"/>
                  <a:ea typeface="微软雅黑"/>
                </a:rPr>
                <a:t>宝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34" name="MH_SubTitle_6"/>
          <p:cNvSpPr/>
          <p:nvPr/>
        </p:nvSpPr>
        <p:spPr>
          <a:xfrm>
            <a:off x="2060640" y="2940120"/>
            <a:ext cx="21016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35" name="图片 3" descr=""/>
          <p:cNvPicPr/>
          <p:nvPr/>
        </p:nvPicPr>
        <p:blipFill>
          <a:blip r:embed="rId1"/>
          <a:stretch/>
        </p:blipFill>
        <p:spPr>
          <a:xfrm>
            <a:off x="7456320" y="3416400"/>
            <a:ext cx="3805560" cy="30844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5"/>
          <p:cNvSpPr/>
          <p:nvPr/>
        </p:nvSpPr>
        <p:spPr>
          <a:xfrm>
            <a:off x="7058160" y="1406520"/>
            <a:ext cx="41875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  <a:ea typeface="微软雅黑"/>
              </a:rPr>
              <a:t>     </a:t>
            </a:r>
            <a:r>
              <a:rPr b="1" lang="en-US" sz="1600" spc="-1" strike="noStrike">
                <a:solidFill>
                  <a:srgbClr val="303030"/>
                </a:solidFill>
                <a:latin typeface="Arial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303030"/>
                </a:solidFill>
                <a:latin typeface="Arial"/>
                <a:ea typeface="微软雅黑"/>
              </a:rPr>
              <a:t>鹳雀楼</a:t>
            </a:r>
            <a:r>
              <a:rPr b="0" lang="en-US" sz="1600" spc="-1" strike="noStrike">
                <a:solidFill>
                  <a:srgbClr val="303030"/>
                </a:solidFill>
                <a:latin typeface="Arial"/>
                <a:ea typeface="微软雅黑"/>
              </a:rPr>
              <a:t>是北周时兵家修建的军事建筑。因其气势宏伟，高大眼阔，登上层楼则有腾空欲飞之感，故名“云栖楼”。古城紧靠黄河，有一种食鱼鸟类经常成群栖息于高楼之上，此水鸟似鹤，但顶不丹，嘴尖腿长，毛灰白色，人们称其为“鹳雀”，故“云栖楼”又称“鹳雀楼”。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7" name="文本框 5"/>
          <p:cNvSpPr/>
          <p:nvPr/>
        </p:nvSpPr>
        <p:spPr>
          <a:xfrm>
            <a:off x="1403280" y="4344840"/>
            <a:ext cx="46609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  <a:ea typeface="微软雅黑"/>
              </a:rPr>
              <a:t>      </a:t>
            </a:r>
            <a:r>
              <a:rPr b="1" i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云冈石窟</a:t>
            </a:r>
            <a:r>
              <a:rPr b="0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，是我国规模最大的古代石窟群之一。据文献记载，北魏和平年间由一个著名的和尚昙曜主持，在京城（平城，今大同市）西郊武周塞，开凿石窟五所，其他主要洞窟，也大多完成于北魏太和十八年（公元</a:t>
            </a:r>
            <a:r>
              <a:rPr b="0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494</a:t>
            </a:r>
            <a:r>
              <a:rPr b="0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年）孝文帝迁都洛阳之前。距今已有</a:t>
            </a:r>
            <a:r>
              <a:rPr b="0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1500</a:t>
            </a:r>
            <a:r>
              <a:rPr b="0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多年的历史。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38" name="图片 6" descr=""/>
          <p:cNvPicPr/>
          <p:nvPr/>
        </p:nvPicPr>
        <p:blipFill>
          <a:blip r:embed="rId2"/>
          <a:stretch/>
        </p:blipFill>
        <p:spPr>
          <a:xfrm>
            <a:off x="1266840" y="1332000"/>
            <a:ext cx="3581280" cy="316224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99520" y="180720"/>
            <a:ext cx="50022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6f654d"/>
              </a:buClr>
              <a:buFont typeface="Webdings" charset="2"/>
              <a:buChar char="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文隶书"/>
                <a:ea typeface="华文隶书"/>
              </a:rPr>
              <a:t>我们的矿藏</a:t>
            </a:r>
            <a:endParaRPr b="0" lang="en-US" sz="5400" spc="-1" strike="noStrike">
              <a:solidFill>
                <a:srgbClr val="8f8363"/>
              </a:solidFill>
              <a:latin typeface="微软雅黑"/>
            </a:endParaRPr>
          </a:p>
        </p:txBody>
      </p:sp>
      <p:grpSp>
        <p:nvGrpSpPr>
          <p:cNvPr id="140" name="组合 4"/>
          <p:cNvGrpSpPr/>
          <p:nvPr/>
        </p:nvGrpSpPr>
        <p:grpSpPr>
          <a:xfrm>
            <a:off x="1107360" y="1307880"/>
            <a:ext cx="957240" cy="4861800"/>
            <a:chOff x="1107360" y="1307880"/>
            <a:chExt cx="957240" cy="4861800"/>
          </a:xfrm>
        </p:grpSpPr>
        <p:sp>
          <p:nvSpPr>
            <p:cNvPr id="141" name="MH_Other_1"/>
            <p:cNvSpPr/>
            <p:nvPr/>
          </p:nvSpPr>
          <p:spPr>
            <a:xfrm rot="21439200">
              <a:off x="1179000" y="5269680"/>
              <a:ext cx="790920" cy="882000"/>
            </a:xfrm>
            <a:custGeom>
              <a:avLst/>
              <a:gdLst>
                <a:gd name="textAreaLeft" fmla="*/ 42840 w 790920"/>
                <a:gd name="textAreaRight" fmla="*/ 748080 w 790920"/>
                <a:gd name="textAreaTop" fmla="*/ 42840 h 882000"/>
                <a:gd name="textAreaBottom" fmla="*/ 839160 h 882000"/>
              </a:gdLst>
              <a:ahLst/>
              <a:rect l="textAreaLeft" t="textAreaTop" r="textAreaRight" b="textAreaBottom"/>
              <a:pathLst>
                <a:path w="21600" h="24086">
                  <a:moveTo>
                    <a:pt x="4010" y="0"/>
                  </a:moveTo>
                  <a:arcTo wR="4010" hR="4010" stAng="16200000" swAng="-5400000"/>
                  <a:lnTo>
                    <a:pt x="0" y="20076"/>
                  </a:lnTo>
                  <a:arcTo wR="4010" hR="4010" stAng="10800000" swAng="-5400000"/>
                  <a:lnTo>
                    <a:pt x="17590" y="24086"/>
                  </a:lnTo>
                  <a:arcTo wR="4010" hR="4010" stAng="5400000" swAng="-5400000"/>
                  <a:lnTo>
                    <a:pt x="21600" y="4010"/>
                  </a:lnTo>
                  <a:arcTo wR="4010" hR="4010" stAng="0" swAng="-5400000"/>
                  <a:close/>
                </a:path>
              </a:pathLst>
            </a:custGeom>
            <a:solidFill>
              <a:srgbClr val="d3d3d3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省</a:t>
              </a:r>
              <a:endParaRPr b="0" lang="en-US" sz="4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2" name="MH_Other_3"/>
            <p:cNvSpPr/>
            <p:nvPr/>
          </p:nvSpPr>
          <p:spPr>
            <a:xfrm rot="21439200">
              <a:off x="1254600" y="3870720"/>
              <a:ext cx="789840" cy="882000"/>
            </a:xfrm>
            <a:custGeom>
              <a:avLst/>
              <a:gdLst>
                <a:gd name="textAreaLeft" fmla="*/ 42840 w 789840"/>
                <a:gd name="textAreaRight" fmla="*/ 747000 w 789840"/>
                <a:gd name="textAreaTop" fmla="*/ 42840 h 882000"/>
                <a:gd name="textAreaBottom" fmla="*/ 839160 h 882000"/>
              </a:gdLst>
              <a:ahLst/>
              <a:rect l="textAreaLeft" t="textAreaTop" r="textAreaRight" b="textAreaBottom"/>
              <a:pathLst>
                <a:path w="21600" h="24119">
                  <a:moveTo>
                    <a:pt x="4010" y="0"/>
                  </a:moveTo>
                  <a:arcTo wR="4010" hR="4010" stAng="16200000" swAng="-5400000"/>
                  <a:lnTo>
                    <a:pt x="0" y="20109"/>
                  </a:lnTo>
                  <a:arcTo wR="4010" hR="4010" stAng="10800000" swAng="-5400000"/>
                  <a:lnTo>
                    <a:pt x="17590" y="24119"/>
                  </a:lnTo>
                  <a:arcTo wR="4010" hR="4010" stAng="5400000" swAng="-5400000"/>
                  <a:lnTo>
                    <a:pt x="21600" y="4010"/>
                  </a:lnTo>
                  <a:arcTo wR="4010" hR="4010" stAng="0" swAng="-5400000"/>
                  <a:close/>
                </a:path>
              </a:pathLst>
            </a:custGeom>
            <a:gradFill rotWithShape="0">
              <a:gsLst>
                <a:gs pos="0">
                  <a:srgbClr val="cb4545"/>
                </a:gs>
                <a:gs pos="100000">
                  <a:srgbClr val="bb0000"/>
                </a:gs>
              </a:gsLst>
              <a:lin ang="5562000"/>
            </a:gradFill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大</a:t>
              </a:r>
              <a:endParaRPr b="0" lang="en-US" sz="4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3" name="MH_Other_5"/>
            <p:cNvSpPr/>
            <p:nvPr/>
          </p:nvSpPr>
          <p:spPr>
            <a:xfrm rot="21439200">
              <a:off x="1219680" y="2721600"/>
              <a:ext cx="790920" cy="882000"/>
            </a:xfrm>
            <a:custGeom>
              <a:avLst/>
              <a:gdLst>
                <a:gd name="textAreaLeft" fmla="*/ 42840 w 790920"/>
                <a:gd name="textAreaRight" fmla="*/ 748080 w 790920"/>
                <a:gd name="textAreaTop" fmla="*/ 42840 h 882000"/>
                <a:gd name="textAreaBottom" fmla="*/ 839160 h 882000"/>
              </a:gdLst>
              <a:ahLst/>
              <a:rect l="textAreaLeft" t="textAreaTop" r="textAreaRight" b="textAreaBottom"/>
              <a:pathLst>
                <a:path w="21600" h="24086">
                  <a:moveTo>
                    <a:pt x="4010" y="0"/>
                  </a:moveTo>
                  <a:arcTo wR="4010" hR="4010" stAng="16200000" swAng="-5400000"/>
                  <a:lnTo>
                    <a:pt x="0" y="20076"/>
                  </a:lnTo>
                  <a:arcTo wR="4010" hR="4010" stAng="10800000" swAng="-5400000"/>
                  <a:lnTo>
                    <a:pt x="17590" y="24086"/>
                  </a:lnTo>
                  <a:arcTo wR="4010" hR="4010" stAng="5400000" swAng="-5400000"/>
                  <a:lnTo>
                    <a:pt x="21600" y="4010"/>
                  </a:lnTo>
                  <a:arcTo wR="4010" hR="4010" stAng="0" swAng="-5400000"/>
                  <a:close/>
                </a:path>
              </a:pathLst>
            </a:custGeom>
            <a:solidFill>
              <a:srgbClr val="d3d3d3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源</a:t>
              </a:r>
              <a:endParaRPr b="0" lang="en-US" sz="4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4" name="MH_Other_7"/>
            <p:cNvSpPr/>
            <p:nvPr/>
          </p:nvSpPr>
          <p:spPr>
            <a:xfrm rot="21116400">
              <a:off x="1164960" y="1358640"/>
              <a:ext cx="790920" cy="882000"/>
            </a:xfrm>
            <a:custGeom>
              <a:avLst/>
              <a:gdLst>
                <a:gd name="textAreaLeft" fmla="*/ 42840 w 790920"/>
                <a:gd name="textAreaRight" fmla="*/ 748080 w 790920"/>
                <a:gd name="textAreaTop" fmla="*/ 42840 h 882000"/>
                <a:gd name="textAreaBottom" fmla="*/ 839160 h 882000"/>
              </a:gdLst>
              <a:ahLst/>
              <a:rect l="textAreaLeft" t="textAreaTop" r="textAreaRight" b="textAreaBottom"/>
              <a:pathLst>
                <a:path w="21600" h="24086">
                  <a:moveTo>
                    <a:pt x="4010" y="0"/>
                  </a:moveTo>
                  <a:arcTo wR="4010" hR="4010" stAng="16200000" swAng="-5400000"/>
                  <a:lnTo>
                    <a:pt x="0" y="20076"/>
                  </a:lnTo>
                  <a:arcTo wR="4010" hR="4010" stAng="10800000" swAng="-5400000"/>
                  <a:lnTo>
                    <a:pt x="17590" y="24086"/>
                  </a:lnTo>
                  <a:arcTo wR="4010" hR="4010" stAng="5400000" swAng="-5400000"/>
                  <a:lnTo>
                    <a:pt x="21600" y="4010"/>
                  </a:lnTo>
                  <a:arcTo wR="4010" hR="4010" stAng="0" swAng="-5400000"/>
                  <a:close/>
                </a:path>
              </a:pathLst>
            </a:custGeom>
            <a:solidFill>
              <a:srgbClr val="f06c55"/>
            </a:solidFill>
            <a:ln w="12600">
              <a:solidFill>
                <a:srgbClr val="e93c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能</a:t>
              </a:r>
              <a:endParaRPr b="0" lang="en-US" sz="4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45" name="MH_Text_1"/>
          <p:cNvSpPr/>
          <p:nvPr/>
        </p:nvSpPr>
        <p:spPr>
          <a:xfrm>
            <a:off x="6434280" y="5396040"/>
            <a:ext cx="3485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1"/>
          <a:stretch/>
        </p:blipFill>
        <p:spPr>
          <a:xfrm>
            <a:off x="2490840" y="1889280"/>
            <a:ext cx="3355920" cy="348912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47" name="文本框 5"/>
          <p:cNvSpPr/>
          <p:nvPr/>
        </p:nvSpPr>
        <p:spPr>
          <a:xfrm>
            <a:off x="6736320" y="884160"/>
            <a:ext cx="44017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山西，是中华民族的发祥地之一。在这片神奇的土地上，蕴藏着丰富的矿产资源，有着悠久的开采历史，早以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煤乡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之称闻名中外；山西，是矿产资源资源大省，是我国目前最大的能源重化工基地，矿业及相关原材料加工制品业产值占全省工业总产值的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以上，矿业经济是山西工业经济的支柱产业。截止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199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底，全省已发现矿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1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种（金属矿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种，非金属矿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8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种，能源矿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种，水气矿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种），其中有探明储量的矿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6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种，矿产储量总潜在价值约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13.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亿元，居全国第二位。与全国同类矿产相比，保有储量居全国前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位的矿产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种，其中煤、铝土矿、镓矿、耐火粘土、沸石等矿产居全国首位。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transition advTm="8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700"/>
                            </p:stCondLst>
                            <p:childTnLst>
                              <p:par>
                                <p:cTn id="1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70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86920" y="167760"/>
            <a:ext cx="4251240" cy="13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6f654d"/>
              </a:buClr>
              <a:buFont typeface="Webdings" charset="2"/>
              <a:buChar char="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文隶书"/>
                <a:ea typeface="华文隶书"/>
              </a:rPr>
              <a:t>文化缩影</a:t>
            </a:r>
            <a:endParaRPr b="0" lang="en-US" sz="5400" spc="-1" strike="noStrike">
              <a:solidFill>
                <a:srgbClr val="8f8363"/>
              </a:solidFill>
              <a:latin typeface="微软雅黑"/>
            </a:endParaRPr>
          </a:p>
        </p:txBody>
      </p:sp>
      <p:grpSp>
        <p:nvGrpSpPr>
          <p:cNvPr id="149" name="组合 6"/>
          <p:cNvGrpSpPr/>
          <p:nvPr/>
        </p:nvGrpSpPr>
        <p:grpSpPr>
          <a:xfrm>
            <a:off x="819000" y="1914480"/>
            <a:ext cx="3024000" cy="3700080"/>
            <a:chOff x="819000" y="1914480"/>
            <a:chExt cx="3024000" cy="3700080"/>
          </a:xfrm>
        </p:grpSpPr>
        <p:sp>
          <p:nvSpPr>
            <p:cNvPr id="150" name="MH_SubTitle_1"/>
            <p:cNvSpPr/>
            <p:nvPr/>
          </p:nvSpPr>
          <p:spPr>
            <a:xfrm>
              <a:off x="1225800" y="1914480"/>
              <a:ext cx="4140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51" name="MH_Other_3"/>
            <p:cNvSpPr/>
            <p:nvPr/>
          </p:nvSpPr>
          <p:spPr>
            <a:xfrm>
              <a:off x="909000" y="1965600"/>
              <a:ext cx="1133280" cy="1028520"/>
            </a:xfrm>
            <a:prstGeom prst="pie">
              <a:avLst/>
            </a:prstGeom>
            <a:solidFill>
              <a:srgbClr val="90c4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90c413"/>
                  </a:solidFill>
                  <a:latin typeface="Calibri"/>
                </a:rPr>
                <a:t>风</a:t>
              </a:r>
              <a:endParaRPr b="0" lang="en-US" sz="2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52" name="MH_Other_5"/>
            <p:cNvSpPr/>
            <p:nvPr/>
          </p:nvSpPr>
          <p:spPr>
            <a:xfrm>
              <a:off x="819000" y="3549240"/>
              <a:ext cx="1133280" cy="1028160"/>
            </a:xfrm>
            <a:prstGeom prst="pie">
              <a:avLst/>
            </a:prstGeom>
            <a:solidFill>
              <a:srgbClr val="90c4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90c413"/>
                  </a:solidFill>
                  <a:latin typeface="Calibri"/>
                </a:rPr>
                <a:t>文</a:t>
              </a:r>
              <a:endParaRPr b="0" lang="en-US" sz="2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grpSp>
          <p:nvGrpSpPr>
            <p:cNvPr id="153" name="组合 4"/>
            <p:cNvGrpSpPr/>
            <p:nvPr/>
          </p:nvGrpSpPr>
          <p:grpSpPr>
            <a:xfrm>
              <a:off x="2109960" y="2628720"/>
              <a:ext cx="1132560" cy="1028160"/>
              <a:chOff x="2109960" y="2628720"/>
              <a:chExt cx="1132560" cy="1028160"/>
            </a:xfrm>
          </p:grpSpPr>
          <p:sp>
            <p:nvSpPr>
              <p:cNvPr id="154" name="MH_Other_2"/>
              <p:cNvSpPr/>
              <p:nvPr/>
            </p:nvSpPr>
            <p:spPr>
              <a:xfrm>
                <a:off x="2109960" y="2628720"/>
                <a:ext cx="1132560" cy="1028160"/>
              </a:xfrm>
              <a:custGeom>
                <a:avLst/>
                <a:gdLst>
                  <a:gd name="textAreaLeft" fmla="*/ 0 w 1132560"/>
                  <a:gd name="textAreaRight" fmla="*/ 1132920 w 1132560"/>
                  <a:gd name="textAreaTop" fmla="*/ 0 h 1028160"/>
                  <a:gd name="textAreaBottom" fmla="*/ 1028520 h 1028160"/>
                </a:gdLst>
                <a:ahLst/>
                <a:rect l="textAreaLeft" t="textAreaTop" r="textAreaRight" b="textAreaBottom"/>
                <a:pathLst>
                  <a:path w="1133493" h="1028700">
                    <a:moveTo>
                      <a:pt x="619143" y="0"/>
                    </a:moveTo>
                    <a:cubicBezTo>
                      <a:pt x="903211" y="0"/>
                      <a:pt x="1133493" y="230282"/>
                      <a:pt x="1133493" y="514350"/>
                    </a:cubicBezTo>
                    <a:cubicBezTo>
                      <a:pt x="1133493" y="798418"/>
                      <a:pt x="903211" y="1028700"/>
                      <a:pt x="619143" y="1028700"/>
                    </a:cubicBezTo>
                    <a:cubicBezTo>
                      <a:pt x="512618" y="1028700"/>
                      <a:pt x="413656" y="996317"/>
                      <a:pt x="331565" y="940857"/>
                    </a:cubicBezTo>
                    <a:lnTo>
                      <a:pt x="287952" y="904873"/>
                    </a:lnTo>
                    <a:lnTo>
                      <a:pt x="606443" y="904873"/>
                    </a:lnTo>
                    <a:lnTo>
                      <a:pt x="606443" y="903431"/>
                    </a:lnTo>
                    <a:lnTo>
                      <a:pt x="619143" y="904711"/>
                    </a:lnTo>
                    <a:cubicBezTo>
                      <a:pt x="834733" y="904711"/>
                      <a:pt x="1009504" y="729940"/>
                      <a:pt x="1009504" y="514350"/>
                    </a:cubicBezTo>
                    <a:cubicBezTo>
                      <a:pt x="1009504" y="298760"/>
                      <a:pt x="834733" y="123989"/>
                      <a:pt x="619143" y="123989"/>
                    </a:cubicBezTo>
                    <a:cubicBezTo>
                      <a:pt x="430502" y="123989"/>
                      <a:pt x="273113" y="257798"/>
                      <a:pt x="236713" y="435679"/>
                    </a:cubicBezTo>
                    <a:lnTo>
                      <a:pt x="232766" y="474828"/>
                    </a:lnTo>
                    <a:lnTo>
                      <a:pt x="349224" y="418670"/>
                    </a:lnTo>
                    <a:lnTo>
                      <a:pt x="352029" y="418891"/>
                    </a:lnTo>
                    <a:lnTo>
                      <a:pt x="152110" y="708352"/>
                    </a:lnTo>
                    <a:lnTo>
                      <a:pt x="0" y="391149"/>
                    </a:lnTo>
                    <a:lnTo>
                      <a:pt x="2805" y="391370"/>
                    </a:lnTo>
                    <a:lnTo>
                      <a:pt x="109712" y="465552"/>
                    </a:lnTo>
                    <a:lnTo>
                      <a:pt x="115243" y="410691"/>
                    </a:lnTo>
                    <a:cubicBezTo>
                      <a:pt x="163204" y="176310"/>
                      <a:pt x="370584" y="0"/>
                      <a:pt x="619143" y="0"/>
                    </a:cubicBezTo>
                    <a:close/>
                  </a:path>
                </a:pathLst>
              </a:custGeom>
              <a:solidFill>
                <a:srgbClr val="90c4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  <p:sp>
            <p:nvSpPr>
              <p:cNvPr id="155" name="文本框 2"/>
              <p:cNvSpPr/>
              <p:nvPr/>
            </p:nvSpPr>
            <p:spPr>
              <a:xfrm>
                <a:off x="2398320" y="2939760"/>
                <a:ext cx="66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俗</a:t>
                </a:r>
                <a:endParaRPr b="0" lang="en-US" sz="24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</p:grpSp>
        <p:grpSp>
          <p:nvGrpSpPr>
            <p:cNvPr id="156" name="组合 5"/>
            <p:cNvGrpSpPr/>
            <p:nvPr/>
          </p:nvGrpSpPr>
          <p:grpSpPr>
            <a:xfrm>
              <a:off x="1897200" y="4477320"/>
              <a:ext cx="1945800" cy="1137240"/>
              <a:chOff x="1897200" y="4477320"/>
              <a:chExt cx="1945800" cy="1137240"/>
            </a:xfrm>
          </p:grpSpPr>
          <p:sp>
            <p:nvSpPr>
              <p:cNvPr id="157" name="MH_SubTitle_3"/>
              <p:cNvSpPr/>
              <p:nvPr/>
            </p:nvSpPr>
            <p:spPr>
              <a:xfrm>
                <a:off x="2266560" y="4477320"/>
                <a:ext cx="1576440" cy="36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  <p:sp>
            <p:nvSpPr>
              <p:cNvPr id="158" name="MH_Other_6"/>
              <p:cNvSpPr/>
              <p:nvPr/>
            </p:nvSpPr>
            <p:spPr>
              <a:xfrm>
                <a:off x="1897200" y="4586760"/>
                <a:ext cx="1133640" cy="1027800"/>
              </a:xfrm>
              <a:custGeom>
                <a:avLst/>
                <a:gdLst>
                  <a:gd name="textAreaLeft" fmla="*/ 0 w 1133640"/>
                  <a:gd name="textAreaRight" fmla="*/ 1134000 w 1133640"/>
                  <a:gd name="textAreaTop" fmla="*/ 0 h 1027800"/>
                  <a:gd name="textAreaBottom" fmla="*/ 1028160 h 1027800"/>
                </a:gdLst>
                <a:ahLst/>
                <a:rect l="textAreaLeft" t="textAreaTop" r="textAreaRight" b="textAreaBottom"/>
                <a:pathLst>
                  <a:path w="1133493" h="1028700">
                    <a:moveTo>
                      <a:pt x="619143" y="0"/>
                    </a:moveTo>
                    <a:cubicBezTo>
                      <a:pt x="903211" y="0"/>
                      <a:pt x="1133493" y="230282"/>
                      <a:pt x="1133493" y="514350"/>
                    </a:cubicBezTo>
                    <a:cubicBezTo>
                      <a:pt x="1133493" y="798418"/>
                      <a:pt x="903211" y="1028700"/>
                      <a:pt x="619143" y="1028700"/>
                    </a:cubicBezTo>
                    <a:cubicBezTo>
                      <a:pt x="370584" y="1028700"/>
                      <a:pt x="163204" y="852390"/>
                      <a:pt x="115243" y="618009"/>
                    </a:cubicBezTo>
                    <a:lnTo>
                      <a:pt x="109712" y="563148"/>
                    </a:lnTo>
                    <a:lnTo>
                      <a:pt x="2805" y="637330"/>
                    </a:lnTo>
                    <a:lnTo>
                      <a:pt x="0" y="637551"/>
                    </a:lnTo>
                    <a:lnTo>
                      <a:pt x="152110" y="320348"/>
                    </a:lnTo>
                    <a:lnTo>
                      <a:pt x="352029" y="609809"/>
                    </a:lnTo>
                    <a:lnTo>
                      <a:pt x="349224" y="610030"/>
                    </a:lnTo>
                    <a:lnTo>
                      <a:pt x="232766" y="553872"/>
                    </a:lnTo>
                    <a:lnTo>
                      <a:pt x="236713" y="593021"/>
                    </a:lnTo>
                    <a:cubicBezTo>
                      <a:pt x="273113" y="770902"/>
                      <a:pt x="430502" y="904711"/>
                      <a:pt x="619143" y="904711"/>
                    </a:cubicBezTo>
                    <a:cubicBezTo>
                      <a:pt x="834733" y="904711"/>
                      <a:pt x="1009504" y="729940"/>
                      <a:pt x="1009504" y="514350"/>
                    </a:cubicBezTo>
                    <a:cubicBezTo>
                      <a:pt x="1009504" y="298760"/>
                      <a:pt x="834733" y="123989"/>
                      <a:pt x="619143" y="123989"/>
                    </a:cubicBezTo>
                    <a:lnTo>
                      <a:pt x="606443" y="125269"/>
                    </a:lnTo>
                    <a:lnTo>
                      <a:pt x="606443" y="123827"/>
                    </a:lnTo>
                    <a:lnTo>
                      <a:pt x="287952" y="123827"/>
                    </a:lnTo>
                    <a:lnTo>
                      <a:pt x="331565" y="87843"/>
                    </a:lnTo>
                    <a:cubicBezTo>
                      <a:pt x="413656" y="32383"/>
                      <a:pt x="512618" y="0"/>
                      <a:pt x="619143" y="0"/>
                    </a:cubicBezTo>
                    <a:close/>
                  </a:path>
                </a:pathLst>
              </a:custGeom>
              <a:solidFill>
                <a:srgbClr val="90c4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  <p:sp>
            <p:nvSpPr>
              <p:cNvPr id="159" name="文本框 3"/>
              <p:cNvSpPr/>
              <p:nvPr/>
            </p:nvSpPr>
            <p:spPr>
              <a:xfrm>
                <a:off x="2329200" y="48405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化</a:t>
                </a:r>
                <a:endParaRPr b="0" lang="en-US" sz="2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</p:grpSp>
      </p:grpSp>
      <p:sp>
        <p:nvSpPr>
          <p:cNvPr id="160" name="文本框 4"/>
          <p:cNvSpPr/>
          <p:nvPr/>
        </p:nvSpPr>
        <p:spPr>
          <a:xfrm>
            <a:off x="3492360" y="3851280"/>
            <a:ext cx="7624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山西还有许多种不同形式的“ 地秧歌”，如祁县“ 地秧歌”、汾阳“地秧歌”，商城、襄汾稷山的“高调秧歌”、曲沃、万荣等地的“跑圈秧歌”、文水的“凤秧歌”等，它们均系节日性的歌舞活动时所唱的歌。这些大都无固定曲目 ，而是选用适合的曲调来演唱 。它们有的是风俗歌曲，其歌词内容则多系花卉、风物或历史人物故事等，往往以“四季”、“十二月”作为歌词的序列。就各种“地秧歌”词曲来看，和小调无大差别。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3774960" y="1023840"/>
            <a:ext cx="3508560" cy="270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85680">
            <a:solidFill>
              <a:srgbClr val="ffffff"/>
            </a:solidFill>
            <a:prstDash val="sysDot"/>
            <a:miter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7537320" y="1023840"/>
            <a:ext cx="3508560" cy="27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85680">
            <a:solidFill>
              <a:srgbClr val="ffffff"/>
            </a:solidFill>
            <a:prstDash val="sysDot"/>
            <a:bevel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transition advTm="8000"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5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65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50"/>
                            </p:stCondLst>
                            <p:childTnLst>
                              <p:par>
                                <p:cTn id="1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85480" y="125280"/>
            <a:ext cx="416700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6f654d"/>
              </a:buClr>
              <a:buFont typeface="Webdings" charset="2"/>
              <a:buChar char="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文隶书"/>
                <a:ea typeface="华文隶书"/>
              </a:rPr>
              <a:t>特色建筑</a:t>
            </a:r>
            <a:endParaRPr b="0" lang="en-US" sz="5400" spc="-1" strike="noStrike">
              <a:solidFill>
                <a:srgbClr val="8f8363"/>
              </a:solidFill>
              <a:latin typeface="微软雅黑"/>
            </a:endParaRPr>
          </a:p>
        </p:txBody>
      </p:sp>
      <p:sp>
        <p:nvSpPr>
          <p:cNvPr id="164" name="MH_Other_2"/>
          <p:cNvSpPr/>
          <p:nvPr/>
        </p:nvSpPr>
        <p:spPr>
          <a:xfrm>
            <a:off x="6127920" y="3664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65" name="组合 4"/>
          <p:cNvGrpSpPr/>
          <p:nvPr/>
        </p:nvGrpSpPr>
        <p:grpSpPr>
          <a:xfrm>
            <a:off x="4533840" y="1700280"/>
            <a:ext cx="2454480" cy="1641240"/>
            <a:chOff x="4533840" y="1700280"/>
            <a:chExt cx="2454480" cy="1641240"/>
          </a:xfrm>
        </p:grpSpPr>
        <p:sp>
          <p:nvSpPr>
            <p:cNvPr id="166" name="MH_Other_3"/>
            <p:cNvSpPr/>
            <p:nvPr/>
          </p:nvSpPr>
          <p:spPr>
            <a:xfrm>
              <a:off x="4533840" y="1700280"/>
              <a:ext cx="2454480" cy="1641240"/>
            </a:xfrm>
            <a:custGeom>
              <a:avLst/>
              <a:gdLst>
                <a:gd name="textAreaLeft" fmla="*/ 0 w 2454480"/>
                <a:gd name="textAreaRight" fmla="*/ 2454840 w 2454480"/>
                <a:gd name="textAreaTop" fmla="*/ 0 h 1641240"/>
                <a:gd name="textAreaBottom" fmla="*/ 1641600 h 1641240"/>
              </a:gdLst>
              <a:ahLst/>
              <a:rect l="textAreaLeft" t="textAreaTop" r="textAreaRight" b="textAreaBottom"/>
              <a:pathLst>
                <a:path w="2552700" h="1706430">
                  <a:moveTo>
                    <a:pt x="853215" y="0"/>
                  </a:moveTo>
                  <a:cubicBezTo>
                    <a:pt x="971019" y="0"/>
                    <a:pt x="1083248" y="23875"/>
                    <a:pt x="1185325" y="67050"/>
                  </a:cubicBezTo>
                  <a:lnTo>
                    <a:pt x="1219200" y="85437"/>
                  </a:lnTo>
                  <a:lnTo>
                    <a:pt x="1219200" y="85277"/>
                  </a:lnTo>
                  <a:lnTo>
                    <a:pt x="2328606" y="601483"/>
                  </a:lnTo>
                  <a:cubicBezTo>
                    <a:pt x="2627398" y="740511"/>
                    <a:pt x="2627398" y="965919"/>
                    <a:pt x="2328606" y="1104947"/>
                  </a:cubicBezTo>
                  <a:lnTo>
                    <a:pt x="1219200" y="1621153"/>
                  </a:lnTo>
                  <a:lnTo>
                    <a:pt x="1219200" y="1620994"/>
                  </a:lnTo>
                  <a:lnTo>
                    <a:pt x="1185325" y="1639380"/>
                  </a:lnTo>
                  <a:cubicBezTo>
                    <a:pt x="1083248" y="1682555"/>
                    <a:pt x="971019" y="1706430"/>
                    <a:pt x="853215" y="1706430"/>
                  </a:cubicBezTo>
                  <a:cubicBezTo>
                    <a:pt x="381997" y="1706430"/>
                    <a:pt x="0" y="1324433"/>
                    <a:pt x="0" y="853215"/>
                  </a:cubicBezTo>
                  <a:cubicBezTo>
                    <a:pt x="0" y="381997"/>
                    <a:pt x="381997" y="0"/>
                    <a:pt x="853215" y="0"/>
                  </a:cubicBezTo>
                  <a:close/>
                </a:path>
              </a:pathLst>
            </a:custGeom>
            <a:solidFill>
              <a:srgbClr val="2e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67" name="MH_SubTitle_3"/>
            <p:cNvSpPr/>
            <p:nvPr/>
          </p:nvSpPr>
          <p:spPr>
            <a:xfrm>
              <a:off x="4654440" y="1849320"/>
              <a:ext cx="1466640" cy="1466640"/>
            </a:xfrm>
            <a:prstGeom prst="ellipse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2eb7b7"/>
                  </a:solidFill>
                  <a:latin typeface="Calibri"/>
                  <a:ea typeface="宋体"/>
                </a:rPr>
                <a:t>建</a:t>
              </a:r>
              <a:endParaRPr b="0" lang="en-US" sz="40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68" name="组合 5"/>
          <p:cNvGrpSpPr/>
          <p:nvPr/>
        </p:nvGrpSpPr>
        <p:grpSpPr>
          <a:xfrm>
            <a:off x="5373360" y="4073400"/>
            <a:ext cx="2452680" cy="1640160"/>
            <a:chOff x="5373360" y="4073400"/>
            <a:chExt cx="2452680" cy="1640160"/>
          </a:xfrm>
        </p:grpSpPr>
        <p:sp>
          <p:nvSpPr>
            <p:cNvPr id="169" name="MH_Other_7"/>
            <p:cNvSpPr/>
            <p:nvPr/>
          </p:nvSpPr>
          <p:spPr>
            <a:xfrm flipH="1">
              <a:off x="5373000" y="4073400"/>
              <a:ext cx="2452680" cy="1640160"/>
            </a:xfrm>
            <a:custGeom>
              <a:avLst/>
              <a:gdLst>
                <a:gd name="textAreaLeft" fmla="*/ -360 w 2452680"/>
                <a:gd name="textAreaRight" fmla="*/ 2452680 w 2452680"/>
                <a:gd name="textAreaTop" fmla="*/ 0 h 1640160"/>
                <a:gd name="textAreaBottom" fmla="*/ 1640520 h 1640160"/>
              </a:gdLst>
              <a:ahLst/>
              <a:rect l="textAreaLeft" t="textAreaTop" r="textAreaRight" b="textAreaBottom"/>
              <a:pathLst>
                <a:path w="2552700" h="1706430">
                  <a:moveTo>
                    <a:pt x="853215" y="0"/>
                  </a:moveTo>
                  <a:cubicBezTo>
                    <a:pt x="971019" y="0"/>
                    <a:pt x="1083248" y="23875"/>
                    <a:pt x="1185325" y="67050"/>
                  </a:cubicBezTo>
                  <a:lnTo>
                    <a:pt x="1219200" y="85437"/>
                  </a:lnTo>
                  <a:lnTo>
                    <a:pt x="1219200" y="85277"/>
                  </a:lnTo>
                  <a:lnTo>
                    <a:pt x="2328606" y="601483"/>
                  </a:lnTo>
                  <a:cubicBezTo>
                    <a:pt x="2627398" y="740511"/>
                    <a:pt x="2627398" y="965919"/>
                    <a:pt x="2328606" y="1104947"/>
                  </a:cubicBezTo>
                  <a:lnTo>
                    <a:pt x="1219200" y="1621153"/>
                  </a:lnTo>
                  <a:lnTo>
                    <a:pt x="1219200" y="1620994"/>
                  </a:lnTo>
                  <a:lnTo>
                    <a:pt x="1185325" y="1639380"/>
                  </a:lnTo>
                  <a:cubicBezTo>
                    <a:pt x="1083248" y="1682555"/>
                    <a:pt x="971019" y="1706430"/>
                    <a:pt x="853215" y="1706430"/>
                  </a:cubicBezTo>
                  <a:cubicBezTo>
                    <a:pt x="381997" y="1706430"/>
                    <a:pt x="0" y="1324433"/>
                    <a:pt x="0" y="853215"/>
                  </a:cubicBezTo>
                  <a:cubicBezTo>
                    <a:pt x="0" y="381997"/>
                    <a:pt x="381997" y="0"/>
                    <a:pt x="853215" y="0"/>
                  </a:cubicBezTo>
                  <a:close/>
                </a:path>
              </a:pathLst>
            </a:custGeom>
            <a:solidFill>
              <a:srgbClr val="2fb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70" name="MH_SubTitle_4"/>
            <p:cNvSpPr/>
            <p:nvPr/>
          </p:nvSpPr>
          <p:spPr>
            <a:xfrm flipH="1">
              <a:off x="6010560" y="4176000"/>
              <a:ext cx="1462680" cy="1465560"/>
            </a:xfrm>
            <a:prstGeom prst="ellipse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2fbf84"/>
                  </a:solidFill>
                  <a:latin typeface="Calibri"/>
                  <a:ea typeface="宋体"/>
                </a:rPr>
                <a:t>筑</a:t>
              </a:r>
              <a:endParaRPr b="0" lang="en-US" sz="40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71" name="组合 1"/>
          <p:cNvGrpSpPr/>
          <p:nvPr/>
        </p:nvGrpSpPr>
        <p:grpSpPr>
          <a:xfrm>
            <a:off x="1174680" y="1263600"/>
            <a:ext cx="4057560" cy="434520"/>
            <a:chOff x="1174680" y="1263600"/>
            <a:chExt cx="4057560" cy="434520"/>
          </a:xfrm>
        </p:grpSpPr>
        <p:sp>
          <p:nvSpPr>
            <p:cNvPr id="172" name="文本框 9"/>
            <p:cNvSpPr/>
            <p:nvPr/>
          </p:nvSpPr>
          <p:spPr>
            <a:xfrm>
              <a:off x="1174680" y="1263600"/>
              <a:ext cx="40575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     </a:t>
              </a:r>
              <a:r>
                <a:rPr b="1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山西民居</a:t>
              </a:r>
              <a:r>
                <a:rPr b="0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建筑特点  山西的村落无论大小，很少没有一个门楼的。村落的四周，并不一定都有围墙，但是在大道入村处，必须建这种一座纪念性建筑物，提醒旅客，告诉他又到一处村镇了。</a:t>
              </a:r>
              <a:endParaRPr b="0" lang="en-US" sz="16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73" name="组合 2"/>
          <p:cNvGrpSpPr/>
          <p:nvPr/>
        </p:nvGrpSpPr>
        <p:grpSpPr>
          <a:xfrm>
            <a:off x="7410600" y="741240"/>
            <a:ext cx="4082760" cy="775080"/>
            <a:chOff x="7410600" y="741240"/>
            <a:chExt cx="4082760" cy="775080"/>
          </a:xfrm>
        </p:grpSpPr>
        <p:sp>
          <p:nvSpPr>
            <p:cNvPr id="174" name="文本框 10"/>
            <p:cNvSpPr/>
            <p:nvPr/>
          </p:nvSpPr>
          <p:spPr>
            <a:xfrm>
              <a:off x="7410600" y="741240"/>
              <a:ext cx="408276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   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  </a:t>
              </a:r>
              <a:r>
                <a:rPr b="1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华门</a:t>
              </a:r>
              <a:r>
                <a:rPr b="0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是世界上规模最大的门建筑。目前，世界上最高的门是举世闻名的法国凯旋门，高</a:t>
              </a:r>
              <a:r>
                <a:rPr b="0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49.6</a:t>
              </a:r>
              <a:r>
                <a:rPr b="0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米，而华门</a:t>
              </a:r>
              <a:r>
                <a:rPr b="0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年建成，比凯旋门高</a:t>
              </a:r>
              <a:r>
                <a:rPr b="0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0.4</a:t>
              </a:r>
              <a:r>
                <a:rPr b="0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米，雄居世界第一，在建筑规模和高度上堪称“天下第一门”。 </a:t>
              </a:r>
              <a:endParaRPr b="0" lang="en-US" sz="16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pic>
        <p:nvPicPr>
          <p:cNvPr id="175" name="六边形 8" descr=""/>
          <p:cNvPicPr/>
          <p:nvPr/>
        </p:nvPicPr>
        <p:blipFill>
          <a:blip r:embed="rId1"/>
          <a:stretch/>
        </p:blipFill>
        <p:spPr>
          <a:xfrm>
            <a:off x="-374760" y="-326880"/>
            <a:ext cx="10471320" cy="8524800"/>
          </a:xfrm>
          <a:prstGeom prst="rect">
            <a:avLst/>
          </a:prstGeom>
          <a:ln w="0">
            <a:noFill/>
          </a:ln>
        </p:spPr>
      </p:pic>
      <p:pic>
        <p:nvPicPr>
          <p:cNvPr id="176" name="六边形 6" descr=""/>
          <p:cNvPicPr/>
          <p:nvPr/>
        </p:nvPicPr>
        <p:blipFill>
          <a:blip r:embed="rId2"/>
          <a:stretch/>
        </p:blipFill>
        <p:spPr>
          <a:xfrm>
            <a:off x="46080" y="4307040"/>
            <a:ext cx="10470960" cy="85248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50"/>
                            </p:stCondLst>
                            <p:childTnLst>
                              <p:par>
                                <p:cTn id="1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-2"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5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15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99880" y="150840"/>
            <a:ext cx="374184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6f654d"/>
              </a:buClr>
              <a:buFont typeface="Webdings" charset="2"/>
              <a:buChar char="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文隶书"/>
                <a:ea typeface="华文隶书"/>
              </a:rPr>
              <a:t>特色小吃</a:t>
            </a:r>
            <a:endParaRPr b="0" lang="en-US" sz="5400" spc="-1" strike="noStrike">
              <a:solidFill>
                <a:srgbClr val="8f8363"/>
              </a:solidFill>
              <a:latin typeface="微软雅黑"/>
            </a:endParaRPr>
          </a:p>
        </p:txBody>
      </p:sp>
      <p:grpSp>
        <p:nvGrpSpPr>
          <p:cNvPr id="178" name="组合 4"/>
          <p:cNvGrpSpPr/>
          <p:nvPr/>
        </p:nvGrpSpPr>
        <p:grpSpPr>
          <a:xfrm>
            <a:off x="883080" y="1707840"/>
            <a:ext cx="2272320" cy="1778760"/>
            <a:chOff x="883080" y="1707840"/>
            <a:chExt cx="2272320" cy="1778760"/>
          </a:xfrm>
        </p:grpSpPr>
        <p:sp>
          <p:nvSpPr>
            <p:cNvPr id="179" name="MH_Other_1"/>
            <p:cNvSpPr/>
            <p:nvPr/>
          </p:nvSpPr>
          <p:spPr>
            <a:xfrm flipH="1" rot="14988600">
              <a:off x="1438200" y="1600200"/>
              <a:ext cx="1162080" cy="1993680"/>
            </a:xfrm>
            <a:custGeom>
              <a:avLst/>
              <a:gdLst>
                <a:gd name="textAreaLeft" fmla="*/ 360 w 1162080"/>
                <a:gd name="textAreaRight" fmla="*/ 1162800 w 1162080"/>
                <a:gd name="textAreaTop" fmla="*/ 0 h 1993680"/>
                <a:gd name="textAreaBottom" fmla="*/ 1994040 h 1993680"/>
              </a:gdLst>
              <a:ahLst/>
              <a:rect l="textAreaLeft" t="textAreaTop" r="textAreaRight" b="textAreaBottom"/>
              <a:pathLst>
                <a:path w="1420316" h="2434416">
                  <a:moveTo>
                    <a:pt x="1420316" y="1608204"/>
                  </a:moveTo>
                  <a:lnTo>
                    <a:pt x="1102447" y="1610790"/>
                  </a:lnTo>
                  <a:lnTo>
                    <a:pt x="1102447" y="684863"/>
                  </a:lnTo>
                  <a:cubicBezTo>
                    <a:pt x="1102447" y="482177"/>
                    <a:pt x="938138" y="317868"/>
                    <a:pt x="735452" y="317868"/>
                  </a:cubicBezTo>
                  <a:lnTo>
                    <a:pt x="684863" y="317868"/>
                  </a:lnTo>
                  <a:cubicBezTo>
                    <a:pt x="482177" y="317868"/>
                    <a:pt x="317868" y="482177"/>
                    <a:pt x="317868" y="684863"/>
                  </a:cubicBezTo>
                  <a:lnTo>
                    <a:pt x="317868" y="2434416"/>
                  </a:lnTo>
                  <a:lnTo>
                    <a:pt x="0" y="2434416"/>
                  </a:lnTo>
                  <a:lnTo>
                    <a:pt x="0" y="684863"/>
                  </a:lnTo>
                  <a:cubicBezTo>
                    <a:pt x="0" y="306624"/>
                    <a:pt x="306624" y="0"/>
                    <a:pt x="684863" y="0"/>
                  </a:cubicBezTo>
                  <a:lnTo>
                    <a:pt x="735453" y="0"/>
                  </a:lnTo>
                  <a:cubicBezTo>
                    <a:pt x="1113692" y="0"/>
                    <a:pt x="1420316" y="306624"/>
                    <a:pt x="1420316" y="684863"/>
                  </a:cubicBezTo>
                  <a:close/>
                </a:path>
              </a:pathLst>
            </a:custGeom>
            <a:solidFill>
              <a:srgbClr val="47b6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80" name="MH_Other_2"/>
            <p:cNvSpPr/>
            <p:nvPr/>
          </p:nvSpPr>
          <p:spPr>
            <a:xfrm rot="20557800">
              <a:off x="1533240" y="2433240"/>
              <a:ext cx="536400" cy="536400"/>
            </a:xfrm>
            <a:prstGeom prst="ellipse">
              <a:avLst/>
            </a:prstGeom>
            <a:solidFill>
              <a:srgbClr val="47b6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美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81" name="组合 5"/>
          <p:cNvGrpSpPr/>
          <p:nvPr/>
        </p:nvGrpSpPr>
        <p:grpSpPr>
          <a:xfrm>
            <a:off x="8715240" y="3466440"/>
            <a:ext cx="2272680" cy="1778760"/>
            <a:chOff x="8715240" y="3466440"/>
            <a:chExt cx="2272680" cy="1778760"/>
          </a:xfrm>
        </p:grpSpPr>
        <p:sp>
          <p:nvSpPr>
            <p:cNvPr id="182" name="MH_Other_3"/>
            <p:cNvSpPr/>
            <p:nvPr/>
          </p:nvSpPr>
          <p:spPr>
            <a:xfrm flipV="1" rot="14988600">
              <a:off x="9270360" y="3358080"/>
              <a:ext cx="1162080" cy="199404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-360 h 1994040"/>
                <a:gd name="textAreaBottom" fmla="*/ 1994040 h 1994040"/>
              </a:gdLst>
              <a:ahLst/>
              <a:rect l="textAreaLeft" t="textAreaTop" r="textAreaRight" b="textAreaBottom"/>
              <a:pathLst>
                <a:path w="1420316" h="2434416">
                  <a:moveTo>
                    <a:pt x="1420316" y="1608204"/>
                  </a:moveTo>
                  <a:lnTo>
                    <a:pt x="1102447" y="1610790"/>
                  </a:lnTo>
                  <a:lnTo>
                    <a:pt x="1102447" y="684863"/>
                  </a:lnTo>
                  <a:cubicBezTo>
                    <a:pt x="1102447" y="482177"/>
                    <a:pt x="938138" y="317868"/>
                    <a:pt x="735452" y="317868"/>
                  </a:cubicBezTo>
                  <a:lnTo>
                    <a:pt x="684863" y="317868"/>
                  </a:lnTo>
                  <a:cubicBezTo>
                    <a:pt x="482177" y="317868"/>
                    <a:pt x="317868" y="482177"/>
                    <a:pt x="317868" y="684863"/>
                  </a:cubicBezTo>
                  <a:lnTo>
                    <a:pt x="317868" y="2434416"/>
                  </a:lnTo>
                  <a:lnTo>
                    <a:pt x="0" y="2434416"/>
                  </a:lnTo>
                  <a:lnTo>
                    <a:pt x="0" y="684863"/>
                  </a:lnTo>
                  <a:cubicBezTo>
                    <a:pt x="0" y="306624"/>
                    <a:pt x="306624" y="0"/>
                    <a:pt x="684863" y="0"/>
                  </a:cubicBezTo>
                  <a:lnTo>
                    <a:pt x="735453" y="0"/>
                  </a:lnTo>
                  <a:cubicBezTo>
                    <a:pt x="1113692" y="0"/>
                    <a:pt x="1420316" y="306624"/>
                    <a:pt x="1420316" y="684863"/>
                  </a:cubicBezTo>
                  <a:close/>
                </a:path>
              </a:pathLst>
            </a:custGeom>
            <a:solidFill>
              <a:srgbClr val="628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83" name="MH_Other_4"/>
            <p:cNvSpPr/>
            <p:nvPr/>
          </p:nvSpPr>
          <p:spPr>
            <a:xfrm rot="20557800">
              <a:off x="9802440" y="3998880"/>
              <a:ext cx="536400" cy="536040"/>
            </a:xfrm>
            <a:prstGeom prst="ellipse">
              <a:avLst/>
            </a:prstGeom>
            <a:solidFill>
              <a:srgbClr val="628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食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3530520" y="2679840"/>
            <a:ext cx="2378160" cy="218124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979560" y="4044960"/>
            <a:ext cx="2355840" cy="22273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8721720" y="725400"/>
            <a:ext cx="2394000" cy="232416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 rot="20640000">
            <a:off x="3026160" y="1301400"/>
            <a:ext cx="4800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303030"/>
                </a:solidFill>
                <a:latin typeface="Arial"/>
                <a:ea typeface="微软雅黑"/>
              </a:rPr>
              <a:t>山西小吃历史悠久、口味独特、品种繁多。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88" name="文本框 7"/>
          <p:cNvSpPr/>
          <p:nvPr/>
        </p:nvSpPr>
        <p:spPr>
          <a:xfrm rot="20520000">
            <a:off x="5026320" y="4911840"/>
            <a:ext cx="452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303030"/>
                </a:solidFill>
                <a:latin typeface="Arial"/>
                <a:ea typeface="微软雅黑"/>
              </a:rPr>
              <a:t>用料讲究、制作精细，堪称有口皆碑。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89" name="图片 8" descr="980w0"/>
          <p:cNvPicPr/>
          <p:nvPr/>
        </p:nvPicPr>
        <p:blipFill>
          <a:blip r:embed="rId4"/>
          <a:stretch/>
        </p:blipFill>
        <p:spPr>
          <a:xfrm>
            <a:off x="6097680" y="2165400"/>
            <a:ext cx="2414520" cy="20797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</p:pic>
    </p:spTree>
  </p:cSld>
  <p:transition advTm="8000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50"/>
                            </p:stCondLst>
                            <p:childTnLst>
                              <p:par>
                                <p:cTn id="2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650"/>
                            </p:stCondLst>
                            <p:childTnLst>
                              <p:par>
                                <p:cTn id="2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650"/>
                            </p:stCondLst>
                            <p:childTnLst>
                              <p:par>
                                <p:cTn id="2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650"/>
                            </p:stCondLst>
                            <p:childTnLst>
                              <p:par>
                                <p:cTn id="2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650"/>
                            </p:stCondLst>
                            <p:childTnLst>
                              <p:par>
                                <p:cTn id="2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65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57040" y="139680"/>
            <a:ext cx="384192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6f654d"/>
              </a:buClr>
              <a:buFont typeface="Webdings" charset="2"/>
              <a:buChar char="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文隶书"/>
                <a:ea typeface="华文隶书"/>
              </a:rPr>
              <a:t>文化始祖</a:t>
            </a:r>
            <a:endParaRPr b="0" lang="en-US" sz="5400" spc="-1" strike="noStrike">
              <a:solidFill>
                <a:srgbClr val="8f8363"/>
              </a:solidFill>
              <a:latin typeface="微软雅黑"/>
            </a:endParaRPr>
          </a:p>
        </p:txBody>
      </p:sp>
      <p:grpSp>
        <p:nvGrpSpPr>
          <p:cNvPr id="191" name="组合 4"/>
          <p:cNvGrpSpPr/>
          <p:nvPr/>
        </p:nvGrpSpPr>
        <p:grpSpPr>
          <a:xfrm>
            <a:off x="3514680" y="1773360"/>
            <a:ext cx="5429160" cy="1369440"/>
            <a:chOff x="3514680" y="1773360"/>
            <a:chExt cx="5429160" cy="1369440"/>
          </a:xfrm>
        </p:grpSpPr>
        <p:sp>
          <p:nvSpPr>
            <p:cNvPr id="192" name="MH_Other_1"/>
            <p:cNvSpPr/>
            <p:nvPr/>
          </p:nvSpPr>
          <p:spPr>
            <a:xfrm>
              <a:off x="4351320" y="2527200"/>
              <a:ext cx="901080" cy="45936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079500" h="381000">
                  <a:moveTo>
                    <a:pt x="0" y="0"/>
                  </a:moveTo>
                  <a:lnTo>
                    <a:pt x="96474" y="0"/>
                  </a:lnTo>
                  <a:lnTo>
                    <a:pt x="97446" y="741"/>
                  </a:lnTo>
                  <a:cubicBezTo>
                    <a:pt x="193302" y="59438"/>
                    <a:pt x="355632" y="98029"/>
                    <a:pt x="539750" y="98029"/>
                  </a:cubicBezTo>
                  <a:cubicBezTo>
                    <a:pt x="723868" y="98029"/>
                    <a:pt x="886198" y="59438"/>
                    <a:pt x="982054" y="741"/>
                  </a:cubicBezTo>
                  <a:lnTo>
                    <a:pt x="983026" y="0"/>
                  </a:lnTo>
                  <a:lnTo>
                    <a:pt x="1079500" y="0"/>
                  </a:lnTo>
                  <a:lnTo>
                    <a:pt x="1079500" y="381000"/>
                  </a:lnTo>
                  <a:lnTo>
                    <a:pt x="983025" y="381000"/>
                  </a:lnTo>
                  <a:lnTo>
                    <a:pt x="982054" y="380260"/>
                  </a:lnTo>
                  <a:cubicBezTo>
                    <a:pt x="886198" y="321564"/>
                    <a:pt x="723868" y="282972"/>
                    <a:pt x="539750" y="282972"/>
                  </a:cubicBezTo>
                  <a:cubicBezTo>
                    <a:pt x="355632" y="282972"/>
                    <a:pt x="193302" y="321564"/>
                    <a:pt x="97446" y="380260"/>
                  </a:cubicBezTo>
                  <a:lnTo>
                    <a:pt x="96476" y="381000"/>
                  </a:lnTo>
                  <a:lnTo>
                    <a:pt x="0" y="38100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93" name="MH_Other_2"/>
            <p:cNvSpPr/>
            <p:nvPr/>
          </p:nvSpPr>
          <p:spPr>
            <a:xfrm>
              <a:off x="5779080" y="2527200"/>
              <a:ext cx="901080" cy="45936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079500" h="381000">
                  <a:moveTo>
                    <a:pt x="0" y="0"/>
                  </a:moveTo>
                  <a:lnTo>
                    <a:pt x="96474" y="0"/>
                  </a:lnTo>
                  <a:lnTo>
                    <a:pt x="97446" y="741"/>
                  </a:lnTo>
                  <a:cubicBezTo>
                    <a:pt x="193302" y="59438"/>
                    <a:pt x="355632" y="98029"/>
                    <a:pt x="539750" y="98029"/>
                  </a:cubicBezTo>
                  <a:cubicBezTo>
                    <a:pt x="723868" y="98029"/>
                    <a:pt x="886198" y="59438"/>
                    <a:pt x="982054" y="741"/>
                  </a:cubicBezTo>
                  <a:lnTo>
                    <a:pt x="983026" y="0"/>
                  </a:lnTo>
                  <a:lnTo>
                    <a:pt x="1079500" y="0"/>
                  </a:lnTo>
                  <a:lnTo>
                    <a:pt x="1079500" y="381000"/>
                  </a:lnTo>
                  <a:lnTo>
                    <a:pt x="983025" y="381000"/>
                  </a:lnTo>
                  <a:lnTo>
                    <a:pt x="982054" y="380260"/>
                  </a:lnTo>
                  <a:cubicBezTo>
                    <a:pt x="886198" y="321564"/>
                    <a:pt x="723868" y="282972"/>
                    <a:pt x="539750" y="282972"/>
                  </a:cubicBezTo>
                  <a:cubicBezTo>
                    <a:pt x="355632" y="282972"/>
                    <a:pt x="193302" y="321564"/>
                    <a:pt x="97446" y="380260"/>
                  </a:cubicBezTo>
                  <a:lnTo>
                    <a:pt x="96476" y="381000"/>
                  </a:lnTo>
                  <a:lnTo>
                    <a:pt x="0" y="38100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94" name="MH_Other_3"/>
            <p:cNvSpPr/>
            <p:nvPr/>
          </p:nvSpPr>
          <p:spPr>
            <a:xfrm>
              <a:off x="7206840" y="2527200"/>
              <a:ext cx="901080" cy="45936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079500" h="381000">
                  <a:moveTo>
                    <a:pt x="0" y="0"/>
                  </a:moveTo>
                  <a:lnTo>
                    <a:pt x="96474" y="0"/>
                  </a:lnTo>
                  <a:lnTo>
                    <a:pt x="97446" y="741"/>
                  </a:lnTo>
                  <a:cubicBezTo>
                    <a:pt x="193302" y="59438"/>
                    <a:pt x="355632" y="98029"/>
                    <a:pt x="539750" y="98029"/>
                  </a:cubicBezTo>
                  <a:cubicBezTo>
                    <a:pt x="723868" y="98029"/>
                    <a:pt x="886198" y="59438"/>
                    <a:pt x="982054" y="741"/>
                  </a:cubicBezTo>
                  <a:lnTo>
                    <a:pt x="983026" y="0"/>
                  </a:lnTo>
                  <a:lnTo>
                    <a:pt x="1079500" y="0"/>
                  </a:lnTo>
                  <a:lnTo>
                    <a:pt x="1079500" y="381000"/>
                  </a:lnTo>
                  <a:lnTo>
                    <a:pt x="983025" y="381000"/>
                  </a:lnTo>
                  <a:lnTo>
                    <a:pt x="982054" y="380260"/>
                  </a:lnTo>
                  <a:cubicBezTo>
                    <a:pt x="886198" y="321564"/>
                    <a:pt x="723868" y="282972"/>
                    <a:pt x="539750" y="282972"/>
                  </a:cubicBezTo>
                  <a:cubicBezTo>
                    <a:pt x="355632" y="282972"/>
                    <a:pt x="193302" y="321564"/>
                    <a:pt x="97446" y="380260"/>
                  </a:cubicBezTo>
                  <a:lnTo>
                    <a:pt x="96476" y="381000"/>
                  </a:lnTo>
                  <a:lnTo>
                    <a:pt x="0" y="38100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95" name="MH_Other_4"/>
            <p:cNvSpPr/>
            <p:nvPr/>
          </p:nvSpPr>
          <p:spPr>
            <a:xfrm>
              <a:off x="5083200" y="2372040"/>
              <a:ext cx="865440" cy="770760"/>
            </a:xfrm>
            <a:prstGeom prst="ellipse">
              <a:avLst/>
            </a:prstGeom>
            <a:solidFill>
              <a:srgbClr val="ef6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史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96" name="MH_Other_5"/>
            <p:cNvSpPr/>
            <p:nvPr/>
          </p:nvSpPr>
          <p:spPr>
            <a:xfrm>
              <a:off x="3655440" y="2372040"/>
              <a:ext cx="863640" cy="770760"/>
            </a:xfrm>
            <a:prstGeom prst="ellipse">
              <a:avLst/>
            </a:prstGeom>
            <a:solidFill>
              <a:srgbClr val="ef6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历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97" name="MH_Other_6"/>
            <p:cNvSpPr/>
            <p:nvPr/>
          </p:nvSpPr>
          <p:spPr>
            <a:xfrm>
              <a:off x="6510960" y="2372040"/>
              <a:ext cx="865440" cy="770760"/>
            </a:xfrm>
            <a:prstGeom prst="ellipse">
              <a:avLst/>
            </a:prstGeom>
            <a:solidFill>
              <a:srgbClr val="ef6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名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98" name="MH_Other_7"/>
            <p:cNvSpPr/>
            <p:nvPr/>
          </p:nvSpPr>
          <p:spPr>
            <a:xfrm>
              <a:off x="7940160" y="2372040"/>
              <a:ext cx="863640" cy="770760"/>
            </a:xfrm>
            <a:prstGeom prst="ellipse">
              <a:avLst/>
            </a:prstGeom>
            <a:solidFill>
              <a:srgbClr val="ef6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人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99" name="MH_SubTitle_1"/>
            <p:cNvSpPr/>
            <p:nvPr/>
          </p:nvSpPr>
          <p:spPr>
            <a:xfrm>
              <a:off x="3514680" y="1773360"/>
              <a:ext cx="114804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3816"/>
                  </a:solidFill>
                  <a:latin typeface="Calibri"/>
                  <a:ea typeface="微软雅黑"/>
                </a:rPr>
                <a:t>LOREM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200" name="MH_SubTitle_2"/>
            <p:cNvSpPr/>
            <p:nvPr/>
          </p:nvSpPr>
          <p:spPr>
            <a:xfrm>
              <a:off x="4942080" y="1773360"/>
              <a:ext cx="114624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3816"/>
                  </a:solidFill>
                  <a:latin typeface="Calibri"/>
                  <a:ea typeface="微软雅黑"/>
                </a:rPr>
                <a:t>LOREM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201" name="MH_SubTitle_3"/>
            <p:cNvSpPr/>
            <p:nvPr/>
          </p:nvSpPr>
          <p:spPr>
            <a:xfrm>
              <a:off x="6368040" y="1773360"/>
              <a:ext cx="114804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3816"/>
                  </a:solidFill>
                  <a:latin typeface="Calibri"/>
                  <a:ea typeface="微软雅黑"/>
                </a:rPr>
                <a:t>LOREM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202" name="MH_SubTitle_4"/>
            <p:cNvSpPr/>
            <p:nvPr/>
          </p:nvSpPr>
          <p:spPr>
            <a:xfrm>
              <a:off x="7795800" y="1773360"/>
              <a:ext cx="114804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3816"/>
                  </a:solidFill>
                  <a:latin typeface="Calibri"/>
                  <a:ea typeface="微软雅黑"/>
                </a:rPr>
                <a:t>LOREM</a:t>
              </a:r>
              <a:endParaRPr b="0" lang="en-US" sz="24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203" name="MH_Text_1"/>
          <p:cNvSpPr/>
          <p:nvPr/>
        </p:nvSpPr>
        <p:spPr>
          <a:xfrm>
            <a:off x="3652920" y="4273560"/>
            <a:ext cx="168120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204" name="图片 2" descr=""/>
          <p:cNvPicPr/>
          <p:nvPr/>
        </p:nvPicPr>
        <p:blipFill>
          <a:blip r:embed="rId1"/>
          <a:stretch/>
        </p:blipFill>
        <p:spPr>
          <a:xfrm>
            <a:off x="843120" y="1204920"/>
            <a:ext cx="2598480" cy="2689200"/>
          </a:xfrm>
          <a:prstGeom prst="rect">
            <a:avLst/>
          </a:prstGeom>
          <a:ln w="38160">
            <a:solidFill>
              <a:srgbClr val="303030"/>
            </a:solidFill>
            <a:miter/>
          </a:ln>
        </p:spPr>
      </p:pic>
      <p:pic>
        <p:nvPicPr>
          <p:cNvPr id="205" name="图片 3" descr=""/>
          <p:cNvPicPr/>
          <p:nvPr/>
        </p:nvPicPr>
        <p:blipFill>
          <a:blip r:embed="rId2"/>
          <a:stretch/>
        </p:blipFill>
        <p:spPr>
          <a:xfrm>
            <a:off x="6246720" y="3606840"/>
            <a:ext cx="2544840" cy="2685960"/>
          </a:xfrm>
          <a:prstGeom prst="rect">
            <a:avLst/>
          </a:prstGeom>
          <a:ln w="38160">
            <a:solidFill>
              <a:srgbClr val="303030"/>
            </a:solidFill>
            <a:miter/>
          </a:ln>
        </p:spPr>
      </p:pic>
      <p:pic>
        <p:nvPicPr>
          <p:cNvPr id="206" name="图片 4" descr=""/>
          <p:cNvPicPr/>
          <p:nvPr/>
        </p:nvPicPr>
        <p:blipFill>
          <a:blip r:embed="rId3"/>
          <a:stretch/>
        </p:blipFill>
        <p:spPr>
          <a:xfrm>
            <a:off x="8950320" y="974880"/>
            <a:ext cx="2560680" cy="2703240"/>
          </a:xfrm>
          <a:prstGeom prst="rect">
            <a:avLst/>
          </a:prstGeom>
          <a:ln w="38160">
            <a:solidFill>
              <a:srgbClr val="303030"/>
            </a:solidFill>
            <a:miter/>
          </a:ln>
        </p:spPr>
      </p:pic>
      <p:pic>
        <p:nvPicPr>
          <p:cNvPr id="207" name="图片 1" descr=""/>
          <p:cNvPicPr/>
          <p:nvPr/>
        </p:nvPicPr>
        <p:blipFill>
          <a:blip r:embed="rId4"/>
          <a:stretch/>
        </p:blipFill>
        <p:spPr>
          <a:xfrm>
            <a:off x="3543480" y="3618000"/>
            <a:ext cx="2603160" cy="2703600"/>
          </a:xfrm>
          <a:prstGeom prst="rect">
            <a:avLst/>
          </a:prstGeom>
          <a:ln w="38160">
            <a:solidFill>
              <a:srgbClr val="303030"/>
            </a:solidFill>
            <a:miter/>
          </a:ln>
        </p:spPr>
      </p:pic>
      <p:sp>
        <p:nvSpPr>
          <p:cNvPr id="208" name="文本框 5"/>
          <p:cNvSpPr/>
          <p:nvPr/>
        </p:nvSpPr>
        <p:spPr>
          <a:xfrm>
            <a:off x="990720" y="3908520"/>
            <a:ext cx="2330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山西，是中华民族的发祥地之一。在这片土地上，</a:t>
            </a:r>
            <a:r>
              <a:rPr b="0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万年前就有人类生息繁衍，西侯度文化和丁村文化遗址表明，早在旧石器时代就已有了人类在这里繁衍生息。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8982000" y="3627360"/>
            <a:ext cx="25146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山西历史悠久，人文荟萃，拥有丰厚的历史文化遗产。迄今为止有文字记载的历史达三千年之久，素有“中国古代文化博物馆”之美称，还被誉为“华夏文明的摇篮”。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transition advTm="8000"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50"/>
                            </p:stCondLst>
                            <p:childTnLst>
                              <p:par>
                                <p:cTn id="2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65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65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65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15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65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15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94960" y="1285560"/>
            <a:ext cx="105872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303030"/>
                </a:solidFill>
                <a:latin typeface="宋体"/>
                <a:ea typeface="宋体"/>
              </a:rPr>
              <a:t>山之西   河之东  人之杰  地之灵你是华夏的摇篮，  </a:t>
            </a:r>
            <a:endParaRPr b="0" lang="en-US" sz="1800" spc="-1" strike="noStrike">
              <a:solidFill>
                <a:srgbClr val="8f8363"/>
              </a:solidFill>
              <a:latin typeface="微软雅黑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303030"/>
                </a:solidFill>
                <a:latin typeface="宋体"/>
                <a:ea typeface="宋体"/>
              </a:rPr>
              <a:t>你是中国的故乡  黄河流淌你千年的血脉  太行铸就你不灭的精魂  啊，山西山西  我们不倒的长城！   </a:t>
            </a:r>
            <a:endParaRPr b="0" lang="en-US" sz="1800" spc="-1" strike="noStrike">
              <a:solidFill>
                <a:srgbClr val="8f8363"/>
              </a:solidFill>
              <a:latin typeface="微软雅黑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303030"/>
                </a:solidFill>
                <a:latin typeface="宋体"/>
                <a:ea typeface="宋体"/>
              </a:rPr>
              <a:t>你有窑洞的温馨  你有黄土的厚实  五台是你挺起的胸膛 </a:t>
            </a:r>
            <a:endParaRPr b="0" lang="en-US" sz="1800" spc="-1" strike="noStrike">
              <a:solidFill>
                <a:srgbClr val="8f8363"/>
              </a:solidFill>
              <a:latin typeface="微软雅黑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303030"/>
                </a:solidFill>
                <a:latin typeface="宋体"/>
                <a:ea typeface="宋体"/>
              </a:rPr>
              <a:t>吕梁是你不弯的脊梁  啊，山西山西  我们永远的母亲！ </a:t>
            </a:r>
            <a:endParaRPr b="0" lang="en-US" sz="1800" spc="-1" strike="noStrike">
              <a:solidFill>
                <a:srgbClr val="8f8363"/>
              </a:solidFill>
              <a:latin typeface="微软雅黑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303030"/>
                </a:solidFill>
                <a:latin typeface="宋体"/>
                <a:ea typeface="宋体"/>
              </a:rPr>
              <a:t>周原雅风吹响万古不灭的号角  河图洛书记载生生不息的航迹 </a:t>
            </a:r>
            <a:endParaRPr b="0" lang="en-US" sz="1800" spc="-1" strike="noStrike">
              <a:solidFill>
                <a:srgbClr val="8f8363"/>
              </a:solidFill>
              <a:latin typeface="微软雅黑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303030"/>
                </a:solidFill>
                <a:latin typeface="宋体"/>
                <a:ea typeface="宋体"/>
              </a:rPr>
              <a:t>退避三舍是重耳的智慧顽强  横扫六合是唐宗的龙兴晋阳  啊，山西山西  我们不会忘怀的故园！  </a:t>
            </a:r>
            <a:endParaRPr b="0" lang="en-US" sz="1800" spc="-1" strike="noStrike">
              <a:solidFill>
                <a:srgbClr val="8f8363"/>
              </a:solidFill>
              <a:latin typeface="微软雅黑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303030"/>
                </a:solidFill>
                <a:latin typeface="宋体"/>
                <a:ea typeface="宋体"/>
              </a:rPr>
              <a:t>晋中大院是你诚信的风范  窑洞炕火是你亲切的嘘寒  </a:t>
            </a:r>
            <a:endParaRPr b="0" lang="en-US" sz="1800" spc="-1" strike="noStrike">
              <a:solidFill>
                <a:srgbClr val="8f8363"/>
              </a:solidFill>
              <a:latin typeface="微软雅黑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303030"/>
                </a:solidFill>
                <a:latin typeface="宋体"/>
                <a:ea typeface="宋体"/>
              </a:rPr>
              <a:t>秧歌舞动你生命的活泼顽强  杏花装点你容颜的艳丽高张  啊，山西山西  我们世代的父老乡亲！ </a:t>
            </a:r>
            <a:endParaRPr b="0" lang="en-US" sz="1800" spc="-1" strike="noStrike">
              <a:solidFill>
                <a:srgbClr val="8f8363"/>
              </a:solidFill>
              <a:latin typeface="微软雅黑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303030"/>
                </a:solidFill>
                <a:latin typeface="宋体"/>
                <a:ea typeface="宋体"/>
              </a:rPr>
              <a:t>冰雪覆盖不住你的雄心壮志  贫困无法阻挡你文明的步伐  </a:t>
            </a:r>
            <a:endParaRPr b="0" lang="en-US" sz="1800" spc="-1" strike="noStrike">
              <a:solidFill>
                <a:srgbClr val="8f8363"/>
              </a:solidFill>
              <a:latin typeface="微软雅黑"/>
            </a:endParaRPr>
          </a:p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303030"/>
                </a:solidFill>
                <a:latin typeface="宋体"/>
                <a:ea typeface="宋体"/>
              </a:rPr>
              <a:t>当，厚实的基础与精神底蕴  被新的文明观统领，  啊，山西山西  让我们一起迈进！！！</a:t>
            </a:r>
            <a:endParaRPr b="0" lang="en-US" sz="1800" spc="-1" strike="noStrike">
              <a:solidFill>
                <a:srgbClr val="8f8363"/>
              </a:solidFill>
              <a:latin typeface="微软雅黑"/>
            </a:endParaRPr>
          </a:p>
        </p:txBody>
      </p:sp>
      <p:pic>
        <p:nvPicPr>
          <p:cNvPr id="211" name="矩形 7" descr=""/>
          <p:cNvPicPr/>
          <p:nvPr/>
        </p:nvPicPr>
        <p:blipFill>
          <a:blip r:embed="rId1"/>
          <a:stretch/>
        </p:blipFill>
        <p:spPr>
          <a:xfrm>
            <a:off x="3668760" y="412920"/>
            <a:ext cx="5167440" cy="100476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3T08:19:00Z</dcterms:created>
  <dc:creator>flex</dc:creator>
  <dc:description/>
  <dc:language>en-US</dc:language>
  <cp:lastModifiedBy>dudu</cp:lastModifiedBy>
  <dcterms:modified xsi:type="dcterms:W3CDTF">2016-03-03T01:04:58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6</vt:lpwstr>
  </property>
</Properties>
</file>