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41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44.png" ContentType="image/png"/>
  <Override PartName="/ppt/media/image40.jpeg" ContentType="image/jpeg"/>
  <Override PartName="/ppt/media/image43.png" ContentType="image/png"/>
  <Override PartName="/ppt/media/image20.png" ContentType="image/png"/>
  <Override PartName="/ppt/media/image36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4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111-C657-4D0C-8E68-C8D223A8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821844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" y="3637440"/>
            <a:ext cx="821844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CB5-EE67-4EB1-83F3-D46D7309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4E7-F8D9-4F4A-B3C5-89EA86E3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6840" y="126000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26000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000" y="363744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6840" y="363744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63744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AB3-89A6-46BE-95CA-62BC038B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2055-4974-485A-A62A-7716EC15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8000" y="1260000"/>
            <a:ext cx="821844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0F52-F8B4-480D-9E25-DB020E38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821844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D2E3-9FB3-40CD-AC55-47449A4E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BD66-E5FB-42F9-A7E9-D1A6D230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4951-5496-4517-8ADA-0D4374E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47592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3CE8-6305-4042-AC74-A48337CD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E93B-A56C-4814-9520-BA5048B4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000" y="1260000"/>
            <a:ext cx="821844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DE9-3541-4ABB-A484-B706257C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928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54F6-EC1E-4364-B480-91A7FFA0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" y="3637440"/>
            <a:ext cx="821844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A9F3-75DD-4DE1-9B8D-729D873B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821844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" y="3637440"/>
            <a:ext cx="821844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8DB2-02DA-4BB5-A643-DF1ECD43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00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928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5917-24FA-4E6C-82EA-38159BCB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6840" y="126000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5320" y="126000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" y="363744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6840" y="363744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5320" y="363744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709C-8A26-4645-B035-C276E996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EC5CA-2A1E-4F1C-B45D-E33057F1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000" y="1260000"/>
            <a:ext cx="821844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D4BF-D25F-499D-A464-A8FB2E17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821844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348D-BE67-40F2-B4C7-F03B06AB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0CF3-49DC-45A8-919D-C599ED52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E001C-A95D-43D1-B6E0-73A56E2E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821844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EA4-695F-4D81-9A35-D9CBB7DB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000" y="47592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A8F3-1C6F-4B97-B1F2-C1B595BF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623E-B66E-4042-92D3-502F99B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928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6A93-C270-497F-B8B7-47CA2B2A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000" y="3637440"/>
            <a:ext cx="821844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BE44D-671A-45EA-BE8D-4E16EA9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821844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000" y="3637440"/>
            <a:ext cx="821844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7457-C3BC-4F85-93CC-C5F71E0D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00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928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932F-8D89-4148-B5F9-BF72D105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46840" y="126000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5320" y="126000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8000" y="363744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46840" y="363744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5320" y="3637440"/>
            <a:ext cx="26460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7D93-9BD4-41A2-B770-52869E1B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91E-353A-4090-8FE1-65B0752E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38E-B5A0-4C4E-92CB-5D430BBC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475920"/>
            <a:ext cx="821844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E87-225B-4FF1-8512-D6309AA6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8FB-8518-48A0-8481-D9F00740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63744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1AB-797D-436A-8486-B65E26E2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00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0000"/>
            <a:ext cx="401040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" y="3637440"/>
            <a:ext cx="8218440" cy="21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1FF6-73B4-4CE0-B6B0-F233D20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底纹-01.png"/>
          <p:cNvPicPr/>
          <p:nvPr/>
        </p:nvPicPr>
        <p:blipFill>
          <a:blip r:embed="rId2"/>
          <a:srcRect l="0" t="0" r="249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4" descr="车马-03-01-01.png"/>
          <p:cNvPicPr/>
          <p:nvPr/>
        </p:nvPicPr>
        <p:blipFill>
          <a:blip r:embed="rId3"/>
          <a:stretch/>
        </p:blipFill>
        <p:spPr>
          <a:xfrm>
            <a:off x="-12600" y="5530680"/>
            <a:ext cx="1523880" cy="97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000" y="1260000"/>
            <a:ext cx="821844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358920">
              <a:spcBef>
                <a:spcPts val="1800"/>
              </a:spcBef>
              <a:buClr>
                <a:srgbClr val="005897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1" marL="444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5f5f5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5f5f5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20200" y="614340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43400"/>
            <a:ext cx="289584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14340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ECA5-2F08-480A-86B8-DD8D32E2C1A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底纹-01.png"/>
          <p:cNvPicPr/>
          <p:nvPr/>
        </p:nvPicPr>
        <p:blipFill>
          <a:blip r:embed="rId2"/>
          <a:srcRect l="0" t="0" r="249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车马mulu-01.png"/>
          <p:cNvPicPr/>
          <p:nvPr/>
        </p:nvPicPr>
        <p:blipFill>
          <a:blip r:embed="rId3"/>
          <a:stretch/>
        </p:blipFill>
        <p:spPr>
          <a:xfrm>
            <a:off x="25560" y="3403440"/>
            <a:ext cx="4525920" cy="287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000" y="1260000"/>
            <a:ext cx="821844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358920">
              <a:spcBef>
                <a:spcPts val="1800"/>
              </a:spcBef>
              <a:buClr>
                <a:srgbClr val="005897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1" marL="444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5f5f5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5f5f5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56000"/>
            <a:ext cx="213372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56000"/>
            <a:ext cx="289584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56000"/>
            <a:ext cx="213372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D1E1-E086-4306-A37C-648A18A9FC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底纹-01.png"/>
          <p:cNvPicPr/>
          <p:nvPr/>
        </p:nvPicPr>
        <p:blipFill>
          <a:blip r:embed="rId2"/>
          <a:srcRect l="0" t="0" r="249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" descr="车马-03-01-01.png"/>
          <p:cNvPicPr/>
          <p:nvPr/>
        </p:nvPicPr>
        <p:blipFill>
          <a:blip r:embed="rId3"/>
          <a:stretch/>
        </p:blipFill>
        <p:spPr>
          <a:xfrm>
            <a:off x="-12600" y="5530680"/>
            <a:ext cx="1523880" cy="9734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6" descr="Img326816826"/>
          <p:cNvPicPr/>
          <p:nvPr/>
        </p:nvPicPr>
        <p:blipFill>
          <a:blip r:embed="rId4"/>
          <a:srcRect l="0" t="0" r="0" b="37095"/>
          <a:stretch/>
        </p:blipFill>
        <p:spPr>
          <a:xfrm>
            <a:off x="-231840" y="390600"/>
            <a:ext cx="1508040" cy="947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897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68000" y="1260000"/>
            <a:ext cx="821844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358920">
              <a:spcBef>
                <a:spcPts val="1800"/>
              </a:spcBef>
              <a:buClr>
                <a:srgbClr val="005897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1" marL="444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3" marL="1600200" indent="-228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4" marL="2057400" indent="-228600">
              <a:spcBef>
                <a:spcPts val="1800"/>
              </a:spcBef>
              <a:buClr>
                <a:srgbClr val="4d4d4d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5" marL="2057400" indent="-228600">
              <a:spcBef>
                <a:spcPts val="1800"/>
              </a:spcBef>
              <a:buClr>
                <a:srgbClr val="5f5f5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  <a:p>
            <a:pPr lvl="6" marL="2057400" indent="-228600">
              <a:spcBef>
                <a:spcPts val="1800"/>
              </a:spcBef>
              <a:buClr>
                <a:srgbClr val="5f5f5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89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20200" y="614340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143400"/>
            <a:ext cx="289584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143400"/>
            <a:ext cx="213372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5f5f5f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15F3-EAD8-4DE1-9177-6A2E8A851DBE}" type="slidenum">
              <a:rPr b="0" lang="zh-CN" sz="2400" spc="-1" strike="noStrike">
                <a:solidFill>
                  <a:srgbClr val="5f5f5f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2.png"/><Relationship Id="rId9" Type="http://schemas.openxmlformats.org/officeDocument/2006/relationships/image" Target="../media/image10.jpe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5.png"/><Relationship Id="rId15" Type="http://schemas.openxmlformats.org/officeDocument/2006/relationships/image" Target="../media/image10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1.pn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矩形 5" descr=""/>
          <p:cNvPicPr/>
          <p:nvPr/>
        </p:nvPicPr>
        <p:blipFill>
          <a:blip r:embed="rId1"/>
          <a:stretch/>
        </p:blipFill>
        <p:spPr>
          <a:xfrm>
            <a:off x="593640" y="1874880"/>
            <a:ext cx="7993080" cy="244620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6"/>
          <p:cNvSpPr/>
          <p:nvPr/>
        </p:nvSpPr>
        <p:spPr>
          <a:xfrm>
            <a:off x="5241960" y="4594320"/>
            <a:ext cx="30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03030"/>
                </a:solidFill>
                <a:latin typeface="华文行楷"/>
                <a:ea typeface="华文行楷"/>
              </a:rPr>
              <a:t>班级：</a:t>
            </a:r>
            <a:r>
              <a:rPr b="0" lang="en-US" sz="2400" spc="-1" strike="noStrike">
                <a:solidFill>
                  <a:srgbClr val="303030"/>
                </a:solidFill>
                <a:latin typeface="华文行楷"/>
                <a:ea typeface="华文行楷"/>
              </a:rPr>
              <a:t>15</a:t>
            </a:r>
            <a:r>
              <a:rPr b="0" lang="zh-CN" sz="2400" spc="-1" strike="noStrike">
                <a:solidFill>
                  <a:srgbClr val="303030"/>
                </a:solidFill>
                <a:latin typeface="华文行楷"/>
                <a:ea typeface="华文行楷"/>
              </a:rPr>
              <a:t>包装班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03030"/>
                </a:solidFill>
                <a:latin typeface="华文行楷"/>
                <a:ea typeface="华文行楷"/>
              </a:rPr>
              <a:t>作者：董致江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2" name="人说山西好风光.mp3" descr=""/>
          <p:cNvPicPr/>
          <p:nvPr/>
        </p:nvPicPr>
        <p:blipFill>
          <a:blip r:embed="rId2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3"/>
          <p:cNvSpPr/>
          <p:nvPr/>
        </p:nvSpPr>
        <p:spPr>
          <a:xfrm>
            <a:off x="2894040" y="2975040"/>
            <a:ext cx="414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幼圆"/>
              </a:rPr>
              <a:t>谢谢观赏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3" name="矩形 5" descr=""/>
          <p:cNvPicPr/>
          <p:nvPr/>
        </p:nvPicPr>
        <p:blipFill>
          <a:blip r:embed="rId1"/>
          <a:stretch/>
        </p:blipFill>
        <p:spPr>
          <a:xfrm>
            <a:off x="1647720" y="1527120"/>
            <a:ext cx="6416640" cy="914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矩形 5" descr=""/>
          <p:cNvPicPr/>
          <p:nvPr/>
        </p:nvPicPr>
        <p:blipFill>
          <a:blip r:embed="rId2"/>
          <a:stretch/>
        </p:blipFill>
        <p:spPr>
          <a:xfrm>
            <a:off x="1663560" y="638280"/>
            <a:ext cx="5848560" cy="149832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5"/>
          <p:cNvGrpSpPr/>
          <p:nvPr/>
        </p:nvGrpSpPr>
        <p:grpSpPr>
          <a:xfrm>
            <a:off x="1100160" y="2313000"/>
            <a:ext cx="3106440" cy="716040"/>
            <a:chOff x="1100160" y="2313000"/>
            <a:chExt cx="3106440" cy="716040"/>
          </a:xfrm>
        </p:grpSpPr>
        <p:pic>
          <p:nvPicPr>
            <p:cNvPr id="135" name="矩形 6" descr=""/>
            <p:cNvPicPr/>
            <p:nvPr/>
          </p:nvPicPr>
          <p:blipFill>
            <a:blip r:embed="rId3"/>
            <a:stretch/>
          </p:blipFill>
          <p:spPr>
            <a:xfrm>
              <a:off x="1928160" y="2313000"/>
              <a:ext cx="227844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椭圆 8"/>
            <p:cNvSpPr/>
            <p:nvPr/>
          </p:nvSpPr>
          <p:spPr>
            <a:xfrm>
              <a:off x="1100160" y="2344680"/>
              <a:ext cx="693720" cy="639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" name="组合 9"/>
          <p:cNvGrpSpPr/>
          <p:nvPr/>
        </p:nvGrpSpPr>
        <p:grpSpPr>
          <a:xfrm>
            <a:off x="1103400" y="4222800"/>
            <a:ext cx="3098880" cy="716040"/>
            <a:chOff x="1103400" y="4222800"/>
            <a:chExt cx="3098880" cy="716040"/>
          </a:xfrm>
        </p:grpSpPr>
        <p:pic>
          <p:nvPicPr>
            <p:cNvPr id="138" name="矩形 9" descr=""/>
            <p:cNvPicPr/>
            <p:nvPr/>
          </p:nvPicPr>
          <p:blipFill>
            <a:blip r:embed="rId5"/>
            <a:stretch/>
          </p:blipFill>
          <p:spPr>
            <a:xfrm>
              <a:off x="1928880" y="4222800"/>
              <a:ext cx="227340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椭圆 11"/>
            <p:cNvSpPr/>
            <p:nvPr/>
          </p:nvSpPr>
          <p:spPr>
            <a:xfrm>
              <a:off x="1103400" y="4271400"/>
              <a:ext cx="691200" cy="6418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" name="组合 7"/>
          <p:cNvGrpSpPr/>
          <p:nvPr/>
        </p:nvGrpSpPr>
        <p:grpSpPr>
          <a:xfrm>
            <a:off x="1101600" y="3260880"/>
            <a:ext cx="3097440" cy="715680"/>
            <a:chOff x="1101600" y="3260880"/>
            <a:chExt cx="3097440" cy="715680"/>
          </a:xfrm>
        </p:grpSpPr>
        <p:sp>
          <p:nvSpPr>
            <p:cNvPr id="141" name="椭圆 10"/>
            <p:cNvSpPr/>
            <p:nvPr/>
          </p:nvSpPr>
          <p:spPr>
            <a:xfrm>
              <a:off x="1101600" y="3308400"/>
              <a:ext cx="691200" cy="6393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pic>
          <p:nvPicPr>
            <p:cNvPr id="142" name="矩形 1" descr=""/>
            <p:cNvPicPr/>
            <p:nvPr/>
          </p:nvPicPr>
          <p:blipFill>
            <a:blip r:embed="rId8"/>
            <a:stretch/>
          </p:blipFill>
          <p:spPr>
            <a:xfrm>
              <a:off x="1927080" y="3260880"/>
              <a:ext cx="2271960" cy="71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组合 6"/>
          <p:cNvGrpSpPr/>
          <p:nvPr/>
        </p:nvGrpSpPr>
        <p:grpSpPr>
          <a:xfrm>
            <a:off x="4778280" y="2306520"/>
            <a:ext cx="3073320" cy="716040"/>
            <a:chOff x="4778280" y="2306520"/>
            <a:chExt cx="3073320" cy="716040"/>
          </a:xfrm>
        </p:grpSpPr>
        <p:sp>
          <p:nvSpPr>
            <p:cNvPr id="144" name="椭圆 3"/>
            <p:cNvSpPr/>
            <p:nvPr/>
          </p:nvSpPr>
          <p:spPr>
            <a:xfrm>
              <a:off x="4778280" y="2373120"/>
              <a:ext cx="693000" cy="6393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pic>
          <p:nvPicPr>
            <p:cNvPr id="145" name="矩形 7" descr=""/>
            <p:cNvPicPr/>
            <p:nvPr/>
          </p:nvPicPr>
          <p:blipFill>
            <a:blip r:embed="rId10"/>
            <a:stretch/>
          </p:blipFill>
          <p:spPr>
            <a:xfrm>
              <a:off x="5579640" y="2306520"/>
              <a:ext cx="2271960" cy="71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组合 10"/>
          <p:cNvGrpSpPr/>
          <p:nvPr/>
        </p:nvGrpSpPr>
        <p:grpSpPr>
          <a:xfrm>
            <a:off x="4778280" y="4275000"/>
            <a:ext cx="3128760" cy="725760"/>
            <a:chOff x="4778280" y="4275000"/>
            <a:chExt cx="3128760" cy="725760"/>
          </a:xfrm>
        </p:grpSpPr>
        <p:pic>
          <p:nvPicPr>
            <p:cNvPr id="147" name="矩形 12" descr=""/>
            <p:cNvPicPr/>
            <p:nvPr/>
          </p:nvPicPr>
          <p:blipFill>
            <a:blip r:embed="rId11"/>
            <a:stretch/>
          </p:blipFill>
          <p:spPr>
            <a:xfrm>
              <a:off x="5635080" y="4284360"/>
              <a:ext cx="2271960" cy="7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椭圆 13"/>
            <p:cNvSpPr/>
            <p:nvPr/>
          </p:nvSpPr>
          <p:spPr>
            <a:xfrm>
              <a:off x="4778280" y="4275000"/>
              <a:ext cx="693000" cy="64116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9" name="组合 11"/>
          <p:cNvGrpSpPr/>
          <p:nvPr/>
        </p:nvGrpSpPr>
        <p:grpSpPr>
          <a:xfrm>
            <a:off x="2879640" y="5291280"/>
            <a:ext cx="3128760" cy="715680"/>
            <a:chOff x="2879640" y="5291280"/>
            <a:chExt cx="3128760" cy="715680"/>
          </a:xfrm>
        </p:grpSpPr>
        <p:sp>
          <p:nvSpPr>
            <p:cNvPr id="150" name="椭圆 2"/>
            <p:cNvSpPr/>
            <p:nvPr/>
          </p:nvSpPr>
          <p:spPr>
            <a:xfrm>
              <a:off x="2879640" y="5342040"/>
              <a:ext cx="691200" cy="63900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pic>
          <p:nvPicPr>
            <p:cNvPr id="151" name="矩形 16" descr=""/>
            <p:cNvPicPr/>
            <p:nvPr/>
          </p:nvPicPr>
          <p:blipFill>
            <a:blip r:embed="rId14"/>
            <a:stretch/>
          </p:blipFill>
          <p:spPr>
            <a:xfrm>
              <a:off x="3736440" y="5291280"/>
              <a:ext cx="2271960" cy="71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组合 8"/>
          <p:cNvGrpSpPr/>
          <p:nvPr/>
        </p:nvGrpSpPr>
        <p:grpSpPr>
          <a:xfrm>
            <a:off x="4778280" y="3271680"/>
            <a:ext cx="3073320" cy="717840"/>
            <a:chOff x="4778280" y="3271680"/>
            <a:chExt cx="3073320" cy="717840"/>
          </a:xfrm>
        </p:grpSpPr>
        <p:sp>
          <p:nvSpPr>
            <p:cNvPr id="153" name="椭圆 4"/>
            <p:cNvSpPr/>
            <p:nvPr/>
          </p:nvSpPr>
          <p:spPr>
            <a:xfrm>
              <a:off x="4778280" y="3324240"/>
              <a:ext cx="693000" cy="63972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pic>
          <p:nvPicPr>
            <p:cNvPr id="154" name="矩形 17" descr=""/>
            <p:cNvPicPr/>
            <p:nvPr/>
          </p:nvPicPr>
          <p:blipFill>
            <a:blip r:embed="rId16"/>
            <a:stretch/>
          </p:blipFill>
          <p:spPr>
            <a:xfrm>
              <a:off x="5579640" y="3271680"/>
              <a:ext cx="2271960" cy="717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500"/>
                            </p:stCondLst>
                            <p:childTnLst>
                              <p:par>
                                <p:cTn id="80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矩形 5" descr=""/>
          <p:cNvPicPr/>
          <p:nvPr/>
        </p:nvPicPr>
        <p:blipFill>
          <a:blip r:embed="rId1"/>
          <a:stretch/>
        </p:blipFill>
        <p:spPr>
          <a:xfrm>
            <a:off x="380880" y="571680"/>
            <a:ext cx="3748320" cy="914400"/>
          </a:xfrm>
          <a:prstGeom prst="rect">
            <a:avLst/>
          </a:prstGeom>
          <a:ln w="0">
            <a:noFill/>
          </a:ln>
        </p:spPr>
      </p:pic>
      <p:pic>
        <p:nvPicPr>
          <p:cNvPr id="156" name="文本框 8" descr=""/>
          <p:cNvPicPr/>
          <p:nvPr/>
        </p:nvPicPr>
        <p:blipFill>
          <a:blip r:embed="rId2"/>
          <a:stretch/>
        </p:blipFill>
        <p:spPr>
          <a:xfrm>
            <a:off x="4289400" y="1641600"/>
            <a:ext cx="4184640" cy="37494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6" descr="01300000030421121887483785247"/>
          <p:cNvPicPr/>
          <p:nvPr/>
        </p:nvPicPr>
        <p:blipFill>
          <a:blip r:embed="rId3"/>
          <a:stretch/>
        </p:blipFill>
        <p:spPr>
          <a:xfrm>
            <a:off x="1049400" y="1479600"/>
            <a:ext cx="3257640" cy="4227480"/>
          </a:xfrm>
          <a:prstGeom prst="rect">
            <a:avLst/>
          </a:prstGeom>
          <a:ln w="0">
            <a:noFill/>
          </a:ln>
        </p:spPr>
      </p:pic>
      <p:sp>
        <p:nvSpPr>
          <p:cNvPr id="158" name="虚尾箭头 7"/>
          <p:cNvSpPr/>
          <p:nvPr/>
        </p:nvSpPr>
        <p:spPr>
          <a:xfrm rot="16200000">
            <a:off x="8265960" y="5854680"/>
            <a:ext cx="1028880" cy="714240"/>
          </a:xfrm>
          <a:prstGeom prst="pie">
            <a:avLst/>
          </a:prstGeom>
          <a:gradFill rotWithShape="0">
            <a:gsLst>
              <a:gs pos="0">
                <a:srgbClr val="4548b4"/>
              </a:gs>
              <a:gs pos="100000">
                <a:srgbClr val="0002a4"/>
              </a:gs>
            </a:gsLst>
            <a:lin ang="108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返回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20200" y="1260000"/>
            <a:ext cx="8007480" cy="24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山西是中华民族的发祥地之一，历史悠久，人文荟萃，拥有丰厚的历史文化遗产。迄今为止有文字记载的历史达三千年之久，素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中国古代文化博物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之美称。西侯度文化和丁村文化遗址表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早在旧石器时代就已有了人类在这里繁衍生息。传说中的中华民族的始祖黄帝、炎帝都曾把山西作为活动的主要地区。中国史前三大伟人尧、舜、禹，都曾在山西境内建都立业。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pic>
        <p:nvPicPr>
          <p:cNvPr id="160" name="矩形 5" descr=""/>
          <p:cNvPicPr/>
          <p:nvPr/>
        </p:nvPicPr>
        <p:blipFill>
          <a:blip r:embed="rId1"/>
          <a:stretch/>
        </p:blipFill>
        <p:spPr>
          <a:xfrm>
            <a:off x="527040" y="519120"/>
            <a:ext cx="347040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" descr="t0164cecc2836d54c14"/>
          <p:cNvPicPr/>
          <p:nvPr/>
        </p:nvPicPr>
        <p:blipFill>
          <a:blip r:embed="rId2"/>
          <a:stretch/>
        </p:blipFill>
        <p:spPr>
          <a:xfrm>
            <a:off x="4853160" y="3633840"/>
            <a:ext cx="1992240" cy="2612880"/>
          </a:xfrm>
          <a:prstGeom prst="rect">
            <a:avLst/>
          </a:prstGeom>
          <a:ln w="7632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2" name="图片 4" descr="W020130529388210580746"/>
          <p:cNvPicPr/>
          <p:nvPr/>
        </p:nvPicPr>
        <p:blipFill>
          <a:blip r:embed="rId3"/>
          <a:stretch/>
        </p:blipFill>
        <p:spPr>
          <a:xfrm>
            <a:off x="2050920" y="4216320"/>
            <a:ext cx="1702080" cy="1914480"/>
          </a:xfrm>
          <a:prstGeom prst="rect">
            <a:avLst/>
          </a:prstGeom>
          <a:ln w="76320">
            <a:solidFill>
              <a:srgbClr val="ffffff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3" name="虚尾箭头 7"/>
          <p:cNvSpPr/>
          <p:nvPr/>
        </p:nvSpPr>
        <p:spPr>
          <a:xfrm rot="16200000">
            <a:off x="8265960" y="5854680"/>
            <a:ext cx="1028880" cy="714240"/>
          </a:xfrm>
          <a:prstGeom prst="pie">
            <a:avLst/>
          </a:prstGeom>
          <a:gradFill rotWithShape="0">
            <a:gsLst>
              <a:gs pos="0">
                <a:srgbClr val="4548b4"/>
              </a:gs>
              <a:gs pos="100000">
                <a:srgbClr val="0002a4"/>
              </a:gs>
            </a:gsLst>
            <a:lin ang="108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返回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1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16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4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1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16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4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100"/>
                            </p:stCondLst>
                            <p:childTnLst>
                              <p:par>
                                <p:cTn id="12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100"/>
                            </p:stCondLst>
                            <p:childTnLst>
                              <p:par>
                                <p:cTn id="13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792240" y="1444320"/>
            <a:ext cx="48560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85680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5897"/>
                </a:solidFill>
                <a:latin typeface="Arial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303030"/>
                </a:solidFill>
                <a:latin typeface="Arial"/>
                <a:ea typeface="微软雅黑"/>
              </a:rPr>
              <a:t>山西特色文化之古城文化，说起山西，想必大家想起的很多都是这里的平遥古城了。这里的古老仿佛是穿越了这个现代的快节奏的时代，而自己是一座独立于这世俗之外的一种城市，你可以在这样的民宿客栈中住宿，来自己亲自的体验这样的深宅大院的里面，有着古代人们怎么样的悲欢离合，还可以在幽静的时候，好好的欣赏这里的古城的日落，好好的感受下眼下的古城是怎么样的一副全貌！古城，感受特色的古老氛围！</a:t>
            </a:r>
            <a:endParaRPr b="0" lang="en-US" sz="2000" spc="-1" strike="noStrike">
              <a:solidFill>
                <a:srgbClr val="005897"/>
              </a:solidFill>
              <a:latin typeface="Arial"/>
            </a:endParaRPr>
          </a:p>
        </p:txBody>
      </p:sp>
      <p:pic>
        <p:nvPicPr>
          <p:cNvPr id="165" name="矩形 5" descr=""/>
          <p:cNvPicPr/>
          <p:nvPr/>
        </p:nvPicPr>
        <p:blipFill>
          <a:blip r:embed="rId1"/>
          <a:stretch/>
        </p:blipFill>
        <p:spPr>
          <a:xfrm>
            <a:off x="406440" y="531720"/>
            <a:ext cx="374976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5" descr=""/>
          <p:cNvPicPr/>
          <p:nvPr/>
        </p:nvPicPr>
        <p:blipFill>
          <a:blip r:embed="rId2"/>
          <a:stretch/>
        </p:blipFill>
        <p:spPr>
          <a:xfrm>
            <a:off x="3622680" y="858960"/>
            <a:ext cx="2274840" cy="57924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5" descr=""/>
          <p:cNvPicPr/>
          <p:nvPr/>
        </p:nvPicPr>
        <p:blipFill>
          <a:blip r:embed="rId3"/>
          <a:stretch/>
        </p:blipFill>
        <p:spPr>
          <a:xfrm>
            <a:off x="438120" y="2317680"/>
            <a:ext cx="3807000" cy="3191040"/>
          </a:xfrm>
          <a:prstGeom prst="rect">
            <a:avLst/>
          </a:prstGeom>
          <a:ln w="0">
            <a:noFill/>
          </a:ln>
        </p:spPr>
      </p:pic>
      <p:sp>
        <p:nvSpPr>
          <p:cNvPr id="168" name="虚尾箭头 7"/>
          <p:cNvSpPr/>
          <p:nvPr/>
        </p:nvSpPr>
        <p:spPr>
          <a:xfrm rot="16200000">
            <a:off x="8265960" y="5854680"/>
            <a:ext cx="1028880" cy="714240"/>
          </a:xfrm>
          <a:prstGeom prst="pie">
            <a:avLst/>
          </a:prstGeom>
          <a:gradFill rotWithShape="0">
            <a:gsLst>
              <a:gs pos="0">
                <a:srgbClr val="4548b4"/>
              </a:gs>
              <a:gs pos="100000">
                <a:srgbClr val="0002a4"/>
              </a:gs>
            </a:gsLst>
            <a:lin ang="108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返回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矩形 5" descr=""/>
          <p:cNvPicPr/>
          <p:nvPr/>
        </p:nvPicPr>
        <p:blipFill>
          <a:blip r:embed="rId1"/>
          <a:stretch/>
        </p:blipFill>
        <p:spPr>
          <a:xfrm>
            <a:off x="355680" y="571680"/>
            <a:ext cx="3747960" cy="91440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5"/>
          <p:cNvSpPr/>
          <p:nvPr/>
        </p:nvSpPr>
        <p:spPr>
          <a:xfrm>
            <a:off x="4570560" y="138744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柳宗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77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19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唐代文学家、哲学家。字子厚。河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今山西永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人。世称柳河东。因官终柳州刺史，又称柳柳州，与韩愈同为唐代古文运动的倡导者。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文本框 7"/>
          <p:cNvSpPr/>
          <p:nvPr/>
        </p:nvSpPr>
        <p:spPr>
          <a:xfrm>
            <a:off x="1619280" y="4441680"/>
            <a:ext cx="2840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狄仁杰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年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日 ），字怀英，并州太原（今山西太原）人，唐代、武周政治家。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1162080" y="1370160"/>
            <a:ext cx="2984400" cy="281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round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椭圆 8"/>
          <p:cNvSpPr/>
          <p:nvPr/>
        </p:nvSpPr>
        <p:spPr>
          <a:xfrm>
            <a:off x="4835520" y="3595680"/>
            <a:ext cx="2984400" cy="2809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round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虚尾箭头 8"/>
          <p:cNvSpPr/>
          <p:nvPr/>
        </p:nvSpPr>
        <p:spPr>
          <a:xfrm rot="16200000">
            <a:off x="8265960" y="5854680"/>
            <a:ext cx="1028880" cy="714240"/>
          </a:xfrm>
          <a:prstGeom prst="pie">
            <a:avLst/>
          </a:prstGeom>
          <a:gradFill rotWithShape="0">
            <a:gsLst>
              <a:gs pos="0">
                <a:srgbClr val="4548b4"/>
              </a:gs>
              <a:gs pos="100000">
                <a:srgbClr val="0002a4"/>
              </a:gs>
            </a:gsLst>
            <a:lin ang="108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返回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矩形 5" descr=""/>
          <p:cNvPicPr/>
          <p:nvPr/>
        </p:nvPicPr>
        <p:blipFill>
          <a:blip r:embed="rId1"/>
          <a:stretch/>
        </p:blipFill>
        <p:spPr>
          <a:xfrm>
            <a:off x="422280" y="558720"/>
            <a:ext cx="374796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云形标注 18" descr=""/>
          <p:cNvPicPr/>
          <p:nvPr/>
        </p:nvPicPr>
        <p:blipFill>
          <a:blip r:embed="rId2"/>
          <a:stretch/>
        </p:blipFill>
        <p:spPr>
          <a:xfrm>
            <a:off x="4971960" y="488880"/>
            <a:ext cx="3489480" cy="111132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31"/>
          <p:cNvGrpSpPr/>
          <p:nvPr/>
        </p:nvGrpSpPr>
        <p:grpSpPr>
          <a:xfrm>
            <a:off x="9269280" y="2193840"/>
            <a:ext cx="16976880" cy="3367080"/>
            <a:chOff x="9269280" y="2193840"/>
            <a:chExt cx="16976880" cy="3367080"/>
          </a:xfrm>
        </p:grpSpPr>
        <p:grpSp>
          <p:nvGrpSpPr>
            <p:cNvPr id="178" name="组合 27"/>
            <p:cNvGrpSpPr/>
            <p:nvPr/>
          </p:nvGrpSpPr>
          <p:grpSpPr>
            <a:xfrm>
              <a:off x="9269280" y="2194920"/>
              <a:ext cx="8951040" cy="3366000"/>
              <a:chOff x="9269280" y="2194920"/>
              <a:chExt cx="8951040" cy="3366000"/>
            </a:xfrm>
          </p:grpSpPr>
          <p:pic>
            <p:nvPicPr>
              <p:cNvPr id="179" name="图片 9" descr="19986"/>
              <p:cNvPicPr/>
              <p:nvPr/>
            </p:nvPicPr>
            <p:blipFill>
              <a:blip r:embed="rId3"/>
              <a:srcRect l="0" t="32388" r="11841" b="32122"/>
              <a:stretch/>
            </p:blipFill>
            <p:spPr>
              <a:xfrm>
                <a:off x="9269280" y="2194920"/>
                <a:ext cx="8951040" cy="336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矩形 10"/>
              <p:cNvSpPr/>
              <p:nvPr/>
            </p:nvSpPr>
            <p:spPr>
              <a:xfrm>
                <a:off x="9796320" y="2677680"/>
                <a:ext cx="2546280" cy="236052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1" name="矩形 11"/>
              <p:cNvSpPr/>
              <p:nvPr/>
            </p:nvSpPr>
            <p:spPr>
              <a:xfrm>
                <a:off x="12463200" y="2677680"/>
                <a:ext cx="2546280" cy="236052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2" name="矩形 12"/>
              <p:cNvSpPr/>
              <p:nvPr/>
            </p:nvSpPr>
            <p:spPr>
              <a:xfrm>
                <a:off x="15129000" y="2676600"/>
                <a:ext cx="2546280" cy="236052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30"/>
            <p:cNvGrpSpPr/>
            <p:nvPr/>
          </p:nvGrpSpPr>
          <p:grpSpPr>
            <a:xfrm>
              <a:off x="17295120" y="2193840"/>
              <a:ext cx="8951040" cy="3366000"/>
              <a:chOff x="17295120" y="2193840"/>
              <a:chExt cx="8951040" cy="3366000"/>
            </a:xfrm>
          </p:grpSpPr>
          <p:pic>
            <p:nvPicPr>
              <p:cNvPr id="184" name="图片 25" descr="19986"/>
              <p:cNvPicPr/>
              <p:nvPr/>
            </p:nvPicPr>
            <p:blipFill>
              <a:blip r:embed="rId7"/>
              <a:srcRect l="0" t="32388" r="11841" b="32122"/>
              <a:stretch/>
            </p:blipFill>
            <p:spPr>
              <a:xfrm>
                <a:off x="17295120" y="2193840"/>
                <a:ext cx="8951040" cy="336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矩形 14"/>
              <p:cNvSpPr/>
              <p:nvPr/>
            </p:nvSpPr>
            <p:spPr>
              <a:xfrm>
                <a:off x="17810640" y="2664000"/>
                <a:ext cx="2546280" cy="2360520"/>
              </a:xfrm>
              <a:prstGeom prst="rect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" name="矩形 28"/>
              <p:cNvSpPr/>
              <p:nvPr/>
            </p:nvSpPr>
            <p:spPr>
              <a:xfrm>
                <a:off x="20502360" y="2608920"/>
                <a:ext cx="2546280" cy="2360520"/>
              </a:xfrm>
              <a:prstGeom prst="rect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7" name="矩形 29"/>
              <p:cNvSpPr/>
              <p:nvPr/>
            </p:nvSpPr>
            <p:spPr>
              <a:xfrm>
                <a:off x="23153760" y="2676960"/>
                <a:ext cx="2546280" cy="2360520"/>
              </a:xfrm>
              <a:prstGeom prst="rect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虚尾箭头 32"/>
          <p:cNvSpPr/>
          <p:nvPr/>
        </p:nvSpPr>
        <p:spPr>
          <a:xfrm rot="16200000">
            <a:off x="8265960" y="5854680"/>
            <a:ext cx="1028880" cy="714240"/>
          </a:xfrm>
          <a:prstGeom prst="pie">
            <a:avLst/>
          </a:prstGeom>
          <a:gradFill rotWithShape="0">
            <a:gsLst>
              <a:gs pos="0">
                <a:srgbClr val="4548b4"/>
              </a:gs>
              <a:gs pos="100000">
                <a:srgbClr val="0002a4"/>
              </a:gs>
            </a:gsLst>
            <a:lin ang="108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返回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847 -0.025926 L -1.904722 -0.025926 E">
                                      <p:cBhvr>
                                        <p:cTn id="215" dur="9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矩形 5" descr=""/>
          <p:cNvPicPr/>
          <p:nvPr/>
        </p:nvPicPr>
        <p:blipFill>
          <a:blip r:embed="rId1"/>
          <a:stretch/>
        </p:blipFill>
        <p:spPr>
          <a:xfrm>
            <a:off x="345960" y="531720"/>
            <a:ext cx="3748320" cy="914400"/>
          </a:xfrm>
          <a:prstGeom prst="rect">
            <a:avLst/>
          </a:prstGeom>
          <a:ln w="0">
            <a:noFill/>
          </a:ln>
        </p:spPr>
      </p:pic>
      <p:sp>
        <p:nvSpPr>
          <p:cNvPr id="190" name="剪去单角的矩形 6"/>
          <p:cNvSpPr/>
          <p:nvPr/>
        </p:nvSpPr>
        <p:spPr>
          <a:xfrm flipV="1">
            <a:off x="915840" y="1420560"/>
            <a:ext cx="3392640" cy="2201760"/>
          </a:xfrm>
          <a:custGeom>
            <a:avLst/>
            <a:gdLst/>
            <a:ahLst/>
            <a:rect l="l" t="t" r="r" b="b"/>
            <a:pathLst>
              <a:path w="3392487" h="2201862">
                <a:moveTo>
                  <a:pt x="0" y="0"/>
                </a:moveTo>
                <a:lnTo>
                  <a:pt x="3025503" y="0"/>
                </a:lnTo>
                <a:lnTo>
                  <a:pt x="3392487" y="366984"/>
                </a:lnTo>
                <a:lnTo>
                  <a:pt x="3392487" y="2201862"/>
                </a:lnTo>
                <a:lnTo>
                  <a:pt x="0" y="2201862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4a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剪去单角的矩形 8"/>
          <p:cNvSpPr/>
          <p:nvPr/>
        </p:nvSpPr>
        <p:spPr>
          <a:xfrm>
            <a:off x="901800" y="3860640"/>
            <a:ext cx="3392280" cy="2202120"/>
          </a:xfrm>
          <a:custGeom>
            <a:avLst/>
            <a:gdLst/>
            <a:ahLst/>
            <a:rect l="l" t="t" r="r" b="b"/>
            <a:pathLst>
              <a:path w="3392804" h="2202179">
                <a:moveTo>
                  <a:pt x="0" y="0"/>
                </a:moveTo>
                <a:lnTo>
                  <a:pt x="3025767" y="0"/>
                </a:lnTo>
                <a:lnTo>
                  <a:pt x="3392804" y="367037"/>
                </a:lnTo>
                <a:lnTo>
                  <a:pt x="3392804" y="2202179"/>
                </a:lnTo>
                <a:lnTo>
                  <a:pt x="0" y="220217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8160">
            <a:solidFill>
              <a:srgbClr val="4a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" name="剪去单角的矩形 9"/>
          <p:cNvSpPr/>
          <p:nvPr/>
        </p:nvSpPr>
        <p:spPr>
          <a:xfrm flipH="1" flipV="1">
            <a:off x="4782960" y="1405080"/>
            <a:ext cx="3392640" cy="2201760"/>
          </a:xfrm>
          <a:custGeom>
            <a:avLst/>
            <a:gdLst/>
            <a:ahLst/>
            <a:rect l="l" t="t" r="r" b="b"/>
            <a:pathLst>
              <a:path w="3392805" h="2202180">
                <a:moveTo>
                  <a:pt x="0" y="0"/>
                </a:moveTo>
                <a:lnTo>
                  <a:pt x="3025768" y="0"/>
                </a:lnTo>
                <a:lnTo>
                  <a:pt x="3392805" y="367037"/>
                </a:lnTo>
                <a:lnTo>
                  <a:pt x="3392805" y="2202180"/>
                </a:lnTo>
                <a:lnTo>
                  <a:pt x="0" y="220218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38160">
            <a:solidFill>
              <a:srgbClr val="4a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剪去单角的矩形 12"/>
          <p:cNvSpPr/>
          <p:nvPr/>
        </p:nvSpPr>
        <p:spPr>
          <a:xfrm flipH="1">
            <a:off x="4768920" y="3875040"/>
            <a:ext cx="3394080" cy="2201760"/>
          </a:xfrm>
          <a:custGeom>
            <a:avLst/>
            <a:gdLst/>
            <a:ahLst/>
            <a:rect l="l" t="t" r="r" b="b"/>
            <a:pathLst>
              <a:path w="3392805" h="2202180">
                <a:moveTo>
                  <a:pt x="0" y="0"/>
                </a:moveTo>
                <a:lnTo>
                  <a:pt x="3025767" y="0"/>
                </a:lnTo>
                <a:lnTo>
                  <a:pt x="3392805" y="367037"/>
                </a:lnTo>
                <a:lnTo>
                  <a:pt x="3392805" y="2202180"/>
                </a:lnTo>
                <a:lnTo>
                  <a:pt x="0" y="220218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38160">
            <a:solidFill>
              <a:srgbClr val="4a00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4" name="矩形 13" descr=""/>
          <p:cNvPicPr/>
          <p:nvPr/>
        </p:nvPicPr>
        <p:blipFill>
          <a:blip r:embed="rId6"/>
          <a:stretch/>
        </p:blipFill>
        <p:spPr>
          <a:xfrm>
            <a:off x="4108320" y="3222720"/>
            <a:ext cx="930240" cy="1358640"/>
          </a:xfrm>
          <a:prstGeom prst="rect">
            <a:avLst/>
          </a:prstGeom>
          <a:ln w="0">
            <a:noFill/>
          </a:ln>
        </p:spPr>
      </p:pic>
      <p:sp>
        <p:nvSpPr>
          <p:cNvPr id="195" name="虚尾箭头 14"/>
          <p:cNvSpPr/>
          <p:nvPr/>
        </p:nvSpPr>
        <p:spPr>
          <a:xfrm rot="16200000">
            <a:off x="8265960" y="5854680"/>
            <a:ext cx="1028880" cy="714240"/>
          </a:xfrm>
          <a:prstGeom prst="pie">
            <a:avLst/>
          </a:prstGeom>
          <a:gradFill rotWithShape="0">
            <a:gsLst>
              <a:gs pos="0">
                <a:srgbClr val="4548b4"/>
              </a:gs>
              <a:gs pos="100000">
                <a:srgbClr val="0002a4"/>
              </a:gs>
            </a:gsLst>
            <a:lin ang="108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返回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矩形 5" descr=""/>
          <p:cNvPicPr/>
          <p:nvPr/>
        </p:nvPicPr>
        <p:blipFill>
          <a:blip r:embed="rId1"/>
          <a:stretch/>
        </p:blipFill>
        <p:spPr>
          <a:xfrm>
            <a:off x="360360" y="517680"/>
            <a:ext cx="3747960" cy="91440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609480" y="158904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  <a:ea typeface="Arial"/>
              </a:rPr>
              <a:t>居民消费价格比涨幅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811680" y="1955880"/>
          <a:ext cx="4265640" cy="1920960"/>
        </p:xfrm>
        <a:graphic>
          <a:graphicData uri="http://schemas.openxmlformats.org/drawingml/2006/table">
            <a:tbl>
              <a:tblPr/>
              <a:tblGrid>
                <a:gridCol w="2847960"/>
                <a:gridCol w="141768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指 标 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89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涨 幅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897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居民消费价格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1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3.1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1dd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食 品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6.2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烟酒及用品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1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2.1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1dd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家庭设备用品及维修服务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1.6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</a:tbl>
          </a:graphicData>
        </a:graphic>
      </p:graphicFrame>
      <p:sp>
        <p:nvSpPr>
          <p:cNvPr id="199" name="矩形 7"/>
          <p:cNvSpPr/>
          <p:nvPr/>
        </p:nvSpPr>
        <p:spPr>
          <a:xfrm>
            <a:off x="563400" y="3911760"/>
            <a:ext cx="33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  <a:ea typeface="Arial"/>
              </a:rPr>
              <a:t>规模以上工业增加值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753000" y="4232160"/>
          <a:ext cx="4265640" cy="1920960"/>
        </p:xfrm>
        <a:graphic>
          <a:graphicData uri="http://schemas.openxmlformats.org/drawingml/2006/table">
            <a:tbl>
              <a:tblPr/>
              <a:tblGrid>
                <a:gridCol w="2847960"/>
                <a:gridCol w="141768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指 标 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89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增加值  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897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规模以上工业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1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4446.3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1dd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轻工业  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208.9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重工业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1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4237.4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1dd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国有控股企业 食 品 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303030"/>
                          </a:solidFill>
                          <a:latin typeface="Arial"/>
                          <a:ea typeface="宋体"/>
                        </a:rPr>
                        <a:t>2394.9</a:t>
                      </a: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f"/>
                    </a:solidFill>
                  </a:tcPr>
                </a:tc>
              </a:tr>
            </a:tbl>
          </a:graphicData>
        </a:graphic>
      </p:graphicFrame>
      <p:sp>
        <p:nvSpPr>
          <p:cNvPr id="201" name="虚尾箭头 9"/>
          <p:cNvSpPr/>
          <p:nvPr/>
        </p:nvSpPr>
        <p:spPr>
          <a:xfrm rot="16200000">
            <a:off x="8265960" y="5854680"/>
            <a:ext cx="1028880" cy="714240"/>
          </a:xfrm>
          <a:prstGeom prst="pie">
            <a:avLst/>
          </a:prstGeom>
          <a:gradFill rotWithShape="0">
            <a:gsLst>
              <a:gs pos="0">
                <a:srgbClr val="4548b4"/>
              </a:gs>
              <a:gs pos="100000">
                <a:srgbClr val="0002a4"/>
              </a:gs>
            </a:gsLst>
            <a:lin ang="108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返回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500"/>
                            </p:stCondLst>
                            <p:childTnLst>
                              <p:par>
                                <p:cTn id="310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08:00:00Z</dcterms:created>
  <dc:creator>lenovo</dc:creator>
  <dc:description/>
  <dc:language>en-US</dc:language>
  <cp:lastModifiedBy>Administrator</cp:lastModifiedBy>
  <dcterms:modified xsi:type="dcterms:W3CDTF">2016-01-03T12:18:13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99</vt:lpwstr>
  </property>
</Properties>
</file>